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EAD-3C27-4858-82F6-D1094F4C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E89-553D-401F-A167-E4EC1F41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C4C-89B9-4932-B72D-FDE243D8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2B0-9497-49B9-AD47-E891E202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661-5C88-4258-82D3-5F71F3FC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4A9-7533-4E31-81C5-190717A1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B94-696E-4B50-B0B1-40DAF1F2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DA77-C1FD-473D-A006-2FB1837A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470-B54A-4A08-AB57-CB6CDE6D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6A0-E6CB-4332-A4B2-D5BAD552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F96-7BDC-4790-BB83-DAFAB63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B8C-1441-47C7-B5EB-520D253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E4408C87-A5AC-45C5-8171-065565ACEA90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zyutaku_roon_A.jpg"/>
          <p:cNvPicPr/>
          <p:nvPr/>
        </p:nvPicPr>
        <p:blipFill>
          <a:blip r:embed="rId1"/>
          <a:stretch/>
        </p:blipFill>
        <p:spPr>
          <a:xfrm>
            <a:off x="0" y="3240"/>
            <a:ext cx="10693440" cy="4319892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0" y="5557680"/>
            <a:ext cx="10683720" cy="7902720"/>
            <a:chOff x="0" y="5557680"/>
            <a:chExt cx="10683720" cy="7902720"/>
          </a:xfrm>
        </p:grpSpPr>
        <p:sp>
          <p:nvSpPr>
            <p:cNvPr id="43" name="Freeform 5"/>
            <p:cNvSpPr/>
            <p:nvPr/>
          </p:nvSpPr>
          <p:spPr>
            <a:xfrm>
              <a:off x="0" y="5557680"/>
              <a:ext cx="10683720" cy="1611360"/>
            </a:xfrm>
            <a:custGeom>
              <a:avLst/>
              <a:gdLst>
                <a:gd name="textAreaLeft" fmla="*/ 0 w 10683720"/>
                <a:gd name="textAreaRight" fmla="*/ 10684080 w 106837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6730" h="1015">
                  <a:moveTo>
                    <a:pt x="0" y="114"/>
                  </a:moveTo>
                  <a:lnTo>
                    <a:pt x="0" y="497"/>
                  </a:lnTo>
                  <a:lnTo>
                    <a:pt x="0" y="497"/>
                  </a:lnTo>
                  <a:lnTo>
                    <a:pt x="138" y="474"/>
                  </a:lnTo>
                  <a:lnTo>
                    <a:pt x="274" y="452"/>
                  </a:lnTo>
                  <a:lnTo>
                    <a:pt x="410" y="432"/>
                  </a:lnTo>
                  <a:lnTo>
                    <a:pt x="546" y="412"/>
                  </a:lnTo>
                  <a:lnTo>
                    <a:pt x="681" y="396"/>
                  </a:lnTo>
                  <a:lnTo>
                    <a:pt x="815" y="380"/>
                  </a:lnTo>
                  <a:lnTo>
                    <a:pt x="949" y="366"/>
                  </a:lnTo>
                  <a:lnTo>
                    <a:pt x="1083" y="354"/>
                  </a:lnTo>
                  <a:lnTo>
                    <a:pt x="1215" y="342"/>
                  </a:lnTo>
                  <a:lnTo>
                    <a:pt x="1349" y="334"/>
                  </a:lnTo>
                  <a:lnTo>
                    <a:pt x="1479" y="326"/>
                  </a:lnTo>
                  <a:lnTo>
                    <a:pt x="1611" y="318"/>
                  </a:lnTo>
                  <a:lnTo>
                    <a:pt x="1740" y="312"/>
                  </a:lnTo>
                  <a:lnTo>
                    <a:pt x="1870" y="308"/>
                  </a:lnTo>
                  <a:lnTo>
                    <a:pt x="1998" y="306"/>
                  </a:lnTo>
                  <a:lnTo>
                    <a:pt x="2126" y="304"/>
                  </a:lnTo>
                  <a:lnTo>
                    <a:pt x="2380" y="306"/>
                  </a:lnTo>
                  <a:lnTo>
                    <a:pt x="2630" y="310"/>
                  </a:lnTo>
                  <a:lnTo>
                    <a:pt x="2875" y="320"/>
                  </a:lnTo>
                  <a:lnTo>
                    <a:pt x="3115" y="334"/>
                  </a:lnTo>
                  <a:lnTo>
                    <a:pt x="3353" y="350"/>
                  </a:lnTo>
                  <a:lnTo>
                    <a:pt x="3587" y="372"/>
                  </a:lnTo>
                  <a:lnTo>
                    <a:pt x="3815" y="394"/>
                  </a:lnTo>
                  <a:lnTo>
                    <a:pt x="4036" y="422"/>
                  </a:lnTo>
                  <a:lnTo>
                    <a:pt x="4254" y="452"/>
                  </a:lnTo>
                  <a:lnTo>
                    <a:pt x="4466" y="481"/>
                  </a:lnTo>
                  <a:lnTo>
                    <a:pt x="4672" y="515"/>
                  </a:lnTo>
                  <a:lnTo>
                    <a:pt x="4874" y="551"/>
                  </a:lnTo>
                  <a:lnTo>
                    <a:pt x="5067" y="589"/>
                  </a:lnTo>
                  <a:lnTo>
                    <a:pt x="5255" y="627"/>
                  </a:lnTo>
                  <a:lnTo>
                    <a:pt x="5437" y="665"/>
                  </a:lnTo>
                  <a:lnTo>
                    <a:pt x="5611" y="705"/>
                  </a:lnTo>
                  <a:lnTo>
                    <a:pt x="5777" y="745"/>
                  </a:lnTo>
                  <a:lnTo>
                    <a:pt x="5937" y="787"/>
                  </a:lnTo>
                  <a:lnTo>
                    <a:pt x="6091" y="827"/>
                  </a:lnTo>
                  <a:lnTo>
                    <a:pt x="6234" y="867"/>
                  </a:lnTo>
                  <a:lnTo>
                    <a:pt x="6370" y="905"/>
                  </a:lnTo>
                  <a:lnTo>
                    <a:pt x="6498" y="943"/>
                  </a:lnTo>
                  <a:lnTo>
                    <a:pt x="6730" y="1015"/>
                  </a:lnTo>
                  <a:lnTo>
                    <a:pt x="6730" y="909"/>
                  </a:lnTo>
                  <a:lnTo>
                    <a:pt x="6730" y="909"/>
                  </a:lnTo>
                  <a:lnTo>
                    <a:pt x="6526" y="835"/>
                  </a:lnTo>
                  <a:lnTo>
                    <a:pt x="6410" y="795"/>
                  </a:lnTo>
                  <a:lnTo>
                    <a:pt x="6284" y="753"/>
                  </a:lnTo>
                  <a:lnTo>
                    <a:pt x="6149" y="709"/>
                  </a:lnTo>
                  <a:lnTo>
                    <a:pt x="6007" y="665"/>
                  </a:lnTo>
                  <a:lnTo>
                    <a:pt x="5855" y="619"/>
                  </a:lnTo>
                  <a:lnTo>
                    <a:pt x="5693" y="571"/>
                  </a:lnTo>
                  <a:lnTo>
                    <a:pt x="5525" y="525"/>
                  </a:lnTo>
                  <a:lnTo>
                    <a:pt x="5349" y="478"/>
                  </a:lnTo>
                  <a:lnTo>
                    <a:pt x="5165" y="432"/>
                  </a:lnTo>
                  <a:lnTo>
                    <a:pt x="4974" y="386"/>
                  </a:lnTo>
                  <a:lnTo>
                    <a:pt x="4776" y="342"/>
                  </a:lnTo>
                  <a:lnTo>
                    <a:pt x="4572" y="298"/>
                  </a:lnTo>
                  <a:lnTo>
                    <a:pt x="4360" y="256"/>
                  </a:lnTo>
                  <a:lnTo>
                    <a:pt x="4142" y="218"/>
                  </a:lnTo>
                  <a:lnTo>
                    <a:pt x="3919" y="180"/>
                  </a:lnTo>
                  <a:lnTo>
                    <a:pt x="3689" y="144"/>
                  </a:lnTo>
                  <a:lnTo>
                    <a:pt x="3453" y="114"/>
                  </a:lnTo>
                  <a:lnTo>
                    <a:pt x="3213" y="84"/>
                  </a:lnTo>
                  <a:lnTo>
                    <a:pt x="2967" y="60"/>
                  </a:lnTo>
                  <a:lnTo>
                    <a:pt x="2716" y="38"/>
                  </a:lnTo>
                  <a:lnTo>
                    <a:pt x="2462" y="22"/>
                  </a:lnTo>
                  <a:lnTo>
                    <a:pt x="2332" y="14"/>
                  </a:lnTo>
                  <a:lnTo>
                    <a:pt x="2202" y="10"/>
                  </a:lnTo>
                  <a:lnTo>
                    <a:pt x="2070" y="4"/>
                  </a:lnTo>
                  <a:lnTo>
                    <a:pt x="1938" y="2"/>
                  </a:lnTo>
                  <a:lnTo>
                    <a:pt x="1804" y="0"/>
                  </a:lnTo>
                  <a:lnTo>
                    <a:pt x="1671" y="0"/>
                  </a:lnTo>
                  <a:lnTo>
                    <a:pt x="1537" y="0"/>
                  </a:lnTo>
                  <a:lnTo>
                    <a:pt x="1401" y="2"/>
                  </a:lnTo>
                  <a:lnTo>
                    <a:pt x="1263" y="6"/>
                  </a:lnTo>
                  <a:lnTo>
                    <a:pt x="1125" y="12"/>
                  </a:lnTo>
                  <a:lnTo>
                    <a:pt x="987" y="18"/>
                  </a:lnTo>
                  <a:lnTo>
                    <a:pt x="849" y="28"/>
                  </a:lnTo>
                  <a:lnTo>
                    <a:pt x="709" y="38"/>
                  </a:lnTo>
                  <a:lnTo>
                    <a:pt x="567" y="48"/>
                  </a:lnTo>
                  <a:lnTo>
                    <a:pt x="428" y="62"/>
                  </a:lnTo>
                  <a:lnTo>
                    <a:pt x="286" y="78"/>
                  </a:lnTo>
                  <a:lnTo>
                    <a:pt x="144" y="9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ea5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0" y="6040080"/>
              <a:ext cx="10683720" cy="1376280"/>
            </a:xfrm>
            <a:custGeom>
              <a:avLst/>
              <a:gdLst>
                <a:gd name="textAreaLeft" fmla="*/ 0 w 10683720"/>
                <a:gd name="textAreaRight" fmla="*/ 10684080 w 1068372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6730" h="867">
                  <a:moveTo>
                    <a:pt x="0" y="193"/>
                  </a:moveTo>
                  <a:lnTo>
                    <a:pt x="0" y="601"/>
                  </a:lnTo>
                  <a:lnTo>
                    <a:pt x="0" y="601"/>
                  </a:lnTo>
                  <a:lnTo>
                    <a:pt x="128" y="571"/>
                  </a:lnTo>
                  <a:lnTo>
                    <a:pt x="254" y="541"/>
                  </a:lnTo>
                  <a:lnTo>
                    <a:pt x="382" y="515"/>
                  </a:lnTo>
                  <a:lnTo>
                    <a:pt x="508" y="489"/>
                  </a:lnTo>
                  <a:lnTo>
                    <a:pt x="635" y="465"/>
                  </a:lnTo>
                  <a:lnTo>
                    <a:pt x="761" y="443"/>
                  </a:lnTo>
                  <a:lnTo>
                    <a:pt x="887" y="423"/>
                  </a:lnTo>
                  <a:lnTo>
                    <a:pt x="1011" y="403"/>
                  </a:lnTo>
                  <a:lnTo>
                    <a:pt x="1137" y="385"/>
                  </a:lnTo>
                  <a:lnTo>
                    <a:pt x="1261" y="369"/>
                  </a:lnTo>
                  <a:lnTo>
                    <a:pt x="1385" y="355"/>
                  </a:lnTo>
                  <a:lnTo>
                    <a:pt x="1509" y="341"/>
                  </a:lnTo>
                  <a:lnTo>
                    <a:pt x="1633" y="329"/>
                  </a:lnTo>
                  <a:lnTo>
                    <a:pt x="1754" y="319"/>
                  </a:lnTo>
                  <a:lnTo>
                    <a:pt x="1876" y="309"/>
                  </a:lnTo>
                  <a:lnTo>
                    <a:pt x="1998" y="301"/>
                  </a:lnTo>
                  <a:lnTo>
                    <a:pt x="2118" y="295"/>
                  </a:lnTo>
                  <a:lnTo>
                    <a:pt x="2240" y="289"/>
                  </a:lnTo>
                  <a:lnTo>
                    <a:pt x="2478" y="281"/>
                  </a:lnTo>
                  <a:lnTo>
                    <a:pt x="2714" y="279"/>
                  </a:lnTo>
                  <a:lnTo>
                    <a:pt x="2947" y="279"/>
                  </a:lnTo>
                  <a:lnTo>
                    <a:pt x="3177" y="285"/>
                  </a:lnTo>
                  <a:lnTo>
                    <a:pt x="3405" y="295"/>
                  </a:lnTo>
                  <a:lnTo>
                    <a:pt x="3627" y="307"/>
                  </a:lnTo>
                  <a:lnTo>
                    <a:pt x="3847" y="325"/>
                  </a:lnTo>
                  <a:lnTo>
                    <a:pt x="4064" y="345"/>
                  </a:lnTo>
                  <a:lnTo>
                    <a:pt x="4276" y="367"/>
                  </a:lnTo>
                  <a:lnTo>
                    <a:pt x="4484" y="393"/>
                  </a:lnTo>
                  <a:lnTo>
                    <a:pt x="4688" y="421"/>
                  </a:lnTo>
                  <a:lnTo>
                    <a:pt x="4886" y="451"/>
                  </a:lnTo>
                  <a:lnTo>
                    <a:pt x="5081" y="483"/>
                  </a:lnTo>
                  <a:lnTo>
                    <a:pt x="5271" y="517"/>
                  </a:lnTo>
                  <a:lnTo>
                    <a:pt x="5455" y="553"/>
                  </a:lnTo>
                  <a:lnTo>
                    <a:pt x="5635" y="589"/>
                  </a:lnTo>
                  <a:lnTo>
                    <a:pt x="5809" y="627"/>
                  </a:lnTo>
                  <a:lnTo>
                    <a:pt x="5977" y="667"/>
                  </a:lnTo>
                  <a:lnTo>
                    <a:pt x="6141" y="707"/>
                  </a:lnTo>
                  <a:lnTo>
                    <a:pt x="6296" y="747"/>
                  </a:lnTo>
                  <a:lnTo>
                    <a:pt x="6446" y="787"/>
                  </a:lnTo>
                  <a:lnTo>
                    <a:pt x="6592" y="827"/>
                  </a:lnTo>
                  <a:lnTo>
                    <a:pt x="6730" y="867"/>
                  </a:lnTo>
                  <a:lnTo>
                    <a:pt x="6730" y="711"/>
                  </a:lnTo>
                  <a:lnTo>
                    <a:pt x="6730" y="711"/>
                  </a:lnTo>
                  <a:lnTo>
                    <a:pt x="6498" y="639"/>
                  </a:lnTo>
                  <a:lnTo>
                    <a:pt x="6370" y="601"/>
                  </a:lnTo>
                  <a:lnTo>
                    <a:pt x="6234" y="563"/>
                  </a:lnTo>
                  <a:lnTo>
                    <a:pt x="6091" y="523"/>
                  </a:lnTo>
                  <a:lnTo>
                    <a:pt x="5937" y="483"/>
                  </a:lnTo>
                  <a:lnTo>
                    <a:pt x="5777" y="441"/>
                  </a:lnTo>
                  <a:lnTo>
                    <a:pt x="5611" y="401"/>
                  </a:lnTo>
                  <a:lnTo>
                    <a:pt x="5437" y="361"/>
                  </a:lnTo>
                  <a:lnTo>
                    <a:pt x="5255" y="323"/>
                  </a:lnTo>
                  <a:lnTo>
                    <a:pt x="5067" y="285"/>
                  </a:lnTo>
                  <a:lnTo>
                    <a:pt x="4874" y="247"/>
                  </a:lnTo>
                  <a:lnTo>
                    <a:pt x="4672" y="211"/>
                  </a:lnTo>
                  <a:lnTo>
                    <a:pt x="4466" y="177"/>
                  </a:lnTo>
                  <a:lnTo>
                    <a:pt x="4254" y="148"/>
                  </a:lnTo>
                  <a:lnTo>
                    <a:pt x="4036" y="118"/>
                  </a:lnTo>
                  <a:lnTo>
                    <a:pt x="3815" y="90"/>
                  </a:lnTo>
                  <a:lnTo>
                    <a:pt x="3587" y="68"/>
                  </a:lnTo>
                  <a:lnTo>
                    <a:pt x="3353" y="46"/>
                  </a:lnTo>
                  <a:lnTo>
                    <a:pt x="3115" y="30"/>
                  </a:lnTo>
                  <a:lnTo>
                    <a:pt x="2875" y="16"/>
                  </a:lnTo>
                  <a:lnTo>
                    <a:pt x="2630" y="6"/>
                  </a:lnTo>
                  <a:lnTo>
                    <a:pt x="2380" y="2"/>
                  </a:lnTo>
                  <a:lnTo>
                    <a:pt x="2126" y="0"/>
                  </a:lnTo>
                  <a:lnTo>
                    <a:pt x="1998" y="2"/>
                  </a:lnTo>
                  <a:lnTo>
                    <a:pt x="1870" y="4"/>
                  </a:lnTo>
                  <a:lnTo>
                    <a:pt x="1740" y="8"/>
                  </a:lnTo>
                  <a:lnTo>
                    <a:pt x="1611" y="14"/>
                  </a:lnTo>
                  <a:lnTo>
                    <a:pt x="1479" y="22"/>
                  </a:lnTo>
                  <a:lnTo>
                    <a:pt x="1349" y="30"/>
                  </a:lnTo>
                  <a:lnTo>
                    <a:pt x="1215" y="38"/>
                  </a:lnTo>
                  <a:lnTo>
                    <a:pt x="1083" y="50"/>
                  </a:lnTo>
                  <a:lnTo>
                    <a:pt x="949" y="62"/>
                  </a:lnTo>
                  <a:lnTo>
                    <a:pt x="815" y="76"/>
                  </a:lnTo>
                  <a:lnTo>
                    <a:pt x="681" y="92"/>
                  </a:lnTo>
                  <a:lnTo>
                    <a:pt x="546" y="108"/>
                  </a:lnTo>
                  <a:lnTo>
                    <a:pt x="410" y="128"/>
                  </a:lnTo>
                  <a:lnTo>
                    <a:pt x="274" y="148"/>
                  </a:lnTo>
                  <a:lnTo>
                    <a:pt x="138" y="170"/>
                  </a:lnTo>
                  <a:lnTo>
                    <a:pt x="0" y="193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08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0" y="6483240"/>
              <a:ext cx="10683720" cy="1409760"/>
            </a:xfrm>
            <a:custGeom>
              <a:avLst/>
              <a:gdLst>
                <a:gd name="textAreaLeft" fmla="*/ 0 w 10683720"/>
                <a:gd name="textAreaRight" fmla="*/ 10684080 w 1068372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6730" h="888">
                  <a:moveTo>
                    <a:pt x="0" y="322"/>
                  </a:moveTo>
                  <a:lnTo>
                    <a:pt x="0" y="888"/>
                  </a:lnTo>
                  <a:lnTo>
                    <a:pt x="0" y="888"/>
                  </a:lnTo>
                  <a:lnTo>
                    <a:pt x="146" y="840"/>
                  </a:lnTo>
                  <a:lnTo>
                    <a:pt x="292" y="794"/>
                  </a:lnTo>
                  <a:lnTo>
                    <a:pt x="440" y="750"/>
                  </a:lnTo>
                  <a:lnTo>
                    <a:pt x="583" y="710"/>
                  </a:lnTo>
                  <a:lnTo>
                    <a:pt x="729" y="672"/>
                  </a:lnTo>
                  <a:lnTo>
                    <a:pt x="875" y="636"/>
                  </a:lnTo>
                  <a:lnTo>
                    <a:pt x="1019" y="604"/>
                  </a:lnTo>
                  <a:lnTo>
                    <a:pt x="1165" y="572"/>
                  </a:lnTo>
                  <a:lnTo>
                    <a:pt x="1309" y="544"/>
                  </a:lnTo>
                  <a:lnTo>
                    <a:pt x="1453" y="516"/>
                  </a:lnTo>
                  <a:lnTo>
                    <a:pt x="1595" y="492"/>
                  </a:lnTo>
                  <a:lnTo>
                    <a:pt x="1736" y="470"/>
                  </a:lnTo>
                  <a:lnTo>
                    <a:pt x="1878" y="450"/>
                  </a:lnTo>
                  <a:lnTo>
                    <a:pt x="2020" y="430"/>
                  </a:lnTo>
                  <a:lnTo>
                    <a:pt x="2162" y="414"/>
                  </a:lnTo>
                  <a:lnTo>
                    <a:pt x="2302" y="400"/>
                  </a:lnTo>
                  <a:lnTo>
                    <a:pt x="2442" y="388"/>
                  </a:lnTo>
                  <a:lnTo>
                    <a:pt x="2580" y="376"/>
                  </a:lnTo>
                  <a:lnTo>
                    <a:pt x="2718" y="368"/>
                  </a:lnTo>
                  <a:lnTo>
                    <a:pt x="2855" y="360"/>
                  </a:lnTo>
                  <a:lnTo>
                    <a:pt x="2991" y="354"/>
                  </a:lnTo>
                  <a:lnTo>
                    <a:pt x="3127" y="350"/>
                  </a:lnTo>
                  <a:lnTo>
                    <a:pt x="3261" y="348"/>
                  </a:lnTo>
                  <a:lnTo>
                    <a:pt x="3395" y="348"/>
                  </a:lnTo>
                  <a:lnTo>
                    <a:pt x="3529" y="348"/>
                  </a:lnTo>
                  <a:lnTo>
                    <a:pt x="3661" y="350"/>
                  </a:lnTo>
                  <a:lnTo>
                    <a:pt x="3791" y="354"/>
                  </a:lnTo>
                  <a:lnTo>
                    <a:pt x="3921" y="358"/>
                  </a:lnTo>
                  <a:lnTo>
                    <a:pt x="4048" y="366"/>
                  </a:lnTo>
                  <a:lnTo>
                    <a:pt x="4176" y="372"/>
                  </a:lnTo>
                  <a:lnTo>
                    <a:pt x="4304" y="382"/>
                  </a:lnTo>
                  <a:lnTo>
                    <a:pt x="4428" y="392"/>
                  </a:lnTo>
                  <a:lnTo>
                    <a:pt x="4428" y="392"/>
                  </a:lnTo>
                  <a:lnTo>
                    <a:pt x="4592" y="406"/>
                  </a:lnTo>
                  <a:lnTo>
                    <a:pt x="4752" y="422"/>
                  </a:lnTo>
                  <a:lnTo>
                    <a:pt x="4910" y="442"/>
                  </a:lnTo>
                  <a:lnTo>
                    <a:pt x="5065" y="462"/>
                  </a:lnTo>
                  <a:lnTo>
                    <a:pt x="5219" y="482"/>
                  </a:lnTo>
                  <a:lnTo>
                    <a:pt x="5371" y="506"/>
                  </a:lnTo>
                  <a:lnTo>
                    <a:pt x="5519" y="530"/>
                  </a:lnTo>
                  <a:lnTo>
                    <a:pt x="5665" y="556"/>
                  </a:lnTo>
                  <a:lnTo>
                    <a:pt x="5809" y="582"/>
                  </a:lnTo>
                  <a:lnTo>
                    <a:pt x="5949" y="610"/>
                  </a:lnTo>
                  <a:lnTo>
                    <a:pt x="6087" y="640"/>
                  </a:lnTo>
                  <a:lnTo>
                    <a:pt x="6220" y="668"/>
                  </a:lnTo>
                  <a:lnTo>
                    <a:pt x="6352" y="698"/>
                  </a:lnTo>
                  <a:lnTo>
                    <a:pt x="6482" y="730"/>
                  </a:lnTo>
                  <a:lnTo>
                    <a:pt x="6606" y="762"/>
                  </a:lnTo>
                  <a:lnTo>
                    <a:pt x="6730" y="792"/>
                  </a:lnTo>
                  <a:lnTo>
                    <a:pt x="6730" y="620"/>
                  </a:lnTo>
                  <a:lnTo>
                    <a:pt x="6730" y="588"/>
                  </a:lnTo>
                  <a:lnTo>
                    <a:pt x="6730" y="588"/>
                  </a:lnTo>
                  <a:lnTo>
                    <a:pt x="6592" y="548"/>
                  </a:lnTo>
                  <a:lnTo>
                    <a:pt x="6446" y="508"/>
                  </a:lnTo>
                  <a:lnTo>
                    <a:pt x="6296" y="468"/>
                  </a:lnTo>
                  <a:lnTo>
                    <a:pt x="6141" y="428"/>
                  </a:lnTo>
                  <a:lnTo>
                    <a:pt x="5977" y="388"/>
                  </a:lnTo>
                  <a:lnTo>
                    <a:pt x="5809" y="348"/>
                  </a:lnTo>
                  <a:lnTo>
                    <a:pt x="5635" y="310"/>
                  </a:lnTo>
                  <a:lnTo>
                    <a:pt x="5455" y="274"/>
                  </a:lnTo>
                  <a:lnTo>
                    <a:pt x="5271" y="238"/>
                  </a:lnTo>
                  <a:lnTo>
                    <a:pt x="5081" y="204"/>
                  </a:lnTo>
                  <a:lnTo>
                    <a:pt x="4886" y="172"/>
                  </a:lnTo>
                  <a:lnTo>
                    <a:pt x="4688" y="142"/>
                  </a:lnTo>
                  <a:lnTo>
                    <a:pt x="4484" y="114"/>
                  </a:lnTo>
                  <a:lnTo>
                    <a:pt x="4276" y="88"/>
                  </a:lnTo>
                  <a:lnTo>
                    <a:pt x="4064" y="66"/>
                  </a:lnTo>
                  <a:lnTo>
                    <a:pt x="3847" y="46"/>
                  </a:lnTo>
                  <a:lnTo>
                    <a:pt x="3627" y="28"/>
                  </a:lnTo>
                  <a:lnTo>
                    <a:pt x="3405" y="16"/>
                  </a:lnTo>
                  <a:lnTo>
                    <a:pt x="3177" y="6"/>
                  </a:lnTo>
                  <a:lnTo>
                    <a:pt x="2947" y="0"/>
                  </a:lnTo>
                  <a:lnTo>
                    <a:pt x="2714" y="0"/>
                  </a:lnTo>
                  <a:lnTo>
                    <a:pt x="2478" y="2"/>
                  </a:lnTo>
                  <a:lnTo>
                    <a:pt x="2240" y="10"/>
                  </a:lnTo>
                  <a:lnTo>
                    <a:pt x="2118" y="16"/>
                  </a:lnTo>
                  <a:lnTo>
                    <a:pt x="1998" y="22"/>
                  </a:lnTo>
                  <a:lnTo>
                    <a:pt x="1876" y="30"/>
                  </a:lnTo>
                  <a:lnTo>
                    <a:pt x="1754" y="40"/>
                  </a:lnTo>
                  <a:lnTo>
                    <a:pt x="1633" y="50"/>
                  </a:lnTo>
                  <a:lnTo>
                    <a:pt x="1509" y="62"/>
                  </a:lnTo>
                  <a:lnTo>
                    <a:pt x="1385" y="76"/>
                  </a:lnTo>
                  <a:lnTo>
                    <a:pt x="1261" y="90"/>
                  </a:lnTo>
                  <a:lnTo>
                    <a:pt x="1137" y="106"/>
                  </a:lnTo>
                  <a:lnTo>
                    <a:pt x="1011" y="124"/>
                  </a:lnTo>
                  <a:lnTo>
                    <a:pt x="887" y="144"/>
                  </a:lnTo>
                  <a:lnTo>
                    <a:pt x="761" y="164"/>
                  </a:lnTo>
                  <a:lnTo>
                    <a:pt x="635" y="186"/>
                  </a:lnTo>
                  <a:lnTo>
                    <a:pt x="508" y="210"/>
                  </a:lnTo>
                  <a:lnTo>
                    <a:pt x="382" y="236"/>
                  </a:lnTo>
                  <a:lnTo>
                    <a:pt x="254" y="262"/>
                  </a:lnTo>
                  <a:lnTo>
                    <a:pt x="128" y="292"/>
                  </a:lnTo>
                  <a:lnTo>
                    <a:pt x="0" y="322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0" y="7035480"/>
              <a:ext cx="10683720" cy="1868400"/>
            </a:xfrm>
            <a:custGeom>
              <a:avLst/>
              <a:gdLst>
                <a:gd name="textAreaLeft" fmla="*/ 0 w 10683720"/>
                <a:gd name="textAreaRight" fmla="*/ 10684080 w 10683720"/>
                <a:gd name="textAreaTop" fmla="*/ 0 h 1868400"/>
                <a:gd name="textAreaBottom" fmla="*/ 1868760 h 1868400"/>
              </a:gdLst>
              <a:ahLst/>
              <a:rect l="textAreaLeft" t="textAreaTop" r="textAreaRight" b="textAreaBottom"/>
              <a:pathLst>
                <a:path w="6730" h="1177">
                  <a:moveTo>
                    <a:pt x="4428" y="44"/>
                  </a:moveTo>
                  <a:lnTo>
                    <a:pt x="4428" y="44"/>
                  </a:lnTo>
                  <a:lnTo>
                    <a:pt x="4304" y="34"/>
                  </a:lnTo>
                  <a:lnTo>
                    <a:pt x="4176" y="24"/>
                  </a:lnTo>
                  <a:lnTo>
                    <a:pt x="4048" y="18"/>
                  </a:lnTo>
                  <a:lnTo>
                    <a:pt x="3921" y="10"/>
                  </a:lnTo>
                  <a:lnTo>
                    <a:pt x="3791" y="6"/>
                  </a:lnTo>
                  <a:lnTo>
                    <a:pt x="3661" y="2"/>
                  </a:lnTo>
                  <a:lnTo>
                    <a:pt x="3529" y="0"/>
                  </a:lnTo>
                  <a:lnTo>
                    <a:pt x="3395" y="0"/>
                  </a:lnTo>
                  <a:lnTo>
                    <a:pt x="3261" y="0"/>
                  </a:lnTo>
                  <a:lnTo>
                    <a:pt x="3127" y="2"/>
                  </a:lnTo>
                  <a:lnTo>
                    <a:pt x="2991" y="6"/>
                  </a:lnTo>
                  <a:lnTo>
                    <a:pt x="2855" y="12"/>
                  </a:lnTo>
                  <a:lnTo>
                    <a:pt x="2718" y="20"/>
                  </a:lnTo>
                  <a:lnTo>
                    <a:pt x="2580" y="28"/>
                  </a:lnTo>
                  <a:lnTo>
                    <a:pt x="2442" y="40"/>
                  </a:lnTo>
                  <a:lnTo>
                    <a:pt x="2302" y="52"/>
                  </a:lnTo>
                  <a:lnTo>
                    <a:pt x="2162" y="66"/>
                  </a:lnTo>
                  <a:lnTo>
                    <a:pt x="2020" y="82"/>
                  </a:lnTo>
                  <a:lnTo>
                    <a:pt x="1878" y="102"/>
                  </a:lnTo>
                  <a:lnTo>
                    <a:pt x="1736" y="122"/>
                  </a:lnTo>
                  <a:lnTo>
                    <a:pt x="1595" y="144"/>
                  </a:lnTo>
                  <a:lnTo>
                    <a:pt x="1453" y="168"/>
                  </a:lnTo>
                  <a:lnTo>
                    <a:pt x="1309" y="196"/>
                  </a:lnTo>
                  <a:lnTo>
                    <a:pt x="1165" y="224"/>
                  </a:lnTo>
                  <a:lnTo>
                    <a:pt x="1019" y="256"/>
                  </a:lnTo>
                  <a:lnTo>
                    <a:pt x="875" y="288"/>
                  </a:lnTo>
                  <a:lnTo>
                    <a:pt x="729" y="324"/>
                  </a:lnTo>
                  <a:lnTo>
                    <a:pt x="583" y="362"/>
                  </a:lnTo>
                  <a:lnTo>
                    <a:pt x="440" y="402"/>
                  </a:lnTo>
                  <a:lnTo>
                    <a:pt x="292" y="446"/>
                  </a:lnTo>
                  <a:lnTo>
                    <a:pt x="146" y="492"/>
                  </a:lnTo>
                  <a:lnTo>
                    <a:pt x="0" y="540"/>
                  </a:lnTo>
                  <a:lnTo>
                    <a:pt x="0" y="1125"/>
                  </a:lnTo>
                  <a:lnTo>
                    <a:pt x="0" y="1177"/>
                  </a:lnTo>
                  <a:lnTo>
                    <a:pt x="0" y="1177"/>
                  </a:lnTo>
                  <a:lnTo>
                    <a:pt x="160" y="1109"/>
                  </a:lnTo>
                  <a:lnTo>
                    <a:pt x="320" y="1045"/>
                  </a:lnTo>
                  <a:lnTo>
                    <a:pt x="480" y="983"/>
                  </a:lnTo>
                  <a:lnTo>
                    <a:pt x="639" y="925"/>
                  </a:lnTo>
                  <a:lnTo>
                    <a:pt x="797" y="871"/>
                  </a:lnTo>
                  <a:lnTo>
                    <a:pt x="957" y="819"/>
                  </a:lnTo>
                  <a:lnTo>
                    <a:pt x="1117" y="771"/>
                  </a:lnTo>
                  <a:lnTo>
                    <a:pt x="1275" y="725"/>
                  </a:lnTo>
                  <a:lnTo>
                    <a:pt x="1433" y="683"/>
                  </a:lnTo>
                  <a:lnTo>
                    <a:pt x="1591" y="644"/>
                  </a:lnTo>
                  <a:lnTo>
                    <a:pt x="1748" y="608"/>
                  </a:lnTo>
                  <a:lnTo>
                    <a:pt x="1906" y="574"/>
                  </a:lnTo>
                  <a:lnTo>
                    <a:pt x="2062" y="544"/>
                  </a:lnTo>
                  <a:lnTo>
                    <a:pt x="2218" y="516"/>
                  </a:lnTo>
                  <a:lnTo>
                    <a:pt x="2374" y="490"/>
                  </a:lnTo>
                  <a:lnTo>
                    <a:pt x="2528" y="466"/>
                  </a:lnTo>
                  <a:lnTo>
                    <a:pt x="2682" y="446"/>
                  </a:lnTo>
                  <a:lnTo>
                    <a:pt x="2835" y="428"/>
                  </a:lnTo>
                  <a:lnTo>
                    <a:pt x="2987" y="412"/>
                  </a:lnTo>
                  <a:lnTo>
                    <a:pt x="3139" y="400"/>
                  </a:lnTo>
                  <a:lnTo>
                    <a:pt x="3291" y="388"/>
                  </a:lnTo>
                  <a:lnTo>
                    <a:pt x="3441" y="380"/>
                  </a:lnTo>
                  <a:lnTo>
                    <a:pt x="3589" y="372"/>
                  </a:lnTo>
                  <a:lnTo>
                    <a:pt x="3739" y="368"/>
                  </a:lnTo>
                  <a:lnTo>
                    <a:pt x="3885" y="366"/>
                  </a:lnTo>
                  <a:lnTo>
                    <a:pt x="4030" y="364"/>
                  </a:lnTo>
                  <a:lnTo>
                    <a:pt x="4176" y="366"/>
                  </a:lnTo>
                  <a:lnTo>
                    <a:pt x="4320" y="370"/>
                  </a:lnTo>
                  <a:lnTo>
                    <a:pt x="4462" y="374"/>
                  </a:lnTo>
                  <a:lnTo>
                    <a:pt x="4604" y="380"/>
                  </a:lnTo>
                  <a:lnTo>
                    <a:pt x="4744" y="390"/>
                  </a:lnTo>
                  <a:lnTo>
                    <a:pt x="4884" y="398"/>
                  </a:lnTo>
                  <a:lnTo>
                    <a:pt x="4884" y="398"/>
                  </a:lnTo>
                  <a:lnTo>
                    <a:pt x="5008" y="410"/>
                  </a:lnTo>
                  <a:lnTo>
                    <a:pt x="5131" y="420"/>
                  </a:lnTo>
                  <a:lnTo>
                    <a:pt x="5255" y="434"/>
                  </a:lnTo>
                  <a:lnTo>
                    <a:pt x="5377" y="446"/>
                  </a:lnTo>
                  <a:lnTo>
                    <a:pt x="5615" y="478"/>
                  </a:lnTo>
                  <a:lnTo>
                    <a:pt x="5851" y="512"/>
                  </a:lnTo>
                  <a:lnTo>
                    <a:pt x="6079" y="550"/>
                  </a:lnTo>
                  <a:lnTo>
                    <a:pt x="6302" y="592"/>
                  </a:lnTo>
                  <a:lnTo>
                    <a:pt x="6518" y="636"/>
                  </a:lnTo>
                  <a:lnTo>
                    <a:pt x="6730" y="681"/>
                  </a:lnTo>
                  <a:lnTo>
                    <a:pt x="6730" y="532"/>
                  </a:lnTo>
                  <a:lnTo>
                    <a:pt x="6730" y="444"/>
                  </a:lnTo>
                  <a:lnTo>
                    <a:pt x="6730" y="444"/>
                  </a:lnTo>
                  <a:lnTo>
                    <a:pt x="6606" y="414"/>
                  </a:lnTo>
                  <a:lnTo>
                    <a:pt x="6482" y="382"/>
                  </a:lnTo>
                  <a:lnTo>
                    <a:pt x="6352" y="350"/>
                  </a:lnTo>
                  <a:lnTo>
                    <a:pt x="6220" y="320"/>
                  </a:lnTo>
                  <a:lnTo>
                    <a:pt x="6087" y="292"/>
                  </a:lnTo>
                  <a:lnTo>
                    <a:pt x="5949" y="262"/>
                  </a:lnTo>
                  <a:lnTo>
                    <a:pt x="5809" y="234"/>
                  </a:lnTo>
                  <a:lnTo>
                    <a:pt x="5665" y="208"/>
                  </a:lnTo>
                  <a:lnTo>
                    <a:pt x="5519" y="182"/>
                  </a:lnTo>
                  <a:lnTo>
                    <a:pt x="5371" y="158"/>
                  </a:lnTo>
                  <a:lnTo>
                    <a:pt x="5219" y="134"/>
                  </a:lnTo>
                  <a:lnTo>
                    <a:pt x="5065" y="114"/>
                  </a:lnTo>
                  <a:lnTo>
                    <a:pt x="4910" y="94"/>
                  </a:lnTo>
                  <a:lnTo>
                    <a:pt x="4752" y="74"/>
                  </a:lnTo>
                  <a:lnTo>
                    <a:pt x="4592" y="58"/>
                  </a:lnTo>
                  <a:lnTo>
                    <a:pt x="4428" y="44"/>
                  </a:lnTo>
                  <a:lnTo>
                    <a:pt x="4428" y="44"/>
                  </a:lnTo>
                  <a:close/>
                </a:path>
              </a:pathLst>
            </a:custGeom>
            <a:solidFill>
              <a:srgbClr val="adc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0" y="7613280"/>
              <a:ext cx="10683720" cy="2638440"/>
            </a:xfrm>
            <a:custGeom>
              <a:avLst/>
              <a:gdLst>
                <a:gd name="textAreaLeft" fmla="*/ 0 w 10683720"/>
                <a:gd name="textAreaRight" fmla="*/ 10684080 w 10683720"/>
                <a:gd name="textAreaTop" fmla="*/ 0 h 2638440"/>
                <a:gd name="textAreaBottom" fmla="*/ 2638800 h 2638440"/>
              </a:gdLst>
              <a:ahLst/>
              <a:rect l="textAreaLeft" t="textAreaTop" r="textAreaRight" b="textAreaBottom"/>
              <a:pathLst>
                <a:path w="6730" h="1662">
                  <a:moveTo>
                    <a:pt x="4884" y="34"/>
                  </a:moveTo>
                  <a:lnTo>
                    <a:pt x="4884" y="34"/>
                  </a:lnTo>
                  <a:lnTo>
                    <a:pt x="4744" y="26"/>
                  </a:lnTo>
                  <a:lnTo>
                    <a:pt x="4604" y="16"/>
                  </a:lnTo>
                  <a:lnTo>
                    <a:pt x="4462" y="10"/>
                  </a:lnTo>
                  <a:lnTo>
                    <a:pt x="4320" y="6"/>
                  </a:lnTo>
                  <a:lnTo>
                    <a:pt x="4176" y="2"/>
                  </a:lnTo>
                  <a:lnTo>
                    <a:pt x="4030" y="0"/>
                  </a:lnTo>
                  <a:lnTo>
                    <a:pt x="3885" y="2"/>
                  </a:lnTo>
                  <a:lnTo>
                    <a:pt x="3739" y="4"/>
                  </a:lnTo>
                  <a:lnTo>
                    <a:pt x="3589" y="8"/>
                  </a:lnTo>
                  <a:lnTo>
                    <a:pt x="3441" y="16"/>
                  </a:lnTo>
                  <a:lnTo>
                    <a:pt x="3291" y="24"/>
                  </a:lnTo>
                  <a:lnTo>
                    <a:pt x="3139" y="36"/>
                  </a:lnTo>
                  <a:lnTo>
                    <a:pt x="2987" y="48"/>
                  </a:lnTo>
                  <a:lnTo>
                    <a:pt x="2835" y="64"/>
                  </a:lnTo>
                  <a:lnTo>
                    <a:pt x="2682" y="82"/>
                  </a:lnTo>
                  <a:lnTo>
                    <a:pt x="2528" y="102"/>
                  </a:lnTo>
                  <a:lnTo>
                    <a:pt x="2374" y="126"/>
                  </a:lnTo>
                  <a:lnTo>
                    <a:pt x="2218" y="152"/>
                  </a:lnTo>
                  <a:lnTo>
                    <a:pt x="2062" y="180"/>
                  </a:lnTo>
                  <a:lnTo>
                    <a:pt x="1906" y="210"/>
                  </a:lnTo>
                  <a:lnTo>
                    <a:pt x="1748" y="244"/>
                  </a:lnTo>
                  <a:lnTo>
                    <a:pt x="1591" y="280"/>
                  </a:lnTo>
                  <a:lnTo>
                    <a:pt x="1433" y="319"/>
                  </a:lnTo>
                  <a:lnTo>
                    <a:pt x="1275" y="361"/>
                  </a:lnTo>
                  <a:lnTo>
                    <a:pt x="1117" y="407"/>
                  </a:lnTo>
                  <a:lnTo>
                    <a:pt x="957" y="455"/>
                  </a:lnTo>
                  <a:lnTo>
                    <a:pt x="797" y="507"/>
                  </a:lnTo>
                  <a:lnTo>
                    <a:pt x="639" y="561"/>
                  </a:lnTo>
                  <a:lnTo>
                    <a:pt x="480" y="619"/>
                  </a:lnTo>
                  <a:lnTo>
                    <a:pt x="320" y="681"/>
                  </a:lnTo>
                  <a:lnTo>
                    <a:pt x="160" y="745"/>
                  </a:lnTo>
                  <a:lnTo>
                    <a:pt x="0" y="813"/>
                  </a:lnTo>
                  <a:lnTo>
                    <a:pt x="0" y="1522"/>
                  </a:lnTo>
                  <a:lnTo>
                    <a:pt x="0" y="1662"/>
                  </a:lnTo>
                  <a:lnTo>
                    <a:pt x="0" y="1662"/>
                  </a:lnTo>
                  <a:lnTo>
                    <a:pt x="186" y="1558"/>
                  </a:lnTo>
                  <a:lnTo>
                    <a:pt x="370" y="1460"/>
                  </a:lnTo>
                  <a:lnTo>
                    <a:pt x="556" y="1367"/>
                  </a:lnTo>
                  <a:lnTo>
                    <a:pt x="741" y="1277"/>
                  </a:lnTo>
                  <a:lnTo>
                    <a:pt x="927" y="1193"/>
                  </a:lnTo>
                  <a:lnTo>
                    <a:pt x="1111" y="1115"/>
                  </a:lnTo>
                  <a:lnTo>
                    <a:pt x="1297" y="1041"/>
                  </a:lnTo>
                  <a:lnTo>
                    <a:pt x="1481" y="971"/>
                  </a:lnTo>
                  <a:lnTo>
                    <a:pt x="1665" y="907"/>
                  </a:lnTo>
                  <a:lnTo>
                    <a:pt x="1850" y="847"/>
                  </a:lnTo>
                  <a:lnTo>
                    <a:pt x="2032" y="791"/>
                  </a:lnTo>
                  <a:lnTo>
                    <a:pt x="2216" y="739"/>
                  </a:lnTo>
                  <a:lnTo>
                    <a:pt x="2398" y="691"/>
                  </a:lnTo>
                  <a:lnTo>
                    <a:pt x="2580" y="647"/>
                  </a:lnTo>
                  <a:lnTo>
                    <a:pt x="2762" y="609"/>
                  </a:lnTo>
                  <a:lnTo>
                    <a:pt x="2941" y="573"/>
                  </a:lnTo>
                  <a:lnTo>
                    <a:pt x="3121" y="541"/>
                  </a:lnTo>
                  <a:lnTo>
                    <a:pt x="3301" y="513"/>
                  </a:lnTo>
                  <a:lnTo>
                    <a:pt x="3477" y="487"/>
                  </a:lnTo>
                  <a:lnTo>
                    <a:pt x="3655" y="467"/>
                  </a:lnTo>
                  <a:lnTo>
                    <a:pt x="3831" y="449"/>
                  </a:lnTo>
                  <a:lnTo>
                    <a:pt x="4004" y="435"/>
                  </a:lnTo>
                  <a:lnTo>
                    <a:pt x="4178" y="423"/>
                  </a:lnTo>
                  <a:lnTo>
                    <a:pt x="4350" y="415"/>
                  </a:lnTo>
                  <a:lnTo>
                    <a:pt x="4520" y="409"/>
                  </a:lnTo>
                  <a:lnTo>
                    <a:pt x="4690" y="407"/>
                  </a:lnTo>
                  <a:lnTo>
                    <a:pt x="4858" y="407"/>
                  </a:lnTo>
                  <a:lnTo>
                    <a:pt x="5024" y="409"/>
                  </a:lnTo>
                  <a:lnTo>
                    <a:pt x="5187" y="415"/>
                  </a:lnTo>
                  <a:lnTo>
                    <a:pt x="5351" y="423"/>
                  </a:lnTo>
                  <a:lnTo>
                    <a:pt x="5513" y="433"/>
                  </a:lnTo>
                  <a:lnTo>
                    <a:pt x="5671" y="445"/>
                  </a:lnTo>
                  <a:lnTo>
                    <a:pt x="5671" y="445"/>
                  </a:lnTo>
                  <a:lnTo>
                    <a:pt x="5809" y="457"/>
                  </a:lnTo>
                  <a:lnTo>
                    <a:pt x="5945" y="471"/>
                  </a:lnTo>
                  <a:lnTo>
                    <a:pt x="6081" y="487"/>
                  </a:lnTo>
                  <a:lnTo>
                    <a:pt x="6212" y="503"/>
                  </a:lnTo>
                  <a:lnTo>
                    <a:pt x="6344" y="521"/>
                  </a:lnTo>
                  <a:lnTo>
                    <a:pt x="6474" y="541"/>
                  </a:lnTo>
                  <a:lnTo>
                    <a:pt x="6602" y="561"/>
                  </a:lnTo>
                  <a:lnTo>
                    <a:pt x="6730" y="583"/>
                  </a:lnTo>
                  <a:lnTo>
                    <a:pt x="6730" y="505"/>
                  </a:lnTo>
                  <a:lnTo>
                    <a:pt x="6730" y="317"/>
                  </a:lnTo>
                  <a:lnTo>
                    <a:pt x="6730" y="317"/>
                  </a:lnTo>
                  <a:lnTo>
                    <a:pt x="6518" y="272"/>
                  </a:lnTo>
                  <a:lnTo>
                    <a:pt x="6302" y="228"/>
                  </a:lnTo>
                  <a:lnTo>
                    <a:pt x="6079" y="186"/>
                  </a:lnTo>
                  <a:lnTo>
                    <a:pt x="5851" y="148"/>
                  </a:lnTo>
                  <a:lnTo>
                    <a:pt x="5615" y="114"/>
                  </a:lnTo>
                  <a:lnTo>
                    <a:pt x="5377" y="82"/>
                  </a:lnTo>
                  <a:lnTo>
                    <a:pt x="5255" y="70"/>
                  </a:lnTo>
                  <a:lnTo>
                    <a:pt x="5131" y="56"/>
                  </a:lnTo>
                  <a:lnTo>
                    <a:pt x="5008" y="46"/>
                  </a:lnTo>
                  <a:lnTo>
                    <a:pt x="4884" y="34"/>
                  </a:lnTo>
                  <a:lnTo>
                    <a:pt x="4884" y="34"/>
                  </a:lnTo>
                  <a:close/>
                </a:path>
              </a:pathLst>
            </a:custGeom>
            <a:solidFill>
              <a:srgbClr val="58b4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0" y="8259480"/>
              <a:ext cx="10683720" cy="3392640"/>
            </a:xfrm>
            <a:custGeom>
              <a:avLst/>
              <a:gdLst>
                <a:gd name="textAreaLeft" fmla="*/ 0 w 10683720"/>
                <a:gd name="textAreaRight" fmla="*/ 10684080 w 10683720"/>
                <a:gd name="textAreaTop" fmla="*/ 0 h 3392640"/>
                <a:gd name="textAreaBottom" fmla="*/ 3393000 h 3392640"/>
              </a:gdLst>
              <a:ahLst/>
              <a:rect l="textAreaLeft" t="textAreaTop" r="textAreaRight" b="textAreaBottom"/>
              <a:pathLst>
                <a:path w="6730" h="2137">
                  <a:moveTo>
                    <a:pt x="5671" y="38"/>
                  </a:moveTo>
                  <a:lnTo>
                    <a:pt x="5671" y="38"/>
                  </a:lnTo>
                  <a:lnTo>
                    <a:pt x="5513" y="26"/>
                  </a:lnTo>
                  <a:lnTo>
                    <a:pt x="5351" y="16"/>
                  </a:lnTo>
                  <a:lnTo>
                    <a:pt x="5187" y="8"/>
                  </a:lnTo>
                  <a:lnTo>
                    <a:pt x="5024" y="2"/>
                  </a:lnTo>
                  <a:lnTo>
                    <a:pt x="4858" y="0"/>
                  </a:lnTo>
                  <a:lnTo>
                    <a:pt x="4690" y="0"/>
                  </a:lnTo>
                  <a:lnTo>
                    <a:pt x="4520" y="2"/>
                  </a:lnTo>
                  <a:lnTo>
                    <a:pt x="4350" y="8"/>
                  </a:lnTo>
                  <a:lnTo>
                    <a:pt x="4178" y="16"/>
                  </a:lnTo>
                  <a:lnTo>
                    <a:pt x="4004" y="28"/>
                  </a:lnTo>
                  <a:lnTo>
                    <a:pt x="3831" y="42"/>
                  </a:lnTo>
                  <a:lnTo>
                    <a:pt x="3655" y="60"/>
                  </a:lnTo>
                  <a:lnTo>
                    <a:pt x="3477" y="80"/>
                  </a:lnTo>
                  <a:lnTo>
                    <a:pt x="3301" y="106"/>
                  </a:lnTo>
                  <a:lnTo>
                    <a:pt x="3121" y="134"/>
                  </a:lnTo>
                  <a:lnTo>
                    <a:pt x="2941" y="166"/>
                  </a:lnTo>
                  <a:lnTo>
                    <a:pt x="2762" y="202"/>
                  </a:lnTo>
                  <a:lnTo>
                    <a:pt x="2580" y="240"/>
                  </a:lnTo>
                  <a:lnTo>
                    <a:pt x="2398" y="284"/>
                  </a:lnTo>
                  <a:lnTo>
                    <a:pt x="2216" y="332"/>
                  </a:lnTo>
                  <a:lnTo>
                    <a:pt x="2032" y="384"/>
                  </a:lnTo>
                  <a:lnTo>
                    <a:pt x="1850" y="440"/>
                  </a:lnTo>
                  <a:lnTo>
                    <a:pt x="1665" y="500"/>
                  </a:lnTo>
                  <a:lnTo>
                    <a:pt x="1481" y="564"/>
                  </a:lnTo>
                  <a:lnTo>
                    <a:pt x="1297" y="634"/>
                  </a:lnTo>
                  <a:lnTo>
                    <a:pt x="1111" y="708"/>
                  </a:lnTo>
                  <a:lnTo>
                    <a:pt x="927" y="786"/>
                  </a:lnTo>
                  <a:lnTo>
                    <a:pt x="741" y="870"/>
                  </a:lnTo>
                  <a:lnTo>
                    <a:pt x="556" y="960"/>
                  </a:lnTo>
                  <a:lnTo>
                    <a:pt x="370" y="1053"/>
                  </a:lnTo>
                  <a:lnTo>
                    <a:pt x="186" y="1151"/>
                  </a:lnTo>
                  <a:lnTo>
                    <a:pt x="0" y="1255"/>
                  </a:lnTo>
                  <a:lnTo>
                    <a:pt x="0" y="1971"/>
                  </a:lnTo>
                  <a:lnTo>
                    <a:pt x="0" y="2137"/>
                  </a:lnTo>
                  <a:lnTo>
                    <a:pt x="0" y="2137"/>
                  </a:lnTo>
                  <a:lnTo>
                    <a:pt x="108" y="2057"/>
                  </a:lnTo>
                  <a:lnTo>
                    <a:pt x="218" y="1981"/>
                  </a:lnTo>
                  <a:lnTo>
                    <a:pt x="326" y="1905"/>
                  </a:lnTo>
                  <a:lnTo>
                    <a:pt x="436" y="1831"/>
                  </a:lnTo>
                  <a:lnTo>
                    <a:pt x="546" y="1759"/>
                  </a:lnTo>
                  <a:lnTo>
                    <a:pt x="655" y="1691"/>
                  </a:lnTo>
                  <a:lnTo>
                    <a:pt x="765" y="1623"/>
                  </a:lnTo>
                  <a:lnTo>
                    <a:pt x="875" y="1557"/>
                  </a:lnTo>
                  <a:lnTo>
                    <a:pt x="985" y="1491"/>
                  </a:lnTo>
                  <a:lnTo>
                    <a:pt x="1095" y="1429"/>
                  </a:lnTo>
                  <a:lnTo>
                    <a:pt x="1205" y="1369"/>
                  </a:lnTo>
                  <a:lnTo>
                    <a:pt x="1315" y="1309"/>
                  </a:lnTo>
                  <a:lnTo>
                    <a:pt x="1425" y="1253"/>
                  </a:lnTo>
                  <a:lnTo>
                    <a:pt x="1537" y="1197"/>
                  </a:lnTo>
                  <a:lnTo>
                    <a:pt x="1647" y="1143"/>
                  </a:lnTo>
                  <a:lnTo>
                    <a:pt x="1756" y="1091"/>
                  </a:lnTo>
                  <a:lnTo>
                    <a:pt x="1866" y="1042"/>
                  </a:lnTo>
                  <a:lnTo>
                    <a:pt x="1978" y="992"/>
                  </a:lnTo>
                  <a:lnTo>
                    <a:pt x="2088" y="946"/>
                  </a:lnTo>
                  <a:lnTo>
                    <a:pt x="2198" y="900"/>
                  </a:lnTo>
                  <a:lnTo>
                    <a:pt x="2308" y="856"/>
                  </a:lnTo>
                  <a:lnTo>
                    <a:pt x="2418" y="814"/>
                  </a:lnTo>
                  <a:lnTo>
                    <a:pt x="2528" y="772"/>
                  </a:lnTo>
                  <a:lnTo>
                    <a:pt x="2638" y="732"/>
                  </a:lnTo>
                  <a:lnTo>
                    <a:pt x="2748" y="696"/>
                  </a:lnTo>
                  <a:lnTo>
                    <a:pt x="2857" y="658"/>
                  </a:lnTo>
                  <a:lnTo>
                    <a:pt x="2967" y="624"/>
                  </a:lnTo>
                  <a:lnTo>
                    <a:pt x="3075" y="592"/>
                  </a:lnTo>
                  <a:lnTo>
                    <a:pt x="3185" y="560"/>
                  </a:lnTo>
                  <a:lnTo>
                    <a:pt x="3293" y="528"/>
                  </a:lnTo>
                  <a:lnTo>
                    <a:pt x="3403" y="500"/>
                  </a:lnTo>
                  <a:lnTo>
                    <a:pt x="3511" y="472"/>
                  </a:lnTo>
                  <a:lnTo>
                    <a:pt x="3619" y="446"/>
                  </a:lnTo>
                  <a:lnTo>
                    <a:pt x="3727" y="422"/>
                  </a:lnTo>
                  <a:lnTo>
                    <a:pt x="3833" y="398"/>
                  </a:lnTo>
                  <a:lnTo>
                    <a:pt x="3940" y="378"/>
                  </a:lnTo>
                  <a:lnTo>
                    <a:pt x="4046" y="356"/>
                  </a:lnTo>
                  <a:lnTo>
                    <a:pt x="4152" y="338"/>
                  </a:lnTo>
                  <a:lnTo>
                    <a:pt x="4258" y="320"/>
                  </a:lnTo>
                  <a:lnTo>
                    <a:pt x="4364" y="302"/>
                  </a:lnTo>
                  <a:lnTo>
                    <a:pt x="4574" y="274"/>
                  </a:lnTo>
                  <a:lnTo>
                    <a:pt x="4782" y="250"/>
                  </a:lnTo>
                  <a:lnTo>
                    <a:pt x="4988" y="230"/>
                  </a:lnTo>
                  <a:lnTo>
                    <a:pt x="5191" y="214"/>
                  </a:lnTo>
                  <a:lnTo>
                    <a:pt x="5393" y="204"/>
                  </a:lnTo>
                  <a:lnTo>
                    <a:pt x="5591" y="200"/>
                  </a:lnTo>
                  <a:lnTo>
                    <a:pt x="5789" y="198"/>
                  </a:lnTo>
                  <a:lnTo>
                    <a:pt x="5983" y="200"/>
                  </a:lnTo>
                  <a:lnTo>
                    <a:pt x="6173" y="208"/>
                  </a:lnTo>
                  <a:lnTo>
                    <a:pt x="6362" y="220"/>
                  </a:lnTo>
                  <a:lnTo>
                    <a:pt x="6546" y="234"/>
                  </a:lnTo>
                  <a:lnTo>
                    <a:pt x="6730" y="252"/>
                  </a:lnTo>
                  <a:lnTo>
                    <a:pt x="6730" y="176"/>
                  </a:lnTo>
                  <a:lnTo>
                    <a:pt x="6730" y="176"/>
                  </a:lnTo>
                  <a:lnTo>
                    <a:pt x="6602" y="154"/>
                  </a:lnTo>
                  <a:lnTo>
                    <a:pt x="6474" y="134"/>
                  </a:lnTo>
                  <a:lnTo>
                    <a:pt x="6344" y="114"/>
                  </a:lnTo>
                  <a:lnTo>
                    <a:pt x="6212" y="96"/>
                  </a:lnTo>
                  <a:lnTo>
                    <a:pt x="6081" y="80"/>
                  </a:lnTo>
                  <a:lnTo>
                    <a:pt x="5945" y="64"/>
                  </a:lnTo>
                  <a:lnTo>
                    <a:pt x="5809" y="50"/>
                  </a:lnTo>
                  <a:lnTo>
                    <a:pt x="5671" y="38"/>
                  </a:lnTo>
                  <a:lnTo>
                    <a:pt x="5671" y="38"/>
                  </a:lnTo>
                  <a:close/>
                </a:path>
              </a:pathLst>
            </a:custGeom>
            <a:solidFill>
              <a:srgbClr val="006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0" y="8574120"/>
              <a:ext cx="10683720" cy="4886280"/>
            </a:xfrm>
            <a:custGeom>
              <a:avLst/>
              <a:gdLst>
                <a:gd name="textAreaLeft" fmla="*/ 0 w 10683720"/>
                <a:gd name="textAreaRight" fmla="*/ 10684080 w 10683720"/>
                <a:gd name="textAreaTop" fmla="*/ 0 h 4886280"/>
                <a:gd name="textAreaBottom" fmla="*/ 4886640 h 4886280"/>
              </a:gdLst>
              <a:ahLst/>
              <a:rect l="textAreaLeft" t="textAreaTop" r="textAreaRight" b="textAreaBottom"/>
              <a:pathLst>
                <a:path w="6730" h="3078">
                  <a:moveTo>
                    <a:pt x="0" y="1939"/>
                  </a:moveTo>
                  <a:lnTo>
                    <a:pt x="0" y="2404"/>
                  </a:lnTo>
                  <a:lnTo>
                    <a:pt x="0" y="2990"/>
                  </a:lnTo>
                  <a:lnTo>
                    <a:pt x="0" y="3078"/>
                  </a:lnTo>
                  <a:lnTo>
                    <a:pt x="0" y="3078"/>
                  </a:lnTo>
                  <a:lnTo>
                    <a:pt x="54" y="3018"/>
                  </a:lnTo>
                  <a:lnTo>
                    <a:pt x="116" y="2950"/>
                  </a:lnTo>
                  <a:lnTo>
                    <a:pt x="188" y="2874"/>
                  </a:lnTo>
                  <a:lnTo>
                    <a:pt x="272" y="2792"/>
                  </a:lnTo>
                  <a:lnTo>
                    <a:pt x="364" y="2702"/>
                  </a:lnTo>
                  <a:lnTo>
                    <a:pt x="466" y="2608"/>
                  </a:lnTo>
                  <a:lnTo>
                    <a:pt x="577" y="2508"/>
                  </a:lnTo>
                  <a:lnTo>
                    <a:pt x="701" y="2402"/>
                  </a:lnTo>
                  <a:lnTo>
                    <a:pt x="833" y="2294"/>
                  </a:lnTo>
                  <a:lnTo>
                    <a:pt x="975" y="2182"/>
                  </a:lnTo>
                  <a:lnTo>
                    <a:pt x="1129" y="2068"/>
                  </a:lnTo>
                  <a:lnTo>
                    <a:pt x="1209" y="2010"/>
                  </a:lnTo>
                  <a:lnTo>
                    <a:pt x="1291" y="1953"/>
                  </a:lnTo>
                  <a:lnTo>
                    <a:pt x="1377" y="1895"/>
                  </a:lnTo>
                  <a:lnTo>
                    <a:pt x="1465" y="1837"/>
                  </a:lnTo>
                  <a:lnTo>
                    <a:pt x="1555" y="1779"/>
                  </a:lnTo>
                  <a:lnTo>
                    <a:pt x="1647" y="1719"/>
                  </a:lnTo>
                  <a:lnTo>
                    <a:pt x="1742" y="1661"/>
                  </a:lnTo>
                  <a:lnTo>
                    <a:pt x="1840" y="1603"/>
                  </a:lnTo>
                  <a:lnTo>
                    <a:pt x="1942" y="1545"/>
                  </a:lnTo>
                  <a:lnTo>
                    <a:pt x="2044" y="1487"/>
                  </a:lnTo>
                  <a:lnTo>
                    <a:pt x="2150" y="1429"/>
                  </a:lnTo>
                  <a:lnTo>
                    <a:pt x="2258" y="1373"/>
                  </a:lnTo>
                  <a:lnTo>
                    <a:pt x="2370" y="1317"/>
                  </a:lnTo>
                  <a:lnTo>
                    <a:pt x="2484" y="1261"/>
                  </a:lnTo>
                  <a:lnTo>
                    <a:pt x="2600" y="1207"/>
                  </a:lnTo>
                  <a:lnTo>
                    <a:pt x="2718" y="1153"/>
                  </a:lnTo>
                  <a:lnTo>
                    <a:pt x="2839" y="1099"/>
                  </a:lnTo>
                  <a:lnTo>
                    <a:pt x="2963" y="1047"/>
                  </a:lnTo>
                  <a:lnTo>
                    <a:pt x="3089" y="997"/>
                  </a:lnTo>
                  <a:lnTo>
                    <a:pt x="3219" y="947"/>
                  </a:lnTo>
                  <a:lnTo>
                    <a:pt x="3351" y="899"/>
                  </a:lnTo>
                  <a:lnTo>
                    <a:pt x="3485" y="851"/>
                  </a:lnTo>
                  <a:lnTo>
                    <a:pt x="3621" y="808"/>
                  </a:lnTo>
                  <a:lnTo>
                    <a:pt x="3761" y="764"/>
                  </a:lnTo>
                  <a:lnTo>
                    <a:pt x="3903" y="722"/>
                  </a:lnTo>
                  <a:lnTo>
                    <a:pt x="4048" y="680"/>
                  </a:lnTo>
                  <a:lnTo>
                    <a:pt x="4196" y="642"/>
                  </a:lnTo>
                  <a:lnTo>
                    <a:pt x="4346" y="604"/>
                  </a:lnTo>
                  <a:lnTo>
                    <a:pt x="4498" y="570"/>
                  </a:lnTo>
                  <a:lnTo>
                    <a:pt x="4654" y="538"/>
                  </a:lnTo>
                  <a:lnTo>
                    <a:pt x="4812" y="506"/>
                  </a:lnTo>
                  <a:lnTo>
                    <a:pt x="4974" y="478"/>
                  </a:lnTo>
                  <a:lnTo>
                    <a:pt x="5137" y="452"/>
                  </a:lnTo>
                  <a:lnTo>
                    <a:pt x="5303" y="428"/>
                  </a:lnTo>
                  <a:lnTo>
                    <a:pt x="5471" y="406"/>
                  </a:lnTo>
                  <a:lnTo>
                    <a:pt x="5643" y="388"/>
                  </a:lnTo>
                  <a:lnTo>
                    <a:pt x="5817" y="372"/>
                  </a:lnTo>
                  <a:lnTo>
                    <a:pt x="5995" y="358"/>
                  </a:lnTo>
                  <a:lnTo>
                    <a:pt x="6175" y="348"/>
                  </a:lnTo>
                  <a:lnTo>
                    <a:pt x="6356" y="340"/>
                  </a:lnTo>
                  <a:lnTo>
                    <a:pt x="6542" y="336"/>
                  </a:lnTo>
                  <a:lnTo>
                    <a:pt x="6730" y="334"/>
                  </a:lnTo>
                  <a:lnTo>
                    <a:pt x="6730" y="318"/>
                  </a:lnTo>
                  <a:lnTo>
                    <a:pt x="6730" y="126"/>
                  </a:lnTo>
                  <a:lnTo>
                    <a:pt x="6730" y="54"/>
                  </a:lnTo>
                  <a:lnTo>
                    <a:pt x="6730" y="54"/>
                  </a:lnTo>
                  <a:lnTo>
                    <a:pt x="6546" y="36"/>
                  </a:lnTo>
                  <a:lnTo>
                    <a:pt x="6362" y="22"/>
                  </a:lnTo>
                  <a:lnTo>
                    <a:pt x="6173" y="10"/>
                  </a:lnTo>
                  <a:lnTo>
                    <a:pt x="5983" y="2"/>
                  </a:lnTo>
                  <a:lnTo>
                    <a:pt x="5789" y="0"/>
                  </a:lnTo>
                  <a:lnTo>
                    <a:pt x="5591" y="2"/>
                  </a:lnTo>
                  <a:lnTo>
                    <a:pt x="5393" y="6"/>
                  </a:lnTo>
                  <a:lnTo>
                    <a:pt x="5191" y="16"/>
                  </a:lnTo>
                  <a:lnTo>
                    <a:pt x="4988" y="32"/>
                  </a:lnTo>
                  <a:lnTo>
                    <a:pt x="4782" y="52"/>
                  </a:lnTo>
                  <a:lnTo>
                    <a:pt x="4574" y="76"/>
                  </a:lnTo>
                  <a:lnTo>
                    <a:pt x="4364" y="104"/>
                  </a:lnTo>
                  <a:lnTo>
                    <a:pt x="4258" y="122"/>
                  </a:lnTo>
                  <a:lnTo>
                    <a:pt x="4152" y="140"/>
                  </a:lnTo>
                  <a:lnTo>
                    <a:pt x="4046" y="158"/>
                  </a:lnTo>
                  <a:lnTo>
                    <a:pt x="3940" y="180"/>
                  </a:lnTo>
                  <a:lnTo>
                    <a:pt x="3833" y="200"/>
                  </a:lnTo>
                  <a:lnTo>
                    <a:pt x="3727" y="224"/>
                  </a:lnTo>
                  <a:lnTo>
                    <a:pt x="3619" y="248"/>
                  </a:lnTo>
                  <a:lnTo>
                    <a:pt x="3511" y="274"/>
                  </a:lnTo>
                  <a:lnTo>
                    <a:pt x="3403" y="302"/>
                  </a:lnTo>
                  <a:lnTo>
                    <a:pt x="3293" y="330"/>
                  </a:lnTo>
                  <a:lnTo>
                    <a:pt x="3185" y="362"/>
                  </a:lnTo>
                  <a:lnTo>
                    <a:pt x="3075" y="394"/>
                  </a:lnTo>
                  <a:lnTo>
                    <a:pt x="2967" y="426"/>
                  </a:lnTo>
                  <a:lnTo>
                    <a:pt x="2857" y="460"/>
                  </a:lnTo>
                  <a:lnTo>
                    <a:pt x="2748" y="498"/>
                  </a:lnTo>
                  <a:lnTo>
                    <a:pt x="2638" y="534"/>
                  </a:lnTo>
                  <a:lnTo>
                    <a:pt x="2528" y="574"/>
                  </a:lnTo>
                  <a:lnTo>
                    <a:pt x="2418" y="616"/>
                  </a:lnTo>
                  <a:lnTo>
                    <a:pt x="2308" y="658"/>
                  </a:lnTo>
                  <a:lnTo>
                    <a:pt x="2198" y="702"/>
                  </a:lnTo>
                  <a:lnTo>
                    <a:pt x="2088" y="748"/>
                  </a:lnTo>
                  <a:lnTo>
                    <a:pt x="1978" y="794"/>
                  </a:lnTo>
                  <a:lnTo>
                    <a:pt x="1866" y="844"/>
                  </a:lnTo>
                  <a:lnTo>
                    <a:pt x="1756" y="893"/>
                  </a:lnTo>
                  <a:lnTo>
                    <a:pt x="1647" y="945"/>
                  </a:lnTo>
                  <a:lnTo>
                    <a:pt x="1537" y="999"/>
                  </a:lnTo>
                  <a:lnTo>
                    <a:pt x="1425" y="1055"/>
                  </a:lnTo>
                  <a:lnTo>
                    <a:pt x="1315" y="1111"/>
                  </a:lnTo>
                  <a:lnTo>
                    <a:pt x="1205" y="1171"/>
                  </a:lnTo>
                  <a:lnTo>
                    <a:pt x="1095" y="1231"/>
                  </a:lnTo>
                  <a:lnTo>
                    <a:pt x="985" y="1293"/>
                  </a:lnTo>
                  <a:lnTo>
                    <a:pt x="875" y="1359"/>
                  </a:lnTo>
                  <a:lnTo>
                    <a:pt x="765" y="1425"/>
                  </a:lnTo>
                  <a:lnTo>
                    <a:pt x="655" y="1493"/>
                  </a:lnTo>
                  <a:lnTo>
                    <a:pt x="546" y="1561"/>
                  </a:lnTo>
                  <a:lnTo>
                    <a:pt x="436" y="1633"/>
                  </a:lnTo>
                  <a:lnTo>
                    <a:pt x="326" y="1707"/>
                  </a:lnTo>
                  <a:lnTo>
                    <a:pt x="218" y="1783"/>
                  </a:lnTo>
                  <a:lnTo>
                    <a:pt x="108" y="1859"/>
                  </a:lnTo>
                  <a:lnTo>
                    <a:pt x="0" y="1939"/>
                  </a:lnTo>
                  <a:lnTo>
                    <a:pt x="0" y="1939"/>
                  </a:lnTo>
                  <a:close/>
                </a:path>
              </a:pathLst>
            </a:custGeom>
            <a:solidFill>
              <a:srgbClr val="907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グループ化 12"/>
          <p:cNvGrpSpPr/>
          <p:nvPr/>
        </p:nvGrpSpPr>
        <p:grpSpPr>
          <a:xfrm>
            <a:off x="79200" y="7362720"/>
            <a:ext cx="3892680" cy="2365560"/>
            <a:chOff x="79200" y="7362720"/>
            <a:chExt cx="3892680" cy="2365560"/>
          </a:xfrm>
        </p:grpSpPr>
        <p:sp>
          <p:nvSpPr>
            <p:cNvPr id="51" name="Freeform 5"/>
            <p:cNvSpPr/>
            <p:nvPr/>
          </p:nvSpPr>
          <p:spPr>
            <a:xfrm>
              <a:off x="180720" y="7540560"/>
              <a:ext cx="3642120" cy="2086200"/>
            </a:xfrm>
            <a:custGeom>
              <a:avLst/>
              <a:gdLst>
                <a:gd name="textAreaLeft" fmla="*/ 0 w 3642120"/>
                <a:gd name="textAreaRight" fmla="*/ 3642480 w 364212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2294" h="1314">
                  <a:moveTo>
                    <a:pt x="2224" y="260"/>
                  </a:moveTo>
                  <a:lnTo>
                    <a:pt x="2224" y="260"/>
                  </a:lnTo>
                  <a:lnTo>
                    <a:pt x="2224" y="250"/>
                  </a:lnTo>
                  <a:lnTo>
                    <a:pt x="2222" y="244"/>
                  </a:lnTo>
                  <a:lnTo>
                    <a:pt x="2218" y="238"/>
                  </a:lnTo>
                  <a:lnTo>
                    <a:pt x="2214" y="234"/>
                  </a:lnTo>
                  <a:lnTo>
                    <a:pt x="2204" y="226"/>
                  </a:lnTo>
                  <a:lnTo>
                    <a:pt x="2190" y="220"/>
                  </a:lnTo>
                  <a:lnTo>
                    <a:pt x="2178" y="212"/>
                  </a:lnTo>
                  <a:lnTo>
                    <a:pt x="2168" y="204"/>
                  </a:lnTo>
                  <a:lnTo>
                    <a:pt x="2164" y="198"/>
                  </a:lnTo>
                  <a:lnTo>
                    <a:pt x="2160" y="192"/>
                  </a:lnTo>
                  <a:lnTo>
                    <a:pt x="2158" y="182"/>
                  </a:lnTo>
                  <a:lnTo>
                    <a:pt x="2158" y="172"/>
                  </a:lnTo>
                  <a:lnTo>
                    <a:pt x="2158" y="172"/>
                  </a:lnTo>
                  <a:lnTo>
                    <a:pt x="2148" y="174"/>
                  </a:lnTo>
                  <a:lnTo>
                    <a:pt x="2142" y="174"/>
                  </a:lnTo>
                  <a:lnTo>
                    <a:pt x="2138" y="172"/>
                  </a:lnTo>
                  <a:lnTo>
                    <a:pt x="2134" y="166"/>
                  </a:lnTo>
                  <a:lnTo>
                    <a:pt x="2130" y="158"/>
                  </a:lnTo>
                  <a:lnTo>
                    <a:pt x="2124" y="156"/>
                  </a:lnTo>
                  <a:lnTo>
                    <a:pt x="2120" y="154"/>
                  </a:lnTo>
                  <a:lnTo>
                    <a:pt x="2120" y="154"/>
                  </a:lnTo>
                  <a:lnTo>
                    <a:pt x="2104" y="152"/>
                  </a:lnTo>
                  <a:lnTo>
                    <a:pt x="2092" y="148"/>
                  </a:lnTo>
                  <a:lnTo>
                    <a:pt x="2080" y="142"/>
                  </a:lnTo>
                  <a:lnTo>
                    <a:pt x="2072" y="134"/>
                  </a:lnTo>
                  <a:lnTo>
                    <a:pt x="2072" y="134"/>
                  </a:lnTo>
                  <a:lnTo>
                    <a:pt x="2048" y="134"/>
                  </a:lnTo>
                  <a:lnTo>
                    <a:pt x="2026" y="130"/>
                  </a:lnTo>
                  <a:lnTo>
                    <a:pt x="1984" y="120"/>
                  </a:lnTo>
                  <a:lnTo>
                    <a:pt x="1944" y="110"/>
                  </a:lnTo>
                  <a:lnTo>
                    <a:pt x="1922" y="108"/>
                  </a:lnTo>
                  <a:lnTo>
                    <a:pt x="1898" y="106"/>
                  </a:lnTo>
                  <a:lnTo>
                    <a:pt x="1860" y="106"/>
                  </a:lnTo>
                  <a:lnTo>
                    <a:pt x="1860" y="106"/>
                  </a:lnTo>
                  <a:lnTo>
                    <a:pt x="1852" y="112"/>
                  </a:lnTo>
                  <a:lnTo>
                    <a:pt x="1842" y="114"/>
                  </a:lnTo>
                  <a:lnTo>
                    <a:pt x="1822" y="116"/>
                  </a:lnTo>
                  <a:lnTo>
                    <a:pt x="1822" y="116"/>
                  </a:lnTo>
                  <a:lnTo>
                    <a:pt x="1814" y="122"/>
                  </a:lnTo>
                  <a:lnTo>
                    <a:pt x="1802" y="128"/>
                  </a:lnTo>
                  <a:lnTo>
                    <a:pt x="1788" y="132"/>
                  </a:lnTo>
                  <a:lnTo>
                    <a:pt x="1774" y="134"/>
                  </a:lnTo>
                  <a:lnTo>
                    <a:pt x="1774" y="134"/>
                  </a:lnTo>
                  <a:lnTo>
                    <a:pt x="1760" y="140"/>
                  </a:lnTo>
                  <a:lnTo>
                    <a:pt x="1748" y="144"/>
                  </a:lnTo>
                  <a:lnTo>
                    <a:pt x="1738" y="152"/>
                  </a:lnTo>
                  <a:lnTo>
                    <a:pt x="1728" y="160"/>
                  </a:lnTo>
                  <a:lnTo>
                    <a:pt x="1708" y="176"/>
                  </a:lnTo>
                  <a:lnTo>
                    <a:pt x="1688" y="192"/>
                  </a:lnTo>
                  <a:lnTo>
                    <a:pt x="1688" y="192"/>
                  </a:lnTo>
                  <a:lnTo>
                    <a:pt x="1680" y="194"/>
                  </a:lnTo>
                  <a:lnTo>
                    <a:pt x="1672" y="198"/>
                  </a:lnTo>
                  <a:lnTo>
                    <a:pt x="1660" y="206"/>
                  </a:lnTo>
                  <a:lnTo>
                    <a:pt x="1652" y="218"/>
                  </a:lnTo>
                  <a:lnTo>
                    <a:pt x="1646" y="230"/>
                  </a:lnTo>
                  <a:lnTo>
                    <a:pt x="1640" y="242"/>
                  </a:lnTo>
                  <a:lnTo>
                    <a:pt x="1632" y="254"/>
                  </a:lnTo>
                  <a:lnTo>
                    <a:pt x="1624" y="264"/>
                  </a:lnTo>
                  <a:lnTo>
                    <a:pt x="1618" y="266"/>
                  </a:lnTo>
                  <a:lnTo>
                    <a:pt x="1612" y="268"/>
                  </a:lnTo>
                  <a:lnTo>
                    <a:pt x="1612" y="268"/>
                  </a:lnTo>
                  <a:lnTo>
                    <a:pt x="1610" y="282"/>
                  </a:lnTo>
                  <a:lnTo>
                    <a:pt x="1604" y="290"/>
                  </a:lnTo>
                  <a:lnTo>
                    <a:pt x="1598" y="296"/>
                  </a:lnTo>
                  <a:lnTo>
                    <a:pt x="1590" y="300"/>
                  </a:lnTo>
                  <a:lnTo>
                    <a:pt x="1574" y="306"/>
                  </a:lnTo>
                  <a:lnTo>
                    <a:pt x="1568" y="310"/>
                  </a:lnTo>
                  <a:lnTo>
                    <a:pt x="1564" y="316"/>
                  </a:lnTo>
                  <a:lnTo>
                    <a:pt x="1564" y="316"/>
                  </a:lnTo>
                  <a:lnTo>
                    <a:pt x="1562" y="320"/>
                  </a:lnTo>
                  <a:lnTo>
                    <a:pt x="1562" y="320"/>
                  </a:lnTo>
                  <a:lnTo>
                    <a:pt x="1558" y="320"/>
                  </a:lnTo>
                  <a:lnTo>
                    <a:pt x="1554" y="316"/>
                  </a:lnTo>
                  <a:lnTo>
                    <a:pt x="1554" y="316"/>
                  </a:lnTo>
                  <a:lnTo>
                    <a:pt x="1546" y="322"/>
                  </a:lnTo>
                  <a:lnTo>
                    <a:pt x="1544" y="322"/>
                  </a:lnTo>
                  <a:lnTo>
                    <a:pt x="1540" y="322"/>
                  </a:lnTo>
                  <a:lnTo>
                    <a:pt x="1538" y="322"/>
                  </a:lnTo>
                  <a:lnTo>
                    <a:pt x="1536" y="318"/>
                  </a:lnTo>
                  <a:lnTo>
                    <a:pt x="1534" y="308"/>
                  </a:lnTo>
                  <a:lnTo>
                    <a:pt x="1534" y="308"/>
                  </a:lnTo>
                  <a:lnTo>
                    <a:pt x="1528" y="312"/>
                  </a:lnTo>
                  <a:lnTo>
                    <a:pt x="1522" y="314"/>
                  </a:lnTo>
                  <a:lnTo>
                    <a:pt x="1518" y="312"/>
                  </a:lnTo>
                  <a:lnTo>
                    <a:pt x="1516" y="308"/>
                  </a:lnTo>
                  <a:lnTo>
                    <a:pt x="1508" y="298"/>
                  </a:lnTo>
                  <a:lnTo>
                    <a:pt x="1502" y="292"/>
                  </a:lnTo>
                  <a:lnTo>
                    <a:pt x="1496" y="288"/>
                  </a:lnTo>
                  <a:lnTo>
                    <a:pt x="1496" y="288"/>
                  </a:lnTo>
                  <a:lnTo>
                    <a:pt x="1476" y="254"/>
                  </a:lnTo>
                  <a:lnTo>
                    <a:pt x="1448" y="212"/>
                  </a:lnTo>
                  <a:lnTo>
                    <a:pt x="1448" y="212"/>
                  </a:lnTo>
                  <a:lnTo>
                    <a:pt x="1420" y="190"/>
                  </a:lnTo>
                  <a:lnTo>
                    <a:pt x="1394" y="168"/>
                  </a:lnTo>
                  <a:lnTo>
                    <a:pt x="1346" y="124"/>
                  </a:lnTo>
                  <a:lnTo>
                    <a:pt x="1322" y="104"/>
                  </a:lnTo>
                  <a:lnTo>
                    <a:pt x="1296" y="86"/>
                  </a:lnTo>
                  <a:lnTo>
                    <a:pt x="1268" y="70"/>
                  </a:lnTo>
                  <a:lnTo>
                    <a:pt x="1238" y="58"/>
                  </a:lnTo>
                  <a:lnTo>
                    <a:pt x="1238" y="58"/>
                  </a:lnTo>
                  <a:lnTo>
                    <a:pt x="1190" y="42"/>
                  </a:lnTo>
                  <a:lnTo>
                    <a:pt x="1168" y="32"/>
                  </a:lnTo>
                  <a:lnTo>
                    <a:pt x="1158" y="26"/>
                  </a:lnTo>
                  <a:lnTo>
                    <a:pt x="1150" y="20"/>
                  </a:lnTo>
                  <a:lnTo>
                    <a:pt x="1142" y="20"/>
                  </a:lnTo>
                  <a:lnTo>
                    <a:pt x="1142" y="20"/>
                  </a:lnTo>
                  <a:lnTo>
                    <a:pt x="1134" y="20"/>
                  </a:lnTo>
                  <a:lnTo>
                    <a:pt x="1128" y="18"/>
                  </a:lnTo>
                  <a:lnTo>
                    <a:pt x="1124" y="16"/>
                  </a:lnTo>
                  <a:lnTo>
                    <a:pt x="1122" y="10"/>
                  </a:lnTo>
                  <a:lnTo>
                    <a:pt x="1122" y="10"/>
                  </a:lnTo>
                  <a:lnTo>
                    <a:pt x="1084" y="4"/>
                  </a:lnTo>
                  <a:lnTo>
                    <a:pt x="1044" y="2"/>
                  </a:lnTo>
                  <a:lnTo>
                    <a:pt x="1002" y="0"/>
                  </a:lnTo>
                  <a:lnTo>
                    <a:pt x="960" y="0"/>
                  </a:lnTo>
                  <a:lnTo>
                    <a:pt x="960" y="0"/>
                  </a:lnTo>
                  <a:lnTo>
                    <a:pt x="958" y="6"/>
                  </a:lnTo>
                  <a:lnTo>
                    <a:pt x="956" y="8"/>
                  </a:lnTo>
                  <a:lnTo>
                    <a:pt x="954" y="10"/>
                  </a:lnTo>
                  <a:lnTo>
                    <a:pt x="950" y="10"/>
                  </a:lnTo>
                  <a:lnTo>
                    <a:pt x="946" y="10"/>
                  </a:lnTo>
                  <a:lnTo>
                    <a:pt x="944" y="12"/>
                  </a:lnTo>
                  <a:lnTo>
                    <a:pt x="940" y="14"/>
                  </a:lnTo>
                  <a:lnTo>
                    <a:pt x="940" y="20"/>
                  </a:lnTo>
                  <a:lnTo>
                    <a:pt x="940" y="20"/>
                  </a:lnTo>
                  <a:lnTo>
                    <a:pt x="920" y="20"/>
                  </a:lnTo>
                  <a:lnTo>
                    <a:pt x="920" y="20"/>
                  </a:lnTo>
                  <a:lnTo>
                    <a:pt x="912" y="28"/>
                  </a:lnTo>
                  <a:lnTo>
                    <a:pt x="904" y="36"/>
                  </a:lnTo>
                  <a:lnTo>
                    <a:pt x="894" y="40"/>
                  </a:lnTo>
                  <a:lnTo>
                    <a:pt x="882" y="42"/>
                  </a:lnTo>
                  <a:lnTo>
                    <a:pt x="862" y="48"/>
                  </a:lnTo>
                  <a:lnTo>
                    <a:pt x="852" y="52"/>
                  </a:lnTo>
                  <a:lnTo>
                    <a:pt x="844" y="58"/>
                  </a:lnTo>
                  <a:lnTo>
                    <a:pt x="844" y="58"/>
                  </a:lnTo>
                  <a:lnTo>
                    <a:pt x="842" y="64"/>
                  </a:lnTo>
                  <a:lnTo>
                    <a:pt x="840" y="66"/>
                  </a:lnTo>
                  <a:lnTo>
                    <a:pt x="834" y="68"/>
                  </a:lnTo>
                  <a:lnTo>
                    <a:pt x="834" y="68"/>
                  </a:lnTo>
                  <a:lnTo>
                    <a:pt x="818" y="78"/>
                  </a:lnTo>
                  <a:lnTo>
                    <a:pt x="800" y="90"/>
                  </a:lnTo>
                  <a:lnTo>
                    <a:pt x="784" y="104"/>
                  </a:lnTo>
                  <a:lnTo>
                    <a:pt x="770" y="118"/>
                  </a:lnTo>
                  <a:lnTo>
                    <a:pt x="756" y="132"/>
                  </a:lnTo>
                  <a:lnTo>
                    <a:pt x="742" y="148"/>
                  </a:lnTo>
                  <a:lnTo>
                    <a:pt x="730" y="166"/>
                  </a:lnTo>
                  <a:lnTo>
                    <a:pt x="720" y="182"/>
                  </a:lnTo>
                  <a:lnTo>
                    <a:pt x="720" y="182"/>
                  </a:lnTo>
                  <a:lnTo>
                    <a:pt x="716" y="194"/>
                  </a:lnTo>
                  <a:lnTo>
                    <a:pt x="710" y="204"/>
                  </a:lnTo>
                  <a:lnTo>
                    <a:pt x="694" y="224"/>
                  </a:lnTo>
                  <a:lnTo>
                    <a:pt x="678" y="244"/>
                  </a:lnTo>
                  <a:lnTo>
                    <a:pt x="662" y="260"/>
                  </a:lnTo>
                  <a:lnTo>
                    <a:pt x="662" y="260"/>
                  </a:lnTo>
                  <a:lnTo>
                    <a:pt x="662" y="280"/>
                  </a:lnTo>
                  <a:lnTo>
                    <a:pt x="660" y="300"/>
                  </a:lnTo>
                  <a:lnTo>
                    <a:pt x="658" y="308"/>
                  </a:lnTo>
                  <a:lnTo>
                    <a:pt x="654" y="316"/>
                  </a:lnTo>
                  <a:lnTo>
                    <a:pt x="650" y="322"/>
                  </a:lnTo>
                  <a:lnTo>
                    <a:pt x="642" y="326"/>
                  </a:lnTo>
                  <a:lnTo>
                    <a:pt x="642" y="394"/>
                  </a:lnTo>
                  <a:lnTo>
                    <a:pt x="642" y="394"/>
                  </a:lnTo>
                  <a:lnTo>
                    <a:pt x="648" y="400"/>
                  </a:lnTo>
                  <a:lnTo>
                    <a:pt x="652" y="406"/>
                  </a:lnTo>
                  <a:lnTo>
                    <a:pt x="652" y="412"/>
                  </a:lnTo>
                  <a:lnTo>
                    <a:pt x="652" y="412"/>
                  </a:lnTo>
                  <a:lnTo>
                    <a:pt x="648" y="426"/>
                  </a:lnTo>
                  <a:lnTo>
                    <a:pt x="644" y="436"/>
                  </a:lnTo>
                  <a:lnTo>
                    <a:pt x="638" y="446"/>
                  </a:lnTo>
                  <a:lnTo>
                    <a:pt x="632" y="452"/>
                  </a:lnTo>
                  <a:lnTo>
                    <a:pt x="618" y="462"/>
                  </a:lnTo>
                  <a:lnTo>
                    <a:pt x="604" y="470"/>
                  </a:lnTo>
                  <a:lnTo>
                    <a:pt x="604" y="470"/>
                  </a:lnTo>
                  <a:lnTo>
                    <a:pt x="586" y="472"/>
                  </a:lnTo>
                  <a:lnTo>
                    <a:pt x="570" y="470"/>
                  </a:lnTo>
                  <a:lnTo>
                    <a:pt x="556" y="468"/>
                  </a:lnTo>
                  <a:lnTo>
                    <a:pt x="544" y="462"/>
                  </a:lnTo>
                  <a:lnTo>
                    <a:pt x="534" y="452"/>
                  </a:lnTo>
                  <a:lnTo>
                    <a:pt x="524" y="444"/>
                  </a:lnTo>
                  <a:lnTo>
                    <a:pt x="516" y="432"/>
                  </a:lnTo>
                  <a:lnTo>
                    <a:pt x="508" y="420"/>
                  </a:lnTo>
                  <a:lnTo>
                    <a:pt x="492" y="394"/>
                  </a:lnTo>
                  <a:lnTo>
                    <a:pt x="476" y="368"/>
                  </a:lnTo>
                  <a:lnTo>
                    <a:pt x="468" y="356"/>
                  </a:lnTo>
                  <a:lnTo>
                    <a:pt x="458" y="344"/>
                  </a:lnTo>
                  <a:lnTo>
                    <a:pt x="446" y="334"/>
                  </a:lnTo>
                  <a:lnTo>
                    <a:pt x="432" y="326"/>
                  </a:lnTo>
                  <a:lnTo>
                    <a:pt x="432" y="326"/>
                  </a:lnTo>
                  <a:lnTo>
                    <a:pt x="412" y="318"/>
                  </a:lnTo>
                  <a:lnTo>
                    <a:pt x="394" y="306"/>
                  </a:lnTo>
                  <a:lnTo>
                    <a:pt x="356" y="278"/>
                  </a:lnTo>
                  <a:lnTo>
                    <a:pt x="298" y="278"/>
                  </a:lnTo>
                  <a:lnTo>
                    <a:pt x="298" y="278"/>
                  </a:lnTo>
                  <a:lnTo>
                    <a:pt x="284" y="290"/>
                  </a:lnTo>
                  <a:lnTo>
                    <a:pt x="268" y="300"/>
                  </a:lnTo>
                  <a:lnTo>
                    <a:pt x="250" y="306"/>
                  </a:lnTo>
                  <a:lnTo>
                    <a:pt x="230" y="308"/>
                  </a:lnTo>
                  <a:lnTo>
                    <a:pt x="230" y="308"/>
                  </a:lnTo>
                  <a:lnTo>
                    <a:pt x="174" y="350"/>
                  </a:lnTo>
                  <a:lnTo>
                    <a:pt x="146" y="372"/>
                  </a:lnTo>
                  <a:lnTo>
                    <a:pt x="120" y="396"/>
                  </a:lnTo>
                  <a:lnTo>
                    <a:pt x="96" y="420"/>
                  </a:lnTo>
                  <a:lnTo>
                    <a:pt x="74" y="444"/>
                  </a:lnTo>
                  <a:lnTo>
                    <a:pt x="56" y="470"/>
                  </a:lnTo>
                  <a:lnTo>
                    <a:pt x="40" y="498"/>
                  </a:lnTo>
                  <a:lnTo>
                    <a:pt x="40" y="498"/>
                  </a:lnTo>
                  <a:lnTo>
                    <a:pt x="34" y="510"/>
                  </a:lnTo>
                  <a:lnTo>
                    <a:pt x="30" y="520"/>
                  </a:lnTo>
                  <a:lnTo>
                    <a:pt x="24" y="540"/>
                  </a:lnTo>
                  <a:lnTo>
                    <a:pt x="20" y="550"/>
                  </a:lnTo>
                  <a:lnTo>
                    <a:pt x="16" y="560"/>
                  </a:lnTo>
                  <a:lnTo>
                    <a:pt x="10" y="568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2" y="600"/>
                  </a:lnTo>
                  <a:lnTo>
                    <a:pt x="8" y="620"/>
                  </a:lnTo>
                  <a:lnTo>
                    <a:pt x="14" y="640"/>
                  </a:lnTo>
                  <a:lnTo>
                    <a:pt x="24" y="658"/>
                  </a:lnTo>
                  <a:lnTo>
                    <a:pt x="36" y="672"/>
                  </a:lnTo>
                  <a:lnTo>
                    <a:pt x="50" y="686"/>
                  </a:lnTo>
                  <a:lnTo>
                    <a:pt x="64" y="698"/>
                  </a:lnTo>
                  <a:lnTo>
                    <a:pt x="78" y="710"/>
                  </a:lnTo>
                  <a:lnTo>
                    <a:pt x="78" y="710"/>
                  </a:lnTo>
                  <a:lnTo>
                    <a:pt x="82" y="712"/>
                  </a:lnTo>
                  <a:lnTo>
                    <a:pt x="88" y="716"/>
                  </a:lnTo>
                  <a:lnTo>
                    <a:pt x="102" y="720"/>
                  </a:lnTo>
                  <a:lnTo>
                    <a:pt x="116" y="724"/>
                  </a:lnTo>
                  <a:lnTo>
                    <a:pt x="120" y="726"/>
                  </a:lnTo>
                  <a:lnTo>
                    <a:pt x="126" y="728"/>
                  </a:lnTo>
                  <a:lnTo>
                    <a:pt x="126" y="728"/>
                  </a:lnTo>
                  <a:lnTo>
                    <a:pt x="140" y="732"/>
                  </a:lnTo>
                  <a:lnTo>
                    <a:pt x="158" y="734"/>
                  </a:lnTo>
                  <a:lnTo>
                    <a:pt x="192" y="734"/>
                  </a:lnTo>
                  <a:lnTo>
                    <a:pt x="228" y="734"/>
                  </a:lnTo>
                  <a:lnTo>
                    <a:pt x="244" y="736"/>
                  </a:lnTo>
                  <a:lnTo>
                    <a:pt x="260" y="738"/>
                  </a:lnTo>
                  <a:lnTo>
                    <a:pt x="260" y="738"/>
                  </a:lnTo>
                  <a:lnTo>
                    <a:pt x="266" y="742"/>
                  </a:lnTo>
                  <a:lnTo>
                    <a:pt x="270" y="748"/>
                  </a:lnTo>
                  <a:lnTo>
                    <a:pt x="270" y="756"/>
                  </a:lnTo>
                  <a:lnTo>
                    <a:pt x="272" y="764"/>
                  </a:lnTo>
                  <a:lnTo>
                    <a:pt x="270" y="796"/>
                  </a:lnTo>
                  <a:lnTo>
                    <a:pt x="270" y="796"/>
                  </a:lnTo>
                  <a:lnTo>
                    <a:pt x="268" y="812"/>
                  </a:lnTo>
                  <a:lnTo>
                    <a:pt x="262" y="824"/>
                  </a:lnTo>
                  <a:lnTo>
                    <a:pt x="252" y="834"/>
                  </a:lnTo>
                  <a:lnTo>
                    <a:pt x="242" y="840"/>
                  </a:lnTo>
                  <a:lnTo>
                    <a:pt x="216" y="852"/>
                  </a:lnTo>
                  <a:lnTo>
                    <a:pt x="204" y="856"/>
                  </a:lnTo>
                  <a:lnTo>
                    <a:pt x="192" y="864"/>
                  </a:lnTo>
                  <a:lnTo>
                    <a:pt x="192" y="864"/>
                  </a:lnTo>
                  <a:lnTo>
                    <a:pt x="190" y="870"/>
                  </a:lnTo>
                  <a:lnTo>
                    <a:pt x="188" y="878"/>
                  </a:lnTo>
                  <a:lnTo>
                    <a:pt x="186" y="890"/>
                  </a:lnTo>
                  <a:lnTo>
                    <a:pt x="186" y="896"/>
                  </a:lnTo>
                  <a:lnTo>
                    <a:pt x="184" y="902"/>
                  </a:lnTo>
                  <a:lnTo>
                    <a:pt x="180" y="906"/>
                  </a:lnTo>
                  <a:lnTo>
                    <a:pt x="174" y="910"/>
                  </a:lnTo>
                  <a:lnTo>
                    <a:pt x="174" y="920"/>
                  </a:lnTo>
                  <a:lnTo>
                    <a:pt x="174" y="920"/>
                  </a:lnTo>
                  <a:lnTo>
                    <a:pt x="172" y="928"/>
                  </a:lnTo>
                  <a:lnTo>
                    <a:pt x="170" y="934"/>
                  </a:lnTo>
                  <a:lnTo>
                    <a:pt x="168" y="936"/>
                  </a:lnTo>
                  <a:lnTo>
                    <a:pt x="166" y="938"/>
                  </a:lnTo>
                  <a:lnTo>
                    <a:pt x="154" y="940"/>
                  </a:lnTo>
                  <a:lnTo>
                    <a:pt x="154" y="940"/>
                  </a:lnTo>
                  <a:lnTo>
                    <a:pt x="148" y="970"/>
                  </a:lnTo>
                  <a:lnTo>
                    <a:pt x="146" y="1000"/>
                  </a:lnTo>
                  <a:lnTo>
                    <a:pt x="148" y="1030"/>
                  </a:lnTo>
                  <a:lnTo>
                    <a:pt x="150" y="1044"/>
                  </a:lnTo>
                  <a:lnTo>
                    <a:pt x="154" y="1054"/>
                  </a:lnTo>
                  <a:lnTo>
                    <a:pt x="154" y="1054"/>
                  </a:lnTo>
                  <a:lnTo>
                    <a:pt x="158" y="1068"/>
                  </a:lnTo>
                  <a:lnTo>
                    <a:pt x="164" y="1078"/>
                  </a:lnTo>
                  <a:lnTo>
                    <a:pt x="176" y="1096"/>
                  </a:lnTo>
                  <a:lnTo>
                    <a:pt x="188" y="1112"/>
                  </a:lnTo>
                  <a:lnTo>
                    <a:pt x="192" y="1122"/>
                  </a:lnTo>
                  <a:lnTo>
                    <a:pt x="192" y="1132"/>
                  </a:lnTo>
                  <a:lnTo>
                    <a:pt x="192" y="1132"/>
                  </a:lnTo>
                  <a:lnTo>
                    <a:pt x="218" y="1152"/>
                  </a:lnTo>
                  <a:lnTo>
                    <a:pt x="244" y="1172"/>
                  </a:lnTo>
                  <a:lnTo>
                    <a:pt x="270" y="1190"/>
                  </a:lnTo>
                  <a:lnTo>
                    <a:pt x="298" y="1206"/>
                  </a:lnTo>
                  <a:lnTo>
                    <a:pt x="328" y="1222"/>
                  </a:lnTo>
                  <a:lnTo>
                    <a:pt x="360" y="1232"/>
                  </a:lnTo>
                  <a:lnTo>
                    <a:pt x="394" y="1242"/>
                  </a:lnTo>
                  <a:lnTo>
                    <a:pt x="432" y="1246"/>
                  </a:lnTo>
                  <a:lnTo>
                    <a:pt x="432" y="1246"/>
                  </a:lnTo>
                  <a:lnTo>
                    <a:pt x="440" y="1252"/>
                  </a:lnTo>
                  <a:lnTo>
                    <a:pt x="450" y="1258"/>
                  </a:lnTo>
                  <a:lnTo>
                    <a:pt x="470" y="1264"/>
                  </a:lnTo>
                  <a:lnTo>
                    <a:pt x="492" y="1270"/>
                  </a:lnTo>
                  <a:lnTo>
                    <a:pt x="508" y="1276"/>
                  </a:lnTo>
                  <a:lnTo>
                    <a:pt x="508" y="1276"/>
                  </a:lnTo>
                  <a:lnTo>
                    <a:pt x="520" y="1280"/>
                  </a:lnTo>
                  <a:lnTo>
                    <a:pt x="534" y="1284"/>
                  </a:lnTo>
                  <a:lnTo>
                    <a:pt x="548" y="1284"/>
                  </a:lnTo>
                  <a:lnTo>
                    <a:pt x="562" y="1284"/>
                  </a:lnTo>
                  <a:lnTo>
                    <a:pt x="594" y="1282"/>
                  </a:lnTo>
                  <a:lnTo>
                    <a:pt x="610" y="1282"/>
                  </a:lnTo>
                  <a:lnTo>
                    <a:pt x="624" y="1284"/>
                  </a:lnTo>
                  <a:lnTo>
                    <a:pt x="624" y="1294"/>
                  </a:lnTo>
                  <a:lnTo>
                    <a:pt x="730" y="1294"/>
                  </a:lnTo>
                  <a:lnTo>
                    <a:pt x="730" y="1284"/>
                  </a:lnTo>
                  <a:lnTo>
                    <a:pt x="730" y="1284"/>
                  </a:lnTo>
                  <a:lnTo>
                    <a:pt x="752" y="1286"/>
                  </a:lnTo>
                  <a:lnTo>
                    <a:pt x="772" y="1284"/>
                  </a:lnTo>
                  <a:lnTo>
                    <a:pt x="790" y="1280"/>
                  </a:lnTo>
                  <a:lnTo>
                    <a:pt x="806" y="1274"/>
                  </a:lnTo>
                  <a:lnTo>
                    <a:pt x="822" y="1268"/>
                  </a:lnTo>
                  <a:lnTo>
                    <a:pt x="840" y="1262"/>
                  </a:lnTo>
                  <a:lnTo>
                    <a:pt x="860" y="1258"/>
                  </a:lnTo>
                  <a:lnTo>
                    <a:pt x="882" y="1256"/>
                  </a:lnTo>
                  <a:lnTo>
                    <a:pt x="882" y="1256"/>
                  </a:lnTo>
                  <a:lnTo>
                    <a:pt x="884" y="1254"/>
                  </a:lnTo>
                  <a:lnTo>
                    <a:pt x="888" y="1252"/>
                  </a:lnTo>
                  <a:lnTo>
                    <a:pt x="898" y="1250"/>
                  </a:lnTo>
                  <a:lnTo>
                    <a:pt x="904" y="1248"/>
                  </a:lnTo>
                  <a:lnTo>
                    <a:pt x="910" y="1246"/>
                  </a:lnTo>
                  <a:lnTo>
                    <a:pt x="916" y="1242"/>
                  </a:lnTo>
                  <a:lnTo>
                    <a:pt x="920" y="1236"/>
                  </a:lnTo>
                  <a:lnTo>
                    <a:pt x="920" y="1236"/>
                  </a:lnTo>
                  <a:lnTo>
                    <a:pt x="928" y="1230"/>
                  </a:lnTo>
                  <a:lnTo>
                    <a:pt x="936" y="1226"/>
                  </a:lnTo>
                  <a:lnTo>
                    <a:pt x="954" y="1218"/>
                  </a:lnTo>
                  <a:lnTo>
                    <a:pt x="972" y="1210"/>
                  </a:lnTo>
                  <a:lnTo>
                    <a:pt x="980" y="1204"/>
                  </a:lnTo>
                  <a:lnTo>
                    <a:pt x="988" y="1198"/>
                  </a:lnTo>
                  <a:lnTo>
                    <a:pt x="988" y="1198"/>
                  </a:lnTo>
                  <a:lnTo>
                    <a:pt x="1008" y="1198"/>
                  </a:lnTo>
                  <a:lnTo>
                    <a:pt x="1008" y="1198"/>
                  </a:lnTo>
                  <a:lnTo>
                    <a:pt x="1012" y="1192"/>
                  </a:lnTo>
                  <a:lnTo>
                    <a:pt x="1016" y="1188"/>
                  </a:lnTo>
                  <a:lnTo>
                    <a:pt x="1026" y="1184"/>
                  </a:lnTo>
                  <a:lnTo>
                    <a:pt x="1030" y="1182"/>
                  </a:lnTo>
                  <a:lnTo>
                    <a:pt x="1032" y="1180"/>
                  </a:lnTo>
                  <a:lnTo>
                    <a:pt x="1036" y="1176"/>
                  </a:lnTo>
                  <a:lnTo>
                    <a:pt x="1036" y="1170"/>
                  </a:lnTo>
                  <a:lnTo>
                    <a:pt x="1036" y="1170"/>
                  </a:lnTo>
                  <a:lnTo>
                    <a:pt x="1048" y="1168"/>
                  </a:lnTo>
                  <a:lnTo>
                    <a:pt x="1058" y="1164"/>
                  </a:lnTo>
                  <a:lnTo>
                    <a:pt x="1068" y="1160"/>
                  </a:lnTo>
                  <a:lnTo>
                    <a:pt x="1078" y="1154"/>
                  </a:lnTo>
                  <a:lnTo>
                    <a:pt x="1092" y="1140"/>
                  </a:lnTo>
                  <a:lnTo>
                    <a:pt x="1106" y="1126"/>
                  </a:lnTo>
                  <a:lnTo>
                    <a:pt x="1120" y="1110"/>
                  </a:lnTo>
                  <a:lnTo>
                    <a:pt x="1134" y="1096"/>
                  </a:lnTo>
                  <a:lnTo>
                    <a:pt x="1150" y="1084"/>
                  </a:lnTo>
                  <a:lnTo>
                    <a:pt x="1160" y="1078"/>
                  </a:lnTo>
                  <a:lnTo>
                    <a:pt x="1170" y="1074"/>
                  </a:lnTo>
                  <a:lnTo>
                    <a:pt x="1170" y="1074"/>
                  </a:lnTo>
                  <a:lnTo>
                    <a:pt x="1176" y="1076"/>
                  </a:lnTo>
                  <a:lnTo>
                    <a:pt x="1178" y="1078"/>
                  </a:lnTo>
                  <a:lnTo>
                    <a:pt x="1180" y="1084"/>
                  </a:lnTo>
                  <a:lnTo>
                    <a:pt x="1190" y="1084"/>
                  </a:lnTo>
                  <a:lnTo>
                    <a:pt x="1190" y="1084"/>
                  </a:lnTo>
                  <a:lnTo>
                    <a:pt x="1196" y="1084"/>
                  </a:lnTo>
                  <a:lnTo>
                    <a:pt x="1202" y="1084"/>
                  </a:lnTo>
                  <a:lnTo>
                    <a:pt x="1202" y="1086"/>
                  </a:lnTo>
                  <a:lnTo>
                    <a:pt x="1202" y="1088"/>
                  </a:lnTo>
                  <a:lnTo>
                    <a:pt x="1198" y="1094"/>
                  </a:lnTo>
                  <a:lnTo>
                    <a:pt x="1198" y="1094"/>
                  </a:lnTo>
                  <a:lnTo>
                    <a:pt x="1216" y="1098"/>
                  </a:lnTo>
                  <a:lnTo>
                    <a:pt x="1230" y="1106"/>
                  </a:lnTo>
                  <a:lnTo>
                    <a:pt x="1242" y="1118"/>
                  </a:lnTo>
                  <a:lnTo>
                    <a:pt x="1252" y="1130"/>
                  </a:lnTo>
                  <a:lnTo>
                    <a:pt x="1270" y="1156"/>
                  </a:lnTo>
                  <a:lnTo>
                    <a:pt x="1286" y="1180"/>
                  </a:lnTo>
                  <a:lnTo>
                    <a:pt x="1286" y="1180"/>
                  </a:lnTo>
                  <a:lnTo>
                    <a:pt x="1290" y="1190"/>
                  </a:lnTo>
                  <a:lnTo>
                    <a:pt x="1294" y="1198"/>
                  </a:lnTo>
                  <a:lnTo>
                    <a:pt x="1300" y="1204"/>
                  </a:lnTo>
                  <a:lnTo>
                    <a:pt x="1306" y="1210"/>
                  </a:lnTo>
                  <a:lnTo>
                    <a:pt x="1318" y="1220"/>
                  </a:lnTo>
                  <a:lnTo>
                    <a:pt x="1334" y="1228"/>
                  </a:lnTo>
                  <a:lnTo>
                    <a:pt x="1352" y="1228"/>
                  </a:lnTo>
                  <a:lnTo>
                    <a:pt x="1352" y="1228"/>
                  </a:lnTo>
                  <a:lnTo>
                    <a:pt x="1356" y="1236"/>
                  </a:lnTo>
                  <a:lnTo>
                    <a:pt x="1362" y="1242"/>
                  </a:lnTo>
                  <a:lnTo>
                    <a:pt x="1370" y="1246"/>
                  </a:lnTo>
                  <a:lnTo>
                    <a:pt x="1378" y="1248"/>
                  </a:lnTo>
                  <a:lnTo>
                    <a:pt x="1394" y="1252"/>
                  </a:lnTo>
                  <a:lnTo>
                    <a:pt x="1402" y="1254"/>
                  </a:lnTo>
                  <a:lnTo>
                    <a:pt x="1410" y="1256"/>
                  </a:lnTo>
                  <a:lnTo>
                    <a:pt x="1410" y="1256"/>
                  </a:lnTo>
                  <a:lnTo>
                    <a:pt x="1430" y="1258"/>
                  </a:lnTo>
                  <a:lnTo>
                    <a:pt x="1446" y="1262"/>
                  </a:lnTo>
                  <a:lnTo>
                    <a:pt x="1462" y="1268"/>
                  </a:lnTo>
                  <a:lnTo>
                    <a:pt x="1476" y="1274"/>
                  </a:lnTo>
                  <a:lnTo>
                    <a:pt x="1492" y="1280"/>
                  </a:lnTo>
                  <a:lnTo>
                    <a:pt x="1506" y="1284"/>
                  </a:lnTo>
                  <a:lnTo>
                    <a:pt x="1524" y="1286"/>
                  </a:lnTo>
                  <a:lnTo>
                    <a:pt x="1544" y="1284"/>
                  </a:lnTo>
                  <a:lnTo>
                    <a:pt x="1544" y="1294"/>
                  </a:lnTo>
                  <a:lnTo>
                    <a:pt x="1544" y="1294"/>
                  </a:lnTo>
                  <a:lnTo>
                    <a:pt x="1558" y="1298"/>
                  </a:lnTo>
                  <a:lnTo>
                    <a:pt x="1572" y="1298"/>
                  </a:lnTo>
                  <a:lnTo>
                    <a:pt x="1602" y="1300"/>
                  </a:lnTo>
                  <a:lnTo>
                    <a:pt x="1630" y="1300"/>
                  </a:lnTo>
                  <a:lnTo>
                    <a:pt x="1644" y="1302"/>
                  </a:lnTo>
                  <a:lnTo>
                    <a:pt x="1658" y="1304"/>
                  </a:lnTo>
                  <a:lnTo>
                    <a:pt x="1658" y="1314"/>
                  </a:lnTo>
                  <a:lnTo>
                    <a:pt x="1746" y="1314"/>
                  </a:lnTo>
                  <a:lnTo>
                    <a:pt x="1746" y="1304"/>
                  </a:lnTo>
                  <a:lnTo>
                    <a:pt x="1746" y="1304"/>
                  </a:lnTo>
                  <a:lnTo>
                    <a:pt x="1774" y="1302"/>
                  </a:lnTo>
                  <a:lnTo>
                    <a:pt x="1806" y="1300"/>
                  </a:lnTo>
                  <a:lnTo>
                    <a:pt x="1872" y="1300"/>
                  </a:lnTo>
                  <a:lnTo>
                    <a:pt x="1938" y="1298"/>
                  </a:lnTo>
                  <a:lnTo>
                    <a:pt x="1972" y="1298"/>
                  </a:lnTo>
                  <a:lnTo>
                    <a:pt x="2004" y="1294"/>
                  </a:lnTo>
                  <a:lnTo>
                    <a:pt x="2004" y="1294"/>
                  </a:lnTo>
                  <a:lnTo>
                    <a:pt x="2018" y="1288"/>
                  </a:lnTo>
                  <a:lnTo>
                    <a:pt x="2034" y="1282"/>
                  </a:lnTo>
                  <a:lnTo>
                    <a:pt x="2052" y="1276"/>
                  </a:lnTo>
                  <a:lnTo>
                    <a:pt x="2072" y="1276"/>
                  </a:lnTo>
                  <a:lnTo>
                    <a:pt x="2072" y="1276"/>
                  </a:lnTo>
                  <a:lnTo>
                    <a:pt x="2078" y="1268"/>
                  </a:lnTo>
                  <a:lnTo>
                    <a:pt x="2086" y="1264"/>
                  </a:lnTo>
                  <a:lnTo>
                    <a:pt x="2104" y="1256"/>
                  </a:lnTo>
                  <a:lnTo>
                    <a:pt x="2118" y="1248"/>
                  </a:lnTo>
                  <a:lnTo>
                    <a:pt x="2124" y="1244"/>
                  </a:lnTo>
                  <a:lnTo>
                    <a:pt x="2128" y="1236"/>
                  </a:lnTo>
                  <a:lnTo>
                    <a:pt x="2128" y="1236"/>
                  </a:lnTo>
                  <a:lnTo>
                    <a:pt x="2138" y="1232"/>
                  </a:lnTo>
                  <a:lnTo>
                    <a:pt x="2148" y="1226"/>
                  </a:lnTo>
                  <a:lnTo>
                    <a:pt x="2162" y="1212"/>
                  </a:lnTo>
                  <a:lnTo>
                    <a:pt x="2178" y="1196"/>
                  </a:lnTo>
                  <a:lnTo>
                    <a:pt x="2186" y="1186"/>
                  </a:lnTo>
                  <a:lnTo>
                    <a:pt x="2196" y="1180"/>
                  </a:lnTo>
                  <a:lnTo>
                    <a:pt x="2196" y="1180"/>
                  </a:lnTo>
                  <a:lnTo>
                    <a:pt x="2218" y="1126"/>
                  </a:lnTo>
                  <a:lnTo>
                    <a:pt x="2230" y="1098"/>
                  </a:lnTo>
                  <a:lnTo>
                    <a:pt x="2238" y="1068"/>
                  </a:lnTo>
                  <a:lnTo>
                    <a:pt x="2246" y="1036"/>
                  </a:lnTo>
                  <a:lnTo>
                    <a:pt x="2252" y="1000"/>
                  </a:lnTo>
                  <a:lnTo>
                    <a:pt x="2254" y="962"/>
                  </a:lnTo>
                  <a:lnTo>
                    <a:pt x="2254" y="920"/>
                  </a:lnTo>
                  <a:lnTo>
                    <a:pt x="2262" y="920"/>
                  </a:lnTo>
                  <a:lnTo>
                    <a:pt x="2262" y="872"/>
                  </a:lnTo>
                  <a:lnTo>
                    <a:pt x="2254" y="872"/>
                  </a:lnTo>
                  <a:lnTo>
                    <a:pt x="2244" y="806"/>
                  </a:lnTo>
                  <a:lnTo>
                    <a:pt x="2244" y="806"/>
                  </a:lnTo>
                  <a:lnTo>
                    <a:pt x="2236" y="798"/>
                  </a:lnTo>
                  <a:lnTo>
                    <a:pt x="2230" y="790"/>
                  </a:lnTo>
                  <a:lnTo>
                    <a:pt x="2226" y="780"/>
                  </a:lnTo>
                  <a:lnTo>
                    <a:pt x="2224" y="768"/>
                  </a:lnTo>
                  <a:lnTo>
                    <a:pt x="2224" y="768"/>
                  </a:lnTo>
                  <a:lnTo>
                    <a:pt x="2202" y="742"/>
                  </a:lnTo>
                  <a:lnTo>
                    <a:pt x="2178" y="716"/>
                  </a:lnTo>
                  <a:lnTo>
                    <a:pt x="2164" y="704"/>
                  </a:lnTo>
                  <a:lnTo>
                    <a:pt x="2148" y="694"/>
                  </a:lnTo>
                  <a:lnTo>
                    <a:pt x="2130" y="686"/>
                  </a:lnTo>
                  <a:lnTo>
                    <a:pt x="2110" y="680"/>
                  </a:lnTo>
                  <a:lnTo>
                    <a:pt x="2110" y="680"/>
                  </a:lnTo>
                  <a:lnTo>
                    <a:pt x="2092" y="674"/>
                  </a:lnTo>
                  <a:lnTo>
                    <a:pt x="2084" y="668"/>
                  </a:lnTo>
                  <a:lnTo>
                    <a:pt x="2076" y="662"/>
                  </a:lnTo>
                  <a:lnTo>
                    <a:pt x="2070" y="654"/>
                  </a:lnTo>
                  <a:lnTo>
                    <a:pt x="2066" y="644"/>
                  </a:lnTo>
                  <a:lnTo>
                    <a:pt x="2066" y="630"/>
                  </a:lnTo>
                  <a:lnTo>
                    <a:pt x="2072" y="614"/>
                  </a:lnTo>
                  <a:lnTo>
                    <a:pt x="2072" y="614"/>
                  </a:lnTo>
                  <a:lnTo>
                    <a:pt x="2074" y="608"/>
                  </a:lnTo>
                  <a:lnTo>
                    <a:pt x="2078" y="602"/>
                  </a:lnTo>
                  <a:lnTo>
                    <a:pt x="2082" y="598"/>
                  </a:lnTo>
                  <a:lnTo>
                    <a:pt x="2088" y="596"/>
                  </a:lnTo>
                  <a:lnTo>
                    <a:pt x="2102" y="592"/>
                  </a:lnTo>
                  <a:lnTo>
                    <a:pt x="2118" y="592"/>
                  </a:lnTo>
                  <a:lnTo>
                    <a:pt x="2154" y="592"/>
                  </a:lnTo>
                  <a:lnTo>
                    <a:pt x="2170" y="590"/>
                  </a:lnTo>
                  <a:lnTo>
                    <a:pt x="2186" y="586"/>
                  </a:lnTo>
                  <a:lnTo>
                    <a:pt x="2186" y="586"/>
                  </a:lnTo>
                  <a:lnTo>
                    <a:pt x="2186" y="582"/>
                  </a:lnTo>
                  <a:lnTo>
                    <a:pt x="2190" y="580"/>
                  </a:lnTo>
                  <a:lnTo>
                    <a:pt x="2196" y="574"/>
                  </a:lnTo>
                  <a:lnTo>
                    <a:pt x="2206" y="568"/>
                  </a:lnTo>
                  <a:lnTo>
                    <a:pt x="2210" y="562"/>
                  </a:lnTo>
                  <a:lnTo>
                    <a:pt x="2214" y="556"/>
                  </a:lnTo>
                  <a:lnTo>
                    <a:pt x="2214" y="556"/>
                  </a:lnTo>
                  <a:lnTo>
                    <a:pt x="2226" y="550"/>
                  </a:lnTo>
                  <a:lnTo>
                    <a:pt x="2238" y="542"/>
                  </a:lnTo>
                  <a:lnTo>
                    <a:pt x="2248" y="534"/>
                  </a:lnTo>
                  <a:lnTo>
                    <a:pt x="2256" y="524"/>
                  </a:lnTo>
                  <a:lnTo>
                    <a:pt x="2264" y="514"/>
                  </a:lnTo>
                  <a:lnTo>
                    <a:pt x="2272" y="502"/>
                  </a:lnTo>
                  <a:lnTo>
                    <a:pt x="2282" y="478"/>
                  </a:lnTo>
                  <a:lnTo>
                    <a:pt x="2290" y="450"/>
                  </a:lnTo>
                  <a:lnTo>
                    <a:pt x="2294" y="418"/>
                  </a:lnTo>
                  <a:lnTo>
                    <a:pt x="2294" y="388"/>
                  </a:lnTo>
                  <a:lnTo>
                    <a:pt x="2292" y="356"/>
                  </a:lnTo>
                  <a:lnTo>
                    <a:pt x="2292" y="356"/>
                  </a:lnTo>
                  <a:lnTo>
                    <a:pt x="2282" y="346"/>
                  </a:lnTo>
                  <a:lnTo>
                    <a:pt x="2272" y="336"/>
                  </a:lnTo>
                  <a:lnTo>
                    <a:pt x="2248" y="318"/>
                  </a:lnTo>
                  <a:lnTo>
                    <a:pt x="2236" y="308"/>
                  </a:lnTo>
                  <a:lnTo>
                    <a:pt x="2228" y="294"/>
                  </a:lnTo>
                  <a:lnTo>
                    <a:pt x="2226" y="286"/>
                  </a:lnTo>
                  <a:lnTo>
                    <a:pt x="2224" y="278"/>
                  </a:lnTo>
                  <a:lnTo>
                    <a:pt x="2224" y="270"/>
                  </a:lnTo>
                  <a:lnTo>
                    <a:pt x="2224" y="260"/>
                  </a:lnTo>
                  <a:lnTo>
                    <a:pt x="2224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79200" y="7362720"/>
              <a:ext cx="3892680" cy="2365560"/>
            </a:xfrm>
            <a:custGeom>
              <a:avLst/>
              <a:gdLst>
                <a:gd name="textAreaLeft" fmla="*/ 0 w 3892680"/>
                <a:gd name="textAreaRight" fmla="*/ 3892680 w 3892680"/>
                <a:gd name="textAreaTop" fmla="*/ 0 h 2365560"/>
                <a:gd name="textAreaBottom" fmla="*/ 2365920 h 2365560"/>
              </a:gdLst>
              <a:ahLst/>
              <a:rect l="textAreaLeft" t="textAreaTop" r="textAreaRight" b="textAreaBottom"/>
              <a:pathLst>
                <a:path w="2452" h="1490">
                  <a:moveTo>
                    <a:pt x="2432" y="410"/>
                  </a:moveTo>
                  <a:lnTo>
                    <a:pt x="2432" y="410"/>
                  </a:lnTo>
                  <a:lnTo>
                    <a:pt x="2420" y="394"/>
                  </a:lnTo>
                  <a:lnTo>
                    <a:pt x="2408" y="376"/>
                  </a:lnTo>
                  <a:lnTo>
                    <a:pt x="2398" y="358"/>
                  </a:lnTo>
                  <a:lnTo>
                    <a:pt x="2390" y="338"/>
                  </a:lnTo>
                  <a:lnTo>
                    <a:pt x="2380" y="318"/>
                  </a:lnTo>
                  <a:lnTo>
                    <a:pt x="2370" y="300"/>
                  </a:lnTo>
                  <a:lnTo>
                    <a:pt x="2360" y="282"/>
                  </a:lnTo>
                  <a:lnTo>
                    <a:pt x="2346" y="266"/>
                  </a:lnTo>
                  <a:lnTo>
                    <a:pt x="2346" y="266"/>
                  </a:lnTo>
                  <a:lnTo>
                    <a:pt x="2326" y="242"/>
                  </a:lnTo>
                  <a:lnTo>
                    <a:pt x="2304" y="220"/>
                  </a:lnTo>
                  <a:lnTo>
                    <a:pt x="2280" y="202"/>
                  </a:lnTo>
                  <a:lnTo>
                    <a:pt x="2254" y="186"/>
                  </a:lnTo>
                  <a:lnTo>
                    <a:pt x="2224" y="174"/>
                  </a:lnTo>
                  <a:lnTo>
                    <a:pt x="2194" y="164"/>
                  </a:lnTo>
                  <a:lnTo>
                    <a:pt x="2160" y="156"/>
                  </a:lnTo>
                  <a:lnTo>
                    <a:pt x="2126" y="150"/>
                  </a:lnTo>
                  <a:lnTo>
                    <a:pt x="2126" y="150"/>
                  </a:lnTo>
                  <a:lnTo>
                    <a:pt x="2112" y="154"/>
                  </a:lnTo>
                  <a:lnTo>
                    <a:pt x="2098" y="154"/>
                  </a:lnTo>
                  <a:lnTo>
                    <a:pt x="2086" y="152"/>
                  </a:lnTo>
                  <a:lnTo>
                    <a:pt x="2072" y="150"/>
                  </a:lnTo>
                  <a:lnTo>
                    <a:pt x="2048" y="144"/>
                  </a:lnTo>
                  <a:lnTo>
                    <a:pt x="2034" y="142"/>
                  </a:lnTo>
                  <a:lnTo>
                    <a:pt x="2020" y="142"/>
                  </a:lnTo>
                  <a:lnTo>
                    <a:pt x="2020" y="132"/>
                  </a:lnTo>
                  <a:lnTo>
                    <a:pt x="2020" y="132"/>
                  </a:lnTo>
                  <a:lnTo>
                    <a:pt x="1982" y="132"/>
                  </a:lnTo>
                  <a:lnTo>
                    <a:pt x="1982" y="122"/>
                  </a:lnTo>
                  <a:lnTo>
                    <a:pt x="1924" y="122"/>
                  </a:lnTo>
                  <a:lnTo>
                    <a:pt x="1924" y="132"/>
                  </a:lnTo>
                  <a:lnTo>
                    <a:pt x="1924" y="132"/>
                  </a:lnTo>
                  <a:lnTo>
                    <a:pt x="1896" y="132"/>
                  </a:lnTo>
                  <a:lnTo>
                    <a:pt x="1896" y="132"/>
                  </a:lnTo>
                  <a:lnTo>
                    <a:pt x="1880" y="138"/>
                  </a:lnTo>
                  <a:lnTo>
                    <a:pt x="1866" y="144"/>
                  </a:lnTo>
                  <a:lnTo>
                    <a:pt x="1848" y="150"/>
                  </a:lnTo>
                  <a:lnTo>
                    <a:pt x="1828" y="150"/>
                  </a:lnTo>
                  <a:lnTo>
                    <a:pt x="1828" y="150"/>
                  </a:lnTo>
                  <a:lnTo>
                    <a:pt x="1824" y="156"/>
                  </a:lnTo>
                  <a:lnTo>
                    <a:pt x="1818" y="160"/>
                  </a:lnTo>
                  <a:lnTo>
                    <a:pt x="1812" y="162"/>
                  </a:lnTo>
                  <a:lnTo>
                    <a:pt x="1804" y="164"/>
                  </a:lnTo>
                  <a:lnTo>
                    <a:pt x="1786" y="166"/>
                  </a:lnTo>
                  <a:lnTo>
                    <a:pt x="1778" y="168"/>
                  </a:lnTo>
                  <a:lnTo>
                    <a:pt x="1770" y="170"/>
                  </a:lnTo>
                  <a:lnTo>
                    <a:pt x="1770" y="170"/>
                  </a:lnTo>
                  <a:lnTo>
                    <a:pt x="1760" y="180"/>
                  </a:lnTo>
                  <a:lnTo>
                    <a:pt x="1750" y="188"/>
                  </a:lnTo>
                  <a:lnTo>
                    <a:pt x="1726" y="202"/>
                  </a:lnTo>
                  <a:lnTo>
                    <a:pt x="1676" y="228"/>
                  </a:lnTo>
                  <a:lnTo>
                    <a:pt x="1676" y="228"/>
                  </a:lnTo>
                  <a:lnTo>
                    <a:pt x="1676" y="234"/>
                  </a:lnTo>
                  <a:lnTo>
                    <a:pt x="1674" y="238"/>
                  </a:lnTo>
                  <a:lnTo>
                    <a:pt x="1670" y="240"/>
                  </a:lnTo>
                  <a:lnTo>
                    <a:pt x="1664" y="240"/>
                  </a:lnTo>
                  <a:lnTo>
                    <a:pt x="1652" y="242"/>
                  </a:lnTo>
                  <a:lnTo>
                    <a:pt x="1648" y="244"/>
                  </a:lnTo>
                  <a:lnTo>
                    <a:pt x="1646" y="246"/>
                  </a:lnTo>
                  <a:lnTo>
                    <a:pt x="1646" y="246"/>
                  </a:lnTo>
                  <a:lnTo>
                    <a:pt x="1636" y="246"/>
                  </a:lnTo>
                  <a:lnTo>
                    <a:pt x="1628" y="244"/>
                  </a:lnTo>
                  <a:lnTo>
                    <a:pt x="1620" y="240"/>
                  </a:lnTo>
                  <a:lnTo>
                    <a:pt x="1612" y="234"/>
                  </a:lnTo>
                  <a:lnTo>
                    <a:pt x="1600" y="222"/>
                  </a:lnTo>
                  <a:lnTo>
                    <a:pt x="1588" y="206"/>
                  </a:lnTo>
                  <a:lnTo>
                    <a:pt x="1578" y="190"/>
                  </a:lnTo>
                  <a:lnTo>
                    <a:pt x="1566" y="174"/>
                  </a:lnTo>
                  <a:lnTo>
                    <a:pt x="1558" y="166"/>
                  </a:lnTo>
                  <a:lnTo>
                    <a:pt x="1550" y="160"/>
                  </a:lnTo>
                  <a:lnTo>
                    <a:pt x="1542" y="156"/>
                  </a:lnTo>
                  <a:lnTo>
                    <a:pt x="1532" y="150"/>
                  </a:lnTo>
                  <a:lnTo>
                    <a:pt x="1532" y="150"/>
                  </a:lnTo>
                  <a:lnTo>
                    <a:pt x="1512" y="134"/>
                  </a:lnTo>
                  <a:lnTo>
                    <a:pt x="1490" y="120"/>
                  </a:lnTo>
                  <a:lnTo>
                    <a:pt x="1468" y="110"/>
                  </a:lnTo>
                  <a:lnTo>
                    <a:pt x="1444" y="100"/>
                  </a:lnTo>
                  <a:lnTo>
                    <a:pt x="1396" y="80"/>
                  </a:lnTo>
                  <a:lnTo>
                    <a:pt x="1372" y="68"/>
                  </a:lnTo>
                  <a:lnTo>
                    <a:pt x="1350" y="54"/>
                  </a:lnTo>
                  <a:lnTo>
                    <a:pt x="1350" y="54"/>
                  </a:lnTo>
                  <a:lnTo>
                    <a:pt x="1328" y="48"/>
                  </a:lnTo>
                  <a:lnTo>
                    <a:pt x="1308" y="42"/>
                  </a:lnTo>
                  <a:lnTo>
                    <a:pt x="1298" y="38"/>
                  </a:lnTo>
                  <a:lnTo>
                    <a:pt x="1288" y="34"/>
                  </a:lnTo>
                  <a:lnTo>
                    <a:pt x="1280" y="26"/>
                  </a:lnTo>
                  <a:lnTo>
                    <a:pt x="1272" y="16"/>
                  </a:lnTo>
                  <a:lnTo>
                    <a:pt x="1272" y="16"/>
                  </a:lnTo>
                  <a:lnTo>
                    <a:pt x="1264" y="18"/>
                  </a:lnTo>
                  <a:lnTo>
                    <a:pt x="1254" y="20"/>
                  </a:lnTo>
                  <a:lnTo>
                    <a:pt x="1242" y="20"/>
                  </a:lnTo>
                  <a:lnTo>
                    <a:pt x="1238" y="20"/>
                  </a:lnTo>
                  <a:lnTo>
                    <a:pt x="1234" y="16"/>
                  </a:lnTo>
                  <a:lnTo>
                    <a:pt x="1234" y="8"/>
                  </a:lnTo>
                  <a:lnTo>
                    <a:pt x="1234" y="8"/>
                  </a:lnTo>
                  <a:lnTo>
                    <a:pt x="1194" y="2"/>
                  </a:lnTo>
                  <a:lnTo>
                    <a:pt x="1148" y="0"/>
                  </a:lnTo>
                  <a:lnTo>
                    <a:pt x="1102" y="2"/>
                  </a:lnTo>
                  <a:lnTo>
                    <a:pt x="1062" y="8"/>
                  </a:lnTo>
                  <a:lnTo>
                    <a:pt x="1062" y="16"/>
                  </a:lnTo>
                  <a:lnTo>
                    <a:pt x="1062" y="16"/>
                  </a:lnTo>
                  <a:lnTo>
                    <a:pt x="1058" y="20"/>
                  </a:lnTo>
                  <a:lnTo>
                    <a:pt x="1054" y="20"/>
                  </a:lnTo>
                  <a:lnTo>
                    <a:pt x="1048" y="20"/>
                  </a:lnTo>
                  <a:lnTo>
                    <a:pt x="1040" y="18"/>
                  </a:lnTo>
                  <a:lnTo>
                    <a:pt x="1032" y="16"/>
                  </a:lnTo>
                  <a:lnTo>
                    <a:pt x="1032" y="16"/>
                  </a:lnTo>
                  <a:lnTo>
                    <a:pt x="1032" y="22"/>
                  </a:lnTo>
                  <a:lnTo>
                    <a:pt x="1030" y="28"/>
                  </a:lnTo>
                  <a:lnTo>
                    <a:pt x="1026" y="32"/>
                  </a:lnTo>
                  <a:lnTo>
                    <a:pt x="1022" y="34"/>
                  </a:lnTo>
                  <a:lnTo>
                    <a:pt x="1012" y="36"/>
                  </a:lnTo>
                  <a:lnTo>
                    <a:pt x="1004" y="36"/>
                  </a:lnTo>
                  <a:lnTo>
                    <a:pt x="1004" y="36"/>
                  </a:lnTo>
                  <a:lnTo>
                    <a:pt x="962" y="58"/>
                  </a:lnTo>
                  <a:lnTo>
                    <a:pt x="922" y="82"/>
                  </a:lnTo>
                  <a:lnTo>
                    <a:pt x="900" y="94"/>
                  </a:lnTo>
                  <a:lnTo>
                    <a:pt x="878" y="104"/>
                  </a:lnTo>
                  <a:lnTo>
                    <a:pt x="856" y="114"/>
                  </a:lnTo>
                  <a:lnTo>
                    <a:pt x="832" y="122"/>
                  </a:lnTo>
                  <a:lnTo>
                    <a:pt x="832" y="122"/>
                  </a:lnTo>
                  <a:lnTo>
                    <a:pt x="794" y="156"/>
                  </a:lnTo>
                  <a:lnTo>
                    <a:pt x="756" y="190"/>
                  </a:lnTo>
                  <a:lnTo>
                    <a:pt x="720" y="222"/>
                  </a:lnTo>
                  <a:lnTo>
                    <a:pt x="702" y="238"/>
                  </a:lnTo>
                  <a:lnTo>
                    <a:pt x="688" y="256"/>
                  </a:lnTo>
                  <a:lnTo>
                    <a:pt x="688" y="256"/>
                  </a:lnTo>
                  <a:lnTo>
                    <a:pt x="686" y="266"/>
                  </a:lnTo>
                  <a:lnTo>
                    <a:pt x="684" y="276"/>
                  </a:lnTo>
                  <a:lnTo>
                    <a:pt x="680" y="286"/>
                  </a:lnTo>
                  <a:lnTo>
                    <a:pt x="676" y="294"/>
                  </a:lnTo>
                  <a:lnTo>
                    <a:pt x="664" y="308"/>
                  </a:lnTo>
                  <a:lnTo>
                    <a:pt x="650" y="324"/>
                  </a:lnTo>
                  <a:lnTo>
                    <a:pt x="650" y="324"/>
                  </a:lnTo>
                  <a:lnTo>
                    <a:pt x="652" y="334"/>
                  </a:lnTo>
                  <a:lnTo>
                    <a:pt x="652" y="342"/>
                  </a:lnTo>
                  <a:lnTo>
                    <a:pt x="650" y="350"/>
                  </a:lnTo>
                  <a:lnTo>
                    <a:pt x="648" y="356"/>
                  </a:lnTo>
                  <a:lnTo>
                    <a:pt x="638" y="368"/>
                  </a:lnTo>
                  <a:lnTo>
                    <a:pt x="630" y="380"/>
                  </a:lnTo>
                  <a:lnTo>
                    <a:pt x="630" y="390"/>
                  </a:lnTo>
                  <a:lnTo>
                    <a:pt x="630" y="390"/>
                  </a:lnTo>
                  <a:lnTo>
                    <a:pt x="618" y="404"/>
                  </a:lnTo>
                  <a:lnTo>
                    <a:pt x="612" y="410"/>
                  </a:lnTo>
                  <a:lnTo>
                    <a:pt x="606" y="414"/>
                  </a:lnTo>
                  <a:lnTo>
                    <a:pt x="598" y="416"/>
                  </a:lnTo>
                  <a:lnTo>
                    <a:pt x="592" y="418"/>
                  </a:lnTo>
                  <a:lnTo>
                    <a:pt x="582" y="416"/>
                  </a:lnTo>
                  <a:lnTo>
                    <a:pt x="572" y="410"/>
                  </a:lnTo>
                  <a:lnTo>
                    <a:pt x="572" y="410"/>
                  </a:lnTo>
                  <a:lnTo>
                    <a:pt x="556" y="400"/>
                  </a:lnTo>
                  <a:lnTo>
                    <a:pt x="540" y="390"/>
                  </a:lnTo>
                  <a:lnTo>
                    <a:pt x="522" y="376"/>
                  </a:lnTo>
                  <a:lnTo>
                    <a:pt x="506" y="362"/>
                  </a:lnTo>
                  <a:lnTo>
                    <a:pt x="506" y="362"/>
                  </a:lnTo>
                  <a:lnTo>
                    <a:pt x="492" y="356"/>
                  </a:lnTo>
                  <a:lnTo>
                    <a:pt x="478" y="352"/>
                  </a:lnTo>
                  <a:lnTo>
                    <a:pt x="466" y="348"/>
                  </a:lnTo>
                  <a:lnTo>
                    <a:pt x="458" y="342"/>
                  </a:lnTo>
                  <a:lnTo>
                    <a:pt x="342" y="342"/>
                  </a:lnTo>
                  <a:lnTo>
                    <a:pt x="342" y="342"/>
                  </a:lnTo>
                  <a:lnTo>
                    <a:pt x="332" y="350"/>
                  </a:lnTo>
                  <a:lnTo>
                    <a:pt x="318" y="356"/>
                  </a:lnTo>
                  <a:lnTo>
                    <a:pt x="300" y="360"/>
                  </a:lnTo>
                  <a:lnTo>
                    <a:pt x="286" y="362"/>
                  </a:lnTo>
                  <a:lnTo>
                    <a:pt x="286" y="362"/>
                  </a:lnTo>
                  <a:lnTo>
                    <a:pt x="242" y="382"/>
                  </a:lnTo>
                  <a:lnTo>
                    <a:pt x="220" y="392"/>
                  </a:lnTo>
                  <a:lnTo>
                    <a:pt x="198" y="404"/>
                  </a:lnTo>
                  <a:lnTo>
                    <a:pt x="180" y="416"/>
                  </a:lnTo>
                  <a:lnTo>
                    <a:pt x="164" y="430"/>
                  </a:lnTo>
                  <a:lnTo>
                    <a:pt x="150" y="448"/>
                  </a:lnTo>
                  <a:lnTo>
                    <a:pt x="146" y="456"/>
                  </a:lnTo>
                  <a:lnTo>
                    <a:pt x="142" y="468"/>
                  </a:lnTo>
                  <a:lnTo>
                    <a:pt x="142" y="468"/>
                  </a:lnTo>
                  <a:lnTo>
                    <a:pt x="118" y="486"/>
                  </a:lnTo>
                  <a:lnTo>
                    <a:pt x="96" y="508"/>
                  </a:lnTo>
                  <a:lnTo>
                    <a:pt x="78" y="532"/>
                  </a:lnTo>
                  <a:lnTo>
                    <a:pt x="60" y="556"/>
                  </a:lnTo>
                  <a:lnTo>
                    <a:pt x="44" y="584"/>
                  </a:lnTo>
                  <a:lnTo>
                    <a:pt x="30" y="612"/>
                  </a:lnTo>
                  <a:lnTo>
                    <a:pt x="18" y="640"/>
                  </a:lnTo>
                  <a:lnTo>
                    <a:pt x="8" y="668"/>
                  </a:lnTo>
                  <a:lnTo>
                    <a:pt x="8" y="668"/>
                  </a:lnTo>
                  <a:lnTo>
                    <a:pt x="2" y="688"/>
                  </a:lnTo>
                  <a:lnTo>
                    <a:pt x="0" y="704"/>
                  </a:lnTo>
                  <a:lnTo>
                    <a:pt x="0" y="720"/>
                  </a:lnTo>
                  <a:lnTo>
                    <a:pt x="2" y="734"/>
                  </a:lnTo>
                  <a:lnTo>
                    <a:pt x="4" y="748"/>
                  </a:lnTo>
                  <a:lnTo>
                    <a:pt x="8" y="760"/>
                  </a:lnTo>
                  <a:lnTo>
                    <a:pt x="14" y="772"/>
                  </a:lnTo>
                  <a:lnTo>
                    <a:pt x="20" y="782"/>
                  </a:lnTo>
                  <a:lnTo>
                    <a:pt x="36" y="802"/>
                  </a:lnTo>
                  <a:lnTo>
                    <a:pt x="52" y="820"/>
                  </a:lnTo>
                  <a:lnTo>
                    <a:pt x="68" y="840"/>
                  </a:lnTo>
                  <a:lnTo>
                    <a:pt x="84" y="860"/>
                  </a:lnTo>
                  <a:lnTo>
                    <a:pt x="84" y="860"/>
                  </a:lnTo>
                  <a:lnTo>
                    <a:pt x="94" y="862"/>
                  </a:lnTo>
                  <a:lnTo>
                    <a:pt x="100" y="864"/>
                  </a:lnTo>
                  <a:lnTo>
                    <a:pt x="104" y="870"/>
                  </a:lnTo>
                  <a:lnTo>
                    <a:pt x="108" y="874"/>
                  </a:lnTo>
                  <a:lnTo>
                    <a:pt x="112" y="880"/>
                  </a:lnTo>
                  <a:lnTo>
                    <a:pt x="116" y="884"/>
                  </a:lnTo>
                  <a:lnTo>
                    <a:pt x="122" y="888"/>
                  </a:lnTo>
                  <a:lnTo>
                    <a:pt x="132" y="888"/>
                  </a:lnTo>
                  <a:lnTo>
                    <a:pt x="132" y="888"/>
                  </a:lnTo>
                  <a:lnTo>
                    <a:pt x="138" y="894"/>
                  </a:lnTo>
                  <a:lnTo>
                    <a:pt x="144" y="898"/>
                  </a:lnTo>
                  <a:lnTo>
                    <a:pt x="164" y="900"/>
                  </a:lnTo>
                  <a:lnTo>
                    <a:pt x="174" y="900"/>
                  </a:lnTo>
                  <a:lnTo>
                    <a:pt x="182" y="904"/>
                  </a:lnTo>
                  <a:lnTo>
                    <a:pt x="188" y="908"/>
                  </a:lnTo>
                  <a:lnTo>
                    <a:pt x="188" y="912"/>
                  </a:lnTo>
                  <a:lnTo>
                    <a:pt x="190" y="918"/>
                  </a:lnTo>
                  <a:lnTo>
                    <a:pt x="190" y="918"/>
                  </a:lnTo>
                  <a:lnTo>
                    <a:pt x="190" y="924"/>
                  </a:lnTo>
                  <a:lnTo>
                    <a:pt x="188" y="930"/>
                  </a:lnTo>
                  <a:lnTo>
                    <a:pt x="186" y="936"/>
                  </a:lnTo>
                  <a:lnTo>
                    <a:pt x="180" y="936"/>
                  </a:lnTo>
                  <a:lnTo>
                    <a:pt x="180" y="936"/>
                  </a:lnTo>
                  <a:lnTo>
                    <a:pt x="152" y="976"/>
                  </a:lnTo>
                  <a:lnTo>
                    <a:pt x="140" y="998"/>
                  </a:lnTo>
                  <a:lnTo>
                    <a:pt x="136" y="1010"/>
                  </a:lnTo>
                  <a:lnTo>
                    <a:pt x="132" y="1022"/>
                  </a:lnTo>
                  <a:lnTo>
                    <a:pt x="132" y="1022"/>
                  </a:lnTo>
                  <a:lnTo>
                    <a:pt x="118" y="1048"/>
                  </a:lnTo>
                  <a:lnTo>
                    <a:pt x="112" y="1062"/>
                  </a:lnTo>
                  <a:lnTo>
                    <a:pt x="108" y="1076"/>
                  </a:lnTo>
                  <a:lnTo>
                    <a:pt x="106" y="1092"/>
                  </a:lnTo>
                  <a:lnTo>
                    <a:pt x="104" y="1108"/>
                  </a:lnTo>
                  <a:lnTo>
                    <a:pt x="108" y="1124"/>
                  </a:lnTo>
                  <a:lnTo>
                    <a:pt x="112" y="1138"/>
                  </a:lnTo>
                  <a:lnTo>
                    <a:pt x="112" y="1138"/>
                  </a:lnTo>
                  <a:lnTo>
                    <a:pt x="118" y="1142"/>
                  </a:lnTo>
                  <a:lnTo>
                    <a:pt x="122" y="1148"/>
                  </a:lnTo>
                  <a:lnTo>
                    <a:pt x="124" y="1154"/>
                  </a:lnTo>
                  <a:lnTo>
                    <a:pt x="126" y="1162"/>
                  </a:lnTo>
                  <a:lnTo>
                    <a:pt x="128" y="1176"/>
                  </a:lnTo>
                  <a:lnTo>
                    <a:pt x="130" y="1182"/>
                  </a:lnTo>
                  <a:lnTo>
                    <a:pt x="132" y="1186"/>
                  </a:lnTo>
                  <a:lnTo>
                    <a:pt x="132" y="1186"/>
                  </a:lnTo>
                  <a:lnTo>
                    <a:pt x="134" y="1190"/>
                  </a:lnTo>
                  <a:lnTo>
                    <a:pt x="136" y="1192"/>
                  </a:lnTo>
                  <a:lnTo>
                    <a:pt x="136" y="1200"/>
                  </a:lnTo>
                  <a:lnTo>
                    <a:pt x="138" y="1204"/>
                  </a:lnTo>
                  <a:lnTo>
                    <a:pt x="138" y="1204"/>
                  </a:lnTo>
                  <a:lnTo>
                    <a:pt x="142" y="1206"/>
                  </a:lnTo>
                  <a:lnTo>
                    <a:pt x="142" y="1206"/>
                  </a:lnTo>
                  <a:lnTo>
                    <a:pt x="146" y="1216"/>
                  </a:lnTo>
                  <a:lnTo>
                    <a:pt x="152" y="1224"/>
                  </a:lnTo>
                  <a:lnTo>
                    <a:pt x="164" y="1238"/>
                  </a:lnTo>
                  <a:lnTo>
                    <a:pt x="170" y="1246"/>
                  </a:lnTo>
                  <a:lnTo>
                    <a:pt x="176" y="1254"/>
                  </a:lnTo>
                  <a:lnTo>
                    <a:pt x="178" y="1262"/>
                  </a:lnTo>
                  <a:lnTo>
                    <a:pt x="180" y="1272"/>
                  </a:lnTo>
                  <a:lnTo>
                    <a:pt x="180" y="1272"/>
                  </a:lnTo>
                  <a:lnTo>
                    <a:pt x="216" y="1314"/>
                  </a:lnTo>
                  <a:lnTo>
                    <a:pt x="234" y="1332"/>
                  </a:lnTo>
                  <a:lnTo>
                    <a:pt x="254" y="1348"/>
                  </a:lnTo>
                  <a:lnTo>
                    <a:pt x="274" y="1364"/>
                  </a:lnTo>
                  <a:lnTo>
                    <a:pt x="296" y="1378"/>
                  </a:lnTo>
                  <a:lnTo>
                    <a:pt x="318" y="1388"/>
                  </a:lnTo>
                  <a:lnTo>
                    <a:pt x="342" y="1396"/>
                  </a:lnTo>
                  <a:lnTo>
                    <a:pt x="342" y="1396"/>
                  </a:lnTo>
                  <a:lnTo>
                    <a:pt x="358" y="1402"/>
                  </a:lnTo>
                  <a:lnTo>
                    <a:pt x="372" y="1408"/>
                  </a:lnTo>
                  <a:lnTo>
                    <a:pt x="386" y="1414"/>
                  </a:lnTo>
                  <a:lnTo>
                    <a:pt x="394" y="1420"/>
                  </a:lnTo>
                  <a:lnTo>
                    <a:pt x="400" y="1426"/>
                  </a:lnTo>
                  <a:lnTo>
                    <a:pt x="400" y="1426"/>
                  </a:lnTo>
                  <a:lnTo>
                    <a:pt x="408" y="1424"/>
                  </a:lnTo>
                  <a:lnTo>
                    <a:pt x="414" y="1422"/>
                  </a:lnTo>
                  <a:lnTo>
                    <a:pt x="422" y="1422"/>
                  </a:lnTo>
                  <a:lnTo>
                    <a:pt x="426" y="1422"/>
                  </a:lnTo>
                  <a:lnTo>
                    <a:pt x="428" y="1426"/>
                  </a:lnTo>
                  <a:lnTo>
                    <a:pt x="428" y="1436"/>
                  </a:lnTo>
                  <a:lnTo>
                    <a:pt x="428" y="1436"/>
                  </a:lnTo>
                  <a:lnTo>
                    <a:pt x="458" y="1440"/>
                  </a:lnTo>
                  <a:lnTo>
                    <a:pt x="484" y="1446"/>
                  </a:lnTo>
                  <a:lnTo>
                    <a:pt x="540" y="1458"/>
                  </a:lnTo>
                  <a:lnTo>
                    <a:pt x="566" y="1464"/>
                  </a:lnTo>
                  <a:lnTo>
                    <a:pt x="594" y="1468"/>
                  </a:lnTo>
                  <a:lnTo>
                    <a:pt x="622" y="1472"/>
                  </a:lnTo>
                  <a:lnTo>
                    <a:pt x="650" y="1474"/>
                  </a:lnTo>
                  <a:lnTo>
                    <a:pt x="650" y="1484"/>
                  </a:lnTo>
                  <a:lnTo>
                    <a:pt x="784" y="1484"/>
                  </a:lnTo>
                  <a:lnTo>
                    <a:pt x="784" y="1484"/>
                  </a:lnTo>
                  <a:lnTo>
                    <a:pt x="786" y="1480"/>
                  </a:lnTo>
                  <a:lnTo>
                    <a:pt x="790" y="1478"/>
                  </a:lnTo>
                  <a:lnTo>
                    <a:pt x="798" y="1474"/>
                  </a:lnTo>
                  <a:lnTo>
                    <a:pt x="810" y="1474"/>
                  </a:lnTo>
                  <a:lnTo>
                    <a:pt x="824" y="1474"/>
                  </a:lnTo>
                  <a:lnTo>
                    <a:pt x="836" y="1474"/>
                  </a:lnTo>
                  <a:lnTo>
                    <a:pt x="850" y="1472"/>
                  </a:lnTo>
                  <a:lnTo>
                    <a:pt x="862" y="1470"/>
                  </a:lnTo>
                  <a:lnTo>
                    <a:pt x="870" y="1464"/>
                  </a:lnTo>
                  <a:lnTo>
                    <a:pt x="870" y="1454"/>
                  </a:lnTo>
                  <a:lnTo>
                    <a:pt x="870" y="1454"/>
                  </a:lnTo>
                  <a:lnTo>
                    <a:pt x="884" y="1456"/>
                  </a:lnTo>
                  <a:lnTo>
                    <a:pt x="896" y="1456"/>
                  </a:lnTo>
                  <a:lnTo>
                    <a:pt x="906" y="1456"/>
                  </a:lnTo>
                  <a:lnTo>
                    <a:pt x="918" y="1454"/>
                  </a:lnTo>
                  <a:lnTo>
                    <a:pt x="940" y="1448"/>
                  </a:lnTo>
                  <a:lnTo>
                    <a:pt x="952" y="1446"/>
                  </a:lnTo>
                  <a:lnTo>
                    <a:pt x="966" y="1444"/>
                  </a:lnTo>
                  <a:lnTo>
                    <a:pt x="966" y="1444"/>
                  </a:lnTo>
                  <a:lnTo>
                    <a:pt x="966" y="1436"/>
                  </a:lnTo>
                  <a:lnTo>
                    <a:pt x="966" y="1436"/>
                  </a:lnTo>
                  <a:lnTo>
                    <a:pt x="982" y="1436"/>
                  </a:lnTo>
                  <a:lnTo>
                    <a:pt x="994" y="1434"/>
                  </a:lnTo>
                  <a:lnTo>
                    <a:pt x="1004" y="1430"/>
                  </a:lnTo>
                  <a:lnTo>
                    <a:pt x="1012" y="1424"/>
                  </a:lnTo>
                  <a:lnTo>
                    <a:pt x="1020" y="1418"/>
                  </a:lnTo>
                  <a:lnTo>
                    <a:pt x="1030" y="1412"/>
                  </a:lnTo>
                  <a:lnTo>
                    <a:pt x="1040" y="1408"/>
                  </a:lnTo>
                  <a:lnTo>
                    <a:pt x="1052" y="1406"/>
                  </a:lnTo>
                  <a:lnTo>
                    <a:pt x="1052" y="1406"/>
                  </a:lnTo>
                  <a:lnTo>
                    <a:pt x="1078" y="1394"/>
                  </a:lnTo>
                  <a:lnTo>
                    <a:pt x="1092" y="1388"/>
                  </a:lnTo>
                  <a:lnTo>
                    <a:pt x="1110" y="1388"/>
                  </a:lnTo>
                  <a:lnTo>
                    <a:pt x="1110" y="1388"/>
                  </a:lnTo>
                  <a:lnTo>
                    <a:pt x="1118" y="1382"/>
                  </a:lnTo>
                  <a:lnTo>
                    <a:pt x="1128" y="1376"/>
                  </a:lnTo>
                  <a:lnTo>
                    <a:pt x="1140" y="1370"/>
                  </a:lnTo>
                  <a:lnTo>
                    <a:pt x="1144" y="1364"/>
                  </a:lnTo>
                  <a:lnTo>
                    <a:pt x="1148" y="1358"/>
                  </a:lnTo>
                  <a:lnTo>
                    <a:pt x="1148" y="1358"/>
                  </a:lnTo>
                  <a:lnTo>
                    <a:pt x="1162" y="1356"/>
                  </a:lnTo>
                  <a:lnTo>
                    <a:pt x="1176" y="1352"/>
                  </a:lnTo>
                  <a:lnTo>
                    <a:pt x="1186" y="1342"/>
                  </a:lnTo>
                  <a:lnTo>
                    <a:pt x="1196" y="1330"/>
                  </a:lnTo>
                  <a:lnTo>
                    <a:pt x="1196" y="1330"/>
                  </a:lnTo>
                  <a:lnTo>
                    <a:pt x="1200" y="1324"/>
                  </a:lnTo>
                  <a:lnTo>
                    <a:pt x="1208" y="1320"/>
                  </a:lnTo>
                  <a:lnTo>
                    <a:pt x="1216" y="1318"/>
                  </a:lnTo>
                  <a:lnTo>
                    <a:pt x="1226" y="1318"/>
                  </a:lnTo>
                  <a:lnTo>
                    <a:pt x="1246" y="1318"/>
                  </a:lnTo>
                  <a:lnTo>
                    <a:pt x="1262" y="1320"/>
                  </a:lnTo>
                  <a:lnTo>
                    <a:pt x="1262" y="1320"/>
                  </a:lnTo>
                  <a:lnTo>
                    <a:pt x="1288" y="1344"/>
                  </a:lnTo>
                  <a:lnTo>
                    <a:pt x="1316" y="1366"/>
                  </a:lnTo>
                  <a:lnTo>
                    <a:pt x="1344" y="1386"/>
                  </a:lnTo>
                  <a:lnTo>
                    <a:pt x="1374" y="1404"/>
                  </a:lnTo>
                  <a:lnTo>
                    <a:pt x="1404" y="1418"/>
                  </a:lnTo>
                  <a:lnTo>
                    <a:pt x="1438" y="1430"/>
                  </a:lnTo>
                  <a:lnTo>
                    <a:pt x="1474" y="1440"/>
                  </a:lnTo>
                  <a:lnTo>
                    <a:pt x="1512" y="1444"/>
                  </a:lnTo>
                  <a:lnTo>
                    <a:pt x="1560" y="1444"/>
                  </a:lnTo>
                  <a:lnTo>
                    <a:pt x="1560" y="1444"/>
                  </a:lnTo>
                  <a:lnTo>
                    <a:pt x="1580" y="1456"/>
                  </a:lnTo>
                  <a:lnTo>
                    <a:pt x="1596" y="1464"/>
                  </a:lnTo>
                  <a:lnTo>
                    <a:pt x="1608" y="1472"/>
                  </a:lnTo>
                  <a:lnTo>
                    <a:pt x="1614" y="1476"/>
                  </a:lnTo>
                  <a:lnTo>
                    <a:pt x="1618" y="1484"/>
                  </a:lnTo>
                  <a:lnTo>
                    <a:pt x="1618" y="1484"/>
                  </a:lnTo>
                  <a:lnTo>
                    <a:pt x="1720" y="1488"/>
                  </a:lnTo>
                  <a:lnTo>
                    <a:pt x="1828" y="1490"/>
                  </a:lnTo>
                  <a:lnTo>
                    <a:pt x="1932" y="1488"/>
                  </a:lnTo>
                  <a:lnTo>
                    <a:pt x="2030" y="1484"/>
                  </a:lnTo>
                  <a:lnTo>
                    <a:pt x="2030" y="1484"/>
                  </a:lnTo>
                  <a:lnTo>
                    <a:pt x="2052" y="1478"/>
                  </a:lnTo>
                  <a:lnTo>
                    <a:pt x="2074" y="1474"/>
                  </a:lnTo>
                  <a:lnTo>
                    <a:pt x="2098" y="1470"/>
                  </a:lnTo>
                  <a:lnTo>
                    <a:pt x="2126" y="1464"/>
                  </a:lnTo>
                  <a:lnTo>
                    <a:pt x="2126" y="1464"/>
                  </a:lnTo>
                  <a:lnTo>
                    <a:pt x="2134" y="1458"/>
                  </a:lnTo>
                  <a:lnTo>
                    <a:pt x="2144" y="1454"/>
                  </a:lnTo>
                  <a:lnTo>
                    <a:pt x="2156" y="1450"/>
                  </a:lnTo>
                  <a:lnTo>
                    <a:pt x="2164" y="1444"/>
                  </a:lnTo>
                  <a:lnTo>
                    <a:pt x="2164" y="1444"/>
                  </a:lnTo>
                  <a:lnTo>
                    <a:pt x="2178" y="1440"/>
                  </a:lnTo>
                  <a:lnTo>
                    <a:pt x="2192" y="1436"/>
                  </a:lnTo>
                  <a:lnTo>
                    <a:pt x="2206" y="1432"/>
                  </a:lnTo>
                  <a:lnTo>
                    <a:pt x="2222" y="1426"/>
                  </a:lnTo>
                  <a:lnTo>
                    <a:pt x="2222" y="1426"/>
                  </a:lnTo>
                  <a:lnTo>
                    <a:pt x="2222" y="1420"/>
                  </a:lnTo>
                  <a:lnTo>
                    <a:pt x="2224" y="1414"/>
                  </a:lnTo>
                  <a:lnTo>
                    <a:pt x="2228" y="1410"/>
                  </a:lnTo>
                  <a:lnTo>
                    <a:pt x="2232" y="1408"/>
                  </a:lnTo>
                  <a:lnTo>
                    <a:pt x="2242" y="1402"/>
                  </a:lnTo>
                  <a:lnTo>
                    <a:pt x="2250" y="1396"/>
                  </a:lnTo>
                  <a:lnTo>
                    <a:pt x="2250" y="1396"/>
                  </a:lnTo>
                  <a:lnTo>
                    <a:pt x="2252" y="1396"/>
                  </a:lnTo>
                  <a:lnTo>
                    <a:pt x="2254" y="1394"/>
                  </a:lnTo>
                  <a:lnTo>
                    <a:pt x="2256" y="1388"/>
                  </a:lnTo>
                  <a:lnTo>
                    <a:pt x="2258" y="1386"/>
                  </a:lnTo>
                  <a:lnTo>
                    <a:pt x="2260" y="1384"/>
                  </a:lnTo>
                  <a:lnTo>
                    <a:pt x="2264" y="1384"/>
                  </a:lnTo>
                  <a:lnTo>
                    <a:pt x="2270" y="1388"/>
                  </a:lnTo>
                  <a:lnTo>
                    <a:pt x="2270" y="1388"/>
                  </a:lnTo>
                  <a:lnTo>
                    <a:pt x="2290" y="1362"/>
                  </a:lnTo>
                  <a:lnTo>
                    <a:pt x="2308" y="1336"/>
                  </a:lnTo>
                  <a:lnTo>
                    <a:pt x="2322" y="1310"/>
                  </a:lnTo>
                  <a:lnTo>
                    <a:pt x="2336" y="1284"/>
                  </a:lnTo>
                  <a:lnTo>
                    <a:pt x="2348" y="1256"/>
                  </a:lnTo>
                  <a:lnTo>
                    <a:pt x="2358" y="1228"/>
                  </a:lnTo>
                  <a:lnTo>
                    <a:pt x="2368" y="1198"/>
                  </a:lnTo>
                  <a:lnTo>
                    <a:pt x="2374" y="1166"/>
                  </a:lnTo>
                  <a:lnTo>
                    <a:pt x="2374" y="1166"/>
                  </a:lnTo>
                  <a:lnTo>
                    <a:pt x="2380" y="1164"/>
                  </a:lnTo>
                  <a:lnTo>
                    <a:pt x="2384" y="1162"/>
                  </a:lnTo>
                  <a:lnTo>
                    <a:pt x="2388" y="1154"/>
                  </a:lnTo>
                  <a:lnTo>
                    <a:pt x="2392" y="1144"/>
                  </a:lnTo>
                  <a:lnTo>
                    <a:pt x="2392" y="1134"/>
                  </a:lnTo>
                  <a:lnTo>
                    <a:pt x="2394" y="1112"/>
                  </a:lnTo>
                  <a:lnTo>
                    <a:pt x="2398" y="1104"/>
                  </a:lnTo>
                  <a:lnTo>
                    <a:pt x="2404" y="1100"/>
                  </a:lnTo>
                  <a:lnTo>
                    <a:pt x="2404" y="1100"/>
                  </a:lnTo>
                  <a:lnTo>
                    <a:pt x="2408" y="1052"/>
                  </a:lnTo>
                  <a:lnTo>
                    <a:pt x="2410" y="998"/>
                  </a:lnTo>
                  <a:lnTo>
                    <a:pt x="2408" y="942"/>
                  </a:lnTo>
                  <a:lnTo>
                    <a:pt x="2404" y="888"/>
                  </a:lnTo>
                  <a:lnTo>
                    <a:pt x="2394" y="888"/>
                  </a:lnTo>
                  <a:lnTo>
                    <a:pt x="2394" y="888"/>
                  </a:lnTo>
                  <a:lnTo>
                    <a:pt x="2392" y="888"/>
                  </a:lnTo>
                  <a:lnTo>
                    <a:pt x="2390" y="888"/>
                  </a:lnTo>
                  <a:lnTo>
                    <a:pt x="2390" y="882"/>
                  </a:lnTo>
                  <a:lnTo>
                    <a:pt x="2392" y="872"/>
                  </a:lnTo>
                  <a:lnTo>
                    <a:pt x="2394" y="860"/>
                  </a:lnTo>
                  <a:lnTo>
                    <a:pt x="2394" y="860"/>
                  </a:lnTo>
                  <a:lnTo>
                    <a:pt x="2384" y="852"/>
                  </a:lnTo>
                  <a:lnTo>
                    <a:pt x="2376" y="842"/>
                  </a:lnTo>
                  <a:lnTo>
                    <a:pt x="2368" y="832"/>
                  </a:lnTo>
                  <a:lnTo>
                    <a:pt x="2362" y="820"/>
                  </a:lnTo>
                  <a:lnTo>
                    <a:pt x="2354" y="796"/>
                  </a:lnTo>
                  <a:lnTo>
                    <a:pt x="2346" y="774"/>
                  </a:lnTo>
                  <a:lnTo>
                    <a:pt x="2346" y="774"/>
                  </a:lnTo>
                  <a:lnTo>
                    <a:pt x="2342" y="758"/>
                  </a:lnTo>
                  <a:lnTo>
                    <a:pt x="2342" y="744"/>
                  </a:lnTo>
                  <a:lnTo>
                    <a:pt x="2344" y="734"/>
                  </a:lnTo>
                  <a:lnTo>
                    <a:pt x="2350" y="724"/>
                  </a:lnTo>
                  <a:lnTo>
                    <a:pt x="2364" y="706"/>
                  </a:lnTo>
                  <a:lnTo>
                    <a:pt x="2370" y="698"/>
                  </a:lnTo>
                  <a:lnTo>
                    <a:pt x="2374" y="688"/>
                  </a:lnTo>
                  <a:lnTo>
                    <a:pt x="2374" y="688"/>
                  </a:lnTo>
                  <a:lnTo>
                    <a:pt x="2384" y="682"/>
                  </a:lnTo>
                  <a:lnTo>
                    <a:pt x="2390" y="676"/>
                  </a:lnTo>
                  <a:lnTo>
                    <a:pt x="2394" y="668"/>
                  </a:lnTo>
                  <a:lnTo>
                    <a:pt x="2398" y="658"/>
                  </a:lnTo>
                  <a:lnTo>
                    <a:pt x="2402" y="650"/>
                  </a:lnTo>
                  <a:lnTo>
                    <a:pt x="2408" y="642"/>
                  </a:lnTo>
                  <a:lnTo>
                    <a:pt x="2414" y="634"/>
                  </a:lnTo>
                  <a:lnTo>
                    <a:pt x="2422" y="630"/>
                  </a:lnTo>
                  <a:lnTo>
                    <a:pt x="2422" y="630"/>
                  </a:lnTo>
                  <a:lnTo>
                    <a:pt x="2424" y="610"/>
                  </a:lnTo>
                  <a:lnTo>
                    <a:pt x="2426" y="590"/>
                  </a:lnTo>
                  <a:lnTo>
                    <a:pt x="2434" y="554"/>
                  </a:lnTo>
                  <a:lnTo>
                    <a:pt x="2442" y="516"/>
                  </a:lnTo>
                  <a:lnTo>
                    <a:pt x="2452" y="476"/>
                  </a:lnTo>
                  <a:lnTo>
                    <a:pt x="2452" y="468"/>
                  </a:lnTo>
                  <a:lnTo>
                    <a:pt x="2452" y="468"/>
                  </a:lnTo>
                  <a:lnTo>
                    <a:pt x="2446" y="462"/>
                  </a:lnTo>
                  <a:lnTo>
                    <a:pt x="2444" y="456"/>
                  </a:lnTo>
                  <a:lnTo>
                    <a:pt x="2442" y="448"/>
                  </a:lnTo>
                  <a:lnTo>
                    <a:pt x="2442" y="438"/>
                  </a:lnTo>
                  <a:lnTo>
                    <a:pt x="2442" y="430"/>
                  </a:lnTo>
                  <a:lnTo>
                    <a:pt x="2440" y="422"/>
                  </a:lnTo>
                  <a:lnTo>
                    <a:pt x="2438" y="414"/>
                  </a:lnTo>
                  <a:lnTo>
                    <a:pt x="2432" y="410"/>
                  </a:lnTo>
                  <a:lnTo>
                    <a:pt x="2432" y="410"/>
                  </a:lnTo>
                  <a:close/>
                  <a:moveTo>
                    <a:pt x="2278" y="668"/>
                  </a:moveTo>
                  <a:lnTo>
                    <a:pt x="2278" y="668"/>
                  </a:lnTo>
                  <a:lnTo>
                    <a:pt x="2274" y="674"/>
                  </a:lnTo>
                  <a:lnTo>
                    <a:pt x="2270" y="680"/>
                  </a:lnTo>
                  <a:lnTo>
                    <a:pt x="2260" y="686"/>
                  </a:lnTo>
                  <a:lnTo>
                    <a:pt x="2254" y="692"/>
                  </a:lnTo>
                  <a:lnTo>
                    <a:pt x="2250" y="694"/>
                  </a:lnTo>
                  <a:lnTo>
                    <a:pt x="2250" y="698"/>
                  </a:lnTo>
                  <a:lnTo>
                    <a:pt x="2250" y="698"/>
                  </a:lnTo>
                  <a:lnTo>
                    <a:pt x="2234" y="702"/>
                  </a:lnTo>
                  <a:lnTo>
                    <a:pt x="2218" y="704"/>
                  </a:lnTo>
                  <a:lnTo>
                    <a:pt x="2182" y="704"/>
                  </a:lnTo>
                  <a:lnTo>
                    <a:pt x="2166" y="704"/>
                  </a:lnTo>
                  <a:lnTo>
                    <a:pt x="2152" y="708"/>
                  </a:lnTo>
                  <a:lnTo>
                    <a:pt x="2146" y="710"/>
                  </a:lnTo>
                  <a:lnTo>
                    <a:pt x="2142" y="714"/>
                  </a:lnTo>
                  <a:lnTo>
                    <a:pt x="2138" y="720"/>
                  </a:lnTo>
                  <a:lnTo>
                    <a:pt x="2136" y="726"/>
                  </a:lnTo>
                  <a:lnTo>
                    <a:pt x="2136" y="726"/>
                  </a:lnTo>
                  <a:lnTo>
                    <a:pt x="2130" y="742"/>
                  </a:lnTo>
                  <a:lnTo>
                    <a:pt x="2130" y="756"/>
                  </a:lnTo>
                  <a:lnTo>
                    <a:pt x="2134" y="766"/>
                  </a:lnTo>
                  <a:lnTo>
                    <a:pt x="2140" y="774"/>
                  </a:lnTo>
                  <a:lnTo>
                    <a:pt x="2148" y="780"/>
                  </a:lnTo>
                  <a:lnTo>
                    <a:pt x="2156" y="786"/>
                  </a:lnTo>
                  <a:lnTo>
                    <a:pt x="2174" y="792"/>
                  </a:lnTo>
                  <a:lnTo>
                    <a:pt x="2174" y="792"/>
                  </a:lnTo>
                  <a:lnTo>
                    <a:pt x="2194" y="798"/>
                  </a:lnTo>
                  <a:lnTo>
                    <a:pt x="2212" y="806"/>
                  </a:lnTo>
                  <a:lnTo>
                    <a:pt x="2228" y="816"/>
                  </a:lnTo>
                  <a:lnTo>
                    <a:pt x="2242" y="828"/>
                  </a:lnTo>
                  <a:lnTo>
                    <a:pt x="2266" y="854"/>
                  </a:lnTo>
                  <a:lnTo>
                    <a:pt x="2288" y="880"/>
                  </a:lnTo>
                  <a:lnTo>
                    <a:pt x="2288" y="880"/>
                  </a:lnTo>
                  <a:lnTo>
                    <a:pt x="2290" y="892"/>
                  </a:lnTo>
                  <a:lnTo>
                    <a:pt x="2294" y="902"/>
                  </a:lnTo>
                  <a:lnTo>
                    <a:pt x="2300" y="910"/>
                  </a:lnTo>
                  <a:lnTo>
                    <a:pt x="2308" y="918"/>
                  </a:lnTo>
                  <a:lnTo>
                    <a:pt x="2318" y="984"/>
                  </a:lnTo>
                  <a:lnTo>
                    <a:pt x="2326" y="984"/>
                  </a:lnTo>
                  <a:lnTo>
                    <a:pt x="2326" y="1032"/>
                  </a:lnTo>
                  <a:lnTo>
                    <a:pt x="2318" y="1032"/>
                  </a:lnTo>
                  <a:lnTo>
                    <a:pt x="2318" y="1032"/>
                  </a:lnTo>
                  <a:lnTo>
                    <a:pt x="2318" y="1074"/>
                  </a:lnTo>
                  <a:lnTo>
                    <a:pt x="2316" y="1112"/>
                  </a:lnTo>
                  <a:lnTo>
                    <a:pt x="2310" y="1148"/>
                  </a:lnTo>
                  <a:lnTo>
                    <a:pt x="2302" y="1180"/>
                  </a:lnTo>
                  <a:lnTo>
                    <a:pt x="2294" y="1210"/>
                  </a:lnTo>
                  <a:lnTo>
                    <a:pt x="2282" y="1238"/>
                  </a:lnTo>
                  <a:lnTo>
                    <a:pt x="2260" y="1292"/>
                  </a:lnTo>
                  <a:lnTo>
                    <a:pt x="2260" y="1292"/>
                  </a:lnTo>
                  <a:lnTo>
                    <a:pt x="2250" y="1298"/>
                  </a:lnTo>
                  <a:lnTo>
                    <a:pt x="2242" y="1308"/>
                  </a:lnTo>
                  <a:lnTo>
                    <a:pt x="2226" y="1324"/>
                  </a:lnTo>
                  <a:lnTo>
                    <a:pt x="2212" y="1338"/>
                  </a:lnTo>
                  <a:lnTo>
                    <a:pt x="2202" y="1344"/>
                  </a:lnTo>
                  <a:lnTo>
                    <a:pt x="2192" y="1348"/>
                  </a:lnTo>
                  <a:lnTo>
                    <a:pt x="2192" y="1348"/>
                  </a:lnTo>
                  <a:lnTo>
                    <a:pt x="2188" y="1356"/>
                  </a:lnTo>
                  <a:lnTo>
                    <a:pt x="2182" y="1360"/>
                  </a:lnTo>
                  <a:lnTo>
                    <a:pt x="2168" y="1368"/>
                  </a:lnTo>
                  <a:lnTo>
                    <a:pt x="2150" y="1376"/>
                  </a:lnTo>
                  <a:lnTo>
                    <a:pt x="2142" y="1380"/>
                  </a:lnTo>
                  <a:lnTo>
                    <a:pt x="2136" y="1388"/>
                  </a:lnTo>
                  <a:lnTo>
                    <a:pt x="2136" y="1388"/>
                  </a:lnTo>
                  <a:lnTo>
                    <a:pt x="2116" y="1388"/>
                  </a:lnTo>
                  <a:lnTo>
                    <a:pt x="2098" y="1394"/>
                  </a:lnTo>
                  <a:lnTo>
                    <a:pt x="2082" y="1400"/>
                  </a:lnTo>
                  <a:lnTo>
                    <a:pt x="2068" y="1406"/>
                  </a:lnTo>
                  <a:lnTo>
                    <a:pt x="2068" y="1406"/>
                  </a:lnTo>
                  <a:lnTo>
                    <a:pt x="2036" y="1410"/>
                  </a:lnTo>
                  <a:lnTo>
                    <a:pt x="2002" y="1410"/>
                  </a:lnTo>
                  <a:lnTo>
                    <a:pt x="1936" y="1412"/>
                  </a:lnTo>
                  <a:lnTo>
                    <a:pt x="1870" y="1412"/>
                  </a:lnTo>
                  <a:lnTo>
                    <a:pt x="1838" y="1414"/>
                  </a:lnTo>
                  <a:lnTo>
                    <a:pt x="1810" y="1416"/>
                  </a:lnTo>
                  <a:lnTo>
                    <a:pt x="1810" y="1426"/>
                  </a:lnTo>
                  <a:lnTo>
                    <a:pt x="1722" y="1426"/>
                  </a:lnTo>
                  <a:lnTo>
                    <a:pt x="1722" y="1416"/>
                  </a:lnTo>
                  <a:lnTo>
                    <a:pt x="1722" y="1416"/>
                  </a:lnTo>
                  <a:lnTo>
                    <a:pt x="1708" y="1414"/>
                  </a:lnTo>
                  <a:lnTo>
                    <a:pt x="1694" y="1412"/>
                  </a:lnTo>
                  <a:lnTo>
                    <a:pt x="1666" y="1412"/>
                  </a:lnTo>
                  <a:lnTo>
                    <a:pt x="1636" y="1410"/>
                  </a:lnTo>
                  <a:lnTo>
                    <a:pt x="1622" y="1410"/>
                  </a:lnTo>
                  <a:lnTo>
                    <a:pt x="1608" y="1406"/>
                  </a:lnTo>
                  <a:lnTo>
                    <a:pt x="1608" y="1396"/>
                  </a:lnTo>
                  <a:lnTo>
                    <a:pt x="1608" y="1396"/>
                  </a:lnTo>
                  <a:lnTo>
                    <a:pt x="1588" y="1398"/>
                  </a:lnTo>
                  <a:lnTo>
                    <a:pt x="1570" y="1396"/>
                  </a:lnTo>
                  <a:lnTo>
                    <a:pt x="1556" y="1392"/>
                  </a:lnTo>
                  <a:lnTo>
                    <a:pt x="1540" y="1386"/>
                  </a:lnTo>
                  <a:lnTo>
                    <a:pt x="1526" y="1380"/>
                  </a:lnTo>
                  <a:lnTo>
                    <a:pt x="1510" y="1374"/>
                  </a:lnTo>
                  <a:lnTo>
                    <a:pt x="1494" y="1370"/>
                  </a:lnTo>
                  <a:lnTo>
                    <a:pt x="1474" y="1368"/>
                  </a:lnTo>
                  <a:lnTo>
                    <a:pt x="1474" y="1368"/>
                  </a:lnTo>
                  <a:lnTo>
                    <a:pt x="1466" y="1366"/>
                  </a:lnTo>
                  <a:lnTo>
                    <a:pt x="1458" y="1364"/>
                  </a:lnTo>
                  <a:lnTo>
                    <a:pt x="1442" y="1360"/>
                  </a:lnTo>
                  <a:lnTo>
                    <a:pt x="1434" y="1358"/>
                  </a:lnTo>
                  <a:lnTo>
                    <a:pt x="1426" y="1354"/>
                  </a:lnTo>
                  <a:lnTo>
                    <a:pt x="1420" y="1348"/>
                  </a:lnTo>
                  <a:lnTo>
                    <a:pt x="1416" y="1340"/>
                  </a:lnTo>
                  <a:lnTo>
                    <a:pt x="1398" y="1340"/>
                  </a:lnTo>
                  <a:lnTo>
                    <a:pt x="1398" y="1340"/>
                  </a:lnTo>
                  <a:lnTo>
                    <a:pt x="1382" y="1332"/>
                  </a:lnTo>
                  <a:lnTo>
                    <a:pt x="1370" y="1322"/>
                  </a:lnTo>
                  <a:lnTo>
                    <a:pt x="1364" y="1316"/>
                  </a:lnTo>
                  <a:lnTo>
                    <a:pt x="1358" y="1310"/>
                  </a:lnTo>
                  <a:lnTo>
                    <a:pt x="1354" y="1302"/>
                  </a:lnTo>
                  <a:lnTo>
                    <a:pt x="1350" y="1292"/>
                  </a:lnTo>
                  <a:lnTo>
                    <a:pt x="1350" y="1292"/>
                  </a:lnTo>
                  <a:lnTo>
                    <a:pt x="1334" y="1268"/>
                  </a:lnTo>
                  <a:lnTo>
                    <a:pt x="1316" y="1242"/>
                  </a:lnTo>
                  <a:lnTo>
                    <a:pt x="1306" y="1230"/>
                  </a:lnTo>
                  <a:lnTo>
                    <a:pt x="1294" y="1218"/>
                  </a:lnTo>
                  <a:lnTo>
                    <a:pt x="1280" y="1210"/>
                  </a:lnTo>
                  <a:lnTo>
                    <a:pt x="1262" y="1206"/>
                  </a:lnTo>
                  <a:lnTo>
                    <a:pt x="1262" y="1206"/>
                  </a:lnTo>
                  <a:lnTo>
                    <a:pt x="1266" y="1200"/>
                  </a:lnTo>
                  <a:lnTo>
                    <a:pt x="1266" y="1198"/>
                  </a:lnTo>
                  <a:lnTo>
                    <a:pt x="1266" y="1196"/>
                  </a:lnTo>
                  <a:lnTo>
                    <a:pt x="1260" y="1196"/>
                  </a:lnTo>
                  <a:lnTo>
                    <a:pt x="1254" y="1196"/>
                  </a:lnTo>
                  <a:lnTo>
                    <a:pt x="1244" y="1196"/>
                  </a:lnTo>
                  <a:lnTo>
                    <a:pt x="1244" y="1196"/>
                  </a:lnTo>
                  <a:lnTo>
                    <a:pt x="1242" y="1190"/>
                  </a:lnTo>
                  <a:lnTo>
                    <a:pt x="1240" y="1188"/>
                  </a:lnTo>
                  <a:lnTo>
                    <a:pt x="1234" y="1186"/>
                  </a:lnTo>
                  <a:lnTo>
                    <a:pt x="1234" y="1186"/>
                  </a:lnTo>
                  <a:lnTo>
                    <a:pt x="1224" y="1190"/>
                  </a:lnTo>
                  <a:lnTo>
                    <a:pt x="1214" y="1196"/>
                  </a:lnTo>
                  <a:lnTo>
                    <a:pt x="1198" y="1208"/>
                  </a:lnTo>
                  <a:lnTo>
                    <a:pt x="1184" y="1222"/>
                  </a:lnTo>
                  <a:lnTo>
                    <a:pt x="1170" y="1238"/>
                  </a:lnTo>
                  <a:lnTo>
                    <a:pt x="1156" y="1252"/>
                  </a:lnTo>
                  <a:lnTo>
                    <a:pt x="1142" y="1266"/>
                  </a:lnTo>
                  <a:lnTo>
                    <a:pt x="1132" y="1272"/>
                  </a:lnTo>
                  <a:lnTo>
                    <a:pt x="1122" y="1276"/>
                  </a:lnTo>
                  <a:lnTo>
                    <a:pt x="1112" y="1280"/>
                  </a:lnTo>
                  <a:lnTo>
                    <a:pt x="1100" y="1282"/>
                  </a:lnTo>
                  <a:lnTo>
                    <a:pt x="1100" y="1282"/>
                  </a:lnTo>
                  <a:lnTo>
                    <a:pt x="1100" y="1288"/>
                  </a:lnTo>
                  <a:lnTo>
                    <a:pt x="1096" y="1292"/>
                  </a:lnTo>
                  <a:lnTo>
                    <a:pt x="1094" y="1294"/>
                  </a:lnTo>
                  <a:lnTo>
                    <a:pt x="1090" y="1296"/>
                  </a:lnTo>
                  <a:lnTo>
                    <a:pt x="1080" y="1300"/>
                  </a:lnTo>
                  <a:lnTo>
                    <a:pt x="1076" y="1304"/>
                  </a:lnTo>
                  <a:lnTo>
                    <a:pt x="1072" y="1310"/>
                  </a:lnTo>
                  <a:lnTo>
                    <a:pt x="1072" y="1310"/>
                  </a:lnTo>
                  <a:lnTo>
                    <a:pt x="1052" y="1310"/>
                  </a:lnTo>
                  <a:lnTo>
                    <a:pt x="1052" y="1310"/>
                  </a:lnTo>
                  <a:lnTo>
                    <a:pt x="1044" y="1316"/>
                  </a:lnTo>
                  <a:lnTo>
                    <a:pt x="1036" y="1322"/>
                  </a:lnTo>
                  <a:lnTo>
                    <a:pt x="1018" y="1330"/>
                  </a:lnTo>
                  <a:lnTo>
                    <a:pt x="1000" y="1338"/>
                  </a:lnTo>
                  <a:lnTo>
                    <a:pt x="992" y="1342"/>
                  </a:lnTo>
                  <a:lnTo>
                    <a:pt x="984" y="1348"/>
                  </a:lnTo>
                  <a:lnTo>
                    <a:pt x="984" y="1348"/>
                  </a:lnTo>
                  <a:lnTo>
                    <a:pt x="980" y="1354"/>
                  </a:lnTo>
                  <a:lnTo>
                    <a:pt x="974" y="1358"/>
                  </a:lnTo>
                  <a:lnTo>
                    <a:pt x="968" y="1360"/>
                  </a:lnTo>
                  <a:lnTo>
                    <a:pt x="962" y="1362"/>
                  </a:lnTo>
                  <a:lnTo>
                    <a:pt x="952" y="1364"/>
                  </a:lnTo>
                  <a:lnTo>
                    <a:pt x="948" y="1366"/>
                  </a:lnTo>
                  <a:lnTo>
                    <a:pt x="946" y="1368"/>
                  </a:lnTo>
                  <a:lnTo>
                    <a:pt x="946" y="1368"/>
                  </a:lnTo>
                  <a:lnTo>
                    <a:pt x="924" y="1370"/>
                  </a:lnTo>
                  <a:lnTo>
                    <a:pt x="904" y="1374"/>
                  </a:lnTo>
                  <a:lnTo>
                    <a:pt x="886" y="1380"/>
                  </a:lnTo>
                  <a:lnTo>
                    <a:pt x="870" y="1386"/>
                  </a:lnTo>
                  <a:lnTo>
                    <a:pt x="854" y="1392"/>
                  </a:lnTo>
                  <a:lnTo>
                    <a:pt x="836" y="1396"/>
                  </a:lnTo>
                  <a:lnTo>
                    <a:pt x="816" y="1398"/>
                  </a:lnTo>
                  <a:lnTo>
                    <a:pt x="794" y="1396"/>
                  </a:lnTo>
                  <a:lnTo>
                    <a:pt x="794" y="1406"/>
                  </a:lnTo>
                  <a:lnTo>
                    <a:pt x="688" y="1406"/>
                  </a:lnTo>
                  <a:lnTo>
                    <a:pt x="688" y="1396"/>
                  </a:lnTo>
                  <a:lnTo>
                    <a:pt x="688" y="1396"/>
                  </a:lnTo>
                  <a:lnTo>
                    <a:pt x="674" y="1394"/>
                  </a:lnTo>
                  <a:lnTo>
                    <a:pt x="658" y="1394"/>
                  </a:lnTo>
                  <a:lnTo>
                    <a:pt x="626" y="1396"/>
                  </a:lnTo>
                  <a:lnTo>
                    <a:pt x="612" y="1396"/>
                  </a:lnTo>
                  <a:lnTo>
                    <a:pt x="598" y="1396"/>
                  </a:lnTo>
                  <a:lnTo>
                    <a:pt x="584" y="1392"/>
                  </a:lnTo>
                  <a:lnTo>
                    <a:pt x="572" y="1388"/>
                  </a:lnTo>
                  <a:lnTo>
                    <a:pt x="572" y="1388"/>
                  </a:lnTo>
                  <a:lnTo>
                    <a:pt x="556" y="1382"/>
                  </a:lnTo>
                  <a:lnTo>
                    <a:pt x="534" y="1376"/>
                  </a:lnTo>
                  <a:lnTo>
                    <a:pt x="514" y="1370"/>
                  </a:lnTo>
                  <a:lnTo>
                    <a:pt x="504" y="1364"/>
                  </a:lnTo>
                  <a:lnTo>
                    <a:pt x="496" y="1358"/>
                  </a:lnTo>
                  <a:lnTo>
                    <a:pt x="496" y="1358"/>
                  </a:lnTo>
                  <a:lnTo>
                    <a:pt x="458" y="1354"/>
                  </a:lnTo>
                  <a:lnTo>
                    <a:pt x="424" y="1344"/>
                  </a:lnTo>
                  <a:lnTo>
                    <a:pt x="392" y="1334"/>
                  </a:lnTo>
                  <a:lnTo>
                    <a:pt x="362" y="1318"/>
                  </a:lnTo>
                  <a:lnTo>
                    <a:pt x="334" y="1302"/>
                  </a:lnTo>
                  <a:lnTo>
                    <a:pt x="308" y="1284"/>
                  </a:lnTo>
                  <a:lnTo>
                    <a:pt x="282" y="1264"/>
                  </a:lnTo>
                  <a:lnTo>
                    <a:pt x="256" y="1244"/>
                  </a:lnTo>
                  <a:lnTo>
                    <a:pt x="256" y="1244"/>
                  </a:lnTo>
                  <a:lnTo>
                    <a:pt x="256" y="1234"/>
                  </a:lnTo>
                  <a:lnTo>
                    <a:pt x="252" y="1224"/>
                  </a:lnTo>
                  <a:lnTo>
                    <a:pt x="240" y="1208"/>
                  </a:lnTo>
                  <a:lnTo>
                    <a:pt x="228" y="1190"/>
                  </a:lnTo>
                  <a:lnTo>
                    <a:pt x="222" y="1180"/>
                  </a:lnTo>
                  <a:lnTo>
                    <a:pt x="218" y="1166"/>
                  </a:lnTo>
                  <a:lnTo>
                    <a:pt x="218" y="1166"/>
                  </a:lnTo>
                  <a:lnTo>
                    <a:pt x="214" y="1156"/>
                  </a:lnTo>
                  <a:lnTo>
                    <a:pt x="212" y="1142"/>
                  </a:lnTo>
                  <a:lnTo>
                    <a:pt x="210" y="1112"/>
                  </a:lnTo>
                  <a:lnTo>
                    <a:pt x="212" y="1082"/>
                  </a:lnTo>
                  <a:lnTo>
                    <a:pt x="218" y="1052"/>
                  </a:lnTo>
                  <a:lnTo>
                    <a:pt x="218" y="1052"/>
                  </a:lnTo>
                  <a:lnTo>
                    <a:pt x="230" y="1050"/>
                  </a:lnTo>
                  <a:lnTo>
                    <a:pt x="232" y="1048"/>
                  </a:lnTo>
                  <a:lnTo>
                    <a:pt x="234" y="1046"/>
                  </a:lnTo>
                  <a:lnTo>
                    <a:pt x="236" y="1040"/>
                  </a:lnTo>
                  <a:lnTo>
                    <a:pt x="238" y="1032"/>
                  </a:lnTo>
                  <a:lnTo>
                    <a:pt x="238" y="1022"/>
                  </a:lnTo>
                  <a:lnTo>
                    <a:pt x="238" y="1022"/>
                  </a:lnTo>
                  <a:lnTo>
                    <a:pt x="244" y="1018"/>
                  </a:lnTo>
                  <a:lnTo>
                    <a:pt x="248" y="1014"/>
                  </a:lnTo>
                  <a:lnTo>
                    <a:pt x="250" y="1008"/>
                  </a:lnTo>
                  <a:lnTo>
                    <a:pt x="250" y="1002"/>
                  </a:lnTo>
                  <a:lnTo>
                    <a:pt x="252" y="990"/>
                  </a:lnTo>
                  <a:lnTo>
                    <a:pt x="254" y="982"/>
                  </a:lnTo>
                  <a:lnTo>
                    <a:pt x="256" y="976"/>
                  </a:lnTo>
                  <a:lnTo>
                    <a:pt x="256" y="976"/>
                  </a:lnTo>
                  <a:lnTo>
                    <a:pt x="268" y="968"/>
                  </a:lnTo>
                  <a:lnTo>
                    <a:pt x="280" y="964"/>
                  </a:lnTo>
                  <a:lnTo>
                    <a:pt x="306" y="952"/>
                  </a:lnTo>
                  <a:lnTo>
                    <a:pt x="316" y="946"/>
                  </a:lnTo>
                  <a:lnTo>
                    <a:pt x="326" y="936"/>
                  </a:lnTo>
                  <a:lnTo>
                    <a:pt x="332" y="924"/>
                  </a:lnTo>
                  <a:lnTo>
                    <a:pt x="334" y="908"/>
                  </a:lnTo>
                  <a:lnTo>
                    <a:pt x="334" y="908"/>
                  </a:lnTo>
                  <a:lnTo>
                    <a:pt x="336" y="876"/>
                  </a:lnTo>
                  <a:lnTo>
                    <a:pt x="334" y="868"/>
                  </a:lnTo>
                  <a:lnTo>
                    <a:pt x="334" y="860"/>
                  </a:lnTo>
                  <a:lnTo>
                    <a:pt x="330" y="854"/>
                  </a:lnTo>
                  <a:lnTo>
                    <a:pt x="324" y="850"/>
                  </a:lnTo>
                  <a:lnTo>
                    <a:pt x="324" y="850"/>
                  </a:lnTo>
                  <a:lnTo>
                    <a:pt x="308" y="848"/>
                  </a:lnTo>
                  <a:lnTo>
                    <a:pt x="292" y="846"/>
                  </a:lnTo>
                  <a:lnTo>
                    <a:pt x="256" y="846"/>
                  </a:lnTo>
                  <a:lnTo>
                    <a:pt x="222" y="846"/>
                  </a:lnTo>
                  <a:lnTo>
                    <a:pt x="204" y="844"/>
                  </a:lnTo>
                  <a:lnTo>
                    <a:pt x="190" y="840"/>
                  </a:lnTo>
                  <a:lnTo>
                    <a:pt x="190" y="840"/>
                  </a:lnTo>
                  <a:lnTo>
                    <a:pt x="184" y="838"/>
                  </a:lnTo>
                  <a:lnTo>
                    <a:pt x="180" y="836"/>
                  </a:lnTo>
                  <a:lnTo>
                    <a:pt x="166" y="832"/>
                  </a:lnTo>
                  <a:lnTo>
                    <a:pt x="152" y="828"/>
                  </a:lnTo>
                  <a:lnTo>
                    <a:pt x="146" y="824"/>
                  </a:lnTo>
                  <a:lnTo>
                    <a:pt x="142" y="822"/>
                  </a:lnTo>
                  <a:lnTo>
                    <a:pt x="142" y="822"/>
                  </a:lnTo>
                  <a:lnTo>
                    <a:pt x="128" y="810"/>
                  </a:lnTo>
                  <a:lnTo>
                    <a:pt x="114" y="798"/>
                  </a:lnTo>
                  <a:lnTo>
                    <a:pt x="100" y="784"/>
                  </a:lnTo>
                  <a:lnTo>
                    <a:pt x="88" y="770"/>
                  </a:lnTo>
                  <a:lnTo>
                    <a:pt x="78" y="752"/>
                  </a:lnTo>
                  <a:lnTo>
                    <a:pt x="72" y="732"/>
                  </a:lnTo>
                  <a:lnTo>
                    <a:pt x="66" y="712"/>
                  </a:lnTo>
                  <a:lnTo>
                    <a:pt x="64" y="688"/>
                  </a:lnTo>
                  <a:lnTo>
                    <a:pt x="64" y="688"/>
                  </a:lnTo>
                  <a:lnTo>
                    <a:pt x="74" y="680"/>
                  </a:lnTo>
                  <a:lnTo>
                    <a:pt x="80" y="672"/>
                  </a:lnTo>
                  <a:lnTo>
                    <a:pt x="84" y="662"/>
                  </a:lnTo>
                  <a:lnTo>
                    <a:pt x="88" y="652"/>
                  </a:lnTo>
                  <a:lnTo>
                    <a:pt x="94" y="632"/>
                  </a:lnTo>
                  <a:lnTo>
                    <a:pt x="98" y="622"/>
                  </a:lnTo>
                  <a:lnTo>
                    <a:pt x="104" y="610"/>
                  </a:lnTo>
                  <a:lnTo>
                    <a:pt x="104" y="610"/>
                  </a:lnTo>
                  <a:lnTo>
                    <a:pt x="120" y="582"/>
                  </a:lnTo>
                  <a:lnTo>
                    <a:pt x="138" y="556"/>
                  </a:lnTo>
                  <a:lnTo>
                    <a:pt x="160" y="532"/>
                  </a:lnTo>
                  <a:lnTo>
                    <a:pt x="184" y="508"/>
                  </a:lnTo>
                  <a:lnTo>
                    <a:pt x="210" y="484"/>
                  </a:lnTo>
                  <a:lnTo>
                    <a:pt x="238" y="462"/>
                  </a:lnTo>
                  <a:lnTo>
                    <a:pt x="294" y="420"/>
                  </a:lnTo>
                  <a:lnTo>
                    <a:pt x="294" y="420"/>
                  </a:lnTo>
                  <a:lnTo>
                    <a:pt x="314" y="418"/>
                  </a:lnTo>
                  <a:lnTo>
                    <a:pt x="332" y="412"/>
                  </a:lnTo>
                  <a:lnTo>
                    <a:pt x="348" y="402"/>
                  </a:lnTo>
                  <a:lnTo>
                    <a:pt x="362" y="390"/>
                  </a:lnTo>
                  <a:lnTo>
                    <a:pt x="420" y="390"/>
                  </a:lnTo>
                  <a:lnTo>
                    <a:pt x="420" y="390"/>
                  </a:lnTo>
                  <a:lnTo>
                    <a:pt x="458" y="418"/>
                  </a:lnTo>
                  <a:lnTo>
                    <a:pt x="476" y="430"/>
                  </a:lnTo>
                  <a:lnTo>
                    <a:pt x="496" y="438"/>
                  </a:lnTo>
                  <a:lnTo>
                    <a:pt x="496" y="438"/>
                  </a:lnTo>
                  <a:lnTo>
                    <a:pt x="510" y="446"/>
                  </a:lnTo>
                  <a:lnTo>
                    <a:pt x="522" y="456"/>
                  </a:lnTo>
                  <a:lnTo>
                    <a:pt x="532" y="468"/>
                  </a:lnTo>
                  <a:lnTo>
                    <a:pt x="540" y="480"/>
                  </a:lnTo>
                  <a:lnTo>
                    <a:pt x="556" y="506"/>
                  </a:lnTo>
                  <a:lnTo>
                    <a:pt x="572" y="532"/>
                  </a:lnTo>
                  <a:lnTo>
                    <a:pt x="580" y="544"/>
                  </a:lnTo>
                  <a:lnTo>
                    <a:pt x="588" y="556"/>
                  </a:lnTo>
                  <a:lnTo>
                    <a:pt x="598" y="564"/>
                  </a:lnTo>
                  <a:lnTo>
                    <a:pt x="608" y="574"/>
                  </a:lnTo>
                  <a:lnTo>
                    <a:pt x="620" y="580"/>
                  </a:lnTo>
                  <a:lnTo>
                    <a:pt x="634" y="582"/>
                  </a:lnTo>
                  <a:lnTo>
                    <a:pt x="650" y="584"/>
                  </a:lnTo>
                  <a:lnTo>
                    <a:pt x="668" y="582"/>
                  </a:lnTo>
                  <a:lnTo>
                    <a:pt x="668" y="582"/>
                  </a:lnTo>
                  <a:lnTo>
                    <a:pt x="682" y="574"/>
                  </a:lnTo>
                  <a:lnTo>
                    <a:pt x="696" y="564"/>
                  </a:lnTo>
                  <a:lnTo>
                    <a:pt x="702" y="558"/>
                  </a:lnTo>
                  <a:lnTo>
                    <a:pt x="708" y="548"/>
                  </a:lnTo>
                  <a:lnTo>
                    <a:pt x="712" y="538"/>
                  </a:lnTo>
                  <a:lnTo>
                    <a:pt x="716" y="524"/>
                  </a:lnTo>
                  <a:lnTo>
                    <a:pt x="716" y="524"/>
                  </a:lnTo>
                  <a:lnTo>
                    <a:pt x="716" y="518"/>
                  </a:lnTo>
                  <a:lnTo>
                    <a:pt x="712" y="512"/>
                  </a:lnTo>
                  <a:lnTo>
                    <a:pt x="706" y="506"/>
                  </a:lnTo>
                  <a:lnTo>
                    <a:pt x="706" y="438"/>
                  </a:lnTo>
                  <a:lnTo>
                    <a:pt x="706" y="438"/>
                  </a:lnTo>
                  <a:lnTo>
                    <a:pt x="714" y="434"/>
                  </a:lnTo>
                  <a:lnTo>
                    <a:pt x="718" y="428"/>
                  </a:lnTo>
                  <a:lnTo>
                    <a:pt x="722" y="420"/>
                  </a:lnTo>
                  <a:lnTo>
                    <a:pt x="724" y="412"/>
                  </a:lnTo>
                  <a:lnTo>
                    <a:pt x="726" y="392"/>
                  </a:lnTo>
                  <a:lnTo>
                    <a:pt x="726" y="372"/>
                  </a:lnTo>
                  <a:lnTo>
                    <a:pt x="726" y="372"/>
                  </a:lnTo>
                  <a:lnTo>
                    <a:pt x="742" y="356"/>
                  </a:lnTo>
                  <a:lnTo>
                    <a:pt x="758" y="336"/>
                  </a:lnTo>
                  <a:lnTo>
                    <a:pt x="774" y="316"/>
                  </a:lnTo>
                  <a:lnTo>
                    <a:pt x="780" y="306"/>
                  </a:lnTo>
                  <a:lnTo>
                    <a:pt x="784" y="294"/>
                  </a:lnTo>
                  <a:lnTo>
                    <a:pt x="784" y="294"/>
                  </a:lnTo>
                  <a:lnTo>
                    <a:pt x="794" y="278"/>
                  </a:lnTo>
                  <a:lnTo>
                    <a:pt x="806" y="260"/>
                  </a:lnTo>
                  <a:lnTo>
                    <a:pt x="820" y="244"/>
                  </a:lnTo>
                  <a:lnTo>
                    <a:pt x="834" y="230"/>
                  </a:lnTo>
                  <a:lnTo>
                    <a:pt x="848" y="216"/>
                  </a:lnTo>
                  <a:lnTo>
                    <a:pt x="864" y="202"/>
                  </a:lnTo>
                  <a:lnTo>
                    <a:pt x="882" y="190"/>
                  </a:lnTo>
                  <a:lnTo>
                    <a:pt x="898" y="180"/>
                  </a:lnTo>
                  <a:lnTo>
                    <a:pt x="898" y="180"/>
                  </a:lnTo>
                  <a:lnTo>
                    <a:pt x="904" y="178"/>
                  </a:lnTo>
                  <a:lnTo>
                    <a:pt x="906" y="176"/>
                  </a:lnTo>
                  <a:lnTo>
                    <a:pt x="908" y="170"/>
                  </a:lnTo>
                  <a:lnTo>
                    <a:pt x="908" y="170"/>
                  </a:lnTo>
                  <a:lnTo>
                    <a:pt x="916" y="164"/>
                  </a:lnTo>
                  <a:lnTo>
                    <a:pt x="926" y="160"/>
                  </a:lnTo>
                  <a:lnTo>
                    <a:pt x="946" y="154"/>
                  </a:lnTo>
                  <a:lnTo>
                    <a:pt x="958" y="152"/>
                  </a:lnTo>
                  <a:lnTo>
                    <a:pt x="968" y="148"/>
                  </a:lnTo>
                  <a:lnTo>
                    <a:pt x="976" y="140"/>
                  </a:lnTo>
                  <a:lnTo>
                    <a:pt x="984" y="132"/>
                  </a:lnTo>
                  <a:lnTo>
                    <a:pt x="984" y="132"/>
                  </a:lnTo>
                  <a:lnTo>
                    <a:pt x="1004" y="132"/>
                  </a:lnTo>
                  <a:lnTo>
                    <a:pt x="1004" y="132"/>
                  </a:lnTo>
                  <a:lnTo>
                    <a:pt x="1004" y="126"/>
                  </a:lnTo>
                  <a:lnTo>
                    <a:pt x="1008" y="124"/>
                  </a:lnTo>
                  <a:lnTo>
                    <a:pt x="1010" y="122"/>
                  </a:lnTo>
                  <a:lnTo>
                    <a:pt x="1014" y="122"/>
                  </a:lnTo>
                  <a:lnTo>
                    <a:pt x="1018" y="122"/>
                  </a:lnTo>
                  <a:lnTo>
                    <a:pt x="1020" y="120"/>
                  </a:lnTo>
                  <a:lnTo>
                    <a:pt x="1022" y="118"/>
                  </a:lnTo>
                  <a:lnTo>
                    <a:pt x="1024" y="112"/>
                  </a:lnTo>
                  <a:lnTo>
                    <a:pt x="1024" y="112"/>
                  </a:lnTo>
                  <a:lnTo>
                    <a:pt x="1066" y="112"/>
                  </a:lnTo>
                  <a:lnTo>
                    <a:pt x="1108" y="114"/>
                  </a:lnTo>
                  <a:lnTo>
                    <a:pt x="1148" y="116"/>
                  </a:lnTo>
                  <a:lnTo>
                    <a:pt x="1186" y="122"/>
                  </a:lnTo>
                  <a:lnTo>
                    <a:pt x="1186" y="122"/>
                  </a:lnTo>
                  <a:lnTo>
                    <a:pt x="1188" y="128"/>
                  </a:lnTo>
                  <a:lnTo>
                    <a:pt x="1192" y="130"/>
                  </a:lnTo>
                  <a:lnTo>
                    <a:pt x="1198" y="132"/>
                  </a:lnTo>
                  <a:lnTo>
                    <a:pt x="1206" y="132"/>
                  </a:lnTo>
                  <a:lnTo>
                    <a:pt x="1214" y="132"/>
                  </a:lnTo>
                  <a:lnTo>
                    <a:pt x="1214" y="132"/>
                  </a:lnTo>
                  <a:lnTo>
                    <a:pt x="1222" y="138"/>
                  </a:lnTo>
                  <a:lnTo>
                    <a:pt x="1232" y="144"/>
                  </a:lnTo>
                  <a:lnTo>
                    <a:pt x="1254" y="154"/>
                  </a:lnTo>
                  <a:lnTo>
                    <a:pt x="1302" y="170"/>
                  </a:lnTo>
                  <a:lnTo>
                    <a:pt x="1302" y="170"/>
                  </a:lnTo>
                  <a:lnTo>
                    <a:pt x="1332" y="182"/>
                  </a:lnTo>
                  <a:lnTo>
                    <a:pt x="1360" y="198"/>
                  </a:lnTo>
                  <a:lnTo>
                    <a:pt x="1386" y="216"/>
                  </a:lnTo>
                  <a:lnTo>
                    <a:pt x="1410" y="236"/>
                  </a:lnTo>
                  <a:lnTo>
                    <a:pt x="1458" y="280"/>
                  </a:lnTo>
                  <a:lnTo>
                    <a:pt x="1484" y="302"/>
                  </a:lnTo>
                  <a:lnTo>
                    <a:pt x="1512" y="324"/>
                  </a:lnTo>
                  <a:lnTo>
                    <a:pt x="1512" y="324"/>
                  </a:lnTo>
                  <a:lnTo>
                    <a:pt x="1540" y="366"/>
                  </a:lnTo>
                  <a:lnTo>
                    <a:pt x="1560" y="400"/>
                  </a:lnTo>
                  <a:lnTo>
                    <a:pt x="1560" y="400"/>
                  </a:lnTo>
                  <a:lnTo>
                    <a:pt x="1566" y="404"/>
                  </a:lnTo>
                  <a:lnTo>
                    <a:pt x="1572" y="410"/>
                  </a:lnTo>
                  <a:lnTo>
                    <a:pt x="1580" y="420"/>
                  </a:lnTo>
                  <a:lnTo>
                    <a:pt x="1582" y="424"/>
                  </a:lnTo>
                  <a:lnTo>
                    <a:pt x="1586" y="426"/>
                  </a:lnTo>
                  <a:lnTo>
                    <a:pt x="1592" y="424"/>
                  </a:lnTo>
                  <a:lnTo>
                    <a:pt x="1598" y="420"/>
                  </a:lnTo>
                  <a:lnTo>
                    <a:pt x="1598" y="420"/>
                  </a:lnTo>
                  <a:lnTo>
                    <a:pt x="1600" y="430"/>
                  </a:lnTo>
                  <a:lnTo>
                    <a:pt x="1602" y="434"/>
                  </a:lnTo>
                  <a:lnTo>
                    <a:pt x="1604" y="434"/>
                  </a:lnTo>
                  <a:lnTo>
                    <a:pt x="1608" y="434"/>
                  </a:lnTo>
                  <a:lnTo>
                    <a:pt x="1610" y="434"/>
                  </a:lnTo>
                  <a:lnTo>
                    <a:pt x="1618" y="428"/>
                  </a:lnTo>
                  <a:lnTo>
                    <a:pt x="1618" y="428"/>
                  </a:lnTo>
                  <a:lnTo>
                    <a:pt x="1622" y="432"/>
                  </a:lnTo>
                  <a:lnTo>
                    <a:pt x="1626" y="432"/>
                  </a:lnTo>
                  <a:lnTo>
                    <a:pt x="1626" y="432"/>
                  </a:lnTo>
                  <a:lnTo>
                    <a:pt x="1628" y="428"/>
                  </a:lnTo>
                  <a:lnTo>
                    <a:pt x="1628" y="428"/>
                  </a:lnTo>
                  <a:lnTo>
                    <a:pt x="1632" y="422"/>
                  </a:lnTo>
                  <a:lnTo>
                    <a:pt x="1638" y="418"/>
                  </a:lnTo>
                  <a:lnTo>
                    <a:pt x="1654" y="412"/>
                  </a:lnTo>
                  <a:lnTo>
                    <a:pt x="1662" y="408"/>
                  </a:lnTo>
                  <a:lnTo>
                    <a:pt x="1668" y="402"/>
                  </a:lnTo>
                  <a:lnTo>
                    <a:pt x="1674" y="394"/>
                  </a:lnTo>
                  <a:lnTo>
                    <a:pt x="1676" y="380"/>
                  </a:lnTo>
                  <a:lnTo>
                    <a:pt x="1676" y="380"/>
                  </a:lnTo>
                  <a:lnTo>
                    <a:pt x="1682" y="378"/>
                  </a:lnTo>
                  <a:lnTo>
                    <a:pt x="1688" y="376"/>
                  </a:lnTo>
                  <a:lnTo>
                    <a:pt x="1696" y="366"/>
                  </a:lnTo>
                  <a:lnTo>
                    <a:pt x="1704" y="354"/>
                  </a:lnTo>
                  <a:lnTo>
                    <a:pt x="1710" y="342"/>
                  </a:lnTo>
                  <a:lnTo>
                    <a:pt x="1716" y="330"/>
                  </a:lnTo>
                  <a:lnTo>
                    <a:pt x="1724" y="318"/>
                  </a:lnTo>
                  <a:lnTo>
                    <a:pt x="1736" y="310"/>
                  </a:lnTo>
                  <a:lnTo>
                    <a:pt x="1744" y="306"/>
                  </a:lnTo>
                  <a:lnTo>
                    <a:pt x="1752" y="304"/>
                  </a:lnTo>
                  <a:lnTo>
                    <a:pt x="1752" y="304"/>
                  </a:lnTo>
                  <a:lnTo>
                    <a:pt x="1772" y="288"/>
                  </a:lnTo>
                  <a:lnTo>
                    <a:pt x="1792" y="272"/>
                  </a:lnTo>
                  <a:lnTo>
                    <a:pt x="1802" y="264"/>
                  </a:lnTo>
                  <a:lnTo>
                    <a:pt x="1812" y="256"/>
                  </a:lnTo>
                  <a:lnTo>
                    <a:pt x="1824" y="252"/>
                  </a:lnTo>
                  <a:lnTo>
                    <a:pt x="1838" y="246"/>
                  </a:lnTo>
                  <a:lnTo>
                    <a:pt x="1838" y="246"/>
                  </a:lnTo>
                  <a:lnTo>
                    <a:pt x="1852" y="244"/>
                  </a:lnTo>
                  <a:lnTo>
                    <a:pt x="1866" y="240"/>
                  </a:lnTo>
                  <a:lnTo>
                    <a:pt x="1878" y="234"/>
                  </a:lnTo>
                  <a:lnTo>
                    <a:pt x="1886" y="228"/>
                  </a:lnTo>
                  <a:lnTo>
                    <a:pt x="1886" y="228"/>
                  </a:lnTo>
                  <a:lnTo>
                    <a:pt x="1906" y="226"/>
                  </a:lnTo>
                  <a:lnTo>
                    <a:pt x="1916" y="224"/>
                  </a:lnTo>
                  <a:lnTo>
                    <a:pt x="1924" y="218"/>
                  </a:lnTo>
                  <a:lnTo>
                    <a:pt x="1962" y="218"/>
                  </a:lnTo>
                  <a:lnTo>
                    <a:pt x="1962" y="218"/>
                  </a:lnTo>
                  <a:lnTo>
                    <a:pt x="1986" y="220"/>
                  </a:lnTo>
                  <a:lnTo>
                    <a:pt x="2008" y="222"/>
                  </a:lnTo>
                  <a:lnTo>
                    <a:pt x="2048" y="232"/>
                  </a:lnTo>
                  <a:lnTo>
                    <a:pt x="2090" y="242"/>
                  </a:lnTo>
                  <a:lnTo>
                    <a:pt x="2112" y="246"/>
                  </a:lnTo>
                  <a:lnTo>
                    <a:pt x="2136" y="246"/>
                  </a:lnTo>
                  <a:lnTo>
                    <a:pt x="2136" y="246"/>
                  </a:lnTo>
                  <a:lnTo>
                    <a:pt x="2144" y="254"/>
                  </a:lnTo>
                  <a:lnTo>
                    <a:pt x="2156" y="260"/>
                  </a:lnTo>
                  <a:lnTo>
                    <a:pt x="2168" y="264"/>
                  </a:lnTo>
                  <a:lnTo>
                    <a:pt x="2184" y="266"/>
                  </a:lnTo>
                  <a:lnTo>
                    <a:pt x="2184" y="266"/>
                  </a:lnTo>
                  <a:lnTo>
                    <a:pt x="2188" y="268"/>
                  </a:lnTo>
                  <a:lnTo>
                    <a:pt x="2194" y="270"/>
                  </a:lnTo>
                  <a:lnTo>
                    <a:pt x="2198" y="278"/>
                  </a:lnTo>
                  <a:lnTo>
                    <a:pt x="2202" y="284"/>
                  </a:lnTo>
                  <a:lnTo>
                    <a:pt x="2206" y="286"/>
                  </a:lnTo>
                  <a:lnTo>
                    <a:pt x="2212" y="286"/>
                  </a:lnTo>
                  <a:lnTo>
                    <a:pt x="2222" y="284"/>
                  </a:lnTo>
                  <a:lnTo>
                    <a:pt x="2222" y="284"/>
                  </a:lnTo>
                  <a:lnTo>
                    <a:pt x="2222" y="294"/>
                  </a:lnTo>
                  <a:lnTo>
                    <a:pt x="2224" y="304"/>
                  </a:lnTo>
                  <a:lnTo>
                    <a:pt x="2228" y="310"/>
                  </a:lnTo>
                  <a:lnTo>
                    <a:pt x="2232" y="316"/>
                  </a:lnTo>
                  <a:lnTo>
                    <a:pt x="2242" y="324"/>
                  </a:lnTo>
                  <a:lnTo>
                    <a:pt x="2254" y="332"/>
                  </a:lnTo>
                  <a:lnTo>
                    <a:pt x="2268" y="338"/>
                  </a:lnTo>
                  <a:lnTo>
                    <a:pt x="2278" y="346"/>
                  </a:lnTo>
                  <a:lnTo>
                    <a:pt x="2282" y="350"/>
                  </a:lnTo>
                  <a:lnTo>
                    <a:pt x="2286" y="356"/>
                  </a:lnTo>
                  <a:lnTo>
                    <a:pt x="2288" y="362"/>
                  </a:lnTo>
                  <a:lnTo>
                    <a:pt x="2288" y="372"/>
                  </a:lnTo>
                  <a:lnTo>
                    <a:pt x="2288" y="372"/>
                  </a:lnTo>
                  <a:lnTo>
                    <a:pt x="2288" y="382"/>
                  </a:lnTo>
                  <a:lnTo>
                    <a:pt x="2288" y="390"/>
                  </a:lnTo>
                  <a:lnTo>
                    <a:pt x="2290" y="398"/>
                  </a:lnTo>
                  <a:lnTo>
                    <a:pt x="2292" y="406"/>
                  </a:lnTo>
                  <a:lnTo>
                    <a:pt x="2300" y="420"/>
                  </a:lnTo>
                  <a:lnTo>
                    <a:pt x="2312" y="430"/>
                  </a:lnTo>
                  <a:lnTo>
                    <a:pt x="2336" y="448"/>
                  </a:lnTo>
                  <a:lnTo>
                    <a:pt x="2346" y="458"/>
                  </a:lnTo>
                  <a:lnTo>
                    <a:pt x="2356" y="468"/>
                  </a:lnTo>
                  <a:lnTo>
                    <a:pt x="2356" y="468"/>
                  </a:lnTo>
                  <a:lnTo>
                    <a:pt x="2358" y="500"/>
                  </a:lnTo>
                  <a:lnTo>
                    <a:pt x="2358" y="530"/>
                  </a:lnTo>
                  <a:lnTo>
                    <a:pt x="2354" y="562"/>
                  </a:lnTo>
                  <a:lnTo>
                    <a:pt x="2346" y="590"/>
                  </a:lnTo>
                  <a:lnTo>
                    <a:pt x="2336" y="614"/>
                  </a:lnTo>
                  <a:lnTo>
                    <a:pt x="2328" y="626"/>
                  </a:lnTo>
                  <a:lnTo>
                    <a:pt x="2320" y="636"/>
                  </a:lnTo>
                  <a:lnTo>
                    <a:pt x="2312" y="646"/>
                  </a:lnTo>
                  <a:lnTo>
                    <a:pt x="2302" y="654"/>
                  </a:lnTo>
                  <a:lnTo>
                    <a:pt x="2290" y="662"/>
                  </a:lnTo>
                  <a:lnTo>
                    <a:pt x="2278" y="668"/>
                  </a:lnTo>
                  <a:lnTo>
                    <a:pt x="2278" y="6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5"/>
          <p:cNvGrpSpPr/>
          <p:nvPr/>
        </p:nvGrpSpPr>
        <p:grpSpPr>
          <a:xfrm>
            <a:off x="2682720" y="876240"/>
            <a:ext cx="7547040" cy="4156200"/>
            <a:chOff x="2682720" y="876240"/>
            <a:chExt cx="7547040" cy="4156200"/>
          </a:xfrm>
        </p:grpSpPr>
        <p:sp>
          <p:nvSpPr>
            <p:cNvPr id="54" name="Freeform 7"/>
            <p:cNvSpPr/>
            <p:nvPr/>
          </p:nvSpPr>
          <p:spPr>
            <a:xfrm>
              <a:off x="2809440" y="1018800"/>
              <a:ext cx="7264800" cy="3902400"/>
            </a:xfrm>
            <a:custGeom>
              <a:avLst/>
              <a:gdLst>
                <a:gd name="textAreaLeft" fmla="*/ 0 w 7264800"/>
                <a:gd name="textAreaRight" fmla="*/ 7265160 w 7264800"/>
                <a:gd name="textAreaTop" fmla="*/ 0 h 3902400"/>
                <a:gd name="textAreaBottom" fmla="*/ 3902400 h 3902400"/>
              </a:gdLst>
              <a:ahLst/>
              <a:rect l="textAreaLeft" t="textAreaTop" r="textAreaRight" b="textAreaBottom"/>
              <a:pathLst>
                <a:path w="4576" h="2458">
                  <a:moveTo>
                    <a:pt x="4560" y="1472"/>
                  </a:moveTo>
                  <a:lnTo>
                    <a:pt x="4560" y="1472"/>
                  </a:lnTo>
                  <a:lnTo>
                    <a:pt x="4554" y="1466"/>
                  </a:lnTo>
                  <a:lnTo>
                    <a:pt x="4552" y="1460"/>
                  </a:lnTo>
                  <a:lnTo>
                    <a:pt x="4548" y="1454"/>
                  </a:lnTo>
                  <a:lnTo>
                    <a:pt x="4544" y="1448"/>
                  </a:lnTo>
                  <a:lnTo>
                    <a:pt x="4544" y="1448"/>
                  </a:lnTo>
                  <a:lnTo>
                    <a:pt x="4540" y="1446"/>
                  </a:lnTo>
                  <a:lnTo>
                    <a:pt x="4540" y="1444"/>
                  </a:lnTo>
                  <a:lnTo>
                    <a:pt x="4542" y="1438"/>
                  </a:lnTo>
                  <a:lnTo>
                    <a:pt x="4544" y="1432"/>
                  </a:lnTo>
                  <a:lnTo>
                    <a:pt x="4544" y="1432"/>
                  </a:lnTo>
                  <a:lnTo>
                    <a:pt x="4536" y="1422"/>
                  </a:lnTo>
                  <a:lnTo>
                    <a:pt x="4526" y="1412"/>
                  </a:lnTo>
                  <a:lnTo>
                    <a:pt x="4514" y="1406"/>
                  </a:lnTo>
                  <a:lnTo>
                    <a:pt x="4502" y="1400"/>
                  </a:lnTo>
                  <a:lnTo>
                    <a:pt x="4502" y="1400"/>
                  </a:lnTo>
                  <a:lnTo>
                    <a:pt x="4492" y="1380"/>
                  </a:lnTo>
                  <a:lnTo>
                    <a:pt x="4480" y="1362"/>
                  </a:lnTo>
                  <a:lnTo>
                    <a:pt x="4452" y="1326"/>
                  </a:lnTo>
                  <a:lnTo>
                    <a:pt x="4420" y="1292"/>
                  </a:lnTo>
                  <a:lnTo>
                    <a:pt x="4388" y="1260"/>
                  </a:lnTo>
                  <a:lnTo>
                    <a:pt x="4388" y="1260"/>
                  </a:lnTo>
                  <a:lnTo>
                    <a:pt x="4380" y="1252"/>
                  </a:lnTo>
                  <a:lnTo>
                    <a:pt x="4372" y="1244"/>
                  </a:lnTo>
                  <a:lnTo>
                    <a:pt x="4350" y="1232"/>
                  </a:lnTo>
                  <a:lnTo>
                    <a:pt x="4330" y="1218"/>
                  </a:lnTo>
                  <a:lnTo>
                    <a:pt x="4322" y="1212"/>
                  </a:lnTo>
                  <a:lnTo>
                    <a:pt x="4314" y="1202"/>
                  </a:lnTo>
                  <a:lnTo>
                    <a:pt x="4290" y="1202"/>
                  </a:lnTo>
                  <a:lnTo>
                    <a:pt x="4290" y="1202"/>
                  </a:lnTo>
                  <a:lnTo>
                    <a:pt x="4282" y="1198"/>
                  </a:lnTo>
                  <a:lnTo>
                    <a:pt x="4274" y="1194"/>
                  </a:lnTo>
                  <a:lnTo>
                    <a:pt x="4256" y="1186"/>
                  </a:lnTo>
                  <a:lnTo>
                    <a:pt x="4238" y="1180"/>
                  </a:lnTo>
                  <a:lnTo>
                    <a:pt x="4230" y="1176"/>
                  </a:lnTo>
                  <a:lnTo>
                    <a:pt x="4224" y="1170"/>
                  </a:lnTo>
                  <a:lnTo>
                    <a:pt x="4224" y="1170"/>
                  </a:lnTo>
                  <a:lnTo>
                    <a:pt x="4126" y="1170"/>
                  </a:lnTo>
                  <a:lnTo>
                    <a:pt x="4126" y="1170"/>
                  </a:lnTo>
                  <a:lnTo>
                    <a:pt x="4108" y="1176"/>
                  </a:lnTo>
                  <a:lnTo>
                    <a:pt x="4094" y="1184"/>
                  </a:lnTo>
                  <a:lnTo>
                    <a:pt x="4068" y="1204"/>
                  </a:lnTo>
                  <a:lnTo>
                    <a:pt x="4054" y="1214"/>
                  </a:lnTo>
                  <a:lnTo>
                    <a:pt x="4040" y="1220"/>
                  </a:lnTo>
                  <a:lnTo>
                    <a:pt x="4032" y="1222"/>
                  </a:lnTo>
                  <a:lnTo>
                    <a:pt x="4022" y="1222"/>
                  </a:lnTo>
                  <a:lnTo>
                    <a:pt x="4014" y="1222"/>
                  </a:lnTo>
                  <a:lnTo>
                    <a:pt x="4004" y="1220"/>
                  </a:lnTo>
                  <a:lnTo>
                    <a:pt x="4004" y="1220"/>
                  </a:lnTo>
                  <a:lnTo>
                    <a:pt x="3990" y="1212"/>
                  </a:lnTo>
                  <a:lnTo>
                    <a:pt x="3980" y="1206"/>
                  </a:lnTo>
                  <a:lnTo>
                    <a:pt x="3974" y="1200"/>
                  </a:lnTo>
                  <a:lnTo>
                    <a:pt x="3970" y="1192"/>
                  </a:lnTo>
                  <a:lnTo>
                    <a:pt x="3968" y="1184"/>
                  </a:lnTo>
                  <a:lnTo>
                    <a:pt x="3970" y="1176"/>
                  </a:lnTo>
                  <a:lnTo>
                    <a:pt x="3972" y="1168"/>
                  </a:lnTo>
                  <a:lnTo>
                    <a:pt x="3976" y="1158"/>
                  </a:lnTo>
                  <a:lnTo>
                    <a:pt x="3998" y="1122"/>
                  </a:lnTo>
                  <a:lnTo>
                    <a:pt x="4008" y="1102"/>
                  </a:lnTo>
                  <a:lnTo>
                    <a:pt x="4010" y="1090"/>
                  </a:lnTo>
                  <a:lnTo>
                    <a:pt x="4012" y="1080"/>
                  </a:lnTo>
                  <a:lnTo>
                    <a:pt x="4012" y="1080"/>
                  </a:lnTo>
                  <a:lnTo>
                    <a:pt x="4016" y="1068"/>
                  </a:lnTo>
                  <a:lnTo>
                    <a:pt x="4020" y="1056"/>
                  </a:lnTo>
                  <a:lnTo>
                    <a:pt x="4026" y="1046"/>
                  </a:lnTo>
                  <a:lnTo>
                    <a:pt x="4030" y="1042"/>
                  </a:lnTo>
                  <a:lnTo>
                    <a:pt x="4036" y="1040"/>
                  </a:lnTo>
                  <a:lnTo>
                    <a:pt x="4036" y="1040"/>
                  </a:lnTo>
                  <a:lnTo>
                    <a:pt x="4032" y="1018"/>
                  </a:lnTo>
                  <a:lnTo>
                    <a:pt x="4032" y="998"/>
                  </a:lnTo>
                  <a:lnTo>
                    <a:pt x="4034" y="978"/>
                  </a:lnTo>
                  <a:lnTo>
                    <a:pt x="4036" y="958"/>
                  </a:lnTo>
                  <a:lnTo>
                    <a:pt x="4038" y="940"/>
                  </a:lnTo>
                  <a:lnTo>
                    <a:pt x="4040" y="920"/>
                  </a:lnTo>
                  <a:lnTo>
                    <a:pt x="4040" y="902"/>
                  </a:lnTo>
                  <a:lnTo>
                    <a:pt x="4036" y="884"/>
                  </a:lnTo>
                  <a:lnTo>
                    <a:pt x="4036" y="884"/>
                  </a:lnTo>
                  <a:lnTo>
                    <a:pt x="3986" y="810"/>
                  </a:lnTo>
                  <a:lnTo>
                    <a:pt x="3986" y="810"/>
                  </a:lnTo>
                  <a:lnTo>
                    <a:pt x="3978" y="786"/>
                  </a:lnTo>
                  <a:lnTo>
                    <a:pt x="3968" y="764"/>
                  </a:lnTo>
                  <a:lnTo>
                    <a:pt x="3954" y="744"/>
                  </a:lnTo>
                  <a:lnTo>
                    <a:pt x="3938" y="724"/>
                  </a:lnTo>
                  <a:lnTo>
                    <a:pt x="3920" y="704"/>
                  </a:lnTo>
                  <a:lnTo>
                    <a:pt x="3902" y="688"/>
                  </a:lnTo>
                  <a:lnTo>
                    <a:pt x="3864" y="654"/>
                  </a:lnTo>
                  <a:lnTo>
                    <a:pt x="3864" y="654"/>
                  </a:lnTo>
                  <a:lnTo>
                    <a:pt x="3864" y="648"/>
                  </a:lnTo>
                  <a:lnTo>
                    <a:pt x="3862" y="642"/>
                  </a:lnTo>
                  <a:lnTo>
                    <a:pt x="3854" y="632"/>
                  </a:lnTo>
                  <a:lnTo>
                    <a:pt x="3844" y="624"/>
                  </a:lnTo>
                  <a:lnTo>
                    <a:pt x="3838" y="622"/>
                  </a:lnTo>
                  <a:lnTo>
                    <a:pt x="3832" y="622"/>
                  </a:lnTo>
                  <a:lnTo>
                    <a:pt x="3832" y="622"/>
                  </a:lnTo>
                  <a:lnTo>
                    <a:pt x="3822" y="618"/>
                  </a:lnTo>
                  <a:lnTo>
                    <a:pt x="3810" y="612"/>
                  </a:lnTo>
                  <a:lnTo>
                    <a:pt x="3800" y="608"/>
                  </a:lnTo>
                  <a:lnTo>
                    <a:pt x="3794" y="602"/>
                  </a:lnTo>
                  <a:lnTo>
                    <a:pt x="3790" y="598"/>
                  </a:lnTo>
                  <a:lnTo>
                    <a:pt x="3774" y="598"/>
                  </a:lnTo>
                  <a:lnTo>
                    <a:pt x="3774" y="598"/>
                  </a:lnTo>
                  <a:lnTo>
                    <a:pt x="3760" y="592"/>
                  </a:lnTo>
                  <a:lnTo>
                    <a:pt x="3742" y="588"/>
                  </a:lnTo>
                  <a:lnTo>
                    <a:pt x="3724" y="582"/>
                  </a:lnTo>
                  <a:lnTo>
                    <a:pt x="3716" y="578"/>
                  </a:lnTo>
                  <a:lnTo>
                    <a:pt x="3708" y="572"/>
                  </a:lnTo>
                  <a:lnTo>
                    <a:pt x="3708" y="572"/>
                  </a:lnTo>
                  <a:lnTo>
                    <a:pt x="3544" y="572"/>
                  </a:lnTo>
                  <a:lnTo>
                    <a:pt x="3544" y="572"/>
                  </a:lnTo>
                  <a:lnTo>
                    <a:pt x="3544" y="582"/>
                  </a:lnTo>
                  <a:lnTo>
                    <a:pt x="3544" y="582"/>
                  </a:lnTo>
                  <a:lnTo>
                    <a:pt x="3534" y="592"/>
                  </a:lnTo>
                  <a:lnTo>
                    <a:pt x="3524" y="602"/>
                  </a:lnTo>
                  <a:lnTo>
                    <a:pt x="3498" y="618"/>
                  </a:lnTo>
                  <a:lnTo>
                    <a:pt x="3486" y="628"/>
                  </a:lnTo>
                  <a:lnTo>
                    <a:pt x="3476" y="638"/>
                  </a:lnTo>
                  <a:lnTo>
                    <a:pt x="3468" y="650"/>
                  </a:lnTo>
                  <a:lnTo>
                    <a:pt x="3464" y="662"/>
                  </a:lnTo>
                  <a:lnTo>
                    <a:pt x="3464" y="662"/>
                  </a:lnTo>
                  <a:lnTo>
                    <a:pt x="3448" y="688"/>
                  </a:lnTo>
                  <a:lnTo>
                    <a:pt x="3434" y="708"/>
                  </a:lnTo>
                  <a:lnTo>
                    <a:pt x="3426" y="718"/>
                  </a:lnTo>
                  <a:lnTo>
                    <a:pt x="3418" y="726"/>
                  </a:lnTo>
                  <a:lnTo>
                    <a:pt x="3408" y="732"/>
                  </a:lnTo>
                  <a:lnTo>
                    <a:pt x="3398" y="736"/>
                  </a:lnTo>
                  <a:lnTo>
                    <a:pt x="3398" y="736"/>
                  </a:lnTo>
                  <a:lnTo>
                    <a:pt x="3388" y="738"/>
                  </a:lnTo>
                  <a:lnTo>
                    <a:pt x="3380" y="740"/>
                  </a:lnTo>
                  <a:lnTo>
                    <a:pt x="3374" y="740"/>
                  </a:lnTo>
                  <a:lnTo>
                    <a:pt x="3366" y="738"/>
                  </a:lnTo>
                  <a:lnTo>
                    <a:pt x="3352" y="730"/>
                  </a:lnTo>
                  <a:lnTo>
                    <a:pt x="3340" y="720"/>
                  </a:lnTo>
                  <a:lnTo>
                    <a:pt x="3340" y="720"/>
                  </a:lnTo>
                  <a:lnTo>
                    <a:pt x="3336" y="722"/>
                  </a:lnTo>
                  <a:lnTo>
                    <a:pt x="3332" y="720"/>
                  </a:lnTo>
                  <a:lnTo>
                    <a:pt x="3330" y="716"/>
                  </a:lnTo>
                  <a:lnTo>
                    <a:pt x="3328" y="712"/>
                  </a:lnTo>
                  <a:lnTo>
                    <a:pt x="3324" y="700"/>
                  </a:lnTo>
                  <a:lnTo>
                    <a:pt x="3320" y="698"/>
                  </a:lnTo>
                  <a:lnTo>
                    <a:pt x="3316" y="696"/>
                  </a:lnTo>
                  <a:lnTo>
                    <a:pt x="3316" y="556"/>
                  </a:lnTo>
                  <a:lnTo>
                    <a:pt x="3324" y="556"/>
                  </a:lnTo>
                  <a:lnTo>
                    <a:pt x="3324" y="482"/>
                  </a:lnTo>
                  <a:lnTo>
                    <a:pt x="3324" y="482"/>
                  </a:lnTo>
                  <a:lnTo>
                    <a:pt x="3320" y="482"/>
                  </a:lnTo>
                  <a:lnTo>
                    <a:pt x="3316" y="480"/>
                  </a:lnTo>
                  <a:lnTo>
                    <a:pt x="3312" y="470"/>
                  </a:lnTo>
                  <a:lnTo>
                    <a:pt x="3308" y="462"/>
                  </a:lnTo>
                  <a:lnTo>
                    <a:pt x="3304" y="460"/>
                  </a:lnTo>
                  <a:lnTo>
                    <a:pt x="3300" y="458"/>
                  </a:lnTo>
                  <a:lnTo>
                    <a:pt x="3300" y="458"/>
                  </a:lnTo>
                  <a:lnTo>
                    <a:pt x="3302" y="452"/>
                  </a:lnTo>
                  <a:lnTo>
                    <a:pt x="3300" y="448"/>
                  </a:lnTo>
                  <a:lnTo>
                    <a:pt x="3298" y="446"/>
                  </a:lnTo>
                  <a:lnTo>
                    <a:pt x="3294" y="442"/>
                  </a:lnTo>
                  <a:lnTo>
                    <a:pt x="3286" y="436"/>
                  </a:lnTo>
                  <a:lnTo>
                    <a:pt x="3284" y="432"/>
                  </a:lnTo>
                  <a:lnTo>
                    <a:pt x="3284" y="426"/>
                  </a:lnTo>
                  <a:lnTo>
                    <a:pt x="3284" y="426"/>
                  </a:lnTo>
                  <a:lnTo>
                    <a:pt x="3278" y="422"/>
                  </a:lnTo>
                  <a:lnTo>
                    <a:pt x="3274" y="416"/>
                  </a:lnTo>
                  <a:lnTo>
                    <a:pt x="3270" y="406"/>
                  </a:lnTo>
                  <a:lnTo>
                    <a:pt x="3268" y="400"/>
                  </a:lnTo>
                  <a:lnTo>
                    <a:pt x="3264" y="394"/>
                  </a:lnTo>
                  <a:lnTo>
                    <a:pt x="3258" y="388"/>
                  </a:lnTo>
                  <a:lnTo>
                    <a:pt x="3250" y="384"/>
                  </a:lnTo>
                  <a:lnTo>
                    <a:pt x="3250" y="384"/>
                  </a:lnTo>
                  <a:lnTo>
                    <a:pt x="3236" y="354"/>
                  </a:lnTo>
                  <a:lnTo>
                    <a:pt x="3228" y="340"/>
                  </a:lnTo>
                  <a:lnTo>
                    <a:pt x="3218" y="326"/>
                  </a:lnTo>
                  <a:lnTo>
                    <a:pt x="3208" y="312"/>
                  </a:lnTo>
                  <a:lnTo>
                    <a:pt x="3196" y="300"/>
                  </a:lnTo>
                  <a:lnTo>
                    <a:pt x="3184" y="288"/>
                  </a:lnTo>
                  <a:lnTo>
                    <a:pt x="3168" y="278"/>
                  </a:lnTo>
                  <a:lnTo>
                    <a:pt x="3168" y="278"/>
                  </a:lnTo>
                  <a:lnTo>
                    <a:pt x="3158" y="266"/>
                  </a:lnTo>
                  <a:lnTo>
                    <a:pt x="3146" y="252"/>
                  </a:lnTo>
                  <a:lnTo>
                    <a:pt x="3140" y="246"/>
                  </a:lnTo>
                  <a:lnTo>
                    <a:pt x="3132" y="242"/>
                  </a:lnTo>
                  <a:lnTo>
                    <a:pt x="3122" y="238"/>
                  </a:lnTo>
                  <a:lnTo>
                    <a:pt x="3112" y="238"/>
                  </a:lnTo>
                  <a:lnTo>
                    <a:pt x="3112" y="238"/>
                  </a:lnTo>
                  <a:lnTo>
                    <a:pt x="3102" y="226"/>
                  </a:lnTo>
                  <a:lnTo>
                    <a:pt x="3090" y="214"/>
                  </a:lnTo>
                  <a:lnTo>
                    <a:pt x="3070" y="196"/>
                  </a:lnTo>
                  <a:lnTo>
                    <a:pt x="3070" y="196"/>
                  </a:lnTo>
                  <a:lnTo>
                    <a:pt x="3054" y="190"/>
                  </a:lnTo>
                  <a:lnTo>
                    <a:pt x="3038" y="184"/>
                  </a:lnTo>
                  <a:lnTo>
                    <a:pt x="3026" y="174"/>
                  </a:lnTo>
                  <a:lnTo>
                    <a:pt x="3014" y="164"/>
                  </a:lnTo>
                  <a:lnTo>
                    <a:pt x="3014" y="164"/>
                  </a:lnTo>
                  <a:lnTo>
                    <a:pt x="2994" y="162"/>
                  </a:lnTo>
                  <a:lnTo>
                    <a:pt x="2976" y="158"/>
                  </a:lnTo>
                  <a:lnTo>
                    <a:pt x="2958" y="150"/>
                  </a:lnTo>
                  <a:lnTo>
                    <a:pt x="2940" y="140"/>
                  </a:lnTo>
                  <a:lnTo>
                    <a:pt x="2940" y="140"/>
                  </a:lnTo>
                  <a:lnTo>
                    <a:pt x="2924" y="134"/>
                  </a:lnTo>
                  <a:lnTo>
                    <a:pt x="2904" y="128"/>
                  </a:lnTo>
                  <a:lnTo>
                    <a:pt x="2864" y="122"/>
                  </a:lnTo>
                  <a:lnTo>
                    <a:pt x="2844" y="120"/>
                  </a:lnTo>
                  <a:lnTo>
                    <a:pt x="2824" y="120"/>
                  </a:lnTo>
                  <a:lnTo>
                    <a:pt x="2804" y="120"/>
                  </a:lnTo>
                  <a:lnTo>
                    <a:pt x="2784" y="122"/>
                  </a:lnTo>
                  <a:lnTo>
                    <a:pt x="2784" y="122"/>
                  </a:lnTo>
                  <a:lnTo>
                    <a:pt x="2780" y="130"/>
                  </a:lnTo>
                  <a:lnTo>
                    <a:pt x="2776" y="134"/>
                  </a:lnTo>
                  <a:lnTo>
                    <a:pt x="2768" y="136"/>
                  </a:lnTo>
                  <a:lnTo>
                    <a:pt x="2762" y="138"/>
                  </a:lnTo>
                  <a:lnTo>
                    <a:pt x="2746" y="136"/>
                  </a:lnTo>
                  <a:lnTo>
                    <a:pt x="2736" y="138"/>
                  </a:lnTo>
                  <a:lnTo>
                    <a:pt x="2726" y="140"/>
                  </a:lnTo>
                  <a:lnTo>
                    <a:pt x="2726" y="140"/>
                  </a:lnTo>
                  <a:lnTo>
                    <a:pt x="2720" y="148"/>
                  </a:lnTo>
                  <a:lnTo>
                    <a:pt x="2712" y="156"/>
                  </a:lnTo>
                  <a:lnTo>
                    <a:pt x="2702" y="164"/>
                  </a:lnTo>
                  <a:lnTo>
                    <a:pt x="2690" y="170"/>
                  </a:lnTo>
                  <a:lnTo>
                    <a:pt x="2678" y="174"/>
                  </a:lnTo>
                  <a:lnTo>
                    <a:pt x="2662" y="178"/>
                  </a:lnTo>
                  <a:lnTo>
                    <a:pt x="2646" y="180"/>
                  </a:lnTo>
                  <a:lnTo>
                    <a:pt x="2628" y="180"/>
                  </a:lnTo>
                  <a:lnTo>
                    <a:pt x="2628" y="188"/>
                  </a:lnTo>
                  <a:lnTo>
                    <a:pt x="2628" y="188"/>
                  </a:lnTo>
                  <a:lnTo>
                    <a:pt x="2620" y="190"/>
                  </a:lnTo>
                  <a:lnTo>
                    <a:pt x="2610" y="192"/>
                  </a:lnTo>
                  <a:lnTo>
                    <a:pt x="2592" y="198"/>
                  </a:lnTo>
                  <a:lnTo>
                    <a:pt x="2564" y="212"/>
                  </a:lnTo>
                  <a:lnTo>
                    <a:pt x="2564" y="212"/>
                  </a:lnTo>
                  <a:lnTo>
                    <a:pt x="2558" y="216"/>
                  </a:lnTo>
                  <a:lnTo>
                    <a:pt x="2550" y="216"/>
                  </a:lnTo>
                  <a:lnTo>
                    <a:pt x="2544" y="214"/>
                  </a:lnTo>
                  <a:lnTo>
                    <a:pt x="2538" y="212"/>
                  </a:lnTo>
                  <a:lnTo>
                    <a:pt x="2538" y="212"/>
                  </a:lnTo>
                  <a:lnTo>
                    <a:pt x="2532" y="224"/>
                  </a:lnTo>
                  <a:lnTo>
                    <a:pt x="2524" y="234"/>
                  </a:lnTo>
                  <a:lnTo>
                    <a:pt x="2508" y="250"/>
                  </a:lnTo>
                  <a:lnTo>
                    <a:pt x="2498" y="258"/>
                  </a:lnTo>
                  <a:lnTo>
                    <a:pt x="2492" y="266"/>
                  </a:lnTo>
                  <a:lnTo>
                    <a:pt x="2486" y="276"/>
                  </a:lnTo>
                  <a:lnTo>
                    <a:pt x="2482" y="286"/>
                  </a:lnTo>
                  <a:lnTo>
                    <a:pt x="2482" y="286"/>
                  </a:lnTo>
                  <a:lnTo>
                    <a:pt x="2470" y="290"/>
                  </a:lnTo>
                  <a:lnTo>
                    <a:pt x="2460" y="296"/>
                  </a:lnTo>
                  <a:lnTo>
                    <a:pt x="2446" y="308"/>
                  </a:lnTo>
                  <a:lnTo>
                    <a:pt x="2432" y="318"/>
                  </a:lnTo>
                  <a:lnTo>
                    <a:pt x="2424" y="324"/>
                  </a:lnTo>
                  <a:lnTo>
                    <a:pt x="2416" y="328"/>
                  </a:lnTo>
                  <a:lnTo>
                    <a:pt x="2416" y="328"/>
                  </a:lnTo>
                  <a:lnTo>
                    <a:pt x="2410" y="332"/>
                  </a:lnTo>
                  <a:lnTo>
                    <a:pt x="2404" y="336"/>
                  </a:lnTo>
                  <a:lnTo>
                    <a:pt x="2396" y="348"/>
                  </a:lnTo>
                  <a:lnTo>
                    <a:pt x="2386" y="360"/>
                  </a:lnTo>
                  <a:lnTo>
                    <a:pt x="2380" y="364"/>
                  </a:lnTo>
                  <a:lnTo>
                    <a:pt x="2376" y="368"/>
                  </a:lnTo>
                  <a:lnTo>
                    <a:pt x="2376" y="368"/>
                  </a:lnTo>
                  <a:lnTo>
                    <a:pt x="2374" y="382"/>
                  </a:lnTo>
                  <a:lnTo>
                    <a:pt x="2372" y="394"/>
                  </a:lnTo>
                  <a:lnTo>
                    <a:pt x="2370" y="406"/>
                  </a:lnTo>
                  <a:lnTo>
                    <a:pt x="2364" y="414"/>
                  </a:lnTo>
                  <a:lnTo>
                    <a:pt x="2354" y="430"/>
                  </a:lnTo>
                  <a:lnTo>
                    <a:pt x="2342" y="442"/>
                  </a:lnTo>
                  <a:lnTo>
                    <a:pt x="2342" y="442"/>
                  </a:lnTo>
                  <a:lnTo>
                    <a:pt x="2342" y="488"/>
                  </a:lnTo>
                  <a:lnTo>
                    <a:pt x="2340" y="512"/>
                  </a:lnTo>
                  <a:lnTo>
                    <a:pt x="2338" y="536"/>
                  </a:lnTo>
                  <a:lnTo>
                    <a:pt x="2332" y="558"/>
                  </a:lnTo>
                  <a:lnTo>
                    <a:pt x="2326" y="578"/>
                  </a:lnTo>
                  <a:lnTo>
                    <a:pt x="2320" y="586"/>
                  </a:lnTo>
                  <a:lnTo>
                    <a:pt x="2314" y="594"/>
                  </a:lnTo>
                  <a:lnTo>
                    <a:pt x="2308" y="600"/>
                  </a:lnTo>
                  <a:lnTo>
                    <a:pt x="2302" y="606"/>
                  </a:lnTo>
                  <a:lnTo>
                    <a:pt x="2302" y="606"/>
                  </a:lnTo>
                  <a:lnTo>
                    <a:pt x="2294" y="610"/>
                  </a:lnTo>
                  <a:lnTo>
                    <a:pt x="2284" y="614"/>
                  </a:lnTo>
                  <a:lnTo>
                    <a:pt x="2272" y="616"/>
                  </a:lnTo>
                  <a:lnTo>
                    <a:pt x="2260" y="614"/>
                  </a:lnTo>
                  <a:lnTo>
                    <a:pt x="2234" y="612"/>
                  </a:lnTo>
                  <a:lnTo>
                    <a:pt x="2212" y="606"/>
                  </a:lnTo>
                  <a:lnTo>
                    <a:pt x="2212" y="606"/>
                  </a:lnTo>
                  <a:lnTo>
                    <a:pt x="2200" y="600"/>
                  </a:lnTo>
                  <a:lnTo>
                    <a:pt x="2190" y="592"/>
                  </a:lnTo>
                  <a:lnTo>
                    <a:pt x="2182" y="582"/>
                  </a:lnTo>
                  <a:lnTo>
                    <a:pt x="2174" y="568"/>
                  </a:lnTo>
                  <a:lnTo>
                    <a:pt x="2170" y="554"/>
                  </a:lnTo>
                  <a:lnTo>
                    <a:pt x="2166" y="538"/>
                  </a:lnTo>
                  <a:lnTo>
                    <a:pt x="2164" y="524"/>
                  </a:lnTo>
                  <a:lnTo>
                    <a:pt x="2162" y="508"/>
                  </a:lnTo>
                  <a:lnTo>
                    <a:pt x="2154" y="508"/>
                  </a:lnTo>
                  <a:lnTo>
                    <a:pt x="2154" y="508"/>
                  </a:lnTo>
                  <a:lnTo>
                    <a:pt x="2154" y="492"/>
                  </a:lnTo>
                  <a:lnTo>
                    <a:pt x="2154" y="492"/>
                  </a:lnTo>
                  <a:lnTo>
                    <a:pt x="2144" y="478"/>
                  </a:lnTo>
                  <a:lnTo>
                    <a:pt x="2134" y="462"/>
                  </a:lnTo>
                  <a:lnTo>
                    <a:pt x="2122" y="434"/>
                  </a:lnTo>
                  <a:lnTo>
                    <a:pt x="2122" y="434"/>
                  </a:lnTo>
                  <a:lnTo>
                    <a:pt x="2112" y="428"/>
                  </a:lnTo>
                  <a:lnTo>
                    <a:pt x="2106" y="418"/>
                  </a:lnTo>
                  <a:lnTo>
                    <a:pt x="2094" y="400"/>
                  </a:lnTo>
                  <a:lnTo>
                    <a:pt x="2072" y="352"/>
                  </a:lnTo>
                  <a:lnTo>
                    <a:pt x="2072" y="352"/>
                  </a:lnTo>
                  <a:lnTo>
                    <a:pt x="2066" y="350"/>
                  </a:lnTo>
                  <a:lnTo>
                    <a:pt x="2062" y="346"/>
                  </a:lnTo>
                  <a:lnTo>
                    <a:pt x="2058" y="342"/>
                  </a:lnTo>
                  <a:lnTo>
                    <a:pt x="2056" y="336"/>
                  </a:lnTo>
                  <a:lnTo>
                    <a:pt x="2056" y="336"/>
                  </a:lnTo>
                  <a:lnTo>
                    <a:pt x="2048" y="324"/>
                  </a:lnTo>
                  <a:lnTo>
                    <a:pt x="2040" y="314"/>
                  </a:lnTo>
                  <a:lnTo>
                    <a:pt x="2030" y="302"/>
                  </a:lnTo>
                  <a:lnTo>
                    <a:pt x="2024" y="286"/>
                  </a:lnTo>
                  <a:lnTo>
                    <a:pt x="2024" y="286"/>
                  </a:lnTo>
                  <a:lnTo>
                    <a:pt x="2010" y="270"/>
                  </a:lnTo>
                  <a:lnTo>
                    <a:pt x="1994" y="252"/>
                  </a:lnTo>
                  <a:lnTo>
                    <a:pt x="1980" y="234"/>
                  </a:lnTo>
                  <a:lnTo>
                    <a:pt x="1972" y="224"/>
                  </a:lnTo>
                  <a:lnTo>
                    <a:pt x="1966" y="212"/>
                  </a:lnTo>
                  <a:lnTo>
                    <a:pt x="1966" y="212"/>
                  </a:lnTo>
                  <a:lnTo>
                    <a:pt x="1940" y="188"/>
                  </a:lnTo>
                  <a:lnTo>
                    <a:pt x="1914" y="160"/>
                  </a:lnTo>
                  <a:lnTo>
                    <a:pt x="1888" y="132"/>
                  </a:lnTo>
                  <a:lnTo>
                    <a:pt x="1862" y="106"/>
                  </a:lnTo>
                  <a:lnTo>
                    <a:pt x="1848" y="94"/>
                  </a:lnTo>
                  <a:lnTo>
                    <a:pt x="1832" y="84"/>
                  </a:lnTo>
                  <a:lnTo>
                    <a:pt x="1818" y="74"/>
                  </a:lnTo>
                  <a:lnTo>
                    <a:pt x="1800" y="66"/>
                  </a:lnTo>
                  <a:lnTo>
                    <a:pt x="1782" y="58"/>
                  </a:lnTo>
                  <a:lnTo>
                    <a:pt x="1764" y="54"/>
                  </a:lnTo>
                  <a:lnTo>
                    <a:pt x="1742" y="50"/>
                  </a:lnTo>
                  <a:lnTo>
                    <a:pt x="1720" y="50"/>
                  </a:lnTo>
                  <a:lnTo>
                    <a:pt x="1720" y="42"/>
                  </a:lnTo>
                  <a:lnTo>
                    <a:pt x="1598" y="32"/>
                  </a:lnTo>
                  <a:lnTo>
                    <a:pt x="1598" y="32"/>
                  </a:lnTo>
                  <a:lnTo>
                    <a:pt x="1574" y="34"/>
                  </a:lnTo>
                  <a:lnTo>
                    <a:pt x="1554" y="32"/>
                  </a:lnTo>
                  <a:lnTo>
                    <a:pt x="1534" y="26"/>
                  </a:lnTo>
                  <a:lnTo>
                    <a:pt x="1516" y="20"/>
                  </a:lnTo>
                  <a:lnTo>
                    <a:pt x="1496" y="14"/>
                  </a:lnTo>
                  <a:lnTo>
                    <a:pt x="1474" y="10"/>
                  </a:lnTo>
                  <a:lnTo>
                    <a:pt x="1452" y="8"/>
                  </a:lnTo>
                  <a:lnTo>
                    <a:pt x="1426" y="8"/>
                  </a:lnTo>
                  <a:lnTo>
                    <a:pt x="1426" y="0"/>
                  </a:lnTo>
                  <a:lnTo>
                    <a:pt x="1304" y="0"/>
                  </a:lnTo>
                  <a:lnTo>
                    <a:pt x="1304" y="0"/>
                  </a:lnTo>
                  <a:lnTo>
                    <a:pt x="1290" y="8"/>
                  </a:lnTo>
                  <a:lnTo>
                    <a:pt x="1278" y="14"/>
                  </a:lnTo>
                  <a:lnTo>
                    <a:pt x="1264" y="20"/>
                  </a:lnTo>
                  <a:lnTo>
                    <a:pt x="1250" y="22"/>
                  </a:lnTo>
                  <a:lnTo>
                    <a:pt x="1188" y="32"/>
                  </a:lnTo>
                  <a:lnTo>
                    <a:pt x="1188" y="32"/>
                  </a:lnTo>
                  <a:lnTo>
                    <a:pt x="1188" y="38"/>
                  </a:lnTo>
                  <a:lnTo>
                    <a:pt x="1184" y="40"/>
                  </a:lnTo>
                  <a:lnTo>
                    <a:pt x="1172" y="42"/>
                  </a:lnTo>
                  <a:lnTo>
                    <a:pt x="1172" y="42"/>
                  </a:lnTo>
                  <a:lnTo>
                    <a:pt x="1166" y="46"/>
                  </a:lnTo>
                  <a:lnTo>
                    <a:pt x="1158" y="52"/>
                  </a:lnTo>
                  <a:lnTo>
                    <a:pt x="1138" y="60"/>
                  </a:lnTo>
                  <a:lnTo>
                    <a:pt x="1118" y="64"/>
                  </a:lnTo>
                  <a:lnTo>
                    <a:pt x="1098" y="66"/>
                  </a:lnTo>
                  <a:lnTo>
                    <a:pt x="1098" y="66"/>
                  </a:lnTo>
                  <a:lnTo>
                    <a:pt x="1076" y="80"/>
                  </a:lnTo>
                  <a:lnTo>
                    <a:pt x="1056" y="96"/>
                  </a:lnTo>
                  <a:lnTo>
                    <a:pt x="1038" y="116"/>
                  </a:lnTo>
                  <a:lnTo>
                    <a:pt x="1026" y="140"/>
                  </a:lnTo>
                  <a:lnTo>
                    <a:pt x="1026" y="140"/>
                  </a:lnTo>
                  <a:lnTo>
                    <a:pt x="1014" y="142"/>
                  </a:lnTo>
                  <a:lnTo>
                    <a:pt x="1006" y="148"/>
                  </a:lnTo>
                  <a:lnTo>
                    <a:pt x="998" y="154"/>
                  </a:lnTo>
                  <a:lnTo>
                    <a:pt x="992" y="164"/>
                  </a:lnTo>
                  <a:lnTo>
                    <a:pt x="986" y="172"/>
                  </a:lnTo>
                  <a:lnTo>
                    <a:pt x="980" y="180"/>
                  </a:lnTo>
                  <a:lnTo>
                    <a:pt x="970" y="186"/>
                  </a:lnTo>
                  <a:lnTo>
                    <a:pt x="960" y="188"/>
                  </a:lnTo>
                  <a:lnTo>
                    <a:pt x="960" y="188"/>
                  </a:lnTo>
                  <a:lnTo>
                    <a:pt x="958" y="194"/>
                  </a:lnTo>
                  <a:lnTo>
                    <a:pt x="956" y="200"/>
                  </a:lnTo>
                  <a:lnTo>
                    <a:pt x="948" y="208"/>
                  </a:lnTo>
                  <a:lnTo>
                    <a:pt x="940" y="214"/>
                  </a:lnTo>
                  <a:lnTo>
                    <a:pt x="936" y="218"/>
                  </a:lnTo>
                  <a:lnTo>
                    <a:pt x="936" y="222"/>
                  </a:lnTo>
                  <a:lnTo>
                    <a:pt x="936" y="222"/>
                  </a:lnTo>
                  <a:lnTo>
                    <a:pt x="924" y="242"/>
                  </a:lnTo>
                  <a:lnTo>
                    <a:pt x="912" y="262"/>
                  </a:lnTo>
                  <a:lnTo>
                    <a:pt x="896" y="280"/>
                  </a:lnTo>
                  <a:lnTo>
                    <a:pt x="880" y="298"/>
                  </a:lnTo>
                  <a:lnTo>
                    <a:pt x="848" y="332"/>
                  </a:lnTo>
                  <a:lnTo>
                    <a:pt x="834" y="350"/>
                  </a:lnTo>
                  <a:lnTo>
                    <a:pt x="820" y="368"/>
                  </a:lnTo>
                  <a:lnTo>
                    <a:pt x="820" y="368"/>
                  </a:lnTo>
                  <a:lnTo>
                    <a:pt x="812" y="388"/>
                  </a:lnTo>
                  <a:lnTo>
                    <a:pt x="806" y="410"/>
                  </a:lnTo>
                  <a:lnTo>
                    <a:pt x="798" y="456"/>
                  </a:lnTo>
                  <a:lnTo>
                    <a:pt x="792" y="478"/>
                  </a:lnTo>
                  <a:lnTo>
                    <a:pt x="782" y="500"/>
                  </a:lnTo>
                  <a:lnTo>
                    <a:pt x="778" y="508"/>
                  </a:lnTo>
                  <a:lnTo>
                    <a:pt x="772" y="518"/>
                  </a:lnTo>
                  <a:lnTo>
                    <a:pt x="764" y="526"/>
                  </a:lnTo>
                  <a:lnTo>
                    <a:pt x="756" y="532"/>
                  </a:lnTo>
                  <a:lnTo>
                    <a:pt x="756" y="532"/>
                  </a:lnTo>
                  <a:lnTo>
                    <a:pt x="748" y="546"/>
                  </a:lnTo>
                  <a:lnTo>
                    <a:pt x="742" y="560"/>
                  </a:lnTo>
                  <a:lnTo>
                    <a:pt x="738" y="578"/>
                  </a:lnTo>
                  <a:lnTo>
                    <a:pt x="734" y="594"/>
                  </a:lnTo>
                  <a:lnTo>
                    <a:pt x="734" y="612"/>
                  </a:lnTo>
                  <a:lnTo>
                    <a:pt x="734" y="630"/>
                  </a:lnTo>
                  <a:lnTo>
                    <a:pt x="738" y="662"/>
                  </a:lnTo>
                  <a:lnTo>
                    <a:pt x="738" y="662"/>
                  </a:lnTo>
                  <a:lnTo>
                    <a:pt x="748" y="662"/>
                  </a:lnTo>
                  <a:lnTo>
                    <a:pt x="748" y="662"/>
                  </a:lnTo>
                  <a:lnTo>
                    <a:pt x="750" y="688"/>
                  </a:lnTo>
                  <a:lnTo>
                    <a:pt x="752" y="714"/>
                  </a:lnTo>
                  <a:lnTo>
                    <a:pt x="750" y="724"/>
                  </a:lnTo>
                  <a:lnTo>
                    <a:pt x="748" y="734"/>
                  </a:lnTo>
                  <a:lnTo>
                    <a:pt x="740" y="740"/>
                  </a:lnTo>
                  <a:lnTo>
                    <a:pt x="730" y="744"/>
                  </a:lnTo>
                  <a:lnTo>
                    <a:pt x="730" y="744"/>
                  </a:lnTo>
                  <a:lnTo>
                    <a:pt x="730" y="750"/>
                  </a:lnTo>
                  <a:lnTo>
                    <a:pt x="726" y="752"/>
                  </a:lnTo>
                  <a:lnTo>
                    <a:pt x="718" y="752"/>
                  </a:lnTo>
                  <a:lnTo>
                    <a:pt x="710" y="754"/>
                  </a:lnTo>
                  <a:lnTo>
                    <a:pt x="708" y="756"/>
                  </a:lnTo>
                  <a:lnTo>
                    <a:pt x="706" y="762"/>
                  </a:lnTo>
                  <a:lnTo>
                    <a:pt x="706" y="762"/>
                  </a:lnTo>
                  <a:lnTo>
                    <a:pt x="692" y="766"/>
                  </a:lnTo>
                  <a:lnTo>
                    <a:pt x="674" y="770"/>
                  </a:lnTo>
                  <a:lnTo>
                    <a:pt x="664" y="770"/>
                  </a:lnTo>
                  <a:lnTo>
                    <a:pt x="656" y="770"/>
                  </a:lnTo>
                  <a:lnTo>
                    <a:pt x="648" y="766"/>
                  </a:lnTo>
                  <a:lnTo>
                    <a:pt x="640" y="762"/>
                  </a:lnTo>
                  <a:lnTo>
                    <a:pt x="640" y="762"/>
                  </a:lnTo>
                  <a:lnTo>
                    <a:pt x="632" y="756"/>
                  </a:lnTo>
                  <a:lnTo>
                    <a:pt x="620" y="752"/>
                  </a:lnTo>
                  <a:lnTo>
                    <a:pt x="608" y="746"/>
                  </a:lnTo>
                  <a:lnTo>
                    <a:pt x="604" y="742"/>
                  </a:lnTo>
                  <a:lnTo>
                    <a:pt x="600" y="736"/>
                  </a:lnTo>
                  <a:lnTo>
                    <a:pt x="460" y="736"/>
                  </a:lnTo>
                  <a:lnTo>
                    <a:pt x="460" y="736"/>
                  </a:lnTo>
                  <a:lnTo>
                    <a:pt x="458" y="742"/>
                  </a:lnTo>
                  <a:lnTo>
                    <a:pt x="454" y="746"/>
                  </a:lnTo>
                  <a:lnTo>
                    <a:pt x="444" y="752"/>
                  </a:lnTo>
                  <a:lnTo>
                    <a:pt x="436" y="756"/>
                  </a:lnTo>
                  <a:lnTo>
                    <a:pt x="428" y="762"/>
                  </a:lnTo>
                  <a:lnTo>
                    <a:pt x="370" y="770"/>
                  </a:lnTo>
                  <a:lnTo>
                    <a:pt x="370" y="770"/>
                  </a:lnTo>
                  <a:lnTo>
                    <a:pt x="370" y="774"/>
                  </a:lnTo>
                  <a:lnTo>
                    <a:pt x="366" y="776"/>
                  </a:lnTo>
                  <a:lnTo>
                    <a:pt x="362" y="778"/>
                  </a:lnTo>
                  <a:lnTo>
                    <a:pt x="362" y="778"/>
                  </a:lnTo>
                  <a:lnTo>
                    <a:pt x="358" y="784"/>
                  </a:lnTo>
                  <a:lnTo>
                    <a:pt x="354" y="790"/>
                  </a:lnTo>
                  <a:lnTo>
                    <a:pt x="350" y="794"/>
                  </a:lnTo>
                  <a:lnTo>
                    <a:pt x="344" y="798"/>
                  </a:lnTo>
                  <a:lnTo>
                    <a:pt x="330" y="802"/>
                  </a:lnTo>
                  <a:lnTo>
                    <a:pt x="316" y="804"/>
                  </a:lnTo>
                  <a:lnTo>
                    <a:pt x="288" y="808"/>
                  </a:lnTo>
                  <a:lnTo>
                    <a:pt x="274" y="812"/>
                  </a:lnTo>
                  <a:lnTo>
                    <a:pt x="270" y="814"/>
                  </a:lnTo>
                  <a:lnTo>
                    <a:pt x="264" y="818"/>
                  </a:lnTo>
                  <a:lnTo>
                    <a:pt x="264" y="818"/>
                  </a:lnTo>
                  <a:lnTo>
                    <a:pt x="258" y="832"/>
                  </a:lnTo>
                  <a:lnTo>
                    <a:pt x="250" y="844"/>
                  </a:lnTo>
                  <a:lnTo>
                    <a:pt x="240" y="854"/>
                  </a:lnTo>
                  <a:lnTo>
                    <a:pt x="230" y="862"/>
                  </a:lnTo>
                  <a:lnTo>
                    <a:pt x="210" y="876"/>
                  </a:lnTo>
                  <a:lnTo>
                    <a:pt x="200" y="884"/>
                  </a:lnTo>
                  <a:lnTo>
                    <a:pt x="190" y="892"/>
                  </a:lnTo>
                  <a:lnTo>
                    <a:pt x="190" y="892"/>
                  </a:lnTo>
                  <a:lnTo>
                    <a:pt x="132" y="962"/>
                  </a:lnTo>
                  <a:lnTo>
                    <a:pt x="106" y="996"/>
                  </a:lnTo>
                  <a:lnTo>
                    <a:pt x="94" y="1014"/>
                  </a:lnTo>
                  <a:lnTo>
                    <a:pt x="84" y="1032"/>
                  </a:lnTo>
                  <a:lnTo>
                    <a:pt x="84" y="1032"/>
                  </a:lnTo>
                  <a:lnTo>
                    <a:pt x="74" y="1038"/>
                  </a:lnTo>
                  <a:lnTo>
                    <a:pt x="66" y="1046"/>
                  </a:lnTo>
                  <a:lnTo>
                    <a:pt x="60" y="1054"/>
                  </a:lnTo>
                  <a:lnTo>
                    <a:pt x="56" y="1062"/>
                  </a:lnTo>
                  <a:lnTo>
                    <a:pt x="48" y="1078"/>
                  </a:lnTo>
                  <a:lnTo>
                    <a:pt x="44" y="1084"/>
                  </a:lnTo>
                  <a:lnTo>
                    <a:pt x="36" y="1088"/>
                  </a:lnTo>
                  <a:lnTo>
                    <a:pt x="28" y="1154"/>
                  </a:lnTo>
                  <a:lnTo>
                    <a:pt x="18" y="1154"/>
                  </a:lnTo>
                  <a:lnTo>
                    <a:pt x="18" y="1154"/>
                  </a:lnTo>
                  <a:lnTo>
                    <a:pt x="8" y="1194"/>
                  </a:lnTo>
                  <a:lnTo>
                    <a:pt x="4" y="1216"/>
                  </a:lnTo>
                  <a:lnTo>
                    <a:pt x="2" y="1238"/>
                  </a:lnTo>
                  <a:lnTo>
                    <a:pt x="0" y="1262"/>
                  </a:lnTo>
                  <a:lnTo>
                    <a:pt x="0" y="1284"/>
                  </a:lnTo>
                  <a:lnTo>
                    <a:pt x="0" y="1310"/>
                  </a:lnTo>
                  <a:lnTo>
                    <a:pt x="2" y="1334"/>
                  </a:lnTo>
                  <a:lnTo>
                    <a:pt x="2" y="1334"/>
                  </a:lnTo>
                  <a:lnTo>
                    <a:pt x="2" y="1354"/>
                  </a:lnTo>
                  <a:lnTo>
                    <a:pt x="4" y="1370"/>
                  </a:lnTo>
                  <a:lnTo>
                    <a:pt x="8" y="1386"/>
                  </a:lnTo>
                  <a:lnTo>
                    <a:pt x="14" y="1400"/>
                  </a:lnTo>
                  <a:lnTo>
                    <a:pt x="18" y="1414"/>
                  </a:lnTo>
                  <a:lnTo>
                    <a:pt x="22" y="1428"/>
                  </a:lnTo>
                  <a:lnTo>
                    <a:pt x="22" y="1444"/>
                  </a:lnTo>
                  <a:lnTo>
                    <a:pt x="18" y="1464"/>
                  </a:lnTo>
                  <a:lnTo>
                    <a:pt x="18" y="1464"/>
                  </a:lnTo>
                  <a:lnTo>
                    <a:pt x="24" y="1472"/>
                  </a:lnTo>
                  <a:lnTo>
                    <a:pt x="28" y="1480"/>
                  </a:lnTo>
                  <a:lnTo>
                    <a:pt x="32" y="1498"/>
                  </a:lnTo>
                  <a:lnTo>
                    <a:pt x="34" y="1516"/>
                  </a:lnTo>
                  <a:lnTo>
                    <a:pt x="38" y="1524"/>
                  </a:lnTo>
                  <a:lnTo>
                    <a:pt x="44" y="1530"/>
                  </a:lnTo>
                  <a:lnTo>
                    <a:pt x="44" y="1530"/>
                  </a:lnTo>
                  <a:lnTo>
                    <a:pt x="48" y="1534"/>
                  </a:lnTo>
                  <a:lnTo>
                    <a:pt x="52" y="1538"/>
                  </a:lnTo>
                  <a:lnTo>
                    <a:pt x="54" y="1548"/>
                  </a:lnTo>
                  <a:lnTo>
                    <a:pt x="56" y="1558"/>
                  </a:lnTo>
                  <a:lnTo>
                    <a:pt x="60" y="1572"/>
                  </a:lnTo>
                  <a:lnTo>
                    <a:pt x="60" y="1572"/>
                  </a:lnTo>
                  <a:lnTo>
                    <a:pt x="80" y="1600"/>
                  </a:lnTo>
                  <a:lnTo>
                    <a:pt x="102" y="1628"/>
                  </a:lnTo>
                  <a:lnTo>
                    <a:pt x="126" y="1654"/>
                  </a:lnTo>
                  <a:lnTo>
                    <a:pt x="150" y="1680"/>
                  </a:lnTo>
                  <a:lnTo>
                    <a:pt x="202" y="1730"/>
                  </a:lnTo>
                  <a:lnTo>
                    <a:pt x="226" y="1756"/>
                  </a:lnTo>
                  <a:lnTo>
                    <a:pt x="248" y="1784"/>
                  </a:lnTo>
                  <a:lnTo>
                    <a:pt x="272" y="1792"/>
                  </a:lnTo>
                  <a:lnTo>
                    <a:pt x="272" y="1792"/>
                  </a:lnTo>
                  <a:lnTo>
                    <a:pt x="292" y="1806"/>
                  </a:lnTo>
                  <a:lnTo>
                    <a:pt x="310" y="1818"/>
                  </a:lnTo>
                  <a:lnTo>
                    <a:pt x="332" y="1828"/>
                  </a:lnTo>
                  <a:lnTo>
                    <a:pt x="352" y="1838"/>
                  </a:lnTo>
                  <a:lnTo>
                    <a:pt x="396" y="1852"/>
                  </a:lnTo>
                  <a:lnTo>
                    <a:pt x="444" y="1866"/>
                  </a:lnTo>
                  <a:lnTo>
                    <a:pt x="444" y="1866"/>
                  </a:lnTo>
                  <a:lnTo>
                    <a:pt x="466" y="1858"/>
                  </a:lnTo>
                  <a:lnTo>
                    <a:pt x="492" y="1852"/>
                  </a:lnTo>
                  <a:lnTo>
                    <a:pt x="506" y="1850"/>
                  </a:lnTo>
                  <a:lnTo>
                    <a:pt x="520" y="1850"/>
                  </a:lnTo>
                  <a:lnTo>
                    <a:pt x="536" y="1852"/>
                  </a:lnTo>
                  <a:lnTo>
                    <a:pt x="550" y="1858"/>
                  </a:lnTo>
                  <a:lnTo>
                    <a:pt x="550" y="1858"/>
                  </a:lnTo>
                  <a:lnTo>
                    <a:pt x="562" y="1860"/>
                  </a:lnTo>
                  <a:lnTo>
                    <a:pt x="572" y="1866"/>
                  </a:lnTo>
                  <a:lnTo>
                    <a:pt x="580" y="1872"/>
                  </a:lnTo>
                  <a:lnTo>
                    <a:pt x="584" y="1882"/>
                  </a:lnTo>
                  <a:lnTo>
                    <a:pt x="586" y="1892"/>
                  </a:lnTo>
                  <a:lnTo>
                    <a:pt x="588" y="1904"/>
                  </a:lnTo>
                  <a:lnTo>
                    <a:pt x="588" y="1928"/>
                  </a:lnTo>
                  <a:lnTo>
                    <a:pt x="588" y="1956"/>
                  </a:lnTo>
                  <a:lnTo>
                    <a:pt x="588" y="1980"/>
                  </a:lnTo>
                  <a:lnTo>
                    <a:pt x="590" y="1990"/>
                  </a:lnTo>
                  <a:lnTo>
                    <a:pt x="594" y="2000"/>
                  </a:lnTo>
                  <a:lnTo>
                    <a:pt x="600" y="2008"/>
                  </a:lnTo>
                  <a:lnTo>
                    <a:pt x="608" y="2012"/>
                  </a:lnTo>
                  <a:lnTo>
                    <a:pt x="608" y="2012"/>
                  </a:lnTo>
                  <a:lnTo>
                    <a:pt x="616" y="2034"/>
                  </a:lnTo>
                  <a:lnTo>
                    <a:pt x="624" y="2054"/>
                  </a:lnTo>
                  <a:lnTo>
                    <a:pt x="630" y="2072"/>
                  </a:lnTo>
                  <a:lnTo>
                    <a:pt x="632" y="2084"/>
                  </a:lnTo>
                  <a:lnTo>
                    <a:pt x="632" y="2094"/>
                  </a:lnTo>
                  <a:lnTo>
                    <a:pt x="632" y="2094"/>
                  </a:lnTo>
                  <a:lnTo>
                    <a:pt x="642" y="2104"/>
                  </a:lnTo>
                  <a:lnTo>
                    <a:pt x="648" y="2116"/>
                  </a:lnTo>
                  <a:lnTo>
                    <a:pt x="664" y="2142"/>
                  </a:lnTo>
                  <a:lnTo>
                    <a:pt x="672" y="2154"/>
                  </a:lnTo>
                  <a:lnTo>
                    <a:pt x="680" y="2164"/>
                  </a:lnTo>
                  <a:lnTo>
                    <a:pt x="692" y="2172"/>
                  </a:lnTo>
                  <a:lnTo>
                    <a:pt x="706" y="2176"/>
                  </a:lnTo>
                  <a:lnTo>
                    <a:pt x="706" y="2176"/>
                  </a:lnTo>
                  <a:lnTo>
                    <a:pt x="710" y="2190"/>
                  </a:lnTo>
                  <a:lnTo>
                    <a:pt x="718" y="2200"/>
                  </a:lnTo>
                  <a:lnTo>
                    <a:pt x="726" y="2208"/>
                  </a:lnTo>
                  <a:lnTo>
                    <a:pt x="736" y="2216"/>
                  </a:lnTo>
                  <a:lnTo>
                    <a:pt x="760" y="2228"/>
                  </a:lnTo>
                  <a:lnTo>
                    <a:pt x="770" y="2234"/>
                  </a:lnTo>
                  <a:lnTo>
                    <a:pt x="780" y="2242"/>
                  </a:lnTo>
                  <a:lnTo>
                    <a:pt x="780" y="2242"/>
                  </a:lnTo>
                  <a:lnTo>
                    <a:pt x="792" y="2252"/>
                  </a:lnTo>
                  <a:lnTo>
                    <a:pt x="804" y="2262"/>
                  </a:lnTo>
                  <a:lnTo>
                    <a:pt x="826" y="2284"/>
                  </a:lnTo>
                  <a:lnTo>
                    <a:pt x="838" y="2296"/>
                  </a:lnTo>
                  <a:lnTo>
                    <a:pt x="850" y="2304"/>
                  </a:lnTo>
                  <a:lnTo>
                    <a:pt x="864" y="2312"/>
                  </a:lnTo>
                  <a:lnTo>
                    <a:pt x="878" y="2316"/>
                  </a:lnTo>
                  <a:lnTo>
                    <a:pt x="878" y="2316"/>
                  </a:lnTo>
                  <a:lnTo>
                    <a:pt x="908" y="2338"/>
                  </a:lnTo>
                  <a:lnTo>
                    <a:pt x="922" y="2348"/>
                  </a:lnTo>
                  <a:lnTo>
                    <a:pt x="938" y="2356"/>
                  </a:lnTo>
                  <a:lnTo>
                    <a:pt x="956" y="2364"/>
                  </a:lnTo>
                  <a:lnTo>
                    <a:pt x="974" y="2368"/>
                  </a:lnTo>
                  <a:lnTo>
                    <a:pt x="994" y="2372"/>
                  </a:lnTo>
                  <a:lnTo>
                    <a:pt x="1016" y="2372"/>
                  </a:lnTo>
                  <a:lnTo>
                    <a:pt x="1016" y="2382"/>
                  </a:lnTo>
                  <a:lnTo>
                    <a:pt x="1016" y="2382"/>
                  </a:lnTo>
                  <a:lnTo>
                    <a:pt x="1026" y="2380"/>
                  </a:lnTo>
                  <a:lnTo>
                    <a:pt x="1032" y="2378"/>
                  </a:lnTo>
                  <a:lnTo>
                    <a:pt x="1038" y="2380"/>
                  </a:lnTo>
                  <a:lnTo>
                    <a:pt x="1044" y="2384"/>
                  </a:lnTo>
                  <a:lnTo>
                    <a:pt x="1054" y="2390"/>
                  </a:lnTo>
                  <a:lnTo>
                    <a:pt x="1066" y="2398"/>
                  </a:lnTo>
                  <a:lnTo>
                    <a:pt x="1066" y="2398"/>
                  </a:lnTo>
                  <a:lnTo>
                    <a:pt x="1074" y="2398"/>
                  </a:lnTo>
                  <a:lnTo>
                    <a:pt x="1082" y="2400"/>
                  </a:lnTo>
                  <a:lnTo>
                    <a:pt x="1096" y="2406"/>
                  </a:lnTo>
                  <a:lnTo>
                    <a:pt x="1108" y="2414"/>
                  </a:lnTo>
                  <a:lnTo>
                    <a:pt x="1116" y="2422"/>
                  </a:lnTo>
                  <a:lnTo>
                    <a:pt x="1116" y="2422"/>
                  </a:lnTo>
                  <a:lnTo>
                    <a:pt x="1130" y="2422"/>
                  </a:lnTo>
                  <a:lnTo>
                    <a:pt x="1140" y="2424"/>
                  </a:lnTo>
                  <a:lnTo>
                    <a:pt x="1160" y="2430"/>
                  </a:lnTo>
                  <a:lnTo>
                    <a:pt x="1176" y="2432"/>
                  </a:lnTo>
                  <a:lnTo>
                    <a:pt x="1186" y="2432"/>
                  </a:lnTo>
                  <a:lnTo>
                    <a:pt x="1196" y="2430"/>
                  </a:lnTo>
                  <a:lnTo>
                    <a:pt x="1196" y="2438"/>
                  </a:lnTo>
                  <a:lnTo>
                    <a:pt x="1196" y="2438"/>
                  </a:lnTo>
                  <a:lnTo>
                    <a:pt x="1296" y="2438"/>
                  </a:lnTo>
                  <a:lnTo>
                    <a:pt x="1296" y="2446"/>
                  </a:lnTo>
                  <a:lnTo>
                    <a:pt x="1296" y="2446"/>
                  </a:lnTo>
                  <a:lnTo>
                    <a:pt x="1314" y="2448"/>
                  </a:lnTo>
                  <a:lnTo>
                    <a:pt x="1324" y="2450"/>
                  </a:lnTo>
                  <a:lnTo>
                    <a:pt x="1326" y="2452"/>
                  </a:lnTo>
                  <a:lnTo>
                    <a:pt x="1328" y="2454"/>
                  </a:lnTo>
                  <a:lnTo>
                    <a:pt x="1328" y="2454"/>
                  </a:lnTo>
                  <a:lnTo>
                    <a:pt x="1358" y="2458"/>
                  </a:lnTo>
                  <a:lnTo>
                    <a:pt x="1382" y="2456"/>
                  </a:lnTo>
                  <a:lnTo>
                    <a:pt x="1434" y="2446"/>
                  </a:lnTo>
                  <a:lnTo>
                    <a:pt x="1434" y="2446"/>
                  </a:lnTo>
                  <a:lnTo>
                    <a:pt x="1442" y="2438"/>
                  </a:lnTo>
                  <a:lnTo>
                    <a:pt x="1450" y="2430"/>
                  </a:lnTo>
                  <a:lnTo>
                    <a:pt x="1466" y="2416"/>
                  </a:lnTo>
                  <a:lnTo>
                    <a:pt x="1484" y="2402"/>
                  </a:lnTo>
                  <a:lnTo>
                    <a:pt x="1492" y="2392"/>
                  </a:lnTo>
                  <a:lnTo>
                    <a:pt x="1500" y="2382"/>
                  </a:lnTo>
                  <a:lnTo>
                    <a:pt x="1500" y="2382"/>
                  </a:lnTo>
                  <a:lnTo>
                    <a:pt x="1516" y="2380"/>
                  </a:lnTo>
                  <a:lnTo>
                    <a:pt x="1528" y="2374"/>
                  </a:lnTo>
                  <a:lnTo>
                    <a:pt x="1538" y="2368"/>
                  </a:lnTo>
                  <a:lnTo>
                    <a:pt x="1548" y="2356"/>
                  </a:lnTo>
                  <a:lnTo>
                    <a:pt x="1548" y="2356"/>
                  </a:lnTo>
                  <a:lnTo>
                    <a:pt x="1562" y="2356"/>
                  </a:lnTo>
                  <a:lnTo>
                    <a:pt x="1574" y="2352"/>
                  </a:lnTo>
                  <a:lnTo>
                    <a:pt x="1584" y="2348"/>
                  </a:lnTo>
                  <a:lnTo>
                    <a:pt x="1592" y="2342"/>
                  </a:lnTo>
                  <a:lnTo>
                    <a:pt x="1606" y="2328"/>
                  </a:lnTo>
                  <a:lnTo>
                    <a:pt x="1622" y="2316"/>
                  </a:lnTo>
                  <a:lnTo>
                    <a:pt x="1622" y="2316"/>
                  </a:lnTo>
                  <a:lnTo>
                    <a:pt x="1640" y="2306"/>
                  </a:lnTo>
                  <a:lnTo>
                    <a:pt x="1656" y="2292"/>
                  </a:lnTo>
                  <a:lnTo>
                    <a:pt x="1672" y="2278"/>
                  </a:lnTo>
                  <a:lnTo>
                    <a:pt x="1686" y="2264"/>
                  </a:lnTo>
                  <a:lnTo>
                    <a:pt x="1712" y="2230"/>
                  </a:lnTo>
                  <a:lnTo>
                    <a:pt x="1736" y="2192"/>
                  </a:lnTo>
                  <a:lnTo>
                    <a:pt x="1736" y="2192"/>
                  </a:lnTo>
                  <a:lnTo>
                    <a:pt x="1740" y="2184"/>
                  </a:lnTo>
                  <a:lnTo>
                    <a:pt x="1746" y="2178"/>
                  </a:lnTo>
                  <a:lnTo>
                    <a:pt x="1752" y="2172"/>
                  </a:lnTo>
                  <a:lnTo>
                    <a:pt x="1760" y="2168"/>
                  </a:lnTo>
                  <a:lnTo>
                    <a:pt x="1770" y="2166"/>
                  </a:lnTo>
                  <a:lnTo>
                    <a:pt x="1780" y="2166"/>
                  </a:lnTo>
                  <a:lnTo>
                    <a:pt x="1790" y="2166"/>
                  </a:lnTo>
                  <a:lnTo>
                    <a:pt x="1802" y="2168"/>
                  </a:lnTo>
                  <a:lnTo>
                    <a:pt x="1802" y="2176"/>
                  </a:lnTo>
                  <a:lnTo>
                    <a:pt x="1810" y="2176"/>
                  </a:lnTo>
                  <a:lnTo>
                    <a:pt x="1810" y="2176"/>
                  </a:lnTo>
                  <a:lnTo>
                    <a:pt x="1822" y="2184"/>
                  </a:lnTo>
                  <a:lnTo>
                    <a:pt x="1828" y="2194"/>
                  </a:lnTo>
                  <a:lnTo>
                    <a:pt x="1834" y="2206"/>
                  </a:lnTo>
                  <a:lnTo>
                    <a:pt x="1836" y="2218"/>
                  </a:lnTo>
                  <a:lnTo>
                    <a:pt x="1836" y="2218"/>
                  </a:lnTo>
                  <a:lnTo>
                    <a:pt x="1840" y="2224"/>
                  </a:lnTo>
                  <a:lnTo>
                    <a:pt x="1844" y="2234"/>
                  </a:lnTo>
                  <a:lnTo>
                    <a:pt x="1846" y="2242"/>
                  </a:lnTo>
                  <a:lnTo>
                    <a:pt x="1852" y="2250"/>
                  </a:lnTo>
                  <a:lnTo>
                    <a:pt x="1852" y="2250"/>
                  </a:lnTo>
                  <a:lnTo>
                    <a:pt x="1852" y="2256"/>
                  </a:lnTo>
                  <a:lnTo>
                    <a:pt x="1856" y="2260"/>
                  </a:lnTo>
                  <a:lnTo>
                    <a:pt x="1862" y="2266"/>
                  </a:lnTo>
                  <a:lnTo>
                    <a:pt x="1866" y="2270"/>
                  </a:lnTo>
                  <a:lnTo>
                    <a:pt x="1868" y="2274"/>
                  </a:lnTo>
                  <a:lnTo>
                    <a:pt x="1870" y="2278"/>
                  </a:lnTo>
                  <a:lnTo>
                    <a:pt x="1868" y="2282"/>
                  </a:lnTo>
                  <a:lnTo>
                    <a:pt x="1868" y="2282"/>
                  </a:lnTo>
                  <a:lnTo>
                    <a:pt x="1898" y="2308"/>
                  </a:lnTo>
                  <a:lnTo>
                    <a:pt x="1930" y="2330"/>
                  </a:lnTo>
                  <a:lnTo>
                    <a:pt x="1964" y="2350"/>
                  </a:lnTo>
                  <a:lnTo>
                    <a:pt x="1980" y="2358"/>
                  </a:lnTo>
                  <a:lnTo>
                    <a:pt x="1998" y="2364"/>
                  </a:lnTo>
                  <a:lnTo>
                    <a:pt x="1998" y="2364"/>
                  </a:lnTo>
                  <a:lnTo>
                    <a:pt x="2006" y="2368"/>
                  </a:lnTo>
                  <a:lnTo>
                    <a:pt x="2012" y="2368"/>
                  </a:lnTo>
                  <a:lnTo>
                    <a:pt x="2026" y="2370"/>
                  </a:lnTo>
                  <a:lnTo>
                    <a:pt x="2040" y="2372"/>
                  </a:lnTo>
                  <a:lnTo>
                    <a:pt x="2044" y="2376"/>
                  </a:lnTo>
                  <a:lnTo>
                    <a:pt x="2048" y="2382"/>
                  </a:lnTo>
                  <a:lnTo>
                    <a:pt x="2162" y="2382"/>
                  </a:lnTo>
                  <a:lnTo>
                    <a:pt x="2162" y="2382"/>
                  </a:lnTo>
                  <a:lnTo>
                    <a:pt x="2172" y="2376"/>
                  </a:lnTo>
                  <a:lnTo>
                    <a:pt x="2182" y="2372"/>
                  </a:lnTo>
                  <a:lnTo>
                    <a:pt x="2200" y="2368"/>
                  </a:lnTo>
                  <a:lnTo>
                    <a:pt x="2222" y="2366"/>
                  </a:lnTo>
                  <a:lnTo>
                    <a:pt x="2242" y="2368"/>
                  </a:lnTo>
                  <a:lnTo>
                    <a:pt x="2286" y="2372"/>
                  </a:lnTo>
                  <a:lnTo>
                    <a:pt x="2310" y="2374"/>
                  </a:lnTo>
                  <a:lnTo>
                    <a:pt x="2334" y="2372"/>
                  </a:lnTo>
                  <a:lnTo>
                    <a:pt x="2334" y="2382"/>
                  </a:lnTo>
                  <a:lnTo>
                    <a:pt x="2350" y="2382"/>
                  </a:lnTo>
                  <a:lnTo>
                    <a:pt x="2350" y="2382"/>
                  </a:lnTo>
                  <a:lnTo>
                    <a:pt x="2380" y="2370"/>
                  </a:lnTo>
                  <a:lnTo>
                    <a:pt x="2408" y="2362"/>
                  </a:lnTo>
                  <a:lnTo>
                    <a:pt x="2440" y="2354"/>
                  </a:lnTo>
                  <a:lnTo>
                    <a:pt x="2474" y="2348"/>
                  </a:lnTo>
                  <a:lnTo>
                    <a:pt x="2474" y="2348"/>
                  </a:lnTo>
                  <a:lnTo>
                    <a:pt x="2474" y="2346"/>
                  </a:lnTo>
                  <a:lnTo>
                    <a:pt x="2476" y="2344"/>
                  </a:lnTo>
                  <a:lnTo>
                    <a:pt x="2482" y="2344"/>
                  </a:lnTo>
                  <a:lnTo>
                    <a:pt x="2490" y="2344"/>
                  </a:lnTo>
                  <a:lnTo>
                    <a:pt x="2494" y="2342"/>
                  </a:lnTo>
                  <a:lnTo>
                    <a:pt x="2498" y="2340"/>
                  </a:lnTo>
                  <a:lnTo>
                    <a:pt x="2498" y="2340"/>
                  </a:lnTo>
                  <a:lnTo>
                    <a:pt x="2508" y="2334"/>
                  </a:lnTo>
                  <a:lnTo>
                    <a:pt x="2516" y="2330"/>
                  </a:lnTo>
                  <a:lnTo>
                    <a:pt x="2536" y="2324"/>
                  </a:lnTo>
                  <a:lnTo>
                    <a:pt x="2580" y="2316"/>
                  </a:lnTo>
                  <a:lnTo>
                    <a:pt x="2580" y="2316"/>
                  </a:lnTo>
                  <a:lnTo>
                    <a:pt x="2600" y="2302"/>
                  </a:lnTo>
                  <a:lnTo>
                    <a:pt x="2622" y="2288"/>
                  </a:lnTo>
                  <a:lnTo>
                    <a:pt x="2640" y="2272"/>
                  </a:lnTo>
                  <a:lnTo>
                    <a:pt x="2660" y="2256"/>
                  </a:lnTo>
                  <a:lnTo>
                    <a:pt x="2678" y="2238"/>
                  </a:lnTo>
                  <a:lnTo>
                    <a:pt x="2694" y="2218"/>
                  </a:lnTo>
                  <a:lnTo>
                    <a:pt x="2726" y="2176"/>
                  </a:lnTo>
                  <a:lnTo>
                    <a:pt x="2726" y="2176"/>
                  </a:lnTo>
                  <a:lnTo>
                    <a:pt x="2736" y="2174"/>
                  </a:lnTo>
                  <a:lnTo>
                    <a:pt x="2744" y="2172"/>
                  </a:lnTo>
                  <a:lnTo>
                    <a:pt x="2758" y="2162"/>
                  </a:lnTo>
                  <a:lnTo>
                    <a:pt x="2768" y="2152"/>
                  </a:lnTo>
                  <a:lnTo>
                    <a:pt x="2778" y="2138"/>
                  </a:lnTo>
                  <a:lnTo>
                    <a:pt x="2796" y="2114"/>
                  </a:lnTo>
                  <a:lnTo>
                    <a:pt x="2806" y="2102"/>
                  </a:lnTo>
                  <a:lnTo>
                    <a:pt x="2816" y="2094"/>
                  </a:lnTo>
                  <a:lnTo>
                    <a:pt x="2816" y="2094"/>
                  </a:lnTo>
                  <a:lnTo>
                    <a:pt x="2842" y="2056"/>
                  </a:lnTo>
                  <a:lnTo>
                    <a:pt x="2854" y="2036"/>
                  </a:lnTo>
                  <a:lnTo>
                    <a:pt x="2866" y="2012"/>
                  </a:lnTo>
                  <a:lnTo>
                    <a:pt x="2866" y="2012"/>
                  </a:lnTo>
                  <a:lnTo>
                    <a:pt x="2872" y="2012"/>
                  </a:lnTo>
                  <a:lnTo>
                    <a:pt x="2874" y="2008"/>
                  </a:lnTo>
                  <a:lnTo>
                    <a:pt x="2878" y="1998"/>
                  </a:lnTo>
                  <a:lnTo>
                    <a:pt x="2882" y="1986"/>
                  </a:lnTo>
                  <a:lnTo>
                    <a:pt x="2886" y="1978"/>
                  </a:lnTo>
                  <a:lnTo>
                    <a:pt x="2890" y="1972"/>
                  </a:lnTo>
                  <a:lnTo>
                    <a:pt x="2890" y="1972"/>
                  </a:lnTo>
                  <a:lnTo>
                    <a:pt x="2888" y="1958"/>
                  </a:lnTo>
                  <a:lnTo>
                    <a:pt x="2890" y="1946"/>
                  </a:lnTo>
                  <a:lnTo>
                    <a:pt x="2892" y="1934"/>
                  </a:lnTo>
                  <a:lnTo>
                    <a:pt x="2898" y="1924"/>
                  </a:lnTo>
                  <a:lnTo>
                    <a:pt x="2910" y="1908"/>
                  </a:lnTo>
                  <a:lnTo>
                    <a:pt x="2924" y="1890"/>
                  </a:lnTo>
                  <a:lnTo>
                    <a:pt x="2924" y="1890"/>
                  </a:lnTo>
                  <a:lnTo>
                    <a:pt x="2934" y="1888"/>
                  </a:lnTo>
                  <a:lnTo>
                    <a:pt x="2944" y="1890"/>
                  </a:lnTo>
                  <a:lnTo>
                    <a:pt x="2952" y="1892"/>
                  </a:lnTo>
                  <a:lnTo>
                    <a:pt x="2958" y="1896"/>
                  </a:lnTo>
                  <a:lnTo>
                    <a:pt x="2970" y="1906"/>
                  </a:lnTo>
                  <a:lnTo>
                    <a:pt x="2974" y="1910"/>
                  </a:lnTo>
                  <a:lnTo>
                    <a:pt x="2980" y="1914"/>
                  </a:lnTo>
                  <a:lnTo>
                    <a:pt x="2988" y="1914"/>
                  </a:lnTo>
                  <a:lnTo>
                    <a:pt x="2988" y="1914"/>
                  </a:lnTo>
                  <a:lnTo>
                    <a:pt x="2994" y="1920"/>
                  </a:lnTo>
                  <a:lnTo>
                    <a:pt x="3000" y="1928"/>
                  </a:lnTo>
                  <a:lnTo>
                    <a:pt x="3004" y="1936"/>
                  </a:lnTo>
                  <a:lnTo>
                    <a:pt x="3006" y="1948"/>
                  </a:lnTo>
                  <a:lnTo>
                    <a:pt x="3006" y="1948"/>
                  </a:lnTo>
                  <a:lnTo>
                    <a:pt x="3022" y="1978"/>
                  </a:lnTo>
                  <a:lnTo>
                    <a:pt x="3040" y="2010"/>
                  </a:lnTo>
                  <a:lnTo>
                    <a:pt x="3052" y="2024"/>
                  </a:lnTo>
                  <a:lnTo>
                    <a:pt x="3064" y="2036"/>
                  </a:lnTo>
                  <a:lnTo>
                    <a:pt x="3078" y="2046"/>
                  </a:lnTo>
                  <a:lnTo>
                    <a:pt x="3096" y="2054"/>
                  </a:lnTo>
                  <a:lnTo>
                    <a:pt x="3096" y="2054"/>
                  </a:lnTo>
                  <a:lnTo>
                    <a:pt x="3106" y="2056"/>
                  </a:lnTo>
                  <a:lnTo>
                    <a:pt x="3116" y="2060"/>
                  </a:lnTo>
                  <a:lnTo>
                    <a:pt x="3124" y="2064"/>
                  </a:lnTo>
                  <a:lnTo>
                    <a:pt x="3130" y="2072"/>
                  </a:lnTo>
                  <a:lnTo>
                    <a:pt x="3144" y="2084"/>
                  </a:lnTo>
                  <a:lnTo>
                    <a:pt x="3152" y="2090"/>
                  </a:lnTo>
                  <a:lnTo>
                    <a:pt x="3160" y="2094"/>
                  </a:lnTo>
                  <a:lnTo>
                    <a:pt x="3160" y="2094"/>
                  </a:lnTo>
                  <a:lnTo>
                    <a:pt x="3174" y="2102"/>
                  </a:lnTo>
                  <a:lnTo>
                    <a:pt x="3188" y="2110"/>
                  </a:lnTo>
                  <a:lnTo>
                    <a:pt x="3216" y="2120"/>
                  </a:lnTo>
                  <a:lnTo>
                    <a:pt x="3244" y="2130"/>
                  </a:lnTo>
                  <a:lnTo>
                    <a:pt x="3256" y="2136"/>
                  </a:lnTo>
                  <a:lnTo>
                    <a:pt x="3266" y="2144"/>
                  </a:lnTo>
                  <a:lnTo>
                    <a:pt x="3266" y="2144"/>
                  </a:lnTo>
                  <a:lnTo>
                    <a:pt x="3280" y="2148"/>
                  </a:lnTo>
                  <a:lnTo>
                    <a:pt x="3292" y="2152"/>
                  </a:lnTo>
                  <a:lnTo>
                    <a:pt x="3304" y="2158"/>
                  </a:lnTo>
                  <a:lnTo>
                    <a:pt x="3316" y="2168"/>
                  </a:lnTo>
                  <a:lnTo>
                    <a:pt x="3316" y="2168"/>
                  </a:lnTo>
                  <a:lnTo>
                    <a:pt x="3336" y="2168"/>
                  </a:lnTo>
                  <a:lnTo>
                    <a:pt x="3356" y="2166"/>
                  </a:lnTo>
                  <a:lnTo>
                    <a:pt x="3378" y="2164"/>
                  </a:lnTo>
                  <a:lnTo>
                    <a:pt x="3388" y="2166"/>
                  </a:lnTo>
                  <a:lnTo>
                    <a:pt x="3398" y="2168"/>
                  </a:lnTo>
                  <a:lnTo>
                    <a:pt x="3398" y="2176"/>
                  </a:lnTo>
                  <a:lnTo>
                    <a:pt x="3438" y="2176"/>
                  </a:lnTo>
                  <a:lnTo>
                    <a:pt x="3438" y="2176"/>
                  </a:lnTo>
                  <a:lnTo>
                    <a:pt x="3442" y="2172"/>
                  </a:lnTo>
                  <a:lnTo>
                    <a:pt x="3448" y="2168"/>
                  </a:lnTo>
                  <a:lnTo>
                    <a:pt x="3456" y="2166"/>
                  </a:lnTo>
                  <a:lnTo>
                    <a:pt x="3466" y="2166"/>
                  </a:lnTo>
                  <a:lnTo>
                    <a:pt x="3504" y="2168"/>
                  </a:lnTo>
                  <a:lnTo>
                    <a:pt x="3504" y="2168"/>
                  </a:lnTo>
                  <a:lnTo>
                    <a:pt x="3510" y="2164"/>
                  </a:lnTo>
                  <a:lnTo>
                    <a:pt x="3518" y="2160"/>
                  </a:lnTo>
                  <a:lnTo>
                    <a:pt x="3532" y="2156"/>
                  </a:lnTo>
                  <a:lnTo>
                    <a:pt x="3544" y="2152"/>
                  </a:lnTo>
                  <a:lnTo>
                    <a:pt x="3550" y="2148"/>
                  </a:lnTo>
                  <a:lnTo>
                    <a:pt x="3554" y="2144"/>
                  </a:lnTo>
                  <a:lnTo>
                    <a:pt x="3554" y="2144"/>
                  </a:lnTo>
                  <a:lnTo>
                    <a:pt x="3562" y="2144"/>
                  </a:lnTo>
                  <a:lnTo>
                    <a:pt x="3570" y="2142"/>
                  </a:lnTo>
                  <a:lnTo>
                    <a:pt x="3586" y="2134"/>
                  </a:lnTo>
                  <a:lnTo>
                    <a:pt x="3602" y="2126"/>
                  </a:lnTo>
                  <a:lnTo>
                    <a:pt x="3618" y="2120"/>
                  </a:lnTo>
                  <a:lnTo>
                    <a:pt x="3618" y="2120"/>
                  </a:lnTo>
                  <a:lnTo>
                    <a:pt x="3632" y="2114"/>
                  </a:lnTo>
                  <a:lnTo>
                    <a:pt x="3644" y="2108"/>
                  </a:lnTo>
                  <a:lnTo>
                    <a:pt x="3658" y="2104"/>
                  </a:lnTo>
                  <a:lnTo>
                    <a:pt x="3676" y="2102"/>
                  </a:lnTo>
                  <a:lnTo>
                    <a:pt x="3676" y="2102"/>
                  </a:lnTo>
                  <a:lnTo>
                    <a:pt x="3688" y="2102"/>
                  </a:lnTo>
                  <a:lnTo>
                    <a:pt x="3696" y="2100"/>
                  </a:lnTo>
                  <a:lnTo>
                    <a:pt x="3712" y="2096"/>
                  </a:lnTo>
                  <a:lnTo>
                    <a:pt x="3728" y="2092"/>
                  </a:lnTo>
                  <a:lnTo>
                    <a:pt x="3738" y="2092"/>
                  </a:lnTo>
                  <a:lnTo>
                    <a:pt x="3750" y="2094"/>
                  </a:lnTo>
                  <a:lnTo>
                    <a:pt x="3750" y="2094"/>
                  </a:lnTo>
                  <a:lnTo>
                    <a:pt x="3754" y="2090"/>
                  </a:lnTo>
                  <a:lnTo>
                    <a:pt x="3758" y="2086"/>
                  </a:lnTo>
                  <a:lnTo>
                    <a:pt x="3770" y="2080"/>
                  </a:lnTo>
                  <a:lnTo>
                    <a:pt x="3782" y="2076"/>
                  </a:lnTo>
                  <a:lnTo>
                    <a:pt x="3790" y="2070"/>
                  </a:lnTo>
                  <a:lnTo>
                    <a:pt x="3790" y="2070"/>
                  </a:lnTo>
                  <a:lnTo>
                    <a:pt x="3806" y="2070"/>
                  </a:lnTo>
                  <a:lnTo>
                    <a:pt x="3806" y="2070"/>
                  </a:lnTo>
                  <a:lnTo>
                    <a:pt x="3808" y="2066"/>
                  </a:lnTo>
                  <a:lnTo>
                    <a:pt x="3810" y="2064"/>
                  </a:lnTo>
                  <a:lnTo>
                    <a:pt x="3816" y="2062"/>
                  </a:lnTo>
                  <a:lnTo>
                    <a:pt x="3816" y="2062"/>
                  </a:lnTo>
                  <a:lnTo>
                    <a:pt x="3824" y="2058"/>
                  </a:lnTo>
                  <a:lnTo>
                    <a:pt x="3834" y="2052"/>
                  </a:lnTo>
                  <a:lnTo>
                    <a:pt x="3850" y="2040"/>
                  </a:lnTo>
                  <a:lnTo>
                    <a:pt x="3866" y="2022"/>
                  </a:lnTo>
                  <a:lnTo>
                    <a:pt x="3880" y="2004"/>
                  </a:lnTo>
                  <a:lnTo>
                    <a:pt x="3880" y="2004"/>
                  </a:lnTo>
                  <a:lnTo>
                    <a:pt x="3888" y="1998"/>
                  </a:lnTo>
                  <a:lnTo>
                    <a:pt x="3894" y="1992"/>
                  </a:lnTo>
                  <a:lnTo>
                    <a:pt x="3900" y="1976"/>
                  </a:lnTo>
                  <a:lnTo>
                    <a:pt x="3908" y="1960"/>
                  </a:lnTo>
                  <a:lnTo>
                    <a:pt x="3914" y="1954"/>
                  </a:lnTo>
                  <a:lnTo>
                    <a:pt x="3922" y="1948"/>
                  </a:lnTo>
                  <a:lnTo>
                    <a:pt x="3922" y="1948"/>
                  </a:lnTo>
                  <a:lnTo>
                    <a:pt x="3922" y="1918"/>
                  </a:lnTo>
                  <a:lnTo>
                    <a:pt x="3924" y="1904"/>
                  </a:lnTo>
                  <a:lnTo>
                    <a:pt x="3930" y="1890"/>
                  </a:lnTo>
                  <a:lnTo>
                    <a:pt x="3930" y="1890"/>
                  </a:lnTo>
                  <a:lnTo>
                    <a:pt x="3936" y="1892"/>
                  </a:lnTo>
                  <a:lnTo>
                    <a:pt x="3940" y="1890"/>
                  </a:lnTo>
                  <a:lnTo>
                    <a:pt x="3942" y="1886"/>
                  </a:lnTo>
                  <a:lnTo>
                    <a:pt x="3942" y="1880"/>
                  </a:lnTo>
                  <a:lnTo>
                    <a:pt x="3942" y="1876"/>
                  </a:lnTo>
                  <a:lnTo>
                    <a:pt x="3944" y="1870"/>
                  </a:lnTo>
                  <a:lnTo>
                    <a:pt x="3946" y="1866"/>
                  </a:lnTo>
                  <a:lnTo>
                    <a:pt x="3954" y="1866"/>
                  </a:lnTo>
                  <a:lnTo>
                    <a:pt x="3954" y="1866"/>
                  </a:lnTo>
                  <a:lnTo>
                    <a:pt x="3958" y="1838"/>
                  </a:lnTo>
                  <a:lnTo>
                    <a:pt x="3960" y="1804"/>
                  </a:lnTo>
                  <a:lnTo>
                    <a:pt x="3958" y="1772"/>
                  </a:lnTo>
                  <a:lnTo>
                    <a:pt x="3954" y="1742"/>
                  </a:lnTo>
                  <a:lnTo>
                    <a:pt x="3946" y="1742"/>
                  </a:lnTo>
                  <a:lnTo>
                    <a:pt x="3946" y="1742"/>
                  </a:lnTo>
                  <a:lnTo>
                    <a:pt x="3942" y="1730"/>
                  </a:lnTo>
                  <a:lnTo>
                    <a:pt x="3940" y="1714"/>
                  </a:lnTo>
                  <a:lnTo>
                    <a:pt x="3942" y="1700"/>
                  </a:lnTo>
                  <a:lnTo>
                    <a:pt x="3946" y="1686"/>
                  </a:lnTo>
                  <a:lnTo>
                    <a:pt x="3954" y="1686"/>
                  </a:lnTo>
                  <a:lnTo>
                    <a:pt x="3954" y="1686"/>
                  </a:lnTo>
                  <a:lnTo>
                    <a:pt x="3950" y="1674"/>
                  </a:lnTo>
                  <a:lnTo>
                    <a:pt x="3952" y="1670"/>
                  </a:lnTo>
                  <a:lnTo>
                    <a:pt x="3954" y="1668"/>
                  </a:lnTo>
                  <a:lnTo>
                    <a:pt x="3956" y="1664"/>
                  </a:lnTo>
                  <a:lnTo>
                    <a:pt x="3960" y="1662"/>
                  </a:lnTo>
                  <a:lnTo>
                    <a:pt x="3970" y="1662"/>
                  </a:lnTo>
                  <a:lnTo>
                    <a:pt x="3970" y="1662"/>
                  </a:lnTo>
                  <a:lnTo>
                    <a:pt x="3982" y="1658"/>
                  </a:lnTo>
                  <a:lnTo>
                    <a:pt x="3994" y="1658"/>
                  </a:lnTo>
                  <a:lnTo>
                    <a:pt x="4004" y="1658"/>
                  </a:lnTo>
                  <a:lnTo>
                    <a:pt x="4014" y="1660"/>
                  </a:lnTo>
                  <a:lnTo>
                    <a:pt x="4022" y="1662"/>
                  </a:lnTo>
                  <a:lnTo>
                    <a:pt x="4030" y="1666"/>
                  </a:lnTo>
                  <a:lnTo>
                    <a:pt x="4044" y="1678"/>
                  </a:lnTo>
                  <a:lnTo>
                    <a:pt x="4044" y="1678"/>
                  </a:lnTo>
                  <a:lnTo>
                    <a:pt x="4048" y="1682"/>
                  </a:lnTo>
                  <a:lnTo>
                    <a:pt x="4052" y="1688"/>
                  </a:lnTo>
                  <a:lnTo>
                    <a:pt x="4064" y="1692"/>
                  </a:lnTo>
                  <a:lnTo>
                    <a:pt x="4076" y="1696"/>
                  </a:lnTo>
                  <a:lnTo>
                    <a:pt x="4084" y="1702"/>
                  </a:lnTo>
                  <a:lnTo>
                    <a:pt x="4084" y="1702"/>
                  </a:lnTo>
                  <a:lnTo>
                    <a:pt x="4100" y="1700"/>
                  </a:lnTo>
                  <a:lnTo>
                    <a:pt x="4112" y="1700"/>
                  </a:lnTo>
                  <a:lnTo>
                    <a:pt x="4126" y="1702"/>
                  </a:lnTo>
                  <a:lnTo>
                    <a:pt x="4138" y="1704"/>
                  </a:lnTo>
                  <a:lnTo>
                    <a:pt x="4160" y="1712"/>
                  </a:lnTo>
                  <a:lnTo>
                    <a:pt x="4184" y="1718"/>
                  </a:lnTo>
                  <a:lnTo>
                    <a:pt x="4184" y="1718"/>
                  </a:lnTo>
                  <a:lnTo>
                    <a:pt x="4188" y="1724"/>
                  </a:lnTo>
                  <a:lnTo>
                    <a:pt x="4194" y="1726"/>
                  </a:lnTo>
                  <a:lnTo>
                    <a:pt x="4208" y="1730"/>
                  </a:lnTo>
                  <a:lnTo>
                    <a:pt x="4222" y="1730"/>
                  </a:lnTo>
                  <a:lnTo>
                    <a:pt x="4228" y="1732"/>
                  </a:lnTo>
                  <a:lnTo>
                    <a:pt x="4232" y="1734"/>
                  </a:lnTo>
                  <a:lnTo>
                    <a:pt x="4232" y="1734"/>
                  </a:lnTo>
                  <a:lnTo>
                    <a:pt x="4262" y="1736"/>
                  </a:lnTo>
                  <a:lnTo>
                    <a:pt x="4292" y="1738"/>
                  </a:lnTo>
                  <a:lnTo>
                    <a:pt x="4346" y="1744"/>
                  </a:lnTo>
                  <a:lnTo>
                    <a:pt x="4374" y="1746"/>
                  </a:lnTo>
                  <a:lnTo>
                    <a:pt x="4402" y="1746"/>
                  </a:lnTo>
                  <a:lnTo>
                    <a:pt x="4432" y="1742"/>
                  </a:lnTo>
                  <a:lnTo>
                    <a:pt x="4462" y="1734"/>
                  </a:lnTo>
                  <a:lnTo>
                    <a:pt x="4462" y="1734"/>
                  </a:lnTo>
                  <a:lnTo>
                    <a:pt x="4470" y="1730"/>
                  </a:lnTo>
                  <a:lnTo>
                    <a:pt x="4478" y="1724"/>
                  </a:lnTo>
                  <a:lnTo>
                    <a:pt x="4494" y="1708"/>
                  </a:lnTo>
                  <a:lnTo>
                    <a:pt x="4510" y="1688"/>
                  </a:lnTo>
                  <a:lnTo>
                    <a:pt x="4526" y="1670"/>
                  </a:lnTo>
                  <a:lnTo>
                    <a:pt x="4526" y="1670"/>
                  </a:lnTo>
                  <a:lnTo>
                    <a:pt x="4528" y="1666"/>
                  </a:lnTo>
                  <a:lnTo>
                    <a:pt x="4530" y="1664"/>
                  </a:lnTo>
                  <a:lnTo>
                    <a:pt x="4536" y="1656"/>
                  </a:lnTo>
                  <a:lnTo>
                    <a:pt x="4552" y="1644"/>
                  </a:lnTo>
                  <a:lnTo>
                    <a:pt x="4552" y="1628"/>
                  </a:lnTo>
                  <a:lnTo>
                    <a:pt x="4552" y="1628"/>
                  </a:lnTo>
                  <a:lnTo>
                    <a:pt x="4556" y="1624"/>
                  </a:lnTo>
                  <a:lnTo>
                    <a:pt x="4560" y="1618"/>
                  </a:lnTo>
                  <a:lnTo>
                    <a:pt x="4564" y="1610"/>
                  </a:lnTo>
                  <a:lnTo>
                    <a:pt x="4566" y="1600"/>
                  </a:lnTo>
                  <a:lnTo>
                    <a:pt x="4568" y="1578"/>
                  </a:lnTo>
                  <a:lnTo>
                    <a:pt x="4568" y="1554"/>
                  </a:lnTo>
                  <a:lnTo>
                    <a:pt x="4576" y="1554"/>
                  </a:lnTo>
                  <a:lnTo>
                    <a:pt x="4576" y="1514"/>
                  </a:lnTo>
                  <a:lnTo>
                    <a:pt x="4576" y="1514"/>
                  </a:lnTo>
                  <a:lnTo>
                    <a:pt x="4572" y="1510"/>
                  </a:lnTo>
                  <a:lnTo>
                    <a:pt x="4568" y="1506"/>
                  </a:lnTo>
                  <a:lnTo>
                    <a:pt x="4568" y="1494"/>
                  </a:lnTo>
                  <a:lnTo>
                    <a:pt x="4566" y="1482"/>
                  </a:lnTo>
                  <a:lnTo>
                    <a:pt x="4564" y="1476"/>
                  </a:lnTo>
                  <a:lnTo>
                    <a:pt x="4560" y="1472"/>
                  </a:lnTo>
                  <a:lnTo>
                    <a:pt x="4560" y="14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2682720" y="876240"/>
              <a:ext cx="7547040" cy="4156200"/>
            </a:xfrm>
            <a:custGeom>
              <a:avLst/>
              <a:gdLst>
                <a:gd name="textAreaLeft" fmla="*/ 0 w 7547040"/>
                <a:gd name="textAreaRight" fmla="*/ 7547400 w 7547040"/>
                <a:gd name="textAreaTop" fmla="*/ 0 h 4156200"/>
                <a:gd name="textAreaBottom" fmla="*/ 4156560 h 4156200"/>
              </a:gdLst>
              <a:ahLst/>
              <a:rect l="textAreaLeft" t="textAreaTop" r="textAreaRight" b="textAreaBottom"/>
              <a:pathLst>
                <a:path w="4754" h="2618">
                  <a:moveTo>
                    <a:pt x="4696" y="1448"/>
                  </a:moveTo>
                  <a:lnTo>
                    <a:pt x="4696" y="1448"/>
                  </a:lnTo>
                  <a:lnTo>
                    <a:pt x="4696" y="1446"/>
                  </a:lnTo>
                  <a:lnTo>
                    <a:pt x="4694" y="1444"/>
                  </a:lnTo>
                  <a:lnTo>
                    <a:pt x="4690" y="1440"/>
                  </a:lnTo>
                  <a:lnTo>
                    <a:pt x="4686" y="1436"/>
                  </a:lnTo>
                  <a:lnTo>
                    <a:pt x="4686" y="1434"/>
                  </a:lnTo>
                  <a:lnTo>
                    <a:pt x="4688" y="1432"/>
                  </a:lnTo>
                  <a:lnTo>
                    <a:pt x="4688" y="1432"/>
                  </a:lnTo>
                  <a:lnTo>
                    <a:pt x="4620" y="1362"/>
                  </a:lnTo>
                  <a:lnTo>
                    <a:pt x="4588" y="1328"/>
                  </a:lnTo>
                  <a:lnTo>
                    <a:pt x="4558" y="1292"/>
                  </a:lnTo>
                  <a:lnTo>
                    <a:pt x="4558" y="1292"/>
                  </a:lnTo>
                  <a:lnTo>
                    <a:pt x="4536" y="1284"/>
                  </a:lnTo>
                  <a:lnTo>
                    <a:pt x="4518" y="1272"/>
                  </a:lnTo>
                  <a:lnTo>
                    <a:pt x="4478" y="1250"/>
                  </a:lnTo>
                  <a:lnTo>
                    <a:pt x="4458" y="1240"/>
                  </a:lnTo>
                  <a:lnTo>
                    <a:pt x="4436" y="1230"/>
                  </a:lnTo>
                  <a:lnTo>
                    <a:pt x="4412" y="1224"/>
                  </a:lnTo>
                  <a:lnTo>
                    <a:pt x="4386" y="1220"/>
                  </a:lnTo>
                  <a:lnTo>
                    <a:pt x="4386" y="1212"/>
                  </a:lnTo>
                  <a:lnTo>
                    <a:pt x="4386" y="1212"/>
                  </a:lnTo>
                  <a:lnTo>
                    <a:pt x="4348" y="1200"/>
                  </a:lnTo>
                  <a:lnTo>
                    <a:pt x="4308" y="1188"/>
                  </a:lnTo>
                  <a:lnTo>
                    <a:pt x="4266" y="1182"/>
                  </a:lnTo>
                  <a:lnTo>
                    <a:pt x="4244" y="1180"/>
                  </a:lnTo>
                  <a:lnTo>
                    <a:pt x="4222" y="1178"/>
                  </a:lnTo>
                  <a:lnTo>
                    <a:pt x="4222" y="1178"/>
                  </a:lnTo>
                  <a:lnTo>
                    <a:pt x="4222" y="1194"/>
                  </a:lnTo>
                  <a:lnTo>
                    <a:pt x="4222" y="1194"/>
                  </a:lnTo>
                  <a:lnTo>
                    <a:pt x="4214" y="1194"/>
                  </a:lnTo>
                  <a:lnTo>
                    <a:pt x="4206" y="1192"/>
                  </a:lnTo>
                  <a:lnTo>
                    <a:pt x="4196" y="1188"/>
                  </a:lnTo>
                  <a:lnTo>
                    <a:pt x="4192" y="1184"/>
                  </a:lnTo>
                  <a:lnTo>
                    <a:pt x="4190" y="1178"/>
                  </a:lnTo>
                  <a:lnTo>
                    <a:pt x="4190" y="1178"/>
                  </a:lnTo>
                  <a:lnTo>
                    <a:pt x="4194" y="1150"/>
                  </a:lnTo>
                  <a:lnTo>
                    <a:pt x="4198" y="1120"/>
                  </a:lnTo>
                  <a:lnTo>
                    <a:pt x="4202" y="1090"/>
                  </a:lnTo>
                  <a:lnTo>
                    <a:pt x="4202" y="1060"/>
                  </a:lnTo>
                  <a:lnTo>
                    <a:pt x="4202" y="1030"/>
                  </a:lnTo>
                  <a:lnTo>
                    <a:pt x="4198" y="998"/>
                  </a:lnTo>
                  <a:lnTo>
                    <a:pt x="4194" y="970"/>
                  </a:lnTo>
                  <a:lnTo>
                    <a:pt x="4190" y="942"/>
                  </a:lnTo>
                  <a:lnTo>
                    <a:pt x="4190" y="942"/>
                  </a:lnTo>
                  <a:lnTo>
                    <a:pt x="4184" y="934"/>
                  </a:lnTo>
                  <a:lnTo>
                    <a:pt x="4180" y="924"/>
                  </a:lnTo>
                  <a:lnTo>
                    <a:pt x="4178" y="912"/>
                  </a:lnTo>
                  <a:lnTo>
                    <a:pt x="4178" y="906"/>
                  </a:lnTo>
                  <a:lnTo>
                    <a:pt x="4182" y="900"/>
                  </a:lnTo>
                  <a:lnTo>
                    <a:pt x="4182" y="900"/>
                  </a:lnTo>
                  <a:lnTo>
                    <a:pt x="4174" y="898"/>
                  </a:lnTo>
                  <a:lnTo>
                    <a:pt x="4168" y="894"/>
                  </a:lnTo>
                  <a:lnTo>
                    <a:pt x="4162" y="890"/>
                  </a:lnTo>
                  <a:lnTo>
                    <a:pt x="4158" y="882"/>
                  </a:lnTo>
                  <a:lnTo>
                    <a:pt x="4154" y="870"/>
                  </a:lnTo>
                  <a:lnTo>
                    <a:pt x="4152" y="864"/>
                  </a:lnTo>
                  <a:lnTo>
                    <a:pt x="4148" y="860"/>
                  </a:lnTo>
                  <a:lnTo>
                    <a:pt x="4148" y="860"/>
                  </a:lnTo>
                  <a:lnTo>
                    <a:pt x="4138" y="836"/>
                  </a:lnTo>
                  <a:lnTo>
                    <a:pt x="4128" y="814"/>
                  </a:lnTo>
                  <a:lnTo>
                    <a:pt x="4114" y="792"/>
                  </a:lnTo>
                  <a:lnTo>
                    <a:pt x="4100" y="772"/>
                  </a:lnTo>
                  <a:lnTo>
                    <a:pt x="4086" y="754"/>
                  </a:lnTo>
                  <a:lnTo>
                    <a:pt x="4070" y="736"/>
                  </a:lnTo>
                  <a:lnTo>
                    <a:pt x="4052" y="720"/>
                  </a:lnTo>
                  <a:lnTo>
                    <a:pt x="4034" y="704"/>
                  </a:lnTo>
                  <a:lnTo>
                    <a:pt x="4034" y="704"/>
                  </a:lnTo>
                  <a:lnTo>
                    <a:pt x="4028" y="692"/>
                  </a:lnTo>
                  <a:lnTo>
                    <a:pt x="4022" y="682"/>
                  </a:lnTo>
                  <a:lnTo>
                    <a:pt x="4014" y="672"/>
                  </a:lnTo>
                  <a:lnTo>
                    <a:pt x="4006" y="664"/>
                  </a:lnTo>
                  <a:lnTo>
                    <a:pt x="3996" y="658"/>
                  </a:lnTo>
                  <a:lnTo>
                    <a:pt x="3986" y="650"/>
                  </a:lnTo>
                  <a:lnTo>
                    <a:pt x="3964" y="640"/>
                  </a:lnTo>
                  <a:lnTo>
                    <a:pt x="3938" y="632"/>
                  </a:lnTo>
                  <a:lnTo>
                    <a:pt x="3914" y="626"/>
                  </a:lnTo>
                  <a:lnTo>
                    <a:pt x="3862" y="614"/>
                  </a:lnTo>
                  <a:lnTo>
                    <a:pt x="3862" y="614"/>
                  </a:lnTo>
                  <a:lnTo>
                    <a:pt x="3848" y="610"/>
                  </a:lnTo>
                  <a:lnTo>
                    <a:pt x="3830" y="606"/>
                  </a:lnTo>
                  <a:lnTo>
                    <a:pt x="3812" y="602"/>
                  </a:lnTo>
                  <a:lnTo>
                    <a:pt x="3796" y="598"/>
                  </a:lnTo>
                  <a:lnTo>
                    <a:pt x="3796" y="598"/>
                  </a:lnTo>
                  <a:lnTo>
                    <a:pt x="3778" y="596"/>
                  </a:lnTo>
                  <a:lnTo>
                    <a:pt x="3770" y="594"/>
                  </a:lnTo>
                  <a:lnTo>
                    <a:pt x="3764" y="590"/>
                  </a:lnTo>
                  <a:lnTo>
                    <a:pt x="3764" y="582"/>
                  </a:lnTo>
                  <a:lnTo>
                    <a:pt x="3764" y="582"/>
                  </a:lnTo>
                  <a:lnTo>
                    <a:pt x="3746" y="584"/>
                  </a:lnTo>
                  <a:lnTo>
                    <a:pt x="3728" y="584"/>
                  </a:lnTo>
                  <a:lnTo>
                    <a:pt x="3694" y="582"/>
                  </a:lnTo>
                  <a:lnTo>
                    <a:pt x="3660" y="578"/>
                  </a:lnTo>
                  <a:lnTo>
                    <a:pt x="3644" y="580"/>
                  </a:lnTo>
                  <a:lnTo>
                    <a:pt x="3624" y="582"/>
                  </a:lnTo>
                  <a:lnTo>
                    <a:pt x="3624" y="590"/>
                  </a:lnTo>
                  <a:lnTo>
                    <a:pt x="3624" y="590"/>
                  </a:lnTo>
                  <a:lnTo>
                    <a:pt x="3618" y="594"/>
                  </a:lnTo>
                  <a:lnTo>
                    <a:pt x="3612" y="596"/>
                  </a:lnTo>
                  <a:lnTo>
                    <a:pt x="3600" y="598"/>
                  </a:lnTo>
                  <a:lnTo>
                    <a:pt x="3600" y="598"/>
                  </a:lnTo>
                  <a:lnTo>
                    <a:pt x="3582" y="606"/>
                  </a:lnTo>
                  <a:lnTo>
                    <a:pt x="3562" y="616"/>
                  </a:lnTo>
                  <a:lnTo>
                    <a:pt x="3552" y="620"/>
                  </a:lnTo>
                  <a:lnTo>
                    <a:pt x="3542" y="622"/>
                  </a:lnTo>
                  <a:lnTo>
                    <a:pt x="3530" y="624"/>
                  </a:lnTo>
                  <a:lnTo>
                    <a:pt x="3518" y="622"/>
                  </a:lnTo>
                  <a:lnTo>
                    <a:pt x="3518" y="622"/>
                  </a:lnTo>
                  <a:lnTo>
                    <a:pt x="3508" y="610"/>
                  </a:lnTo>
                  <a:lnTo>
                    <a:pt x="3502" y="600"/>
                  </a:lnTo>
                  <a:lnTo>
                    <a:pt x="3500" y="594"/>
                  </a:lnTo>
                  <a:lnTo>
                    <a:pt x="3500" y="588"/>
                  </a:lnTo>
                  <a:lnTo>
                    <a:pt x="3502" y="572"/>
                  </a:lnTo>
                  <a:lnTo>
                    <a:pt x="3502" y="572"/>
                  </a:lnTo>
                  <a:lnTo>
                    <a:pt x="3492" y="560"/>
                  </a:lnTo>
                  <a:lnTo>
                    <a:pt x="3486" y="548"/>
                  </a:lnTo>
                  <a:lnTo>
                    <a:pt x="3482" y="536"/>
                  </a:lnTo>
                  <a:lnTo>
                    <a:pt x="3478" y="524"/>
                  </a:lnTo>
                  <a:lnTo>
                    <a:pt x="3478" y="524"/>
                  </a:lnTo>
                  <a:lnTo>
                    <a:pt x="3478" y="492"/>
                  </a:lnTo>
                  <a:lnTo>
                    <a:pt x="3478" y="492"/>
                  </a:lnTo>
                  <a:lnTo>
                    <a:pt x="3454" y="468"/>
                  </a:lnTo>
                  <a:lnTo>
                    <a:pt x="3432" y="448"/>
                  </a:lnTo>
                  <a:lnTo>
                    <a:pt x="3422" y="436"/>
                  </a:lnTo>
                  <a:lnTo>
                    <a:pt x="3414" y="424"/>
                  </a:lnTo>
                  <a:lnTo>
                    <a:pt x="3408" y="410"/>
                  </a:lnTo>
                  <a:lnTo>
                    <a:pt x="3404" y="392"/>
                  </a:lnTo>
                  <a:lnTo>
                    <a:pt x="3404" y="392"/>
                  </a:lnTo>
                  <a:lnTo>
                    <a:pt x="3390" y="372"/>
                  </a:lnTo>
                  <a:lnTo>
                    <a:pt x="3374" y="354"/>
                  </a:lnTo>
                  <a:lnTo>
                    <a:pt x="3356" y="336"/>
                  </a:lnTo>
                  <a:lnTo>
                    <a:pt x="3336" y="320"/>
                  </a:lnTo>
                  <a:lnTo>
                    <a:pt x="3296" y="284"/>
                  </a:lnTo>
                  <a:lnTo>
                    <a:pt x="3276" y="266"/>
                  </a:lnTo>
                  <a:lnTo>
                    <a:pt x="3256" y="246"/>
                  </a:lnTo>
                  <a:lnTo>
                    <a:pt x="3256" y="246"/>
                  </a:lnTo>
                  <a:lnTo>
                    <a:pt x="3226" y="232"/>
                  </a:lnTo>
                  <a:lnTo>
                    <a:pt x="3196" y="216"/>
                  </a:lnTo>
                  <a:lnTo>
                    <a:pt x="3134" y="180"/>
                  </a:lnTo>
                  <a:lnTo>
                    <a:pt x="3134" y="180"/>
                  </a:lnTo>
                  <a:lnTo>
                    <a:pt x="3126" y="178"/>
                  </a:lnTo>
                  <a:lnTo>
                    <a:pt x="3114" y="174"/>
                  </a:lnTo>
                  <a:lnTo>
                    <a:pt x="3102" y="166"/>
                  </a:lnTo>
                  <a:lnTo>
                    <a:pt x="3096" y="162"/>
                  </a:lnTo>
                  <a:lnTo>
                    <a:pt x="3094" y="156"/>
                  </a:lnTo>
                  <a:lnTo>
                    <a:pt x="3036" y="148"/>
                  </a:lnTo>
                  <a:lnTo>
                    <a:pt x="2880" y="148"/>
                  </a:lnTo>
                  <a:lnTo>
                    <a:pt x="2880" y="148"/>
                  </a:lnTo>
                  <a:lnTo>
                    <a:pt x="2864" y="154"/>
                  </a:lnTo>
                  <a:lnTo>
                    <a:pt x="2846" y="158"/>
                  </a:lnTo>
                  <a:lnTo>
                    <a:pt x="2828" y="160"/>
                  </a:lnTo>
                  <a:lnTo>
                    <a:pt x="2806" y="156"/>
                  </a:lnTo>
                  <a:lnTo>
                    <a:pt x="2806" y="156"/>
                  </a:lnTo>
                  <a:lnTo>
                    <a:pt x="2788" y="168"/>
                  </a:lnTo>
                  <a:lnTo>
                    <a:pt x="2768" y="178"/>
                  </a:lnTo>
                  <a:lnTo>
                    <a:pt x="2756" y="182"/>
                  </a:lnTo>
                  <a:lnTo>
                    <a:pt x="2744" y="186"/>
                  </a:lnTo>
                  <a:lnTo>
                    <a:pt x="2732" y="188"/>
                  </a:lnTo>
                  <a:lnTo>
                    <a:pt x="2716" y="188"/>
                  </a:lnTo>
                  <a:lnTo>
                    <a:pt x="2716" y="188"/>
                  </a:lnTo>
                  <a:lnTo>
                    <a:pt x="2692" y="200"/>
                  </a:lnTo>
                  <a:lnTo>
                    <a:pt x="2666" y="206"/>
                  </a:lnTo>
                  <a:lnTo>
                    <a:pt x="2640" y="212"/>
                  </a:lnTo>
                  <a:lnTo>
                    <a:pt x="2610" y="212"/>
                  </a:lnTo>
                  <a:lnTo>
                    <a:pt x="2610" y="222"/>
                  </a:lnTo>
                  <a:lnTo>
                    <a:pt x="2610" y="222"/>
                  </a:lnTo>
                  <a:lnTo>
                    <a:pt x="2610" y="226"/>
                  </a:lnTo>
                  <a:lnTo>
                    <a:pt x="2606" y="228"/>
                  </a:lnTo>
                  <a:lnTo>
                    <a:pt x="2594" y="230"/>
                  </a:lnTo>
                  <a:lnTo>
                    <a:pt x="2594" y="230"/>
                  </a:lnTo>
                  <a:lnTo>
                    <a:pt x="2574" y="236"/>
                  </a:lnTo>
                  <a:lnTo>
                    <a:pt x="2554" y="246"/>
                  </a:lnTo>
                  <a:lnTo>
                    <a:pt x="2532" y="258"/>
                  </a:lnTo>
                  <a:lnTo>
                    <a:pt x="2512" y="270"/>
                  </a:lnTo>
                  <a:lnTo>
                    <a:pt x="2512" y="270"/>
                  </a:lnTo>
                  <a:lnTo>
                    <a:pt x="2464" y="314"/>
                  </a:lnTo>
                  <a:lnTo>
                    <a:pt x="2418" y="358"/>
                  </a:lnTo>
                  <a:lnTo>
                    <a:pt x="2396" y="382"/>
                  </a:lnTo>
                  <a:lnTo>
                    <a:pt x="2376" y="406"/>
                  </a:lnTo>
                  <a:lnTo>
                    <a:pt x="2356" y="432"/>
                  </a:lnTo>
                  <a:lnTo>
                    <a:pt x="2340" y="458"/>
                  </a:lnTo>
                  <a:lnTo>
                    <a:pt x="2340" y="458"/>
                  </a:lnTo>
                  <a:lnTo>
                    <a:pt x="2328" y="460"/>
                  </a:lnTo>
                  <a:lnTo>
                    <a:pt x="2312" y="462"/>
                  </a:lnTo>
                  <a:lnTo>
                    <a:pt x="2300" y="462"/>
                  </a:lnTo>
                  <a:lnTo>
                    <a:pt x="2296" y="460"/>
                  </a:lnTo>
                  <a:lnTo>
                    <a:pt x="2292" y="458"/>
                  </a:lnTo>
                  <a:lnTo>
                    <a:pt x="2292" y="458"/>
                  </a:lnTo>
                  <a:lnTo>
                    <a:pt x="2286" y="448"/>
                  </a:lnTo>
                  <a:lnTo>
                    <a:pt x="2282" y="438"/>
                  </a:lnTo>
                  <a:lnTo>
                    <a:pt x="2276" y="414"/>
                  </a:lnTo>
                  <a:lnTo>
                    <a:pt x="2268" y="390"/>
                  </a:lnTo>
                  <a:lnTo>
                    <a:pt x="2264" y="378"/>
                  </a:lnTo>
                  <a:lnTo>
                    <a:pt x="2258" y="368"/>
                  </a:lnTo>
                  <a:lnTo>
                    <a:pt x="2258" y="368"/>
                  </a:lnTo>
                  <a:lnTo>
                    <a:pt x="2254" y="364"/>
                  </a:lnTo>
                  <a:lnTo>
                    <a:pt x="2250" y="358"/>
                  </a:lnTo>
                  <a:lnTo>
                    <a:pt x="2246" y="344"/>
                  </a:lnTo>
                  <a:lnTo>
                    <a:pt x="2242" y="338"/>
                  </a:lnTo>
                  <a:lnTo>
                    <a:pt x="2240" y="332"/>
                  </a:lnTo>
                  <a:lnTo>
                    <a:pt x="2234" y="328"/>
                  </a:lnTo>
                  <a:lnTo>
                    <a:pt x="2226" y="328"/>
                  </a:lnTo>
                  <a:lnTo>
                    <a:pt x="2226" y="328"/>
                  </a:lnTo>
                  <a:lnTo>
                    <a:pt x="2224" y="320"/>
                  </a:lnTo>
                  <a:lnTo>
                    <a:pt x="2222" y="312"/>
                  </a:lnTo>
                  <a:lnTo>
                    <a:pt x="2218" y="308"/>
                  </a:lnTo>
                  <a:lnTo>
                    <a:pt x="2212" y="302"/>
                  </a:lnTo>
                  <a:lnTo>
                    <a:pt x="2202" y="294"/>
                  </a:lnTo>
                  <a:lnTo>
                    <a:pt x="2198" y="286"/>
                  </a:lnTo>
                  <a:lnTo>
                    <a:pt x="2194" y="278"/>
                  </a:lnTo>
                  <a:lnTo>
                    <a:pt x="2194" y="278"/>
                  </a:lnTo>
                  <a:lnTo>
                    <a:pt x="2188" y="272"/>
                  </a:lnTo>
                  <a:lnTo>
                    <a:pt x="2182" y="262"/>
                  </a:lnTo>
                  <a:lnTo>
                    <a:pt x="2174" y="254"/>
                  </a:lnTo>
                  <a:lnTo>
                    <a:pt x="2168" y="246"/>
                  </a:lnTo>
                  <a:lnTo>
                    <a:pt x="2168" y="246"/>
                  </a:lnTo>
                  <a:lnTo>
                    <a:pt x="2150" y="222"/>
                  </a:lnTo>
                  <a:lnTo>
                    <a:pt x="2130" y="200"/>
                  </a:lnTo>
                  <a:lnTo>
                    <a:pt x="2110" y="178"/>
                  </a:lnTo>
                  <a:lnTo>
                    <a:pt x="2088" y="158"/>
                  </a:lnTo>
                  <a:lnTo>
                    <a:pt x="2066" y="138"/>
                  </a:lnTo>
                  <a:lnTo>
                    <a:pt x="2042" y="120"/>
                  </a:lnTo>
                  <a:lnTo>
                    <a:pt x="1988" y="82"/>
                  </a:lnTo>
                  <a:lnTo>
                    <a:pt x="1988" y="82"/>
                  </a:lnTo>
                  <a:lnTo>
                    <a:pt x="1952" y="68"/>
                  </a:lnTo>
                  <a:lnTo>
                    <a:pt x="1934" y="60"/>
                  </a:lnTo>
                  <a:lnTo>
                    <a:pt x="1916" y="50"/>
                  </a:lnTo>
                  <a:lnTo>
                    <a:pt x="1916" y="50"/>
                  </a:lnTo>
                  <a:lnTo>
                    <a:pt x="1890" y="50"/>
                  </a:lnTo>
                  <a:lnTo>
                    <a:pt x="1890" y="42"/>
                  </a:lnTo>
                  <a:lnTo>
                    <a:pt x="1890" y="42"/>
                  </a:lnTo>
                  <a:lnTo>
                    <a:pt x="1872" y="38"/>
                  </a:lnTo>
                  <a:lnTo>
                    <a:pt x="1852" y="38"/>
                  </a:lnTo>
                  <a:lnTo>
                    <a:pt x="1808" y="38"/>
                  </a:lnTo>
                  <a:lnTo>
                    <a:pt x="1766" y="36"/>
                  </a:lnTo>
                  <a:lnTo>
                    <a:pt x="1746" y="36"/>
                  </a:lnTo>
                  <a:lnTo>
                    <a:pt x="1726" y="34"/>
                  </a:lnTo>
                  <a:lnTo>
                    <a:pt x="1726" y="24"/>
                  </a:lnTo>
                  <a:lnTo>
                    <a:pt x="1726" y="24"/>
                  </a:lnTo>
                  <a:lnTo>
                    <a:pt x="1688" y="24"/>
                  </a:lnTo>
                  <a:lnTo>
                    <a:pt x="1668" y="22"/>
                  </a:lnTo>
                  <a:lnTo>
                    <a:pt x="1654" y="16"/>
                  </a:lnTo>
                  <a:lnTo>
                    <a:pt x="1654" y="8"/>
                  </a:lnTo>
                  <a:lnTo>
                    <a:pt x="1588" y="0"/>
                  </a:lnTo>
                  <a:lnTo>
                    <a:pt x="1456" y="0"/>
                  </a:lnTo>
                  <a:lnTo>
                    <a:pt x="1456" y="8"/>
                  </a:lnTo>
                  <a:lnTo>
                    <a:pt x="1456" y="8"/>
                  </a:lnTo>
                  <a:lnTo>
                    <a:pt x="1414" y="8"/>
                  </a:lnTo>
                  <a:lnTo>
                    <a:pt x="1374" y="6"/>
                  </a:lnTo>
                  <a:lnTo>
                    <a:pt x="1336" y="6"/>
                  </a:lnTo>
                  <a:lnTo>
                    <a:pt x="1318" y="6"/>
                  </a:lnTo>
                  <a:lnTo>
                    <a:pt x="1302" y="8"/>
                  </a:lnTo>
                  <a:lnTo>
                    <a:pt x="1302" y="8"/>
                  </a:lnTo>
                  <a:lnTo>
                    <a:pt x="1296" y="18"/>
                  </a:lnTo>
                  <a:lnTo>
                    <a:pt x="1288" y="22"/>
                  </a:lnTo>
                  <a:lnTo>
                    <a:pt x="1280" y="24"/>
                  </a:lnTo>
                  <a:lnTo>
                    <a:pt x="1268" y="24"/>
                  </a:lnTo>
                  <a:lnTo>
                    <a:pt x="1268" y="24"/>
                  </a:lnTo>
                  <a:lnTo>
                    <a:pt x="1266" y="30"/>
                  </a:lnTo>
                  <a:lnTo>
                    <a:pt x="1262" y="34"/>
                  </a:lnTo>
                  <a:lnTo>
                    <a:pt x="1252" y="40"/>
                  </a:lnTo>
                  <a:lnTo>
                    <a:pt x="1244" y="44"/>
                  </a:lnTo>
                  <a:lnTo>
                    <a:pt x="1236" y="50"/>
                  </a:lnTo>
                  <a:lnTo>
                    <a:pt x="1236" y="50"/>
                  </a:lnTo>
                  <a:lnTo>
                    <a:pt x="1212" y="50"/>
                  </a:lnTo>
                  <a:lnTo>
                    <a:pt x="1212" y="50"/>
                  </a:lnTo>
                  <a:lnTo>
                    <a:pt x="1208" y="54"/>
                  </a:lnTo>
                  <a:lnTo>
                    <a:pt x="1204" y="58"/>
                  </a:lnTo>
                  <a:lnTo>
                    <a:pt x="1196" y="64"/>
                  </a:lnTo>
                  <a:lnTo>
                    <a:pt x="1186" y="66"/>
                  </a:lnTo>
                  <a:lnTo>
                    <a:pt x="1178" y="66"/>
                  </a:lnTo>
                  <a:lnTo>
                    <a:pt x="1178" y="66"/>
                  </a:lnTo>
                  <a:lnTo>
                    <a:pt x="1160" y="74"/>
                  </a:lnTo>
                  <a:lnTo>
                    <a:pt x="1144" y="82"/>
                  </a:lnTo>
                  <a:lnTo>
                    <a:pt x="1130" y="92"/>
                  </a:lnTo>
                  <a:lnTo>
                    <a:pt x="1122" y="98"/>
                  </a:lnTo>
                  <a:lnTo>
                    <a:pt x="1122" y="98"/>
                  </a:lnTo>
                  <a:lnTo>
                    <a:pt x="1104" y="106"/>
                  </a:lnTo>
                  <a:lnTo>
                    <a:pt x="1090" y="116"/>
                  </a:lnTo>
                  <a:lnTo>
                    <a:pt x="1080" y="128"/>
                  </a:lnTo>
                  <a:lnTo>
                    <a:pt x="1072" y="140"/>
                  </a:lnTo>
                  <a:lnTo>
                    <a:pt x="1072" y="140"/>
                  </a:lnTo>
                  <a:lnTo>
                    <a:pt x="1054" y="150"/>
                  </a:lnTo>
                  <a:lnTo>
                    <a:pt x="1038" y="162"/>
                  </a:lnTo>
                  <a:lnTo>
                    <a:pt x="1022" y="176"/>
                  </a:lnTo>
                  <a:lnTo>
                    <a:pt x="1008" y="190"/>
                  </a:lnTo>
                  <a:lnTo>
                    <a:pt x="980" y="218"/>
                  </a:lnTo>
                  <a:lnTo>
                    <a:pt x="964" y="232"/>
                  </a:lnTo>
                  <a:lnTo>
                    <a:pt x="950" y="246"/>
                  </a:lnTo>
                  <a:lnTo>
                    <a:pt x="950" y="246"/>
                  </a:lnTo>
                  <a:lnTo>
                    <a:pt x="936" y="262"/>
                  </a:lnTo>
                  <a:lnTo>
                    <a:pt x="924" y="278"/>
                  </a:lnTo>
                  <a:lnTo>
                    <a:pt x="912" y="296"/>
                  </a:lnTo>
                  <a:lnTo>
                    <a:pt x="902" y="314"/>
                  </a:lnTo>
                  <a:lnTo>
                    <a:pt x="886" y="348"/>
                  </a:lnTo>
                  <a:lnTo>
                    <a:pt x="876" y="364"/>
                  </a:lnTo>
                  <a:lnTo>
                    <a:pt x="868" y="376"/>
                  </a:lnTo>
                  <a:lnTo>
                    <a:pt x="868" y="376"/>
                  </a:lnTo>
                  <a:lnTo>
                    <a:pt x="854" y="392"/>
                  </a:lnTo>
                  <a:lnTo>
                    <a:pt x="840" y="412"/>
                  </a:lnTo>
                  <a:lnTo>
                    <a:pt x="814" y="450"/>
                  </a:lnTo>
                  <a:lnTo>
                    <a:pt x="790" y="486"/>
                  </a:lnTo>
                  <a:lnTo>
                    <a:pt x="776" y="502"/>
                  </a:lnTo>
                  <a:lnTo>
                    <a:pt x="762" y="516"/>
                  </a:lnTo>
                  <a:lnTo>
                    <a:pt x="762" y="516"/>
                  </a:lnTo>
                  <a:lnTo>
                    <a:pt x="748" y="554"/>
                  </a:lnTo>
                  <a:lnTo>
                    <a:pt x="734" y="590"/>
                  </a:lnTo>
                  <a:lnTo>
                    <a:pt x="730" y="606"/>
                  </a:lnTo>
                  <a:lnTo>
                    <a:pt x="724" y="624"/>
                  </a:lnTo>
                  <a:lnTo>
                    <a:pt x="722" y="642"/>
                  </a:lnTo>
                  <a:lnTo>
                    <a:pt x="720" y="662"/>
                  </a:lnTo>
                  <a:lnTo>
                    <a:pt x="712" y="662"/>
                  </a:lnTo>
                  <a:lnTo>
                    <a:pt x="712" y="688"/>
                  </a:lnTo>
                  <a:lnTo>
                    <a:pt x="712" y="688"/>
                  </a:lnTo>
                  <a:lnTo>
                    <a:pt x="708" y="700"/>
                  </a:lnTo>
                  <a:lnTo>
                    <a:pt x="702" y="710"/>
                  </a:lnTo>
                  <a:lnTo>
                    <a:pt x="698" y="714"/>
                  </a:lnTo>
                  <a:lnTo>
                    <a:pt x="694" y="718"/>
                  </a:lnTo>
                  <a:lnTo>
                    <a:pt x="688" y="720"/>
                  </a:lnTo>
                  <a:lnTo>
                    <a:pt x="680" y="720"/>
                  </a:lnTo>
                  <a:lnTo>
                    <a:pt x="680" y="720"/>
                  </a:lnTo>
                  <a:lnTo>
                    <a:pt x="672" y="724"/>
                  </a:lnTo>
                  <a:lnTo>
                    <a:pt x="662" y="726"/>
                  </a:lnTo>
                  <a:lnTo>
                    <a:pt x="650" y="724"/>
                  </a:lnTo>
                  <a:lnTo>
                    <a:pt x="638" y="720"/>
                  </a:lnTo>
                  <a:lnTo>
                    <a:pt x="638" y="720"/>
                  </a:lnTo>
                  <a:lnTo>
                    <a:pt x="632" y="726"/>
                  </a:lnTo>
                  <a:lnTo>
                    <a:pt x="622" y="732"/>
                  </a:lnTo>
                  <a:lnTo>
                    <a:pt x="610" y="736"/>
                  </a:lnTo>
                  <a:lnTo>
                    <a:pt x="598" y="736"/>
                  </a:lnTo>
                  <a:lnTo>
                    <a:pt x="598" y="736"/>
                  </a:lnTo>
                  <a:lnTo>
                    <a:pt x="580" y="742"/>
                  </a:lnTo>
                  <a:lnTo>
                    <a:pt x="566" y="748"/>
                  </a:lnTo>
                  <a:lnTo>
                    <a:pt x="540" y="764"/>
                  </a:lnTo>
                  <a:lnTo>
                    <a:pt x="526" y="770"/>
                  </a:lnTo>
                  <a:lnTo>
                    <a:pt x="512" y="776"/>
                  </a:lnTo>
                  <a:lnTo>
                    <a:pt x="494" y="778"/>
                  </a:lnTo>
                  <a:lnTo>
                    <a:pt x="476" y="778"/>
                  </a:lnTo>
                  <a:lnTo>
                    <a:pt x="476" y="786"/>
                  </a:lnTo>
                  <a:lnTo>
                    <a:pt x="476" y="786"/>
                  </a:lnTo>
                  <a:lnTo>
                    <a:pt x="450" y="786"/>
                  </a:lnTo>
                  <a:lnTo>
                    <a:pt x="450" y="786"/>
                  </a:lnTo>
                  <a:lnTo>
                    <a:pt x="436" y="792"/>
                  </a:lnTo>
                  <a:lnTo>
                    <a:pt x="422" y="796"/>
                  </a:lnTo>
                  <a:lnTo>
                    <a:pt x="404" y="800"/>
                  </a:lnTo>
                  <a:lnTo>
                    <a:pt x="386" y="802"/>
                  </a:lnTo>
                  <a:lnTo>
                    <a:pt x="386" y="802"/>
                  </a:lnTo>
                  <a:lnTo>
                    <a:pt x="378" y="806"/>
                  </a:lnTo>
                  <a:lnTo>
                    <a:pt x="368" y="810"/>
                  </a:lnTo>
                  <a:lnTo>
                    <a:pt x="360" y="814"/>
                  </a:lnTo>
                  <a:lnTo>
                    <a:pt x="352" y="818"/>
                  </a:lnTo>
                  <a:lnTo>
                    <a:pt x="352" y="818"/>
                  </a:lnTo>
                  <a:lnTo>
                    <a:pt x="342" y="822"/>
                  </a:lnTo>
                  <a:lnTo>
                    <a:pt x="334" y="828"/>
                  </a:lnTo>
                  <a:lnTo>
                    <a:pt x="326" y="836"/>
                  </a:lnTo>
                  <a:lnTo>
                    <a:pt x="320" y="842"/>
                  </a:lnTo>
                  <a:lnTo>
                    <a:pt x="310" y="858"/>
                  </a:lnTo>
                  <a:lnTo>
                    <a:pt x="304" y="864"/>
                  </a:lnTo>
                  <a:lnTo>
                    <a:pt x="296" y="868"/>
                  </a:lnTo>
                  <a:lnTo>
                    <a:pt x="296" y="868"/>
                  </a:lnTo>
                  <a:lnTo>
                    <a:pt x="274" y="880"/>
                  </a:lnTo>
                  <a:lnTo>
                    <a:pt x="256" y="894"/>
                  </a:lnTo>
                  <a:lnTo>
                    <a:pt x="240" y="910"/>
                  </a:lnTo>
                  <a:lnTo>
                    <a:pt x="224" y="926"/>
                  </a:lnTo>
                  <a:lnTo>
                    <a:pt x="194" y="958"/>
                  </a:lnTo>
                  <a:lnTo>
                    <a:pt x="164" y="990"/>
                  </a:lnTo>
                  <a:lnTo>
                    <a:pt x="164" y="990"/>
                  </a:lnTo>
                  <a:lnTo>
                    <a:pt x="128" y="1028"/>
                  </a:lnTo>
                  <a:lnTo>
                    <a:pt x="110" y="1048"/>
                  </a:lnTo>
                  <a:lnTo>
                    <a:pt x="90" y="1072"/>
                  </a:lnTo>
                  <a:lnTo>
                    <a:pt x="90" y="1072"/>
                  </a:lnTo>
                  <a:lnTo>
                    <a:pt x="74" y="1094"/>
                  </a:lnTo>
                  <a:lnTo>
                    <a:pt x="58" y="1118"/>
                  </a:lnTo>
                  <a:lnTo>
                    <a:pt x="46" y="1142"/>
                  </a:lnTo>
                  <a:lnTo>
                    <a:pt x="34" y="1170"/>
                  </a:lnTo>
                  <a:lnTo>
                    <a:pt x="26" y="1196"/>
                  </a:lnTo>
                  <a:lnTo>
                    <a:pt x="18" y="1226"/>
                  </a:lnTo>
                  <a:lnTo>
                    <a:pt x="12" y="1254"/>
                  </a:lnTo>
                  <a:lnTo>
                    <a:pt x="8" y="1284"/>
                  </a:lnTo>
                  <a:lnTo>
                    <a:pt x="0" y="1284"/>
                  </a:lnTo>
                  <a:lnTo>
                    <a:pt x="0" y="1326"/>
                  </a:lnTo>
                  <a:lnTo>
                    <a:pt x="0" y="1326"/>
                  </a:lnTo>
                  <a:lnTo>
                    <a:pt x="0" y="1350"/>
                  </a:lnTo>
                  <a:lnTo>
                    <a:pt x="0" y="1374"/>
                  </a:lnTo>
                  <a:lnTo>
                    <a:pt x="2" y="1398"/>
                  </a:lnTo>
                  <a:lnTo>
                    <a:pt x="6" y="1420"/>
                  </a:lnTo>
                  <a:lnTo>
                    <a:pt x="14" y="1470"/>
                  </a:lnTo>
                  <a:lnTo>
                    <a:pt x="16" y="1496"/>
                  </a:lnTo>
                  <a:lnTo>
                    <a:pt x="18" y="1522"/>
                  </a:lnTo>
                  <a:lnTo>
                    <a:pt x="26" y="1522"/>
                  </a:lnTo>
                  <a:lnTo>
                    <a:pt x="26" y="1522"/>
                  </a:lnTo>
                  <a:lnTo>
                    <a:pt x="26" y="1530"/>
                  </a:lnTo>
                  <a:lnTo>
                    <a:pt x="28" y="1540"/>
                  </a:lnTo>
                  <a:lnTo>
                    <a:pt x="32" y="1554"/>
                  </a:lnTo>
                  <a:lnTo>
                    <a:pt x="36" y="1570"/>
                  </a:lnTo>
                  <a:lnTo>
                    <a:pt x="36" y="1578"/>
                  </a:lnTo>
                  <a:lnTo>
                    <a:pt x="34" y="1588"/>
                  </a:lnTo>
                  <a:lnTo>
                    <a:pt x="42" y="1588"/>
                  </a:lnTo>
                  <a:lnTo>
                    <a:pt x="42" y="1588"/>
                  </a:lnTo>
                  <a:lnTo>
                    <a:pt x="42" y="1612"/>
                  </a:lnTo>
                  <a:lnTo>
                    <a:pt x="42" y="1612"/>
                  </a:lnTo>
                  <a:lnTo>
                    <a:pt x="50" y="1616"/>
                  </a:lnTo>
                  <a:lnTo>
                    <a:pt x="54" y="1622"/>
                  </a:lnTo>
                  <a:lnTo>
                    <a:pt x="58" y="1630"/>
                  </a:lnTo>
                  <a:lnTo>
                    <a:pt x="62" y="1638"/>
                  </a:lnTo>
                  <a:lnTo>
                    <a:pt x="70" y="1654"/>
                  </a:lnTo>
                  <a:lnTo>
                    <a:pt x="74" y="1662"/>
                  </a:lnTo>
                  <a:lnTo>
                    <a:pt x="82" y="1670"/>
                  </a:lnTo>
                  <a:lnTo>
                    <a:pt x="82" y="1670"/>
                  </a:lnTo>
                  <a:lnTo>
                    <a:pt x="94" y="1696"/>
                  </a:lnTo>
                  <a:lnTo>
                    <a:pt x="106" y="1720"/>
                  </a:lnTo>
                  <a:lnTo>
                    <a:pt x="122" y="1744"/>
                  </a:lnTo>
                  <a:lnTo>
                    <a:pt x="138" y="1764"/>
                  </a:lnTo>
                  <a:lnTo>
                    <a:pt x="156" y="1784"/>
                  </a:lnTo>
                  <a:lnTo>
                    <a:pt x="176" y="1804"/>
                  </a:lnTo>
                  <a:lnTo>
                    <a:pt x="214" y="1842"/>
                  </a:lnTo>
                  <a:lnTo>
                    <a:pt x="214" y="1842"/>
                  </a:lnTo>
                  <a:lnTo>
                    <a:pt x="240" y="1860"/>
                  </a:lnTo>
                  <a:lnTo>
                    <a:pt x="266" y="1882"/>
                  </a:lnTo>
                  <a:lnTo>
                    <a:pt x="316" y="1926"/>
                  </a:lnTo>
                  <a:lnTo>
                    <a:pt x="342" y="1948"/>
                  </a:lnTo>
                  <a:lnTo>
                    <a:pt x="372" y="1966"/>
                  </a:lnTo>
                  <a:lnTo>
                    <a:pt x="388" y="1972"/>
                  </a:lnTo>
                  <a:lnTo>
                    <a:pt x="406" y="1980"/>
                  </a:lnTo>
                  <a:lnTo>
                    <a:pt x="424" y="1984"/>
                  </a:lnTo>
                  <a:lnTo>
                    <a:pt x="442" y="1988"/>
                  </a:lnTo>
                  <a:lnTo>
                    <a:pt x="442" y="1988"/>
                  </a:lnTo>
                  <a:lnTo>
                    <a:pt x="444" y="1994"/>
                  </a:lnTo>
                  <a:lnTo>
                    <a:pt x="450" y="1996"/>
                  </a:lnTo>
                  <a:lnTo>
                    <a:pt x="464" y="1996"/>
                  </a:lnTo>
                  <a:lnTo>
                    <a:pt x="480" y="1998"/>
                  </a:lnTo>
                  <a:lnTo>
                    <a:pt x="488" y="2000"/>
                  </a:lnTo>
                  <a:lnTo>
                    <a:pt x="492" y="2004"/>
                  </a:lnTo>
                  <a:lnTo>
                    <a:pt x="492" y="2004"/>
                  </a:lnTo>
                  <a:lnTo>
                    <a:pt x="504" y="2006"/>
                  </a:lnTo>
                  <a:lnTo>
                    <a:pt x="516" y="2010"/>
                  </a:lnTo>
                  <a:lnTo>
                    <a:pt x="524" y="2016"/>
                  </a:lnTo>
                  <a:lnTo>
                    <a:pt x="532" y="2022"/>
                  </a:lnTo>
                  <a:lnTo>
                    <a:pt x="532" y="2022"/>
                  </a:lnTo>
                  <a:lnTo>
                    <a:pt x="544" y="2024"/>
                  </a:lnTo>
                  <a:lnTo>
                    <a:pt x="552" y="2030"/>
                  </a:lnTo>
                  <a:lnTo>
                    <a:pt x="560" y="2036"/>
                  </a:lnTo>
                  <a:lnTo>
                    <a:pt x="566" y="2044"/>
                  </a:lnTo>
                  <a:lnTo>
                    <a:pt x="572" y="2054"/>
                  </a:lnTo>
                  <a:lnTo>
                    <a:pt x="576" y="2064"/>
                  </a:lnTo>
                  <a:lnTo>
                    <a:pt x="582" y="2086"/>
                  </a:lnTo>
                  <a:lnTo>
                    <a:pt x="582" y="2086"/>
                  </a:lnTo>
                  <a:lnTo>
                    <a:pt x="586" y="2092"/>
                  </a:lnTo>
                  <a:lnTo>
                    <a:pt x="588" y="2098"/>
                  </a:lnTo>
                  <a:lnTo>
                    <a:pt x="590" y="2102"/>
                  </a:lnTo>
                  <a:lnTo>
                    <a:pt x="590" y="2102"/>
                  </a:lnTo>
                  <a:lnTo>
                    <a:pt x="598" y="2124"/>
                  </a:lnTo>
                  <a:lnTo>
                    <a:pt x="606" y="2144"/>
                  </a:lnTo>
                  <a:lnTo>
                    <a:pt x="612" y="2162"/>
                  </a:lnTo>
                  <a:lnTo>
                    <a:pt x="614" y="2174"/>
                  </a:lnTo>
                  <a:lnTo>
                    <a:pt x="614" y="2184"/>
                  </a:lnTo>
                  <a:lnTo>
                    <a:pt x="614" y="2184"/>
                  </a:lnTo>
                  <a:lnTo>
                    <a:pt x="620" y="2188"/>
                  </a:lnTo>
                  <a:lnTo>
                    <a:pt x="624" y="2192"/>
                  </a:lnTo>
                  <a:lnTo>
                    <a:pt x="630" y="2200"/>
                  </a:lnTo>
                  <a:lnTo>
                    <a:pt x="634" y="2206"/>
                  </a:lnTo>
                  <a:lnTo>
                    <a:pt x="636" y="2208"/>
                  </a:lnTo>
                  <a:lnTo>
                    <a:pt x="638" y="2210"/>
                  </a:lnTo>
                  <a:lnTo>
                    <a:pt x="638" y="2210"/>
                  </a:lnTo>
                  <a:lnTo>
                    <a:pt x="640" y="2216"/>
                  </a:lnTo>
                  <a:lnTo>
                    <a:pt x="642" y="2222"/>
                  </a:lnTo>
                  <a:lnTo>
                    <a:pt x="646" y="2228"/>
                  </a:lnTo>
                  <a:lnTo>
                    <a:pt x="648" y="2234"/>
                  </a:lnTo>
                  <a:lnTo>
                    <a:pt x="648" y="2234"/>
                  </a:lnTo>
                  <a:lnTo>
                    <a:pt x="650" y="2234"/>
                  </a:lnTo>
                  <a:lnTo>
                    <a:pt x="652" y="2236"/>
                  </a:lnTo>
                  <a:lnTo>
                    <a:pt x="656" y="2242"/>
                  </a:lnTo>
                  <a:lnTo>
                    <a:pt x="658" y="2252"/>
                  </a:lnTo>
                  <a:lnTo>
                    <a:pt x="664" y="2258"/>
                  </a:lnTo>
                  <a:lnTo>
                    <a:pt x="664" y="2258"/>
                  </a:lnTo>
                  <a:lnTo>
                    <a:pt x="666" y="2268"/>
                  </a:lnTo>
                  <a:lnTo>
                    <a:pt x="668" y="2278"/>
                  </a:lnTo>
                  <a:lnTo>
                    <a:pt x="674" y="2286"/>
                  </a:lnTo>
                  <a:lnTo>
                    <a:pt x="678" y="2292"/>
                  </a:lnTo>
                  <a:lnTo>
                    <a:pt x="692" y="2304"/>
                  </a:lnTo>
                  <a:lnTo>
                    <a:pt x="706" y="2312"/>
                  </a:lnTo>
                  <a:lnTo>
                    <a:pt x="738" y="2328"/>
                  </a:lnTo>
                  <a:lnTo>
                    <a:pt x="750" y="2338"/>
                  </a:lnTo>
                  <a:lnTo>
                    <a:pt x="762" y="2348"/>
                  </a:lnTo>
                  <a:lnTo>
                    <a:pt x="762" y="2348"/>
                  </a:lnTo>
                  <a:lnTo>
                    <a:pt x="786" y="2370"/>
                  </a:lnTo>
                  <a:lnTo>
                    <a:pt x="794" y="2382"/>
                  </a:lnTo>
                  <a:lnTo>
                    <a:pt x="800" y="2388"/>
                  </a:lnTo>
                  <a:lnTo>
                    <a:pt x="802" y="2398"/>
                  </a:lnTo>
                  <a:lnTo>
                    <a:pt x="802" y="2398"/>
                  </a:lnTo>
                  <a:lnTo>
                    <a:pt x="822" y="2416"/>
                  </a:lnTo>
                  <a:lnTo>
                    <a:pt x="844" y="2432"/>
                  </a:lnTo>
                  <a:lnTo>
                    <a:pt x="866" y="2446"/>
                  </a:lnTo>
                  <a:lnTo>
                    <a:pt x="890" y="2460"/>
                  </a:lnTo>
                  <a:lnTo>
                    <a:pt x="940" y="2488"/>
                  </a:lnTo>
                  <a:lnTo>
                    <a:pt x="990" y="2512"/>
                  </a:lnTo>
                  <a:lnTo>
                    <a:pt x="990" y="2512"/>
                  </a:lnTo>
                  <a:lnTo>
                    <a:pt x="1002" y="2514"/>
                  </a:lnTo>
                  <a:lnTo>
                    <a:pt x="1016" y="2518"/>
                  </a:lnTo>
                  <a:lnTo>
                    <a:pt x="1040" y="2528"/>
                  </a:lnTo>
                  <a:lnTo>
                    <a:pt x="1040" y="2528"/>
                  </a:lnTo>
                  <a:lnTo>
                    <a:pt x="1064" y="2528"/>
                  </a:lnTo>
                  <a:lnTo>
                    <a:pt x="1064" y="2536"/>
                  </a:lnTo>
                  <a:lnTo>
                    <a:pt x="1096" y="2536"/>
                  </a:lnTo>
                  <a:lnTo>
                    <a:pt x="1096" y="2536"/>
                  </a:lnTo>
                  <a:lnTo>
                    <a:pt x="1116" y="2542"/>
                  </a:lnTo>
                  <a:lnTo>
                    <a:pt x="1132" y="2546"/>
                  </a:lnTo>
                  <a:lnTo>
                    <a:pt x="1148" y="2552"/>
                  </a:lnTo>
                  <a:lnTo>
                    <a:pt x="1156" y="2556"/>
                  </a:lnTo>
                  <a:lnTo>
                    <a:pt x="1162" y="2560"/>
                  </a:lnTo>
                  <a:lnTo>
                    <a:pt x="1170" y="2560"/>
                  </a:lnTo>
                  <a:lnTo>
                    <a:pt x="1170" y="2560"/>
                  </a:lnTo>
                  <a:lnTo>
                    <a:pt x="1176" y="2568"/>
                  </a:lnTo>
                  <a:lnTo>
                    <a:pt x="1182" y="2574"/>
                  </a:lnTo>
                  <a:lnTo>
                    <a:pt x="1190" y="2578"/>
                  </a:lnTo>
                  <a:lnTo>
                    <a:pt x="1200" y="2580"/>
                  </a:lnTo>
                  <a:lnTo>
                    <a:pt x="1220" y="2586"/>
                  </a:lnTo>
                  <a:lnTo>
                    <a:pt x="1228" y="2588"/>
                  </a:lnTo>
                  <a:lnTo>
                    <a:pt x="1236" y="2594"/>
                  </a:lnTo>
                  <a:lnTo>
                    <a:pt x="1236" y="2594"/>
                  </a:lnTo>
                  <a:lnTo>
                    <a:pt x="1262" y="2598"/>
                  </a:lnTo>
                  <a:lnTo>
                    <a:pt x="1288" y="2600"/>
                  </a:lnTo>
                  <a:lnTo>
                    <a:pt x="1344" y="2600"/>
                  </a:lnTo>
                  <a:lnTo>
                    <a:pt x="1372" y="2600"/>
                  </a:lnTo>
                  <a:lnTo>
                    <a:pt x="1398" y="2602"/>
                  </a:lnTo>
                  <a:lnTo>
                    <a:pt x="1420" y="2608"/>
                  </a:lnTo>
                  <a:lnTo>
                    <a:pt x="1430" y="2612"/>
                  </a:lnTo>
                  <a:lnTo>
                    <a:pt x="1440" y="2618"/>
                  </a:lnTo>
                  <a:lnTo>
                    <a:pt x="1440" y="2618"/>
                  </a:lnTo>
                  <a:lnTo>
                    <a:pt x="1450" y="2616"/>
                  </a:lnTo>
                  <a:lnTo>
                    <a:pt x="1460" y="2616"/>
                  </a:lnTo>
                  <a:lnTo>
                    <a:pt x="1478" y="2616"/>
                  </a:lnTo>
                  <a:lnTo>
                    <a:pt x="1486" y="2616"/>
                  </a:lnTo>
                  <a:lnTo>
                    <a:pt x="1492" y="2614"/>
                  </a:lnTo>
                  <a:lnTo>
                    <a:pt x="1496" y="2610"/>
                  </a:lnTo>
                  <a:lnTo>
                    <a:pt x="1498" y="2602"/>
                  </a:lnTo>
                  <a:lnTo>
                    <a:pt x="1498" y="2602"/>
                  </a:lnTo>
                  <a:lnTo>
                    <a:pt x="1522" y="2590"/>
                  </a:lnTo>
                  <a:lnTo>
                    <a:pt x="1548" y="2578"/>
                  </a:lnTo>
                  <a:lnTo>
                    <a:pt x="1574" y="2568"/>
                  </a:lnTo>
                  <a:lnTo>
                    <a:pt x="1604" y="2560"/>
                  </a:lnTo>
                  <a:lnTo>
                    <a:pt x="1604" y="2560"/>
                  </a:lnTo>
                  <a:lnTo>
                    <a:pt x="1616" y="2554"/>
                  </a:lnTo>
                  <a:lnTo>
                    <a:pt x="1628" y="2544"/>
                  </a:lnTo>
                  <a:lnTo>
                    <a:pt x="1654" y="2520"/>
                  </a:lnTo>
                  <a:lnTo>
                    <a:pt x="1654" y="2520"/>
                  </a:lnTo>
                  <a:lnTo>
                    <a:pt x="1706" y="2506"/>
                  </a:lnTo>
                  <a:lnTo>
                    <a:pt x="1734" y="2498"/>
                  </a:lnTo>
                  <a:lnTo>
                    <a:pt x="1760" y="2488"/>
                  </a:lnTo>
                  <a:lnTo>
                    <a:pt x="1760" y="2488"/>
                  </a:lnTo>
                  <a:lnTo>
                    <a:pt x="1784" y="2458"/>
                  </a:lnTo>
                  <a:lnTo>
                    <a:pt x="1798" y="2444"/>
                  </a:lnTo>
                  <a:lnTo>
                    <a:pt x="1812" y="2432"/>
                  </a:lnTo>
                  <a:lnTo>
                    <a:pt x="1828" y="2420"/>
                  </a:lnTo>
                  <a:lnTo>
                    <a:pt x="1844" y="2412"/>
                  </a:lnTo>
                  <a:lnTo>
                    <a:pt x="1862" y="2408"/>
                  </a:lnTo>
                  <a:lnTo>
                    <a:pt x="1882" y="2406"/>
                  </a:lnTo>
                  <a:lnTo>
                    <a:pt x="1882" y="2406"/>
                  </a:lnTo>
                  <a:lnTo>
                    <a:pt x="1958" y="2458"/>
                  </a:lnTo>
                  <a:lnTo>
                    <a:pt x="1996" y="2482"/>
                  </a:lnTo>
                  <a:lnTo>
                    <a:pt x="2016" y="2494"/>
                  </a:lnTo>
                  <a:lnTo>
                    <a:pt x="2038" y="2504"/>
                  </a:lnTo>
                  <a:lnTo>
                    <a:pt x="2038" y="2504"/>
                  </a:lnTo>
                  <a:lnTo>
                    <a:pt x="2060" y="2506"/>
                  </a:lnTo>
                  <a:lnTo>
                    <a:pt x="2080" y="2510"/>
                  </a:lnTo>
                  <a:lnTo>
                    <a:pt x="2098" y="2518"/>
                  </a:lnTo>
                  <a:lnTo>
                    <a:pt x="2112" y="2528"/>
                  </a:lnTo>
                  <a:lnTo>
                    <a:pt x="2160" y="2528"/>
                  </a:lnTo>
                  <a:lnTo>
                    <a:pt x="2160" y="2536"/>
                  </a:lnTo>
                  <a:lnTo>
                    <a:pt x="2210" y="2536"/>
                  </a:lnTo>
                  <a:lnTo>
                    <a:pt x="2210" y="2536"/>
                  </a:lnTo>
                  <a:lnTo>
                    <a:pt x="2214" y="2532"/>
                  </a:lnTo>
                  <a:lnTo>
                    <a:pt x="2218" y="2528"/>
                  </a:lnTo>
                  <a:lnTo>
                    <a:pt x="2224" y="2526"/>
                  </a:lnTo>
                  <a:lnTo>
                    <a:pt x="2232" y="2526"/>
                  </a:lnTo>
                  <a:lnTo>
                    <a:pt x="2258" y="2528"/>
                  </a:lnTo>
                  <a:lnTo>
                    <a:pt x="2258" y="2528"/>
                  </a:lnTo>
                  <a:lnTo>
                    <a:pt x="2270" y="2524"/>
                  </a:lnTo>
                  <a:lnTo>
                    <a:pt x="2282" y="2520"/>
                  </a:lnTo>
                  <a:lnTo>
                    <a:pt x="2298" y="2518"/>
                  </a:lnTo>
                  <a:lnTo>
                    <a:pt x="2312" y="2518"/>
                  </a:lnTo>
                  <a:lnTo>
                    <a:pt x="2374" y="2520"/>
                  </a:lnTo>
                  <a:lnTo>
                    <a:pt x="2374" y="2528"/>
                  </a:lnTo>
                  <a:lnTo>
                    <a:pt x="2430" y="2528"/>
                  </a:lnTo>
                  <a:lnTo>
                    <a:pt x="2430" y="2536"/>
                  </a:lnTo>
                  <a:lnTo>
                    <a:pt x="2438" y="2536"/>
                  </a:lnTo>
                  <a:lnTo>
                    <a:pt x="2438" y="2528"/>
                  </a:lnTo>
                  <a:lnTo>
                    <a:pt x="2438" y="2528"/>
                  </a:lnTo>
                  <a:lnTo>
                    <a:pt x="2472" y="2528"/>
                  </a:lnTo>
                  <a:lnTo>
                    <a:pt x="2472" y="2528"/>
                  </a:lnTo>
                  <a:lnTo>
                    <a:pt x="2484" y="2522"/>
                  </a:lnTo>
                  <a:lnTo>
                    <a:pt x="2498" y="2518"/>
                  </a:lnTo>
                  <a:lnTo>
                    <a:pt x="2516" y="2514"/>
                  </a:lnTo>
                  <a:lnTo>
                    <a:pt x="2536" y="2512"/>
                  </a:lnTo>
                  <a:lnTo>
                    <a:pt x="2536" y="2512"/>
                  </a:lnTo>
                  <a:lnTo>
                    <a:pt x="2556" y="2504"/>
                  </a:lnTo>
                  <a:lnTo>
                    <a:pt x="2574" y="2496"/>
                  </a:lnTo>
                  <a:lnTo>
                    <a:pt x="2596" y="2490"/>
                  </a:lnTo>
                  <a:lnTo>
                    <a:pt x="2606" y="2488"/>
                  </a:lnTo>
                  <a:lnTo>
                    <a:pt x="2618" y="2488"/>
                  </a:lnTo>
                  <a:lnTo>
                    <a:pt x="2618" y="2488"/>
                  </a:lnTo>
                  <a:lnTo>
                    <a:pt x="2628" y="2480"/>
                  </a:lnTo>
                  <a:lnTo>
                    <a:pt x="2638" y="2474"/>
                  </a:lnTo>
                  <a:lnTo>
                    <a:pt x="2648" y="2468"/>
                  </a:lnTo>
                  <a:lnTo>
                    <a:pt x="2658" y="2464"/>
                  </a:lnTo>
                  <a:lnTo>
                    <a:pt x="2680" y="2460"/>
                  </a:lnTo>
                  <a:lnTo>
                    <a:pt x="2708" y="2454"/>
                  </a:lnTo>
                  <a:lnTo>
                    <a:pt x="2708" y="2446"/>
                  </a:lnTo>
                  <a:lnTo>
                    <a:pt x="2708" y="2446"/>
                  </a:lnTo>
                  <a:lnTo>
                    <a:pt x="2726" y="2438"/>
                  </a:lnTo>
                  <a:lnTo>
                    <a:pt x="2744" y="2428"/>
                  </a:lnTo>
                  <a:lnTo>
                    <a:pt x="2776" y="2408"/>
                  </a:lnTo>
                  <a:lnTo>
                    <a:pt x="2808" y="2382"/>
                  </a:lnTo>
                  <a:lnTo>
                    <a:pt x="2836" y="2356"/>
                  </a:lnTo>
                  <a:lnTo>
                    <a:pt x="2862" y="2326"/>
                  </a:lnTo>
                  <a:lnTo>
                    <a:pt x="2888" y="2296"/>
                  </a:lnTo>
                  <a:lnTo>
                    <a:pt x="2938" y="2234"/>
                  </a:lnTo>
                  <a:lnTo>
                    <a:pt x="2938" y="2234"/>
                  </a:lnTo>
                  <a:lnTo>
                    <a:pt x="2938" y="2226"/>
                  </a:lnTo>
                  <a:lnTo>
                    <a:pt x="2940" y="2218"/>
                  </a:lnTo>
                  <a:lnTo>
                    <a:pt x="2944" y="2210"/>
                  </a:lnTo>
                  <a:lnTo>
                    <a:pt x="2948" y="2204"/>
                  </a:lnTo>
                  <a:lnTo>
                    <a:pt x="2960" y="2192"/>
                  </a:lnTo>
                  <a:lnTo>
                    <a:pt x="2972" y="2182"/>
                  </a:lnTo>
                  <a:lnTo>
                    <a:pt x="2986" y="2172"/>
                  </a:lnTo>
                  <a:lnTo>
                    <a:pt x="3000" y="2162"/>
                  </a:lnTo>
                  <a:lnTo>
                    <a:pt x="3012" y="2150"/>
                  </a:lnTo>
                  <a:lnTo>
                    <a:pt x="3016" y="2142"/>
                  </a:lnTo>
                  <a:lnTo>
                    <a:pt x="3020" y="2136"/>
                  </a:lnTo>
                  <a:lnTo>
                    <a:pt x="3020" y="2136"/>
                  </a:lnTo>
                  <a:lnTo>
                    <a:pt x="3020" y="2134"/>
                  </a:lnTo>
                  <a:lnTo>
                    <a:pt x="3022" y="2132"/>
                  </a:lnTo>
                  <a:lnTo>
                    <a:pt x="3028" y="2132"/>
                  </a:lnTo>
                  <a:lnTo>
                    <a:pt x="3034" y="2130"/>
                  </a:lnTo>
                  <a:lnTo>
                    <a:pt x="3036" y="2130"/>
                  </a:lnTo>
                  <a:lnTo>
                    <a:pt x="3036" y="2128"/>
                  </a:lnTo>
                  <a:lnTo>
                    <a:pt x="3036" y="2128"/>
                  </a:lnTo>
                  <a:lnTo>
                    <a:pt x="3038" y="2124"/>
                  </a:lnTo>
                  <a:lnTo>
                    <a:pt x="3042" y="2124"/>
                  </a:lnTo>
                  <a:lnTo>
                    <a:pt x="3046" y="2122"/>
                  </a:lnTo>
                  <a:lnTo>
                    <a:pt x="3052" y="2120"/>
                  </a:lnTo>
                  <a:lnTo>
                    <a:pt x="3052" y="2128"/>
                  </a:lnTo>
                  <a:lnTo>
                    <a:pt x="3052" y="2128"/>
                  </a:lnTo>
                  <a:lnTo>
                    <a:pt x="3072" y="2138"/>
                  </a:lnTo>
                  <a:lnTo>
                    <a:pt x="3092" y="2150"/>
                  </a:lnTo>
                  <a:lnTo>
                    <a:pt x="3126" y="2180"/>
                  </a:lnTo>
                  <a:lnTo>
                    <a:pt x="3142" y="2194"/>
                  </a:lnTo>
                  <a:lnTo>
                    <a:pt x="3160" y="2206"/>
                  </a:lnTo>
                  <a:lnTo>
                    <a:pt x="3180" y="2218"/>
                  </a:lnTo>
                  <a:lnTo>
                    <a:pt x="3200" y="2226"/>
                  </a:lnTo>
                  <a:lnTo>
                    <a:pt x="3200" y="2226"/>
                  </a:lnTo>
                  <a:lnTo>
                    <a:pt x="3232" y="2248"/>
                  </a:lnTo>
                  <a:lnTo>
                    <a:pt x="3266" y="2270"/>
                  </a:lnTo>
                  <a:lnTo>
                    <a:pt x="3330" y="2308"/>
                  </a:lnTo>
                  <a:lnTo>
                    <a:pt x="3330" y="2308"/>
                  </a:lnTo>
                  <a:lnTo>
                    <a:pt x="3342" y="2308"/>
                  </a:lnTo>
                  <a:lnTo>
                    <a:pt x="3356" y="2312"/>
                  </a:lnTo>
                  <a:lnTo>
                    <a:pt x="3380" y="2324"/>
                  </a:lnTo>
                  <a:lnTo>
                    <a:pt x="3446" y="2324"/>
                  </a:lnTo>
                  <a:lnTo>
                    <a:pt x="3446" y="2316"/>
                  </a:lnTo>
                  <a:lnTo>
                    <a:pt x="3446" y="2316"/>
                  </a:lnTo>
                  <a:lnTo>
                    <a:pt x="3478" y="2316"/>
                  </a:lnTo>
                  <a:lnTo>
                    <a:pt x="3478" y="2324"/>
                  </a:lnTo>
                  <a:lnTo>
                    <a:pt x="3560" y="2324"/>
                  </a:lnTo>
                  <a:lnTo>
                    <a:pt x="3560" y="2316"/>
                  </a:lnTo>
                  <a:lnTo>
                    <a:pt x="3560" y="2316"/>
                  </a:lnTo>
                  <a:lnTo>
                    <a:pt x="3572" y="2314"/>
                  </a:lnTo>
                  <a:lnTo>
                    <a:pt x="3582" y="2314"/>
                  </a:lnTo>
                  <a:lnTo>
                    <a:pt x="3600" y="2308"/>
                  </a:lnTo>
                  <a:lnTo>
                    <a:pt x="3620" y="2306"/>
                  </a:lnTo>
                  <a:lnTo>
                    <a:pt x="3630" y="2306"/>
                  </a:lnTo>
                  <a:lnTo>
                    <a:pt x="3642" y="2308"/>
                  </a:lnTo>
                  <a:lnTo>
                    <a:pt x="3642" y="2308"/>
                  </a:lnTo>
                  <a:lnTo>
                    <a:pt x="3648" y="2302"/>
                  </a:lnTo>
                  <a:lnTo>
                    <a:pt x="3656" y="2296"/>
                  </a:lnTo>
                  <a:lnTo>
                    <a:pt x="3676" y="2288"/>
                  </a:lnTo>
                  <a:lnTo>
                    <a:pt x="3698" y="2280"/>
                  </a:lnTo>
                  <a:lnTo>
                    <a:pt x="3724" y="2274"/>
                  </a:lnTo>
                  <a:lnTo>
                    <a:pt x="3724" y="2274"/>
                  </a:lnTo>
                  <a:lnTo>
                    <a:pt x="3732" y="2272"/>
                  </a:lnTo>
                  <a:lnTo>
                    <a:pt x="3746" y="2268"/>
                  </a:lnTo>
                  <a:lnTo>
                    <a:pt x="3762" y="2264"/>
                  </a:lnTo>
                  <a:lnTo>
                    <a:pt x="3772" y="2264"/>
                  </a:lnTo>
                  <a:lnTo>
                    <a:pt x="3780" y="2266"/>
                  </a:lnTo>
                  <a:lnTo>
                    <a:pt x="3780" y="2258"/>
                  </a:lnTo>
                  <a:lnTo>
                    <a:pt x="3780" y="2258"/>
                  </a:lnTo>
                  <a:lnTo>
                    <a:pt x="3782" y="2256"/>
                  </a:lnTo>
                  <a:lnTo>
                    <a:pt x="3784" y="2254"/>
                  </a:lnTo>
                  <a:lnTo>
                    <a:pt x="3790" y="2256"/>
                  </a:lnTo>
                  <a:lnTo>
                    <a:pt x="3798" y="2258"/>
                  </a:lnTo>
                  <a:lnTo>
                    <a:pt x="3804" y="2258"/>
                  </a:lnTo>
                  <a:lnTo>
                    <a:pt x="3804" y="2250"/>
                  </a:lnTo>
                  <a:lnTo>
                    <a:pt x="3804" y="2250"/>
                  </a:lnTo>
                  <a:lnTo>
                    <a:pt x="3814" y="2250"/>
                  </a:lnTo>
                  <a:lnTo>
                    <a:pt x="3822" y="2248"/>
                  </a:lnTo>
                  <a:lnTo>
                    <a:pt x="3838" y="2242"/>
                  </a:lnTo>
                  <a:lnTo>
                    <a:pt x="3854" y="2240"/>
                  </a:lnTo>
                  <a:lnTo>
                    <a:pt x="3862" y="2240"/>
                  </a:lnTo>
                  <a:lnTo>
                    <a:pt x="3870" y="2242"/>
                  </a:lnTo>
                  <a:lnTo>
                    <a:pt x="3870" y="2242"/>
                  </a:lnTo>
                  <a:lnTo>
                    <a:pt x="3874" y="2236"/>
                  </a:lnTo>
                  <a:lnTo>
                    <a:pt x="3878" y="2234"/>
                  </a:lnTo>
                  <a:lnTo>
                    <a:pt x="3888" y="2230"/>
                  </a:lnTo>
                  <a:lnTo>
                    <a:pt x="3900" y="2230"/>
                  </a:lnTo>
                  <a:lnTo>
                    <a:pt x="3912" y="2226"/>
                  </a:lnTo>
                  <a:lnTo>
                    <a:pt x="3912" y="2226"/>
                  </a:lnTo>
                  <a:lnTo>
                    <a:pt x="3918" y="2220"/>
                  </a:lnTo>
                  <a:lnTo>
                    <a:pt x="3924" y="2216"/>
                  </a:lnTo>
                  <a:lnTo>
                    <a:pt x="3940" y="2210"/>
                  </a:lnTo>
                  <a:lnTo>
                    <a:pt x="3956" y="2202"/>
                  </a:lnTo>
                  <a:lnTo>
                    <a:pt x="3962" y="2198"/>
                  </a:lnTo>
                  <a:lnTo>
                    <a:pt x="3968" y="2192"/>
                  </a:lnTo>
                  <a:lnTo>
                    <a:pt x="3968" y="2192"/>
                  </a:lnTo>
                  <a:lnTo>
                    <a:pt x="3982" y="2190"/>
                  </a:lnTo>
                  <a:lnTo>
                    <a:pt x="3994" y="2184"/>
                  </a:lnTo>
                  <a:lnTo>
                    <a:pt x="4004" y="2176"/>
                  </a:lnTo>
                  <a:lnTo>
                    <a:pt x="4012" y="2166"/>
                  </a:lnTo>
                  <a:lnTo>
                    <a:pt x="4026" y="2142"/>
                  </a:lnTo>
                  <a:lnTo>
                    <a:pt x="4034" y="2130"/>
                  </a:lnTo>
                  <a:lnTo>
                    <a:pt x="4042" y="2120"/>
                  </a:lnTo>
                  <a:lnTo>
                    <a:pt x="4042" y="2120"/>
                  </a:lnTo>
                  <a:lnTo>
                    <a:pt x="4044" y="2108"/>
                  </a:lnTo>
                  <a:lnTo>
                    <a:pt x="4048" y="2096"/>
                  </a:lnTo>
                  <a:lnTo>
                    <a:pt x="4052" y="2086"/>
                  </a:lnTo>
                  <a:lnTo>
                    <a:pt x="4058" y="2078"/>
                  </a:lnTo>
                  <a:lnTo>
                    <a:pt x="4058" y="2078"/>
                  </a:lnTo>
                  <a:lnTo>
                    <a:pt x="4060" y="2068"/>
                  </a:lnTo>
                  <a:lnTo>
                    <a:pt x="4064" y="2058"/>
                  </a:lnTo>
                  <a:lnTo>
                    <a:pt x="4068" y="2052"/>
                  </a:lnTo>
                  <a:lnTo>
                    <a:pt x="4074" y="2046"/>
                  </a:lnTo>
                  <a:lnTo>
                    <a:pt x="4074" y="2046"/>
                  </a:lnTo>
                  <a:lnTo>
                    <a:pt x="4082" y="2038"/>
                  </a:lnTo>
                  <a:lnTo>
                    <a:pt x="4088" y="2030"/>
                  </a:lnTo>
                  <a:lnTo>
                    <a:pt x="4092" y="2018"/>
                  </a:lnTo>
                  <a:lnTo>
                    <a:pt x="4096" y="2008"/>
                  </a:lnTo>
                  <a:lnTo>
                    <a:pt x="4102" y="1984"/>
                  </a:lnTo>
                  <a:lnTo>
                    <a:pt x="4108" y="1974"/>
                  </a:lnTo>
                  <a:lnTo>
                    <a:pt x="4116" y="1964"/>
                  </a:lnTo>
                  <a:lnTo>
                    <a:pt x="4116" y="1964"/>
                  </a:lnTo>
                  <a:lnTo>
                    <a:pt x="4118" y="1938"/>
                  </a:lnTo>
                  <a:lnTo>
                    <a:pt x="4122" y="1912"/>
                  </a:lnTo>
                  <a:lnTo>
                    <a:pt x="4130" y="1886"/>
                  </a:lnTo>
                  <a:lnTo>
                    <a:pt x="4134" y="1876"/>
                  </a:lnTo>
                  <a:lnTo>
                    <a:pt x="4140" y="1866"/>
                  </a:lnTo>
                  <a:lnTo>
                    <a:pt x="4140" y="1866"/>
                  </a:lnTo>
                  <a:lnTo>
                    <a:pt x="4150" y="1862"/>
                  </a:lnTo>
                  <a:lnTo>
                    <a:pt x="4158" y="1860"/>
                  </a:lnTo>
                  <a:lnTo>
                    <a:pt x="4168" y="1860"/>
                  </a:lnTo>
                  <a:lnTo>
                    <a:pt x="4178" y="1862"/>
                  </a:lnTo>
                  <a:lnTo>
                    <a:pt x="4196" y="1866"/>
                  </a:lnTo>
                  <a:lnTo>
                    <a:pt x="4204" y="1868"/>
                  </a:lnTo>
                  <a:lnTo>
                    <a:pt x="4214" y="1866"/>
                  </a:lnTo>
                  <a:lnTo>
                    <a:pt x="4214" y="1874"/>
                  </a:lnTo>
                  <a:lnTo>
                    <a:pt x="4214" y="1874"/>
                  </a:lnTo>
                  <a:lnTo>
                    <a:pt x="4232" y="1872"/>
                  </a:lnTo>
                  <a:lnTo>
                    <a:pt x="4248" y="1872"/>
                  </a:lnTo>
                  <a:lnTo>
                    <a:pt x="4276" y="1874"/>
                  </a:lnTo>
                  <a:lnTo>
                    <a:pt x="4304" y="1880"/>
                  </a:lnTo>
                  <a:lnTo>
                    <a:pt x="4320" y="1882"/>
                  </a:lnTo>
                  <a:lnTo>
                    <a:pt x="4336" y="1882"/>
                  </a:lnTo>
                  <a:lnTo>
                    <a:pt x="4336" y="1890"/>
                  </a:lnTo>
                  <a:lnTo>
                    <a:pt x="4336" y="1890"/>
                  </a:lnTo>
                  <a:lnTo>
                    <a:pt x="4354" y="1888"/>
                  </a:lnTo>
                  <a:lnTo>
                    <a:pt x="4362" y="1886"/>
                  </a:lnTo>
                  <a:lnTo>
                    <a:pt x="4366" y="1888"/>
                  </a:lnTo>
                  <a:lnTo>
                    <a:pt x="4370" y="1890"/>
                  </a:lnTo>
                  <a:lnTo>
                    <a:pt x="4370" y="1898"/>
                  </a:lnTo>
                  <a:lnTo>
                    <a:pt x="4370" y="1898"/>
                  </a:lnTo>
                  <a:lnTo>
                    <a:pt x="4400" y="1896"/>
                  </a:lnTo>
                  <a:lnTo>
                    <a:pt x="4426" y="1898"/>
                  </a:lnTo>
                  <a:lnTo>
                    <a:pt x="4478" y="1902"/>
                  </a:lnTo>
                  <a:lnTo>
                    <a:pt x="4504" y="1904"/>
                  </a:lnTo>
                  <a:lnTo>
                    <a:pt x="4530" y="1904"/>
                  </a:lnTo>
                  <a:lnTo>
                    <a:pt x="4556" y="1902"/>
                  </a:lnTo>
                  <a:lnTo>
                    <a:pt x="4582" y="1898"/>
                  </a:lnTo>
                  <a:lnTo>
                    <a:pt x="4582" y="1898"/>
                  </a:lnTo>
                  <a:lnTo>
                    <a:pt x="4656" y="1824"/>
                  </a:lnTo>
                  <a:lnTo>
                    <a:pt x="4656" y="1824"/>
                  </a:lnTo>
                  <a:lnTo>
                    <a:pt x="4654" y="1814"/>
                  </a:lnTo>
                  <a:lnTo>
                    <a:pt x="4654" y="1806"/>
                  </a:lnTo>
                  <a:lnTo>
                    <a:pt x="4654" y="1798"/>
                  </a:lnTo>
                  <a:lnTo>
                    <a:pt x="4656" y="1792"/>
                  </a:lnTo>
                  <a:lnTo>
                    <a:pt x="4660" y="1786"/>
                  </a:lnTo>
                  <a:lnTo>
                    <a:pt x="4666" y="1782"/>
                  </a:lnTo>
                  <a:lnTo>
                    <a:pt x="4676" y="1774"/>
                  </a:lnTo>
                  <a:lnTo>
                    <a:pt x="4702" y="1758"/>
                  </a:lnTo>
                  <a:lnTo>
                    <a:pt x="4714" y="1748"/>
                  </a:lnTo>
                  <a:lnTo>
                    <a:pt x="4718" y="1742"/>
                  </a:lnTo>
                  <a:lnTo>
                    <a:pt x="4722" y="1734"/>
                  </a:lnTo>
                  <a:lnTo>
                    <a:pt x="4722" y="1734"/>
                  </a:lnTo>
                  <a:lnTo>
                    <a:pt x="4734" y="1706"/>
                  </a:lnTo>
                  <a:lnTo>
                    <a:pt x="4744" y="1690"/>
                  </a:lnTo>
                  <a:lnTo>
                    <a:pt x="4754" y="1678"/>
                  </a:lnTo>
                  <a:lnTo>
                    <a:pt x="4754" y="1604"/>
                  </a:lnTo>
                  <a:lnTo>
                    <a:pt x="4754" y="1604"/>
                  </a:lnTo>
                  <a:lnTo>
                    <a:pt x="4750" y="1596"/>
                  </a:lnTo>
                  <a:lnTo>
                    <a:pt x="4746" y="1588"/>
                  </a:lnTo>
                  <a:lnTo>
                    <a:pt x="4746" y="1566"/>
                  </a:lnTo>
                  <a:lnTo>
                    <a:pt x="4744" y="1542"/>
                  </a:lnTo>
                  <a:lnTo>
                    <a:pt x="4742" y="1532"/>
                  </a:lnTo>
                  <a:lnTo>
                    <a:pt x="4738" y="1522"/>
                  </a:lnTo>
                  <a:lnTo>
                    <a:pt x="4738" y="1522"/>
                  </a:lnTo>
                  <a:lnTo>
                    <a:pt x="4732" y="1512"/>
                  </a:lnTo>
                  <a:lnTo>
                    <a:pt x="4728" y="1502"/>
                  </a:lnTo>
                  <a:lnTo>
                    <a:pt x="4720" y="1482"/>
                  </a:lnTo>
                  <a:lnTo>
                    <a:pt x="4716" y="1472"/>
                  </a:lnTo>
                  <a:lnTo>
                    <a:pt x="4712" y="1464"/>
                  </a:lnTo>
                  <a:lnTo>
                    <a:pt x="4704" y="1456"/>
                  </a:lnTo>
                  <a:lnTo>
                    <a:pt x="4696" y="1448"/>
                  </a:lnTo>
                  <a:lnTo>
                    <a:pt x="4696" y="1448"/>
                  </a:lnTo>
                  <a:close/>
                  <a:moveTo>
                    <a:pt x="4656" y="1644"/>
                  </a:moveTo>
                  <a:lnTo>
                    <a:pt x="4648" y="1644"/>
                  </a:lnTo>
                  <a:lnTo>
                    <a:pt x="4648" y="1644"/>
                  </a:lnTo>
                  <a:lnTo>
                    <a:pt x="4648" y="1668"/>
                  </a:lnTo>
                  <a:lnTo>
                    <a:pt x="4646" y="1690"/>
                  </a:lnTo>
                  <a:lnTo>
                    <a:pt x="4644" y="1700"/>
                  </a:lnTo>
                  <a:lnTo>
                    <a:pt x="4640" y="1708"/>
                  </a:lnTo>
                  <a:lnTo>
                    <a:pt x="4636" y="1714"/>
                  </a:lnTo>
                  <a:lnTo>
                    <a:pt x="4632" y="1718"/>
                  </a:lnTo>
                  <a:lnTo>
                    <a:pt x="4632" y="1734"/>
                  </a:lnTo>
                  <a:lnTo>
                    <a:pt x="4632" y="1734"/>
                  </a:lnTo>
                  <a:lnTo>
                    <a:pt x="4616" y="1746"/>
                  </a:lnTo>
                  <a:lnTo>
                    <a:pt x="4610" y="1754"/>
                  </a:lnTo>
                  <a:lnTo>
                    <a:pt x="4608" y="1756"/>
                  </a:lnTo>
                  <a:lnTo>
                    <a:pt x="4606" y="1760"/>
                  </a:lnTo>
                  <a:lnTo>
                    <a:pt x="4606" y="1760"/>
                  </a:lnTo>
                  <a:lnTo>
                    <a:pt x="4590" y="1778"/>
                  </a:lnTo>
                  <a:lnTo>
                    <a:pt x="4574" y="1798"/>
                  </a:lnTo>
                  <a:lnTo>
                    <a:pt x="4558" y="1814"/>
                  </a:lnTo>
                  <a:lnTo>
                    <a:pt x="4550" y="1820"/>
                  </a:lnTo>
                  <a:lnTo>
                    <a:pt x="4542" y="1824"/>
                  </a:lnTo>
                  <a:lnTo>
                    <a:pt x="4542" y="1824"/>
                  </a:lnTo>
                  <a:lnTo>
                    <a:pt x="4512" y="1832"/>
                  </a:lnTo>
                  <a:lnTo>
                    <a:pt x="4482" y="1836"/>
                  </a:lnTo>
                  <a:lnTo>
                    <a:pt x="4454" y="1836"/>
                  </a:lnTo>
                  <a:lnTo>
                    <a:pt x="4426" y="1834"/>
                  </a:lnTo>
                  <a:lnTo>
                    <a:pt x="4372" y="1828"/>
                  </a:lnTo>
                  <a:lnTo>
                    <a:pt x="4342" y="1826"/>
                  </a:lnTo>
                  <a:lnTo>
                    <a:pt x="4312" y="1824"/>
                  </a:lnTo>
                  <a:lnTo>
                    <a:pt x="4312" y="1824"/>
                  </a:lnTo>
                  <a:lnTo>
                    <a:pt x="4308" y="1822"/>
                  </a:lnTo>
                  <a:lnTo>
                    <a:pt x="4302" y="1820"/>
                  </a:lnTo>
                  <a:lnTo>
                    <a:pt x="4288" y="1820"/>
                  </a:lnTo>
                  <a:lnTo>
                    <a:pt x="4274" y="1816"/>
                  </a:lnTo>
                  <a:lnTo>
                    <a:pt x="4268" y="1814"/>
                  </a:lnTo>
                  <a:lnTo>
                    <a:pt x="4264" y="1808"/>
                  </a:lnTo>
                  <a:lnTo>
                    <a:pt x="4264" y="1808"/>
                  </a:lnTo>
                  <a:lnTo>
                    <a:pt x="4240" y="1802"/>
                  </a:lnTo>
                  <a:lnTo>
                    <a:pt x="4218" y="1794"/>
                  </a:lnTo>
                  <a:lnTo>
                    <a:pt x="4206" y="1792"/>
                  </a:lnTo>
                  <a:lnTo>
                    <a:pt x="4192" y="1790"/>
                  </a:lnTo>
                  <a:lnTo>
                    <a:pt x="4180" y="1790"/>
                  </a:lnTo>
                  <a:lnTo>
                    <a:pt x="4164" y="1792"/>
                  </a:lnTo>
                  <a:lnTo>
                    <a:pt x="4164" y="1792"/>
                  </a:lnTo>
                  <a:lnTo>
                    <a:pt x="4156" y="1786"/>
                  </a:lnTo>
                  <a:lnTo>
                    <a:pt x="4144" y="1782"/>
                  </a:lnTo>
                  <a:lnTo>
                    <a:pt x="4132" y="1778"/>
                  </a:lnTo>
                  <a:lnTo>
                    <a:pt x="4128" y="1772"/>
                  </a:lnTo>
                  <a:lnTo>
                    <a:pt x="4124" y="1768"/>
                  </a:lnTo>
                  <a:lnTo>
                    <a:pt x="4124" y="1768"/>
                  </a:lnTo>
                  <a:lnTo>
                    <a:pt x="4110" y="1756"/>
                  </a:lnTo>
                  <a:lnTo>
                    <a:pt x="4102" y="1752"/>
                  </a:lnTo>
                  <a:lnTo>
                    <a:pt x="4094" y="1750"/>
                  </a:lnTo>
                  <a:lnTo>
                    <a:pt x="4084" y="1748"/>
                  </a:lnTo>
                  <a:lnTo>
                    <a:pt x="4074" y="1748"/>
                  </a:lnTo>
                  <a:lnTo>
                    <a:pt x="4062" y="1748"/>
                  </a:lnTo>
                  <a:lnTo>
                    <a:pt x="4050" y="1752"/>
                  </a:lnTo>
                  <a:lnTo>
                    <a:pt x="4050" y="1752"/>
                  </a:lnTo>
                  <a:lnTo>
                    <a:pt x="4040" y="1752"/>
                  </a:lnTo>
                  <a:lnTo>
                    <a:pt x="4036" y="1754"/>
                  </a:lnTo>
                  <a:lnTo>
                    <a:pt x="4034" y="1758"/>
                  </a:lnTo>
                  <a:lnTo>
                    <a:pt x="4032" y="1760"/>
                  </a:lnTo>
                  <a:lnTo>
                    <a:pt x="4030" y="1764"/>
                  </a:lnTo>
                  <a:lnTo>
                    <a:pt x="4034" y="1776"/>
                  </a:lnTo>
                  <a:lnTo>
                    <a:pt x="4026" y="1776"/>
                  </a:lnTo>
                  <a:lnTo>
                    <a:pt x="4026" y="1776"/>
                  </a:lnTo>
                  <a:lnTo>
                    <a:pt x="4022" y="1790"/>
                  </a:lnTo>
                  <a:lnTo>
                    <a:pt x="4020" y="1804"/>
                  </a:lnTo>
                  <a:lnTo>
                    <a:pt x="4022" y="1820"/>
                  </a:lnTo>
                  <a:lnTo>
                    <a:pt x="4026" y="1832"/>
                  </a:lnTo>
                  <a:lnTo>
                    <a:pt x="4034" y="1832"/>
                  </a:lnTo>
                  <a:lnTo>
                    <a:pt x="4034" y="1832"/>
                  </a:lnTo>
                  <a:lnTo>
                    <a:pt x="4038" y="1862"/>
                  </a:lnTo>
                  <a:lnTo>
                    <a:pt x="4040" y="1894"/>
                  </a:lnTo>
                  <a:lnTo>
                    <a:pt x="4038" y="1928"/>
                  </a:lnTo>
                  <a:lnTo>
                    <a:pt x="4034" y="1956"/>
                  </a:lnTo>
                  <a:lnTo>
                    <a:pt x="4034" y="1956"/>
                  </a:lnTo>
                  <a:lnTo>
                    <a:pt x="4026" y="1956"/>
                  </a:lnTo>
                  <a:lnTo>
                    <a:pt x="4024" y="1960"/>
                  </a:lnTo>
                  <a:lnTo>
                    <a:pt x="4022" y="1966"/>
                  </a:lnTo>
                  <a:lnTo>
                    <a:pt x="4022" y="1970"/>
                  </a:lnTo>
                  <a:lnTo>
                    <a:pt x="4022" y="1976"/>
                  </a:lnTo>
                  <a:lnTo>
                    <a:pt x="4020" y="1980"/>
                  </a:lnTo>
                  <a:lnTo>
                    <a:pt x="4016" y="1982"/>
                  </a:lnTo>
                  <a:lnTo>
                    <a:pt x="4010" y="1980"/>
                  </a:lnTo>
                  <a:lnTo>
                    <a:pt x="4010" y="1980"/>
                  </a:lnTo>
                  <a:lnTo>
                    <a:pt x="4004" y="1994"/>
                  </a:lnTo>
                  <a:lnTo>
                    <a:pt x="4002" y="2008"/>
                  </a:lnTo>
                  <a:lnTo>
                    <a:pt x="4002" y="2038"/>
                  </a:lnTo>
                  <a:lnTo>
                    <a:pt x="4002" y="2038"/>
                  </a:lnTo>
                  <a:lnTo>
                    <a:pt x="3994" y="2044"/>
                  </a:lnTo>
                  <a:lnTo>
                    <a:pt x="3988" y="2050"/>
                  </a:lnTo>
                  <a:lnTo>
                    <a:pt x="3980" y="2066"/>
                  </a:lnTo>
                  <a:lnTo>
                    <a:pt x="3974" y="2082"/>
                  </a:lnTo>
                  <a:lnTo>
                    <a:pt x="3968" y="2088"/>
                  </a:lnTo>
                  <a:lnTo>
                    <a:pt x="3960" y="2094"/>
                  </a:lnTo>
                  <a:lnTo>
                    <a:pt x="3960" y="2094"/>
                  </a:lnTo>
                  <a:lnTo>
                    <a:pt x="3946" y="2112"/>
                  </a:lnTo>
                  <a:lnTo>
                    <a:pt x="3930" y="2130"/>
                  </a:lnTo>
                  <a:lnTo>
                    <a:pt x="3914" y="2142"/>
                  </a:lnTo>
                  <a:lnTo>
                    <a:pt x="3904" y="2148"/>
                  </a:lnTo>
                  <a:lnTo>
                    <a:pt x="3896" y="2152"/>
                  </a:lnTo>
                  <a:lnTo>
                    <a:pt x="3896" y="2152"/>
                  </a:lnTo>
                  <a:lnTo>
                    <a:pt x="3890" y="2154"/>
                  </a:lnTo>
                  <a:lnTo>
                    <a:pt x="3888" y="2156"/>
                  </a:lnTo>
                  <a:lnTo>
                    <a:pt x="3886" y="2160"/>
                  </a:lnTo>
                  <a:lnTo>
                    <a:pt x="3886" y="2160"/>
                  </a:lnTo>
                  <a:lnTo>
                    <a:pt x="3870" y="2160"/>
                  </a:lnTo>
                  <a:lnTo>
                    <a:pt x="3870" y="2160"/>
                  </a:lnTo>
                  <a:lnTo>
                    <a:pt x="3862" y="2166"/>
                  </a:lnTo>
                  <a:lnTo>
                    <a:pt x="3850" y="2170"/>
                  </a:lnTo>
                  <a:lnTo>
                    <a:pt x="3838" y="2176"/>
                  </a:lnTo>
                  <a:lnTo>
                    <a:pt x="3834" y="2180"/>
                  </a:lnTo>
                  <a:lnTo>
                    <a:pt x="3830" y="2184"/>
                  </a:lnTo>
                  <a:lnTo>
                    <a:pt x="3830" y="2184"/>
                  </a:lnTo>
                  <a:lnTo>
                    <a:pt x="3818" y="2182"/>
                  </a:lnTo>
                  <a:lnTo>
                    <a:pt x="3808" y="2182"/>
                  </a:lnTo>
                  <a:lnTo>
                    <a:pt x="3792" y="2186"/>
                  </a:lnTo>
                  <a:lnTo>
                    <a:pt x="3776" y="2190"/>
                  </a:lnTo>
                  <a:lnTo>
                    <a:pt x="3768" y="2192"/>
                  </a:lnTo>
                  <a:lnTo>
                    <a:pt x="3756" y="2192"/>
                  </a:lnTo>
                  <a:lnTo>
                    <a:pt x="3756" y="2192"/>
                  </a:lnTo>
                  <a:lnTo>
                    <a:pt x="3738" y="2194"/>
                  </a:lnTo>
                  <a:lnTo>
                    <a:pt x="3724" y="2198"/>
                  </a:lnTo>
                  <a:lnTo>
                    <a:pt x="3712" y="2204"/>
                  </a:lnTo>
                  <a:lnTo>
                    <a:pt x="3698" y="2210"/>
                  </a:lnTo>
                  <a:lnTo>
                    <a:pt x="3698" y="2210"/>
                  </a:lnTo>
                  <a:lnTo>
                    <a:pt x="3682" y="2216"/>
                  </a:lnTo>
                  <a:lnTo>
                    <a:pt x="3666" y="2224"/>
                  </a:lnTo>
                  <a:lnTo>
                    <a:pt x="3650" y="2232"/>
                  </a:lnTo>
                  <a:lnTo>
                    <a:pt x="3642" y="2234"/>
                  </a:lnTo>
                  <a:lnTo>
                    <a:pt x="3634" y="2234"/>
                  </a:lnTo>
                  <a:lnTo>
                    <a:pt x="3634" y="2234"/>
                  </a:lnTo>
                  <a:lnTo>
                    <a:pt x="3630" y="2238"/>
                  </a:lnTo>
                  <a:lnTo>
                    <a:pt x="3624" y="2242"/>
                  </a:lnTo>
                  <a:lnTo>
                    <a:pt x="3612" y="2246"/>
                  </a:lnTo>
                  <a:lnTo>
                    <a:pt x="3598" y="2250"/>
                  </a:lnTo>
                  <a:lnTo>
                    <a:pt x="3590" y="2254"/>
                  </a:lnTo>
                  <a:lnTo>
                    <a:pt x="3584" y="2258"/>
                  </a:lnTo>
                  <a:lnTo>
                    <a:pt x="3584" y="2258"/>
                  </a:lnTo>
                  <a:lnTo>
                    <a:pt x="3546" y="2256"/>
                  </a:lnTo>
                  <a:lnTo>
                    <a:pt x="3536" y="2256"/>
                  </a:lnTo>
                  <a:lnTo>
                    <a:pt x="3528" y="2258"/>
                  </a:lnTo>
                  <a:lnTo>
                    <a:pt x="3522" y="2262"/>
                  </a:lnTo>
                  <a:lnTo>
                    <a:pt x="3518" y="2266"/>
                  </a:lnTo>
                  <a:lnTo>
                    <a:pt x="3478" y="2266"/>
                  </a:lnTo>
                  <a:lnTo>
                    <a:pt x="3478" y="2258"/>
                  </a:lnTo>
                  <a:lnTo>
                    <a:pt x="3478" y="2258"/>
                  </a:lnTo>
                  <a:lnTo>
                    <a:pt x="3468" y="2256"/>
                  </a:lnTo>
                  <a:lnTo>
                    <a:pt x="3458" y="2254"/>
                  </a:lnTo>
                  <a:lnTo>
                    <a:pt x="3436" y="2256"/>
                  </a:lnTo>
                  <a:lnTo>
                    <a:pt x="3416" y="2258"/>
                  </a:lnTo>
                  <a:lnTo>
                    <a:pt x="3396" y="2258"/>
                  </a:lnTo>
                  <a:lnTo>
                    <a:pt x="3396" y="2258"/>
                  </a:lnTo>
                  <a:lnTo>
                    <a:pt x="3384" y="2248"/>
                  </a:lnTo>
                  <a:lnTo>
                    <a:pt x="3372" y="2242"/>
                  </a:lnTo>
                  <a:lnTo>
                    <a:pt x="3360" y="2238"/>
                  </a:lnTo>
                  <a:lnTo>
                    <a:pt x="3346" y="2234"/>
                  </a:lnTo>
                  <a:lnTo>
                    <a:pt x="3346" y="2234"/>
                  </a:lnTo>
                  <a:lnTo>
                    <a:pt x="3336" y="2226"/>
                  </a:lnTo>
                  <a:lnTo>
                    <a:pt x="3324" y="2220"/>
                  </a:lnTo>
                  <a:lnTo>
                    <a:pt x="3296" y="2210"/>
                  </a:lnTo>
                  <a:lnTo>
                    <a:pt x="3268" y="2200"/>
                  </a:lnTo>
                  <a:lnTo>
                    <a:pt x="3254" y="2192"/>
                  </a:lnTo>
                  <a:lnTo>
                    <a:pt x="3240" y="2184"/>
                  </a:lnTo>
                  <a:lnTo>
                    <a:pt x="3240" y="2184"/>
                  </a:lnTo>
                  <a:lnTo>
                    <a:pt x="3232" y="2180"/>
                  </a:lnTo>
                  <a:lnTo>
                    <a:pt x="3224" y="2174"/>
                  </a:lnTo>
                  <a:lnTo>
                    <a:pt x="3210" y="2162"/>
                  </a:lnTo>
                  <a:lnTo>
                    <a:pt x="3204" y="2154"/>
                  </a:lnTo>
                  <a:lnTo>
                    <a:pt x="3196" y="2150"/>
                  </a:lnTo>
                  <a:lnTo>
                    <a:pt x="3186" y="2146"/>
                  </a:lnTo>
                  <a:lnTo>
                    <a:pt x="3176" y="2144"/>
                  </a:lnTo>
                  <a:lnTo>
                    <a:pt x="3176" y="2144"/>
                  </a:lnTo>
                  <a:lnTo>
                    <a:pt x="3158" y="2136"/>
                  </a:lnTo>
                  <a:lnTo>
                    <a:pt x="3144" y="2126"/>
                  </a:lnTo>
                  <a:lnTo>
                    <a:pt x="3132" y="2114"/>
                  </a:lnTo>
                  <a:lnTo>
                    <a:pt x="3120" y="2100"/>
                  </a:lnTo>
                  <a:lnTo>
                    <a:pt x="3102" y="2068"/>
                  </a:lnTo>
                  <a:lnTo>
                    <a:pt x="3086" y="2038"/>
                  </a:lnTo>
                  <a:lnTo>
                    <a:pt x="3086" y="2038"/>
                  </a:lnTo>
                  <a:lnTo>
                    <a:pt x="3084" y="2026"/>
                  </a:lnTo>
                  <a:lnTo>
                    <a:pt x="3080" y="2018"/>
                  </a:lnTo>
                  <a:lnTo>
                    <a:pt x="3074" y="2010"/>
                  </a:lnTo>
                  <a:lnTo>
                    <a:pt x="3068" y="2004"/>
                  </a:lnTo>
                  <a:lnTo>
                    <a:pt x="3060" y="2004"/>
                  </a:lnTo>
                  <a:lnTo>
                    <a:pt x="3060" y="2004"/>
                  </a:lnTo>
                  <a:lnTo>
                    <a:pt x="3054" y="2000"/>
                  </a:lnTo>
                  <a:lnTo>
                    <a:pt x="3050" y="1996"/>
                  </a:lnTo>
                  <a:lnTo>
                    <a:pt x="3038" y="1986"/>
                  </a:lnTo>
                  <a:lnTo>
                    <a:pt x="3032" y="1982"/>
                  </a:lnTo>
                  <a:lnTo>
                    <a:pt x="3024" y="1980"/>
                  </a:lnTo>
                  <a:lnTo>
                    <a:pt x="3014" y="1978"/>
                  </a:lnTo>
                  <a:lnTo>
                    <a:pt x="3004" y="1980"/>
                  </a:lnTo>
                  <a:lnTo>
                    <a:pt x="3004" y="1980"/>
                  </a:lnTo>
                  <a:lnTo>
                    <a:pt x="2990" y="1998"/>
                  </a:lnTo>
                  <a:lnTo>
                    <a:pt x="2978" y="2014"/>
                  </a:lnTo>
                  <a:lnTo>
                    <a:pt x="2972" y="2024"/>
                  </a:lnTo>
                  <a:lnTo>
                    <a:pt x="2970" y="2036"/>
                  </a:lnTo>
                  <a:lnTo>
                    <a:pt x="2968" y="2048"/>
                  </a:lnTo>
                  <a:lnTo>
                    <a:pt x="2970" y="2062"/>
                  </a:lnTo>
                  <a:lnTo>
                    <a:pt x="2970" y="2062"/>
                  </a:lnTo>
                  <a:lnTo>
                    <a:pt x="2966" y="2068"/>
                  </a:lnTo>
                  <a:lnTo>
                    <a:pt x="2962" y="2076"/>
                  </a:lnTo>
                  <a:lnTo>
                    <a:pt x="2958" y="2088"/>
                  </a:lnTo>
                  <a:lnTo>
                    <a:pt x="2954" y="2098"/>
                  </a:lnTo>
                  <a:lnTo>
                    <a:pt x="2952" y="2102"/>
                  </a:lnTo>
                  <a:lnTo>
                    <a:pt x="2946" y="2102"/>
                  </a:lnTo>
                  <a:lnTo>
                    <a:pt x="2946" y="2102"/>
                  </a:lnTo>
                  <a:lnTo>
                    <a:pt x="2934" y="2126"/>
                  </a:lnTo>
                  <a:lnTo>
                    <a:pt x="2922" y="2146"/>
                  </a:lnTo>
                  <a:lnTo>
                    <a:pt x="2896" y="2184"/>
                  </a:lnTo>
                  <a:lnTo>
                    <a:pt x="2896" y="2184"/>
                  </a:lnTo>
                  <a:lnTo>
                    <a:pt x="2886" y="2192"/>
                  </a:lnTo>
                  <a:lnTo>
                    <a:pt x="2876" y="2204"/>
                  </a:lnTo>
                  <a:lnTo>
                    <a:pt x="2858" y="2228"/>
                  </a:lnTo>
                  <a:lnTo>
                    <a:pt x="2848" y="2242"/>
                  </a:lnTo>
                  <a:lnTo>
                    <a:pt x="2838" y="2252"/>
                  </a:lnTo>
                  <a:lnTo>
                    <a:pt x="2824" y="2262"/>
                  </a:lnTo>
                  <a:lnTo>
                    <a:pt x="2816" y="2264"/>
                  </a:lnTo>
                  <a:lnTo>
                    <a:pt x="2806" y="2266"/>
                  </a:lnTo>
                  <a:lnTo>
                    <a:pt x="2806" y="2266"/>
                  </a:lnTo>
                  <a:lnTo>
                    <a:pt x="2774" y="2308"/>
                  </a:lnTo>
                  <a:lnTo>
                    <a:pt x="2758" y="2328"/>
                  </a:lnTo>
                  <a:lnTo>
                    <a:pt x="2740" y="2346"/>
                  </a:lnTo>
                  <a:lnTo>
                    <a:pt x="2720" y="2362"/>
                  </a:lnTo>
                  <a:lnTo>
                    <a:pt x="2702" y="2378"/>
                  </a:lnTo>
                  <a:lnTo>
                    <a:pt x="2680" y="2392"/>
                  </a:lnTo>
                  <a:lnTo>
                    <a:pt x="2660" y="2406"/>
                  </a:lnTo>
                  <a:lnTo>
                    <a:pt x="2660" y="2406"/>
                  </a:lnTo>
                  <a:lnTo>
                    <a:pt x="2616" y="2414"/>
                  </a:lnTo>
                  <a:lnTo>
                    <a:pt x="2596" y="2420"/>
                  </a:lnTo>
                  <a:lnTo>
                    <a:pt x="2588" y="2424"/>
                  </a:lnTo>
                  <a:lnTo>
                    <a:pt x="2578" y="2430"/>
                  </a:lnTo>
                  <a:lnTo>
                    <a:pt x="2578" y="2430"/>
                  </a:lnTo>
                  <a:lnTo>
                    <a:pt x="2574" y="2432"/>
                  </a:lnTo>
                  <a:lnTo>
                    <a:pt x="2570" y="2434"/>
                  </a:lnTo>
                  <a:lnTo>
                    <a:pt x="2562" y="2434"/>
                  </a:lnTo>
                  <a:lnTo>
                    <a:pt x="2556" y="2434"/>
                  </a:lnTo>
                  <a:lnTo>
                    <a:pt x="2554" y="2436"/>
                  </a:lnTo>
                  <a:lnTo>
                    <a:pt x="2554" y="2438"/>
                  </a:lnTo>
                  <a:lnTo>
                    <a:pt x="2554" y="2438"/>
                  </a:lnTo>
                  <a:lnTo>
                    <a:pt x="2520" y="2444"/>
                  </a:lnTo>
                  <a:lnTo>
                    <a:pt x="2488" y="2452"/>
                  </a:lnTo>
                  <a:lnTo>
                    <a:pt x="2460" y="2460"/>
                  </a:lnTo>
                  <a:lnTo>
                    <a:pt x="2430" y="2472"/>
                  </a:lnTo>
                  <a:lnTo>
                    <a:pt x="2414" y="2472"/>
                  </a:lnTo>
                  <a:lnTo>
                    <a:pt x="2414" y="2462"/>
                  </a:lnTo>
                  <a:lnTo>
                    <a:pt x="2414" y="2462"/>
                  </a:lnTo>
                  <a:lnTo>
                    <a:pt x="2390" y="2464"/>
                  </a:lnTo>
                  <a:lnTo>
                    <a:pt x="2366" y="2462"/>
                  </a:lnTo>
                  <a:lnTo>
                    <a:pt x="2322" y="2458"/>
                  </a:lnTo>
                  <a:lnTo>
                    <a:pt x="2302" y="2456"/>
                  </a:lnTo>
                  <a:lnTo>
                    <a:pt x="2280" y="2458"/>
                  </a:lnTo>
                  <a:lnTo>
                    <a:pt x="2262" y="2462"/>
                  </a:lnTo>
                  <a:lnTo>
                    <a:pt x="2252" y="2466"/>
                  </a:lnTo>
                  <a:lnTo>
                    <a:pt x="2242" y="2472"/>
                  </a:lnTo>
                  <a:lnTo>
                    <a:pt x="2128" y="2472"/>
                  </a:lnTo>
                  <a:lnTo>
                    <a:pt x="2128" y="2472"/>
                  </a:lnTo>
                  <a:lnTo>
                    <a:pt x="2124" y="2466"/>
                  </a:lnTo>
                  <a:lnTo>
                    <a:pt x="2120" y="2462"/>
                  </a:lnTo>
                  <a:lnTo>
                    <a:pt x="2106" y="2460"/>
                  </a:lnTo>
                  <a:lnTo>
                    <a:pt x="2092" y="2458"/>
                  </a:lnTo>
                  <a:lnTo>
                    <a:pt x="2086" y="2458"/>
                  </a:lnTo>
                  <a:lnTo>
                    <a:pt x="2078" y="2454"/>
                  </a:lnTo>
                  <a:lnTo>
                    <a:pt x="2078" y="2454"/>
                  </a:lnTo>
                  <a:lnTo>
                    <a:pt x="2060" y="2448"/>
                  </a:lnTo>
                  <a:lnTo>
                    <a:pt x="2044" y="2440"/>
                  </a:lnTo>
                  <a:lnTo>
                    <a:pt x="2010" y="2420"/>
                  </a:lnTo>
                  <a:lnTo>
                    <a:pt x="1978" y="2398"/>
                  </a:lnTo>
                  <a:lnTo>
                    <a:pt x="1948" y="2372"/>
                  </a:lnTo>
                  <a:lnTo>
                    <a:pt x="1948" y="2372"/>
                  </a:lnTo>
                  <a:lnTo>
                    <a:pt x="1950" y="2368"/>
                  </a:lnTo>
                  <a:lnTo>
                    <a:pt x="1948" y="2364"/>
                  </a:lnTo>
                  <a:lnTo>
                    <a:pt x="1946" y="2360"/>
                  </a:lnTo>
                  <a:lnTo>
                    <a:pt x="1942" y="2356"/>
                  </a:lnTo>
                  <a:lnTo>
                    <a:pt x="1936" y="2350"/>
                  </a:lnTo>
                  <a:lnTo>
                    <a:pt x="1932" y="2346"/>
                  </a:lnTo>
                  <a:lnTo>
                    <a:pt x="1932" y="2340"/>
                  </a:lnTo>
                  <a:lnTo>
                    <a:pt x="1932" y="2340"/>
                  </a:lnTo>
                  <a:lnTo>
                    <a:pt x="1926" y="2332"/>
                  </a:lnTo>
                  <a:lnTo>
                    <a:pt x="1924" y="2324"/>
                  </a:lnTo>
                  <a:lnTo>
                    <a:pt x="1920" y="2314"/>
                  </a:lnTo>
                  <a:lnTo>
                    <a:pt x="1916" y="2308"/>
                  </a:lnTo>
                  <a:lnTo>
                    <a:pt x="1916" y="2308"/>
                  </a:lnTo>
                  <a:lnTo>
                    <a:pt x="1914" y="2296"/>
                  </a:lnTo>
                  <a:lnTo>
                    <a:pt x="1908" y="2284"/>
                  </a:lnTo>
                  <a:lnTo>
                    <a:pt x="1902" y="2274"/>
                  </a:lnTo>
                  <a:lnTo>
                    <a:pt x="1890" y="2266"/>
                  </a:lnTo>
                  <a:lnTo>
                    <a:pt x="1882" y="2266"/>
                  </a:lnTo>
                  <a:lnTo>
                    <a:pt x="1882" y="2258"/>
                  </a:lnTo>
                  <a:lnTo>
                    <a:pt x="1882" y="2258"/>
                  </a:lnTo>
                  <a:lnTo>
                    <a:pt x="1870" y="2256"/>
                  </a:lnTo>
                  <a:lnTo>
                    <a:pt x="1860" y="2256"/>
                  </a:lnTo>
                  <a:lnTo>
                    <a:pt x="1850" y="2256"/>
                  </a:lnTo>
                  <a:lnTo>
                    <a:pt x="1840" y="2258"/>
                  </a:lnTo>
                  <a:lnTo>
                    <a:pt x="1832" y="2262"/>
                  </a:lnTo>
                  <a:lnTo>
                    <a:pt x="1826" y="2268"/>
                  </a:lnTo>
                  <a:lnTo>
                    <a:pt x="1820" y="2274"/>
                  </a:lnTo>
                  <a:lnTo>
                    <a:pt x="1816" y="2282"/>
                  </a:lnTo>
                  <a:lnTo>
                    <a:pt x="1816" y="2282"/>
                  </a:lnTo>
                  <a:lnTo>
                    <a:pt x="1792" y="2320"/>
                  </a:lnTo>
                  <a:lnTo>
                    <a:pt x="1766" y="2354"/>
                  </a:lnTo>
                  <a:lnTo>
                    <a:pt x="1752" y="2368"/>
                  </a:lnTo>
                  <a:lnTo>
                    <a:pt x="1736" y="2382"/>
                  </a:lnTo>
                  <a:lnTo>
                    <a:pt x="1720" y="2396"/>
                  </a:lnTo>
                  <a:lnTo>
                    <a:pt x="1702" y="2406"/>
                  </a:lnTo>
                  <a:lnTo>
                    <a:pt x="1702" y="2406"/>
                  </a:lnTo>
                  <a:lnTo>
                    <a:pt x="1686" y="2418"/>
                  </a:lnTo>
                  <a:lnTo>
                    <a:pt x="1672" y="2432"/>
                  </a:lnTo>
                  <a:lnTo>
                    <a:pt x="1664" y="2438"/>
                  </a:lnTo>
                  <a:lnTo>
                    <a:pt x="1654" y="2442"/>
                  </a:lnTo>
                  <a:lnTo>
                    <a:pt x="1642" y="2446"/>
                  </a:lnTo>
                  <a:lnTo>
                    <a:pt x="1628" y="2446"/>
                  </a:lnTo>
                  <a:lnTo>
                    <a:pt x="1628" y="2446"/>
                  </a:lnTo>
                  <a:lnTo>
                    <a:pt x="1618" y="2458"/>
                  </a:lnTo>
                  <a:lnTo>
                    <a:pt x="1608" y="2464"/>
                  </a:lnTo>
                  <a:lnTo>
                    <a:pt x="1596" y="2470"/>
                  </a:lnTo>
                  <a:lnTo>
                    <a:pt x="1580" y="2472"/>
                  </a:lnTo>
                  <a:lnTo>
                    <a:pt x="1580" y="2472"/>
                  </a:lnTo>
                  <a:lnTo>
                    <a:pt x="1572" y="2482"/>
                  </a:lnTo>
                  <a:lnTo>
                    <a:pt x="1564" y="2492"/>
                  </a:lnTo>
                  <a:lnTo>
                    <a:pt x="1546" y="2506"/>
                  </a:lnTo>
                  <a:lnTo>
                    <a:pt x="1530" y="2520"/>
                  </a:lnTo>
                  <a:lnTo>
                    <a:pt x="1522" y="2528"/>
                  </a:lnTo>
                  <a:lnTo>
                    <a:pt x="1514" y="2536"/>
                  </a:lnTo>
                  <a:lnTo>
                    <a:pt x="1514" y="2536"/>
                  </a:lnTo>
                  <a:lnTo>
                    <a:pt x="1462" y="2546"/>
                  </a:lnTo>
                  <a:lnTo>
                    <a:pt x="1438" y="2548"/>
                  </a:lnTo>
                  <a:lnTo>
                    <a:pt x="1408" y="2544"/>
                  </a:lnTo>
                  <a:lnTo>
                    <a:pt x="1408" y="2544"/>
                  </a:lnTo>
                  <a:lnTo>
                    <a:pt x="1406" y="2542"/>
                  </a:lnTo>
                  <a:lnTo>
                    <a:pt x="1404" y="2540"/>
                  </a:lnTo>
                  <a:lnTo>
                    <a:pt x="1394" y="2538"/>
                  </a:lnTo>
                  <a:lnTo>
                    <a:pt x="1376" y="2536"/>
                  </a:lnTo>
                  <a:lnTo>
                    <a:pt x="1376" y="2528"/>
                  </a:lnTo>
                  <a:lnTo>
                    <a:pt x="1376" y="2528"/>
                  </a:lnTo>
                  <a:lnTo>
                    <a:pt x="1276" y="2528"/>
                  </a:lnTo>
                  <a:lnTo>
                    <a:pt x="1276" y="2520"/>
                  </a:lnTo>
                  <a:lnTo>
                    <a:pt x="1276" y="2520"/>
                  </a:lnTo>
                  <a:lnTo>
                    <a:pt x="1266" y="2522"/>
                  </a:lnTo>
                  <a:lnTo>
                    <a:pt x="1256" y="2522"/>
                  </a:lnTo>
                  <a:lnTo>
                    <a:pt x="1240" y="2520"/>
                  </a:lnTo>
                  <a:lnTo>
                    <a:pt x="1220" y="2514"/>
                  </a:lnTo>
                  <a:lnTo>
                    <a:pt x="1210" y="2512"/>
                  </a:lnTo>
                  <a:lnTo>
                    <a:pt x="1196" y="2512"/>
                  </a:lnTo>
                  <a:lnTo>
                    <a:pt x="1196" y="2512"/>
                  </a:lnTo>
                  <a:lnTo>
                    <a:pt x="1188" y="2504"/>
                  </a:lnTo>
                  <a:lnTo>
                    <a:pt x="1176" y="2496"/>
                  </a:lnTo>
                  <a:lnTo>
                    <a:pt x="1162" y="2490"/>
                  </a:lnTo>
                  <a:lnTo>
                    <a:pt x="1154" y="2488"/>
                  </a:lnTo>
                  <a:lnTo>
                    <a:pt x="1146" y="2488"/>
                  </a:lnTo>
                  <a:lnTo>
                    <a:pt x="1146" y="2488"/>
                  </a:lnTo>
                  <a:lnTo>
                    <a:pt x="1134" y="2480"/>
                  </a:lnTo>
                  <a:lnTo>
                    <a:pt x="1124" y="2474"/>
                  </a:lnTo>
                  <a:lnTo>
                    <a:pt x="1118" y="2470"/>
                  </a:lnTo>
                  <a:lnTo>
                    <a:pt x="1112" y="2468"/>
                  </a:lnTo>
                  <a:lnTo>
                    <a:pt x="1106" y="2470"/>
                  </a:lnTo>
                  <a:lnTo>
                    <a:pt x="1096" y="2472"/>
                  </a:lnTo>
                  <a:lnTo>
                    <a:pt x="1096" y="2462"/>
                  </a:lnTo>
                  <a:lnTo>
                    <a:pt x="1096" y="2462"/>
                  </a:lnTo>
                  <a:lnTo>
                    <a:pt x="1074" y="2462"/>
                  </a:lnTo>
                  <a:lnTo>
                    <a:pt x="1054" y="2458"/>
                  </a:lnTo>
                  <a:lnTo>
                    <a:pt x="1036" y="2454"/>
                  </a:lnTo>
                  <a:lnTo>
                    <a:pt x="1018" y="2446"/>
                  </a:lnTo>
                  <a:lnTo>
                    <a:pt x="1002" y="2438"/>
                  </a:lnTo>
                  <a:lnTo>
                    <a:pt x="988" y="2428"/>
                  </a:lnTo>
                  <a:lnTo>
                    <a:pt x="958" y="2406"/>
                  </a:lnTo>
                  <a:lnTo>
                    <a:pt x="958" y="2406"/>
                  </a:lnTo>
                  <a:lnTo>
                    <a:pt x="944" y="2402"/>
                  </a:lnTo>
                  <a:lnTo>
                    <a:pt x="930" y="2394"/>
                  </a:lnTo>
                  <a:lnTo>
                    <a:pt x="918" y="2386"/>
                  </a:lnTo>
                  <a:lnTo>
                    <a:pt x="906" y="2374"/>
                  </a:lnTo>
                  <a:lnTo>
                    <a:pt x="884" y="2352"/>
                  </a:lnTo>
                  <a:lnTo>
                    <a:pt x="872" y="2342"/>
                  </a:lnTo>
                  <a:lnTo>
                    <a:pt x="860" y="2332"/>
                  </a:lnTo>
                  <a:lnTo>
                    <a:pt x="860" y="2332"/>
                  </a:lnTo>
                  <a:lnTo>
                    <a:pt x="850" y="2324"/>
                  </a:lnTo>
                  <a:lnTo>
                    <a:pt x="840" y="2318"/>
                  </a:lnTo>
                  <a:lnTo>
                    <a:pt x="816" y="2306"/>
                  </a:lnTo>
                  <a:lnTo>
                    <a:pt x="806" y="2298"/>
                  </a:lnTo>
                  <a:lnTo>
                    <a:pt x="798" y="2290"/>
                  </a:lnTo>
                  <a:lnTo>
                    <a:pt x="790" y="2280"/>
                  </a:lnTo>
                  <a:lnTo>
                    <a:pt x="786" y="2266"/>
                  </a:lnTo>
                  <a:lnTo>
                    <a:pt x="786" y="2266"/>
                  </a:lnTo>
                  <a:lnTo>
                    <a:pt x="772" y="2262"/>
                  </a:lnTo>
                  <a:lnTo>
                    <a:pt x="760" y="2254"/>
                  </a:lnTo>
                  <a:lnTo>
                    <a:pt x="752" y="2244"/>
                  </a:lnTo>
                  <a:lnTo>
                    <a:pt x="744" y="2232"/>
                  </a:lnTo>
                  <a:lnTo>
                    <a:pt x="728" y="2206"/>
                  </a:lnTo>
                  <a:lnTo>
                    <a:pt x="722" y="2194"/>
                  </a:lnTo>
                  <a:lnTo>
                    <a:pt x="712" y="2184"/>
                  </a:lnTo>
                  <a:lnTo>
                    <a:pt x="712" y="2184"/>
                  </a:lnTo>
                  <a:lnTo>
                    <a:pt x="712" y="2174"/>
                  </a:lnTo>
                  <a:lnTo>
                    <a:pt x="710" y="2162"/>
                  </a:lnTo>
                  <a:lnTo>
                    <a:pt x="704" y="2144"/>
                  </a:lnTo>
                  <a:lnTo>
                    <a:pt x="696" y="2124"/>
                  </a:lnTo>
                  <a:lnTo>
                    <a:pt x="688" y="2102"/>
                  </a:lnTo>
                  <a:lnTo>
                    <a:pt x="688" y="2102"/>
                  </a:lnTo>
                  <a:lnTo>
                    <a:pt x="680" y="2098"/>
                  </a:lnTo>
                  <a:lnTo>
                    <a:pt x="674" y="2090"/>
                  </a:lnTo>
                  <a:lnTo>
                    <a:pt x="670" y="2080"/>
                  </a:lnTo>
                  <a:lnTo>
                    <a:pt x="668" y="2070"/>
                  </a:lnTo>
                  <a:lnTo>
                    <a:pt x="668" y="2046"/>
                  </a:lnTo>
                  <a:lnTo>
                    <a:pt x="668" y="2018"/>
                  </a:lnTo>
                  <a:lnTo>
                    <a:pt x="668" y="1994"/>
                  </a:lnTo>
                  <a:lnTo>
                    <a:pt x="666" y="1982"/>
                  </a:lnTo>
                  <a:lnTo>
                    <a:pt x="664" y="1972"/>
                  </a:lnTo>
                  <a:lnTo>
                    <a:pt x="660" y="1962"/>
                  </a:lnTo>
                  <a:lnTo>
                    <a:pt x="652" y="1956"/>
                  </a:lnTo>
                  <a:lnTo>
                    <a:pt x="642" y="1950"/>
                  </a:lnTo>
                  <a:lnTo>
                    <a:pt x="630" y="1948"/>
                  </a:lnTo>
                  <a:lnTo>
                    <a:pt x="630" y="1948"/>
                  </a:lnTo>
                  <a:lnTo>
                    <a:pt x="616" y="1942"/>
                  </a:lnTo>
                  <a:lnTo>
                    <a:pt x="600" y="1940"/>
                  </a:lnTo>
                  <a:lnTo>
                    <a:pt x="586" y="1940"/>
                  </a:lnTo>
                  <a:lnTo>
                    <a:pt x="572" y="1942"/>
                  </a:lnTo>
                  <a:lnTo>
                    <a:pt x="546" y="1948"/>
                  </a:lnTo>
                  <a:lnTo>
                    <a:pt x="524" y="1956"/>
                  </a:lnTo>
                  <a:lnTo>
                    <a:pt x="524" y="1956"/>
                  </a:lnTo>
                  <a:lnTo>
                    <a:pt x="476" y="1942"/>
                  </a:lnTo>
                  <a:lnTo>
                    <a:pt x="432" y="1928"/>
                  </a:lnTo>
                  <a:lnTo>
                    <a:pt x="412" y="1918"/>
                  </a:lnTo>
                  <a:lnTo>
                    <a:pt x="390" y="1908"/>
                  </a:lnTo>
                  <a:lnTo>
                    <a:pt x="372" y="1896"/>
                  </a:lnTo>
                  <a:lnTo>
                    <a:pt x="352" y="1882"/>
                  </a:lnTo>
                  <a:lnTo>
                    <a:pt x="328" y="1874"/>
                  </a:lnTo>
                  <a:lnTo>
                    <a:pt x="328" y="1874"/>
                  </a:lnTo>
                  <a:lnTo>
                    <a:pt x="306" y="1846"/>
                  </a:lnTo>
                  <a:lnTo>
                    <a:pt x="282" y="1820"/>
                  </a:lnTo>
                  <a:lnTo>
                    <a:pt x="230" y="1770"/>
                  </a:lnTo>
                  <a:lnTo>
                    <a:pt x="206" y="1744"/>
                  </a:lnTo>
                  <a:lnTo>
                    <a:pt x="182" y="1718"/>
                  </a:lnTo>
                  <a:lnTo>
                    <a:pt x="160" y="1690"/>
                  </a:lnTo>
                  <a:lnTo>
                    <a:pt x="140" y="1662"/>
                  </a:lnTo>
                  <a:lnTo>
                    <a:pt x="140" y="1662"/>
                  </a:lnTo>
                  <a:lnTo>
                    <a:pt x="136" y="1648"/>
                  </a:lnTo>
                  <a:lnTo>
                    <a:pt x="134" y="1638"/>
                  </a:lnTo>
                  <a:lnTo>
                    <a:pt x="132" y="1628"/>
                  </a:lnTo>
                  <a:lnTo>
                    <a:pt x="128" y="1624"/>
                  </a:lnTo>
                  <a:lnTo>
                    <a:pt x="124" y="1620"/>
                  </a:lnTo>
                  <a:lnTo>
                    <a:pt x="124" y="1620"/>
                  </a:lnTo>
                  <a:lnTo>
                    <a:pt x="118" y="1614"/>
                  </a:lnTo>
                  <a:lnTo>
                    <a:pt x="114" y="1606"/>
                  </a:lnTo>
                  <a:lnTo>
                    <a:pt x="112" y="1588"/>
                  </a:lnTo>
                  <a:lnTo>
                    <a:pt x="108" y="1570"/>
                  </a:lnTo>
                  <a:lnTo>
                    <a:pt x="104" y="1562"/>
                  </a:lnTo>
                  <a:lnTo>
                    <a:pt x="98" y="1554"/>
                  </a:lnTo>
                  <a:lnTo>
                    <a:pt x="98" y="1554"/>
                  </a:lnTo>
                  <a:lnTo>
                    <a:pt x="102" y="1534"/>
                  </a:lnTo>
                  <a:lnTo>
                    <a:pt x="102" y="1518"/>
                  </a:lnTo>
                  <a:lnTo>
                    <a:pt x="98" y="1504"/>
                  </a:lnTo>
                  <a:lnTo>
                    <a:pt x="94" y="1490"/>
                  </a:lnTo>
                  <a:lnTo>
                    <a:pt x="88" y="1476"/>
                  </a:lnTo>
                  <a:lnTo>
                    <a:pt x="84" y="1460"/>
                  </a:lnTo>
                  <a:lnTo>
                    <a:pt x="82" y="1444"/>
                  </a:lnTo>
                  <a:lnTo>
                    <a:pt x="82" y="1424"/>
                  </a:lnTo>
                  <a:lnTo>
                    <a:pt x="82" y="1424"/>
                  </a:lnTo>
                  <a:lnTo>
                    <a:pt x="80" y="1400"/>
                  </a:lnTo>
                  <a:lnTo>
                    <a:pt x="80" y="1374"/>
                  </a:lnTo>
                  <a:lnTo>
                    <a:pt x="80" y="1352"/>
                  </a:lnTo>
                  <a:lnTo>
                    <a:pt x="82" y="1328"/>
                  </a:lnTo>
                  <a:lnTo>
                    <a:pt x="84" y="1306"/>
                  </a:lnTo>
                  <a:lnTo>
                    <a:pt x="88" y="1284"/>
                  </a:lnTo>
                  <a:lnTo>
                    <a:pt x="98" y="1244"/>
                  </a:lnTo>
                  <a:lnTo>
                    <a:pt x="108" y="1244"/>
                  </a:lnTo>
                  <a:lnTo>
                    <a:pt x="116" y="1178"/>
                  </a:lnTo>
                  <a:lnTo>
                    <a:pt x="116" y="1178"/>
                  </a:lnTo>
                  <a:lnTo>
                    <a:pt x="124" y="1174"/>
                  </a:lnTo>
                  <a:lnTo>
                    <a:pt x="128" y="1168"/>
                  </a:lnTo>
                  <a:lnTo>
                    <a:pt x="136" y="1152"/>
                  </a:lnTo>
                  <a:lnTo>
                    <a:pt x="140" y="1144"/>
                  </a:lnTo>
                  <a:lnTo>
                    <a:pt x="146" y="1136"/>
                  </a:lnTo>
                  <a:lnTo>
                    <a:pt x="154" y="1128"/>
                  </a:lnTo>
                  <a:lnTo>
                    <a:pt x="164" y="1122"/>
                  </a:lnTo>
                  <a:lnTo>
                    <a:pt x="164" y="1122"/>
                  </a:lnTo>
                  <a:lnTo>
                    <a:pt x="174" y="1104"/>
                  </a:lnTo>
                  <a:lnTo>
                    <a:pt x="186" y="1086"/>
                  </a:lnTo>
                  <a:lnTo>
                    <a:pt x="212" y="1052"/>
                  </a:lnTo>
                  <a:lnTo>
                    <a:pt x="270" y="982"/>
                  </a:lnTo>
                  <a:lnTo>
                    <a:pt x="270" y="982"/>
                  </a:lnTo>
                  <a:lnTo>
                    <a:pt x="280" y="974"/>
                  </a:lnTo>
                  <a:lnTo>
                    <a:pt x="290" y="966"/>
                  </a:lnTo>
                  <a:lnTo>
                    <a:pt x="310" y="952"/>
                  </a:lnTo>
                  <a:lnTo>
                    <a:pt x="320" y="944"/>
                  </a:lnTo>
                  <a:lnTo>
                    <a:pt x="330" y="934"/>
                  </a:lnTo>
                  <a:lnTo>
                    <a:pt x="338" y="922"/>
                  </a:lnTo>
                  <a:lnTo>
                    <a:pt x="344" y="908"/>
                  </a:lnTo>
                  <a:lnTo>
                    <a:pt x="344" y="908"/>
                  </a:lnTo>
                  <a:lnTo>
                    <a:pt x="350" y="904"/>
                  </a:lnTo>
                  <a:lnTo>
                    <a:pt x="354" y="902"/>
                  </a:lnTo>
                  <a:lnTo>
                    <a:pt x="368" y="898"/>
                  </a:lnTo>
                  <a:lnTo>
                    <a:pt x="396" y="894"/>
                  </a:lnTo>
                  <a:lnTo>
                    <a:pt x="410" y="892"/>
                  </a:lnTo>
                  <a:lnTo>
                    <a:pt x="424" y="888"/>
                  </a:lnTo>
                  <a:lnTo>
                    <a:pt x="430" y="884"/>
                  </a:lnTo>
                  <a:lnTo>
                    <a:pt x="434" y="880"/>
                  </a:lnTo>
                  <a:lnTo>
                    <a:pt x="438" y="874"/>
                  </a:lnTo>
                  <a:lnTo>
                    <a:pt x="442" y="868"/>
                  </a:lnTo>
                  <a:lnTo>
                    <a:pt x="442" y="868"/>
                  </a:lnTo>
                  <a:lnTo>
                    <a:pt x="446" y="866"/>
                  </a:lnTo>
                  <a:lnTo>
                    <a:pt x="450" y="864"/>
                  </a:lnTo>
                  <a:lnTo>
                    <a:pt x="450" y="860"/>
                  </a:lnTo>
                  <a:lnTo>
                    <a:pt x="508" y="852"/>
                  </a:lnTo>
                  <a:lnTo>
                    <a:pt x="508" y="852"/>
                  </a:lnTo>
                  <a:lnTo>
                    <a:pt x="516" y="846"/>
                  </a:lnTo>
                  <a:lnTo>
                    <a:pt x="524" y="842"/>
                  </a:lnTo>
                  <a:lnTo>
                    <a:pt x="534" y="836"/>
                  </a:lnTo>
                  <a:lnTo>
                    <a:pt x="538" y="832"/>
                  </a:lnTo>
                  <a:lnTo>
                    <a:pt x="540" y="826"/>
                  </a:lnTo>
                  <a:lnTo>
                    <a:pt x="680" y="826"/>
                  </a:lnTo>
                  <a:lnTo>
                    <a:pt x="680" y="826"/>
                  </a:lnTo>
                  <a:lnTo>
                    <a:pt x="684" y="832"/>
                  </a:lnTo>
                  <a:lnTo>
                    <a:pt x="688" y="836"/>
                  </a:lnTo>
                  <a:lnTo>
                    <a:pt x="700" y="842"/>
                  </a:lnTo>
                  <a:lnTo>
                    <a:pt x="712" y="846"/>
                  </a:lnTo>
                  <a:lnTo>
                    <a:pt x="720" y="852"/>
                  </a:lnTo>
                  <a:lnTo>
                    <a:pt x="720" y="852"/>
                  </a:lnTo>
                  <a:lnTo>
                    <a:pt x="728" y="856"/>
                  </a:lnTo>
                  <a:lnTo>
                    <a:pt x="736" y="860"/>
                  </a:lnTo>
                  <a:lnTo>
                    <a:pt x="744" y="860"/>
                  </a:lnTo>
                  <a:lnTo>
                    <a:pt x="754" y="860"/>
                  </a:lnTo>
                  <a:lnTo>
                    <a:pt x="772" y="856"/>
                  </a:lnTo>
                  <a:lnTo>
                    <a:pt x="786" y="852"/>
                  </a:lnTo>
                  <a:lnTo>
                    <a:pt x="786" y="852"/>
                  </a:lnTo>
                  <a:lnTo>
                    <a:pt x="788" y="846"/>
                  </a:lnTo>
                  <a:lnTo>
                    <a:pt x="790" y="844"/>
                  </a:lnTo>
                  <a:lnTo>
                    <a:pt x="798" y="842"/>
                  </a:lnTo>
                  <a:lnTo>
                    <a:pt x="806" y="842"/>
                  </a:lnTo>
                  <a:lnTo>
                    <a:pt x="810" y="840"/>
                  </a:lnTo>
                  <a:lnTo>
                    <a:pt x="810" y="834"/>
                  </a:lnTo>
                  <a:lnTo>
                    <a:pt x="810" y="834"/>
                  </a:lnTo>
                  <a:lnTo>
                    <a:pt x="820" y="830"/>
                  </a:lnTo>
                  <a:lnTo>
                    <a:pt x="828" y="824"/>
                  </a:lnTo>
                  <a:lnTo>
                    <a:pt x="830" y="814"/>
                  </a:lnTo>
                  <a:lnTo>
                    <a:pt x="832" y="804"/>
                  </a:lnTo>
                  <a:lnTo>
                    <a:pt x="830" y="778"/>
                  </a:lnTo>
                  <a:lnTo>
                    <a:pt x="828" y="752"/>
                  </a:lnTo>
                  <a:lnTo>
                    <a:pt x="828" y="752"/>
                  </a:lnTo>
                  <a:lnTo>
                    <a:pt x="818" y="752"/>
                  </a:lnTo>
                  <a:lnTo>
                    <a:pt x="818" y="752"/>
                  </a:lnTo>
                  <a:lnTo>
                    <a:pt x="814" y="720"/>
                  </a:lnTo>
                  <a:lnTo>
                    <a:pt x="814" y="702"/>
                  </a:lnTo>
                  <a:lnTo>
                    <a:pt x="814" y="684"/>
                  </a:lnTo>
                  <a:lnTo>
                    <a:pt x="818" y="668"/>
                  </a:lnTo>
                  <a:lnTo>
                    <a:pt x="822" y="650"/>
                  </a:lnTo>
                  <a:lnTo>
                    <a:pt x="828" y="636"/>
                  </a:lnTo>
                  <a:lnTo>
                    <a:pt x="836" y="622"/>
                  </a:lnTo>
                  <a:lnTo>
                    <a:pt x="836" y="622"/>
                  </a:lnTo>
                  <a:lnTo>
                    <a:pt x="844" y="616"/>
                  </a:lnTo>
                  <a:lnTo>
                    <a:pt x="852" y="608"/>
                  </a:lnTo>
                  <a:lnTo>
                    <a:pt x="858" y="598"/>
                  </a:lnTo>
                  <a:lnTo>
                    <a:pt x="862" y="590"/>
                  </a:lnTo>
                  <a:lnTo>
                    <a:pt x="872" y="568"/>
                  </a:lnTo>
                  <a:lnTo>
                    <a:pt x="878" y="546"/>
                  </a:lnTo>
                  <a:lnTo>
                    <a:pt x="886" y="500"/>
                  </a:lnTo>
                  <a:lnTo>
                    <a:pt x="892" y="478"/>
                  </a:lnTo>
                  <a:lnTo>
                    <a:pt x="900" y="458"/>
                  </a:lnTo>
                  <a:lnTo>
                    <a:pt x="900" y="458"/>
                  </a:lnTo>
                  <a:lnTo>
                    <a:pt x="914" y="440"/>
                  </a:lnTo>
                  <a:lnTo>
                    <a:pt x="928" y="422"/>
                  </a:lnTo>
                  <a:lnTo>
                    <a:pt x="960" y="388"/>
                  </a:lnTo>
                  <a:lnTo>
                    <a:pt x="976" y="370"/>
                  </a:lnTo>
                  <a:lnTo>
                    <a:pt x="992" y="352"/>
                  </a:lnTo>
                  <a:lnTo>
                    <a:pt x="1004" y="332"/>
                  </a:lnTo>
                  <a:lnTo>
                    <a:pt x="1016" y="312"/>
                  </a:lnTo>
                  <a:lnTo>
                    <a:pt x="1016" y="312"/>
                  </a:lnTo>
                  <a:lnTo>
                    <a:pt x="1016" y="308"/>
                  </a:lnTo>
                  <a:lnTo>
                    <a:pt x="1020" y="304"/>
                  </a:lnTo>
                  <a:lnTo>
                    <a:pt x="1028" y="298"/>
                  </a:lnTo>
                  <a:lnTo>
                    <a:pt x="1036" y="290"/>
                  </a:lnTo>
                  <a:lnTo>
                    <a:pt x="1038" y="284"/>
                  </a:lnTo>
                  <a:lnTo>
                    <a:pt x="1040" y="278"/>
                  </a:lnTo>
                  <a:lnTo>
                    <a:pt x="1040" y="278"/>
                  </a:lnTo>
                  <a:lnTo>
                    <a:pt x="1050" y="276"/>
                  </a:lnTo>
                  <a:lnTo>
                    <a:pt x="1060" y="270"/>
                  </a:lnTo>
                  <a:lnTo>
                    <a:pt x="1066" y="262"/>
                  </a:lnTo>
                  <a:lnTo>
                    <a:pt x="1072" y="254"/>
                  </a:lnTo>
                  <a:lnTo>
                    <a:pt x="1078" y="244"/>
                  </a:lnTo>
                  <a:lnTo>
                    <a:pt x="1086" y="238"/>
                  </a:lnTo>
                  <a:lnTo>
                    <a:pt x="1094" y="232"/>
                  </a:lnTo>
                  <a:lnTo>
                    <a:pt x="1106" y="230"/>
                  </a:lnTo>
                  <a:lnTo>
                    <a:pt x="1106" y="230"/>
                  </a:lnTo>
                  <a:lnTo>
                    <a:pt x="1118" y="206"/>
                  </a:lnTo>
                  <a:lnTo>
                    <a:pt x="1136" y="186"/>
                  </a:lnTo>
                  <a:lnTo>
                    <a:pt x="1156" y="170"/>
                  </a:lnTo>
                  <a:lnTo>
                    <a:pt x="1178" y="156"/>
                  </a:lnTo>
                  <a:lnTo>
                    <a:pt x="1178" y="156"/>
                  </a:lnTo>
                  <a:lnTo>
                    <a:pt x="1198" y="154"/>
                  </a:lnTo>
                  <a:lnTo>
                    <a:pt x="1218" y="150"/>
                  </a:lnTo>
                  <a:lnTo>
                    <a:pt x="1238" y="142"/>
                  </a:lnTo>
                  <a:lnTo>
                    <a:pt x="1246" y="136"/>
                  </a:lnTo>
                  <a:lnTo>
                    <a:pt x="1252" y="132"/>
                  </a:lnTo>
                  <a:lnTo>
                    <a:pt x="1252" y="132"/>
                  </a:lnTo>
                  <a:lnTo>
                    <a:pt x="1264" y="130"/>
                  </a:lnTo>
                  <a:lnTo>
                    <a:pt x="1268" y="128"/>
                  </a:lnTo>
                  <a:lnTo>
                    <a:pt x="1268" y="122"/>
                  </a:lnTo>
                  <a:lnTo>
                    <a:pt x="1268" y="122"/>
                  </a:lnTo>
                  <a:lnTo>
                    <a:pt x="1330" y="112"/>
                  </a:lnTo>
                  <a:lnTo>
                    <a:pt x="1344" y="110"/>
                  </a:lnTo>
                  <a:lnTo>
                    <a:pt x="1358" y="104"/>
                  </a:lnTo>
                  <a:lnTo>
                    <a:pt x="1370" y="98"/>
                  </a:lnTo>
                  <a:lnTo>
                    <a:pt x="1384" y="90"/>
                  </a:lnTo>
                  <a:lnTo>
                    <a:pt x="1506" y="90"/>
                  </a:lnTo>
                  <a:lnTo>
                    <a:pt x="1506" y="98"/>
                  </a:lnTo>
                  <a:lnTo>
                    <a:pt x="1506" y="98"/>
                  </a:lnTo>
                  <a:lnTo>
                    <a:pt x="1532" y="98"/>
                  </a:lnTo>
                  <a:lnTo>
                    <a:pt x="1554" y="100"/>
                  </a:lnTo>
                  <a:lnTo>
                    <a:pt x="1576" y="104"/>
                  </a:lnTo>
                  <a:lnTo>
                    <a:pt x="1596" y="110"/>
                  </a:lnTo>
                  <a:lnTo>
                    <a:pt x="1614" y="116"/>
                  </a:lnTo>
                  <a:lnTo>
                    <a:pt x="1634" y="122"/>
                  </a:lnTo>
                  <a:lnTo>
                    <a:pt x="1654" y="124"/>
                  </a:lnTo>
                  <a:lnTo>
                    <a:pt x="1678" y="122"/>
                  </a:lnTo>
                  <a:lnTo>
                    <a:pt x="1800" y="132"/>
                  </a:lnTo>
                  <a:lnTo>
                    <a:pt x="1800" y="140"/>
                  </a:lnTo>
                  <a:lnTo>
                    <a:pt x="1800" y="140"/>
                  </a:lnTo>
                  <a:lnTo>
                    <a:pt x="1822" y="140"/>
                  </a:lnTo>
                  <a:lnTo>
                    <a:pt x="1844" y="144"/>
                  </a:lnTo>
                  <a:lnTo>
                    <a:pt x="1862" y="148"/>
                  </a:lnTo>
                  <a:lnTo>
                    <a:pt x="1880" y="156"/>
                  </a:lnTo>
                  <a:lnTo>
                    <a:pt x="1898" y="164"/>
                  </a:lnTo>
                  <a:lnTo>
                    <a:pt x="1912" y="174"/>
                  </a:lnTo>
                  <a:lnTo>
                    <a:pt x="1928" y="184"/>
                  </a:lnTo>
                  <a:lnTo>
                    <a:pt x="1942" y="196"/>
                  </a:lnTo>
                  <a:lnTo>
                    <a:pt x="1968" y="222"/>
                  </a:lnTo>
                  <a:lnTo>
                    <a:pt x="1994" y="250"/>
                  </a:lnTo>
                  <a:lnTo>
                    <a:pt x="2020" y="278"/>
                  </a:lnTo>
                  <a:lnTo>
                    <a:pt x="2046" y="302"/>
                  </a:lnTo>
                  <a:lnTo>
                    <a:pt x="2046" y="302"/>
                  </a:lnTo>
                  <a:lnTo>
                    <a:pt x="2052" y="314"/>
                  </a:lnTo>
                  <a:lnTo>
                    <a:pt x="2060" y="324"/>
                  </a:lnTo>
                  <a:lnTo>
                    <a:pt x="2074" y="342"/>
                  </a:lnTo>
                  <a:lnTo>
                    <a:pt x="2090" y="360"/>
                  </a:lnTo>
                  <a:lnTo>
                    <a:pt x="2104" y="376"/>
                  </a:lnTo>
                  <a:lnTo>
                    <a:pt x="2104" y="376"/>
                  </a:lnTo>
                  <a:lnTo>
                    <a:pt x="2110" y="392"/>
                  </a:lnTo>
                  <a:lnTo>
                    <a:pt x="2120" y="404"/>
                  </a:lnTo>
                  <a:lnTo>
                    <a:pt x="2128" y="414"/>
                  </a:lnTo>
                  <a:lnTo>
                    <a:pt x="2136" y="426"/>
                  </a:lnTo>
                  <a:lnTo>
                    <a:pt x="2136" y="426"/>
                  </a:lnTo>
                  <a:lnTo>
                    <a:pt x="2138" y="432"/>
                  </a:lnTo>
                  <a:lnTo>
                    <a:pt x="2142" y="436"/>
                  </a:lnTo>
                  <a:lnTo>
                    <a:pt x="2146" y="440"/>
                  </a:lnTo>
                  <a:lnTo>
                    <a:pt x="2152" y="442"/>
                  </a:lnTo>
                  <a:lnTo>
                    <a:pt x="2152" y="442"/>
                  </a:lnTo>
                  <a:lnTo>
                    <a:pt x="2174" y="490"/>
                  </a:lnTo>
                  <a:lnTo>
                    <a:pt x="2186" y="508"/>
                  </a:lnTo>
                  <a:lnTo>
                    <a:pt x="2192" y="518"/>
                  </a:lnTo>
                  <a:lnTo>
                    <a:pt x="2202" y="524"/>
                  </a:lnTo>
                  <a:lnTo>
                    <a:pt x="2202" y="524"/>
                  </a:lnTo>
                  <a:lnTo>
                    <a:pt x="2214" y="552"/>
                  </a:lnTo>
                  <a:lnTo>
                    <a:pt x="2224" y="568"/>
                  </a:lnTo>
                  <a:lnTo>
                    <a:pt x="2234" y="582"/>
                  </a:lnTo>
                  <a:lnTo>
                    <a:pt x="2234" y="582"/>
                  </a:lnTo>
                  <a:lnTo>
                    <a:pt x="2234" y="598"/>
                  </a:lnTo>
                  <a:lnTo>
                    <a:pt x="2242" y="598"/>
                  </a:lnTo>
                  <a:lnTo>
                    <a:pt x="2242" y="598"/>
                  </a:lnTo>
                  <a:lnTo>
                    <a:pt x="2244" y="614"/>
                  </a:lnTo>
                  <a:lnTo>
                    <a:pt x="2246" y="628"/>
                  </a:lnTo>
                  <a:lnTo>
                    <a:pt x="2250" y="644"/>
                  </a:lnTo>
                  <a:lnTo>
                    <a:pt x="2254" y="658"/>
                  </a:lnTo>
                  <a:lnTo>
                    <a:pt x="2262" y="672"/>
                  </a:lnTo>
                  <a:lnTo>
                    <a:pt x="2270" y="682"/>
                  </a:lnTo>
                  <a:lnTo>
                    <a:pt x="2280" y="690"/>
                  </a:lnTo>
                  <a:lnTo>
                    <a:pt x="2292" y="696"/>
                  </a:lnTo>
                  <a:lnTo>
                    <a:pt x="2292" y="696"/>
                  </a:lnTo>
                  <a:lnTo>
                    <a:pt x="2314" y="702"/>
                  </a:lnTo>
                  <a:lnTo>
                    <a:pt x="2340" y="704"/>
                  </a:lnTo>
                  <a:lnTo>
                    <a:pt x="2352" y="706"/>
                  </a:lnTo>
                  <a:lnTo>
                    <a:pt x="2364" y="704"/>
                  </a:lnTo>
                  <a:lnTo>
                    <a:pt x="2374" y="700"/>
                  </a:lnTo>
                  <a:lnTo>
                    <a:pt x="2382" y="696"/>
                  </a:lnTo>
                  <a:lnTo>
                    <a:pt x="2382" y="696"/>
                  </a:lnTo>
                  <a:lnTo>
                    <a:pt x="2388" y="690"/>
                  </a:lnTo>
                  <a:lnTo>
                    <a:pt x="2394" y="684"/>
                  </a:lnTo>
                  <a:lnTo>
                    <a:pt x="2400" y="676"/>
                  </a:lnTo>
                  <a:lnTo>
                    <a:pt x="2406" y="668"/>
                  </a:lnTo>
                  <a:lnTo>
                    <a:pt x="2412" y="648"/>
                  </a:lnTo>
                  <a:lnTo>
                    <a:pt x="2418" y="626"/>
                  </a:lnTo>
                  <a:lnTo>
                    <a:pt x="2420" y="602"/>
                  </a:lnTo>
                  <a:lnTo>
                    <a:pt x="2422" y="578"/>
                  </a:lnTo>
                  <a:lnTo>
                    <a:pt x="2422" y="532"/>
                  </a:lnTo>
                  <a:lnTo>
                    <a:pt x="2422" y="532"/>
                  </a:lnTo>
                  <a:lnTo>
                    <a:pt x="2434" y="520"/>
                  </a:lnTo>
                  <a:lnTo>
                    <a:pt x="2444" y="504"/>
                  </a:lnTo>
                  <a:lnTo>
                    <a:pt x="2450" y="496"/>
                  </a:lnTo>
                  <a:lnTo>
                    <a:pt x="2452" y="484"/>
                  </a:lnTo>
                  <a:lnTo>
                    <a:pt x="2454" y="472"/>
                  </a:lnTo>
                  <a:lnTo>
                    <a:pt x="2456" y="458"/>
                  </a:lnTo>
                  <a:lnTo>
                    <a:pt x="2456" y="458"/>
                  </a:lnTo>
                  <a:lnTo>
                    <a:pt x="2460" y="454"/>
                  </a:lnTo>
                  <a:lnTo>
                    <a:pt x="2466" y="450"/>
                  </a:lnTo>
                  <a:lnTo>
                    <a:pt x="2476" y="438"/>
                  </a:lnTo>
                  <a:lnTo>
                    <a:pt x="2484" y="426"/>
                  </a:lnTo>
                  <a:lnTo>
                    <a:pt x="2490" y="422"/>
                  </a:lnTo>
                  <a:lnTo>
                    <a:pt x="2496" y="418"/>
                  </a:lnTo>
                  <a:lnTo>
                    <a:pt x="2496" y="418"/>
                  </a:lnTo>
                  <a:lnTo>
                    <a:pt x="2504" y="414"/>
                  </a:lnTo>
                  <a:lnTo>
                    <a:pt x="2512" y="408"/>
                  </a:lnTo>
                  <a:lnTo>
                    <a:pt x="2526" y="398"/>
                  </a:lnTo>
                  <a:lnTo>
                    <a:pt x="2540" y="386"/>
                  </a:lnTo>
                  <a:lnTo>
                    <a:pt x="2550" y="380"/>
                  </a:lnTo>
                  <a:lnTo>
                    <a:pt x="2562" y="376"/>
                  </a:lnTo>
                  <a:lnTo>
                    <a:pt x="2562" y="376"/>
                  </a:lnTo>
                  <a:lnTo>
                    <a:pt x="2566" y="366"/>
                  </a:lnTo>
                  <a:lnTo>
                    <a:pt x="2572" y="356"/>
                  </a:lnTo>
                  <a:lnTo>
                    <a:pt x="2578" y="348"/>
                  </a:lnTo>
                  <a:lnTo>
                    <a:pt x="2588" y="340"/>
                  </a:lnTo>
                  <a:lnTo>
                    <a:pt x="2604" y="324"/>
                  </a:lnTo>
                  <a:lnTo>
                    <a:pt x="2612" y="314"/>
                  </a:lnTo>
                  <a:lnTo>
                    <a:pt x="2618" y="302"/>
                  </a:lnTo>
                  <a:lnTo>
                    <a:pt x="2618" y="302"/>
                  </a:lnTo>
                  <a:lnTo>
                    <a:pt x="2624" y="304"/>
                  </a:lnTo>
                  <a:lnTo>
                    <a:pt x="2630" y="306"/>
                  </a:lnTo>
                  <a:lnTo>
                    <a:pt x="2638" y="306"/>
                  </a:lnTo>
                  <a:lnTo>
                    <a:pt x="2644" y="302"/>
                  </a:lnTo>
                  <a:lnTo>
                    <a:pt x="2644" y="302"/>
                  </a:lnTo>
                  <a:lnTo>
                    <a:pt x="2672" y="288"/>
                  </a:lnTo>
                  <a:lnTo>
                    <a:pt x="2690" y="282"/>
                  </a:lnTo>
                  <a:lnTo>
                    <a:pt x="2700" y="280"/>
                  </a:lnTo>
                  <a:lnTo>
                    <a:pt x="2708" y="278"/>
                  </a:lnTo>
                  <a:lnTo>
                    <a:pt x="2708" y="270"/>
                  </a:lnTo>
                  <a:lnTo>
                    <a:pt x="2708" y="270"/>
                  </a:lnTo>
                  <a:lnTo>
                    <a:pt x="2726" y="270"/>
                  </a:lnTo>
                  <a:lnTo>
                    <a:pt x="2742" y="268"/>
                  </a:lnTo>
                  <a:lnTo>
                    <a:pt x="2758" y="264"/>
                  </a:lnTo>
                  <a:lnTo>
                    <a:pt x="2770" y="260"/>
                  </a:lnTo>
                  <a:lnTo>
                    <a:pt x="2782" y="254"/>
                  </a:lnTo>
                  <a:lnTo>
                    <a:pt x="2792" y="246"/>
                  </a:lnTo>
                  <a:lnTo>
                    <a:pt x="2800" y="238"/>
                  </a:lnTo>
                  <a:lnTo>
                    <a:pt x="2806" y="230"/>
                  </a:lnTo>
                  <a:lnTo>
                    <a:pt x="2806" y="230"/>
                  </a:lnTo>
                  <a:lnTo>
                    <a:pt x="2816" y="228"/>
                  </a:lnTo>
                  <a:lnTo>
                    <a:pt x="2826" y="226"/>
                  </a:lnTo>
                  <a:lnTo>
                    <a:pt x="2842" y="228"/>
                  </a:lnTo>
                  <a:lnTo>
                    <a:pt x="2848" y="226"/>
                  </a:lnTo>
                  <a:lnTo>
                    <a:pt x="2856" y="224"/>
                  </a:lnTo>
                  <a:lnTo>
                    <a:pt x="2860" y="220"/>
                  </a:lnTo>
                  <a:lnTo>
                    <a:pt x="2864" y="212"/>
                  </a:lnTo>
                  <a:lnTo>
                    <a:pt x="2864" y="212"/>
                  </a:lnTo>
                  <a:lnTo>
                    <a:pt x="2884" y="210"/>
                  </a:lnTo>
                  <a:lnTo>
                    <a:pt x="2904" y="210"/>
                  </a:lnTo>
                  <a:lnTo>
                    <a:pt x="2924" y="210"/>
                  </a:lnTo>
                  <a:lnTo>
                    <a:pt x="2944" y="212"/>
                  </a:lnTo>
                  <a:lnTo>
                    <a:pt x="2984" y="218"/>
                  </a:lnTo>
                  <a:lnTo>
                    <a:pt x="3004" y="224"/>
                  </a:lnTo>
                  <a:lnTo>
                    <a:pt x="3020" y="230"/>
                  </a:lnTo>
                  <a:lnTo>
                    <a:pt x="3020" y="230"/>
                  </a:lnTo>
                  <a:lnTo>
                    <a:pt x="3038" y="240"/>
                  </a:lnTo>
                  <a:lnTo>
                    <a:pt x="3056" y="248"/>
                  </a:lnTo>
                  <a:lnTo>
                    <a:pt x="3074" y="252"/>
                  </a:lnTo>
                  <a:lnTo>
                    <a:pt x="3094" y="254"/>
                  </a:lnTo>
                  <a:lnTo>
                    <a:pt x="3094" y="254"/>
                  </a:lnTo>
                  <a:lnTo>
                    <a:pt x="3106" y="264"/>
                  </a:lnTo>
                  <a:lnTo>
                    <a:pt x="3118" y="274"/>
                  </a:lnTo>
                  <a:lnTo>
                    <a:pt x="3134" y="280"/>
                  </a:lnTo>
                  <a:lnTo>
                    <a:pt x="3150" y="286"/>
                  </a:lnTo>
                  <a:lnTo>
                    <a:pt x="3150" y="286"/>
                  </a:lnTo>
                  <a:lnTo>
                    <a:pt x="3170" y="304"/>
                  </a:lnTo>
                  <a:lnTo>
                    <a:pt x="3182" y="316"/>
                  </a:lnTo>
                  <a:lnTo>
                    <a:pt x="3192" y="328"/>
                  </a:lnTo>
                  <a:lnTo>
                    <a:pt x="3192" y="328"/>
                  </a:lnTo>
                  <a:lnTo>
                    <a:pt x="3202" y="328"/>
                  </a:lnTo>
                  <a:lnTo>
                    <a:pt x="3212" y="332"/>
                  </a:lnTo>
                  <a:lnTo>
                    <a:pt x="3220" y="336"/>
                  </a:lnTo>
                  <a:lnTo>
                    <a:pt x="3226" y="342"/>
                  </a:lnTo>
                  <a:lnTo>
                    <a:pt x="3238" y="356"/>
                  </a:lnTo>
                  <a:lnTo>
                    <a:pt x="3248" y="368"/>
                  </a:lnTo>
                  <a:lnTo>
                    <a:pt x="3248" y="368"/>
                  </a:lnTo>
                  <a:lnTo>
                    <a:pt x="3264" y="378"/>
                  </a:lnTo>
                  <a:lnTo>
                    <a:pt x="3276" y="390"/>
                  </a:lnTo>
                  <a:lnTo>
                    <a:pt x="3288" y="402"/>
                  </a:lnTo>
                  <a:lnTo>
                    <a:pt x="3298" y="416"/>
                  </a:lnTo>
                  <a:lnTo>
                    <a:pt x="3308" y="430"/>
                  </a:lnTo>
                  <a:lnTo>
                    <a:pt x="3316" y="444"/>
                  </a:lnTo>
                  <a:lnTo>
                    <a:pt x="3330" y="474"/>
                  </a:lnTo>
                  <a:lnTo>
                    <a:pt x="3330" y="474"/>
                  </a:lnTo>
                  <a:lnTo>
                    <a:pt x="3338" y="478"/>
                  </a:lnTo>
                  <a:lnTo>
                    <a:pt x="3344" y="484"/>
                  </a:lnTo>
                  <a:lnTo>
                    <a:pt x="3348" y="490"/>
                  </a:lnTo>
                  <a:lnTo>
                    <a:pt x="3350" y="496"/>
                  </a:lnTo>
                  <a:lnTo>
                    <a:pt x="3354" y="506"/>
                  </a:lnTo>
                  <a:lnTo>
                    <a:pt x="3358" y="512"/>
                  </a:lnTo>
                  <a:lnTo>
                    <a:pt x="3364" y="516"/>
                  </a:lnTo>
                  <a:lnTo>
                    <a:pt x="3364" y="516"/>
                  </a:lnTo>
                  <a:lnTo>
                    <a:pt x="3364" y="522"/>
                  </a:lnTo>
                  <a:lnTo>
                    <a:pt x="3366" y="526"/>
                  </a:lnTo>
                  <a:lnTo>
                    <a:pt x="3374" y="532"/>
                  </a:lnTo>
                  <a:lnTo>
                    <a:pt x="3378" y="536"/>
                  </a:lnTo>
                  <a:lnTo>
                    <a:pt x="3380" y="538"/>
                  </a:lnTo>
                  <a:lnTo>
                    <a:pt x="3382" y="542"/>
                  </a:lnTo>
                  <a:lnTo>
                    <a:pt x="3380" y="548"/>
                  </a:lnTo>
                  <a:lnTo>
                    <a:pt x="3380" y="548"/>
                  </a:lnTo>
                  <a:lnTo>
                    <a:pt x="3384" y="550"/>
                  </a:lnTo>
                  <a:lnTo>
                    <a:pt x="3388" y="552"/>
                  </a:lnTo>
                  <a:lnTo>
                    <a:pt x="3392" y="560"/>
                  </a:lnTo>
                  <a:lnTo>
                    <a:pt x="3396" y="570"/>
                  </a:lnTo>
                  <a:lnTo>
                    <a:pt x="3400" y="572"/>
                  </a:lnTo>
                  <a:lnTo>
                    <a:pt x="3404" y="572"/>
                  </a:lnTo>
                  <a:lnTo>
                    <a:pt x="3404" y="646"/>
                  </a:lnTo>
                  <a:lnTo>
                    <a:pt x="3396" y="646"/>
                  </a:lnTo>
                  <a:lnTo>
                    <a:pt x="3396" y="786"/>
                  </a:lnTo>
                  <a:lnTo>
                    <a:pt x="3396" y="786"/>
                  </a:lnTo>
                  <a:lnTo>
                    <a:pt x="3400" y="788"/>
                  </a:lnTo>
                  <a:lnTo>
                    <a:pt x="3404" y="790"/>
                  </a:lnTo>
                  <a:lnTo>
                    <a:pt x="3408" y="802"/>
                  </a:lnTo>
                  <a:lnTo>
                    <a:pt x="3410" y="806"/>
                  </a:lnTo>
                  <a:lnTo>
                    <a:pt x="3412" y="810"/>
                  </a:lnTo>
                  <a:lnTo>
                    <a:pt x="3416" y="812"/>
                  </a:lnTo>
                  <a:lnTo>
                    <a:pt x="3420" y="810"/>
                  </a:lnTo>
                  <a:lnTo>
                    <a:pt x="3420" y="810"/>
                  </a:lnTo>
                  <a:lnTo>
                    <a:pt x="3432" y="820"/>
                  </a:lnTo>
                  <a:lnTo>
                    <a:pt x="3446" y="828"/>
                  </a:lnTo>
                  <a:lnTo>
                    <a:pt x="3454" y="830"/>
                  </a:lnTo>
                  <a:lnTo>
                    <a:pt x="3460" y="830"/>
                  </a:lnTo>
                  <a:lnTo>
                    <a:pt x="3468" y="828"/>
                  </a:lnTo>
                  <a:lnTo>
                    <a:pt x="3478" y="826"/>
                  </a:lnTo>
                  <a:lnTo>
                    <a:pt x="3478" y="826"/>
                  </a:lnTo>
                  <a:lnTo>
                    <a:pt x="3488" y="822"/>
                  </a:lnTo>
                  <a:lnTo>
                    <a:pt x="3498" y="816"/>
                  </a:lnTo>
                  <a:lnTo>
                    <a:pt x="3506" y="808"/>
                  </a:lnTo>
                  <a:lnTo>
                    <a:pt x="3514" y="798"/>
                  </a:lnTo>
                  <a:lnTo>
                    <a:pt x="3528" y="778"/>
                  </a:lnTo>
                  <a:lnTo>
                    <a:pt x="3544" y="752"/>
                  </a:lnTo>
                  <a:lnTo>
                    <a:pt x="3544" y="752"/>
                  </a:lnTo>
                  <a:lnTo>
                    <a:pt x="3548" y="740"/>
                  </a:lnTo>
                  <a:lnTo>
                    <a:pt x="3556" y="728"/>
                  </a:lnTo>
                  <a:lnTo>
                    <a:pt x="3566" y="718"/>
                  </a:lnTo>
                  <a:lnTo>
                    <a:pt x="3578" y="708"/>
                  </a:lnTo>
                  <a:lnTo>
                    <a:pt x="3604" y="692"/>
                  </a:lnTo>
                  <a:lnTo>
                    <a:pt x="3614" y="682"/>
                  </a:lnTo>
                  <a:lnTo>
                    <a:pt x="3624" y="672"/>
                  </a:lnTo>
                  <a:lnTo>
                    <a:pt x="3624" y="672"/>
                  </a:lnTo>
                  <a:lnTo>
                    <a:pt x="3624" y="662"/>
                  </a:lnTo>
                  <a:lnTo>
                    <a:pt x="3624" y="662"/>
                  </a:lnTo>
                  <a:lnTo>
                    <a:pt x="3788" y="662"/>
                  </a:lnTo>
                  <a:lnTo>
                    <a:pt x="3788" y="662"/>
                  </a:lnTo>
                  <a:lnTo>
                    <a:pt x="3796" y="668"/>
                  </a:lnTo>
                  <a:lnTo>
                    <a:pt x="3804" y="672"/>
                  </a:lnTo>
                  <a:lnTo>
                    <a:pt x="3822" y="678"/>
                  </a:lnTo>
                  <a:lnTo>
                    <a:pt x="3840" y="682"/>
                  </a:lnTo>
                  <a:lnTo>
                    <a:pt x="3854" y="688"/>
                  </a:lnTo>
                  <a:lnTo>
                    <a:pt x="3870" y="688"/>
                  </a:lnTo>
                  <a:lnTo>
                    <a:pt x="3870" y="688"/>
                  </a:lnTo>
                  <a:lnTo>
                    <a:pt x="3874" y="692"/>
                  </a:lnTo>
                  <a:lnTo>
                    <a:pt x="3880" y="698"/>
                  </a:lnTo>
                  <a:lnTo>
                    <a:pt x="3890" y="702"/>
                  </a:lnTo>
                  <a:lnTo>
                    <a:pt x="3902" y="708"/>
                  </a:lnTo>
                  <a:lnTo>
                    <a:pt x="3912" y="712"/>
                  </a:lnTo>
                  <a:lnTo>
                    <a:pt x="3912" y="712"/>
                  </a:lnTo>
                  <a:lnTo>
                    <a:pt x="3918" y="712"/>
                  </a:lnTo>
                  <a:lnTo>
                    <a:pt x="3924" y="714"/>
                  </a:lnTo>
                  <a:lnTo>
                    <a:pt x="3934" y="722"/>
                  </a:lnTo>
                  <a:lnTo>
                    <a:pt x="3942" y="732"/>
                  </a:lnTo>
                  <a:lnTo>
                    <a:pt x="3944" y="738"/>
                  </a:lnTo>
                  <a:lnTo>
                    <a:pt x="3944" y="744"/>
                  </a:lnTo>
                  <a:lnTo>
                    <a:pt x="3944" y="744"/>
                  </a:lnTo>
                  <a:lnTo>
                    <a:pt x="3982" y="778"/>
                  </a:lnTo>
                  <a:lnTo>
                    <a:pt x="4000" y="794"/>
                  </a:lnTo>
                  <a:lnTo>
                    <a:pt x="4018" y="814"/>
                  </a:lnTo>
                  <a:lnTo>
                    <a:pt x="4034" y="834"/>
                  </a:lnTo>
                  <a:lnTo>
                    <a:pt x="4048" y="854"/>
                  </a:lnTo>
                  <a:lnTo>
                    <a:pt x="4058" y="876"/>
                  </a:lnTo>
                  <a:lnTo>
                    <a:pt x="4066" y="900"/>
                  </a:lnTo>
                  <a:lnTo>
                    <a:pt x="4066" y="900"/>
                  </a:lnTo>
                  <a:lnTo>
                    <a:pt x="4116" y="974"/>
                  </a:lnTo>
                  <a:lnTo>
                    <a:pt x="4116" y="974"/>
                  </a:lnTo>
                  <a:lnTo>
                    <a:pt x="4120" y="992"/>
                  </a:lnTo>
                  <a:lnTo>
                    <a:pt x="4120" y="1010"/>
                  </a:lnTo>
                  <a:lnTo>
                    <a:pt x="4118" y="1030"/>
                  </a:lnTo>
                  <a:lnTo>
                    <a:pt x="4116" y="1048"/>
                  </a:lnTo>
                  <a:lnTo>
                    <a:pt x="4114" y="1068"/>
                  </a:lnTo>
                  <a:lnTo>
                    <a:pt x="4112" y="1088"/>
                  </a:lnTo>
                  <a:lnTo>
                    <a:pt x="4112" y="1108"/>
                  </a:lnTo>
                  <a:lnTo>
                    <a:pt x="4116" y="1130"/>
                  </a:lnTo>
                  <a:lnTo>
                    <a:pt x="4116" y="1130"/>
                  </a:lnTo>
                  <a:lnTo>
                    <a:pt x="4110" y="1132"/>
                  </a:lnTo>
                  <a:lnTo>
                    <a:pt x="4106" y="1136"/>
                  </a:lnTo>
                  <a:lnTo>
                    <a:pt x="4100" y="1146"/>
                  </a:lnTo>
                  <a:lnTo>
                    <a:pt x="4096" y="1158"/>
                  </a:lnTo>
                  <a:lnTo>
                    <a:pt x="4092" y="1170"/>
                  </a:lnTo>
                  <a:lnTo>
                    <a:pt x="4092" y="1170"/>
                  </a:lnTo>
                  <a:lnTo>
                    <a:pt x="4090" y="1180"/>
                  </a:lnTo>
                  <a:lnTo>
                    <a:pt x="4088" y="1192"/>
                  </a:lnTo>
                  <a:lnTo>
                    <a:pt x="4078" y="1212"/>
                  </a:lnTo>
                  <a:lnTo>
                    <a:pt x="4056" y="1248"/>
                  </a:lnTo>
                  <a:lnTo>
                    <a:pt x="4052" y="1258"/>
                  </a:lnTo>
                  <a:lnTo>
                    <a:pt x="4050" y="1266"/>
                  </a:lnTo>
                  <a:lnTo>
                    <a:pt x="4048" y="1274"/>
                  </a:lnTo>
                  <a:lnTo>
                    <a:pt x="4050" y="1282"/>
                  </a:lnTo>
                  <a:lnTo>
                    <a:pt x="4054" y="1290"/>
                  </a:lnTo>
                  <a:lnTo>
                    <a:pt x="4060" y="1296"/>
                  </a:lnTo>
                  <a:lnTo>
                    <a:pt x="4070" y="1302"/>
                  </a:lnTo>
                  <a:lnTo>
                    <a:pt x="4084" y="1310"/>
                  </a:lnTo>
                  <a:lnTo>
                    <a:pt x="4084" y="1310"/>
                  </a:lnTo>
                  <a:lnTo>
                    <a:pt x="4094" y="1312"/>
                  </a:lnTo>
                  <a:lnTo>
                    <a:pt x="4102" y="1312"/>
                  </a:lnTo>
                  <a:lnTo>
                    <a:pt x="4112" y="1312"/>
                  </a:lnTo>
                  <a:lnTo>
                    <a:pt x="4120" y="1310"/>
                  </a:lnTo>
                  <a:lnTo>
                    <a:pt x="4134" y="1304"/>
                  </a:lnTo>
                  <a:lnTo>
                    <a:pt x="4148" y="1294"/>
                  </a:lnTo>
                  <a:lnTo>
                    <a:pt x="4174" y="1274"/>
                  </a:lnTo>
                  <a:lnTo>
                    <a:pt x="4188" y="1266"/>
                  </a:lnTo>
                  <a:lnTo>
                    <a:pt x="4206" y="1260"/>
                  </a:lnTo>
                  <a:lnTo>
                    <a:pt x="4206" y="1260"/>
                  </a:lnTo>
                  <a:lnTo>
                    <a:pt x="4304" y="1260"/>
                  </a:lnTo>
                  <a:lnTo>
                    <a:pt x="4304" y="1260"/>
                  </a:lnTo>
                  <a:lnTo>
                    <a:pt x="4310" y="1266"/>
                  </a:lnTo>
                  <a:lnTo>
                    <a:pt x="4318" y="1270"/>
                  </a:lnTo>
                  <a:lnTo>
                    <a:pt x="4336" y="1276"/>
                  </a:lnTo>
                  <a:lnTo>
                    <a:pt x="4354" y="1284"/>
                  </a:lnTo>
                  <a:lnTo>
                    <a:pt x="4362" y="1288"/>
                  </a:lnTo>
                  <a:lnTo>
                    <a:pt x="4370" y="1292"/>
                  </a:lnTo>
                  <a:lnTo>
                    <a:pt x="4394" y="1292"/>
                  </a:lnTo>
                  <a:lnTo>
                    <a:pt x="4394" y="1292"/>
                  </a:lnTo>
                  <a:lnTo>
                    <a:pt x="4402" y="1302"/>
                  </a:lnTo>
                  <a:lnTo>
                    <a:pt x="4410" y="1308"/>
                  </a:lnTo>
                  <a:lnTo>
                    <a:pt x="4430" y="1322"/>
                  </a:lnTo>
                  <a:lnTo>
                    <a:pt x="4452" y="1334"/>
                  </a:lnTo>
                  <a:lnTo>
                    <a:pt x="4460" y="1342"/>
                  </a:lnTo>
                  <a:lnTo>
                    <a:pt x="4468" y="1350"/>
                  </a:lnTo>
                  <a:lnTo>
                    <a:pt x="4468" y="1350"/>
                  </a:lnTo>
                  <a:lnTo>
                    <a:pt x="4500" y="1382"/>
                  </a:lnTo>
                  <a:lnTo>
                    <a:pt x="4532" y="1416"/>
                  </a:lnTo>
                  <a:lnTo>
                    <a:pt x="4560" y="1452"/>
                  </a:lnTo>
                  <a:lnTo>
                    <a:pt x="4572" y="1470"/>
                  </a:lnTo>
                  <a:lnTo>
                    <a:pt x="4582" y="1490"/>
                  </a:lnTo>
                  <a:lnTo>
                    <a:pt x="4582" y="1490"/>
                  </a:lnTo>
                  <a:lnTo>
                    <a:pt x="4594" y="1496"/>
                  </a:lnTo>
                  <a:lnTo>
                    <a:pt x="4606" y="1502"/>
                  </a:lnTo>
                  <a:lnTo>
                    <a:pt x="4616" y="1512"/>
                  </a:lnTo>
                  <a:lnTo>
                    <a:pt x="4624" y="1522"/>
                  </a:lnTo>
                  <a:lnTo>
                    <a:pt x="4624" y="1522"/>
                  </a:lnTo>
                  <a:lnTo>
                    <a:pt x="4622" y="1528"/>
                  </a:lnTo>
                  <a:lnTo>
                    <a:pt x="4620" y="1534"/>
                  </a:lnTo>
                  <a:lnTo>
                    <a:pt x="4620" y="1536"/>
                  </a:lnTo>
                  <a:lnTo>
                    <a:pt x="4624" y="1538"/>
                  </a:lnTo>
                  <a:lnTo>
                    <a:pt x="4624" y="1538"/>
                  </a:lnTo>
                  <a:lnTo>
                    <a:pt x="4628" y="1544"/>
                  </a:lnTo>
                  <a:lnTo>
                    <a:pt x="4632" y="1550"/>
                  </a:lnTo>
                  <a:lnTo>
                    <a:pt x="4634" y="1556"/>
                  </a:lnTo>
                  <a:lnTo>
                    <a:pt x="4640" y="1562"/>
                  </a:lnTo>
                  <a:lnTo>
                    <a:pt x="4640" y="1562"/>
                  </a:lnTo>
                  <a:lnTo>
                    <a:pt x="4644" y="1566"/>
                  </a:lnTo>
                  <a:lnTo>
                    <a:pt x="4646" y="1572"/>
                  </a:lnTo>
                  <a:lnTo>
                    <a:pt x="4648" y="1584"/>
                  </a:lnTo>
                  <a:lnTo>
                    <a:pt x="4648" y="1596"/>
                  </a:lnTo>
                  <a:lnTo>
                    <a:pt x="4652" y="1600"/>
                  </a:lnTo>
                  <a:lnTo>
                    <a:pt x="4656" y="1604"/>
                  </a:lnTo>
                  <a:lnTo>
                    <a:pt x="4656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Freeform 5"/>
          <p:cNvSpPr/>
          <p:nvPr/>
        </p:nvSpPr>
        <p:spPr>
          <a:xfrm>
            <a:off x="8432640" y="18567360"/>
            <a:ext cx="1524240" cy="156272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5627240"/>
              <a:gd name="textAreaBottom" fmla="*/ 15627600 h 15627240"/>
            </a:gdLst>
            <a:ahLst/>
            <a:rect l="textAreaLeft" t="textAreaTop" r="textAreaRight" b="textAreaBottom"/>
            <a:pathLst>
              <a:path w="960" h="9844">
                <a:moveTo>
                  <a:pt x="960" y="9236"/>
                </a:moveTo>
                <a:lnTo>
                  <a:pt x="0" y="9844"/>
                </a:lnTo>
                <a:lnTo>
                  <a:pt x="0" y="608"/>
                </a:lnTo>
                <a:lnTo>
                  <a:pt x="960" y="0"/>
                </a:lnTo>
                <a:lnTo>
                  <a:pt x="960" y="9236"/>
                </a:lnTo>
                <a:close/>
              </a:path>
            </a:pathLst>
          </a:custGeom>
          <a:solidFill>
            <a:srgbClr val="fff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グループ化 61"/>
          <p:cNvGrpSpPr/>
          <p:nvPr/>
        </p:nvGrpSpPr>
        <p:grpSpPr>
          <a:xfrm>
            <a:off x="438120" y="333360"/>
            <a:ext cx="6994440" cy="9429840"/>
            <a:chOff x="438120" y="333360"/>
            <a:chExt cx="6994440" cy="9429840"/>
          </a:xfrm>
        </p:grpSpPr>
        <p:sp>
          <p:nvSpPr>
            <p:cNvPr id="58" name="Freeform 46"/>
            <p:cNvSpPr/>
            <p:nvPr/>
          </p:nvSpPr>
          <p:spPr>
            <a:xfrm>
              <a:off x="628560" y="527040"/>
              <a:ext cx="6613560" cy="7445520"/>
            </a:xfrm>
            <a:custGeom>
              <a:avLst/>
              <a:gdLst>
                <a:gd name="textAreaLeft" fmla="*/ 0 w 6613560"/>
                <a:gd name="textAreaRight" fmla="*/ 6613920 w 6613560"/>
                <a:gd name="textAreaTop" fmla="*/ 0 h 7445520"/>
                <a:gd name="textAreaBottom" fmla="*/ 7445880 h 7445520"/>
              </a:gdLst>
              <a:ahLst/>
              <a:rect l="textAreaLeft" t="textAreaTop" r="textAreaRight" b="textAreaBottom"/>
              <a:pathLst>
                <a:path w="4166" h="4690">
                  <a:moveTo>
                    <a:pt x="1988" y="4690"/>
                  </a:moveTo>
                  <a:lnTo>
                    <a:pt x="1988" y="4690"/>
                  </a:lnTo>
                  <a:lnTo>
                    <a:pt x="1914" y="4640"/>
                  </a:lnTo>
                  <a:lnTo>
                    <a:pt x="1832" y="4582"/>
                  </a:lnTo>
                  <a:lnTo>
                    <a:pt x="1724" y="4504"/>
                  </a:lnTo>
                  <a:lnTo>
                    <a:pt x="1594" y="4408"/>
                  </a:lnTo>
                  <a:lnTo>
                    <a:pt x="1450" y="4298"/>
                  </a:lnTo>
                  <a:lnTo>
                    <a:pt x="1292" y="4176"/>
                  </a:lnTo>
                  <a:lnTo>
                    <a:pt x="1130" y="4044"/>
                  </a:lnTo>
                  <a:lnTo>
                    <a:pt x="1046" y="3976"/>
                  </a:lnTo>
                  <a:lnTo>
                    <a:pt x="964" y="3906"/>
                  </a:lnTo>
                  <a:lnTo>
                    <a:pt x="882" y="3834"/>
                  </a:lnTo>
                  <a:lnTo>
                    <a:pt x="800" y="3760"/>
                  </a:lnTo>
                  <a:lnTo>
                    <a:pt x="722" y="3688"/>
                  </a:lnTo>
                  <a:lnTo>
                    <a:pt x="644" y="3614"/>
                  </a:lnTo>
                  <a:lnTo>
                    <a:pt x="570" y="3540"/>
                  </a:lnTo>
                  <a:lnTo>
                    <a:pt x="500" y="3466"/>
                  </a:lnTo>
                  <a:lnTo>
                    <a:pt x="434" y="3392"/>
                  </a:lnTo>
                  <a:lnTo>
                    <a:pt x="372" y="3320"/>
                  </a:lnTo>
                  <a:lnTo>
                    <a:pt x="316" y="3248"/>
                  </a:lnTo>
                  <a:lnTo>
                    <a:pt x="266" y="3178"/>
                  </a:lnTo>
                  <a:lnTo>
                    <a:pt x="222" y="3110"/>
                  </a:lnTo>
                  <a:lnTo>
                    <a:pt x="202" y="3078"/>
                  </a:lnTo>
                  <a:lnTo>
                    <a:pt x="184" y="3044"/>
                  </a:lnTo>
                  <a:lnTo>
                    <a:pt x="168" y="3012"/>
                  </a:lnTo>
                  <a:lnTo>
                    <a:pt x="154" y="2980"/>
                  </a:lnTo>
                  <a:lnTo>
                    <a:pt x="142" y="2950"/>
                  </a:lnTo>
                  <a:lnTo>
                    <a:pt x="134" y="2920"/>
                  </a:lnTo>
                  <a:lnTo>
                    <a:pt x="134" y="2920"/>
                  </a:lnTo>
                  <a:lnTo>
                    <a:pt x="102" y="2806"/>
                  </a:lnTo>
                  <a:lnTo>
                    <a:pt x="76" y="2704"/>
                  </a:lnTo>
                  <a:lnTo>
                    <a:pt x="54" y="2614"/>
                  </a:lnTo>
                  <a:lnTo>
                    <a:pt x="38" y="2532"/>
                  </a:lnTo>
                  <a:lnTo>
                    <a:pt x="26" y="2460"/>
                  </a:lnTo>
                  <a:lnTo>
                    <a:pt x="18" y="2398"/>
                  </a:lnTo>
                  <a:lnTo>
                    <a:pt x="12" y="2342"/>
                  </a:lnTo>
                  <a:lnTo>
                    <a:pt x="10" y="2292"/>
                  </a:lnTo>
                  <a:lnTo>
                    <a:pt x="10" y="2246"/>
                  </a:lnTo>
                  <a:lnTo>
                    <a:pt x="14" y="2208"/>
                  </a:lnTo>
                  <a:lnTo>
                    <a:pt x="18" y="2172"/>
                  </a:lnTo>
                  <a:lnTo>
                    <a:pt x="24" y="2138"/>
                  </a:lnTo>
                  <a:lnTo>
                    <a:pt x="38" y="2076"/>
                  </a:lnTo>
                  <a:lnTo>
                    <a:pt x="52" y="2014"/>
                  </a:lnTo>
                  <a:lnTo>
                    <a:pt x="52" y="2014"/>
                  </a:lnTo>
                  <a:lnTo>
                    <a:pt x="38" y="1962"/>
                  </a:lnTo>
                  <a:lnTo>
                    <a:pt x="26" y="1912"/>
                  </a:lnTo>
                  <a:lnTo>
                    <a:pt x="16" y="1862"/>
                  </a:lnTo>
                  <a:lnTo>
                    <a:pt x="10" y="1814"/>
                  </a:lnTo>
                  <a:lnTo>
                    <a:pt x="4" y="1766"/>
                  </a:lnTo>
                  <a:lnTo>
                    <a:pt x="2" y="1718"/>
                  </a:lnTo>
                  <a:lnTo>
                    <a:pt x="0" y="1672"/>
                  </a:lnTo>
                  <a:lnTo>
                    <a:pt x="2" y="1626"/>
                  </a:lnTo>
                  <a:lnTo>
                    <a:pt x="6" y="1580"/>
                  </a:lnTo>
                  <a:lnTo>
                    <a:pt x="10" y="1538"/>
                  </a:lnTo>
                  <a:lnTo>
                    <a:pt x="16" y="1494"/>
                  </a:lnTo>
                  <a:lnTo>
                    <a:pt x="24" y="1452"/>
                  </a:lnTo>
                  <a:lnTo>
                    <a:pt x="34" y="1412"/>
                  </a:lnTo>
                  <a:lnTo>
                    <a:pt x="46" y="1374"/>
                  </a:lnTo>
                  <a:lnTo>
                    <a:pt x="58" y="1336"/>
                  </a:lnTo>
                  <a:lnTo>
                    <a:pt x="72" y="1298"/>
                  </a:lnTo>
                  <a:lnTo>
                    <a:pt x="86" y="1264"/>
                  </a:lnTo>
                  <a:lnTo>
                    <a:pt x="102" y="1230"/>
                  </a:lnTo>
                  <a:lnTo>
                    <a:pt x="118" y="1198"/>
                  </a:lnTo>
                  <a:lnTo>
                    <a:pt x="136" y="1168"/>
                  </a:lnTo>
                  <a:lnTo>
                    <a:pt x="154" y="1138"/>
                  </a:lnTo>
                  <a:lnTo>
                    <a:pt x="174" y="1110"/>
                  </a:lnTo>
                  <a:lnTo>
                    <a:pt x="192" y="1084"/>
                  </a:lnTo>
                  <a:lnTo>
                    <a:pt x="212" y="1060"/>
                  </a:lnTo>
                  <a:lnTo>
                    <a:pt x="234" y="1038"/>
                  </a:lnTo>
                  <a:lnTo>
                    <a:pt x="254" y="1018"/>
                  </a:lnTo>
                  <a:lnTo>
                    <a:pt x="276" y="998"/>
                  </a:lnTo>
                  <a:lnTo>
                    <a:pt x="296" y="982"/>
                  </a:lnTo>
                  <a:lnTo>
                    <a:pt x="318" y="968"/>
                  </a:lnTo>
                  <a:lnTo>
                    <a:pt x="340" y="954"/>
                  </a:lnTo>
                  <a:lnTo>
                    <a:pt x="360" y="944"/>
                  </a:lnTo>
                  <a:lnTo>
                    <a:pt x="382" y="936"/>
                  </a:lnTo>
                  <a:lnTo>
                    <a:pt x="382" y="936"/>
                  </a:lnTo>
                  <a:lnTo>
                    <a:pt x="392" y="894"/>
                  </a:lnTo>
                  <a:lnTo>
                    <a:pt x="404" y="854"/>
                  </a:lnTo>
                  <a:lnTo>
                    <a:pt x="420" y="816"/>
                  </a:lnTo>
                  <a:lnTo>
                    <a:pt x="438" y="778"/>
                  </a:lnTo>
                  <a:lnTo>
                    <a:pt x="456" y="742"/>
                  </a:lnTo>
                  <a:lnTo>
                    <a:pt x="478" y="708"/>
                  </a:lnTo>
                  <a:lnTo>
                    <a:pt x="500" y="674"/>
                  </a:lnTo>
                  <a:lnTo>
                    <a:pt x="526" y="642"/>
                  </a:lnTo>
                  <a:lnTo>
                    <a:pt x="552" y="610"/>
                  </a:lnTo>
                  <a:lnTo>
                    <a:pt x="578" y="580"/>
                  </a:lnTo>
                  <a:lnTo>
                    <a:pt x="606" y="552"/>
                  </a:lnTo>
                  <a:lnTo>
                    <a:pt x="634" y="524"/>
                  </a:lnTo>
                  <a:lnTo>
                    <a:pt x="664" y="498"/>
                  </a:lnTo>
                  <a:lnTo>
                    <a:pt x="694" y="472"/>
                  </a:lnTo>
                  <a:lnTo>
                    <a:pt x="756" y="426"/>
                  </a:lnTo>
                  <a:lnTo>
                    <a:pt x="818" y="386"/>
                  </a:lnTo>
                  <a:lnTo>
                    <a:pt x="878" y="350"/>
                  </a:lnTo>
                  <a:lnTo>
                    <a:pt x="938" y="318"/>
                  </a:lnTo>
                  <a:lnTo>
                    <a:pt x="994" y="292"/>
                  </a:lnTo>
                  <a:lnTo>
                    <a:pt x="1044" y="272"/>
                  </a:lnTo>
                  <a:lnTo>
                    <a:pt x="1090" y="256"/>
                  </a:lnTo>
                  <a:lnTo>
                    <a:pt x="1128" y="244"/>
                  </a:lnTo>
                  <a:lnTo>
                    <a:pt x="1158" y="238"/>
                  </a:lnTo>
                  <a:lnTo>
                    <a:pt x="1158" y="238"/>
                  </a:lnTo>
                  <a:lnTo>
                    <a:pt x="1180" y="214"/>
                  </a:lnTo>
                  <a:lnTo>
                    <a:pt x="1204" y="190"/>
                  </a:lnTo>
                  <a:lnTo>
                    <a:pt x="1230" y="168"/>
                  </a:lnTo>
                  <a:lnTo>
                    <a:pt x="1258" y="148"/>
                  </a:lnTo>
                  <a:lnTo>
                    <a:pt x="1286" y="128"/>
                  </a:lnTo>
                  <a:lnTo>
                    <a:pt x="1316" y="112"/>
                  </a:lnTo>
                  <a:lnTo>
                    <a:pt x="1348" y="96"/>
                  </a:lnTo>
                  <a:lnTo>
                    <a:pt x="1380" y="82"/>
                  </a:lnTo>
                  <a:lnTo>
                    <a:pt x="1412" y="68"/>
                  </a:lnTo>
                  <a:lnTo>
                    <a:pt x="1446" y="58"/>
                  </a:lnTo>
                  <a:lnTo>
                    <a:pt x="1480" y="48"/>
                  </a:lnTo>
                  <a:lnTo>
                    <a:pt x="1516" y="38"/>
                  </a:lnTo>
                  <a:lnTo>
                    <a:pt x="1550" y="32"/>
                  </a:lnTo>
                  <a:lnTo>
                    <a:pt x="1586" y="26"/>
                  </a:lnTo>
                  <a:lnTo>
                    <a:pt x="1622" y="20"/>
                  </a:lnTo>
                  <a:lnTo>
                    <a:pt x="1658" y="16"/>
                  </a:lnTo>
                  <a:lnTo>
                    <a:pt x="1692" y="14"/>
                  </a:lnTo>
                  <a:lnTo>
                    <a:pt x="1726" y="14"/>
                  </a:lnTo>
                  <a:lnTo>
                    <a:pt x="1794" y="16"/>
                  </a:lnTo>
                  <a:lnTo>
                    <a:pt x="1860" y="22"/>
                  </a:lnTo>
                  <a:lnTo>
                    <a:pt x="1890" y="26"/>
                  </a:lnTo>
                  <a:lnTo>
                    <a:pt x="1920" y="32"/>
                  </a:lnTo>
                  <a:lnTo>
                    <a:pt x="1948" y="38"/>
                  </a:lnTo>
                  <a:lnTo>
                    <a:pt x="1974" y="46"/>
                  </a:lnTo>
                  <a:lnTo>
                    <a:pt x="2000" y="54"/>
                  </a:lnTo>
                  <a:lnTo>
                    <a:pt x="2022" y="64"/>
                  </a:lnTo>
                  <a:lnTo>
                    <a:pt x="2044" y="74"/>
                  </a:lnTo>
                  <a:lnTo>
                    <a:pt x="2064" y="86"/>
                  </a:lnTo>
                  <a:lnTo>
                    <a:pt x="2080" y="98"/>
                  </a:lnTo>
                  <a:lnTo>
                    <a:pt x="2094" y="112"/>
                  </a:lnTo>
                  <a:lnTo>
                    <a:pt x="2094" y="112"/>
                  </a:lnTo>
                  <a:lnTo>
                    <a:pt x="2120" y="96"/>
                  </a:lnTo>
                  <a:lnTo>
                    <a:pt x="2146" y="80"/>
                  </a:lnTo>
                  <a:lnTo>
                    <a:pt x="2176" y="66"/>
                  </a:lnTo>
                  <a:lnTo>
                    <a:pt x="2206" y="52"/>
                  </a:lnTo>
                  <a:lnTo>
                    <a:pt x="2236" y="40"/>
                  </a:lnTo>
                  <a:lnTo>
                    <a:pt x="2268" y="30"/>
                  </a:lnTo>
                  <a:lnTo>
                    <a:pt x="2302" y="22"/>
                  </a:lnTo>
                  <a:lnTo>
                    <a:pt x="2336" y="14"/>
                  </a:lnTo>
                  <a:lnTo>
                    <a:pt x="2372" y="8"/>
                  </a:lnTo>
                  <a:lnTo>
                    <a:pt x="2408" y="4"/>
                  </a:lnTo>
                  <a:lnTo>
                    <a:pt x="2444" y="0"/>
                  </a:lnTo>
                  <a:lnTo>
                    <a:pt x="2482" y="0"/>
                  </a:lnTo>
                  <a:lnTo>
                    <a:pt x="2520" y="0"/>
                  </a:lnTo>
                  <a:lnTo>
                    <a:pt x="2556" y="2"/>
                  </a:lnTo>
                  <a:lnTo>
                    <a:pt x="2594" y="4"/>
                  </a:lnTo>
                  <a:lnTo>
                    <a:pt x="2632" y="10"/>
                  </a:lnTo>
                  <a:lnTo>
                    <a:pt x="2670" y="16"/>
                  </a:lnTo>
                  <a:lnTo>
                    <a:pt x="2708" y="26"/>
                  </a:lnTo>
                  <a:lnTo>
                    <a:pt x="2746" y="36"/>
                  </a:lnTo>
                  <a:lnTo>
                    <a:pt x="2784" y="48"/>
                  </a:lnTo>
                  <a:lnTo>
                    <a:pt x="2820" y="64"/>
                  </a:lnTo>
                  <a:lnTo>
                    <a:pt x="2856" y="80"/>
                  </a:lnTo>
                  <a:lnTo>
                    <a:pt x="2890" y="98"/>
                  </a:lnTo>
                  <a:lnTo>
                    <a:pt x="2924" y="118"/>
                  </a:lnTo>
                  <a:lnTo>
                    <a:pt x="2958" y="142"/>
                  </a:lnTo>
                  <a:lnTo>
                    <a:pt x="2990" y="166"/>
                  </a:lnTo>
                  <a:lnTo>
                    <a:pt x="3022" y="192"/>
                  </a:lnTo>
                  <a:lnTo>
                    <a:pt x="3050" y="222"/>
                  </a:lnTo>
                  <a:lnTo>
                    <a:pt x="3078" y="252"/>
                  </a:lnTo>
                  <a:lnTo>
                    <a:pt x="3106" y="286"/>
                  </a:lnTo>
                  <a:lnTo>
                    <a:pt x="3130" y="322"/>
                  </a:lnTo>
                  <a:lnTo>
                    <a:pt x="3152" y="360"/>
                  </a:lnTo>
                  <a:lnTo>
                    <a:pt x="3152" y="360"/>
                  </a:lnTo>
                  <a:lnTo>
                    <a:pt x="3186" y="366"/>
                  </a:lnTo>
                  <a:lnTo>
                    <a:pt x="3220" y="374"/>
                  </a:lnTo>
                  <a:lnTo>
                    <a:pt x="3256" y="386"/>
                  </a:lnTo>
                  <a:lnTo>
                    <a:pt x="3290" y="400"/>
                  </a:lnTo>
                  <a:lnTo>
                    <a:pt x="3324" y="416"/>
                  </a:lnTo>
                  <a:lnTo>
                    <a:pt x="3358" y="434"/>
                  </a:lnTo>
                  <a:lnTo>
                    <a:pt x="3394" y="454"/>
                  </a:lnTo>
                  <a:lnTo>
                    <a:pt x="3428" y="476"/>
                  </a:lnTo>
                  <a:lnTo>
                    <a:pt x="3462" y="498"/>
                  </a:lnTo>
                  <a:lnTo>
                    <a:pt x="3494" y="524"/>
                  </a:lnTo>
                  <a:lnTo>
                    <a:pt x="3528" y="550"/>
                  </a:lnTo>
                  <a:lnTo>
                    <a:pt x="3560" y="578"/>
                  </a:lnTo>
                  <a:lnTo>
                    <a:pt x="3592" y="608"/>
                  </a:lnTo>
                  <a:lnTo>
                    <a:pt x="3622" y="640"/>
                  </a:lnTo>
                  <a:lnTo>
                    <a:pt x="3652" y="670"/>
                  </a:lnTo>
                  <a:lnTo>
                    <a:pt x="3682" y="704"/>
                  </a:lnTo>
                  <a:lnTo>
                    <a:pt x="3710" y="736"/>
                  </a:lnTo>
                  <a:lnTo>
                    <a:pt x="3736" y="772"/>
                  </a:lnTo>
                  <a:lnTo>
                    <a:pt x="3762" y="806"/>
                  </a:lnTo>
                  <a:lnTo>
                    <a:pt x="3786" y="842"/>
                  </a:lnTo>
                  <a:lnTo>
                    <a:pt x="3810" y="878"/>
                  </a:lnTo>
                  <a:lnTo>
                    <a:pt x="3830" y="914"/>
                  </a:lnTo>
                  <a:lnTo>
                    <a:pt x="3850" y="950"/>
                  </a:lnTo>
                  <a:lnTo>
                    <a:pt x="3868" y="986"/>
                  </a:lnTo>
                  <a:lnTo>
                    <a:pt x="3884" y="1022"/>
                  </a:lnTo>
                  <a:lnTo>
                    <a:pt x="3898" y="1058"/>
                  </a:lnTo>
                  <a:lnTo>
                    <a:pt x="3910" y="1094"/>
                  </a:lnTo>
                  <a:lnTo>
                    <a:pt x="3920" y="1130"/>
                  </a:lnTo>
                  <a:lnTo>
                    <a:pt x="3928" y="1164"/>
                  </a:lnTo>
                  <a:lnTo>
                    <a:pt x="3934" y="1198"/>
                  </a:lnTo>
                  <a:lnTo>
                    <a:pt x="3938" y="1232"/>
                  </a:lnTo>
                  <a:lnTo>
                    <a:pt x="3940" y="1264"/>
                  </a:lnTo>
                  <a:lnTo>
                    <a:pt x="3940" y="1264"/>
                  </a:lnTo>
                  <a:lnTo>
                    <a:pt x="3966" y="1286"/>
                  </a:lnTo>
                  <a:lnTo>
                    <a:pt x="3990" y="1310"/>
                  </a:lnTo>
                  <a:lnTo>
                    <a:pt x="4014" y="1338"/>
                  </a:lnTo>
                  <a:lnTo>
                    <a:pt x="4034" y="1370"/>
                  </a:lnTo>
                  <a:lnTo>
                    <a:pt x="4054" y="1404"/>
                  </a:lnTo>
                  <a:lnTo>
                    <a:pt x="4072" y="1440"/>
                  </a:lnTo>
                  <a:lnTo>
                    <a:pt x="4088" y="1480"/>
                  </a:lnTo>
                  <a:lnTo>
                    <a:pt x="4104" y="1522"/>
                  </a:lnTo>
                  <a:lnTo>
                    <a:pt x="4116" y="1566"/>
                  </a:lnTo>
                  <a:lnTo>
                    <a:pt x="4128" y="1612"/>
                  </a:lnTo>
                  <a:lnTo>
                    <a:pt x="4138" y="1660"/>
                  </a:lnTo>
                  <a:lnTo>
                    <a:pt x="4146" y="1710"/>
                  </a:lnTo>
                  <a:lnTo>
                    <a:pt x="4152" y="1760"/>
                  </a:lnTo>
                  <a:lnTo>
                    <a:pt x="4158" y="1812"/>
                  </a:lnTo>
                  <a:lnTo>
                    <a:pt x="4162" y="1864"/>
                  </a:lnTo>
                  <a:lnTo>
                    <a:pt x="4164" y="1916"/>
                  </a:lnTo>
                  <a:lnTo>
                    <a:pt x="4166" y="1968"/>
                  </a:lnTo>
                  <a:lnTo>
                    <a:pt x="4164" y="2022"/>
                  </a:lnTo>
                  <a:lnTo>
                    <a:pt x="4162" y="2074"/>
                  </a:lnTo>
                  <a:lnTo>
                    <a:pt x="4160" y="2126"/>
                  </a:lnTo>
                  <a:lnTo>
                    <a:pt x="4154" y="2178"/>
                  </a:lnTo>
                  <a:lnTo>
                    <a:pt x="4148" y="2228"/>
                  </a:lnTo>
                  <a:lnTo>
                    <a:pt x="4142" y="2278"/>
                  </a:lnTo>
                  <a:lnTo>
                    <a:pt x="4134" y="2326"/>
                  </a:lnTo>
                  <a:lnTo>
                    <a:pt x="4124" y="2372"/>
                  </a:lnTo>
                  <a:lnTo>
                    <a:pt x="4112" y="2416"/>
                  </a:lnTo>
                  <a:lnTo>
                    <a:pt x="4100" y="2458"/>
                  </a:lnTo>
                  <a:lnTo>
                    <a:pt x="4086" y="2498"/>
                  </a:lnTo>
                  <a:lnTo>
                    <a:pt x="4072" y="2536"/>
                  </a:lnTo>
                  <a:lnTo>
                    <a:pt x="4056" y="2570"/>
                  </a:lnTo>
                  <a:lnTo>
                    <a:pt x="4040" y="2602"/>
                  </a:lnTo>
                  <a:lnTo>
                    <a:pt x="4022" y="2630"/>
                  </a:lnTo>
                  <a:lnTo>
                    <a:pt x="4022" y="2630"/>
                  </a:lnTo>
                  <a:lnTo>
                    <a:pt x="4030" y="2660"/>
                  </a:lnTo>
                  <a:lnTo>
                    <a:pt x="4038" y="2690"/>
                  </a:lnTo>
                  <a:lnTo>
                    <a:pt x="4042" y="2722"/>
                  </a:lnTo>
                  <a:lnTo>
                    <a:pt x="4044" y="2754"/>
                  </a:lnTo>
                  <a:lnTo>
                    <a:pt x="4046" y="2786"/>
                  </a:lnTo>
                  <a:lnTo>
                    <a:pt x="4044" y="2820"/>
                  </a:lnTo>
                  <a:lnTo>
                    <a:pt x="4042" y="2854"/>
                  </a:lnTo>
                  <a:lnTo>
                    <a:pt x="4038" y="2888"/>
                  </a:lnTo>
                  <a:lnTo>
                    <a:pt x="4030" y="2924"/>
                  </a:lnTo>
                  <a:lnTo>
                    <a:pt x="4022" y="2960"/>
                  </a:lnTo>
                  <a:lnTo>
                    <a:pt x="4012" y="2996"/>
                  </a:lnTo>
                  <a:lnTo>
                    <a:pt x="4002" y="3032"/>
                  </a:lnTo>
                  <a:lnTo>
                    <a:pt x="3988" y="3070"/>
                  </a:lnTo>
                  <a:lnTo>
                    <a:pt x="3974" y="3106"/>
                  </a:lnTo>
                  <a:lnTo>
                    <a:pt x="3942" y="3182"/>
                  </a:lnTo>
                  <a:lnTo>
                    <a:pt x="3906" y="3258"/>
                  </a:lnTo>
                  <a:lnTo>
                    <a:pt x="3864" y="3336"/>
                  </a:lnTo>
                  <a:lnTo>
                    <a:pt x="3820" y="3412"/>
                  </a:lnTo>
                  <a:lnTo>
                    <a:pt x="3772" y="3490"/>
                  </a:lnTo>
                  <a:lnTo>
                    <a:pt x="3722" y="3566"/>
                  </a:lnTo>
                  <a:lnTo>
                    <a:pt x="3668" y="3642"/>
                  </a:lnTo>
                  <a:lnTo>
                    <a:pt x="3614" y="3716"/>
                  </a:lnTo>
                  <a:lnTo>
                    <a:pt x="3558" y="3790"/>
                  </a:lnTo>
                  <a:lnTo>
                    <a:pt x="3502" y="3862"/>
                  </a:lnTo>
                  <a:lnTo>
                    <a:pt x="3444" y="3930"/>
                  </a:lnTo>
                  <a:lnTo>
                    <a:pt x="3388" y="3998"/>
                  </a:lnTo>
                  <a:lnTo>
                    <a:pt x="3332" y="4060"/>
                  </a:lnTo>
                  <a:lnTo>
                    <a:pt x="3228" y="4178"/>
                  </a:lnTo>
                  <a:lnTo>
                    <a:pt x="3132" y="4282"/>
                  </a:lnTo>
                  <a:lnTo>
                    <a:pt x="3050" y="4366"/>
                  </a:lnTo>
                  <a:lnTo>
                    <a:pt x="2986" y="4430"/>
                  </a:lnTo>
                  <a:lnTo>
                    <a:pt x="2930" y="4484"/>
                  </a:lnTo>
                  <a:lnTo>
                    <a:pt x="1988" y="4690"/>
                  </a:lnTo>
                  <a:close/>
                </a:path>
              </a:pathLst>
            </a:custGeom>
            <a:solidFill>
              <a:srgbClr val="cd3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47"/>
            <p:cNvSpPr/>
            <p:nvPr/>
          </p:nvSpPr>
          <p:spPr>
            <a:xfrm>
              <a:off x="438120" y="333360"/>
              <a:ext cx="6994440" cy="7829640"/>
            </a:xfrm>
            <a:custGeom>
              <a:avLst/>
              <a:gdLst>
                <a:gd name="textAreaLeft" fmla="*/ 0 w 6994440"/>
                <a:gd name="textAreaRight" fmla="*/ 6994800 w 6994440"/>
                <a:gd name="textAreaTop" fmla="*/ 0 h 7829640"/>
                <a:gd name="textAreaBottom" fmla="*/ 7830000 h 7829640"/>
              </a:gdLst>
              <a:ahLst/>
              <a:rect l="textAreaLeft" t="textAreaTop" r="textAreaRight" b="textAreaBottom"/>
              <a:pathLst>
                <a:path w="4406" h="4932">
                  <a:moveTo>
                    <a:pt x="2108" y="4812"/>
                  </a:moveTo>
                  <a:lnTo>
                    <a:pt x="2174" y="4714"/>
                  </a:lnTo>
                  <a:lnTo>
                    <a:pt x="2140" y="4764"/>
                  </a:lnTo>
                  <a:lnTo>
                    <a:pt x="2174" y="4714"/>
                  </a:lnTo>
                  <a:lnTo>
                    <a:pt x="2174" y="4714"/>
                  </a:lnTo>
                  <a:lnTo>
                    <a:pt x="2140" y="4764"/>
                  </a:lnTo>
                  <a:lnTo>
                    <a:pt x="2174" y="4714"/>
                  </a:lnTo>
                  <a:lnTo>
                    <a:pt x="2174" y="4714"/>
                  </a:lnTo>
                  <a:lnTo>
                    <a:pt x="2102" y="4662"/>
                  </a:lnTo>
                  <a:lnTo>
                    <a:pt x="2020" y="4604"/>
                  </a:lnTo>
                  <a:lnTo>
                    <a:pt x="1912" y="4526"/>
                  </a:lnTo>
                  <a:lnTo>
                    <a:pt x="1912" y="4526"/>
                  </a:lnTo>
                  <a:lnTo>
                    <a:pt x="1816" y="4458"/>
                  </a:lnTo>
                  <a:lnTo>
                    <a:pt x="1712" y="4380"/>
                  </a:lnTo>
                  <a:lnTo>
                    <a:pt x="1602" y="4294"/>
                  </a:lnTo>
                  <a:lnTo>
                    <a:pt x="1484" y="4202"/>
                  </a:lnTo>
                  <a:lnTo>
                    <a:pt x="1484" y="4202"/>
                  </a:lnTo>
                  <a:lnTo>
                    <a:pt x="1394" y="4130"/>
                  </a:lnTo>
                  <a:lnTo>
                    <a:pt x="1302" y="4054"/>
                  </a:lnTo>
                  <a:lnTo>
                    <a:pt x="1210" y="3978"/>
                  </a:lnTo>
                  <a:lnTo>
                    <a:pt x="1120" y="3900"/>
                  </a:lnTo>
                  <a:lnTo>
                    <a:pt x="1120" y="3900"/>
                  </a:lnTo>
                  <a:lnTo>
                    <a:pt x="986" y="3778"/>
                  </a:lnTo>
                  <a:lnTo>
                    <a:pt x="920" y="3718"/>
                  </a:lnTo>
                  <a:lnTo>
                    <a:pt x="856" y="3658"/>
                  </a:lnTo>
                  <a:lnTo>
                    <a:pt x="796" y="3596"/>
                  </a:lnTo>
                  <a:lnTo>
                    <a:pt x="736" y="3536"/>
                  </a:lnTo>
                  <a:lnTo>
                    <a:pt x="680" y="3476"/>
                  </a:lnTo>
                  <a:lnTo>
                    <a:pt x="628" y="3416"/>
                  </a:lnTo>
                  <a:lnTo>
                    <a:pt x="628" y="3416"/>
                  </a:lnTo>
                  <a:lnTo>
                    <a:pt x="580" y="3358"/>
                  </a:lnTo>
                  <a:lnTo>
                    <a:pt x="534" y="3302"/>
                  </a:lnTo>
                  <a:lnTo>
                    <a:pt x="494" y="3246"/>
                  </a:lnTo>
                  <a:lnTo>
                    <a:pt x="458" y="3194"/>
                  </a:lnTo>
                  <a:lnTo>
                    <a:pt x="458" y="3194"/>
                  </a:lnTo>
                  <a:lnTo>
                    <a:pt x="428" y="3142"/>
                  </a:lnTo>
                  <a:lnTo>
                    <a:pt x="402" y="3094"/>
                  </a:lnTo>
                  <a:lnTo>
                    <a:pt x="382" y="3050"/>
                  </a:lnTo>
                  <a:lnTo>
                    <a:pt x="368" y="3008"/>
                  </a:lnTo>
                  <a:lnTo>
                    <a:pt x="368" y="3008"/>
                  </a:lnTo>
                  <a:lnTo>
                    <a:pt x="336" y="2894"/>
                  </a:lnTo>
                  <a:lnTo>
                    <a:pt x="310" y="2792"/>
                  </a:lnTo>
                  <a:lnTo>
                    <a:pt x="290" y="2702"/>
                  </a:lnTo>
                  <a:lnTo>
                    <a:pt x="274" y="2624"/>
                  </a:lnTo>
                  <a:lnTo>
                    <a:pt x="274" y="2624"/>
                  </a:lnTo>
                  <a:lnTo>
                    <a:pt x="262" y="2554"/>
                  </a:lnTo>
                  <a:lnTo>
                    <a:pt x="256" y="2496"/>
                  </a:lnTo>
                  <a:lnTo>
                    <a:pt x="252" y="2446"/>
                  </a:lnTo>
                  <a:lnTo>
                    <a:pt x="250" y="2402"/>
                  </a:lnTo>
                  <a:lnTo>
                    <a:pt x="250" y="2402"/>
                  </a:lnTo>
                  <a:lnTo>
                    <a:pt x="250" y="2366"/>
                  </a:lnTo>
                  <a:lnTo>
                    <a:pt x="254" y="2334"/>
                  </a:lnTo>
                  <a:lnTo>
                    <a:pt x="254" y="2334"/>
                  </a:lnTo>
                  <a:lnTo>
                    <a:pt x="260" y="2292"/>
                  </a:lnTo>
                  <a:lnTo>
                    <a:pt x="268" y="2252"/>
                  </a:lnTo>
                  <a:lnTo>
                    <a:pt x="268" y="2252"/>
                  </a:lnTo>
                  <a:lnTo>
                    <a:pt x="290" y="2162"/>
                  </a:lnTo>
                  <a:lnTo>
                    <a:pt x="290" y="2162"/>
                  </a:lnTo>
                  <a:lnTo>
                    <a:pt x="292" y="2146"/>
                  </a:lnTo>
                  <a:lnTo>
                    <a:pt x="292" y="2130"/>
                  </a:lnTo>
                  <a:lnTo>
                    <a:pt x="290" y="2116"/>
                  </a:lnTo>
                  <a:lnTo>
                    <a:pt x="288" y="2100"/>
                  </a:lnTo>
                  <a:lnTo>
                    <a:pt x="288" y="2100"/>
                  </a:lnTo>
                  <a:lnTo>
                    <a:pt x="276" y="2062"/>
                  </a:lnTo>
                  <a:lnTo>
                    <a:pt x="266" y="2022"/>
                  </a:lnTo>
                  <a:lnTo>
                    <a:pt x="258" y="1984"/>
                  </a:lnTo>
                  <a:lnTo>
                    <a:pt x="252" y="1944"/>
                  </a:lnTo>
                  <a:lnTo>
                    <a:pt x="248" y="1908"/>
                  </a:lnTo>
                  <a:lnTo>
                    <a:pt x="244" y="1870"/>
                  </a:lnTo>
                  <a:lnTo>
                    <a:pt x="242" y="1834"/>
                  </a:lnTo>
                  <a:lnTo>
                    <a:pt x="240" y="1798"/>
                  </a:lnTo>
                  <a:lnTo>
                    <a:pt x="240" y="1798"/>
                  </a:lnTo>
                  <a:lnTo>
                    <a:pt x="244" y="1734"/>
                  </a:lnTo>
                  <a:lnTo>
                    <a:pt x="250" y="1674"/>
                  </a:lnTo>
                  <a:lnTo>
                    <a:pt x="258" y="1614"/>
                  </a:lnTo>
                  <a:lnTo>
                    <a:pt x="272" y="1558"/>
                  </a:lnTo>
                  <a:lnTo>
                    <a:pt x="272" y="1558"/>
                  </a:lnTo>
                  <a:lnTo>
                    <a:pt x="284" y="1518"/>
                  </a:lnTo>
                  <a:lnTo>
                    <a:pt x="296" y="1480"/>
                  </a:lnTo>
                  <a:lnTo>
                    <a:pt x="312" y="1444"/>
                  </a:lnTo>
                  <a:lnTo>
                    <a:pt x="328" y="1408"/>
                  </a:lnTo>
                  <a:lnTo>
                    <a:pt x="344" y="1376"/>
                  </a:lnTo>
                  <a:lnTo>
                    <a:pt x="362" y="1344"/>
                  </a:lnTo>
                  <a:lnTo>
                    <a:pt x="380" y="1316"/>
                  </a:lnTo>
                  <a:lnTo>
                    <a:pt x="400" y="1290"/>
                  </a:lnTo>
                  <a:lnTo>
                    <a:pt x="400" y="1290"/>
                  </a:lnTo>
                  <a:lnTo>
                    <a:pt x="420" y="1266"/>
                  </a:lnTo>
                  <a:lnTo>
                    <a:pt x="438" y="1244"/>
                  </a:lnTo>
                  <a:lnTo>
                    <a:pt x="458" y="1226"/>
                  </a:lnTo>
                  <a:lnTo>
                    <a:pt x="478" y="1210"/>
                  </a:lnTo>
                  <a:lnTo>
                    <a:pt x="478" y="1210"/>
                  </a:lnTo>
                  <a:lnTo>
                    <a:pt x="496" y="1196"/>
                  </a:lnTo>
                  <a:lnTo>
                    <a:pt x="512" y="1184"/>
                  </a:lnTo>
                  <a:lnTo>
                    <a:pt x="528" y="1176"/>
                  </a:lnTo>
                  <a:lnTo>
                    <a:pt x="542" y="1170"/>
                  </a:lnTo>
                  <a:lnTo>
                    <a:pt x="542" y="1170"/>
                  </a:lnTo>
                  <a:lnTo>
                    <a:pt x="556" y="1164"/>
                  </a:lnTo>
                  <a:lnTo>
                    <a:pt x="568" y="1158"/>
                  </a:lnTo>
                  <a:lnTo>
                    <a:pt x="580" y="1148"/>
                  </a:lnTo>
                  <a:lnTo>
                    <a:pt x="592" y="1138"/>
                  </a:lnTo>
                  <a:lnTo>
                    <a:pt x="600" y="1126"/>
                  </a:lnTo>
                  <a:lnTo>
                    <a:pt x="608" y="1112"/>
                  </a:lnTo>
                  <a:lnTo>
                    <a:pt x="614" y="1098"/>
                  </a:lnTo>
                  <a:lnTo>
                    <a:pt x="618" y="1084"/>
                  </a:lnTo>
                  <a:lnTo>
                    <a:pt x="618" y="1084"/>
                  </a:lnTo>
                  <a:lnTo>
                    <a:pt x="628" y="1050"/>
                  </a:lnTo>
                  <a:lnTo>
                    <a:pt x="638" y="1018"/>
                  </a:lnTo>
                  <a:lnTo>
                    <a:pt x="650" y="986"/>
                  </a:lnTo>
                  <a:lnTo>
                    <a:pt x="664" y="954"/>
                  </a:lnTo>
                  <a:lnTo>
                    <a:pt x="664" y="954"/>
                  </a:lnTo>
                  <a:lnTo>
                    <a:pt x="678" y="928"/>
                  </a:lnTo>
                  <a:lnTo>
                    <a:pt x="694" y="902"/>
                  </a:lnTo>
                  <a:lnTo>
                    <a:pt x="712" y="876"/>
                  </a:lnTo>
                  <a:lnTo>
                    <a:pt x="728" y="852"/>
                  </a:lnTo>
                  <a:lnTo>
                    <a:pt x="748" y="828"/>
                  </a:lnTo>
                  <a:lnTo>
                    <a:pt x="768" y="804"/>
                  </a:lnTo>
                  <a:lnTo>
                    <a:pt x="810" y="758"/>
                  </a:lnTo>
                  <a:lnTo>
                    <a:pt x="810" y="758"/>
                  </a:lnTo>
                  <a:lnTo>
                    <a:pt x="844" y="726"/>
                  </a:lnTo>
                  <a:lnTo>
                    <a:pt x="880" y="696"/>
                  </a:lnTo>
                  <a:lnTo>
                    <a:pt x="916" y="668"/>
                  </a:lnTo>
                  <a:lnTo>
                    <a:pt x="952" y="642"/>
                  </a:lnTo>
                  <a:lnTo>
                    <a:pt x="952" y="642"/>
                  </a:lnTo>
                  <a:lnTo>
                    <a:pt x="1008" y="606"/>
                  </a:lnTo>
                  <a:lnTo>
                    <a:pt x="1062" y="574"/>
                  </a:lnTo>
                  <a:lnTo>
                    <a:pt x="1116" y="546"/>
                  </a:lnTo>
                  <a:lnTo>
                    <a:pt x="1164" y="524"/>
                  </a:lnTo>
                  <a:lnTo>
                    <a:pt x="1164" y="524"/>
                  </a:lnTo>
                  <a:lnTo>
                    <a:pt x="1210" y="504"/>
                  </a:lnTo>
                  <a:lnTo>
                    <a:pt x="1248" y="492"/>
                  </a:lnTo>
                  <a:lnTo>
                    <a:pt x="1248" y="492"/>
                  </a:lnTo>
                  <a:lnTo>
                    <a:pt x="1278" y="482"/>
                  </a:lnTo>
                  <a:lnTo>
                    <a:pt x="1278" y="482"/>
                  </a:lnTo>
                  <a:lnTo>
                    <a:pt x="1294" y="478"/>
                  </a:lnTo>
                  <a:lnTo>
                    <a:pt x="1294" y="478"/>
                  </a:lnTo>
                  <a:lnTo>
                    <a:pt x="1316" y="474"/>
                  </a:lnTo>
                  <a:lnTo>
                    <a:pt x="1336" y="464"/>
                  </a:lnTo>
                  <a:lnTo>
                    <a:pt x="1354" y="452"/>
                  </a:lnTo>
                  <a:lnTo>
                    <a:pt x="1370" y="436"/>
                  </a:lnTo>
                  <a:lnTo>
                    <a:pt x="1370" y="436"/>
                  </a:lnTo>
                  <a:lnTo>
                    <a:pt x="1390" y="416"/>
                  </a:lnTo>
                  <a:lnTo>
                    <a:pt x="1410" y="396"/>
                  </a:lnTo>
                  <a:lnTo>
                    <a:pt x="1434" y="376"/>
                  </a:lnTo>
                  <a:lnTo>
                    <a:pt x="1458" y="360"/>
                  </a:lnTo>
                  <a:lnTo>
                    <a:pt x="1458" y="360"/>
                  </a:lnTo>
                  <a:lnTo>
                    <a:pt x="1500" y="334"/>
                  </a:lnTo>
                  <a:lnTo>
                    <a:pt x="1546" y="314"/>
                  </a:lnTo>
                  <a:lnTo>
                    <a:pt x="1594" y="296"/>
                  </a:lnTo>
                  <a:lnTo>
                    <a:pt x="1646" y="282"/>
                  </a:lnTo>
                  <a:lnTo>
                    <a:pt x="1646" y="282"/>
                  </a:lnTo>
                  <a:lnTo>
                    <a:pt x="1700" y="270"/>
                  </a:lnTo>
                  <a:lnTo>
                    <a:pt x="1752" y="262"/>
                  </a:lnTo>
                  <a:lnTo>
                    <a:pt x="1806" y="258"/>
                  </a:lnTo>
                  <a:lnTo>
                    <a:pt x="1858" y="256"/>
                  </a:lnTo>
                  <a:lnTo>
                    <a:pt x="1858" y="256"/>
                  </a:lnTo>
                  <a:lnTo>
                    <a:pt x="1910" y="258"/>
                  </a:lnTo>
                  <a:lnTo>
                    <a:pt x="1958" y="262"/>
                  </a:lnTo>
                  <a:lnTo>
                    <a:pt x="2002" y="268"/>
                  </a:lnTo>
                  <a:lnTo>
                    <a:pt x="2040" y="278"/>
                  </a:lnTo>
                  <a:lnTo>
                    <a:pt x="2040" y="278"/>
                  </a:lnTo>
                  <a:lnTo>
                    <a:pt x="2074" y="288"/>
                  </a:lnTo>
                  <a:lnTo>
                    <a:pt x="2102" y="300"/>
                  </a:lnTo>
                  <a:lnTo>
                    <a:pt x="2102" y="300"/>
                  </a:lnTo>
                  <a:lnTo>
                    <a:pt x="2120" y="310"/>
                  </a:lnTo>
                  <a:lnTo>
                    <a:pt x="2130" y="318"/>
                  </a:lnTo>
                  <a:lnTo>
                    <a:pt x="2130" y="318"/>
                  </a:lnTo>
                  <a:lnTo>
                    <a:pt x="2146" y="332"/>
                  </a:lnTo>
                  <a:lnTo>
                    <a:pt x="2164" y="344"/>
                  </a:lnTo>
                  <a:lnTo>
                    <a:pt x="2184" y="350"/>
                  </a:lnTo>
                  <a:lnTo>
                    <a:pt x="2204" y="354"/>
                  </a:lnTo>
                  <a:lnTo>
                    <a:pt x="2226" y="354"/>
                  </a:lnTo>
                  <a:lnTo>
                    <a:pt x="2246" y="350"/>
                  </a:lnTo>
                  <a:lnTo>
                    <a:pt x="2266" y="342"/>
                  </a:lnTo>
                  <a:lnTo>
                    <a:pt x="2284" y="332"/>
                  </a:lnTo>
                  <a:lnTo>
                    <a:pt x="2284" y="332"/>
                  </a:lnTo>
                  <a:lnTo>
                    <a:pt x="2314" y="312"/>
                  </a:lnTo>
                  <a:lnTo>
                    <a:pt x="2348" y="296"/>
                  </a:lnTo>
                  <a:lnTo>
                    <a:pt x="2386" y="280"/>
                  </a:lnTo>
                  <a:lnTo>
                    <a:pt x="2428" y="266"/>
                  </a:lnTo>
                  <a:lnTo>
                    <a:pt x="2428" y="266"/>
                  </a:lnTo>
                  <a:lnTo>
                    <a:pt x="2472" y="256"/>
                  </a:lnTo>
                  <a:lnTo>
                    <a:pt x="2518" y="248"/>
                  </a:lnTo>
                  <a:lnTo>
                    <a:pt x="2566" y="242"/>
                  </a:lnTo>
                  <a:lnTo>
                    <a:pt x="2616" y="240"/>
                  </a:lnTo>
                  <a:lnTo>
                    <a:pt x="2616" y="240"/>
                  </a:lnTo>
                  <a:lnTo>
                    <a:pt x="2656" y="242"/>
                  </a:lnTo>
                  <a:lnTo>
                    <a:pt x="2696" y="246"/>
                  </a:lnTo>
                  <a:lnTo>
                    <a:pt x="2736" y="250"/>
                  </a:lnTo>
                  <a:lnTo>
                    <a:pt x="2776" y="258"/>
                  </a:lnTo>
                  <a:lnTo>
                    <a:pt x="2776" y="258"/>
                  </a:lnTo>
                  <a:lnTo>
                    <a:pt x="2806" y="266"/>
                  </a:lnTo>
                  <a:lnTo>
                    <a:pt x="2834" y="274"/>
                  </a:lnTo>
                  <a:lnTo>
                    <a:pt x="2864" y="284"/>
                  </a:lnTo>
                  <a:lnTo>
                    <a:pt x="2892" y="296"/>
                  </a:lnTo>
                  <a:lnTo>
                    <a:pt x="2920" y="308"/>
                  </a:lnTo>
                  <a:lnTo>
                    <a:pt x="2946" y="322"/>
                  </a:lnTo>
                  <a:lnTo>
                    <a:pt x="2972" y="336"/>
                  </a:lnTo>
                  <a:lnTo>
                    <a:pt x="2998" y="354"/>
                  </a:lnTo>
                  <a:lnTo>
                    <a:pt x="2998" y="354"/>
                  </a:lnTo>
                  <a:lnTo>
                    <a:pt x="3024" y="372"/>
                  </a:lnTo>
                  <a:lnTo>
                    <a:pt x="3046" y="392"/>
                  </a:lnTo>
                  <a:lnTo>
                    <a:pt x="3070" y="412"/>
                  </a:lnTo>
                  <a:lnTo>
                    <a:pt x="3092" y="434"/>
                  </a:lnTo>
                  <a:lnTo>
                    <a:pt x="3112" y="458"/>
                  </a:lnTo>
                  <a:lnTo>
                    <a:pt x="3132" y="484"/>
                  </a:lnTo>
                  <a:lnTo>
                    <a:pt x="3150" y="512"/>
                  </a:lnTo>
                  <a:lnTo>
                    <a:pt x="3168" y="540"/>
                  </a:lnTo>
                  <a:lnTo>
                    <a:pt x="3168" y="540"/>
                  </a:lnTo>
                  <a:lnTo>
                    <a:pt x="3176" y="552"/>
                  </a:lnTo>
                  <a:lnTo>
                    <a:pt x="3184" y="562"/>
                  </a:lnTo>
                  <a:lnTo>
                    <a:pt x="3194" y="572"/>
                  </a:lnTo>
                  <a:lnTo>
                    <a:pt x="3204" y="580"/>
                  </a:lnTo>
                  <a:lnTo>
                    <a:pt x="3216" y="586"/>
                  </a:lnTo>
                  <a:lnTo>
                    <a:pt x="3228" y="592"/>
                  </a:lnTo>
                  <a:lnTo>
                    <a:pt x="3242" y="596"/>
                  </a:lnTo>
                  <a:lnTo>
                    <a:pt x="3254" y="600"/>
                  </a:lnTo>
                  <a:lnTo>
                    <a:pt x="3254" y="600"/>
                  </a:lnTo>
                  <a:lnTo>
                    <a:pt x="3280" y="604"/>
                  </a:lnTo>
                  <a:lnTo>
                    <a:pt x="3306" y="612"/>
                  </a:lnTo>
                  <a:lnTo>
                    <a:pt x="3334" y="620"/>
                  </a:lnTo>
                  <a:lnTo>
                    <a:pt x="3362" y="632"/>
                  </a:lnTo>
                  <a:lnTo>
                    <a:pt x="3362" y="632"/>
                  </a:lnTo>
                  <a:lnTo>
                    <a:pt x="3388" y="644"/>
                  </a:lnTo>
                  <a:lnTo>
                    <a:pt x="3414" y="656"/>
                  </a:lnTo>
                  <a:lnTo>
                    <a:pt x="3466" y="686"/>
                  </a:lnTo>
                  <a:lnTo>
                    <a:pt x="3518" y="722"/>
                  </a:lnTo>
                  <a:lnTo>
                    <a:pt x="3570" y="764"/>
                  </a:lnTo>
                  <a:lnTo>
                    <a:pt x="3570" y="764"/>
                  </a:lnTo>
                  <a:lnTo>
                    <a:pt x="3608" y="798"/>
                  </a:lnTo>
                  <a:lnTo>
                    <a:pt x="3646" y="832"/>
                  </a:lnTo>
                  <a:lnTo>
                    <a:pt x="3682" y="870"/>
                  </a:lnTo>
                  <a:lnTo>
                    <a:pt x="3716" y="910"/>
                  </a:lnTo>
                  <a:lnTo>
                    <a:pt x="3716" y="910"/>
                  </a:lnTo>
                  <a:lnTo>
                    <a:pt x="3740" y="940"/>
                  </a:lnTo>
                  <a:lnTo>
                    <a:pt x="3764" y="970"/>
                  </a:lnTo>
                  <a:lnTo>
                    <a:pt x="3788" y="1002"/>
                  </a:lnTo>
                  <a:lnTo>
                    <a:pt x="3808" y="1034"/>
                  </a:lnTo>
                  <a:lnTo>
                    <a:pt x="3828" y="1066"/>
                  </a:lnTo>
                  <a:lnTo>
                    <a:pt x="3848" y="1098"/>
                  </a:lnTo>
                  <a:lnTo>
                    <a:pt x="3864" y="1130"/>
                  </a:lnTo>
                  <a:lnTo>
                    <a:pt x="3880" y="1160"/>
                  </a:lnTo>
                  <a:lnTo>
                    <a:pt x="3880" y="1160"/>
                  </a:lnTo>
                  <a:lnTo>
                    <a:pt x="3894" y="1192"/>
                  </a:lnTo>
                  <a:lnTo>
                    <a:pt x="3906" y="1222"/>
                  </a:lnTo>
                  <a:lnTo>
                    <a:pt x="3916" y="1252"/>
                  </a:lnTo>
                  <a:lnTo>
                    <a:pt x="3924" y="1280"/>
                  </a:lnTo>
                  <a:lnTo>
                    <a:pt x="3924" y="1280"/>
                  </a:lnTo>
                  <a:lnTo>
                    <a:pt x="3932" y="1308"/>
                  </a:lnTo>
                  <a:lnTo>
                    <a:pt x="3936" y="1336"/>
                  </a:lnTo>
                  <a:lnTo>
                    <a:pt x="3938" y="1360"/>
                  </a:lnTo>
                  <a:lnTo>
                    <a:pt x="3940" y="1384"/>
                  </a:lnTo>
                  <a:lnTo>
                    <a:pt x="3940" y="1384"/>
                  </a:lnTo>
                  <a:lnTo>
                    <a:pt x="3940" y="1386"/>
                  </a:lnTo>
                  <a:lnTo>
                    <a:pt x="3940" y="1386"/>
                  </a:lnTo>
                  <a:lnTo>
                    <a:pt x="3940" y="1400"/>
                  </a:lnTo>
                  <a:lnTo>
                    <a:pt x="3942" y="1416"/>
                  </a:lnTo>
                  <a:lnTo>
                    <a:pt x="3946" y="1430"/>
                  </a:lnTo>
                  <a:lnTo>
                    <a:pt x="3952" y="1442"/>
                  </a:lnTo>
                  <a:lnTo>
                    <a:pt x="3960" y="1454"/>
                  </a:lnTo>
                  <a:lnTo>
                    <a:pt x="3970" y="1466"/>
                  </a:lnTo>
                  <a:lnTo>
                    <a:pt x="3980" y="1476"/>
                  </a:lnTo>
                  <a:lnTo>
                    <a:pt x="3992" y="1486"/>
                  </a:lnTo>
                  <a:lnTo>
                    <a:pt x="3992" y="1486"/>
                  </a:lnTo>
                  <a:lnTo>
                    <a:pt x="4008" y="1498"/>
                  </a:lnTo>
                  <a:lnTo>
                    <a:pt x="4024" y="1516"/>
                  </a:lnTo>
                  <a:lnTo>
                    <a:pt x="4024" y="1516"/>
                  </a:lnTo>
                  <a:lnTo>
                    <a:pt x="4038" y="1534"/>
                  </a:lnTo>
                  <a:lnTo>
                    <a:pt x="4054" y="1554"/>
                  </a:lnTo>
                  <a:lnTo>
                    <a:pt x="4068" y="1580"/>
                  </a:lnTo>
                  <a:lnTo>
                    <a:pt x="4082" y="1608"/>
                  </a:lnTo>
                  <a:lnTo>
                    <a:pt x="4082" y="1608"/>
                  </a:lnTo>
                  <a:lnTo>
                    <a:pt x="4100" y="1656"/>
                  </a:lnTo>
                  <a:lnTo>
                    <a:pt x="4118" y="1708"/>
                  </a:lnTo>
                  <a:lnTo>
                    <a:pt x="4132" y="1766"/>
                  </a:lnTo>
                  <a:lnTo>
                    <a:pt x="4144" y="1828"/>
                  </a:lnTo>
                  <a:lnTo>
                    <a:pt x="4144" y="1828"/>
                  </a:lnTo>
                  <a:lnTo>
                    <a:pt x="4154" y="1892"/>
                  </a:lnTo>
                  <a:lnTo>
                    <a:pt x="4160" y="1960"/>
                  </a:lnTo>
                  <a:lnTo>
                    <a:pt x="4164" y="2028"/>
                  </a:lnTo>
                  <a:lnTo>
                    <a:pt x="4166" y="2098"/>
                  </a:lnTo>
                  <a:lnTo>
                    <a:pt x="4166" y="2098"/>
                  </a:lnTo>
                  <a:lnTo>
                    <a:pt x="4162" y="2190"/>
                  </a:lnTo>
                  <a:lnTo>
                    <a:pt x="4156" y="2280"/>
                  </a:lnTo>
                  <a:lnTo>
                    <a:pt x="4146" y="2366"/>
                  </a:lnTo>
                  <a:lnTo>
                    <a:pt x="4138" y="2408"/>
                  </a:lnTo>
                  <a:lnTo>
                    <a:pt x="4130" y="2448"/>
                  </a:lnTo>
                  <a:lnTo>
                    <a:pt x="4130" y="2448"/>
                  </a:lnTo>
                  <a:lnTo>
                    <a:pt x="4122" y="2486"/>
                  </a:lnTo>
                  <a:lnTo>
                    <a:pt x="4112" y="2524"/>
                  </a:lnTo>
                  <a:lnTo>
                    <a:pt x="4102" y="2558"/>
                  </a:lnTo>
                  <a:lnTo>
                    <a:pt x="4090" y="2588"/>
                  </a:lnTo>
                  <a:lnTo>
                    <a:pt x="4090" y="2588"/>
                  </a:lnTo>
                  <a:lnTo>
                    <a:pt x="4078" y="2618"/>
                  </a:lnTo>
                  <a:lnTo>
                    <a:pt x="4066" y="2642"/>
                  </a:lnTo>
                  <a:lnTo>
                    <a:pt x="4054" y="2664"/>
                  </a:lnTo>
                  <a:lnTo>
                    <a:pt x="4042" y="2684"/>
                  </a:lnTo>
                  <a:lnTo>
                    <a:pt x="4042" y="2684"/>
                  </a:lnTo>
                  <a:lnTo>
                    <a:pt x="4036" y="2696"/>
                  </a:lnTo>
                  <a:lnTo>
                    <a:pt x="4030" y="2708"/>
                  </a:lnTo>
                  <a:lnTo>
                    <a:pt x="4026" y="2722"/>
                  </a:lnTo>
                  <a:lnTo>
                    <a:pt x="4022" y="2736"/>
                  </a:lnTo>
                  <a:lnTo>
                    <a:pt x="4022" y="2750"/>
                  </a:lnTo>
                  <a:lnTo>
                    <a:pt x="4022" y="2764"/>
                  </a:lnTo>
                  <a:lnTo>
                    <a:pt x="4024" y="2778"/>
                  </a:lnTo>
                  <a:lnTo>
                    <a:pt x="4028" y="2792"/>
                  </a:lnTo>
                  <a:lnTo>
                    <a:pt x="4028" y="2792"/>
                  </a:lnTo>
                  <a:lnTo>
                    <a:pt x="4036" y="2818"/>
                  </a:lnTo>
                  <a:lnTo>
                    <a:pt x="4042" y="2844"/>
                  </a:lnTo>
                  <a:lnTo>
                    <a:pt x="4044" y="2874"/>
                  </a:lnTo>
                  <a:lnTo>
                    <a:pt x="4046" y="2906"/>
                  </a:lnTo>
                  <a:lnTo>
                    <a:pt x="4046" y="2906"/>
                  </a:lnTo>
                  <a:lnTo>
                    <a:pt x="4046" y="2930"/>
                  </a:lnTo>
                  <a:lnTo>
                    <a:pt x="4044" y="2956"/>
                  </a:lnTo>
                  <a:lnTo>
                    <a:pt x="4036" y="3010"/>
                  </a:lnTo>
                  <a:lnTo>
                    <a:pt x="4022" y="3066"/>
                  </a:lnTo>
                  <a:lnTo>
                    <a:pt x="4004" y="3128"/>
                  </a:lnTo>
                  <a:lnTo>
                    <a:pt x="4004" y="3128"/>
                  </a:lnTo>
                  <a:lnTo>
                    <a:pt x="3984" y="3182"/>
                  </a:lnTo>
                  <a:lnTo>
                    <a:pt x="3960" y="3238"/>
                  </a:lnTo>
                  <a:lnTo>
                    <a:pt x="3934" y="3296"/>
                  </a:lnTo>
                  <a:lnTo>
                    <a:pt x="3904" y="3354"/>
                  </a:lnTo>
                  <a:lnTo>
                    <a:pt x="3904" y="3354"/>
                  </a:lnTo>
                  <a:lnTo>
                    <a:pt x="3876" y="3406"/>
                  </a:lnTo>
                  <a:lnTo>
                    <a:pt x="3846" y="3458"/>
                  </a:lnTo>
                  <a:lnTo>
                    <a:pt x="3814" y="3510"/>
                  </a:lnTo>
                  <a:lnTo>
                    <a:pt x="3780" y="3562"/>
                  </a:lnTo>
                  <a:lnTo>
                    <a:pt x="3710" y="3666"/>
                  </a:lnTo>
                  <a:lnTo>
                    <a:pt x="3636" y="3770"/>
                  </a:lnTo>
                  <a:lnTo>
                    <a:pt x="3636" y="3770"/>
                  </a:lnTo>
                  <a:lnTo>
                    <a:pt x="3578" y="3846"/>
                  </a:lnTo>
                  <a:lnTo>
                    <a:pt x="3518" y="3918"/>
                  </a:lnTo>
                  <a:lnTo>
                    <a:pt x="3460" y="3990"/>
                  </a:lnTo>
                  <a:lnTo>
                    <a:pt x="3402" y="4058"/>
                  </a:lnTo>
                  <a:lnTo>
                    <a:pt x="3290" y="4186"/>
                  </a:lnTo>
                  <a:lnTo>
                    <a:pt x="3186" y="4298"/>
                  </a:lnTo>
                  <a:lnTo>
                    <a:pt x="3186" y="4298"/>
                  </a:lnTo>
                  <a:lnTo>
                    <a:pt x="3098" y="4390"/>
                  </a:lnTo>
                  <a:lnTo>
                    <a:pt x="3028" y="4460"/>
                  </a:lnTo>
                  <a:lnTo>
                    <a:pt x="3028" y="4460"/>
                  </a:lnTo>
                  <a:lnTo>
                    <a:pt x="2984" y="4504"/>
                  </a:lnTo>
                  <a:lnTo>
                    <a:pt x="2984" y="4504"/>
                  </a:lnTo>
                  <a:lnTo>
                    <a:pt x="2972" y="4514"/>
                  </a:lnTo>
                  <a:lnTo>
                    <a:pt x="2972" y="4514"/>
                  </a:lnTo>
                  <a:lnTo>
                    <a:pt x="2968" y="4518"/>
                  </a:lnTo>
                  <a:lnTo>
                    <a:pt x="2968" y="4518"/>
                  </a:lnTo>
                  <a:lnTo>
                    <a:pt x="2968" y="4518"/>
                  </a:lnTo>
                  <a:lnTo>
                    <a:pt x="2968" y="4518"/>
                  </a:lnTo>
                  <a:lnTo>
                    <a:pt x="3050" y="4606"/>
                  </a:lnTo>
                  <a:lnTo>
                    <a:pt x="3024" y="4488"/>
                  </a:lnTo>
                  <a:lnTo>
                    <a:pt x="2082" y="4696"/>
                  </a:lnTo>
                  <a:lnTo>
                    <a:pt x="2108" y="4812"/>
                  </a:lnTo>
                  <a:lnTo>
                    <a:pt x="2174" y="4714"/>
                  </a:lnTo>
                  <a:lnTo>
                    <a:pt x="2108" y="4812"/>
                  </a:lnTo>
                  <a:lnTo>
                    <a:pt x="2132" y="4930"/>
                  </a:lnTo>
                  <a:lnTo>
                    <a:pt x="3076" y="4722"/>
                  </a:lnTo>
                  <a:lnTo>
                    <a:pt x="3076" y="4722"/>
                  </a:lnTo>
                  <a:lnTo>
                    <a:pt x="3092" y="4718"/>
                  </a:lnTo>
                  <a:lnTo>
                    <a:pt x="3106" y="4712"/>
                  </a:lnTo>
                  <a:lnTo>
                    <a:pt x="3120" y="4702"/>
                  </a:lnTo>
                  <a:lnTo>
                    <a:pt x="3132" y="4692"/>
                  </a:lnTo>
                  <a:lnTo>
                    <a:pt x="3132" y="4692"/>
                  </a:lnTo>
                  <a:lnTo>
                    <a:pt x="3182" y="4644"/>
                  </a:lnTo>
                  <a:lnTo>
                    <a:pt x="3238" y="4588"/>
                  </a:lnTo>
                  <a:lnTo>
                    <a:pt x="3310" y="4514"/>
                  </a:lnTo>
                  <a:lnTo>
                    <a:pt x="3310" y="4514"/>
                  </a:lnTo>
                  <a:lnTo>
                    <a:pt x="3374" y="4448"/>
                  </a:lnTo>
                  <a:lnTo>
                    <a:pt x="3444" y="4374"/>
                  </a:lnTo>
                  <a:lnTo>
                    <a:pt x="3518" y="4290"/>
                  </a:lnTo>
                  <a:lnTo>
                    <a:pt x="3596" y="4202"/>
                  </a:lnTo>
                  <a:lnTo>
                    <a:pt x="3596" y="4202"/>
                  </a:lnTo>
                  <a:lnTo>
                    <a:pt x="3654" y="4132"/>
                  </a:lnTo>
                  <a:lnTo>
                    <a:pt x="3714" y="4058"/>
                  </a:lnTo>
                  <a:lnTo>
                    <a:pt x="3774" y="3982"/>
                  </a:lnTo>
                  <a:lnTo>
                    <a:pt x="3834" y="3904"/>
                  </a:lnTo>
                  <a:lnTo>
                    <a:pt x="3892" y="3826"/>
                  </a:lnTo>
                  <a:lnTo>
                    <a:pt x="3948" y="3744"/>
                  </a:lnTo>
                  <a:lnTo>
                    <a:pt x="4002" y="3662"/>
                  </a:lnTo>
                  <a:lnTo>
                    <a:pt x="4054" y="3578"/>
                  </a:lnTo>
                  <a:lnTo>
                    <a:pt x="4054" y="3578"/>
                  </a:lnTo>
                  <a:lnTo>
                    <a:pt x="4102" y="3494"/>
                  </a:lnTo>
                  <a:lnTo>
                    <a:pt x="4146" y="3410"/>
                  </a:lnTo>
                  <a:lnTo>
                    <a:pt x="4184" y="3326"/>
                  </a:lnTo>
                  <a:lnTo>
                    <a:pt x="4202" y="3284"/>
                  </a:lnTo>
                  <a:lnTo>
                    <a:pt x="4218" y="3240"/>
                  </a:lnTo>
                  <a:lnTo>
                    <a:pt x="4218" y="3240"/>
                  </a:lnTo>
                  <a:lnTo>
                    <a:pt x="4234" y="3198"/>
                  </a:lnTo>
                  <a:lnTo>
                    <a:pt x="4246" y="3156"/>
                  </a:lnTo>
                  <a:lnTo>
                    <a:pt x="4258" y="3114"/>
                  </a:lnTo>
                  <a:lnTo>
                    <a:pt x="4268" y="3072"/>
                  </a:lnTo>
                  <a:lnTo>
                    <a:pt x="4268" y="3072"/>
                  </a:lnTo>
                  <a:lnTo>
                    <a:pt x="4276" y="3030"/>
                  </a:lnTo>
                  <a:lnTo>
                    <a:pt x="4282" y="2988"/>
                  </a:lnTo>
                  <a:lnTo>
                    <a:pt x="4284" y="2948"/>
                  </a:lnTo>
                  <a:lnTo>
                    <a:pt x="4286" y="2906"/>
                  </a:lnTo>
                  <a:lnTo>
                    <a:pt x="4286" y="2906"/>
                  </a:lnTo>
                  <a:lnTo>
                    <a:pt x="4284" y="2856"/>
                  </a:lnTo>
                  <a:lnTo>
                    <a:pt x="4278" y="2808"/>
                  </a:lnTo>
                  <a:lnTo>
                    <a:pt x="4268" y="2760"/>
                  </a:lnTo>
                  <a:lnTo>
                    <a:pt x="4254" y="2712"/>
                  </a:lnTo>
                  <a:lnTo>
                    <a:pt x="4142" y="2752"/>
                  </a:lnTo>
                  <a:lnTo>
                    <a:pt x="4240" y="2820"/>
                  </a:lnTo>
                  <a:lnTo>
                    <a:pt x="4240" y="2820"/>
                  </a:lnTo>
                  <a:lnTo>
                    <a:pt x="4262" y="2786"/>
                  </a:lnTo>
                  <a:lnTo>
                    <a:pt x="4280" y="2750"/>
                  </a:lnTo>
                  <a:lnTo>
                    <a:pt x="4298" y="2714"/>
                  </a:lnTo>
                  <a:lnTo>
                    <a:pt x="4314" y="2674"/>
                  </a:lnTo>
                  <a:lnTo>
                    <a:pt x="4314" y="2674"/>
                  </a:lnTo>
                  <a:lnTo>
                    <a:pt x="4336" y="2610"/>
                  </a:lnTo>
                  <a:lnTo>
                    <a:pt x="4354" y="2544"/>
                  </a:lnTo>
                  <a:lnTo>
                    <a:pt x="4370" y="2476"/>
                  </a:lnTo>
                  <a:lnTo>
                    <a:pt x="4382" y="2404"/>
                  </a:lnTo>
                  <a:lnTo>
                    <a:pt x="4382" y="2404"/>
                  </a:lnTo>
                  <a:lnTo>
                    <a:pt x="4392" y="2330"/>
                  </a:lnTo>
                  <a:lnTo>
                    <a:pt x="4400" y="2252"/>
                  </a:lnTo>
                  <a:lnTo>
                    <a:pt x="4404" y="2176"/>
                  </a:lnTo>
                  <a:lnTo>
                    <a:pt x="4406" y="2098"/>
                  </a:lnTo>
                  <a:lnTo>
                    <a:pt x="4406" y="2098"/>
                  </a:lnTo>
                  <a:lnTo>
                    <a:pt x="4404" y="2038"/>
                  </a:lnTo>
                  <a:lnTo>
                    <a:pt x="4402" y="1978"/>
                  </a:lnTo>
                  <a:lnTo>
                    <a:pt x="4398" y="1918"/>
                  </a:lnTo>
                  <a:lnTo>
                    <a:pt x="4390" y="1860"/>
                  </a:lnTo>
                  <a:lnTo>
                    <a:pt x="4390" y="1860"/>
                  </a:lnTo>
                  <a:lnTo>
                    <a:pt x="4378" y="1774"/>
                  </a:lnTo>
                  <a:lnTo>
                    <a:pt x="4370" y="1732"/>
                  </a:lnTo>
                  <a:lnTo>
                    <a:pt x="4360" y="1690"/>
                  </a:lnTo>
                  <a:lnTo>
                    <a:pt x="4350" y="1648"/>
                  </a:lnTo>
                  <a:lnTo>
                    <a:pt x="4338" y="1610"/>
                  </a:lnTo>
                  <a:lnTo>
                    <a:pt x="4324" y="1570"/>
                  </a:lnTo>
                  <a:lnTo>
                    <a:pt x="4310" y="1534"/>
                  </a:lnTo>
                  <a:lnTo>
                    <a:pt x="4310" y="1534"/>
                  </a:lnTo>
                  <a:lnTo>
                    <a:pt x="4294" y="1496"/>
                  </a:lnTo>
                  <a:lnTo>
                    <a:pt x="4276" y="1462"/>
                  </a:lnTo>
                  <a:lnTo>
                    <a:pt x="4258" y="1428"/>
                  </a:lnTo>
                  <a:lnTo>
                    <a:pt x="4236" y="1396"/>
                  </a:lnTo>
                  <a:lnTo>
                    <a:pt x="4236" y="1396"/>
                  </a:lnTo>
                  <a:lnTo>
                    <a:pt x="4212" y="1366"/>
                  </a:lnTo>
                  <a:lnTo>
                    <a:pt x="4186" y="1338"/>
                  </a:lnTo>
                  <a:lnTo>
                    <a:pt x="4158" y="1312"/>
                  </a:lnTo>
                  <a:lnTo>
                    <a:pt x="4126" y="1288"/>
                  </a:lnTo>
                  <a:lnTo>
                    <a:pt x="4060" y="1386"/>
                  </a:lnTo>
                  <a:lnTo>
                    <a:pt x="4180" y="1388"/>
                  </a:lnTo>
                  <a:lnTo>
                    <a:pt x="4180" y="1388"/>
                  </a:lnTo>
                  <a:lnTo>
                    <a:pt x="4180" y="1384"/>
                  </a:lnTo>
                  <a:lnTo>
                    <a:pt x="4180" y="1384"/>
                  </a:lnTo>
                  <a:lnTo>
                    <a:pt x="4178" y="1342"/>
                  </a:lnTo>
                  <a:lnTo>
                    <a:pt x="4174" y="1300"/>
                  </a:lnTo>
                  <a:lnTo>
                    <a:pt x="4166" y="1258"/>
                  </a:lnTo>
                  <a:lnTo>
                    <a:pt x="4156" y="1218"/>
                  </a:lnTo>
                  <a:lnTo>
                    <a:pt x="4156" y="1218"/>
                  </a:lnTo>
                  <a:lnTo>
                    <a:pt x="4146" y="1182"/>
                  </a:lnTo>
                  <a:lnTo>
                    <a:pt x="4134" y="1146"/>
                  </a:lnTo>
                  <a:lnTo>
                    <a:pt x="4120" y="1110"/>
                  </a:lnTo>
                  <a:lnTo>
                    <a:pt x="4104" y="1074"/>
                  </a:lnTo>
                  <a:lnTo>
                    <a:pt x="4088" y="1038"/>
                  </a:lnTo>
                  <a:lnTo>
                    <a:pt x="4070" y="1004"/>
                  </a:lnTo>
                  <a:lnTo>
                    <a:pt x="4050" y="968"/>
                  </a:lnTo>
                  <a:lnTo>
                    <a:pt x="4030" y="934"/>
                  </a:lnTo>
                  <a:lnTo>
                    <a:pt x="4030" y="934"/>
                  </a:lnTo>
                  <a:lnTo>
                    <a:pt x="3996" y="882"/>
                  </a:lnTo>
                  <a:lnTo>
                    <a:pt x="3962" y="832"/>
                  </a:lnTo>
                  <a:lnTo>
                    <a:pt x="3924" y="784"/>
                  </a:lnTo>
                  <a:lnTo>
                    <a:pt x="3884" y="736"/>
                  </a:lnTo>
                  <a:lnTo>
                    <a:pt x="3884" y="736"/>
                  </a:lnTo>
                  <a:lnTo>
                    <a:pt x="3852" y="702"/>
                  </a:lnTo>
                  <a:lnTo>
                    <a:pt x="3820" y="668"/>
                  </a:lnTo>
                  <a:lnTo>
                    <a:pt x="3786" y="636"/>
                  </a:lnTo>
                  <a:lnTo>
                    <a:pt x="3752" y="604"/>
                  </a:lnTo>
                  <a:lnTo>
                    <a:pt x="3718" y="574"/>
                  </a:lnTo>
                  <a:lnTo>
                    <a:pt x="3682" y="546"/>
                  </a:lnTo>
                  <a:lnTo>
                    <a:pt x="3646" y="520"/>
                  </a:lnTo>
                  <a:lnTo>
                    <a:pt x="3608" y="494"/>
                  </a:lnTo>
                  <a:lnTo>
                    <a:pt x="3608" y="494"/>
                  </a:lnTo>
                  <a:lnTo>
                    <a:pt x="3570" y="470"/>
                  </a:lnTo>
                  <a:lnTo>
                    <a:pt x="3532" y="448"/>
                  </a:lnTo>
                  <a:lnTo>
                    <a:pt x="3494" y="428"/>
                  </a:lnTo>
                  <a:lnTo>
                    <a:pt x="3454" y="410"/>
                  </a:lnTo>
                  <a:lnTo>
                    <a:pt x="3454" y="410"/>
                  </a:lnTo>
                  <a:lnTo>
                    <a:pt x="3414" y="394"/>
                  </a:lnTo>
                  <a:lnTo>
                    <a:pt x="3374" y="380"/>
                  </a:lnTo>
                  <a:lnTo>
                    <a:pt x="3332" y="370"/>
                  </a:lnTo>
                  <a:lnTo>
                    <a:pt x="3290" y="362"/>
                  </a:lnTo>
                  <a:lnTo>
                    <a:pt x="3272" y="482"/>
                  </a:lnTo>
                  <a:lnTo>
                    <a:pt x="3378" y="422"/>
                  </a:lnTo>
                  <a:lnTo>
                    <a:pt x="3378" y="422"/>
                  </a:lnTo>
                  <a:lnTo>
                    <a:pt x="3362" y="394"/>
                  </a:lnTo>
                  <a:lnTo>
                    <a:pt x="3344" y="368"/>
                  </a:lnTo>
                  <a:lnTo>
                    <a:pt x="3326" y="342"/>
                  </a:lnTo>
                  <a:lnTo>
                    <a:pt x="3308" y="318"/>
                  </a:lnTo>
                  <a:lnTo>
                    <a:pt x="3268" y="272"/>
                  </a:lnTo>
                  <a:lnTo>
                    <a:pt x="3226" y="230"/>
                  </a:lnTo>
                  <a:lnTo>
                    <a:pt x="3226" y="230"/>
                  </a:lnTo>
                  <a:lnTo>
                    <a:pt x="3192" y="200"/>
                  </a:lnTo>
                  <a:lnTo>
                    <a:pt x="3158" y="172"/>
                  </a:lnTo>
                  <a:lnTo>
                    <a:pt x="3122" y="148"/>
                  </a:lnTo>
                  <a:lnTo>
                    <a:pt x="3086" y="126"/>
                  </a:lnTo>
                  <a:lnTo>
                    <a:pt x="3048" y="104"/>
                  </a:lnTo>
                  <a:lnTo>
                    <a:pt x="3010" y="86"/>
                  </a:lnTo>
                  <a:lnTo>
                    <a:pt x="2972" y="68"/>
                  </a:lnTo>
                  <a:lnTo>
                    <a:pt x="2934" y="54"/>
                  </a:lnTo>
                  <a:lnTo>
                    <a:pt x="2934" y="54"/>
                  </a:lnTo>
                  <a:lnTo>
                    <a:pt x="2894" y="42"/>
                  </a:lnTo>
                  <a:lnTo>
                    <a:pt x="2854" y="30"/>
                  </a:lnTo>
                  <a:lnTo>
                    <a:pt x="2814" y="22"/>
                  </a:lnTo>
                  <a:lnTo>
                    <a:pt x="2774" y="14"/>
                  </a:lnTo>
                  <a:lnTo>
                    <a:pt x="2734" y="8"/>
                  </a:lnTo>
                  <a:lnTo>
                    <a:pt x="2694" y="4"/>
                  </a:lnTo>
                  <a:lnTo>
                    <a:pt x="2656" y="2"/>
                  </a:lnTo>
                  <a:lnTo>
                    <a:pt x="2616" y="0"/>
                  </a:lnTo>
                  <a:lnTo>
                    <a:pt x="2616" y="0"/>
                  </a:lnTo>
                  <a:lnTo>
                    <a:pt x="2550" y="4"/>
                  </a:lnTo>
                  <a:lnTo>
                    <a:pt x="2486" y="10"/>
                  </a:lnTo>
                  <a:lnTo>
                    <a:pt x="2424" y="20"/>
                  </a:lnTo>
                  <a:lnTo>
                    <a:pt x="2362" y="36"/>
                  </a:lnTo>
                  <a:lnTo>
                    <a:pt x="2362" y="36"/>
                  </a:lnTo>
                  <a:lnTo>
                    <a:pt x="2304" y="54"/>
                  </a:lnTo>
                  <a:lnTo>
                    <a:pt x="2276" y="66"/>
                  </a:lnTo>
                  <a:lnTo>
                    <a:pt x="2248" y="78"/>
                  </a:lnTo>
                  <a:lnTo>
                    <a:pt x="2220" y="90"/>
                  </a:lnTo>
                  <a:lnTo>
                    <a:pt x="2194" y="104"/>
                  </a:lnTo>
                  <a:lnTo>
                    <a:pt x="2170" y="120"/>
                  </a:lnTo>
                  <a:lnTo>
                    <a:pt x="2146" y="136"/>
                  </a:lnTo>
                  <a:lnTo>
                    <a:pt x="2214" y="234"/>
                  </a:lnTo>
                  <a:lnTo>
                    <a:pt x="2300" y="150"/>
                  </a:lnTo>
                  <a:lnTo>
                    <a:pt x="2300" y="150"/>
                  </a:lnTo>
                  <a:lnTo>
                    <a:pt x="2278" y="130"/>
                  </a:lnTo>
                  <a:lnTo>
                    <a:pt x="2256" y="114"/>
                  </a:lnTo>
                  <a:lnTo>
                    <a:pt x="2234" y="98"/>
                  </a:lnTo>
                  <a:lnTo>
                    <a:pt x="2210" y="86"/>
                  </a:lnTo>
                  <a:lnTo>
                    <a:pt x="2210" y="86"/>
                  </a:lnTo>
                  <a:lnTo>
                    <a:pt x="2172" y="68"/>
                  </a:lnTo>
                  <a:lnTo>
                    <a:pt x="2132" y="54"/>
                  </a:lnTo>
                  <a:lnTo>
                    <a:pt x="2090" y="42"/>
                  </a:lnTo>
                  <a:lnTo>
                    <a:pt x="2046" y="32"/>
                  </a:lnTo>
                  <a:lnTo>
                    <a:pt x="2046" y="32"/>
                  </a:lnTo>
                  <a:lnTo>
                    <a:pt x="2002" y="26"/>
                  </a:lnTo>
                  <a:lnTo>
                    <a:pt x="1956" y="20"/>
                  </a:lnTo>
                  <a:lnTo>
                    <a:pt x="1908" y="16"/>
                  </a:lnTo>
                  <a:lnTo>
                    <a:pt x="1858" y="16"/>
                  </a:lnTo>
                  <a:lnTo>
                    <a:pt x="1858" y="16"/>
                  </a:lnTo>
                  <a:lnTo>
                    <a:pt x="1814" y="16"/>
                  </a:lnTo>
                  <a:lnTo>
                    <a:pt x="1770" y="20"/>
                  </a:lnTo>
                  <a:lnTo>
                    <a:pt x="1724" y="24"/>
                  </a:lnTo>
                  <a:lnTo>
                    <a:pt x="1678" y="30"/>
                  </a:lnTo>
                  <a:lnTo>
                    <a:pt x="1678" y="30"/>
                  </a:lnTo>
                  <a:lnTo>
                    <a:pt x="1610" y="44"/>
                  </a:lnTo>
                  <a:lnTo>
                    <a:pt x="1576" y="52"/>
                  </a:lnTo>
                  <a:lnTo>
                    <a:pt x="1544" y="60"/>
                  </a:lnTo>
                  <a:lnTo>
                    <a:pt x="1510" y="72"/>
                  </a:lnTo>
                  <a:lnTo>
                    <a:pt x="1476" y="84"/>
                  </a:lnTo>
                  <a:lnTo>
                    <a:pt x="1444" y="96"/>
                  </a:lnTo>
                  <a:lnTo>
                    <a:pt x="1412" y="112"/>
                  </a:lnTo>
                  <a:lnTo>
                    <a:pt x="1412" y="112"/>
                  </a:lnTo>
                  <a:lnTo>
                    <a:pt x="1380" y="128"/>
                  </a:lnTo>
                  <a:lnTo>
                    <a:pt x="1348" y="144"/>
                  </a:lnTo>
                  <a:lnTo>
                    <a:pt x="1318" y="164"/>
                  </a:lnTo>
                  <a:lnTo>
                    <a:pt x="1290" y="184"/>
                  </a:lnTo>
                  <a:lnTo>
                    <a:pt x="1290" y="184"/>
                  </a:lnTo>
                  <a:lnTo>
                    <a:pt x="1262" y="206"/>
                  </a:lnTo>
                  <a:lnTo>
                    <a:pt x="1234" y="230"/>
                  </a:lnTo>
                  <a:lnTo>
                    <a:pt x="1208" y="256"/>
                  </a:lnTo>
                  <a:lnTo>
                    <a:pt x="1184" y="284"/>
                  </a:lnTo>
                  <a:lnTo>
                    <a:pt x="1278" y="360"/>
                  </a:lnTo>
                  <a:lnTo>
                    <a:pt x="1260" y="242"/>
                  </a:lnTo>
                  <a:lnTo>
                    <a:pt x="1260" y="242"/>
                  </a:lnTo>
                  <a:lnTo>
                    <a:pt x="1218" y="250"/>
                  </a:lnTo>
                  <a:lnTo>
                    <a:pt x="1218" y="250"/>
                  </a:lnTo>
                  <a:lnTo>
                    <a:pt x="1176" y="262"/>
                  </a:lnTo>
                  <a:lnTo>
                    <a:pt x="1128" y="280"/>
                  </a:lnTo>
                  <a:lnTo>
                    <a:pt x="1128" y="280"/>
                  </a:lnTo>
                  <a:lnTo>
                    <a:pt x="1082" y="298"/>
                  </a:lnTo>
                  <a:lnTo>
                    <a:pt x="1034" y="318"/>
                  </a:lnTo>
                  <a:lnTo>
                    <a:pt x="984" y="344"/>
                  </a:lnTo>
                  <a:lnTo>
                    <a:pt x="930" y="372"/>
                  </a:lnTo>
                  <a:lnTo>
                    <a:pt x="930" y="372"/>
                  </a:lnTo>
                  <a:lnTo>
                    <a:pt x="890" y="396"/>
                  </a:lnTo>
                  <a:lnTo>
                    <a:pt x="848" y="422"/>
                  </a:lnTo>
                  <a:lnTo>
                    <a:pt x="806" y="450"/>
                  </a:lnTo>
                  <a:lnTo>
                    <a:pt x="766" y="482"/>
                  </a:lnTo>
                  <a:lnTo>
                    <a:pt x="724" y="514"/>
                  </a:lnTo>
                  <a:lnTo>
                    <a:pt x="684" y="548"/>
                  </a:lnTo>
                  <a:lnTo>
                    <a:pt x="644" y="586"/>
                  </a:lnTo>
                  <a:lnTo>
                    <a:pt x="606" y="626"/>
                  </a:lnTo>
                  <a:lnTo>
                    <a:pt x="606" y="626"/>
                  </a:lnTo>
                  <a:lnTo>
                    <a:pt x="568" y="666"/>
                  </a:lnTo>
                  <a:lnTo>
                    <a:pt x="534" y="712"/>
                  </a:lnTo>
                  <a:lnTo>
                    <a:pt x="502" y="758"/>
                  </a:lnTo>
                  <a:lnTo>
                    <a:pt x="470" y="808"/>
                  </a:lnTo>
                  <a:lnTo>
                    <a:pt x="470" y="808"/>
                  </a:lnTo>
                  <a:lnTo>
                    <a:pt x="444" y="860"/>
                  </a:lnTo>
                  <a:lnTo>
                    <a:pt x="420" y="914"/>
                  </a:lnTo>
                  <a:lnTo>
                    <a:pt x="400" y="972"/>
                  </a:lnTo>
                  <a:lnTo>
                    <a:pt x="392" y="1002"/>
                  </a:lnTo>
                  <a:lnTo>
                    <a:pt x="384" y="1032"/>
                  </a:lnTo>
                  <a:lnTo>
                    <a:pt x="502" y="1058"/>
                  </a:lnTo>
                  <a:lnTo>
                    <a:pt x="462" y="944"/>
                  </a:lnTo>
                  <a:lnTo>
                    <a:pt x="462" y="944"/>
                  </a:lnTo>
                  <a:lnTo>
                    <a:pt x="438" y="954"/>
                  </a:lnTo>
                  <a:lnTo>
                    <a:pt x="414" y="966"/>
                  </a:lnTo>
                  <a:lnTo>
                    <a:pt x="392" y="978"/>
                  </a:lnTo>
                  <a:lnTo>
                    <a:pt x="370" y="992"/>
                  </a:lnTo>
                  <a:lnTo>
                    <a:pt x="370" y="992"/>
                  </a:lnTo>
                  <a:lnTo>
                    <a:pt x="332" y="1018"/>
                  </a:lnTo>
                  <a:lnTo>
                    <a:pt x="296" y="1050"/>
                  </a:lnTo>
                  <a:lnTo>
                    <a:pt x="260" y="1084"/>
                  </a:lnTo>
                  <a:lnTo>
                    <a:pt x="228" y="1122"/>
                  </a:lnTo>
                  <a:lnTo>
                    <a:pt x="228" y="1122"/>
                  </a:lnTo>
                  <a:lnTo>
                    <a:pt x="204" y="1152"/>
                  </a:lnTo>
                  <a:lnTo>
                    <a:pt x="180" y="1184"/>
                  </a:lnTo>
                  <a:lnTo>
                    <a:pt x="158" y="1218"/>
                  </a:lnTo>
                  <a:lnTo>
                    <a:pt x="138" y="1254"/>
                  </a:lnTo>
                  <a:lnTo>
                    <a:pt x="118" y="1290"/>
                  </a:lnTo>
                  <a:lnTo>
                    <a:pt x="100" y="1330"/>
                  </a:lnTo>
                  <a:lnTo>
                    <a:pt x="82" y="1370"/>
                  </a:lnTo>
                  <a:lnTo>
                    <a:pt x="66" y="1412"/>
                  </a:lnTo>
                  <a:lnTo>
                    <a:pt x="66" y="1412"/>
                  </a:lnTo>
                  <a:lnTo>
                    <a:pt x="52" y="1456"/>
                  </a:lnTo>
                  <a:lnTo>
                    <a:pt x="38" y="1502"/>
                  </a:lnTo>
                  <a:lnTo>
                    <a:pt x="28" y="1548"/>
                  </a:lnTo>
                  <a:lnTo>
                    <a:pt x="18" y="1596"/>
                  </a:lnTo>
                  <a:lnTo>
                    <a:pt x="10" y="1644"/>
                  </a:lnTo>
                  <a:lnTo>
                    <a:pt x="6" y="1694"/>
                  </a:lnTo>
                  <a:lnTo>
                    <a:pt x="2" y="1746"/>
                  </a:lnTo>
                  <a:lnTo>
                    <a:pt x="0" y="1798"/>
                  </a:lnTo>
                  <a:lnTo>
                    <a:pt x="0" y="1798"/>
                  </a:lnTo>
                  <a:lnTo>
                    <a:pt x="2" y="1842"/>
                  </a:lnTo>
                  <a:lnTo>
                    <a:pt x="4" y="1888"/>
                  </a:lnTo>
                  <a:lnTo>
                    <a:pt x="8" y="1934"/>
                  </a:lnTo>
                  <a:lnTo>
                    <a:pt x="14" y="1980"/>
                  </a:lnTo>
                  <a:lnTo>
                    <a:pt x="22" y="2028"/>
                  </a:lnTo>
                  <a:lnTo>
                    <a:pt x="32" y="2074"/>
                  </a:lnTo>
                  <a:lnTo>
                    <a:pt x="44" y="2122"/>
                  </a:lnTo>
                  <a:lnTo>
                    <a:pt x="58" y="2172"/>
                  </a:lnTo>
                  <a:lnTo>
                    <a:pt x="172" y="2136"/>
                  </a:lnTo>
                  <a:lnTo>
                    <a:pt x="56" y="2110"/>
                  </a:lnTo>
                  <a:lnTo>
                    <a:pt x="56" y="2110"/>
                  </a:lnTo>
                  <a:lnTo>
                    <a:pt x="42" y="2168"/>
                  </a:lnTo>
                  <a:lnTo>
                    <a:pt x="42" y="2168"/>
                  </a:lnTo>
                  <a:lnTo>
                    <a:pt x="30" y="2214"/>
                  </a:lnTo>
                  <a:lnTo>
                    <a:pt x="20" y="2268"/>
                  </a:lnTo>
                  <a:lnTo>
                    <a:pt x="20" y="2268"/>
                  </a:lnTo>
                  <a:lnTo>
                    <a:pt x="16" y="2298"/>
                  </a:lnTo>
                  <a:lnTo>
                    <a:pt x="12" y="2330"/>
                  </a:lnTo>
                  <a:lnTo>
                    <a:pt x="10" y="2364"/>
                  </a:lnTo>
                  <a:lnTo>
                    <a:pt x="10" y="2402"/>
                  </a:lnTo>
                  <a:lnTo>
                    <a:pt x="10" y="2402"/>
                  </a:lnTo>
                  <a:lnTo>
                    <a:pt x="12" y="2458"/>
                  </a:lnTo>
                  <a:lnTo>
                    <a:pt x="16" y="2520"/>
                  </a:lnTo>
                  <a:lnTo>
                    <a:pt x="26" y="2590"/>
                  </a:lnTo>
                  <a:lnTo>
                    <a:pt x="38" y="2666"/>
                  </a:lnTo>
                  <a:lnTo>
                    <a:pt x="38" y="2666"/>
                  </a:lnTo>
                  <a:lnTo>
                    <a:pt x="56" y="2752"/>
                  </a:lnTo>
                  <a:lnTo>
                    <a:pt x="78" y="2848"/>
                  </a:lnTo>
                  <a:lnTo>
                    <a:pt x="104" y="2956"/>
                  </a:lnTo>
                  <a:lnTo>
                    <a:pt x="138" y="3074"/>
                  </a:lnTo>
                  <a:lnTo>
                    <a:pt x="138" y="3074"/>
                  </a:lnTo>
                  <a:lnTo>
                    <a:pt x="138" y="3074"/>
                  </a:lnTo>
                  <a:lnTo>
                    <a:pt x="150" y="3112"/>
                  </a:lnTo>
                  <a:lnTo>
                    <a:pt x="164" y="3148"/>
                  </a:lnTo>
                  <a:lnTo>
                    <a:pt x="180" y="3184"/>
                  </a:lnTo>
                  <a:lnTo>
                    <a:pt x="198" y="3222"/>
                  </a:lnTo>
                  <a:lnTo>
                    <a:pt x="198" y="3222"/>
                  </a:lnTo>
                  <a:lnTo>
                    <a:pt x="216" y="3256"/>
                  </a:lnTo>
                  <a:lnTo>
                    <a:pt x="236" y="3290"/>
                  </a:lnTo>
                  <a:lnTo>
                    <a:pt x="280" y="3360"/>
                  </a:lnTo>
                  <a:lnTo>
                    <a:pt x="330" y="3430"/>
                  </a:lnTo>
                  <a:lnTo>
                    <a:pt x="384" y="3500"/>
                  </a:lnTo>
                  <a:lnTo>
                    <a:pt x="384" y="3500"/>
                  </a:lnTo>
                  <a:lnTo>
                    <a:pt x="436" y="3562"/>
                  </a:lnTo>
                  <a:lnTo>
                    <a:pt x="490" y="3624"/>
                  </a:lnTo>
                  <a:lnTo>
                    <a:pt x="548" y="3686"/>
                  </a:lnTo>
                  <a:lnTo>
                    <a:pt x="608" y="3748"/>
                  </a:lnTo>
                  <a:lnTo>
                    <a:pt x="670" y="3810"/>
                  </a:lnTo>
                  <a:lnTo>
                    <a:pt x="734" y="3872"/>
                  </a:lnTo>
                  <a:lnTo>
                    <a:pt x="798" y="3934"/>
                  </a:lnTo>
                  <a:lnTo>
                    <a:pt x="866" y="3994"/>
                  </a:lnTo>
                  <a:lnTo>
                    <a:pt x="866" y="3994"/>
                  </a:lnTo>
                  <a:lnTo>
                    <a:pt x="968" y="4084"/>
                  </a:lnTo>
                  <a:lnTo>
                    <a:pt x="1070" y="4174"/>
                  </a:lnTo>
                  <a:lnTo>
                    <a:pt x="1174" y="4260"/>
                  </a:lnTo>
                  <a:lnTo>
                    <a:pt x="1276" y="4342"/>
                  </a:lnTo>
                  <a:lnTo>
                    <a:pt x="1376" y="4422"/>
                  </a:lnTo>
                  <a:lnTo>
                    <a:pt x="1472" y="4498"/>
                  </a:lnTo>
                  <a:lnTo>
                    <a:pt x="1654" y="4634"/>
                  </a:lnTo>
                  <a:lnTo>
                    <a:pt x="1654" y="4634"/>
                  </a:lnTo>
                  <a:lnTo>
                    <a:pt x="1808" y="4748"/>
                  </a:lnTo>
                  <a:lnTo>
                    <a:pt x="1930" y="4836"/>
                  </a:lnTo>
                  <a:lnTo>
                    <a:pt x="2040" y="4912"/>
                  </a:lnTo>
                  <a:lnTo>
                    <a:pt x="2040" y="4912"/>
                  </a:lnTo>
                  <a:lnTo>
                    <a:pt x="2050" y="4918"/>
                  </a:lnTo>
                  <a:lnTo>
                    <a:pt x="2062" y="4924"/>
                  </a:lnTo>
                  <a:lnTo>
                    <a:pt x="2072" y="4928"/>
                  </a:lnTo>
                  <a:lnTo>
                    <a:pt x="2084" y="4930"/>
                  </a:lnTo>
                  <a:lnTo>
                    <a:pt x="2096" y="4932"/>
                  </a:lnTo>
                  <a:lnTo>
                    <a:pt x="2108" y="4932"/>
                  </a:lnTo>
                  <a:lnTo>
                    <a:pt x="2120" y="4932"/>
                  </a:lnTo>
                  <a:lnTo>
                    <a:pt x="2132" y="4930"/>
                  </a:lnTo>
                  <a:lnTo>
                    <a:pt x="2108" y="48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48"/>
            <p:cNvSpPr/>
            <p:nvPr/>
          </p:nvSpPr>
          <p:spPr>
            <a:xfrm>
              <a:off x="628560" y="527040"/>
              <a:ext cx="6613560" cy="7445520"/>
            </a:xfrm>
            <a:custGeom>
              <a:avLst/>
              <a:gdLst>
                <a:gd name="textAreaLeft" fmla="*/ 0 w 6613560"/>
                <a:gd name="textAreaRight" fmla="*/ 6613920 w 6613560"/>
                <a:gd name="textAreaTop" fmla="*/ 0 h 7445520"/>
                <a:gd name="textAreaBottom" fmla="*/ 7445880 h 7445520"/>
              </a:gdLst>
              <a:ahLst/>
              <a:rect l="textAreaLeft" t="textAreaTop" r="textAreaRight" b="textAreaBottom"/>
              <a:pathLst>
                <a:path w="4166" h="4690">
                  <a:moveTo>
                    <a:pt x="3152" y="360"/>
                  </a:moveTo>
                  <a:lnTo>
                    <a:pt x="3152" y="360"/>
                  </a:lnTo>
                  <a:lnTo>
                    <a:pt x="3130" y="322"/>
                  </a:lnTo>
                  <a:lnTo>
                    <a:pt x="3106" y="286"/>
                  </a:lnTo>
                  <a:lnTo>
                    <a:pt x="3078" y="252"/>
                  </a:lnTo>
                  <a:lnTo>
                    <a:pt x="3050" y="222"/>
                  </a:lnTo>
                  <a:lnTo>
                    <a:pt x="3022" y="192"/>
                  </a:lnTo>
                  <a:lnTo>
                    <a:pt x="2990" y="166"/>
                  </a:lnTo>
                  <a:lnTo>
                    <a:pt x="2958" y="142"/>
                  </a:lnTo>
                  <a:lnTo>
                    <a:pt x="2924" y="118"/>
                  </a:lnTo>
                  <a:lnTo>
                    <a:pt x="2890" y="98"/>
                  </a:lnTo>
                  <a:lnTo>
                    <a:pt x="2856" y="80"/>
                  </a:lnTo>
                  <a:lnTo>
                    <a:pt x="2820" y="64"/>
                  </a:lnTo>
                  <a:lnTo>
                    <a:pt x="2784" y="48"/>
                  </a:lnTo>
                  <a:lnTo>
                    <a:pt x="2746" y="36"/>
                  </a:lnTo>
                  <a:lnTo>
                    <a:pt x="2708" y="26"/>
                  </a:lnTo>
                  <a:lnTo>
                    <a:pt x="2670" y="16"/>
                  </a:lnTo>
                  <a:lnTo>
                    <a:pt x="2632" y="10"/>
                  </a:lnTo>
                  <a:lnTo>
                    <a:pt x="2594" y="4"/>
                  </a:lnTo>
                  <a:lnTo>
                    <a:pt x="2556" y="2"/>
                  </a:lnTo>
                  <a:lnTo>
                    <a:pt x="2520" y="0"/>
                  </a:lnTo>
                  <a:lnTo>
                    <a:pt x="2482" y="0"/>
                  </a:lnTo>
                  <a:lnTo>
                    <a:pt x="2444" y="0"/>
                  </a:lnTo>
                  <a:lnTo>
                    <a:pt x="2408" y="4"/>
                  </a:lnTo>
                  <a:lnTo>
                    <a:pt x="2372" y="8"/>
                  </a:lnTo>
                  <a:lnTo>
                    <a:pt x="2336" y="14"/>
                  </a:lnTo>
                  <a:lnTo>
                    <a:pt x="2302" y="22"/>
                  </a:lnTo>
                  <a:lnTo>
                    <a:pt x="2268" y="30"/>
                  </a:lnTo>
                  <a:lnTo>
                    <a:pt x="2236" y="40"/>
                  </a:lnTo>
                  <a:lnTo>
                    <a:pt x="2206" y="52"/>
                  </a:lnTo>
                  <a:lnTo>
                    <a:pt x="2176" y="66"/>
                  </a:lnTo>
                  <a:lnTo>
                    <a:pt x="2146" y="80"/>
                  </a:lnTo>
                  <a:lnTo>
                    <a:pt x="2120" y="96"/>
                  </a:lnTo>
                  <a:lnTo>
                    <a:pt x="2094" y="112"/>
                  </a:lnTo>
                  <a:lnTo>
                    <a:pt x="2094" y="112"/>
                  </a:lnTo>
                  <a:lnTo>
                    <a:pt x="2080" y="98"/>
                  </a:lnTo>
                  <a:lnTo>
                    <a:pt x="2064" y="86"/>
                  </a:lnTo>
                  <a:lnTo>
                    <a:pt x="2044" y="74"/>
                  </a:lnTo>
                  <a:lnTo>
                    <a:pt x="2022" y="64"/>
                  </a:lnTo>
                  <a:lnTo>
                    <a:pt x="2000" y="54"/>
                  </a:lnTo>
                  <a:lnTo>
                    <a:pt x="1974" y="46"/>
                  </a:lnTo>
                  <a:lnTo>
                    <a:pt x="1948" y="38"/>
                  </a:lnTo>
                  <a:lnTo>
                    <a:pt x="1920" y="32"/>
                  </a:lnTo>
                  <a:lnTo>
                    <a:pt x="1890" y="26"/>
                  </a:lnTo>
                  <a:lnTo>
                    <a:pt x="1860" y="22"/>
                  </a:lnTo>
                  <a:lnTo>
                    <a:pt x="1794" y="16"/>
                  </a:lnTo>
                  <a:lnTo>
                    <a:pt x="1726" y="14"/>
                  </a:lnTo>
                  <a:lnTo>
                    <a:pt x="1692" y="14"/>
                  </a:lnTo>
                  <a:lnTo>
                    <a:pt x="1658" y="16"/>
                  </a:lnTo>
                  <a:lnTo>
                    <a:pt x="1622" y="20"/>
                  </a:lnTo>
                  <a:lnTo>
                    <a:pt x="1586" y="26"/>
                  </a:lnTo>
                  <a:lnTo>
                    <a:pt x="1550" y="32"/>
                  </a:lnTo>
                  <a:lnTo>
                    <a:pt x="1516" y="38"/>
                  </a:lnTo>
                  <a:lnTo>
                    <a:pt x="1480" y="48"/>
                  </a:lnTo>
                  <a:lnTo>
                    <a:pt x="1446" y="58"/>
                  </a:lnTo>
                  <a:lnTo>
                    <a:pt x="1412" y="68"/>
                  </a:lnTo>
                  <a:lnTo>
                    <a:pt x="1380" y="82"/>
                  </a:lnTo>
                  <a:lnTo>
                    <a:pt x="1348" y="96"/>
                  </a:lnTo>
                  <a:lnTo>
                    <a:pt x="1316" y="112"/>
                  </a:lnTo>
                  <a:lnTo>
                    <a:pt x="1286" y="128"/>
                  </a:lnTo>
                  <a:lnTo>
                    <a:pt x="1258" y="148"/>
                  </a:lnTo>
                  <a:lnTo>
                    <a:pt x="1230" y="168"/>
                  </a:lnTo>
                  <a:lnTo>
                    <a:pt x="1204" y="190"/>
                  </a:lnTo>
                  <a:lnTo>
                    <a:pt x="1180" y="214"/>
                  </a:lnTo>
                  <a:lnTo>
                    <a:pt x="1158" y="238"/>
                  </a:lnTo>
                  <a:lnTo>
                    <a:pt x="1158" y="238"/>
                  </a:lnTo>
                  <a:lnTo>
                    <a:pt x="1128" y="244"/>
                  </a:lnTo>
                  <a:lnTo>
                    <a:pt x="1090" y="256"/>
                  </a:lnTo>
                  <a:lnTo>
                    <a:pt x="1044" y="272"/>
                  </a:lnTo>
                  <a:lnTo>
                    <a:pt x="994" y="292"/>
                  </a:lnTo>
                  <a:lnTo>
                    <a:pt x="938" y="318"/>
                  </a:lnTo>
                  <a:lnTo>
                    <a:pt x="878" y="350"/>
                  </a:lnTo>
                  <a:lnTo>
                    <a:pt x="818" y="386"/>
                  </a:lnTo>
                  <a:lnTo>
                    <a:pt x="756" y="426"/>
                  </a:lnTo>
                  <a:lnTo>
                    <a:pt x="694" y="472"/>
                  </a:lnTo>
                  <a:lnTo>
                    <a:pt x="664" y="498"/>
                  </a:lnTo>
                  <a:lnTo>
                    <a:pt x="634" y="524"/>
                  </a:lnTo>
                  <a:lnTo>
                    <a:pt x="606" y="552"/>
                  </a:lnTo>
                  <a:lnTo>
                    <a:pt x="578" y="580"/>
                  </a:lnTo>
                  <a:lnTo>
                    <a:pt x="552" y="610"/>
                  </a:lnTo>
                  <a:lnTo>
                    <a:pt x="526" y="642"/>
                  </a:lnTo>
                  <a:lnTo>
                    <a:pt x="500" y="674"/>
                  </a:lnTo>
                  <a:lnTo>
                    <a:pt x="478" y="708"/>
                  </a:lnTo>
                  <a:lnTo>
                    <a:pt x="456" y="742"/>
                  </a:lnTo>
                  <a:lnTo>
                    <a:pt x="438" y="778"/>
                  </a:lnTo>
                  <a:lnTo>
                    <a:pt x="420" y="816"/>
                  </a:lnTo>
                  <a:lnTo>
                    <a:pt x="404" y="854"/>
                  </a:lnTo>
                  <a:lnTo>
                    <a:pt x="392" y="894"/>
                  </a:lnTo>
                  <a:lnTo>
                    <a:pt x="382" y="936"/>
                  </a:lnTo>
                  <a:lnTo>
                    <a:pt x="382" y="936"/>
                  </a:lnTo>
                  <a:lnTo>
                    <a:pt x="360" y="944"/>
                  </a:lnTo>
                  <a:lnTo>
                    <a:pt x="340" y="954"/>
                  </a:lnTo>
                  <a:lnTo>
                    <a:pt x="318" y="968"/>
                  </a:lnTo>
                  <a:lnTo>
                    <a:pt x="296" y="982"/>
                  </a:lnTo>
                  <a:lnTo>
                    <a:pt x="276" y="998"/>
                  </a:lnTo>
                  <a:lnTo>
                    <a:pt x="254" y="1018"/>
                  </a:lnTo>
                  <a:lnTo>
                    <a:pt x="234" y="1038"/>
                  </a:lnTo>
                  <a:lnTo>
                    <a:pt x="212" y="1060"/>
                  </a:lnTo>
                  <a:lnTo>
                    <a:pt x="192" y="1084"/>
                  </a:lnTo>
                  <a:lnTo>
                    <a:pt x="174" y="1110"/>
                  </a:lnTo>
                  <a:lnTo>
                    <a:pt x="154" y="1138"/>
                  </a:lnTo>
                  <a:lnTo>
                    <a:pt x="136" y="1168"/>
                  </a:lnTo>
                  <a:lnTo>
                    <a:pt x="118" y="1198"/>
                  </a:lnTo>
                  <a:lnTo>
                    <a:pt x="102" y="1230"/>
                  </a:lnTo>
                  <a:lnTo>
                    <a:pt x="86" y="1264"/>
                  </a:lnTo>
                  <a:lnTo>
                    <a:pt x="72" y="1298"/>
                  </a:lnTo>
                  <a:lnTo>
                    <a:pt x="58" y="1336"/>
                  </a:lnTo>
                  <a:lnTo>
                    <a:pt x="46" y="1374"/>
                  </a:lnTo>
                  <a:lnTo>
                    <a:pt x="34" y="1412"/>
                  </a:lnTo>
                  <a:lnTo>
                    <a:pt x="24" y="1452"/>
                  </a:lnTo>
                  <a:lnTo>
                    <a:pt x="16" y="1494"/>
                  </a:lnTo>
                  <a:lnTo>
                    <a:pt x="10" y="1538"/>
                  </a:lnTo>
                  <a:lnTo>
                    <a:pt x="6" y="1580"/>
                  </a:lnTo>
                  <a:lnTo>
                    <a:pt x="2" y="1626"/>
                  </a:lnTo>
                  <a:lnTo>
                    <a:pt x="0" y="1672"/>
                  </a:lnTo>
                  <a:lnTo>
                    <a:pt x="2" y="1718"/>
                  </a:lnTo>
                  <a:lnTo>
                    <a:pt x="4" y="1766"/>
                  </a:lnTo>
                  <a:lnTo>
                    <a:pt x="10" y="1814"/>
                  </a:lnTo>
                  <a:lnTo>
                    <a:pt x="16" y="1862"/>
                  </a:lnTo>
                  <a:lnTo>
                    <a:pt x="26" y="1912"/>
                  </a:lnTo>
                  <a:lnTo>
                    <a:pt x="38" y="1962"/>
                  </a:lnTo>
                  <a:lnTo>
                    <a:pt x="52" y="2014"/>
                  </a:lnTo>
                  <a:lnTo>
                    <a:pt x="52" y="2014"/>
                  </a:lnTo>
                  <a:lnTo>
                    <a:pt x="38" y="2076"/>
                  </a:lnTo>
                  <a:lnTo>
                    <a:pt x="24" y="2138"/>
                  </a:lnTo>
                  <a:lnTo>
                    <a:pt x="18" y="2172"/>
                  </a:lnTo>
                  <a:lnTo>
                    <a:pt x="14" y="2208"/>
                  </a:lnTo>
                  <a:lnTo>
                    <a:pt x="10" y="2246"/>
                  </a:lnTo>
                  <a:lnTo>
                    <a:pt x="10" y="2292"/>
                  </a:lnTo>
                  <a:lnTo>
                    <a:pt x="12" y="2342"/>
                  </a:lnTo>
                  <a:lnTo>
                    <a:pt x="18" y="2398"/>
                  </a:lnTo>
                  <a:lnTo>
                    <a:pt x="26" y="2460"/>
                  </a:lnTo>
                  <a:lnTo>
                    <a:pt x="38" y="2532"/>
                  </a:lnTo>
                  <a:lnTo>
                    <a:pt x="54" y="2614"/>
                  </a:lnTo>
                  <a:lnTo>
                    <a:pt x="76" y="2704"/>
                  </a:lnTo>
                  <a:lnTo>
                    <a:pt x="102" y="2806"/>
                  </a:lnTo>
                  <a:lnTo>
                    <a:pt x="134" y="2920"/>
                  </a:lnTo>
                  <a:lnTo>
                    <a:pt x="134" y="2920"/>
                  </a:lnTo>
                  <a:lnTo>
                    <a:pt x="142" y="2950"/>
                  </a:lnTo>
                  <a:lnTo>
                    <a:pt x="154" y="2980"/>
                  </a:lnTo>
                  <a:lnTo>
                    <a:pt x="168" y="3012"/>
                  </a:lnTo>
                  <a:lnTo>
                    <a:pt x="184" y="3044"/>
                  </a:lnTo>
                  <a:lnTo>
                    <a:pt x="202" y="3078"/>
                  </a:lnTo>
                  <a:lnTo>
                    <a:pt x="222" y="3110"/>
                  </a:lnTo>
                  <a:lnTo>
                    <a:pt x="266" y="3178"/>
                  </a:lnTo>
                  <a:lnTo>
                    <a:pt x="316" y="3248"/>
                  </a:lnTo>
                  <a:lnTo>
                    <a:pt x="372" y="3320"/>
                  </a:lnTo>
                  <a:lnTo>
                    <a:pt x="434" y="3392"/>
                  </a:lnTo>
                  <a:lnTo>
                    <a:pt x="500" y="3466"/>
                  </a:lnTo>
                  <a:lnTo>
                    <a:pt x="570" y="3540"/>
                  </a:lnTo>
                  <a:lnTo>
                    <a:pt x="644" y="3614"/>
                  </a:lnTo>
                  <a:lnTo>
                    <a:pt x="722" y="3688"/>
                  </a:lnTo>
                  <a:lnTo>
                    <a:pt x="800" y="3760"/>
                  </a:lnTo>
                  <a:lnTo>
                    <a:pt x="882" y="3834"/>
                  </a:lnTo>
                  <a:lnTo>
                    <a:pt x="964" y="3906"/>
                  </a:lnTo>
                  <a:lnTo>
                    <a:pt x="1046" y="3976"/>
                  </a:lnTo>
                  <a:lnTo>
                    <a:pt x="1130" y="4044"/>
                  </a:lnTo>
                  <a:lnTo>
                    <a:pt x="1292" y="4176"/>
                  </a:lnTo>
                  <a:lnTo>
                    <a:pt x="1450" y="4298"/>
                  </a:lnTo>
                  <a:lnTo>
                    <a:pt x="1594" y="4408"/>
                  </a:lnTo>
                  <a:lnTo>
                    <a:pt x="1724" y="4504"/>
                  </a:lnTo>
                  <a:lnTo>
                    <a:pt x="1832" y="4582"/>
                  </a:lnTo>
                  <a:lnTo>
                    <a:pt x="1914" y="4640"/>
                  </a:lnTo>
                  <a:lnTo>
                    <a:pt x="1988" y="4690"/>
                  </a:lnTo>
                  <a:lnTo>
                    <a:pt x="2406" y="4598"/>
                  </a:lnTo>
                  <a:lnTo>
                    <a:pt x="2406" y="4598"/>
                  </a:lnTo>
                  <a:lnTo>
                    <a:pt x="2660" y="4428"/>
                  </a:lnTo>
                  <a:lnTo>
                    <a:pt x="2880" y="4280"/>
                  </a:lnTo>
                  <a:lnTo>
                    <a:pt x="3038" y="4170"/>
                  </a:lnTo>
                  <a:lnTo>
                    <a:pt x="3086" y="4136"/>
                  </a:lnTo>
                  <a:lnTo>
                    <a:pt x="3108" y="4118"/>
                  </a:lnTo>
                  <a:lnTo>
                    <a:pt x="3108" y="4118"/>
                  </a:lnTo>
                  <a:lnTo>
                    <a:pt x="3126" y="4092"/>
                  </a:lnTo>
                  <a:lnTo>
                    <a:pt x="3162" y="4038"/>
                  </a:lnTo>
                  <a:lnTo>
                    <a:pt x="3272" y="3862"/>
                  </a:lnTo>
                  <a:lnTo>
                    <a:pt x="3582" y="3354"/>
                  </a:lnTo>
                  <a:lnTo>
                    <a:pt x="4022" y="2630"/>
                  </a:lnTo>
                  <a:lnTo>
                    <a:pt x="4022" y="2630"/>
                  </a:lnTo>
                  <a:lnTo>
                    <a:pt x="4040" y="2602"/>
                  </a:lnTo>
                  <a:lnTo>
                    <a:pt x="4056" y="2570"/>
                  </a:lnTo>
                  <a:lnTo>
                    <a:pt x="4072" y="2536"/>
                  </a:lnTo>
                  <a:lnTo>
                    <a:pt x="4086" y="2498"/>
                  </a:lnTo>
                  <a:lnTo>
                    <a:pt x="4100" y="2458"/>
                  </a:lnTo>
                  <a:lnTo>
                    <a:pt x="4112" y="2416"/>
                  </a:lnTo>
                  <a:lnTo>
                    <a:pt x="4124" y="2372"/>
                  </a:lnTo>
                  <a:lnTo>
                    <a:pt x="4134" y="2326"/>
                  </a:lnTo>
                  <a:lnTo>
                    <a:pt x="4142" y="2278"/>
                  </a:lnTo>
                  <a:lnTo>
                    <a:pt x="4148" y="2228"/>
                  </a:lnTo>
                  <a:lnTo>
                    <a:pt x="4154" y="2178"/>
                  </a:lnTo>
                  <a:lnTo>
                    <a:pt x="4160" y="2126"/>
                  </a:lnTo>
                  <a:lnTo>
                    <a:pt x="4162" y="2074"/>
                  </a:lnTo>
                  <a:lnTo>
                    <a:pt x="4164" y="2022"/>
                  </a:lnTo>
                  <a:lnTo>
                    <a:pt x="4166" y="1968"/>
                  </a:lnTo>
                  <a:lnTo>
                    <a:pt x="4164" y="1916"/>
                  </a:lnTo>
                  <a:lnTo>
                    <a:pt x="4162" y="1864"/>
                  </a:lnTo>
                  <a:lnTo>
                    <a:pt x="4158" y="1812"/>
                  </a:lnTo>
                  <a:lnTo>
                    <a:pt x="4152" y="1760"/>
                  </a:lnTo>
                  <a:lnTo>
                    <a:pt x="4146" y="1710"/>
                  </a:lnTo>
                  <a:lnTo>
                    <a:pt x="4138" y="1660"/>
                  </a:lnTo>
                  <a:lnTo>
                    <a:pt x="4128" y="1612"/>
                  </a:lnTo>
                  <a:lnTo>
                    <a:pt x="4116" y="1566"/>
                  </a:lnTo>
                  <a:lnTo>
                    <a:pt x="4104" y="1522"/>
                  </a:lnTo>
                  <a:lnTo>
                    <a:pt x="4088" y="1480"/>
                  </a:lnTo>
                  <a:lnTo>
                    <a:pt x="4072" y="1440"/>
                  </a:lnTo>
                  <a:lnTo>
                    <a:pt x="4054" y="1404"/>
                  </a:lnTo>
                  <a:lnTo>
                    <a:pt x="4034" y="1370"/>
                  </a:lnTo>
                  <a:lnTo>
                    <a:pt x="4014" y="1338"/>
                  </a:lnTo>
                  <a:lnTo>
                    <a:pt x="3990" y="1310"/>
                  </a:lnTo>
                  <a:lnTo>
                    <a:pt x="3966" y="1286"/>
                  </a:lnTo>
                  <a:lnTo>
                    <a:pt x="3940" y="1264"/>
                  </a:lnTo>
                  <a:lnTo>
                    <a:pt x="3940" y="1264"/>
                  </a:lnTo>
                  <a:lnTo>
                    <a:pt x="3938" y="1232"/>
                  </a:lnTo>
                  <a:lnTo>
                    <a:pt x="3934" y="1198"/>
                  </a:lnTo>
                  <a:lnTo>
                    <a:pt x="3928" y="1164"/>
                  </a:lnTo>
                  <a:lnTo>
                    <a:pt x="3920" y="1130"/>
                  </a:lnTo>
                  <a:lnTo>
                    <a:pt x="3910" y="1094"/>
                  </a:lnTo>
                  <a:lnTo>
                    <a:pt x="3898" y="1058"/>
                  </a:lnTo>
                  <a:lnTo>
                    <a:pt x="3884" y="1022"/>
                  </a:lnTo>
                  <a:lnTo>
                    <a:pt x="3868" y="986"/>
                  </a:lnTo>
                  <a:lnTo>
                    <a:pt x="3850" y="950"/>
                  </a:lnTo>
                  <a:lnTo>
                    <a:pt x="3830" y="914"/>
                  </a:lnTo>
                  <a:lnTo>
                    <a:pt x="3810" y="878"/>
                  </a:lnTo>
                  <a:lnTo>
                    <a:pt x="3786" y="842"/>
                  </a:lnTo>
                  <a:lnTo>
                    <a:pt x="3762" y="806"/>
                  </a:lnTo>
                  <a:lnTo>
                    <a:pt x="3736" y="772"/>
                  </a:lnTo>
                  <a:lnTo>
                    <a:pt x="3710" y="736"/>
                  </a:lnTo>
                  <a:lnTo>
                    <a:pt x="3682" y="704"/>
                  </a:lnTo>
                  <a:lnTo>
                    <a:pt x="3652" y="670"/>
                  </a:lnTo>
                  <a:lnTo>
                    <a:pt x="3622" y="640"/>
                  </a:lnTo>
                  <a:lnTo>
                    <a:pt x="3592" y="608"/>
                  </a:lnTo>
                  <a:lnTo>
                    <a:pt x="3560" y="578"/>
                  </a:lnTo>
                  <a:lnTo>
                    <a:pt x="3528" y="550"/>
                  </a:lnTo>
                  <a:lnTo>
                    <a:pt x="3494" y="524"/>
                  </a:lnTo>
                  <a:lnTo>
                    <a:pt x="3462" y="498"/>
                  </a:lnTo>
                  <a:lnTo>
                    <a:pt x="3428" y="476"/>
                  </a:lnTo>
                  <a:lnTo>
                    <a:pt x="3394" y="454"/>
                  </a:lnTo>
                  <a:lnTo>
                    <a:pt x="3358" y="434"/>
                  </a:lnTo>
                  <a:lnTo>
                    <a:pt x="3324" y="416"/>
                  </a:lnTo>
                  <a:lnTo>
                    <a:pt x="3290" y="400"/>
                  </a:lnTo>
                  <a:lnTo>
                    <a:pt x="3256" y="386"/>
                  </a:lnTo>
                  <a:lnTo>
                    <a:pt x="3220" y="374"/>
                  </a:lnTo>
                  <a:lnTo>
                    <a:pt x="3186" y="366"/>
                  </a:lnTo>
                  <a:lnTo>
                    <a:pt x="3152" y="360"/>
                  </a:lnTo>
                  <a:lnTo>
                    <a:pt x="3152" y="360"/>
                  </a:lnTo>
                  <a:close/>
                </a:path>
              </a:pathLst>
            </a:custGeom>
            <a:solidFill>
              <a:srgbClr val="00a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49"/>
            <p:cNvSpPr/>
            <p:nvPr/>
          </p:nvSpPr>
          <p:spPr>
            <a:xfrm>
              <a:off x="438120" y="333360"/>
              <a:ext cx="6994440" cy="7829640"/>
            </a:xfrm>
            <a:custGeom>
              <a:avLst/>
              <a:gdLst>
                <a:gd name="textAreaLeft" fmla="*/ 0 w 6994440"/>
                <a:gd name="textAreaRight" fmla="*/ 6994800 w 6994440"/>
                <a:gd name="textAreaTop" fmla="*/ 0 h 7829640"/>
                <a:gd name="textAreaBottom" fmla="*/ 7830000 h 7829640"/>
              </a:gdLst>
              <a:ahLst/>
              <a:rect l="textAreaLeft" t="textAreaTop" r="textAreaRight" b="textAreaBottom"/>
              <a:pathLst>
                <a:path w="4406" h="4932">
                  <a:moveTo>
                    <a:pt x="3272" y="482"/>
                  </a:moveTo>
                  <a:lnTo>
                    <a:pt x="3378" y="422"/>
                  </a:lnTo>
                  <a:lnTo>
                    <a:pt x="3378" y="422"/>
                  </a:lnTo>
                  <a:lnTo>
                    <a:pt x="3362" y="394"/>
                  </a:lnTo>
                  <a:lnTo>
                    <a:pt x="3344" y="368"/>
                  </a:lnTo>
                  <a:lnTo>
                    <a:pt x="3326" y="342"/>
                  </a:lnTo>
                  <a:lnTo>
                    <a:pt x="3308" y="318"/>
                  </a:lnTo>
                  <a:lnTo>
                    <a:pt x="3268" y="272"/>
                  </a:lnTo>
                  <a:lnTo>
                    <a:pt x="3226" y="230"/>
                  </a:lnTo>
                  <a:lnTo>
                    <a:pt x="3226" y="230"/>
                  </a:lnTo>
                  <a:lnTo>
                    <a:pt x="3192" y="200"/>
                  </a:lnTo>
                  <a:lnTo>
                    <a:pt x="3158" y="172"/>
                  </a:lnTo>
                  <a:lnTo>
                    <a:pt x="3122" y="148"/>
                  </a:lnTo>
                  <a:lnTo>
                    <a:pt x="3086" y="126"/>
                  </a:lnTo>
                  <a:lnTo>
                    <a:pt x="3048" y="104"/>
                  </a:lnTo>
                  <a:lnTo>
                    <a:pt x="3010" y="86"/>
                  </a:lnTo>
                  <a:lnTo>
                    <a:pt x="2972" y="68"/>
                  </a:lnTo>
                  <a:lnTo>
                    <a:pt x="2934" y="54"/>
                  </a:lnTo>
                  <a:lnTo>
                    <a:pt x="2934" y="54"/>
                  </a:lnTo>
                  <a:lnTo>
                    <a:pt x="2894" y="42"/>
                  </a:lnTo>
                  <a:lnTo>
                    <a:pt x="2854" y="30"/>
                  </a:lnTo>
                  <a:lnTo>
                    <a:pt x="2814" y="22"/>
                  </a:lnTo>
                  <a:lnTo>
                    <a:pt x="2774" y="14"/>
                  </a:lnTo>
                  <a:lnTo>
                    <a:pt x="2734" y="8"/>
                  </a:lnTo>
                  <a:lnTo>
                    <a:pt x="2694" y="4"/>
                  </a:lnTo>
                  <a:lnTo>
                    <a:pt x="2656" y="2"/>
                  </a:lnTo>
                  <a:lnTo>
                    <a:pt x="2616" y="0"/>
                  </a:lnTo>
                  <a:lnTo>
                    <a:pt x="2616" y="0"/>
                  </a:lnTo>
                  <a:lnTo>
                    <a:pt x="2550" y="4"/>
                  </a:lnTo>
                  <a:lnTo>
                    <a:pt x="2486" y="10"/>
                  </a:lnTo>
                  <a:lnTo>
                    <a:pt x="2424" y="20"/>
                  </a:lnTo>
                  <a:lnTo>
                    <a:pt x="2362" y="36"/>
                  </a:lnTo>
                  <a:lnTo>
                    <a:pt x="2362" y="36"/>
                  </a:lnTo>
                  <a:lnTo>
                    <a:pt x="2304" y="54"/>
                  </a:lnTo>
                  <a:lnTo>
                    <a:pt x="2276" y="66"/>
                  </a:lnTo>
                  <a:lnTo>
                    <a:pt x="2248" y="78"/>
                  </a:lnTo>
                  <a:lnTo>
                    <a:pt x="2220" y="90"/>
                  </a:lnTo>
                  <a:lnTo>
                    <a:pt x="2194" y="104"/>
                  </a:lnTo>
                  <a:lnTo>
                    <a:pt x="2170" y="120"/>
                  </a:lnTo>
                  <a:lnTo>
                    <a:pt x="2146" y="136"/>
                  </a:lnTo>
                  <a:lnTo>
                    <a:pt x="2214" y="234"/>
                  </a:lnTo>
                  <a:lnTo>
                    <a:pt x="2300" y="150"/>
                  </a:lnTo>
                  <a:lnTo>
                    <a:pt x="2300" y="150"/>
                  </a:lnTo>
                  <a:lnTo>
                    <a:pt x="2278" y="130"/>
                  </a:lnTo>
                  <a:lnTo>
                    <a:pt x="2256" y="114"/>
                  </a:lnTo>
                  <a:lnTo>
                    <a:pt x="2234" y="98"/>
                  </a:lnTo>
                  <a:lnTo>
                    <a:pt x="2210" y="86"/>
                  </a:lnTo>
                  <a:lnTo>
                    <a:pt x="2210" y="86"/>
                  </a:lnTo>
                  <a:lnTo>
                    <a:pt x="2172" y="68"/>
                  </a:lnTo>
                  <a:lnTo>
                    <a:pt x="2132" y="54"/>
                  </a:lnTo>
                  <a:lnTo>
                    <a:pt x="2090" y="42"/>
                  </a:lnTo>
                  <a:lnTo>
                    <a:pt x="2046" y="32"/>
                  </a:lnTo>
                  <a:lnTo>
                    <a:pt x="2046" y="32"/>
                  </a:lnTo>
                  <a:lnTo>
                    <a:pt x="2002" y="26"/>
                  </a:lnTo>
                  <a:lnTo>
                    <a:pt x="1956" y="20"/>
                  </a:lnTo>
                  <a:lnTo>
                    <a:pt x="1908" y="16"/>
                  </a:lnTo>
                  <a:lnTo>
                    <a:pt x="1858" y="16"/>
                  </a:lnTo>
                  <a:lnTo>
                    <a:pt x="1858" y="16"/>
                  </a:lnTo>
                  <a:lnTo>
                    <a:pt x="1814" y="16"/>
                  </a:lnTo>
                  <a:lnTo>
                    <a:pt x="1770" y="20"/>
                  </a:lnTo>
                  <a:lnTo>
                    <a:pt x="1724" y="24"/>
                  </a:lnTo>
                  <a:lnTo>
                    <a:pt x="1678" y="30"/>
                  </a:lnTo>
                  <a:lnTo>
                    <a:pt x="1678" y="30"/>
                  </a:lnTo>
                  <a:lnTo>
                    <a:pt x="1610" y="44"/>
                  </a:lnTo>
                  <a:lnTo>
                    <a:pt x="1576" y="52"/>
                  </a:lnTo>
                  <a:lnTo>
                    <a:pt x="1544" y="60"/>
                  </a:lnTo>
                  <a:lnTo>
                    <a:pt x="1510" y="72"/>
                  </a:lnTo>
                  <a:lnTo>
                    <a:pt x="1476" y="84"/>
                  </a:lnTo>
                  <a:lnTo>
                    <a:pt x="1444" y="96"/>
                  </a:lnTo>
                  <a:lnTo>
                    <a:pt x="1412" y="112"/>
                  </a:lnTo>
                  <a:lnTo>
                    <a:pt x="1412" y="112"/>
                  </a:lnTo>
                  <a:lnTo>
                    <a:pt x="1380" y="128"/>
                  </a:lnTo>
                  <a:lnTo>
                    <a:pt x="1348" y="144"/>
                  </a:lnTo>
                  <a:lnTo>
                    <a:pt x="1318" y="164"/>
                  </a:lnTo>
                  <a:lnTo>
                    <a:pt x="1290" y="184"/>
                  </a:lnTo>
                  <a:lnTo>
                    <a:pt x="1290" y="184"/>
                  </a:lnTo>
                  <a:lnTo>
                    <a:pt x="1262" y="206"/>
                  </a:lnTo>
                  <a:lnTo>
                    <a:pt x="1234" y="230"/>
                  </a:lnTo>
                  <a:lnTo>
                    <a:pt x="1208" y="256"/>
                  </a:lnTo>
                  <a:lnTo>
                    <a:pt x="1184" y="284"/>
                  </a:lnTo>
                  <a:lnTo>
                    <a:pt x="1278" y="360"/>
                  </a:lnTo>
                  <a:lnTo>
                    <a:pt x="1260" y="242"/>
                  </a:lnTo>
                  <a:lnTo>
                    <a:pt x="1260" y="242"/>
                  </a:lnTo>
                  <a:lnTo>
                    <a:pt x="1218" y="250"/>
                  </a:lnTo>
                  <a:lnTo>
                    <a:pt x="1218" y="250"/>
                  </a:lnTo>
                  <a:lnTo>
                    <a:pt x="1176" y="262"/>
                  </a:lnTo>
                  <a:lnTo>
                    <a:pt x="1128" y="280"/>
                  </a:lnTo>
                  <a:lnTo>
                    <a:pt x="1128" y="280"/>
                  </a:lnTo>
                  <a:lnTo>
                    <a:pt x="1082" y="298"/>
                  </a:lnTo>
                  <a:lnTo>
                    <a:pt x="1034" y="318"/>
                  </a:lnTo>
                  <a:lnTo>
                    <a:pt x="984" y="344"/>
                  </a:lnTo>
                  <a:lnTo>
                    <a:pt x="930" y="372"/>
                  </a:lnTo>
                  <a:lnTo>
                    <a:pt x="930" y="372"/>
                  </a:lnTo>
                  <a:lnTo>
                    <a:pt x="890" y="396"/>
                  </a:lnTo>
                  <a:lnTo>
                    <a:pt x="848" y="422"/>
                  </a:lnTo>
                  <a:lnTo>
                    <a:pt x="806" y="450"/>
                  </a:lnTo>
                  <a:lnTo>
                    <a:pt x="766" y="482"/>
                  </a:lnTo>
                  <a:lnTo>
                    <a:pt x="724" y="514"/>
                  </a:lnTo>
                  <a:lnTo>
                    <a:pt x="684" y="548"/>
                  </a:lnTo>
                  <a:lnTo>
                    <a:pt x="644" y="586"/>
                  </a:lnTo>
                  <a:lnTo>
                    <a:pt x="606" y="626"/>
                  </a:lnTo>
                  <a:lnTo>
                    <a:pt x="606" y="626"/>
                  </a:lnTo>
                  <a:lnTo>
                    <a:pt x="568" y="666"/>
                  </a:lnTo>
                  <a:lnTo>
                    <a:pt x="534" y="712"/>
                  </a:lnTo>
                  <a:lnTo>
                    <a:pt x="502" y="758"/>
                  </a:lnTo>
                  <a:lnTo>
                    <a:pt x="470" y="808"/>
                  </a:lnTo>
                  <a:lnTo>
                    <a:pt x="470" y="808"/>
                  </a:lnTo>
                  <a:lnTo>
                    <a:pt x="444" y="860"/>
                  </a:lnTo>
                  <a:lnTo>
                    <a:pt x="420" y="914"/>
                  </a:lnTo>
                  <a:lnTo>
                    <a:pt x="400" y="972"/>
                  </a:lnTo>
                  <a:lnTo>
                    <a:pt x="392" y="1002"/>
                  </a:lnTo>
                  <a:lnTo>
                    <a:pt x="384" y="1032"/>
                  </a:lnTo>
                  <a:lnTo>
                    <a:pt x="502" y="1058"/>
                  </a:lnTo>
                  <a:lnTo>
                    <a:pt x="462" y="944"/>
                  </a:lnTo>
                  <a:lnTo>
                    <a:pt x="462" y="944"/>
                  </a:lnTo>
                  <a:lnTo>
                    <a:pt x="438" y="954"/>
                  </a:lnTo>
                  <a:lnTo>
                    <a:pt x="414" y="966"/>
                  </a:lnTo>
                  <a:lnTo>
                    <a:pt x="392" y="978"/>
                  </a:lnTo>
                  <a:lnTo>
                    <a:pt x="370" y="992"/>
                  </a:lnTo>
                  <a:lnTo>
                    <a:pt x="370" y="992"/>
                  </a:lnTo>
                  <a:lnTo>
                    <a:pt x="332" y="1018"/>
                  </a:lnTo>
                  <a:lnTo>
                    <a:pt x="296" y="1050"/>
                  </a:lnTo>
                  <a:lnTo>
                    <a:pt x="260" y="1084"/>
                  </a:lnTo>
                  <a:lnTo>
                    <a:pt x="228" y="1122"/>
                  </a:lnTo>
                  <a:lnTo>
                    <a:pt x="228" y="1122"/>
                  </a:lnTo>
                  <a:lnTo>
                    <a:pt x="204" y="1152"/>
                  </a:lnTo>
                  <a:lnTo>
                    <a:pt x="180" y="1184"/>
                  </a:lnTo>
                  <a:lnTo>
                    <a:pt x="158" y="1218"/>
                  </a:lnTo>
                  <a:lnTo>
                    <a:pt x="138" y="1254"/>
                  </a:lnTo>
                  <a:lnTo>
                    <a:pt x="118" y="1290"/>
                  </a:lnTo>
                  <a:lnTo>
                    <a:pt x="100" y="1330"/>
                  </a:lnTo>
                  <a:lnTo>
                    <a:pt x="82" y="1370"/>
                  </a:lnTo>
                  <a:lnTo>
                    <a:pt x="66" y="1412"/>
                  </a:lnTo>
                  <a:lnTo>
                    <a:pt x="66" y="1412"/>
                  </a:lnTo>
                  <a:lnTo>
                    <a:pt x="52" y="1456"/>
                  </a:lnTo>
                  <a:lnTo>
                    <a:pt x="38" y="1502"/>
                  </a:lnTo>
                  <a:lnTo>
                    <a:pt x="28" y="1548"/>
                  </a:lnTo>
                  <a:lnTo>
                    <a:pt x="18" y="1596"/>
                  </a:lnTo>
                  <a:lnTo>
                    <a:pt x="10" y="1644"/>
                  </a:lnTo>
                  <a:lnTo>
                    <a:pt x="6" y="1694"/>
                  </a:lnTo>
                  <a:lnTo>
                    <a:pt x="2" y="1746"/>
                  </a:lnTo>
                  <a:lnTo>
                    <a:pt x="0" y="1798"/>
                  </a:lnTo>
                  <a:lnTo>
                    <a:pt x="0" y="1798"/>
                  </a:lnTo>
                  <a:lnTo>
                    <a:pt x="2" y="1842"/>
                  </a:lnTo>
                  <a:lnTo>
                    <a:pt x="4" y="1888"/>
                  </a:lnTo>
                  <a:lnTo>
                    <a:pt x="8" y="1934"/>
                  </a:lnTo>
                  <a:lnTo>
                    <a:pt x="14" y="1980"/>
                  </a:lnTo>
                  <a:lnTo>
                    <a:pt x="22" y="2028"/>
                  </a:lnTo>
                  <a:lnTo>
                    <a:pt x="32" y="2074"/>
                  </a:lnTo>
                  <a:lnTo>
                    <a:pt x="44" y="2122"/>
                  </a:lnTo>
                  <a:lnTo>
                    <a:pt x="58" y="2172"/>
                  </a:lnTo>
                  <a:lnTo>
                    <a:pt x="172" y="2136"/>
                  </a:lnTo>
                  <a:lnTo>
                    <a:pt x="56" y="2110"/>
                  </a:lnTo>
                  <a:lnTo>
                    <a:pt x="56" y="2110"/>
                  </a:lnTo>
                  <a:lnTo>
                    <a:pt x="42" y="2168"/>
                  </a:lnTo>
                  <a:lnTo>
                    <a:pt x="42" y="2168"/>
                  </a:lnTo>
                  <a:lnTo>
                    <a:pt x="30" y="2214"/>
                  </a:lnTo>
                  <a:lnTo>
                    <a:pt x="20" y="2268"/>
                  </a:lnTo>
                  <a:lnTo>
                    <a:pt x="20" y="2268"/>
                  </a:lnTo>
                  <a:lnTo>
                    <a:pt x="16" y="2298"/>
                  </a:lnTo>
                  <a:lnTo>
                    <a:pt x="12" y="2330"/>
                  </a:lnTo>
                  <a:lnTo>
                    <a:pt x="10" y="2364"/>
                  </a:lnTo>
                  <a:lnTo>
                    <a:pt x="10" y="2402"/>
                  </a:lnTo>
                  <a:lnTo>
                    <a:pt x="10" y="2402"/>
                  </a:lnTo>
                  <a:lnTo>
                    <a:pt x="12" y="2458"/>
                  </a:lnTo>
                  <a:lnTo>
                    <a:pt x="16" y="2520"/>
                  </a:lnTo>
                  <a:lnTo>
                    <a:pt x="26" y="2590"/>
                  </a:lnTo>
                  <a:lnTo>
                    <a:pt x="38" y="2666"/>
                  </a:lnTo>
                  <a:lnTo>
                    <a:pt x="38" y="2666"/>
                  </a:lnTo>
                  <a:lnTo>
                    <a:pt x="56" y="2752"/>
                  </a:lnTo>
                  <a:lnTo>
                    <a:pt x="78" y="2848"/>
                  </a:lnTo>
                  <a:lnTo>
                    <a:pt x="104" y="2956"/>
                  </a:lnTo>
                  <a:lnTo>
                    <a:pt x="138" y="3074"/>
                  </a:lnTo>
                  <a:lnTo>
                    <a:pt x="138" y="3074"/>
                  </a:lnTo>
                  <a:lnTo>
                    <a:pt x="138" y="3074"/>
                  </a:lnTo>
                  <a:lnTo>
                    <a:pt x="150" y="3112"/>
                  </a:lnTo>
                  <a:lnTo>
                    <a:pt x="164" y="3148"/>
                  </a:lnTo>
                  <a:lnTo>
                    <a:pt x="180" y="3184"/>
                  </a:lnTo>
                  <a:lnTo>
                    <a:pt x="198" y="3222"/>
                  </a:lnTo>
                  <a:lnTo>
                    <a:pt x="198" y="3222"/>
                  </a:lnTo>
                  <a:lnTo>
                    <a:pt x="216" y="3256"/>
                  </a:lnTo>
                  <a:lnTo>
                    <a:pt x="236" y="3290"/>
                  </a:lnTo>
                  <a:lnTo>
                    <a:pt x="280" y="3360"/>
                  </a:lnTo>
                  <a:lnTo>
                    <a:pt x="330" y="3430"/>
                  </a:lnTo>
                  <a:lnTo>
                    <a:pt x="384" y="3500"/>
                  </a:lnTo>
                  <a:lnTo>
                    <a:pt x="384" y="3500"/>
                  </a:lnTo>
                  <a:lnTo>
                    <a:pt x="436" y="3562"/>
                  </a:lnTo>
                  <a:lnTo>
                    <a:pt x="490" y="3624"/>
                  </a:lnTo>
                  <a:lnTo>
                    <a:pt x="548" y="3686"/>
                  </a:lnTo>
                  <a:lnTo>
                    <a:pt x="608" y="3748"/>
                  </a:lnTo>
                  <a:lnTo>
                    <a:pt x="670" y="3810"/>
                  </a:lnTo>
                  <a:lnTo>
                    <a:pt x="734" y="3872"/>
                  </a:lnTo>
                  <a:lnTo>
                    <a:pt x="798" y="3934"/>
                  </a:lnTo>
                  <a:lnTo>
                    <a:pt x="866" y="3994"/>
                  </a:lnTo>
                  <a:lnTo>
                    <a:pt x="866" y="3994"/>
                  </a:lnTo>
                  <a:lnTo>
                    <a:pt x="968" y="4084"/>
                  </a:lnTo>
                  <a:lnTo>
                    <a:pt x="1070" y="4174"/>
                  </a:lnTo>
                  <a:lnTo>
                    <a:pt x="1174" y="4260"/>
                  </a:lnTo>
                  <a:lnTo>
                    <a:pt x="1276" y="4342"/>
                  </a:lnTo>
                  <a:lnTo>
                    <a:pt x="1376" y="4422"/>
                  </a:lnTo>
                  <a:lnTo>
                    <a:pt x="1472" y="4498"/>
                  </a:lnTo>
                  <a:lnTo>
                    <a:pt x="1654" y="4634"/>
                  </a:lnTo>
                  <a:lnTo>
                    <a:pt x="1654" y="4634"/>
                  </a:lnTo>
                  <a:lnTo>
                    <a:pt x="1808" y="4748"/>
                  </a:lnTo>
                  <a:lnTo>
                    <a:pt x="1930" y="4836"/>
                  </a:lnTo>
                  <a:lnTo>
                    <a:pt x="2040" y="4912"/>
                  </a:lnTo>
                  <a:lnTo>
                    <a:pt x="2040" y="4912"/>
                  </a:lnTo>
                  <a:lnTo>
                    <a:pt x="2050" y="4918"/>
                  </a:lnTo>
                  <a:lnTo>
                    <a:pt x="2062" y="4924"/>
                  </a:lnTo>
                  <a:lnTo>
                    <a:pt x="2072" y="4928"/>
                  </a:lnTo>
                  <a:lnTo>
                    <a:pt x="2084" y="4930"/>
                  </a:lnTo>
                  <a:lnTo>
                    <a:pt x="2096" y="4932"/>
                  </a:lnTo>
                  <a:lnTo>
                    <a:pt x="2108" y="4932"/>
                  </a:lnTo>
                  <a:lnTo>
                    <a:pt x="2120" y="4932"/>
                  </a:lnTo>
                  <a:lnTo>
                    <a:pt x="2132" y="4930"/>
                  </a:lnTo>
                  <a:lnTo>
                    <a:pt x="2550" y="4838"/>
                  </a:lnTo>
                  <a:lnTo>
                    <a:pt x="2550" y="4838"/>
                  </a:lnTo>
                  <a:lnTo>
                    <a:pt x="2572" y="4832"/>
                  </a:lnTo>
                  <a:lnTo>
                    <a:pt x="2592" y="4820"/>
                  </a:lnTo>
                  <a:lnTo>
                    <a:pt x="2592" y="4820"/>
                  </a:lnTo>
                  <a:lnTo>
                    <a:pt x="2846" y="4650"/>
                  </a:lnTo>
                  <a:lnTo>
                    <a:pt x="3068" y="4502"/>
                  </a:lnTo>
                  <a:lnTo>
                    <a:pt x="3068" y="4502"/>
                  </a:lnTo>
                  <a:lnTo>
                    <a:pt x="3228" y="4390"/>
                  </a:lnTo>
                  <a:lnTo>
                    <a:pt x="3228" y="4390"/>
                  </a:lnTo>
                  <a:lnTo>
                    <a:pt x="3278" y="4354"/>
                  </a:lnTo>
                  <a:lnTo>
                    <a:pt x="3278" y="4354"/>
                  </a:lnTo>
                  <a:lnTo>
                    <a:pt x="3296" y="4340"/>
                  </a:lnTo>
                  <a:lnTo>
                    <a:pt x="3296" y="4340"/>
                  </a:lnTo>
                  <a:lnTo>
                    <a:pt x="3306" y="4332"/>
                  </a:lnTo>
                  <a:lnTo>
                    <a:pt x="3306" y="4332"/>
                  </a:lnTo>
                  <a:lnTo>
                    <a:pt x="3312" y="4326"/>
                  </a:lnTo>
                  <a:lnTo>
                    <a:pt x="3312" y="4326"/>
                  </a:lnTo>
                  <a:lnTo>
                    <a:pt x="3318" y="4320"/>
                  </a:lnTo>
                  <a:lnTo>
                    <a:pt x="3318" y="4320"/>
                  </a:lnTo>
                  <a:lnTo>
                    <a:pt x="3318" y="4320"/>
                  </a:lnTo>
                  <a:lnTo>
                    <a:pt x="3326" y="4308"/>
                  </a:lnTo>
                  <a:lnTo>
                    <a:pt x="3326" y="4308"/>
                  </a:lnTo>
                  <a:lnTo>
                    <a:pt x="3340" y="4292"/>
                  </a:lnTo>
                  <a:lnTo>
                    <a:pt x="3340" y="4292"/>
                  </a:lnTo>
                  <a:lnTo>
                    <a:pt x="3370" y="4244"/>
                  </a:lnTo>
                  <a:lnTo>
                    <a:pt x="3370" y="4244"/>
                  </a:lnTo>
                  <a:lnTo>
                    <a:pt x="3460" y="4100"/>
                  </a:lnTo>
                  <a:lnTo>
                    <a:pt x="3460" y="4100"/>
                  </a:lnTo>
                  <a:lnTo>
                    <a:pt x="3690" y="3726"/>
                  </a:lnTo>
                  <a:lnTo>
                    <a:pt x="3948" y="3304"/>
                  </a:lnTo>
                  <a:lnTo>
                    <a:pt x="3948" y="3304"/>
                  </a:lnTo>
                  <a:lnTo>
                    <a:pt x="4244" y="2814"/>
                  </a:lnTo>
                  <a:lnTo>
                    <a:pt x="4142" y="2752"/>
                  </a:lnTo>
                  <a:lnTo>
                    <a:pt x="4240" y="2820"/>
                  </a:lnTo>
                  <a:lnTo>
                    <a:pt x="4240" y="2820"/>
                  </a:lnTo>
                  <a:lnTo>
                    <a:pt x="4262" y="2786"/>
                  </a:lnTo>
                  <a:lnTo>
                    <a:pt x="4280" y="2750"/>
                  </a:lnTo>
                  <a:lnTo>
                    <a:pt x="4298" y="2714"/>
                  </a:lnTo>
                  <a:lnTo>
                    <a:pt x="4314" y="2674"/>
                  </a:lnTo>
                  <a:lnTo>
                    <a:pt x="4314" y="2674"/>
                  </a:lnTo>
                  <a:lnTo>
                    <a:pt x="4336" y="2610"/>
                  </a:lnTo>
                  <a:lnTo>
                    <a:pt x="4354" y="2544"/>
                  </a:lnTo>
                  <a:lnTo>
                    <a:pt x="4370" y="2476"/>
                  </a:lnTo>
                  <a:lnTo>
                    <a:pt x="4382" y="2404"/>
                  </a:lnTo>
                  <a:lnTo>
                    <a:pt x="4382" y="2404"/>
                  </a:lnTo>
                  <a:lnTo>
                    <a:pt x="4392" y="2330"/>
                  </a:lnTo>
                  <a:lnTo>
                    <a:pt x="4400" y="2252"/>
                  </a:lnTo>
                  <a:lnTo>
                    <a:pt x="4404" y="2176"/>
                  </a:lnTo>
                  <a:lnTo>
                    <a:pt x="4406" y="2098"/>
                  </a:lnTo>
                  <a:lnTo>
                    <a:pt x="4406" y="2098"/>
                  </a:lnTo>
                  <a:lnTo>
                    <a:pt x="4404" y="2038"/>
                  </a:lnTo>
                  <a:lnTo>
                    <a:pt x="4402" y="1978"/>
                  </a:lnTo>
                  <a:lnTo>
                    <a:pt x="4398" y="1918"/>
                  </a:lnTo>
                  <a:lnTo>
                    <a:pt x="4390" y="1860"/>
                  </a:lnTo>
                  <a:lnTo>
                    <a:pt x="4390" y="1860"/>
                  </a:lnTo>
                  <a:lnTo>
                    <a:pt x="4378" y="1774"/>
                  </a:lnTo>
                  <a:lnTo>
                    <a:pt x="4370" y="1732"/>
                  </a:lnTo>
                  <a:lnTo>
                    <a:pt x="4360" y="1690"/>
                  </a:lnTo>
                  <a:lnTo>
                    <a:pt x="4350" y="1648"/>
                  </a:lnTo>
                  <a:lnTo>
                    <a:pt x="4338" y="1610"/>
                  </a:lnTo>
                  <a:lnTo>
                    <a:pt x="4324" y="1570"/>
                  </a:lnTo>
                  <a:lnTo>
                    <a:pt x="4310" y="1534"/>
                  </a:lnTo>
                  <a:lnTo>
                    <a:pt x="4310" y="1534"/>
                  </a:lnTo>
                  <a:lnTo>
                    <a:pt x="4294" y="1496"/>
                  </a:lnTo>
                  <a:lnTo>
                    <a:pt x="4276" y="1462"/>
                  </a:lnTo>
                  <a:lnTo>
                    <a:pt x="4258" y="1428"/>
                  </a:lnTo>
                  <a:lnTo>
                    <a:pt x="4236" y="1396"/>
                  </a:lnTo>
                  <a:lnTo>
                    <a:pt x="4236" y="1396"/>
                  </a:lnTo>
                  <a:lnTo>
                    <a:pt x="4212" y="1366"/>
                  </a:lnTo>
                  <a:lnTo>
                    <a:pt x="4186" y="1338"/>
                  </a:lnTo>
                  <a:lnTo>
                    <a:pt x="4158" y="1312"/>
                  </a:lnTo>
                  <a:lnTo>
                    <a:pt x="4126" y="1288"/>
                  </a:lnTo>
                  <a:lnTo>
                    <a:pt x="4060" y="1386"/>
                  </a:lnTo>
                  <a:lnTo>
                    <a:pt x="4180" y="1388"/>
                  </a:lnTo>
                  <a:lnTo>
                    <a:pt x="4180" y="1388"/>
                  </a:lnTo>
                  <a:lnTo>
                    <a:pt x="4180" y="1384"/>
                  </a:lnTo>
                  <a:lnTo>
                    <a:pt x="4180" y="1384"/>
                  </a:lnTo>
                  <a:lnTo>
                    <a:pt x="4178" y="1342"/>
                  </a:lnTo>
                  <a:lnTo>
                    <a:pt x="4174" y="1300"/>
                  </a:lnTo>
                  <a:lnTo>
                    <a:pt x="4166" y="1258"/>
                  </a:lnTo>
                  <a:lnTo>
                    <a:pt x="4156" y="1218"/>
                  </a:lnTo>
                  <a:lnTo>
                    <a:pt x="4156" y="1218"/>
                  </a:lnTo>
                  <a:lnTo>
                    <a:pt x="4146" y="1182"/>
                  </a:lnTo>
                  <a:lnTo>
                    <a:pt x="4134" y="1146"/>
                  </a:lnTo>
                  <a:lnTo>
                    <a:pt x="4120" y="1110"/>
                  </a:lnTo>
                  <a:lnTo>
                    <a:pt x="4104" y="1074"/>
                  </a:lnTo>
                  <a:lnTo>
                    <a:pt x="4088" y="1038"/>
                  </a:lnTo>
                  <a:lnTo>
                    <a:pt x="4070" y="1004"/>
                  </a:lnTo>
                  <a:lnTo>
                    <a:pt x="4050" y="968"/>
                  </a:lnTo>
                  <a:lnTo>
                    <a:pt x="4030" y="934"/>
                  </a:lnTo>
                  <a:lnTo>
                    <a:pt x="4030" y="934"/>
                  </a:lnTo>
                  <a:lnTo>
                    <a:pt x="3996" y="882"/>
                  </a:lnTo>
                  <a:lnTo>
                    <a:pt x="3962" y="832"/>
                  </a:lnTo>
                  <a:lnTo>
                    <a:pt x="3924" y="784"/>
                  </a:lnTo>
                  <a:lnTo>
                    <a:pt x="3884" y="736"/>
                  </a:lnTo>
                  <a:lnTo>
                    <a:pt x="3884" y="736"/>
                  </a:lnTo>
                  <a:lnTo>
                    <a:pt x="3852" y="702"/>
                  </a:lnTo>
                  <a:lnTo>
                    <a:pt x="3820" y="668"/>
                  </a:lnTo>
                  <a:lnTo>
                    <a:pt x="3786" y="636"/>
                  </a:lnTo>
                  <a:lnTo>
                    <a:pt x="3752" y="604"/>
                  </a:lnTo>
                  <a:lnTo>
                    <a:pt x="3718" y="574"/>
                  </a:lnTo>
                  <a:lnTo>
                    <a:pt x="3682" y="546"/>
                  </a:lnTo>
                  <a:lnTo>
                    <a:pt x="3646" y="520"/>
                  </a:lnTo>
                  <a:lnTo>
                    <a:pt x="3608" y="494"/>
                  </a:lnTo>
                  <a:lnTo>
                    <a:pt x="3608" y="494"/>
                  </a:lnTo>
                  <a:lnTo>
                    <a:pt x="3570" y="470"/>
                  </a:lnTo>
                  <a:lnTo>
                    <a:pt x="3532" y="448"/>
                  </a:lnTo>
                  <a:lnTo>
                    <a:pt x="3494" y="428"/>
                  </a:lnTo>
                  <a:lnTo>
                    <a:pt x="3454" y="410"/>
                  </a:lnTo>
                  <a:lnTo>
                    <a:pt x="3454" y="410"/>
                  </a:lnTo>
                  <a:lnTo>
                    <a:pt x="3414" y="394"/>
                  </a:lnTo>
                  <a:lnTo>
                    <a:pt x="3374" y="380"/>
                  </a:lnTo>
                  <a:lnTo>
                    <a:pt x="3332" y="370"/>
                  </a:lnTo>
                  <a:lnTo>
                    <a:pt x="3290" y="362"/>
                  </a:lnTo>
                  <a:lnTo>
                    <a:pt x="3272" y="482"/>
                  </a:lnTo>
                  <a:lnTo>
                    <a:pt x="3378" y="422"/>
                  </a:lnTo>
                  <a:lnTo>
                    <a:pt x="3272" y="482"/>
                  </a:lnTo>
                  <a:lnTo>
                    <a:pt x="3254" y="600"/>
                  </a:lnTo>
                  <a:lnTo>
                    <a:pt x="3254" y="600"/>
                  </a:lnTo>
                  <a:lnTo>
                    <a:pt x="3280" y="604"/>
                  </a:lnTo>
                  <a:lnTo>
                    <a:pt x="3306" y="612"/>
                  </a:lnTo>
                  <a:lnTo>
                    <a:pt x="3334" y="620"/>
                  </a:lnTo>
                  <a:lnTo>
                    <a:pt x="3362" y="632"/>
                  </a:lnTo>
                  <a:lnTo>
                    <a:pt x="3362" y="632"/>
                  </a:lnTo>
                  <a:lnTo>
                    <a:pt x="3388" y="644"/>
                  </a:lnTo>
                  <a:lnTo>
                    <a:pt x="3414" y="656"/>
                  </a:lnTo>
                  <a:lnTo>
                    <a:pt x="3466" y="686"/>
                  </a:lnTo>
                  <a:lnTo>
                    <a:pt x="3518" y="722"/>
                  </a:lnTo>
                  <a:lnTo>
                    <a:pt x="3570" y="764"/>
                  </a:lnTo>
                  <a:lnTo>
                    <a:pt x="3570" y="764"/>
                  </a:lnTo>
                  <a:lnTo>
                    <a:pt x="3608" y="798"/>
                  </a:lnTo>
                  <a:lnTo>
                    <a:pt x="3646" y="832"/>
                  </a:lnTo>
                  <a:lnTo>
                    <a:pt x="3682" y="870"/>
                  </a:lnTo>
                  <a:lnTo>
                    <a:pt x="3716" y="910"/>
                  </a:lnTo>
                  <a:lnTo>
                    <a:pt x="3716" y="910"/>
                  </a:lnTo>
                  <a:lnTo>
                    <a:pt x="3740" y="940"/>
                  </a:lnTo>
                  <a:lnTo>
                    <a:pt x="3764" y="970"/>
                  </a:lnTo>
                  <a:lnTo>
                    <a:pt x="3788" y="1002"/>
                  </a:lnTo>
                  <a:lnTo>
                    <a:pt x="3808" y="1034"/>
                  </a:lnTo>
                  <a:lnTo>
                    <a:pt x="3828" y="1066"/>
                  </a:lnTo>
                  <a:lnTo>
                    <a:pt x="3848" y="1098"/>
                  </a:lnTo>
                  <a:lnTo>
                    <a:pt x="3864" y="1130"/>
                  </a:lnTo>
                  <a:lnTo>
                    <a:pt x="3880" y="1160"/>
                  </a:lnTo>
                  <a:lnTo>
                    <a:pt x="3880" y="1160"/>
                  </a:lnTo>
                  <a:lnTo>
                    <a:pt x="3894" y="1192"/>
                  </a:lnTo>
                  <a:lnTo>
                    <a:pt x="3906" y="1222"/>
                  </a:lnTo>
                  <a:lnTo>
                    <a:pt x="3916" y="1252"/>
                  </a:lnTo>
                  <a:lnTo>
                    <a:pt x="3924" y="1280"/>
                  </a:lnTo>
                  <a:lnTo>
                    <a:pt x="3924" y="1280"/>
                  </a:lnTo>
                  <a:lnTo>
                    <a:pt x="3932" y="1308"/>
                  </a:lnTo>
                  <a:lnTo>
                    <a:pt x="3936" y="1336"/>
                  </a:lnTo>
                  <a:lnTo>
                    <a:pt x="3938" y="1360"/>
                  </a:lnTo>
                  <a:lnTo>
                    <a:pt x="3940" y="1384"/>
                  </a:lnTo>
                  <a:lnTo>
                    <a:pt x="3940" y="1384"/>
                  </a:lnTo>
                  <a:lnTo>
                    <a:pt x="3940" y="1386"/>
                  </a:lnTo>
                  <a:lnTo>
                    <a:pt x="3940" y="1386"/>
                  </a:lnTo>
                  <a:lnTo>
                    <a:pt x="3940" y="1400"/>
                  </a:lnTo>
                  <a:lnTo>
                    <a:pt x="3942" y="1416"/>
                  </a:lnTo>
                  <a:lnTo>
                    <a:pt x="3946" y="1430"/>
                  </a:lnTo>
                  <a:lnTo>
                    <a:pt x="3952" y="1442"/>
                  </a:lnTo>
                  <a:lnTo>
                    <a:pt x="3960" y="1454"/>
                  </a:lnTo>
                  <a:lnTo>
                    <a:pt x="3970" y="1466"/>
                  </a:lnTo>
                  <a:lnTo>
                    <a:pt x="3980" y="1476"/>
                  </a:lnTo>
                  <a:lnTo>
                    <a:pt x="3992" y="1486"/>
                  </a:lnTo>
                  <a:lnTo>
                    <a:pt x="3992" y="1486"/>
                  </a:lnTo>
                  <a:lnTo>
                    <a:pt x="4008" y="1498"/>
                  </a:lnTo>
                  <a:lnTo>
                    <a:pt x="4024" y="1516"/>
                  </a:lnTo>
                  <a:lnTo>
                    <a:pt x="4024" y="1516"/>
                  </a:lnTo>
                  <a:lnTo>
                    <a:pt x="4038" y="1534"/>
                  </a:lnTo>
                  <a:lnTo>
                    <a:pt x="4054" y="1554"/>
                  </a:lnTo>
                  <a:lnTo>
                    <a:pt x="4068" y="1580"/>
                  </a:lnTo>
                  <a:lnTo>
                    <a:pt x="4082" y="1608"/>
                  </a:lnTo>
                  <a:lnTo>
                    <a:pt x="4082" y="1608"/>
                  </a:lnTo>
                  <a:lnTo>
                    <a:pt x="4100" y="1656"/>
                  </a:lnTo>
                  <a:lnTo>
                    <a:pt x="4118" y="1708"/>
                  </a:lnTo>
                  <a:lnTo>
                    <a:pt x="4132" y="1766"/>
                  </a:lnTo>
                  <a:lnTo>
                    <a:pt x="4144" y="1828"/>
                  </a:lnTo>
                  <a:lnTo>
                    <a:pt x="4144" y="1828"/>
                  </a:lnTo>
                  <a:lnTo>
                    <a:pt x="4154" y="1892"/>
                  </a:lnTo>
                  <a:lnTo>
                    <a:pt x="4160" y="1960"/>
                  </a:lnTo>
                  <a:lnTo>
                    <a:pt x="4164" y="2028"/>
                  </a:lnTo>
                  <a:lnTo>
                    <a:pt x="4166" y="2098"/>
                  </a:lnTo>
                  <a:lnTo>
                    <a:pt x="4166" y="2098"/>
                  </a:lnTo>
                  <a:lnTo>
                    <a:pt x="4162" y="2190"/>
                  </a:lnTo>
                  <a:lnTo>
                    <a:pt x="4156" y="2280"/>
                  </a:lnTo>
                  <a:lnTo>
                    <a:pt x="4146" y="2366"/>
                  </a:lnTo>
                  <a:lnTo>
                    <a:pt x="4138" y="2408"/>
                  </a:lnTo>
                  <a:lnTo>
                    <a:pt x="4130" y="2448"/>
                  </a:lnTo>
                  <a:lnTo>
                    <a:pt x="4130" y="2448"/>
                  </a:lnTo>
                  <a:lnTo>
                    <a:pt x="4122" y="2486"/>
                  </a:lnTo>
                  <a:lnTo>
                    <a:pt x="4112" y="2524"/>
                  </a:lnTo>
                  <a:lnTo>
                    <a:pt x="4102" y="2558"/>
                  </a:lnTo>
                  <a:lnTo>
                    <a:pt x="4090" y="2588"/>
                  </a:lnTo>
                  <a:lnTo>
                    <a:pt x="4090" y="2588"/>
                  </a:lnTo>
                  <a:lnTo>
                    <a:pt x="4078" y="2618"/>
                  </a:lnTo>
                  <a:lnTo>
                    <a:pt x="4066" y="2642"/>
                  </a:lnTo>
                  <a:lnTo>
                    <a:pt x="4054" y="2664"/>
                  </a:lnTo>
                  <a:lnTo>
                    <a:pt x="4042" y="2684"/>
                  </a:lnTo>
                  <a:lnTo>
                    <a:pt x="4038" y="2690"/>
                  </a:lnTo>
                  <a:lnTo>
                    <a:pt x="4038" y="2690"/>
                  </a:lnTo>
                  <a:lnTo>
                    <a:pt x="4028" y="2706"/>
                  </a:lnTo>
                  <a:lnTo>
                    <a:pt x="4028" y="2706"/>
                  </a:lnTo>
                  <a:lnTo>
                    <a:pt x="3854" y="2996"/>
                  </a:lnTo>
                  <a:lnTo>
                    <a:pt x="3558" y="3482"/>
                  </a:lnTo>
                  <a:lnTo>
                    <a:pt x="3558" y="3482"/>
                  </a:lnTo>
                  <a:lnTo>
                    <a:pt x="3272" y="3948"/>
                  </a:lnTo>
                  <a:lnTo>
                    <a:pt x="3272" y="3948"/>
                  </a:lnTo>
                  <a:lnTo>
                    <a:pt x="3174" y="4104"/>
                  </a:lnTo>
                  <a:lnTo>
                    <a:pt x="3174" y="4104"/>
                  </a:lnTo>
                  <a:lnTo>
                    <a:pt x="3144" y="4150"/>
                  </a:lnTo>
                  <a:lnTo>
                    <a:pt x="3144" y="4150"/>
                  </a:lnTo>
                  <a:lnTo>
                    <a:pt x="3136" y="4162"/>
                  </a:lnTo>
                  <a:lnTo>
                    <a:pt x="3136" y="4162"/>
                  </a:lnTo>
                  <a:lnTo>
                    <a:pt x="3136" y="4164"/>
                  </a:lnTo>
                  <a:lnTo>
                    <a:pt x="3184" y="4202"/>
                  </a:lnTo>
                  <a:lnTo>
                    <a:pt x="3138" y="4160"/>
                  </a:lnTo>
                  <a:lnTo>
                    <a:pt x="3138" y="4160"/>
                  </a:lnTo>
                  <a:lnTo>
                    <a:pt x="3136" y="4164"/>
                  </a:lnTo>
                  <a:lnTo>
                    <a:pt x="3184" y="4202"/>
                  </a:lnTo>
                  <a:lnTo>
                    <a:pt x="3138" y="4160"/>
                  </a:lnTo>
                  <a:lnTo>
                    <a:pt x="3138" y="4160"/>
                  </a:lnTo>
                  <a:lnTo>
                    <a:pt x="3210" y="4224"/>
                  </a:lnTo>
                  <a:lnTo>
                    <a:pt x="3142" y="4156"/>
                  </a:lnTo>
                  <a:lnTo>
                    <a:pt x="3142" y="4156"/>
                  </a:lnTo>
                  <a:lnTo>
                    <a:pt x="3138" y="4160"/>
                  </a:lnTo>
                  <a:lnTo>
                    <a:pt x="3210" y="4224"/>
                  </a:lnTo>
                  <a:lnTo>
                    <a:pt x="3142" y="4156"/>
                  </a:lnTo>
                  <a:lnTo>
                    <a:pt x="3188" y="4202"/>
                  </a:lnTo>
                  <a:lnTo>
                    <a:pt x="3144" y="4154"/>
                  </a:lnTo>
                  <a:lnTo>
                    <a:pt x="3144" y="4154"/>
                  </a:lnTo>
                  <a:lnTo>
                    <a:pt x="3142" y="4156"/>
                  </a:lnTo>
                  <a:lnTo>
                    <a:pt x="3188" y="4202"/>
                  </a:lnTo>
                  <a:lnTo>
                    <a:pt x="3144" y="4154"/>
                  </a:lnTo>
                  <a:lnTo>
                    <a:pt x="3166" y="4178"/>
                  </a:lnTo>
                  <a:lnTo>
                    <a:pt x="3146" y="4154"/>
                  </a:lnTo>
                  <a:lnTo>
                    <a:pt x="3144" y="4154"/>
                  </a:lnTo>
                  <a:lnTo>
                    <a:pt x="3166" y="4178"/>
                  </a:lnTo>
                  <a:lnTo>
                    <a:pt x="3146" y="4154"/>
                  </a:lnTo>
                  <a:lnTo>
                    <a:pt x="3152" y="4162"/>
                  </a:lnTo>
                  <a:lnTo>
                    <a:pt x="3146" y="4154"/>
                  </a:lnTo>
                  <a:lnTo>
                    <a:pt x="3146" y="4154"/>
                  </a:lnTo>
                  <a:lnTo>
                    <a:pt x="3152" y="4162"/>
                  </a:lnTo>
                  <a:lnTo>
                    <a:pt x="3146" y="4154"/>
                  </a:lnTo>
                  <a:lnTo>
                    <a:pt x="3144" y="4154"/>
                  </a:lnTo>
                  <a:lnTo>
                    <a:pt x="3144" y="4154"/>
                  </a:lnTo>
                  <a:lnTo>
                    <a:pt x="3136" y="4162"/>
                  </a:lnTo>
                  <a:lnTo>
                    <a:pt x="3136" y="4162"/>
                  </a:lnTo>
                  <a:lnTo>
                    <a:pt x="3100" y="4188"/>
                  </a:lnTo>
                  <a:lnTo>
                    <a:pt x="3100" y="4188"/>
                  </a:lnTo>
                  <a:lnTo>
                    <a:pt x="2990" y="4264"/>
                  </a:lnTo>
                  <a:lnTo>
                    <a:pt x="2990" y="4264"/>
                  </a:lnTo>
                  <a:lnTo>
                    <a:pt x="2752" y="4426"/>
                  </a:lnTo>
                  <a:lnTo>
                    <a:pt x="2458" y="4620"/>
                  </a:lnTo>
                  <a:lnTo>
                    <a:pt x="2526" y="4720"/>
                  </a:lnTo>
                  <a:lnTo>
                    <a:pt x="2500" y="4604"/>
                  </a:lnTo>
                  <a:lnTo>
                    <a:pt x="2082" y="4696"/>
                  </a:lnTo>
                  <a:lnTo>
                    <a:pt x="2108" y="4812"/>
                  </a:lnTo>
                  <a:lnTo>
                    <a:pt x="2174" y="4714"/>
                  </a:lnTo>
                  <a:lnTo>
                    <a:pt x="2140" y="4764"/>
                  </a:lnTo>
                  <a:lnTo>
                    <a:pt x="2174" y="4714"/>
                  </a:lnTo>
                  <a:lnTo>
                    <a:pt x="2174" y="4714"/>
                  </a:lnTo>
                  <a:lnTo>
                    <a:pt x="2140" y="4764"/>
                  </a:lnTo>
                  <a:lnTo>
                    <a:pt x="2174" y="4714"/>
                  </a:lnTo>
                  <a:lnTo>
                    <a:pt x="2174" y="4714"/>
                  </a:lnTo>
                  <a:lnTo>
                    <a:pt x="2102" y="4662"/>
                  </a:lnTo>
                  <a:lnTo>
                    <a:pt x="2020" y="4604"/>
                  </a:lnTo>
                  <a:lnTo>
                    <a:pt x="1912" y="4526"/>
                  </a:lnTo>
                  <a:lnTo>
                    <a:pt x="1912" y="4526"/>
                  </a:lnTo>
                  <a:lnTo>
                    <a:pt x="1816" y="4458"/>
                  </a:lnTo>
                  <a:lnTo>
                    <a:pt x="1712" y="4380"/>
                  </a:lnTo>
                  <a:lnTo>
                    <a:pt x="1602" y="4294"/>
                  </a:lnTo>
                  <a:lnTo>
                    <a:pt x="1484" y="4202"/>
                  </a:lnTo>
                  <a:lnTo>
                    <a:pt x="1484" y="4202"/>
                  </a:lnTo>
                  <a:lnTo>
                    <a:pt x="1394" y="4130"/>
                  </a:lnTo>
                  <a:lnTo>
                    <a:pt x="1302" y="4054"/>
                  </a:lnTo>
                  <a:lnTo>
                    <a:pt x="1210" y="3978"/>
                  </a:lnTo>
                  <a:lnTo>
                    <a:pt x="1120" y="3900"/>
                  </a:lnTo>
                  <a:lnTo>
                    <a:pt x="1120" y="3900"/>
                  </a:lnTo>
                  <a:lnTo>
                    <a:pt x="986" y="3778"/>
                  </a:lnTo>
                  <a:lnTo>
                    <a:pt x="920" y="3718"/>
                  </a:lnTo>
                  <a:lnTo>
                    <a:pt x="856" y="3658"/>
                  </a:lnTo>
                  <a:lnTo>
                    <a:pt x="796" y="3596"/>
                  </a:lnTo>
                  <a:lnTo>
                    <a:pt x="736" y="3536"/>
                  </a:lnTo>
                  <a:lnTo>
                    <a:pt x="680" y="3476"/>
                  </a:lnTo>
                  <a:lnTo>
                    <a:pt x="628" y="3416"/>
                  </a:lnTo>
                  <a:lnTo>
                    <a:pt x="628" y="3416"/>
                  </a:lnTo>
                  <a:lnTo>
                    <a:pt x="580" y="3358"/>
                  </a:lnTo>
                  <a:lnTo>
                    <a:pt x="534" y="3302"/>
                  </a:lnTo>
                  <a:lnTo>
                    <a:pt x="494" y="3246"/>
                  </a:lnTo>
                  <a:lnTo>
                    <a:pt x="458" y="3194"/>
                  </a:lnTo>
                  <a:lnTo>
                    <a:pt x="458" y="3194"/>
                  </a:lnTo>
                  <a:lnTo>
                    <a:pt x="428" y="3142"/>
                  </a:lnTo>
                  <a:lnTo>
                    <a:pt x="402" y="3094"/>
                  </a:lnTo>
                  <a:lnTo>
                    <a:pt x="382" y="3050"/>
                  </a:lnTo>
                  <a:lnTo>
                    <a:pt x="368" y="3008"/>
                  </a:lnTo>
                  <a:lnTo>
                    <a:pt x="368" y="3008"/>
                  </a:lnTo>
                  <a:lnTo>
                    <a:pt x="336" y="2894"/>
                  </a:lnTo>
                  <a:lnTo>
                    <a:pt x="310" y="2792"/>
                  </a:lnTo>
                  <a:lnTo>
                    <a:pt x="290" y="2702"/>
                  </a:lnTo>
                  <a:lnTo>
                    <a:pt x="274" y="2624"/>
                  </a:lnTo>
                  <a:lnTo>
                    <a:pt x="274" y="2624"/>
                  </a:lnTo>
                  <a:lnTo>
                    <a:pt x="262" y="2554"/>
                  </a:lnTo>
                  <a:lnTo>
                    <a:pt x="256" y="2496"/>
                  </a:lnTo>
                  <a:lnTo>
                    <a:pt x="252" y="2446"/>
                  </a:lnTo>
                  <a:lnTo>
                    <a:pt x="250" y="2402"/>
                  </a:lnTo>
                  <a:lnTo>
                    <a:pt x="250" y="2402"/>
                  </a:lnTo>
                  <a:lnTo>
                    <a:pt x="250" y="2366"/>
                  </a:lnTo>
                  <a:lnTo>
                    <a:pt x="254" y="2334"/>
                  </a:lnTo>
                  <a:lnTo>
                    <a:pt x="254" y="2334"/>
                  </a:lnTo>
                  <a:lnTo>
                    <a:pt x="260" y="2292"/>
                  </a:lnTo>
                  <a:lnTo>
                    <a:pt x="268" y="2252"/>
                  </a:lnTo>
                  <a:lnTo>
                    <a:pt x="268" y="2252"/>
                  </a:lnTo>
                  <a:lnTo>
                    <a:pt x="290" y="2162"/>
                  </a:lnTo>
                  <a:lnTo>
                    <a:pt x="290" y="2162"/>
                  </a:lnTo>
                  <a:lnTo>
                    <a:pt x="292" y="2146"/>
                  </a:lnTo>
                  <a:lnTo>
                    <a:pt x="292" y="2130"/>
                  </a:lnTo>
                  <a:lnTo>
                    <a:pt x="290" y="2116"/>
                  </a:lnTo>
                  <a:lnTo>
                    <a:pt x="288" y="2100"/>
                  </a:lnTo>
                  <a:lnTo>
                    <a:pt x="288" y="2100"/>
                  </a:lnTo>
                  <a:lnTo>
                    <a:pt x="276" y="2062"/>
                  </a:lnTo>
                  <a:lnTo>
                    <a:pt x="266" y="2022"/>
                  </a:lnTo>
                  <a:lnTo>
                    <a:pt x="258" y="1984"/>
                  </a:lnTo>
                  <a:lnTo>
                    <a:pt x="252" y="1944"/>
                  </a:lnTo>
                  <a:lnTo>
                    <a:pt x="248" y="1908"/>
                  </a:lnTo>
                  <a:lnTo>
                    <a:pt x="244" y="1870"/>
                  </a:lnTo>
                  <a:lnTo>
                    <a:pt x="242" y="1834"/>
                  </a:lnTo>
                  <a:lnTo>
                    <a:pt x="240" y="1798"/>
                  </a:lnTo>
                  <a:lnTo>
                    <a:pt x="240" y="1798"/>
                  </a:lnTo>
                  <a:lnTo>
                    <a:pt x="244" y="1734"/>
                  </a:lnTo>
                  <a:lnTo>
                    <a:pt x="250" y="1674"/>
                  </a:lnTo>
                  <a:lnTo>
                    <a:pt x="258" y="1614"/>
                  </a:lnTo>
                  <a:lnTo>
                    <a:pt x="272" y="1558"/>
                  </a:lnTo>
                  <a:lnTo>
                    <a:pt x="272" y="1558"/>
                  </a:lnTo>
                  <a:lnTo>
                    <a:pt x="284" y="1518"/>
                  </a:lnTo>
                  <a:lnTo>
                    <a:pt x="296" y="1480"/>
                  </a:lnTo>
                  <a:lnTo>
                    <a:pt x="312" y="1444"/>
                  </a:lnTo>
                  <a:lnTo>
                    <a:pt x="328" y="1408"/>
                  </a:lnTo>
                  <a:lnTo>
                    <a:pt x="344" y="1376"/>
                  </a:lnTo>
                  <a:lnTo>
                    <a:pt x="362" y="1344"/>
                  </a:lnTo>
                  <a:lnTo>
                    <a:pt x="380" y="1316"/>
                  </a:lnTo>
                  <a:lnTo>
                    <a:pt x="400" y="1290"/>
                  </a:lnTo>
                  <a:lnTo>
                    <a:pt x="400" y="1290"/>
                  </a:lnTo>
                  <a:lnTo>
                    <a:pt x="420" y="1266"/>
                  </a:lnTo>
                  <a:lnTo>
                    <a:pt x="438" y="1244"/>
                  </a:lnTo>
                  <a:lnTo>
                    <a:pt x="458" y="1226"/>
                  </a:lnTo>
                  <a:lnTo>
                    <a:pt x="478" y="1210"/>
                  </a:lnTo>
                  <a:lnTo>
                    <a:pt x="478" y="1210"/>
                  </a:lnTo>
                  <a:lnTo>
                    <a:pt x="496" y="1196"/>
                  </a:lnTo>
                  <a:lnTo>
                    <a:pt x="512" y="1184"/>
                  </a:lnTo>
                  <a:lnTo>
                    <a:pt x="528" y="1176"/>
                  </a:lnTo>
                  <a:lnTo>
                    <a:pt x="542" y="1170"/>
                  </a:lnTo>
                  <a:lnTo>
                    <a:pt x="542" y="1170"/>
                  </a:lnTo>
                  <a:lnTo>
                    <a:pt x="556" y="1164"/>
                  </a:lnTo>
                  <a:lnTo>
                    <a:pt x="568" y="1158"/>
                  </a:lnTo>
                  <a:lnTo>
                    <a:pt x="580" y="1148"/>
                  </a:lnTo>
                  <a:lnTo>
                    <a:pt x="592" y="1138"/>
                  </a:lnTo>
                  <a:lnTo>
                    <a:pt x="600" y="1126"/>
                  </a:lnTo>
                  <a:lnTo>
                    <a:pt x="608" y="1112"/>
                  </a:lnTo>
                  <a:lnTo>
                    <a:pt x="614" y="1098"/>
                  </a:lnTo>
                  <a:lnTo>
                    <a:pt x="618" y="1084"/>
                  </a:lnTo>
                  <a:lnTo>
                    <a:pt x="618" y="1084"/>
                  </a:lnTo>
                  <a:lnTo>
                    <a:pt x="628" y="1050"/>
                  </a:lnTo>
                  <a:lnTo>
                    <a:pt x="638" y="1018"/>
                  </a:lnTo>
                  <a:lnTo>
                    <a:pt x="650" y="986"/>
                  </a:lnTo>
                  <a:lnTo>
                    <a:pt x="664" y="954"/>
                  </a:lnTo>
                  <a:lnTo>
                    <a:pt x="664" y="954"/>
                  </a:lnTo>
                  <a:lnTo>
                    <a:pt x="678" y="928"/>
                  </a:lnTo>
                  <a:lnTo>
                    <a:pt x="694" y="902"/>
                  </a:lnTo>
                  <a:lnTo>
                    <a:pt x="712" y="876"/>
                  </a:lnTo>
                  <a:lnTo>
                    <a:pt x="728" y="852"/>
                  </a:lnTo>
                  <a:lnTo>
                    <a:pt x="748" y="828"/>
                  </a:lnTo>
                  <a:lnTo>
                    <a:pt x="768" y="804"/>
                  </a:lnTo>
                  <a:lnTo>
                    <a:pt x="810" y="758"/>
                  </a:lnTo>
                  <a:lnTo>
                    <a:pt x="810" y="758"/>
                  </a:lnTo>
                  <a:lnTo>
                    <a:pt x="844" y="726"/>
                  </a:lnTo>
                  <a:lnTo>
                    <a:pt x="880" y="696"/>
                  </a:lnTo>
                  <a:lnTo>
                    <a:pt x="916" y="668"/>
                  </a:lnTo>
                  <a:lnTo>
                    <a:pt x="952" y="642"/>
                  </a:lnTo>
                  <a:lnTo>
                    <a:pt x="952" y="642"/>
                  </a:lnTo>
                  <a:lnTo>
                    <a:pt x="1008" y="606"/>
                  </a:lnTo>
                  <a:lnTo>
                    <a:pt x="1062" y="574"/>
                  </a:lnTo>
                  <a:lnTo>
                    <a:pt x="1116" y="546"/>
                  </a:lnTo>
                  <a:lnTo>
                    <a:pt x="1164" y="524"/>
                  </a:lnTo>
                  <a:lnTo>
                    <a:pt x="1164" y="524"/>
                  </a:lnTo>
                  <a:lnTo>
                    <a:pt x="1210" y="504"/>
                  </a:lnTo>
                  <a:lnTo>
                    <a:pt x="1248" y="492"/>
                  </a:lnTo>
                  <a:lnTo>
                    <a:pt x="1248" y="492"/>
                  </a:lnTo>
                  <a:lnTo>
                    <a:pt x="1278" y="482"/>
                  </a:lnTo>
                  <a:lnTo>
                    <a:pt x="1278" y="482"/>
                  </a:lnTo>
                  <a:lnTo>
                    <a:pt x="1294" y="478"/>
                  </a:lnTo>
                  <a:lnTo>
                    <a:pt x="1294" y="478"/>
                  </a:lnTo>
                  <a:lnTo>
                    <a:pt x="1316" y="474"/>
                  </a:lnTo>
                  <a:lnTo>
                    <a:pt x="1336" y="464"/>
                  </a:lnTo>
                  <a:lnTo>
                    <a:pt x="1354" y="452"/>
                  </a:lnTo>
                  <a:lnTo>
                    <a:pt x="1370" y="436"/>
                  </a:lnTo>
                  <a:lnTo>
                    <a:pt x="1370" y="436"/>
                  </a:lnTo>
                  <a:lnTo>
                    <a:pt x="1390" y="416"/>
                  </a:lnTo>
                  <a:lnTo>
                    <a:pt x="1410" y="396"/>
                  </a:lnTo>
                  <a:lnTo>
                    <a:pt x="1434" y="376"/>
                  </a:lnTo>
                  <a:lnTo>
                    <a:pt x="1458" y="360"/>
                  </a:lnTo>
                  <a:lnTo>
                    <a:pt x="1458" y="360"/>
                  </a:lnTo>
                  <a:lnTo>
                    <a:pt x="1500" y="334"/>
                  </a:lnTo>
                  <a:lnTo>
                    <a:pt x="1546" y="314"/>
                  </a:lnTo>
                  <a:lnTo>
                    <a:pt x="1594" y="296"/>
                  </a:lnTo>
                  <a:lnTo>
                    <a:pt x="1646" y="282"/>
                  </a:lnTo>
                  <a:lnTo>
                    <a:pt x="1646" y="282"/>
                  </a:lnTo>
                  <a:lnTo>
                    <a:pt x="1700" y="270"/>
                  </a:lnTo>
                  <a:lnTo>
                    <a:pt x="1752" y="262"/>
                  </a:lnTo>
                  <a:lnTo>
                    <a:pt x="1806" y="258"/>
                  </a:lnTo>
                  <a:lnTo>
                    <a:pt x="1858" y="256"/>
                  </a:lnTo>
                  <a:lnTo>
                    <a:pt x="1858" y="256"/>
                  </a:lnTo>
                  <a:lnTo>
                    <a:pt x="1910" y="258"/>
                  </a:lnTo>
                  <a:lnTo>
                    <a:pt x="1958" y="262"/>
                  </a:lnTo>
                  <a:lnTo>
                    <a:pt x="2002" y="268"/>
                  </a:lnTo>
                  <a:lnTo>
                    <a:pt x="2040" y="278"/>
                  </a:lnTo>
                  <a:lnTo>
                    <a:pt x="2040" y="278"/>
                  </a:lnTo>
                  <a:lnTo>
                    <a:pt x="2074" y="288"/>
                  </a:lnTo>
                  <a:lnTo>
                    <a:pt x="2102" y="300"/>
                  </a:lnTo>
                  <a:lnTo>
                    <a:pt x="2102" y="300"/>
                  </a:lnTo>
                  <a:lnTo>
                    <a:pt x="2120" y="310"/>
                  </a:lnTo>
                  <a:lnTo>
                    <a:pt x="2130" y="318"/>
                  </a:lnTo>
                  <a:lnTo>
                    <a:pt x="2130" y="318"/>
                  </a:lnTo>
                  <a:lnTo>
                    <a:pt x="2146" y="332"/>
                  </a:lnTo>
                  <a:lnTo>
                    <a:pt x="2164" y="344"/>
                  </a:lnTo>
                  <a:lnTo>
                    <a:pt x="2184" y="350"/>
                  </a:lnTo>
                  <a:lnTo>
                    <a:pt x="2204" y="354"/>
                  </a:lnTo>
                  <a:lnTo>
                    <a:pt x="2226" y="354"/>
                  </a:lnTo>
                  <a:lnTo>
                    <a:pt x="2246" y="350"/>
                  </a:lnTo>
                  <a:lnTo>
                    <a:pt x="2266" y="342"/>
                  </a:lnTo>
                  <a:lnTo>
                    <a:pt x="2284" y="332"/>
                  </a:lnTo>
                  <a:lnTo>
                    <a:pt x="2284" y="332"/>
                  </a:lnTo>
                  <a:lnTo>
                    <a:pt x="2314" y="312"/>
                  </a:lnTo>
                  <a:lnTo>
                    <a:pt x="2348" y="296"/>
                  </a:lnTo>
                  <a:lnTo>
                    <a:pt x="2386" y="280"/>
                  </a:lnTo>
                  <a:lnTo>
                    <a:pt x="2428" y="266"/>
                  </a:lnTo>
                  <a:lnTo>
                    <a:pt x="2428" y="266"/>
                  </a:lnTo>
                  <a:lnTo>
                    <a:pt x="2472" y="256"/>
                  </a:lnTo>
                  <a:lnTo>
                    <a:pt x="2518" y="248"/>
                  </a:lnTo>
                  <a:lnTo>
                    <a:pt x="2566" y="242"/>
                  </a:lnTo>
                  <a:lnTo>
                    <a:pt x="2616" y="240"/>
                  </a:lnTo>
                  <a:lnTo>
                    <a:pt x="2616" y="240"/>
                  </a:lnTo>
                  <a:lnTo>
                    <a:pt x="2656" y="242"/>
                  </a:lnTo>
                  <a:lnTo>
                    <a:pt x="2696" y="246"/>
                  </a:lnTo>
                  <a:lnTo>
                    <a:pt x="2736" y="250"/>
                  </a:lnTo>
                  <a:lnTo>
                    <a:pt x="2776" y="258"/>
                  </a:lnTo>
                  <a:lnTo>
                    <a:pt x="2776" y="258"/>
                  </a:lnTo>
                  <a:lnTo>
                    <a:pt x="2806" y="266"/>
                  </a:lnTo>
                  <a:lnTo>
                    <a:pt x="2834" y="274"/>
                  </a:lnTo>
                  <a:lnTo>
                    <a:pt x="2864" y="284"/>
                  </a:lnTo>
                  <a:lnTo>
                    <a:pt x="2892" y="296"/>
                  </a:lnTo>
                  <a:lnTo>
                    <a:pt x="2920" y="308"/>
                  </a:lnTo>
                  <a:lnTo>
                    <a:pt x="2946" y="322"/>
                  </a:lnTo>
                  <a:lnTo>
                    <a:pt x="2972" y="336"/>
                  </a:lnTo>
                  <a:lnTo>
                    <a:pt x="2998" y="354"/>
                  </a:lnTo>
                  <a:lnTo>
                    <a:pt x="2998" y="354"/>
                  </a:lnTo>
                  <a:lnTo>
                    <a:pt x="3024" y="372"/>
                  </a:lnTo>
                  <a:lnTo>
                    <a:pt x="3046" y="392"/>
                  </a:lnTo>
                  <a:lnTo>
                    <a:pt x="3070" y="412"/>
                  </a:lnTo>
                  <a:lnTo>
                    <a:pt x="3092" y="434"/>
                  </a:lnTo>
                  <a:lnTo>
                    <a:pt x="3112" y="458"/>
                  </a:lnTo>
                  <a:lnTo>
                    <a:pt x="3132" y="484"/>
                  </a:lnTo>
                  <a:lnTo>
                    <a:pt x="3150" y="512"/>
                  </a:lnTo>
                  <a:lnTo>
                    <a:pt x="3168" y="540"/>
                  </a:lnTo>
                  <a:lnTo>
                    <a:pt x="3168" y="540"/>
                  </a:lnTo>
                  <a:lnTo>
                    <a:pt x="3176" y="552"/>
                  </a:lnTo>
                  <a:lnTo>
                    <a:pt x="3184" y="562"/>
                  </a:lnTo>
                  <a:lnTo>
                    <a:pt x="3194" y="572"/>
                  </a:lnTo>
                  <a:lnTo>
                    <a:pt x="3204" y="580"/>
                  </a:lnTo>
                  <a:lnTo>
                    <a:pt x="3216" y="586"/>
                  </a:lnTo>
                  <a:lnTo>
                    <a:pt x="3228" y="592"/>
                  </a:lnTo>
                  <a:lnTo>
                    <a:pt x="3242" y="596"/>
                  </a:lnTo>
                  <a:lnTo>
                    <a:pt x="3254" y="600"/>
                  </a:lnTo>
                  <a:lnTo>
                    <a:pt x="3272" y="4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50"/>
            <p:cNvSpPr/>
            <p:nvPr/>
          </p:nvSpPr>
          <p:spPr>
            <a:xfrm>
              <a:off x="628560" y="527040"/>
              <a:ext cx="6273720" cy="7423200"/>
            </a:xfrm>
            <a:custGeom>
              <a:avLst/>
              <a:gdLst>
                <a:gd name="textAreaLeft" fmla="*/ 0 w 6273720"/>
                <a:gd name="textAreaRight" fmla="*/ 6274080 w 6273720"/>
                <a:gd name="textAreaTop" fmla="*/ 0 h 7423200"/>
                <a:gd name="textAreaBottom" fmla="*/ 7423560 h 7423200"/>
              </a:gdLst>
              <a:ahLst/>
              <a:rect l="textAreaLeft" t="textAreaTop" r="textAreaRight" b="textAreaBottom"/>
              <a:pathLst>
                <a:path w="3952" h="4676">
                  <a:moveTo>
                    <a:pt x="3152" y="360"/>
                  </a:moveTo>
                  <a:lnTo>
                    <a:pt x="3152" y="360"/>
                  </a:lnTo>
                  <a:lnTo>
                    <a:pt x="3130" y="322"/>
                  </a:lnTo>
                  <a:lnTo>
                    <a:pt x="3106" y="286"/>
                  </a:lnTo>
                  <a:lnTo>
                    <a:pt x="3078" y="252"/>
                  </a:lnTo>
                  <a:lnTo>
                    <a:pt x="3050" y="222"/>
                  </a:lnTo>
                  <a:lnTo>
                    <a:pt x="3022" y="192"/>
                  </a:lnTo>
                  <a:lnTo>
                    <a:pt x="2990" y="166"/>
                  </a:lnTo>
                  <a:lnTo>
                    <a:pt x="2958" y="142"/>
                  </a:lnTo>
                  <a:lnTo>
                    <a:pt x="2924" y="118"/>
                  </a:lnTo>
                  <a:lnTo>
                    <a:pt x="2890" y="98"/>
                  </a:lnTo>
                  <a:lnTo>
                    <a:pt x="2856" y="80"/>
                  </a:lnTo>
                  <a:lnTo>
                    <a:pt x="2820" y="64"/>
                  </a:lnTo>
                  <a:lnTo>
                    <a:pt x="2784" y="48"/>
                  </a:lnTo>
                  <a:lnTo>
                    <a:pt x="2746" y="36"/>
                  </a:lnTo>
                  <a:lnTo>
                    <a:pt x="2708" y="26"/>
                  </a:lnTo>
                  <a:lnTo>
                    <a:pt x="2670" y="16"/>
                  </a:lnTo>
                  <a:lnTo>
                    <a:pt x="2632" y="10"/>
                  </a:lnTo>
                  <a:lnTo>
                    <a:pt x="2594" y="4"/>
                  </a:lnTo>
                  <a:lnTo>
                    <a:pt x="2556" y="2"/>
                  </a:lnTo>
                  <a:lnTo>
                    <a:pt x="2520" y="0"/>
                  </a:lnTo>
                  <a:lnTo>
                    <a:pt x="2482" y="0"/>
                  </a:lnTo>
                  <a:lnTo>
                    <a:pt x="2444" y="0"/>
                  </a:lnTo>
                  <a:lnTo>
                    <a:pt x="2408" y="4"/>
                  </a:lnTo>
                  <a:lnTo>
                    <a:pt x="2372" y="8"/>
                  </a:lnTo>
                  <a:lnTo>
                    <a:pt x="2336" y="14"/>
                  </a:lnTo>
                  <a:lnTo>
                    <a:pt x="2302" y="22"/>
                  </a:lnTo>
                  <a:lnTo>
                    <a:pt x="2268" y="30"/>
                  </a:lnTo>
                  <a:lnTo>
                    <a:pt x="2236" y="40"/>
                  </a:lnTo>
                  <a:lnTo>
                    <a:pt x="2206" y="52"/>
                  </a:lnTo>
                  <a:lnTo>
                    <a:pt x="2176" y="66"/>
                  </a:lnTo>
                  <a:lnTo>
                    <a:pt x="2146" y="80"/>
                  </a:lnTo>
                  <a:lnTo>
                    <a:pt x="2120" y="96"/>
                  </a:lnTo>
                  <a:lnTo>
                    <a:pt x="2094" y="112"/>
                  </a:lnTo>
                  <a:lnTo>
                    <a:pt x="2094" y="112"/>
                  </a:lnTo>
                  <a:lnTo>
                    <a:pt x="2080" y="98"/>
                  </a:lnTo>
                  <a:lnTo>
                    <a:pt x="2064" y="86"/>
                  </a:lnTo>
                  <a:lnTo>
                    <a:pt x="2044" y="74"/>
                  </a:lnTo>
                  <a:lnTo>
                    <a:pt x="2022" y="64"/>
                  </a:lnTo>
                  <a:lnTo>
                    <a:pt x="2000" y="54"/>
                  </a:lnTo>
                  <a:lnTo>
                    <a:pt x="1974" y="46"/>
                  </a:lnTo>
                  <a:lnTo>
                    <a:pt x="1948" y="38"/>
                  </a:lnTo>
                  <a:lnTo>
                    <a:pt x="1920" y="32"/>
                  </a:lnTo>
                  <a:lnTo>
                    <a:pt x="1890" y="26"/>
                  </a:lnTo>
                  <a:lnTo>
                    <a:pt x="1860" y="22"/>
                  </a:lnTo>
                  <a:lnTo>
                    <a:pt x="1794" y="16"/>
                  </a:lnTo>
                  <a:lnTo>
                    <a:pt x="1726" y="14"/>
                  </a:lnTo>
                  <a:lnTo>
                    <a:pt x="1692" y="14"/>
                  </a:lnTo>
                  <a:lnTo>
                    <a:pt x="1658" y="16"/>
                  </a:lnTo>
                  <a:lnTo>
                    <a:pt x="1622" y="20"/>
                  </a:lnTo>
                  <a:lnTo>
                    <a:pt x="1586" y="26"/>
                  </a:lnTo>
                  <a:lnTo>
                    <a:pt x="1550" y="32"/>
                  </a:lnTo>
                  <a:lnTo>
                    <a:pt x="1516" y="38"/>
                  </a:lnTo>
                  <a:lnTo>
                    <a:pt x="1480" y="48"/>
                  </a:lnTo>
                  <a:lnTo>
                    <a:pt x="1446" y="58"/>
                  </a:lnTo>
                  <a:lnTo>
                    <a:pt x="1412" y="68"/>
                  </a:lnTo>
                  <a:lnTo>
                    <a:pt x="1380" y="82"/>
                  </a:lnTo>
                  <a:lnTo>
                    <a:pt x="1348" y="96"/>
                  </a:lnTo>
                  <a:lnTo>
                    <a:pt x="1316" y="112"/>
                  </a:lnTo>
                  <a:lnTo>
                    <a:pt x="1286" y="128"/>
                  </a:lnTo>
                  <a:lnTo>
                    <a:pt x="1258" y="148"/>
                  </a:lnTo>
                  <a:lnTo>
                    <a:pt x="1230" y="168"/>
                  </a:lnTo>
                  <a:lnTo>
                    <a:pt x="1204" y="190"/>
                  </a:lnTo>
                  <a:lnTo>
                    <a:pt x="1180" y="214"/>
                  </a:lnTo>
                  <a:lnTo>
                    <a:pt x="1158" y="238"/>
                  </a:lnTo>
                  <a:lnTo>
                    <a:pt x="1158" y="238"/>
                  </a:lnTo>
                  <a:lnTo>
                    <a:pt x="1128" y="244"/>
                  </a:lnTo>
                  <a:lnTo>
                    <a:pt x="1090" y="256"/>
                  </a:lnTo>
                  <a:lnTo>
                    <a:pt x="1044" y="272"/>
                  </a:lnTo>
                  <a:lnTo>
                    <a:pt x="994" y="292"/>
                  </a:lnTo>
                  <a:lnTo>
                    <a:pt x="938" y="318"/>
                  </a:lnTo>
                  <a:lnTo>
                    <a:pt x="878" y="350"/>
                  </a:lnTo>
                  <a:lnTo>
                    <a:pt x="818" y="386"/>
                  </a:lnTo>
                  <a:lnTo>
                    <a:pt x="756" y="426"/>
                  </a:lnTo>
                  <a:lnTo>
                    <a:pt x="694" y="472"/>
                  </a:lnTo>
                  <a:lnTo>
                    <a:pt x="664" y="498"/>
                  </a:lnTo>
                  <a:lnTo>
                    <a:pt x="634" y="524"/>
                  </a:lnTo>
                  <a:lnTo>
                    <a:pt x="606" y="552"/>
                  </a:lnTo>
                  <a:lnTo>
                    <a:pt x="578" y="580"/>
                  </a:lnTo>
                  <a:lnTo>
                    <a:pt x="552" y="610"/>
                  </a:lnTo>
                  <a:lnTo>
                    <a:pt x="526" y="642"/>
                  </a:lnTo>
                  <a:lnTo>
                    <a:pt x="500" y="674"/>
                  </a:lnTo>
                  <a:lnTo>
                    <a:pt x="478" y="708"/>
                  </a:lnTo>
                  <a:lnTo>
                    <a:pt x="456" y="742"/>
                  </a:lnTo>
                  <a:lnTo>
                    <a:pt x="438" y="778"/>
                  </a:lnTo>
                  <a:lnTo>
                    <a:pt x="420" y="816"/>
                  </a:lnTo>
                  <a:lnTo>
                    <a:pt x="404" y="854"/>
                  </a:lnTo>
                  <a:lnTo>
                    <a:pt x="392" y="894"/>
                  </a:lnTo>
                  <a:lnTo>
                    <a:pt x="382" y="936"/>
                  </a:lnTo>
                  <a:lnTo>
                    <a:pt x="382" y="936"/>
                  </a:lnTo>
                  <a:lnTo>
                    <a:pt x="360" y="944"/>
                  </a:lnTo>
                  <a:lnTo>
                    <a:pt x="340" y="954"/>
                  </a:lnTo>
                  <a:lnTo>
                    <a:pt x="318" y="968"/>
                  </a:lnTo>
                  <a:lnTo>
                    <a:pt x="296" y="982"/>
                  </a:lnTo>
                  <a:lnTo>
                    <a:pt x="276" y="998"/>
                  </a:lnTo>
                  <a:lnTo>
                    <a:pt x="254" y="1018"/>
                  </a:lnTo>
                  <a:lnTo>
                    <a:pt x="234" y="1038"/>
                  </a:lnTo>
                  <a:lnTo>
                    <a:pt x="212" y="1060"/>
                  </a:lnTo>
                  <a:lnTo>
                    <a:pt x="192" y="1084"/>
                  </a:lnTo>
                  <a:lnTo>
                    <a:pt x="174" y="1110"/>
                  </a:lnTo>
                  <a:lnTo>
                    <a:pt x="154" y="1138"/>
                  </a:lnTo>
                  <a:lnTo>
                    <a:pt x="136" y="1168"/>
                  </a:lnTo>
                  <a:lnTo>
                    <a:pt x="118" y="1198"/>
                  </a:lnTo>
                  <a:lnTo>
                    <a:pt x="102" y="1230"/>
                  </a:lnTo>
                  <a:lnTo>
                    <a:pt x="86" y="1264"/>
                  </a:lnTo>
                  <a:lnTo>
                    <a:pt x="72" y="1298"/>
                  </a:lnTo>
                  <a:lnTo>
                    <a:pt x="58" y="1336"/>
                  </a:lnTo>
                  <a:lnTo>
                    <a:pt x="46" y="1374"/>
                  </a:lnTo>
                  <a:lnTo>
                    <a:pt x="34" y="1412"/>
                  </a:lnTo>
                  <a:lnTo>
                    <a:pt x="24" y="1452"/>
                  </a:lnTo>
                  <a:lnTo>
                    <a:pt x="16" y="1494"/>
                  </a:lnTo>
                  <a:lnTo>
                    <a:pt x="10" y="1538"/>
                  </a:lnTo>
                  <a:lnTo>
                    <a:pt x="6" y="1580"/>
                  </a:lnTo>
                  <a:lnTo>
                    <a:pt x="2" y="1626"/>
                  </a:lnTo>
                  <a:lnTo>
                    <a:pt x="0" y="1672"/>
                  </a:lnTo>
                  <a:lnTo>
                    <a:pt x="2" y="1718"/>
                  </a:lnTo>
                  <a:lnTo>
                    <a:pt x="4" y="1766"/>
                  </a:lnTo>
                  <a:lnTo>
                    <a:pt x="10" y="1814"/>
                  </a:lnTo>
                  <a:lnTo>
                    <a:pt x="16" y="1862"/>
                  </a:lnTo>
                  <a:lnTo>
                    <a:pt x="26" y="1912"/>
                  </a:lnTo>
                  <a:lnTo>
                    <a:pt x="38" y="1962"/>
                  </a:lnTo>
                  <a:lnTo>
                    <a:pt x="52" y="2014"/>
                  </a:lnTo>
                  <a:lnTo>
                    <a:pt x="52" y="2014"/>
                  </a:lnTo>
                  <a:lnTo>
                    <a:pt x="38" y="2076"/>
                  </a:lnTo>
                  <a:lnTo>
                    <a:pt x="24" y="2138"/>
                  </a:lnTo>
                  <a:lnTo>
                    <a:pt x="18" y="2172"/>
                  </a:lnTo>
                  <a:lnTo>
                    <a:pt x="14" y="2208"/>
                  </a:lnTo>
                  <a:lnTo>
                    <a:pt x="10" y="2246"/>
                  </a:lnTo>
                  <a:lnTo>
                    <a:pt x="10" y="2292"/>
                  </a:lnTo>
                  <a:lnTo>
                    <a:pt x="12" y="2342"/>
                  </a:lnTo>
                  <a:lnTo>
                    <a:pt x="18" y="2398"/>
                  </a:lnTo>
                  <a:lnTo>
                    <a:pt x="26" y="2460"/>
                  </a:lnTo>
                  <a:lnTo>
                    <a:pt x="38" y="2532"/>
                  </a:lnTo>
                  <a:lnTo>
                    <a:pt x="54" y="2614"/>
                  </a:lnTo>
                  <a:lnTo>
                    <a:pt x="76" y="2704"/>
                  </a:lnTo>
                  <a:lnTo>
                    <a:pt x="102" y="2806"/>
                  </a:lnTo>
                  <a:lnTo>
                    <a:pt x="134" y="2920"/>
                  </a:lnTo>
                  <a:lnTo>
                    <a:pt x="134" y="2920"/>
                  </a:lnTo>
                  <a:lnTo>
                    <a:pt x="142" y="2948"/>
                  </a:lnTo>
                  <a:lnTo>
                    <a:pt x="154" y="2976"/>
                  </a:lnTo>
                  <a:lnTo>
                    <a:pt x="166" y="3006"/>
                  </a:lnTo>
                  <a:lnTo>
                    <a:pt x="180" y="3036"/>
                  </a:lnTo>
                  <a:lnTo>
                    <a:pt x="214" y="3098"/>
                  </a:lnTo>
                  <a:lnTo>
                    <a:pt x="254" y="3160"/>
                  </a:lnTo>
                  <a:lnTo>
                    <a:pt x="300" y="3226"/>
                  </a:lnTo>
                  <a:lnTo>
                    <a:pt x="350" y="3292"/>
                  </a:lnTo>
                  <a:lnTo>
                    <a:pt x="406" y="3360"/>
                  </a:lnTo>
                  <a:lnTo>
                    <a:pt x="466" y="3428"/>
                  </a:lnTo>
                  <a:lnTo>
                    <a:pt x="528" y="3496"/>
                  </a:lnTo>
                  <a:lnTo>
                    <a:pt x="596" y="3564"/>
                  </a:lnTo>
                  <a:lnTo>
                    <a:pt x="666" y="3634"/>
                  </a:lnTo>
                  <a:lnTo>
                    <a:pt x="738" y="3702"/>
                  </a:lnTo>
                  <a:lnTo>
                    <a:pt x="812" y="3772"/>
                  </a:lnTo>
                  <a:lnTo>
                    <a:pt x="888" y="3840"/>
                  </a:lnTo>
                  <a:lnTo>
                    <a:pt x="964" y="3906"/>
                  </a:lnTo>
                  <a:lnTo>
                    <a:pt x="1042" y="3972"/>
                  </a:lnTo>
                  <a:lnTo>
                    <a:pt x="1196" y="4100"/>
                  </a:lnTo>
                  <a:lnTo>
                    <a:pt x="1348" y="4220"/>
                  </a:lnTo>
                  <a:lnTo>
                    <a:pt x="1490" y="4330"/>
                  </a:lnTo>
                  <a:lnTo>
                    <a:pt x="1622" y="4430"/>
                  </a:lnTo>
                  <a:lnTo>
                    <a:pt x="1740" y="4516"/>
                  </a:lnTo>
                  <a:lnTo>
                    <a:pt x="1840" y="4588"/>
                  </a:lnTo>
                  <a:lnTo>
                    <a:pt x="1966" y="4676"/>
                  </a:lnTo>
                  <a:lnTo>
                    <a:pt x="1966" y="4676"/>
                  </a:lnTo>
                  <a:lnTo>
                    <a:pt x="2282" y="4488"/>
                  </a:lnTo>
                  <a:lnTo>
                    <a:pt x="2632" y="4278"/>
                  </a:lnTo>
                  <a:lnTo>
                    <a:pt x="2786" y="4184"/>
                  </a:lnTo>
                  <a:lnTo>
                    <a:pt x="2910" y="4104"/>
                  </a:lnTo>
                  <a:lnTo>
                    <a:pt x="2992" y="4050"/>
                  </a:lnTo>
                  <a:lnTo>
                    <a:pt x="3014" y="4034"/>
                  </a:lnTo>
                  <a:lnTo>
                    <a:pt x="3018" y="4030"/>
                  </a:lnTo>
                  <a:lnTo>
                    <a:pt x="3020" y="4026"/>
                  </a:lnTo>
                  <a:lnTo>
                    <a:pt x="3020" y="4026"/>
                  </a:lnTo>
                  <a:lnTo>
                    <a:pt x="3020" y="4022"/>
                  </a:lnTo>
                  <a:lnTo>
                    <a:pt x="3026" y="4008"/>
                  </a:lnTo>
                  <a:lnTo>
                    <a:pt x="3048" y="3962"/>
                  </a:lnTo>
                  <a:lnTo>
                    <a:pt x="3134" y="3796"/>
                  </a:lnTo>
                  <a:lnTo>
                    <a:pt x="3262" y="3552"/>
                  </a:lnTo>
                  <a:lnTo>
                    <a:pt x="3336" y="3408"/>
                  </a:lnTo>
                  <a:lnTo>
                    <a:pt x="3412" y="3254"/>
                  </a:lnTo>
                  <a:lnTo>
                    <a:pt x="3492" y="3092"/>
                  </a:lnTo>
                  <a:lnTo>
                    <a:pt x="3570" y="2924"/>
                  </a:lnTo>
                  <a:lnTo>
                    <a:pt x="3644" y="2756"/>
                  </a:lnTo>
                  <a:lnTo>
                    <a:pt x="3680" y="2672"/>
                  </a:lnTo>
                  <a:lnTo>
                    <a:pt x="3714" y="2588"/>
                  </a:lnTo>
                  <a:lnTo>
                    <a:pt x="3746" y="2504"/>
                  </a:lnTo>
                  <a:lnTo>
                    <a:pt x="3776" y="2424"/>
                  </a:lnTo>
                  <a:lnTo>
                    <a:pt x="3804" y="2344"/>
                  </a:lnTo>
                  <a:lnTo>
                    <a:pt x="3828" y="2266"/>
                  </a:lnTo>
                  <a:lnTo>
                    <a:pt x="3850" y="2190"/>
                  </a:lnTo>
                  <a:lnTo>
                    <a:pt x="3870" y="2118"/>
                  </a:lnTo>
                  <a:lnTo>
                    <a:pt x="3884" y="2048"/>
                  </a:lnTo>
                  <a:lnTo>
                    <a:pt x="3896" y="1982"/>
                  </a:lnTo>
                  <a:lnTo>
                    <a:pt x="3896" y="1982"/>
                  </a:lnTo>
                  <a:lnTo>
                    <a:pt x="3910" y="1904"/>
                  </a:lnTo>
                  <a:lnTo>
                    <a:pt x="3922" y="1814"/>
                  </a:lnTo>
                  <a:lnTo>
                    <a:pt x="3934" y="1716"/>
                  </a:lnTo>
                  <a:lnTo>
                    <a:pt x="3944" y="1616"/>
                  </a:lnTo>
                  <a:lnTo>
                    <a:pt x="3950" y="1516"/>
                  </a:lnTo>
                  <a:lnTo>
                    <a:pt x="3952" y="1468"/>
                  </a:lnTo>
                  <a:lnTo>
                    <a:pt x="3952" y="1422"/>
                  </a:lnTo>
                  <a:lnTo>
                    <a:pt x="3952" y="1378"/>
                  </a:lnTo>
                  <a:lnTo>
                    <a:pt x="3948" y="1336"/>
                  </a:lnTo>
                  <a:lnTo>
                    <a:pt x="3944" y="1298"/>
                  </a:lnTo>
                  <a:lnTo>
                    <a:pt x="3940" y="1264"/>
                  </a:lnTo>
                  <a:lnTo>
                    <a:pt x="3940" y="1264"/>
                  </a:lnTo>
                  <a:lnTo>
                    <a:pt x="3938" y="1232"/>
                  </a:lnTo>
                  <a:lnTo>
                    <a:pt x="3934" y="1198"/>
                  </a:lnTo>
                  <a:lnTo>
                    <a:pt x="3928" y="1164"/>
                  </a:lnTo>
                  <a:lnTo>
                    <a:pt x="3920" y="1130"/>
                  </a:lnTo>
                  <a:lnTo>
                    <a:pt x="3910" y="1094"/>
                  </a:lnTo>
                  <a:lnTo>
                    <a:pt x="3898" y="1058"/>
                  </a:lnTo>
                  <a:lnTo>
                    <a:pt x="3884" y="1022"/>
                  </a:lnTo>
                  <a:lnTo>
                    <a:pt x="3868" y="986"/>
                  </a:lnTo>
                  <a:lnTo>
                    <a:pt x="3850" y="950"/>
                  </a:lnTo>
                  <a:lnTo>
                    <a:pt x="3830" y="914"/>
                  </a:lnTo>
                  <a:lnTo>
                    <a:pt x="3810" y="878"/>
                  </a:lnTo>
                  <a:lnTo>
                    <a:pt x="3786" y="842"/>
                  </a:lnTo>
                  <a:lnTo>
                    <a:pt x="3762" y="806"/>
                  </a:lnTo>
                  <a:lnTo>
                    <a:pt x="3736" y="772"/>
                  </a:lnTo>
                  <a:lnTo>
                    <a:pt x="3710" y="736"/>
                  </a:lnTo>
                  <a:lnTo>
                    <a:pt x="3682" y="704"/>
                  </a:lnTo>
                  <a:lnTo>
                    <a:pt x="3652" y="670"/>
                  </a:lnTo>
                  <a:lnTo>
                    <a:pt x="3622" y="640"/>
                  </a:lnTo>
                  <a:lnTo>
                    <a:pt x="3592" y="608"/>
                  </a:lnTo>
                  <a:lnTo>
                    <a:pt x="3560" y="578"/>
                  </a:lnTo>
                  <a:lnTo>
                    <a:pt x="3528" y="550"/>
                  </a:lnTo>
                  <a:lnTo>
                    <a:pt x="3494" y="524"/>
                  </a:lnTo>
                  <a:lnTo>
                    <a:pt x="3462" y="498"/>
                  </a:lnTo>
                  <a:lnTo>
                    <a:pt x="3428" y="476"/>
                  </a:lnTo>
                  <a:lnTo>
                    <a:pt x="3394" y="454"/>
                  </a:lnTo>
                  <a:lnTo>
                    <a:pt x="3358" y="434"/>
                  </a:lnTo>
                  <a:lnTo>
                    <a:pt x="3324" y="416"/>
                  </a:lnTo>
                  <a:lnTo>
                    <a:pt x="3290" y="400"/>
                  </a:lnTo>
                  <a:lnTo>
                    <a:pt x="3256" y="386"/>
                  </a:lnTo>
                  <a:lnTo>
                    <a:pt x="3220" y="374"/>
                  </a:lnTo>
                  <a:lnTo>
                    <a:pt x="3186" y="366"/>
                  </a:lnTo>
                  <a:lnTo>
                    <a:pt x="3152" y="360"/>
                  </a:lnTo>
                  <a:lnTo>
                    <a:pt x="3152" y="360"/>
                  </a:lnTo>
                  <a:close/>
                </a:path>
              </a:pathLst>
            </a:custGeom>
            <a:solidFill>
              <a:srgbClr val="d43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438120" y="333360"/>
              <a:ext cx="6654960" cy="7807680"/>
            </a:xfrm>
            <a:custGeom>
              <a:avLst/>
              <a:gdLst>
                <a:gd name="textAreaLeft" fmla="*/ 0 w 6654960"/>
                <a:gd name="textAreaRight" fmla="*/ 6655320 w 6654960"/>
                <a:gd name="textAreaTop" fmla="*/ 0 h 7807680"/>
                <a:gd name="textAreaBottom" fmla="*/ 7807680 h 7807680"/>
              </a:gdLst>
              <a:ahLst/>
              <a:rect l="textAreaLeft" t="textAreaTop" r="textAreaRight" b="textAreaBottom"/>
              <a:pathLst>
                <a:path w="4192" h="4918">
                  <a:moveTo>
                    <a:pt x="3272" y="482"/>
                  </a:moveTo>
                  <a:lnTo>
                    <a:pt x="3378" y="422"/>
                  </a:lnTo>
                  <a:lnTo>
                    <a:pt x="3378" y="422"/>
                  </a:lnTo>
                  <a:lnTo>
                    <a:pt x="3362" y="394"/>
                  </a:lnTo>
                  <a:lnTo>
                    <a:pt x="3344" y="368"/>
                  </a:lnTo>
                  <a:lnTo>
                    <a:pt x="3326" y="342"/>
                  </a:lnTo>
                  <a:lnTo>
                    <a:pt x="3308" y="318"/>
                  </a:lnTo>
                  <a:lnTo>
                    <a:pt x="3268" y="272"/>
                  </a:lnTo>
                  <a:lnTo>
                    <a:pt x="3226" y="230"/>
                  </a:lnTo>
                  <a:lnTo>
                    <a:pt x="3226" y="230"/>
                  </a:lnTo>
                  <a:lnTo>
                    <a:pt x="3192" y="200"/>
                  </a:lnTo>
                  <a:lnTo>
                    <a:pt x="3158" y="172"/>
                  </a:lnTo>
                  <a:lnTo>
                    <a:pt x="3122" y="148"/>
                  </a:lnTo>
                  <a:lnTo>
                    <a:pt x="3086" y="126"/>
                  </a:lnTo>
                  <a:lnTo>
                    <a:pt x="3048" y="104"/>
                  </a:lnTo>
                  <a:lnTo>
                    <a:pt x="3010" y="86"/>
                  </a:lnTo>
                  <a:lnTo>
                    <a:pt x="2972" y="68"/>
                  </a:lnTo>
                  <a:lnTo>
                    <a:pt x="2934" y="54"/>
                  </a:lnTo>
                  <a:lnTo>
                    <a:pt x="2934" y="54"/>
                  </a:lnTo>
                  <a:lnTo>
                    <a:pt x="2894" y="42"/>
                  </a:lnTo>
                  <a:lnTo>
                    <a:pt x="2854" y="30"/>
                  </a:lnTo>
                  <a:lnTo>
                    <a:pt x="2814" y="22"/>
                  </a:lnTo>
                  <a:lnTo>
                    <a:pt x="2774" y="14"/>
                  </a:lnTo>
                  <a:lnTo>
                    <a:pt x="2734" y="8"/>
                  </a:lnTo>
                  <a:lnTo>
                    <a:pt x="2694" y="4"/>
                  </a:lnTo>
                  <a:lnTo>
                    <a:pt x="2656" y="2"/>
                  </a:lnTo>
                  <a:lnTo>
                    <a:pt x="2616" y="0"/>
                  </a:lnTo>
                  <a:lnTo>
                    <a:pt x="2616" y="0"/>
                  </a:lnTo>
                  <a:lnTo>
                    <a:pt x="2550" y="4"/>
                  </a:lnTo>
                  <a:lnTo>
                    <a:pt x="2486" y="10"/>
                  </a:lnTo>
                  <a:lnTo>
                    <a:pt x="2424" y="20"/>
                  </a:lnTo>
                  <a:lnTo>
                    <a:pt x="2362" y="36"/>
                  </a:lnTo>
                  <a:lnTo>
                    <a:pt x="2362" y="36"/>
                  </a:lnTo>
                  <a:lnTo>
                    <a:pt x="2304" y="54"/>
                  </a:lnTo>
                  <a:lnTo>
                    <a:pt x="2276" y="66"/>
                  </a:lnTo>
                  <a:lnTo>
                    <a:pt x="2248" y="78"/>
                  </a:lnTo>
                  <a:lnTo>
                    <a:pt x="2220" y="90"/>
                  </a:lnTo>
                  <a:lnTo>
                    <a:pt x="2194" y="104"/>
                  </a:lnTo>
                  <a:lnTo>
                    <a:pt x="2170" y="120"/>
                  </a:lnTo>
                  <a:lnTo>
                    <a:pt x="2146" y="136"/>
                  </a:lnTo>
                  <a:lnTo>
                    <a:pt x="2214" y="234"/>
                  </a:lnTo>
                  <a:lnTo>
                    <a:pt x="2300" y="150"/>
                  </a:lnTo>
                  <a:lnTo>
                    <a:pt x="2300" y="150"/>
                  </a:lnTo>
                  <a:lnTo>
                    <a:pt x="2278" y="130"/>
                  </a:lnTo>
                  <a:lnTo>
                    <a:pt x="2256" y="114"/>
                  </a:lnTo>
                  <a:lnTo>
                    <a:pt x="2234" y="98"/>
                  </a:lnTo>
                  <a:lnTo>
                    <a:pt x="2210" y="86"/>
                  </a:lnTo>
                  <a:lnTo>
                    <a:pt x="2210" y="86"/>
                  </a:lnTo>
                  <a:lnTo>
                    <a:pt x="2172" y="68"/>
                  </a:lnTo>
                  <a:lnTo>
                    <a:pt x="2132" y="54"/>
                  </a:lnTo>
                  <a:lnTo>
                    <a:pt x="2090" y="42"/>
                  </a:lnTo>
                  <a:lnTo>
                    <a:pt x="2046" y="32"/>
                  </a:lnTo>
                  <a:lnTo>
                    <a:pt x="2046" y="32"/>
                  </a:lnTo>
                  <a:lnTo>
                    <a:pt x="2002" y="26"/>
                  </a:lnTo>
                  <a:lnTo>
                    <a:pt x="1956" y="20"/>
                  </a:lnTo>
                  <a:lnTo>
                    <a:pt x="1908" y="16"/>
                  </a:lnTo>
                  <a:lnTo>
                    <a:pt x="1858" y="16"/>
                  </a:lnTo>
                  <a:lnTo>
                    <a:pt x="1858" y="16"/>
                  </a:lnTo>
                  <a:lnTo>
                    <a:pt x="1814" y="16"/>
                  </a:lnTo>
                  <a:lnTo>
                    <a:pt x="1770" y="20"/>
                  </a:lnTo>
                  <a:lnTo>
                    <a:pt x="1724" y="24"/>
                  </a:lnTo>
                  <a:lnTo>
                    <a:pt x="1678" y="30"/>
                  </a:lnTo>
                  <a:lnTo>
                    <a:pt x="1678" y="30"/>
                  </a:lnTo>
                  <a:lnTo>
                    <a:pt x="1610" y="44"/>
                  </a:lnTo>
                  <a:lnTo>
                    <a:pt x="1576" y="52"/>
                  </a:lnTo>
                  <a:lnTo>
                    <a:pt x="1544" y="60"/>
                  </a:lnTo>
                  <a:lnTo>
                    <a:pt x="1510" y="72"/>
                  </a:lnTo>
                  <a:lnTo>
                    <a:pt x="1476" y="84"/>
                  </a:lnTo>
                  <a:lnTo>
                    <a:pt x="1444" y="96"/>
                  </a:lnTo>
                  <a:lnTo>
                    <a:pt x="1412" y="112"/>
                  </a:lnTo>
                  <a:lnTo>
                    <a:pt x="1412" y="112"/>
                  </a:lnTo>
                  <a:lnTo>
                    <a:pt x="1380" y="128"/>
                  </a:lnTo>
                  <a:lnTo>
                    <a:pt x="1348" y="144"/>
                  </a:lnTo>
                  <a:lnTo>
                    <a:pt x="1318" y="164"/>
                  </a:lnTo>
                  <a:lnTo>
                    <a:pt x="1290" y="184"/>
                  </a:lnTo>
                  <a:lnTo>
                    <a:pt x="1290" y="184"/>
                  </a:lnTo>
                  <a:lnTo>
                    <a:pt x="1262" y="206"/>
                  </a:lnTo>
                  <a:lnTo>
                    <a:pt x="1234" y="230"/>
                  </a:lnTo>
                  <a:lnTo>
                    <a:pt x="1208" y="256"/>
                  </a:lnTo>
                  <a:lnTo>
                    <a:pt x="1184" y="284"/>
                  </a:lnTo>
                  <a:lnTo>
                    <a:pt x="1278" y="360"/>
                  </a:lnTo>
                  <a:lnTo>
                    <a:pt x="1260" y="242"/>
                  </a:lnTo>
                  <a:lnTo>
                    <a:pt x="1260" y="242"/>
                  </a:lnTo>
                  <a:lnTo>
                    <a:pt x="1218" y="250"/>
                  </a:lnTo>
                  <a:lnTo>
                    <a:pt x="1218" y="250"/>
                  </a:lnTo>
                  <a:lnTo>
                    <a:pt x="1176" y="262"/>
                  </a:lnTo>
                  <a:lnTo>
                    <a:pt x="1128" y="280"/>
                  </a:lnTo>
                  <a:lnTo>
                    <a:pt x="1128" y="280"/>
                  </a:lnTo>
                  <a:lnTo>
                    <a:pt x="1082" y="298"/>
                  </a:lnTo>
                  <a:lnTo>
                    <a:pt x="1034" y="318"/>
                  </a:lnTo>
                  <a:lnTo>
                    <a:pt x="984" y="344"/>
                  </a:lnTo>
                  <a:lnTo>
                    <a:pt x="930" y="372"/>
                  </a:lnTo>
                  <a:lnTo>
                    <a:pt x="930" y="372"/>
                  </a:lnTo>
                  <a:lnTo>
                    <a:pt x="890" y="396"/>
                  </a:lnTo>
                  <a:lnTo>
                    <a:pt x="848" y="422"/>
                  </a:lnTo>
                  <a:lnTo>
                    <a:pt x="806" y="450"/>
                  </a:lnTo>
                  <a:lnTo>
                    <a:pt x="766" y="482"/>
                  </a:lnTo>
                  <a:lnTo>
                    <a:pt x="724" y="514"/>
                  </a:lnTo>
                  <a:lnTo>
                    <a:pt x="684" y="548"/>
                  </a:lnTo>
                  <a:lnTo>
                    <a:pt x="644" y="586"/>
                  </a:lnTo>
                  <a:lnTo>
                    <a:pt x="606" y="626"/>
                  </a:lnTo>
                  <a:lnTo>
                    <a:pt x="606" y="626"/>
                  </a:lnTo>
                  <a:lnTo>
                    <a:pt x="568" y="666"/>
                  </a:lnTo>
                  <a:lnTo>
                    <a:pt x="534" y="712"/>
                  </a:lnTo>
                  <a:lnTo>
                    <a:pt x="502" y="758"/>
                  </a:lnTo>
                  <a:lnTo>
                    <a:pt x="470" y="808"/>
                  </a:lnTo>
                  <a:lnTo>
                    <a:pt x="470" y="808"/>
                  </a:lnTo>
                  <a:lnTo>
                    <a:pt x="444" y="860"/>
                  </a:lnTo>
                  <a:lnTo>
                    <a:pt x="420" y="914"/>
                  </a:lnTo>
                  <a:lnTo>
                    <a:pt x="400" y="972"/>
                  </a:lnTo>
                  <a:lnTo>
                    <a:pt x="392" y="1002"/>
                  </a:lnTo>
                  <a:lnTo>
                    <a:pt x="384" y="1032"/>
                  </a:lnTo>
                  <a:lnTo>
                    <a:pt x="502" y="1058"/>
                  </a:lnTo>
                  <a:lnTo>
                    <a:pt x="462" y="944"/>
                  </a:lnTo>
                  <a:lnTo>
                    <a:pt x="462" y="944"/>
                  </a:lnTo>
                  <a:lnTo>
                    <a:pt x="438" y="954"/>
                  </a:lnTo>
                  <a:lnTo>
                    <a:pt x="414" y="966"/>
                  </a:lnTo>
                  <a:lnTo>
                    <a:pt x="392" y="978"/>
                  </a:lnTo>
                  <a:lnTo>
                    <a:pt x="370" y="992"/>
                  </a:lnTo>
                  <a:lnTo>
                    <a:pt x="370" y="992"/>
                  </a:lnTo>
                  <a:lnTo>
                    <a:pt x="332" y="1018"/>
                  </a:lnTo>
                  <a:lnTo>
                    <a:pt x="296" y="1050"/>
                  </a:lnTo>
                  <a:lnTo>
                    <a:pt x="260" y="1084"/>
                  </a:lnTo>
                  <a:lnTo>
                    <a:pt x="228" y="1122"/>
                  </a:lnTo>
                  <a:lnTo>
                    <a:pt x="228" y="1122"/>
                  </a:lnTo>
                  <a:lnTo>
                    <a:pt x="204" y="1152"/>
                  </a:lnTo>
                  <a:lnTo>
                    <a:pt x="180" y="1184"/>
                  </a:lnTo>
                  <a:lnTo>
                    <a:pt x="158" y="1218"/>
                  </a:lnTo>
                  <a:lnTo>
                    <a:pt x="138" y="1254"/>
                  </a:lnTo>
                  <a:lnTo>
                    <a:pt x="118" y="1290"/>
                  </a:lnTo>
                  <a:lnTo>
                    <a:pt x="100" y="1330"/>
                  </a:lnTo>
                  <a:lnTo>
                    <a:pt x="82" y="1370"/>
                  </a:lnTo>
                  <a:lnTo>
                    <a:pt x="66" y="1412"/>
                  </a:lnTo>
                  <a:lnTo>
                    <a:pt x="66" y="1412"/>
                  </a:lnTo>
                  <a:lnTo>
                    <a:pt x="52" y="1456"/>
                  </a:lnTo>
                  <a:lnTo>
                    <a:pt x="38" y="1502"/>
                  </a:lnTo>
                  <a:lnTo>
                    <a:pt x="28" y="1548"/>
                  </a:lnTo>
                  <a:lnTo>
                    <a:pt x="18" y="1596"/>
                  </a:lnTo>
                  <a:lnTo>
                    <a:pt x="10" y="1644"/>
                  </a:lnTo>
                  <a:lnTo>
                    <a:pt x="6" y="1694"/>
                  </a:lnTo>
                  <a:lnTo>
                    <a:pt x="2" y="1746"/>
                  </a:lnTo>
                  <a:lnTo>
                    <a:pt x="0" y="1798"/>
                  </a:lnTo>
                  <a:lnTo>
                    <a:pt x="0" y="1798"/>
                  </a:lnTo>
                  <a:lnTo>
                    <a:pt x="2" y="1842"/>
                  </a:lnTo>
                  <a:lnTo>
                    <a:pt x="4" y="1888"/>
                  </a:lnTo>
                  <a:lnTo>
                    <a:pt x="8" y="1934"/>
                  </a:lnTo>
                  <a:lnTo>
                    <a:pt x="14" y="1980"/>
                  </a:lnTo>
                  <a:lnTo>
                    <a:pt x="22" y="2028"/>
                  </a:lnTo>
                  <a:lnTo>
                    <a:pt x="32" y="2074"/>
                  </a:lnTo>
                  <a:lnTo>
                    <a:pt x="44" y="2122"/>
                  </a:lnTo>
                  <a:lnTo>
                    <a:pt x="58" y="2172"/>
                  </a:lnTo>
                  <a:lnTo>
                    <a:pt x="172" y="2136"/>
                  </a:lnTo>
                  <a:lnTo>
                    <a:pt x="56" y="2110"/>
                  </a:lnTo>
                  <a:lnTo>
                    <a:pt x="56" y="2110"/>
                  </a:lnTo>
                  <a:lnTo>
                    <a:pt x="42" y="2168"/>
                  </a:lnTo>
                  <a:lnTo>
                    <a:pt x="42" y="2168"/>
                  </a:lnTo>
                  <a:lnTo>
                    <a:pt x="30" y="2214"/>
                  </a:lnTo>
                  <a:lnTo>
                    <a:pt x="20" y="2268"/>
                  </a:lnTo>
                  <a:lnTo>
                    <a:pt x="20" y="2268"/>
                  </a:lnTo>
                  <a:lnTo>
                    <a:pt x="16" y="2298"/>
                  </a:lnTo>
                  <a:lnTo>
                    <a:pt x="12" y="2330"/>
                  </a:lnTo>
                  <a:lnTo>
                    <a:pt x="10" y="2364"/>
                  </a:lnTo>
                  <a:lnTo>
                    <a:pt x="10" y="2402"/>
                  </a:lnTo>
                  <a:lnTo>
                    <a:pt x="10" y="2402"/>
                  </a:lnTo>
                  <a:lnTo>
                    <a:pt x="12" y="2458"/>
                  </a:lnTo>
                  <a:lnTo>
                    <a:pt x="16" y="2520"/>
                  </a:lnTo>
                  <a:lnTo>
                    <a:pt x="26" y="2590"/>
                  </a:lnTo>
                  <a:lnTo>
                    <a:pt x="38" y="2666"/>
                  </a:lnTo>
                  <a:lnTo>
                    <a:pt x="38" y="2666"/>
                  </a:lnTo>
                  <a:lnTo>
                    <a:pt x="56" y="2752"/>
                  </a:lnTo>
                  <a:lnTo>
                    <a:pt x="78" y="2848"/>
                  </a:lnTo>
                  <a:lnTo>
                    <a:pt x="104" y="2956"/>
                  </a:lnTo>
                  <a:lnTo>
                    <a:pt x="138" y="3074"/>
                  </a:lnTo>
                  <a:lnTo>
                    <a:pt x="138" y="3074"/>
                  </a:lnTo>
                  <a:lnTo>
                    <a:pt x="138" y="3074"/>
                  </a:lnTo>
                  <a:lnTo>
                    <a:pt x="148" y="3110"/>
                  </a:lnTo>
                  <a:lnTo>
                    <a:pt x="162" y="3144"/>
                  </a:lnTo>
                  <a:lnTo>
                    <a:pt x="176" y="3178"/>
                  </a:lnTo>
                  <a:lnTo>
                    <a:pt x="192" y="3212"/>
                  </a:lnTo>
                  <a:lnTo>
                    <a:pt x="192" y="3212"/>
                  </a:lnTo>
                  <a:lnTo>
                    <a:pt x="228" y="3276"/>
                  </a:lnTo>
                  <a:lnTo>
                    <a:pt x="268" y="3340"/>
                  </a:lnTo>
                  <a:lnTo>
                    <a:pt x="312" y="3406"/>
                  </a:lnTo>
                  <a:lnTo>
                    <a:pt x="362" y="3472"/>
                  </a:lnTo>
                  <a:lnTo>
                    <a:pt x="362" y="3472"/>
                  </a:lnTo>
                  <a:lnTo>
                    <a:pt x="408" y="3528"/>
                  </a:lnTo>
                  <a:lnTo>
                    <a:pt x="458" y="3586"/>
                  </a:lnTo>
                  <a:lnTo>
                    <a:pt x="510" y="3644"/>
                  </a:lnTo>
                  <a:lnTo>
                    <a:pt x="564" y="3702"/>
                  </a:lnTo>
                  <a:lnTo>
                    <a:pt x="620" y="3760"/>
                  </a:lnTo>
                  <a:lnTo>
                    <a:pt x="678" y="3818"/>
                  </a:lnTo>
                  <a:lnTo>
                    <a:pt x="800" y="3934"/>
                  </a:lnTo>
                  <a:lnTo>
                    <a:pt x="800" y="3934"/>
                  </a:lnTo>
                  <a:lnTo>
                    <a:pt x="894" y="4020"/>
                  </a:lnTo>
                  <a:lnTo>
                    <a:pt x="988" y="4104"/>
                  </a:lnTo>
                  <a:lnTo>
                    <a:pt x="1086" y="4186"/>
                  </a:lnTo>
                  <a:lnTo>
                    <a:pt x="1182" y="4266"/>
                  </a:lnTo>
                  <a:lnTo>
                    <a:pt x="1276" y="4344"/>
                  </a:lnTo>
                  <a:lnTo>
                    <a:pt x="1370" y="4418"/>
                  </a:lnTo>
                  <a:lnTo>
                    <a:pt x="1548" y="4556"/>
                  </a:lnTo>
                  <a:lnTo>
                    <a:pt x="1548" y="4556"/>
                  </a:lnTo>
                  <a:lnTo>
                    <a:pt x="1710" y="4676"/>
                  </a:lnTo>
                  <a:lnTo>
                    <a:pt x="1846" y="4776"/>
                  </a:lnTo>
                  <a:lnTo>
                    <a:pt x="1952" y="4850"/>
                  </a:lnTo>
                  <a:lnTo>
                    <a:pt x="2018" y="4896"/>
                  </a:lnTo>
                  <a:lnTo>
                    <a:pt x="2018" y="4896"/>
                  </a:lnTo>
                  <a:lnTo>
                    <a:pt x="2032" y="4906"/>
                  </a:lnTo>
                  <a:lnTo>
                    <a:pt x="2048" y="4912"/>
                  </a:lnTo>
                  <a:lnTo>
                    <a:pt x="2066" y="4916"/>
                  </a:lnTo>
                  <a:lnTo>
                    <a:pt x="2082" y="4918"/>
                  </a:lnTo>
                  <a:lnTo>
                    <a:pt x="2098" y="4918"/>
                  </a:lnTo>
                  <a:lnTo>
                    <a:pt x="2116" y="4914"/>
                  </a:lnTo>
                  <a:lnTo>
                    <a:pt x="2132" y="4908"/>
                  </a:lnTo>
                  <a:lnTo>
                    <a:pt x="2148" y="4902"/>
                  </a:lnTo>
                  <a:lnTo>
                    <a:pt x="2148" y="4902"/>
                  </a:lnTo>
                  <a:lnTo>
                    <a:pt x="2460" y="4716"/>
                  </a:lnTo>
                  <a:lnTo>
                    <a:pt x="2806" y="4506"/>
                  </a:lnTo>
                  <a:lnTo>
                    <a:pt x="2806" y="4506"/>
                  </a:lnTo>
                  <a:lnTo>
                    <a:pt x="2962" y="4412"/>
                  </a:lnTo>
                  <a:lnTo>
                    <a:pt x="3090" y="4332"/>
                  </a:lnTo>
                  <a:lnTo>
                    <a:pt x="3090" y="4332"/>
                  </a:lnTo>
                  <a:lnTo>
                    <a:pt x="3138" y="4300"/>
                  </a:lnTo>
                  <a:lnTo>
                    <a:pt x="3138" y="4300"/>
                  </a:lnTo>
                  <a:lnTo>
                    <a:pt x="3168" y="4280"/>
                  </a:lnTo>
                  <a:lnTo>
                    <a:pt x="3168" y="4280"/>
                  </a:lnTo>
                  <a:lnTo>
                    <a:pt x="3188" y="4266"/>
                  </a:lnTo>
                  <a:lnTo>
                    <a:pt x="3188" y="4266"/>
                  </a:lnTo>
                  <a:lnTo>
                    <a:pt x="3200" y="4256"/>
                  </a:lnTo>
                  <a:lnTo>
                    <a:pt x="3200" y="4256"/>
                  </a:lnTo>
                  <a:lnTo>
                    <a:pt x="3210" y="4250"/>
                  </a:lnTo>
                  <a:lnTo>
                    <a:pt x="3210" y="4250"/>
                  </a:lnTo>
                  <a:lnTo>
                    <a:pt x="3218" y="4242"/>
                  </a:lnTo>
                  <a:lnTo>
                    <a:pt x="3218" y="4242"/>
                  </a:lnTo>
                  <a:lnTo>
                    <a:pt x="3224" y="4236"/>
                  </a:lnTo>
                  <a:lnTo>
                    <a:pt x="3224" y="4236"/>
                  </a:lnTo>
                  <a:lnTo>
                    <a:pt x="3230" y="4228"/>
                  </a:lnTo>
                  <a:lnTo>
                    <a:pt x="3240" y="4216"/>
                  </a:lnTo>
                  <a:lnTo>
                    <a:pt x="3240" y="4216"/>
                  </a:lnTo>
                  <a:lnTo>
                    <a:pt x="3244" y="4208"/>
                  </a:lnTo>
                  <a:lnTo>
                    <a:pt x="3250" y="4194"/>
                  </a:lnTo>
                  <a:lnTo>
                    <a:pt x="3250" y="4194"/>
                  </a:lnTo>
                  <a:lnTo>
                    <a:pt x="3256" y="4176"/>
                  </a:lnTo>
                  <a:lnTo>
                    <a:pt x="3256" y="4176"/>
                  </a:lnTo>
                  <a:lnTo>
                    <a:pt x="3258" y="4164"/>
                  </a:lnTo>
                  <a:lnTo>
                    <a:pt x="3260" y="4150"/>
                  </a:lnTo>
                  <a:lnTo>
                    <a:pt x="3260" y="4150"/>
                  </a:lnTo>
                  <a:lnTo>
                    <a:pt x="3258" y="4130"/>
                  </a:lnTo>
                  <a:lnTo>
                    <a:pt x="3252" y="4106"/>
                  </a:lnTo>
                  <a:lnTo>
                    <a:pt x="3252" y="4106"/>
                  </a:lnTo>
                  <a:lnTo>
                    <a:pt x="3248" y="4096"/>
                  </a:lnTo>
                  <a:lnTo>
                    <a:pt x="3240" y="4084"/>
                  </a:lnTo>
                  <a:lnTo>
                    <a:pt x="3234" y="4074"/>
                  </a:lnTo>
                  <a:lnTo>
                    <a:pt x="3226" y="4066"/>
                  </a:lnTo>
                  <a:lnTo>
                    <a:pt x="3226" y="4066"/>
                  </a:lnTo>
                  <a:lnTo>
                    <a:pt x="3140" y="4148"/>
                  </a:lnTo>
                  <a:lnTo>
                    <a:pt x="3246" y="4094"/>
                  </a:lnTo>
                  <a:lnTo>
                    <a:pt x="3246" y="4094"/>
                  </a:lnTo>
                  <a:lnTo>
                    <a:pt x="3238" y="4080"/>
                  </a:lnTo>
                  <a:lnTo>
                    <a:pt x="3226" y="4066"/>
                  </a:lnTo>
                  <a:lnTo>
                    <a:pt x="3140" y="4148"/>
                  </a:lnTo>
                  <a:lnTo>
                    <a:pt x="3246" y="4094"/>
                  </a:lnTo>
                  <a:lnTo>
                    <a:pt x="3140" y="4148"/>
                  </a:lnTo>
                  <a:lnTo>
                    <a:pt x="3258" y="4126"/>
                  </a:lnTo>
                  <a:lnTo>
                    <a:pt x="3258" y="4126"/>
                  </a:lnTo>
                  <a:lnTo>
                    <a:pt x="3254" y="4112"/>
                  </a:lnTo>
                  <a:lnTo>
                    <a:pt x="3246" y="4094"/>
                  </a:lnTo>
                  <a:lnTo>
                    <a:pt x="3140" y="4148"/>
                  </a:lnTo>
                  <a:lnTo>
                    <a:pt x="3258" y="4126"/>
                  </a:lnTo>
                  <a:lnTo>
                    <a:pt x="3142" y="4148"/>
                  </a:lnTo>
                  <a:lnTo>
                    <a:pt x="3260" y="4148"/>
                  </a:lnTo>
                  <a:lnTo>
                    <a:pt x="3260" y="4148"/>
                  </a:lnTo>
                  <a:lnTo>
                    <a:pt x="3258" y="4126"/>
                  </a:lnTo>
                  <a:lnTo>
                    <a:pt x="3142" y="4148"/>
                  </a:lnTo>
                  <a:lnTo>
                    <a:pt x="3260" y="4148"/>
                  </a:lnTo>
                  <a:lnTo>
                    <a:pt x="3148" y="4148"/>
                  </a:lnTo>
                  <a:lnTo>
                    <a:pt x="3258" y="4166"/>
                  </a:lnTo>
                  <a:lnTo>
                    <a:pt x="3258" y="4166"/>
                  </a:lnTo>
                  <a:lnTo>
                    <a:pt x="3260" y="4148"/>
                  </a:lnTo>
                  <a:lnTo>
                    <a:pt x="3148" y="4148"/>
                  </a:lnTo>
                  <a:lnTo>
                    <a:pt x="3258" y="4166"/>
                  </a:lnTo>
                  <a:lnTo>
                    <a:pt x="3160" y="4150"/>
                  </a:lnTo>
                  <a:lnTo>
                    <a:pt x="3256" y="4176"/>
                  </a:lnTo>
                  <a:lnTo>
                    <a:pt x="3256" y="4176"/>
                  </a:lnTo>
                  <a:lnTo>
                    <a:pt x="3258" y="4166"/>
                  </a:lnTo>
                  <a:lnTo>
                    <a:pt x="3160" y="4150"/>
                  </a:lnTo>
                  <a:lnTo>
                    <a:pt x="3256" y="4176"/>
                  </a:lnTo>
                  <a:lnTo>
                    <a:pt x="3194" y="4160"/>
                  </a:lnTo>
                  <a:lnTo>
                    <a:pt x="3254" y="4182"/>
                  </a:lnTo>
                  <a:lnTo>
                    <a:pt x="3254" y="4182"/>
                  </a:lnTo>
                  <a:lnTo>
                    <a:pt x="3256" y="4176"/>
                  </a:lnTo>
                  <a:lnTo>
                    <a:pt x="3194" y="4160"/>
                  </a:lnTo>
                  <a:lnTo>
                    <a:pt x="3254" y="4182"/>
                  </a:lnTo>
                  <a:lnTo>
                    <a:pt x="3248" y="4180"/>
                  </a:lnTo>
                  <a:lnTo>
                    <a:pt x="3254" y="4182"/>
                  </a:lnTo>
                  <a:lnTo>
                    <a:pt x="3254" y="4182"/>
                  </a:lnTo>
                  <a:lnTo>
                    <a:pt x="3248" y="4180"/>
                  </a:lnTo>
                  <a:lnTo>
                    <a:pt x="3254" y="4182"/>
                  </a:lnTo>
                  <a:lnTo>
                    <a:pt x="3254" y="4182"/>
                  </a:lnTo>
                  <a:lnTo>
                    <a:pt x="3258" y="4172"/>
                  </a:lnTo>
                  <a:lnTo>
                    <a:pt x="3258" y="4172"/>
                  </a:lnTo>
                  <a:lnTo>
                    <a:pt x="3278" y="4130"/>
                  </a:lnTo>
                  <a:lnTo>
                    <a:pt x="3278" y="4130"/>
                  </a:lnTo>
                  <a:lnTo>
                    <a:pt x="3354" y="3986"/>
                  </a:lnTo>
                  <a:lnTo>
                    <a:pt x="3354" y="3986"/>
                  </a:lnTo>
                  <a:lnTo>
                    <a:pt x="3446" y="3810"/>
                  </a:lnTo>
                  <a:lnTo>
                    <a:pt x="3556" y="3598"/>
                  </a:lnTo>
                  <a:lnTo>
                    <a:pt x="3556" y="3598"/>
                  </a:lnTo>
                  <a:lnTo>
                    <a:pt x="3644" y="3422"/>
                  </a:lnTo>
                  <a:lnTo>
                    <a:pt x="3734" y="3236"/>
                  </a:lnTo>
                  <a:lnTo>
                    <a:pt x="3822" y="3042"/>
                  </a:lnTo>
                  <a:lnTo>
                    <a:pt x="3866" y="2944"/>
                  </a:lnTo>
                  <a:lnTo>
                    <a:pt x="3908" y="2848"/>
                  </a:lnTo>
                  <a:lnTo>
                    <a:pt x="3908" y="2848"/>
                  </a:lnTo>
                  <a:lnTo>
                    <a:pt x="3946" y="2750"/>
                  </a:lnTo>
                  <a:lnTo>
                    <a:pt x="3984" y="2654"/>
                  </a:lnTo>
                  <a:lnTo>
                    <a:pt x="4018" y="2560"/>
                  </a:lnTo>
                  <a:lnTo>
                    <a:pt x="4050" y="2466"/>
                  </a:lnTo>
                  <a:lnTo>
                    <a:pt x="4050" y="2466"/>
                  </a:lnTo>
                  <a:lnTo>
                    <a:pt x="4078" y="2376"/>
                  </a:lnTo>
                  <a:lnTo>
                    <a:pt x="4100" y="2288"/>
                  </a:lnTo>
                  <a:lnTo>
                    <a:pt x="4120" y="2204"/>
                  </a:lnTo>
                  <a:lnTo>
                    <a:pt x="4134" y="2122"/>
                  </a:lnTo>
                  <a:lnTo>
                    <a:pt x="4016" y="2104"/>
                  </a:lnTo>
                  <a:lnTo>
                    <a:pt x="4134" y="2126"/>
                  </a:lnTo>
                  <a:lnTo>
                    <a:pt x="4134" y="2126"/>
                  </a:lnTo>
                  <a:lnTo>
                    <a:pt x="4144" y="2068"/>
                  </a:lnTo>
                  <a:lnTo>
                    <a:pt x="4154" y="2002"/>
                  </a:lnTo>
                  <a:lnTo>
                    <a:pt x="4164" y="1930"/>
                  </a:lnTo>
                  <a:lnTo>
                    <a:pt x="4172" y="1856"/>
                  </a:lnTo>
                  <a:lnTo>
                    <a:pt x="4172" y="1856"/>
                  </a:lnTo>
                  <a:lnTo>
                    <a:pt x="4180" y="1780"/>
                  </a:lnTo>
                  <a:lnTo>
                    <a:pt x="4186" y="1702"/>
                  </a:lnTo>
                  <a:lnTo>
                    <a:pt x="4190" y="1626"/>
                  </a:lnTo>
                  <a:lnTo>
                    <a:pt x="4192" y="1552"/>
                  </a:lnTo>
                  <a:lnTo>
                    <a:pt x="4192" y="1552"/>
                  </a:lnTo>
                  <a:lnTo>
                    <a:pt x="4192" y="1502"/>
                  </a:lnTo>
                  <a:lnTo>
                    <a:pt x="4188" y="1452"/>
                  </a:lnTo>
                  <a:lnTo>
                    <a:pt x="4188" y="1452"/>
                  </a:lnTo>
                  <a:lnTo>
                    <a:pt x="4184" y="1406"/>
                  </a:lnTo>
                  <a:lnTo>
                    <a:pt x="4176" y="1362"/>
                  </a:lnTo>
                  <a:lnTo>
                    <a:pt x="4060" y="1386"/>
                  </a:lnTo>
                  <a:lnTo>
                    <a:pt x="4180" y="1388"/>
                  </a:lnTo>
                  <a:lnTo>
                    <a:pt x="4180" y="1388"/>
                  </a:lnTo>
                  <a:lnTo>
                    <a:pt x="4180" y="1384"/>
                  </a:lnTo>
                  <a:lnTo>
                    <a:pt x="4180" y="1384"/>
                  </a:lnTo>
                  <a:lnTo>
                    <a:pt x="4178" y="1342"/>
                  </a:lnTo>
                  <a:lnTo>
                    <a:pt x="4174" y="1300"/>
                  </a:lnTo>
                  <a:lnTo>
                    <a:pt x="4166" y="1258"/>
                  </a:lnTo>
                  <a:lnTo>
                    <a:pt x="4156" y="1218"/>
                  </a:lnTo>
                  <a:lnTo>
                    <a:pt x="4156" y="1218"/>
                  </a:lnTo>
                  <a:lnTo>
                    <a:pt x="4146" y="1182"/>
                  </a:lnTo>
                  <a:lnTo>
                    <a:pt x="4134" y="1146"/>
                  </a:lnTo>
                  <a:lnTo>
                    <a:pt x="4120" y="1110"/>
                  </a:lnTo>
                  <a:lnTo>
                    <a:pt x="4104" y="1074"/>
                  </a:lnTo>
                  <a:lnTo>
                    <a:pt x="4088" y="1038"/>
                  </a:lnTo>
                  <a:lnTo>
                    <a:pt x="4070" y="1004"/>
                  </a:lnTo>
                  <a:lnTo>
                    <a:pt x="4050" y="968"/>
                  </a:lnTo>
                  <a:lnTo>
                    <a:pt x="4030" y="934"/>
                  </a:lnTo>
                  <a:lnTo>
                    <a:pt x="4030" y="934"/>
                  </a:lnTo>
                  <a:lnTo>
                    <a:pt x="3996" y="882"/>
                  </a:lnTo>
                  <a:lnTo>
                    <a:pt x="3962" y="832"/>
                  </a:lnTo>
                  <a:lnTo>
                    <a:pt x="3924" y="784"/>
                  </a:lnTo>
                  <a:lnTo>
                    <a:pt x="3884" y="736"/>
                  </a:lnTo>
                  <a:lnTo>
                    <a:pt x="3884" y="736"/>
                  </a:lnTo>
                  <a:lnTo>
                    <a:pt x="3852" y="702"/>
                  </a:lnTo>
                  <a:lnTo>
                    <a:pt x="3820" y="668"/>
                  </a:lnTo>
                  <a:lnTo>
                    <a:pt x="3786" y="636"/>
                  </a:lnTo>
                  <a:lnTo>
                    <a:pt x="3752" y="604"/>
                  </a:lnTo>
                  <a:lnTo>
                    <a:pt x="3718" y="574"/>
                  </a:lnTo>
                  <a:lnTo>
                    <a:pt x="3682" y="546"/>
                  </a:lnTo>
                  <a:lnTo>
                    <a:pt x="3646" y="520"/>
                  </a:lnTo>
                  <a:lnTo>
                    <a:pt x="3608" y="494"/>
                  </a:lnTo>
                  <a:lnTo>
                    <a:pt x="3608" y="494"/>
                  </a:lnTo>
                  <a:lnTo>
                    <a:pt x="3570" y="470"/>
                  </a:lnTo>
                  <a:lnTo>
                    <a:pt x="3532" y="448"/>
                  </a:lnTo>
                  <a:lnTo>
                    <a:pt x="3494" y="428"/>
                  </a:lnTo>
                  <a:lnTo>
                    <a:pt x="3454" y="410"/>
                  </a:lnTo>
                  <a:lnTo>
                    <a:pt x="3454" y="410"/>
                  </a:lnTo>
                  <a:lnTo>
                    <a:pt x="3414" y="394"/>
                  </a:lnTo>
                  <a:lnTo>
                    <a:pt x="3374" y="380"/>
                  </a:lnTo>
                  <a:lnTo>
                    <a:pt x="3332" y="370"/>
                  </a:lnTo>
                  <a:lnTo>
                    <a:pt x="3290" y="362"/>
                  </a:lnTo>
                  <a:lnTo>
                    <a:pt x="3272" y="482"/>
                  </a:lnTo>
                  <a:lnTo>
                    <a:pt x="3378" y="422"/>
                  </a:lnTo>
                  <a:lnTo>
                    <a:pt x="3272" y="482"/>
                  </a:lnTo>
                  <a:lnTo>
                    <a:pt x="3254" y="600"/>
                  </a:lnTo>
                  <a:lnTo>
                    <a:pt x="3254" y="600"/>
                  </a:lnTo>
                  <a:lnTo>
                    <a:pt x="3280" y="604"/>
                  </a:lnTo>
                  <a:lnTo>
                    <a:pt x="3306" y="612"/>
                  </a:lnTo>
                  <a:lnTo>
                    <a:pt x="3334" y="620"/>
                  </a:lnTo>
                  <a:lnTo>
                    <a:pt x="3362" y="632"/>
                  </a:lnTo>
                  <a:lnTo>
                    <a:pt x="3362" y="632"/>
                  </a:lnTo>
                  <a:lnTo>
                    <a:pt x="3388" y="644"/>
                  </a:lnTo>
                  <a:lnTo>
                    <a:pt x="3414" y="656"/>
                  </a:lnTo>
                  <a:lnTo>
                    <a:pt x="3466" y="686"/>
                  </a:lnTo>
                  <a:lnTo>
                    <a:pt x="3518" y="722"/>
                  </a:lnTo>
                  <a:lnTo>
                    <a:pt x="3570" y="764"/>
                  </a:lnTo>
                  <a:lnTo>
                    <a:pt x="3570" y="764"/>
                  </a:lnTo>
                  <a:lnTo>
                    <a:pt x="3608" y="798"/>
                  </a:lnTo>
                  <a:lnTo>
                    <a:pt x="3646" y="832"/>
                  </a:lnTo>
                  <a:lnTo>
                    <a:pt x="3682" y="870"/>
                  </a:lnTo>
                  <a:lnTo>
                    <a:pt x="3716" y="910"/>
                  </a:lnTo>
                  <a:lnTo>
                    <a:pt x="3716" y="910"/>
                  </a:lnTo>
                  <a:lnTo>
                    <a:pt x="3740" y="940"/>
                  </a:lnTo>
                  <a:lnTo>
                    <a:pt x="3764" y="970"/>
                  </a:lnTo>
                  <a:lnTo>
                    <a:pt x="3788" y="1002"/>
                  </a:lnTo>
                  <a:lnTo>
                    <a:pt x="3808" y="1034"/>
                  </a:lnTo>
                  <a:lnTo>
                    <a:pt x="3828" y="1066"/>
                  </a:lnTo>
                  <a:lnTo>
                    <a:pt x="3848" y="1098"/>
                  </a:lnTo>
                  <a:lnTo>
                    <a:pt x="3864" y="1130"/>
                  </a:lnTo>
                  <a:lnTo>
                    <a:pt x="3880" y="1160"/>
                  </a:lnTo>
                  <a:lnTo>
                    <a:pt x="3880" y="1160"/>
                  </a:lnTo>
                  <a:lnTo>
                    <a:pt x="3894" y="1192"/>
                  </a:lnTo>
                  <a:lnTo>
                    <a:pt x="3906" y="1222"/>
                  </a:lnTo>
                  <a:lnTo>
                    <a:pt x="3916" y="1252"/>
                  </a:lnTo>
                  <a:lnTo>
                    <a:pt x="3924" y="1280"/>
                  </a:lnTo>
                  <a:lnTo>
                    <a:pt x="3924" y="1280"/>
                  </a:lnTo>
                  <a:lnTo>
                    <a:pt x="3932" y="1308"/>
                  </a:lnTo>
                  <a:lnTo>
                    <a:pt x="3936" y="1336"/>
                  </a:lnTo>
                  <a:lnTo>
                    <a:pt x="3938" y="1360"/>
                  </a:lnTo>
                  <a:lnTo>
                    <a:pt x="3940" y="1384"/>
                  </a:lnTo>
                  <a:lnTo>
                    <a:pt x="3940" y="1384"/>
                  </a:lnTo>
                  <a:lnTo>
                    <a:pt x="3940" y="1386"/>
                  </a:lnTo>
                  <a:lnTo>
                    <a:pt x="3940" y="1386"/>
                  </a:lnTo>
                  <a:lnTo>
                    <a:pt x="3940" y="1398"/>
                  </a:lnTo>
                  <a:lnTo>
                    <a:pt x="3942" y="1412"/>
                  </a:lnTo>
                  <a:lnTo>
                    <a:pt x="3942" y="1412"/>
                  </a:lnTo>
                  <a:lnTo>
                    <a:pt x="3946" y="1438"/>
                  </a:lnTo>
                  <a:lnTo>
                    <a:pt x="3950" y="1470"/>
                  </a:lnTo>
                  <a:lnTo>
                    <a:pt x="3950" y="1470"/>
                  </a:lnTo>
                  <a:lnTo>
                    <a:pt x="3952" y="1510"/>
                  </a:lnTo>
                  <a:lnTo>
                    <a:pt x="3952" y="1552"/>
                  </a:lnTo>
                  <a:lnTo>
                    <a:pt x="3952" y="1552"/>
                  </a:lnTo>
                  <a:lnTo>
                    <a:pt x="3950" y="1616"/>
                  </a:lnTo>
                  <a:lnTo>
                    <a:pt x="3948" y="1686"/>
                  </a:lnTo>
                  <a:lnTo>
                    <a:pt x="3942" y="1758"/>
                  </a:lnTo>
                  <a:lnTo>
                    <a:pt x="3934" y="1830"/>
                  </a:lnTo>
                  <a:lnTo>
                    <a:pt x="3934" y="1830"/>
                  </a:lnTo>
                  <a:lnTo>
                    <a:pt x="3926" y="1900"/>
                  </a:lnTo>
                  <a:lnTo>
                    <a:pt x="3916" y="1966"/>
                  </a:lnTo>
                  <a:lnTo>
                    <a:pt x="3898" y="2082"/>
                  </a:lnTo>
                  <a:lnTo>
                    <a:pt x="3898" y="2086"/>
                  </a:lnTo>
                  <a:lnTo>
                    <a:pt x="3898" y="2086"/>
                  </a:lnTo>
                  <a:lnTo>
                    <a:pt x="3886" y="2146"/>
                  </a:lnTo>
                  <a:lnTo>
                    <a:pt x="3872" y="2210"/>
                  </a:lnTo>
                  <a:lnTo>
                    <a:pt x="3856" y="2278"/>
                  </a:lnTo>
                  <a:lnTo>
                    <a:pt x="3834" y="2350"/>
                  </a:lnTo>
                  <a:lnTo>
                    <a:pt x="3834" y="2350"/>
                  </a:lnTo>
                  <a:lnTo>
                    <a:pt x="3814" y="2414"/>
                  </a:lnTo>
                  <a:lnTo>
                    <a:pt x="3792" y="2480"/>
                  </a:lnTo>
                  <a:lnTo>
                    <a:pt x="3740" y="2618"/>
                  </a:lnTo>
                  <a:lnTo>
                    <a:pt x="3684" y="2758"/>
                  </a:lnTo>
                  <a:lnTo>
                    <a:pt x="3622" y="2902"/>
                  </a:lnTo>
                  <a:lnTo>
                    <a:pt x="3622" y="2902"/>
                  </a:lnTo>
                  <a:lnTo>
                    <a:pt x="3574" y="3010"/>
                  </a:lnTo>
                  <a:lnTo>
                    <a:pt x="3524" y="3118"/>
                  </a:lnTo>
                  <a:lnTo>
                    <a:pt x="3422" y="3328"/>
                  </a:lnTo>
                  <a:lnTo>
                    <a:pt x="3324" y="3524"/>
                  </a:lnTo>
                  <a:lnTo>
                    <a:pt x="3232" y="3700"/>
                  </a:lnTo>
                  <a:lnTo>
                    <a:pt x="3232" y="3700"/>
                  </a:lnTo>
                  <a:lnTo>
                    <a:pt x="3088" y="3974"/>
                  </a:lnTo>
                  <a:lnTo>
                    <a:pt x="3088" y="3974"/>
                  </a:lnTo>
                  <a:lnTo>
                    <a:pt x="3046" y="4058"/>
                  </a:lnTo>
                  <a:lnTo>
                    <a:pt x="3046" y="4058"/>
                  </a:lnTo>
                  <a:lnTo>
                    <a:pt x="3032" y="4090"/>
                  </a:lnTo>
                  <a:lnTo>
                    <a:pt x="3032" y="4090"/>
                  </a:lnTo>
                  <a:lnTo>
                    <a:pt x="3026" y="4108"/>
                  </a:lnTo>
                  <a:lnTo>
                    <a:pt x="3026" y="4108"/>
                  </a:lnTo>
                  <a:lnTo>
                    <a:pt x="3022" y="4122"/>
                  </a:lnTo>
                  <a:lnTo>
                    <a:pt x="3022" y="4122"/>
                  </a:lnTo>
                  <a:lnTo>
                    <a:pt x="3020" y="4132"/>
                  </a:lnTo>
                  <a:lnTo>
                    <a:pt x="3020" y="4132"/>
                  </a:lnTo>
                  <a:lnTo>
                    <a:pt x="3020" y="4148"/>
                  </a:lnTo>
                  <a:lnTo>
                    <a:pt x="3020" y="4148"/>
                  </a:lnTo>
                  <a:lnTo>
                    <a:pt x="3020" y="4162"/>
                  </a:lnTo>
                  <a:lnTo>
                    <a:pt x="3024" y="4180"/>
                  </a:lnTo>
                  <a:lnTo>
                    <a:pt x="3024" y="4180"/>
                  </a:lnTo>
                  <a:lnTo>
                    <a:pt x="3026" y="4190"/>
                  </a:lnTo>
                  <a:lnTo>
                    <a:pt x="3032" y="4204"/>
                  </a:lnTo>
                  <a:lnTo>
                    <a:pt x="3032" y="4204"/>
                  </a:lnTo>
                  <a:lnTo>
                    <a:pt x="3040" y="4218"/>
                  </a:lnTo>
                  <a:lnTo>
                    <a:pt x="3052" y="4232"/>
                  </a:lnTo>
                  <a:lnTo>
                    <a:pt x="3054" y="4232"/>
                  </a:lnTo>
                  <a:lnTo>
                    <a:pt x="3138" y="4150"/>
                  </a:lnTo>
                  <a:lnTo>
                    <a:pt x="3028" y="4192"/>
                  </a:lnTo>
                  <a:lnTo>
                    <a:pt x="3028" y="4192"/>
                  </a:lnTo>
                  <a:lnTo>
                    <a:pt x="3032" y="4202"/>
                  </a:lnTo>
                  <a:lnTo>
                    <a:pt x="3038" y="4214"/>
                  </a:lnTo>
                  <a:lnTo>
                    <a:pt x="3046" y="4224"/>
                  </a:lnTo>
                  <a:lnTo>
                    <a:pt x="3054" y="4232"/>
                  </a:lnTo>
                  <a:lnTo>
                    <a:pt x="3138" y="4150"/>
                  </a:lnTo>
                  <a:lnTo>
                    <a:pt x="3028" y="4192"/>
                  </a:lnTo>
                  <a:lnTo>
                    <a:pt x="3138" y="4150"/>
                  </a:lnTo>
                  <a:lnTo>
                    <a:pt x="3020" y="4150"/>
                  </a:lnTo>
                  <a:lnTo>
                    <a:pt x="3020" y="4150"/>
                  </a:lnTo>
                  <a:lnTo>
                    <a:pt x="3022" y="4170"/>
                  </a:lnTo>
                  <a:lnTo>
                    <a:pt x="3028" y="4192"/>
                  </a:lnTo>
                  <a:lnTo>
                    <a:pt x="3138" y="4150"/>
                  </a:lnTo>
                  <a:lnTo>
                    <a:pt x="3020" y="4150"/>
                  </a:lnTo>
                  <a:lnTo>
                    <a:pt x="3138" y="4150"/>
                  </a:lnTo>
                  <a:lnTo>
                    <a:pt x="3022" y="4124"/>
                  </a:lnTo>
                  <a:lnTo>
                    <a:pt x="3022" y="4124"/>
                  </a:lnTo>
                  <a:lnTo>
                    <a:pt x="3020" y="4136"/>
                  </a:lnTo>
                  <a:lnTo>
                    <a:pt x="3020" y="4150"/>
                  </a:lnTo>
                  <a:lnTo>
                    <a:pt x="3138" y="4150"/>
                  </a:lnTo>
                  <a:lnTo>
                    <a:pt x="3022" y="4124"/>
                  </a:lnTo>
                  <a:lnTo>
                    <a:pt x="3136" y="4150"/>
                  </a:lnTo>
                  <a:lnTo>
                    <a:pt x="3032" y="4096"/>
                  </a:lnTo>
                  <a:lnTo>
                    <a:pt x="3032" y="4096"/>
                  </a:lnTo>
                  <a:lnTo>
                    <a:pt x="3028" y="4108"/>
                  </a:lnTo>
                  <a:lnTo>
                    <a:pt x="3022" y="4124"/>
                  </a:lnTo>
                  <a:lnTo>
                    <a:pt x="3136" y="4150"/>
                  </a:lnTo>
                  <a:lnTo>
                    <a:pt x="3032" y="4096"/>
                  </a:lnTo>
                  <a:lnTo>
                    <a:pt x="3134" y="4148"/>
                  </a:lnTo>
                  <a:lnTo>
                    <a:pt x="3042" y="4082"/>
                  </a:lnTo>
                  <a:lnTo>
                    <a:pt x="3042" y="4082"/>
                  </a:lnTo>
                  <a:lnTo>
                    <a:pt x="3032" y="4096"/>
                  </a:lnTo>
                  <a:lnTo>
                    <a:pt x="3134" y="4148"/>
                  </a:lnTo>
                  <a:lnTo>
                    <a:pt x="3042" y="4082"/>
                  </a:lnTo>
                  <a:lnTo>
                    <a:pt x="3124" y="4140"/>
                  </a:lnTo>
                  <a:lnTo>
                    <a:pt x="3050" y="4070"/>
                  </a:lnTo>
                  <a:lnTo>
                    <a:pt x="3050" y="4070"/>
                  </a:lnTo>
                  <a:lnTo>
                    <a:pt x="3042" y="4082"/>
                  </a:lnTo>
                  <a:lnTo>
                    <a:pt x="3124" y="4140"/>
                  </a:lnTo>
                  <a:lnTo>
                    <a:pt x="3050" y="4070"/>
                  </a:lnTo>
                  <a:lnTo>
                    <a:pt x="3102" y="4118"/>
                  </a:lnTo>
                  <a:lnTo>
                    <a:pt x="3054" y="4066"/>
                  </a:lnTo>
                  <a:lnTo>
                    <a:pt x="3054" y="4066"/>
                  </a:lnTo>
                  <a:lnTo>
                    <a:pt x="3050" y="4070"/>
                  </a:lnTo>
                  <a:lnTo>
                    <a:pt x="3102" y="4118"/>
                  </a:lnTo>
                  <a:lnTo>
                    <a:pt x="3054" y="4066"/>
                  </a:lnTo>
                  <a:lnTo>
                    <a:pt x="3074" y="4088"/>
                  </a:lnTo>
                  <a:lnTo>
                    <a:pt x="3054" y="4066"/>
                  </a:lnTo>
                  <a:lnTo>
                    <a:pt x="3054" y="4066"/>
                  </a:lnTo>
                  <a:lnTo>
                    <a:pt x="3074" y="4088"/>
                  </a:lnTo>
                  <a:lnTo>
                    <a:pt x="3054" y="4066"/>
                  </a:lnTo>
                  <a:lnTo>
                    <a:pt x="3058" y="4068"/>
                  </a:lnTo>
                  <a:lnTo>
                    <a:pt x="3054" y="4066"/>
                  </a:lnTo>
                  <a:lnTo>
                    <a:pt x="3054" y="4066"/>
                  </a:lnTo>
                  <a:lnTo>
                    <a:pt x="3058" y="4068"/>
                  </a:lnTo>
                  <a:lnTo>
                    <a:pt x="3054" y="4066"/>
                  </a:lnTo>
                  <a:lnTo>
                    <a:pt x="3054" y="4066"/>
                  </a:lnTo>
                  <a:lnTo>
                    <a:pt x="3052" y="4068"/>
                  </a:lnTo>
                  <a:lnTo>
                    <a:pt x="3052" y="4068"/>
                  </a:lnTo>
                  <a:lnTo>
                    <a:pt x="3030" y="4084"/>
                  </a:lnTo>
                  <a:lnTo>
                    <a:pt x="3030" y="4084"/>
                  </a:lnTo>
                  <a:lnTo>
                    <a:pt x="2956" y="4132"/>
                  </a:lnTo>
                  <a:lnTo>
                    <a:pt x="2956" y="4132"/>
                  </a:lnTo>
                  <a:lnTo>
                    <a:pt x="2758" y="4256"/>
                  </a:lnTo>
                  <a:lnTo>
                    <a:pt x="2758" y="4256"/>
                  </a:lnTo>
                  <a:lnTo>
                    <a:pt x="2574" y="4368"/>
                  </a:lnTo>
                  <a:lnTo>
                    <a:pt x="2378" y="4484"/>
                  </a:lnTo>
                  <a:lnTo>
                    <a:pt x="2024" y="4694"/>
                  </a:lnTo>
                  <a:lnTo>
                    <a:pt x="2086" y="4798"/>
                  </a:lnTo>
                  <a:lnTo>
                    <a:pt x="2154" y="4700"/>
                  </a:lnTo>
                  <a:lnTo>
                    <a:pt x="2154" y="4700"/>
                  </a:lnTo>
                  <a:lnTo>
                    <a:pt x="2028" y="4612"/>
                  </a:lnTo>
                  <a:lnTo>
                    <a:pt x="1930" y="4540"/>
                  </a:lnTo>
                  <a:lnTo>
                    <a:pt x="1814" y="4456"/>
                  </a:lnTo>
                  <a:lnTo>
                    <a:pt x="1814" y="4456"/>
                  </a:lnTo>
                  <a:lnTo>
                    <a:pt x="1718" y="4382"/>
                  </a:lnTo>
                  <a:lnTo>
                    <a:pt x="1614" y="4304"/>
                  </a:lnTo>
                  <a:lnTo>
                    <a:pt x="1504" y="4218"/>
                  </a:lnTo>
                  <a:lnTo>
                    <a:pt x="1392" y="4128"/>
                  </a:lnTo>
                  <a:lnTo>
                    <a:pt x="1392" y="4128"/>
                  </a:lnTo>
                  <a:lnTo>
                    <a:pt x="1306" y="4058"/>
                  </a:lnTo>
                  <a:lnTo>
                    <a:pt x="1220" y="3986"/>
                  </a:lnTo>
                  <a:lnTo>
                    <a:pt x="1134" y="3912"/>
                  </a:lnTo>
                  <a:lnTo>
                    <a:pt x="1050" y="3838"/>
                  </a:lnTo>
                  <a:lnTo>
                    <a:pt x="1050" y="3838"/>
                  </a:lnTo>
                  <a:lnTo>
                    <a:pt x="926" y="3724"/>
                  </a:lnTo>
                  <a:lnTo>
                    <a:pt x="868" y="3668"/>
                  </a:lnTo>
                  <a:lnTo>
                    <a:pt x="810" y="3610"/>
                  </a:lnTo>
                  <a:lnTo>
                    <a:pt x="754" y="3554"/>
                  </a:lnTo>
                  <a:lnTo>
                    <a:pt x="700" y="3498"/>
                  </a:lnTo>
                  <a:lnTo>
                    <a:pt x="650" y="3442"/>
                  </a:lnTo>
                  <a:lnTo>
                    <a:pt x="602" y="3386"/>
                  </a:lnTo>
                  <a:lnTo>
                    <a:pt x="602" y="3386"/>
                  </a:lnTo>
                  <a:lnTo>
                    <a:pt x="558" y="3334"/>
                  </a:lnTo>
                  <a:lnTo>
                    <a:pt x="518" y="3280"/>
                  </a:lnTo>
                  <a:lnTo>
                    <a:pt x="482" y="3230"/>
                  </a:lnTo>
                  <a:lnTo>
                    <a:pt x="450" y="3180"/>
                  </a:lnTo>
                  <a:lnTo>
                    <a:pt x="450" y="3180"/>
                  </a:lnTo>
                  <a:lnTo>
                    <a:pt x="422" y="3132"/>
                  </a:lnTo>
                  <a:lnTo>
                    <a:pt x="400" y="3088"/>
                  </a:lnTo>
                  <a:lnTo>
                    <a:pt x="382" y="3046"/>
                  </a:lnTo>
                  <a:lnTo>
                    <a:pt x="368" y="3008"/>
                  </a:lnTo>
                  <a:lnTo>
                    <a:pt x="368" y="3008"/>
                  </a:lnTo>
                  <a:lnTo>
                    <a:pt x="336" y="2894"/>
                  </a:lnTo>
                  <a:lnTo>
                    <a:pt x="310" y="2792"/>
                  </a:lnTo>
                  <a:lnTo>
                    <a:pt x="290" y="2702"/>
                  </a:lnTo>
                  <a:lnTo>
                    <a:pt x="274" y="2624"/>
                  </a:lnTo>
                  <a:lnTo>
                    <a:pt x="274" y="2624"/>
                  </a:lnTo>
                  <a:lnTo>
                    <a:pt x="262" y="2554"/>
                  </a:lnTo>
                  <a:lnTo>
                    <a:pt x="256" y="2496"/>
                  </a:lnTo>
                  <a:lnTo>
                    <a:pt x="252" y="2446"/>
                  </a:lnTo>
                  <a:lnTo>
                    <a:pt x="250" y="2402"/>
                  </a:lnTo>
                  <a:lnTo>
                    <a:pt x="250" y="2402"/>
                  </a:lnTo>
                  <a:lnTo>
                    <a:pt x="250" y="2366"/>
                  </a:lnTo>
                  <a:lnTo>
                    <a:pt x="254" y="2334"/>
                  </a:lnTo>
                  <a:lnTo>
                    <a:pt x="254" y="2334"/>
                  </a:lnTo>
                  <a:lnTo>
                    <a:pt x="260" y="2292"/>
                  </a:lnTo>
                  <a:lnTo>
                    <a:pt x="268" y="2252"/>
                  </a:lnTo>
                  <a:lnTo>
                    <a:pt x="268" y="2252"/>
                  </a:lnTo>
                  <a:lnTo>
                    <a:pt x="290" y="2162"/>
                  </a:lnTo>
                  <a:lnTo>
                    <a:pt x="290" y="2162"/>
                  </a:lnTo>
                  <a:lnTo>
                    <a:pt x="292" y="2146"/>
                  </a:lnTo>
                  <a:lnTo>
                    <a:pt x="292" y="2130"/>
                  </a:lnTo>
                  <a:lnTo>
                    <a:pt x="290" y="2116"/>
                  </a:lnTo>
                  <a:lnTo>
                    <a:pt x="288" y="2100"/>
                  </a:lnTo>
                  <a:lnTo>
                    <a:pt x="288" y="2100"/>
                  </a:lnTo>
                  <a:lnTo>
                    <a:pt x="276" y="2062"/>
                  </a:lnTo>
                  <a:lnTo>
                    <a:pt x="266" y="2022"/>
                  </a:lnTo>
                  <a:lnTo>
                    <a:pt x="258" y="1984"/>
                  </a:lnTo>
                  <a:lnTo>
                    <a:pt x="252" y="1944"/>
                  </a:lnTo>
                  <a:lnTo>
                    <a:pt x="248" y="1908"/>
                  </a:lnTo>
                  <a:lnTo>
                    <a:pt x="244" y="1870"/>
                  </a:lnTo>
                  <a:lnTo>
                    <a:pt x="242" y="1834"/>
                  </a:lnTo>
                  <a:lnTo>
                    <a:pt x="240" y="1798"/>
                  </a:lnTo>
                  <a:lnTo>
                    <a:pt x="240" y="1798"/>
                  </a:lnTo>
                  <a:lnTo>
                    <a:pt x="244" y="1734"/>
                  </a:lnTo>
                  <a:lnTo>
                    <a:pt x="250" y="1674"/>
                  </a:lnTo>
                  <a:lnTo>
                    <a:pt x="258" y="1614"/>
                  </a:lnTo>
                  <a:lnTo>
                    <a:pt x="272" y="1558"/>
                  </a:lnTo>
                  <a:lnTo>
                    <a:pt x="272" y="1558"/>
                  </a:lnTo>
                  <a:lnTo>
                    <a:pt x="284" y="1518"/>
                  </a:lnTo>
                  <a:lnTo>
                    <a:pt x="296" y="1480"/>
                  </a:lnTo>
                  <a:lnTo>
                    <a:pt x="312" y="1444"/>
                  </a:lnTo>
                  <a:lnTo>
                    <a:pt x="328" y="1408"/>
                  </a:lnTo>
                  <a:lnTo>
                    <a:pt x="344" y="1376"/>
                  </a:lnTo>
                  <a:lnTo>
                    <a:pt x="362" y="1344"/>
                  </a:lnTo>
                  <a:lnTo>
                    <a:pt x="380" y="1316"/>
                  </a:lnTo>
                  <a:lnTo>
                    <a:pt x="400" y="1290"/>
                  </a:lnTo>
                  <a:lnTo>
                    <a:pt x="400" y="1290"/>
                  </a:lnTo>
                  <a:lnTo>
                    <a:pt x="420" y="1266"/>
                  </a:lnTo>
                  <a:lnTo>
                    <a:pt x="438" y="1244"/>
                  </a:lnTo>
                  <a:lnTo>
                    <a:pt x="458" y="1226"/>
                  </a:lnTo>
                  <a:lnTo>
                    <a:pt x="478" y="1210"/>
                  </a:lnTo>
                  <a:lnTo>
                    <a:pt x="478" y="1210"/>
                  </a:lnTo>
                  <a:lnTo>
                    <a:pt x="496" y="1196"/>
                  </a:lnTo>
                  <a:lnTo>
                    <a:pt x="512" y="1184"/>
                  </a:lnTo>
                  <a:lnTo>
                    <a:pt x="528" y="1176"/>
                  </a:lnTo>
                  <a:lnTo>
                    <a:pt x="542" y="1170"/>
                  </a:lnTo>
                  <a:lnTo>
                    <a:pt x="542" y="1170"/>
                  </a:lnTo>
                  <a:lnTo>
                    <a:pt x="556" y="1164"/>
                  </a:lnTo>
                  <a:lnTo>
                    <a:pt x="568" y="1158"/>
                  </a:lnTo>
                  <a:lnTo>
                    <a:pt x="580" y="1148"/>
                  </a:lnTo>
                  <a:lnTo>
                    <a:pt x="592" y="1138"/>
                  </a:lnTo>
                  <a:lnTo>
                    <a:pt x="600" y="1126"/>
                  </a:lnTo>
                  <a:lnTo>
                    <a:pt x="608" y="1112"/>
                  </a:lnTo>
                  <a:lnTo>
                    <a:pt x="614" y="1098"/>
                  </a:lnTo>
                  <a:lnTo>
                    <a:pt x="618" y="1084"/>
                  </a:lnTo>
                  <a:lnTo>
                    <a:pt x="618" y="1084"/>
                  </a:lnTo>
                  <a:lnTo>
                    <a:pt x="628" y="1050"/>
                  </a:lnTo>
                  <a:lnTo>
                    <a:pt x="638" y="1018"/>
                  </a:lnTo>
                  <a:lnTo>
                    <a:pt x="650" y="986"/>
                  </a:lnTo>
                  <a:lnTo>
                    <a:pt x="664" y="954"/>
                  </a:lnTo>
                  <a:lnTo>
                    <a:pt x="664" y="954"/>
                  </a:lnTo>
                  <a:lnTo>
                    <a:pt x="678" y="928"/>
                  </a:lnTo>
                  <a:lnTo>
                    <a:pt x="694" y="902"/>
                  </a:lnTo>
                  <a:lnTo>
                    <a:pt x="712" y="876"/>
                  </a:lnTo>
                  <a:lnTo>
                    <a:pt x="728" y="852"/>
                  </a:lnTo>
                  <a:lnTo>
                    <a:pt x="748" y="828"/>
                  </a:lnTo>
                  <a:lnTo>
                    <a:pt x="768" y="804"/>
                  </a:lnTo>
                  <a:lnTo>
                    <a:pt x="810" y="758"/>
                  </a:lnTo>
                  <a:lnTo>
                    <a:pt x="810" y="758"/>
                  </a:lnTo>
                  <a:lnTo>
                    <a:pt x="844" y="726"/>
                  </a:lnTo>
                  <a:lnTo>
                    <a:pt x="880" y="696"/>
                  </a:lnTo>
                  <a:lnTo>
                    <a:pt x="916" y="668"/>
                  </a:lnTo>
                  <a:lnTo>
                    <a:pt x="952" y="642"/>
                  </a:lnTo>
                  <a:lnTo>
                    <a:pt x="952" y="642"/>
                  </a:lnTo>
                  <a:lnTo>
                    <a:pt x="1008" y="606"/>
                  </a:lnTo>
                  <a:lnTo>
                    <a:pt x="1062" y="574"/>
                  </a:lnTo>
                  <a:lnTo>
                    <a:pt x="1116" y="546"/>
                  </a:lnTo>
                  <a:lnTo>
                    <a:pt x="1164" y="524"/>
                  </a:lnTo>
                  <a:lnTo>
                    <a:pt x="1164" y="524"/>
                  </a:lnTo>
                  <a:lnTo>
                    <a:pt x="1210" y="504"/>
                  </a:lnTo>
                  <a:lnTo>
                    <a:pt x="1248" y="492"/>
                  </a:lnTo>
                  <a:lnTo>
                    <a:pt x="1248" y="492"/>
                  </a:lnTo>
                  <a:lnTo>
                    <a:pt x="1278" y="482"/>
                  </a:lnTo>
                  <a:lnTo>
                    <a:pt x="1278" y="482"/>
                  </a:lnTo>
                  <a:lnTo>
                    <a:pt x="1294" y="478"/>
                  </a:lnTo>
                  <a:lnTo>
                    <a:pt x="1294" y="478"/>
                  </a:lnTo>
                  <a:lnTo>
                    <a:pt x="1316" y="474"/>
                  </a:lnTo>
                  <a:lnTo>
                    <a:pt x="1336" y="464"/>
                  </a:lnTo>
                  <a:lnTo>
                    <a:pt x="1354" y="452"/>
                  </a:lnTo>
                  <a:lnTo>
                    <a:pt x="1370" y="436"/>
                  </a:lnTo>
                  <a:lnTo>
                    <a:pt x="1370" y="436"/>
                  </a:lnTo>
                  <a:lnTo>
                    <a:pt x="1390" y="416"/>
                  </a:lnTo>
                  <a:lnTo>
                    <a:pt x="1410" y="396"/>
                  </a:lnTo>
                  <a:lnTo>
                    <a:pt x="1434" y="376"/>
                  </a:lnTo>
                  <a:lnTo>
                    <a:pt x="1458" y="360"/>
                  </a:lnTo>
                  <a:lnTo>
                    <a:pt x="1458" y="360"/>
                  </a:lnTo>
                  <a:lnTo>
                    <a:pt x="1500" y="334"/>
                  </a:lnTo>
                  <a:lnTo>
                    <a:pt x="1546" y="314"/>
                  </a:lnTo>
                  <a:lnTo>
                    <a:pt x="1594" y="296"/>
                  </a:lnTo>
                  <a:lnTo>
                    <a:pt x="1646" y="282"/>
                  </a:lnTo>
                  <a:lnTo>
                    <a:pt x="1646" y="282"/>
                  </a:lnTo>
                  <a:lnTo>
                    <a:pt x="1700" y="270"/>
                  </a:lnTo>
                  <a:lnTo>
                    <a:pt x="1752" y="262"/>
                  </a:lnTo>
                  <a:lnTo>
                    <a:pt x="1806" y="258"/>
                  </a:lnTo>
                  <a:lnTo>
                    <a:pt x="1858" y="256"/>
                  </a:lnTo>
                  <a:lnTo>
                    <a:pt x="1858" y="256"/>
                  </a:lnTo>
                  <a:lnTo>
                    <a:pt x="1910" y="258"/>
                  </a:lnTo>
                  <a:lnTo>
                    <a:pt x="1958" y="262"/>
                  </a:lnTo>
                  <a:lnTo>
                    <a:pt x="2002" y="268"/>
                  </a:lnTo>
                  <a:lnTo>
                    <a:pt x="2040" y="278"/>
                  </a:lnTo>
                  <a:lnTo>
                    <a:pt x="2040" y="278"/>
                  </a:lnTo>
                  <a:lnTo>
                    <a:pt x="2074" y="288"/>
                  </a:lnTo>
                  <a:lnTo>
                    <a:pt x="2102" y="300"/>
                  </a:lnTo>
                  <a:lnTo>
                    <a:pt x="2102" y="300"/>
                  </a:lnTo>
                  <a:lnTo>
                    <a:pt x="2120" y="310"/>
                  </a:lnTo>
                  <a:lnTo>
                    <a:pt x="2130" y="318"/>
                  </a:lnTo>
                  <a:lnTo>
                    <a:pt x="2130" y="318"/>
                  </a:lnTo>
                  <a:lnTo>
                    <a:pt x="2146" y="332"/>
                  </a:lnTo>
                  <a:lnTo>
                    <a:pt x="2164" y="344"/>
                  </a:lnTo>
                  <a:lnTo>
                    <a:pt x="2184" y="350"/>
                  </a:lnTo>
                  <a:lnTo>
                    <a:pt x="2204" y="354"/>
                  </a:lnTo>
                  <a:lnTo>
                    <a:pt x="2226" y="354"/>
                  </a:lnTo>
                  <a:lnTo>
                    <a:pt x="2246" y="350"/>
                  </a:lnTo>
                  <a:lnTo>
                    <a:pt x="2266" y="342"/>
                  </a:lnTo>
                  <a:lnTo>
                    <a:pt x="2284" y="332"/>
                  </a:lnTo>
                  <a:lnTo>
                    <a:pt x="2284" y="332"/>
                  </a:lnTo>
                  <a:lnTo>
                    <a:pt x="2314" y="312"/>
                  </a:lnTo>
                  <a:lnTo>
                    <a:pt x="2348" y="296"/>
                  </a:lnTo>
                  <a:lnTo>
                    <a:pt x="2386" y="280"/>
                  </a:lnTo>
                  <a:lnTo>
                    <a:pt x="2428" y="266"/>
                  </a:lnTo>
                  <a:lnTo>
                    <a:pt x="2428" y="266"/>
                  </a:lnTo>
                  <a:lnTo>
                    <a:pt x="2472" y="256"/>
                  </a:lnTo>
                  <a:lnTo>
                    <a:pt x="2518" y="248"/>
                  </a:lnTo>
                  <a:lnTo>
                    <a:pt x="2566" y="242"/>
                  </a:lnTo>
                  <a:lnTo>
                    <a:pt x="2616" y="240"/>
                  </a:lnTo>
                  <a:lnTo>
                    <a:pt x="2616" y="240"/>
                  </a:lnTo>
                  <a:lnTo>
                    <a:pt x="2656" y="242"/>
                  </a:lnTo>
                  <a:lnTo>
                    <a:pt x="2696" y="246"/>
                  </a:lnTo>
                  <a:lnTo>
                    <a:pt x="2736" y="250"/>
                  </a:lnTo>
                  <a:lnTo>
                    <a:pt x="2776" y="258"/>
                  </a:lnTo>
                  <a:lnTo>
                    <a:pt x="2776" y="258"/>
                  </a:lnTo>
                  <a:lnTo>
                    <a:pt x="2806" y="266"/>
                  </a:lnTo>
                  <a:lnTo>
                    <a:pt x="2834" y="274"/>
                  </a:lnTo>
                  <a:lnTo>
                    <a:pt x="2864" y="284"/>
                  </a:lnTo>
                  <a:lnTo>
                    <a:pt x="2892" y="296"/>
                  </a:lnTo>
                  <a:lnTo>
                    <a:pt x="2920" y="308"/>
                  </a:lnTo>
                  <a:lnTo>
                    <a:pt x="2946" y="322"/>
                  </a:lnTo>
                  <a:lnTo>
                    <a:pt x="2972" y="336"/>
                  </a:lnTo>
                  <a:lnTo>
                    <a:pt x="2998" y="354"/>
                  </a:lnTo>
                  <a:lnTo>
                    <a:pt x="2998" y="354"/>
                  </a:lnTo>
                  <a:lnTo>
                    <a:pt x="3024" y="372"/>
                  </a:lnTo>
                  <a:lnTo>
                    <a:pt x="3046" y="392"/>
                  </a:lnTo>
                  <a:lnTo>
                    <a:pt x="3070" y="412"/>
                  </a:lnTo>
                  <a:lnTo>
                    <a:pt x="3092" y="434"/>
                  </a:lnTo>
                  <a:lnTo>
                    <a:pt x="3112" y="458"/>
                  </a:lnTo>
                  <a:lnTo>
                    <a:pt x="3132" y="484"/>
                  </a:lnTo>
                  <a:lnTo>
                    <a:pt x="3150" y="512"/>
                  </a:lnTo>
                  <a:lnTo>
                    <a:pt x="3168" y="540"/>
                  </a:lnTo>
                  <a:lnTo>
                    <a:pt x="3168" y="540"/>
                  </a:lnTo>
                  <a:lnTo>
                    <a:pt x="3176" y="552"/>
                  </a:lnTo>
                  <a:lnTo>
                    <a:pt x="3184" y="562"/>
                  </a:lnTo>
                  <a:lnTo>
                    <a:pt x="3194" y="572"/>
                  </a:lnTo>
                  <a:lnTo>
                    <a:pt x="3204" y="580"/>
                  </a:lnTo>
                  <a:lnTo>
                    <a:pt x="3216" y="586"/>
                  </a:lnTo>
                  <a:lnTo>
                    <a:pt x="3228" y="592"/>
                  </a:lnTo>
                  <a:lnTo>
                    <a:pt x="3242" y="596"/>
                  </a:lnTo>
                  <a:lnTo>
                    <a:pt x="3254" y="600"/>
                  </a:lnTo>
                  <a:lnTo>
                    <a:pt x="3272" y="4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52"/>
            <p:cNvSpPr/>
            <p:nvPr/>
          </p:nvSpPr>
          <p:spPr>
            <a:xfrm>
              <a:off x="628560" y="527040"/>
              <a:ext cx="5232600" cy="7429680"/>
            </a:xfrm>
            <a:custGeom>
              <a:avLst/>
              <a:gdLst>
                <a:gd name="textAreaLeft" fmla="*/ 0 w 5232600"/>
                <a:gd name="textAreaRight" fmla="*/ 5232600 w 5232600"/>
                <a:gd name="textAreaTop" fmla="*/ 0 h 7429680"/>
                <a:gd name="textAreaBottom" fmla="*/ 7430040 h 7429680"/>
              </a:gdLst>
              <a:ahLst/>
              <a:rect l="textAreaLeft" t="textAreaTop" r="textAreaRight" b="textAreaBottom"/>
              <a:pathLst>
                <a:path w="3296" h="4680">
                  <a:moveTo>
                    <a:pt x="3296" y="1148"/>
                  </a:moveTo>
                  <a:lnTo>
                    <a:pt x="3296" y="1148"/>
                  </a:lnTo>
                  <a:lnTo>
                    <a:pt x="3292" y="994"/>
                  </a:lnTo>
                  <a:lnTo>
                    <a:pt x="3288" y="924"/>
                  </a:lnTo>
                  <a:lnTo>
                    <a:pt x="3282" y="860"/>
                  </a:lnTo>
                  <a:lnTo>
                    <a:pt x="3278" y="798"/>
                  </a:lnTo>
                  <a:lnTo>
                    <a:pt x="3270" y="740"/>
                  </a:lnTo>
                  <a:lnTo>
                    <a:pt x="3262" y="688"/>
                  </a:lnTo>
                  <a:lnTo>
                    <a:pt x="3254" y="638"/>
                  </a:lnTo>
                  <a:lnTo>
                    <a:pt x="3244" y="592"/>
                  </a:lnTo>
                  <a:lnTo>
                    <a:pt x="3234" y="550"/>
                  </a:lnTo>
                  <a:lnTo>
                    <a:pt x="3224" y="510"/>
                  </a:lnTo>
                  <a:lnTo>
                    <a:pt x="3212" y="474"/>
                  </a:lnTo>
                  <a:lnTo>
                    <a:pt x="3198" y="442"/>
                  </a:lnTo>
                  <a:lnTo>
                    <a:pt x="3184" y="412"/>
                  </a:lnTo>
                  <a:lnTo>
                    <a:pt x="3168" y="384"/>
                  </a:lnTo>
                  <a:lnTo>
                    <a:pt x="3152" y="360"/>
                  </a:lnTo>
                  <a:lnTo>
                    <a:pt x="3152" y="360"/>
                  </a:lnTo>
                  <a:lnTo>
                    <a:pt x="3130" y="322"/>
                  </a:lnTo>
                  <a:lnTo>
                    <a:pt x="3106" y="286"/>
                  </a:lnTo>
                  <a:lnTo>
                    <a:pt x="3078" y="252"/>
                  </a:lnTo>
                  <a:lnTo>
                    <a:pt x="3050" y="222"/>
                  </a:lnTo>
                  <a:lnTo>
                    <a:pt x="3022" y="192"/>
                  </a:lnTo>
                  <a:lnTo>
                    <a:pt x="2990" y="166"/>
                  </a:lnTo>
                  <a:lnTo>
                    <a:pt x="2958" y="142"/>
                  </a:lnTo>
                  <a:lnTo>
                    <a:pt x="2924" y="118"/>
                  </a:lnTo>
                  <a:lnTo>
                    <a:pt x="2890" y="98"/>
                  </a:lnTo>
                  <a:lnTo>
                    <a:pt x="2856" y="80"/>
                  </a:lnTo>
                  <a:lnTo>
                    <a:pt x="2820" y="64"/>
                  </a:lnTo>
                  <a:lnTo>
                    <a:pt x="2784" y="48"/>
                  </a:lnTo>
                  <a:lnTo>
                    <a:pt x="2746" y="36"/>
                  </a:lnTo>
                  <a:lnTo>
                    <a:pt x="2708" y="26"/>
                  </a:lnTo>
                  <a:lnTo>
                    <a:pt x="2670" y="16"/>
                  </a:lnTo>
                  <a:lnTo>
                    <a:pt x="2632" y="10"/>
                  </a:lnTo>
                  <a:lnTo>
                    <a:pt x="2594" y="4"/>
                  </a:lnTo>
                  <a:lnTo>
                    <a:pt x="2556" y="2"/>
                  </a:lnTo>
                  <a:lnTo>
                    <a:pt x="2520" y="0"/>
                  </a:lnTo>
                  <a:lnTo>
                    <a:pt x="2482" y="0"/>
                  </a:lnTo>
                  <a:lnTo>
                    <a:pt x="2444" y="0"/>
                  </a:lnTo>
                  <a:lnTo>
                    <a:pt x="2408" y="4"/>
                  </a:lnTo>
                  <a:lnTo>
                    <a:pt x="2372" y="8"/>
                  </a:lnTo>
                  <a:lnTo>
                    <a:pt x="2336" y="14"/>
                  </a:lnTo>
                  <a:lnTo>
                    <a:pt x="2302" y="22"/>
                  </a:lnTo>
                  <a:lnTo>
                    <a:pt x="2268" y="30"/>
                  </a:lnTo>
                  <a:lnTo>
                    <a:pt x="2236" y="40"/>
                  </a:lnTo>
                  <a:lnTo>
                    <a:pt x="2206" y="52"/>
                  </a:lnTo>
                  <a:lnTo>
                    <a:pt x="2176" y="66"/>
                  </a:lnTo>
                  <a:lnTo>
                    <a:pt x="2146" y="80"/>
                  </a:lnTo>
                  <a:lnTo>
                    <a:pt x="2120" y="96"/>
                  </a:lnTo>
                  <a:lnTo>
                    <a:pt x="2094" y="112"/>
                  </a:lnTo>
                  <a:lnTo>
                    <a:pt x="2094" y="112"/>
                  </a:lnTo>
                  <a:lnTo>
                    <a:pt x="2080" y="98"/>
                  </a:lnTo>
                  <a:lnTo>
                    <a:pt x="2064" y="86"/>
                  </a:lnTo>
                  <a:lnTo>
                    <a:pt x="2044" y="74"/>
                  </a:lnTo>
                  <a:lnTo>
                    <a:pt x="2022" y="64"/>
                  </a:lnTo>
                  <a:lnTo>
                    <a:pt x="2000" y="54"/>
                  </a:lnTo>
                  <a:lnTo>
                    <a:pt x="1974" y="46"/>
                  </a:lnTo>
                  <a:lnTo>
                    <a:pt x="1948" y="38"/>
                  </a:lnTo>
                  <a:lnTo>
                    <a:pt x="1920" y="32"/>
                  </a:lnTo>
                  <a:lnTo>
                    <a:pt x="1890" y="26"/>
                  </a:lnTo>
                  <a:lnTo>
                    <a:pt x="1860" y="22"/>
                  </a:lnTo>
                  <a:lnTo>
                    <a:pt x="1794" y="16"/>
                  </a:lnTo>
                  <a:lnTo>
                    <a:pt x="1726" y="14"/>
                  </a:lnTo>
                  <a:lnTo>
                    <a:pt x="1692" y="14"/>
                  </a:lnTo>
                  <a:lnTo>
                    <a:pt x="1658" y="16"/>
                  </a:lnTo>
                  <a:lnTo>
                    <a:pt x="1622" y="20"/>
                  </a:lnTo>
                  <a:lnTo>
                    <a:pt x="1586" y="26"/>
                  </a:lnTo>
                  <a:lnTo>
                    <a:pt x="1550" y="32"/>
                  </a:lnTo>
                  <a:lnTo>
                    <a:pt x="1516" y="38"/>
                  </a:lnTo>
                  <a:lnTo>
                    <a:pt x="1480" y="48"/>
                  </a:lnTo>
                  <a:lnTo>
                    <a:pt x="1446" y="58"/>
                  </a:lnTo>
                  <a:lnTo>
                    <a:pt x="1412" y="68"/>
                  </a:lnTo>
                  <a:lnTo>
                    <a:pt x="1380" y="82"/>
                  </a:lnTo>
                  <a:lnTo>
                    <a:pt x="1348" y="96"/>
                  </a:lnTo>
                  <a:lnTo>
                    <a:pt x="1316" y="112"/>
                  </a:lnTo>
                  <a:lnTo>
                    <a:pt x="1286" y="128"/>
                  </a:lnTo>
                  <a:lnTo>
                    <a:pt x="1258" y="148"/>
                  </a:lnTo>
                  <a:lnTo>
                    <a:pt x="1230" y="168"/>
                  </a:lnTo>
                  <a:lnTo>
                    <a:pt x="1204" y="190"/>
                  </a:lnTo>
                  <a:lnTo>
                    <a:pt x="1180" y="214"/>
                  </a:lnTo>
                  <a:lnTo>
                    <a:pt x="1158" y="238"/>
                  </a:lnTo>
                  <a:lnTo>
                    <a:pt x="1158" y="238"/>
                  </a:lnTo>
                  <a:lnTo>
                    <a:pt x="1128" y="244"/>
                  </a:lnTo>
                  <a:lnTo>
                    <a:pt x="1090" y="256"/>
                  </a:lnTo>
                  <a:lnTo>
                    <a:pt x="1044" y="272"/>
                  </a:lnTo>
                  <a:lnTo>
                    <a:pt x="994" y="292"/>
                  </a:lnTo>
                  <a:lnTo>
                    <a:pt x="938" y="318"/>
                  </a:lnTo>
                  <a:lnTo>
                    <a:pt x="878" y="350"/>
                  </a:lnTo>
                  <a:lnTo>
                    <a:pt x="818" y="386"/>
                  </a:lnTo>
                  <a:lnTo>
                    <a:pt x="756" y="426"/>
                  </a:lnTo>
                  <a:lnTo>
                    <a:pt x="694" y="472"/>
                  </a:lnTo>
                  <a:lnTo>
                    <a:pt x="664" y="498"/>
                  </a:lnTo>
                  <a:lnTo>
                    <a:pt x="634" y="524"/>
                  </a:lnTo>
                  <a:lnTo>
                    <a:pt x="606" y="552"/>
                  </a:lnTo>
                  <a:lnTo>
                    <a:pt x="578" y="580"/>
                  </a:lnTo>
                  <a:lnTo>
                    <a:pt x="552" y="610"/>
                  </a:lnTo>
                  <a:lnTo>
                    <a:pt x="526" y="642"/>
                  </a:lnTo>
                  <a:lnTo>
                    <a:pt x="500" y="674"/>
                  </a:lnTo>
                  <a:lnTo>
                    <a:pt x="478" y="708"/>
                  </a:lnTo>
                  <a:lnTo>
                    <a:pt x="456" y="742"/>
                  </a:lnTo>
                  <a:lnTo>
                    <a:pt x="438" y="778"/>
                  </a:lnTo>
                  <a:lnTo>
                    <a:pt x="420" y="816"/>
                  </a:lnTo>
                  <a:lnTo>
                    <a:pt x="404" y="854"/>
                  </a:lnTo>
                  <a:lnTo>
                    <a:pt x="392" y="894"/>
                  </a:lnTo>
                  <a:lnTo>
                    <a:pt x="382" y="936"/>
                  </a:lnTo>
                  <a:lnTo>
                    <a:pt x="382" y="936"/>
                  </a:lnTo>
                  <a:lnTo>
                    <a:pt x="360" y="944"/>
                  </a:lnTo>
                  <a:lnTo>
                    <a:pt x="340" y="954"/>
                  </a:lnTo>
                  <a:lnTo>
                    <a:pt x="318" y="968"/>
                  </a:lnTo>
                  <a:lnTo>
                    <a:pt x="296" y="982"/>
                  </a:lnTo>
                  <a:lnTo>
                    <a:pt x="276" y="998"/>
                  </a:lnTo>
                  <a:lnTo>
                    <a:pt x="254" y="1018"/>
                  </a:lnTo>
                  <a:lnTo>
                    <a:pt x="234" y="1038"/>
                  </a:lnTo>
                  <a:lnTo>
                    <a:pt x="212" y="1060"/>
                  </a:lnTo>
                  <a:lnTo>
                    <a:pt x="192" y="1084"/>
                  </a:lnTo>
                  <a:lnTo>
                    <a:pt x="174" y="1110"/>
                  </a:lnTo>
                  <a:lnTo>
                    <a:pt x="154" y="1138"/>
                  </a:lnTo>
                  <a:lnTo>
                    <a:pt x="136" y="1168"/>
                  </a:lnTo>
                  <a:lnTo>
                    <a:pt x="118" y="1198"/>
                  </a:lnTo>
                  <a:lnTo>
                    <a:pt x="102" y="1230"/>
                  </a:lnTo>
                  <a:lnTo>
                    <a:pt x="86" y="1264"/>
                  </a:lnTo>
                  <a:lnTo>
                    <a:pt x="72" y="1298"/>
                  </a:lnTo>
                  <a:lnTo>
                    <a:pt x="58" y="1336"/>
                  </a:lnTo>
                  <a:lnTo>
                    <a:pt x="46" y="1374"/>
                  </a:lnTo>
                  <a:lnTo>
                    <a:pt x="34" y="1412"/>
                  </a:lnTo>
                  <a:lnTo>
                    <a:pt x="24" y="1452"/>
                  </a:lnTo>
                  <a:lnTo>
                    <a:pt x="16" y="1494"/>
                  </a:lnTo>
                  <a:lnTo>
                    <a:pt x="10" y="1538"/>
                  </a:lnTo>
                  <a:lnTo>
                    <a:pt x="6" y="1580"/>
                  </a:lnTo>
                  <a:lnTo>
                    <a:pt x="2" y="1626"/>
                  </a:lnTo>
                  <a:lnTo>
                    <a:pt x="0" y="1672"/>
                  </a:lnTo>
                  <a:lnTo>
                    <a:pt x="2" y="1718"/>
                  </a:lnTo>
                  <a:lnTo>
                    <a:pt x="4" y="1766"/>
                  </a:lnTo>
                  <a:lnTo>
                    <a:pt x="10" y="1814"/>
                  </a:lnTo>
                  <a:lnTo>
                    <a:pt x="16" y="1862"/>
                  </a:lnTo>
                  <a:lnTo>
                    <a:pt x="26" y="1912"/>
                  </a:lnTo>
                  <a:lnTo>
                    <a:pt x="38" y="1962"/>
                  </a:lnTo>
                  <a:lnTo>
                    <a:pt x="52" y="2014"/>
                  </a:lnTo>
                  <a:lnTo>
                    <a:pt x="52" y="2014"/>
                  </a:lnTo>
                  <a:lnTo>
                    <a:pt x="38" y="2076"/>
                  </a:lnTo>
                  <a:lnTo>
                    <a:pt x="24" y="2138"/>
                  </a:lnTo>
                  <a:lnTo>
                    <a:pt x="18" y="2172"/>
                  </a:lnTo>
                  <a:lnTo>
                    <a:pt x="14" y="2208"/>
                  </a:lnTo>
                  <a:lnTo>
                    <a:pt x="10" y="2246"/>
                  </a:lnTo>
                  <a:lnTo>
                    <a:pt x="10" y="2292"/>
                  </a:lnTo>
                  <a:lnTo>
                    <a:pt x="12" y="2342"/>
                  </a:lnTo>
                  <a:lnTo>
                    <a:pt x="18" y="2398"/>
                  </a:lnTo>
                  <a:lnTo>
                    <a:pt x="26" y="2460"/>
                  </a:lnTo>
                  <a:lnTo>
                    <a:pt x="38" y="2532"/>
                  </a:lnTo>
                  <a:lnTo>
                    <a:pt x="54" y="2614"/>
                  </a:lnTo>
                  <a:lnTo>
                    <a:pt x="76" y="2704"/>
                  </a:lnTo>
                  <a:lnTo>
                    <a:pt x="102" y="2806"/>
                  </a:lnTo>
                  <a:lnTo>
                    <a:pt x="134" y="2920"/>
                  </a:lnTo>
                  <a:lnTo>
                    <a:pt x="134" y="2920"/>
                  </a:lnTo>
                  <a:lnTo>
                    <a:pt x="142" y="2948"/>
                  </a:lnTo>
                  <a:lnTo>
                    <a:pt x="154" y="2978"/>
                  </a:lnTo>
                  <a:lnTo>
                    <a:pt x="166" y="3008"/>
                  </a:lnTo>
                  <a:lnTo>
                    <a:pt x="180" y="3038"/>
                  </a:lnTo>
                  <a:lnTo>
                    <a:pt x="196" y="3068"/>
                  </a:lnTo>
                  <a:lnTo>
                    <a:pt x="214" y="3100"/>
                  </a:lnTo>
                  <a:lnTo>
                    <a:pt x="256" y="3164"/>
                  </a:lnTo>
                  <a:lnTo>
                    <a:pt x="302" y="3230"/>
                  </a:lnTo>
                  <a:lnTo>
                    <a:pt x="354" y="3296"/>
                  </a:lnTo>
                  <a:lnTo>
                    <a:pt x="410" y="3364"/>
                  </a:lnTo>
                  <a:lnTo>
                    <a:pt x="470" y="3432"/>
                  </a:lnTo>
                  <a:lnTo>
                    <a:pt x="536" y="3502"/>
                  </a:lnTo>
                  <a:lnTo>
                    <a:pt x="604" y="3572"/>
                  </a:lnTo>
                  <a:lnTo>
                    <a:pt x="674" y="3642"/>
                  </a:lnTo>
                  <a:lnTo>
                    <a:pt x="748" y="3712"/>
                  </a:lnTo>
                  <a:lnTo>
                    <a:pt x="822" y="3780"/>
                  </a:lnTo>
                  <a:lnTo>
                    <a:pt x="900" y="3850"/>
                  </a:lnTo>
                  <a:lnTo>
                    <a:pt x="978" y="3916"/>
                  </a:lnTo>
                  <a:lnTo>
                    <a:pt x="1056" y="3982"/>
                  </a:lnTo>
                  <a:lnTo>
                    <a:pt x="1210" y="4112"/>
                  </a:lnTo>
                  <a:lnTo>
                    <a:pt x="1362" y="4232"/>
                  </a:lnTo>
                  <a:lnTo>
                    <a:pt x="1506" y="4342"/>
                  </a:lnTo>
                  <a:lnTo>
                    <a:pt x="1638" y="4442"/>
                  </a:lnTo>
                  <a:lnTo>
                    <a:pt x="1754" y="4526"/>
                  </a:lnTo>
                  <a:lnTo>
                    <a:pt x="1852" y="4596"/>
                  </a:lnTo>
                  <a:lnTo>
                    <a:pt x="1972" y="4680"/>
                  </a:lnTo>
                  <a:lnTo>
                    <a:pt x="2790" y="3854"/>
                  </a:lnTo>
                  <a:lnTo>
                    <a:pt x="2790" y="3854"/>
                  </a:lnTo>
                  <a:lnTo>
                    <a:pt x="2870" y="3492"/>
                  </a:lnTo>
                  <a:lnTo>
                    <a:pt x="2952" y="3112"/>
                  </a:lnTo>
                  <a:lnTo>
                    <a:pt x="3046" y="2664"/>
                  </a:lnTo>
                  <a:lnTo>
                    <a:pt x="3094" y="2428"/>
                  </a:lnTo>
                  <a:lnTo>
                    <a:pt x="3140" y="2196"/>
                  </a:lnTo>
                  <a:lnTo>
                    <a:pt x="3182" y="1968"/>
                  </a:lnTo>
                  <a:lnTo>
                    <a:pt x="3220" y="1754"/>
                  </a:lnTo>
                  <a:lnTo>
                    <a:pt x="3252" y="1560"/>
                  </a:lnTo>
                  <a:lnTo>
                    <a:pt x="3278" y="1390"/>
                  </a:lnTo>
                  <a:lnTo>
                    <a:pt x="3286" y="1316"/>
                  </a:lnTo>
                  <a:lnTo>
                    <a:pt x="3292" y="1250"/>
                  </a:lnTo>
                  <a:lnTo>
                    <a:pt x="3296" y="1194"/>
                  </a:lnTo>
                  <a:lnTo>
                    <a:pt x="3296" y="1148"/>
                  </a:lnTo>
                  <a:lnTo>
                    <a:pt x="3296" y="1148"/>
                  </a:lnTo>
                  <a:close/>
                </a:path>
              </a:pathLst>
            </a:custGeom>
            <a:solidFill>
              <a:srgbClr val="00a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53"/>
            <p:cNvSpPr/>
            <p:nvPr/>
          </p:nvSpPr>
          <p:spPr>
            <a:xfrm>
              <a:off x="438120" y="333360"/>
              <a:ext cx="5613480" cy="7813800"/>
            </a:xfrm>
            <a:custGeom>
              <a:avLst/>
              <a:gdLst>
                <a:gd name="textAreaLeft" fmla="*/ 0 w 5613480"/>
                <a:gd name="textAreaRight" fmla="*/ 5613840 w 5613480"/>
                <a:gd name="textAreaTop" fmla="*/ 0 h 7813800"/>
                <a:gd name="textAreaBottom" fmla="*/ 7814160 h 7813800"/>
              </a:gdLst>
              <a:ahLst/>
              <a:rect l="textAreaLeft" t="textAreaTop" r="textAreaRight" b="textAreaBottom"/>
              <a:pathLst>
                <a:path w="3536" h="4922">
                  <a:moveTo>
                    <a:pt x="3416" y="1270"/>
                  </a:moveTo>
                  <a:lnTo>
                    <a:pt x="3536" y="1268"/>
                  </a:lnTo>
                  <a:lnTo>
                    <a:pt x="3536" y="1268"/>
                  </a:lnTo>
                  <a:lnTo>
                    <a:pt x="3532" y="1110"/>
                  </a:lnTo>
                  <a:lnTo>
                    <a:pt x="3528" y="1040"/>
                  </a:lnTo>
                  <a:lnTo>
                    <a:pt x="3522" y="972"/>
                  </a:lnTo>
                  <a:lnTo>
                    <a:pt x="3516" y="908"/>
                  </a:lnTo>
                  <a:lnTo>
                    <a:pt x="3510" y="848"/>
                  </a:lnTo>
                  <a:lnTo>
                    <a:pt x="3502" y="790"/>
                  </a:lnTo>
                  <a:lnTo>
                    <a:pt x="3492" y="738"/>
                  </a:lnTo>
                  <a:lnTo>
                    <a:pt x="3492" y="738"/>
                  </a:lnTo>
                  <a:lnTo>
                    <a:pt x="3482" y="688"/>
                  </a:lnTo>
                  <a:lnTo>
                    <a:pt x="3470" y="640"/>
                  </a:lnTo>
                  <a:lnTo>
                    <a:pt x="3458" y="596"/>
                  </a:lnTo>
                  <a:lnTo>
                    <a:pt x="3444" y="554"/>
                  </a:lnTo>
                  <a:lnTo>
                    <a:pt x="3444" y="554"/>
                  </a:lnTo>
                  <a:lnTo>
                    <a:pt x="3428" y="516"/>
                  </a:lnTo>
                  <a:lnTo>
                    <a:pt x="3410" y="480"/>
                  </a:lnTo>
                  <a:lnTo>
                    <a:pt x="3392" y="444"/>
                  </a:lnTo>
                  <a:lnTo>
                    <a:pt x="3372" y="412"/>
                  </a:lnTo>
                  <a:lnTo>
                    <a:pt x="3272" y="482"/>
                  </a:lnTo>
                  <a:lnTo>
                    <a:pt x="3378" y="422"/>
                  </a:lnTo>
                  <a:lnTo>
                    <a:pt x="3378" y="422"/>
                  </a:lnTo>
                  <a:lnTo>
                    <a:pt x="3362" y="394"/>
                  </a:lnTo>
                  <a:lnTo>
                    <a:pt x="3344" y="368"/>
                  </a:lnTo>
                  <a:lnTo>
                    <a:pt x="3326" y="342"/>
                  </a:lnTo>
                  <a:lnTo>
                    <a:pt x="3308" y="318"/>
                  </a:lnTo>
                  <a:lnTo>
                    <a:pt x="3268" y="272"/>
                  </a:lnTo>
                  <a:lnTo>
                    <a:pt x="3226" y="230"/>
                  </a:lnTo>
                  <a:lnTo>
                    <a:pt x="3226" y="230"/>
                  </a:lnTo>
                  <a:lnTo>
                    <a:pt x="3192" y="200"/>
                  </a:lnTo>
                  <a:lnTo>
                    <a:pt x="3158" y="172"/>
                  </a:lnTo>
                  <a:lnTo>
                    <a:pt x="3122" y="148"/>
                  </a:lnTo>
                  <a:lnTo>
                    <a:pt x="3086" y="126"/>
                  </a:lnTo>
                  <a:lnTo>
                    <a:pt x="3048" y="104"/>
                  </a:lnTo>
                  <a:lnTo>
                    <a:pt x="3010" y="86"/>
                  </a:lnTo>
                  <a:lnTo>
                    <a:pt x="2972" y="68"/>
                  </a:lnTo>
                  <a:lnTo>
                    <a:pt x="2934" y="54"/>
                  </a:lnTo>
                  <a:lnTo>
                    <a:pt x="2934" y="54"/>
                  </a:lnTo>
                  <a:lnTo>
                    <a:pt x="2894" y="42"/>
                  </a:lnTo>
                  <a:lnTo>
                    <a:pt x="2854" y="30"/>
                  </a:lnTo>
                  <a:lnTo>
                    <a:pt x="2814" y="22"/>
                  </a:lnTo>
                  <a:lnTo>
                    <a:pt x="2774" y="14"/>
                  </a:lnTo>
                  <a:lnTo>
                    <a:pt x="2734" y="8"/>
                  </a:lnTo>
                  <a:lnTo>
                    <a:pt x="2694" y="4"/>
                  </a:lnTo>
                  <a:lnTo>
                    <a:pt x="2656" y="2"/>
                  </a:lnTo>
                  <a:lnTo>
                    <a:pt x="2616" y="0"/>
                  </a:lnTo>
                  <a:lnTo>
                    <a:pt x="2616" y="0"/>
                  </a:lnTo>
                  <a:lnTo>
                    <a:pt x="2550" y="4"/>
                  </a:lnTo>
                  <a:lnTo>
                    <a:pt x="2486" y="10"/>
                  </a:lnTo>
                  <a:lnTo>
                    <a:pt x="2424" y="20"/>
                  </a:lnTo>
                  <a:lnTo>
                    <a:pt x="2362" y="36"/>
                  </a:lnTo>
                  <a:lnTo>
                    <a:pt x="2362" y="36"/>
                  </a:lnTo>
                  <a:lnTo>
                    <a:pt x="2304" y="54"/>
                  </a:lnTo>
                  <a:lnTo>
                    <a:pt x="2276" y="66"/>
                  </a:lnTo>
                  <a:lnTo>
                    <a:pt x="2248" y="78"/>
                  </a:lnTo>
                  <a:lnTo>
                    <a:pt x="2220" y="90"/>
                  </a:lnTo>
                  <a:lnTo>
                    <a:pt x="2194" y="104"/>
                  </a:lnTo>
                  <a:lnTo>
                    <a:pt x="2170" y="120"/>
                  </a:lnTo>
                  <a:lnTo>
                    <a:pt x="2146" y="136"/>
                  </a:lnTo>
                  <a:lnTo>
                    <a:pt x="2214" y="234"/>
                  </a:lnTo>
                  <a:lnTo>
                    <a:pt x="2300" y="150"/>
                  </a:lnTo>
                  <a:lnTo>
                    <a:pt x="2300" y="150"/>
                  </a:lnTo>
                  <a:lnTo>
                    <a:pt x="2278" y="130"/>
                  </a:lnTo>
                  <a:lnTo>
                    <a:pt x="2256" y="114"/>
                  </a:lnTo>
                  <a:lnTo>
                    <a:pt x="2234" y="98"/>
                  </a:lnTo>
                  <a:lnTo>
                    <a:pt x="2210" y="86"/>
                  </a:lnTo>
                  <a:lnTo>
                    <a:pt x="2210" y="86"/>
                  </a:lnTo>
                  <a:lnTo>
                    <a:pt x="2172" y="68"/>
                  </a:lnTo>
                  <a:lnTo>
                    <a:pt x="2132" y="54"/>
                  </a:lnTo>
                  <a:lnTo>
                    <a:pt x="2090" y="42"/>
                  </a:lnTo>
                  <a:lnTo>
                    <a:pt x="2046" y="32"/>
                  </a:lnTo>
                  <a:lnTo>
                    <a:pt x="2046" y="32"/>
                  </a:lnTo>
                  <a:lnTo>
                    <a:pt x="2002" y="26"/>
                  </a:lnTo>
                  <a:lnTo>
                    <a:pt x="1956" y="20"/>
                  </a:lnTo>
                  <a:lnTo>
                    <a:pt x="1908" y="16"/>
                  </a:lnTo>
                  <a:lnTo>
                    <a:pt x="1858" y="16"/>
                  </a:lnTo>
                  <a:lnTo>
                    <a:pt x="1858" y="16"/>
                  </a:lnTo>
                  <a:lnTo>
                    <a:pt x="1814" y="16"/>
                  </a:lnTo>
                  <a:lnTo>
                    <a:pt x="1770" y="20"/>
                  </a:lnTo>
                  <a:lnTo>
                    <a:pt x="1724" y="24"/>
                  </a:lnTo>
                  <a:lnTo>
                    <a:pt x="1678" y="30"/>
                  </a:lnTo>
                  <a:lnTo>
                    <a:pt x="1678" y="30"/>
                  </a:lnTo>
                  <a:lnTo>
                    <a:pt x="1610" y="44"/>
                  </a:lnTo>
                  <a:lnTo>
                    <a:pt x="1576" y="52"/>
                  </a:lnTo>
                  <a:lnTo>
                    <a:pt x="1544" y="60"/>
                  </a:lnTo>
                  <a:lnTo>
                    <a:pt x="1510" y="72"/>
                  </a:lnTo>
                  <a:lnTo>
                    <a:pt x="1476" y="84"/>
                  </a:lnTo>
                  <a:lnTo>
                    <a:pt x="1444" y="96"/>
                  </a:lnTo>
                  <a:lnTo>
                    <a:pt x="1412" y="112"/>
                  </a:lnTo>
                  <a:lnTo>
                    <a:pt x="1412" y="112"/>
                  </a:lnTo>
                  <a:lnTo>
                    <a:pt x="1380" y="128"/>
                  </a:lnTo>
                  <a:lnTo>
                    <a:pt x="1348" y="144"/>
                  </a:lnTo>
                  <a:lnTo>
                    <a:pt x="1318" y="164"/>
                  </a:lnTo>
                  <a:lnTo>
                    <a:pt x="1290" y="184"/>
                  </a:lnTo>
                  <a:lnTo>
                    <a:pt x="1290" y="184"/>
                  </a:lnTo>
                  <a:lnTo>
                    <a:pt x="1262" y="206"/>
                  </a:lnTo>
                  <a:lnTo>
                    <a:pt x="1234" y="230"/>
                  </a:lnTo>
                  <a:lnTo>
                    <a:pt x="1208" y="256"/>
                  </a:lnTo>
                  <a:lnTo>
                    <a:pt x="1184" y="284"/>
                  </a:lnTo>
                  <a:lnTo>
                    <a:pt x="1278" y="360"/>
                  </a:lnTo>
                  <a:lnTo>
                    <a:pt x="1260" y="242"/>
                  </a:lnTo>
                  <a:lnTo>
                    <a:pt x="1260" y="242"/>
                  </a:lnTo>
                  <a:lnTo>
                    <a:pt x="1218" y="250"/>
                  </a:lnTo>
                  <a:lnTo>
                    <a:pt x="1218" y="250"/>
                  </a:lnTo>
                  <a:lnTo>
                    <a:pt x="1176" y="262"/>
                  </a:lnTo>
                  <a:lnTo>
                    <a:pt x="1128" y="280"/>
                  </a:lnTo>
                  <a:lnTo>
                    <a:pt x="1128" y="280"/>
                  </a:lnTo>
                  <a:lnTo>
                    <a:pt x="1082" y="298"/>
                  </a:lnTo>
                  <a:lnTo>
                    <a:pt x="1034" y="318"/>
                  </a:lnTo>
                  <a:lnTo>
                    <a:pt x="984" y="344"/>
                  </a:lnTo>
                  <a:lnTo>
                    <a:pt x="930" y="372"/>
                  </a:lnTo>
                  <a:lnTo>
                    <a:pt x="930" y="372"/>
                  </a:lnTo>
                  <a:lnTo>
                    <a:pt x="890" y="396"/>
                  </a:lnTo>
                  <a:lnTo>
                    <a:pt x="848" y="422"/>
                  </a:lnTo>
                  <a:lnTo>
                    <a:pt x="806" y="450"/>
                  </a:lnTo>
                  <a:lnTo>
                    <a:pt x="766" y="482"/>
                  </a:lnTo>
                  <a:lnTo>
                    <a:pt x="724" y="514"/>
                  </a:lnTo>
                  <a:lnTo>
                    <a:pt x="684" y="548"/>
                  </a:lnTo>
                  <a:lnTo>
                    <a:pt x="644" y="586"/>
                  </a:lnTo>
                  <a:lnTo>
                    <a:pt x="606" y="626"/>
                  </a:lnTo>
                  <a:lnTo>
                    <a:pt x="606" y="626"/>
                  </a:lnTo>
                  <a:lnTo>
                    <a:pt x="568" y="666"/>
                  </a:lnTo>
                  <a:lnTo>
                    <a:pt x="534" y="712"/>
                  </a:lnTo>
                  <a:lnTo>
                    <a:pt x="502" y="758"/>
                  </a:lnTo>
                  <a:lnTo>
                    <a:pt x="470" y="808"/>
                  </a:lnTo>
                  <a:lnTo>
                    <a:pt x="470" y="808"/>
                  </a:lnTo>
                  <a:lnTo>
                    <a:pt x="444" y="860"/>
                  </a:lnTo>
                  <a:lnTo>
                    <a:pt x="420" y="914"/>
                  </a:lnTo>
                  <a:lnTo>
                    <a:pt x="400" y="972"/>
                  </a:lnTo>
                  <a:lnTo>
                    <a:pt x="392" y="1002"/>
                  </a:lnTo>
                  <a:lnTo>
                    <a:pt x="384" y="1032"/>
                  </a:lnTo>
                  <a:lnTo>
                    <a:pt x="502" y="1058"/>
                  </a:lnTo>
                  <a:lnTo>
                    <a:pt x="462" y="944"/>
                  </a:lnTo>
                  <a:lnTo>
                    <a:pt x="462" y="944"/>
                  </a:lnTo>
                  <a:lnTo>
                    <a:pt x="438" y="954"/>
                  </a:lnTo>
                  <a:lnTo>
                    <a:pt x="414" y="966"/>
                  </a:lnTo>
                  <a:lnTo>
                    <a:pt x="392" y="978"/>
                  </a:lnTo>
                  <a:lnTo>
                    <a:pt x="370" y="992"/>
                  </a:lnTo>
                  <a:lnTo>
                    <a:pt x="370" y="992"/>
                  </a:lnTo>
                  <a:lnTo>
                    <a:pt x="332" y="1018"/>
                  </a:lnTo>
                  <a:lnTo>
                    <a:pt x="296" y="1050"/>
                  </a:lnTo>
                  <a:lnTo>
                    <a:pt x="260" y="1084"/>
                  </a:lnTo>
                  <a:lnTo>
                    <a:pt x="228" y="1122"/>
                  </a:lnTo>
                  <a:lnTo>
                    <a:pt x="228" y="1122"/>
                  </a:lnTo>
                  <a:lnTo>
                    <a:pt x="204" y="1152"/>
                  </a:lnTo>
                  <a:lnTo>
                    <a:pt x="180" y="1184"/>
                  </a:lnTo>
                  <a:lnTo>
                    <a:pt x="158" y="1218"/>
                  </a:lnTo>
                  <a:lnTo>
                    <a:pt x="138" y="1254"/>
                  </a:lnTo>
                  <a:lnTo>
                    <a:pt x="118" y="1290"/>
                  </a:lnTo>
                  <a:lnTo>
                    <a:pt x="100" y="1330"/>
                  </a:lnTo>
                  <a:lnTo>
                    <a:pt x="82" y="1370"/>
                  </a:lnTo>
                  <a:lnTo>
                    <a:pt x="66" y="1412"/>
                  </a:lnTo>
                  <a:lnTo>
                    <a:pt x="66" y="1412"/>
                  </a:lnTo>
                  <a:lnTo>
                    <a:pt x="52" y="1456"/>
                  </a:lnTo>
                  <a:lnTo>
                    <a:pt x="38" y="1502"/>
                  </a:lnTo>
                  <a:lnTo>
                    <a:pt x="28" y="1548"/>
                  </a:lnTo>
                  <a:lnTo>
                    <a:pt x="18" y="1596"/>
                  </a:lnTo>
                  <a:lnTo>
                    <a:pt x="10" y="1644"/>
                  </a:lnTo>
                  <a:lnTo>
                    <a:pt x="6" y="1694"/>
                  </a:lnTo>
                  <a:lnTo>
                    <a:pt x="2" y="1746"/>
                  </a:lnTo>
                  <a:lnTo>
                    <a:pt x="0" y="1798"/>
                  </a:lnTo>
                  <a:lnTo>
                    <a:pt x="0" y="1798"/>
                  </a:lnTo>
                  <a:lnTo>
                    <a:pt x="2" y="1842"/>
                  </a:lnTo>
                  <a:lnTo>
                    <a:pt x="4" y="1888"/>
                  </a:lnTo>
                  <a:lnTo>
                    <a:pt x="8" y="1934"/>
                  </a:lnTo>
                  <a:lnTo>
                    <a:pt x="14" y="1980"/>
                  </a:lnTo>
                  <a:lnTo>
                    <a:pt x="22" y="2028"/>
                  </a:lnTo>
                  <a:lnTo>
                    <a:pt x="32" y="2074"/>
                  </a:lnTo>
                  <a:lnTo>
                    <a:pt x="44" y="2122"/>
                  </a:lnTo>
                  <a:lnTo>
                    <a:pt x="58" y="2172"/>
                  </a:lnTo>
                  <a:lnTo>
                    <a:pt x="172" y="2136"/>
                  </a:lnTo>
                  <a:lnTo>
                    <a:pt x="56" y="2110"/>
                  </a:lnTo>
                  <a:lnTo>
                    <a:pt x="56" y="2110"/>
                  </a:lnTo>
                  <a:lnTo>
                    <a:pt x="42" y="2168"/>
                  </a:lnTo>
                  <a:lnTo>
                    <a:pt x="42" y="2168"/>
                  </a:lnTo>
                  <a:lnTo>
                    <a:pt x="30" y="2214"/>
                  </a:lnTo>
                  <a:lnTo>
                    <a:pt x="20" y="2268"/>
                  </a:lnTo>
                  <a:lnTo>
                    <a:pt x="20" y="2268"/>
                  </a:lnTo>
                  <a:lnTo>
                    <a:pt x="16" y="2298"/>
                  </a:lnTo>
                  <a:lnTo>
                    <a:pt x="12" y="2330"/>
                  </a:lnTo>
                  <a:lnTo>
                    <a:pt x="10" y="2364"/>
                  </a:lnTo>
                  <a:lnTo>
                    <a:pt x="10" y="2402"/>
                  </a:lnTo>
                  <a:lnTo>
                    <a:pt x="10" y="2402"/>
                  </a:lnTo>
                  <a:lnTo>
                    <a:pt x="12" y="2458"/>
                  </a:lnTo>
                  <a:lnTo>
                    <a:pt x="16" y="2520"/>
                  </a:lnTo>
                  <a:lnTo>
                    <a:pt x="26" y="2590"/>
                  </a:lnTo>
                  <a:lnTo>
                    <a:pt x="38" y="2666"/>
                  </a:lnTo>
                  <a:lnTo>
                    <a:pt x="38" y="2666"/>
                  </a:lnTo>
                  <a:lnTo>
                    <a:pt x="56" y="2752"/>
                  </a:lnTo>
                  <a:lnTo>
                    <a:pt x="78" y="2848"/>
                  </a:lnTo>
                  <a:lnTo>
                    <a:pt x="104" y="2956"/>
                  </a:lnTo>
                  <a:lnTo>
                    <a:pt x="138" y="3074"/>
                  </a:lnTo>
                  <a:lnTo>
                    <a:pt x="138" y="3074"/>
                  </a:lnTo>
                  <a:lnTo>
                    <a:pt x="150" y="3110"/>
                  </a:lnTo>
                  <a:lnTo>
                    <a:pt x="162" y="3144"/>
                  </a:lnTo>
                  <a:lnTo>
                    <a:pt x="176" y="3178"/>
                  </a:lnTo>
                  <a:lnTo>
                    <a:pt x="194" y="3214"/>
                  </a:lnTo>
                  <a:lnTo>
                    <a:pt x="194" y="3214"/>
                  </a:lnTo>
                  <a:lnTo>
                    <a:pt x="230" y="3278"/>
                  </a:lnTo>
                  <a:lnTo>
                    <a:pt x="270" y="3344"/>
                  </a:lnTo>
                  <a:lnTo>
                    <a:pt x="316" y="3410"/>
                  </a:lnTo>
                  <a:lnTo>
                    <a:pt x="366" y="3476"/>
                  </a:lnTo>
                  <a:lnTo>
                    <a:pt x="366" y="3476"/>
                  </a:lnTo>
                  <a:lnTo>
                    <a:pt x="412" y="3534"/>
                  </a:lnTo>
                  <a:lnTo>
                    <a:pt x="462" y="3592"/>
                  </a:lnTo>
                  <a:lnTo>
                    <a:pt x="516" y="3650"/>
                  </a:lnTo>
                  <a:lnTo>
                    <a:pt x="570" y="3710"/>
                  </a:lnTo>
                  <a:lnTo>
                    <a:pt x="628" y="3768"/>
                  </a:lnTo>
                  <a:lnTo>
                    <a:pt x="686" y="3826"/>
                  </a:lnTo>
                  <a:lnTo>
                    <a:pt x="810" y="3944"/>
                  </a:lnTo>
                  <a:lnTo>
                    <a:pt x="810" y="3944"/>
                  </a:lnTo>
                  <a:lnTo>
                    <a:pt x="904" y="4030"/>
                  </a:lnTo>
                  <a:lnTo>
                    <a:pt x="1002" y="4114"/>
                  </a:lnTo>
                  <a:lnTo>
                    <a:pt x="1098" y="4198"/>
                  </a:lnTo>
                  <a:lnTo>
                    <a:pt x="1196" y="4278"/>
                  </a:lnTo>
                  <a:lnTo>
                    <a:pt x="1292" y="4356"/>
                  </a:lnTo>
                  <a:lnTo>
                    <a:pt x="1386" y="4430"/>
                  </a:lnTo>
                  <a:lnTo>
                    <a:pt x="1564" y="4568"/>
                  </a:lnTo>
                  <a:lnTo>
                    <a:pt x="1564" y="4568"/>
                  </a:lnTo>
                  <a:lnTo>
                    <a:pt x="1726" y="4688"/>
                  </a:lnTo>
                  <a:lnTo>
                    <a:pt x="1860" y="4786"/>
                  </a:lnTo>
                  <a:lnTo>
                    <a:pt x="1962" y="4858"/>
                  </a:lnTo>
                  <a:lnTo>
                    <a:pt x="2024" y="4900"/>
                  </a:lnTo>
                  <a:lnTo>
                    <a:pt x="2024" y="4900"/>
                  </a:lnTo>
                  <a:lnTo>
                    <a:pt x="2042" y="4912"/>
                  </a:lnTo>
                  <a:lnTo>
                    <a:pt x="2062" y="4918"/>
                  </a:lnTo>
                  <a:lnTo>
                    <a:pt x="2082" y="4922"/>
                  </a:lnTo>
                  <a:lnTo>
                    <a:pt x="2102" y="4922"/>
                  </a:lnTo>
                  <a:lnTo>
                    <a:pt x="2122" y="4918"/>
                  </a:lnTo>
                  <a:lnTo>
                    <a:pt x="2142" y="4910"/>
                  </a:lnTo>
                  <a:lnTo>
                    <a:pt x="2160" y="4900"/>
                  </a:lnTo>
                  <a:lnTo>
                    <a:pt x="2176" y="4886"/>
                  </a:lnTo>
                  <a:lnTo>
                    <a:pt x="2996" y="4060"/>
                  </a:lnTo>
                  <a:lnTo>
                    <a:pt x="2996" y="4060"/>
                  </a:lnTo>
                  <a:lnTo>
                    <a:pt x="3006" y="4048"/>
                  </a:lnTo>
                  <a:lnTo>
                    <a:pt x="3014" y="4034"/>
                  </a:lnTo>
                  <a:lnTo>
                    <a:pt x="3022" y="4018"/>
                  </a:lnTo>
                  <a:lnTo>
                    <a:pt x="3026" y="4002"/>
                  </a:lnTo>
                  <a:lnTo>
                    <a:pt x="3026" y="4002"/>
                  </a:lnTo>
                  <a:lnTo>
                    <a:pt x="3106" y="3644"/>
                  </a:lnTo>
                  <a:lnTo>
                    <a:pt x="3188" y="3270"/>
                  </a:lnTo>
                  <a:lnTo>
                    <a:pt x="3280" y="2824"/>
                  </a:lnTo>
                  <a:lnTo>
                    <a:pt x="3280" y="2824"/>
                  </a:lnTo>
                  <a:lnTo>
                    <a:pt x="3328" y="2592"/>
                  </a:lnTo>
                  <a:lnTo>
                    <a:pt x="3374" y="2358"/>
                  </a:lnTo>
                  <a:lnTo>
                    <a:pt x="3418" y="2132"/>
                  </a:lnTo>
                  <a:lnTo>
                    <a:pt x="3456" y="1916"/>
                  </a:lnTo>
                  <a:lnTo>
                    <a:pt x="3456" y="1916"/>
                  </a:lnTo>
                  <a:lnTo>
                    <a:pt x="3488" y="1718"/>
                  </a:lnTo>
                  <a:lnTo>
                    <a:pt x="3514" y="1544"/>
                  </a:lnTo>
                  <a:lnTo>
                    <a:pt x="3514" y="1544"/>
                  </a:lnTo>
                  <a:lnTo>
                    <a:pt x="3524" y="1468"/>
                  </a:lnTo>
                  <a:lnTo>
                    <a:pt x="3530" y="1398"/>
                  </a:lnTo>
                  <a:lnTo>
                    <a:pt x="3530" y="1398"/>
                  </a:lnTo>
                  <a:lnTo>
                    <a:pt x="3536" y="1336"/>
                  </a:lnTo>
                  <a:lnTo>
                    <a:pt x="3536" y="1280"/>
                  </a:lnTo>
                  <a:lnTo>
                    <a:pt x="3536" y="1280"/>
                  </a:lnTo>
                  <a:lnTo>
                    <a:pt x="3536" y="1268"/>
                  </a:lnTo>
                  <a:lnTo>
                    <a:pt x="3536" y="1268"/>
                  </a:lnTo>
                  <a:lnTo>
                    <a:pt x="3416" y="1270"/>
                  </a:lnTo>
                  <a:lnTo>
                    <a:pt x="3296" y="1272"/>
                  </a:lnTo>
                  <a:lnTo>
                    <a:pt x="3296" y="1272"/>
                  </a:lnTo>
                  <a:lnTo>
                    <a:pt x="3296" y="1280"/>
                  </a:lnTo>
                  <a:lnTo>
                    <a:pt x="3296" y="1280"/>
                  </a:lnTo>
                  <a:lnTo>
                    <a:pt x="3296" y="1322"/>
                  </a:lnTo>
                  <a:lnTo>
                    <a:pt x="3292" y="1376"/>
                  </a:lnTo>
                  <a:lnTo>
                    <a:pt x="3292" y="1376"/>
                  </a:lnTo>
                  <a:lnTo>
                    <a:pt x="3286" y="1436"/>
                  </a:lnTo>
                  <a:lnTo>
                    <a:pt x="3278" y="1504"/>
                  </a:lnTo>
                  <a:lnTo>
                    <a:pt x="3254" y="1658"/>
                  </a:lnTo>
                  <a:lnTo>
                    <a:pt x="3254" y="1658"/>
                  </a:lnTo>
                  <a:lnTo>
                    <a:pt x="3230" y="1814"/>
                  </a:lnTo>
                  <a:lnTo>
                    <a:pt x="3200" y="1982"/>
                  </a:lnTo>
                  <a:lnTo>
                    <a:pt x="3168" y="2162"/>
                  </a:lnTo>
                  <a:lnTo>
                    <a:pt x="3132" y="2348"/>
                  </a:lnTo>
                  <a:lnTo>
                    <a:pt x="3132" y="2348"/>
                  </a:lnTo>
                  <a:lnTo>
                    <a:pt x="3074" y="2634"/>
                  </a:lnTo>
                  <a:lnTo>
                    <a:pt x="3016" y="2918"/>
                  </a:lnTo>
                  <a:lnTo>
                    <a:pt x="2906" y="3432"/>
                  </a:lnTo>
                  <a:lnTo>
                    <a:pt x="2906" y="3432"/>
                  </a:lnTo>
                  <a:lnTo>
                    <a:pt x="2824" y="3806"/>
                  </a:lnTo>
                  <a:lnTo>
                    <a:pt x="2824" y="3806"/>
                  </a:lnTo>
                  <a:lnTo>
                    <a:pt x="2802" y="3912"/>
                  </a:lnTo>
                  <a:lnTo>
                    <a:pt x="2802" y="3912"/>
                  </a:lnTo>
                  <a:lnTo>
                    <a:pt x="2794" y="3940"/>
                  </a:lnTo>
                  <a:lnTo>
                    <a:pt x="2794" y="3940"/>
                  </a:lnTo>
                  <a:lnTo>
                    <a:pt x="2792" y="3948"/>
                  </a:lnTo>
                  <a:lnTo>
                    <a:pt x="2910" y="3976"/>
                  </a:lnTo>
                  <a:lnTo>
                    <a:pt x="2824" y="3890"/>
                  </a:lnTo>
                  <a:lnTo>
                    <a:pt x="2006" y="4718"/>
                  </a:lnTo>
                  <a:lnTo>
                    <a:pt x="2092" y="4802"/>
                  </a:lnTo>
                  <a:lnTo>
                    <a:pt x="2160" y="4702"/>
                  </a:lnTo>
                  <a:lnTo>
                    <a:pt x="2160" y="4702"/>
                  </a:lnTo>
                  <a:lnTo>
                    <a:pt x="2042" y="4620"/>
                  </a:lnTo>
                  <a:lnTo>
                    <a:pt x="1946" y="4552"/>
                  </a:lnTo>
                  <a:lnTo>
                    <a:pt x="1830" y="4466"/>
                  </a:lnTo>
                  <a:lnTo>
                    <a:pt x="1830" y="4466"/>
                  </a:lnTo>
                  <a:lnTo>
                    <a:pt x="1732" y="4394"/>
                  </a:lnTo>
                  <a:lnTo>
                    <a:pt x="1628" y="4316"/>
                  </a:lnTo>
                  <a:lnTo>
                    <a:pt x="1520" y="4230"/>
                  </a:lnTo>
                  <a:lnTo>
                    <a:pt x="1406" y="4140"/>
                  </a:lnTo>
                  <a:lnTo>
                    <a:pt x="1406" y="4140"/>
                  </a:lnTo>
                  <a:lnTo>
                    <a:pt x="1320" y="4070"/>
                  </a:lnTo>
                  <a:lnTo>
                    <a:pt x="1234" y="3996"/>
                  </a:lnTo>
                  <a:lnTo>
                    <a:pt x="1146" y="3922"/>
                  </a:lnTo>
                  <a:lnTo>
                    <a:pt x="1060" y="3848"/>
                  </a:lnTo>
                  <a:lnTo>
                    <a:pt x="1060" y="3848"/>
                  </a:lnTo>
                  <a:lnTo>
                    <a:pt x="936" y="3732"/>
                  </a:lnTo>
                  <a:lnTo>
                    <a:pt x="876" y="3676"/>
                  </a:lnTo>
                  <a:lnTo>
                    <a:pt x="816" y="3618"/>
                  </a:lnTo>
                  <a:lnTo>
                    <a:pt x="760" y="3560"/>
                  </a:lnTo>
                  <a:lnTo>
                    <a:pt x="706" y="3504"/>
                  </a:lnTo>
                  <a:lnTo>
                    <a:pt x="656" y="3448"/>
                  </a:lnTo>
                  <a:lnTo>
                    <a:pt x="606" y="3392"/>
                  </a:lnTo>
                  <a:lnTo>
                    <a:pt x="606" y="3392"/>
                  </a:lnTo>
                  <a:lnTo>
                    <a:pt x="562" y="3338"/>
                  </a:lnTo>
                  <a:lnTo>
                    <a:pt x="522" y="3284"/>
                  </a:lnTo>
                  <a:lnTo>
                    <a:pt x="484" y="3232"/>
                  </a:lnTo>
                  <a:lnTo>
                    <a:pt x="452" y="3182"/>
                  </a:lnTo>
                  <a:lnTo>
                    <a:pt x="452" y="3182"/>
                  </a:lnTo>
                  <a:lnTo>
                    <a:pt x="424" y="3134"/>
                  </a:lnTo>
                  <a:lnTo>
                    <a:pt x="400" y="3088"/>
                  </a:lnTo>
                  <a:lnTo>
                    <a:pt x="382" y="3046"/>
                  </a:lnTo>
                  <a:lnTo>
                    <a:pt x="368" y="3008"/>
                  </a:lnTo>
                  <a:lnTo>
                    <a:pt x="368" y="3008"/>
                  </a:lnTo>
                  <a:lnTo>
                    <a:pt x="336" y="2894"/>
                  </a:lnTo>
                  <a:lnTo>
                    <a:pt x="310" y="2792"/>
                  </a:lnTo>
                  <a:lnTo>
                    <a:pt x="290" y="2702"/>
                  </a:lnTo>
                  <a:lnTo>
                    <a:pt x="274" y="2624"/>
                  </a:lnTo>
                  <a:lnTo>
                    <a:pt x="274" y="2624"/>
                  </a:lnTo>
                  <a:lnTo>
                    <a:pt x="262" y="2554"/>
                  </a:lnTo>
                  <a:lnTo>
                    <a:pt x="256" y="2496"/>
                  </a:lnTo>
                  <a:lnTo>
                    <a:pt x="252" y="2446"/>
                  </a:lnTo>
                  <a:lnTo>
                    <a:pt x="250" y="2402"/>
                  </a:lnTo>
                  <a:lnTo>
                    <a:pt x="250" y="2402"/>
                  </a:lnTo>
                  <a:lnTo>
                    <a:pt x="250" y="2366"/>
                  </a:lnTo>
                  <a:lnTo>
                    <a:pt x="254" y="2334"/>
                  </a:lnTo>
                  <a:lnTo>
                    <a:pt x="254" y="2334"/>
                  </a:lnTo>
                  <a:lnTo>
                    <a:pt x="260" y="2292"/>
                  </a:lnTo>
                  <a:lnTo>
                    <a:pt x="268" y="2252"/>
                  </a:lnTo>
                  <a:lnTo>
                    <a:pt x="268" y="2252"/>
                  </a:lnTo>
                  <a:lnTo>
                    <a:pt x="290" y="2162"/>
                  </a:lnTo>
                  <a:lnTo>
                    <a:pt x="290" y="2162"/>
                  </a:lnTo>
                  <a:lnTo>
                    <a:pt x="292" y="2146"/>
                  </a:lnTo>
                  <a:lnTo>
                    <a:pt x="292" y="2130"/>
                  </a:lnTo>
                  <a:lnTo>
                    <a:pt x="290" y="2116"/>
                  </a:lnTo>
                  <a:lnTo>
                    <a:pt x="288" y="2100"/>
                  </a:lnTo>
                  <a:lnTo>
                    <a:pt x="288" y="2100"/>
                  </a:lnTo>
                  <a:lnTo>
                    <a:pt x="276" y="2062"/>
                  </a:lnTo>
                  <a:lnTo>
                    <a:pt x="266" y="2022"/>
                  </a:lnTo>
                  <a:lnTo>
                    <a:pt x="258" y="1984"/>
                  </a:lnTo>
                  <a:lnTo>
                    <a:pt x="252" y="1944"/>
                  </a:lnTo>
                  <a:lnTo>
                    <a:pt x="248" y="1908"/>
                  </a:lnTo>
                  <a:lnTo>
                    <a:pt x="244" y="1870"/>
                  </a:lnTo>
                  <a:lnTo>
                    <a:pt x="242" y="1834"/>
                  </a:lnTo>
                  <a:lnTo>
                    <a:pt x="240" y="1798"/>
                  </a:lnTo>
                  <a:lnTo>
                    <a:pt x="240" y="1798"/>
                  </a:lnTo>
                  <a:lnTo>
                    <a:pt x="244" y="1734"/>
                  </a:lnTo>
                  <a:lnTo>
                    <a:pt x="250" y="1674"/>
                  </a:lnTo>
                  <a:lnTo>
                    <a:pt x="258" y="1614"/>
                  </a:lnTo>
                  <a:lnTo>
                    <a:pt x="272" y="1558"/>
                  </a:lnTo>
                  <a:lnTo>
                    <a:pt x="272" y="1558"/>
                  </a:lnTo>
                  <a:lnTo>
                    <a:pt x="284" y="1518"/>
                  </a:lnTo>
                  <a:lnTo>
                    <a:pt x="296" y="1480"/>
                  </a:lnTo>
                  <a:lnTo>
                    <a:pt x="312" y="1444"/>
                  </a:lnTo>
                  <a:lnTo>
                    <a:pt x="328" y="1408"/>
                  </a:lnTo>
                  <a:lnTo>
                    <a:pt x="344" y="1376"/>
                  </a:lnTo>
                  <a:lnTo>
                    <a:pt x="362" y="1344"/>
                  </a:lnTo>
                  <a:lnTo>
                    <a:pt x="380" y="1316"/>
                  </a:lnTo>
                  <a:lnTo>
                    <a:pt x="400" y="1290"/>
                  </a:lnTo>
                  <a:lnTo>
                    <a:pt x="400" y="1290"/>
                  </a:lnTo>
                  <a:lnTo>
                    <a:pt x="420" y="1266"/>
                  </a:lnTo>
                  <a:lnTo>
                    <a:pt x="438" y="1244"/>
                  </a:lnTo>
                  <a:lnTo>
                    <a:pt x="458" y="1226"/>
                  </a:lnTo>
                  <a:lnTo>
                    <a:pt x="478" y="1210"/>
                  </a:lnTo>
                  <a:lnTo>
                    <a:pt x="478" y="1210"/>
                  </a:lnTo>
                  <a:lnTo>
                    <a:pt x="496" y="1196"/>
                  </a:lnTo>
                  <a:lnTo>
                    <a:pt x="512" y="1184"/>
                  </a:lnTo>
                  <a:lnTo>
                    <a:pt x="528" y="1176"/>
                  </a:lnTo>
                  <a:lnTo>
                    <a:pt x="542" y="1170"/>
                  </a:lnTo>
                  <a:lnTo>
                    <a:pt x="542" y="1170"/>
                  </a:lnTo>
                  <a:lnTo>
                    <a:pt x="556" y="1164"/>
                  </a:lnTo>
                  <a:lnTo>
                    <a:pt x="568" y="1158"/>
                  </a:lnTo>
                  <a:lnTo>
                    <a:pt x="580" y="1148"/>
                  </a:lnTo>
                  <a:lnTo>
                    <a:pt x="592" y="1138"/>
                  </a:lnTo>
                  <a:lnTo>
                    <a:pt x="600" y="1126"/>
                  </a:lnTo>
                  <a:lnTo>
                    <a:pt x="608" y="1112"/>
                  </a:lnTo>
                  <a:lnTo>
                    <a:pt x="614" y="1098"/>
                  </a:lnTo>
                  <a:lnTo>
                    <a:pt x="618" y="1084"/>
                  </a:lnTo>
                  <a:lnTo>
                    <a:pt x="618" y="1084"/>
                  </a:lnTo>
                  <a:lnTo>
                    <a:pt x="628" y="1050"/>
                  </a:lnTo>
                  <a:lnTo>
                    <a:pt x="638" y="1018"/>
                  </a:lnTo>
                  <a:lnTo>
                    <a:pt x="650" y="986"/>
                  </a:lnTo>
                  <a:lnTo>
                    <a:pt x="664" y="954"/>
                  </a:lnTo>
                  <a:lnTo>
                    <a:pt x="664" y="954"/>
                  </a:lnTo>
                  <a:lnTo>
                    <a:pt x="678" y="928"/>
                  </a:lnTo>
                  <a:lnTo>
                    <a:pt x="694" y="902"/>
                  </a:lnTo>
                  <a:lnTo>
                    <a:pt x="712" y="876"/>
                  </a:lnTo>
                  <a:lnTo>
                    <a:pt x="728" y="852"/>
                  </a:lnTo>
                  <a:lnTo>
                    <a:pt x="748" y="828"/>
                  </a:lnTo>
                  <a:lnTo>
                    <a:pt x="768" y="804"/>
                  </a:lnTo>
                  <a:lnTo>
                    <a:pt x="810" y="758"/>
                  </a:lnTo>
                  <a:lnTo>
                    <a:pt x="810" y="758"/>
                  </a:lnTo>
                  <a:lnTo>
                    <a:pt x="844" y="726"/>
                  </a:lnTo>
                  <a:lnTo>
                    <a:pt x="880" y="696"/>
                  </a:lnTo>
                  <a:lnTo>
                    <a:pt x="916" y="668"/>
                  </a:lnTo>
                  <a:lnTo>
                    <a:pt x="952" y="642"/>
                  </a:lnTo>
                  <a:lnTo>
                    <a:pt x="952" y="642"/>
                  </a:lnTo>
                  <a:lnTo>
                    <a:pt x="1008" y="606"/>
                  </a:lnTo>
                  <a:lnTo>
                    <a:pt x="1062" y="574"/>
                  </a:lnTo>
                  <a:lnTo>
                    <a:pt x="1116" y="546"/>
                  </a:lnTo>
                  <a:lnTo>
                    <a:pt x="1164" y="524"/>
                  </a:lnTo>
                  <a:lnTo>
                    <a:pt x="1164" y="524"/>
                  </a:lnTo>
                  <a:lnTo>
                    <a:pt x="1210" y="504"/>
                  </a:lnTo>
                  <a:lnTo>
                    <a:pt x="1248" y="492"/>
                  </a:lnTo>
                  <a:lnTo>
                    <a:pt x="1248" y="492"/>
                  </a:lnTo>
                  <a:lnTo>
                    <a:pt x="1278" y="482"/>
                  </a:lnTo>
                  <a:lnTo>
                    <a:pt x="1278" y="482"/>
                  </a:lnTo>
                  <a:lnTo>
                    <a:pt x="1294" y="478"/>
                  </a:lnTo>
                  <a:lnTo>
                    <a:pt x="1294" y="478"/>
                  </a:lnTo>
                  <a:lnTo>
                    <a:pt x="1316" y="474"/>
                  </a:lnTo>
                  <a:lnTo>
                    <a:pt x="1336" y="464"/>
                  </a:lnTo>
                  <a:lnTo>
                    <a:pt x="1354" y="452"/>
                  </a:lnTo>
                  <a:lnTo>
                    <a:pt x="1370" y="436"/>
                  </a:lnTo>
                  <a:lnTo>
                    <a:pt x="1370" y="436"/>
                  </a:lnTo>
                  <a:lnTo>
                    <a:pt x="1390" y="416"/>
                  </a:lnTo>
                  <a:lnTo>
                    <a:pt x="1410" y="396"/>
                  </a:lnTo>
                  <a:lnTo>
                    <a:pt x="1434" y="376"/>
                  </a:lnTo>
                  <a:lnTo>
                    <a:pt x="1458" y="360"/>
                  </a:lnTo>
                  <a:lnTo>
                    <a:pt x="1458" y="360"/>
                  </a:lnTo>
                  <a:lnTo>
                    <a:pt x="1500" y="334"/>
                  </a:lnTo>
                  <a:lnTo>
                    <a:pt x="1546" y="314"/>
                  </a:lnTo>
                  <a:lnTo>
                    <a:pt x="1594" y="296"/>
                  </a:lnTo>
                  <a:lnTo>
                    <a:pt x="1646" y="282"/>
                  </a:lnTo>
                  <a:lnTo>
                    <a:pt x="1646" y="282"/>
                  </a:lnTo>
                  <a:lnTo>
                    <a:pt x="1700" y="270"/>
                  </a:lnTo>
                  <a:lnTo>
                    <a:pt x="1752" y="262"/>
                  </a:lnTo>
                  <a:lnTo>
                    <a:pt x="1806" y="258"/>
                  </a:lnTo>
                  <a:lnTo>
                    <a:pt x="1858" y="256"/>
                  </a:lnTo>
                  <a:lnTo>
                    <a:pt x="1858" y="256"/>
                  </a:lnTo>
                  <a:lnTo>
                    <a:pt x="1910" y="258"/>
                  </a:lnTo>
                  <a:lnTo>
                    <a:pt x="1958" y="262"/>
                  </a:lnTo>
                  <a:lnTo>
                    <a:pt x="2002" y="268"/>
                  </a:lnTo>
                  <a:lnTo>
                    <a:pt x="2040" y="278"/>
                  </a:lnTo>
                  <a:lnTo>
                    <a:pt x="2040" y="278"/>
                  </a:lnTo>
                  <a:lnTo>
                    <a:pt x="2074" y="288"/>
                  </a:lnTo>
                  <a:lnTo>
                    <a:pt x="2102" y="300"/>
                  </a:lnTo>
                  <a:lnTo>
                    <a:pt x="2102" y="300"/>
                  </a:lnTo>
                  <a:lnTo>
                    <a:pt x="2120" y="310"/>
                  </a:lnTo>
                  <a:lnTo>
                    <a:pt x="2130" y="318"/>
                  </a:lnTo>
                  <a:lnTo>
                    <a:pt x="2130" y="318"/>
                  </a:lnTo>
                  <a:lnTo>
                    <a:pt x="2146" y="332"/>
                  </a:lnTo>
                  <a:lnTo>
                    <a:pt x="2164" y="344"/>
                  </a:lnTo>
                  <a:lnTo>
                    <a:pt x="2184" y="350"/>
                  </a:lnTo>
                  <a:lnTo>
                    <a:pt x="2204" y="354"/>
                  </a:lnTo>
                  <a:lnTo>
                    <a:pt x="2226" y="354"/>
                  </a:lnTo>
                  <a:lnTo>
                    <a:pt x="2246" y="350"/>
                  </a:lnTo>
                  <a:lnTo>
                    <a:pt x="2266" y="342"/>
                  </a:lnTo>
                  <a:lnTo>
                    <a:pt x="2284" y="332"/>
                  </a:lnTo>
                  <a:lnTo>
                    <a:pt x="2284" y="332"/>
                  </a:lnTo>
                  <a:lnTo>
                    <a:pt x="2314" y="312"/>
                  </a:lnTo>
                  <a:lnTo>
                    <a:pt x="2348" y="296"/>
                  </a:lnTo>
                  <a:lnTo>
                    <a:pt x="2386" y="280"/>
                  </a:lnTo>
                  <a:lnTo>
                    <a:pt x="2428" y="266"/>
                  </a:lnTo>
                  <a:lnTo>
                    <a:pt x="2428" y="266"/>
                  </a:lnTo>
                  <a:lnTo>
                    <a:pt x="2472" y="256"/>
                  </a:lnTo>
                  <a:lnTo>
                    <a:pt x="2518" y="248"/>
                  </a:lnTo>
                  <a:lnTo>
                    <a:pt x="2566" y="242"/>
                  </a:lnTo>
                  <a:lnTo>
                    <a:pt x="2616" y="240"/>
                  </a:lnTo>
                  <a:lnTo>
                    <a:pt x="2616" y="240"/>
                  </a:lnTo>
                  <a:lnTo>
                    <a:pt x="2656" y="242"/>
                  </a:lnTo>
                  <a:lnTo>
                    <a:pt x="2696" y="246"/>
                  </a:lnTo>
                  <a:lnTo>
                    <a:pt x="2736" y="250"/>
                  </a:lnTo>
                  <a:lnTo>
                    <a:pt x="2776" y="258"/>
                  </a:lnTo>
                  <a:lnTo>
                    <a:pt x="2776" y="258"/>
                  </a:lnTo>
                  <a:lnTo>
                    <a:pt x="2806" y="266"/>
                  </a:lnTo>
                  <a:lnTo>
                    <a:pt x="2834" y="274"/>
                  </a:lnTo>
                  <a:lnTo>
                    <a:pt x="2864" y="284"/>
                  </a:lnTo>
                  <a:lnTo>
                    <a:pt x="2892" y="296"/>
                  </a:lnTo>
                  <a:lnTo>
                    <a:pt x="2920" y="308"/>
                  </a:lnTo>
                  <a:lnTo>
                    <a:pt x="2946" y="322"/>
                  </a:lnTo>
                  <a:lnTo>
                    <a:pt x="2972" y="336"/>
                  </a:lnTo>
                  <a:lnTo>
                    <a:pt x="2998" y="354"/>
                  </a:lnTo>
                  <a:lnTo>
                    <a:pt x="2998" y="354"/>
                  </a:lnTo>
                  <a:lnTo>
                    <a:pt x="3024" y="372"/>
                  </a:lnTo>
                  <a:lnTo>
                    <a:pt x="3046" y="392"/>
                  </a:lnTo>
                  <a:lnTo>
                    <a:pt x="3070" y="412"/>
                  </a:lnTo>
                  <a:lnTo>
                    <a:pt x="3092" y="434"/>
                  </a:lnTo>
                  <a:lnTo>
                    <a:pt x="3112" y="458"/>
                  </a:lnTo>
                  <a:lnTo>
                    <a:pt x="3132" y="484"/>
                  </a:lnTo>
                  <a:lnTo>
                    <a:pt x="3150" y="512"/>
                  </a:lnTo>
                  <a:lnTo>
                    <a:pt x="3168" y="540"/>
                  </a:lnTo>
                  <a:lnTo>
                    <a:pt x="3168" y="540"/>
                  </a:lnTo>
                  <a:lnTo>
                    <a:pt x="3174" y="550"/>
                  </a:lnTo>
                  <a:lnTo>
                    <a:pt x="3174" y="550"/>
                  </a:lnTo>
                  <a:lnTo>
                    <a:pt x="3186" y="568"/>
                  </a:lnTo>
                  <a:lnTo>
                    <a:pt x="3196" y="588"/>
                  </a:lnTo>
                  <a:lnTo>
                    <a:pt x="3208" y="612"/>
                  </a:lnTo>
                  <a:lnTo>
                    <a:pt x="3218" y="638"/>
                  </a:lnTo>
                  <a:lnTo>
                    <a:pt x="3218" y="638"/>
                  </a:lnTo>
                  <a:lnTo>
                    <a:pt x="3234" y="684"/>
                  </a:lnTo>
                  <a:lnTo>
                    <a:pt x="3248" y="740"/>
                  </a:lnTo>
                  <a:lnTo>
                    <a:pt x="3260" y="804"/>
                  </a:lnTo>
                  <a:lnTo>
                    <a:pt x="3272" y="878"/>
                  </a:lnTo>
                  <a:lnTo>
                    <a:pt x="3272" y="878"/>
                  </a:lnTo>
                  <a:lnTo>
                    <a:pt x="3280" y="962"/>
                  </a:lnTo>
                  <a:lnTo>
                    <a:pt x="3288" y="1054"/>
                  </a:lnTo>
                  <a:lnTo>
                    <a:pt x="3294" y="1158"/>
                  </a:lnTo>
                  <a:lnTo>
                    <a:pt x="3296" y="1272"/>
                  </a:lnTo>
                  <a:lnTo>
                    <a:pt x="3296" y="1272"/>
                  </a:lnTo>
                  <a:lnTo>
                    <a:pt x="3416" y="1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54"/>
            <p:cNvSpPr/>
            <p:nvPr/>
          </p:nvSpPr>
          <p:spPr>
            <a:xfrm>
              <a:off x="628560" y="549000"/>
              <a:ext cx="3882960" cy="7385400"/>
            </a:xfrm>
            <a:custGeom>
              <a:avLst/>
              <a:gdLst>
                <a:gd name="textAreaLeft" fmla="*/ 0 w 3882960"/>
                <a:gd name="textAreaRight" fmla="*/ 3883320 w 3882960"/>
                <a:gd name="textAreaTop" fmla="*/ 0 h 7385400"/>
                <a:gd name="textAreaBottom" fmla="*/ 7385760 h 7385400"/>
              </a:gdLst>
              <a:ahLst/>
              <a:rect l="textAreaLeft" t="textAreaTop" r="textAreaRight" b="textAreaBottom"/>
              <a:pathLst>
                <a:path w="2446" h="4652">
                  <a:moveTo>
                    <a:pt x="2290" y="724"/>
                  </a:moveTo>
                  <a:lnTo>
                    <a:pt x="2290" y="724"/>
                  </a:lnTo>
                  <a:lnTo>
                    <a:pt x="2276" y="600"/>
                  </a:lnTo>
                  <a:lnTo>
                    <a:pt x="2260" y="498"/>
                  </a:lnTo>
                  <a:lnTo>
                    <a:pt x="2250" y="452"/>
                  </a:lnTo>
                  <a:lnTo>
                    <a:pt x="2242" y="412"/>
                  </a:lnTo>
                  <a:lnTo>
                    <a:pt x="2232" y="374"/>
                  </a:lnTo>
                  <a:lnTo>
                    <a:pt x="2222" y="340"/>
                  </a:lnTo>
                  <a:lnTo>
                    <a:pt x="2210" y="308"/>
                  </a:lnTo>
                  <a:lnTo>
                    <a:pt x="2200" y="278"/>
                  </a:lnTo>
                  <a:lnTo>
                    <a:pt x="2186" y="250"/>
                  </a:lnTo>
                  <a:lnTo>
                    <a:pt x="2172" y="222"/>
                  </a:lnTo>
                  <a:lnTo>
                    <a:pt x="2142" y="168"/>
                  </a:lnTo>
                  <a:lnTo>
                    <a:pt x="2106" y="114"/>
                  </a:lnTo>
                  <a:lnTo>
                    <a:pt x="2106" y="114"/>
                  </a:lnTo>
                  <a:lnTo>
                    <a:pt x="2096" y="98"/>
                  </a:lnTo>
                  <a:lnTo>
                    <a:pt x="2094" y="98"/>
                  </a:lnTo>
                  <a:lnTo>
                    <a:pt x="2094" y="98"/>
                  </a:lnTo>
                  <a:lnTo>
                    <a:pt x="2080" y="84"/>
                  </a:lnTo>
                  <a:lnTo>
                    <a:pt x="2064" y="72"/>
                  </a:lnTo>
                  <a:lnTo>
                    <a:pt x="2044" y="60"/>
                  </a:lnTo>
                  <a:lnTo>
                    <a:pt x="2022" y="50"/>
                  </a:lnTo>
                  <a:lnTo>
                    <a:pt x="2000" y="40"/>
                  </a:lnTo>
                  <a:lnTo>
                    <a:pt x="1974" y="32"/>
                  </a:lnTo>
                  <a:lnTo>
                    <a:pt x="1948" y="24"/>
                  </a:lnTo>
                  <a:lnTo>
                    <a:pt x="1920" y="18"/>
                  </a:lnTo>
                  <a:lnTo>
                    <a:pt x="1890" y="12"/>
                  </a:lnTo>
                  <a:lnTo>
                    <a:pt x="1860" y="8"/>
                  </a:lnTo>
                  <a:lnTo>
                    <a:pt x="1794" y="2"/>
                  </a:lnTo>
                  <a:lnTo>
                    <a:pt x="1726" y="0"/>
                  </a:lnTo>
                  <a:lnTo>
                    <a:pt x="1692" y="0"/>
                  </a:lnTo>
                  <a:lnTo>
                    <a:pt x="1658" y="2"/>
                  </a:lnTo>
                  <a:lnTo>
                    <a:pt x="1622" y="6"/>
                  </a:lnTo>
                  <a:lnTo>
                    <a:pt x="1586" y="12"/>
                  </a:lnTo>
                  <a:lnTo>
                    <a:pt x="1550" y="18"/>
                  </a:lnTo>
                  <a:lnTo>
                    <a:pt x="1516" y="24"/>
                  </a:lnTo>
                  <a:lnTo>
                    <a:pt x="1480" y="34"/>
                  </a:lnTo>
                  <a:lnTo>
                    <a:pt x="1446" y="44"/>
                  </a:lnTo>
                  <a:lnTo>
                    <a:pt x="1412" y="54"/>
                  </a:lnTo>
                  <a:lnTo>
                    <a:pt x="1380" y="68"/>
                  </a:lnTo>
                  <a:lnTo>
                    <a:pt x="1348" y="82"/>
                  </a:lnTo>
                  <a:lnTo>
                    <a:pt x="1316" y="98"/>
                  </a:lnTo>
                  <a:lnTo>
                    <a:pt x="1286" y="114"/>
                  </a:lnTo>
                  <a:lnTo>
                    <a:pt x="1258" y="134"/>
                  </a:lnTo>
                  <a:lnTo>
                    <a:pt x="1230" y="154"/>
                  </a:lnTo>
                  <a:lnTo>
                    <a:pt x="1204" y="176"/>
                  </a:lnTo>
                  <a:lnTo>
                    <a:pt x="1180" y="200"/>
                  </a:lnTo>
                  <a:lnTo>
                    <a:pt x="1158" y="224"/>
                  </a:lnTo>
                  <a:lnTo>
                    <a:pt x="1158" y="224"/>
                  </a:lnTo>
                  <a:lnTo>
                    <a:pt x="1128" y="230"/>
                  </a:lnTo>
                  <a:lnTo>
                    <a:pt x="1090" y="242"/>
                  </a:lnTo>
                  <a:lnTo>
                    <a:pt x="1044" y="258"/>
                  </a:lnTo>
                  <a:lnTo>
                    <a:pt x="994" y="278"/>
                  </a:lnTo>
                  <a:lnTo>
                    <a:pt x="938" y="304"/>
                  </a:lnTo>
                  <a:lnTo>
                    <a:pt x="878" y="336"/>
                  </a:lnTo>
                  <a:lnTo>
                    <a:pt x="818" y="372"/>
                  </a:lnTo>
                  <a:lnTo>
                    <a:pt x="756" y="412"/>
                  </a:lnTo>
                  <a:lnTo>
                    <a:pt x="694" y="458"/>
                  </a:lnTo>
                  <a:lnTo>
                    <a:pt x="664" y="484"/>
                  </a:lnTo>
                  <a:lnTo>
                    <a:pt x="634" y="510"/>
                  </a:lnTo>
                  <a:lnTo>
                    <a:pt x="606" y="538"/>
                  </a:lnTo>
                  <a:lnTo>
                    <a:pt x="578" y="566"/>
                  </a:lnTo>
                  <a:lnTo>
                    <a:pt x="552" y="596"/>
                  </a:lnTo>
                  <a:lnTo>
                    <a:pt x="526" y="628"/>
                  </a:lnTo>
                  <a:lnTo>
                    <a:pt x="500" y="660"/>
                  </a:lnTo>
                  <a:lnTo>
                    <a:pt x="478" y="694"/>
                  </a:lnTo>
                  <a:lnTo>
                    <a:pt x="456" y="728"/>
                  </a:lnTo>
                  <a:lnTo>
                    <a:pt x="438" y="764"/>
                  </a:lnTo>
                  <a:lnTo>
                    <a:pt x="420" y="802"/>
                  </a:lnTo>
                  <a:lnTo>
                    <a:pt x="404" y="840"/>
                  </a:lnTo>
                  <a:lnTo>
                    <a:pt x="392" y="880"/>
                  </a:lnTo>
                  <a:lnTo>
                    <a:pt x="382" y="922"/>
                  </a:lnTo>
                  <a:lnTo>
                    <a:pt x="382" y="922"/>
                  </a:lnTo>
                  <a:lnTo>
                    <a:pt x="360" y="930"/>
                  </a:lnTo>
                  <a:lnTo>
                    <a:pt x="340" y="940"/>
                  </a:lnTo>
                  <a:lnTo>
                    <a:pt x="318" y="954"/>
                  </a:lnTo>
                  <a:lnTo>
                    <a:pt x="296" y="968"/>
                  </a:lnTo>
                  <a:lnTo>
                    <a:pt x="276" y="984"/>
                  </a:lnTo>
                  <a:lnTo>
                    <a:pt x="254" y="1004"/>
                  </a:lnTo>
                  <a:lnTo>
                    <a:pt x="234" y="1024"/>
                  </a:lnTo>
                  <a:lnTo>
                    <a:pt x="212" y="1046"/>
                  </a:lnTo>
                  <a:lnTo>
                    <a:pt x="192" y="1070"/>
                  </a:lnTo>
                  <a:lnTo>
                    <a:pt x="174" y="1096"/>
                  </a:lnTo>
                  <a:lnTo>
                    <a:pt x="154" y="1124"/>
                  </a:lnTo>
                  <a:lnTo>
                    <a:pt x="136" y="1154"/>
                  </a:lnTo>
                  <a:lnTo>
                    <a:pt x="118" y="1184"/>
                  </a:lnTo>
                  <a:lnTo>
                    <a:pt x="102" y="1216"/>
                  </a:lnTo>
                  <a:lnTo>
                    <a:pt x="86" y="1250"/>
                  </a:lnTo>
                  <a:lnTo>
                    <a:pt x="72" y="1284"/>
                  </a:lnTo>
                  <a:lnTo>
                    <a:pt x="58" y="1322"/>
                  </a:lnTo>
                  <a:lnTo>
                    <a:pt x="46" y="1360"/>
                  </a:lnTo>
                  <a:lnTo>
                    <a:pt x="34" y="1398"/>
                  </a:lnTo>
                  <a:lnTo>
                    <a:pt x="24" y="1438"/>
                  </a:lnTo>
                  <a:lnTo>
                    <a:pt x="16" y="1480"/>
                  </a:lnTo>
                  <a:lnTo>
                    <a:pt x="10" y="1524"/>
                  </a:lnTo>
                  <a:lnTo>
                    <a:pt x="6" y="1566"/>
                  </a:lnTo>
                  <a:lnTo>
                    <a:pt x="2" y="1612"/>
                  </a:lnTo>
                  <a:lnTo>
                    <a:pt x="0" y="1658"/>
                  </a:lnTo>
                  <a:lnTo>
                    <a:pt x="2" y="1704"/>
                  </a:lnTo>
                  <a:lnTo>
                    <a:pt x="4" y="1752"/>
                  </a:lnTo>
                  <a:lnTo>
                    <a:pt x="10" y="1800"/>
                  </a:lnTo>
                  <a:lnTo>
                    <a:pt x="16" y="1848"/>
                  </a:lnTo>
                  <a:lnTo>
                    <a:pt x="26" y="1898"/>
                  </a:lnTo>
                  <a:lnTo>
                    <a:pt x="38" y="1948"/>
                  </a:lnTo>
                  <a:lnTo>
                    <a:pt x="52" y="2000"/>
                  </a:lnTo>
                  <a:lnTo>
                    <a:pt x="52" y="2000"/>
                  </a:lnTo>
                  <a:lnTo>
                    <a:pt x="38" y="2062"/>
                  </a:lnTo>
                  <a:lnTo>
                    <a:pt x="24" y="2124"/>
                  </a:lnTo>
                  <a:lnTo>
                    <a:pt x="18" y="2158"/>
                  </a:lnTo>
                  <a:lnTo>
                    <a:pt x="14" y="2194"/>
                  </a:lnTo>
                  <a:lnTo>
                    <a:pt x="10" y="2232"/>
                  </a:lnTo>
                  <a:lnTo>
                    <a:pt x="10" y="2278"/>
                  </a:lnTo>
                  <a:lnTo>
                    <a:pt x="12" y="2328"/>
                  </a:lnTo>
                  <a:lnTo>
                    <a:pt x="18" y="2384"/>
                  </a:lnTo>
                  <a:lnTo>
                    <a:pt x="26" y="2446"/>
                  </a:lnTo>
                  <a:lnTo>
                    <a:pt x="38" y="2518"/>
                  </a:lnTo>
                  <a:lnTo>
                    <a:pt x="54" y="2600"/>
                  </a:lnTo>
                  <a:lnTo>
                    <a:pt x="76" y="2690"/>
                  </a:lnTo>
                  <a:lnTo>
                    <a:pt x="102" y="2792"/>
                  </a:lnTo>
                  <a:lnTo>
                    <a:pt x="134" y="2906"/>
                  </a:lnTo>
                  <a:lnTo>
                    <a:pt x="134" y="2906"/>
                  </a:lnTo>
                  <a:lnTo>
                    <a:pt x="142" y="2934"/>
                  </a:lnTo>
                  <a:lnTo>
                    <a:pt x="152" y="2962"/>
                  </a:lnTo>
                  <a:lnTo>
                    <a:pt x="164" y="2990"/>
                  </a:lnTo>
                  <a:lnTo>
                    <a:pt x="178" y="3020"/>
                  </a:lnTo>
                  <a:lnTo>
                    <a:pt x="212" y="3080"/>
                  </a:lnTo>
                  <a:lnTo>
                    <a:pt x="250" y="3142"/>
                  </a:lnTo>
                  <a:lnTo>
                    <a:pt x="294" y="3204"/>
                  </a:lnTo>
                  <a:lnTo>
                    <a:pt x="342" y="3270"/>
                  </a:lnTo>
                  <a:lnTo>
                    <a:pt x="396" y="3334"/>
                  </a:lnTo>
                  <a:lnTo>
                    <a:pt x="454" y="3402"/>
                  </a:lnTo>
                  <a:lnTo>
                    <a:pt x="516" y="3468"/>
                  </a:lnTo>
                  <a:lnTo>
                    <a:pt x="580" y="3536"/>
                  </a:lnTo>
                  <a:lnTo>
                    <a:pt x="648" y="3604"/>
                  </a:lnTo>
                  <a:lnTo>
                    <a:pt x="718" y="3670"/>
                  </a:lnTo>
                  <a:lnTo>
                    <a:pt x="790" y="3738"/>
                  </a:lnTo>
                  <a:lnTo>
                    <a:pt x="864" y="3804"/>
                  </a:lnTo>
                  <a:lnTo>
                    <a:pt x="940" y="3870"/>
                  </a:lnTo>
                  <a:lnTo>
                    <a:pt x="1014" y="3934"/>
                  </a:lnTo>
                  <a:lnTo>
                    <a:pt x="1166" y="4060"/>
                  </a:lnTo>
                  <a:lnTo>
                    <a:pt x="1314" y="4180"/>
                  </a:lnTo>
                  <a:lnTo>
                    <a:pt x="1456" y="4290"/>
                  </a:lnTo>
                  <a:lnTo>
                    <a:pt x="1590" y="4390"/>
                  </a:lnTo>
                  <a:lnTo>
                    <a:pt x="1708" y="4478"/>
                  </a:lnTo>
                  <a:lnTo>
                    <a:pt x="1810" y="4552"/>
                  </a:lnTo>
                  <a:lnTo>
                    <a:pt x="1952" y="4652"/>
                  </a:lnTo>
                  <a:lnTo>
                    <a:pt x="2446" y="3756"/>
                  </a:lnTo>
                  <a:lnTo>
                    <a:pt x="2446" y="3756"/>
                  </a:lnTo>
                  <a:lnTo>
                    <a:pt x="2428" y="3332"/>
                  </a:lnTo>
                  <a:lnTo>
                    <a:pt x="2384" y="2374"/>
                  </a:lnTo>
                  <a:lnTo>
                    <a:pt x="2358" y="1840"/>
                  </a:lnTo>
                  <a:lnTo>
                    <a:pt x="2332" y="1350"/>
                  </a:lnTo>
                  <a:lnTo>
                    <a:pt x="2310" y="958"/>
                  </a:lnTo>
                  <a:lnTo>
                    <a:pt x="2300" y="816"/>
                  </a:lnTo>
                  <a:lnTo>
                    <a:pt x="2290" y="724"/>
                  </a:lnTo>
                  <a:lnTo>
                    <a:pt x="2290" y="724"/>
                  </a:lnTo>
                  <a:close/>
                </a:path>
              </a:pathLst>
            </a:custGeom>
            <a:solidFill>
              <a:srgbClr val="e54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438120" y="358560"/>
              <a:ext cx="4263840" cy="7766280"/>
            </a:xfrm>
            <a:custGeom>
              <a:avLst/>
              <a:gdLst>
                <a:gd name="textAreaLeft" fmla="*/ 0 w 4263840"/>
                <a:gd name="textAreaRight" fmla="*/ 4264200 w 4263840"/>
                <a:gd name="textAreaTop" fmla="*/ 0 h 7766280"/>
                <a:gd name="textAreaBottom" fmla="*/ 7766640 h 7766280"/>
              </a:gdLst>
              <a:ahLst/>
              <a:rect l="textAreaLeft" t="textAreaTop" r="textAreaRight" b="textAreaBottom"/>
              <a:pathLst>
                <a:path w="2686" h="4892">
                  <a:moveTo>
                    <a:pt x="2410" y="844"/>
                  </a:moveTo>
                  <a:lnTo>
                    <a:pt x="2530" y="830"/>
                  </a:lnTo>
                  <a:lnTo>
                    <a:pt x="2530" y="830"/>
                  </a:lnTo>
                  <a:lnTo>
                    <a:pt x="2514" y="704"/>
                  </a:lnTo>
                  <a:lnTo>
                    <a:pt x="2498" y="596"/>
                  </a:lnTo>
                  <a:lnTo>
                    <a:pt x="2498" y="596"/>
                  </a:lnTo>
                  <a:lnTo>
                    <a:pt x="2484" y="526"/>
                  </a:lnTo>
                  <a:lnTo>
                    <a:pt x="2468" y="462"/>
                  </a:lnTo>
                  <a:lnTo>
                    <a:pt x="2468" y="462"/>
                  </a:lnTo>
                  <a:lnTo>
                    <a:pt x="2454" y="420"/>
                  </a:lnTo>
                  <a:lnTo>
                    <a:pt x="2440" y="378"/>
                  </a:lnTo>
                  <a:lnTo>
                    <a:pt x="2424" y="338"/>
                  </a:lnTo>
                  <a:lnTo>
                    <a:pt x="2408" y="302"/>
                  </a:lnTo>
                  <a:lnTo>
                    <a:pt x="2408" y="302"/>
                  </a:lnTo>
                  <a:lnTo>
                    <a:pt x="2388" y="266"/>
                  </a:lnTo>
                  <a:lnTo>
                    <a:pt x="2368" y="232"/>
                  </a:lnTo>
                  <a:lnTo>
                    <a:pt x="2326" y="166"/>
                  </a:lnTo>
                  <a:lnTo>
                    <a:pt x="2326" y="166"/>
                  </a:lnTo>
                  <a:lnTo>
                    <a:pt x="2326" y="166"/>
                  </a:lnTo>
                  <a:lnTo>
                    <a:pt x="2316" y="152"/>
                  </a:lnTo>
                  <a:lnTo>
                    <a:pt x="2316" y="152"/>
                  </a:lnTo>
                  <a:lnTo>
                    <a:pt x="2302" y="134"/>
                  </a:lnTo>
                  <a:lnTo>
                    <a:pt x="2284" y="120"/>
                  </a:lnTo>
                  <a:lnTo>
                    <a:pt x="2266" y="108"/>
                  </a:lnTo>
                  <a:lnTo>
                    <a:pt x="2244" y="102"/>
                  </a:lnTo>
                  <a:lnTo>
                    <a:pt x="2222" y="98"/>
                  </a:lnTo>
                  <a:lnTo>
                    <a:pt x="2200" y="98"/>
                  </a:lnTo>
                  <a:lnTo>
                    <a:pt x="2178" y="104"/>
                  </a:lnTo>
                  <a:lnTo>
                    <a:pt x="2158" y="112"/>
                  </a:lnTo>
                  <a:lnTo>
                    <a:pt x="2156" y="114"/>
                  </a:lnTo>
                  <a:lnTo>
                    <a:pt x="2214" y="218"/>
                  </a:lnTo>
                  <a:lnTo>
                    <a:pt x="2300" y="134"/>
                  </a:lnTo>
                  <a:lnTo>
                    <a:pt x="2300" y="134"/>
                  </a:lnTo>
                  <a:lnTo>
                    <a:pt x="2278" y="114"/>
                  </a:lnTo>
                  <a:lnTo>
                    <a:pt x="2256" y="98"/>
                  </a:lnTo>
                  <a:lnTo>
                    <a:pt x="2234" y="82"/>
                  </a:lnTo>
                  <a:lnTo>
                    <a:pt x="2210" y="70"/>
                  </a:lnTo>
                  <a:lnTo>
                    <a:pt x="2210" y="70"/>
                  </a:lnTo>
                  <a:lnTo>
                    <a:pt x="2172" y="52"/>
                  </a:lnTo>
                  <a:lnTo>
                    <a:pt x="2132" y="38"/>
                  </a:lnTo>
                  <a:lnTo>
                    <a:pt x="2090" y="26"/>
                  </a:lnTo>
                  <a:lnTo>
                    <a:pt x="2046" y="16"/>
                  </a:lnTo>
                  <a:lnTo>
                    <a:pt x="2046" y="16"/>
                  </a:lnTo>
                  <a:lnTo>
                    <a:pt x="2002" y="10"/>
                  </a:lnTo>
                  <a:lnTo>
                    <a:pt x="1956" y="4"/>
                  </a:lnTo>
                  <a:lnTo>
                    <a:pt x="1908" y="0"/>
                  </a:lnTo>
                  <a:lnTo>
                    <a:pt x="1858" y="0"/>
                  </a:lnTo>
                  <a:lnTo>
                    <a:pt x="1858" y="0"/>
                  </a:lnTo>
                  <a:lnTo>
                    <a:pt x="1814" y="0"/>
                  </a:lnTo>
                  <a:lnTo>
                    <a:pt x="1770" y="4"/>
                  </a:lnTo>
                  <a:lnTo>
                    <a:pt x="1724" y="8"/>
                  </a:lnTo>
                  <a:lnTo>
                    <a:pt x="1678" y="14"/>
                  </a:lnTo>
                  <a:lnTo>
                    <a:pt x="1678" y="14"/>
                  </a:lnTo>
                  <a:lnTo>
                    <a:pt x="1610" y="28"/>
                  </a:lnTo>
                  <a:lnTo>
                    <a:pt x="1576" y="36"/>
                  </a:lnTo>
                  <a:lnTo>
                    <a:pt x="1544" y="44"/>
                  </a:lnTo>
                  <a:lnTo>
                    <a:pt x="1510" y="56"/>
                  </a:lnTo>
                  <a:lnTo>
                    <a:pt x="1476" y="68"/>
                  </a:lnTo>
                  <a:lnTo>
                    <a:pt x="1444" y="80"/>
                  </a:lnTo>
                  <a:lnTo>
                    <a:pt x="1412" y="96"/>
                  </a:lnTo>
                  <a:lnTo>
                    <a:pt x="1412" y="96"/>
                  </a:lnTo>
                  <a:lnTo>
                    <a:pt x="1380" y="112"/>
                  </a:lnTo>
                  <a:lnTo>
                    <a:pt x="1348" y="128"/>
                  </a:lnTo>
                  <a:lnTo>
                    <a:pt x="1318" y="148"/>
                  </a:lnTo>
                  <a:lnTo>
                    <a:pt x="1290" y="168"/>
                  </a:lnTo>
                  <a:lnTo>
                    <a:pt x="1290" y="168"/>
                  </a:lnTo>
                  <a:lnTo>
                    <a:pt x="1262" y="190"/>
                  </a:lnTo>
                  <a:lnTo>
                    <a:pt x="1234" y="214"/>
                  </a:lnTo>
                  <a:lnTo>
                    <a:pt x="1208" y="240"/>
                  </a:lnTo>
                  <a:lnTo>
                    <a:pt x="1184" y="268"/>
                  </a:lnTo>
                  <a:lnTo>
                    <a:pt x="1278" y="344"/>
                  </a:lnTo>
                  <a:lnTo>
                    <a:pt x="1260" y="226"/>
                  </a:lnTo>
                  <a:lnTo>
                    <a:pt x="1260" y="226"/>
                  </a:lnTo>
                  <a:lnTo>
                    <a:pt x="1218" y="234"/>
                  </a:lnTo>
                  <a:lnTo>
                    <a:pt x="1218" y="234"/>
                  </a:lnTo>
                  <a:lnTo>
                    <a:pt x="1176" y="246"/>
                  </a:lnTo>
                  <a:lnTo>
                    <a:pt x="1128" y="264"/>
                  </a:lnTo>
                  <a:lnTo>
                    <a:pt x="1128" y="264"/>
                  </a:lnTo>
                  <a:lnTo>
                    <a:pt x="1082" y="282"/>
                  </a:lnTo>
                  <a:lnTo>
                    <a:pt x="1034" y="302"/>
                  </a:lnTo>
                  <a:lnTo>
                    <a:pt x="984" y="328"/>
                  </a:lnTo>
                  <a:lnTo>
                    <a:pt x="930" y="356"/>
                  </a:lnTo>
                  <a:lnTo>
                    <a:pt x="930" y="356"/>
                  </a:lnTo>
                  <a:lnTo>
                    <a:pt x="890" y="380"/>
                  </a:lnTo>
                  <a:lnTo>
                    <a:pt x="848" y="406"/>
                  </a:lnTo>
                  <a:lnTo>
                    <a:pt x="806" y="434"/>
                  </a:lnTo>
                  <a:lnTo>
                    <a:pt x="766" y="466"/>
                  </a:lnTo>
                  <a:lnTo>
                    <a:pt x="724" y="498"/>
                  </a:lnTo>
                  <a:lnTo>
                    <a:pt x="684" y="532"/>
                  </a:lnTo>
                  <a:lnTo>
                    <a:pt x="644" y="570"/>
                  </a:lnTo>
                  <a:lnTo>
                    <a:pt x="606" y="610"/>
                  </a:lnTo>
                  <a:lnTo>
                    <a:pt x="606" y="610"/>
                  </a:lnTo>
                  <a:lnTo>
                    <a:pt x="568" y="650"/>
                  </a:lnTo>
                  <a:lnTo>
                    <a:pt x="534" y="696"/>
                  </a:lnTo>
                  <a:lnTo>
                    <a:pt x="502" y="742"/>
                  </a:lnTo>
                  <a:lnTo>
                    <a:pt x="470" y="792"/>
                  </a:lnTo>
                  <a:lnTo>
                    <a:pt x="470" y="792"/>
                  </a:lnTo>
                  <a:lnTo>
                    <a:pt x="444" y="844"/>
                  </a:lnTo>
                  <a:lnTo>
                    <a:pt x="420" y="898"/>
                  </a:lnTo>
                  <a:lnTo>
                    <a:pt x="400" y="956"/>
                  </a:lnTo>
                  <a:lnTo>
                    <a:pt x="392" y="986"/>
                  </a:lnTo>
                  <a:lnTo>
                    <a:pt x="384" y="1016"/>
                  </a:lnTo>
                  <a:lnTo>
                    <a:pt x="502" y="1042"/>
                  </a:lnTo>
                  <a:lnTo>
                    <a:pt x="462" y="928"/>
                  </a:lnTo>
                  <a:lnTo>
                    <a:pt x="462" y="928"/>
                  </a:lnTo>
                  <a:lnTo>
                    <a:pt x="438" y="938"/>
                  </a:lnTo>
                  <a:lnTo>
                    <a:pt x="414" y="950"/>
                  </a:lnTo>
                  <a:lnTo>
                    <a:pt x="392" y="962"/>
                  </a:lnTo>
                  <a:lnTo>
                    <a:pt x="370" y="976"/>
                  </a:lnTo>
                  <a:lnTo>
                    <a:pt x="370" y="976"/>
                  </a:lnTo>
                  <a:lnTo>
                    <a:pt x="332" y="1002"/>
                  </a:lnTo>
                  <a:lnTo>
                    <a:pt x="296" y="1034"/>
                  </a:lnTo>
                  <a:lnTo>
                    <a:pt x="260" y="1068"/>
                  </a:lnTo>
                  <a:lnTo>
                    <a:pt x="228" y="1106"/>
                  </a:lnTo>
                  <a:lnTo>
                    <a:pt x="228" y="1106"/>
                  </a:lnTo>
                  <a:lnTo>
                    <a:pt x="204" y="1136"/>
                  </a:lnTo>
                  <a:lnTo>
                    <a:pt x="180" y="1168"/>
                  </a:lnTo>
                  <a:lnTo>
                    <a:pt x="158" y="1202"/>
                  </a:lnTo>
                  <a:lnTo>
                    <a:pt x="138" y="1238"/>
                  </a:lnTo>
                  <a:lnTo>
                    <a:pt x="118" y="1274"/>
                  </a:lnTo>
                  <a:lnTo>
                    <a:pt x="100" y="1314"/>
                  </a:lnTo>
                  <a:lnTo>
                    <a:pt x="82" y="1354"/>
                  </a:lnTo>
                  <a:lnTo>
                    <a:pt x="66" y="1396"/>
                  </a:lnTo>
                  <a:lnTo>
                    <a:pt x="66" y="1396"/>
                  </a:lnTo>
                  <a:lnTo>
                    <a:pt x="52" y="1440"/>
                  </a:lnTo>
                  <a:lnTo>
                    <a:pt x="38" y="1486"/>
                  </a:lnTo>
                  <a:lnTo>
                    <a:pt x="28" y="1532"/>
                  </a:lnTo>
                  <a:lnTo>
                    <a:pt x="18" y="1580"/>
                  </a:lnTo>
                  <a:lnTo>
                    <a:pt x="10" y="1628"/>
                  </a:lnTo>
                  <a:lnTo>
                    <a:pt x="6" y="1678"/>
                  </a:lnTo>
                  <a:lnTo>
                    <a:pt x="2" y="1730"/>
                  </a:lnTo>
                  <a:lnTo>
                    <a:pt x="0" y="1782"/>
                  </a:lnTo>
                  <a:lnTo>
                    <a:pt x="0" y="1782"/>
                  </a:lnTo>
                  <a:lnTo>
                    <a:pt x="2" y="1826"/>
                  </a:lnTo>
                  <a:lnTo>
                    <a:pt x="4" y="1872"/>
                  </a:lnTo>
                  <a:lnTo>
                    <a:pt x="8" y="1918"/>
                  </a:lnTo>
                  <a:lnTo>
                    <a:pt x="14" y="1964"/>
                  </a:lnTo>
                  <a:lnTo>
                    <a:pt x="22" y="2012"/>
                  </a:lnTo>
                  <a:lnTo>
                    <a:pt x="32" y="2058"/>
                  </a:lnTo>
                  <a:lnTo>
                    <a:pt x="44" y="2106"/>
                  </a:lnTo>
                  <a:lnTo>
                    <a:pt x="58" y="2156"/>
                  </a:lnTo>
                  <a:lnTo>
                    <a:pt x="172" y="2120"/>
                  </a:lnTo>
                  <a:lnTo>
                    <a:pt x="56" y="2094"/>
                  </a:lnTo>
                  <a:lnTo>
                    <a:pt x="56" y="2094"/>
                  </a:lnTo>
                  <a:lnTo>
                    <a:pt x="42" y="2152"/>
                  </a:lnTo>
                  <a:lnTo>
                    <a:pt x="42" y="2152"/>
                  </a:lnTo>
                  <a:lnTo>
                    <a:pt x="30" y="2198"/>
                  </a:lnTo>
                  <a:lnTo>
                    <a:pt x="20" y="2252"/>
                  </a:lnTo>
                  <a:lnTo>
                    <a:pt x="20" y="2252"/>
                  </a:lnTo>
                  <a:lnTo>
                    <a:pt x="16" y="2282"/>
                  </a:lnTo>
                  <a:lnTo>
                    <a:pt x="12" y="2314"/>
                  </a:lnTo>
                  <a:lnTo>
                    <a:pt x="10" y="2348"/>
                  </a:lnTo>
                  <a:lnTo>
                    <a:pt x="10" y="2386"/>
                  </a:lnTo>
                  <a:lnTo>
                    <a:pt x="10" y="2386"/>
                  </a:lnTo>
                  <a:lnTo>
                    <a:pt x="12" y="2442"/>
                  </a:lnTo>
                  <a:lnTo>
                    <a:pt x="16" y="2504"/>
                  </a:lnTo>
                  <a:lnTo>
                    <a:pt x="26" y="2574"/>
                  </a:lnTo>
                  <a:lnTo>
                    <a:pt x="38" y="2650"/>
                  </a:lnTo>
                  <a:lnTo>
                    <a:pt x="38" y="2650"/>
                  </a:lnTo>
                  <a:lnTo>
                    <a:pt x="56" y="2736"/>
                  </a:lnTo>
                  <a:lnTo>
                    <a:pt x="78" y="2832"/>
                  </a:lnTo>
                  <a:lnTo>
                    <a:pt x="104" y="2940"/>
                  </a:lnTo>
                  <a:lnTo>
                    <a:pt x="138" y="3058"/>
                  </a:lnTo>
                  <a:lnTo>
                    <a:pt x="138" y="3058"/>
                  </a:lnTo>
                  <a:lnTo>
                    <a:pt x="148" y="3092"/>
                  </a:lnTo>
                  <a:lnTo>
                    <a:pt x="162" y="3126"/>
                  </a:lnTo>
                  <a:lnTo>
                    <a:pt x="176" y="3160"/>
                  </a:lnTo>
                  <a:lnTo>
                    <a:pt x="192" y="3192"/>
                  </a:lnTo>
                  <a:lnTo>
                    <a:pt x="192" y="3192"/>
                  </a:lnTo>
                  <a:lnTo>
                    <a:pt x="226" y="3256"/>
                  </a:lnTo>
                  <a:lnTo>
                    <a:pt x="264" y="3318"/>
                  </a:lnTo>
                  <a:lnTo>
                    <a:pt x="308" y="3382"/>
                  </a:lnTo>
                  <a:lnTo>
                    <a:pt x="356" y="3446"/>
                  </a:lnTo>
                  <a:lnTo>
                    <a:pt x="356" y="3446"/>
                  </a:lnTo>
                  <a:lnTo>
                    <a:pt x="400" y="3502"/>
                  </a:lnTo>
                  <a:lnTo>
                    <a:pt x="448" y="3560"/>
                  </a:lnTo>
                  <a:lnTo>
                    <a:pt x="498" y="3616"/>
                  </a:lnTo>
                  <a:lnTo>
                    <a:pt x="550" y="3672"/>
                  </a:lnTo>
                  <a:lnTo>
                    <a:pt x="606" y="3730"/>
                  </a:lnTo>
                  <a:lnTo>
                    <a:pt x="662" y="3786"/>
                  </a:lnTo>
                  <a:lnTo>
                    <a:pt x="780" y="3900"/>
                  </a:lnTo>
                  <a:lnTo>
                    <a:pt x="780" y="3900"/>
                  </a:lnTo>
                  <a:lnTo>
                    <a:pt x="870" y="3982"/>
                  </a:lnTo>
                  <a:lnTo>
                    <a:pt x="964" y="4066"/>
                  </a:lnTo>
                  <a:lnTo>
                    <a:pt x="1058" y="4146"/>
                  </a:lnTo>
                  <a:lnTo>
                    <a:pt x="1152" y="4226"/>
                  </a:lnTo>
                  <a:lnTo>
                    <a:pt x="1246" y="4302"/>
                  </a:lnTo>
                  <a:lnTo>
                    <a:pt x="1338" y="4376"/>
                  </a:lnTo>
                  <a:lnTo>
                    <a:pt x="1514" y="4514"/>
                  </a:lnTo>
                  <a:lnTo>
                    <a:pt x="1514" y="4514"/>
                  </a:lnTo>
                  <a:lnTo>
                    <a:pt x="1676" y="4636"/>
                  </a:lnTo>
                  <a:lnTo>
                    <a:pt x="1816" y="4738"/>
                  </a:lnTo>
                  <a:lnTo>
                    <a:pt x="1926" y="4818"/>
                  </a:lnTo>
                  <a:lnTo>
                    <a:pt x="2002" y="4870"/>
                  </a:lnTo>
                  <a:lnTo>
                    <a:pt x="2002" y="4870"/>
                  </a:lnTo>
                  <a:lnTo>
                    <a:pt x="2014" y="4878"/>
                  </a:lnTo>
                  <a:lnTo>
                    <a:pt x="2024" y="4882"/>
                  </a:lnTo>
                  <a:lnTo>
                    <a:pt x="2036" y="4886"/>
                  </a:lnTo>
                  <a:lnTo>
                    <a:pt x="2048" y="4890"/>
                  </a:lnTo>
                  <a:lnTo>
                    <a:pt x="2062" y="4892"/>
                  </a:lnTo>
                  <a:lnTo>
                    <a:pt x="2074" y="4892"/>
                  </a:lnTo>
                  <a:lnTo>
                    <a:pt x="2086" y="4890"/>
                  </a:lnTo>
                  <a:lnTo>
                    <a:pt x="2098" y="4888"/>
                  </a:lnTo>
                  <a:lnTo>
                    <a:pt x="2098" y="4888"/>
                  </a:lnTo>
                  <a:lnTo>
                    <a:pt x="2110" y="4886"/>
                  </a:lnTo>
                  <a:lnTo>
                    <a:pt x="2122" y="4880"/>
                  </a:lnTo>
                  <a:lnTo>
                    <a:pt x="2134" y="4874"/>
                  </a:lnTo>
                  <a:lnTo>
                    <a:pt x="2144" y="4868"/>
                  </a:lnTo>
                  <a:lnTo>
                    <a:pt x="2154" y="4860"/>
                  </a:lnTo>
                  <a:lnTo>
                    <a:pt x="2162" y="4850"/>
                  </a:lnTo>
                  <a:lnTo>
                    <a:pt x="2170" y="4840"/>
                  </a:lnTo>
                  <a:lnTo>
                    <a:pt x="2176" y="4830"/>
                  </a:lnTo>
                  <a:lnTo>
                    <a:pt x="2672" y="3932"/>
                  </a:lnTo>
                  <a:lnTo>
                    <a:pt x="2672" y="3932"/>
                  </a:lnTo>
                  <a:lnTo>
                    <a:pt x="2678" y="3918"/>
                  </a:lnTo>
                  <a:lnTo>
                    <a:pt x="2682" y="3902"/>
                  </a:lnTo>
                  <a:lnTo>
                    <a:pt x="2686" y="3886"/>
                  </a:lnTo>
                  <a:lnTo>
                    <a:pt x="2686" y="3870"/>
                  </a:lnTo>
                  <a:lnTo>
                    <a:pt x="2686" y="3870"/>
                  </a:lnTo>
                  <a:lnTo>
                    <a:pt x="2668" y="3446"/>
                  </a:lnTo>
                  <a:lnTo>
                    <a:pt x="2624" y="2488"/>
                  </a:lnTo>
                  <a:lnTo>
                    <a:pt x="2624" y="2488"/>
                  </a:lnTo>
                  <a:lnTo>
                    <a:pt x="2598" y="1954"/>
                  </a:lnTo>
                  <a:lnTo>
                    <a:pt x="2572" y="1462"/>
                  </a:lnTo>
                  <a:lnTo>
                    <a:pt x="2572" y="1462"/>
                  </a:lnTo>
                  <a:lnTo>
                    <a:pt x="2548" y="1070"/>
                  </a:lnTo>
                  <a:lnTo>
                    <a:pt x="2548" y="1070"/>
                  </a:lnTo>
                  <a:lnTo>
                    <a:pt x="2538" y="928"/>
                  </a:lnTo>
                  <a:lnTo>
                    <a:pt x="2538" y="928"/>
                  </a:lnTo>
                  <a:lnTo>
                    <a:pt x="2530" y="830"/>
                  </a:lnTo>
                  <a:lnTo>
                    <a:pt x="2410" y="844"/>
                  </a:lnTo>
                  <a:lnTo>
                    <a:pt x="2292" y="858"/>
                  </a:lnTo>
                  <a:lnTo>
                    <a:pt x="2292" y="858"/>
                  </a:lnTo>
                  <a:lnTo>
                    <a:pt x="2300" y="946"/>
                  </a:lnTo>
                  <a:lnTo>
                    <a:pt x="2300" y="946"/>
                  </a:lnTo>
                  <a:lnTo>
                    <a:pt x="2308" y="1076"/>
                  </a:lnTo>
                  <a:lnTo>
                    <a:pt x="2320" y="1240"/>
                  </a:lnTo>
                  <a:lnTo>
                    <a:pt x="2320" y="1240"/>
                  </a:lnTo>
                  <a:lnTo>
                    <a:pt x="2338" y="1596"/>
                  </a:lnTo>
                  <a:lnTo>
                    <a:pt x="2360" y="2008"/>
                  </a:lnTo>
                  <a:lnTo>
                    <a:pt x="2402" y="2876"/>
                  </a:lnTo>
                  <a:lnTo>
                    <a:pt x="2402" y="2876"/>
                  </a:lnTo>
                  <a:lnTo>
                    <a:pt x="2434" y="3586"/>
                  </a:lnTo>
                  <a:lnTo>
                    <a:pt x="2434" y="3586"/>
                  </a:lnTo>
                  <a:lnTo>
                    <a:pt x="2442" y="3802"/>
                  </a:lnTo>
                  <a:lnTo>
                    <a:pt x="2442" y="3802"/>
                  </a:lnTo>
                  <a:lnTo>
                    <a:pt x="2446" y="3860"/>
                  </a:lnTo>
                  <a:lnTo>
                    <a:pt x="2446" y="3860"/>
                  </a:lnTo>
                  <a:lnTo>
                    <a:pt x="2446" y="3880"/>
                  </a:lnTo>
                  <a:lnTo>
                    <a:pt x="2566" y="3876"/>
                  </a:lnTo>
                  <a:lnTo>
                    <a:pt x="2460" y="3818"/>
                  </a:lnTo>
                  <a:lnTo>
                    <a:pt x="1966" y="4714"/>
                  </a:lnTo>
                  <a:lnTo>
                    <a:pt x="2072" y="4772"/>
                  </a:lnTo>
                  <a:lnTo>
                    <a:pt x="2140" y="4674"/>
                  </a:lnTo>
                  <a:lnTo>
                    <a:pt x="2140" y="4674"/>
                  </a:lnTo>
                  <a:lnTo>
                    <a:pt x="2000" y="4576"/>
                  </a:lnTo>
                  <a:lnTo>
                    <a:pt x="1900" y="4502"/>
                  </a:lnTo>
                  <a:lnTo>
                    <a:pt x="1780" y="4414"/>
                  </a:lnTo>
                  <a:lnTo>
                    <a:pt x="1780" y="4414"/>
                  </a:lnTo>
                  <a:lnTo>
                    <a:pt x="1684" y="4340"/>
                  </a:lnTo>
                  <a:lnTo>
                    <a:pt x="1580" y="4262"/>
                  </a:lnTo>
                  <a:lnTo>
                    <a:pt x="1472" y="4176"/>
                  </a:lnTo>
                  <a:lnTo>
                    <a:pt x="1362" y="4088"/>
                  </a:lnTo>
                  <a:lnTo>
                    <a:pt x="1362" y="4088"/>
                  </a:lnTo>
                  <a:lnTo>
                    <a:pt x="1278" y="4018"/>
                  </a:lnTo>
                  <a:lnTo>
                    <a:pt x="1194" y="3948"/>
                  </a:lnTo>
                  <a:lnTo>
                    <a:pt x="1110" y="3876"/>
                  </a:lnTo>
                  <a:lnTo>
                    <a:pt x="1028" y="3802"/>
                  </a:lnTo>
                  <a:lnTo>
                    <a:pt x="1028" y="3802"/>
                  </a:lnTo>
                  <a:lnTo>
                    <a:pt x="908" y="3690"/>
                  </a:lnTo>
                  <a:lnTo>
                    <a:pt x="850" y="3636"/>
                  </a:lnTo>
                  <a:lnTo>
                    <a:pt x="794" y="3580"/>
                  </a:lnTo>
                  <a:lnTo>
                    <a:pt x="740" y="3524"/>
                  </a:lnTo>
                  <a:lnTo>
                    <a:pt x="690" y="3470"/>
                  </a:lnTo>
                  <a:lnTo>
                    <a:pt x="640" y="3414"/>
                  </a:lnTo>
                  <a:lnTo>
                    <a:pt x="594" y="3362"/>
                  </a:lnTo>
                  <a:lnTo>
                    <a:pt x="594" y="3362"/>
                  </a:lnTo>
                  <a:lnTo>
                    <a:pt x="552" y="3308"/>
                  </a:lnTo>
                  <a:lnTo>
                    <a:pt x="514" y="3258"/>
                  </a:lnTo>
                  <a:lnTo>
                    <a:pt x="478" y="3208"/>
                  </a:lnTo>
                  <a:lnTo>
                    <a:pt x="448" y="3160"/>
                  </a:lnTo>
                  <a:lnTo>
                    <a:pt x="448" y="3160"/>
                  </a:lnTo>
                  <a:lnTo>
                    <a:pt x="420" y="3114"/>
                  </a:lnTo>
                  <a:lnTo>
                    <a:pt x="398" y="3070"/>
                  </a:lnTo>
                  <a:lnTo>
                    <a:pt x="382" y="3030"/>
                  </a:lnTo>
                  <a:lnTo>
                    <a:pt x="368" y="2992"/>
                  </a:lnTo>
                  <a:lnTo>
                    <a:pt x="368" y="2992"/>
                  </a:lnTo>
                  <a:lnTo>
                    <a:pt x="336" y="2878"/>
                  </a:lnTo>
                  <a:lnTo>
                    <a:pt x="310" y="2776"/>
                  </a:lnTo>
                  <a:lnTo>
                    <a:pt x="290" y="2686"/>
                  </a:lnTo>
                  <a:lnTo>
                    <a:pt x="274" y="2608"/>
                  </a:lnTo>
                  <a:lnTo>
                    <a:pt x="274" y="2608"/>
                  </a:lnTo>
                  <a:lnTo>
                    <a:pt x="262" y="2538"/>
                  </a:lnTo>
                  <a:lnTo>
                    <a:pt x="256" y="2480"/>
                  </a:lnTo>
                  <a:lnTo>
                    <a:pt x="252" y="2430"/>
                  </a:lnTo>
                  <a:lnTo>
                    <a:pt x="250" y="2386"/>
                  </a:lnTo>
                  <a:lnTo>
                    <a:pt x="250" y="2386"/>
                  </a:lnTo>
                  <a:lnTo>
                    <a:pt x="250" y="2350"/>
                  </a:lnTo>
                  <a:lnTo>
                    <a:pt x="254" y="2318"/>
                  </a:lnTo>
                  <a:lnTo>
                    <a:pt x="254" y="2318"/>
                  </a:lnTo>
                  <a:lnTo>
                    <a:pt x="260" y="2276"/>
                  </a:lnTo>
                  <a:lnTo>
                    <a:pt x="268" y="2236"/>
                  </a:lnTo>
                  <a:lnTo>
                    <a:pt x="268" y="2236"/>
                  </a:lnTo>
                  <a:lnTo>
                    <a:pt x="290" y="2146"/>
                  </a:lnTo>
                  <a:lnTo>
                    <a:pt x="290" y="2146"/>
                  </a:lnTo>
                  <a:lnTo>
                    <a:pt x="292" y="2130"/>
                  </a:lnTo>
                  <a:lnTo>
                    <a:pt x="292" y="2114"/>
                  </a:lnTo>
                  <a:lnTo>
                    <a:pt x="290" y="2100"/>
                  </a:lnTo>
                  <a:lnTo>
                    <a:pt x="288" y="2084"/>
                  </a:lnTo>
                  <a:lnTo>
                    <a:pt x="288" y="2084"/>
                  </a:lnTo>
                  <a:lnTo>
                    <a:pt x="276" y="2046"/>
                  </a:lnTo>
                  <a:lnTo>
                    <a:pt x="266" y="2006"/>
                  </a:lnTo>
                  <a:lnTo>
                    <a:pt x="258" y="1968"/>
                  </a:lnTo>
                  <a:lnTo>
                    <a:pt x="252" y="1928"/>
                  </a:lnTo>
                  <a:lnTo>
                    <a:pt x="248" y="1892"/>
                  </a:lnTo>
                  <a:lnTo>
                    <a:pt x="244" y="1854"/>
                  </a:lnTo>
                  <a:lnTo>
                    <a:pt x="242" y="1818"/>
                  </a:lnTo>
                  <a:lnTo>
                    <a:pt x="240" y="1782"/>
                  </a:lnTo>
                  <a:lnTo>
                    <a:pt x="240" y="1782"/>
                  </a:lnTo>
                  <a:lnTo>
                    <a:pt x="244" y="1718"/>
                  </a:lnTo>
                  <a:lnTo>
                    <a:pt x="250" y="1658"/>
                  </a:lnTo>
                  <a:lnTo>
                    <a:pt x="258" y="1598"/>
                  </a:lnTo>
                  <a:lnTo>
                    <a:pt x="272" y="1542"/>
                  </a:lnTo>
                  <a:lnTo>
                    <a:pt x="272" y="1542"/>
                  </a:lnTo>
                  <a:lnTo>
                    <a:pt x="284" y="1502"/>
                  </a:lnTo>
                  <a:lnTo>
                    <a:pt x="296" y="1464"/>
                  </a:lnTo>
                  <a:lnTo>
                    <a:pt x="312" y="1428"/>
                  </a:lnTo>
                  <a:lnTo>
                    <a:pt x="328" y="1392"/>
                  </a:lnTo>
                  <a:lnTo>
                    <a:pt x="344" y="1360"/>
                  </a:lnTo>
                  <a:lnTo>
                    <a:pt x="362" y="1328"/>
                  </a:lnTo>
                  <a:lnTo>
                    <a:pt x="380" y="1300"/>
                  </a:lnTo>
                  <a:lnTo>
                    <a:pt x="400" y="1274"/>
                  </a:lnTo>
                  <a:lnTo>
                    <a:pt x="400" y="1274"/>
                  </a:lnTo>
                  <a:lnTo>
                    <a:pt x="420" y="1250"/>
                  </a:lnTo>
                  <a:lnTo>
                    <a:pt x="438" y="1228"/>
                  </a:lnTo>
                  <a:lnTo>
                    <a:pt x="458" y="1210"/>
                  </a:lnTo>
                  <a:lnTo>
                    <a:pt x="478" y="1194"/>
                  </a:lnTo>
                  <a:lnTo>
                    <a:pt x="478" y="1194"/>
                  </a:lnTo>
                  <a:lnTo>
                    <a:pt x="496" y="1180"/>
                  </a:lnTo>
                  <a:lnTo>
                    <a:pt x="512" y="1168"/>
                  </a:lnTo>
                  <a:lnTo>
                    <a:pt x="528" y="1160"/>
                  </a:lnTo>
                  <a:lnTo>
                    <a:pt x="542" y="1154"/>
                  </a:lnTo>
                  <a:lnTo>
                    <a:pt x="542" y="1154"/>
                  </a:lnTo>
                  <a:lnTo>
                    <a:pt x="556" y="1148"/>
                  </a:lnTo>
                  <a:lnTo>
                    <a:pt x="568" y="1142"/>
                  </a:lnTo>
                  <a:lnTo>
                    <a:pt x="580" y="1132"/>
                  </a:lnTo>
                  <a:lnTo>
                    <a:pt x="592" y="1122"/>
                  </a:lnTo>
                  <a:lnTo>
                    <a:pt x="600" y="1110"/>
                  </a:lnTo>
                  <a:lnTo>
                    <a:pt x="608" y="1096"/>
                  </a:lnTo>
                  <a:lnTo>
                    <a:pt x="614" y="1082"/>
                  </a:lnTo>
                  <a:lnTo>
                    <a:pt x="618" y="1068"/>
                  </a:lnTo>
                  <a:lnTo>
                    <a:pt x="618" y="1068"/>
                  </a:lnTo>
                  <a:lnTo>
                    <a:pt x="628" y="1034"/>
                  </a:lnTo>
                  <a:lnTo>
                    <a:pt x="638" y="1002"/>
                  </a:lnTo>
                  <a:lnTo>
                    <a:pt x="650" y="970"/>
                  </a:lnTo>
                  <a:lnTo>
                    <a:pt x="664" y="938"/>
                  </a:lnTo>
                  <a:lnTo>
                    <a:pt x="664" y="938"/>
                  </a:lnTo>
                  <a:lnTo>
                    <a:pt x="678" y="912"/>
                  </a:lnTo>
                  <a:lnTo>
                    <a:pt x="694" y="886"/>
                  </a:lnTo>
                  <a:lnTo>
                    <a:pt x="712" y="860"/>
                  </a:lnTo>
                  <a:lnTo>
                    <a:pt x="728" y="836"/>
                  </a:lnTo>
                  <a:lnTo>
                    <a:pt x="748" y="812"/>
                  </a:lnTo>
                  <a:lnTo>
                    <a:pt x="768" y="788"/>
                  </a:lnTo>
                  <a:lnTo>
                    <a:pt x="810" y="742"/>
                  </a:lnTo>
                  <a:lnTo>
                    <a:pt x="810" y="742"/>
                  </a:lnTo>
                  <a:lnTo>
                    <a:pt x="844" y="710"/>
                  </a:lnTo>
                  <a:lnTo>
                    <a:pt x="880" y="680"/>
                  </a:lnTo>
                  <a:lnTo>
                    <a:pt x="916" y="652"/>
                  </a:lnTo>
                  <a:lnTo>
                    <a:pt x="952" y="626"/>
                  </a:lnTo>
                  <a:lnTo>
                    <a:pt x="952" y="626"/>
                  </a:lnTo>
                  <a:lnTo>
                    <a:pt x="1008" y="590"/>
                  </a:lnTo>
                  <a:lnTo>
                    <a:pt x="1062" y="558"/>
                  </a:lnTo>
                  <a:lnTo>
                    <a:pt x="1116" y="530"/>
                  </a:lnTo>
                  <a:lnTo>
                    <a:pt x="1164" y="508"/>
                  </a:lnTo>
                  <a:lnTo>
                    <a:pt x="1164" y="508"/>
                  </a:lnTo>
                  <a:lnTo>
                    <a:pt x="1210" y="488"/>
                  </a:lnTo>
                  <a:lnTo>
                    <a:pt x="1248" y="476"/>
                  </a:lnTo>
                  <a:lnTo>
                    <a:pt x="1248" y="476"/>
                  </a:lnTo>
                  <a:lnTo>
                    <a:pt x="1278" y="466"/>
                  </a:lnTo>
                  <a:lnTo>
                    <a:pt x="1278" y="466"/>
                  </a:lnTo>
                  <a:lnTo>
                    <a:pt x="1294" y="462"/>
                  </a:lnTo>
                  <a:lnTo>
                    <a:pt x="1294" y="462"/>
                  </a:lnTo>
                  <a:lnTo>
                    <a:pt x="1316" y="458"/>
                  </a:lnTo>
                  <a:lnTo>
                    <a:pt x="1336" y="448"/>
                  </a:lnTo>
                  <a:lnTo>
                    <a:pt x="1354" y="436"/>
                  </a:lnTo>
                  <a:lnTo>
                    <a:pt x="1370" y="420"/>
                  </a:lnTo>
                  <a:lnTo>
                    <a:pt x="1370" y="420"/>
                  </a:lnTo>
                  <a:lnTo>
                    <a:pt x="1390" y="400"/>
                  </a:lnTo>
                  <a:lnTo>
                    <a:pt x="1410" y="380"/>
                  </a:lnTo>
                  <a:lnTo>
                    <a:pt x="1434" y="360"/>
                  </a:lnTo>
                  <a:lnTo>
                    <a:pt x="1458" y="344"/>
                  </a:lnTo>
                  <a:lnTo>
                    <a:pt x="1458" y="344"/>
                  </a:lnTo>
                  <a:lnTo>
                    <a:pt x="1500" y="318"/>
                  </a:lnTo>
                  <a:lnTo>
                    <a:pt x="1546" y="298"/>
                  </a:lnTo>
                  <a:lnTo>
                    <a:pt x="1594" y="280"/>
                  </a:lnTo>
                  <a:lnTo>
                    <a:pt x="1646" y="266"/>
                  </a:lnTo>
                  <a:lnTo>
                    <a:pt x="1646" y="266"/>
                  </a:lnTo>
                  <a:lnTo>
                    <a:pt x="1700" y="254"/>
                  </a:lnTo>
                  <a:lnTo>
                    <a:pt x="1752" y="246"/>
                  </a:lnTo>
                  <a:lnTo>
                    <a:pt x="1806" y="242"/>
                  </a:lnTo>
                  <a:lnTo>
                    <a:pt x="1858" y="240"/>
                  </a:lnTo>
                  <a:lnTo>
                    <a:pt x="1858" y="240"/>
                  </a:lnTo>
                  <a:lnTo>
                    <a:pt x="1910" y="242"/>
                  </a:lnTo>
                  <a:lnTo>
                    <a:pt x="1958" y="246"/>
                  </a:lnTo>
                  <a:lnTo>
                    <a:pt x="2002" y="252"/>
                  </a:lnTo>
                  <a:lnTo>
                    <a:pt x="2040" y="262"/>
                  </a:lnTo>
                  <a:lnTo>
                    <a:pt x="2040" y="262"/>
                  </a:lnTo>
                  <a:lnTo>
                    <a:pt x="2074" y="272"/>
                  </a:lnTo>
                  <a:lnTo>
                    <a:pt x="2102" y="284"/>
                  </a:lnTo>
                  <a:lnTo>
                    <a:pt x="2102" y="284"/>
                  </a:lnTo>
                  <a:lnTo>
                    <a:pt x="2120" y="294"/>
                  </a:lnTo>
                  <a:lnTo>
                    <a:pt x="2130" y="302"/>
                  </a:lnTo>
                  <a:lnTo>
                    <a:pt x="2130" y="302"/>
                  </a:lnTo>
                  <a:lnTo>
                    <a:pt x="2146" y="316"/>
                  </a:lnTo>
                  <a:lnTo>
                    <a:pt x="2162" y="326"/>
                  </a:lnTo>
                  <a:lnTo>
                    <a:pt x="2180" y="332"/>
                  </a:lnTo>
                  <a:lnTo>
                    <a:pt x="2198" y="336"/>
                  </a:lnTo>
                  <a:lnTo>
                    <a:pt x="2218" y="338"/>
                  </a:lnTo>
                  <a:lnTo>
                    <a:pt x="2236" y="336"/>
                  </a:lnTo>
                  <a:lnTo>
                    <a:pt x="2256" y="332"/>
                  </a:lnTo>
                  <a:lnTo>
                    <a:pt x="2274" y="322"/>
                  </a:lnTo>
                  <a:lnTo>
                    <a:pt x="2274" y="322"/>
                  </a:lnTo>
                  <a:lnTo>
                    <a:pt x="2216" y="218"/>
                  </a:lnTo>
                  <a:lnTo>
                    <a:pt x="2114" y="284"/>
                  </a:lnTo>
                  <a:lnTo>
                    <a:pt x="2114" y="284"/>
                  </a:lnTo>
                  <a:lnTo>
                    <a:pt x="2128" y="302"/>
                  </a:lnTo>
                  <a:lnTo>
                    <a:pt x="2128" y="302"/>
                  </a:lnTo>
                  <a:lnTo>
                    <a:pt x="2128" y="302"/>
                  </a:lnTo>
                  <a:lnTo>
                    <a:pt x="2160" y="352"/>
                  </a:lnTo>
                  <a:lnTo>
                    <a:pt x="2186" y="398"/>
                  </a:lnTo>
                  <a:lnTo>
                    <a:pt x="2186" y="398"/>
                  </a:lnTo>
                  <a:lnTo>
                    <a:pt x="2204" y="432"/>
                  </a:lnTo>
                  <a:lnTo>
                    <a:pt x="2218" y="470"/>
                  </a:lnTo>
                  <a:lnTo>
                    <a:pt x="2218" y="470"/>
                  </a:lnTo>
                  <a:lnTo>
                    <a:pt x="2228" y="500"/>
                  </a:lnTo>
                  <a:lnTo>
                    <a:pt x="2238" y="534"/>
                  </a:lnTo>
                  <a:lnTo>
                    <a:pt x="2248" y="574"/>
                  </a:lnTo>
                  <a:lnTo>
                    <a:pt x="2258" y="618"/>
                  </a:lnTo>
                  <a:lnTo>
                    <a:pt x="2258" y="618"/>
                  </a:lnTo>
                  <a:lnTo>
                    <a:pt x="2266" y="668"/>
                  </a:lnTo>
                  <a:lnTo>
                    <a:pt x="2274" y="724"/>
                  </a:lnTo>
                  <a:lnTo>
                    <a:pt x="2292" y="858"/>
                  </a:lnTo>
                  <a:lnTo>
                    <a:pt x="2410" y="8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628560" y="904680"/>
              <a:ext cx="3314520" cy="6978960"/>
            </a:xfrm>
            <a:custGeom>
              <a:avLst/>
              <a:gdLst>
                <a:gd name="textAreaLeft" fmla="*/ 0 w 3314520"/>
                <a:gd name="textAreaRight" fmla="*/ 3314880 w 3314520"/>
                <a:gd name="textAreaTop" fmla="*/ 0 h 6978960"/>
                <a:gd name="textAreaBottom" fmla="*/ 6978960 h 6978960"/>
              </a:gdLst>
              <a:ahLst/>
              <a:rect l="textAreaLeft" t="textAreaTop" r="textAreaRight" b="textAreaBottom"/>
              <a:pathLst>
                <a:path w="2088" h="4396">
                  <a:moveTo>
                    <a:pt x="2088" y="3586"/>
                  </a:moveTo>
                  <a:lnTo>
                    <a:pt x="2088" y="3586"/>
                  </a:lnTo>
                  <a:lnTo>
                    <a:pt x="1700" y="2454"/>
                  </a:lnTo>
                  <a:lnTo>
                    <a:pt x="1412" y="1610"/>
                  </a:lnTo>
                  <a:lnTo>
                    <a:pt x="1304" y="1286"/>
                  </a:lnTo>
                  <a:lnTo>
                    <a:pt x="1240" y="1092"/>
                  </a:lnTo>
                  <a:lnTo>
                    <a:pt x="1240" y="1092"/>
                  </a:lnTo>
                  <a:lnTo>
                    <a:pt x="1204" y="974"/>
                  </a:lnTo>
                  <a:lnTo>
                    <a:pt x="1164" y="852"/>
                  </a:lnTo>
                  <a:lnTo>
                    <a:pt x="1146" y="788"/>
                  </a:lnTo>
                  <a:lnTo>
                    <a:pt x="1128" y="724"/>
                  </a:lnTo>
                  <a:lnTo>
                    <a:pt x="1112" y="658"/>
                  </a:lnTo>
                  <a:lnTo>
                    <a:pt x="1100" y="590"/>
                  </a:lnTo>
                  <a:lnTo>
                    <a:pt x="1090" y="522"/>
                  </a:lnTo>
                  <a:lnTo>
                    <a:pt x="1084" y="452"/>
                  </a:lnTo>
                  <a:lnTo>
                    <a:pt x="1082" y="380"/>
                  </a:lnTo>
                  <a:lnTo>
                    <a:pt x="1082" y="344"/>
                  </a:lnTo>
                  <a:lnTo>
                    <a:pt x="1084" y="308"/>
                  </a:lnTo>
                  <a:lnTo>
                    <a:pt x="1088" y="270"/>
                  </a:lnTo>
                  <a:lnTo>
                    <a:pt x="1094" y="232"/>
                  </a:lnTo>
                  <a:lnTo>
                    <a:pt x="1100" y="194"/>
                  </a:lnTo>
                  <a:lnTo>
                    <a:pt x="1108" y="156"/>
                  </a:lnTo>
                  <a:lnTo>
                    <a:pt x="1118" y="118"/>
                  </a:lnTo>
                  <a:lnTo>
                    <a:pt x="1130" y="80"/>
                  </a:lnTo>
                  <a:lnTo>
                    <a:pt x="1142" y="4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28" y="6"/>
                  </a:lnTo>
                  <a:lnTo>
                    <a:pt x="1090" y="18"/>
                  </a:lnTo>
                  <a:lnTo>
                    <a:pt x="1044" y="34"/>
                  </a:lnTo>
                  <a:lnTo>
                    <a:pt x="994" y="54"/>
                  </a:lnTo>
                  <a:lnTo>
                    <a:pt x="938" y="80"/>
                  </a:lnTo>
                  <a:lnTo>
                    <a:pt x="878" y="112"/>
                  </a:lnTo>
                  <a:lnTo>
                    <a:pt x="818" y="148"/>
                  </a:lnTo>
                  <a:lnTo>
                    <a:pt x="756" y="188"/>
                  </a:lnTo>
                  <a:lnTo>
                    <a:pt x="694" y="234"/>
                  </a:lnTo>
                  <a:lnTo>
                    <a:pt x="664" y="260"/>
                  </a:lnTo>
                  <a:lnTo>
                    <a:pt x="634" y="286"/>
                  </a:lnTo>
                  <a:lnTo>
                    <a:pt x="606" y="314"/>
                  </a:lnTo>
                  <a:lnTo>
                    <a:pt x="578" y="342"/>
                  </a:lnTo>
                  <a:lnTo>
                    <a:pt x="552" y="372"/>
                  </a:lnTo>
                  <a:lnTo>
                    <a:pt x="526" y="404"/>
                  </a:lnTo>
                  <a:lnTo>
                    <a:pt x="500" y="436"/>
                  </a:lnTo>
                  <a:lnTo>
                    <a:pt x="478" y="470"/>
                  </a:lnTo>
                  <a:lnTo>
                    <a:pt x="456" y="504"/>
                  </a:lnTo>
                  <a:lnTo>
                    <a:pt x="438" y="540"/>
                  </a:lnTo>
                  <a:lnTo>
                    <a:pt x="420" y="578"/>
                  </a:lnTo>
                  <a:lnTo>
                    <a:pt x="404" y="616"/>
                  </a:lnTo>
                  <a:lnTo>
                    <a:pt x="392" y="656"/>
                  </a:lnTo>
                  <a:lnTo>
                    <a:pt x="382" y="698"/>
                  </a:lnTo>
                  <a:lnTo>
                    <a:pt x="382" y="698"/>
                  </a:lnTo>
                  <a:lnTo>
                    <a:pt x="360" y="706"/>
                  </a:lnTo>
                  <a:lnTo>
                    <a:pt x="340" y="716"/>
                  </a:lnTo>
                  <a:lnTo>
                    <a:pt x="318" y="730"/>
                  </a:lnTo>
                  <a:lnTo>
                    <a:pt x="296" y="744"/>
                  </a:lnTo>
                  <a:lnTo>
                    <a:pt x="276" y="760"/>
                  </a:lnTo>
                  <a:lnTo>
                    <a:pt x="254" y="780"/>
                  </a:lnTo>
                  <a:lnTo>
                    <a:pt x="234" y="800"/>
                  </a:lnTo>
                  <a:lnTo>
                    <a:pt x="212" y="822"/>
                  </a:lnTo>
                  <a:lnTo>
                    <a:pt x="192" y="846"/>
                  </a:lnTo>
                  <a:lnTo>
                    <a:pt x="174" y="872"/>
                  </a:lnTo>
                  <a:lnTo>
                    <a:pt x="154" y="900"/>
                  </a:lnTo>
                  <a:lnTo>
                    <a:pt x="136" y="930"/>
                  </a:lnTo>
                  <a:lnTo>
                    <a:pt x="118" y="960"/>
                  </a:lnTo>
                  <a:lnTo>
                    <a:pt x="102" y="992"/>
                  </a:lnTo>
                  <a:lnTo>
                    <a:pt x="86" y="1026"/>
                  </a:lnTo>
                  <a:lnTo>
                    <a:pt x="72" y="1060"/>
                  </a:lnTo>
                  <a:lnTo>
                    <a:pt x="58" y="1098"/>
                  </a:lnTo>
                  <a:lnTo>
                    <a:pt x="46" y="1136"/>
                  </a:lnTo>
                  <a:lnTo>
                    <a:pt x="34" y="1174"/>
                  </a:lnTo>
                  <a:lnTo>
                    <a:pt x="24" y="1214"/>
                  </a:lnTo>
                  <a:lnTo>
                    <a:pt x="16" y="1256"/>
                  </a:lnTo>
                  <a:lnTo>
                    <a:pt x="10" y="1300"/>
                  </a:lnTo>
                  <a:lnTo>
                    <a:pt x="6" y="1342"/>
                  </a:lnTo>
                  <a:lnTo>
                    <a:pt x="2" y="1388"/>
                  </a:lnTo>
                  <a:lnTo>
                    <a:pt x="0" y="1434"/>
                  </a:lnTo>
                  <a:lnTo>
                    <a:pt x="2" y="1480"/>
                  </a:lnTo>
                  <a:lnTo>
                    <a:pt x="4" y="1528"/>
                  </a:lnTo>
                  <a:lnTo>
                    <a:pt x="10" y="1576"/>
                  </a:lnTo>
                  <a:lnTo>
                    <a:pt x="16" y="1624"/>
                  </a:lnTo>
                  <a:lnTo>
                    <a:pt x="26" y="1674"/>
                  </a:lnTo>
                  <a:lnTo>
                    <a:pt x="38" y="1724"/>
                  </a:lnTo>
                  <a:lnTo>
                    <a:pt x="52" y="1776"/>
                  </a:lnTo>
                  <a:lnTo>
                    <a:pt x="52" y="1776"/>
                  </a:lnTo>
                  <a:lnTo>
                    <a:pt x="38" y="1838"/>
                  </a:lnTo>
                  <a:lnTo>
                    <a:pt x="24" y="1900"/>
                  </a:lnTo>
                  <a:lnTo>
                    <a:pt x="18" y="1934"/>
                  </a:lnTo>
                  <a:lnTo>
                    <a:pt x="14" y="1970"/>
                  </a:lnTo>
                  <a:lnTo>
                    <a:pt x="10" y="2008"/>
                  </a:lnTo>
                  <a:lnTo>
                    <a:pt x="10" y="2054"/>
                  </a:lnTo>
                  <a:lnTo>
                    <a:pt x="12" y="2104"/>
                  </a:lnTo>
                  <a:lnTo>
                    <a:pt x="18" y="2160"/>
                  </a:lnTo>
                  <a:lnTo>
                    <a:pt x="26" y="2222"/>
                  </a:lnTo>
                  <a:lnTo>
                    <a:pt x="38" y="2294"/>
                  </a:lnTo>
                  <a:lnTo>
                    <a:pt x="54" y="2376"/>
                  </a:lnTo>
                  <a:lnTo>
                    <a:pt x="76" y="2466"/>
                  </a:lnTo>
                  <a:lnTo>
                    <a:pt x="102" y="2568"/>
                  </a:lnTo>
                  <a:lnTo>
                    <a:pt x="134" y="2682"/>
                  </a:lnTo>
                  <a:lnTo>
                    <a:pt x="134" y="2682"/>
                  </a:lnTo>
                  <a:lnTo>
                    <a:pt x="142" y="2708"/>
                  </a:lnTo>
                  <a:lnTo>
                    <a:pt x="152" y="2734"/>
                  </a:lnTo>
                  <a:lnTo>
                    <a:pt x="176" y="2790"/>
                  </a:lnTo>
                  <a:lnTo>
                    <a:pt x="206" y="2846"/>
                  </a:lnTo>
                  <a:lnTo>
                    <a:pt x="242" y="2904"/>
                  </a:lnTo>
                  <a:lnTo>
                    <a:pt x="282" y="2964"/>
                  </a:lnTo>
                  <a:lnTo>
                    <a:pt x="328" y="3026"/>
                  </a:lnTo>
                  <a:lnTo>
                    <a:pt x="376" y="3088"/>
                  </a:lnTo>
                  <a:lnTo>
                    <a:pt x="430" y="3150"/>
                  </a:lnTo>
                  <a:lnTo>
                    <a:pt x="488" y="3214"/>
                  </a:lnTo>
                  <a:lnTo>
                    <a:pt x="548" y="3276"/>
                  </a:lnTo>
                  <a:lnTo>
                    <a:pt x="610" y="3340"/>
                  </a:lnTo>
                  <a:lnTo>
                    <a:pt x="676" y="3406"/>
                  </a:lnTo>
                  <a:lnTo>
                    <a:pt x="742" y="3468"/>
                  </a:lnTo>
                  <a:lnTo>
                    <a:pt x="812" y="3532"/>
                  </a:lnTo>
                  <a:lnTo>
                    <a:pt x="954" y="3658"/>
                  </a:lnTo>
                  <a:lnTo>
                    <a:pt x="1096" y="3780"/>
                  </a:lnTo>
                  <a:lnTo>
                    <a:pt x="1238" y="3896"/>
                  </a:lnTo>
                  <a:lnTo>
                    <a:pt x="1378" y="4006"/>
                  </a:lnTo>
                  <a:lnTo>
                    <a:pt x="1510" y="4106"/>
                  </a:lnTo>
                  <a:lnTo>
                    <a:pt x="1630" y="4198"/>
                  </a:lnTo>
                  <a:lnTo>
                    <a:pt x="1740" y="4278"/>
                  </a:lnTo>
                  <a:lnTo>
                    <a:pt x="1906" y="4396"/>
                  </a:lnTo>
                  <a:lnTo>
                    <a:pt x="2088" y="3586"/>
                  </a:lnTo>
                  <a:close/>
                </a:path>
              </a:pathLst>
            </a:custGeom>
            <a:solidFill>
              <a:srgbClr val="00a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438120" y="714240"/>
              <a:ext cx="3695760" cy="7359840"/>
            </a:xfrm>
            <a:custGeom>
              <a:avLst/>
              <a:gdLst>
                <a:gd name="textAreaLeft" fmla="*/ 0 w 3695760"/>
                <a:gd name="textAreaRight" fmla="*/ 3696120 w 3695760"/>
                <a:gd name="textAreaTop" fmla="*/ 0 h 7359840"/>
                <a:gd name="textAreaBottom" fmla="*/ 7360200 h 7359840"/>
              </a:gdLst>
              <a:ahLst/>
              <a:rect l="textAreaLeft" t="textAreaTop" r="textAreaRight" b="textAreaBottom"/>
              <a:pathLst>
                <a:path w="2328" h="4636">
                  <a:moveTo>
                    <a:pt x="2208" y="3706"/>
                  </a:moveTo>
                  <a:lnTo>
                    <a:pt x="2322" y="3668"/>
                  </a:lnTo>
                  <a:lnTo>
                    <a:pt x="2322" y="3668"/>
                  </a:lnTo>
                  <a:lnTo>
                    <a:pt x="2314" y="3644"/>
                  </a:lnTo>
                  <a:lnTo>
                    <a:pt x="2314" y="3644"/>
                  </a:lnTo>
                  <a:lnTo>
                    <a:pt x="1896" y="2424"/>
                  </a:lnTo>
                  <a:lnTo>
                    <a:pt x="1896" y="2424"/>
                  </a:lnTo>
                  <a:lnTo>
                    <a:pt x="1630" y="1646"/>
                  </a:lnTo>
                  <a:lnTo>
                    <a:pt x="1630" y="1646"/>
                  </a:lnTo>
                  <a:lnTo>
                    <a:pt x="1532" y="1352"/>
                  </a:lnTo>
                  <a:lnTo>
                    <a:pt x="1532" y="1352"/>
                  </a:lnTo>
                  <a:lnTo>
                    <a:pt x="1498" y="1246"/>
                  </a:lnTo>
                  <a:lnTo>
                    <a:pt x="1498" y="1246"/>
                  </a:lnTo>
                  <a:lnTo>
                    <a:pt x="1476" y="1176"/>
                  </a:lnTo>
                  <a:lnTo>
                    <a:pt x="1476" y="1176"/>
                  </a:lnTo>
                  <a:lnTo>
                    <a:pt x="1450" y="1096"/>
                  </a:lnTo>
                  <a:lnTo>
                    <a:pt x="1424" y="1014"/>
                  </a:lnTo>
                  <a:lnTo>
                    <a:pt x="1398" y="930"/>
                  </a:lnTo>
                  <a:lnTo>
                    <a:pt x="1374" y="848"/>
                  </a:lnTo>
                  <a:lnTo>
                    <a:pt x="1374" y="848"/>
                  </a:lnTo>
                  <a:lnTo>
                    <a:pt x="1352" y="764"/>
                  </a:lnTo>
                  <a:lnTo>
                    <a:pt x="1344" y="722"/>
                  </a:lnTo>
                  <a:lnTo>
                    <a:pt x="1336" y="680"/>
                  </a:lnTo>
                  <a:lnTo>
                    <a:pt x="1330" y="636"/>
                  </a:lnTo>
                  <a:lnTo>
                    <a:pt x="1326" y="594"/>
                  </a:lnTo>
                  <a:lnTo>
                    <a:pt x="1322" y="550"/>
                  </a:lnTo>
                  <a:lnTo>
                    <a:pt x="1322" y="506"/>
                  </a:lnTo>
                  <a:lnTo>
                    <a:pt x="1322" y="506"/>
                  </a:lnTo>
                  <a:lnTo>
                    <a:pt x="1322" y="466"/>
                  </a:lnTo>
                  <a:lnTo>
                    <a:pt x="1326" y="424"/>
                  </a:lnTo>
                  <a:lnTo>
                    <a:pt x="1330" y="382"/>
                  </a:lnTo>
                  <a:lnTo>
                    <a:pt x="1338" y="340"/>
                  </a:lnTo>
                  <a:lnTo>
                    <a:pt x="1346" y="298"/>
                  </a:lnTo>
                  <a:lnTo>
                    <a:pt x="1358" y="254"/>
                  </a:lnTo>
                  <a:lnTo>
                    <a:pt x="1372" y="210"/>
                  </a:lnTo>
                  <a:lnTo>
                    <a:pt x="1388" y="166"/>
                  </a:lnTo>
                  <a:lnTo>
                    <a:pt x="1388" y="166"/>
                  </a:lnTo>
                  <a:lnTo>
                    <a:pt x="1394" y="152"/>
                  </a:lnTo>
                  <a:lnTo>
                    <a:pt x="1396" y="140"/>
                  </a:lnTo>
                  <a:lnTo>
                    <a:pt x="1398" y="126"/>
                  </a:lnTo>
                  <a:lnTo>
                    <a:pt x="1398" y="112"/>
                  </a:lnTo>
                  <a:lnTo>
                    <a:pt x="1396" y="98"/>
                  </a:lnTo>
                  <a:lnTo>
                    <a:pt x="1392" y="86"/>
                  </a:lnTo>
                  <a:lnTo>
                    <a:pt x="1388" y="72"/>
                  </a:lnTo>
                  <a:lnTo>
                    <a:pt x="1382" y="60"/>
                  </a:lnTo>
                  <a:lnTo>
                    <a:pt x="1382" y="60"/>
                  </a:lnTo>
                  <a:lnTo>
                    <a:pt x="1382" y="60"/>
                  </a:lnTo>
                  <a:lnTo>
                    <a:pt x="1372" y="46"/>
                  </a:lnTo>
                  <a:lnTo>
                    <a:pt x="1360" y="32"/>
                  </a:lnTo>
                  <a:lnTo>
                    <a:pt x="1346" y="22"/>
                  </a:lnTo>
                  <a:lnTo>
                    <a:pt x="1330" y="12"/>
                  </a:lnTo>
                  <a:lnTo>
                    <a:pt x="1314" y="6"/>
                  </a:lnTo>
                  <a:lnTo>
                    <a:pt x="1296" y="2"/>
                  </a:lnTo>
                  <a:lnTo>
                    <a:pt x="1278" y="0"/>
                  </a:lnTo>
                  <a:lnTo>
                    <a:pt x="1260" y="2"/>
                  </a:lnTo>
                  <a:lnTo>
                    <a:pt x="1260" y="2"/>
                  </a:lnTo>
                  <a:lnTo>
                    <a:pt x="1218" y="10"/>
                  </a:lnTo>
                  <a:lnTo>
                    <a:pt x="1218" y="10"/>
                  </a:lnTo>
                  <a:lnTo>
                    <a:pt x="1176" y="22"/>
                  </a:lnTo>
                  <a:lnTo>
                    <a:pt x="1128" y="38"/>
                  </a:lnTo>
                  <a:lnTo>
                    <a:pt x="1128" y="38"/>
                  </a:lnTo>
                  <a:lnTo>
                    <a:pt x="1082" y="58"/>
                  </a:lnTo>
                  <a:lnTo>
                    <a:pt x="1034" y="78"/>
                  </a:lnTo>
                  <a:lnTo>
                    <a:pt x="982" y="104"/>
                  </a:lnTo>
                  <a:lnTo>
                    <a:pt x="930" y="132"/>
                  </a:lnTo>
                  <a:lnTo>
                    <a:pt x="930" y="132"/>
                  </a:lnTo>
                  <a:lnTo>
                    <a:pt x="890" y="156"/>
                  </a:lnTo>
                  <a:lnTo>
                    <a:pt x="848" y="182"/>
                  </a:lnTo>
                  <a:lnTo>
                    <a:pt x="806" y="210"/>
                  </a:lnTo>
                  <a:lnTo>
                    <a:pt x="766" y="242"/>
                  </a:lnTo>
                  <a:lnTo>
                    <a:pt x="724" y="274"/>
                  </a:lnTo>
                  <a:lnTo>
                    <a:pt x="684" y="308"/>
                  </a:lnTo>
                  <a:lnTo>
                    <a:pt x="644" y="346"/>
                  </a:lnTo>
                  <a:lnTo>
                    <a:pt x="606" y="386"/>
                  </a:lnTo>
                  <a:lnTo>
                    <a:pt x="606" y="386"/>
                  </a:lnTo>
                  <a:lnTo>
                    <a:pt x="568" y="426"/>
                  </a:lnTo>
                  <a:lnTo>
                    <a:pt x="534" y="472"/>
                  </a:lnTo>
                  <a:lnTo>
                    <a:pt x="502" y="518"/>
                  </a:lnTo>
                  <a:lnTo>
                    <a:pt x="470" y="568"/>
                  </a:lnTo>
                  <a:lnTo>
                    <a:pt x="470" y="568"/>
                  </a:lnTo>
                  <a:lnTo>
                    <a:pt x="444" y="620"/>
                  </a:lnTo>
                  <a:lnTo>
                    <a:pt x="420" y="674"/>
                  </a:lnTo>
                  <a:lnTo>
                    <a:pt x="400" y="732"/>
                  </a:lnTo>
                  <a:lnTo>
                    <a:pt x="392" y="762"/>
                  </a:lnTo>
                  <a:lnTo>
                    <a:pt x="384" y="792"/>
                  </a:lnTo>
                  <a:lnTo>
                    <a:pt x="502" y="818"/>
                  </a:lnTo>
                  <a:lnTo>
                    <a:pt x="462" y="704"/>
                  </a:lnTo>
                  <a:lnTo>
                    <a:pt x="462" y="704"/>
                  </a:lnTo>
                  <a:lnTo>
                    <a:pt x="438" y="714"/>
                  </a:lnTo>
                  <a:lnTo>
                    <a:pt x="414" y="724"/>
                  </a:lnTo>
                  <a:lnTo>
                    <a:pt x="392" y="738"/>
                  </a:lnTo>
                  <a:lnTo>
                    <a:pt x="370" y="752"/>
                  </a:lnTo>
                  <a:lnTo>
                    <a:pt x="370" y="752"/>
                  </a:lnTo>
                  <a:lnTo>
                    <a:pt x="332" y="778"/>
                  </a:lnTo>
                  <a:lnTo>
                    <a:pt x="296" y="808"/>
                  </a:lnTo>
                  <a:lnTo>
                    <a:pt x="260" y="844"/>
                  </a:lnTo>
                  <a:lnTo>
                    <a:pt x="228" y="882"/>
                  </a:lnTo>
                  <a:lnTo>
                    <a:pt x="228" y="882"/>
                  </a:lnTo>
                  <a:lnTo>
                    <a:pt x="204" y="912"/>
                  </a:lnTo>
                  <a:lnTo>
                    <a:pt x="180" y="944"/>
                  </a:lnTo>
                  <a:lnTo>
                    <a:pt x="158" y="978"/>
                  </a:lnTo>
                  <a:lnTo>
                    <a:pt x="138" y="1014"/>
                  </a:lnTo>
                  <a:lnTo>
                    <a:pt x="118" y="1050"/>
                  </a:lnTo>
                  <a:lnTo>
                    <a:pt x="100" y="1090"/>
                  </a:lnTo>
                  <a:lnTo>
                    <a:pt x="82" y="1130"/>
                  </a:lnTo>
                  <a:lnTo>
                    <a:pt x="66" y="1172"/>
                  </a:lnTo>
                  <a:lnTo>
                    <a:pt x="66" y="1172"/>
                  </a:lnTo>
                  <a:lnTo>
                    <a:pt x="52" y="1216"/>
                  </a:lnTo>
                  <a:lnTo>
                    <a:pt x="38" y="1262"/>
                  </a:lnTo>
                  <a:lnTo>
                    <a:pt x="28" y="1308"/>
                  </a:lnTo>
                  <a:lnTo>
                    <a:pt x="18" y="1356"/>
                  </a:lnTo>
                  <a:lnTo>
                    <a:pt x="10" y="1404"/>
                  </a:lnTo>
                  <a:lnTo>
                    <a:pt x="6" y="1454"/>
                  </a:lnTo>
                  <a:lnTo>
                    <a:pt x="2" y="1506"/>
                  </a:lnTo>
                  <a:lnTo>
                    <a:pt x="0" y="1558"/>
                  </a:lnTo>
                  <a:lnTo>
                    <a:pt x="0" y="1558"/>
                  </a:lnTo>
                  <a:lnTo>
                    <a:pt x="2" y="1602"/>
                  </a:lnTo>
                  <a:lnTo>
                    <a:pt x="4" y="1648"/>
                  </a:lnTo>
                  <a:lnTo>
                    <a:pt x="8" y="1694"/>
                  </a:lnTo>
                  <a:lnTo>
                    <a:pt x="14" y="1740"/>
                  </a:lnTo>
                  <a:lnTo>
                    <a:pt x="22" y="1788"/>
                  </a:lnTo>
                  <a:lnTo>
                    <a:pt x="32" y="1834"/>
                  </a:lnTo>
                  <a:lnTo>
                    <a:pt x="44" y="1882"/>
                  </a:lnTo>
                  <a:lnTo>
                    <a:pt x="58" y="1932"/>
                  </a:lnTo>
                  <a:lnTo>
                    <a:pt x="172" y="1896"/>
                  </a:lnTo>
                  <a:lnTo>
                    <a:pt x="56" y="1870"/>
                  </a:lnTo>
                  <a:lnTo>
                    <a:pt x="56" y="1870"/>
                  </a:lnTo>
                  <a:lnTo>
                    <a:pt x="42" y="1926"/>
                  </a:lnTo>
                  <a:lnTo>
                    <a:pt x="42" y="1926"/>
                  </a:lnTo>
                  <a:lnTo>
                    <a:pt x="30" y="1974"/>
                  </a:lnTo>
                  <a:lnTo>
                    <a:pt x="20" y="2028"/>
                  </a:lnTo>
                  <a:lnTo>
                    <a:pt x="20" y="2028"/>
                  </a:lnTo>
                  <a:lnTo>
                    <a:pt x="16" y="2058"/>
                  </a:lnTo>
                  <a:lnTo>
                    <a:pt x="12" y="2090"/>
                  </a:lnTo>
                  <a:lnTo>
                    <a:pt x="10" y="2124"/>
                  </a:lnTo>
                  <a:lnTo>
                    <a:pt x="10" y="2162"/>
                  </a:lnTo>
                  <a:lnTo>
                    <a:pt x="10" y="2162"/>
                  </a:lnTo>
                  <a:lnTo>
                    <a:pt x="12" y="2218"/>
                  </a:lnTo>
                  <a:lnTo>
                    <a:pt x="16" y="2280"/>
                  </a:lnTo>
                  <a:lnTo>
                    <a:pt x="26" y="2350"/>
                  </a:lnTo>
                  <a:lnTo>
                    <a:pt x="38" y="2426"/>
                  </a:lnTo>
                  <a:lnTo>
                    <a:pt x="38" y="2426"/>
                  </a:lnTo>
                  <a:lnTo>
                    <a:pt x="56" y="2512"/>
                  </a:lnTo>
                  <a:lnTo>
                    <a:pt x="78" y="2608"/>
                  </a:lnTo>
                  <a:lnTo>
                    <a:pt x="104" y="2716"/>
                  </a:lnTo>
                  <a:lnTo>
                    <a:pt x="138" y="2834"/>
                  </a:lnTo>
                  <a:lnTo>
                    <a:pt x="138" y="2834"/>
                  </a:lnTo>
                  <a:lnTo>
                    <a:pt x="138" y="2834"/>
                  </a:lnTo>
                  <a:lnTo>
                    <a:pt x="148" y="2866"/>
                  </a:lnTo>
                  <a:lnTo>
                    <a:pt x="160" y="2898"/>
                  </a:lnTo>
                  <a:lnTo>
                    <a:pt x="174" y="2930"/>
                  </a:lnTo>
                  <a:lnTo>
                    <a:pt x="188" y="2962"/>
                  </a:lnTo>
                  <a:lnTo>
                    <a:pt x="188" y="2962"/>
                  </a:lnTo>
                  <a:lnTo>
                    <a:pt x="220" y="3022"/>
                  </a:lnTo>
                  <a:lnTo>
                    <a:pt x="256" y="3082"/>
                  </a:lnTo>
                  <a:lnTo>
                    <a:pt x="296" y="3142"/>
                  </a:lnTo>
                  <a:lnTo>
                    <a:pt x="340" y="3202"/>
                  </a:lnTo>
                  <a:lnTo>
                    <a:pt x="340" y="3202"/>
                  </a:lnTo>
                  <a:lnTo>
                    <a:pt x="382" y="3256"/>
                  </a:lnTo>
                  <a:lnTo>
                    <a:pt x="426" y="3308"/>
                  </a:lnTo>
                  <a:lnTo>
                    <a:pt x="472" y="3362"/>
                  </a:lnTo>
                  <a:lnTo>
                    <a:pt x="520" y="3416"/>
                  </a:lnTo>
                  <a:lnTo>
                    <a:pt x="572" y="3470"/>
                  </a:lnTo>
                  <a:lnTo>
                    <a:pt x="624" y="3524"/>
                  </a:lnTo>
                  <a:lnTo>
                    <a:pt x="734" y="3632"/>
                  </a:lnTo>
                  <a:lnTo>
                    <a:pt x="734" y="3632"/>
                  </a:lnTo>
                  <a:lnTo>
                    <a:pt x="818" y="3712"/>
                  </a:lnTo>
                  <a:lnTo>
                    <a:pt x="906" y="3790"/>
                  </a:lnTo>
                  <a:lnTo>
                    <a:pt x="994" y="3868"/>
                  </a:lnTo>
                  <a:lnTo>
                    <a:pt x="1084" y="3946"/>
                  </a:lnTo>
                  <a:lnTo>
                    <a:pt x="1174" y="4020"/>
                  </a:lnTo>
                  <a:lnTo>
                    <a:pt x="1262" y="4092"/>
                  </a:lnTo>
                  <a:lnTo>
                    <a:pt x="1434" y="4228"/>
                  </a:lnTo>
                  <a:lnTo>
                    <a:pt x="1434" y="4228"/>
                  </a:lnTo>
                  <a:lnTo>
                    <a:pt x="1596" y="4352"/>
                  </a:lnTo>
                  <a:lnTo>
                    <a:pt x="1740" y="4458"/>
                  </a:lnTo>
                  <a:lnTo>
                    <a:pt x="1862" y="4548"/>
                  </a:lnTo>
                  <a:lnTo>
                    <a:pt x="1956" y="4614"/>
                  </a:lnTo>
                  <a:lnTo>
                    <a:pt x="1956" y="4614"/>
                  </a:lnTo>
                  <a:lnTo>
                    <a:pt x="1970" y="4622"/>
                  </a:lnTo>
                  <a:lnTo>
                    <a:pt x="1982" y="4628"/>
                  </a:lnTo>
                  <a:lnTo>
                    <a:pt x="1996" y="4632"/>
                  </a:lnTo>
                  <a:lnTo>
                    <a:pt x="2010" y="4634"/>
                  </a:lnTo>
                  <a:lnTo>
                    <a:pt x="2026" y="4636"/>
                  </a:lnTo>
                  <a:lnTo>
                    <a:pt x="2040" y="4634"/>
                  </a:lnTo>
                  <a:lnTo>
                    <a:pt x="2054" y="4632"/>
                  </a:lnTo>
                  <a:lnTo>
                    <a:pt x="2068" y="4628"/>
                  </a:lnTo>
                  <a:lnTo>
                    <a:pt x="2068" y="4628"/>
                  </a:lnTo>
                  <a:lnTo>
                    <a:pt x="2082" y="4622"/>
                  </a:lnTo>
                  <a:lnTo>
                    <a:pt x="2094" y="4614"/>
                  </a:lnTo>
                  <a:lnTo>
                    <a:pt x="2106" y="4604"/>
                  </a:lnTo>
                  <a:lnTo>
                    <a:pt x="2116" y="4594"/>
                  </a:lnTo>
                  <a:lnTo>
                    <a:pt x="2124" y="4582"/>
                  </a:lnTo>
                  <a:lnTo>
                    <a:pt x="2132" y="4570"/>
                  </a:lnTo>
                  <a:lnTo>
                    <a:pt x="2138" y="4556"/>
                  </a:lnTo>
                  <a:lnTo>
                    <a:pt x="2142" y="4542"/>
                  </a:lnTo>
                  <a:lnTo>
                    <a:pt x="2326" y="3734"/>
                  </a:lnTo>
                  <a:lnTo>
                    <a:pt x="2326" y="3734"/>
                  </a:lnTo>
                  <a:lnTo>
                    <a:pt x="2328" y="3716"/>
                  </a:lnTo>
                  <a:lnTo>
                    <a:pt x="2328" y="3700"/>
                  </a:lnTo>
                  <a:lnTo>
                    <a:pt x="2326" y="3684"/>
                  </a:lnTo>
                  <a:lnTo>
                    <a:pt x="2322" y="3668"/>
                  </a:lnTo>
                  <a:lnTo>
                    <a:pt x="2208" y="3706"/>
                  </a:lnTo>
                  <a:lnTo>
                    <a:pt x="2092" y="3680"/>
                  </a:lnTo>
                  <a:lnTo>
                    <a:pt x="1908" y="4490"/>
                  </a:lnTo>
                  <a:lnTo>
                    <a:pt x="2026" y="4516"/>
                  </a:lnTo>
                  <a:lnTo>
                    <a:pt x="2094" y="4418"/>
                  </a:lnTo>
                  <a:lnTo>
                    <a:pt x="2094" y="4418"/>
                  </a:lnTo>
                  <a:lnTo>
                    <a:pt x="1930" y="4300"/>
                  </a:lnTo>
                  <a:lnTo>
                    <a:pt x="1822" y="4220"/>
                  </a:lnTo>
                  <a:lnTo>
                    <a:pt x="1702" y="4130"/>
                  </a:lnTo>
                  <a:lnTo>
                    <a:pt x="1702" y="4130"/>
                  </a:lnTo>
                  <a:lnTo>
                    <a:pt x="1604" y="4056"/>
                  </a:lnTo>
                  <a:lnTo>
                    <a:pt x="1504" y="3978"/>
                  </a:lnTo>
                  <a:lnTo>
                    <a:pt x="1400" y="3894"/>
                  </a:lnTo>
                  <a:lnTo>
                    <a:pt x="1294" y="3808"/>
                  </a:lnTo>
                  <a:lnTo>
                    <a:pt x="1294" y="3808"/>
                  </a:lnTo>
                  <a:lnTo>
                    <a:pt x="1214" y="3740"/>
                  </a:lnTo>
                  <a:lnTo>
                    <a:pt x="1134" y="3672"/>
                  </a:lnTo>
                  <a:lnTo>
                    <a:pt x="1056" y="3602"/>
                  </a:lnTo>
                  <a:lnTo>
                    <a:pt x="978" y="3532"/>
                  </a:lnTo>
                  <a:lnTo>
                    <a:pt x="904" y="3462"/>
                  </a:lnTo>
                  <a:lnTo>
                    <a:pt x="830" y="3392"/>
                  </a:lnTo>
                  <a:lnTo>
                    <a:pt x="762" y="3322"/>
                  </a:lnTo>
                  <a:lnTo>
                    <a:pt x="696" y="3252"/>
                  </a:lnTo>
                  <a:lnTo>
                    <a:pt x="696" y="3252"/>
                  </a:lnTo>
                  <a:lnTo>
                    <a:pt x="634" y="3184"/>
                  </a:lnTo>
                  <a:lnTo>
                    <a:pt x="578" y="3116"/>
                  </a:lnTo>
                  <a:lnTo>
                    <a:pt x="526" y="3050"/>
                  </a:lnTo>
                  <a:lnTo>
                    <a:pt x="480" y="2986"/>
                  </a:lnTo>
                  <a:lnTo>
                    <a:pt x="480" y="2986"/>
                  </a:lnTo>
                  <a:lnTo>
                    <a:pt x="442" y="2926"/>
                  </a:lnTo>
                  <a:lnTo>
                    <a:pt x="410" y="2868"/>
                  </a:lnTo>
                  <a:lnTo>
                    <a:pt x="410" y="2868"/>
                  </a:lnTo>
                  <a:lnTo>
                    <a:pt x="396" y="2842"/>
                  </a:lnTo>
                  <a:lnTo>
                    <a:pt x="386" y="2816"/>
                  </a:lnTo>
                  <a:lnTo>
                    <a:pt x="376" y="2792"/>
                  </a:lnTo>
                  <a:lnTo>
                    <a:pt x="368" y="2768"/>
                  </a:lnTo>
                  <a:lnTo>
                    <a:pt x="368" y="2768"/>
                  </a:lnTo>
                  <a:lnTo>
                    <a:pt x="336" y="2654"/>
                  </a:lnTo>
                  <a:lnTo>
                    <a:pt x="310" y="2552"/>
                  </a:lnTo>
                  <a:lnTo>
                    <a:pt x="290" y="2462"/>
                  </a:lnTo>
                  <a:lnTo>
                    <a:pt x="274" y="2384"/>
                  </a:lnTo>
                  <a:lnTo>
                    <a:pt x="274" y="2384"/>
                  </a:lnTo>
                  <a:lnTo>
                    <a:pt x="262" y="2314"/>
                  </a:lnTo>
                  <a:lnTo>
                    <a:pt x="256" y="2256"/>
                  </a:lnTo>
                  <a:lnTo>
                    <a:pt x="252" y="2204"/>
                  </a:lnTo>
                  <a:lnTo>
                    <a:pt x="250" y="2162"/>
                  </a:lnTo>
                  <a:lnTo>
                    <a:pt x="250" y="2162"/>
                  </a:lnTo>
                  <a:lnTo>
                    <a:pt x="250" y="2126"/>
                  </a:lnTo>
                  <a:lnTo>
                    <a:pt x="254" y="2094"/>
                  </a:lnTo>
                  <a:lnTo>
                    <a:pt x="254" y="2094"/>
                  </a:lnTo>
                  <a:lnTo>
                    <a:pt x="260" y="2052"/>
                  </a:lnTo>
                  <a:lnTo>
                    <a:pt x="268" y="2012"/>
                  </a:lnTo>
                  <a:lnTo>
                    <a:pt x="268" y="2012"/>
                  </a:lnTo>
                  <a:lnTo>
                    <a:pt x="290" y="1922"/>
                  </a:lnTo>
                  <a:lnTo>
                    <a:pt x="290" y="1922"/>
                  </a:lnTo>
                  <a:lnTo>
                    <a:pt x="292" y="1906"/>
                  </a:lnTo>
                  <a:lnTo>
                    <a:pt x="292" y="1890"/>
                  </a:lnTo>
                  <a:lnTo>
                    <a:pt x="290" y="1876"/>
                  </a:lnTo>
                  <a:lnTo>
                    <a:pt x="288" y="1860"/>
                  </a:lnTo>
                  <a:lnTo>
                    <a:pt x="288" y="1860"/>
                  </a:lnTo>
                  <a:lnTo>
                    <a:pt x="276" y="1822"/>
                  </a:lnTo>
                  <a:lnTo>
                    <a:pt x="266" y="1782"/>
                  </a:lnTo>
                  <a:lnTo>
                    <a:pt x="258" y="1744"/>
                  </a:lnTo>
                  <a:lnTo>
                    <a:pt x="252" y="1704"/>
                  </a:lnTo>
                  <a:lnTo>
                    <a:pt x="246" y="1668"/>
                  </a:lnTo>
                  <a:lnTo>
                    <a:pt x="244" y="1630"/>
                  </a:lnTo>
                  <a:lnTo>
                    <a:pt x="242" y="1594"/>
                  </a:lnTo>
                  <a:lnTo>
                    <a:pt x="240" y="1558"/>
                  </a:lnTo>
                  <a:lnTo>
                    <a:pt x="240" y="1558"/>
                  </a:lnTo>
                  <a:lnTo>
                    <a:pt x="242" y="1494"/>
                  </a:lnTo>
                  <a:lnTo>
                    <a:pt x="250" y="1434"/>
                  </a:lnTo>
                  <a:lnTo>
                    <a:pt x="258" y="1374"/>
                  </a:lnTo>
                  <a:lnTo>
                    <a:pt x="272" y="1318"/>
                  </a:lnTo>
                  <a:lnTo>
                    <a:pt x="272" y="1318"/>
                  </a:lnTo>
                  <a:lnTo>
                    <a:pt x="284" y="1278"/>
                  </a:lnTo>
                  <a:lnTo>
                    <a:pt x="296" y="1240"/>
                  </a:lnTo>
                  <a:lnTo>
                    <a:pt x="312" y="1204"/>
                  </a:lnTo>
                  <a:lnTo>
                    <a:pt x="328" y="1168"/>
                  </a:lnTo>
                  <a:lnTo>
                    <a:pt x="344" y="1136"/>
                  </a:lnTo>
                  <a:lnTo>
                    <a:pt x="362" y="1104"/>
                  </a:lnTo>
                  <a:lnTo>
                    <a:pt x="380" y="1076"/>
                  </a:lnTo>
                  <a:lnTo>
                    <a:pt x="400" y="1050"/>
                  </a:lnTo>
                  <a:lnTo>
                    <a:pt x="400" y="1050"/>
                  </a:lnTo>
                  <a:lnTo>
                    <a:pt x="420" y="1026"/>
                  </a:lnTo>
                  <a:lnTo>
                    <a:pt x="438" y="1004"/>
                  </a:lnTo>
                  <a:lnTo>
                    <a:pt x="458" y="986"/>
                  </a:lnTo>
                  <a:lnTo>
                    <a:pt x="478" y="970"/>
                  </a:lnTo>
                  <a:lnTo>
                    <a:pt x="478" y="970"/>
                  </a:lnTo>
                  <a:lnTo>
                    <a:pt x="496" y="956"/>
                  </a:lnTo>
                  <a:lnTo>
                    <a:pt x="512" y="944"/>
                  </a:lnTo>
                  <a:lnTo>
                    <a:pt x="528" y="936"/>
                  </a:lnTo>
                  <a:lnTo>
                    <a:pt x="542" y="930"/>
                  </a:lnTo>
                  <a:lnTo>
                    <a:pt x="542" y="930"/>
                  </a:lnTo>
                  <a:lnTo>
                    <a:pt x="556" y="924"/>
                  </a:lnTo>
                  <a:lnTo>
                    <a:pt x="568" y="918"/>
                  </a:lnTo>
                  <a:lnTo>
                    <a:pt x="580" y="908"/>
                  </a:lnTo>
                  <a:lnTo>
                    <a:pt x="592" y="898"/>
                  </a:lnTo>
                  <a:lnTo>
                    <a:pt x="600" y="886"/>
                  </a:lnTo>
                  <a:lnTo>
                    <a:pt x="608" y="872"/>
                  </a:lnTo>
                  <a:lnTo>
                    <a:pt x="614" y="858"/>
                  </a:lnTo>
                  <a:lnTo>
                    <a:pt x="618" y="844"/>
                  </a:lnTo>
                  <a:lnTo>
                    <a:pt x="618" y="844"/>
                  </a:lnTo>
                  <a:lnTo>
                    <a:pt x="628" y="810"/>
                  </a:lnTo>
                  <a:lnTo>
                    <a:pt x="638" y="778"/>
                  </a:lnTo>
                  <a:lnTo>
                    <a:pt x="650" y="746"/>
                  </a:lnTo>
                  <a:lnTo>
                    <a:pt x="664" y="714"/>
                  </a:lnTo>
                  <a:lnTo>
                    <a:pt x="664" y="714"/>
                  </a:lnTo>
                  <a:lnTo>
                    <a:pt x="678" y="688"/>
                  </a:lnTo>
                  <a:lnTo>
                    <a:pt x="694" y="662"/>
                  </a:lnTo>
                  <a:lnTo>
                    <a:pt x="712" y="636"/>
                  </a:lnTo>
                  <a:lnTo>
                    <a:pt x="728" y="612"/>
                  </a:lnTo>
                  <a:lnTo>
                    <a:pt x="748" y="588"/>
                  </a:lnTo>
                  <a:lnTo>
                    <a:pt x="768" y="564"/>
                  </a:lnTo>
                  <a:lnTo>
                    <a:pt x="810" y="518"/>
                  </a:lnTo>
                  <a:lnTo>
                    <a:pt x="810" y="518"/>
                  </a:lnTo>
                  <a:lnTo>
                    <a:pt x="844" y="486"/>
                  </a:lnTo>
                  <a:lnTo>
                    <a:pt x="880" y="456"/>
                  </a:lnTo>
                  <a:lnTo>
                    <a:pt x="916" y="428"/>
                  </a:lnTo>
                  <a:lnTo>
                    <a:pt x="952" y="402"/>
                  </a:lnTo>
                  <a:lnTo>
                    <a:pt x="952" y="402"/>
                  </a:lnTo>
                  <a:lnTo>
                    <a:pt x="1008" y="366"/>
                  </a:lnTo>
                  <a:lnTo>
                    <a:pt x="1062" y="334"/>
                  </a:lnTo>
                  <a:lnTo>
                    <a:pt x="1114" y="306"/>
                  </a:lnTo>
                  <a:lnTo>
                    <a:pt x="1164" y="284"/>
                  </a:lnTo>
                  <a:lnTo>
                    <a:pt x="1164" y="284"/>
                  </a:lnTo>
                  <a:lnTo>
                    <a:pt x="1210" y="264"/>
                  </a:lnTo>
                  <a:lnTo>
                    <a:pt x="1248" y="252"/>
                  </a:lnTo>
                  <a:lnTo>
                    <a:pt x="1248" y="252"/>
                  </a:lnTo>
                  <a:lnTo>
                    <a:pt x="1278" y="242"/>
                  </a:lnTo>
                  <a:lnTo>
                    <a:pt x="1278" y="242"/>
                  </a:lnTo>
                  <a:lnTo>
                    <a:pt x="1294" y="238"/>
                  </a:lnTo>
                  <a:lnTo>
                    <a:pt x="1278" y="120"/>
                  </a:lnTo>
                  <a:lnTo>
                    <a:pt x="1174" y="180"/>
                  </a:lnTo>
                  <a:lnTo>
                    <a:pt x="1174" y="180"/>
                  </a:lnTo>
                  <a:lnTo>
                    <a:pt x="1278" y="120"/>
                  </a:lnTo>
                  <a:lnTo>
                    <a:pt x="1166" y="76"/>
                  </a:lnTo>
                  <a:lnTo>
                    <a:pt x="1166" y="76"/>
                  </a:lnTo>
                  <a:lnTo>
                    <a:pt x="1146" y="132"/>
                  </a:lnTo>
                  <a:lnTo>
                    <a:pt x="1128" y="186"/>
                  </a:lnTo>
                  <a:lnTo>
                    <a:pt x="1112" y="242"/>
                  </a:lnTo>
                  <a:lnTo>
                    <a:pt x="1102" y="296"/>
                  </a:lnTo>
                  <a:lnTo>
                    <a:pt x="1092" y="350"/>
                  </a:lnTo>
                  <a:lnTo>
                    <a:pt x="1086" y="402"/>
                  </a:lnTo>
                  <a:lnTo>
                    <a:pt x="1082" y="454"/>
                  </a:lnTo>
                  <a:lnTo>
                    <a:pt x="1082" y="506"/>
                  </a:lnTo>
                  <a:lnTo>
                    <a:pt x="1082" y="506"/>
                  </a:lnTo>
                  <a:lnTo>
                    <a:pt x="1084" y="560"/>
                  </a:lnTo>
                  <a:lnTo>
                    <a:pt x="1086" y="614"/>
                  </a:lnTo>
                  <a:lnTo>
                    <a:pt x="1092" y="666"/>
                  </a:lnTo>
                  <a:lnTo>
                    <a:pt x="1100" y="718"/>
                  </a:lnTo>
                  <a:lnTo>
                    <a:pt x="1108" y="768"/>
                  </a:lnTo>
                  <a:lnTo>
                    <a:pt x="1118" y="816"/>
                  </a:lnTo>
                  <a:lnTo>
                    <a:pt x="1142" y="910"/>
                  </a:lnTo>
                  <a:lnTo>
                    <a:pt x="1142" y="910"/>
                  </a:lnTo>
                  <a:lnTo>
                    <a:pt x="1168" y="1002"/>
                  </a:lnTo>
                  <a:lnTo>
                    <a:pt x="1196" y="1088"/>
                  </a:lnTo>
                  <a:lnTo>
                    <a:pt x="1222" y="1168"/>
                  </a:lnTo>
                  <a:lnTo>
                    <a:pt x="1246" y="1246"/>
                  </a:lnTo>
                  <a:lnTo>
                    <a:pt x="1246" y="1246"/>
                  </a:lnTo>
                  <a:lnTo>
                    <a:pt x="1272" y="1326"/>
                  </a:lnTo>
                  <a:lnTo>
                    <a:pt x="1272" y="1326"/>
                  </a:lnTo>
                  <a:lnTo>
                    <a:pt x="1352" y="1572"/>
                  </a:lnTo>
                  <a:lnTo>
                    <a:pt x="1468" y="1914"/>
                  </a:lnTo>
                  <a:lnTo>
                    <a:pt x="1468" y="1914"/>
                  </a:lnTo>
                  <a:lnTo>
                    <a:pt x="1672" y="2516"/>
                  </a:lnTo>
                  <a:lnTo>
                    <a:pt x="1876" y="3110"/>
                  </a:lnTo>
                  <a:lnTo>
                    <a:pt x="2096" y="3746"/>
                  </a:lnTo>
                  <a:lnTo>
                    <a:pt x="2208" y="3706"/>
                  </a:lnTo>
                  <a:lnTo>
                    <a:pt x="2092" y="3680"/>
                  </a:lnTo>
                  <a:lnTo>
                    <a:pt x="2208" y="37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628560" y="2012760"/>
              <a:ext cx="2962080" cy="5813640"/>
            </a:xfrm>
            <a:custGeom>
              <a:avLst/>
              <a:gdLst>
                <a:gd name="textAreaLeft" fmla="*/ 0 w 2962080"/>
                <a:gd name="textAreaRight" fmla="*/ 2962440 w 2962080"/>
                <a:gd name="textAreaTop" fmla="*/ 0 h 5813640"/>
                <a:gd name="textAreaBottom" fmla="*/ 5814000 h 5813640"/>
              </a:gdLst>
              <a:ahLst/>
              <a:rect l="textAreaLeft" t="textAreaTop" r="textAreaRight" b="textAreaBottom"/>
              <a:pathLst>
                <a:path w="1866" h="3662">
                  <a:moveTo>
                    <a:pt x="52" y="1078"/>
                  </a:moveTo>
                  <a:lnTo>
                    <a:pt x="52" y="1078"/>
                  </a:lnTo>
                  <a:lnTo>
                    <a:pt x="38" y="1140"/>
                  </a:lnTo>
                  <a:lnTo>
                    <a:pt x="24" y="1202"/>
                  </a:lnTo>
                  <a:lnTo>
                    <a:pt x="18" y="1236"/>
                  </a:lnTo>
                  <a:lnTo>
                    <a:pt x="14" y="1272"/>
                  </a:lnTo>
                  <a:lnTo>
                    <a:pt x="10" y="1310"/>
                  </a:lnTo>
                  <a:lnTo>
                    <a:pt x="10" y="1356"/>
                  </a:lnTo>
                  <a:lnTo>
                    <a:pt x="12" y="1406"/>
                  </a:lnTo>
                  <a:lnTo>
                    <a:pt x="18" y="1462"/>
                  </a:lnTo>
                  <a:lnTo>
                    <a:pt x="26" y="1524"/>
                  </a:lnTo>
                  <a:lnTo>
                    <a:pt x="38" y="1596"/>
                  </a:lnTo>
                  <a:lnTo>
                    <a:pt x="54" y="1678"/>
                  </a:lnTo>
                  <a:lnTo>
                    <a:pt x="76" y="1768"/>
                  </a:lnTo>
                  <a:lnTo>
                    <a:pt x="102" y="1870"/>
                  </a:lnTo>
                  <a:lnTo>
                    <a:pt x="134" y="1984"/>
                  </a:lnTo>
                  <a:lnTo>
                    <a:pt x="134" y="1984"/>
                  </a:lnTo>
                  <a:lnTo>
                    <a:pt x="142" y="2008"/>
                  </a:lnTo>
                  <a:lnTo>
                    <a:pt x="150" y="2034"/>
                  </a:lnTo>
                  <a:lnTo>
                    <a:pt x="174" y="2086"/>
                  </a:lnTo>
                  <a:lnTo>
                    <a:pt x="202" y="2140"/>
                  </a:lnTo>
                  <a:lnTo>
                    <a:pt x="234" y="2196"/>
                  </a:lnTo>
                  <a:lnTo>
                    <a:pt x="272" y="2252"/>
                  </a:lnTo>
                  <a:lnTo>
                    <a:pt x="314" y="2310"/>
                  </a:lnTo>
                  <a:lnTo>
                    <a:pt x="362" y="2370"/>
                  </a:lnTo>
                  <a:lnTo>
                    <a:pt x="410" y="2430"/>
                  </a:lnTo>
                  <a:lnTo>
                    <a:pt x="464" y="2490"/>
                  </a:lnTo>
                  <a:lnTo>
                    <a:pt x="520" y="2550"/>
                  </a:lnTo>
                  <a:lnTo>
                    <a:pt x="580" y="2612"/>
                  </a:lnTo>
                  <a:lnTo>
                    <a:pt x="640" y="2674"/>
                  </a:lnTo>
                  <a:lnTo>
                    <a:pt x="704" y="2734"/>
                  </a:lnTo>
                  <a:lnTo>
                    <a:pt x="768" y="2796"/>
                  </a:lnTo>
                  <a:lnTo>
                    <a:pt x="902" y="2916"/>
                  </a:lnTo>
                  <a:lnTo>
                    <a:pt x="1040" y="3034"/>
                  </a:lnTo>
                  <a:lnTo>
                    <a:pt x="1176" y="3148"/>
                  </a:lnTo>
                  <a:lnTo>
                    <a:pt x="1310" y="3254"/>
                  </a:lnTo>
                  <a:lnTo>
                    <a:pt x="1440" y="3356"/>
                  </a:lnTo>
                  <a:lnTo>
                    <a:pt x="1562" y="3448"/>
                  </a:lnTo>
                  <a:lnTo>
                    <a:pt x="1674" y="3532"/>
                  </a:lnTo>
                  <a:lnTo>
                    <a:pt x="1856" y="3662"/>
                  </a:lnTo>
                  <a:lnTo>
                    <a:pt x="1856" y="3662"/>
                  </a:lnTo>
                  <a:lnTo>
                    <a:pt x="1860" y="3606"/>
                  </a:lnTo>
                  <a:lnTo>
                    <a:pt x="1864" y="3544"/>
                  </a:lnTo>
                  <a:lnTo>
                    <a:pt x="1866" y="3480"/>
                  </a:lnTo>
                  <a:lnTo>
                    <a:pt x="1862" y="3416"/>
                  </a:lnTo>
                  <a:lnTo>
                    <a:pt x="1858" y="3350"/>
                  </a:lnTo>
                  <a:lnTo>
                    <a:pt x="1852" y="3318"/>
                  </a:lnTo>
                  <a:lnTo>
                    <a:pt x="1846" y="3286"/>
                  </a:lnTo>
                  <a:lnTo>
                    <a:pt x="1840" y="3254"/>
                  </a:lnTo>
                  <a:lnTo>
                    <a:pt x="1832" y="3224"/>
                  </a:lnTo>
                  <a:lnTo>
                    <a:pt x="1822" y="3196"/>
                  </a:lnTo>
                  <a:lnTo>
                    <a:pt x="1810" y="3168"/>
                  </a:lnTo>
                  <a:lnTo>
                    <a:pt x="1810" y="3168"/>
                  </a:lnTo>
                  <a:lnTo>
                    <a:pt x="1754" y="3072"/>
                  </a:lnTo>
                  <a:lnTo>
                    <a:pt x="1698" y="2974"/>
                  </a:lnTo>
                  <a:lnTo>
                    <a:pt x="1638" y="2878"/>
                  </a:lnTo>
                  <a:lnTo>
                    <a:pt x="1574" y="2784"/>
                  </a:lnTo>
                  <a:lnTo>
                    <a:pt x="1510" y="2688"/>
                  </a:lnTo>
                  <a:lnTo>
                    <a:pt x="1444" y="2592"/>
                  </a:lnTo>
                  <a:lnTo>
                    <a:pt x="1310" y="2400"/>
                  </a:lnTo>
                  <a:lnTo>
                    <a:pt x="1172" y="2210"/>
                  </a:lnTo>
                  <a:lnTo>
                    <a:pt x="1036" y="2018"/>
                  </a:lnTo>
                  <a:lnTo>
                    <a:pt x="970" y="1922"/>
                  </a:lnTo>
                  <a:lnTo>
                    <a:pt x="906" y="1826"/>
                  </a:lnTo>
                  <a:lnTo>
                    <a:pt x="842" y="1728"/>
                  </a:lnTo>
                  <a:lnTo>
                    <a:pt x="780" y="1632"/>
                  </a:lnTo>
                  <a:lnTo>
                    <a:pt x="722" y="1534"/>
                  </a:lnTo>
                  <a:lnTo>
                    <a:pt x="666" y="1436"/>
                  </a:lnTo>
                  <a:lnTo>
                    <a:pt x="614" y="1338"/>
                  </a:lnTo>
                  <a:lnTo>
                    <a:pt x="564" y="1240"/>
                  </a:lnTo>
                  <a:lnTo>
                    <a:pt x="518" y="1140"/>
                  </a:lnTo>
                  <a:lnTo>
                    <a:pt x="478" y="1040"/>
                  </a:lnTo>
                  <a:lnTo>
                    <a:pt x="458" y="990"/>
                  </a:lnTo>
                  <a:lnTo>
                    <a:pt x="440" y="940"/>
                  </a:lnTo>
                  <a:lnTo>
                    <a:pt x="424" y="890"/>
                  </a:lnTo>
                  <a:lnTo>
                    <a:pt x="410" y="840"/>
                  </a:lnTo>
                  <a:lnTo>
                    <a:pt x="396" y="788"/>
                  </a:lnTo>
                  <a:lnTo>
                    <a:pt x="384" y="738"/>
                  </a:lnTo>
                  <a:lnTo>
                    <a:pt x="372" y="686"/>
                  </a:lnTo>
                  <a:lnTo>
                    <a:pt x="364" y="634"/>
                  </a:lnTo>
                  <a:lnTo>
                    <a:pt x="356" y="582"/>
                  </a:lnTo>
                  <a:lnTo>
                    <a:pt x="348" y="532"/>
                  </a:lnTo>
                  <a:lnTo>
                    <a:pt x="344" y="480"/>
                  </a:lnTo>
                  <a:lnTo>
                    <a:pt x="340" y="426"/>
                  </a:lnTo>
                  <a:lnTo>
                    <a:pt x="340" y="374"/>
                  </a:lnTo>
                  <a:lnTo>
                    <a:pt x="340" y="322"/>
                  </a:lnTo>
                  <a:lnTo>
                    <a:pt x="342" y="268"/>
                  </a:lnTo>
                  <a:lnTo>
                    <a:pt x="346" y="216"/>
                  </a:lnTo>
                  <a:lnTo>
                    <a:pt x="352" y="162"/>
                  </a:lnTo>
                  <a:lnTo>
                    <a:pt x="360" y="108"/>
                  </a:lnTo>
                  <a:lnTo>
                    <a:pt x="370" y="54"/>
                  </a:lnTo>
                  <a:lnTo>
                    <a:pt x="382" y="0"/>
                  </a:lnTo>
                  <a:lnTo>
                    <a:pt x="382" y="0"/>
                  </a:lnTo>
                  <a:lnTo>
                    <a:pt x="360" y="8"/>
                  </a:lnTo>
                  <a:lnTo>
                    <a:pt x="340" y="18"/>
                  </a:lnTo>
                  <a:lnTo>
                    <a:pt x="318" y="32"/>
                  </a:lnTo>
                  <a:lnTo>
                    <a:pt x="296" y="46"/>
                  </a:lnTo>
                  <a:lnTo>
                    <a:pt x="276" y="62"/>
                  </a:lnTo>
                  <a:lnTo>
                    <a:pt x="254" y="82"/>
                  </a:lnTo>
                  <a:lnTo>
                    <a:pt x="234" y="102"/>
                  </a:lnTo>
                  <a:lnTo>
                    <a:pt x="212" y="124"/>
                  </a:lnTo>
                  <a:lnTo>
                    <a:pt x="192" y="148"/>
                  </a:lnTo>
                  <a:lnTo>
                    <a:pt x="174" y="174"/>
                  </a:lnTo>
                  <a:lnTo>
                    <a:pt x="154" y="202"/>
                  </a:lnTo>
                  <a:lnTo>
                    <a:pt x="136" y="232"/>
                  </a:lnTo>
                  <a:lnTo>
                    <a:pt x="118" y="262"/>
                  </a:lnTo>
                  <a:lnTo>
                    <a:pt x="102" y="294"/>
                  </a:lnTo>
                  <a:lnTo>
                    <a:pt x="86" y="328"/>
                  </a:lnTo>
                  <a:lnTo>
                    <a:pt x="72" y="362"/>
                  </a:lnTo>
                  <a:lnTo>
                    <a:pt x="58" y="400"/>
                  </a:lnTo>
                  <a:lnTo>
                    <a:pt x="46" y="438"/>
                  </a:lnTo>
                  <a:lnTo>
                    <a:pt x="34" y="476"/>
                  </a:lnTo>
                  <a:lnTo>
                    <a:pt x="24" y="516"/>
                  </a:lnTo>
                  <a:lnTo>
                    <a:pt x="16" y="558"/>
                  </a:lnTo>
                  <a:lnTo>
                    <a:pt x="10" y="602"/>
                  </a:lnTo>
                  <a:lnTo>
                    <a:pt x="6" y="644"/>
                  </a:lnTo>
                  <a:lnTo>
                    <a:pt x="2" y="690"/>
                  </a:lnTo>
                  <a:lnTo>
                    <a:pt x="0" y="736"/>
                  </a:lnTo>
                  <a:lnTo>
                    <a:pt x="2" y="782"/>
                  </a:lnTo>
                  <a:lnTo>
                    <a:pt x="4" y="830"/>
                  </a:lnTo>
                  <a:lnTo>
                    <a:pt x="10" y="878"/>
                  </a:lnTo>
                  <a:lnTo>
                    <a:pt x="16" y="926"/>
                  </a:lnTo>
                  <a:lnTo>
                    <a:pt x="26" y="976"/>
                  </a:lnTo>
                  <a:lnTo>
                    <a:pt x="38" y="1026"/>
                  </a:lnTo>
                  <a:lnTo>
                    <a:pt x="52" y="1078"/>
                  </a:lnTo>
                  <a:lnTo>
                    <a:pt x="52" y="1078"/>
                  </a:lnTo>
                  <a:close/>
                </a:path>
              </a:pathLst>
            </a:custGeom>
            <a:solidFill>
              <a:srgbClr val="e54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438120" y="1822320"/>
              <a:ext cx="3343320" cy="61945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6194520"/>
                <a:gd name="textAreaBottom" fmla="*/ 6194880 h 6194520"/>
              </a:gdLst>
              <a:ahLst/>
              <a:rect l="textAreaLeft" t="textAreaTop" r="textAreaRight" b="textAreaBottom"/>
              <a:pathLst>
                <a:path w="2106" h="3902">
                  <a:moveTo>
                    <a:pt x="172" y="1198"/>
                  </a:moveTo>
                  <a:lnTo>
                    <a:pt x="56" y="1172"/>
                  </a:lnTo>
                  <a:lnTo>
                    <a:pt x="56" y="1172"/>
                  </a:lnTo>
                  <a:lnTo>
                    <a:pt x="42" y="1230"/>
                  </a:lnTo>
                  <a:lnTo>
                    <a:pt x="42" y="1230"/>
                  </a:lnTo>
                  <a:lnTo>
                    <a:pt x="30" y="1276"/>
                  </a:lnTo>
                  <a:lnTo>
                    <a:pt x="20" y="1330"/>
                  </a:lnTo>
                  <a:lnTo>
                    <a:pt x="20" y="1330"/>
                  </a:lnTo>
                  <a:lnTo>
                    <a:pt x="16" y="1360"/>
                  </a:lnTo>
                  <a:lnTo>
                    <a:pt x="12" y="1392"/>
                  </a:lnTo>
                  <a:lnTo>
                    <a:pt x="10" y="1426"/>
                  </a:lnTo>
                  <a:lnTo>
                    <a:pt x="10" y="1464"/>
                  </a:lnTo>
                  <a:lnTo>
                    <a:pt x="10" y="1464"/>
                  </a:lnTo>
                  <a:lnTo>
                    <a:pt x="12" y="1520"/>
                  </a:lnTo>
                  <a:lnTo>
                    <a:pt x="16" y="1582"/>
                  </a:lnTo>
                  <a:lnTo>
                    <a:pt x="26" y="1652"/>
                  </a:lnTo>
                  <a:lnTo>
                    <a:pt x="38" y="1728"/>
                  </a:lnTo>
                  <a:lnTo>
                    <a:pt x="38" y="1728"/>
                  </a:lnTo>
                  <a:lnTo>
                    <a:pt x="56" y="1814"/>
                  </a:lnTo>
                  <a:lnTo>
                    <a:pt x="78" y="1910"/>
                  </a:lnTo>
                  <a:lnTo>
                    <a:pt x="104" y="2018"/>
                  </a:lnTo>
                  <a:lnTo>
                    <a:pt x="138" y="2136"/>
                  </a:lnTo>
                  <a:lnTo>
                    <a:pt x="138" y="2136"/>
                  </a:lnTo>
                  <a:lnTo>
                    <a:pt x="148" y="2168"/>
                  </a:lnTo>
                  <a:lnTo>
                    <a:pt x="158" y="2198"/>
                  </a:lnTo>
                  <a:lnTo>
                    <a:pt x="172" y="2228"/>
                  </a:lnTo>
                  <a:lnTo>
                    <a:pt x="186" y="2258"/>
                  </a:lnTo>
                  <a:lnTo>
                    <a:pt x="216" y="2320"/>
                  </a:lnTo>
                  <a:lnTo>
                    <a:pt x="254" y="2380"/>
                  </a:lnTo>
                  <a:lnTo>
                    <a:pt x="254" y="2380"/>
                  </a:lnTo>
                  <a:lnTo>
                    <a:pt x="288" y="2434"/>
                  </a:lnTo>
                  <a:lnTo>
                    <a:pt x="328" y="2488"/>
                  </a:lnTo>
                  <a:lnTo>
                    <a:pt x="370" y="2542"/>
                  </a:lnTo>
                  <a:lnTo>
                    <a:pt x="414" y="2596"/>
                  </a:lnTo>
                  <a:lnTo>
                    <a:pt x="414" y="2596"/>
                  </a:lnTo>
                  <a:lnTo>
                    <a:pt x="454" y="2644"/>
                  </a:lnTo>
                  <a:lnTo>
                    <a:pt x="496" y="2692"/>
                  </a:lnTo>
                  <a:lnTo>
                    <a:pt x="586" y="2788"/>
                  </a:lnTo>
                  <a:lnTo>
                    <a:pt x="682" y="2884"/>
                  </a:lnTo>
                  <a:lnTo>
                    <a:pt x="782" y="2980"/>
                  </a:lnTo>
                  <a:lnTo>
                    <a:pt x="782" y="2980"/>
                  </a:lnTo>
                  <a:lnTo>
                    <a:pt x="860" y="3052"/>
                  </a:lnTo>
                  <a:lnTo>
                    <a:pt x="938" y="3122"/>
                  </a:lnTo>
                  <a:lnTo>
                    <a:pt x="1018" y="3190"/>
                  </a:lnTo>
                  <a:lnTo>
                    <a:pt x="1098" y="3258"/>
                  </a:lnTo>
                  <a:lnTo>
                    <a:pt x="1256" y="3388"/>
                  </a:lnTo>
                  <a:lnTo>
                    <a:pt x="1410" y="3512"/>
                  </a:lnTo>
                  <a:lnTo>
                    <a:pt x="1410" y="3512"/>
                  </a:lnTo>
                  <a:lnTo>
                    <a:pt x="1556" y="3624"/>
                  </a:lnTo>
                  <a:lnTo>
                    <a:pt x="1690" y="3724"/>
                  </a:lnTo>
                  <a:lnTo>
                    <a:pt x="1808" y="3810"/>
                  </a:lnTo>
                  <a:lnTo>
                    <a:pt x="1906" y="3880"/>
                  </a:lnTo>
                  <a:lnTo>
                    <a:pt x="1906" y="3880"/>
                  </a:lnTo>
                  <a:lnTo>
                    <a:pt x="1920" y="3888"/>
                  </a:lnTo>
                  <a:lnTo>
                    <a:pt x="1934" y="3896"/>
                  </a:lnTo>
                  <a:lnTo>
                    <a:pt x="1948" y="3900"/>
                  </a:lnTo>
                  <a:lnTo>
                    <a:pt x="1964" y="3902"/>
                  </a:lnTo>
                  <a:lnTo>
                    <a:pt x="1980" y="3902"/>
                  </a:lnTo>
                  <a:lnTo>
                    <a:pt x="1994" y="3900"/>
                  </a:lnTo>
                  <a:lnTo>
                    <a:pt x="2010" y="3898"/>
                  </a:lnTo>
                  <a:lnTo>
                    <a:pt x="2024" y="3892"/>
                  </a:lnTo>
                  <a:lnTo>
                    <a:pt x="2024" y="3892"/>
                  </a:lnTo>
                  <a:lnTo>
                    <a:pt x="2038" y="3884"/>
                  </a:lnTo>
                  <a:lnTo>
                    <a:pt x="2052" y="3876"/>
                  </a:lnTo>
                  <a:lnTo>
                    <a:pt x="2062" y="3864"/>
                  </a:lnTo>
                  <a:lnTo>
                    <a:pt x="2072" y="3852"/>
                  </a:lnTo>
                  <a:lnTo>
                    <a:pt x="2080" y="3840"/>
                  </a:lnTo>
                  <a:lnTo>
                    <a:pt x="2088" y="3826"/>
                  </a:lnTo>
                  <a:lnTo>
                    <a:pt x="2092" y="3810"/>
                  </a:lnTo>
                  <a:lnTo>
                    <a:pt x="2094" y="3796"/>
                  </a:lnTo>
                  <a:lnTo>
                    <a:pt x="2094" y="3796"/>
                  </a:lnTo>
                  <a:lnTo>
                    <a:pt x="2102" y="3706"/>
                  </a:lnTo>
                  <a:lnTo>
                    <a:pt x="2104" y="3658"/>
                  </a:lnTo>
                  <a:lnTo>
                    <a:pt x="2106" y="3608"/>
                  </a:lnTo>
                  <a:lnTo>
                    <a:pt x="2106" y="3608"/>
                  </a:lnTo>
                  <a:lnTo>
                    <a:pt x="2104" y="3564"/>
                  </a:lnTo>
                  <a:lnTo>
                    <a:pt x="2102" y="3518"/>
                  </a:lnTo>
                  <a:lnTo>
                    <a:pt x="2098" y="3470"/>
                  </a:lnTo>
                  <a:lnTo>
                    <a:pt x="2092" y="3424"/>
                  </a:lnTo>
                  <a:lnTo>
                    <a:pt x="2092" y="3424"/>
                  </a:lnTo>
                  <a:lnTo>
                    <a:pt x="2084" y="3376"/>
                  </a:lnTo>
                  <a:lnTo>
                    <a:pt x="2072" y="3330"/>
                  </a:lnTo>
                  <a:lnTo>
                    <a:pt x="2056" y="3284"/>
                  </a:lnTo>
                  <a:lnTo>
                    <a:pt x="2038" y="3238"/>
                  </a:lnTo>
                  <a:lnTo>
                    <a:pt x="2034" y="3230"/>
                  </a:lnTo>
                  <a:lnTo>
                    <a:pt x="2034" y="3230"/>
                  </a:lnTo>
                  <a:lnTo>
                    <a:pt x="1984" y="3142"/>
                  </a:lnTo>
                  <a:lnTo>
                    <a:pt x="1932" y="3052"/>
                  </a:lnTo>
                  <a:lnTo>
                    <a:pt x="1878" y="2964"/>
                  </a:lnTo>
                  <a:lnTo>
                    <a:pt x="1822" y="2878"/>
                  </a:lnTo>
                  <a:lnTo>
                    <a:pt x="1764" y="2790"/>
                  </a:lnTo>
                  <a:lnTo>
                    <a:pt x="1704" y="2704"/>
                  </a:lnTo>
                  <a:lnTo>
                    <a:pt x="1584" y="2532"/>
                  </a:lnTo>
                  <a:lnTo>
                    <a:pt x="1584" y="2532"/>
                  </a:lnTo>
                  <a:lnTo>
                    <a:pt x="1400" y="2274"/>
                  </a:lnTo>
                  <a:lnTo>
                    <a:pt x="1310" y="2146"/>
                  </a:lnTo>
                  <a:lnTo>
                    <a:pt x="1220" y="2018"/>
                  </a:lnTo>
                  <a:lnTo>
                    <a:pt x="1220" y="2018"/>
                  </a:lnTo>
                  <a:lnTo>
                    <a:pt x="1154" y="1922"/>
                  </a:lnTo>
                  <a:lnTo>
                    <a:pt x="1090" y="1826"/>
                  </a:lnTo>
                  <a:lnTo>
                    <a:pt x="1030" y="1732"/>
                  </a:lnTo>
                  <a:lnTo>
                    <a:pt x="970" y="1636"/>
                  </a:lnTo>
                  <a:lnTo>
                    <a:pt x="914" y="1540"/>
                  </a:lnTo>
                  <a:lnTo>
                    <a:pt x="860" y="1444"/>
                  </a:lnTo>
                  <a:lnTo>
                    <a:pt x="812" y="1348"/>
                  </a:lnTo>
                  <a:lnTo>
                    <a:pt x="766" y="1252"/>
                  </a:lnTo>
                  <a:lnTo>
                    <a:pt x="766" y="1252"/>
                  </a:lnTo>
                  <a:lnTo>
                    <a:pt x="724" y="1156"/>
                  </a:lnTo>
                  <a:lnTo>
                    <a:pt x="688" y="1060"/>
                  </a:lnTo>
                  <a:lnTo>
                    <a:pt x="672" y="1012"/>
                  </a:lnTo>
                  <a:lnTo>
                    <a:pt x="656" y="964"/>
                  </a:lnTo>
                  <a:lnTo>
                    <a:pt x="642" y="916"/>
                  </a:lnTo>
                  <a:lnTo>
                    <a:pt x="630" y="868"/>
                  </a:lnTo>
                  <a:lnTo>
                    <a:pt x="630" y="868"/>
                  </a:lnTo>
                  <a:lnTo>
                    <a:pt x="618" y="818"/>
                  </a:lnTo>
                  <a:lnTo>
                    <a:pt x="608" y="770"/>
                  </a:lnTo>
                  <a:lnTo>
                    <a:pt x="600" y="722"/>
                  </a:lnTo>
                  <a:lnTo>
                    <a:pt x="592" y="674"/>
                  </a:lnTo>
                  <a:lnTo>
                    <a:pt x="586" y="626"/>
                  </a:lnTo>
                  <a:lnTo>
                    <a:pt x="582" y="576"/>
                  </a:lnTo>
                  <a:lnTo>
                    <a:pt x="580" y="528"/>
                  </a:lnTo>
                  <a:lnTo>
                    <a:pt x="580" y="478"/>
                  </a:lnTo>
                  <a:lnTo>
                    <a:pt x="580" y="478"/>
                  </a:lnTo>
                  <a:lnTo>
                    <a:pt x="582" y="396"/>
                  </a:lnTo>
                  <a:lnTo>
                    <a:pt x="584" y="356"/>
                  </a:lnTo>
                  <a:lnTo>
                    <a:pt x="588" y="314"/>
                  </a:lnTo>
                  <a:lnTo>
                    <a:pt x="594" y="272"/>
                  </a:lnTo>
                  <a:lnTo>
                    <a:pt x="600" y="232"/>
                  </a:lnTo>
                  <a:lnTo>
                    <a:pt x="608" y="190"/>
                  </a:lnTo>
                  <a:lnTo>
                    <a:pt x="618" y="148"/>
                  </a:lnTo>
                  <a:lnTo>
                    <a:pt x="618" y="148"/>
                  </a:lnTo>
                  <a:lnTo>
                    <a:pt x="620" y="132"/>
                  </a:lnTo>
                  <a:lnTo>
                    <a:pt x="622" y="116"/>
                  </a:lnTo>
                  <a:lnTo>
                    <a:pt x="620" y="100"/>
                  </a:lnTo>
                  <a:lnTo>
                    <a:pt x="616" y="84"/>
                  </a:lnTo>
                  <a:lnTo>
                    <a:pt x="610" y="70"/>
                  </a:lnTo>
                  <a:lnTo>
                    <a:pt x="602" y="56"/>
                  </a:lnTo>
                  <a:lnTo>
                    <a:pt x="592" y="42"/>
                  </a:lnTo>
                  <a:lnTo>
                    <a:pt x="582" y="30"/>
                  </a:lnTo>
                  <a:lnTo>
                    <a:pt x="582" y="30"/>
                  </a:lnTo>
                  <a:lnTo>
                    <a:pt x="568" y="20"/>
                  </a:lnTo>
                  <a:lnTo>
                    <a:pt x="554" y="12"/>
                  </a:lnTo>
                  <a:lnTo>
                    <a:pt x="540" y="6"/>
                  </a:lnTo>
                  <a:lnTo>
                    <a:pt x="524" y="2"/>
                  </a:lnTo>
                  <a:lnTo>
                    <a:pt x="508" y="0"/>
                  </a:lnTo>
                  <a:lnTo>
                    <a:pt x="492" y="0"/>
                  </a:lnTo>
                  <a:lnTo>
                    <a:pt x="476" y="2"/>
                  </a:lnTo>
                  <a:lnTo>
                    <a:pt x="462" y="6"/>
                  </a:lnTo>
                  <a:lnTo>
                    <a:pt x="462" y="6"/>
                  </a:lnTo>
                  <a:lnTo>
                    <a:pt x="438" y="16"/>
                  </a:lnTo>
                  <a:lnTo>
                    <a:pt x="414" y="28"/>
                  </a:lnTo>
                  <a:lnTo>
                    <a:pt x="392" y="40"/>
                  </a:lnTo>
                  <a:lnTo>
                    <a:pt x="370" y="54"/>
                  </a:lnTo>
                  <a:lnTo>
                    <a:pt x="370" y="54"/>
                  </a:lnTo>
                  <a:lnTo>
                    <a:pt x="332" y="80"/>
                  </a:lnTo>
                  <a:lnTo>
                    <a:pt x="296" y="112"/>
                  </a:lnTo>
                  <a:lnTo>
                    <a:pt x="260" y="146"/>
                  </a:lnTo>
                  <a:lnTo>
                    <a:pt x="228" y="184"/>
                  </a:lnTo>
                  <a:lnTo>
                    <a:pt x="228" y="184"/>
                  </a:lnTo>
                  <a:lnTo>
                    <a:pt x="204" y="214"/>
                  </a:lnTo>
                  <a:lnTo>
                    <a:pt x="180" y="246"/>
                  </a:lnTo>
                  <a:lnTo>
                    <a:pt x="158" y="280"/>
                  </a:lnTo>
                  <a:lnTo>
                    <a:pt x="138" y="316"/>
                  </a:lnTo>
                  <a:lnTo>
                    <a:pt x="118" y="352"/>
                  </a:lnTo>
                  <a:lnTo>
                    <a:pt x="100" y="392"/>
                  </a:lnTo>
                  <a:lnTo>
                    <a:pt x="82" y="432"/>
                  </a:lnTo>
                  <a:lnTo>
                    <a:pt x="66" y="474"/>
                  </a:lnTo>
                  <a:lnTo>
                    <a:pt x="66" y="474"/>
                  </a:lnTo>
                  <a:lnTo>
                    <a:pt x="52" y="518"/>
                  </a:lnTo>
                  <a:lnTo>
                    <a:pt x="38" y="564"/>
                  </a:lnTo>
                  <a:lnTo>
                    <a:pt x="28" y="610"/>
                  </a:lnTo>
                  <a:lnTo>
                    <a:pt x="18" y="658"/>
                  </a:lnTo>
                  <a:lnTo>
                    <a:pt x="10" y="706"/>
                  </a:lnTo>
                  <a:lnTo>
                    <a:pt x="6" y="756"/>
                  </a:lnTo>
                  <a:lnTo>
                    <a:pt x="2" y="808"/>
                  </a:lnTo>
                  <a:lnTo>
                    <a:pt x="0" y="860"/>
                  </a:lnTo>
                  <a:lnTo>
                    <a:pt x="0" y="860"/>
                  </a:lnTo>
                  <a:lnTo>
                    <a:pt x="2" y="904"/>
                  </a:lnTo>
                  <a:lnTo>
                    <a:pt x="4" y="950"/>
                  </a:lnTo>
                  <a:lnTo>
                    <a:pt x="8" y="996"/>
                  </a:lnTo>
                  <a:lnTo>
                    <a:pt x="14" y="1042"/>
                  </a:lnTo>
                  <a:lnTo>
                    <a:pt x="22" y="1090"/>
                  </a:lnTo>
                  <a:lnTo>
                    <a:pt x="32" y="1136"/>
                  </a:lnTo>
                  <a:lnTo>
                    <a:pt x="44" y="1184"/>
                  </a:lnTo>
                  <a:lnTo>
                    <a:pt x="58" y="1234"/>
                  </a:lnTo>
                  <a:lnTo>
                    <a:pt x="172" y="1198"/>
                  </a:lnTo>
                  <a:lnTo>
                    <a:pt x="56" y="1172"/>
                  </a:lnTo>
                  <a:lnTo>
                    <a:pt x="172" y="1198"/>
                  </a:lnTo>
                  <a:lnTo>
                    <a:pt x="288" y="1162"/>
                  </a:lnTo>
                  <a:lnTo>
                    <a:pt x="288" y="1162"/>
                  </a:lnTo>
                  <a:lnTo>
                    <a:pt x="276" y="1124"/>
                  </a:lnTo>
                  <a:lnTo>
                    <a:pt x="266" y="1084"/>
                  </a:lnTo>
                  <a:lnTo>
                    <a:pt x="258" y="1046"/>
                  </a:lnTo>
                  <a:lnTo>
                    <a:pt x="252" y="1006"/>
                  </a:lnTo>
                  <a:lnTo>
                    <a:pt x="248" y="970"/>
                  </a:lnTo>
                  <a:lnTo>
                    <a:pt x="244" y="932"/>
                  </a:lnTo>
                  <a:lnTo>
                    <a:pt x="242" y="896"/>
                  </a:lnTo>
                  <a:lnTo>
                    <a:pt x="240" y="860"/>
                  </a:lnTo>
                  <a:lnTo>
                    <a:pt x="240" y="860"/>
                  </a:lnTo>
                  <a:lnTo>
                    <a:pt x="244" y="796"/>
                  </a:lnTo>
                  <a:lnTo>
                    <a:pt x="250" y="736"/>
                  </a:lnTo>
                  <a:lnTo>
                    <a:pt x="258" y="676"/>
                  </a:lnTo>
                  <a:lnTo>
                    <a:pt x="272" y="620"/>
                  </a:lnTo>
                  <a:lnTo>
                    <a:pt x="272" y="620"/>
                  </a:lnTo>
                  <a:lnTo>
                    <a:pt x="284" y="580"/>
                  </a:lnTo>
                  <a:lnTo>
                    <a:pt x="296" y="542"/>
                  </a:lnTo>
                  <a:lnTo>
                    <a:pt x="312" y="506"/>
                  </a:lnTo>
                  <a:lnTo>
                    <a:pt x="328" y="470"/>
                  </a:lnTo>
                  <a:lnTo>
                    <a:pt x="344" y="438"/>
                  </a:lnTo>
                  <a:lnTo>
                    <a:pt x="362" y="406"/>
                  </a:lnTo>
                  <a:lnTo>
                    <a:pt x="380" y="378"/>
                  </a:lnTo>
                  <a:lnTo>
                    <a:pt x="400" y="352"/>
                  </a:lnTo>
                  <a:lnTo>
                    <a:pt x="400" y="352"/>
                  </a:lnTo>
                  <a:lnTo>
                    <a:pt x="420" y="328"/>
                  </a:lnTo>
                  <a:lnTo>
                    <a:pt x="438" y="306"/>
                  </a:lnTo>
                  <a:lnTo>
                    <a:pt x="458" y="288"/>
                  </a:lnTo>
                  <a:lnTo>
                    <a:pt x="478" y="272"/>
                  </a:lnTo>
                  <a:lnTo>
                    <a:pt x="478" y="272"/>
                  </a:lnTo>
                  <a:lnTo>
                    <a:pt x="496" y="258"/>
                  </a:lnTo>
                  <a:lnTo>
                    <a:pt x="512" y="246"/>
                  </a:lnTo>
                  <a:lnTo>
                    <a:pt x="528" y="238"/>
                  </a:lnTo>
                  <a:lnTo>
                    <a:pt x="542" y="232"/>
                  </a:lnTo>
                  <a:lnTo>
                    <a:pt x="502" y="120"/>
                  </a:lnTo>
                  <a:lnTo>
                    <a:pt x="384" y="92"/>
                  </a:lnTo>
                  <a:lnTo>
                    <a:pt x="384" y="92"/>
                  </a:lnTo>
                  <a:lnTo>
                    <a:pt x="374" y="142"/>
                  </a:lnTo>
                  <a:lnTo>
                    <a:pt x="364" y="190"/>
                  </a:lnTo>
                  <a:lnTo>
                    <a:pt x="356" y="238"/>
                  </a:lnTo>
                  <a:lnTo>
                    <a:pt x="350" y="286"/>
                  </a:lnTo>
                  <a:lnTo>
                    <a:pt x="346" y="336"/>
                  </a:lnTo>
                  <a:lnTo>
                    <a:pt x="342" y="384"/>
                  </a:lnTo>
                  <a:lnTo>
                    <a:pt x="340" y="432"/>
                  </a:lnTo>
                  <a:lnTo>
                    <a:pt x="340" y="478"/>
                  </a:lnTo>
                  <a:lnTo>
                    <a:pt x="340" y="478"/>
                  </a:lnTo>
                  <a:lnTo>
                    <a:pt x="340" y="530"/>
                  </a:lnTo>
                  <a:lnTo>
                    <a:pt x="342" y="580"/>
                  </a:lnTo>
                  <a:lnTo>
                    <a:pt x="346" y="630"/>
                  </a:lnTo>
                  <a:lnTo>
                    <a:pt x="352" y="680"/>
                  </a:lnTo>
                  <a:lnTo>
                    <a:pt x="358" y="730"/>
                  </a:lnTo>
                  <a:lnTo>
                    <a:pt x="366" y="778"/>
                  </a:lnTo>
                  <a:lnTo>
                    <a:pt x="374" y="828"/>
                  </a:lnTo>
                  <a:lnTo>
                    <a:pt x="384" y="876"/>
                  </a:lnTo>
                  <a:lnTo>
                    <a:pt x="384" y="876"/>
                  </a:lnTo>
                  <a:lnTo>
                    <a:pt x="406" y="962"/>
                  </a:lnTo>
                  <a:lnTo>
                    <a:pt x="430" y="1046"/>
                  </a:lnTo>
                  <a:lnTo>
                    <a:pt x="458" y="1128"/>
                  </a:lnTo>
                  <a:lnTo>
                    <a:pt x="488" y="1212"/>
                  </a:lnTo>
                  <a:lnTo>
                    <a:pt x="522" y="1294"/>
                  </a:lnTo>
                  <a:lnTo>
                    <a:pt x="558" y="1374"/>
                  </a:lnTo>
                  <a:lnTo>
                    <a:pt x="596" y="1454"/>
                  </a:lnTo>
                  <a:lnTo>
                    <a:pt x="638" y="1534"/>
                  </a:lnTo>
                  <a:lnTo>
                    <a:pt x="638" y="1534"/>
                  </a:lnTo>
                  <a:lnTo>
                    <a:pt x="702" y="1654"/>
                  </a:lnTo>
                  <a:lnTo>
                    <a:pt x="772" y="1770"/>
                  </a:lnTo>
                  <a:lnTo>
                    <a:pt x="844" y="1886"/>
                  </a:lnTo>
                  <a:lnTo>
                    <a:pt x="920" y="2002"/>
                  </a:lnTo>
                  <a:lnTo>
                    <a:pt x="996" y="2118"/>
                  </a:lnTo>
                  <a:lnTo>
                    <a:pt x="1076" y="2230"/>
                  </a:lnTo>
                  <a:lnTo>
                    <a:pt x="1236" y="2456"/>
                  </a:lnTo>
                  <a:lnTo>
                    <a:pt x="1236" y="2456"/>
                  </a:lnTo>
                  <a:lnTo>
                    <a:pt x="1396" y="2680"/>
                  </a:lnTo>
                  <a:lnTo>
                    <a:pt x="1474" y="2792"/>
                  </a:lnTo>
                  <a:lnTo>
                    <a:pt x="1550" y="2904"/>
                  </a:lnTo>
                  <a:lnTo>
                    <a:pt x="1624" y="3014"/>
                  </a:lnTo>
                  <a:lnTo>
                    <a:pt x="1694" y="3124"/>
                  </a:lnTo>
                  <a:lnTo>
                    <a:pt x="1762" y="3236"/>
                  </a:lnTo>
                  <a:lnTo>
                    <a:pt x="1824" y="3346"/>
                  </a:lnTo>
                  <a:lnTo>
                    <a:pt x="1930" y="3288"/>
                  </a:lnTo>
                  <a:lnTo>
                    <a:pt x="1820" y="3338"/>
                  </a:lnTo>
                  <a:lnTo>
                    <a:pt x="1820" y="3338"/>
                  </a:lnTo>
                  <a:lnTo>
                    <a:pt x="1832" y="3364"/>
                  </a:lnTo>
                  <a:lnTo>
                    <a:pt x="1840" y="3394"/>
                  </a:lnTo>
                  <a:lnTo>
                    <a:pt x="1848" y="3426"/>
                  </a:lnTo>
                  <a:lnTo>
                    <a:pt x="1854" y="3460"/>
                  </a:lnTo>
                  <a:lnTo>
                    <a:pt x="1854" y="3460"/>
                  </a:lnTo>
                  <a:lnTo>
                    <a:pt x="1860" y="3496"/>
                  </a:lnTo>
                  <a:lnTo>
                    <a:pt x="1862" y="3534"/>
                  </a:lnTo>
                  <a:lnTo>
                    <a:pt x="1864" y="3570"/>
                  </a:lnTo>
                  <a:lnTo>
                    <a:pt x="1866" y="3608"/>
                  </a:lnTo>
                  <a:lnTo>
                    <a:pt x="1866" y="3608"/>
                  </a:lnTo>
                  <a:lnTo>
                    <a:pt x="1864" y="3652"/>
                  </a:lnTo>
                  <a:lnTo>
                    <a:pt x="1862" y="3692"/>
                  </a:lnTo>
                  <a:lnTo>
                    <a:pt x="1856" y="3770"/>
                  </a:lnTo>
                  <a:lnTo>
                    <a:pt x="1976" y="3782"/>
                  </a:lnTo>
                  <a:lnTo>
                    <a:pt x="2044" y="3684"/>
                  </a:lnTo>
                  <a:lnTo>
                    <a:pt x="2044" y="3684"/>
                  </a:lnTo>
                  <a:lnTo>
                    <a:pt x="1864" y="3554"/>
                  </a:lnTo>
                  <a:lnTo>
                    <a:pt x="1754" y="3472"/>
                  </a:lnTo>
                  <a:lnTo>
                    <a:pt x="1634" y="3380"/>
                  </a:lnTo>
                  <a:lnTo>
                    <a:pt x="1634" y="3380"/>
                  </a:lnTo>
                  <a:lnTo>
                    <a:pt x="1538" y="3306"/>
                  </a:lnTo>
                  <a:lnTo>
                    <a:pt x="1440" y="3228"/>
                  </a:lnTo>
                  <a:lnTo>
                    <a:pt x="1338" y="3146"/>
                  </a:lnTo>
                  <a:lnTo>
                    <a:pt x="1236" y="3062"/>
                  </a:lnTo>
                  <a:lnTo>
                    <a:pt x="1236" y="3062"/>
                  </a:lnTo>
                  <a:lnTo>
                    <a:pt x="1160" y="2996"/>
                  </a:lnTo>
                  <a:lnTo>
                    <a:pt x="1086" y="2932"/>
                  </a:lnTo>
                  <a:lnTo>
                    <a:pt x="1010" y="2864"/>
                  </a:lnTo>
                  <a:lnTo>
                    <a:pt x="938" y="2798"/>
                  </a:lnTo>
                  <a:lnTo>
                    <a:pt x="868" y="2730"/>
                  </a:lnTo>
                  <a:lnTo>
                    <a:pt x="800" y="2662"/>
                  </a:lnTo>
                  <a:lnTo>
                    <a:pt x="734" y="2596"/>
                  </a:lnTo>
                  <a:lnTo>
                    <a:pt x="674" y="2530"/>
                  </a:lnTo>
                  <a:lnTo>
                    <a:pt x="674" y="2530"/>
                  </a:lnTo>
                  <a:lnTo>
                    <a:pt x="616" y="2464"/>
                  </a:lnTo>
                  <a:lnTo>
                    <a:pt x="562" y="2400"/>
                  </a:lnTo>
                  <a:lnTo>
                    <a:pt x="516" y="2338"/>
                  </a:lnTo>
                  <a:lnTo>
                    <a:pt x="474" y="2278"/>
                  </a:lnTo>
                  <a:lnTo>
                    <a:pt x="474" y="2278"/>
                  </a:lnTo>
                  <a:lnTo>
                    <a:pt x="436" y="2220"/>
                  </a:lnTo>
                  <a:lnTo>
                    <a:pt x="408" y="2166"/>
                  </a:lnTo>
                  <a:lnTo>
                    <a:pt x="408" y="2166"/>
                  </a:lnTo>
                  <a:lnTo>
                    <a:pt x="384" y="2116"/>
                  </a:lnTo>
                  <a:lnTo>
                    <a:pt x="376" y="2092"/>
                  </a:lnTo>
                  <a:lnTo>
                    <a:pt x="368" y="2070"/>
                  </a:lnTo>
                  <a:lnTo>
                    <a:pt x="368" y="2070"/>
                  </a:lnTo>
                  <a:lnTo>
                    <a:pt x="336" y="1956"/>
                  </a:lnTo>
                  <a:lnTo>
                    <a:pt x="310" y="1854"/>
                  </a:lnTo>
                  <a:lnTo>
                    <a:pt x="290" y="1764"/>
                  </a:lnTo>
                  <a:lnTo>
                    <a:pt x="274" y="1686"/>
                  </a:lnTo>
                  <a:lnTo>
                    <a:pt x="274" y="1686"/>
                  </a:lnTo>
                  <a:lnTo>
                    <a:pt x="262" y="1616"/>
                  </a:lnTo>
                  <a:lnTo>
                    <a:pt x="256" y="1558"/>
                  </a:lnTo>
                  <a:lnTo>
                    <a:pt x="252" y="1508"/>
                  </a:lnTo>
                  <a:lnTo>
                    <a:pt x="250" y="1464"/>
                  </a:lnTo>
                  <a:lnTo>
                    <a:pt x="250" y="1464"/>
                  </a:lnTo>
                  <a:lnTo>
                    <a:pt x="250" y="1428"/>
                  </a:lnTo>
                  <a:lnTo>
                    <a:pt x="254" y="1396"/>
                  </a:lnTo>
                  <a:lnTo>
                    <a:pt x="254" y="1396"/>
                  </a:lnTo>
                  <a:lnTo>
                    <a:pt x="260" y="1354"/>
                  </a:lnTo>
                  <a:lnTo>
                    <a:pt x="268" y="1314"/>
                  </a:lnTo>
                  <a:lnTo>
                    <a:pt x="268" y="1314"/>
                  </a:lnTo>
                  <a:lnTo>
                    <a:pt x="290" y="1224"/>
                  </a:lnTo>
                  <a:lnTo>
                    <a:pt x="290" y="1224"/>
                  </a:lnTo>
                  <a:lnTo>
                    <a:pt x="292" y="1208"/>
                  </a:lnTo>
                  <a:lnTo>
                    <a:pt x="292" y="1192"/>
                  </a:lnTo>
                  <a:lnTo>
                    <a:pt x="290" y="1178"/>
                  </a:lnTo>
                  <a:lnTo>
                    <a:pt x="288" y="1162"/>
                  </a:lnTo>
                  <a:lnTo>
                    <a:pt x="172" y="1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644400" y="3692520"/>
              <a:ext cx="2787480" cy="4032360"/>
            </a:xfrm>
            <a:custGeom>
              <a:avLst/>
              <a:gdLst>
                <a:gd name="textAreaLeft" fmla="*/ 0 w 2787480"/>
                <a:gd name="textAreaRight" fmla="*/ 2787840 w 2787480"/>
                <a:gd name="textAreaTop" fmla="*/ 0 h 4032360"/>
                <a:gd name="textAreaBottom" fmla="*/ 4032360 h 4032360"/>
              </a:gdLst>
              <a:ahLst/>
              <a:rect l="textAreaLeft" t="textAreaTop" r="textAreaRight" b="textAreaBottom"/>
              <a:pathLst>
                <a:path w="1756" h="2540">
                  <a:moveTo>
                    <a:pt x="38" y="0"/>
                  </a:moveTo>
                  <a:lnTo>
                    <a:pt x="38" y="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28" y="82"/>
                  </a:lnTo>
                  <a:lnTo>
                    <a:pt x="14" y="144"/>
                  </a:lnTo>
                  <a:lnTo>
                    <a:pt x="8" y="178"/>
                  </a:lnTo>
                  <a:lnTo>
                    <a:pt x="4" y="214"/>
                  </a:lnTo>
                  <a:lnTo>
                    <a:pt x="0" y="252"/>
                  </a:lnTo>
                  <a:lnTo>
                    <a:pt x="0" y="298"/>
                  </a:lnTo>
                  <a:lnTo>
                    <a:pt x="2" y="348"/>
                  </a:lnTo>
                  <a:lnTo>
                    <a:pt x="8" y="404"/>
                  </a:lnTo>
                  <a:lnTo>
                    <a:pt x="16" y="466"/>
                  </a:lnTo>
                  <a:lnTo>
                    <a:pt x="28" y="538"/>
                  </a:lnTo>
                  <a:lnTo>
                    <a:pt x="44" y="620"/>
                  </a:lnTo>
                  <a:lnTo>
                    <a:pt x="66" y="710"/>
                  </a:lnTo>
                  <a:lnTo>
                    <a:pt x="92" y="812"/>
                  </a:lnTo>
                  <a:lnTo>
                    <a:pt x="124" y="926"/>
                  </a:lnTo>
                  <a:lnTo>
                    <a:pt x="124" y="926"/>
                  </a:lnTo>
                  <a:lnTo>
                    <a:pt x="140" y="972"/>
                  </a:lnTo>
                  <a:lnTo>
                    <a:pt x="160" y="1022"/>
                  </a:lnTo>
                  <a:lnTo>
                    <a:pt x="186" y="1072"/>
                  </a:lnTo>
                  <a:lnTo>
                    <a:pt x="216" y="1124"/>
                  </a:lnTo>
                  <a:lnTo>
                    <a:pt x="250" y="1176"/>
                  </a:lnTo>
                  <a:lnTo>
                    <a:pt x="288" y="1230"/>
                  </a:lnTo>
                  <a:lnTo>
                    <a:pt x="328" y="1284"/>
                  </a:lnTo>
                  <a:lnTo>
                    <a:pt x="374" y="1340"/>
                  </a:lnTo>
                  <a:lnTo>
                    <a:pt x="422" y="1396"/>
                  </a:lnTo>
                  <a:lnTo>
                    <a:pt x="472" y="1452"/>
                  </a:lnTo>
                  <a:lnTo>
                    <a:pt x="526" y="1508"/>
                  </a:lnTo>
                  <a:lnTo>
                    <a:pt x="582" y="1566"/>
                  </a:lnTo>
                  <a:lnTo>
                    <a:pt x="638" y="1624"/>
                  </a:lnTo>
                  <a:lnTo>
                    <a:pt x="698" y="1680"/>
                  </a:lnTo>
                  <a:lnTo>
                    <a:pt x="820" y="1794"/>
                  </a:lnTo>
                  <a:lnTo>
                    <a:pt x="946" y="1906"/>
                  </a:lnTo>
                  <a:lnTo>
                    <a:pt x="1074" y="2014"/>
                  </a:lnTo>
                  <a:lnTo>
                    <a:pt x="1202" y="2118"/>
                  </a:lnTo>
                  <a:lnTo>
                    <a:pt x="1326" y="2218"/>
                  </a:lnTo>
                  <a:lnTo>
                    <a:pt x="1446" y="2310"/>
                  </a:lnTo>
                  <a:lnTo>
                    <a:pt x="1560" y="2396"/>
                  </a:lnTo>
                  <a:lnTo>
                    <a:pt x="1756" y="2540"/>
                  </a:lnTo>
                  <a:lnTo>
                    <a:pt x="1730" y="2236"/>
                  </a:lnTo>
                  <a:lnTo>
                    <a:pt x="1730" y="2236"/>
                  </a:lnTo>
                  <a:lnTo>
                    <a:pt x="1672" y="2182"/>
                  </a:lnTo>
                  <a:lnTo>
                    <a:pt x="1604" y="2118"/>
                  </a:lnTo>
                  <a:lnTo>
                    <a:pt x="1516" y="2032"/>
                  </a:lnTo>
                  <a:lnTo>
                    <a:pt x="1410" y="1926"/>
                  </a:lnTo>
                  <a:lnTo>
                    <a:pt x="1288" y="1802"/>
                  </a:lnTo>
                  <a:lnTo>
                    <a:pt x="1156" y="1662"/>
                  </a:lnTo>
                  <a:lnTo>
                    <a:pt x="1018" y="1508"/>
                  </a:lnTo>
                  <a:lnTo>
                    <a:pt x="946" y="1426"/>
                  </a:lnTo>
                  <a:lnTo>
                    <a:pt x="874" y="1342"/>
                  </a:lnTo>
                  <a:lnTo>
                    <a:pt x="802" y="1254"/>
                  </a:lnTo>
                  <a:lnTo>
                    <a:pt x="732" y="1166"/>
                  </a:lnTo>
                  <a:lnTo>
                    <a:pt x="660" y="1076"/>
                  </a:lnTo>
                  <a:lnTo>
                    <a:pt x="590" y="984"/>
                  </a:lnTo>
                  <a:lnTo>
                    <a:pt x="522" y="890"/>
                  </a:lnTo>
                  <a:lnTo>
                    <a:pt x="456" y="794"/>
                  </a:lnTo>
                  <a:lnTo>
                    <a:pt x="392" y="698"/>
                  </a:lnTo>
                  <a:lnTo>
                    <a:pt x="330" y="602"/>
                  </a:lnTo>
                  <a:lnTo>
                    <a:pt x="272" y="506"/>
                  </a:lnTo>
                  <a:lnTo>
                    <a:pt x="218" y="410"/>
                  </a:lnTo>
                  <a:lnTo>
                    <a:pt x="168" y="312"/>
                  </a:lnTo>
                  <a:lnTo>
                    <a:pt x="124" y="216"/>
                  </a:lnTo>
                  <a:lnTo>
                    <a:pt x="82" y="120"/>
                  </a:lnTo>
                  <a:lnTo>
                    <a:pt x="64" y="74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a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453960" y="3502080"/>
              <a:ext cx="3168720" cy="4413240"/>
            </a:xfrm>
            <a:custGeom>
              <a:avLst/>
              <a:gdLst>
                <a:gd name="textAreaLeft" fmla="*/ 0 w 3168720"/>
                <a:gd name="textAreaRight" fmla="*/ 3169080 w 3168720"/>
                <a:gd name="textAreaTop" fmla="*/ 0 h 4413240"/>
                <a:gd name="textAreaBottom" fmla="*/ 4413600 h 4413240"/>
              </a:gdLst>
              <a:ahLst/>
              <a:rect l="textAreaLeft" t="textAreaTop" r="textAreaRight" b="textAreaBottom"/>
              <a:pathLst>
                <a:path w="1996" h="2780">
                  <a:moveTo>
                    <a:pt x="158" y="120"/>
                  </a:moveTo>
                  <a:lnTo>
                    <a:pt x="42" y="154"/>
                  </a:lnTo>
                  <a:lnTo>
                    <a:pt x="54" y="150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54" y="150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4" y="160"/>
                  </a:lnTo>
                  <a:lnTo>
                    <a:pt x="44" y="160"/>
                  </a:lnTo>
                  <a:lnTo>
                    <a:pt x="48" y="176"/>
                  </a:lnTo>
                  <a:lnTo>
                    <a:pt x="162" y="140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32" y="172"/>
                  </a:lnTo>
                  <a:lnTo>
                    <a:pt x="32" y="172"/>
                  </a:lnTo>
                  <a:lnTo>
                    <a:pt x="20" y="218"/>
                  </a:lnTo>
                  <a:lnTo>
                    <a:pt x="10" y="272"/>
                  </a:lnTo>
                  <a:lnTo>
                    <a:pt x="10" y="272"/>
                  </a:lnTo>
                  <a:lnTo>
                    <a:pt x="6" y="302"/>
                  </a:lnTo>
                  <a:lnTo>
                    <a:pt x="2" y="334"/>
                  </a:lnTo>
                  <a:lnTo>
                    <a:pt x="0" y="368"/>
                  </a:lnTo>
                  <a:lnTo>
                    <a:pt x="0" y="406"/>
                  </a:lnTo>
                  <a:lnTo>
                    <a:pt x="0" y="406"/>
                  </a:lnTo>
                  <a:lnTo>
                    <a:pt x="2" y="462"/>
                  </a:lnTo>
                  <a:lnTo>
                    <a:pt x="6" y="524"/>
                  </a:lnTo>
                  <a:lnTo>
                    <a:pt x="16" y="594"/>
                  </a:lnTo>
                  <a:lnTo>
                    <a:pt x="28" y="670"/>
                  </a:lnTo>
                  <a:lnTo>
                    <a:pt x="28" y="670"/>
                  </a:lnTo>
                  <a:lnTo>
                    <a:pt x="46" y="756"/>
                  </a:lnTo>
                  <a:lnTo>
                    <a:pt x="68" y="852"/>
                  </a:lnTo>
                  <a:lnTo>
                    <a:pt x="94" y="960"/>
                  </a:lnTo>
                  <a:lnTo>
                    <a:pt x="128" y="1078"/>
                  </a:lnTo>
                  <a:lnTo>
                    <a:pt x="128" y="1078"/>
                  </a:lnTo>
                  <a:lnTo>
                    <a:pt x="128" y="1078"/>
                  </a:lnTo>
                  <a:lnTo>
                    <a:pt x="136" y="1108"/>
                  </a:lnTo>
                  <a:lnTo>
                    <a:pt x="148" y="1136"/>
                  </a:lnTo>
                  <a:lnTo>
                    <a:pt x="172" y="1192"/>
                  </a:lnTo>
                  <a:lnTo>
                    <a:pt x="200" y="1250"/>
                  </a:lnTo>
                  <a:lnTo>
                    <a:pt x="234" y="1306"/>
                  </a:lnTo>
                  <a:lnTo>
                    <a:pt x="234" y="1306"/>
                  </a:lnTo>
                  <a:lnTo>
                    <a:pt x="266" y="1356"/>
                  </a:lnTo>
                  <a:lnTo>
                    <a:pt x="300" y="1406"/>
                  </a:lnTo>
                  <a:lnTo>
                    <a:pt x="338" y="1456"/>
                  </a:lnTo>
                  <a:lnTo>
                    <a:pt x="378" y="1508"/>
                  </a:lnTo>
                  <a:lnTo>
                    <a:pt x="378" y="1508"/>
                  </a:lnTo>
                  <a:lnTo>
                    <a:pt x="454" y="1596"/>
                  </a:lnTo>
                  <a:lnTo>
                    <a:pt x="534" y="1686"/>
                  </a:lnTo>
                  <a:lnTo>
                    <a:pt x="622" y="1776"/>
                  </a:lnTo>
                  <a:lnTo>
                    <a:pt x="712" y="1866"/>
                  </a:lnTo>
                  <a:lnTo>
                    <a:pt x="712" y="1866"/>
                  </a:lnTo>
                  <a:lnTo>
                    <a:pt x="784" y="1932"/>
                  </a:lnTo>
                  <a:lnTo>
                    <a:pt x="856" y="1998"/>
                  </a:lnTo>
                  <a:lnTo>
                    <a:pt x="928" y="2064"/>
                  </a:lnTo>
                  <a:lnTo>
                    <a:pt x="1002" y="2128"/>
                  </a:lnTo>
                  <a:lnTo>
                    <a:pt x="1152" y="2254"/>
                  </a:lnTo>
                  <a:lnTo>
                    <a:pt x="1298" y="2372"/>
                  </a:lnTo>
                  <a:lnTo>
                    <a:pt x="1298" y="2372"/>
                  </a:lnTo>
                  <a:lnTo>
                    <a:pt x="1440" y="2484"/>
                  </a:lnTo>
                  <a:lnTo>
                    <a:pt x="1574" y="2588"/>
                  </a:lnTo>
                  <a:lnTo>
                    <a:pt x="1698" y="2678"/>
                  </a:lnTo>
                  <a:lnTo>
                    <a:pt x="1806" y="2758"/>
                  </a:lnTo>
                  <a:lnTo>
                    <a:pt x="1806" y="2758"/>
                  </a:lnTo>
                  <a:lnTo>
                    <a:pt x="1820" y="2766"/>
                  </a:lnTo>
                  <a:lnTo>
                    <a:pt x="1836" y="2774"/>
                  </a:lnTo>
                  <a:lnTo>
                    <a:pt x="1852" y="2778"/>
                  </a:lnTo>
                  <a:lnTo>
                    <a:pt x="1870" y="2780"/>
                  </a:lnTo>
                  <a:lnTo>
                    <a:pt x="1886" y="2780"/>
                  </a:lnTo>
                  <a:lnTo>
                    <a:pt x="1902" y="2778"/>
                  </a:lnTo>
                  <a:lnTo>
                    <a:pt x="1920" y="2772"/>
                  </a:lnTo>
                  <a:lnTo>
                    <a:pt x="1936" y="2764"/>
                  </a:lnTo>
                  <a:lnTo>
                    <a:pt x="1936" y="2764"/>
                  </a:lnTo>
                  <a:lnTo>
                    <a:pt x="1950" y="2756"/>
                  </a:lnTo>
                  <a:lnTo>
                    <a:pt x="1962" y="2744"/>
                  </a:lnTo>
                  <a:lnTo>
                    <a:pt x="1974" y="2730"/>
                  </a:lnTo>
                  <a:lnTo>
                    <a:pt x="1982" y="2716"/>
                  </a:lnTo>
                  <a:lnTo>
                    <a:pt x="1990" y="2702"/>
                  </a:lnTo>
                  <a:lnTo>
                    <a:pt x="1994" y="2684"/>
                  </a:lnTo>
                  <a:lnTo>
                    <a:pt x="1996" y="2668"/>
                  </a:lnTo>
                  <a:lnTo>
                    <a:pt x="1996" y="2650"/>
                  </a:lnTo>
                  <a:lnTo>
                    <a:pt x="1970" y="2346"/>
                  </a:lnTo>
                  <a:lnTo>
                    <a:pt x="1970" y="2346"/>
                  </a:lnTo>
                  <a:lnTo>
                    <a:pt x="1966" y="2324"/>
                  </a:lnTo>
                  <a:lnTo>
                    <a:pt x="1958" y="2304"/>
                  </a:lnTo>
                  <a:lnTo>
                    <a:pt x="1946" y="2284"/>
                  </a:lnTo>
                  <a:lnTo>
                    <a:pt x="1930" y="2268"/>
                  </a:lnTo>
                  <a:lnTo>
                    <a:pt x="1930" y="2268"/>
                  </a:lnTo>
                  <a:lnTo>
                    <a:pt x="1930" y="2268"/>
                  </a:lnTo>
                  <a:lnTo>
                    <a:pt x="1872" y="2212"/>
                  </a:lnTo>
                  <a:lnTo>
                    <a:pt x="1804" y="2148"/>
                  </a:lnTo>
                  <a:lnTo>
                    <a:pt x="1716" y="2062"/>
                  </a:lnTo>
                  <a:lnTo>
                    <a:pt x="1610" y="1956"/>
                  </a:lnTo>
                  <a:lnTo>
                    <a:pt x="1490" y="1834"/>
                  </a:lnTo>
                  <a:lnTo>
                    <a:pt x="1360" y="1694"/>
                  </a:lnTo>
                  <a:lnTo>
                    <a:pt x="1224" y="1542"/>
                  </a:lnTo>
                  <a:lnTo>
                    <a:pt x="1224" y="1542"/>
                  </a:lnTo>
                  <a:lnTo>
                    <a:pt x="1154" y="1462"/>
                  </a:lnTo>
                  <a:lnTo>
                    <a:pt x="1082" y="1380"/>
                  </a:lnTo>
                  <a:lnTo>
                    <a:pt x="1012" y="1294"/>
                  </a:lnTo>
                  <a:lnTo>
                    <a:pt x="942" y="1208"/>
                  </a:lnTo>
                  <a:lnTo>
                    <a:pt x="872" y="1118"/>
                  </a:lnTo>
                  <a:lnTo>
                    <a:pt x="804" y="1028"/>
                  </a:lnTo>
                  <a:lnTo>
                    <a:pt x="738" y="936"/>
                  </a:lnTo>
                  <a:lnTo>
                    <a:pt x="672" y="844"/>
                  </a:lnTo>
                  <a:lnTo>
                    <a:pt x="672" y="844"/>
                  </a:lnTo>
                  <a:lnTo>
                    <a:pt x="610" y="750"/>
                  </a:lnTo>
                  <a:lnTo>
                    <a:pt x="552" y="658"/>
                  </a:lnTo>
                  <a:lnTo>
                    <a:pt x="496" y="564"/>
                  </a:lnTo>
                  <a:lnTo>
                    <a:pt x="444" y="470"/>
                  </a:lnTo>
                  <a:lnTo>
                    <a:pt x="444" y="470"/>
                  </a:lnTo>
                  <a:lnTo>
                    <a:pt x="396" y="378"/>
                  </a:lnTo>
                  <a:lnTo>
                    <a:pt x="352" y="286"/>
                  </a:lnTo>
                  <a:lnTo>
                    <a:pt x="314" y="196"/>
                  </a:lnTo>
                  <a:lnTo>
                    <a:pt x="280" y="108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68" y="74"/>
                  </a:lnTo>
                  <a:lnTo>
                    <a:pt x="268" y="74"/>
                  </a:lnTo>
                  <a:lnTo>
                    <a:pt x="256" y="52"/>
                  </a:lnTo>
                  <a:lnTo>
                    <a:pt x="242" y="34"/>
                  </a:lnTo>
                  <a:lnTo>
                    <a:pt x="226" y="20"/>
                  </a:lnTo>
                  <a:lnTo>
                    <a:pt x="206" y="10"/>
                  </a:lnTo>
                  <a:lnTo>
                    <a:pt x="184" y="2"/>
                  </a:lnTo>
                  <a:lnTo>
                    <a:pt x="162" y="0"/>
                  </a:lnTo>
                  <a:lnTo>
                    <a:pt x="140" y="2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96" y="16"/>
                  </a:lnTo>
                  <a:lnTo>
                    <a:pt x="78" y="30"/>
                  </a:lnTo>
                  <a:lnTo>
                    <a:pt x="62" y="46"/>
                  </a:lnTo>
                  <a:lnTo>
                    <a:pt x="50" y="66"/>
                  </a:lnTo>
                  <a:lnTo>
                    <a:pt x="42" y="86"/>
                  </a:lnTo>
                  <a:lnTo>
                    <a:pt x="38" y="108"/>
                  </a:lnTo>
                  <a:lnTo>
                    <a:pt x="38" y="130"/>
                  </a:lnTo>
                  <a:lnTo>
                    <a:pt x="42" y="154"/>
                  </a:lnTo>
                  <a:lnTo>
                    <a:pt x="158" y="120"/>
                  </a:lnTo>
                  <a:lnTo>
                    <a:pt x="46" y="166"/>
                  </a:lnTo>
                  <a:lnTo>
                    <a:pt x="46" y="166"/>
                  </a:lnTo>
                  <a:lnTo>
                    <a:pt x="54" y="186"/>
                  </a:lnTo>
                  <a:lnTo>
                    <a:pt x="54" y="186"/>
                  </a:lnTo>
                  <a:lnTo>
                    <a:pt x="54" y="186"/>
                  </a:lnTo>
                  <a:lnTo>
                    <a:pt x="72" y="236"/>
                  </a:lnTo>
                  <a:lnTo>
                    <a:pt x="92" y="286"/>
                  </a:lnTo>
                  <a:lnTo>
                    <a:pt x="134" y="386"/>
                  </a:lnTo>
                  <a:lnTo>
                    <a:pt x="182" y="486"/>
                  </a:lnTo>
                  <a:lnTo>
                    <a:pt x="234" y="586"/>
                  </a:lnTo>
                  <a:lnTo>
                    <a:pt x="234" y="586"/>
                  </a:lnTo>
                  <a:lnTo>
                    <a:pt x="282" y="674"/>
                  </a:lnTo>
                  <a:lnTo>
                    <a:pt x="334" y="760"/>
                  </a:lnTo>
                  <a:lnTo>
                    <a:pt x="388" y="848"/>
                  </a:lnTo>
                  <a:lnTo>
                    <a:pt x="444" y="934"/>
                  </a:lnTo>
                  <a:lnTo>
                    <a:pt x="502" y="1018"/>
                  </a:lnTo>
                  <a:lnTo>
                    <a:pt x="562" y="1104"/>
                  </a:lnTo>
                  <a:lnTo>
                    <a:pt x="622" y="1186"/>
                  </a:lnTo>
                  <a:lnTo>
                    <a:pt x="686" y="1268"/>
                  </a:lnTo>
                  <a:lnTo>
                    <a:pt x="686" y="1268"/>
                  </a:lnTo>
                  <a:lnTo>
                    <a:pt x="780" y="1390"/>
                  </a:lnTo>
                  <a:lnTo>
                    <a:pt x="876" y="1506"/>
                  </a:lnTo>
                  <a:lnTo>
                    <a:pt x="972" y="1620"/>
                  </a:lnTo>
                  <a:lnTo>
                    <a:pt x="1066" y="1728"/>
                  </a:lnTo>
                  <a:lnTo>
                    <a:pt x="1158" y="1830"/>
                  </a:lnTo>
                  <a:lnTo>
                    <a:pt x="1248" y="1926"/>
                  </a:lnTo>
                  <a:lnTo>
                    <a:pt x="1334" y="2018"/>
                  </a:lnTo>
                  <a:lnTo>
                    <a:pt x="1414" y="2100"/>
                  </a:lnTo>
                  <a:lnTo>
                    <a:pt x="1414" y="2100"/>
                  </a:lnTo>
                  <a:lnTo>
                    <a:pt x="1558" y="2244"/>
                  </a:lnTo>
                  <a:lnTo>
                    <a:pt x="1670" y="2352"/>
                  </a:lnTo>
                  <a:lnTo>
                    <a:pt x="1742" y="2422"/>
                  </a:lnTo>
                  <a:lnTo>
                    <a:pt x="1770" y="2446"/>
                  </a:lnTo>
                  <a:lnTo>
                    <a:pt x="1850" y="2356"/>
                  </a:lnTo>
                  <a:lnTo>
                    <a:pt x="1730" y="2366"/>
                  </a:lnTo>
                  <a:lnTo>
                    <a:pt x="1756" y="2670"/>
                  </a:lnTo>
                  <a:lnTo>
                    <a:pt x="1876" y="2660"/>
                  </a:lnTo>
                  <a:lnTo>
                    <a:pt x="1946" y="2564"/>
                  </a:lnTo>
                  <a:lnTo>
                    <a:pt x="1946" y="2564"/>
                  </a:lnTo>
                  <a:lnTo>
                    <a:pt x="1752" y="2420"/>
                  </a:lnTo>
                  <a:lnTo>
                    <a:pt x="1640" y="2336"/>
                  </a:lnTo>
                  <a:lnTo>
                    <a:pt x="1522" y="2244"/>
                  </a:lnTo>
                  <a:lnTo>
                    <a:pt x="1522" y="2244"/>
                  </a:lnTo>
                  <a:lnTo>
                    <a:pt x="1428" y="2170"/>
                  </a:lnTo>
                  <a:lnTo>
                    <a:pt x="1334" y="2094"/>
                  </a:lnTo>
                  <a:lnTo>
                    <a:pt x="1240" y="2016"/>
                  </a:lnTo>
                  <a:lnTo>
                    <a:pt x="1146" y="1934"/>
                  </a:lnTo>
                  <a:lnTo>
                    <a:pt x="1146" y="1934"/>
                  </a:lnTo>
                  <a:lnTo>
                    <a:pt x="1006" y="1810"/>
                  </a:lnTo>
                  <a:lnTo>
                    <a:pt x="938" y="1748"/>
                  </a:lnTo>
                  <a:lnTo>
                    <a:pt x="872" y="1686"/>
                  </a:lnTo>
                  <a:lnTo>
                    <a:pt x="808" y="1622"/>
                  </a:lnTo>
                  <a:lnTo>
                    <a:pt x="746" y="1560"/>
                  </a:lnTo>
                  <a:lnTo>
                    <a:pt x="688" y="1498"/>
                  </a:lnTo>
                  <a:lnTo>
                    <a:pt x="632" y="1436"/>
                  </a:lnTo>
                  <a:lnTo>
                    <a:pt x="632" y="1436"/>
                  </a:lnTo>
                  <a:lnTo>
                    <a:pt x="580" y="1376"/>
                  </a:lnTo>
                  <a:lnTo>
                    <a:pt x="534" y="1316"/>
                  </a:lnTo>
                  <a:lnTo>
                    <a:pt x="490" y="1260"/>
                  </a:lnTo>
                  <a:lnTo>
                    <a:pt x="452" y="1204"/>
                  </a:lnTo>
                  <a:lnTo>
                    <a:pt x="452" y="1204"/>
                  </a:lnTo>
                  <a:lnTo>
                    <a:pt x="420" y="1152"/>
                  </a:lnTo>
                  <a:lnTo>
                    <a:pt x="394" y="1102"/>
                  </a:lnTo>
                  <a:lnTo>
                    <a:pt x="394" y="1102"/>
                  </a:lnTo>
                  <a:lnTo>
                    <a:pt x="374" y="1054"/>
                  </a:lnTo>
                  <a:lnTo>
                    <a:pt x="358" y="1012"/>
                  </a:lnTo>
                  <a:lnTo>
                    <a:pt x="358" y="1012"/>
                  </a:lnTo>
                  <a:lnTo>
                    <a:pt x="326" y="898"/>
                  </a:lnTo>
                  <a:lnTo>
                    <a:pt x="300" y="796"/>
                  </a:lnTo>
                  <a:lnTo>
                    <a:pt x="280" y="706"/>
                  </a:lnTo>
                  <a:lnTo>
                    <a:pt x="264" y="628"/>
                  </a:lnTo>
                  <a:lnTo>
                    <a:pt x="264" y="628"/>
                  </a:lnTo>
                  <a:lnTo>
                    <a:pt x="252" y="558"/>
                  </a:lnTo>
                  <a:lnTo>
                    <a:pt x="246" y="500"/>
                  </a:lnTo>
                  <a:lnTo>
                    <a:pt x="242" y="450"/>
                  </a:lnTo>
                  <a:lnTo>
                    <a:pt x="240" y="406"/>
                  </a:lnTo>
                  <a:lnTo>
                    <a:pt x="240" y="406"/>
                  </a:lnTo>
                  <a:lnTo>
                    <a:pt x="240" y="370"/>
                  </a:lnTo>
                  <a:lnTo>
                    <a:pt x="244" y="338"/>
                  </a:lnTo>
                  <a:lnTo>
                    <a:pt x="244" y="338"/>
                  </a:lnTo>
                  <a:lnTo>
                    <a:pt x="250" y="296"/>
                  </a:lnTo>
                  <a:lnTo>
                    <a:pt x="258" y="256"/>
                  </a:lnTo>
                  <a:lnTo>
                    <a:pt x="258" y="256"/>
                  </a:lnTo>
                  <a:lnTo>
                    <a:pt x="280" y="166"/>
                  </a:lnTo>
                  <a:lnTo>
                    <a:pt x="280" y="166"/>
                  </a:lnTo>
                  <a:lnTo>
                    <a:pt x="282" y="150"/>
                  </a:lnTo>
                  <a:lnTo>
                    <a:pt x="282" y="134"/>
                  </a:lnTo>
                  <a:lnTo>
                    <a:pt x="280" y="120"/>
                  </a:lnTo>
                  <a:lnTo>
                    <a:pt x="278" y="104"/>
                  </a:lnTo>
                  <a:lnTo>
                    <a:pt x="262" y="110"/>
                  </a:lnTo>
                  <a:lnTo>
                    <a:pt x="278" y="106"/>
                  </a:lnTo>
                  <a:lnTo>
                    <a:pt x="278" y="104"/>
                  </a:lnTo>
                  <a:lnTo>
                    <a:pt x="262" y="110"/>
                  </a:lnTo>
                  <a:lnTo>
                    <a:pt x="278" y="106"/>
                  </a:lnTo>
                  <a:lnTo>
                    <a:pt x="278" y="106"/>
                  </a:lnTo>
                  <a:lnTo>
                    <a:pt x="278" y="104"/>
                  </a:lnTo>
                  <a:lnTo>
                    <a:pt x="278" y="104"/>
                  </a:lnTo>
                  <a:lnTo>
                    <a:pt x="272" y="86"/>
                  </a:lnTo>
                  <a:lnTo>
                    <a:pt x="158" y="120"/>
                  </a:lnTo>
                  <a:lnTo>
                    <a:pt x="46" y="166"/>
                  </a:lnTo>
                  <a:lnTo>
                    <a:pt x="158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62"/>
            <p:cNvSpPr/>
            <p:nvPr/>
          </p:nvSpPr>
          <p:spPr>
            <a:xfrm>
              <a:off x="3305160" y="6353280"/>
              <a:ext cx="2352600" cy="1619280"/>
            </a:xfrm>
            <a:custGeom>
              <a:avLst/>
              <a:gdLst>
                <a:gd name="textAreaLeft" fmla="*/ 0 w 2352600"/>
                <a:gd name="textAreaRight" fmla="*/ 2352960 w 2352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482" h="1020">
                  <a:moveTo>
                    <a:pt x="1482" y="572"/>
                  </a:moveTo>
                  <a:lnTo>
                    <a:pt x="1482" y="572"/>
                  </a:lnTo>
                  <a:lnTo>
                    <a:pt x="1470" y="524"/>
                  </a:lnTo>
                  <a:lnTo>
                    <a:pt x="1454" y="470"/>
                  </a:lnTo>
                  <a:lnTo>
                    <a:pt x="1434" y="418"/>
                  </a:lnTo>
                  <a:lnTo>
                    <a:pt x="1410" y="362"/>
                  </a:lnTo>
                  <a:lnTo>
                    <a:pt x="1396" y="336"/>
                  </a:lnTo>
                  <a:lnTo>
                    <a:pt x="1380" y="308"/>
                  </a:lnTo>
                  <a:lnTo>
                    <a:pt x="1364" y="282"/>
                  </a:lnTo>
                  <a:lnTo>
                    <a:pt x="1346" y="256"/>
                  </a:lnTo>
                  <a:lnTo>
                    <a:pt x="1326" y="230"/>
                  </a:lnTo>
                  <a:lnTo>
                    <a:pt x="1304" y="206"/>
                  </a:lnTo>
                  <a:lnTo>
                    <a:pt x="1282" y="182"/>
                  </a:lnTo>
                  <a:lnTo>
                    <a:pt x="1258" y="158"/>
                  </a:lnTo>
                  <a:lnTo>
                    <a:pt x="1232" y="136"/>
                  </a:lnTo>
                  <a:lnTo>
                    <a:pt x="1204" y="116"/>
                  </a:lnTo>
                  <a:lnTo>
                    <a:pt x="1176" y="96"/>
                  </a:lnTo>
                  <a:lnTo>
                    <a:pt x="1144" y="78"/>
                  </a:lnTo>
                  <a:lnTo>
                    <a:pt x="1112" y="62"/>
                  </a:lnTo>
                  <a:lnTo>
                    <a:pt x="1078" y="46"/>
                  </a:lnTo>
                  <a:lnTo>
                    <a:pt x="1040" y="34"/>
                  </a:lnTo>
                  <a:lnTo>
                    <a:pt x="1002" y="22"/>
                  </a:lnTo>
                  <a:lnTo>
                    <a:pt x="962" y="14"/>
                  </a:lnTo>
                  <a:lnTo>
                    <a:pt x="918" y="6"/>
                  </a:lnTo>
                  <a:lnTo>
                    <a:pt x="874" y="2"/>
                  </a:lnTo>
                  <a:lnTo>
                    <a:pt x="826" y="0"/>
                  </a:lnTo>
                  <a:lnTo>
                    <a:pt x="778" y="0"/>
                  </a:lnTo>
                  <a:lnTo>
                    <a:pt x="726" y="4"/>
                  </a:lnTo>
                  <a:lnTo>
                    <a:pt x="672" y="8"/>
                  </a:lnTo>
                  <a:lnTo>
                    <a:pt x="616" y="18"/>
                  </a:lnTo>
                  <a:lnTo>
                    <a:pt x="616" y="18"/>
                  </a:lnTo>
                  <a:lnTo>
                    <a:pt x="556" y="30"/>
                  </a:lnTo>
                  <a:lnTo>
                    <a:pt x="500" y="44"/>
                  </a:lnTo>
                  <a:lnTo>
                    <a:pt x="448" y="58"/>
                  </a:lnTo>
                  <a:lnTo>
                    <a:pt x="400" y="76"/>
                  </a:lnTo>
                  <a:lnTo>
                    <a:pt x="354" y="94"/>
                  </a:lnTo>
                  <a:lnTo>
                    <a:pt x="312" y="114"/>
                  </a:lnTo>
                  <a:lnTo>
                    <a:pt x="274" y="136"/>
                  </a:lnTo>
                  <a:lnTo>
                    <a:pt x="238" y="160"/>
                  </a:lnTo>
                  <a:lnTo>
                    <a:pt x="206" y="184"/>
                  </a:lnTo>
                  <a:lnTo>
                    <a:pt x="176" y="208"/>
                  </a:lnTo>
                  <a:lnTo>
                    <a:pt x="150" y="234"/>
                  </a:lnTo>
                  <a:lnTo>
                    <a:pt x="126" y="262"/>
                  </a:lnTo>
                  <a:lnTo>
                    <a:pt x="104" y="288"/>
                  </a:lnTo>
                  <a:lnTo>
                    <a:pt x="84" y="318"/>
                  </a:lnTo>
                  <a:lnTo>
                    <a:pt x="68" y="346"/>
                  </a:lnTo>
                  <a:lnTo>
                    <a:pt x="52" y="376"/>
                  </a:lnTo>
                  <a:lnTo>
                    <a:pt x="40" y="404"/>
                  </a:lnTo>
                  <a:lnTo>
                    <a:pt x="28" y="434"/>
                  </a:lnTo>
                  <a:lnTo>
                    <a:pt x="20" y="464"/>
                  </a:lnTo>
                  <a:lnTo>
                    <a:pt x="12" y="494"/>
                  </a:lnTo>
                  <a:lnTo>
                    <a:pt x="8" y="524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0" y="670"/>
                  </a:lnTo>
                  <a:lnTo>
                    <a:pt x="4" y="724"/>
                  </a:lnTo>
                  <a:lnTo>
                    <a:pt x="12" y="774"/>
                  </a:lnTo>
                  <a:lnTo>
                    <a:pt x="20" y="822"/>
                  </a:lnTo>
                  <a:lnTo>
                    <a:pt x="20" y="822"/>
                  </a:lnTo>
                  <a:lnTo>
                    <a:pt x="136" y="904"/>
                  </a:lnTo>
                  <a:lnTo>
                    <a:pt x="224" y="968"/>
                  </a:lnTo>
                  <a:lnTo>
                    <a:pt x="302" y="1020"/>
                  </a:lnTo>
                  <a:lnTo>
                    <a:pt x="1244" y="814"/>
                  </a:lnTo>
                  <a:lnTo>
                    <a:pt x="1244" y="814"/>
                  </a:lnTo>
                  <a:lnTo>
                    <a:pt x="1310" y="748"/>
                  </a:lnTo>
                  <a:lnTo>
                    <a:pt x="1386" y="672"/>
                  </a:lnTo>
                  <a:lnTo>
                    <a:pt x="1482" y="572"/>
                  </a:lnTo>
                  <a:lnTo>
                    <a:pt x="1482" y="572"/>
                  </a:lnTo>
                  <a:close/>
                </a:path>
              </a:pathLst>
            </a:custGeom>
            <a:solidFill>
              <a:srgbClr val="868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63"/>
            <p:cNvSpPr/>
            <p:nvPr/>
          </p:nvSpPr>
          <p:spPr>
            <a:xfrm>
              <a:off x="3111480" y="6162840"/>
              <a:ext cx="2736720" cy="2000160"/>
            </a:xfrm>
            <a:custGeom>
              <a:avLst/>
              <a:gdLst>
                <a:gd name="textAreaLeft" fmla="*/ 0 w 2736720"/>
                <a:gd name="textAreaRight" fmla="*/ 2736720 w 27367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1724" h="1260">
                  <a:moveTo>
                    <a:pt x="1604" y="692"/>
                  </a:moveTo>
                  <a:lnTo>
                    <a:pt x="1722" y="668"/>
                  </a:lnTo>
                  <a:lnTo>
                    <a:pt x="1722" y="668"/>
                  </a:lnTo>
                  <a:lnTo>
                    <a:pt x="1710" y="618"/>
                  </a:lnTo>
                  <a:lnTo>
                    <a:pt x="1694" y="566"/>
                  </a:lnTo>
                  <a:lnTo>
                    <a:pt x="1676" y="512"/>
                  </a:lnTo>
                  <a:lnTo>
                    <a:pt x="1652" y="458"/>
                  </a:lnTo>
                  <a:lnTo>
                    <a:pt x="1652" y="458"/>
                  </a:lnTo>
                  <a:lnTo>
                    <a:pt x="1632" y="416"/>
                  </a:lnTo>
                  <a:lnTo>
                    <a:pt x="1610" y="376"/>
                  </a:lnTo>
                  <a:lnTo>
                    <a:pt x="1584" y="334"/>
                  </a:lnTo>
                  <a:lnTo>
                    <a:pt x="1556" y="294"/>
                  </a:lnTo>
                  <a:lnTo>
                    <a:pt x="1556" y="294"/>
                  </a:lnTo>
                  <a:lnTo>
                    <a:pt x="1532" y="264"/>
                  </a:lnTo>
                  <a:lnTo>
                    <a:pt x="1506" y="234"/>
                  </a:lnTo>
                  <a:lnTo>
                    <a:pt x="1478" y="206"/>
                  </a:lnTo>
                  <a:lnTo>
                    <a:pt x="1448" y="178"/>
                  </a:lnTo>
                  <a:lnTo>
                    <a:pt x="1448" y="178"/>
                  </a:lnTo>
                  <a:lnTo>
                    <a:pt x="1424" y="160"/>
                  </a:lnTo>
                  <a:lnTo>
                    <a:pt x="1400" y="140"/>
                  </a:lnTo>
                  <a:lnTo>
                    <a:pt x="1374" y="122"/>
                  </a:lnTo>
                  <a:lnTo>
                    <a:pt x="1348" y="106"/>
                  </a:lnTo>
                  <a:lnTo>
                    <a:pt x="1318" y="90"/>
                  </a:lnTo>
                  <a:lnTo>
                    <a:pt x="1290" y="74"/>
                  </a:lnTo>
                  <a:lnTo>
                    <a:pt x="1258" y="62"/>
                  </a:lnTo>
                  <a:lnTo>
                    <a:pt x="1226" y="48"/>
                  </a:lnTo>
                  <a:lnTo>
                    <a:pt x="1226" y="48"/>
                  </a:lnTo>
                  <a:lnTo>
                    <a:pt x="1194" y="38"/>
                  </a:lnTo>
                  <a:lnTo>
                    <a:pt x="1160" y="28"/>
                  </a:lnTo>
                  <a:lnTo>
                    <a:pt x="1124" y="20"/>
                  </a:lnTo>
                  <a:lnTo>
                    <a:pt x="1088" y="12"/>
                  </a:lnTo>
                  <a:lnTo>
                    <a:pt x="1050" y="6"/>
                  </a:lnTo>
                  <a:lnTo>
                    <a:pt x="1012" y="2"/>
                  </a:lnTo>
                  <a:lnTo>
                    <a:pt x="972" y="0"/>
                  </a:lnTo>
                  <a:lnTo>
                    <a:pt x="930" y="0"/>
                  </a:lnTo>
                  <a:lnTo>
                    <a:pt x="930" y="0"/>
                  </a:lnTo>
                  <a:lnTo>
                    <a:pt x="880" y="0"/>
                  </a:lnTo>
                  <a:lnTo>
                    <a:pt x="828" y="4"/>
                  </a:lnTo>
                  <a:lnTo>
                    <a:pt x="772" y="10"/>
                  </a:lnTo>
                  <a:lnTo>
                    <a:pt x="716" y="20"/>
                  </a:lnTo>
                  <a:lnTo>
                    <a:pt x="716" y="20"/>
                  </a:lnTo>
                  <a:lnTo>
                    <a:pt x="666" y="30"/>
                  </a:lnTo>
                  <a:lnTo>
                    <a:pt x="618" y="40"/>
                  </a:lnTo>
                  <a:lnTo>
                    <a:pt x="572" y="52"/>
                  </a:lnTo>
                  <a:lnTo>
                    <a:pt x="528" y="66"/>
                  </a:lnTo>
                  <a:lnTo>
                    <a:pt x="486" y="82"/>
                  </a:lnTo>
                  <a:lnTo>
                    <a:pt x="446" y="98"/>
                  </a:lnTo>
                  <a:lnTo>
                    <a:pt x="408" y="114"/>
                  </a:lnTo>
                  <a:lnTo>
                    <a:pt x="372" y="132"/>
                  </a:lnTo>
                  <a:lnTo>
                    <a:pt x="372" y="132"/>
                  </a:lnTo>
                  <a:lnTo>
                    <a:pt x="320" y="162"/>
                  </a:lnTo>
                  <a:lnTo>
                    <a:pt x="274" y="194"/>
                  </a:lnTo>
                  <a:lnTo>
                    <a:pt x="230" y="228"/>
                  </a:lnTo>
                  <a:lnTo>
                    <a:pt x="192" y="264"/>
                  </a:lnTo>
                  <a:lnTo>
                    <a:pt x="192" y="264"/>
                  </a:lnTo>
                  <a:lnTo>
                    <a:pt x="164" y="292"/>
                  </a:lnTo>
                  <a:lnTo>
                    <a:pt x="140" y="322"/>
                  </a:lnTo>
                  <a:lnTo>
                    <a:pt x="118" y="352"/>
                  </a:lnTo>
                  <a:lnTo>
                    <a:pt x="98" y="382"/>
                  </a:lnTo>
                  <a:lnTo>
                    <a:pt x="98" y="382"/>
                  </a:lnTo>
                  <a:lnTo>
                    <a:pt x="74" y="428"/>
                  </a:lnTo>
                  <a:lnTo>
                    <a:pt x="52" y="476"/>
                  </a:lnTo>
                  <a:lnTo>
                    <a:pt x="34" y="524"/>
                  </a:lnTo>
                  <a:lnTo>
                    <a:pt x="22" y="570"/>
                  </a:lnTo>
                  <a:lnTo>
                    <a:pt x="22" y="570"/>
                  </a:lnTo>
                  <a:lnTo>
                    <a:pt x="12" y="618"/>
                  </a:lnTo>
                  <a:lnTo>
                    <a:pt x="6" y="664"/>
                  </a:lnTo>
                  <a:lnTo>
                    <a:pt x="2" y="708"/>
                  </a:lnTo>
                  <a:lnTo>
                    <a:pt x="0" y="752"/>
                  </a:lnTo>
                  <a:lnTo>
                    <a:pt x="0" y="752"/>
                  </a:lnTo>
                  <a:lnTo>
                    <a:pt x="2" y="812"/>
                  </a:lnTo>
                  <a:lnTo>
                    <a:pt x="8" y="868"/>
                  </a:lnTo>
                  <a:lnTo>
                    <a:pt x="16" y="920"/>
                  </a:lnTo>
                  <a:lnTo>
                    <a:pt x="26" y="968"/>
                  </a:lnTo>
                  <a:lnTo>
                    <a:pt x="26" y="968"/>
                  </a:lnTo>
                  <a:lnTo>
                    <a:pt x="32" y="988"/>
                  </a:lnTo>
                  <a:lnTo>
                    <a:pt x="42" y="1008"/>
                  </a:lnTo>
                  <a:lnTo>
                    <a:pt x="56" y="1024"/>
                  </a:lnTo>
                  <a:lnTo>
                    <a:pt x="72" y="1038"/>
                  </a:lnTo>
                  <a:lnTo>
                    <a:pt x="72" y="1038"/>
                  </a:lnTo>
                  <a:lnTo>
                    <a:pt x="188" y="1122"/>
                  </a:lnTo>
                  <a:lnTo>
                    <a:pt x="278" y="1186"/>
                  </a:lnTo>
                  <a:lnTo>
                    <a:pt x="356" y="1240"/>
                  </a:lnTo>
                  <a:lnTo>
                    <a:pt x="356" y="1240"/>
                  </a:lnTo>
                  <a:lnTo>
                    <a:pt x="366" y="1246"/>
                  </a:lnTo>
                  <a:lnTo>
                    <a:pt x="378" y="1252"/>
                  </a:lnTo>
                  <a:lnTo>
                    <a:pt x="388" y="1256"/>
                  </a:lnTo>
                  <a:lnTo>
                    <a:pt x="400" y="1258"/>
                  </a:lnTo>
                  <a:lnTo>
                    <a:pt x="412" y="1260"/>
                  </a:lnTo>
                  <a:lnTo>
                    <a:pt x="424" y="1260"/>
                  </a:lnTo>
                  <a:lnTo>
                    <a:pt x="436" y="1260"/>
                  </a:lnTo>
                  <a:lnTo>
                    <a:pt x="448" y="1258"/>
                  </a:lnTo>
                  <a:lnTo>
                    <a:pt x="1392" y="1050"/>
                  </a:lnTo>
                  <a:lnTo>
                    <a:pt x="1392" y="1050"/>
                  </a:lnTo>
                  <a:lnTo>
                    <a:pt x="1408" y="1046"/>
                  </a:lnTo>
                  <a:lnTo>
                    <a:pt x="1422" y="1040"/>
                  </a:lnTo>
                  <a:lnTo>
                    <a:pt x="1436" y="1030"/>
                  </a:lnTo>
                  <a:lnTo>
                    <a:pt x="1448" y="1020"/>
                  </a:lnTo>
                  <a:lnTo>
                    <a:pt x="1448" y="1020"/>
                  </a:lnTo>
                  <a:lnTo>
                    <a:pt x="1518" y="954"/>
                  </a:lnTo>
                  <a:lnTo>
                    <a:pt x="1594" y="876"/>
                  </a:lnTo>
                  <a:lnTo>
                    <a:pt x="1692" y="774"/>
                  </a:lnTo>
                  <a:lnTo>
                    <a:pt x="1692" y="774"/>
                  </a:lnTo>
                  <a:lnTo>
                    <a:pt x="1700" y="764"/>
                  </a:lnTo>
                  <a:lnTo>
                    <a:pt x="1708" y="752"/>
                  </a:lnTo>
                  <a:lnTo>
                    <a:pt x="1714" y="738"/>
                  </a:lnTo>
                  <a:lnTo>
                    <a:pt x="1720" y="724"/>
                  </a:lnTo>
                  <a:lnTo>
                    <a:pt x="1722" y="710"/>
                  </a:lnTo>
                  <a:lnTo>
                    <a:pt x="1724" y="696"/>
                  </a:lnTo>
                  <a:lnTo>
                    <a:pt x="1724" y="682"/>
                  </a:lnTo>
                  <a:lnTo>
                    <a:pt x="1722" y="668"/>
                  </a:lnTo>
                  <a:lnTo>
                    <a:pt x="1604" y="692"/>
                  </a:lnTo>
                  <a:lnTo>
                    <a:pt x="1516" y="610"/>
                  </a:lnTo>
                  <a:lnTo>
                    <a:pt x="1516" y="610"/>
                  </a:lnTo>
                  <a:lnTo>
                    <a:pt x="1422" y="708"/>
                  </a:lnTo>
                  <a:lnTo>
                    <a:pt x="1348" y="782"/>
                  </a:lnTo>
                  <a:lnTo>
                    <a:pt x="1348" y="782"/>
                  </a:lnTo>
                  <a:lnTo>
                    <a:pt x="1300" y="830"/>
                  </a:lnTo>
                  <a:lnTo>
                    <a:pt x="1300" y="830"/>
                  </a:lnTo>
                  <a:lnTo>
                    <a:pt x="1288" y="842"/>
                  </a:lnTo>
                  <a:lnTo>
                    <a:pt x="1288" y="842"/>
                  </a:lnTo>
                  <a:lnTo>
                    <a:pt x="1284" y="844"/>
                  </a:lnTo>
                  <a:lnTo>
                    <a:pt x="1284" y="846"/>
                  </a:lnTo>
                  <a:lnTo>
                    <a:pt x="1284" y="846"/>
                  </a:lnTo>
                  <a:lnTo>
                    <a:pt x="1284" y="846"/>
                  </a:lnTo>
                  <a:lnTo>
                    <a:pt x="1366" y="934"/>
                  </a:lnTo>
                  <a:lnTo>
                    <a:pt x="1340" y="816"/>
                  </a:lnTo>
                  <a:lnTo>
                    <a:pt x="398" y="1024"/>
                  </a:lnTo>
                  <a:lnTo>
                    <a:pt x="424" y="1140"/>
                  </a:lnTo>
                  <a:lnTo>
                    <a:pt x="490" y="1042"/>
                  </a:lnTo>
                  <a:lnTo>
                    <a:pt x="490" y="1040"/>
                  </a:lnTo>
                  <a:lnTo>
                    <a:pt x="490" y="1040"/>
                  </a:lnTo>
                  <a:lnTo>
                    <a:pt x="410" y="986"/>
                  </a:lnTo>
                  <a:lnTo>
                    <a:pt x="324" y="924"/>
                  </a:lnTo>
                  <a:lnTo>
                    <a:pt x="214" y="844"/>
                  </a:lnTo>
                  <a:lnTo>
                    <a:pt x="142" y="942"/>
                  </a:lnTo>
                  <a:lnTo>
                    <a:pt x="260" y="916"/>
                  </a:lnTo>
                  <a:lnTo>
                    <a:pt x="260" y="916"/>
                  </a:lnTo>
                  <a:lnTo>
                    <a:pt x="252" y="878"/>
                  </a:lnTo>
                  <a:lnTo>
                    <a:pt x="246" y="838"/>
                  </a:lnTo>
                  <a:lnTo>
                    <a:pt x="242" y="796"/>
                  </a:lnTo>
                  <a:lnTo>
                    <a:pt x="240" y="752"/>
                  </a:lnTo>
                  <a:lnTo>
                    <a:pt x="240" y="752"/>
                  </a:lnTo>
                  <a:lnTo>
                    <a:pt x="242" y="716"/>
                  </a:lnTo>
                  <a:lnTo>
                    <a:pt x="246" y="678"/>
                  </a:lnTo>
                  <a:lnTo>
                    <a:pt x="252" y="640"/>
                  </a:lnTo>
                  <a:lnTo>
                    <a:pt x="262" y="604"/>
                  </a:lnTo>
                  <a:lnTo>
                    <a:pt x="262" y="604"/>
                  </a:lnTo>
                  <a:lnTo>
                    <a:pt x="270" y="576"/>
                  </a:lnTo>
                  <a:lnTo>
                    <a:pt x="282" y="550"/>
                  </a:lnTo>
                  <a:lnTo>
                    <a:pt x="294" y="524"/>
                  </a:lnTo>
                  <a:lnTo>
                    <a:pt x="310" y="498"/>
                  </a:lnTo>
                  <a:lnTo>
                    <a:pt x="310" y="498"/>
                  </a:lnTo>
                  <a:lnTo>
                    <a:pt x="322" y="480"/>
                  </a:lnTo>
                  <a:lnTo>
                    <a:pt x="336" y="462"/>
                  </a:lnTo>
                  <a:lnTo>
                    <a:pt x="352" y="444"/>
                  </a:lnTo>
                  <a:lnTo>
                    <a:pt x="370" y="426"/>
                  </a:lnTo>
                  <a:lnTo>
                    <a:pt x="370" y="426"/>
                  </a:lnTo>
                  <a:lnTo>
                    <a:pt x="400" y="400"/>
                  </a:lnTo>
                  <a:lnTo>
                    <a:pt x="434" y="374"/>
                  </a:lnTo>
                  <a:lnTo>
                    <a:pt x="474" y="350"/>
                  </a:lnTo>
                  <a:lnTo>
                    <a:pt x="518" y="328"/>
                  </a:lnTo>
                  <a:lnTo>
                    <a:pt x="518" y="328"/>
                  </a:lnTo>
                  <a:lnTo>
                    <a:pt x="568" y="306"/>
                  </a:lnTo>
                  <a:lnTo>
                    <a:pt x="626" y="288"/>
                  </a:lnTo>
                  <a:lnTo>
                    <a:pt x="688" y="270"/>
                  </a:lnTo>
                  <a:lnTo>
                    <a:pt x="758" y="256"/>
                  </a:lnTo>
                  <a:lnTo>
                    <a:pt x="758" y="256"/>
                  </a:lnTo>
                  <a:lnTo>
                    <a:pt x="804" y="248"/>
                  </a:lnTo>
                  <a:lnTo>
                    <a:pt x="850" y="244"/>
                  </a:lnTo>
                  <a:lnTo>
                    <a:pt x="892" y="240"/>
                  </a:lnTo>
                  <a:lnTo>
                    <a:pt x="930" y="240"/>
                  </a:lnTo>
                  <a:lnTo>
                    <a:pt x="930" y="240"/>
                  </a:lnTo>
                  <a:lnTo>
                    <a:pt x="968" y="240"/>
                  </a:lnTo>
                  <a:lnTo>
                    <a:pt x="1002" y="242"/>
                  </a:lnTo>
                  <a:lnTo>
                    <a:pt x="1036" y="248"/>
                  </a:lnTo>
                  <a:lnTo>
                    <a:pt x="1066" y="252"/>
                  </a:lnTo>
                  <a:lnTo>
                    <a:pt x="1066" y="252"/>
                  </a:lnTo>
                  <a:lnTo>
                    <a:pt x="1092" y="258"/>
                  </a:lnTo>
                  <a:lnTo>
                    <a:pt x="1118" y="266"/>
                  </a:lnTo>
                  <a:lnTo>
                    <a:pt x="1164" y="282"/>
                  </a:lnTo>
                  <a:lnTo>
                    <a:pt x="1206" y="302"/>
                  </a:lnTo>
                  <a:lnTo>
                    <a:pt x="1244" y="324"/>
                  </a:lnTo>
                  <a:lnTo>
                    <a:pt x="1244" y="324"/>
                  </a:lnTo>
                  <a:lnTo>
                    <a:pt x="1270" y="342"/>
                  </a:lnTo>
                  <a:lnTo>
                    <a:pt x="1294" y="362"/>
                  </a:lnTo>
                  <a:lnTo>
                    <a:pt x="1316" y="384"/>
                  </a:lnTo>
                  <a:lnTo>
                    <a:pt x="1338" y="406"/>
                  </a:lnTo>
                  <a:lnTo>
                    <a:pt x="1338" y="406"/>
                  </a:lnTo>
                  <a:lnTo>
                    <a:pt x="1366" y="442"/>
                  </a:lnTo>
                  <a:lnTo>
                    <a:pt x="1392" y="480"/>
                  </a:lnTo>
                  <a:lnTo>
                    <a:pt x="1416" y="520"/>
                  </a:lnTo>
                  <a:lnTo>
                    <a:pt x="1436" y="560"/>
                  </a:lnTo>
                  <a:lnTo>
                    <a:pt x="1436" y="560"/>
                  </a:lnTo>
                  <a:lnTo>
                    <a:pt x="1452" y="600"/>
                  </a:lnTo>
                  <a:lnTo>
                    <a:pt x="1466" y="640"/>
                  </a:lnTo>
                  <a:lnTo>
                    <a:pt x="1478" y="680"/>
                  </a:lnTo>
                  <a:lnTo>
                    <a:pt x="1486" y="718"/>
                  </a:lnTo>
                  <a:lnTo>
                    <a:pt x="1604" y="692"/>
                  </a:lnTo>
                  <a:lnTo>
                    <a:pt x="1516" y="610"/>
                  </a:lnTo>
                  <a:lnTo>
                    <a:pt x="1604" y="6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64"/>
            <p:cNvSpPr/>
            <p:nvPr/>
          </p:nvSpPr>
          <p:spPr>
            <a:xfrm>
              <a:off x="3644640" y="7086600"/>
              <a:ext cx="1641240" cy="1054080"/>
            </a:xfrm>
            <a:custGeom>
              <a:avLst/>
              <a:gdLst>
                <a:gd name="textAreaLeft" fmla="*/ 0 w 1641240"/>
                <a:gd name="textAreaRight" fmla="*/ 1641600 w 164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1034" h="664">
                  <a:moveTo>
                    <a:pt x="1030" y="242"/>
                  </a:moveTo>
                  <a:lnTo>
                    <a:pt x="1030" y="242"/>
                  </a:lnTo>
                  <a:lnTo>
                    <a:pt x="1032" y="258"/>
                  </a:lnTo>
                  <a:lnTo>
                    <a:pt x="1034" y="274"/>
                  </a:lnTo>
                  <a:lnTo>
                    <a:pt x="1034" y="290"/>
                  </a:lnTo>
                  <a:lnTo>
                    <a:pt x="1032" y="308"/>
                  </a:lnTo>
                  <a:lnTo>
                    <a:pt x="1028" y="324"/>
                  </a:lnTo>
                  <a:lnTo>
                    <a:pt x="1024" y="340"/>
                  </a:lnTo>
                  <a:lnTo>
                    <a:pt x="1012" y="372"/>
                  </a:lnTo>
                  <a:lnTo>
                    <a:pt x="996" y="404"/>
                  </a:lnTo>
                  <a:lnTo>
                    <a:pt x="974" y="436"/>
                  </a:lnTo>
                  <a:lnTo>
                    <a:pt x="950" y="466"/>
                  </a:lnTo>
                  <a:lnTo>
                    <a:pt x="920" y="494"/>
                  </a:lnTo>
                  <a:lnTo>
                    <a:pt x="888" y="522"/>
                  </a:lnTo>
                  <a:lnTo>
                    <a:pt x="852" y="546"/>
                  </a:lnTo>
                  <a:lnTo>
                    <a:pt x="812" y="570"/>
                  </a:lnTo>
                  <a:lnTo>
                    <a:pt x="770" y="592"/>
                  </a:lnTo>
                  <a:lnTo>
                    <a:pt x="724" y="610"/>
                  </a:lnTo>
                  <a:lnTo>
                    <a:pt x="676" y="628"/>
                  </a:lnTo>
                  <a:lnTo>
                    <a:pt x="626" y="642"/>
                  </a:lnTo>
                  <a:lnTo>
                    <a:pt x="574" y="652"/>
                  </a:lnTo>
                  <a:lnTo>
                    <a:pt x="574" y="652"/>
                  </a:lnTo>
                  <a:lnTo>
                    <a:pt x="520" y="660"/>
                  </a:lnTo>
                  <a:lnTo>
                    <a:pt x="468" y="664"/>
                  </a:lnTo>
                  <a:lnTo>
                    <a:pt x="418" y="664"/>
                  </a:lnTo>
                  <a:lnTo>
                    <a:pt x="370" y="662"/>
                  </a:lnTo>
                  <a:lnTo>
                    <a:pt x="322" y="656"/>
                  </a:lnTo>
                  <a:lnTo>
                    <a:pt x="276" y="648"/>
                  </a:lnTo>
                  <a:lnTo>
                    <a:pt x="234" y="638"/>
                  </a:lnTo>
                  <a:lnTo>
                    <a:pt x="194" y="622"/>
                  </a:lnTo>
                  <a:lnTo>
                    <a:pt x="156" y="606"/>
                  </a:lnTo>
                  <a:lnTo>
                    <a:pt x="122" y="586"/>
                  </a:lnTo>
                  <a:lnTo>
                    <a:pt x="92" y="564"/>
                  </a:lnTo>
                  <a:lnTo>
                    <a:pt x="66" y="540"/>
                  </a:lnTo>
                  <a:lnTo>
                    <a:pt x="44" y="514"/>
                  </a:lnTo>
                  <a:lnTo>
                    <a:pt x="34" y="500"/>
                  </a:lnTo>
                  <a:lnTo>
                    <a:pt x="24" y="486"/>
                  </a:lnTo>
                  <a:lnTo>
                    <a:pt x="18" y="470"/>
                  </a:lnTo>
                  <a:lnTo>
                    <a:pt x="12" y="456"/>
                  </a:lnTo>
                  <a:lnTo>
                    <a:pt x="6" y="440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06"/>
                  </a:lnTo>
                  <a:lnTo>
                    <a:pt x="0" y="390"/>
                  </a:lnTo>
                  <a:lnTo>
                    <a:pt x="0" y="374"/>
                  </a:lnTo>
                  <a:lnTo>
                    <a:pt x="2" y="358"/>
                  </a:lnTo>
                  <a:lnTo>
                    <a:pt x="6" y="340"/>
                  </a:lnTo>
                  <a:lnTo>
                    <a:pt x="10" y="324"/>
                  </a:lnTo>
                  <a:lnTo>
                    <a:pt x="22" y="292"/>
                  </a:lnTo>
                  <a:lnTo>
                    <a:pt x="38" y="260"/>
                  </a:lnTo>
                  <a:lnTo>
                    <a:pt x="60" y="228"/>
                  </a:lnTo>
                  <a:lnTo>
                    <a:pt x="84" y="200"/>
                  </a:lnTo>
                  <a:lnTo>
                    <a:pt x="114" y="170"/>
                  </a:lnTo>
                  <a:lnTo>
                    <a:pt x="146" y="144"/>
                  </a:lnTo>
                  <a:lnTo>
                    <a:pt x="182" y="118"/>
                  </a:lnTo>
                  <a:lnTo>
                    <a:pt x="222" y="94"/>
                  </a:lnTo>
                  <a:lnTo>
                    <a:pt x="264" y="72"/>
                  </a:lnTo>
                  <a:lnTo>
                    <a:pt x="310" y="54"/>
                  </a:lnTo>
                  <a:lnTo>
                    <a:pt x="358" y="38"/>
                  </a:lnTo>
                  <a:lnTo>
                    <a:pt x="408" y="24"/>
                  </a:lnTo>
                  <a:lnTo>
                    <a:pt x="460" y="12"/>
                  </a:lnTo>
                  <a:lnTo>
                    <a:pt x="460" y="12"/>
                  </a:lnTo>
                  <a:lnTo>
                    <a:pt x="512" y="4"/>
                  </a:lnTo>
                  <a:lnTo>
                    <a:pt x="564" y="0"/>
                  </a:lnTo>
                  <a:lnTo>
                    <a:pt x="616" y="0"/>
                  </a:lnTo>
                  <a:lnTo>
                    <a:pt x="664" y="2"/>
                  </a:lnTo>
                  <a:lnTo>
                    <a:pt x="712" y="8"/>
                  </a:lnTo>
                  <a:lnTo>
                    <a:pt x="758" y="16"/>
                  </a:lnTo>
                  <a:lnTo>
                    <a:pt x="800" y="28"/>
                  </a:lnTo>
                  <a:lnTo>
                    <a:pt x="840" y="42"/>
                  </a:lnTo>
                  <a:lnTo>
                    <a:pt x="878" y="58"/>
                  </a:lnTo>
                  <a:lnTo>
                    <a:pt x="912" y="78"/>
                  </a:lnTo>
                  <a:lnTo>
                    <a:pt x="942" y="100"/>
                  </a:lnTo>
                  <a:lnTo>
                    <a:pt x="968" y="124"/>
                  </a:lnTo>
                  <a:lnTo>
                    <a:pt x="990" y="150"/>
                  </a:lnTo>
                  <a:lnTo>
                    <a:pt x="1000" y="164"/>
                  </a:lnTo>
                  <a:lnTo>
                    <a:pt x="1008" y="178"/>
                  </a:lnTo>
                  <a:lnTo>
                    <a:pt x="1016" y="194"/>
                  </a:lnTo>
                  <a:lnTo>
                    <a:pt x="1022" y="208"/>
                  </a:lnTo>
                  <a:lnTo>
                    <a:pt x="1028" y="224"/>
                  </a:lnTo>
                  <a:lnTo>
                    <a:pt x="1030" y="242"/>
                  </a:lnTo>
                  <a:lnTo>
                    <a:pt x="1030" y="242"/>
                  </a:lnTo>
                  <a:close/>
                </a:path>
              </a:pathLst>
            </a:custGeom>
            <a:solidFill>
              <a:srgbClr val="54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3454200" y="6896160"/>
              <a:ext cx="2022480" cy="143496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1434960"/>
                <a:gd name="textAreaBottom" fmla="*/ 1435320 h 1434960"/>
              </a:gdLst>
              <a:ahLst/>
              <a:rect l="textAreaLeft" t="textAreaTop" r="textAreaRight" b="textAreaBottom"/>
              <a:pathLst>
                <a:path w="1274" h="904">
                  <a:moveTo>
                    <a:pt x="1150" y="362"/>
                  </a:moveTo>
                  <a:lnTo>
                    <a:pt x="1032" y="382"/>
                  </a:lnTo>
                  <a:lnTo>
                    <a:pt x="1032" y="382"/>
                  </a:lnTo>
                  <a:lnTo>
                    <a:pt x="1034" y="398"/>
                  </a:lnTo>
                  <a:lnTo>
                    <a:pt x="1034" y="398"/>
                  </a:lnTo>
                  <a:lnTo>
                    <a:pt x="1032" y="410"/>
                  </a:lnTo>
                  <a:lnTo>
                    <a:pt x="1030" y="426"/>
                  </a:lnTo>
                  <a:lnTo>
                    <a:pt x="1030" y="426"/>
                  </a:lnTo>
                  <a:lnTo>
                    <a:pt x="1024" y="440"/>
                  </a:lnTo>
                  <a:lnTo>
                    <a:pt x="1018" y="454"/>
                  </a:lnTo>
                  <a:lnTo>
                    <a:pt x="1008" y="470"/>
                  </a:lnTo>
                  <a:lnTo>
                    <a:pt x="996" y="488"/>
                  </a:lnTo>
                  <a:lnTo>
                    <a:pt x="996" y="488"/>
                  </a:lnTo>
                  <a:lnTo>
                    <a:pt x="972" y="512"/>
                  </a:lnTo>
                  <a:lnTo>
                    <a:pt x="944" y="538"/>
                  </a:lnTo>
                  <a:lnTo>
                    <a:pt x="944" y="538"/>
                  </a:lnTo>
                  <a:lnTo>
                    <a:pt x="918" y="558"/>
                  </a:lnTo>
                  <a:lnTo>
                    <a:pt x="890" y="576"/>
                  </a:lnTo>
                  <a:lnTo>
                    <a:pt x="860" y="592"/>
                  </a:lnTo>
                  <a:lnTo>
                    <a:pt x="826" y="608"/>
                  </a:lnTo>
                  <a:lnTo>
                    <a:pt x="826" y="608"/>
                  </a:lnTo>
                  <a:lnTo>
                    <a:pt x="790" y="622"/>
                  </a:lnTo>
                  <a:lnTo>
                    <a:pt x="754" y="634"/>
                  </a:lnTo>
                  <a:lnTo>
                    <a:pt x="714" y="646"/>
                  </a:lnTo>
                  <a:lnTo>
                    <a:pt x="672" y="654"/>
                  </a:lnTo>
                  <a:lnTo>
                    <a:pt x="672" y="654"/>
                  </a:lnTo>
                  <a:lnTo>
                    <a:pt x="642" y="658"/>
                  </a:lnTo>
                  <a:lnTo>
                    <a:pt x="610" y="662"/>
                  </a:lnTo>
                  <a:lnTo>
                    <a:pt x="580" y="664"/>
                  </a:lnTo>
                  <a:lnTo>
                    <a:pt x="550" y="664"/>
                  </a:lnTo>
                  <a:lnTo>
                    <a:pt x="550" y="664"/>
                  </a:lnTo>
                  <a:lnTo>
                    <a:pt x="516" y="664"/>
                  </a:lnTo>
                  <a:lnTo>
                    <a:pt x="482" y="662"/>
                  </a:lnTo>
                  <a:lnTo>
                    <a:pt x="450" y="656"/>
                  </a:lnTo>
                  <a:lnTo>
                    <a:pt x="420" y="650"/>
                  </a:lnTo>
                  <a:lnTo>
                    <a:pt x="420" y="650"/>
                  </a:lnTo>
                  <a:lnTo>
                    <a:pt x="380" y="640"/>
                  </a:lnTo>
                  <a:lnTo>
                    <a:pt x="342" y="624"/>
                  </a:lnTo>
                  <a:lnTo>
                    <a:pt x="342" y="624"/>
                  </a:lnTo>
                  <a:lnTo>
                    <a:pt x="318" y="612"/>
                  </a:lnTo>
                  <a:lnTo>
                    <a:pt x="298" y="600"/>
                  </a:lnTo>
                  <a:lnTo>
                    <a:pt x="282" y="586"/>
                  </a:lnTo>
                  <a:lnTo>
                    <a:pt x="268" y="574"/>
                  </a:lnTo>
                  <a:lnTo>
                    <a:pt x="268" y="574"/>
                  </a:lnTo>
                  <a:lnTo>
                    <a:pt x="258" y="560"/>
                  </a:lnTo>
                  <a:lnTo>
                    <a:pt x="250" y="548"/>
                  </a:lnTo>
                  <a:lnTo>
                    <a:pt x="250" y="548"/>
                  </a:lnTo>
                  <a:lnTo>
                    <a:pt x="244" y="534"/>
                  </a:lnTo>
                  <a:lnTo>
                    <a:pt x="242" y="522"/>
                  </a:lnTo>
                  <a:lnTo>
                    <a:pt x="242" y="522"/>
                  </a:lnTo>
                  <a:lnTo>
                    <a:pt x="240" y="508"/>
                  </a:lnTo>
                  <a:lnTo>
                    <a:pt x="240" y="508"/>
                  </a:lnTo>
                  <a:lnTo>
                    <a:pt x="240" y="494"/>
                  </a:lnTo>
                  <a:lnTo>
                    <a:pt x="244" y="478"/>
                  </a:lnTo>
                  <a:lnTo>
                    <a:pt x="244" y="478"/>
                  </a:lnTo>
                  <a:lnTo>
                    <a:pt x="250" y="464"/>
                  </a:lnTo>
                  <a:lnTo>
                    <a:pt x="256" y="450"/>
                  </a:lnTo>
                  <a:lnTo>
                    <a:pt x="266" y="434"/>
                  </a:lnTo>
                  <a:lnTo>
                    <a:pt x="278" y="418"/>
                  </a:lnTo>
                  <a:lnTo>
                    <a:pt x="278" y="418"/>
                  </a:lnTo>
                  <a:lnTo>
                    <a:pt x="302" y="392"/>
                  </a:lnTo>
                  <a:lnTo>
                    <a:pt x="330" y="366"/>
                  </a:lnTo>
                  <a:lnTo>
                    <a:pt x="330" y="366"/>
                  </a:lnTo>
                  <a:lnTo>
                    <a:pt x="356" y="348"/>
                  </a:lnTo>
                  <a:lnTo>
                    <a:pt x="384" y="330"/>
                  </a:lnTo>
                  <a:lnTo>
                    <a:pt x="414" y="312"/>
                  </a:lnTo>
                  <a:lnTo>
                    <a:pt x="448" y="296"/>
                  </a:lnTo>
                  <a:lnTo>
                    <a:pt x="448" y="296"/>
                  </a:lnTo>
                  <a:lnTo>
                    <a:pt x="482" y="282"/>
                  </a:lnTo>
                  <a:lnTo>
                    <a:pt x="520" y="270"/>
                  </a:lnTo>
                  <a:lnTo>
                    <a:pt x="560" y="258"/>
                  </a:lnTo>
                  <a:lnTo>
                    <a:pt x="602" y="250"/>
                  </a:lnTo>
                  <a:lnTo>
                    <a:pt x="602" y="250"/>
                  </a:lnTo>
                  <a:lnTo>
                    <a:pt x="632" y="246"/>
                  </a:lnTo>
                  <a:lnTo>
                    <a:pt x="664" y="242"/>
                  </a:lnTo>
                  <a:lnTo>
                    <a:pt x="694" y="240"/>
                  </a:lnTo>
                  <a:lnTo>
                    <a:pt x="724" y="240"/>
                  </a:lnTo>
                  <a:lnTo>
                    <a:pt x="724" y="240"/>
                  </a:lnTo>
                  <a:lnTo>
                    <a:pt x="758" y="240"/>
                  </a:lnTo>
                  <a:lnTo>
                    <a:pt x="792" y="244"/>
                  </a:lnTo>
                  <a:lnTo>
                    <a:pt x="822" y="248"/>
                  </a:lnTo>
                  <a:lnTo>
                    <a:pt x="852" y="254"/>
                  </a:lnTo>
                  <a:lnTo>
                    <a:pt x="852" y="254"/>
                  </a:lnTo>
                  <a:lnTo>
                    <a:pt x="894" y="266"/>
                  </a:lnTo>
                  <a:lnTo>
                    <a:pt x="930" y="280"/>
                  </a:lnTo>
                  <a:lnTo>
                    <a:pt x="930" y="280"/>
                  </a:lnTo>
                  <a:lnTo>
                    <a:pt x="954" y="292"/>
                  </a:lnTo>
                  <a:lnTo>
                    <a:pt x="976" y="304"/>
                  </a:lnTo>
                  <a:lnTo>
                    <a:pt x="992" y="318"/>
                  </a:lnTo>
                  <a:lnTo>
                    <a:pt x="1006" y="332"/>
                  </a:lnTo>
                  <a:lnTo>
                    <a:pt x="1006" y="332"/>
                  </a:lnTo>
                  <a:lnTo>
                    <a:pt x="1016" y="344"/>
                  </a:lnTo>
                  <a:lnTo>
                    <a:pt x="1024" y="358"/>
                  </a:lnTo>
                  <a:lnTo>
                    <a:pt x="1024" y="358"/>
                  </a:lnTo>
                  <a:lnTo>
                    <a:pt x="1030" y="370"/>
                  </a:lnTo>
                  <a:lnTo>
                    <a:pt x="1032" y="382"/>
                  </a:lnTo>
                  <a:lnTo>
                    <a:pt x="1150" y="362"/>
                  </a:lnTo>
                  <a:lnTo>
                    <a:pt x="1268" y="340"/>
                  </a:lnTo>
                  <a:lnTo>
                    <a:pt x="1268" y="340"/>
                  </a:lnTo>
                  <a:lnTo>
                    <a:pt x="1264" y="318"/>
                  </a:lnTo>
                  <a:lnTo>
                    <a:pt x="1258" y="298"/>
                  </a:lnTo>
                  <a:lnTo>
                    <a:pt x="1250" y="278"/>
                  </a:lnTo>
                  <a:lnTo>
                    <a:pt x="1242" y="258"/>
                  </a:lnTo>
                  <a:lnTo>
                    <a:pt x="1242" y="258"/>
                  </a:lnTo>
                  <a:lnTo>
                    <a:pt x="1224" y="224"/>
                  </a:lnTo>
                  <a:lnTo>
                    <a:pt x="1204" y="194"/>
                  </a:lnTo>
                  <a:lnTo>
                    <a:pt x="1180" y="166"/>
                  </a:lnTo>
                  <a:lnTo>
                    <a:pt x="1154" y="140"/>
                  </a:lnTo>
                  <a:lnTo>
                    <a:pt x="1154" y="140"/>
                  </a:lnTo>
                  <a:lnTo>
                    <a:pt x="1134" y="124"/>
                  </a:lnTo>
                  <a:lnTo>
                    <a:pt x="1112" y="106"/>
                  </a:lnTo>
                  <a:lnTo>
                    <a:pt x="1088" y="92"/>
                  </a:lnTo>
                  <a:lnTo>
                    <a:pt x="1064" y="78"/>
                  </a:lnTo>
                  <a:lnTo>
                    <a:pt x="1064" y="78"/>
                  </a:lnTo>
                  <a:lnTo>
                    <a:pt x="1026" y="60"/>
                  </a:lnTo>
                  <a:lnTo>
                    <a:pt x="988" y="44"/>
                  </a:lnTo>
                  <a:lnTo>
                    <a:pt x="946" y="30"/>
                  </a:lnTo>
                  <a:lnTo>
                    <a:pt x="904" y="20"/>
                  </a:lnTo>
                  <a:lnTo>
                    <a:pt x="904" y="20"/>
                  </a:lnTo>
                  <a:lnTo>
                    <a:pt x="860" y="10"/>
                  </a:lnTo>
                  <a:lnTo>
                    <a:pt x="816" y="4"/>
                  </a:lnTo>
                  <a:lnTo>
                    <a:pt x="770" y="0"/>
                  </a:lnTo>
                  <a:lnTo>
                    <a:pt x="724" y="0"/>
                  </a:lnTo>
                  <a:lnTo>
                    <a:pt x="724" y="0"/>
                  </a:lnTo>
                  <a:lnTo>
                    <a:pt x="682" y="0"/>
                  </a:lnTo>
                  <a:lnTo>
                    <a:pt x="642" y="4"/>
                  </a:lnTo>
                  <a:lnTo>
                    <a:pt x="600" y="8"/>
                  </a:lnTo>
                  <a:lnTo>
                    <a:pt x="560" y="14"/>
                  </a:lnTo>
                  <a:lnTo>
                    <a:pt x="560" y="14"/>
                  </a:lnTo>
                  <a:lnTo>
                    <a:pt x="504" y="26"/>
                  </a:lnTo>
                  <a:lnTo>
                    <a:pt x="450" y="40"/>
                  </a:lnTo>
                  <a:lnTo>
                    <a:pt x="398" y="58"/>
                  </a:lnTo>
                  <a:lnTo>
                    <a:pt x="348" y="78"/>
                  </a:lnTo>
                  <a:lnTo>
                    <a:pt x="348" y="78"/>
                  </a:lnTo>
                  <a:lnTo>
                    <a:pt x="312" y="94"/>
                  </a:lnTo>
                  <a:lnTo>
                    <a:pt x="278" y="112"/>
                  </a:lnTo>
                  <a:lnTo>
                    <a:pt x="246" y="132"/>
                  </a:lnTo>
                  <a:lnTo>
                    <a:pt x="214" y="152"/>
                  </a:lnTo>
                  <a:lnTo>
                    <a:pt x="214" y="152"/>
                  </a:lnTo>
                  <a:lnTo>
                    <a:pt x="170" y="186"/>
                  </a:lnTo>
                  <a:lnTo>
                    <a:pt x="150" y="204"/>
                  </a:lnTo>
                  <a:lnTo>
                    <a:pt x="130" y="224"/>
                  </a:lnTo>
                  <a:lnTo>
                    <a:pt x="112" y="242"/>
                  </a:lnTo>
                  <a:lnTo>
                    <a:pt x="94" y="264"/>
                  </a:lnTo>
                  <a:lnTo>
                    <a:pt x="78" y="284"/>
                  </a:lnTo>
                  <a:lnTo>
                    <a:pt x="62" y="306"/>
                  </a:lnTo>
                  <a:lnTo>
                    <a:pt x="62" y="306"/>
                  </a:lnTo>
                  <a:lnTo>
                    <a:pt x="50" y="328"/>
                  </a:lnTo>
                  <a:lnTo>
                    <a:pt x="36" y="352"/>
                  </a:lnTo>
                  <a:lnTo>
                    <a:pt x="26" y="376"/>
                  </a:lnTo>
                  <a:lnTo>
                    <a:pt x="18" y="402"/>
                  </a:lnTo>
                  <a:lnTo>
                    <a:pt x="18" y="402"/>
                  </a:lnTo>
                  <a:lnTo>
                    <a:pt x="10" y="426"/>
                  </a:lnTo>
                  <a:lnTo>
                    <a:pt x="4" y="454"/>
                  </a:lnTo>
                  <a:lnTo>
                    <a:pt x="2" y="480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2" y="536"/>
                  </a:lnTo>
                  <a:lnTo>
                    <a:pt x="4" y="564"/>
                  </a:lnTo>
                  <a:lnTo>
                    <a:pt x="4" y="564"/>
                  </a:lnTo>
                  <a:lnTo>
                    <a:pt x="10" y="586"/>
                  </a:lnTo>
                  <a:lnTo>
                    <a:pt x="16" y="606"/>
                  </a:lnTo>
                  <a:lnTo>
                    <a:pt x="22" y="628"/>
                  </a:lnTo>
                  <a:lnTo>
                    <a:pt x="32" y="646"/>
                  </a:lnTo>
                  <a:lnTo>
                    <a:pt x="32" y="646"/>
                  </a:lnTo>
                  <a:lnTo>
                    <a:pt x="48" y="680"/>
                  </a:lnTo>
                  <a:lnTo>
                    <a:pt x="70" y="710"/>
                  </a:lnTo>
                  <a:lnTo>
                    <a:pt x="94" y="738"/>
                  </a:lnTo>
                  <a:lnTo>
                    <a:pt x="120" y="764"/>
                  </a:lnTo>
                  <a:lnTo>
                    <a:pt x="120" y="764"/>
                  </a:lnTo>
                  <a:lnTo>
                    <a:pt x="140" y="782"/>
                  </a:lnTo>
                  <a:lnTo>
                    <a:pt x="162" y="798"/>
                  </a:lnTo>
                  <a:lnTo>
                    <a:pt x="186" y="812"/>
                  </a:lnTo>
                  <a:lnTo>
                    <a:pt x="210" y="826"/>
                  </a:lnTo>
                  <a:lnTo>
                    <a:pt x="210" y="826"/>
                  </a:lnTo>
                  <a:lnTo>
                    <a:pt x="248" y="844"/>
                  </a:lnTo>
                  <a:lnTo>
                    <a:pt x="286" y="860"/>
                  </a:lnTo>
                  <a:lnTo>
                    <a:pt x="328" y="874"/>
                  </a:lnTo>
                  <a:lnTo>
                    <a:pt x="370" y="886"/>
                  </a:lnTo>
                  <a:lnTo>
                    <a:pt x="370" y="886"/>
                  </a:lnTo>
                  <a:lnTo>
                    <a:pt x="412" y="894"/>
                  </a:lnTo>
                  <a:lnTo>
                    <a:pt x="458" y="900"/>
                  </a:lnTo>
                  <a:lnTo>
                    <a:pt x="504" y="904"/>
                  </a:lnTo>
                  <a:lnTo>
                    <a:pt x="550" y="904"/>
                  </a:lnTo>
                  <a:lnTo>
                    <a:pt x="550" y="904"/>
                  </a:lnTo>
                  <a:lnTo>
                    <a:pt x="590" y="904"/>
                  </a:lnTo>
                  <a:lnTo>
                    <a:pt x="632" y="902"/>
                  </a:lnTo>
                  <a:lnTo>
                    <a:pt x="672" y="896"/>
                  </a:lnTo>
                  <a:lnTo>
                    <a:pt x="714" y="890"/>
                  </a:lnTo>
                  <a:lnTo>
                    <a:pt x="714" y="890"/>
                  </a:lnTo>
                  <a:lnTo>
                    <a:pt x="770" y="878"/>
                  </a:lnTo>
                  <a:lnTo>
                    <a:pt x="824" y="864"/>
                  </a:lnTo>
                  <a:lnTo>
                    <a:pt x="876" y="846"/>
                  </a:lnTo>
                  <a:lnTo>
                    <a:pt x="926" y="826"/>
                  </a:lnTo>
                  <a:lnTo>
                    <a:pt x="926" y="826"/>
                  </a:lnTo>
                  <a:lnTo>
                    <a:pt x="962" y="810"/>
                  </a:lnTo>
                  <a:lnTo>
                    <a:pt x="996" y="792"/>
                  </a:lnTo>
                  <a:lnTo>
                    <a:pt x="1028" y="772"/>
                  </a:lnTo>
                  <a:lnTo>
                    <a:pt x="1060" y="752"/>
                  </a:lnTo>
                  <a:lnTo>
                    <a:pt x="1060" y="752"/>
                  </a:lnTo>
                  <a:lnTo>
                    <a:pt x="1104" y="718"/>
                  </a:lnTo>
                  <a:lnTo>
                    <a:pt x="1124" y="700"/>
                  </a:lnTo>
                  <a:lnTo>
                    <a:pt x="1144" y="682"/>
                  </a:lnTo>
                  <a:lnTo>
                    <a:pt x="1162" y="662"/>
                  </a:lnTo>
                  <a:lnTo>
                    <a:pt x="1180" y="642"/>
                  </a:lnTo>
                  <a:lnTo>
                    <a:pt x="1196" y="620"/>
                  </a:lnTo>
                  <a:lnTo>
                    <a:pt x="1210" y="598"/>
                  </a:lnTo>
                  <a:lnTo>
                    <a:pt x="1210" y="598"/>
                  </a:lnTo>
                  <a:lnTo>
                    <a:pt x="1224" y="576"/>
                  </a:lnTo>
                  <a:lnTo>
                    <a:pt x="1236" y="552"/>
                  </a:lnTo>
                  <a:lnTo>
                    <a:pt x="1248" y="528"/>
                  </a:lnTo>
                  <a:lnTo>
                    <a:pt x="1256" y="504"/>
                  </a:lnTo>
                  <a:lnTo>
                    <a:pt x="1256" y="504"/>
                  </a:lnTo>
                  <a:lnTo>
                    <a:pt x="1264" y="478"/>
                  </a:lnTo>
                  <a:lnTo>
                    <a:pt x="1270" y="452"/>
                  </a:lnTo>
                  <a:lnTo>
                    <a:pt x="1272" y="424"/>
                  </a:lnTo>
                  <a:lnTo>
                    <a:pt x="1274" y="398"/>
                  </a:lnTo>
                  <a:lnTo>
                    <a:pt x="1274" y="398"/>
                  </a:lnTo>
                  <a:lnTo>
                    <a:pt x="1272" y="368"/>
                  </a:lnTo>
                  <a:lnTo>
                    <a:pt x="1268" y="340"/>
                  </a:lnTo>
                  <a:lnTo>
                    <a:pt x="1150" y="3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66"/>
            <p:cNvSpPr/>
            <p:nvPr/>
          </p:nvSpPr>
          <p:spPr>
            <a:xfrm>
              <a:off x="3895560" y="7518600"/>
              <a:ext cx="1158840" cy="936360"/>
            </a:xfrm>
            <a:custGeom>
              <a:avLst/>
              <a:gdLst>
                <a:gd name="textAreaLeft" fmla="*/ 0 w 1158840"/>
                <a:gd name="textAreaRight" fmla="*/ 1159200 w 115884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730" h="590">
                  <a:moveTo>
                    <a:pt x="0" y="114"/>
                  </a:moveTo>
                  <a:lnTo>
                    <a:pt x="292" y="590"/>
                  </a:lnTo>
                  <a:lnTo>
                    <a:pt x="586" y="568"/>
                  </a:lnTo>
                  <a:lnTo>
                    <a:pt x="730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67"/>
            <p:cNvSpPr/>
            <p:nvPr/>
          </p:nvSpPr>
          <p:spPr>
            <a:xfrm>
              <a:off x="3708360" y="7328160"/>
              <a:ext cx="1536480" cy="1317600"/>
            </a:xfrm>
            <a:custGeom>
              <a:avLst/>
              <a:gdLst>
                <a:gd name="textAreaLeft" fmla="*/ 0 w 1536480"/>
                <a:gd name="textAreaRight" fmla="*/ 1536840 w 153648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968" h="830">
                  <a:moveTo>
                    <a:pt x="118" y="234"/>
                  </a:moveTo>
                  <a:lnTo>
                    <a:pt x="16" y="296"/>
                  </a:lnTo>
                  <a:lnTo>
                    <a:pt x="308" y="774"/>
                  </a:lnTo>
                  <a:lnTo>
                    <a:pt x="308" y="774"/>
                  </a:lnTo>
                  <a:lnTo>
                    <a:pt x="318" y="786"/>
                  </a:lnTo>
                  <a:lnTo>
                    <a:pt x="328" y="798"/>
                  </a:lnTo>
                  <a:lnTo>
                    <a:pt x="342" y="808"/>
                  </a:lnTo>
                  <a:lnTo>
                    <a:pt x="354" y="818"/>
                  </a:lnTo>
                  <a:lnTo>
                    <a:pt x="370" y="824"/>
                  </a:lnTo>
                  <a:lnTo>
                    <a:pt x="386" y="828"/>
                  </a:lnTo>
                  <a:lnTo>
                    <a:pt x="402" y="830"/>
                  </a:lnTo>
                  <a:lnTo>
                    <a:pt x="418" y="830"/>
                  </a:lnTo>
                  <a:lnTo>
                    <a:pt x="712" y="808"/>
                  </a:lnTo>
                  <a:lnTo>
                    <a:pt x="712" y="808"/>
                  </a:lnTo>
                  <a:lnTo>
                    <a:pt x="732" y="806"/>
                  </a:lnTo>
                  <a:lnTo>
                    <a:pt x="750" y="800"/>
                  </a:lnTo>
                  <a:lnTo>
                    <a:pt x="766" y="792"/>
                  </a:lnTo>
                  <a:lnTo>
                    <a:pt x="782" y="780"/>
                  </a:lnTo>
                  <a:lnTo>
                    <a:pt x="794" y="768"/>
                  </a:lnTo>
                  <a:lnTo>
                    <a:pt x="806" y="752"/>
                  </a:lnTo>
                  <a:lnTo>
                    <a:pt x="814" y="736"/>
                  </a:lnTo>
                  <a:lnTo>
                    <a:pt x="820" y="718"/>
                  </a:lnTo>
                  <a:lnTo>
                    <a:pt x="964" y="150"/>
                  </a:lnTo>
                  <a:lnTo>
                    <a:pt x="964" y="150"/>
                  </a:lnTo>
                  <a:lnTo>
                    <a:pt x="968" y="136"/>
                  </a:lnTo>
                  <a:lnTo>
                    <a:pt x="968" y="120"/>
                  </a:lnTo>
                  <a:lnTo>
                    <a:pt x="968" y="106"/>
                  </a:lnTo>
                  <a:lnTo>
                    <a:pt x="964" y="92"/>
                  </a:lnTo>
                  <a:lnTo>
                    <a:pt x="960" y="78"/>
                  </a:lnTo>
                  <a:lnTo>
                    <a:pt x="954" y="64"/>
                  </a:lnTo>
                  <a:lnTo>
                    <a:pt x="946" y="52"/>
                  </a:lnTo>
                  <a:lnTo>
                    <a:pt x="936" y="40"/>
                  </a:lnTo>
                  <a:lnTo>
                    <a:pt x="936" y="40"/>
                  </a:lnTo>
                  <a:lnTo>
                    <a:pt x="926" y="30"/>
                  </a:lnTo>
                  <a:lnTo>
                    <a:pt x="914" y="20"/>
                  </a:lnTo>
                  <a:lnTo>
                    <a:pt x="902" y="12"/>
                  </a:lnTo>
                  <a:lnTo>
                    <a:pt x="888" y="8"/>
                  </a:lnTo>
                  <a:lnTo>
                    <a:pt x="874" y="4"/>
                  </a:lnTo>
                  <a:lnTo>
                    <a:pt x="860" y="0"/>
                  </a:lnTo>
                  <a:lnTo>
                    <a:pt x="844" y="0"/>
                  </a:lnTo>
                  <a:lnTo>
                    <a:pt x="830" y="2"/>
                  </a:lnTo>
                  <a:lnTo>
                    <a:pt x="100" y="116"/>
                  </a:lnTo>
                  <a:lnTo>
                    <a:pt x="100" y="116"/>
                  </a:lnTo>
                  <a:lnTo>
                    <a:pt x="86" y="120"/>
                  </a:lnTo>
                  <a:lnTo>
                    <a:pt x="72" y="124"/>
                  </a:lnTo>
                  <a:lnTo>
                    <a:pt x="58" y="130"/>
                  </a:lnTo>
                  <a:lnTo>
                    <a:pt x="46" y="138"/>
                  </a:lnTo>
                  <a:lnTo>
                    <a:pt x="36" y="148"/>
                  </a:lnTo>
                  <a:lnTo>
                    <a:pt x="26" y="158"/>
                  </a:lnTo>
                  <a:lnTo>
                    <a:pt x="18" y="170"/>
                  </a:lnTo>
                  <a:lnTo>
                    <a:pt x="10" y="184"/>
                  </a:lnTo>
                  <a:lnTo>
                    <a:pt x="10" y="184"/>
                  </a:lnTo>
                  <a:lnTo>
                    <a:pt x="4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0" y="242"/>
                  </a:lnTo>
                  <a:lnTo>
                    <a:pt x="0" y="256"/>
                  </a:lnTo>
                  <a:lnTo>
                    <a:pt x="4" y="270"/>
                  </a:lnTo>
                  <a:lnTo>
                    <a:pt x="10" y="284"/>
                  </a:lnTo>
                  <a:lnTo>
                    <a:pt x="16" y="296"/>
                  </a:lnTo>
                  <a:lnTo>
                    <a:pt x="118" y="234"/>
                  </a:lnTo>
                  <a:lnTo>
                    <a:pt x="138" y="352"/>
                  </a:lnTo>
                  <a:lnTo>
                    <a:pt x="688" y="266"/>
                  </a:lnTo>
                  <a:lnTo>
                    <a:pt x="610" y="576"/>
                  </a:lnTo>
                  <a:lnTo>
                    <a:pt x="474" y="586"/>
                  </a:lnTo>
                  <a:lnTo>
                    <a:pt x="222" y="172"/>
                  </a:lnTo>
                  <a:lnTo>
                    <a:pt x="118" y="234"/>
                  </a:lnTo>
                  <a:lnTo>
                    <a:pt x="138" y="352"/>
                  </a:lnTo>
                  <a:lnTo>
                    <a:pt x="118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68"/>
            <p:cNvSpPr/>
            <p:nvPr/>
          </p:nvSpPr>
          <p:spPr>
            <a:xfrm>
              <a:off x="4324320" y="8178840"/>
              <a:ext cx="679320" cy="796680"/>
            </a:xfrm>
            <a:custGeom>
              <a:avLst/>
              <a:gdLst>
                <a:gd name="textAreaLeft" fmla="*/ 0 w 679320"/>
                <a:gd name="textAreaRight" fmla="*/ 679320 w 67932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428" h="502">
                  <a:moveTo>
                    <a:pt x="0" y="52"/>
                  </a:moveTo>
                  <a:lnTo>
                    <a:pt x="20" y="502"/>
                  </a:lnTo>
                  <a:lnTo>
                    <a:pt x="64" y="500"/>
                  </a:lnTo>
                  <a:lnTo>
                    <a:pt x="64" y="500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248" y="50"/>
                  </a:lnTo>
                  <a:lnTo>
                    <a:pt x="248" y="50"/>
                  </a:lnTo>
                  <a:lnTo>
                    <a:pt x="386" y="426"/>
                  </a:lnTo>
                  <a:lnTo>
                    <a:pt x="428" y="410"/>
                  </a:lnTo>
                  <a:lnTo>
                    <a:pt x="278" y="0"/>
                  </a:lnTo>
                  <a:lnTo>
                    <a:pt x="0" y="3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69"/>
            <p:cNvSpPr/>
            <p:nvPr/>
          </p:nvSpPr>
          <p:spPr>
            <a:xfrm>
              <a:off x="4133880" y="7988400"/>
              <a:ext cx="1060200" cy="1174680"/>
            </a:xfrm>
            <a:custGeom>
              <a:avLst/>
              <a:gdLst>
                <a:gd name="textAreaLeft" fmla="*/ 0 w 1060200"/>
                <a:gd name="textAreaRight" fmla="*/ 1060560 w 10602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668" h="740">
                  <a:moveTo>
                    <a:pt x="120" y="172"/>
                  </a:moveTo>
                  <a:lnTo>
                    <a:pt x="0" y="178"/>
                  </a:lnTo>
                  <a:lnTo>
                    <a:pt x="20" y="626"/>
                  </a:lnTo>
                  <a:lnTo>
                    <a:pt x="20" y="626"/>
                  </a:lnTo>
                  <a:lnTo>
                    <a:pt x="22" y="650"/>
                  </a:lnTo>
                  <a:lnTo>
                    <a:pt x="30" y="672"/>
                  </a:lnTo>
                  <a:lnTo>
                    <a:pt x="42" y="692"/>
                  </a:lnTo>
                  <a:lnTo>
                    <a:pt x="58" y="710"/>
                  </a:lnTo>
                  <a:lnTo>
                    <a:pt x="58" y="710"/>
                  </a:lnTo>
                  <a:lnTo>
                    <a:pt x="78" y="724"/>
                  </a:lnTo>
                  <a:lnTo>
                    <a:pt x="98" y="734"/>
                  </a:lnTo>
                  <a:lnTo>
                    <a:pt x="122" y="740"/>
                  </a:lnTo>
                  <a:lnTo>
                    <a:pt x="144" y="740"/>
                  </a:lnTo>
                  <a:lnTo>
                    <a:pt x="190" y="738"/>
                  </a:lnTo>
                  <a:lnTo>
                    <a:pt x="190" y="738"/>
                  </a:lnTo>
                  <a:lnTo>
                    <a:pt x="202" y="738"/>
                  </a:lnTo>
                  <a:lnTo>
                    <a:pt x="214" y="736"/>
                  </a:lnTo>
                  <a:lnTo>
                    <a:pt x="236" y="728"/>
                  </a:lnTo>
                  <a:lnTo>
                    <a:pt x="256" y="716"/>
                  </a:lnTo>
                  <a:lnTo>
                    <a:pt x="272" y="700"/>
                  </a:lnTo>
                  <a:lnTo>
                    <a:pt x="286" y="682"/>
                  </a:lnTo>
                  <a:lnTo>
                    <a:pt x="298" y="662"/>
                  </a:lnTo>
                  <a:lnTo>
                    <a:pt x="304" y="638"/>
                  </a:lnTo>
                  <a:lnTo>
                    <a:pt x="304" y="626"/>
                  </a:lnTo>
                  <a:lnTo>
                    <a:pt x="304" y="614"/>
                  </a:lnTo>
                  <a:lnTo>
                    <a:pt x="304" y="614"/>
                  </a:lnTo>
                  <a:lnTo>
                    <a:pt x="286" y="186"/>
                  </a:lnTo>
                  <a:lnTo>
                    <a:pt x="166" y="192"/>
                  </a:lnTo>
                  <a:lnTo>
                    <a:pt x="180" y="312"/>
                  </a:lnTo>
                  <a:lnTo>
                    <a:pt x="180" y="312"/>
                  </a:lnTo>
                  <a:lnTo>
                    <a:pt x="382" y="288"/>
                  </a:lnTo>
                  <a:lnTo>
                    <a:pt x="368" y="170"/>
                  </a:lnTo>
                  <a:lnTo>
                    <a:pt x="256" y="210"/>
                  </a:lnTo>
                  <a:lnTo>
                    <a:pt x="256" y="210"/>
                  </a:lnTo>
                  <a:lnTo>
                    <a:pt x="328" y="410"/>
                  </a:lnTo>
                  <a:lnTo>
                    <a:pt x="328" y="410"/>
                  </a:lnTo>
                  <a:lnTo>
                    <a:pt x="394" y="588"/>
                  </a:lnTo>
                  <a:lnTo>
                    <a:pt x="394" y="588"/>
                  </a:lnTo>
                  <a:lnTo>
                    <a:pt x="398" y="598"/>
                  </a:lnTo>
                  <a:lnTo>
                    <a:pt x="404" y="608"/>
                  </a:lnTo>
                  <a:lnTo>
                    <a:pt x="418" y="628"/>
                  </a:lnTo>
                  <a:lnTo>
                    <a:pt x="436" y="644"/>
                  </a:lnTo>
                  <a:lnTo>
                    <a:pt x="456" y="654"/>
                  </a:lnTo>
                  <a:lnTo>
                    <a:pt x="478" y="662"/>
                  </a:lnTo>
                  <a:lnTo>
                    <a:pt x="500" y="666"/>
                  </a:lnTo>
                  <a:lnTo>
                    <a:pt x="524" y="664"/>
                  </a:lnTo>
                  <a:lnTo>
                    <a:pt x="536" y="662"/>
                  </a:lnTo>
                  <a:lnTo>
                    <a:pt x="548" y="658"/>
                  </a:lnTo>
                  <a:lnTo>
                    <a:pt x="590" y="642"/>
                  </a:lnTo>
                  <a:lnTo>
                    <a:pt x="590" y="642"/>
                  </a:lnTo>
                  <a:lnTo>
                    <a:pt x="610" y="632"/>
                  </a:lnTo>
                  <a:lnTo>
                    <a:pt x="630" y="618"/>
                  </a:lnTo>
                  <a:lnTo>
                    <a:pt x="646" y="602"/>
                  </a:lnTo>
                  <a:lnTo>
                    <a:pt x="658" y="580"/>
                  </a:lnTo>
                  <a:lnTo>
                    <a:pt x="658" y="580"/>
                  </a:lnTo>
                  <a:lnTo>
                    <a:pt x="666" y="558"/>
                  </a:lnTo>
                  <a:lnTo>
                    <a:pt x="668" y="536"/>
                  </a:lnTo>
                  <a:lnTo>
                    <a:pt x="666" y="512"/>
                  </a:lnTo>
                  <a:lnTo>
                    <a:pt x="660" y="488"/>
                  </a:lnTo>
                  <a:lnTo>
                    <a:pt x="510" y="78"/>
                  </a:lnTo>
                  <a:lnTo>
                    <a:pt x="510" y="78"/>
                  </a:lnTo>
                  <a:lnTo>
                    <a:pt x="502" y="60"/>
                  </a:lnTo>
                  <a:lnTo>
                    <a:pt x="490" y="44"/>
                  </a:lnTo>
                  <a:lnTo>
                    <a:pt x="476" y="30"/>
                  </a:lnTo>
                  <a:lnTo>
                    <a:pt x="462" y="18"/>
                  </a:lnTo>
                  <a:lnTo>
                    <a:pt x="444" y="10"/>
                  </a:lnTo>
                  <a:lnTo>
                    <a:pt x="424" y="4"/>
                  </a:lnTo>
                  <a:lnTo>
                    <a:pt x="404" y="0"/>
                  </a:lnTo>
                  <a:lnTo>
                    <a:pt x="384" y="0"/>
                  </a:lnTo>
                  <a:lnTo>
                    <a:pt x="106" y="32"/>
                  </a:lnTo>
                  <a:lnTo>
                    <a:pt x="106" y="32"/>
                  </a:lnTo>
                  <a:lnTo>
                    <a:pt x="84" y="38"/>
                  </a:lnTo>
                  <a:lnTo>
                    <a:pt x="62" y="46"/>
                  </a:lnTo>
                  <a:lnTo>
                    <a:pt x="44" y="58"/>
                  </a:lnTo>
                  <a:lnTo>
                    <a:pt x="28" y="74"/>
                  </a:lnTo>
                  <a:lnTo>
                    <a:pt x="16" y="92"/>
                  </a:lnTo>
                  <a:lnTo>
                    <a:pt x="6" y="112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0" y="178"/>
                  </a:lnTo>
                  <a:lnTo>
                    <a:pt x="120" y="172"/>
                  </a:lnTo>
                  <a:lnTo>
                    <a:pt x="240" y="168"/>
                  </a:lnTo>
                  <a:lnTo>
                    <a:pt x="240" y="146"/>
                  </a:lnTo>
                  <a:lnTo>
                    <a:pt x="120" y="152"/>
                  </a:lnTo>
                  <a:lnTo>
                    <a:pt x="134" y="272"/>
                  </a:lnTo>
                  <a:lnTo>
                    <a:pt x="318" y="250"/>
                  </a:lnTo>
                  <a:lnTo>
                    <a:pt x="436" y="572"/>
                  </a:lnTo>
                  <a:lnTo>
                    <a:pt x="548" y="530"/>
                  </a:lnTo>
                  <a:lnTo>
                    <a:pt x="508" y="418"/>
                  </a:lnTo>
                  <a:lnTo>
                    <a:pt x="464" y="434"/>
                  </a:lnTo>
                  <a:lnTo>
                    <a:pt x="506" y="546"/>
                  </a:lnTo>
                  <a:lnTo>
                    <a:pt x="618" y="504"/>
                  </a:lnTo>
                  <a:lnTo>
                    <a:pt x="618" y="504"/>
                  </a:lnTo>
                  <a:lnTo>
                    <a:pt x="480" y="128"/>
                  </a:lnTo>
                  <a:lnTo>
                    <a:pt x="480" y="128"/>
                  </a:lnTo>
                  <a:lnTo>
                    <a:pt x="472" y="110"/>
                  </a:lnTo>
                  <a:lnTo>
                    <a:pt x="460" y="92"/>
                  </a:lnTo>
                  <a:lnTo>
                    <a:pt x="446" y="78"/>
                  </a:lnTo>
                  <a:lnTo>
                    <a:pt x="430" y="66"/>
                  </a:lnTo>
                  <a:lnTo>
                    <a:pt x="414" y="58"/>
                  </a:lnTo>
                  <a:lnTo>
                    <a:pt x="394" y="52"/>
                  </a:lnTo>
                  <a:lnTo>
                    <a:pt x="374" y="50"/>
                  </a:lnTo>
                  <a:lnTo>
                    <a:pt x="354" y="50"/>
                  </a:lnTo>
                  <a:lnTo>
                    <a:pt x="354" y="50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30" y="78"/>
                  </a:lnTo>
                  <a:lnTo>
                    <a:pt x="110" y="86"/>
                  </a:lnTo>
                  <a:lnTo>
                    <a:pt x="90" y="98"/>
                  </a:lnTo>
                  <a:lnTo>
                    <a:pt x="76" y="114"/>
                  </a:lnTo>
                  <a:lnTo>
                    <a:pt x="62" y="132"/>
                  </a:lnTo>
                  <a:lnTo>
                    <a:pt x="54" y="152"/>
                  </a:lnTo>
                  <a:lnTo>
                    <a:pt x="48" y="174"/>
                  </a:lnTo>
                  <a:lnTo>
                    <a:pt x="46" y="198"/>
                  </a:lnTo>
                  <a:lnTo>
                    <a:pt x="46" y="198"/>
                  </a:lnTo>
                  <a:lnTo>
                    <a:pt x="56" y="424"/>
                  </a:lnTo>
                  <a:lnTo>
                    <a:pt x="56" y="424"/>
                  </a:lnTo>
                  <a:lnTo>
                    <a:pt x="64" y="624"/>
                  </a:lnTo>
                  <a:lnTo>
                    <a:pt x="184" y="620"/>
                  </a:lnTo>
                  <a:lnTo>
                    <a:pt x="180" y="500"/>
                  </a:lnTo>
                  <a:lnTo>
                    <a:pt x="134" y="502"/>
                  </a:lnTo>
                  <a:lnTo>
                    <a:pt x="140" y="622"/>
                  </a:lnTo>
                  <a:lnTo>
                    <a:pt x="260" y="616"/>
                  </a:lnTo>
                  <a:lnTo>
                    <a:pt x="240" y="168"/>
                  </a:lnTo>
                  <a:lnTo>
                    <a:pt x="120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70"/>
            <p:cNvSpPr/>
            <p:nvPr/>
          </p:nvSpPr>
          <p:spPr>
            <a:xfrm>
              <a:off x="4282920" y="8712360"/>
              <a:ext cx="796680" cy="86040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502" h="542">
                  <a:moveTo>
                    <a:pt x="0" y="130"/>
                  </a:moveTo>
                  <a:lnTo>
                    <a:pt x="58" y="502"/>
                  </a:lnTo>
                  <a:lnTo>
                    <a:pt x="172" y="542"/>
                  </a:lnTo>
                  <a:lnTo>
                    <a:pt x="374" y="514"/>
                  </a:lnTo>
                  <a:lnTo>
                    <a:pt x="502" y="416"/>
                  </a:lnTo>
                  <a:lnTo>
                    <a:pt x="482" y="90"/>
                  </a:lnTo>
                  <a:lnTo>
                    <a:pt x="344" y="0"/>
                  </a:lnTo>
                  <a:lnTo>
                    <a:pt x="108" y="5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87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71"/>
            <p:cNvSpPr/>
            <p:nvPr/>
          </p:nvSpPr>
          <p:spPr>
            <a:xfrm>
              <a:off x="4092480" y="8521920"/>
              <a:ext cx="1177920" cy="1241280"/>
            </a:xfrm>
            <a:custGeom>
              <a:avLst/>
              <a:gdLst>
                <a:gd name="textAreaLeft" fmla="*/ 0 w 1177920"/>
                <a:gd name="textAreaRight" fmla="*/ 1178280 w 117792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742" h="782">
                  <a:moveTo>
                    <a:pt x="120" y="250"/>
                  </a:moveTo>
                  <a:lnTo>
                    <a:pt x="2" y="268"/>
                  </a:lnTo>
                  <a:lnTo>
                    <a:pt x="60" y="640"/>
                  </a:lnTo>
                  <a:lnTo>
                    <a:pt x="60" y="640"/>
                  </a:lnTo>
                  <a:lnTo>
                    <a:pt x="64" y="656"/>
                  </a:lnTo>
                  <a:lnTo>
                    <a:pt x="70" y="672"/>
                  </a:lnTo>
                  <a:lnTo>
                    <a:pt x="76" y="686"/>
                  </a:lnTo>
                  <a:lnTo>
                    <a:pt x="86" y="698"/>
                  </a:lnTo>
                  <a:lnTo>
                    <a:pt x="96" y="710"/>
                  </a:lnTo>
                  <a:lnTo>
                    <a:pt x="110" y="720"/>
                  </a:lnTo>
                  <a:lnTo>
                    <a:pt x="122" y="728"/>
                  </a:lnTo>
                  <a:lnTo>
                    <a:pt x="138" y="734"/>
                  </a:lnTo>
                  <a:lnTo>
                    <a:pt x="252" y="776"/>
                  </a:lnTo>
                  <a:lnTo>
                    <a:pt x="252" y="776"/>
                  </a:lnTo>
                  <a:lnTo>
                    <a:pt x="266" y="780"/>
                  </a:lnTo>
                  <a:lnTo>
                    <a:pt x="280" y="782"/>
                  </a:lnTo>
                  <a:lnTo>
                    <a:pt x="294" y="782"/>
                  </a:lnTo>
                  <a:lnTo>
                    <a:pt x="310" y="782"/>
                  </a:lnTo>
                  <a:lnTo>
                    <a:pt x="510" y="754"/>
                  </a:lnTo>
                  <a:lnTo>
                    <a:pt x="510" y="754"/>
                  </a:lnTo>
                  <a:lnTo>
                    <a:pt x="526" y="750"/>
                  </a:lnTo>
                  <a:lnTo>
                    <a:pt x="540" y="746"/>
                  </a:lnTo>
                  <a:lnTo>
                    <a:pt x="554" y="738"/>
                  </a:lnTo>
                  <a:lnTo>
                    <a:pt x="568" y="730"/>
                  </a:lnTo>
                  <a:lnTo>
                    <a:pt x="696" y="630"/>
                  </a:lnTo>
                  <a:lnTo>
                    <a:pt x="696" y="630"/>
                  </a:lnTo>
                  <a:lnTo>
                    <a:pt x="706" y="620"/>
                  </a:lnTo>
                  <a:lnTo>
                    <a:pt x="716" y="610"/>
                  </a:lnTo>
                  <a:lnTo>
                    <a:pt x="724" y="598"/>
                  </a:lnTo>
                  <a:lnTo>
                    <a:pt x="732" y="586"/>
                  </a:lnTo>
                  <a:lnTo>
                    <a:pt x="736" y="572"/>
                  </a:lnTo>
                  <a:lnTo>
                    <a:pt x="740" y="558"/>
                  </a:lnTo>
                  <a:lnTo>
                    <a:pt x="742" y="544"/>
                  </a:lnTo>
                  <a:lnTo>
                    <a:pt x="742" y="528"/>
                  </a:lnTo>
                  <a:lnTo>
                    <a:pt x="722" y="202"/>
                  </a:lnTo>
                  <a:lnTo>
                    <a:pt x="722" y="202"/>
                  </a:lnTo>
                  <a:lnTo>
                    <a:pt x="720" y="188"/>
                  </a:lnTo>
                  <a:lnTo>
                    <a:pt x="718" y="176"/>
                  </a:lnTo>
                  <a:lnTo>
                    <a:pt x="712" y="162"/>
                  </a:lnTo>
                  <a:lnTo>
                    <a:pt x="706" y="150"/>
                  </a:lnTo>
                  <a:lnTo>
                    <a:pt x="698" y="138"/>
                  </a:lnTo>
                  <a:lnTo>
                    <a:pt x="690" y="128"/>
                  </a:lnTo>
                  <a:lnTo>
                    <a:pt x="680" y="118"/>
                  </a:lnTo>
                  <a:lnTo>
                    <a:pt x="668" y="110"/>
                  </a:lnTo>
                  <a:lnTo>
                    <a:pt x="530" y="20"/>
                  </a:lnTo>
                  <a:lnTo>
                    <a:pt x="530" y="20"/>
                  </a:lnTo>
                  <a:lnTo>
                    <a:pt x="508" y="8"/>
                  </a:lnTo>
                  <a:lnTo>
                    <a:pt x="486" y="2"/>
                  </a:lnTo>
                  <a:lnTo>
                    <a:pt x="462" y="0"/>
                  </a:lnTo>
                  <a:lnTo>
                    <a:pt x="440" y="2"/>
                  </a:lnTo>
                  <a:lnTo>
                    <a:pt x="204" y="52"/>
                  </a:lnTo>
                  <a:lnTo>
                    <a:pt x="204" y="52"/>
                  </a:lnTo>
                  <a:lnTo>
                    <a:pt x="190" y="56"/>
                  </a:lnTo>
                  <a:lnTo>
                    <a:pt x="178" y="60"/>
                  </a:lnTo>
                  <a:lnTo>
                    <a:pt x="168" y="66"/>
                  </a:lnTo>
                  <a:lnTo>
                    <a:pt x="156" y="74"/>
                  </a:lnTo>
                  <a:lnTo>
                    <a:pt x="48" y="154"/>
                  </a:lnTo>
                  <a:lnTo>
                    <a:pt x="48" y="154"/>
                  </a:lnTo>
                  <a:lnTo>
                    <a:pt x="36" y="164"/>
                  </a:lnTo>
                  <a:lnTo>
                    <a:pt x="26" y="176"/>
                  </a:lnTo>
                  <a:lnTo>
                    <a:pt x="16" y="190"/>
                  </a:lnTo>
                  <a:lnTo>
                    <a:pt x="10" y="204"/>
                  </a:lnTo>
                  <a:lnTo>
                    <a:pt x="4" y="220"/>
                  </a:lnTo>
                  <a:lnTo>
                    <a:pt x="0" y="236"/>
                  </a:lnTo>
                  <a:lnTo>
                    <a:pt x="0" y="252"/>
                  </a:lnTo>
                  <a:lnTo>
                    <a:pt x="2" y="268"/>
                  </a:lnTo>
                  <a:lnTo>
                    <a:pt x="120" y="250"/>
                  </a:lnTo>
                  <a:lnTo>
                    <a:pt x="192" y="346"/>
                  </a:lnTo>
                  <a:lnTo>
                    <a:pt x="278" y="282"/>
                  </a:lnTo>
                  <a:lnTo>
                    <a:pt x="440" y="248"/>
                  </a:lnTo>
                  <a:lnTo>
                    <a:pt x="486" y="278"/>
                  </a:lnTo>
                  <a:lnTo>
                    <a:pt x="498" y="480"/>
                  </a:lnTo>
                  <a:lnTo>
                    <a:pt x="446" y="520"/>
                  </a:lnTo>
                  <a:lnTo>
                    <a:pt x="306" y="540"/>
                  </a:lnTo>
                  <a:lnTo>
                    <a:pt x="286" y="532"/>
                  </a:lnTo>
                  <a:lnTo>
                    <a:pt x="238" y="232"/>
                  </a:lnTo>
                  <a:lnTo>
                    <a:pt x="120" y="250"/>
                  </a:lnTo>
                  <a:lnTo>
                    <a:pt x="192" y="346"/>
                  </a:lnTo>
                  <a:lnTo>
                    <a:pt x="120" y="2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72"/>
            <p:cNvSpPr/>
            <p:nvPr/>
          </p:nvSpPr>
          <p:spPr>
            <a:xfrm>
              <a:off x="4359240" y="9166320"/>
              <a:ext cx="720720" cy="40608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454" h="256">
                  <a:moveTo>
                    <a:pt x="454" y="130"/>
                  </a:moveTo>
                  <a:lnTo>
                    <a:pt x="450" y="64"/>
                  </a:lnTo>
                  <a:lnTo>
                    <a:pt x="370" y="0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72" y="72"/>
                  </a:lnTo>
                  <a:lnTo>
                    <a:pt x="38" y="112"/>
                  </a:lnTo>
                  <a:lnTo>
                    <a:pt x="0" y="152"/>
                  </a:lnTo>
                  <a:lnTo>
                    <a:pt x="10" y="216"/>
                  </a:lnTo>
                  <a:lnTo>
                    <a:pt x="124" y="256"/>
                  </a:lnTo>
                  <a:lnTo>
                    <a:pt x="326" y="228"/>
                  </a:lnTo>
                  <a:lnTo>
                    <a:pt x="454" y="130"/>
                  </a:lnTo>
                  <a:close/>
                </a:path>
              </a:pathLst>
            </a:custGeom>
            <a:solidFill>
              <a:srgbClr val="a46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73"/>
            <p:cNvSpPr/>
            <p:nvPr/>
          </p:nvSpPr>
          <p:spPr>
            <a:xfrm>
              <a:off x="4168800" y="8975880"/>
              <a:ext cx="1101600" cy="787320"/>
            </a:xfrm>
            <a:custGeom>
              <a:avLst/>
              <a:gdLst>
                <a:gd name="textAreaLeft" fmla="*/ 0 w 1101600"/>
                <a:gd name="textAreaRight" fmla="*/ 1101960 w 110160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694" h="496">
                  <a:moveTo>
                    <a:pt x="574" y="250"/>
                  </a:moveTo>
                  <a:lnTo>
                    <a:pt x="694" y="242"/>
                  </a:lnTo>
                  <a:lnTo>
                    <a:pt x="690" y="176"/>
                  </a:lnTo>
                  <a:lnTo>
                    <a:pt x="690" y="176"/>
                  </a:lnTo>
                  <a:lnTo>
                    <a:pt x="688" y="164"/>
                  </a:lnTo>
                  <a:lnTo>
                    <a:pt x="686" y="152"/>
                  </a:lnTo>
                  <a:lnTo>
                    <a:pt x="682" y="140"/>
                  </a:lnTo>
                  <a:lnTo>
                    <a:pt x="676" y="128"/>
                  </a:lnTo>
                  <a:lnTo>
                    <a:pt x="670" y="118"/>
                  </a:lnTo>
                  <a:lnTo>
                    <a:pt x="662" y="108"/>
                  </a:lnTo>
                  <a:lnTo>
                    <a:pt x="654" y="98"/>
                  </a:lnTo>
                  <a:lnTo>
                    <a:pt x="644" y="90"/>
                  </a:lnTo>
                  <a:lnTo>
                    <a:pt x="564" y="26"/>
                  </a:lnTo>
                  <a:lnTo>
                    <a:pt x="564" y="26"/>
                  </a:lnTo>
                  <a:lnTo>
                    <a:pt x="544" y="12"/>
                  </a:lnTo>
                  <a:lnTo>
                    <a:pt x="522" y="4"/>
                  </a:lnTo>
                  <a:lnTo>
                    <a:pt x="500" y="0"/>
                  </a:lnTo>
                  <a:lnTo>
                    <a:pt x="476" y="0"/>
                  </a:lnTo>
                  <a:lnTo>
                    <a:pt x="214" y="32"/>
                  </a:lnTo>
                  <a:lnTo>
                    <a:pt x="214" y="32"/>
                  </a:lnTo>
                  <a:lnTo>
                    <a:pt x="190" y="36"/>
                  </a:lnTo>
                  <a:lnTo>
                    <a:pt x="170" y="46"/>
                  </a:lnTo>
                  <a:lnTo>
                    <a:pt x="152" y="58"/>
                  </a:lnTo>
                  <a:lnTo>
                    <a:pt x="134" y="74"/>
                  </a:lnTo>
                  <a:lnTo>
                    <a:pt x="134" y="74"/>
                  </a:lnTo>
                  <a:lnTo>
                    <a:pt x="134" y="74"/>
                  </a:lnTo>
                  <a:lnTo>
                    <a:pt x="100" y="116"/>
                  </a:lnTo>
                  <a:lnTo>
                    <a:pt x="100" y="116"/>
                  </a:lnTo>
                  <a:lnTo>
                    <a:pt x="68" y="154"/>
                  </a:lnTo>
                  <a:lnTo>
                    <a:pt x="32" y="190"/>
                  </a:lnTo>
                  <a:lnTo>
                    <a:pt x="32" y="190"/>
                  </a:lnTo>
                  <a:lnTo>
                    <a:pt x="24" y="202"/>
                  </a:lnTo>
                  <a:lnTo>
                    <a:pt x="16" y="212"/>
                  </a:lnTo>
                  <a:lnTo>
                    <a:pt x="10" y="224"/>
                  </a:lnTo>
                  <a:lnTo>
                    <a:pt x="6" y="238"/>
                  </a:lnTo>
                  <a:lnTo>
                    <a:pt x="2" y="250"/>
                  </a:lnTo>
                  <a:lnTo>
                    <a:pt x="0" y="264"/>
                  </a:lnTo>
                  <a:lnTo>
                    <a:pt x="0" y="278"/>
                  </a:lnTo>
                  <a:lnTo>
                    <a:pt x="2" y="292"/>
                  </a:lnTo>
                  <a:lnTo>
                    <a:pt x="12" y="354"/>
                  </a:lnTo>
                  <a:lnTo>
                    <a:pt x="12" y="354"/>
                  </a:lnTo>
                  <a:lnTo>
                    <a:pt x="16" y="370"/>
                  </a:lnTo>
                  <a:lnTo>
                    <a:pt x="22" y="386"/>
                  </a:lnTo>
                  <a:lnTo>
                    <a:pt x="28" y="400"/>
                  </a:lnTo>
                  <a:lnTo>
                    <a:pt x="38" y="412"/>
                  </a:lnTo>
                  <a:lnTo>
                    <a:pt x="48" y="424"/>
                  </a:lnTo>
                  <a:lnTo>
                    <a:pt x="62" y="434"/>
                  </a:lnTo>
                  <a:lnTo>
                    <a:pt x="74" y="442"/>
                  </a:lnTo>
                  <a:lnTo>
                    <a:pt x="90" y="448"/>
                  </a:lnTo>
                  <a:lnTo>
                    <a:pt x="204" y="490"/>
                  </a:lnTo>
                  <a:lnTo>
                    <a:pt x="204" y="490"/>
                  </a:lnTo>
                  <a:lnTo>
                    <a:pt x="218" y="494"/>
                  </a:lnTo>
                  <a:lnTo>
                    <a:pt x="232" y="496"/>
                  </a:lnTo>
                  <a:lnTo>
                    <a:pt x="246" y="496"/>
                  </a:lnTo>
                  <a:lnTo>
                    <a:pt x="262" y="496"/>
                  </a:lnTo>
                  <a:lnTo>
                    <a:pt x="462" y="468"/>
                  </a:lnTo>
                  <a:lnTo>
                    <a:pt x="462" y="468"/>
                  </a:lnTo>
                  <a:lnTo>
                    <a:pt x="478" y="464"/>
                  </a:lnTo>
                  <a:lnTo>
                    <a:pt x="492" y="460"/>
                  </a:lnTo>
                  <a:lnTo>
                    <a:pt x="506" y="452"/>
                  </a:lnTo>
                  <a:lnTo>
                    <a:pt x="520" y="444"/>
                  </a:lnTo>
                  <a:lnTo>
                    <a:pt x="648" y="344"/>
                  </a:lnTo>
                  <a:lnTo>
                    <a:pt x="648" y="344"/>
                  </a:lnTo>
                  <a:lnTo>
                    <a:pt x="658" y="334"/>
                  </a:lnTo>
                  <a:lnTo>
                    <a:pt x="668" y="324"/>
                  </a:lnTo>
                  <a:lnTo>
                    <a:pt x="676" y="312"/>
                  </a:lnTo>
                  <a:lnTo>
                    <a:pt x="684" y="300"/>
                  </a:lnTo>
                  <a:lnTo>
                    <a:pt x="688" y="286"/>
                  </a:lnTo>
                  <a:lnTo>
                    <a:pt x="692" y="272"/>
                  </a:lnTo>
                  <a:lnTo>
                    <a:pt x="694" y="258"/>
                  </a:lnTo>
                  <a:lnTo>
                    <a:pt x="694" y="242"/>
                  </a:lnTo>
                  <a:lnTo>
                    <a:pt x="574" y="250"/>
                  </a:lnTo>
                  <a:lnTo>
                    <a:pt x="500" y="154"/>
                  </a:lnTo>
                  <a:lnTo>
                    <a:pt x="398" y="234"/>
                  </a:lnTo>
                  <a:lnTo>
                    <a:pt x="258" y="254"/>
                  </a:lnTo>
                  <a:lnTo>
                    <a:pt x="170" y="222"/>
                  </a:lnTo>
                  <a:lnTo>
                    <a:pt x="130" y="336"/>
                  </a:lnTo>
                  <a:lnTo>
                    <a:pt x="248" y="318"/>
                  </a:lnTo>
                  <a:lnTo>
                    <a:pt x="240" y="254"/>
                  </a:lnTo>
                  <a:lnTo>
                    <a:pt x="120" y="272"/>
                  </a:lnTo>
                  <a:lnTo>
                    <a:pt x="208" y="354"/>
                  </a:lnTo>
                  <a:lnTo>
                    <a:pt x="208" y="354"/>
                  </a:lnTo>
                  <a:lnTo>
                    <a:pt x="248" y="312"/>
                  </a:lnTo>
                  <a:lnTo>
                    <a:pt x="284" y="270"/>
                  </a:lnTo>
                  <a:lnTo>
                    <a:pt x="284" y="270"/>
                  </a:lnTo>
                  <a:lnTo>
                    <a:pt x="320" y="226"/>
                  </a:lnTo>
                  <a:lnTo>
                    <a:pt x="228" y="150"/>
                  </a:lnTo>
                  <a:lnTo>
                    <a:pt x="242" y="270"/>
                  </a:lnTo>
                  <a:lnTo>
                    <a:pt x="454" y="244"/>
                  </a:lnTo>
                  <a:lnTo>
                    <a:pt x="496" y="278"/>
                  </a:lnTo>
                  <a:lnTo>
                    <a:pt x="570" y="184"/>
                  </a:lnTo>
                  <a:lnTo>
                    <a:pt x="450" y="190"/>
                  </a:lnTo>
                  <a:lnTo>
                    <a:pt x="454" y="256"/>
                  </a:lnTo>
                  <a:lnTo>
                    <a:pt x="574" y="250"/>
                  </a:lnTo>
                  <a:lnTo>
                    <a:pt x="500" y="154"/>
                  </a:lnTo>
                  <a:lnTo>
                    <a:pt x="574" y="2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74"/>
            <p:cNvSpPr/>
            <p:nvPr/>
          </p:nvSpPr>
          <p:spPr>
            <a:xfrm>
              <a:off x="2492280" y="1025280"/>
              <a:ext cx="895320" cy="342252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3422520"/>
                <a:gd name="textAreaBottom" fmla="*/ 3422880 h 3422520"/>
              </a:gdLst>
              <a:ahLst/>
              <a:rect l="textAreaLeft" t="textAreaTop" r="textAreaRight" b="textAreaBottom"/>
              <a:pathLst>
                <a:path w="564" h="2156">
                  <a:moveTo>
                    <a:pt x="368" y="408"/>
                  </a:moveTo>
                  <a:lnTo>
                    <a:pt x="368" y="408"/>
                  </a:lnTo>
                  <a:lnTo>
                    <a:pt x="366" y="356"/>
                  </a:lnTo>
                  <a:lnTo>
                    <a:pt x="362" y="304"/>
                  </a:lnTo>
                  <a:lnTo>
                    <a:pt x="358" y="254"/>
                  </a:lnTo>
                  <a:lnTo>
                    <a:pt x="352" y="204"/>
                  </a:lnTo>
                  <a:lnTo>
                    <a:pt x="344" y="158"/>
                  </a:lnTo>
                  <a:lnTo>
                    <a:pt x="334" y="116"/>
                  </a:lnTo>
                  <a:lnTo>
                    <a:pt x="322" y="80"/>
                  </a:lnTo>
                  <a:lnTo>
                    <a:pt x="310" y="48"/>
                  </a:lnTo>
                  <a:lnTo>
                    <a:pt x="302" y="34"/>
                  </a:lnTo>
                  <a:lnTo>
                    <a:pt x="292" y="24"/>
                  </a:lnTo>
                  <a:lnTo>
                    <a:pt x="284" y="14"/>
                  </a:lnTo>
                  <a:lnTo>
                    <a:pt x="274" y="6"/>
                  </a:lnTo>
                  <a:lnTo>
                    <a:pt x="264" y="2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28" y="2"/>
                  </a:lnTo>
                  <a:lnTo>
                    <a:pt x="216" y="6"/>
                  </a:lnTo>
                  <a:lnTo>
                    <a:pt x="202" y="14"/>
                  </a:lnTo>
                  <a:lnTo>
                    <a:pt x="186" y="26"/>
                  </a:lnTo>
                  <a:lnTo>
                    <a:pt x="172" y="40"/>
                  </a:lnTo>
                  <a:lnTo>
                    <a:pt x="156" y="58"/>
                  </a:lnTo>
                  <a:lnTo>
                    <a:pt x="138" y="78"/>
                  </a:lnTo>
                  <a:lnTo>
                    <a:pt x="120" y="102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84" y="158"/>
                  </a:lnTo>
                  <a:lnTo>
                    <a:pt x="68" y="188"/>
                  </a:lnTo>
                  <a:lnTo>
                    <a:pt x="54" y="218"/>
                  </a:lnTo>
                  <a:lnTo>
                    <a:pt x="42" y="248"/>
                  </a:lnTo>
                  <a:lnTo>
                    <a:pt x="32" y="278"/>
                  </a:lnTo>
                  <a:lnTo>
                    <a:pt x="22" y="310"/>
                  </a:lnTo>
                  <a:lnTo>
                    <a:pt x="14" y="340"/>
                  </a:lnTo>
                  <a:lnTo>
                    <a:pt x="8" y="372"/>
                  </a:lnTo>
                  <a:lnTo>
                    <a:pt x="4" y="404"/>
                  </a:lnTo>
                  <a:lnTo>
                    <a:pt x="2" y="436"/>
                  </a:lnTo>
                  <a:lnTo>
                    <a:pt x="0" y="468"/>
                  </a:lnTo>
                  <a:lnTo>
                    <a:pt x="0" y="502"/>
                  </a:lnTo>
                  <a:lnTo>
                    <a:pt x="2" y="568"/>
                  </a:lnTo>
                  <a:lnTo>
                    <a:pt x="8" y="634"/>
                  </a:lnTo>
                  <a:lnTo>
                    <a:pt x="18" y="700"/>
                  </a:lnTo>
                  <a:lnTo>
                    <a:pt x="32" y="764"/>
                  </a:lnTo>
                  <a:lnTo>
                    <a:pt x="46" y="830"/>
                  </a:lnTo>
                  <a:lnTo>
                    <a:pt x="64" y="894"/>
                  </a:lnTo>
                  <a:lnTo>
                    <a:pt x="84" y="958"/>
                  </a:lnTo>
                  <a:lnTo>
                    <a:pt x="106" y="1020"/>
                  </a:lnTo>
                  <a:lnTo>
                    <a:pt x="148" y="1140"/>
                  </a:lnTo>
                  <a:lnTo>
                    <a:pt x="148" y="1140"/>
                  </a:lnTo>
                  <a:lnTo>
                    <a:pt x="190" y="1260"/>
                  </a:lnTo>
                  <a:lnTo>
                    <a:pt x="234" y="1390"/>
                  </a:lnTo>
                  <a:lnTo>
                    <a:pt x="280" y="1526"/>
                  </a:lnTo>
                  <a:lnTo>
                    <a:pt x="328" y="1664"/>
                  </a:lnTo>
                  <a:lnTo>
                    <a:pt x="352" y="1732"/>
                  </a:lnTo>
                  <a:lnTo>
                    <a:pt x="380" y="1800"/>
                  </a:lnTo>
                  <a:lnTo>
                    <a:pt x="406" y="1866"/>
                  </a:lnTo>
                  <a:lnTo>
                    <a:pt x="436" y="1930"/>
                  </a:lnTo>
                  <a:lnTo>
                    <a:pt x="466" y="1992"/>
                  </a:lnTo>
                  <a:lnTo>
                    <a:pt x="496" y="2050"/>
                  </a:lnTo>
                  <a:lnTo>
                    <a:pt x="530" y="2106"/>
                  </a:lnTo>
                  <a:lnTo>
                    <a:pt x="564" y="2156"/>
                  </a:lnTo>
                  <a:lnTo>
                    <a:pt x="564" y="2156"/>
                  </a:lnTo>
                  <a:lnTo>
                    <a:pt x="552" y="2064"/>
                  </a:lnTo>
                  <a:lnTo>
                    <a:pt x="538" y="1972"/>
                  </a:lnTo>
                  <a:lnTo>
                    <a:pt x="522" y="1880"/>
                  </a:lnTo>
                  <a:lnTo>
                    <a:pt x="504" y="1788"/>
                  </a:lnTo>
                  <a:lnTo>
                    <a:pt x="464" y="1606"/>
                  </a:lnTo>
                  <a:lnTo>
                    <a:pt x="426" y="1424"/>
                  </a:lnTo>
                  <a:lnTo>
                    <a:pt x="408" y="1334"/>
                  </a:lnTo>
                  <a:lnTo>
                    <a:pt x="392" y="1242"/>
                  </a:lnTo>
                  <a:lnTo>
                    <a:pt x="378" y="1152"/>
                  </a:lnTo>
                  <a:lnTo>
                    <a:pt x="366" y="1060"/>
                  </a:lnTo>
                  <a:lnTo>
                    <a:pt x="358" y="968"/>
                  </a:lnTo>
                  <a:lnTo>
                    <a:pt x="356" y="876"/>
                  </a:lnTo>
                  <a:lnTo>
                    <a:pt x="356" y="828"/>
                  </a:lnTo>
                  <a:lnTo>
                    <a:pt x="356" y="782"/>
                  </a:lnTo>
                  <a:lnTo>
                    <a:pt x="358" y="734"/>
                  </a:lnTo>
                  <a:lnTo>
                    <a:pt x="362" y="688"/>
                  </a:lnTo>
                  <a:lnTo>
                    <a:pt x="362" y="688"/>
                  </a:lnTo>
                  <a:lnTo>
                    <a:pt x="366" y="642"/>
                  </a:lnTo>
                  <a:lnTo>
                    <a:pt x="368" y="576"/>
                  </a:lnTo>
                  <a:lnTo>
                    <a:pt x="370" y="496"/>
                  </a:lnTo>
                  <a:lnTo>
                    <a:pt x="368" y="408"/>
                  </a:lnTo>
                  <a:lnTo>
                    <a:pt x="368" y="408"/>
                  </a:lnTo>
                  <a:close/>
                </a:path>
              </a:pathLst>
            </a:custGeom>
            <a:solidFill>
              <a:srgbClr val="f9d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75"/>
            <p:cNvSpPr/>
            <p:nvPr/>
          </p:nvSpPr>
          <p:spPr>
            <a:xfrm>
              <a:off x="2301840" y="831600"/>
              <a:ext cx="1276200" cy="3807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3807000"/>
                <a:gd name="textAreaBottom" fmla="*/ 3807360 h 3807000"/>
              </a:gdLst>
              <a:ahLst/>
              <a:rect l="textAreaLeft" t="textAreaTop" r="textAreaRight" b="textAreaBottom"/>
              <a:pathLst>
                <a:path w="804" h="2398">
                  <a:moveTo>
                    <a:pt x="488" y="530"/>
                  </a:moveTo>
                  <a:lnTo>
                    <a:pt x="608" y="526"/>
                  </a:lnTo>
                  <a:lnTo>
                    <a:pt x="608" y="526"/>
                  </a:lnTo>
                  <a:lnTo>
                    <a:pt x="604" y="450"/>
                  </a:lnTo>
                  <a:lnTo>
                    <a:pt x="598" y="372"/>
                  </a:lnTo>
                  <a:lnTo>
                    <a:pt x="598" y="372"/>
                  </a:lnTo>
                  <a:lnTo>
                    <a:pt x="592" y="316"/>
                  </a:lnTo>
                  <a:lnTo>
                    <a:pt x="582" y="260"/>
                  </a:lnTo>
                  <a:lnTo>
                    <a:pt x="582" y="260"/>
                  </a:lnTo>
                  <a:lnTo>
                    <a:pt x="574" y="220"/>
                  </a:lnTo>
                  <a:lnTo>
                    <a:pt x="564" y="182"/>
                  </a:lnTo>
                  <a:lnTo>
                    <a:pt x="564" y="182"/>
                  </a:lnTo>
                  <a:lnTo>
                    <a:pt x="554" y="154"/>
                  </a:lnTo>
                  <a:lnTo>
                    <a:pt x="542" y="126"/>
                  </a:lnTo>
                  <a:lnTo>
                    <a:pt x="542" y="126"/>
                  </a:lnTo>
                  <a:lnTo>
                    <a:pt x="532" y="106"/>
                  </a:lnTo>
                  <a:lnTo>
                    <a:pt x="518" y="86"/>
                  </a:lnTo>
                  <a:lnTo>
                    <a:pt x="518" y="86"/>
                  </a:lnTo>
                  <a:lnTo>
                    <a:pt x="508" y="70"/>
                  </a:lnTo>
                  <a:lnTo>
                    <a:pt x="494" y="56"/>
                  </a:lnTo>
                  <a:lnTo>
                    <a:pt x="494" y="56"/>
                  </a:lnTo>
                  <a:lnTo>
                    <a:pt x="482" y="46"/>
                  </a:lnTo>
                  <a:lnTo>
                    <a:pt x="470" y="36"/>
                  </a:lnTo>
                  <a:lnTo>
                    <a:pt x="456" y="26"/>
                  </a:lnTo>
                  <a:lnTo>
                    <a:pt x="440" y="18"/>
                  </a:lnTo>
                  <a:lnTo>
                    <a:pt x="440" y="18"/>
                  </a:lnTo>
                  <a:lnTo>
                    <a:pt x="422" y="10"/>
                  </a:lnTo>
                  <a:lnTo>
                    <a:pt x="404" y="6"/>
                  </a:lnTo>
                  <a:lnTo>
                    <a:pt x="404" y="6"/>
                  </a:lnTo>
                  <a:lnTo>
                    <a:pt x="386" y="2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44" y="2"/>
                  </a:lnTo>
                  <a:lnTo>
                    <a:pt x="324" y="6"/>
                  </a:lnTo>
                  <a:lnTo>
                    <a:pt x="324" y="6"/>
                  </a:lnTo>
                  <a:lnTo>
                    <a:pt x="306" y="12"/>
                  </a:lnTo>
                  <a:lnTo>
                    <a:pt x="290" y="18"/>
                  </a:lnTo>
                  <a:lnTo>
                    <a:pt x="274" y="26"/>
                  </a:lnTo>
                  <a:lnTo>
                    <a:pt x="260" y="34"/>
                  </a:lnTo>
                  <a:lnTo>
                    <a:pt x="260" y="34"/>
                  </a:lnTo>
                  <a:lnTo>
                    <a:pt x="240" y="48"/>
                  </a:lnTo>
                  <a:lnTo>
                    <a:pt x="222" y="62"/>
                  </a:lnTo>
                  <a:lnTo>
                    <a:pt x="204" y="80"/>
                  </a:lnTo>
                  <a:lnTo>
                    <a:pt x="188" y="98"/>
                  </a:lnTo>
                  <a:lnTo>
                    <a:pt x="188" y="98"/>
                  </a:lnTo>
                  <a:lnTo>
                    <a:pt x="154" y="138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04" y="212"/>
                  </a:lnTo>
                  <a:lnTo>
                    <a:pt x="90" y="238"/>
                  </a:lnTo>
                  <a:lnTo>
                    <a:pt x="76" y="264"/>
                  </a:lnTo>
                  <a:lnTo>
                    <a:pt x="64" y="292"/>
                  </a:lnTo>
                  <a:lnTo>
                    <a:pt x="42" y="346"/>
                  </a:lnTo>
                  <a:lnTo>
                    <a:pt x="26" y="400"/>
                  </a:lnTo>
                  <a:lnTo>
                    <a:pt x="26" y="400"/>
                  </a:lnTo>
                  <a:lnTo>
                    <a:pt x="14" y="456"/>
                  </a:lnTo>
                  <a:lnTo>
                    <a:pt x="6" y="512"/>
                  </a:lnTo>
                  <a:lnTo>
                    <a:pt x="0" y="568"/>
                  </a:lnTo>
                  <a:lnTo>
                    <a:pt x="0" y="622"/>
                  </a:lnTo>
                  <a:lnTo>
                    <a:pt x="0" y="622"/>
                  </a:lnTo>
                  <a:lnTo>
                    <a:pt x="0" y="668"/>
                  </a:lnTo>
                  <a:lnTo>
                    <a:pt x="2" y="714"/>
                  </a:lnTo>
                  <a:lnTo>
                    <a:pt x="8" y="760"/>
                  </a:lnTo>
                  <a:lnTo>
                    <a:pt x="14" y="806"/>
                  </a:lnTo>
                  <a:lnTo>
                    <a:pt x="22" y="850"/>
                  </a:lnTo>
                  <a:lnTo>
                    <a:pt x="30" y="894"/>
                  </a:lnTo>
                  <a:lnTo>
                    <a:pt x="50" y="982"/>
                  </a:lnTo>
                  <a:lnTo>
                    <a:pt x="50" y="982"/>
                  </a:lnTo>
                  <a:lnTo>
                    <a:pt x="74" y="1068"/>
                  </a:lnTo>
                  <a:lnTo>
                    <a:pt x="100" y="1150"/>
                  </a:lnTo>
                  <a:lnTo>
                    <a:pt x="128" y="1228"/>
                  </a:lnTo>
                  <a:lnTo>
                    <a:pt x="156" y="1304"/>
                  </a:lnTo>
                  <a:lnTo>
                    <a:pt x="156" y="1304"/>
                  </a:lnTo>
                  <a:lnTo>
                    <a:pt x="156" y="1304"/>
                  </a:lnTo>
                  <a:lnTo>
                    <a:pt x="196" y="1420"/>
                  </a:lnTo>
                  <a:lnTo>
                    <a:pt x="240" y="1550"/>
                  </a:lnTo>
                  <a:lnTo>
                    <a:pt x="240" y="1550"/>
                  </a:lnTo>
                  <a:lnTo>
                    <a:pt x="310" y="1756"/>
                  </a:lnTo>
                  <a:lnTo>
                    <a:pt x="348" y="1862"/>
                  </a:lnTo>
                  <a:lnTo>
                    <a:pt x="388" y="1968"/>
                  </a:lnTo>
                  <a:lnTo>
                    <a:pt x="388" y="1968"/>
                  </a:lnTo>
                  <a:lnTo>
                    <a:pt x="432" y="2070"/>
                  </a:lnTo>
                  <a:lnTo>
                    <a:pt x="454" y="2120"/>
                  </a:lnTo>
                  <a:lnTo>
                    <a:pt x="478" y="2168"/>
                  </a:lnTo>
                  <a:lnTo>
                    <a:pt x="478" y="2168"/>
                  </a:lnTo>
                  <a:lnTo>
                    <a:pt x="504" y="2216"/>
                  </a:lnTo>
                  <a:lnTo>
                    <a:pt x="530" y="2262"/>
                  </a:lnTo>
                  <a:lnTo>
                    <a:pt x="558" y="2306"/>
                  </a:lnTo>
                  <a:lnTo>
                    <a:pt x="586" y="2350"/>
                  </a:lnTo>
                  <a:lnTo>
                    <a:pt x="586" y="2350"/>
                  </a:lnTo>
                  <a:lnTo>
                    <a:pt x="600" y="2364"/>
                  </a:lnTo>
                  <a:lnTo>
                    <a:pt x="616" y="2376"/>
                  </a:lnTo>
                  <a:lnTo>
                    <a:pt x="632" y="2386"/>
                  </a:lnTo>
                  <a:lnTo>
                    <a:pt x="650" y="2394"/>
                  </a:lnTo>
                  <a:lnTo>
                    <a:pt x="668" y="2398"/>
                  </a:lnTo>
                  <a:lnTo>
                    <a:pt x="688" y="2398"/>
                  </a:lnTo>
                  <a:lnTo>
                    <a:pt x="708" y="2396"/>
                  </a:lnTo>
                  <a:lnTo>
                    <a:pt x="728" y="2390"/>
                  </a:lnTo>
                  <a:lnTo>
                    <a:pt x="728" y="2390"/>
                  </a:lnTo>
                  <a:lnTo>
                    <a:pt x="746" y="2382"/>
                  </a:lnTo>
                  <a:lnTo>
                    <a:pt x="762" y="2370"/>
                  </a:lnTo>
                  <a:lnTo>
                    <a:pt x="776" y="2358"/>
                  </a:lnTo>
                  <a:lnTo>
                    <a:pt x="786" y="2342"/>
                  </a:lnTo>
                  <a:lnTo>
                    <a:pt x="796" y="2324"/>
                  </a:lnTo>
                  <a:lnTo>
                    <a:pt x="802" y="2306"/>
                  </a:lnTo>
                  <a:lnTo>
                    <a:pt x="804" y="2286"/>
                  </a:lnTo>
                  <a:lnTo>
                    <a:pt x="804" y="2266"/>
                  </a:lnTo>
                  <a:lnTo>
                    <a:pt x="804" y="2266"/>
                  </a:lnTo>
                  <a:lnTo>
                    <a:pt x="792" y="2180"/>
                  </a:lnTo>
                  <a:lnTo>
                    <a:pt x="780" y="2094"/>
                  </a:lnTo>
                  <a:lnTo>
                    <a:pt x="766" y="2008"/>
                  </a:lnTo>
                  <a:lnTo>
                    <a:pt x="750" y="1926"/>
                  </a:lnTo>
                  <a:lnTo>
                    <a:pt x="714" y="1760"/>
                  </a:lnTo>
                  <a:lnTo>
                    <a:pt x="680" y="1598"/>
                  </a:lnTo>
                  <a:lnTo>
                    <a:pt x="680" y="1598"/>
                  </a:lnTo>
                  <a:lnTo>
                    <a:pt x="646" y="1440"/>
                  </a:lnTo>
                  <a:lnTo>
                    <a:pt x="632" y="1360"/>
                  </a:lnTo>
                  <a:lnTo>
                    <a:pt x="620" y="1282"/>
                  </a:lnTo>
                  <a:lnTo>
                    <a:pt x="620" y="1282"/>
                  </a:lnTo>
                  <a:lnTo>
                    <a:pt x="610" y="1204"/>
                  </a:lnTo>
                  <a:lnTo>
                    <a:pt x="602" y="1124"/>
                  </a:lnTo>
                  <a:lnTo>
                    <a:pt x="596" y="1046"/>
                  </a:lnTo>
                  <a:lnTo>
                    <a:pt x="596" y="968"/>
                  </a:lnTo>
                  <a:lnTo>
                    <a:pt x="596" y="968"/>
                  </a:lnTo>
                  <a:lnTo>
                    <a:pt x="596" y="894"/>
                  </a:lnTo>
                  <a:lnTo>
                    <a:pt x="602" y="820"/>
                  </a:lnTo>
                  <a:lnTo>
                    <a:pt x="602" y="820"/>
                  </a:lnTo>
                  <a:lnTo>
                    <a:pt x="602" y="820"/>
                  </a:lnTo>
                  <a:lnTo>
                    <a:pt x="604" y="784"/>
                  </a:lnTo>
                  <a:lnTo>
                    <a:pt x="604" y="784"/>
                  </a:lnTo>
                  <a:lnTo>
                    <a:pt x="608" y="710"/>
                  </a:lnTo>
                  <a:lnTo>
                    <a:pt x="610" y="616"/>
                  </a:lnTo>
                  <a:lnTo>
                    <a:pt x="610" y="616"/>
                  </a:lnTo>
                  <a:lnTo>
                    <a:pt x="608" y="526"/>
                  </a:lnTo>
                  <a:lnTo>
                    <a:pt x="608" y="526"/>
                  </a:lnTo>
                  <a:lnTo>
                    <a:pt x="488" y="530"/>
                  </a:lnTo>
                  <a:lnTo>
                    <a:pt x="368" y="534"/>
                  </a:lnTo>
                  <a:lnTo>
                    <a:pt x="368" y="534"/>
                  </a:lnTo>
                  <a:lnTo>
                    <a:pt x="370" y="616"/>
                  </a:lnTo>
                  <a:lnTo>
                    <a:pt x="370" y="616"/>
                  </a:lnTo>
                  <a:lnTo>
                    <a:pt x="368" y="674"/>
                  </a:lnTo>
                  <a:lnTo>
                    <a:pt x="368" y="728"/>
                  </a:lnTo>
                  <a:lnTo>
                    <a:pt x="368" y="728"/>
                  </a:lnTo>
                  <a:lnTo>
                    <a:pt x="366" y="770"/>
                  </a:lnTo>
                  <a:lnTo>
                    <a:pt x="366" y="770"/>
                  </a:lnTo>
                  <a:lnTo>
                    <a:pt x="362" y="798"/>
                  </a:lnTo>
                  <a:lnTo>
                    <a:pt x="362" y="798"/>
                  </a:lnTo>
                  <a:lnTo>
                    <a:pt x="362" y="798"/>
                  </a:lnTo>
                  <a:lnTo>
                    <a:pt x="358" y="884"/>
                  </a:lnTo>
                  <a:lnTo>
                    <a:pt x="356" y="968"/>
                  </a:lnTo>
                  <a:lnTo>
                    <a:pt x="356" y="968"/>
                  </a:lnTo>
                  <a:lnTo>
                    <a:pt x="358" y="1058"/>
                  </a:lnTo>
                  <a:lnTo>
                    <a:pt x="362" y="1144"/>
                  </a:lnTo>
                  <a:lnTo>
                    <a:pt x="372" y="1230"/>
                  </a:lnTo>
                  <a:lnTo>
                    <a:pt x="382" y="1316"/>
                  </a:lnTo>
                  <a:lnTo>
                    <a:pt x="382" y="1316"/>
                  </a:lnTo>
                  <a:lnTo>
                    <a:pt x="404" y="1442"/>
                  </a:lnTo>
                  <a:lnTo>
                    <a:pt x="428" y="1566"/>
                  </a:lnTo>
                  <a:lnTo>
                    <a:pt x="454" y="1690"/>
                  </a:lnTo>
                  <a:lnTo>
                    <a:pt x="480" y="1812"/>
                  </a:lnTo>
                  <a:lnTo>
                    <a:pt x="480" y="1812"/>
                  </a:lnTo>
                  <a:lnTo>
                    <a:pt x="506" y="1932"/>
                  </a:lnTo>
                  <a:lnTo>
                    <a:pt x="530" y="2052"/>
                  </a:lnTo>
                  <a:lnTo>
                    <a:pt x="550" y="2172"/>
                  </a:lnTo>
                  <a:lnTo>
                    <a:pt x="558" y="2232"/>
                  </a:lnTo>
                  <a:lnTo>
                    <a:pt x="564" y="2292"/>
                  </a:lnTo>
                  <a:lnTo>
                    <a:pt x="684" y="2278"/>
                  </a:lnTo>
                  <a:lnTo>
                    <a:pt x="782" y="2208"/>
                  </a:lnTo>
                  <a:lnTo>
                    <a:pt x="782" y="2208"/>
                  </a:lnTo>
                  <a:lnTo>
                    <a:pt x="752" y="2164"/>
                  </a:lnTo>
                  <a:lnTo>
                    <a:pt x="722" y="2114"/>
                  </a:lnTo>
                  <a:lnTo>
                    <a:pt x="692" y="2060"/>
                  </a:lnTo>
                  <a:lnTo>
                    <a:pt x="664" y="2002"/>
                  </a:lnTo>
                  <a:lnTo>
                    <a:pt x="664" y="2002"/>
                  </a:lnTo>
                  <a:lnTo>
                    <a:pt x="624" y="1910"/>
                  </a:lnTo>
                  <a:lnTo>
                    <a:pt x="584" y="1812"/>
                  </a:lnTo>
                  <a:lnTo>
                    <a:pt x="548" y="1712"/>
                  </a:lnTo>
                  <a:lnTo>
                    <a:pt x="512" y="1610"/>
                  </a:lnTo>
                  <a:lnTo>
                    <a:pt x="512" y="1610"/>
                  </a:lnTo>
                  <a:lnTo>
                    <a:pt x="446" y="1408"/>
                  </a:lnTo>
                  <a:lnTo>
                    <a:pt x="412" y="1312"/>
                  </a:lnTo>
                  <a:lnTo>
                    <a:pt x="380" y="1220"/>
                  </a:lnTo>
                  <a:lnTo>
                    <a:pt x="380" y="1220"/>
                  </a:lnTo>
                  <a:lnTo>
                    <a:pt x="380" y="1220"/>
                  </a:lnTo>
                  <a:lnTo>
                    <a:pt x="354" y="1148"/>
                  </a:lnTo>
                  <a:lnTo>
                    <a:pt x="328" y="1074"/>
                  </a:lnTo>
                  <a:lnTo>
                    <a:pt x="304" y="998"/>
                  </a:lnTo>
                  <a:lnTo>
                    <a:pt x="282" y="922"/>
                  </a:lnTo>
                  <a:lnTo>
                    <a:pt x="282" y="922"/>
                  </a:lnTo>
                  <a:lnTo>
                    <a:pt x="264" y="846"/>
                  </a:lnTo>
                  <a:lnTo>
                    <a:pt x="250" y="770"/>
                  </a:lnTo>
                  <a:lnTo>
                    <a:pt x="246" y="732"/>
                  </a:lnTo>
                  <a:lnTo>
                    <a:pt x="242" y="696"/>
                  </a:lnTo>
                  <a:lnTo>
                    <a:pt x="240" y="658"/>
                  </a:lnTo>
                  <a:lnTo>
                    <a:pt x="240" y="622"/>
                  </a:lnTo>
                  <a:lnTo>
                    <a:pt x="240" y="622"/>
                  </a:lnTo>
                  <a:lnTo>
                    <a:pt x="240" y="580"/>
                  </a:lnTo>
                  <a:lnTo>
                    <a:pt x="244" y="540"/>
                  </a:lnTo>
                  <a:lnTo>
                    <a:pt x="250" y="500"/>
                  </a:lnTo>
                  <a:lnTo>
                    <a:pt x="258" y="462"/>
                  </a:lnTo>
                  <a:lnTo>
                    <a:pt x="258" y="462"/>
                  </a:lnTo>
                  <a:lnTo>
                    <a:pt x="270" y="424"/>
                  </a:lnTo>
                  <a:lnTo>
                    <a:pt x="284" y="388"/>
                  </a:lnTo>
                  <a:lnTo>
                    <a:pt x="300" y="352"/>
                  </a:lnTo>
                  <a:lnTo>
                    <a:pt x="322" y="318"/>
                  </a:lnTo>
                  <a:lnTo>
                    <a:pt x="322" y="318"/>
                  </a:lnTo>
                  <a:lnTo>
                    <a:pt x="340" y="290"/>
                  </a:lnTo>
                  <a:lnTo>
                    <a:pt x="358" y="268"/>
                  </a:lnTo>
                  <a:lnTo>
                    <a:pt x="358" y="268"/>
                  </a:lnTo>
                  <a:lnTo>
                    <a:pt x="378" y="246"/>
                  </a:lnTo>
                  <a:lnTo>
                    <a:pt x="378" y="246"/>
                  </a:lnTo>
                  <a:lnTo>
                    <a:pt x="386" y="238"/>
                  </a:lnTo>
                  <a:lnTo>
                    <a:pt x="386" y="238"/>
                  </a:lnTo>
                  <a:lnTo>
                    <a:pt x="388" y="236"/>
                  </a:lnTo>
                  <a:lnTo>
                    <a:pt x="388" y="236"/>
                  </a:lnTo>
                  <a:lnTo>
                    <a:pt x="388" y="236"/>
                  </a:lnTo>
                  <a:lnTo>
                    <a:pt x="388" y="236"/>
                  </a:lnTo>
                  <a:lnTo>
                    <a:pt x="388" y="236"/>
                  </a:lnTo>
                  <a:lnTo>
                    <a:pt x="388" y="236"/>
                  </a:lnTo>
                  <a:lnTo>
                    <a:pt x="374" y="210"/>
                  </a:lnTo>
                  <a:lnTo>
                    <a:pt x="382" y="238"/>
                  </a:lnTo>
                  <a:lnTo>
                    <a:pt x="382" y="238"/>
                  </a:lnTo>
                  <a:lnTo>
                    <a:pt x="388" y="236"/>
                  </a:lnTo>
                  <a:lnTo>
                    <a:pt x="374" y="210"/>
                  </a:lnTo>
                  <a:lnTo>
                    <a:pt x="382" y="238"/>
                  </a:lnTo>
                  <a:lnTo>
                    <a:pt x="366" y="182"/>
                  </a:lnTo>
                  <a:lnTo>
                    <a:pt x="366" y="240"/>
                  </a:lnTo>
                  <a:lnTo>
                    <a:pt x="366" y="240"/>
                  </a:lnTo>
                  <a:lnTo>
                    <a:pt x="376" y="240"/>
                  </a:lnTo>
                  <a:lnTo>
                    <a:pt x="382" y="238"/>
                  </a:lnTo>
                  <a:lnTo>
                    <a:pt x="366" y="182"/>
                  </a:lnTo>
                  <a:lnTo>
                    <a:pt x="366" y="240"/>
                  </a:lnTo>
                  <a:lnTo>
                    <a:pt x="366" y="172"/>
                  </a:lnTo>
                  <a:lnTo>
                    <a:pt x="346" y="238"/>
                  </a:lnTo>
                  <a:lnTo>
                    <a:pt x="346" y="238"/>
                  </a:lnTo>
                  <a:lnTo>
                    <a:pt x="356" y="240"/>
                  </a:lnTo>
                  <a:lnTo>
                    <a:pt x="366" y="240"/>
                  </a:lnTo>
                  <a:lnTo>
                    <a:pt x="366" y="172"/>
                  </a:lnTo>
                  <a:lnTo>
                    <a:pt x="346" y="238"/>
                  </a:lnTo>
                  <a:lnTo>
                    <a:pt x="366" y="176"/>
                  </a:lnTo>
                  <a:lnTo>
                    <a:pt x="330" y="230"/>
                  </a:lnTo>
                  <a:lnTo>
                    <a:pt x="330" y="230"/>
                  </a:lnTo>
                  <a:lnTo>
                    <a:pt x="336" y="234"/>
                  </a:lnTo>
                  <a:lnTo>
                    <a:pt x="346" y="238"/>
                  </a:lnTo>
                  <a:lnTo>
                    <a:pt x="366" y="176"/>
                  </a:lnTo>
                  <a:lnTo>
                    <a:pt x="330" y="230"/>
                  </a:lnTo>
                  <a:lnTo>
                    <a:pt x="356" y="192"/>
                  </a:lnTo>
                  <a:lnTo>
                    <a:pt x="322" y="224"/>
                  </a:lnTo>
                  <a:lnTo>
                    <a:pt x="322" y="224"/>
                  </a:lnTo>
                  <a:lnTo>
                    <a:pt x="330" y="230"/>
                  </a:lnTo>
                  <a:lnTo>
                    <a:pt x="356" y="192"/>
                  </a:lnTo>
                  <a:lnTo>
                    <a:pt x="322" y="224"/>
                  </a:lnTo>
                  <a:lnTo>
                    <a:pt x="340" y="206"/>
                  </a:lnTo>
                  <a:lnTo>
                    <a:pt x="322" y="222"/>
                  </a:lnTo>
                  <a:lnTo>
                    <a:pt x="322" y="224"/>
                  </a:lnTo>
                  <a:lnTo>
                    <a:pt x="340" y="206"/>
                  </a:lnTo>
                  <a:lnTo>
                    <a:pt x="322" y="222"/>
                  </a:lnTo>
                  <a:lnTo>
                    <a:pt x="330" y="216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30" y="216"/>
                  </a:lnTo>
                  <a:lnTo>
                    <a:pt x="320" y="222"/>
                  </a:lnTo>
                  <a:lnTo>
                    <a:pt x="322" y="220"/>
                  </a:lnTo>
                  <a:lnTo>
                    <a:pt x="320" y="222"/>
                  </a:lnTo>
                  <a:lnTo>
                    <a:pt x="320" y="222"/>
                  </a:lnTo>
                  <a:lnTo>
                    <a:pt x="322" y="220"/>
                  </a:lnTo>
                  <a:lnTo>
                    <a:pt x="320" y="222"/>
                  </a:lnTo>
                  <a:lnTo>
                    <a:pt x="320" y="222"/>
                  </a:lnTo>
                  <a:lnTo>
                    <a:pt x="326" y="230"/>
                  </a:lnTo>
                  <a:lnTo>
                    <a:pt x="326" y="230"/>
                  </a:lnTo>
                  <a:lnTo>
                    <a:pt x="332" y="250"/>
                  </a:lnTo>
                  <a:lnTo>
                    <a:pt x="340" y="278"/>
                  </a:lnTo>
                  <a:lnTo>
                    <a:pt x="340" y="278"/>
                  </a:lnTo>
                  <a:lnTo>
                    <a:pt x="352" y="332"/>
                  </a:lnTo>
                  <a:lnTo>
                    <a:pt x="360" y="394"/>
                  </a:lnTo>
                  <a:lnTo>
                    <a:pt x="360" y="394"/>
                  </a:lnTo>
                  <a:lnTo>
                    <a:pt x="364" y="464"/>
                  </a:lnTo>
                  <a:lnTo>
                    <a:pt x="368" y="534"/>
                  </a:lnTo>
                  <a:lnTo>
                    <a:pt x="368" y="534"/>
                  </a:lnTo>
                  <a:lnTo>
                    <a:pt x="488" y="5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76"/>
            <p:cNvSpPr/>
            <p:nvPr/>
          </p:nvSpPr>
          <p:spPr>
            <a:xfrm>
              <a:off x="1342800" y="1809720"/>
              <a:ext cx="1920600" cy="4476960"/>
            </a:xfrm>
            <a:custGeom>
              <a:avLst/>
              <a:gdLst>
                <a:gd name="textAreaLeft" fmla="*/ 0 w 1920600"/>
                <a:gd name="textAreaRight" fmla="*/ 1920960 w 1920600"/>
                <a:gd name="textAreaTop" fmla="*/ 0 h 4476960"/>
                <a:gd name="textAreaBottom" fmla="*/ 4476960 h 4476960"/>
              </a:gdLst>
              <a:ahLst/>
              <a:rect l="textAreaLeft" t="textAreaTop" r="textAreaRight" b="textAreaBottom"/>
              <a:pathLst>
                <a:path w="1210" h="2820">
                  <a:moveTo>
                    <a:pt x="140" y="0"/>
                  </a:moveTo>
                  <a:lnTo>
                    <a:pt x="140" y="0"/>
                  </a:lnTo>
                  <a:lnTo>
                    <a:pt x="122" y="20"/>
                  </a:lnTo>
                  <a:lnTo>
                    <a:pt x="106" y="40"/>
                  </a:lnTo>
                  <a:lnTo>
                    <a:pt x="92" y="60"/>
                  </a:lnTo>
                  <a:lnTo>
                    <a:pt x="78" y="82"/>
                  </a:lnTo>
                  <a:lnTo>
                    <a:pt x="66" y="104"/>
                  </a:lnTo>
                  <a:lnTo>
                    <a:pt x="54" y="126"/>
                  </a:lnTo>
                  <a:lnTo>
                    <a:pt x="44" y="150"/>
                  </a:lnTo>
                  <a:lnTo>
                    <a:pt x="34" y="174"/>
                  </a:lnTo>
                  <a:lnTo>
                    <a:pt x="20" y="224"/>
                  </a:lnTo>
                  <a:lnTo>
                    <a:pt x="10" y="274"/>
                  </a:lnTo>
                  <a:lnTo>
                    <a:pt x="2" y="326"/>
                  </a:lnTo>
                  <a:lnTo>
                    <a:pt x="0" y="382"/>
                  </a:lnTo>
                  <a:lnTo>
                    <a:pt x="2" y="438"/>
                  </a:lnTo>
                  <a:lnTo>
                    <a:pt x="6" y="494"/>
                  </a:lnTo>
                  <a:lnTo>
                    <a:pt x="12" y="552"/>
                  </a:lnTo>
                  <a:lnTo>
                    <a:pt x="24" y="610"/>
                  </a:lnTo>
                  <a:lnTo>
                    <a:pt x="36" y="670"/>
                  </a:lnTo>
                  <a:lnTo>
                    <a:pt x="52" y="730"/>
                  </a:lnTo>
                  <a:lnTo>
                    <a:pt x="68" y="790"/>
                  </a:lnTo>
                  <a:lnTo>
                    <a:pt x="88" y="850"/>
                  </a:lnTo>
                  <a:lnTo>
                    <a:pt x="110" y="910"/>
                  </a:lnTo>
                  <a:lnTo>
                    <a:pt x="132" y="970"/>
                  </a:lnTo>
                  <a:lnTo>
                    <a:pt x="156" y="1028"/>
                  </a:lnTo>
                  <a:lnTo>
                    <a:pt x="182" y="1088"/>
                  </a:lnTo>
                  <a:lnTo>
                    <a:pt x="236" y="1202"/>
                  </a:lnTo>
                  <a:lnTo>
                    <a:pt x="290" y="1312"/>
                  </a:lnTo>
                  <a:lnTo>
                    <a:pt x="344" y="1416"/>
                  </a:lnTo>
                  <a:lnTo>
                    <a:pt x="396" y="1512"/>
                  </a:lnTo>
                  <a:lnTo>
                    <a:pt x="488" y="1674"/>
                  </a:lnTo>
                  <a:lnTo>
                    <a:pt x="488" y="1674"/>
                  </a:lnTo>
                  <a:lnTo>
                    <a:pt x="564" y="1812"/>
                  </a:lnTo>
                  <a:lnTo>
                    <a:pt x="644" y="1964"/>
                  </a:lnTo>
                  <a:lnTo>
                    <a:pt x="726" y="2122"/>
                  </a:lnTo>
                  <a:lnTo>
                    <a:pt x="770" y="2200"/>
                  </a:lnTo>
                  <a:lnTo>
                    <a:pt x="814" y="2280"/>
                  </a:lnTo>
                  <a:lnTo>
                    <a:pt x="858" y="2358"/>
                  </a:lnTo>
                  <a:lnTo>
                    <a:pt x="904" y="2434"/>
                  </a:lnTo>
                  <a:lnTo>
                    <a:pt x="952" y="2510"/>
                  </a:lnTo>
                  <a:lnTo>
                    <a:pt x="1002" y="2580"/>
                  </a:lnTo>
                  <a:lnTo>
                    <a:pt x="1052" y="2648"/>
                  </a:lnTo>
                  <a:lnTo>
                    <a:pt x="1104" y="2710"/>
                  </a:lnTo>
                  <a:lnTo>
                    <a:pt x="1156" y="2768"/>
                  </a:lnTo>
                  <a:lnTo>
                    <a:pt x="1184" y="2796"/>
                  </a:lnTo>
                  <a:lnTo>
                    <a:pt x="1210" y="2820"/>
                  </a:lnTo>
                  <a:lnTo>
                    <a:pt x="1210" y="2820"/>
                  </a:lnTo>
                  <a:lnTo>
                    <a:pt x="1210" y="2790"/>
                  </a:lnTo>
                  <a:lnTo>
                    <a:pt x="1206" y="2758"/>
                  </a:lnTo>
                  <a:lnTo>
                    <a:pt x="1198" y="2726"/>
                  </a:lnTo>
                  <a:lnTo>
                    <a:pt x="1188" y="2694"/>
                  </a:lnTo>
                  <a:lnTo>
                    <a:pt x="1174" y="2660"/>
                  </a:lnTo>
                  <a:lnTo>
                    <a:pt x="1158" y="2626"/>
                  </a:lnTo>
                  <a:lnTo>
                    <a:pt x="1140" y="2592"/>
                  </a:lnTo>
                  <a:lnTo>
                    <a:pt x="1122" y="2558"/>
                  </a:lnTo>
                  <a:lnTo>
                    <a:pt x="1082" y="2490"/>
                  </a:lnTo>
                  <a:lnTo>
                    <a:pt x="1042" y="2424"/>
                  </a:lnTo>
                  <a:lnTo>
                    <a:pt x="1006" y="2360"/>
                  </a:lnTo>
                  <a:lnTo>
                    <a:pt x="990" y="2330"/>
                  </a:lnTo>
                  <a:lnTo>
                    <a:pt x="976" y="2300"/>
                  </a:lnTo>
                  <a:lnTo>
                    <a:pt x="976" y="2300"/>
                  </a:lnTo>
                  <a:lnTo>
                    <a:pt x="926" y="2178"/>
                  </a:lnTo>
                  <a:lnTo>
                    <a:pt x="878" y="2054"/>
                  </a:lnTo>
                  <a:lnTo>
                    <a:pt x="830" y="1930"/>
                  </a:lnTo>
                  <a:lnTo>
                    <a:pt x="784" y="1806"/>
                  </a:lnTo>
                  <a:lnTo>
                    <a:pt x="692" y="1556"/>
                  </a:lnTo>
                  <a:lnTo>
                    <a:pt x="646" y="1432"/>
                  </a:lnTo>
                  <a:lnTo>
                    <a:pt x="598" y="1308"/>
                  </a:lnTo>
                  <a:lnTo>
                    <a:pt x="598" y="1308"/>
                  </a:lnTo>
                  <a:lnTo>
                    <a:pt x="560" y="1218"/>
                  </a:lnTo>
                  <a:lnTo>
                    <a:pt x="520" y="1128"/>
                  </a:lnTo>
                  <a:lnTo>
                    <a:pt x="436" y="948"/>
                  </a:lnTo>
                  <a:lnTo>
                    <a:pt x="396" y="856"/>
                  </a:lnTo>
                  <a:lnTo>
                    <a:pt x="358" y="766"/>
                  </a:lnTo>
                  <a:lnTo>
                    <a:pt x="340" y="720"/>
                  </a:lnTo>
                  <a:lnTo>
                    <a:pt x="324" y="674"/>
                  </a:lnTo>
                  <a:lnTo>
                    <a:pt x="310" y="628"/>
                  </a:lnTo>
                  <a:lnTo>
                    <a:pt x="296" y="582"/>
                  </a:lnTo>
                  <a:lnTo>
                    <a:pt x="296" y="582"/>
                  </a:lnTo>
                  <a:lnTo>
                    <a:pt x="288" y="548"/>
                  </a:lnTo>
                  <a:lnTo>
                    <a:pt x="282" y="512"/>
                  </a:lnTo>
                  <a:lnTo>
                    <a:pt x="272" y="434"/>
                  </a:lnTo>
                  <a:lnTo>
                    <a:pt x="266" y="352"/>
                  </a:lnTo>
                  <a:lnTo>
                    <a:pt x="256" y="268"/>
                  </a:lnTo>
                  <a:lnTo>
                    <a:pt x="250" y="228"/>
                  </a:lnTo>
                  <a:lnTo>
                    <a:pt x="242" y="190"/>
                  </a:lnTo>
                  <a:lnTo>
                    <a:pt x="234" y="152"/>
                  </a:lnTo>
                  <a:lnTo>
                    <a:pt x="222" y="116"/>
                  </a:lnTo>
                  <a:lnTo>
                    <a:pt x="206" y="82"/>
                  </a:lnTo>
                  <a:lnTo>
                    <a:pt x="188" y="52"/>
                  </a:lnTo>
                  <a:lnTo>
                    <a:pt x="178" y="38"/>
                  </a:lnTo>
                  <a:lnTo>
                    <a:pt x="166" y="24"/>
                  </a:lnTo>
                  <a:lnTo>
                    <a:pt x="154" y="1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d2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77"/>
            <p:cNvSpPr/>
            <p:nvPr/>
          </p:nvSpPr>
          <p:spPr>
            <a:xfrm>
              <a:off x="1152360" y="1619280"/>
              <a:ext cx="2301840" cy="4857840"/>
            </a:xfrm>
            <a:custGeom>
              <a:avLst/>
              <a:gdLst>
                <a:gd name="textAreaLeft" fmla="*/ 0 w 2301840"/>
                <a:gd name="textAreaRight" fmla="*/ 2302200 w 2301840"/>
                <a:gd name="textAreaTop" fmla="*/ 0 h 4857840"/>
                <a:gd name="textAreaBottom" fmla="*/ 4858200 h 4857840"/>
              </a:gdLst>
              <a:ahLst/>
              <a:rect l="textAreaLeft" t="textAreaTop" r="textAreaRight" b="textAreaBottom"/>
              <a:pathLst>
                <a:path w="1450" h="3060">
                  <a:moveTo>
                    <a:pt x="260" y="120"/>
                  </a:moveTo>
                  <a:lnTo>
                    <a:pt x="174" y="36"/>
                  </a:lnTo>
                  <a:lnTo>
                    <a:pt x="174" y="36"/>
                  </a:lnTo>
                  <a:lnTo>
                    <a:pt x="150" y="62"/>
                  </a:lnTo>
                  <a:lnTo>
                    <a:pt x="130" y="88"/>
                  </a:lnTo>
                  <a:lnTo>
                    <a:pt x="110" y="116"/>
                  </a:lnTo>
                  <a:lnTo>
                    <a:pt x="94" y="144"/>
                  </a:lnTo>
                  <a:lnTo>
                    <a:pt x="78" y="172"/>
                  </a:lnTo>
                  <a:lnTo>
                    <a:pt x="62" y="202"/>
                  </a:lnTo>
                  <a:lnTo>
                    <a:pt x="50" y="230"/>
                  </a:lnTo>
                  <a:lnTo>
                    <a:pt x="38" y="262"/>
                  </a:lnTo>
                  <a:lnTo>
                    <a:pt x="38" y="262"/>
                  </a:lnTo>
                  <a:lnTo>
                    <a:pt x="30" y="292"/>
                  </a:lnTo>
                  <a:lnTo>
                    <a:pt x="22" y="322"/>
                  </a:lnTo>
                  <a:lnTo>
                    <a:pt x="14" y="354"/>
                  </a:lnTo>
                  <a:lnTo>
                    <a:pt x="10" y="386"/>
                  </a:lnTo>
                  <a:lnTo>
                    <a:pt x="6" y="418"/>
                  </a:lnTo>
                  <a:lnTo>
                    <a:pt x="2" y="450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2" y="562"/>
                  </a:lnTo>
                  <a:lnTo>
                    <a:pt x="4" y="608"/>
                  </a:lnTo>
                  <a:lnTo>
                    <a:pt x="10" y="656"/>
                  </a:lnTo>
                  <a:lnTo>
                    <a:pt x="16" y="704"/>
                  </a:lnTo>
                  <a:lnTo>
                    <a:pt x="24" y="750"/>
                  </a:lnTo>
                  <a:lnTo>
                    <a:pt x="34" y="798"/>
                  </a:lnTo>
                  <a:lnTo>
                    <a:pt x="46" y="846"/>
                  </a:lnTo>
                  <a:lnTo>
                    <a:pt x="58" y="892"/>
                  </a:lnTo>
                  <a:lnTo>
                    <a:pt x="58" y="892"/>
                  </a:lnTo>
                  <a:lnTo>
                    <a:pt x="80" y="964"/>
                  </a:lnTo>
                  <a:lnTo>
                    <a:pt x="104" y="1034"/>
                  </a:lnTo>
                  <a:lnTo>
                    <a:pt x="130" y="1104"/>
                  </a:lnTo>
                  <a:lnTo>
                    <a:pt x="156" y="1172"/>
                  </a:lnTo>
                  <a:lnTo>
                    <a:pt x="186" y="1240"/>
                  </a:lnTo>
                  <a:lnTo>
                    <a:pt x="216" y="1308"/>
                  </a:lnTo>
                  <a:lnTo>
                    <a:pt x="278" y="1436"/>
                  </a:lnTo>
                  <a:lnTo>
                    <a:pt x="278" y="1436"/>
                  </a:lnTo>
                  <a:lnTo>
                    <a:pt x="340" y="1558"/>
                  </a:lnTo>
                  <a:lnTo>
                    <a:pt x="400" y="1668"/>
                  </a:lnTo>
                  <a:lnTo>
                    <a:pt x="400" y="1668"/>
                  </a:lnTo>
                  <a:lnTo>
                    <a:pt x="504" y="1854"/>
                  </a:lnTo>
                  <a:lnTo>
                    <a:pt x="504" y="1854"/>
                  </a:lnTo>
                  <a:lnTo>
                    <a:pt x="504" y="1854"/>
                  </a:lnTo>
                  <a:lnTo>
                    <a:pt x="578" y="1990"/>
                  </a:lnTo>
                  <a:lnTo>
                    <a:pt x="656" y="2140"/>
                  </a:lnTo>
                  <a:lnTo>
                    <a:pt x="656" y="2140"/>
                  </a:lnTo>
                  <a:lnTo>
                    <a:pt x="718" y="2258"/>
                  </a:lnTo>
                  <a:lnTo>
                    <a:pt x="784" y="2378"/>
                  </a:lnTo>
                  <a:lnTo>
                    <a:pt x="852" y="2500"/>
                  </a:lnTo>
                  <a:lnTo>
                    <a:pt x="924" y="2618"/>
                  </a:lnTo>
                  <a:lnTo>
                    <a:pt x="924" y="2618"/>
                  </a:lnTo>
                  <a:lnTo>
                    <a:pt x="960" y="2676"/>
                  </a:lnTo>
                  <a:lnTo>
                    <a:pt x="998" y="2734"/>
                  </a:lnTo>
                  <a:lnTo>
                    <a:pt x="1036" y="2788"/>
                  </a:lnTo>
                  <a:lnTo>
                    <a:pt x="1078" y="2842"/>
                  </a:lnTo>
                  <a:lnTo>
                    <a:pt x="1078" y="2842"/>
                  </a:lnTo>
                  <a:lnTo>
                    <a:pt x="1118" y="2892"/>
                  </a:lnTo>
                  <a:lnTo>
                    <a:pt x="1160" y="2942"/>
                  </a:lnTo>
                  <a:lnTo>
                    <a:pt x="1206" y="2988"/>
                  </a:lnTo>
                  <a:lnTo>
                    <a:pt x="1250" y="3030"/>
                  </a:lnTo>
                  <a:lnTo>
                    <a:pt x="1250" y="3030"/>
                  </a:lnTo>
                  <a:lnTo>
                    <a:pt x="1264" y="3040"/>
                  </a:lnTo>
                  <a:lnTo>
                    <a:pt x="1278" y="3048"/>
                  </a:lnTo>
                  <a:lnTo>
                    <a:pt x="1294" y="3054"/>
                  </a:lnTo>
                  <a:lnTo>
                    <a:pt x="1310" y="3058"/>
                  </a:lnTo>
                  <a:lnTo>
                    <a:pt x="1326" y="3060"/>
                  </a:lnTo>
                  <a:lnTo>
                    <a:pt x="1344" y="3060"/>
                  </a:lnTo>
                  <a:lnTo>
                    <a:pt x="1360" y="3056"/>
                  </a:lnTo>
                  <a:lnTo>
                    <a:pt x="1376" y="3052"/>
                  </a:lnTo>
                  <a:lnTo>
                    <a:pt x="1376" y="3052"/>
                  </a:lnTo>
                  <a:lnTo>
                    <a:pt x="1392" y="3044"/>
                  </a:lnTo>
                  <a:lnTo>
                    <a:pt x="1406" y="3034"/>
                  </a:lnTo>
                  <a:lnTo>
                    <a:pt x="1418" y="3024"/>
                  </a:lnTo>
                  <a:lnTo>
                    <a:pt x="1428" y="3010"/>
                  </a:lnTo>
                  <a:lnTo>
                    <a:pt x="1436" y="2996"/>
                  </a:lnTo>
                  <a:lnTo>
                    <a:pt x="1444" y="2982"/>
                  </a:lnTo>
                  <a:lnTo>
                    <a:pt x="1448" y="2964"/>
                  </a:lnTo>
                  <a:lnTo>
                    <a:pt x="1450" y="2948"/>
                  </a:lnTo>
                  <a:lnTo>
                    <a:pt x="1450" y="2948"/>
                  </a:lnTo>
                  <a:lnTo>
                    <a:pt x="1450" y="2928"/>
                  </a:lnTo>
                  <a:lnTo>
                    <a:pt x="1450" y="2928"/>
                  </a:lnTo>
                  <a:lnTo>
                    <a:pt x="1450" y="2906"/>
                  </a:lnTo>
                  <a:lnTo>
                    <a:pt x="1448" y="2882"/>
                  </a:lnTo>
                  <a:lnTo>
                    <a:pt x="1440" y="2840"/>
                  </a:lnTo>
                  <a:lnTo>
                    <a:pt x="1440" y="2840"/>
                  </a:lnTo>
                  <a:lnTo>
                    <a:pt x="1430" y="2804"/>
                  </a:lnTo>
                  <a:lnTo>
                    <a:pt x="1418" y="2770"/>
                  </a:lnTo>
                  <a:lnTo>
                    <a:pt x="1406" y="2736"/>
                  </a:lnTo>
                  <a:lnTo>
                    <a:pt x="1390" y="2702"/>
                  </a:lnTo>
                  <a:lnTo>
                    <a:pt x="1390" y="2702"/>
                  </a:lnTo>
                  <a:lnTo>
                    <a:pt x="1366" y="2654"/>
                  </a:lnTo>
                  <a:lnTo>
                    <a:pt x="1340" y="2606"/>
                  </a:lnTo>
                  <a:lnTo>
                    <a:pt x="1286" y="2518"/>
                  </a:lnTo>
                  <a:lnTo>
                    <a:pt x="1286" y="2518"/>
                  </a:lnTo>
                  <a:lnTo>
                    <a:pt x="1240" y="2438"/>
                  </a:lnTo>
                  <a:lnTo>
                    <a:pt x="1240" y="2438"/>
                  </a:lnTo>
                  <a:lnTo>
                    <a:pt x="1222" y="2404"/>
                  </a:lnTo>
                  <a:lnTo>
                    <a:pt x="1208" y="2374"/>
                  </a:lnTo>
                  <a:lnTo>
                    <a:pt x="1208" y="2374"/>
                  </a:lnTo>
                  <a:lnTo>
                    <a:pt x="1208" y="2374"/>
                  </a:lnTo>
                  <a:lnTo>
                    <a:pt x="1156" y="2254"/>
                  </a:lnTo>
                  <a:lnTo>
                    <a:pt x="1108" y="2132"/>
                  </a:lnTo>
                  <a:lnTo>
                    <a:pt x="1062" y="2008"/>
                  </a:lnTo>
                  <a:lnTo>
                    <a:pt x="1016" y="1884"/>
                  </a:lnTo>
                  <a:lnTo>
                    <a:pt x="1016" y="1884"/>
                  </a:lnTo>
                  <a:lnTo>
                    <a:pt x="926" y="1634"/>
                  </a:lnTo>
                  <a:lnTo>
                    <a:pt x="878" y="1508"/>
                  </a:lnTo>
                  <a:lnTo>
                    <a:pt x="830" y="1382"/>
                  </a:lnTo>
                  <a:lnTo>
                    <a:pt x="830" y="1382"/>
                  </a:lnTo>
                  <a:lnTo>
                    <a:pt x="790" y="1288"/>
                  </a:lnTo>
                  <a:lnTo>
                    <a:pt x="748" y="1198"/>
                  </a:lnTo>
                  <a:lnTo>
                    <a:pt x="664" y="1018"/>
                  </a:lnTo>
                  <a:lnTo>
                    <a:pt x="664" y="1018"/>
                  </a:lnTo>
                  <a:lnTo>
                    <a:pt x="626" y="930"/>
                  </a:lnTo>
                  <a:lnTo>
                    <a:pt x="590" y="842"/>
                  </a:lnTo>
                  <a:lnTo>
                    <a:pt x="558" y="756"/>
                  </a:lnTo>
                  <a:lnTo>
                    <a:pt x="544" y="714"/>
                  </a:lnTo>
                  <a:lnTo>
                    <a:pt x="532" y="670"/>
                  </a:lnTo>
                  <a:lnTo>
                    <a:pt x="532" y="670"/>
                  </a:lnTo>
                  <a:lnTo>
                    <a:pt x="526" y="644"/>
                  </a:lnTo>
                  <a:lnTo>
                    <a:pt x="520" y="614"/>
                  </a:lnTo>
                  <a:lnTo>
                    <a:pt x="520" y="614"/>
                  </a:lnTo>
                  <a:lnTo>
                    <a:pt x="514" y="552"/>
                  </a:lnTo>
                  <a:lnTo>
                    <a:pt x="506" y="482"/>
                  </a:lnTo>
                  <a:lnTo>
                    <a:pt x="506" y="482"/>
                  </a:lnTo>
                  <a:lnTo>
                    <a:pt x="502" y="426"/>
                  </a:lnTo>
                  <a:lnTo>
                    <a:pt x="494" y="368"/>
                  </a:lnTo>
                  <a:lnTo>
                    <a:pt x="494" y="368"/>
                  </a:lnTo>
                  <a:lnTo>
                    <a:pt x="488" y="324"/>
                  </a:lnTo>
                  <a:lnTo>
                    <a:pt x="480" y="280"/>
                  </a:lnTo>
                  <a:lnTo>
                    <a:pt x="468" y="234"/>
                  </a:lnTo>
                  <a:lnTo>
                    <a:pt x="452" y="190"/>
                  </a:lnTo>
                  <a:lnTo>
                    <a:pt x="452" y="190"/>
                  </a:lnTo>
                  <a:lnTo>
                    <a:pt x="442" y="168"/>
                  </a:lnTo>
                  <a:lnTo>
                    <a:pt x="432" y="146"/>
                  </a:lnTo>
                  <a:lnTo>
                    <a:pt x="420" y="124"/>
                  </a:lnTo>
                  <a:lnTo>
                    <a:pt x="406" y="102"/>
                  </a:lnTo>
                  <a:lnTo>
                    <a:pt x="406" y="102"/>
                  </a:lnTo>
                  <a:lnTo>
                    <a:pt x="392" y="82"/>
                  </a:lnTo>
                  <a:lnTo>
                    <a:pt x="374" y="62"/>
                  </a:lnTo>
                  <a:lnTo>
                    <a:pt x="356" y="44"/>
                  </a:lnTo>
                  <a:lnTo>
                    <a:pt x="334" y="26"/>
                  </a:lnTo>
                  <a:lnTo>
                    <a:pt x="334" y="26"/>
                  </a:lnTo>
                  <a:lnTo>
                    <a:pt x="316" y="14"/>
                  </a:lnTo>
                  <a:lnTo>
                    <a:pt x="296" y="4"/>
                  </a:lnTo>
                  <a:lnTo>
                    <a:pt x="274" y="0"/>
                  </a:lnTo>
                  <a:lnTo>
                    <a:pt x="252" y="0"/>
                  </a:lnTo>
                  <a:lnTo>
                    <a:pt x="230" y="4"/>
                  </a:lnTo>
                  <a:lnTo>
                    <a:pt x="210" y="10"/>
                  </a:lnTo>
                  <a:lnTo>
                    <a:pt x="190" y="22"/>
                  </a:lnTo>
                  <a:lnTo>
                    <a:pt x="174" y="36"/>
                  </a:lnTo>
                  <a:lnTo>
                    <a:pt x="260" y="120"/>
                  </a:lnTo>
                  <a:lnTo>
                    <a:pt x="186" y="214"/>
                  </a:lnTo>
                  <a:lnTo>
                    <a:pt x="186" y="214"/>
                  </a:lnTo>
                  <a:lnTo>
                    <a:pt x="198" y="224"/>
                  </a:lnTo>
                  <a:lnTo>
                    <a:pt x="208" y="238"/>
                  </a:lnTo>
                  <a:lnTo>
                    <a:pt x="208" y="238"/>
                  </a:lnTo>
                  <a:lnTo>
                    <a:pt x="218" y="254"/>
                  </a:lnTo>
                  <a:lnTo>
                    <a:pt x="226" y="272"/>
                  </a:lnTo>
                  <a:lnTo>
                    <a:pt x="226" y="272"/>
                  </a:lnTo>
                  <a:lnTo>
                    <a:pt x="234" y="292"/>
                  </a:lnTo>
                  <a:lnTo>
                    <a:pt x="240" y="314"/>
                  </a:lnTo>
                  <a:lnTo>
                    <a:pt x="252" y="362"/>
                  </a:lnTo>
                  <a:lnTo>
                    <a:pt x="252" y="362"/>
                  </a:lnTo>
                  <a:lnTo>
                    <a:pt x="258" y="404"/>
                  </a:lnTo>
                  <a:lnTo>
                    <a:pt x="262" y="446"/>
                  </a:lnTo>
                  <a:lnTo>
                    <a:pt x="262" y="446"/>
                  </a:lnTo>
                  <a:lnTo>
                    <a:pt x="276" y="588"/>
                  </a:lnTo>
                  <a:lnTo>
                    <a:pt x="276" y="588"/>
                  </a:lnTo>
                  <a:lnTo>
                    <a:pt x="286" y="660"/>
                  </a:lnTo>
                  <a:lnTo>
                    <a:pt x="292" y="696"/>
                  </a:lnTo>
                  <a:lnTo>
                    <a:pt x="300" y="734"/>
                  </a:lnTo>
                  <a:lnTo>
                    <a:pt x="300" y="734"/>
                  </a:lnTo>
                  <a:lnTo>
                    <a:pt x="314" y="784"/>
                  </a:lnTo>
                  <a:lnTo>
                    <a:pt x="330" y="832"/>
                  </a:lnTo>
                  <a:lnTo>
                    <a:pt x="348" y="882"/>
                  </a:lnTo>
                  <a:lnTo>
                    <a:pt x="366" y="930"/>
                  </a:lnTo>
                  <a:lnTo>
                    <a:pt x="406" y="1024"/>
                  </a:lnTo>
                  <a:lnTo>
                    <a:pt x="446" y="1118"/>
                  </a:lnTo>
                  <a:lnTo>
                    <a:pt x="446" y="1118"/>
                  </a:lnTo>
                  <a:lnTo>
                    <a:pt x="530" y="1298"/>
                  </a:lnTo>
                  <a:lnTo>
                    <a:pt x="570" y="1386"/>
                  </a:lnTo>
                  <a:lnTo>
                    <a:pt x="606" y="1472"/>
                  </a:lnTo>
                  <a:lnTo>
                    <a:pt x="606" y="1472"/>
                  </a:lnTo>
                  <a:lnTo>
                    <a:pt x="654" y="1594"/>
                  </a:lnTo>
                  <a:lnTo>
                    <a:pt x="700" y="1718"/>
                  </a:lnTo>
                  <a:lnTo>
                    <a:pt x="792" y="1966"/>
                  </a:lnTo>
                  <a:lnTo>
                    <a:pt x="792" y="1966"/>
                  </a:lnTo>
                  <a:lnTo>
                    <a:pt x="838" y="2092"/>
                  </a:lnTo>
                  <a:lnTo>
                    <a:pt x="886" y="2218"/>
                  </a:lnTo>
                  <a:lnTo>
                    <a:pt x="934" y="2344"/>
                  </a:lnTo>
                  <a:lnTo>
                    <a:pt x="986" y="2468"/>
                  </a:lnTo>
                  <a:lnTo>
                    <a:pt x="986" y="2468"/>
                  </a:lnTo>
                  <a:lnTo>
                    <a:pt x="986" y="2468"/>
                  </a:lnTo>
                  <a:lnTo>
                    <a:pt x="1002" y="2502"/>
                  </a:lnTo>
                  <a:lnTo>
                    <a:pt x="1020" y="2536"/>
                  </a:lnTo>
                  <a:lnTo>
                    <a:pt x="1056" y="2600"/>
                  </a:lnTo>
                  <a:lnTo>
                    <a:pt x="1056" y="2600"/>
                  </a:lnTo>
                  <a:lnTo>
                    <a:pt x="1114" y="2698"/>
                  </a:lnTo>
                  <a:lnTo>
                    <a:pt x="1114" y="2698"/>
                  </a:lnTo>
                  <a:lnTo>
                    <a:pt x="1154" y="2768"/>
                  </a:lnTo>
                  <a:lnTo>
                    <a:pt x="1172" y="2802"/>
                  </a:lnTo>
                  <a:lnTo>
                    <a:pt x="1186" y="2834"/>
                  </a:lnTo>
                  <a:lnTo>
                    <a:pt x="1186" y="2834"/>
                  </a:lnTo>
                  <a:lnTo>
                    <a:pt x="1198" y="2862"/>
                  </a:lnTo>
                  <a:lnTo>
                    <a:pt x="1206" y="2888"/>
                  </a:lnTo>
                  <a:lnTo>
                    <a:pt x="1206" y="2888"/>
                  </a:lnTo>
                  <a:lnTo>
                    <a:pt x="1210" y="2910"/>
                  </a:lnTo>
                  <a:lnTo>
                    <a:pt x="1210" y="2928"/>
                  </a:lnTo>
                  <a:lnTo>
                    <a:pt x="1210" y="2928"/>
                  </a:lnTo>
                  <a:lnTo>
                    <a:pt x="1210" y="2932"/>
                  </a:lnTo>
                  <a:lnTo>
                    <a:pt x="1330" y="2940"/>
                  </a:lnTo>
                  <a:lnTo>
                    <a:pt x="1410" y="2850"/>
                  </a:lnTo>
                  <a:lnTo>
                    <a:pt x="1410" y="2850"/>
                  </a:lnTo>
                  <a:lnTo>
                    <a:pt x="1386" y="2828"/>
                  </a:lnTo>
                  <a:lnTo>
                    <a:pt x="1362" y="2804"/>
                  </a:lnTo>
                  <a:lnTo>
                    <a:pt x="1314" y="2752"/>
                  </a:lnTo>
                  <a:lnTo>
                    <a:pt x="1266" y="2694"/>
                  </a:lnTo>
                  <a:lnTo>
                    <a:pt x="1220" y="2630"/>
                  </a:lnTo>
                  <a:lnTo>
                    <a:pt x="1220" y="2630"/>
                  </a:lnTo>
                  <a:lnTo>
                    <a:pt x="1184" y="2580"/>
                  </a:lnTo>
                  <a:lnTo>
                    <a:pt x="1150" y="2528"/>
                  </a:lnTo>
                  <a:lnTo>
                    <a:pt x="1116" y="2474"/>
                  </a:lnTo>
                  <a:lnTo>
                    <a:pt x="1082" y="2418"/>
                  </a:lnTo>
                  <a:lnTo>
                    <a:pt x="1016" y="2302"/>
                  </a:lnTo>
                  <a:lnTo>
                    <a:pt x="952" y="2184"/>
                  </a:lnTo>
                  <a:lnTo>
                    <a:pt x="952" y="2184"/>
                  </a:lnTo>
                  <a:lnTo>
                    <a:pt x="830" y="1952"/>
                  </a:lnTo>
                  <a:lnTo>
                    <a:pt x="830" y="1952"/>
                  </a:lnTo>
                  <a:lnTo>
                    <a:pt x="770" y="1840"/>
                  </a:lnTo>
                  <a:lnTo>
                    <a:pt x="714" y="1736"/>
                  </a:lnTo>
                  <a:lnTo>
                    <a:pt x="714" y="1736"/>
                  </a:lnTo>
                  <a:lnTo>
                    <a:pt x="714" y="1736"/>
                  </a:lnTo>
                  <a:lnTo>
                    <a:pt x="648" y="1618"/>
                  </a:lnTo>
                  <a:lnTo>
                    <a:pt x="572" y="1482"/>
                  </a:lnTo>
                  <a:lnTo>
                    <a:pt x="572" y="1482"/>
                  </a:lnTo>
                  <a:lnTo>
                    <a:pt x="512" y="1368"/>
                  </a:lnTo>
                  <a:lnTo>
                    <a:pt x="452" y="1248"/>
                  </a:lnTo>
                  <a:lnTo>
                    <a:pt x="424" y="1186"/>
                  </a:lnTo>
                  <a:lnTo>
                    <a:pt x="396" y="1124"/>
                  </a:lnTo>
                  <a:lnTo>
                    <a:pt x="370" y="1060"/>
                  </a:lnTo>
                  <a:lnTo>
                    <a:pt x="346" y="996"/>
                  </a:lnTo>
                  <a:lnTo>
                    <a:pt x="346" y="996"/>
                  </a:lnTo>
                  <a:lnTo>
                    <a:pt x="322" y="934"/>
                  </a:lnTo>
                  <a:lnTo>
                    <a:pt x="302" y="870"/>
                  </a:lnTo>
                  <a:lnTo>
                    <a:pt x="284" y="806"/>
                  </a:lnTo>
                  <a:lnTo>
                    <a:pt x="268" y="746"/>
                  </a:lnTo>
                  <a:lnTo>
                    <a:pt x="268" y="746"/>
                  </a:lnTo>
                  <a:lnTo>
                    <a:pt x="256" y="684"/>
                  </a:lnTo>
                  <a:lnTo>
                    <a:pt x="248" y="626"/>
                  </a:lnTo>
                  <a:lnTo>
                    <a:pt x="242" y="570"/>
                  </a:lnTo>
                  <a:lnTo>
                    <a:pt x="240" y="514"/>
                  </a:lnTo>
                  <a:lnTo>
                    <a:pt x="240" y="514"/>
                  </a:lnTo>
                  <a:lnTo>
                    <a:pt x="242" y="466"/>
                  </a:lnTo>
                  <a:lnTo>
                    <a:pt x="246" y="422"/>
                  </a:lnTo>
                  <a:lnTo>
                    <a:pt x="254" y="378"/>
                  </a:lnTo>
                  <a:lnTo>
                    <a:pt x="266" y="338"/>
                  </a:lnTo>
                  <a:lnTo>
                    <a:pt x="266" y="338"/>
                  </a:lnTo>
                  <a:lnTo>
                    <a:pt x="282" y="300"/>
                  </a:lnTo>
                  <a:lnTo>
                    <a:pt x="300" y="266"/>
                  </a:lnTo>
                  <a:lnTo>
                    <a:pt x="322" y="234"/>
                  </a:lnTo>
                  <a:lnTo>
                    <a:pt x="348" y="202"/>
                  </a:lnTo>
                  <a:lnTo>
                    <a:pt x="260" y="120"/>
                  </a:lnTo>
                  <a:lnTo>
                    <a:pt x="186" y="214"/>
                  </a:lnTo>
                  <a:lnTo>
                    <a:pt x="26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78"/>
            <p:cNvSpPr/>
            <p:nvPr/>
          </p:nvSpPr>
          <p:spPr>
            <a:xfrm>
              <a:off x="796680" y="3025800"/>
              <a:ext cx="1056960" cy="217476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2174760"/>
                <a:gd name="textAreaBottom" fmla="*/ 2175120 h 2174760"/>
              </a:gdLst>
              <a:ahLst/>
              <a:rect l="textAreaLeft" t="textAreaTop" r="textAreaRight" b="textAreaBottom"/>
              <a:pathLst>
                <a:path w="666" h="1370">
                  <a:moveTo>
                    <a:pt x="318" y="628"/>
                  </a:moveTo>
                  <a:lnTo>
                    <a:pt x="318" y="628"/>
                  </a:lnTo>
                  <a:lnTo>
                    <a:pt x="312" y="594"/>
                  </a:lnTo>
                  <a:lnTo>
                    <a:pt x="306" y="558"/>
                  </a:lnTo>
                  <a:lnTo>
                    <a:pt x="296" y="480"/>
                  </a:lnTo>
                  <a:lnTo>
                    <a:pt x="288" y="398"/>
                  </a:lnTo>
                  <a:lnTo>
                    <a:pt x="276" y="314"/>
                  </a:lnTo>
                  <a:lnTo>
                    <a:pt x="268" y="274"/>
                  </a:lnTo>
                  <a:lnTo>
                    <a:pt x="258" y="234"/>
                  </a:lnTo>
                  <a:lnTo>
                    <a:pt x="248" y="196"/>
                  </a:lnTo>
                  <a:lnTo>
                    <a:pt x="234" y="160"/>
                  </a:lnTo>
                  <a:lnTo>
                    <a:pt x="218" y="126"/>
                  </a:lnTo>
                  <a:lnTo>
                    <a:pt x="200" y="96"/>
                  </a:lnTo>
                  <a:lnTo>
                    <a:pt x="178" y="68"/>
                  </a:lnTo>
                  <a:lnTo>
                    <a:pt x="166" y="54"/>
                  </a:lnTo>
                  <a:lnTo>
                    <a:pt x="154" y="42"/>
                  </a:lnTo>
                  <a:lnTo>
                    <a:pt x="154" y="42"/>
                  </a:lnTo>
                  <a:lnTo>
                    <a:pt x="130" y="24"/>
                  </a:lnTo>
                  <a:lnTo>
                    <a:pt x="110" y="12"/>
                  </a:lnTo>
                  <a:lnTo>
                    <a:pt x="92" y="4"/>
                  </a:lnTo>
                  <a:lnTo>
                    <a:pt x="76" y="0"/>
                  </a:lnTo>
                  <a:lnTo>
                    <a:pt x="60" y="0"/>
                  </a:lnTo>
                  <a:lnTo>
                    <a:pt x="48" y="4"/>
                  </a:lnTo>
                  <a:lnTo>
                    <a:pt x="36" y="12"/>
                  </a:lnTo>
                  <a:lnTo>
                    <a:pt x="26" y="24"/>
                  </a:lnTo>
                  <a:lnTo>
                    <a:pt x="18" y="38"/>
                  </a:lnTo>
                  <a:lnTo>
                    <a:pt x="12" y="56"/>
                  </a:lnTo>
                  <a:lnTo>
                    <a:pt x="8" y="76"/>
                  </a:lnTo>
                  <a:lnTo>
                    <a:pt x="4" y="98"/>
                  </a:lnTo>
                  <a:lnTo>
                    <a:pt x="0" y="122"/>
                  </a:lnTo>
                  <a:lnTo>
                    <a:pt x="0" y="148"/>
                  </a:lnTo>
                  <a:lnTo>
                    <a:pt x="0" y="202"/>
                  </a:lnTo>
                  <a:lnTo>
                    <a:pt x="2" y="262"/>
                  </a:lnTo>
                  <a:lnTo>
                    <a:pt x="10" y="322"/>
                  </a:lnTo>
                  <a:lnTo>
                    <a:pt x="18" y="380"/>
                  </a:lnTo>
                  <a:lnTo>
                    <a:pt x="26" y="438"/>
                  </a:lnTo>
                  <a:lnTo>
                    <a:pt x="36" y="488"/>
                  </a:lnTo>
                  <a:lnTo>
                    <a:pt x="46" y="532"/>
                  </a:lnTo>
                  <a:lnTo>
                    <a:pt x="56" y="566"/>
                  </a:lnTo>
                  <a:lnTo>
                    <a:pt x="62" y="588"/>
                  </a:lnTo>
                  <a:lnTo>
                    <a:pt x="62" y="588"/>
                  </a:lnTo>
                  <a:lnTo>
                    <a:pt x="86" y="644"/>
                  </a:lnTo>
                  <a:lnTo>
                    <a:pt x="114" y="700"/>
                  </a:lnTo>
                  <a:lnTo>
                    <a:pt x="142" y="754"/>
                  </a:lnTo>
                  <a:lnTo>
                    <a:pt x="174" y="808"/>
                  </a:lnTo>
                  <a:lnTo>
                    <a:pt x="208" y="860"/>
                  </a:lnTo>
                  <a:lnTo>
                    <a:pt x="244" y="912"/>
                  </a:lnTo>
                  <a:lnTo>
                    <a:pt x="282" y="962"/>
                  </a:lnTo>
                  <a:lnTo>
                    <a:pt x="320" y="1012"/>
                  </a:lnTo>
                  <a:lnTo>
                    <a:pt x="362" y="1060"/>
                  </a:lnTo>
                  <a:lnTo>
                    <a:pt x="402" y="1108"/>
                  </a:lnTo>
                  <a:lnTo>
                    <a:pt x="446" y="1154"/>
                  </a:lnTo>
                  <a:lnTo>
                    <a:pt x="488" y="1200"/>
                  </a:lnTo>
                  <a:lnTo>
                    <a:pt x="576" y="1288"/>
                  </a:lnTo>
                  <a:lnTo>
                    <a:pt x="666" y="1370"/>
                  </a:lnTo>
                  <a:lnTo>
                    <a:pt x="666" y="1370"/>
                  </a:lnTo>
                  <a:lnTo>
                    <a:pt x="636" y="1342"/>
                  </a:lnTo>
                  <a:lnTo>
                    <a:pt x="608" y="1308"/>
                  </a:lnTo>
                  <a:lnTo>
                    <a:pt x="582" y="1270"/>
                  </a:lnTo>
                  <a:lnTo>
                    <a:pt x="554" y="1230"/>
                  </a:lnTo>
                  <a:lnTo>
                    <a:pt x="528" y="1184"/>
                  </a:lnTo>
                  <a:lnTo>
                    <a:pt x="502" y="1138"/>
                  </a:lnTo>
                  <a:lnTo>
                    <a:pt x="478" y="1090"/>
                  </a:lnTo>
                  <a:lnTo>
                    <a:pt x="456" y="1040"/>
                  </a:lnTo>
                  <a:lnTo>
                    <a:pt x="434" y="988"/>
                  </a:lnTo>
                  <a:lnTo>
                    <a:pt x="414" y="938"/>
                  </a:lnTo>
                  <a:lnTo>
                    <a:pt x="376" y="836"/>
                  </a:lnTo>
                  <a:lnTo>
                    <a:pt x="346" y="740"/>
                  </a:lnTo>
                  <a:lnTo>
                    <a:pt x="322" y="652"/>
                  </a:lnTo>
                  <a:lnTo>
                    <a:pt x="322" y="652"/>
                  </a:lnTo>
                  <a:lnTo>
                    <a:pt x="318" y="628"/>
                  </a:lnTo>
                  <a:lnTo>
                    <a:pt x="318" y="628"/>
                  </a:lnTo>
                  <a:close/>
                </a:path>
              </a:pathLst>
            </a:custGeom>
            <a:solidFill>
              <a:srgbClr val="f9d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79"/>
            <p:cNvSpPr/>
            <p:nvPr/>
          </p:nvSpPr>
          <p:spPr>
            <a:xfrm>
              <a:off x="606240" y="2835360"/>
              <a:ext cx="1438200" cy="2555640"/>
            </a:xfrm>
            <a:custGeom>
              <a:avLst/>
              <a:gdLst>
                <a:gd name="textAreaLeft" fmla="*/ 0 w 1438200"/>
                <a:gd name="textAreaRight" fmla="*/ 1438560 w 1438200"/>
                <a:gd name="textAreaTop" fmla="*/ 0 h 2555640"/>
                <a:gd name="textAreaBottom" fmla="*/ 2555640 h 2555640"/>
              </a:gdLst>
              <a:ahLst/>
              <a:rect l="textAreaLeft" t="textAreaTop" r="textAreaRight" b="textAreaBottom"/>
              <a:pathLst>
                <a:path w="906" h="1610">
                  <a:moveTo>
                    <a:pt x="438" y="748"/>
                  </a:moveTo>
                  <a:lnTo>
                    <a:pt x="554" y="726"/>
                  </a:lnTo>
                  <a:lnTo>
                    <a:pt x="554" y="726"/>
                  </a:lnTo>
                  <a:lnTo>
                    <a:pt x="544" y="662"/>
                  </a:lnTo>
                  <a:lnTo>
                    <a:pt x="544" y="662"/>
                  </a:lnTo>
                  <a:lnTo>
                    <a:pt x="528" y="524"/>
                  </a:lnTo>
                  <a:lnTo>
                    <a:pt x="528" y="524"/>
                  </a:lnTo>
                  <a:lnTo>
                    <a:pt x="522" y="468"/>
                  </a:lnTo>
                  <a:lnTo>
                    <a:pt x="512" y="408"/>
                  </a:lnTo>
                  <a:lnTo>
                    <a:pt x="512" y="408"/>
                  </a:lnTo>
                  <a:lnTo>
                    <a:pt x="504" y="364"/>
                  </a:lnTo>
                  <a:lnTo>
                    <a:pt x="494" y="320"/>
                  </a:lnTo>
                  <a:lnTo>
                    <a:pt x="480" y="276"/>
                  </a:lnTo>
                  <a:lnTo>
                    <a:pt x="464" y="232"/>
                  </a:lnTo>
                  <a:lnTo>
                    <a:pt x="464" y="232"/>
                  </a:lnTo>
                  <a:lnTo>
                    <a:pt x="444" y="188"/>
                  </a:lnTo>
                  <a:lnTo>
                    <a:pt x="432" y="168"/>
                  </a:lnTo>
                  <a:lnTo>
                    <a:pt x="418" y="148"/>
                  </a:lnTo>
                  <a:lnTo>
                    <a:pt x="418" y="148"/>
                  </a:lnTo>
                  <a:lnTo>
                    <a:pt x="404" y="128"/>
                  </a:lnTo>
                  <a:lnTo>
                    <a:pt x="388" y="108"/>
                  </a:lnTo>
                  <a:lnTo>
                    <a:pt x="370" y="88"/>
                  </a:lnTo>
                  <a:lnTo>
                    <a:pt x="352" y="72"/>
                  </a:lnTo>
                  <a:lnTo>
                    <a:pt x="352" y="72"/>
                  </a:lnTo>
                  <a:lnTo>
                    <a:pt x="352" y="72"/>
                  </a:lnTo>
                  <a:lnTo>
                    <a:pt x="316" y="44"/>
                  </a:lnTo>
                  <a:lnTo>
                    <a:pt x="298" y="32"/>
                  </a:lnTo>
                  <a:lnTo>
                    <a:pt x="280" y="22"/>
                  </a:lnTo>
                  <a:lnTo>
                    <a:pt x="280" y="22"/>
                  </a:lnTo>
                  <a:lnTo>
                    <a:pt x="260" y="14"/>
                  </a:lnTo>
                  <a:lnTo>
                    <a:pt x="238" y="6"/>
                  </a:lnTo>
                  <a:lnTo>
                    <a:pt x="238" y="6"/>
                  </a:lnTo>
                  <a:lnTo>
                    <a:pt x="214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4" y="0"/>
                  </a:lnTo>
                  <a:lnTo>
                    <a:pt x="158" y="2"/>
                  </a:lnTo>
                  <a:lnTo>
                    <a:pt x="142" y="6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12" y="18"/>
                  </a:lnTo>
                  <a:lnTo>
                    <a:pt x="100" y="26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62" y="56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0" y="88"/>
                  </a:lnTo>
                  <a:lnTo>
                    <a:pt x="34" y="102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16" y="150"/>
                  </a:lnTo>
                  <a:lnTo>
                    <a:pt x="10" y="170"/>
                  </a:lnTo>
                  <a:lnTo>
                    <a:pt x="4" y="210"/>
                  </a:lnTo>
                  <a:lnTo>
                    <a:pt x="4" y="210"/>
                  </a:lnTo>
                  <a:lnTo>
                    <a:pt x="0" y="252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2" y="362"/>
                  </a:lnTo>
                  <a:lnTo>
                    <a:pt x="8" y="430"/>
                  </a:lnTo>
                  <a:lnTo>
                    <a:pt x="8" y="430"/>
                  </a:lnTo>
                  <a:lnTo>
                    <a:pt x="14" y="482"/>
                  </a:lnTo>
                  <a:lnTo>
                    <a:pt x="20" y="532"/>
                  </a:lnTo>
                  <a:lnTo>
                    <a:pt x="36" y="622"/>
                  </a:lnTo>
                  <a:lnTo>
                    <a:pt x="36" y="622"/>
                  </a:lnTo>
                  <a:lnTo>
                    <a:pt x="54" y="696"/>
                  </a:lnTo>
                  <a:lnTo>
                    <a:pt x="54" y="696"/>
                  </a:lnTo>
                  <a:lnTo>
                    <a:pt x="62" y="726"/>
                  </a:lnTo>
                  <a:lnTo>
                    <a:pt x="62" y="726"/>
                  </a:lnTo>
                  <a:lnTo>
                    <a:pt x="66" y="740"/>
                  </a:lnTo>
                  <a:lnTo>
                    <a:pt x="66" y="740"/>
                  </a:lnTo>
                  <a:lnTo>
                    <a:pt x="72" y="754"/>
                  </a:lnTo>
                  <a:lnTo>
                    <a:pt x="72" y="754"/>
                  </a:lnTo>
                  <a:lnTo>
                    <a:pt x="72" y="754"/>
                  </a:lnTo>
                  <a:lnTo>
                    <a:pt x="98" y="814"/>
                  </a:lnTo>
                  <a:lnTo>
                    <a:pt x="126" y="874"/>
                  </a:lnTo>
                  <a:lnTo>
                    <a:pt x="158" y="934"/>
                  </a:lnTo>
                  <a:lnTo>
                    <a:pt x="192" y="990"/>
                  </a:lnTo>
                  <a:lnTo>
                    <a:pt x="228" y="1046"/>
                  </a:lnTo>
                  <a:lnTo>
                    <a:pt x="266" y="1102"/>
                  </a:lnTo>
                  <a:lnTo>
                    <a:pt x="306" y="1154"/>
                  </a:lnTo>
                  <a:lnTo>
                    <a:pt x="348" y="1208"/>
                  </a:lnTo>
                  <a:lnTo>
                    <a:pt x="348" y="1208"/>
                  </a:lnTo>
                  <a:lnTo>
                    <a:pt x="390" y="1258"/>
                  </a:lnTo>
                  <a:lnTo>
                    <a:pt x="434" y="1308"/>
                  </a:lnTo>
                  <a:lnTo>
                    <a:pt x="478" y="1356"/>
                  </a:lnTo>
                  <a:lnTo>
                    <a:pt x="522" y="1404"/>
                  </a:lnTo>
                  <a:lnTo>
                    <a:pt x="614" y="1494"/>
                  </a:lnTo>
                  <a:lnTo>
                    <a:pt x="704" y="1580"/>
                  </a:lnTo>
                  <a:lnTo>
                    <a:pt x="704" y="1580"/>
                  </a:lnTo>
                  <a:lnTo>
                    <a:pt x="714" y="1588"/>
                  </a:lnTo>
                  <a:lnTo>
                    <a:pt x="724" y="1594"/>
                  </a:lnTo>
                  <a:lnTo>
                    <a:pt x="746" y="1604"/>
                  </a:lnTo>
                  <a:lnTo>
                    <a:pt x="768" y="1610"/>
                  </a:lnTo>
                  <a:lnTo>
                    <a:pt x="790" y="1610"/>
                  </a:lnTo>
                  <a:lnTo>
                    <a:pt x="814" y="1608"/>
                  </a:lnTo>
                  <a:lnTo>
                    <a:pt x="836" y="1600"/>
                  </a:lnTo>
                  <a:lnTo>
                    <a:pt x="856" y="1588"/>
                  </a:lnTo>
                  <a:lnTo>
                    <a:pt x="866" y="1580"/>
                  </a:lnTo>
                  <a:lnTo>
                    <a:pt x="874" y="1572"/>
                  </a:lnTo>
                  <a:lnTo>
                    <a:pt x="874" y="1572"/>
                  </a:lnTo>
                  <a:lnTo>
                    <a:pt x="882" y="1562"/>
                  </a:lnTo>
                  <a:lnTo>
                    <a:pt x="888" y="1552"/>
                  </a:lnTo>
                  <a:lnTo>
                    <a:pt x="898" y="1532"/>
                  </a:lnTo>
                  <a:lnTo>
                    <a:pt x="904" y="1508"/>
                  </a:lnTo>
                  <a:lnTo>
                    <a:pt x="906" y="1486"/>
                  </a:lnTo>
                  <a:lnTo>
                    <a:pt x="902" y="1462"/>
                  </a:lnTo>
                  <a:lnTo>
                    <a:pt x="894" y="1442"/>
                  </a:lnTo>
                  <a:lnTo>
                    <a:pt x="882" y="1420"/>
                  </a:lnTo>
                  <a:lnTo>
                    <a:pt x="876" y="1412"/>
                  </a:lnTo>
                  <a:lnTo>
                    <a:pt x="866" y="1402"/>
                  </a:lnTo>
                  <a:lnTo>
                    <a:pt x="866" y="1402"/>
                  </a:lnTo>
                  <a:lnTo>
                    <a:pt x="846" y="1382"/>
                  </a:lnTo>
                  <a:lnTo>
                    <a:pt x="824" y="1354"/>
                  </a:lnTo>
                  <a:lnTo>
                    <a:pt x="824" y="1354"/>
                  </a:lnTo>
                  <a:lnTo>
                    <a:pt x="802" y="1326"/>
                  </a:lnTo>
                  <a:lnTo>
                    <a:pt x="782" y="1296"/>
                  </a:lnTo>
                  <a:lnTo>
                    <a:pt x="762" y="1262"/>
                  </a:lnTo>
                  <a:lnTo>
                    <a:pt x="742" y="1224"/>
                  </a:lnTo>
                  <a:lnTo>
                    <a:pt x="742" y="1224"/>
                  </a:lnTo>
                  <a:lnTo>
                    <a:pt x="712" y="1166"/>
                  </a:lnTo>
                  <a:lnTo>
                    <a:pt x="682" y="1104"/>
                  </a:lnTo>
                  <a:lnTo>
                    <a:pt x="656" y="1042"/>
                  </a:lnTo>
                  <a:lnTo>
                    <a:pt x="632" y="978"/>
                  </a:lnTo>
                  <a:lnTo>
                    <a:pt x="632" y="978"/>
                  </a:lnTo>
                  <a:lnTo>
                    <a:pt x="610" y="914"/>
                  </a:lnTo>
                  <a:lnTo>
                    <a:pt x="590" y="854"/>
                  </a:lnTo>
                  <a:lnTo>
                    <a:pt x="572" y="796"/>
                  </a:lnTo>
                  <a:lnTo>
                    <a:pt x="558" y="744"/>
                  </a:lnTo>
                  <a:lnTo>
                    <a:pt x="558" y="744"/>
                  </a:lnTo>
                  <a:lnTo>
                    <a:pt x="558" y="744"/>
                  </a:lnTo>
                  <a:lnTo>
                    <a:pt x="554" y="726"/>
                  </a:lnTo>
                  <a:lnTo>
                    <a:pt x="554" y="726"/>
                  </a:lnTo>
                  <a:lnTo>
                    <a:pt x="438" y="748"/>
                  </a:lnTo>
                  <a:lnTo>
                    <a:pt x="320" y="772"/>
                  </a:lnTo>
                  <a:lnTo>
                    <a:pt x="320" y="772"/>
                  </a:lnTo>
                  <a:lnTo>
                    <a:pt x="326" y="800"/>
                  </a:lnTo>
                  <a:lnTo>
                    <a:pt x="326" y="800"/>
                  </a:lnTo>
                  <a:lnTo>
                    <a:pt x="326" y="800"/>
                  </a:lnTo>
                  <a:lnTo>
                    <a:pt x="350" y="892"/>
                  </a:lnTo>
                  <a:lnTo>
                    <a:pt x="382" y="994"/>
                  </a:lnTo>
                  <a:lnTo>
                    <a:pt x="382" y="994"/>
                  </a:lnTo>
                  <a:lnTo>
                    <a:pt x="412" y="1074"/>
                  </a:lnTo>
                  <a:lnTo>
                    <a:pt x="444" y="1154"/>
                  </a:lnTo>
                  <a:lnTo>
                    <a:pt x="478" y="1234"/>
                  </a:lnTo>
                  <a:lnTo>
                    <a:pt x="516" y="1314"/>
                  </a:lnTo>
                  <a:lnTo>
                    <a:pt x="516" y="1314"/>
                  </a:lnTo>
                  <a:lnTo>
                    <a:pt x="536" y="1352"/>
                  </a:lnTo>
                  <a:lnTo>
                    <a:pt x="558" y="1388"/>
                  </a:lnTo>
                  <a:lnTo>
                    <a:pt x="580" y="1424"/>
                  </a:lnTo>
                  <a:lnTo>
                    <a:pt x="602" y="1458"/>
                  </a:lnTo>
                  <a:lnTo>
                    <a:pt x="602" y="1458"/>
                  </a:lnTo>
                  <a:lnTo>
                    <a:pt x="626" y="1492"/>
                  </a:lnTo>
                  <a:lnTo>
                    <a:pt x="650" y="1522"/>
                  </a:lnTo>
                  <a:lnTo>
                    <a:pt x="676" y="1552"/>
                  </a:lnTo>
                  <a:lnTo>
                    <a:pt x="704" y="1580"/>
                  </a:lnTo>
                  <a:lnTo>
                    <a:pt x="704" y="1580"/>
                  </a:lnTo>
                  <a:lnTo>
                    <a:pt x="724" y="1594"/>
                  </a:lnTo>
                  <a:lnTo>
                    <a:pt x="744" y="1604"/>
                  </a:lnTo>
                  <a:lnTo>
                    <a:pt x="768" y="1610"/>
                  </a:lnTo>
                  <a:lnTo>
                    <a:pt x="790" y="1610"/>
                  </a:lnTo>
                  <a:lnTo>
                    <a:pt x="790" y="1610"/>
                  </a:lnTo>
                  <a:lnTo>
                    <a:pt x="814" y="1608"/>
                  </a:lnTo>
                  <a:lnTo>
                    <a:pt x="836" y="1600"/>
                  </a:lnTo>
                  <a:lnTo>
                    <a:pt x="856" y="1588"/>
                  </a:lnTo>
                  <a:lnTo>
                    <a:pt x="874" y="1572"/>
                  </a:lnTo>
                  <a:lnTo>
                    <a:pt x="874" y="1572"/>
                  </a:lnTo>
                  <a:lnTo>
                    <a:pt x="888" y="1554"/>
                  </a:lnTo>
                  <a:lnTo>
                    <a:pt x="898" y="1532"/>
                  </a:lnTo>
                  <a:lnTo>
                    <a:pt x="904" y="1510"/>
                  </a:lnTo>
                  <a:lnTo>
                    <a:pt x="906" y="1486"/>
                  </a:lnTo>
                  <a:lnTo>
                    <a:pt x="906" y="1486"/>
                  </a:lnTo>
                  <a:lnTo>
                    <a:pt x="902" y="1462"/>
                  </a:lnTo>
                  <a:lnTo>
                    <a:pt x="894" y="1440"/>
                  </a:lnTo>
                  <a:lnTo>
                    <a:pt x="882" y="1420"/>
                  </a:lnTo>
                  <a:lnTo>
                    <a:pt x="866" y="1402"/>
                  </a:lnTo>
                  <a:lnTo>
                    <a:pt x="866" y="1402"/>
                  </a:lnTo>
                  <a:lnTo>
                    <a:pt x="780" y="1322"/>
                  </a:lnTo>
                  <a:lnTo>
                    <a:pt x="694" y="1236"/>
                  </a:lnTo>
                  <a:lnTo>
                    <a:pt x="654" y="1192"/>
                  </a:lnTo>
                  <a:lnTo>
                    <a:pt x="612" y="1148"/>
                  </a:lnTo>
                  <a:lnTo>
                    <a:pt x="572" y="1102"/>
                  </a:lnTo>
                  <a:lnTo>
                    <a:pt x="534" y="1056"/>
                  </a:lnTo>
                  <a:lnTo>
                    <a:pt x="534" y="1056"/>
                  </a:lnTo>
                  <a:lnTo>
                    <a:pt x="498" y="1008"/>
                  </a:lnTo>
                  <a:lnTo>
                    <a:pt x="462" y="962"/>
                  </a:lnTo>
                  <a:lnTo>
                    <a:pt x="428" y="912"/>
                  </a:lnTo>
                  <a:lnTo>
                    <a:pt x="396" y="864"/>
                  </a:lnTo>
                  <a:lnTo>
                    <a:pt x="368" y="814"/>
                  </a:lnTo>
                  <a:lnTo>
                    <a:pt x="340" y="764"/>
                  </a:lnTo>
                  <a:lnTo>
                    <a:pt x="316" y="714"/>
                  </a:lnTo>
                  <a:lnTo>
                    <a:pt x="294" y="664"/>
                  </a:lnTo>
                  <a:lnTo>
                    <a:pt x="294" y="664"/>
                  </a:lnTo>
                  <a:lnTo>
                    <a:pt x="276" y="670"/>
                  </a:lnTo>
                  <a:lnTo>
                    <a:pt x="294" y="664"/>
                  </a:lnTo>
                  <a:lnTo>
                    <a:pt x="294" y="664"/>
                  </a:lnTo>
                  <a:lnTo>
                    <a:pt x="276" y="670"/>
                  </a:lnTo>
                  <a:lnTo>
                    <a:pt x="294" y="664"/>
                  </a:lnTo>
                  <a:lnTo>
                    <a:pt x="292" y="664"/>
                  </a:lnTo>
                  <a:lnTo>
                    <a:pt x="294" y="664"/>
                  </a:lnTo>
                  <a:lnTo>
                    <a:pt x="294" y="664"/>
                  </a:lnTo>
                  <a:lnTo>
                    <a:pt x="292" y="664"/>
                  </a:lnTo>
                  <a:lnTo>
                    <a:pt x="294" y="664"/>
                  </a:lnTo>
                  <a:lnTo>
                    <a:pt x="294" y="664"/>
                  </a:lnTo>
                  <a:lnTo>
                    <a:pt x="292" y="660"/>
                  </a:lnTo>
                  <a:lnTo>
                    <a:pt x="292" y="660"/>
                  </a:lnTo>
                  <a:lnTo>
                    <a:pt x="286" y="636"/>
                  </a:lnTo>
                  <a:lnTo>
                    <a:pt x="286" y="636"/>
                  </a:lnTo>
                  <a:lnTo>
                    <a:pt x="270" y="568"/>
                  </a:lnTo>
                  <a:lnTo>
                    <a:pt x="270" y="568"/>
                  </a:lnTo>
                  <a:lnTo>
                    <a:pt x="258" y="502"/>
                  </a:lnTo>
                  <a:lnTo>
                    <a:pt x="248" y="430"/>
                  </a:lnTo>
                  <a:lnTo>
                    <a:pt x="248" y="430"/>
                  </a:lnTo>
                  <a:lnTo>
                    <a:pt x="242" y="358"/>
                  </a:lnTo>
                  <a:lnTo>
                    <a:pt x="240" y="324"/>
                  </a:lnTo>
                  <a:lnTo>
                    <a:pt x="240" y="294"/>
                  </a:lnTo>
                  <a:lnTo>
                    <a:pt x="240" y="294"/>
                  </a:lnTo>
                  <a:lnTo>
                    <a:pt x="240" y="264"/>
                  </a:lnTo>
                  <a:lnTo>
                    <a:pt x="242" y="238"/>
                  </a:lnTo>
                  <a:lnTo>
                    <a:pt x="242" y="238"/>
                  </a:lnTo>
                  <a:lnTo>
                    <a:pt x="246" y="214"/>
                  </a:lnTo>
                  <a:lnTo>
                    <a:pt x="246" y="214"/>
                  </a:lnTo>
                  <a:lnTo>
                    <a:pt x="248" y="210"/>
                  </a:lnTo>
                  <a:lnTo>
                    <a:pt x="248" y="208"/>
                  </a:lnTo>
                  <a:lnTo>
                    <a:pt x="248" y="208"/>
                  </a:lnTo>
                  <a:lnTo>
                    <a:pt x="224" y="198"/>
                  </a:lnTo>
                  <a:lnTo>
                    <a:pt x="246" y="212"/>
                  </a:lnTo>
                  <a:lnTo>
                    <a:pt x="246" y="212"/>
                  </a:lnTo>
                  <a:lnTo>
                    <a:pt x="248" y="208"/>
                  </a:lnTo>
                  <a:lnTo>
                    <a:pt x="224" y="198"/>
                  </a:lnTo>
                  <a:lnTo>
                    <a:pt x="246" y="212"/>
                  </a:lnTo>
                  <a:lnTo>
                    <a:pt x="200" y="180"/>
                  </a:lnTo>
                  <a:lnTo>
                    <a:pt x="238" y="220"/>
                  </a:lnTo>
                  <a:lnTo>
                    <a:pt x="238" y="220"/>
                  </a:lnTo>
                  <a:lnTo>
                    <a:pt x="246" y="212"/>
                  </a:lnTo>
                  <a:lnTo>
                    <a:pt x="200" y="180"/>
                  </a:lnTo>
                  <a:lnTo>
                    <a:pt x="238" y="220"/>
                  </a:lnTo>
                  <a:lnTo>
                    <a:pt x="190" y="168"/>
                  </a:lnTo>
                  <a:lnTo>
                    <a:pt x="216" y="234"/>
                  </a:lnTo>
                  <a:lnTo>
                    <a:pt x="216" y="234"/>
                  </a:lnTo>
                  <a:lnTo>
                    <a:pt x="228" y="228"/>
                  </a:lnTo>
                  <a:lnTo>
                    <a:pt x="238" y="220"/>
                  </a:lnTo>
                  <a:lnTo>
                    <a:pt x="190" y="168"/>
                  </a:lnTo>
                  <a:lnTo>
                    <a:pt x="216" y="234"/>
                  </a:lnTo>
                  <a:lnTo>
                    <a:pt x="190" y="168"/>
                  </a:lnTo>
                  <a:lnTo>
                    <a:pt x="190" y="240"/>
                  </a:lnTo>
                  <a:lnTo>
                    <a:pt x="190" y="240"/>
                  </a:lnTo>
                  <a:lnTo>
                    <a:pt x="202" y="238"/>
                  </a:lnTo>
                  <a:lnTo>
                    <a:pt x="216" y="234"/>
                  </a:lnTo>
                  <a:lnTo>
                    <a:pt x="190" y="168"/>
                  </a:lnTo>
                  <a:lnTo>
                    <a:pt x="190" y="240"/>
                  </a:lnTo>
                  <a:lnTo>
                    <a:pt x="190" y="186"/>
                  </a:lnTo>
                  <a:lnTo>
                    <a:pt x="176" y="238"/>
                  </a:lnTo>
                  <a:lnTo>
                    <a:pt x="176" y="238"/>
                  </a:lnTo>
                  <a:lnTo>
                    <a:pt x="190" y="240"/>
                  </a:lnTo>
                  <a:lnTo>
                    <a:pt x="190" y="186"/>
                  </a:lnTo>
                  <a:lnTo>
                    <a:pt x="176" y="238"/>
                  </a:lnTo>
                  <a:lnTo>
                    <a:pt x="182" y="212"/>
                  </a:lnTo>
                  <a:lnTo>
                    <a:pt x="174" y="238"/>
                  </a:lnTo>
                  <a:lnTo>
                    <a:pt x="174" y="238"/>
                  </a:lnTo>
                  <a:lnTo>
                    <a:pt x="176" y="238"/>
                  </a:lnTo>
                  <a:lnTo>
                    <a:pt x="182" y="212"/>
                  </a:lnTo>
                  <a:lnTo>
                    <a:pt x="174" y="238"/>
                  </a:lnTo>
                  <a:lnTo>
                    <a:pt x="176" y="230"/>
                  </a:lnTo>
                  <a:lnTo>
                    <a:pt x="172" y="238"/>
                  </a:lnTo>
                  <a:lnTo>
                    <a:pt x="174" y="238"/>
                  </a:lnTo>
                  <a:lnTo>
                    <a:pt x="176" y="230"/>
                  </a:lnTo>
                  <a:lnTo>
                    <a:pt x="172" y="238"/>
                  </a:lnTo>
                  <a:lnTo>
                    <a:pt x="172" y="238"/>
                  </a:lnTo>
                  <a:lnTo>
                    <a:pt x="180" y="242"/>
                  </a:lnTo>
                  <a:lnTo>
                    <a:pt x="180" y="242"/>
                  </a:lnTo>
                  <a:lnTo>
                    <a:pt x="196" y="254"/>
                  </a:lnTo>
                  <a:lnTo>
                    <a:pt x="196" y="254"/>
                  </a:lnTo>
                  <a:lnTo>
                    <a:pt x="196" y="254"/>
                  </a:lnTo>
                  <a:lnTo>
                    <a:pt x="208" y="266"/>
                  </a:lnTo>
                  <a:lnTo>
                    <a:pt x="220" y="282"/>
                  </a:lnTo>
                  <a:lnTo>
                    <a:pt x="220" y="282"/>
                  </a:lnTo>
                  <a:lnTo>
                    <a:pt x="230" y="298"/>
                  </a:lnTo>
                  <a:lnTo>
                    <a:pt x="240" y="320"/>
                  </a:lnTo>
                  <a:lnTo>
                    <a:pt x="250" y="342"/>
                  </a:lnTo>
                  <a:lnTo>
                    <a:pt x="258" y="368"/>
                  </a:lnTo>
                  <a:lnTo>
                    <a:pt x="258" y="368"/>
                  </a:lnTo>
                  <a:lnTo>
                    <a:pt x="268" y="412"/>
                  </a:lnTo>
                  <a:lnTo>
                    <a:pt x="278" y="460"/>
                  </a:lnTo>
                  <a:lnTo>
                    <a:pt x="278" y="460"/>
                  </a:lnTo>
                  <a:lnTo>
                    <a:pt x="288" y="536"/>
                  </a:lnTo>
                  <a:lnTo>
                    <a:pt x="298" y="616"/>
                  </a:lnTo>
                  <a:lnTo>
                    <a:pt x="298" y="616"/>
                  </a:lnTo>
                  <a:lnTo>
                    <a:pt x="308" y="694"/>
                  </a:lnTo>
                  <a:lnTo>
                    <a:pt x="308" y="694"/>
                  </a:lnTo>
                  <a:lnTo>
                    <a:pt x="312" y="734"/>
                  </a:lnTo>
                  <a:lnTo>
                    <a:pt x="320" y="772"/>
                  </a:lnTo>
                  <a:lnTo>
                    <a:pt x="320" y="772"/>
                  </a:lnTo>
                  <a:lnTo>
                    <a:pt x="438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80"/>
            <p:cNvSpPr/>
            <p:nvPr/>
          </p:nvSpPr>
          <p:spPr>
            <a:xfrm>
              <a:off x="873000" y="4756320"/>
              <a:ext cx="1164960" cy="153036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734" h="964">
                  <a:moveTo>
                    <a:pt x="368" y="452"/>
                  </a:moveTo>
                  <a:lnTo>
                    <a:pt x="368" y="452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14" y="322"/>
                  </a:lnTo>
                  <a:lnTo>
                    <a:pt x="290" y="256"/>
                  </a:lnTo>
                  <a:lnTo>
                    <a:pt x="278" y="222"/>
                  </a:lnTo>
                  <a:lnTo>
                    <a:pt x="264" y="186"/>
                  </a:lnTo>
                  <a:lnTo>
                    <a:pt x="248" y="154"/>
                  </a:lnTo>
                  <a:lnTo>
                    <a:pt x="232" y="122"/>
                  </a:lnTo>
                  <a:lnTo>
                    <a:pt x="212" y="92"/>
                  </a:lnTo>
                  <a:lnTo>
                    <a:pt x="192" y="66"/>
                  </a:lnTo>
                  <a:lnTo>
                    <a:pt x="168" y="42"/>
                  </a:lnTo>
                  <a:lnTo>
                    <a:pt x="156" y="32"/>
                  </a:lnTo>
                  <a:lnTo>
                    <a:pt x="142" y="24"/>
                  </a:lnTo>
                  <a:lnTo>
                    <a:pt x="128" y="16"/>
                  </a:lnTo>
                  <a:lnTo>
                    <a:pt x="114" y="10"/>
                  </a:lnTo>
                  <a:lnTo>
                    <a:pt x="98" y="6"/>
                  </a:lnTo>
                  <a:lnTo>
                    <a:pt x="82" y="2"/>
                  </a:lnTo>
                  <a:lnTo>
                    <a:pt x="64" y="0"/>
                  </a:lnTo>
                  <a:lnTo>
                    <a:pt x="46" y="2"/>
                  </a:lnTo>
                  <a:lnTo>
                    <a:pt x="2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46"/>
                  </a:lnTo>
                  <a:lnTo>
                    <a:pt x="0" y="84"/>
                  </a:lnTo>
                  <a:lnTo>
                    <a:pt x="2" y="122"/>
                  </a:lnTo>
                  <a:lnTo>
                    <a:pt x="8" y="160"/>
                  </a:lnTo>
                  <a:lnTo>
                    <a:pt x="14" y="198"/>
                  </a:lnTo>
                  <a:lnTo>
                    <a:pt x="24" y="234"/>
                  </a:lnTo>
                  <a:lnTo>
                    <a:pt x="36" y="270"/>
                  </a:lnTo>
                  <a:lnTo>
                    <a:pt x="52" y="304"/>
                  </a:lnTo>
                  <a:lnTo>
                    <a:pt x="68" y="340"/>
                  </a:lnTo>
                  <a:lnTo>
                    <a:pt x="86" y="374"/>
                  </a:lnTo>
                  <a:lnTo>
                    <a:pt x="108" y="408"/>
                  </a:lnTo>
                  <a:lnTo>
                    <a:pt x="130" y="440"/>
                  </a:lnTo>
                  <a:lnTo>
                    <a:pt x="154" y="472"/>
                  </a:lnTo>
                  <a:lnTo>
                    <a:pt x="180" y="504"/>
                  </a:lnTo>
                  <a:lnTo>
                    <a:pt x="208" y="536"/>
                  </a:lnTo>
                  <a:lnTo>
                    <a:pt x="236" y="566"/>
                  </a:lnTo>
                  <a:lnTo>
                    <a:pt x="296" y="626"/>
                  </a:lnTo>
                  <a:lnTo>
                    <a:pt x="358" y="682"/>
                  </a:lnTo>
                  <a:lnTo>
                    <a:pt x="422" y="736"/>
                  </a:lnTo>
                  <a:lnTo>
                    <a:pt x="488" y="788"/>
                  </a:lnTo>
                  <a:lnTo>
                    <a:pt x="552" y="836"/>
                  </a:lnTo>
                  <a:lnTo>
                    <a:pt x="616" y="882"/>
                  </a:lnTo>
                  <a:lnTo>
                    <a:pt x="734" y="964"/>
                  </a:lnTo>
                  <a:lnTo>
                    <a:pt x="734" y="964"/>
                  </a:lnTo>
                  <a:lnTo>
                    <a:pt x="704" y="942"/>
                  </a:lnTo>
                  <a:lnTo>
                    <a:pt x="674" y="918"/>
                  </a:lnTo>
                  <a:lnTo>
                    <a:pt x="648" y="892"/>
                  </a:lnTo>
                  <a:lnTo>
                    <a:pt x="620" y="864"/>
                  </a:lnTo>
                  <a:lnTo>
                    <a:pt x="594" y="834"/>
                  </a:lnTo>
                  <a:lnTo>
                    <a:pt x="570" y="802"/>
                  </a:lnTo>
                  <a:lnTo>
                    <a:pt x="546" y="770"/>
                  </a:lnTo>
                  <a:lnTo>
                    <a:pt x="524" y="738"/>
                  </a:lnTo>
                  <a:lnTo>
                    <a:pt x="480" y="668"/>
                  </a:lnTo>
                  <a:lnTo>
                    <a:pt x="440" y="596"/>
                  </a:lnTo>
                  <a:lnTo>
                    <a:pt x="402" y="524"/>
                  </a:lnTo>
                  <a:lnTo>
                    <a:pt x="368" y="452"/>
                  </a:lnTo>
                  <a:lnTo>
                    <a:pt x="368" y="452"/>
                  </a:lnTo>
                  <a:close/>
                </a:path>
              </a:pathLst>
            </a:custGeom>
            <a:solidFill>
              <a:srgbClr val="d2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81"/>
            <p:cNvSpPr/>
            <p:nvPr/>
          </p:nvSpPr>
          <p:spPr>
            <a:xfrm>
              <a:off x="682560" y="4565520"/>
              <a:ext cx="1546200" cy="191124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911240"/>
                <a:gd name="textAreaBottom" fmla="*/ 1911600 h 1911240"/>
              </a:gdLst>
              <a:ahLst/>
              <a:rect l="textAreaLeft" t="textAreaTop" r="textAreaRight" b="textAreaBottom"/>
              <a:pathLst>
                <a:path w="974" h="1204">
                  <a:moveTo>
                    <a:pt x="488" y="572"/>
                  </a:moveTo>
                  <a:lnTo>
                    <a:pt x="598" y="522"/>
                  </a:lnTo>
                  <a:lnTo>
                    <a:pt x="598" y="522"/>
                  </a:lnTo>
                  <a:lnTo>
                    <a:pt x="568" y="454"/>
                  </a:lnTo>
                  <a:lnTo>
                    <a:pt x="568" y="454"/>
                  </a:lnTo>
                  <a:lnTo>
                    <a:pt x="568" y="454"/>
                  </a:lnTo>
                  <a:lnTo>
                    <a:pt x="550" y="406"/>
                  </a:lnTo>
                  <a:lnTo>
                    <a:pt x="550" y="406"/>
                  </a:lnTo>
                  <a:lnTo>
                    <a:pt x="530" y="354"/>
                  </a:lnTo>
                  <a:lnTo>
                    <a:pt x="508" y="296"/>
                  </a:lnTo>
                  <a:lnTo>
                    <a:pt x="508" y="296"/>
                  </a:lnTo>
                  <a:lnTo>
                    <a:pt x="490" y="250"/>
                  </a:lnTo>
                  <a:lnTo>
                    <a:pt x="466" y="202"/>
                  </a:lnTo>
                  <a:lnTo>
                    <a:pt x="466" y="202"/>
                  </a:lnTo>
                  <a:lnTo>
                    <a:pt x="446" y="168"/>
                  </a:lnTo>
                  <a:lnTo>
                    <a:pt x="422" y="132"/>
                  </a:lnTo>
                  <a:lnTo>
                    <a:pt x="422" y="132"/>
                  </a:lnTo>
                  <a:lnTo>
                    <a:pt x="402" y="108"/>
                  </a:lnTo>
                  <a:lnTo>
                    <a:pt x="380" y="84"/>
                  </a:lnTo>
                  <a:lnTo>
                    <a:pt x="380" y="84"/>
                  </a:lnTo>
                  <a:lnTo>
                    <a:pt x="360" y="66"/>
                  </a:lnTo>
                  <a:lnTo>
                    <a:pt x="340" y="50"/>
                  </a:lnTo>
                  <a:lnTo>
                    <a:pt x="316" y="36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64" y="14"/>
                  </a:lnTo>
                  <a:lnTo>
                    <a:pt x="236" y="6"/>
                  </a:lnTo>
                  <a:lnTo>
                    <a:pt x="206" y="2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38" y="4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82" y="16"/>
                  </a:lnTo>
                  <a:lnTo>
                    <a:pt x="66" y="24"/>
                  </a:lnTo>
                  <a:lnTo>
                    <a:pt x="52" y="34"/>
                  </a:lnTo>
                  <a:lnTo>
                    <a:pt x="40" y="46"/>
                  </a:lnTo>
                  <a:lnTo>
                    <a:pt x="28" y="58"/>
                  </a:lnTo>
                  <a:lnTo>
                    <a:pt x="20" y="74"/>
                  </a:lnTo>
                  <a:lnTo>
                    <a:pt x="12" y="90"/>
                  </a:lnTo>
                  <a:lnTo>
                    <a:pt x="8" y="108"/>
                  </a:lnTo>
                  <a:lnTo>
                    <a:pt x="8" y="108"/>
                  </a:lnTo>
                  <a:lnTo>
                    <a:pt x="2" y="156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2" y="248"/>
                  </a:lnTo>
                  <a:lnTo>
                    <a:pt x="8" y="292"/>
                  </a:lnTo>
                  <a:lnTo>
                    <a:pt x="16" y="336"/>
                  </a:lnTo>
                  <a:lnTo>
                    <a:pt x="26" y="378"/>
                  </a:lnTo>
                  <a:lnTo>
                    <a:pt x="26" y="378"/>
                  </a:lnTo>
                  <a:lnTo>
                    <a:pt x="38" y="412"/>
                  </a:lnTo>
                  <a:lnTo>
                    <a:pt x="50" y="448"/>
                  </a:lnTo>
                  <a:lnTo>
                    <a:pt x="66" y="482"/>
                  </a:lnTo>
                  <a:lnTo>
                    <a:pt x="82" y="516"/>
                  </a:lnTo>
                  <a:lnTo>
                    <a:pt x="82" y="516"/>
                  </a:lnTo>
                  <a:lnTo>
                    <a:pt x="114" y="572"/>
                  </a:lnTo>
                  <a:lnTo>
                    <a:pt x="150" y="626"/>
                  </a:lnTo>
                  <a:lnTo>
                    <a:pt x="188" y="678"/>
                  </a:lnTo>
                  <a:lnTo>
                    <a:pt x="230" y="728"/>
                  </a:lnTo>
                  <a:lnTo>
                    <a:pt x="230" y="728"/>
                  </a:lnTo>
                  <a:lnTo>
                    <a:pt x="264" y="764"/>
                  </a:lnTo>
                  <a:lnTo>
                    <a:pt x="298" y="798"/>
                  </a:lnTo>
                  <a:lnTo>
                    <a:pt x="332" y="832"/>
                  </a:lnTo>
                  <a:lnTo>
                    <a:pt x="368" y="866"/>
                  </a:lnTo>
                  <a:lnTo>
                    <a:pt x="440" y="928"/>
                  </a:lnTo>
                  <a:lnTo>
                    <a:pt x="514" y="986"/>
                  </a:lnTo>
                  <a:lnTo>
                    <a:pt x="514" y="986"/>
                  </a:lnTo>
                  <a:lnTo>
                    <a:pt x="586" y="1042"/>
                  </a:lnTo>
                  <a:lnTo>
                    <a:pt x="656" y="1092"/>
                  </a:lnTo>
                  <a:lnTo>
                    <a:pt x="784" y="1182"/>
                  </a:lnTo>
                  <a:lnTo>
                    <a:pt x="784" y="1182"/>
                  </a:lnTo>
                  <a:lnTo>
                    <a:pt x="804" y="1194"/>
                  </a:lnTo>
                  <a:lnTo>
                    <a:pt x="828" y="1202"/>
                  </a:lnTo>
                  <a:lnTo>
                    <a:pt x="850" y="1204"/>
                  </a:lnTo>
                  <a:lnTo>
                    <a:pt x="874" y="1202"/>
                  </a:lnTo>
                  <a:lnTo>
                    <a:pt x="874" y="1202"/>
                  </a:lnTo>
                  <a:lnTo>
                    <a:pt x="896" y="1196"/>
                  </a:lnTo>
                  <a:lnTo>
                    <a:pt x="918" y="1186"/>
                  </a:lnTo>
                  <a:lnTo>
                    <a:pt x="936" y="1172"/>
                  </a:lnTo>
                  <a:lnTo>
                    <a:pt x="952" y="1154"/>
                  </a:lnTo>
                  <a:lnTo>
                    <a:pt x="952" y="1154"/>
                  </a:lnTo>
                  <a:lnTo>
                    <a:pt x="964" y="1132"/>
                  </a:lnTo>
                  <a:lnTo>
                    <a:pt x="970" y="1110"/>
                  </a:lnTo>
                  <a:lnTo>
                    <a:pt x="974" y="1088"/>
                  </a:lnTo>
                  <a:lnTo>
                    <a:pt x="972" y="1064"/>
                  </a:lnTo>
                  <a:lnTo>
                    <a:pt x="972" y="1064"/>
                  </a:lnTo>
                  <a:lnTo>
                    <a:pt x="966" y="1042"/>
                  </a:lnTo>
                  <a:lnTo>
                    <a:pt x="954" y="1020"/>
                  </a:lnTo>
                  <a:lnTo>
                    <a:pt x="940" y="1002"/>
                  </a:lnTo>
                  <a:lnTo>
                    <a:pt x="922" y="986"/>
                  </a:lnTo>
                  <a:lnTo>
                    <a:pt x="922" y="986"/>
                  </a:lnTo>
                  <a:lnTo>
                    <a:pt x="898" y="968"/>
                  </a:lnTo>
                  <a:lnTo>
                    <a:pt x="876" y="948"/>
                  </a:lnTo>
                  <a:lnTo>
                    <a:pt x="852" y="926"/>
                  </a:lnTo>
                  <a:lnTo>
                    <a:pt x="830" y="902"/>
                  </a:lnTo>
                  <a:lnTo>
                    <a:pt x="830" y="902"/>
                  </a:lnTo>
                  <a:lnTo>
                    <a:pt x="796" y="864"/>
                  </a:lnTo>
                  <a:lnTo>
                    <a:pt x="764" y="820"/>
                  </a:lnTo>
                  <a:lnTo>
                    <a:pt x="732" y="776"/>
                  </a:lnTo>
                  <a:lnTo>
                    <a:pt x="704" y="726"/>
                  </a:lnTo>
                  <a:lnTo>
                    <a:pt x="704" y="726"/>
                  </a:lnTo>
                  <a:lnTo>
                    <a:pt x="674" y="676"/>
                  </a:lnTo>
                  <a:lnTo>
                    <a:pt x="648" y="626"/>
                  </a:lnTo>
                  <a:lnTo>
                    <a:pt x="622" y="574"/>
                  </a:lnTo>
                  <a:lnTo>
                    <a:pt x="598" y="522"/>
                  </a:lnTo>
                  <a:lnTo>
                    <a:pt x="598" y="522"/>
                  </a:lnTo>
                  <a:lnTo>
                    <a:pt x="488" y="572"/>
                  </a:lnTo>
                  <a:lnTo>
                    <a:pt x="380" y="622"/>
                  </a:lnTo>
                  <a:lnTo>
                    <a:pt x="380" y="622"/>
                  </a:lnTo>
                  <a:lnTo>
                    <a:pt x="414" y="696"/>
                  </a:lnTo>
                  <a:lnTo>
                    <a:pt x="454" y="772"/>
                  </a:lnTo>
                  <a:lnTo>
                    <a:pt x="496" y="848"/>
                  </a:lnTo>
                  <a:lnTo>
                    <a:pt x="520" y="886"/>
                  </a:lnTo>
                  <a:lnTo>
                    <a:pt x="544" y="924"/>
                  </a:lnTo>
                  <a:lnTo>
                    <a:pt x="544" y="924"/>
                  </a:lnTo>
                  <a:lnTo>
                    <a:pt x="568" y="960"/>
                  </a:lnTo>
                  <a:lnTo>
                    <a:pt x="594" y="996"/>
                  </a:lnTo>
                  <a:lnTo>
                    <a:pt x="622" y="1030"/>
                  </a:lnTo>
                  <a:lnTo>
                    <a:pt x="652" y="1064"/>
                  </a:lnTo>
                  <a:lnTo>
                    <a:pt x="652" y="1064"/>
                  </a:lnTo>
                  <a:lnTo>
                    <a:pt x="682" y="1096"/>
                  </a:lnTo>
                  <a:lnTo>
                    <a:pt x="714" y="1128"/>
                  </a:lnTo>
                  <a:lnTo>
                    <a:pt x="748" y="1156"/>
                  </a:lnTo>
                  <a:lnTo>
                    <a:pt x="784" y="1182"/>
                  </a:lnTo>
                  <a:lnTo>
                    <a:pt x="784" y="1182"/>
                  </a:lnTo>
                  <a:lnTo>
                    <a:pt x="794" y="1190"/>
                  </a:lnTo>
                  <a:lnTo>
                    <a:pt x="806" y="1194"/>
                  </a:lnTo>
                  <a:lnTo>
                    <a:pt x="828" y="1202"/>
                  </a:lnTo>
                  <a:lnTo>
                    <a:pt x="852" y="1204"/>
                  </a:lnTo>
                  <a:lnTo>
                    <a:pt x="874" y="1202"/>
                  </a:lnTo>
                  <a:lnTo>
                    <a:pt x="896" y="1196"/>
                  </a:lnTo>
                  <a:lnTo>
                    <a:pt x="918" y="1186"/>
                  </a:lnTo>
                  <a:lnTo>
                    <a:pt x="936" y="1172"/>
                  </a:lnTo>
                  <a:lnTo>
                    <a:pt x="944" y="1164"/>
                  </a:lnTo>
                  <a:lnTo>
                    <a:pt x="952" y="1154"/>
                  </a:lnTo>
                  <a:lnTo>
                    <a:pt x="952" y="1154"/>
                  </a:lnTo>
                  <a:lnTo>
                    <a:pt x="958" y="1144"/>
                  </a:lnTo>
                  <a:lnTo>
                    <a:pt x="964" y="1132"/>
                  </a:lnTo>
                  <a:lnTo>
                    <a:pt x="970" y="1110"/>
                  </a:lnTo>
                  <a:lnTo>
                    <a:pt x="974" y="1086"/>
                  </a:lnTo>
                  <a:lnTo>
                    <a:pt x="972" y="1064"/>
                  </a:lnTo>
                  <a:lnTo>
                    <a:pt x="966" y="1042"/>
                  </a:lnTo>
                  <a:lnTo>
                    <a:pt x="954" y="1020"/>
                  </a:lnTo>
                  <a:lnTo>
                    <a:pt x="940" y="1002"/>
                  </a:lnTo>
                  <a:lnTo>
                    <a:pt x="932" y="994"/>
                  </a:lnTo>
                  <a:lnTo>
                    <a:pt x="922" y="986"/>
                  </a:lnTo>
                  <a:lnTo>
                    <a:pt x="922" y="986"/>
                  </a:lnTo>
                  <a:lnTo>
                    <a:pt x="812" y="910"/>
                  </a:lnTo>
                  <a:lnTo>
                    <a:pt x="754" y="868"/>
                  </a:lnTo>
                  <a:lnTo>
                    <a:pt x="696" y="824"/>
                  </a:lnTo>
                  <a:lnTo>
                    <a:pt x="696" y="824"/>
                  </a:lnTo>
                  <a:lnTo>
                    <a:pt x="608" y="756"/>
                  </a:lnTo>
                  <a:lnTo>
                    <a:pt x="564" y="718"/>
                  </a:lnTo>
                  <a:lnTo>
                    <a:pt x="522" y="682"/>
                  </a:lnTo>
                  <a:lnTo>
                    <a:pt x="522" y="682"/>
                  </a:lnTo>
                  <a:lnTo>
                    <a:pt x="462" y="624"/>
                  </a:lnTo>
                  <a:lnTo>
                    <a:pt x="434" y="596"/>
                  </a:lnTo>
                  <a:lnTo>
                    <a:pt x="408" y="566"/>
                  </a:lnTo>
                  <a:lnTo>
                    <a:pt x="408" y="566"/>
                  </a:lnTo>
                  <a:lnTo>
                    <a:pt x="370" y="522"/>
                  </a:lnTo>
                  <a:lnTo>
                    <a:pt x="338" y="476"/>
                  </a:lnTo>
                  <a:lnTo>
                    <a:pt x="308" y="430"/>
                  </a:lnTo>
                  <a:lnTo>
                    <a:pt x="284" y="384"/>
                  </a:lnTo>
                  <a:lnTo>
                    <a:pt x="284" y="384"/>
                  </a:lnTo>
                  <a:lnTo>
                    <a:pt x="266" y="340"/>
                  </a:lnTo>
                  <a:lnTo>
                    <a:pt x="258" y="316"/>
                  </a:lnTo>
                  <a:lnTo>
                    <a:pt x="252" y="294"/>
                  </a:lnTo>
                  <a:lnTo>
                    <a:pt x="252" y="294"/>
                  </a:lnTo>
                  <a:lnTo>
                    <a:pt x="248" y="272"/>
                  </a:lnTo>
                  <a:lnTo>
                    <a:pt x="244" y="250"/>
                  </a:lnTo>
                  <a:lnTo>
                    <a:pt x="242" y="226"/>
                  </a:lnTo>
                  <a:lnTo>
                    <a:pt x="240" y="204"/>
                  </a:lnTo>
                  <a:lnTo>
                    <a:pt x="240" y="204"/>
                  </a:lnTo>
                  <a:lnTo>
                    <a:pt x="242" y="176"/>
                  </a:lnTo>
                  <a:lnTo>
                    <a:pt x="246" y="146"/>
                  </a:lnTo>
                  <a:lnTo>
                    <a:pt x="128" y="126"/>
                  </a:lnTo>
                  <a:lnTo>
                    <a:pt x="154" y="244"/>
                  </a:lnTo>
                  <a:lnTo>
                    <a:pt x="154" y="244"/>
                  </a:lnTo>
                  <a:lnTo>
                    <a:pt x="168" y="242"/>
                  </a:lnTo>
                  <a:lnTo>
                    <a:pt x="176" y="240"/>
                  </a:lnTo>
                  <a:lnTo>
                    <a:pt x="176" y="240"/>
                  </a:lnTo>
                  <a:lnTo>
                    <a:pt x="186" y="242"/>
                  </a:lnTo>
                  <a:lnTo>
                    <a:pt x="194" y="244"/>
                  </a:lnTo>
                  <a:lnTo>
                    <a:pt x="194" y="244"/>
                  </a:lnTo>
                  <a:lnTo>
                    <a:pt x="200" y="246"/>
                  </a:lnTo>
                  <a:lnTo>
                    <a:pt x="208" y="252"/>
                  </a:lnTo>
                  <a:lnTo>
                    <a:pt x="208" y="252"/>
                  </a:lnTo>
                  <a:lnTo>
                    <a:pt x="224" y="268"/>
                  </a:lnTo>
                  <a:lnTo>
                    <a:pt x="224" y="268"/>
                  </a:lnTo>
                  <a:lnTo>
                    <a:pt x="240" y="288"/>
                  </a:lnTo>
                  <a:lnTo>
                    <a:pt x="256" y="316"/>
                  </a:lnTo>
                  <a:lnTo>
                    <a:pt x="256" y="316"/>
                  </a:lnTo>
                  <a:lnTo>
                    <a:pt x="268" y="342"/>
                  </a:lnTo>
                  <a:lnTo>
                    <a:pt x="280" y="368"/>
                  </a:lnTo>
                  <a:lnTo>
                    <a:pt x="302" y="428"/>
                  </a:lnTo>
                  <a:lnTo>
                    <a:pt x="302" y="428"/>
                  </a:lnTo>
                  <a:lnTo>
                    <a:pt x="324" y="488"/>
                  </a:lnTo>
                  <a:lnTo>
                    <a:pt x="324" y="488"/>
                  </a:lnTo>
                  <a:lnTo>
                    <a:pt x="348" y="548"/>
                  </a:lnTo>
                  <a:lnTo>
                    <a:pt x="348" y="548"/>
                  </a:lnTo>
                  <a:lnTo>
                    <a:pt x="348" y="548"/>
                  </a:lnTo>
                  <a:lnTo>
                    <a:pt x="380" y="622"/>
                  </a:lnTo>
                  <a:lnTo>
                    <a:pt x="380" y="622"/>
                  </a:lnTo>
                  <a:lnTo>
                    <a:pt x="488" y="5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82"/>
            <p:cNvSpPr/>
            <p:nvPr/>
          </p:nvSpPr>
          <p:spPr>
            <a:xfrm>
              <a:off x="628560" y="527040"/>
              <a:ext cx="6613560" cy="7445520"/>
            </a:xfrm>
            <a:custGeom>
              <a:avLst/>
              <a:gdLst>
                <a:gd name="textAreaLeft" fmla="*/ 0 w 6613560"/>
                <a:gd name="textAreaRight" fmla="*/ 6613920 w 6613560"/>
                <a:gd name="textAreaTop" fmla="*/ 0 h 7445520"/>
                <a:gd name="textAreaBottom" fmla="*/ 7445880 h 7445520"/>
              </a:gdLst>
              <a:ahLst/>
              <a:rect l="textAreaLeft" t="textAreaTop" r="textAreaRight" b="textAreaBottom"/>
              <a:pathLst>
                <a:path w="4166" h="4690">
                  <a:moveTo>
                    <a:pt x="1988" y="4690"/>
                  </a:moveTo>
                  <a:lnTo>
                    <a:pt x="1988" y="4690"/>
                  </a:lnTo>
                  <a:lnTo>
                    <a:pt x="1914" y="4640"/>
                  </a:lnTo>
                  <a:lnTo>
                    <a:pt x="1832" y="4582"/>
                  </a:lnTo>
                  <a:lnTo>
                    <a:pt x="1724" y="4504"/>
                  </a:lnTo>
                  <a:lnTo>
                    <a:pt x="1594" y="4408"/>
                  </a:lnTo>
                  <a:lnTo>
                    <a:pt x="1450" y="4298"/>
                  </a:lnTo>
                  <a:lnTo>
                    <a:pt x="1292" y="4176"/>
                  </a:lnTo>
                  <a:lnTo>
                    <a:pt x="1130" y="4044"/>
                  </a:lnTo>
                  <a:lnTo>
                    <a:pt x="1046" y="3976"/>
                  </a:lnTo>
                  <a:lnTo>
                    <a:pt x="964" y="3906"/>
                  </a:lnTo>
                  <a:lnTo>
                    <a:pt x="882" y="3834"/>
                  </a:lnTo>
                  <a:lnTo>
                    <a:pt x="800" y="3760"/>
                  </a:lnTo>
                  <a:lnTo>
                    <a:pt x="722" y="3688"/>
                  </a:lnTo>
                  <a:lnTo>
                    <a:pt x="644" y="3614"/>
                  </a:lnTo>
                  <a:lnTo>
                    <a:pt x="570" y="3540"/>
                  </a:lnTo>
                  <a:lnTo>
                    <a:pt x="500" y="3466"/>
                  </a:lnTo>
                  <a:lnTo>
                    <a:pt x="434" y="3392"/>
                  </a:lnTo>
                  <a:lnTo>
                    <a:pt x="372" y="3320"/>
                  </a:lnTo>
                  <a:lnTo>
                    <a:pt x="316" y="3248"/>
                  </a:lnTo>
                  <a:lnTo>
                    <a:pt x="266" y="3178"/>
                  </a:lnTo>
                  <a:lnTo>
                    <a:pt x="222" y="3110"/>
                  </a:lnTo>
                  <a:lnTo>
                    <a:pt x="202" y="3078"/>
                  </a:lnTo>
                  <a:lnTo>
                    <a:pt x="184" y="3044"/>
                  </a:lnTo>
                  <a:lnTo>
                    <a:pt x="168" y="3012"/>
                  </a:lnTo>
                  <a:lnTo>
                    <a:pt x="154" y="2980"/>
                  </a:lnTo>
                  <a:lnTo>
                    <a:pt x="142" y="2950"/>
                  </a:lnTo>
                  <a:lnTo>
                    <a:pt x="134" y="2920"/>
                  </a:lnTo>
                  <a:lnTo>
                    <a:pt x="134" y="2920"/>
                  </a:lnTo>
                  <a:lnTo>
                    <a:pt x="102" y="2806"/>
                  </a:lnTo>
                  <a:lnTo>
                    <a:pt x="76" y="2704"/>
                  </a:lnTo>
                  <a:lnTo>
                    <a:pt x="54" y="2614"/>
                  </a:lnTo>
                  <a:lnTo>
                    <a:pt x="38" y="2532"/>
                  </a:lnTo>
                  <a:lnTo>
                    <a:pt x="26" y="2460"/>
                  </a:lnTo>
                  <a:lnTo>
                    <a:pt x="18" y="2398"/>
                  </a:lnTo>
                  <a:lnTo>
                    <a:pt x="12" y="2342"/>
                  </a:lnTo>
                  <a:lnTo>
                    <a:pt x="10" y="2292"/>
                  </a:lnTo>
                  <a:lnTo>
                    <a:pt x="10" y="2246"/>
                  </a:lnTo>
                  <a:lnTo>
                    <a:pt x="14" y="2208"/>
                  </a:lnTo>
                  <a:lnTo>
                    <a:pt x="18" y="2172"/>
                  </a:lnTo>
                  <a:lnTo>
                    <a:pt x="24" y="2138"/>
                  </a:lnTo>
                  <a:lnTo>
                    <a:pt x="38" y="2076"/>
                  </a:lnTo>
                  <a:lnTo>
                    <a:pt x="52" y="2014"/>
                  </a:lnTo>
                  <a:lnTo>
                    <a:pt x="52" y="2014"/>
                  </a:lnTo>
                  <a:lnTo>
                    <a:pt x="38" y="1962"/>
                  </a:lnTo>
                  <a:lnTo>
                    <a:pt x="26" y="1912"/>
                  </a:lnTo>
                  <a:lnTo>
                    <a:pt x="16" y="1862"/>
                  </a:lnTo>
                  <a:lnTo>
                    <a:pt x="10" y="1814"/>
                  </a:lnTo>
                  <a:lnTo>
                    <a:pt x="4" y="1766"/>
                  </a:lnTo>
                  <a:lnTo>
                    <a:pt x="2" y="1718"/>
                  </a:lnTo>
                  <a:lnTo>
                    <a:pt x="0" y="1672"/>
                  </a:lnTo>
                  <a:lnTo>
                    <a:pt x="2" y="1626"/>
                  </a:lnTo>
                  <a:lnTo>
                    <a:pt x="6" y="1580"/>
                  </a:lnTo>
                  <a:lnTo>
                    <a:pt x="10" y="1538"/>
                  </a:lnTo>
                  <a:lnTo>
                    <a:pt x="16" y="1494"/>
                  </a:lnTo>
                  <a:lnTo>
                    <a:pt x="24" y="1452"/>
                  </a:lnTo>
                  <a:lnTo>
                    <a:pt x="34" y="1412"/>
                  </a:lnTo>
                  <a:lnTo>
                    <a:pt x="46" y="1374"/>
                  </a:lnTo>
                  <a:lnTo>
                    <a:pt x="58" y="1336"/>
                  </a:lnTo>
                  <a:lnTo>
                    <a:pt x="72" y="1298"/>
                  </a:lnTo>
                  <a:lnTo>
                    <a:pt x="86" y="1264"/>
                  </a:lnTo>
                  <a:lnTo>
                    <a:pt x="102" y="1230"/>
                  </a:lnTo>
                  <a:lnTo>
                    <a:pt x="118" y="1198"/>
                  </a:lnTo>
                  <a:lnTo>
                    <a:pt x="136" y="1168"/>
                  </a:lnTo>
                  <a:lnTo>
                    <a:pt x="154" y="1138"/>
                  </a:lnTo>
                  <a:lnTo>
                    <a:pt x="174" y="1110"/>
                  </a:lnTo>
                  <a:lnTo>
                    <a:pt x="192" y="1084"/>
                  </a:lnTo>
                  <a:lnTo>
                    <a:pt x="212" y="1060"/>
                  </a:lnTo>
                  <a:lnTo>
                    <a:pt x="234" y="1038"/>
                  </a:lnTo>
                  <a:lnTo>
                    <a:pt x="254" y="1018"/>
                  </a:lnTo>
                  <a:lnTo>
                    <a:pt x="276" y="998"/>
                  </a:lnTo>
                  <a:lnTo>
                    <a:pt x="296" y="982"/>
                  </a:lnTo>
                  <a:lnTo>
                    <a:pt x="318" y="968"/>
                  </a:lnTo>
                  <a:lnTo>
                    <a:pt x="340" y="954"/>
                  </a:lnTo>
                  <a:lnTo>
                    <a:pt x="360" y="944"/>
                  </a:lnTo>
                  <a:lnTo>
                    <a:pt x="382" y="936"/>
                  </a:lnTo>
                  <a:lnTo>
                    <a:pt x="382" y="936"/>
                  </a:lnTo>
                  <a:lnTo>
                    <a:pt x="392" y="894"/>
                  </a:lnTo>
                  <a:lnTo>
                    <a:pt x="404" y="854"/>
                  </a:lnTo>
                  <a:lnTo>
                    <a:pt x="420" y="816"/>
                  </a:lnTo>
                  <a:lnTo>
                    <a:pt x="438" y="778"/>
                  </a:lnTo>
                  <a:lnTo>
                    <a:pt x="456" y="742"/>
                  </a:lnTo>
                  <a:lnTo>
                    <a:pt x="478" y="708"/>
                  </a:lnTo>
                  <a:lnTo>
                    <a:pt x="500" y="674"/>
                  </a:lnTo>
                  <a:lnTo>
                    <a:pt x="526" y="642"/>
                  </a:lnTo>
                  <a:lnTo>
                    <a:pt x="552" y="610"/>
                  </a:lnTo>
                  <a:lnTo>
                    <a:pt x="578" y="580"/>
                  </a:lnTo>
                  <a:lnTo>
                    <a:pt x="606" y="552"/>
                  </a:lnTo>
                  <a:lnTo>
                    <a:pt x="634" y="524"/>
                  </a:lnTo>
                  <a:lnTo>
                    <a:pt x="664" y="498"/>
                  </a:lnTo>
                  <a:lnTo>
                    <a:pt x="694" y="472"/>
                  </a:lnTo>
                  <a:lnTo>
                    <a:pt x="756" y="426"/>
                  </a:lnTo>
                  <a:lnTo>
                    <a:pt x="818" y="386"/>
                  </a:lnTo>
                  <a:lnTo>
                    <a:pt x="878" y="350"/>
                  </a:lnTo>
                  <a:lnTo>
                    <a:pt x="938" y="318"/>
                  </a:lnTo>
                  <a:lnTo>
                    <a:pt x="994" y="292"/>
                  </a:lnTo>
                  <a:lnTo>
                    <a:pt x="1044" y="272"/>
                  </a:lnTo>
                  <a:lnTo>
                    <a:pt x="1090" y="256"/>
                  </a:lnTo>
                  <a:lnTo>
                    <a:pt x="1128" y="244"/>
                  </a:lnTo>
                  <a:lnTo>
                    <a:pt x="1158" y="238"/>
                  </a:lnTo>
                  <a:lnTo>
                    <a:pt x="1158" y="238"/>
                  </a:lnTo>
                  <a:lnTo>
                    <a:pt x="1180" y="214"/>
                  </a:lnTo>
                  <a:lnTo>
                    <a:pt x="1204" y="190"/>
                  </a:lnTo>
                  <a:lnTo>
                    <a:pt x="1230" y="168"/>
                  </a:lnTo>
                  <a:lnTo>
                    <a:pt x="1258" y="148"/>
                  </a:lnTo>
                  <a:lnTo>
                    <a:pt x="1286" y="128"/>
                  </a:lnTo>
                  <a:lnTo>
                    <a:pt x="1316" y="112"/>
                  </a:lnTo>
                  <a:lnTo>
                    <a:pt x="1348" y="96"/>
                  </a:lnTo>
                  <a:lnTo>
                    <a:pt x="1380" y="82"/>
                  </a:lnTo>
                  <a:lnTo>
                    <a:pt x="1412" y="68"/>
                  </a:lnTo>
                  <a:lnTo>
                    <a:pt x="1446" y="58"/>
                  </a:lnTo>
                  <a:lnTo>
                    <a:pt x="1480" y="48"/>
                  </a:lnTo>
                  <a:lnTo>
                    <a:pt x="1516" y="38"/>
                  </a:lnTo>
                  <a:lnTo>
                    <a:pt x="1550" y="32"/>
                  </a:lnTo>
                  <a:lnTo>
                    <a:pt x="1586" y="26"/>
                  </a:lnTo>
                  <a:lnTo>
                    <a:pt x="1622" y="20"/>
                  </a:lnTo>
                  <a:lnTo>
                    <a:pt x="1658" y="16"/>
                  </a:lnTo>
                  <a:lnTo>
                    <a:pt x="1692" y="14"/>
                  </a:lnTo>
                  <a:lnTo>
                    <a:pt x="1726" y="14"/>
                  </a:lnTo>
                  <a:lnTo>
                    <a:pt x="1794" y="16"/>
                  </a:lnTo>
                  <a:lnTo>
                    <a:pt x="1860" y="22"/>
                  </a:lnTo>
                  <a:lnTo>
                    <a:pt x="1890" y="26"/>
                  </a:lnTo>
                  <a:lnTo>
                    <a:pt x="1920" y="32"/>
                  </a:lnTo>
                  <a:lnTo>
                    <a:pt x="1948" y="38"/>
                  </a:lnTo>
                  <a:lnTo>
                    <a:pt x="1974" y="46"/>
                  </a:lnTo>
                  <a:lnTo>
                    <a:pt x="2000" y="54"/>
                  </a:lnTo>
                  <a:lnTo>
                    <a:pt x="2022" y="64"/>
                  </a:lnTo>
                  <a:lnTo>
                    <a:pt x="2044" y="74"/>
                  </a:lnTo>
                  <a:lnTo>
                    <a:pt x="2064" y="86"/>
                  </a:lnTo>
                  <a:lnTo>
                    <a:pt x="2080" y="98"/>
                  </a:lnTo>
                  <a:lnTo>
                    <a:pt x="2094" y="112"/>
                  </a:lnTo>
                  <a:lnTo>
                    <a:pt x="2094" y="112"/>
                  </a:lnTo>
                  <a:lnTo>
                    <a:pt x="2120" y="96"/>
                  </a:lnTo>
                  <a:lnTo>
                    <a:pt x="2146" y="80"/>
                  </a:lnTo>
                  <a:lnTo>
                    <a:pt x="2176" y="66"/>
                  </a:lnTo>
                  <a:lnTo>
                    <a:pt x="2206" y="52"/>
                  </a:lnTo>
                  <a:lnTo>
                    <a:pt x="2236" y="40"/>
                  </a:lnTo>
                  <a:lnTo>
                    <a:pt x="2268" y="30"/>
                  </a:lnTo>
                  <a:lnTo>
                    <a:pt x="2302" y="22"/>
                  </a:lnTo>
                  <a:lnTo>
                    <a:pt x="2336" y="14"/>
                  </a:lnTo>
                  <a:lnTo>
                    <a:pt x="2372" y="8"/>
                  </a:lnTo>
                  <a:lnTo>
                    <a:pt x="2408" y="4"/>
                  </a:lnTo>
                  <a:lnTo>
                    <a:pt x="2444" y="0"/>
                  </a:lnTo>
                  <a:lnTo>
                    <a:pt x="2482" y="0"/>
                  </a:lnTo>
                  <a:lnTo>
                    <a:pt x="2520" y="0"/>
                  </a:lnTo>
                  <a:lnTo>
                    <a:pt x="2556" y="2"/>
                  </a:lnTo>
                  <a:lnTo>
                    <a:pt x="2594" y="4"/>
                  </a:lnTo>
                  <a:lnTo>
                    <a:pt x="2632" y="10"/>
                  </a:lnTo>
                  <a:lnTo>
                    <a:pt x="2670" y="16"/>
                  </a:lnTo>
                  <a:lnTo>
                    <a:pt x="2708" y="26"/>
                  </a:lnTo>
                  <a:lnTo>
                    <a:pt x="2746" y="36"/>
                  </a:lnTo>
                  <a:lnTo>
                    <a:pt x="2784" y="48"/>
                  </a:lnTo>
                  <a:lnTo>
                    <a:pt x="2820" y="64"/>
                  </a:lnTo>
                  <a:lnTo>
                    <a:pt x="2856" y="80"/>
                  </a:lnTo>
                  <a:lnTo>
                    <a:pt x="2890" y="98"/>
                  </a:lnTo>
                  <a:lnTo>
                    <a:pt x="2924" y="118"/>
                  </a:lnTo>
                  <a:lnTo>
                    <a:pt x="2958" y="142"/>
                  </a:lnTo>
                  <a:lnTo>
                    <a:pt x="2990" y="166"/>
                  </a:lnTo>
                  <a:lnTo>
                    <a:pt x="3022" y="192"/>
                  </a:lnTo>
                  <a:lnTo>
                    <a:pt x="3050" y="222"/>
                  </a:lnTo>
                  <a:lnTo>
                    <a:pt x="3078" y="252"/>
                  </a:lnTo>
                  <a:lnTo>
                    <a:pt x="3106" y="286"/>
                  </a:lnTo>
                  <a:lnTo>
                    <a:pt x="3130" y="322"/>
                  </a:lnTo>
                  <a:lnTo>
                    <a:pt x="3152" y="360"/>
                  </a:lnTo>
                  <a:lnTo>
                    <a:pt x="3152" y="360"/>
                  </a:lnTo>
                  <a:lnTo>
                    <a:pt x="3186" y="366"/>
                  </a:lnTo>
                  <a:lnTo>
                    <a:pt x="3220" y="374"/>
                  </a:lnTo>
                  <a:lnTo>
                    <a:pt x="3256" y="386"/>
                  </a:lnTo>
                  <a:lnTo>
                    <a:pt x="3290" y="400"/>
                  </a:lnTo>
                  <a:lnTo>
                    <a:pt x="3324" y="416"/>
                  </a:lnTo>
                  <a:lnTo>
                    <a:pt x="3358" y="434"/>
                  </a:lnTo>
                  <a:lnTo>
                    <a:pt x="3394" y="454"/>
                  </a:lnTo>
                  <a:lnTo>
                    <a:pt x="3428" y="476"/>
                  </a:lnTo>
                  <a:lnTo>
                    <a:pt x="3462" y="498"/>
                  </a:lnTo>
                  <a:lnTo>
                    <a:pt x="3494" y="524"/>
                  </a:lnTo>
                  <a:lnTo>
                    <a:pt x="3528" y="550"/>
                  </a:lnTo>
                  <a:lnTo>
                    <a:pt x="3560" y="578"/>
                  </a:lnTo>
                  <a:lnTo>
                    <a:pt x="3592" y="608"/>
                  </a:lnTo>
                  <a:lnTo>
                    <a:pt x="3622" y="640"/>
                  </a:lnTo>
                  <a:lnTo>
                    <a:pt x="3652" y="670"/>
                  </a:lnTo>
                  <a:lnTo>
                    <a:pt x="3682" y="704"/>
                  </a:lnTo>
                  <a:lnTo>
                    <a:pt x="3710" y="736"/>
                  </a:lnTo>
                  <a:lnTo>
                    <a:pt x="3736" y="772"/>
                  </a:lnTo>
                  <a:lnTo>
                    <a:pt x="3762" y="806"/>
                  </a:lnTo>
                  <a:lnTo>
                    <a:pt x="3786" y="842"/>
                  </a:lnTo>
                  <a:lnTo>
                    <a:pt x="3810" y="878"/>
                  </a:lnTo>
                  <a:lnTo>
                    <a:pt x="3830" y="914"/>
                  </a:lnTo>
                  <a:lnTo>
                    <a:pt x="3850" y="950"/>
                  </a:lnTo>
                  <a:lnTo>
                    <a:pt x="3868" y="986"/>
                  </a:lnTo>
                  <a:lnTo>
                    <a:pt x="3884" y="1022"/>
                  </a:lnTo>
                  <a:lnTo>
                    <a:pt x="3898" y="1058"/>
                  </a:lnTo>
                  <a:lnTo>
                    <a:pt x="3910" y="1094"/>
                  </a:lnTo>
                  <a:lnTo>
                    <a:pt x="3920" y="1130"/>
                  </a:lnTo>
                  <a:lnTo>
                    <a:pt x="3928" y="1164"/>
                  </a:lnTo>
                  <a:lnTo>
                    <a:pt x="3934" y="1198"/>
                  </a:lnTo>
                  <a:lnTo>
                    <a:pt x="3938" y="1232"/>
                  </a:lnTo>
                  <a:lnTo>
                    <a:pt x="3940" y="1264"/>
                  </a:lnTo>
                  <a:lnTo>
                    <a:pt x="3940" y="1264"/>
                  </a:lnTo>
                  <a:lnTo>
                    <a:pt x="3966" y="1286"/>
                  </a:lnTo>
                  <a:lnTo>
                    <a:pt x="3990" y="1310"/>
                  </a:lnTo>
                  <a:lnTo>
                    <a:pt x="4014" y="1338"/>
                  </a:lnTo>
                  <a:lnTo>
                    <a:pt x="4034" y="1370"/>
                  </a:lnTo>
                  <a:lnTo>
                    <a:pt x="4054" y="1404"/>
                  </a:lnTo>
                  <a:lnTo>
                    <a:pt x="4072" y="1440"/>
                  </a:lnTo>
                  <a:lnTo>
                    <a:pt x="4088" y="1480"/>
                  </a:lnTo>
                  <a:lnTo>
                    <a:pt x="4104" y="1522"/>
                  </a:lnTo>
                  <a:lnTo>
                    <a:pt x="4116" y="1566"/>
                  </a:lnTo>
                  <a:lnTo>
                    <a:pt x="4128" y="1612"/>
                  </a:lnTo>
                  <a:lnTo>
                    <a:pt x="4138" y="1660"/>
                  </a:lnTo>
                  <a:lnTo>
                    <a:pt x="4146" y="1710"/>
                  </a:lnTo>
                  <a:lnTo>
                    <a:pt x="4152" y="1760"/>
                  </a:lnTo>
                  <a:lnTo>
                    <a:pt x="4158" y="1812"/>
                  </a:lnTo>
                  <a:lnTo>
                    <a:pt x="4162" y="1864"/>
                  </a:lnTo>
                  <a:lnTo>
                    <a:pt x="4164" y="1916"/>
                  </a:lnTo>
                  <a:lnTo>
                    <a:pt x="4166" y="1968"/>
                  </a:lnTo>
                  <a:lnTo>
                    <a:pt x="4164" y="2022"/>
                  </a:lnTo>
                  <a:lnTo>
                    <a:pt x="4162" y="2074"/>
                  </a:lnTo>
                  <a:lnTo>
                    <a:pt x="4160" y="2126"/>
                  </a:lnTo>
                  <a:lnTo>
                    <a:pt x="4154" y="2178"/>
                  </a:lnTo>
                  <a:lnTo>
                    <a:pt x="4148" y="2228"/>
                  </a:lnTo>
                  <a:lnTo>
                    <a:pt x="4142" y="2278"/>
                  </a:lnTo>
                  <a:lnTo>
                    <a:pt x="4134" y="2326"/>
                  </a:lnTo>
                  <a:lnTo>
                    <a:pt x="4124" y="2372"/>
                  </a:lnTo>
                  <a:lnTo>
                    <a:pt x="4112" y="2416"/>
                  </a:lnTo>
                  <a:lnTo>
                    <a:pt x="4100" y="2458"/>
                  </a:lnTo>
                  <a:lnTo>
                    <a:pt x="4086" y="2498"/>
                  </a:lnTo>
                  <a:lnTo>
                    <a:pt x="4072" y="2536"/>
                  </a:lnTo>
                  <a:lnTo>
                    <a:pt x="4056" y="2570"/>
                  </a:lnTo>
                  <a:lnTo>
                    <a:pt x="4040" y="2602"/>
                  </a:lnTo>
                  <a:lnTo>
                    <a:pt x="4022" y="2630"/>
                  </a:lnTo>
                  <a:lnTo>
                    <a:pt x="4022" y="2630"/>
                  </a:lnTo>
                  <a:lnTo>
                    <a:pt x="4030" y="2660"/>
                  </a:lnTo>
                  <a:lnTo>
                    <a:pt x="4038" y="2690"/>
                  </a:lnTo>
                  <a:lnTo>
                    <a:pt x="4042" y="2722"/>
                  </a:lnTo>
                  <a:lnTo>
                    <a:pt x="4044" y="2754"/>
                  </a:lnTo>
                  <a:lnTo>
                    <a:pt x="4046" y="2786"/>
                  </a:lnTo>
                  <a:lnTo>
                    <a:pt x="4044" y="2820"/>
                  </a:lnTo>
                  <a:lnTo>
                    <a:pt x="4042" y="2854"/>
                  </a:lnTo>
                  <a:lnTo>
                    <a:pt x="4038" y="2888"/>
                  </a:lnTo>
                  <a:lnTo>
                    <a:pt x="4030" y="2924"/>
                  </a:lnTo>
                  <a:lnTo>
                    <a:pt x="4022" y="2960"/>
                  </a:lnTo>
                  <a:lnTo>
                    <a:pt x="4012" y="2996"/>
                  </a:lnTo>
                  <a:lnTo>
                    <a:pt x="4002" y="3032"/>
                  </a:lnTo>
                  <a:lnTo>
                    <a:pt x="3988" y="3070"/>
                  </a:lnTo>
                  <a:lnTo>
                    <a:pt x="3974" y="3106"/>
                  </a:lnTo>
                  <a:lnTo>
                    <a:pt x="3942" y="3182"/>
                  </a:lnTo>
                  <a:lnTo>
                    <a:pt x="3906" y="3258"/>
                  </a:lnTo>
                  <a:lnTo>
                    <a:pt x="3864" y="3336"/>
                  </a:lnTo>
                  <a:lnTo>
                    <a:pt x="3820" y="3412"/>
                  </a:lnTo>
                  <a:lnTo>
                    <a:pt x="3772" y="3490"/>
                  </a:lnTo>
                  <a:lnTo>
                    <a:pt x="3722" y="3566"/>
                  </a:lnTo>
                  <a:lnTo>
                    <a:pt x="3668" y="3642"/>
                  </a:lnTo>
                  <a:lnTo>
                    <a:pt x="3614" y="3716"/>
                  </a:lnTo>
                  <a:lnTo>
                    <a:pt x="3558" y="3790"/>
                  </a:lnTo>
                  <a:lnTo>
                    <a:pt x="3502" y="3862"/>
                  </a:lnTo>
                  <a:lnTo>
                    <a:pt x="3444" y="3930"/>
                  </a:lnTo>
                  <a:lnTo>
                    <a:pt x="3388" y="3998"/>
                  </a:lnTo>
                  <a:lnTo>
                    <a:pt x="3332" y="4060"/>
                  </a:lnTo>
                  <a:lnTo>
                    <a:pt x="3228" y="4178"/>
                  </a:lnTo>
                  <a:lnTo>
                    <a:pt x="3132" y="4282"/>
                  </a:lnTo>
                  <a:lnTo>
                    <a:pt x="3050" y="4366"/>
                  </a:lnTo>
                  <a:lnTo>
                    <a:pt x="2986" y="4430"/>
                  </a:lnTo>
                  <a:lnTo>
                    <a:pt x="2930" y="4484"/>
                  </a:lnTo>
                  <a:lnTo>
                    <a:pt x="1988" y="4690"/>
                  </a:lnTo>
                  <a:close/>
                </a:path>
              </a:pathLst>
            </a:custGeom>
            <a:solidFill>
              <a:srgbClr val="cd3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83"/>
            <p:cNvSpPr/>
            <p:nvPr/>
          </p:nvSpPr>
          <p:spPr>
            <a:xfrm>
              <a:off x="628560" y="527040"/>
              <a:ext cx="6613560" cy="7445520"/>
            </a:xfrm>
            <a:custGeom>
              <a:avLst/>
              <a:gdLst>
                <a:gd name="textAreaLeft" fmla="*/ 0 w 6613560"/>
                <a:gd name="textAreaRight" fmla="*/ 6613920 w 6613560"/>
                <a:gd name="textAreaTop" fmla="*/ 0 h 7445520"/>
                <a:gd name="textAreaBottom" fmla="*/ 7445880 h 7445520"/>
              </a:gdLst>
              <a:ahLst/>
              <a:rect l="textAreaLeft" t="textAreaTop" r="textAreaRight" b="textAreaBottom"/>
              <a:pathLst>
                <a:path w="4166" h="4690">
                  <a:moveTo>
                    <a:pt x="3152" y="360"/>
                  </a:moveTo>
                  <a:lnTo>
                    <a:pt x="3152" y="360"/>
                  </a:lnTo>
                  <a:lnTo>
                    <a:pt x="3130" y="322"/>
                  </a:lnTo>
                  <a:lnTo>
                    <a:pt x="3106" y="286"/>
                  </a:lnTo>
                  <a:lnTo>
                    <a:pt x="3078" y="252"/>
                  </a:lnTo>
                  <a:lnTo>
                    <a:pt x="3050" y="222"/>
                  </a:lnTo>
                  <a:lnTo>
                    <a:pt x="3022" y="192"/>
                  </a:lnTo>
                  <a:lnTo>
                    <a:pt x="2990" y="166"/>
                  </a:lnTo>
                  <a:lnTo>
                    <a:pt x="2958" y="142"/>
                  </a:lnTo>
                  <a:lnTo>
                    <a:pt x="2924" y="118"/>
                  </a:lnTo>
                  <a:lnTo>
                    <a:pt x="2890" y="98"/>
                  </a:lnTo>
                  <a:lnTo>
                    <a:pt x="2856" y="80"/>
                  </a:lnTo>
                  <a:lnTo>
                    <a:pt x="2820" y="64"/>
                  </a:lnTo>
                  <a:lnTo>
                    <a:pt x="2784" y="48"/>
                  </a:lnTo>
                  <a:lnTo>
                    <a:pt x="2746" y="36"/>
                  </a:lnTo>
                  <a:lnTo>
                    <a:pt x="2708" y="26"/>
                  </a:lnTo>
                  <a:lnTo>
                    <a:pt x="2670" y="16"/>
                  </a:lnTo>
                  <a:lnTo>
                    <a:pt x="2632" y="10"/>
                  </a:lnTo>
                  <a:lnTo>
                    <a:pt x="2594" y="4"/>
                  </a:lnTo>
                  <a:lnTo>
                    <a:pt x="2556" y="2"/>
                  </a:lnTo>
                  <a:lnTo>
                    <a:pt x="2520" y="0"/>
                  </a:lnTo>
                  <a:lnTo>
                    <a:pt x="2482" y="0"/>
                  </a:lnTo>
                  <a:lnTo>
                    <a:pt x="2444" y="0"/>
                  </a:lnTo>
                  <a:lnTo>
                    <a:pt x="2408" y="4"/>
                  </a:lnTo>
                  <a:lnTo>
                    <a:pt x="2372" y="8"/>
                  </a:lnTo>
                  <a:lnTo>
                    <a:pt x="2336" y="14"/>
                  </a:lnTo>
                  <a:lnTo>
                    <a:pt x="2302" y="22"/>
                  </a:lnTo>
                  <a:lnTo>
                    <a:pt x="2268" y="30"/>
                  </a:lnTo>
                  <a:lnTo>
                    <a:pt x="2236" y="40"/>
                  </a:lnTo>
                  <a:lnTo>
                    <a:pt x="2206" y="52"/>
                  </a:lnTo>
                  <a:lnTo>
                    <a:pt x="2176" y="66"/>
                  </a:lnTo>
                  <a:lnTo>
                    <a:pt x="2146" y="80"/>
                  </a:lnTo>
                  <a:lnTo>
                    <a:pt x="2120" y="96"/>
                  </a:lnTo>
                  <a:lnTo>
                    <a:pt x="2094" y="112"/>
                  </a:lnTo>
                  <a:lnTo>
                    <a:pt x="2094" y="112"/>
                  </a:lnTo>
                  <a:lnTo>
                    <a:pt x="2080" y="98"/>
                  </a:lnTo>
                  <a:lnTo>
                    <a:pt x="2064" y="86"/>
                  </a:lnTo>
                  <a:lnTo>
                    <a:pt x="2044" y="74"/>
                  </a:lnTo>
                  <a:lnTo>
                    <a:pt x="2022" y="64"/>
                  </a:lnTo>
                  <a:lnTo>
                    <a:pt x="2000" y="54"/>
                  </a:lnTo>
                  <a:lnTo>
                    <a:pt x="1974" y="46"/>
                  </a:lnTo>
                  <a:lnTo>
                    <a:pt x="1948" y="38"/>
                  </a:lnTo>
                  <a:lnTo>
                    <a:pt x="1920" y="32"/>
                  </a:lnTo>
                  <a:lnTo>
                    <a:pt x="1890" y="26"/>
                  </a:lnTo>
                  <a:lnTo>
                    <a:pt x="1860" y="22"/>
                  </a:lnTo>
                  <a:lnTo>
                    <a:pt x="1794" y="16"/>
                  </a:lnTo>
                  <a:lnTo>
                    <a:pt x="1726" y="14"/>
                  </a:lnTo>
                  <a:lnTo>
                    <a:pt x="1692" y="14"/>
                  </a:lnTo>
                  <a:lnTo>
                    <a:pt x="1658" y="16"/>
                  </a:lnTo>
                  <a:lnTo>
                    <a:pt x="1622" y="20"/>
                  </a:lnTo>
                  <a:lnTo>
                    <a:pt x="1586" y="26"/>
                  </a:lnTo>
                  <a:lnTo>
                    <a:pt x="1550" y="32"/>
                  </a:lnTo>
                  <a:lnTo>
                    <a:pt x="1516" y="38"/>
                  </a:lnTo>
                  <a:lnTo>
                    <a:pt x="1480" y="48"/>
                  </a:lnTo>
                  <a:lnTo>
                    <a:pt x="1446" y="58"/>
                  </a:lnTo>
                  <a:lnTo>
                    <a:pt x="1412" y="68"/>
                  </a:lnTo>
                  <a:lnTo>
                    <a:pt x="1380" y="82"/>
                  </a:lnTo>
                  <a:lnTo>
                    <a:pt x="1348" y="96"/>
                  </a:lnTo>
                  <a:lnTo>
                    <a:pt x="1316" y="112"/>
                  </a:lnTo>
                  <a:lnTo>
                    <a:pt x="1286" y="128"/>
                  </a:lnTo>
                  <a:lnTo>
                    <a:pt x="1258" y="148"/>
                  </a:lnTo>
                  <a:lnTo>
                    <a:pt x="1230" y="168"/>
                  </a:lnTo>
                  <a:lnTo>
                    <a:pt x="1204" y="190"/>
                  </a:lnTo>
                  <a:lnTo>
                    <a:pt x="1180" y="214"/>
                  </a:lnTo>
                  <a:lnTo>
                    <a:pt x="1158" y="238"/>
                  </a:lnTo>
                  <a:lnTo>
                    <a:pt x="1158" y="238"/>
                  </a:lnTo>
                  <a:lnTo>
                    <a:pt x="1128" y="244"/>
                  </a:lnTo>
                  <a:lnTo>
                    <a:pt x="1090" y="256"/>
                  </a:lnTo>
                  <a:lnTo>
                    <a:pt x="1044" y="272"/>
                  </a:lnTo>
                  <a:lnTo>
                    <a:pt x="994" y="292"/>
                  </a:lnTo>
                  <a:lnTo>
                    <a:pt x="938" y="318"/>
                  </a:lnTo>
                  <a:lnTo>
                    <a:pt x="878" y="350"/>
                  </a:lnTo>
                  <a:lnTo>
                    <a:pt x="818" y="386"/>
                  </a:lnTo>
                  <a:lnTo>
                    <a:pt x="756" y="426"/>
                  </a:lnTo>
                  <a:lnTo>
                    <a:pt x="694" y="472"/>
                  </a:lnTo>
                  <a:lnTo>
                    <a:pt x="664" y="498"/>
                  </a:lnTo>
                  <a:lnTo>
                    <a:pt x="634" y="524"/>
                  </a:lnTo>
                  <a:lnTo>
                    <a:pt x="606" y="552"/>
                  </a:lnTo>
                  <a:lnTo>
                    <a:pt x="578" y="580"/>
                  </a:lnTo>
                  <a:lnTo>
                    <a:pt x="552" y="610"/>
                  </a:lnTo>
                  <a:lnTo>
                    <a:pt x="526" y="642"/>
                  </a:lnTo>
                  <a:lnTo>
                    <a:pt x="500" y="674"/>
                  </a:lnTo>
                  <a:lnTo>
                    <a:pt x="478" y="708"/>
                  </a:lnTo>
                  <a:lnTo>
                    <a:pt x="456" y="742"/>
                  </a:lnTo>
                  <a:lnTo>
                    <a:pt x="438" y="778"/>
                  </a:lnTo>
                  <a:lnTo>
                    <a:pt x="420" y="816"/>
                  </a:lnTo>
                  <a:lnTo>
                    <a:pt x="404" y="854"/>
                  </a:lnTo>
                  <a:lnTo>
                    <a:pt x="392" y="894"/>
                  </a:lnTo>
                  <a:lnTo>
                    <a:pt x="382" y="936"/>
                  </a:lnTo>
                  <a:lnTo>
                    <a:pt x="382" y="936"/>
                  </a:lnTo>
                  <a:lnTo>
                    <a:pt x="360" y="944"/>
                  </a:lnTo>
                  <a:lnTo>
                    <a:pt x="340" y="954"/>
                  </a:lnTo>
                  <a:lnTo>
                    <a:pt x="318" y="968"/>
                  </a:lnTo>
                  <a:lnTo>
                    <a:pt x="296" y="982"/>
                  </a:lnTo>
                  <a:lnTo>
                    <a:pt x="276" y="998"/>
                  </a:lnTo>
                  <a:lnTo>
                    <a:pt x="254" y="1018"/>
                  </a:lnTo>
                  <a:lnTo>
                    <a:pt x="234" y="1038"/>
                  </a:lnTo>
                  <a:lnTo>
                    <a:pt x="212" y="1060"/>
                  </a:lnTo>
                  <a:lnTo>
                    <a:pt x="192" y="1084"/>
                  </a:lnTo>
                  <a:lnTo>
                    <a:pt x="174" y="1110"/>
                  </a:lnTo>
                  <a:lnTo>
                    <a:pt x="154" y="1138"/>
                  </a:lnTo>
                  <a:lnTo>
                    <a:pt x="136" y="1168"/>
                  </a:lnTo>
                  <a:lnTo>
                    <a:pt x="118" y="1198"/>
                  </a:lnTo>
                  <a:lnTo>
                    <a:pt x="102" y="1230"/>
                  </a:lnTo>
                  <a:lnTo>
                    <a:pt x="86" y="1264"/>
                  </a:lnTo>
                  <a:lnTo>
                    <a:pt x="72" y="1298"/>
                  </a:lnTo>
                  <a:lnTo>
                    <a:pt x="58" y="1336"/>
                  </a:lnTo>
                  <a:lnTo>
                    <a:pt x="46" y="1374"/>
                  </a:lnTo>
                  <a:lnTo>
                    <a:pt x="34" y="1412"/>
                  </a:lnTo>
                  <a:lnTo>
                    <a:pt x="24" y="1452"/>
                  </a:lnTo>
                  <a:lnTo>
                    <a:pt x="16" y="1494"/>
                  </a:lnTo>
                  <a:lnTo>
                    <a:pt x="10" y="1538"/>
                  </a:lnTo>
                  <a:lnTo>
                    <a:pt x="6" y="1580"/>
                  </a:lnTo>
                  <a:lnTo>
                    <a:pt x="2" y="1626"/>
                  </a:lnTo>
                  <a:lnTo>
                    <a:pt x="0" y="1672"/>
                  </a:lnTo>
                  <a:lnTo>
                    <a:pt x="2" y="1718"/>
                  </a:lnTo>
                  <a:lnTo>
                    <a:pt x="4" y="1766"/>
                  </a:lnTo>
                  <a:lnTo>
                    <a:pt x="10" y="1814"/>
                  </a:lnTo>
                  <a:lnTo>
                    <a:pt x="16" y="1862"/>
                  </a:lnTo>
                  <a:lnTo>
                    <a:pt x="26" y="1912"/>
                  </a:lnTo>
                  <a:lnTo>
                    <a:pt x="38" y="1962"/>
                  </a:lnTo>
                  <a:lnTo>
                    <a:pt x="52" y="2014"/>
                  </a:lnTo>
                  <a:lnTo>
                    <a:pt x="52" y="2014"/>
                  </a:lnTo>
                  <a:lnTo>
                    <a:pt x="38" y="2076"/>
                  </a:lnTo>
                  <a:lnTo>
                    <a:pt x="24" y="2138"/>
                  </a:lnTo>
                  <a:lnTo>
                    <a:pt x="18" y="2172"/>
                  </a:lnTo>
                  <a:lnTo>
                    <a:pt x="14" y="2208"/>
                  </a:lnTo>
                  <a:lnTo>
                    <a:pt x="10" y="2246"/>
                  </a:lnTo>
                  <a:lnTo>
                    <a:pt x="10" y="2292"/>
                  </a:lnTo>
                  <a:lnTo>
                    <a:pt x="12" y="2342"/>
                  </a:lnTo>
                  <a:lnTo>
                    <a:pt x="18" y="2398"/>
                  </a:lnTo>
                  <a:lnTo>
                    <a:pt x="26" y="2460"/>
                  </a:lnTo>
                  <a:lnTo>
                    <a:pt x="38" y="2532"/>
                  </a:lnTo>
                  <a:lnTo>
                    <a:pt x="54" y="2614"/>
                  </a:lnTo>
                  <a:lnTo>
                    <a:pt x="76" y="2704"/>
                  </a:lnTo>
                  <a:lnTo>
                    <a:pt x="102" y="2806"/>
                  </a:lnTo>
                  <a:lnTo>
                    <a:pt x="134" y="2920"/>
                  </a:lnTo>
                  <a:lnTo>
                    <a:pt x="134" y="2920"/>
                  </a:lnTo>
                  <a:lnTo>
                    <a:pt x="142" y="2950"/>
                  </a:lnTo>
                  <a:lnTo>
                    <a:pt x="154" y="2980"/>
                  </a:lnTo>
                  <a:lnTo>
                    <a:pt x="168" y="3012"/>
                  </a:lnTo>
                  <a:lnTo>
                    <a:pt x="184" y="3044"/>
                  </a:lnTo>
                  <a:lnTo>
                    <a:pt x="202" y="3078"/>
                  </a:lnTo>
                  <a:lnTo>
                    <a:pt x="222" y="3110"/>
                  </a:lnTo>
                  <a:lnTo>
                    <a:pt x="266" y="3178"/>
                  </a:lnTo>
                  <a:lnTo>
                    <a:pt x="316" y="3248"/>
                  </a:lnTo>
                  <a:lnTo>
                    <a:pt x="372" y="3320"/>
                  </a:lnTo>
                  <a:lnTo>
                    <a:pt x="434" y="3392"/>
                  </a:lnTo>
                  <a:lnTo>
                    <a:pt x="500" y="3466"/>
                  </a:lnTo>
                  <a:lnTo>
                    <a:pt x="570" y="3540"/>
                  </a:lnTo>
                  <a:lnTo>
                    <a:pt x="644" y="3614"/>
                  </a:lnTo>
                  <a:lnTo>
                    <a:pt x="722" y="3688"/>
                  </a:lnTo>
                  <a:lnTo>
                    <a:pt x="800" y="3760"/>
                  </a:lnTo>
                  <a:lnTo>
                    <a:pt x="882" y="3834"/>
                  </a:lnTo>
                  <a:lnTo>
                    <a:pt x="964" y="3906"/>
                  </a:lnTo>
                  <a:lnTo>
                    <a:pt x="1046" y="3976"/>
                  </a:lnTo>
                  <a:lnTo>
                    <a:pt x="1130" y="4044"/>
                  </a:lnTo>
                  <a:lnTo>
                    <a:pt x="1292" y="4176"/>
                  </a:lnTo>
                  <a:lnTo>
                    <a:pt x="1450" y="4298"/>
                  </a:lnTo>
                  <a:lnTo>
                    <a:pt x="1594" y="4408"/>
                  </a:lnTo>
                  <a:lnTo>
                    <a:pt x="1724" y="4504"/>
                  </a:lnTo>
                  <a:lnTo>
                    <a:pt x="1832" y="4582"/>
                  </a:lnTo>
                  <a:lnTo>
                    <a:pt x="1914" y="4640"/>
                  </a:lnTo>
                  <a:lnTo>
                    <a:pt x="1988" y="4690"/>
                  </a:lnTo>
                  <a:lnTo>
                    <a:pt x="2406" y="4598"/>
                  </a:lnTo>
                  <a:lnTo>
                    <a:pt x="2406" y="4598"/>
                  </a:lnTo>
                  <a:lnTo>
                    <a:pt x="2660" y="4428"/>
                  </a:lnTo>
                  <a:lnTo>
                    <a:pt x="2880" y="4280"/>
                  </a:lnTo>
                  <a:lnTo>
                    <a:pt x="3038" y="4170"/>
                  </a:lnTo>
                  <a:lnTo>
                    <a:pt x="3086" y="4136"/>
                  </a:lnTo>
                  <a:lnTo>
                    <a:pt x="3108" y="4118"/>
                  </a:lnTo>
                  <a:lnTo>
                    <a:pt x="3108" y="4118"/>
                  </a:lnTo>
                  <a:lnTo>
                    <a:pt x="3126" y="4092"/>
                  </a:lnTo>
                  <a:lnTo>
                    <a:pt x="3162" y="4038"/>
                  </a:lnTo>
                  <a:lnTo>
                    <a:pt x="3272" y="3862"/>
                  </a:lnTo>
                  <a:lnTo>
                    <a:pt x="3582" y="3354"/>
                  </a:lnTo>
                  <a:lnTo>
                    <a:pt x="4022" y="2630"/>
                  </a:lnTo>
                  <a:lnTo>
                    <a:pt x="4022" y="2630"/>
                  </a:lnTo>
                  <a:lnTo>
                    <a:pt x="4040" y="2602"/>
                  </a:lnTo>
                  <a:lnTo>
                    <a:pt x="4056" y="2570"/>
                  </a:lnTo>
                  <a:lnTo>
                    <a:pt x="4072" y="2536"/>
                  </a:lnTo>
                  <a:lnTo>
                    <a:pt x="4086" y="2498"/>
                  </a:lnTo>
                  <a:lnTo>
                    <a:pt x="4100" y="2458"/>
                  </a:lnTo>
                  <a:lnTo>
                    <a:pt x="4112" y="2416"/>
                  </a:lnTo>
                  <a:lnTo>
                    <a:pt x="4124" y="2372"/>
                  </a:lnTo>
                  <a:lnTo>
                    <a:pt x="4134" y="2326"/>
                  </a:lnTo>
                  <a:lnTo>
                    <a:pt x="4142" y="2278"/>
                  </a:lnTo>
                  <a:lnTo>
                    <a:pt x="4148" y="2228"/>
                  </a:lnTo>
                  <a:lnTo>
                    <a:pt x="4154" y="2178"/>
                  </a:lnTo>
                  <a:lnTo>
                    <a:pt x="4160" y="2126"/>
                  </a:lnTo>
                  <a:lnTo>
                    <a:pt x="4162" y="2074"/>
                  </a:lnTo>
                  <a:lnTo>
                    <a:pt x="4164" y="2022"/>
                  </a:lnTo>
                  <a:lnTo>
                    <a:pt x="4166" y="1968"/>
                  </a:lnTo>
                  <a:lnTo>
                    <a:pt x="4164" y="1916"/>
                  </a:lnTo>
                  <a:lnTo>
                    <a:pt x="4162" y="1864"/>
                  </a:lnTo>
                  <a:lnTo>
                    <a:pt x="4158" y="1812"/>
                  </a:lnTo>
                  <a:lnTo>
                    <a:pt x="4152" y="1760"/>
                  </a:lnTo>
                  <a:lnTo>
                    <a:pt x="4146" y="1710"/>
                  </a:lnTo>
                  <a:lnTo>
                    <a:pt x="4138" y="1660"/>
                  </a:lnTo>
                  <a:lnTo>
                    <a:pt x="4128" y="1612"/>
                  </a:lnTo>
                  <a:lnTo>
                    <a:pt x="4116" y="1566"/>
                  </a:lnTo>
                  <a:lnTo>
                    <a:pt x="4104" y="1522"/>
                  </a:lnTo>
                  <a:lnTo>
                    <a:pt x="4088" y="1480"/>
                  </a:lnTo>
                  <a:lnTo>
                    <a:pt x="4072" y="1440"/>
                  </a:lnTo>
                  <a:lnTo>
                    <a:pt x="4054" y="1404"/>
                  </a:lnTo>
                  <a:lnTo>
                    <a:pt x="4034" y="1370"/>
                  </a:lnTo>
                  <a:lnTo>
                    <a:pt x="4014" y="1338"/>
                  </a:lnTo>
                  <a:lnTo>
                    <a:pt x="3990" y="1310"/>
                  </a:lnTo>
                  <a:lnTo>
                    <a:pt x="3966" y="1286"/>
                  </a:lnTo>
                  <a:lnTo>
                    <a:pt x="3940" y="1264"/>
                  </a:lnTo>
                  <a:lnTo>
                    <a:pt x="3940" y="1264"/>
                  </a:lnTo>
                  <a:lnTo>
                    <a:pt x="3938" y="1232"/>
                  </a:lnTo>
                  <a:lnTo>
                    <a:pt x="3934" y="1198"/>
                  </a:lnTo>
                  <a:lnTo>
                    <a:pt x="3928" y="1164"/>
                  </a:lnTo>
                  <a:lnTo>
                    <a:pt x="3920" y="1130"/>
                  </a:lnTo>
                  <a:lnTo>
                    <a:pt x="3910" y="1094"/>
                  </a:lnTo>
                  <a:lnTo>
                    <a:pt x="3898" y="1058"/>
                  </a:lnTo>
                  <a:lnTo>
                    <a:pt x="3884" y="1022"/>
                  </a:lnTo>
                  <a:lnTo>
                    <a:pt x="3868" y="986"/>
                  </a:lnTo>
                  <a:lnTo>
                    <a:pt x="3850" y="950"/>
                  </a:lnTo>
                  <a:lnTo>
                    <a:pt x="3830" y="914"/>
                  </a:lnTo>
                  <a:lnTo>
                    <a:pt x="3810" y="878"/>
                  </a:lnTo>
                  <a:lnTo>
                    <a:pt x="3786" y="842"/>
                  </a:lnTo>
                  <a:lnTo>
                    <a:pt x="3762" y="806"/>
                  </a:lnTo>
                  <a:lnTo>
                    <a:pt x="3736" y="772"/>
                  </a:lnTo>
                  <a:lnTo>
                    <a:pt x="3710" y="736"/>
                  </a:lnTo>
                  <a:lnTo>
                    <a:pt x="3682" y="704"/>
                  </a:lnTo>
                  <a:lnTo>
                    <a:pt x="3652" y="670"/>
                  </a:lnTo>
                  <a:lnTo>
                    <a:pt x="3622" y="640"/>
                  </a:lnTo>
                  <a:lnTo>
                    <a:pt x="3592" y="608"/>
                  </a:lnTo>
                  <a:lnTo>
                    <a:pt x="3560" y="578"/>
                  </a:lnTo>
                  <a:lnTo>
                    <a:pt x="3528" y="550"/>
                  </a:lnTo>
                  <a:lnTo>
                    <a:pt x="3494" y="524"/>
                  </a:lnTo>
                  <a:lnTo>
                    <a:pt x="3462" y="498"/>
                  </a:lnTo>
                  <a:lnTo>
                    <a:pt x="3428" y="476"/>
                  </a:lnTo>
                  <a:lnTo>
                    <a:pt x="3394" y="454"/>
                  </a:lnTo>
                  <a:lnTo>
                    <a:pt x="3358" y="434"/>
                  </a:lnTo>
                  <a:lnTo>
                    <a:pt x="3324" y="416"/>
                  </a:lnTo>
                  <a:lnTo>
                    <a:pt x="3290" y="400"/>
                  </a:lnTo>
                  <a:lnTo>
                    <a:pt x="3256" y="386"/>
                  </a:lnTo>
                  <a:lnTo>
                    <a:pt x="3220" y="374"/>
                  </a:lnTo>
                  <a:lnTo>
                    <a:pt x="3186" y="366"/>
                  </a:lnTo>
                  <a:lnTo>
                    <a:pt x="3152" y="360"/>
                  </a:lnTo>
                  <a:lnTo>
                    <a:pt x="3152" y="360"/>
                  </a:lnTo>
                  <a:close/>
                </a:path>
              </a:pathLst>
            </a:custGeom>
            <a:solidFill>
              <a:srgbClr val="00a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4"/>
            <p:cNvSpPr/>
            <p:nvPr/>
          </p:nvSpPr>
          <p:spPr>
            <a:xfrm>
              <a:off x="628560" y="527040"/>
              <a:ext cx="6273720" cy="7423200"/>
            </a:xfrm>
            <a:custGeom>
              <a:avLst/>
              <a:gdLst>
                <a:gd name="textAreaLeft" fmla="*/ 0 w 6273720"/>
                <a:gd name="textAreaRight" fmla="*/ 6274080 w 6273720"/>
                <a:gd name="textAreaTop" fmla="*/ 0 h 7423200"/>
                <a:gd name="textAreaBottom" fmla="*/ 7423560 h 7423200"/>
              </a:gdLst>
              <a:ahLst/>
              <a:rect l="textAreaLeft" t="textAreaTop" r="textAreaRight" b="textAreaBottom"/>
              <a:pathLst>
                <a:path w="3952" h="4676">
                  <a:moveTo>
                    <a:pt x="3152" y="360"/>
                  </a:moveTo>
                  <a:lnTo>
                    <a:pt x="3152" y="360"/>
                  </a:lnTo>
                  <a:lnTo>
                    <a:pt x="3130" y="322"/>
                  </a:lnTo>
                  <a:lnTo>
                    <a:pt x="3106" y="286"/>
                  </a:lnTo>
                  <a:lnTo>
                    <a:pt x="3078" y="252"/>
                  </a:lnTo>
                  <a:lnTo>
                    <a:pt x="3050" y="222"/>
                  </a:lnTo>
                  <a:lnTo>
                    <a:pt x="3022" y="192"/>
                  </a:lnTo>
                  <a:lnTo>
                    <a:pt x="2990" y="166"/>
                  </a:lnTo>
                  <a:lnTo>
                    <a:pt x="2958" y="142"/>
                  </a:lnTo>
                  <a:lnTo>
                    <a:pt x="2924" y="118"/>
                  </a:lnTo>
                  <a:lnTo>
                    <a:pt x="2890" y="98"/>
                  </a:lnTo>
                  <a:lnTo>
                    <a:pt x="2856" y="80"/>
                  </a:lnTo>
                  <a:lnTo>
                    <a:pt x="2820" y="64"/>
                  </a:lnTo>
                  <a:lnTo>
                    <a:pt x="2784" y="48"/>
                  </a:lnTo>
                  <a:lnTo>
                    <a:pt x="2746" y="36"/>
                  </a:lnTo>
                  <a:lnTo>
                    <a:pt x="2708" y="26"/>
                  </a:lnTo>
                  <a:lnTo>
                    <a:pt x="2670" y="16"/>
                  </a:lnTo>
                  <a:lnTo>
                    <a:pt x="2632" y="10"/>
                  </a:lnTo>
                  <a:lnTo>
                    <a:pt x="2594" y="4"/>
                  </a:lnTo>
                  <a:lnTo>
                    <a:pt x="2556" y="2"/>
                  </a:lnTo>
                  <a:lnTo>
                    <a:pt x="2520" y="0"/>
                  </a:lnTo>
                  <a:lnTo>
                    <a:pt x="2482" y="0"/>
                  </a:lnTo>
                  <a:lnTo>
                    <a:pt x="2444" y="0"/>
                  </a:lnTo>
                  <a:lnTo>
                    <a:pt x="2408" y="4"/>
                  </a:lnTo>
                  <a:lnTo>
                    <a:pt x="2372" y="8"/>
                  </a:lnTo>
                  <a:lnTo>
                    <a:pt x="2336" y="14"/>
                  </a:lnTo>
                  <a:lnTo>
                    <a:pt x="2302" y="22"/>
                  </a:lnTo>
                  <a:lnTo>
                    <a:pt x="2268" y="30"/>
                  </a:lnTo>
                  <a:lnTo>
                    <a:pt x="2236" y="40"/>
                  </a:lnTo>
                  <a:lnTo>
                    <a:pt x="2206" y="52"/>
                  </a:lnTo>
                  <a:lnTo>
                    <a:pt x="2176" y="66"/>
                  </a:lnTo>
                  <a:lnTo>
                    <a:pt x="2146" y="80"/>
                  </a:lnTo>
                  <a:lnTo>
                    <a:pt x="2120" y="96"/>
                  </a:lnTo>
                  <a:lnTo>
                    <a:pt x="2094" y="112"/>
                  </a:lnTo>
                  <a:lnTo>
                    <a:pt x="2094" y="112"/>
                  </a:lnTo>
                  <a:lnTo>
                    <a:pt x="2080" y="98"/>
                  </a:lnTo>
                  <a:lnTo>
                    <a:pt x="2064" y="86"/>
                  </a:lnTo>
                  <a:lnTo>
                    <a:pt x="2044" y="74"/>
                  </a:lnTo>
                  <a:lnTo>
                    <a:pt x="2022" y="64"/>
                  </a:lnTo>
                  <a:lnTo>
                    <a:pt x="2000" y="54"/>
                  </a:lnTo>
                  <a:lnTo>
                    <a:pt x="1974" y="46"/>
                  </a:lnTo>
                  <a:lnTo>
                    <a:pt x="1948" y="38"/>
                  </a:lnTo>
                  <a:lnTo>
                    <a:pt x="1920" y="32"/>
                  </a:lnTo>
                  <a:lnTo>
                    <a:pt x="1890" y="26"/>
                  </a:lnTo>
                  <a:lnTo>
                    <a:pt x="1860" y="22"/>
                  </a:lnTo>
                  <a:lnTo>
                    <a:pt x="1794" y="16"/>
                  </a:lnTo>
                  <a:lnTo>
                    <a:pt x="1726" y="14"/>
                  </a:lnTo>
                  <a:lnTo>
                    <a:pt x="1692" y="14"/>
                  </a:lnTo>
                  <a:lnTo>
                    <a:pt x="1658" y="16"/>
                  </a:lnTo>
                  <a:lnTo>
                    <a:pt x="1622" y="20"/>
                  </a:lnTo>
                  <a:lnTo>
                    <a:pt x="1586" y="26"/>
                  </a:lnTo>
                  <a:lnTo>
                    <a:pt x="1550" y="32"/>
                  </a:lnTo>
                  <a:lnTo>
                    <a:pt x="1516" y="38"/>
                  </a:lnTo>
                  <a:lnTo>
                    <a:pt x="1480" y="48"/>
                  </a:lnTo>
                  <a:lnTo>
                    <a:pt x="1446" y="58"/>
                  </a:lnTo>
                  <a:lnTo>
                    <a:pt x="1412" y="68"/>
                  </a:lnTo>
                  <a:lnTo>
                    <a:pt x="1380" y="82"/>
                  </a:lnTo>
                  <a:lnTo>
                    <a:pt x="1348" y="96"/>
                  </a:lnTo>
                  <a:lnTo>
                    <a:pt x="1316" y="112"/>
                  </a:lnTo>
                  <a:lnTo>
                    <a:pt x="1286" y="128"/>
                  </a:lnTo>
                  <a:lnTo>
                    <a:pt x="1258" y="148"/>
                  </a:lnTo>
                  <a:lnTo>
                    <a:pt x="1230" y="168"/>
                  </a:lnTo>
                  <a:lnTo>
                    <a:pt x="1204" y="190"/>
                  </a:lnTo>
                  <a:lnTo>
                    <a:pt x="1180" y="214"/>
                  </a:lnTo>
                  <a:lnTo>
                    <a:pt x="1158" y="238"/>
                  </a:lnTo>
                  <a:lnTo>
                    <a:pt x="1158" y="238"/>
                  </a:lnTo>
                  <a:lnTo>
                    <a:pt x="1128" y="244"/>
                  </a:lnTo>
                  <a:lnTo>
                    <a:pt x="1090" y="256"/>
                  </a:lnTo>
                  <a:lnTo>
                    <a:pt x="1044" y="272"/>
                  </a:lnTo>
                  <a:lnTo>
                    <a:pt x="994" y="292"/>
                  </a:lnTo>
                  <a:lnTo>
                    <a:pt x="938" y="318"/>
                  </a:lnTo>
                  <a:lnTo>
                    <a:pt x="878" y="350"/>
                  </a:lnTo>
                  <a:lnTo>
                    <a:pt x="818" y="386"/>
                  </a:lnTo>
                  <a:lnTo>
                    <a:pt x="756" y="426"/>
                  </a:lnTo>
                  <a:lnTo>
                    <a:pt x="694" y="472"/>
                  </a:lnTo>
                  <a:lnTo>
                    <a:pt x="664" y="498"/>
                  </a:lnTo>
                  <a:lnTo>
                    <a:pt x="634" y="524"/>
                  </a:lnTo>
                  <a:lnTo>
                    <a:pt x="606" y="552"/>
                  </a:lnTo>
                  <a:lnTo>
                    <a:pt x="578" y="580"/>
                  </a:lnTo>
                  <a:lnTo>
                    <a:pt x="552" y="610"/>
                  </a:lnTo>
                  <a:lnTo>
                    <a:pt x="526" y="642"/>
                  </a:lnTo>
                  <a:lnTo>
                    <a:pt x="500" y="674"/>
                  </a:lnTo>
                  <a:lnTo>
                    <a:pt x="478" y="708"/>
                  </a:lnTo>
                  <a:lnTo>
                    <a:pt x="456" y="742"/>
                  </a:lnTo>
                  <a:lnTo>
                    <a:pt x="438" y="778"/>
                  </a:lnTo>
                  <a:lnTo>
                    <a:pt x="420" y="816"/>
                  </a:lnTo>
                  <a:lnTo>
                    <a:pt x="404" y="854"/>
                  </a:lnTo>
                  <a:lnTo>
                    <a:pt x="392" y="894"/>
                  </a:lnTo>
                  <a:lnTo>
                    <a:pt x="382" y="936"/>
                  </a:lnTo>
                  <a:lnTo>
                    <a:pt x="382" y="936"/>
                  </a:lnTo>
                  <a:lnTo>
                    <a:pt x="360" y="944"/>
                  </a:lnTo>
                  <a:lnTo>
                    <a:pt x="340" y="954"/>
                  </a:lnTo>
                  <a:lnTo>
                    <a:pt x="318" y="968"/>
                  </a:lnTo>
                  <a:lnTo>
                    <a:pt x="296" y="982"/>
                  </a:lnTo>
                  <a:lnTo>
                    <a:pt x="276" y="998"/>
                  </a:lnTo>
                  <a:lnTo>
                    <a:pt x="254" y="1018"/>
                  </a:lnTo>
                  <a:lnTo>
                    <a:pt x="234" y="1038"/>
                  </a:lnTo>
                  <a:lnTo>
                    <a:pt x="212" y="1060"/>
                  </a:lnTo>
                  <a:lnTo>
                    <a:pt x="192" y="1084"/>
                  </a:lnTo>
                  <a:lnTo>
                    <a:pt x="174" y="1110"/>
                  </a:lnTo>
                  <a:lnTo>
                    <a:pt x="154" y="1138"/>
                  </a:lnTo>
                  <a:lnTo>
                    <a:pt x="136" y="1168"/>
                  </a:lnTo>
                  <a:lnTo>
                    <a:pt x="118" y="1198"/>
                  </a:lnTo>
                  <a:lnTo>
                    <a:pt x="102" y="1230"/>
                  </a:lnTo>
                  <a:lnTo>
                    <a:pt x="86" y="1264"/>
                  </a:lnTo>
                  <a:lnTo>
                    <a:pt x="72" y="1298"/>
                  </a:lnTo>
                  <a:lnTo>
                    <a:pt x="58" y="1336"/>
                  </a:lnTo>
                  <a:lnTo>
                    <a:pt x="46" y="1374"/>
                  </a:lnTo>
                  <a:lnTo>
                    <a:pt x="34" y="1412"/>
                  </a:lnTo>
                  <a:lnTo>
                    <a:pt x="24" y="1452"/>
                  </a:lnTo>
                  <a:lnTo>
                    <a:pt x="16" y="1494"/>
                  </a:lnTo>
                  <a:lnTo>
                    <a:pt x="10" y="1538"/>
                  </a:lnTo>
                  <a:lnTo>
                    <a:pt x="6" y="1580"/>
                  </a:lnTo>
                  <a:lnTo>
                    <a:pt x="2" y="1626"/>
                  </a:lnTo>
                  <a:lnTo>
                    <a:pt x="0" y="1672"/>
                  </a:lnTo>
                  <a:lnTo>
                    <a:pt x="2" y="1718"/>
                  </a:lnTo>
                  <a:lnTo>
                    <a:pt x="4" y="1766"/>
                  </a:lnTo>
                  <a:lnTo>
                    <a:pt x="10" y="1814"/>
                  </a:lnTo>
                  <a:lnTo>
                    <a:pt x="16" y="1862"/>
                  </a:lnTo>
                  <a:lnTo>
                    <a:pt x="26" y="1912"/>
                  </a:lnTo>
                  <a:lnTo>
                    <a:pt x="38" y="1962"/>
                  </a:lnTo>
                  <a:lnTo>
                    <a:pt x="52" y="2014"/>
                  </a:lnTo>
                  <a:lnTo>
                    <a:pt x="52" y="2014"/>
                  </a:lnTo>
                  <a:lnTo>
                    <a:pt x="38" y="2076"/>
                  </a:lnTo>
                  <a:lnTo>
                    <a:pt x="24" y="2138"/>
                  </a:lnTo>
                  <a:lnTo>
                    <a:pt x="18" y="2172"/>
                  </a:lnTo>
                  <a:lnTo>
                    <a:pt x="14" y="2208"/>
                  </a:lnTo>
                  <a:lnTo>
                    <a:pt x="10" y="2246"/>
                  </a:lnTo>
                  <a:lnTo>
                    <a:pt x="10" y="2292"/>
                  </a:lnTo>
                  <a:lnTo>
                    <a:pt x="12" y="2342"/>
                  </a:lnTo>
                  <a:lnTo>
                    <a:pt x="18" y="2398"/>
                  </a:lnTo>
                  <a:lnTo>
                    <a:pt x="26" y="2460"/>
                  </a:lnTo>
                  <a:lnTo>
                    <a:pt x="38" y="2532"/>
                  </a:lnTo>
                  <a:lnTo>
                    <a:pt x="54" y="2614"/>
                  </a:lnTo>
                  <a:lnTo>
                    <a:pt x="76" y="2704"/>
                  </a:lnTo>
                  <a:lnTo>
                    <a:pt x="102" y="2806"/>
                  </a:lnTo>
                  <a:lnTo>
                    <a:pt x="134" y="2920"/>
                  </a:lnTo>
                  <a:lnTo>
                    <a:pt x="134" y="2920"/>
                  </a:lnTo>
                  <a:lnTo>
                    <a:pt x="142" y="2948"/>
                  </a:lnTo>
                  <a:lnTo>
                    <a:pt x="154" y="2976"/>
                  </a:lnTo>
                  <a:lnTo>
                    <a:pt x="166" y="3006"/>
                  </a:lnTo>
                  <a:lnTo>
                    <a:pt x="180" y="3036"/>
                  </a:lnTo>
                  <a:lnTo>
                    <a:pt x="214" y="3098"/>
                  </a:lnTo>
                  <a:lnTo>
                    <a:pt x="254" y="3160"/>
                  </a:lnTo>
                  <a:lnTo>
                    <a:pt x="300" y="3226"/>
                  </a:lnTo>
                  <a:lnTo>
                    <a:pt x="350" y="3292"/>
                  </a:lnTo>
                  <a:lnTo>
                    <a:pt x="406" y="3360"/>
                  </a:lnTo>
                  <a:lnTo>
                    <a:pt x="466" y="3428"/>
                  </a:lnTo>
                  <a:lnTo>
                    <a:pt x="528" y="3496"/>
                  </a:lnTo>
                  <a:lnTo>
                    <a:pt x="596" y="3564"/>
                  </a:lnTo>
                  <a:lnTo>
                    <a:pt x="666" y="3634"/>
                  </a:lnTo>
                  <a:lnTo>
                    <a:pt x="738" y="3702"/>
                  </a:lnTo>
                  <a:lnTo>
                    <a:pt x="812" y="3772"/>
                  </a:lnTo>
                  <a:lnTo>
                    <a:pt x="888" y="3840"/>
                  </a:lnTo>
                  <a:lnTo>
                    <a:pt x="964" y="3906"/>
                  </a:lnTo>
                  <a:lnTo>
                    <a:pt x="1042" y="3972"/>
                  </a:lnTo>
                  <a:lnTo>
                    <a:pt x="1196" y="4100"/>
                  </a:lnTo>
                  <a:lnTo>
                    <a:pt x="1348" y="4220"/>
                  </a:lnTo>
                  <a:lnTo>
                    <a:pt x="1490" y="4330"/>
                  </a:lnTo>
                  <a:lnTo>
                    <a:pt x="1622" y="4430"/>
                  </a:lnTo>
                  <a:lnTo>
                    <a:pt x="1740" y="4516"/>
                  </a:lnTo>
                  <a:lnTo>
                    <a:pt x="1840" y="4588"/>
                  </a:lnTo>
                  <a:lnTo>
                    <a:pt x="1966" y="4676"/>
                  </a:lnTo>
                  <a:lnTo>
                    <a:pt x="1966" y="4676"/>
                  </a:lnTo>
                  <a:lnTo>
                    <a:pt x="2282" y="4488"/>
                  </a:lnTo>
                  <a:lnTo>
                    <a:pt x="2632" y="4278"/>
                  </a:lnTo>
                  <a:lnTo>
                    <a:pt x="2786" y="4184"/>
                  </a:lnTo>
                  <a:lnTo>
                    <a:pt x="2910" y="4104"/>
                  </a:lnTo>
                  <a:lnTo>
                    <a:pt x="2992" y="4050"/>
                  </a:lnTo>
                  <a:lnTo>
                    <a:pt x="3014" y="4034"/>
                  </a:lnTo>
                  <a:lnTo>
                    <a:pt x="3018" y="4030"/>
                  </a:lnTo>
                  <a:lnTo>
                    <a:pt x="3020" y="4026"/>
                  </a:lnTo>
                  <a:lnTo>
                    <a:pt x="3020" y="4026"/>
                  </a:lnTo>
                  <a:lnTo>
                    <a:pt x="3020" y="4022"/>
                  </a:lnTo>
                  <a:lnTo>
                    <a:pt x="3026" y="4008"/>
                  </a:lnTo>
                  <a:lnTo>
                    <a:pt x="3048" y="3962"/>
                  </a:lnTo>
                  <a:lnTo>
                    <a:pt x="3134" y="3796"/>
                  </a:lnTo>
                  <a:lnTo>
                    <a:pt x="3262" y="3552"/>
                  </a:lnTo>
                  <a:lnTo>
                    <a:pt x="3336" y="3408"/>
                  </a:lnTo>
                  <a:lnTo>
                    <a:pt x="3412" y="3254"/>
                  </a:lnTo>
                  <a:lnTo>
                    <a:pt x="3492" y="3092"/>
                  </a:lnTo>
                  <a:lnTo>
                    <a:pt x="3570" y="2924"/>
                  </a:lnTo>
                  <a:lnTo>
                    <a:pt x="3644" y="2756"/>
                  </a:lnTo>
                  <a:lnTo>
                    <a:pt x="3680" y="2672"/>
                  </a:lnTo>
                  <a:lnTo>
                    <a:pt x="3714" y="2588"/>
                  </a:lnTo>
                  <a:lnTo>
                    <a:pt x="3746" y="2504"/>
                  </a:lnTo>
                  <a:lnTo>
                    <a:pt x="3776" y="2424"/>
                  </a:lnTo>
                  <a:lnTo>
                    <a:pt x="3804" y="2344"/>
                  </a:lnTo>
                  <a:lnTo>
                    <a:pt x="3828" y="2266"/>
                  </a:lnTo>
                  <a:lnTo>
                    <a:pt x="3850" y="2190"/>
                  </a:lnTo>
                  <a:lnTo>
                    <a:pt x="3870" y="2118"/>
                  </a:lnTo>
                  <a:lnTo>
                    <a:pt x="3884" y="2048"/>
                  </a:lnTo>
                  <a:lnTo>
                    <a:pt x="3896" y="1982"/>
                  </a:lnTo>
                  <a:lnTo>
                    <a:pt x="3896" y="1982"/>
                  </a:lnTo>
                  <a:lnTo>
                    <a:pt x="3910" y="1904"/>
                  </a:lnTo>
                  <a:lnTo>
                    <a:pt x="3922" y="1814"/>
                  </a:lnTo>
                  <a:lnTo>
                    <a:pt x="3934" y="1716"/>
                  </a:lnTo>
                  <a:lnTo>
                    <a:pt x="3944" y="1616"/>
                  </a:lnTo>
                  <a:lnTo>
                    <a:pt x="3950" y="1516"/>
                  </a:lnTo>
                  <a:lnTo>
                    <a:pt x="3952" y="1468"/>
                  </a:lnTo>
                  <a:lnTo>
                    <a:pt x="3952" y="1422"/>
                  </a:lnTo>
                  <a:lnTo>
                    <a:pt x="3952" y="1378"/>
                  </a:lnTo>
                  <a:lnTo>
                    <a:pt x="3948" y="1336"/>
                  </a:lnTo>
                  <a:lnTo>
                    <a:pt x="3944" y="1298"/>
                  </a:lnTo>
                  <a:lnTo>
                    <a:pt x="3940" y="1264"/>
                  </a:lnTo>
                  <a:lnTo>
                    <a:pt x="3940" y="1264"/>
                  </a:lnTo>
                  <a:lnTo>
                    <a:pt x="3938" y="1232"/>
                  </a:lnTo>
                  <a:lnTo>
                    <a:pt x="3934" y="1198"/>
                  </a:lnTo>
                  <a:lnTo>
                    <a:pt x="3928" y="1164"/>
                  </a:lnTo>
                  <a:lnTo>
                    <a:pt x="3920" y="1130"/>
                  </a:lnTo>
                  <a:lnTo>
                    <a:pt x="3910" y="1094"/>
                  </a:lnTo>
                  <a:lnTo>
                    <a:pt x="3898" y="1058"/>
                  </a:lnTo>
                  <a:lnTo>
                    <a:pt x="3884" y="1022"/>
                  </a:lnTo>
                  <a:lnTo>
                    <a:pt x="3868" y="986"/>
                  </a:lnTo>
                  <a:lnTo>
                    <a:pt x="3850" y="950"/>
                  </a:lnTo>
                  <a:lnTo>
                    <a:pt x="3830" y="914"/>
                  </a:lnTo>
                  <a:lnTo>
                    <a:pt x="3810" y="878"/>
                  </a:lnTo>
                  <a:lnTo>
                    <a:pt x="3786" y="842"/>
                  </a:lnTo>
                  <a:lnTo>
                    <a:pt x="3762" y="806"/>
                  </a:lnTo>
                  <a:lnTo>
                    <a:pt x="3736" y="772"/>
                  </a:lnTo>
                  <a:lnTo>
                    <a:pt x="3710" y="736"/>
                  </a:lnTo>
                  <a:lnTo>
                    <a:pt x="3682" y="704"/>
                  </a:lnTo>
                  <a:lnTo>
                    <a:pt x="3652" y="670"/>
                  </a:lnTo>
                  <a:lnTo>
                    <a:pt x="3622" y="640"/>
                  </a:lnTo>
                  <a:lnTo>
                    <a:pt x="3592" y="608"/>
                  </a:lnTo>
                  <a:lnTo>
                    <a:pt x="3560" y="578"/>
                  </a:lnTo>
                  <a:lnTo>
                    <a:pt x="3528" y="550"/>
                  </a:lnTo>
                  <a:lnTo>
                    <a:pt x="3494" y="524"/>
                  </a:lnTo>
                  <a:lnTo>
                    <a:pt x="3462" y="498"/>
                  </a:lnTo>
                  <a:lnTo>
                    <a:pt x="3428" y="476"/>
                  </a:lnTo>
                  <a:lnTo>
                    <a:pt x="3394" y="454"/>
                  </a:lnTo>
                  <a:lnTo>
                    <a:pt x="3358" y="434"/>
                  </a:lnTo>
                  <a:lnTo>
                    <a:pt x="3324" y="416"/>
                  </a:lnTo>
                  <a:lnTo>
                    <a:pt x="3290" y="400"/>
                  </a:lnTo>
                  <a:lnTo>
                    <a:pt x="3256" y="386"/>
                  </a:lnTo>
                  <a:lnTo>
                    <a:pt x="3220" y="374"/>
                  </a:lnTo>
                  <a:lnTo>
                    <a:pt x="3186" y="366"/>
                  </a:lnTo>
                  <a:lnTo>
                    <a:pt x="3152" y="360"/>
                  </a:lnTo>
                  <a:lnTo>
                    <a:pt x="3152" y="360"/>
                  </a:lnTo>
                  <a:close/>
                </a:path>
              </a:pathLst>
            </a:custGeom>
            <a:solidFill>
              <a:srgbClr val="d43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85"/>
            <p:cNvSpPr/>
            <p:nvPr/>
          </p:nvSpPr>
          <p:spPr>
            <a:xfrm>
              <a:off x="628560" y="527040"/>
              <a:ext cx="5232600" cy="7429680"/>
            </a:xfrm>
            <a:custGeom>
              <a:avLst/>
              <a:gdLst>
                <a:gd name="textAreaLeft" fmla="*/ 0 w 5232600"/>
                <a:gd name="textAreaRight" fmla="*/ 5232600 w 5232600"/>
                <a:gd name="textAreaTop" fmla="*/ 0 h 7429680"/>
                <a:gd name="textAreaBottom" fmla="*/ 7430040 h 7429680"/>
              </a:gdLst>
              <a:ahLst/>
              <a:rect l="textAreaLeft" t="textAreaTop" r="textAreaRight" b="textAreaBottom"/>
              <a:pathLst>
                <a:path w="3296" h="4680">
                  <a:moveTo>
                    <a:pt x="3296" y="1148"/>
                  </a:moveTo>
                  <a:lnTo>
                    <a:pt x="3296" y="1148"/>
                  </a:lnTo>
                  <a:lnTo>
                    <a:pt x="3292" y="994"/>
                  </a:lnTo>
                  <a:lnTo>
                    <a:pt x="3288" y="924"/>
                  </a:lnTo>
                  <a:lnTo>
                    <a:pt x="3282" y="860"/>
                  </a:lnTo>
                  <a:lnTo>
                    <a:pt x="3278" y="798"/>
                  </a:lnTo>
                  <a:lnTo>
                    <a:pt x="3270" y="740"/>
                  </a:lnTo>
                  <a:lnTo>
                    <a:pt x="3262" y="688"/>
                  </a:lnTo>
                  <a:lnTo>
                    <a:pt x="3254" y="638"/>
                  </a:lnTo>
                  <a:lnTo>
                    <a:pt x="3244" y="592"/>
                  </a:lnTo>
                  <a:lnTo>
                    <a:pt x="3234" y="550"/>
                  </a:lnTo>
                  <a:lnTo>
                    <a:pt x="3224" y="510"/>
                  </a:lnTo>
                  <a:lnTo>
                    <a:pt x="3212" y="474"/>
                  </a:lnTo>
                  <a:lnTo>
                    <a:pt x="3198" y="442"/>
                  </a:lnTo>
                  <a:lnTo>
                    <a:pt x="3184" y="412"/>
                  </a:lnTo>
                  <a:lnTo>
                    <a:pt x="3168" y="384"/>
                  </a:lnTo>
                  <a:lnTo>
                    <a:pt x="3152" y="360"/>
                  </a:lnTo>
                  <a:lnTo>
                    <a:pt x="3152" y="360"/>
                  </a:lnTo>
                  <a:lnTo>
                    <a:pt x="3130" y="322"/>
                  </a:lnTo>
                  <a:lnTo>
                    <a:pt x="3106" y="286"/>
                  </a:lnTo>
                  <a:lnTo>
                    <a:pt x="3078" y="252"/>
                  </a:lnTo>
                  <a:lnTo>
                    <a:pt x="3050" y="222"/>
                  </a:lnTo>
                  <a:lnTo>
                    <a:pt x="3022" y="192"/>
                  </a:lnTo>
                  <a:lnTo>
                    <a:pt x="2990" y="166"/>
                  </a:lnTo>
                  <a:lnTo>
                    <a:pt x="2958" y="142"/>
                  </a:lnTo>
                  <a:lnTo>
                    <a:pt x="2924" y="118"/>
                  </a:lnTo>
                  <a:lnTo>
                    <a:pt x="2890" y="98"/>
                  </a:lnTo>
                  <a:lnTo>
                    <a:pt x="2856" y="80"/>
                  </a:lnTo>
                  <a:lnTo>
                    <a:pt x="2820" y="64"/>
                  </a:lnTo>
                  <a:lnTo>
                    <a:pt x="2784" y="48"/>
                  </a:lnTo>
                  <a:lnTo>
                    <a:pt x="2746" y="36"/>
                  </a:lnTo>
                  <a:lnTo>
                    <a:pt x="2708" y="26"/>
                  </a:lnTo>
                  <a:lnTo>
                    <a:pt x="2670" y="16"/>
                  </a:lnTo>
                  <a:lnTo>
                    <a:pt x="2632" y="10"/>
                  </a:lnTo>
                  <a:lnTo>
                    <a:pt x="2594" y="4"/>
                  </a:lnTo>
                  <a:lnTo>
                    <a:pt x="2556" y="2"/>
                  </a:lnTo>
                  <a:lnTo>
                    <a:pt x="2520" y="0"/>
                  </a:lnTo>
                  <a:lnTo>
                    <a:pt x="2482" y="0"/>
                  </a:lnTo>
                  <a:lnTo>
                    <a:pt x="2444" y="0"/>
                  </a:lnTo>
                  <a:lnTo>
                    <a:pt x="2408" y="4"/>
                  </a:lnTo>
                  <a:lnTo>
                    <a:pt x="2372" y="8"/>
                  </a:lnTo>
                  <a:lnTo>
                    <a:pt x="2336" y="14"/>
                  </a:lnTo>
                  <a:lnTo>
                    <a:pt x="2302" y="22"/>
                  </a:lnTo>
                  <a:lnTo>
                    <a:pt x="2268" y="30"/>
                  </a:lnTo>
                  <a:lnTo>
                    <a:pt x="2236" y="40"/>
                  </a:lnTo>
                  <a:lnTo>
                    <a:pt x="2206" y="52"/>
                  </a:lnTo>
                  <a:lnTo>
                    <a:pt x="2176" y="66"/>
                  </a:lnTo>
                  <a:lnTo>
                    <a:pt x="2146" y="80"/>
                  </a:lnTo>
                  <a:lnTo>
                    <a:pt x="2120" y="96"/>
                  </a:lnTo>
                  <a:lnTo>
                    <a:pt x="2094" y="112"/>
                  </a:lnTo>
                  <a:lnTo>
                    <a:pt x="2094" y="112"/>
                  </a:lnTo>
                  <a:lnTo>
                    <a:pt x="2080" y="98"/>
                  </a:lnTo>
                  <a:lnTo>
                    <a:pt x="2064" y="86"/>
                  </a:lnTo>
                  <a:lnTo>
                    <a:pt x="2044" y="74"/>
                  </a:lnTo>
                  <a:lnTo>
                    <a:pt x="2022" y="64"/>
                  </a:lnTo>
                  <a:lnTo>
                    <a:pt x="2000" y="54"/>
                  </a:lnTo>
                  <a:lnTo>
                    <a:pt x="1974" y="46"/>
                  </a:lnTo>
                  <a:lnTo>
                    <a:pt x="1948" y="38"/>
                  </a:lnTo>
                  <a:lnTo>
                    <a:pt x="1920" y="32"/>
                  </a:lnTo>
                  <a:lnTo>
                    <a:pt x="1890" y="26"/>
                  </a:lnTo>
                  <a:lnTo>
                    <a:pt x="1860" y="22"/>
                  </a:lnTo>
                  <a:lnTo>
                    <a:pt x="1794" y="16"/>
                  </a:lnTo>
                  <a:lnTo>
                    <a:pt x="1726" y="14"/>
                  </a:lnTo>
                  <a:lnTo>
                    <a:pt x="1692" y="14"/>
                  </a:lnTo>
                  <a:lnTo>
                    <a:pt x="1658" y="16"/>
                  </a:lnTo>
                  <a:lnTo>
                    <a:pt x="1622" y="20"/>
                  </a:lnTo>
                  <a:lnTo>
                    <a:pt x="1586" y="26"/>
                  </a:lnTo>
                  <a:lnTo>
                    <a:pt x="1550" y="32"/>
                  </a:lnTo>
                  <a:lnTo>
                    <a:pt x="1516" y="38"/>
                  </a:lnTo>
                  <a:lnTo>
                    <a:pt x="1480" y="48"/>
                  </a:lnTo>
                  <a:lnTo>
                    <a:pt x="1446" y="58"/>
                  </a:lnTo>
                  <a:lnTo>
                    <a:pt x="1412" y="68"/>
                  </a:lnTo>
                  <a:lnTo>
                    <a:pt x="1380" y="82"/>
                  </a:lnTo>
                  <a:lnTo>
                    <a:pt x="1348" y="96"/>
                  </a:lnTo>
                  <a:lnTo>
                    <a:pt x="1316" y="112"/>
                  </a:lnTo>
                  <a:lnTo>
                    <a:pt x="1286" y="128"/>
                  </a:lnTo>
                  <a:lnTo>
                    <a:pt x="1258" y="148"/>
                  </a:lnTo>
                  <a:lnTo>
                    <a:pt x="1230" y="168"/>
                  </a:lnTo>
                  <a:lnTo>
                    <a:pt x="1204" y="190"/>
                  </a:lnTo>
                  <a:lnTo>
                    <a:pt x="1180" y="214"/>
                  </a:lnTo>
                  <a:lnTo>
                    <a:pt x="1158" y="238"/>
                  </a:lnTo>
                  <a:lnTo>
                    <a:pt x="1158" y="238"/>
                  </a:lnTo>
                  <a:lnTo>
                    <a:pt x="1128" y="244"/>
                  </a:lnTo>
                  <a:lnTo>
                    <a:pt x="1090" y="256"/>
                  </a:lnTo>
                  <a:lnTo>
                    <a:pt x="1044" y="272"/>
                  </a:lnTo>
                  <a:lnTo>
                    <a:pt x="994" y="292"/>
                  </a:lnTo>
                  <a:lnTo>
                    <a:pt x="938" y="318"/>
                  </a:lnTo>
                  <a:lnTo>
                    <a:pt x="878" y="350"/>
                  </a:lnTo>
                  <a:lnTo>
                    <a:pt x="818" y="386"/>
                  </a:lnTo>
                  <a:lnTo>
                    <a:pt x="756" y="426"/>
                  </a:lnTo>
                  <a:lnTo>
                    <a:pt x="694" y="472"/>
                  </a:lnTo>
                  <a:lnTo>
                    <a:pt x="664" y="498"/>
                  </a:lnTo>
                  <a:lnTo>
                    <a:pt x="634" y="524"/>
                  </a:lnTo>
                  <a:lnTo>
                    <a:pt x="606" y="552"/>
                  </a:lnTo>
                  <a:lnTo>
                    <a:pt x="578" y="580"/>
                  </a:lnTo>
                  <a:lnTo>
                    <a:pt x="552" y="610"/>
                  </a:lnTo>
                  <a:lnTo>
                    <a:pt x="526" y="642"/>
                  </a:lnTo>
                  <a:lnTo>
                    <a:pt x="500" y="674"/>
                  </a:lnTo>
                  <a:lnTo>
                    <a:pt x="478" y="708"/>
                  </a:lnTo>
                  <a:lnTo>
                    <a:pt x="456" y="742"/>
                  </a:lnTo>
                  <a:lnTo>
                    <a:pt x="438" y="778"/>
                  </a:lnTo>
                  <a:lnTo>
                    <a:pt x="420" y="816"/>
                  </a:lnTo>
                  <a:lnTo>
                    <a:pt x="404" y="854"/>
                  </a:lnTo>
                  <a:lnTo>
                    <a:pt x="392" y="894"/>
                  </a:lnTo>
                  <a:lnTo>
                    <a:pt x="382" y="936"/>
                  </a:lnTo>
                  <a:lnTo>
                    <a:pt x="382" y="936"/>
                  </a:lnTo>
                  <a:lnTo>
                    <a:pt x="360" y="944"/>
                  </a:lnTo>
                  <a:lnTo>
                    <a:pt x="340" y="954"/>
                  </a:lnTo>
                  <a:lnTo>
                    <a:pt x="318" y="968"/>
                  </a:lnTo>
                  <a:lnTo>
                    <a:pt x="296" y="982"/>
                  </a:lnTo>
                  <a:lnTo>
                    <a:pt x="276" y="998"/>
                  </a:lnTo>
                  <a:lnTo>
                    <a:pt x="254" y="1018"/>
                  </a:lnTo>
                  <a:lnTo>
                    <a:pt x="234" y="1038"/>
                  </a:lnTo>
                  <a:lnTo>
                    <a:pt x="212" y="1060"/>
                  </a:lnTo>
                  <a:lnTo>
                    <a:pt x="192" y="1084"/>
                  </a:lnTo>
                  <a:lnTo>
                    <a:pt x="174" y="1110"/>
                  </a:lnTo>
                  <a:lnTo>
                    <a:pt x="154" y="1138"/>
                  </a:lnTo>
                  <a:lnTo>
                    <a:pt x="136" y="1168"/>
                  </a:lnTo>
                  <a:lnTo>
                    <a:pt x="118" y="1198"/>
                  </a:lnTo>
                  <a:lnTo>
                    <a:pt x="102" y="1230"/>
                  </a:lnTo>
                  <a:lnTo>
                    <a:pt x="86" y="1264"/>
                  </a:lnTo>
                  <a:lnTo>
                    <a:pt x="72" y="1298"/>
                  </a:lnTo>
                  <a:lnTo>
                    <a:pt x="58" y="1336"/>
                  </a:lnTo>
                  <a:lnTo>
                    <a:pt x="46" y="1374"/>
                  </a:lnTo>
                  <a:lnTo>
                    <a:pt x="34" y="1412"/>
                  </a:lnTo>
                  <a:lnTo>
                    <a:pt x="24" y="1452"/>
                  </a:lnTo>
                  <a:lnTo>
                    <a:pt x="16" y="1494"/>
                  </a:lnTo>
                  <a:lnTo>
                    <a:pt x="10" y="1538"/>
                  </a:lnTo>
                  <a:lnTo>
                    <a:pt x="6" y="1580"/>
                  </a:lnTo>
                  <a:lnTo>
                    <a:pt x="2" y="1626"/>
                  </a:lnTo>
                  <a:lnTo>
                    <a:pt x="0" y="1672"/>
                  </a:lnTo>
                  <a:lnTo>
                    <a:pt x="2" y="1718"/>
                  </a:lnTo>
                  <a:lnTo>
                    <a:pt x="4" y="1766"/>
                  </a:lnTo>
                  <a:lnTo>
                    <a:pt x="10" y="1814"/>
                  </a:lnTo>
                  <a:lnTo>
                    <a:pt x="16" y="1862"/>
                  </a:lnTo>
                  <a:lnTo>
                    <a:pt x="26" y="1912"/>
                  </a:lnTo>
                  <a:lnTo>
                    <a:pt x="38" y="1962"/>
                  </a:lnTo>
                  <a:lnTo>
                    <a:pt x="52" y="2014"/>
                  </a:lnTo>
                  <a:lnTo>
                    <a:pt x="52" y="2014"/>
                  </a:lnTo>
                  <a:lnTo>
                    <a:pt x="38" y="2076"/>
                  </a:lnTo>
                  <a:lnTo>
                    <a:pt x="24" y="2138"/>
                  </a:lnTo>
                  <a:lnTo>
                    <a:pt x="18" y="2172"/>
                  </a:lnTo>
                  <a:lnTo>
                    <a:pt x="14" y="2208"/>
                  </a:lnTo>
                  <a:lnTo>
                    <a:pt x="10" y="2246"/>
                  </a:lnTo>
                  <a:lnTo>
                    <a:pt x="10" y="2292"/>
                  </a:lnTo>
                  <a:lnTo>
                    <a:pt x="12" y="2342"/>
                  </a:lnTo>
                  <a:lnTo>
                    <a:pt x="18" y="2398"/>
                  </a:lnTo>
                  <a:lnTo>
                    <a:pt x="26" y="2460"/>
                  </a:lnTo>
                  <a:lnTo>
                    <a:pt x="38" y="2532"/>
                  </a:lnTo>
                  <a:lnTo>
                    <a:pt x="54" y="2614"/>
                  </a:lnTo>
                  <a:lnTo>
                    <a:pt x="76" y="2704"/>
                  </a:lnTo>
                  <a:lnTo>
                    <a:pt x="102" y="2806"/>
                  </a:lnTo>
                  <a:lnTo>
                    <a:pt x="134" y="2920"/>
                  </a:lnTo>
                  <a:lnTo>
                    <a:pt x="134" y="2920"/>
                  </a:lnTo>
                  <a:lnTo>
                    <a:pt x="142" y="2948"/>
                  </a:lnTo>
                  <a:lnTo>
                    <a:pt x="154" y="2978"/>
                  </a:lnTo>
                  <a:lnTo>
                    <a:pt x="166" y="3008"/>
                  </a:lnTo>
                  <a:lnTo>
                    <a:pt x="180" y="3038"/>
                  </a:lnTo>
                  <a:lnTo>
                    <a:pt x="196" y="3068"/>
                  </a:lnTo>
                  <a:lnTo>
                    <a:pt x="214" y="3100"/>
                  </a:lnTo>
                  <a:lnTo>
                    <a:pt x="256" y="3164"/>
                  </a:lnTo>
                  <a:lnTo>
                    <a:pt x="302" y="3230"/>
                  </a:lnTo>
                  <a:lnTo>
                    <a:pt x="354" y="3296"/>
                  </a:lnTo>
                  <a:lnTo>
                    <a:pt x="410" y="3364"/>
                  </a:lnTo>
                  <a:lnTo>
                    <a:pt x="470" y="3432"/>
                  </a:lnTo>
                  <a:lnTo>
                    <a:pt x="536" y="3502"/>
                  </a:lnTo>
                  <a:lnTo>
                    <a:pt x="604" y="3572"/>
                  </a:lnTo>
                  <a:lnTo>
                    <a:pt x="674" y="3642"/>
                  </a:lnTo>
                  <a:lnTo>
                    <a:pt x="748" y="3712"/>
                  </a:lnTo>
                  <a:lnTo>
                    <a:pt x="822" y="3780"/>
                  </a:lnTo>
                  <a:lnTo>
                    <a:pt x="900" y="3850"/>
                  </a:lnTo>
                  <a:lnTo>
                    <a:pt x="978" y="3916"/>
                  </a:lnTo>
                  <a:lnTo>
                    <a:pt x="1056" y="3982"/>
                  </a:lnTo>
                  <a:lnTo>
                    <a:pt x="1210" y="4112"/>
                  </a:lnTo>
                  <a:lnTo>
                    <a:pt x="1362" y="4232"/>
                  </a:lnTo>
                  <a:lnTo>
                    <a:pt x="1506" y="4342"/>
                  </a:lnTo>
                  <a:lnTo>
                    <a:pt x="1638" y="4442"/>
                  </a:lnTo>
                  <a:lnTo>
                    <a:pt x="1754" y="4526"/>
                  </a:lnTo>
                  <a:lnTo>
                    <a:pt x="1852" y="4596"/>
                  </a:lnTo>
                  <a:lnTo>
                    <a:pt x="1972" y="4680"/>
                  </a:lnTo>
                  <a:lnTo>
                    <a:pt x="2790" y="3854"/>
                  </a:lnTo>
                  <a:lnTo>
                    <a:pt x="2790" y="3854"/>
                  </a:lnTo>
                  <a:lnTo>
                    <a:pt x="2870" y="3492"/>
                  </a:lnTo>
                  <a:lnTo>
                    <a:pt x="2952" y="3112"/>
                  </a:lnTo>
                  <a:lnTo>
                    <a:pt x="3046" y="2664"/>
                  </a:lnTo>
                  <a:lnTo>
                    <a:pt x="3094" y="2428"/>
                  </a:lnTo>
                  <a:lnTo>
                    <a:pt x="3140" y="2196"/>
                  </a:lnTo>
                  <a:lnTo>
                    <a:pt x="3182" y="1968"/>
                  </a:lnTo>
                  <a:lnTo>
                    <a:pt x="3220" y="1754"/>
                  </a:lnTo>
                  <a:lnTo>
                    <a:pt x="3252" y="1560"/>
                  </a:lnTo>
                  <a:lnTo>
                    <a:pt x="3278" y="1390"/>
                  </a:lnTo>
                  <a:lnTo>
                    <a:pt x="3286" y="1316"/>
                  </a:lnTo>
                  <a:lnTo>
                    <a:pt x="3292" y="1250"/>
                  </a:lnTo>
                  <a:lnTo>
                    <a:pt x="3296" y="1194"/>
                  </a:lnTo>
                  <a:lnTo>
                    <a:pt x="3296" y="1148"/>
                  </a:lnTo>
                  <a:lnTo>
                    <a:pt x="3296" y="1148"/>
                  </a:lnTo>
                  <a:close/>
                </a:path>
              </a:pathLst>
            </a:custGeom>
            <a:solidFill>
              <a:srgbClr val="00a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6"/>
            <p:cNvSpPr/>
            <p:nvPr/>
          </p:nvSpPr>
          <p:spPr>
            <a:xfrm>
              <a:off x="628560" y="549000"/>
              <a:ext cx="3882960" cy="7385400"/>
            </a:xfrm>
            <a:custGeom>
              <a:avLst/>
              <a:gdLst>
                <a:gd name="textAreaLeft" fmla="*/ 0 w 3882960"/>
                <a:gd name="textAreaRight" fmla="*/ 3883320 w 3882960"/>
                <a:gd name="textAreaTop" fmla="*/ 0 h 7385400"/>
                <a:gd name="textAreaBottom" fmla="*/ 7385760 h 7385400"/>
              </a:gdLst>
              <a:ahLst/>
              <a:rect l="textAreaLeft" t="textAreaTop" r="textAreaRight" b="textAreaBottom"/>
              <a:pathLst>
                <a:path w="2446" h="4652">
                  <a:moveTo>
                    <a:pt x="2290" y="724"/>
                  </a:moveTo>
                  <a:lnTo>
                    <a:pt x="2290" y="724"/>
                  </a:lnTo>
                  <a:lnTo>
                    <a:pt x="2276" y="600"/>
                  </a:lnTo>
                  <a:lnTo>
                    <a:pt x="2260" y="498"/>
                  </a:lnTo>
                  <a:lnTo>
                    <a:pt x="2250" y="452"/>
                  </a:lnTo>
                  <a:lnTo>
                    <a:pt x="2242" y="412"/>
                  </a:lnTo>
                  <a:lnTo>
                    <a:pt x="2232" y="374"/>
                  </a:lnTo>
                  <a:lnTo>
                    <a:pt x="2222" y="340"/>
                  </a:lnTo>
                  <a:lnTo>
                    <a:pt x="2210" y="308"/>
                  </a:lnTo>
                  <a:lnTo>
                    <a:pt x="2200" y="278"/>
                  </a:lnTo>
                  <a:lnTo>
                    <a:pt x="2186" y="250"/>
                  </a:lnTo>
                  <a:lnTo>
                    <a:pt x="2172" y="222"/>
                  </a:lnTo>
                  <a:lnTo>
                    <a:pt x="2142" y="168"/>
                  </a:lnTo>
                  <a:lnTo>
                    <a:pt x="2106" y="114"/>
                  </a:lnTo>
                  <a:lnTo>
                    <a:pt x="2106" y="114"/>
                  </a:lnTo>
                  <a:lnTo>
                    <a:pt x="2096" y="98"/>
                  </a:lnTo>
                  <a:lnTo>
                    <a:pt x="2094" y="98"/>
                  </a:lnTo>
                  <a:lnTo>
                    <a:pt x="2094" y="98"/>
                  </a:lnTo>
                  <a:lnTo>
                    <a:pt x="2080" y="84"/>
                  </a:lnTo>
                  <a:lnTo>
                    <a:pt x="2064" y="72"/>
                  </a:lnTo>
                  <a:lnTo>
                    <a:pt x="2044" y="60"/>
                  </a:lnTo>
                  <a:lnTo>
                    <a:pt x="2022" y="50"/>
                  </a:lnTo>
                  <a:lnTo>
                    <a:pt x="2000" y="40"/>
                  </a:lnTo>
                  <a:lnTo>
                    <a:pt x="1974" y="32"/>
                  </a:lnTo>
                  <a:lnTo>
                    <a:pt x="1948" y="24"/>
                  </a:lnTo>
                  <a:lnTo>
                    <a:pt x="1920" y="18"/>
                  </a:lnTo>
                  <a:lnTo>
                    <a:pt x="1890" y="12"/>
                  </a:lnTo>
                  <a:lnTo>
                    <a:pt x="1860" y="8"/>
                  </a:lnTo>
                  <a:lnTo>
                    <a:pt x="1794" y="2"/>
                  </a:lnTo>
                  <a:lnTo>
                    <a:pt x="1726" y="0"/>
                  </a:lnTo>
                  <a:lnTo>
                    <a:pt x="1692" y="0"/>
                  </a:lnTo>
                  <a:lnTo>
                    <a:pt x="1658" y="2"/>
                  </a:lnTo>
                  <a:lnTo>
                    <a:pt x="1622" y="6"/>
                  </a:lnTo>
                  <a:lnTo>
                    <a:pt x="1586" y="12"/>
                  </a:lnTo>
                  <a:lnTo>
                    <a:pt x="1550" y="18"/>
                  </a:lnTo>
                  <a:lnTo>
                    <a:pt x="1516" y="24"/>
                  </a:lnTo>
                  <a:lnTo>
                    <a:pt x="1480" y="34"/>
                  </a:lnTo>
                  <a:lnTo>
                    <a:pt x="1446" y="44"/>
                  </a:lnTo>
                  <a:lnTo>
                    <a:pt x="1412" y="54"/>
                  </a:lnTo>
                  <a:lnTo>
                    <a:pt x="1380" y="68"/>
                  </a:lnTo>
                  <a:lnTo>
                    <a:pt x="1348" y="82"/>
                  </a:lnTo>
                  <a:lnTo>
                    <a:pt x="1316" y="98"/>
                  </a:lnTo>
                  <a:lnTo>
                    <a:pt x="1286" y="114"/>
                  </a:lnTo>
                  <a:lnTo>
                    <a:pt x="1258" y="134"/>
                  </a:lnTo>
                  <a:lnTo>
                    <a:pt x="1230" y="154"/>
                  </a:lnTo>
                  <a:lnTo>
                    <a:pt x="1204" y="176"/>
                  </a:lnTo>
                  <a:lnTo>
                    <a:pt x="1180" y="200"/>
                  </a:lnTo>
                  <a:lnTo>
                    <a:pt x="1158" y="224"/>
                  </a:lnTo>
                  <a:lnTo>
                    <a:pt x="1158" y="224"/>
                  </a:lnTo>
                  <a:lnTo>
                    <a:pt x="1128" y="230"/>
                  </a:lnTo>
                  <a:lnTo>
                    <a:pt x="1090" y="242"/>
                  </a:lnTo>
                  <a:lnTo>
                    <a:pt x="1044" y="258"/>
                  </a:lnTo>
                  <a:lnTo>
                    <a:pt x="994" y="278"/>
                  </a:lnTo>
                  <a:lnTo>
                    <a:pt x="938" y="304"/>
                  </a:lnTo>
                  <a:lnTo>
                    <a:pt x="878" y="336"/>
                  </a:lnTo>
                  <a:lnTo>
                    <a:pt x="818" y="372"/>
                  </a:lnTo>
                  <a:lnTo>
                    <a:pt x="756" y="412"/>
                  </a:lnTo>
                  <a:lnTo>
                    <a:pt x="694" y="458"/>
                  </a:lnTo>
                  <a:lnTo>
                    <a:pt x="664" y="484"/>
                  </a:lnTo>
                  <a:lnTo>
                    <a:pt x="634" y="510"/>
                  </a:lnTo>
                  <a:lnTo>
                    <a:pt x="606" y="538"/>
                  </a:lnTo>
                  <a:lnTo>
                    <a:pt x="578" y="566"/>
                  </a:lnTo>
                  <a:lnTo>
                    <a:pt x="552" y="596"/>
                  </a:lnTo>
                  <a:lnTo>
                    <a:pt x="526" y="628"/>
                  </a:lnTo>
                  <a:lnTo>
                    <a:pt x="500" y="660"/>
                  </a:lnTo>
                  <a:lnTo>
                    <a:pt x="478" y="694"/>
                  </a:lnTo>
                  <a:lnTo>
                    <a:pt x="456" y="728"/>
                  </a:lnTo>
                  <a:lnTo>
                    <a:pt x="438" y="764"/>
                  </a:lnTo>
                  <a:lnTo>
                    <a:pt x="420" y="802"/>
                  </a:lnTo>
                  <a:lnTo>
                    <a:pt x="404" y="840"/>
                  </a:lnTo>
                  <a:lnTo>
                    <a:pt x="392" y="880"/>
                  </a:lnTo>
                  <a:lnTo>
                    <a:pt x="382" y="922"/>
                  </a:lnTo>
                  <a:lnTo>
                    <a:pt x="382" y="922"/>
                  </a:lnTo>
                  <a:lnTo>
                    <a:pt x="360" y="930"/>
                  </a:lnTo>
                  <a:lnTo>
                    <a:pt x="340" y="940"/>
                  </a:lnTo>
                  <a:lnTo>
                    <a:pt x="318" y="954"/>
                  </a:lnTo>
                  <a:lnTo>
                    <a:pt x="296" y="968"/>
                  </a:lnTo>
                  <a:lnTo>
                    <a:pt x="276" y="984"/>
                  </a:lnTo>
                  <a:lnTo>
                    <a:pt x="254" y="1004"/>
                  </a:lnTo>
                  <a:lnTo>
                    <a:pt x="234" y="1024"/>
                  </a:lnTo>
                  <a:lnTo>
                    <a:pt x="212" y="1046"/>
                  </a:lnTo>
                  <a:lnTo>
                    <a:pt x="192" y="1070"/>
                  </a:lnTo>
                  <a:lnTo>
                    <a:pt x="174" y="1096"/>
                  </a:lnTo>
                  <a:lnTo>
                    <a:pt x="154" y="1124"/>
                  </a:lnTo>
                  <a:lnTo>
                    <a:pt x="136" y="1154"/>
                  </a:lnTo>
                  <a:lnTo>
                    <a:pt x="118" y="1184"/>
                  </a:lnTo>
                  <a:lnTo>
                    <a:pt x="102" y="1216"/>
                  </a:lnTo>
                  <a:lnTo>
                    <a:pt x="86" y="1250"/>
                  </a:lnTo>
                  <a:lnTo>
                    <a:pt x="72" y="1284"/>
                  </a:lnTo>
                  <a:lnTo>
                    <a:pt x="58" y="1322"/>
                  </a:lnTo>
                  <a:lnTo>
                    <a:pt x="46" y="1360"/>
                  </a:lnTo>
                  <a:lnTo>
                    <a:pt x="34" y="1398"/>
                  </a:lnTo>
                  <a:lnTo>
                    <a:pt x="24" y="1438"/>
                  </a:lnTo>
                  <a:lnTo>
                    <a:pt x="16" y="1480"/>
                  </a:lnTo>
                  <a:lnTo>
                    <a:pt x="10" y="1524"/>
                  </a:lnTo>
                  <a:lnTo>
                    <a:pt x="6" y="1566"/>
                  </a:lnTo>
                  <a:lnTo>
                    <a:pt x="2" y="1612"/>
                  </a:lnTo>
                  <a:lnTo>
                    <a:pt x="0" y="1658"/>
                  </a:lnTo>
                  <a:lnTo>
                    <a:pt x="2" y="1704"/>
                  </a:lnTo>
                  <a:lnTo>
                    <a:pt x="4" y="1752"/>
                  </a:lnTo>
                  <a:lnTo>
                    <a:pt x="10" y="1800"/>
                  </a:lnTo>
                  <a:lnTo>
                    <a:pt x="16" y="1848"/>
                  </a:lnTo>
                  <a:lnTo>
                    <a:pt x="26" y="1898"/>
                  </a:lnTo>
                  <a:lnTo>
                    <a:pt x="38" y="1948"/>
                  </a:lnTo>
                  <a:lnTo>
                    <a:pt x="52" y="2000"/>
                  </a:lnTo>
                  <a:lnTo>
                    <a:pt x="52" y="2000"/>
                  </a:lnTo>
                  <a:lnTo>
                    <a:pt x="38" y="2062"/>
                  </a:lnTo>
                  <a:lnTo>
                    <a:pt x="24" y="2124"/>
                  </a:lnTo>
                  <a:lnTo>
                    <a:pt x="18" y="2158"/>
                  </a:lnTo>
                  <a:lnTo>
                    <a:pt x="14" y="2194"/>
                  </a:lnTo>
                  <a:lnTo>
                    <a:pt x="10" y="2232"/>
                  </a:lnTo>
                  <a:lnTo>
                    <a:pt x="10" y="2278"/>
                  </a:lnTo>
                  <a:lnTo>
                    <a:pt x="12" y="2328"/>
                  </a:lnTo>
                  <a:lnTo>
                    <a:pt x="18" y="2384"/>
                  </a:lnTo>
                  <a:lnTo>
                    <a:pt x="26" y="2446"/>
                  </a:lnTo>
                  <a:lnTo>
                    <a:pt x="38" y="2518"/>
                  </a:lnTo>
                  <a:lnTo>
                    <a:pt x="54" y="2600"/>
                  </a:lnTo>
                  <a:lnTo>
                    <a:pt x="76" y="2690"/>
                  </a:lnTo>
                  <a:lnTo>
                    <a:pt x="102" y="2792"/>
                  </a:lnTo>
                  <a:lnTo>
                    <a:pt x="134" y="2906"/>
                  </a:lnTo>
                  <a:lnTo>
                    <a:pt x="134" y="2906"/>
                  </a:lnTo>
                  <a:lnTo>
                    <a:pt x="142" y="2934"/>
                  </a:lnTo>
                  <a:lnTo>
                    <a:pt x="152" y="2962"/>
                  </a:lnTo>
                  <a:lnTo>
                    <a:pt x="164" y="2990"/>
                  </a:lnTo>
                  <a:lnTo>
                    <a:pt x="178" y="3020"/>
                  </a:lnTo>
                  <a:lnTo>
                    <a:pt x="212" y="3080"/>
                  </a:lnTo>
                  <a:lnTo>
                    <a:pt x="250" y="3142"/>
                  </a:lnTo>
                  <a:lnTo>
                    <a:pt x="294" y="3204"/>
                  </a:lnTo>
                  <a:lnTo>
                    <a:pt x="342" y="3270"/>
                  </a:lnTo>
                  <a:lnTo>
                    <a:pt x="396" y="3334"/>
                  </a:lnTo>
                  <a:lnTo>
                    <a:pt x="454" y="3402"/>
                  </a:lnTo>
                  <a:lnTo>
                    <a:pt x="516" y="3468"/>
                  </a:lnTo>
                  <a:lnTo>
                    <a:pt x="580" y="3536"/>
                  </a:lnTo>
                  <a:lnTo>
                    <a:pt x="648" y="3604"/>
                  </a:lnTo>
                  <a:lnTo>
                    <a:pt x="718" y="3670"/>
                  </a:lnTo>
                  <a:lnTo>
                    <a:pt x="790" y="3738"/>
                  </a:lnTo>
                  <a:lnTo>
                    <a:pt x="864" y="3804"/>
                  </a:lnTo>
                  <a:lnTo>
                    <a:pt x="940" y="3870"/>
                  </a:lnTo>
                  <a:lnTo>
                    <a:pt x="1014" y="3934"/>
                  </a:lnTo>
                  <a:lnTo>
                    <a:pt x="1166" y="4060"/>
                  </a:lnTo>
                  <a:lnTo>
                    <a:pt x="1314" y="4180"/>
                  </a:lnTo>
                  <a:lnTo>
                    <a:pt x="1456" y="4290"/>
                  </a:lnTo>
                  <a:lnTo>
                    <a:pt x="1590" y="4390"/>
                  </a:lnTo>
                  <a:lnTo>
                    <a:pt x="1708" y="4478"/>
                  </a:lnTo>
                  <a:lnTo>
                    <a:pt x="1810" y="4552"/>
                  </a:lnTo>
                  <a:lnTo>
                    <a:pt x="1952" y="4652"/>
                  </a:lnTo>
                  <a:lnTo>
                    <a:pt x="2446" y="3756"/>
                  </a:lnTo>
                  <a:lnTo>
                    <a:pt x="2446" y="3756"/>
                  </a:lnTo>
                  <a:lnTo>
                    <a:pt x="2428" y="3332"/>
                  </a:lnTo>
                  <a:lnTo>
                    <a:pt x="2384" y="2374"/>
                  </a:lnTo>
                  <a:lnTo>
                    <a:pt x="2358" y="1840"/>
                  </a:lnTo>
                  <a:lnTo>
                    <a:pt x="2332" y="1350"/>
                  </a:lnTo>
                  <a:lnTo>
                    <a:pt x="2310" y="958"/>
                  </a:lnTo>
                  <a:lnTo>
                    <a:pt x="2300" y="816"/>
                  </a:lnTo>
                  <a:lnTo>
                    <a:pt x="2290" y="724"/>
                  </a:lnTo>
                  <a:lnTo>
                    <a:pt x="2290" y="724"/>
                  </a:lnTo>
                  <a:close/>
                </a:path>
              </a:pathLst>
            </a:custGeom>
            <a:solidFill>
              <a:srgbClr val="e54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87"/>
            <p:cNvSpPr/>
            <p:nvPr/>
          </p:nvSpPr>
          <p:spPr>
            <a:xfrm>
              <a:off x="628560" y="904680"/>
              <a:ext cx="3314520" cy="6978960"/>
            </a:xfrm>
            <a:custGeom>
              <a:avLst/>
              <a:gdLst>
                <a:gd name="textAreaLeft" fmla="*/ 0 w 3314520"/>
                <a:gd name="textAreaRight" fmla="*/ 3314880 w 3314520"/>
                <a:gd name="textAreaTop" fmla="*/ 0 h 6978960"/>
                <a:gd name="textAreaBottom" fmla="*/ 6978960 h 6978960"/>
              </a:gdLst>
              <a:ahLst/>
              <a:rect l="textAreaLeft" t="textAreaTop" r="textAreaRight" b="textAreaBottom"/>
              <a:pathLst>
                <a:path w="2088" h="4396">
                  <a:moveTo>
                    <a:pt x="2088" y="3586"/>
                  </a:moveTo>
                  <a:lnTo>
                    <a:pt x="2088" y="3586"/>
                  </a:lnTo>
                  <a:lnTo>
                    <a:pt x="1700" y="2454"/>
                  </a:lnTo>
                  <a:lnTo>
                    <a:pt x="1412" y="1610"/>
                  </a:lnTo>
                  <a:lnTo>
                    <a:pt x="1304" y="1286"/>
                  </a:lnTo>
                  <a:lnTo>
                    <a:pt x="1240" y="1092"/>
                  </a:lnTo>
                  <a:lnTo>
                    <a:pt x="1240" y="1092"/>
                  </a:lnTo>
                  <a:lnTo>
                    <a:pt x="1204" y="974"/>
                  </a:lnTo>
                  <a:lnTo>
                    <a:pt x="1164" y="852"/>
                  </a:lnTo>
                  <a:lnTo>
                    <a:pt x="1146" y="788"/>
                  </a:lnTo>
                  <a:lnTo>
                    <a:pt x="1128" y="724"/>
                  </a:lnTo>
                  <a:lnTo>
                    <a:pt x="1112" y="658"/>
                  </a:lnTo>
                  <a:lnTo>
                    <a:pt x="1100" y="590"/>
                  </a:lnTo>
                  <a:lnTo>
                    <a:pt x="1090" y="522"/>
                  </a:lnTo>
                  <a:lnTo>
                    <a:pt x="1084" y="452"/>
                  </a:lnTo>
                  <a:lnTo>
                    <a:pt x="1082" y="380"/>
                  </a:lnTo>
                  <a:lnTo>
                    <a:pt x="1082" y="344"/>
                  </a:lnTo>
                  <a:lnTo>
                    <a:pt x="1084" y="308"/>
                  </a:lnTo>
                  <a:lnTo>
                    <a:pt x="1088" y="270"/>
                  </a:lnTo>
                  <a:lnTo>
                    <a:pt x="1094" y="232"/>
                  </a:lnTo>
                  <a:lnTo>
                    <a:pt x="1100" y="194"/>
                  </a:lnTo>
                  <a:lnTo>
                    <a:pt x="1108" y="156"/>
                  </a:lnTo>
                  <a:lnTo>
                    <a:pt x="1118" y="118"/>
                  </a:lnTo>
                  <a:lnTo>
                    <a:pt x="1130" y="80"/>
                  </a:lnTo>
                  <a:lnTo>
                    <a:pt x="1142" y="4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28" y="6"/>
                  </a:lnTo>
                  <a:lnTo>
                    <a:pt x="1090" y="18"/>
                  </a:lnTo>
                  <a:lnTo>
                    <a:pt x="1044" y="34"/>
                  </a:lnTo>
                  <a:lnTo>
                    <a:pt x="994" y="54"/>
                  </a:lnTo>
                  <a:lnTo>
                    <a:pt x="938" y="80"/>
                  </a:lnTo>
                  <a:lnTo>
                    <a:pt x="878" y="112"/>
                  </a:lnTo>
                  <a:lnTo>
                    <a:pt x="818" y="148"/>
                  </a:lnTo>
                  <a:lnTo>
                    <a:pt x="756" y="188"/>
                  </a:lnTo>
                  <a:lnTo>
                    <a:pt x="694" y="234"/>
                  </a:lnTo>
                  <a:lnTo>
                    <a:pt x="664" y="260"/>
                  </a:lnTo>
                  <a:lnTo>
                    <a:pt x="634" y="286"/>
                  </a:lnTo>
                  <a:lnTo>
                    <a:pt x="606" y="314"/>
                  </a:lnTo>
                  <a:lnTo>
                    <a:pt x="578" y="342"/>
                  </a:lnTo>
                  <a:lnTo>
                    <a:pt x="552" y="372"/>
                  </a:lnTo>
                  <a:lnTo>
                    <a:pt x="526" y="404"/>
                  </a:lnTo>
                  <a:lnTo>
                    <a:pt x="500" y="436"/>
                  </a:lnTo>
                  <a:lnTo>
                    <a:pt x="478" y="470"/>
                  </a:lnTo>
                  <a:lnTo>
                    <a:pt x="456" y="504"/>
                  </a:lnTo>
                  <a:lnTo>
                    <a:pt x="438" y="540"/>
                  </a:lnTo>
                  <a:lnTo>
                    <a:pt x="420" y="578"/>
                  </a:lnTo>
                  <a:lnTo>
                    <a:pt x="404" y="616"/>
                  </a:lnTo>
                  <a:lnTo>
                    <a:pt x="392" y="656"/>
                  </a:lnTo>
                  <a:lnTo>
                    <a:pt x="382" y="698"/>
                  </a:lnTo>
                  <a:lnTo>
                    <a:pt x="382" y="698"/>
                  </a:lnTo>
                  <a:lnTo>
                    <a:pt x="360" y="706"/>
                  </a:lnTo>
                  <a:lnTo>
                    <a:pt x="340" y="716"/>
                  </a:lnTo>
                  <a:lnTo>
                    <a:pt x="318" y="730"/>
                  </a:lnTo>
                  <a:lnTo>
                    <a:pt x="296" y="744"/>
                  </a:lnTo>
                  <a:lnTo>
                    <a:pt x="276" y="760"/>
                  </a:lnTo>
                  <a:lnTo>
                    <a:pt x="254" y="780"/>
                  </a:lnTo>
                  <a:lnTo>
                    <a:pt x="234" y="800"/>
                  </a:lnTo>
                  <a:lnTo>
                    <a:pt x="212" y="822"/>
                  </a:lnTo>
                  <a:lnTo>
                    <a:pt x="192" y="846"/>
                  </a:lnTo>
                  <a:lnTo>
                    <a:pt x="174" y="872"/>
                  </a:lnTo>
                  <a:lnTo>
                    <a:pt x="154" y="900"/>
                  </a:lnTo>
                  <a:lnTo>
                    <a:pt x="136" y="930"/>
                  </a:lnTo>
                  <a:lnTo>
                    <a:pt x="118" y="960"/>
                  </a:lnTo>
                  <a:lnTo>
                    <a:pt x="102" y="992"/>
                  </a:lnTo>
                  <a:lnTo>
                    <a:pt x="86" y="1026"/>
                  </a:lnTo>
                  <a:lnTo>
                    <a:pt x="72" y="1060"/>
                  </a:lnTo>
                  <a:lnTo>
                    <a:pt x="58" y="1098"/>
                  </a:lnTo>
                  <a:lnTo>
                    <a:pt x="46" y="1136"/>
                  </a:lnTo>
                  <a:lnTo>
                    <a:pt x="34" y="1174"/>
                  </a:lnTo>
                  <a:lnTo>
                    <a:pt x="24" y="1214"/>
                  </a:lnTo>
                  <a:lnTo>
                    <a:pt x="16" y="1256"/>
                  </a:lnTo>
                  <a:lnTo>
                    <a:pt x="10" y="1300"/>
                  </a:lnTo>
                  <a:lnTo>
                    <a:pt x="6" y="1342"/>
                  </a:lnTo>
                  <a:lnTo>
                    <a:pt x="2" y="1388"/>
                  </a:lnTo>
                  <a:lnTo>
                    <a:pt x="0" y="1434"/>
                  </a:lnTo>
                  <a:lnTo>
                    <a:pt x="2" y="1480"/>
                  </a:lnTo>
                  <a:lnTo>
                    <a:pt x="4" y="1528"/>
                  </a:lnTo>
                  <a:lnTo>
                    <a:pt x="10" y="1576"/>
                  </a:lnTo>
                  <a:lnTo>
                    <a:pt x="16" y="1624"/>
                  </a:lnTo>
                  <a:lnTo>
                    <a:pt x="26" y="1674"/>
                  </a:lnTo>
                  <a:lnTo>
                    <a:pt x="38" y="1724"/>
                  </a:lnTo>
                  <a:lnTo>
                    <a:pt x="52" y="1776"/>
                  </a:lnTo>
                  <a:lnTo>
                    <a:pt x="52" y="1776"/>
                  </a:lnTo>
                  <a:lnTo>
                    <a:pt x="38" y="1838"/>
                  </a:lnTo>
                  <a:lnTo>
                    <a:pt x="24" y="1900"/>
                  </a:lnTo>
                  <a:lnTo>
                    <a:pt x="18" y="1934"/>
                  </a:lnTo>
                  <a:lnTo>
                    <a:pt x="14" y="1970"/>
                  </a:lnTo>
                  <a:lnTo>
                    <a:pt x="10" y="2008"/>
                  </a:lnTo>
                  <a:lnTo>
                    <a:pt x="10" y="2054"/>
                  </a:lnTo>
                  <a:lnTo>
                    <a:pt x="12" y="2104"/>
                  </a:lnTo>
                  <a:lnTo>
                    <a:pt x="18" y="2160"/>
                  </a:lnTo>
                  <a:lnTo>
                    <a:pt x="26" y="2222"/>
                  </a:lnTo>
                  <a:lnTo>
                    <a:pt x="38" y="2294"/>
                  </a:lnTo>
                  <a:lnTo>
                    <a:pt x="54" y="2376"/>
                  </a:lnTo>
                  <a:lnTo>
                    <a:pt x="76" y="2466"/>
                  </a:lnTo>
                  <a:lnTo>
                    <a:pt x="102" y="2568"/>
                  </a:lnTo>
                  <a:lnTo>
                    <a:pt x="134" y="2682"/>
                  </a:lnTo>
                  <a:lnTo>
                    <a:pt x="134" y="2682"/>
                  </a:lnTo>
                  <a:lnTo>
                    <a:pt x="142" y="2708"/>
                  </a:lnTo>
                  <a:lnTo>
                    <a:pt x="152" y="2734"/>
                  </a:lnTo>
                  <a:lnTo>
                    <a:pt x="176" y="2790"/>
                  </a:lnTo>
                  <a:lnTo>
                    <a:pt x="206" y="2846"/>
                  </a:lnTo>
                  <a:lnTo>
                    <a:pt x="242" y="2904"/>
                  </a:lnTo>
                  <a:lnTo>
                    <a:pt x="282" y="2964"/>
                  </a:lnTo>
                  <a:lnTo>
                    <a:pt x="328" y="3026"/>
                  </a:lnTo>
                  <a:lnTo>
                    <a:pt x="376" y="3088"/>
                  </a:lnTo>
                  <a:lnTo>
                    <a:pt x="430" y="3150"/>
                  </a:lnTo>
                  <a:lnTo>
                    <a:pt x="488" y="3214"/>
                  </a:lnTo>
                  <a:lnTo>
                    <a:pt x="548" y="3276"/>
                  </a:lnTo>
                  <a:lnTo>
                    <a:pt x="610" y="3340"/>
                  </a:lnTo>
                  <a:lnTo>
                    <a:pt x="676" y="3406"/>
                  </a:lnTo>
                  <a:lnTo>
                    <a:pt x="742" y="3468"/>
                  </a:lnTo>
                  <a:lnTo>
                    <a:pt x="812" y="3532"/>
                  </a:lnTo>
                  <a:lnTo>
                    <a:pt x="954" y="3658"/>
                  </a:lnTo>
                  <a:lnTo>
                    <a:pt x="1096" y="3780"/>
                  </a:lnTo>
                  <a:lnTo>
                    <a:pt x="1238" y="3896"/>
                  </a:lnTo>
                  <a:lnTo>
                    <a:pt x="1378" y="4006"/>
                  </a:lnTo>
                  <a:lnTo>
                    <a:pt x="1510" y="4106"/>
                  </a:lnTo>
                  <a:lnTo>
                    <a:pt x="1630" y="4198"/>
                  </a:lnTo>
                  <a:lnTo>
                    <a:pt x="1740" y="4278"/>
                  </a:lnTo>
                  <a:lnTo>
                    <a:pt x="1906" y="4396"/>
                  </a:lnTo>
                  <a:lnTo>
                    <a:pt x="2088" y="3586"/>
                  </a:lnTo>
                  <a:close/>
                </a:path>
              </a:pathLst>
            </a:custGeom>
            <a:solidFill>
              <a:srgbClr val="00a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88"/>
            <p:cNvSpPr/>
            <p:nvPr/>
          </p:nvSpPr>
          <p:spPr>
            <a:xfrm>
              <a:off x="628560" y="2012760"/>
              <a:ext cx="2962080" cy="5813640"/>
            </a:xfrm>
            <a:custGeom>
              <a:avLst/>
              <a:gdLst>
                <a:gd name="textAreaLeft" fmla="*/ 0 w 2962080"/>
                <a:gd name="textAreaRight" fmla="*/ 2962440 w 2962080"/>
                <a:gd name="textAreaTop" fmla="*/ 0 h 5813640"/>
                <a:gd name="textAreaBottom" fmla="*/ 5814000 h 5813640"/>
              </a:gdLst>
              <a:ahLst/>
              <a:rect l="textAreaLeft" t="textAreaTop" r="textAreaRight" b="textAreaBottom"/>
              <a:pathLst>
                <a:path w="1866" h="3662">
                  <a:moveTo>
                    <a:pt x="52" y="1078"/>
                  </a:moveTo>
                  <a:lnTo>
                    <a:pt x="52" y="1078"/>
                  </a:lnTo>
                  <a:lnTo>
                    <a:pt x="38" y="1140"/>
                  </a:lnTo>
                  <a:lnTo>
                    <a:pt x="24" y="1202"/>
                  </a:lnTo>
                  <a:lnTo>
                    <a:pt x="18" y="1236"/>
                  </a:lnTo>
                  <a:lnTo>
                    <a:pt x="14" y="1272"/>
                  </a:lnTo>
                  <a:lnTo>
                    <a:pt x="10" y="1310"/>
                  </a:lnTo>
                  <a:lnTo>
                    <a:pt x="10" y="1356"/>
                  </a:lnTo>
                  <a:lnTo>
                    <a:pt x="12" y="1406"/>
                  </a:lnTo>
                  <a:lnTo>
                    <a:pt x="18" y="1462"/>
                  </a:lnTo>
                  <a:lnTo>
                    <a:pt x="26" y="1524"/>
                  </a:lnTo>
                  <a:lnTo>
                    <a:pt x="38" y="1596"/>
                  </a:lnTo>
                  <a:lnTo>
                    <a:pt x="54" y="1678"/>
                  </a:lnTo>
                  <a:lnTo>
                    <a:pt x="76" y="1768"/>
                  </a:lnTo>
                  <a:lnTo>
                    <a:pt x="102" y="1870"/>
                  </a:lnTo>
                  <a:lnTo>
                    <a:pt x="134" y="1984"/>
                  </a:lnTo>
                  <a:lnTo>
                    <a:pt x="134" y="1984"/>
                  </a:lnTo>
                  <a:lnTo>
                    <a:pt x="142" y="2008"/>
                  </a:lnTo>
                  <a:lnTo>
                    <a:pt x="150" y="2034"/>
                  </a:lnTo>
                  <a:lnTo>
                    <a:pt x="174" y="2086"/>
                  </a:lnTo>
                  <a:lnTo>
                    <a:pt x="202" y="2140"/>
                  </a:lnTo>
                  <a:lnTo>
                    <a:pt x="234" y="2196"/>
                  </a:lnTo>
                  <a:lnTo>
                    <a:pt x="272" y="2252"/>
                  </a:lnTo>
                  <a:lnTo>
                    <a:pt x="314" y="2310"/>
                  </a:lnTo>
                  <a:lnTo>
                    <a:pt x="362" y="2370"/>
                  </a:lnTo>
                  <a:lnTo>
                    <a:pt x="410" y="2430"/>
                  </a:lnTo>
                  <a:lnTo>
                    <a:pt x="464" y="2490"/>
                  </a:lnTo>
                  <a:lnTo>
                    <a:pt x="520" y="2550"/>
                  </a:lnTo>
                  <a:lnTo>
                    <a:pt x="580" y="2612"/>
                  </a:lnTo>
                  <a:lnTo>
                    <a:pt x="640" y="2674"/>
                  </a:lnTo>
                  <a:lnTo>
                    <a:pt x="704" y="2734"/>
                  </a:lnTo>
                  <a:lnTo>
                    <a:pt x="768" y="2796"/>
                  </a:lnTo>
                  <a:lnTo>
                    <a:pt x="902" y="2916"/>
                  </a:lnTo>
                  <a:lnTo>
                    <a:pt x="1040" y="3034"/>
                  </a:lnTo>
                  <a:lnTo>
                    <a:pt x="1176" y="3148"/>
                  </a:lnTo>
                  <a:lnTo>
                    <a:pt x="1310" y="3254"/>
                  </a:lnTo>
                  <a:lnTo>
                    <a:pt x="1440" y="3356"/>
                  </a:lnTo>
                  <a:lnTo>
                    <a:pt x="1562" y="3448"/>
                  </a:lnTo>
                  <a:lnTo>
                    <a:pt x="1674" y="3532"/>
                  </a:lnTo>
                  <a:lnTo>
                    <a:pt x="1856" y="3662"/>
                  </a:lnTo>
                  <a:lnTo>
                    <a:pt x="1856" y="3662"/>
                  </a:lnTo>
                  <a:lnTo>
                    <a:pt x="1860" y="3606"/>
                  </a:lnTo>
                  <a:lnTo>
                    <a:pt x="1864" y="3544"/>
                  </a:lnTo>
                  <a:lnTo>
                    <a:pt x="1866" y="3480"/>
                  </a:lnTo>
                  <a:lnTo>
                    <a:pt x="1862" y="3416"/>
                  </a:lnTo>
                  <a:lnTo>
                    <a:pt x="1858" y="3350"/>
                  </a:lnTo>
                  <a:lnTo>
                    <a:pt x="1852" y="3318"/>
                  </a:lnTo>
                  <a:lnTo>
                    <a:pt x="1846" y="3286"/>
                  </a:lnTo>
                  <a:lnTo>
                    <a:pt x="1840" y="3254"/>
                  </a:lnTo>
                  <a:lnTo>
                    <a:pt x="1832" y="3224"/>
                  </a:lnTo>
                  <a:lnTo>
                    <a:pt x="1822" y="3196"/>
                  </a:lnTo>
                  <a:lnTo>
                    <a:pt x="1810" y="3168"/>
                  </a:lnTo>
                  <a:lnTo>
                    <a:pt x="1810" y="3168"/>
                  </a:lnTo>
                  <a:lnTo>
                    <a:pt x="1754" y="3072"/>
                  </a:lnTo>
                  <a:lnTo>
                    <a:pt x="1698" y="2974"/>
                  </a:lnTo>
                  <a:lnTo>
                    <a:pt x="1638" y="2878"/>
                  </a:lnTo>
                  <a:lnTo>
                    <a:pt x="1574" y="2784"/>
                  </a:lnTo>
                  <a:lnTo>
                    <a:pt x="1510" y="2688"/>
                  </a:lnTo>
                  <a:lnTo>
                    <a:pt x="1444" y="2592"/>
                  </a:lnTo>
                  <a:lnTo>
                    <a:pt x="1310" y="2400"/>
                  </a:lnTo>
                  <a:lnTo>
                    <a:pt x="1172" y="2210"/>
                  </a:lnTo>
                  <a:lnTo>
                    <a:pt x="1036" y="2018"/>
                  </a:lnTo>
                  <a:lnTo>
                    <a:pt x="970" y="1922"/>
                  </a:lnTo>
                  <a:lnTo>
                    <a:pt x="906" y="1826"/>
                  </a:lnTo>
                  <a:lnTo>
                    <a:pt x="842" y="1728"/>
                  </a:lnTo>
                  <a:lnTo>
                    <a:pt x="780" y="1632"/>
                  </a:lnTo>
                  <a:lnTo>
                    <a:pt x="722" y="1534"/>
                  </a:lnTo>
                  <a:lnTo>
                    <a:pt x="666" y="1436"/>
                  </a:lnTo>
                  <a:lnTo>
                    <a:pt x="614" y="1338"/>
                  </a:lnTo>
                  <a:lnTo>
                    <a:pt x="564" y="1240"/>
                  </a:lnTo>
                  <a:lnTo>
                    <a:pt x="518" y="1140"/>
                  </a:lnTo>
                  <a:lnTo>
                    <a:pt x="478" y="1040"/>
                  </a:lnTo>
                  <a:lnTo>
                    <a:pt x="458" y="990"/>
                  </a:lnTo>
                  <a:lnTo>
                    <a:pt x="440" y="940"/>
                  </a:lnTo>
                  <a:lnTo>
                    <a:pt x="424" y="890"/>
                  </a:lnTo>
                  <a:lnTo>
                    <a:pt x="410" y="840"/>
                  </a:lnTo>
                  <a:lnTo>
                    <a:pt x="396" y="788"/>
                  </a:lnTo>
                  <a:lnTo>
                    <a:pt x="384" y="738"/>
                  </a:lnTo>
                  <a:lnTo>
                    <a:pt x="372" y="686"/>
                  </a:lnTo>
                  <a:lnTo>
                    <a:pt x="364" y="634"/>
                  </a:lnTo>
                  <a:lnTo>
                    <a:pt x="356" y="582"/>
                  </a:lnTo>
                  <a:lnTo>
                    <a:pt x="348" y="532"/>
                  </a:lnTo>
                  <a:lnTo>
                    <a:pt x="344" y="480"/>
                  </a:lnTo>
                  <a:lnTo>
                    <a:pt x="340" y="426"/>
                  </a:lnTo>
                  <a:lnTo>
                    <a:pt x="340" y="374"/>
                  </a:lnTo>
                  <a:lnTo>
                    <a:pt x="340" y="322"/>
                  </a:lnTo>
                  <a:lnTo>
                    <a:pt x="342" y="268"/>
                  </a:lnTo>
                  <a:lnTo>
                    <a:pt x="346" y="216"/>
                  </a:lnTo>
                  <a:lnTo>
                    <a:pt x="352" y="162"/>
                  </a:lnTo>
                  <a:lnTo>
                    <a:pt x="360" y="108"/>
                  </a:lnTo>
                  <a:lnTo>
                    <a:pt x="370" y="54"/>
                  </a:lnTo>
                  <a:lnTo>
                    <a:pt x="382" y="0"/>
                  </a:lnTo>
                  <a:lnTo>
                    <a:pt x="382" y="0"/>
                  </a:lnTo>
                  <a:lnTo>
                    <a:pt x="360" y="8"/>
                  </a:lnTo>
                  <a:lnTo>
                    <a:pt x="340" y="18"/>
                  </a:lnTo>
                  <a:lnTo>
                    <a:pt x="318" y="32"/>
                  </a:lnTo>
                  <a:lnTo>
                    <a:pt x="296" y="46"/>
                  </a:lnTo>
                  <a:lnTo>
                    <a:pt x="276" y="62"/>
                  </a:lnTo>
                  <a:lnTo>
                    <a:pt x="254" y="82"/>
                  </a:lnTo>
                  <a:lnTo>
                    <a:pt x="234" y="102"/>
                  </a:lnTo>
                  <a:lnTo>
                    <a:pt x="212" y="124"/>
                  </a:lnTo>
                  <a:lnTo>
                    <a:pt x="192" y="148"/>
                  </a:lnTo>
                  <a:lnTo>
                    <a:pt x="174" y="174"/>
                  </a:lnTo>
                  <a:lnTo>
                    <a:pt x="154" y="202"/>
                  </a:lnTo>
                  <a:lnTo>
                    <a:pt x="136" y="232"/>
                  </a:lnTo>
                  <a:lnTo>
                    <a:pt x="118" y="262"/>
                  </a:lnTo>
                  <a:lnTo>
                    <a:pt x="102" y="294"/>
                  </a:lnTo>
                  <a:lnTo>
                    <a:pt x="86" y="328"/>
                  </a:lnTo>
                  <a:lnTo>
                    <a:pt x="72" y="362"/>
                  </a:lnTo>
                  <a:lnTo>
                    <a:pt x="58" y="400"/>
                  </a:lnTo>
                  <a:lnTo>
                    <a:pt x="46" y="438"/>
                  </a:lnTo>
                  <a:lnTo>
                    <a:pt x="34" y="476"/>
                  </a:lnTo>
                  <a:lnTo>
                    <a:pt x="24" y="516"/>
                  </a:lnTo>
                  <a:lnTo>
                    <a:pt x="16" y="558"/>
                  </a:lnTo>
                  <a:lnTo>
                    <a:pt x="10" y="602"/>
                  </a:lnTo>
                  <a:lnTo>
                    <a:pt x="6" y="644"/>
                  </a:lnTo>
                  <a:lnTo>
                    <a:pt x="2" y="690"/>
                  </a:lnTo>
                  <a:lnTo>
                    <a:pt x="0" y="736"/>
                  </a:lnTo>
                  <a:lnTo>
                    <a:pt x="2" y="782"/>
                  </a:lnTo>
                  <a:lnTo>
                    <a:pt x="4" y="830"/>
                  </a:lnTo>
                  <a:lnTo>
                    <a:pt x="10" y="878"/>
                  </a:lnTo>
                  <a:lnTo>
                    <a:pt x="16" y="926"/>
                  </a:lnTo>
                  <a:lnTo>
                    <a:pt x="26" y="976"/>
                  </a:lnTo>
                  <a:lnTo>
                    <a:pt x="38" y="1026"/>
                  </a:lnTo>
                  <a:lnTo>
                    <a:pt x="52" y="1078"/>
                  </a:lnTo>
                  <a:lnTo>
                    <a:pt x="52" y="1078"/>
                  </a:lnTo>
                  <a:close/>
                </a:path>
              </a:pathLst>
            </a:custGeom>
            <a:solidFill>
              <a:srgbClr val="e54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89"/>
            <p:cNvSpPr/>
            <p:nvPr/>
          </p:nvSpPr>
          <p:spPr>
            <a:xfrm>
              <a:off x="644400" y="3692520"/>
              <a:ext cx="2787480" cy="4032360"/>
            </a:xfrm>
            <a:custGeom>
              <a:avLst/>
              <a:gdLst>
                <a:gd name="textAreaLeft" fmla="*/ 0 w 2787480"/>
                <a:gd name="textAreaRight" fmla="*/ 2787840 w 2787480"/>
                <a:gd name="textAreaTop" fmla="*/ 0 h 4032360"/>
                <a:gd name="textAreaBottom" fmla="*/ 4032360 h 4032360"/>
              </a:gdLst>
              <a:ahLst/>
              <a:rect l="textAreaLeft" t="textAreaTop" r="textAreaRight" b="textAreaBottom"/>
              <a:pathLst>
                <a:path w="1756" h="2540">
                  <a:moveTo>
                    <a:pt x="38" y="0"/>
                  </a:moveTo>
                  <a:lnTo>
                    <a:pt x="38" y="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28" y="82"/>
                  </a:lnTo>
                  <a:lnTo>
                    <a:pt x="14" y="144"/>
                  </a:lnTo>
                  <a:lnTo>
                    <a:pt x="8" y="178"/>
                  </a:lnTo>
                  <a:lnTo>
                    <a:pt x="4" y="214"/>
                  </a:lnTo>
                  <a:lnTo>
                    <a:pt x="0" y="252"/>
                  </a:lnTo>
                  <a:lnTo>
                    <a:pt x="0" y="298"/>
                  </a:lnTo>
                  <a:lnTo>
                    <a:pt x="2" y="348"/>
                  </a:lnTo>
                  <a:lnTo>
                    <a:pt x="8" y="404"/>
                  </a:lnTo>
                  <a:lnTo>
                    <a:pt x="16" y="466"/>
                  </a:lnTo>
                  <a:lnTo>
                    <a:pt x="28" y="538"/>
                  </a:lnTo>
                  <a:lnTo>
                    <a:pt x="44" y="620"/>
                  </a:lnTo>
                  <a:lnTo>
                    <a:pt x="66" y="710"/>
                  </a:lnTo>
                  <a:lnTo>
                    <a:pt x="92" y="812"/>
                  </a:lnTo>
                  <a:lnTo>
                    <a:pt x="124" y="926"/>
                  </a:lnTo>
                  <a:lnTo>
                    <a:pt x="124" y="926"/>
                  </a:lnTo>
                  <a:lnTo>
                    <a:pt x="140" y="972"/>
                  </a:lnTo>
                  <a:lnTo>
                    <a:pt x="160" y="1022"/>
                  </a:lnTo>
                  <a:lnTo>
                    <a:pt x="186" y="1072"/>
                  </a:lnTo>
                  <a:lnTo>
                    <a:pt x="216" y="1124"/>
                  </a:lnTo>
                  <a:lnTo>
                    <a:pt x="250" y="1176"/>
                  </a:lnTo>
                  <a:lnTo>
                    <a:pt x="288" y="1230"/>
                  </a:lnTo>
                  <a:lnTo>
                    <a:pt x="328" y="1284"/>
                  </a:lnTo>
                  <a:lnTo>
                    <a:pt x="374" y="1340"/>
                  </a:lnTo>
                  <a:lnTo>
                    <a:pt x="422" y="1396"/>
                  </a:lnTo>
                  <a:lnTo>
                    <a:pt x="472" y="1452"/>
                  </a:lnTo>
                  <a:lnTo>
                    <a:pt x="526" y="1508"/>
                  </a:lnTo>
                  <a:lnTo>
                    <a:pt x="582" y="1566"/>
                  </a:lnTo>
                  <a:lnTo>
                    <a:pt x="638" y="1624"/>
                  </a:lnTo>
                  <a:lnTo>
                    <a:pt x="698" y="1680"/>
                  </a:lnTo>
                  <a:lnTo>
                    <a:pt x="820" y="1794"/>
                  </a:lnTo>
                  <a:lnTo>
                    <a:pt x="946" y="1906"/>
                  </a:lnTo>
                  <a:lnTo>
                    <a:pt x="1074" y="2014"/>
                  </a:lnTo>
                  <a:lnTo>
                    <a:pt x="1202" y="2118"/>
                  </a:lnTo>
                  <a:lnTo>
                    <a:pt x="1326" y="2218"/>
                  </a:lnTo>
                  <a:lnTo>
                    <a:pt x="1446" y="2310"/>
                  </a:lnTo>
                  <a:lnTo>
                    <a:pt x="1560" y="2396"/>
                  </a:lnTo>
                  <a:lnTo>
                    <a:pt x="1756" y="2540"/>
                  </a:lnTo>
                  <a:lnTo>
                    <a:pt x="1730" y="2236"/>
                  </a:lnTo>
                  <a:lnTo>
                    <a:pt x="1730" y="2236"/>
                  </a:lnTo>
                  <a:lnTo>
                    <a:pt x="1672" y="2182"/>
                  </a:lnTo>
                  <a:lnTo>
                    <a:pt x="1604" y="2118"/>
                  </a:lnTo>
                  <a:lnTo>
                    <a:pt x="1516" y="2032"/>
                  </a:lnTo>
                  <a:lnTo>
                    <a:pt x="1410" y="1926"/>
                  </a:lnTo>
                  <a:lnTo>
                    <a:pt x="1288" y="1802"/>
                  </a:lnTo>
                  <a:lnTo>
                    <a:pt x="1156" y="1662"/>
                  </a:lnTo>
                  <a:lnTo>
                    <a:pt x="1018" y="1508"/>
                  </a:lnTo>
                  <a:lnTo>
                    <a:pt x="946" y="1426"/>
                  </a:lnTo>
                  <a:lnTo>
                    <a:pt x="874" y="1342"/>
                  </a:lnTo>
                  <a:lnTo>
                    <a:pt x="802" y="1254"/>
                  </a:lnTo>
                  <a:lnTo>
                    <a:pt x="732" y="1166"/>
                  </a:lnTo>
                  <a:lnTo>
                    <a:pt x="660" y="1076"/>
                  </a:lnTo>
                  <a:lnTo>
                    <a:pt x="590" y="984"/>
                  </a:lnTo>
                  <a:lnTo>
                    <a:pt x="522" y="890"/>
                  </a:lnTo>
                  <a:lnTo>
                    <a:pt x="456" y="794"/>
                  </a:lnTo>
                  <a:lnTo>
                    <a:pt x="392" y="698"/>
                  </a:lnTo>
                  <a:lnTo>
                    <a:pt x="330" y="602"/>
                  </a:lnTo>
                  <a:lnTo>
                    <a:pt x="272" y="506"/>
                  </a:lnTo>
                  <a:lnTo>
                    <a:pt x="218" y="410"/>
                  </a:lnTo>
                  <a:lnTo>
                    <a:pt x="168" y="312"/>
                  </a:lnTo>
                  <a:lnTo>
                    <a:pt x="124" y="216"/>
                  </a:lnTo>
                  <a:lnTo>
                    <a:pt x="82" y="120"/>
                  </a:lnTo>
                  <a:lnTo>
                    <a:pt x="64" y="74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a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90"/>
            <p:cNvSpPr/>
            <p:nvPr/>
          </p:nvSpPr>
          <p:spPr>
            <a:xfrm>
              <a:off x="3305160" y="6353280"/>
              <a:ext cx="2352600" cy="1619280"/>
            </a:xfrm>
            <a:custGeom>
              <a:avLst/>
              <a:gdLst>
                <a:gd name="textAreaLeft" fmla="*/ 0 w 2352600"/>
                <a:gd name="textAreaRight" fmla="*/ 2352960 w 2352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482" h="1020">
                  <a:moveTo>
                    <a:pt x="1482" y="572"/>
                  </a:moveTo>
                  <a:lnTo>
                    <a:pt x="1482" y="572"/>
                  </a:lnTo>
                  <a:lnTo>
                    <a:pt x="1470" y="524"/>
                  </a:lnTo>
                  <a:lnTo>
                    <a:pt x="1454" y="470"/>
                  </a:lnTo>
                  <a:lnTo>
                    <a:pt x="1434" y="418"/>
                  </a:lnTo>
                  <a:lnTo>
                    <a:pt x="1410" y="362"/>
                  </a:lnTo>
                  <a:lnTo>
                    <a:pt x="1396" y="336"/>
                  </a:lnTo>
                  <a:lnTo>
                    <a:pt x="1380" y="308"/>
                  </a:lnTo>
                  <a:lnTo>
                    <a:pt x="1364" y="282"/>
                  </a:lnTo>
                  <a:lnTo>
                    <a:pt x="1346" y="256"/>
                  </a:lnTo>
                  <a:lnTo>
                    <a:pt x="1326" y="230"/>
                  </a:lnTo>
                  <a:lnTo>
                    <a:pt x="1304" y="206"/>
                  </a:lnTo>
                  <a:lnTo>
                    <a:pt x="1282" y="182"/>
                  </a:lnTo>
                  <a:lnTo>
                    <a:pt x="1258" y="158"/>
                  </a:lnTo>
                  <a:lnTo>
                    <a:pt x="1232" y="136"/>
                  </a:lnTo>
                  <a:lnTo>
                    <a:pt x="1204" y="116"/>
                  </a:lnTo>
                  <a:lnTo>
                    <a:pt x="1176" y="96"/>
                  </a:lnTo>
                  <a:lnTo>
                    <a:pt x="1144" y="78"/>
                  </a:lnTo>
                  <a:lnTo>
                    <a:pt x="1112" y="62"/>
                  </a:lnTo>
                  <a:lnTo>
                    <a:pt x="1078" y="46"/>
                  </a:lnTo>
                  <a:lnTo>
                    <a:pt x="1040" y="34"/>
                  </a:lnTo>
                  <a:lnTo>
                    <a:pt x="1002" y="22"/>
                  </a:lnTo>
                  <a:lnTo>
                    <a:pt x="962" y="14"/>
                  </a:lnTo>
                  <a:lnTo>
                    <a:pt x="918" y="6"/>
                  </a:lnTo>
                  <a:lnTo>
                    <a:pt x="874" y="2"/>
                  </a:lnTo>
                  <a:lnTo>
                    <a:pt x="826" y="0"/>
                  </a:lnTo>
                  <a:lnTo>
                    <a:pt x="778" y="0"/>
                  </a:lnTo>
                  <a:lnTo>
                    <a:pt x="726" y="4"/>
                  </a:lnTo>
                  <a:lnTo>
                    <a:pt x="672" y="8"/>
                  </a:lnTo>
                  <a:lnTo>
                    <a:pt x="616" y="18"/>
                  </a:lnTo>
                  <a:lnTo>
                    <a:pt x="616" y="18"/>
                  </a:lnTo>
                  <a:lnTo>
                    <a:pt x="556" y="30"/>
                  </a:lnTo>
                  <a:lnTo>
                    <a:pt x="500" y="44"/>
                  </a:lnTo>
                  <a:lnTo>
                    <a:pt x="448" y="58"/>
                  </a:lnTo>
                  <a:lnTo>
                    <a:pt x="400" y="76"/>
                  </a:lnTo>
                  <a:lnTo>
                    <a:pt x="354" y="94"/>
                  </a:lnTo>
                  <a:lnTo>
                    <a:pt x="312" y="114"/>
                  </a:lnTo>
                  <a:lnTo>
                    <a:pt x="274" y="136"/>
                  </a:lnTo>
                  <a:lnTo>
                    <a:pt x="238" y="160"/>
                  </a:lnTo>
                  <a:lnTo>
                    <a:pt x="206" y="184"/>
                  </a:lnTo>
                  <a:lnTo>
                    <a:pt x="176" y="208"/>
                  </a:lnTo>
                  <a:lnTo>
                    <a:pt x="150" y="234"/>
                  </a:lnTo>
                  <a:lnTo>
                    <a:pt x="126" y="262"/>
                  </a:lnTo>
                  <a:lnTo>
                    <a:pt x="104" y="288"/>
                  </a:lnTo>
                  <a:lnTo>
                    <a:pt x="84" y="318"/>
                  </a:lnTo>
                  <a:lnTo>
                    <a:pt x="68" y="346"/>
                  </a:lnTo>
                  <a:lnTo>
                    <a:pt x="52" y="376"/>
                  </a:lnTo>
                  <a:lnTo>
                    <a:pt x="40" y="404"/>
                  </a:lnTo>
                  <a:lnTo>
                    <a:pt x="28" y="434"/>
                  </a:lnTo>
                  <a:lnTo>
                    <a:pt x="20" y="464"/>
                  </a:lnTo>
                  <a:lnTo>
                    <a:pt x="12" y="494"/>
                  </a:lnTo>
                  <a:lnTo>
                    <a:pt x="8" y="524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0" y="670"/>
                  </a:lnTo>
                  <a:lnTo>
                    <a:pt x="4" y="724"/>
                  </a:lnTo>
                  <a:lnTo>
                    <a:pt x="12" y="774"/>
                  </a:lnTo>
                  <a:lnTo>
                    <a:pt x="20" y="822"/>
                  </a:lnTo>
                  <a:lnTo>
                    <a:pt x="20" y="822"/>
                  </a:lnTo>
                  <a:lnTo>
                    <a:pt x="136" y="904"/>
                  </a:lnTo>
                  <a:lnTo>
                    <a:pt x="224" y="968"/>
                  </a:lnTo>
                  <a:lnTo>
                    <a:pt x="302" y="1020"/>
                  </a:lnTo>
                  <a:lnTo>
                    <a:pt x="1244" y="814"/>
                  </a:lnTo>
                  <a:lnTo>
                    <a:pt x="1244" y="814"/>
                  </a:lnTo>
                  <a:lnTo>
                    <a:pt x="1310" y="748"/>
                  </a:lnTo>
                  <a:lnTo>
                    <a:pt x="1386" y="672"/>
                  </a:lnTo>
                  <a:lnTo>
                    <a:pt x="1482" y="572"/>
                  </a:lnTo>
                  <a:lnTo>
                    <a:pt x="1482" y="572"/>
                  </a:lnTo>
                  <a:close/>
                </a:path>
              </a:pathLst>
            </a:custGeom>
            <a:solidFill>
              <a:srgbClr val="868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91"/>
            <p:cNvSpPr/>
            <p:nvPr/>
          </p:nvSpPr>
          <p:spPr>
            <a:xfrm>
              <a:off x="3644640" y="7086600"/>
              <a:ext cx="1641240" cy="1054080"/>
            </a:xfrm>
            <a:custGeom>
              <a:avLst/>
              <a:gdLst>
                <a:gd name="textAreaLeft" fmla="*/ 0 w 1641240"/>
                <a:gd name="textAreaRight" fmla="*/ 1641600 w 164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1034" h="664">
                  <a:moveTo>
                    <a:pt x="1030" y="242"/>
                  </a:moveTo>
                  <a:lnTo>
                    <a:pt x="1030" y="242"/>
                  </a:lnTo>
                  <a:lnTo>
                    <a:pt x="1032" y="258"/>
                  </a:lnTo>
                  <a:lnTo>
                    <a:pt x="1034" y="274"/>
                  </a:lnTo>
                  <a:lnTo>
                    <a:pt x="1034" y="290"/>
                  </a:lnTo>
                  <a:lnTo>
                    <a:pt x="1032" y="308"/>
                  </a:lnTo>
                  <a:lnTo>
                    <a:pt x="1028" y="324"/>
                  </a:lnTo>
                  <a:lnTo>
                    <a:pt x="1024" y="340"/>
                  </a:lnTo>
                  <a:lnTo>
                    <a:pt x="1012" y="372"/>
                  </a:lnTo>
                  <a:lnTo>
                    <a:pt x="996" y="404"/>
                  </a:lnTo>
                  <a:lnTo>
                    <a:pt x="974" y="436"/>
                  </a:lnTo>
                  <a:lnTo>
                    <a:pt x="950" y="466"/>
                  </a:lnTo>
                  <a:lnTo>
                    <a:pt x="920" y="494"/>
                  </a:lnTo>
                  <a:lnTo>
                    <a:pt x="888" y="522"/>
                  </a:lnTo>
                  <a:lnTo>
                    <a:pt x="852" y="546"/>
                  </a:lnTo>
                  <a:lnTo>
                    <a:pt x="812" y="570"/>
                  </a:lnTo>
                  <a:lnTo>
                    <a:pt x="770" y="592"/>
                  </a:lnTo>
                  <a:lnTo>
                    <a:pt x="724" y="610"/>
                  </a:lnTo>
                  <a:lnTo>
                    <a:pt x="676" y="628"/>
                  </a:lnTo>
                  <a:lnTo>
                    <a:pt x="626" y="642"/>
                  </a:lnTo>
                  <a:lnTo>
                    <a:pt x="574" y="652"/>
                  </a:lnTo>
                  <a:lnTo>
                    <a:pt x="574" y="652"/>
                  </a:lnTo>
                  <a:lnTo>
                    <a:pt x="520" y="660"/>
                  </a:lnTo>
                  <a:lnTo>
                    <a:pt x="468" y="664"/>
                  </a:lnTo>
                  <a:lnTo>
                    <a:pt x="418" y="664"/>
                  </a:lnTo>
                  <a:lnTo>
                    <a:pt x="370" y="662"/>
                  </a:lnTo>
                  <a:lnTo>
                    <a:pt x="322" y="656"/>
                  </a:lnTo>
                  <a:lnTo>
                    <a:pt x="276" y="648"/>
                  </a:lnTo>
                  <a:lnTo>
                    <a:pt x="234" y="638"/>
                  </a:lnTo>
                  <a:lnTo>
                    <a:pt x="194" y="622"/>
                  </a:lnTo>
                  <a:lnTo>
                    <a:pt x="156" y="606"/>
                  </a:lnTo>
                  <a:lnTo>
                    <a:pt x="122" y="586"/>
                  </a:lnTo>
                  <a:lnTo>
                    <a:pt x="92" y="564"/>
                  </a:lnTo>
                  <a:lnTo>
                    <a:pt x="66" y="540"/>
                  </a:lnTo>
                  <a:lnTo>
                    <a:pt x="44" y="514"/>
                  </a:lnTo>
                  <a:lnTo>
                    <a:pt x="34" y="500"/>
                  </a:lnTo>
                  <a:lnTo>
                    <a:pt x="24" y="486"/>
                  </a:lnTo>
                  <a:lnTo>
                    <a:pt x="18" y="470"/>
                  </a:lnTo>
                  <a:lnTo>
                    <a:pt x="12" y="456"/>
                  </a:lnTo>
                  <a:lnTo>
                    <a:pt x="6" y="440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06"/>
                  </a:lnTo>
                  <a:lnTo>
                    <a:pt x="0" y="390"/>
                  </a:lnTo>
                  <a:lnTo>
                    <a:pt x="0" y="374"/>
                  </a:lnTo>
                  <a:lnTo>
                    <a:pt x="2" y="358"/>
                  </a:lnTo>
                  <a:lnTo>
                    <a:pt x="6" y="340"/>
                  </a:lnTo>
                  <a:lnTo>
                    <a:pt x="10" y="324"/>
                  </a:lnTo>
                  <a:lnTo>
                    <a:pt x="22" y="292"/>
                  </a:lnTo>
                  <a:lnTo>
                    <a:pt x="38" y="260"/>
                  </a:lnTo>
                  <a:lnTo>
                    <a:pt x="60" y="228"/>
                  </a:lnTo>
                  <a:lnTo>
                    <a:pt x="84" y="200"/>
                  </a:lnTo>
                  <a:lnTo>
                    <a:pt x="114" y="170"/>
                  </a:lnTo>
                  <a:lnTo>
                    <a:pt x="146" y="144"/>
                  </a:lnTo>
                  <a:lnTo>
                    <a:pt x="182" y="118"/>
                  </a:lnTo>
                  <a:lnTo>
                    <a:pt x="222" y="94"/>
                  </a:lnTo>
                  <a:lnTo>
                    <a:pt x="264" y="72"/>
                  </a:lnTo>
                  <a:lnTo>
                    <a:pt x="310" y="54"/>
                  </a:lnTo>
                  <a:lnTo>
                    <a:pt x="358" y="38"/>
                  </a:lnTo>
                  <a:lnTo>
                    <a:pt x="408" y="24"/>
                  </a:lnTo>
                  <a:lnTo>
                    <a:pt x="460" y="12"/>
                  </a:lnTo>
                  <a:lnTo>
                    <a:pt x="460" y="12"/>
                  </a:lnTo>
                  <a:lnTo>
                    <a:pt x="512" y="4"/>
                  </a:lnTo>
                  <a:lnTo>
                    <a:pt x="564" y="0"/>
                  </a:lnTo>
                  <a:lnTo>
                    <a:pt x="616" y="0"/>
                  </a:lnTo>
                  <a:lnTo>
                    <a:pt x="664" y="2"/>
                  </a:lnTo>
                  <a:lnTo>
                    <a:pt x="712" y="8"/>
                  </a:lnTo>
                  <a:lnTo>
                    <a:pt x="758" y="16"/>
                  </a:lnTo>
                  <a:lnTo>
                    <a:pt x="800" y="28"/>
                  </a:lnTo>
                  <a:lnTo>
                    <a:pt x="840" y="42"/>
                  </a:lnTo>
                  <a:lnTo>
                    <a:pt x="878" y="58"/>
                  </a:lnTo>
                  <a:lnTo>
                    <a:pt x="912" y="78"/>
                  </a:lnTo>
                  <a:lnTo>
                    <a:pt x="942" y="100"/>
                  </a:lnTo>
                  <a:lnTo>
                    <a:pt x="968" y="124"/>
                  </a:lnTo>
                  <a:lnTo>
                    <a:pt x="990" y="150"/>
                  </a:lnTo>
                  <a:lnTo>
                    <a:pt x="1000" y="164"/>
                  </a:lnTo>
                  <a:lnTo>
                    <a:pt x="1008" y="178"/>
                  </a:lnTo>
                  <a:lnTo>
                    <a:pt x="1016" y="194"/>
                  </a:lnTo>
                  <a:lnTo>
                    <a:pt x="1022" y="208"/>
                  </a:lnTo>
                  <a:lnTo>
                    <a:pt x="1028" y="224"/>
                  </a:lnTo>
                  <a:lnTo>
                    <a:pt x="1030" y="242"/>
                  </a:lnTo>
                  <a:lnTo>
                    <a:pt x="1030" y="242"/>
                  </a:lnTo>
                  <a:close/>
                </a:path>
              </a:pathLst>
            </a:custGeom>
            <a:solidFill>
              <a:srgbClr val="54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92"/>
            <p:cNvSpPr/>
            <p:nvPr/>
          </p:nvSpPr>
          <p:spPr>
            <a:xfrm>
              <a:off x="3895560" y="7518600"/>
              <a:ext cx="1158840" cy="936360"/>
            </a:xfrm>
            <a:custGeom>
              <a:avLst/>
              <a:gdLst>
                <a:gd name="textAreaLeft" fmla="*/ 0 w 1158840"/>
                <a:gd name="textAreaRight" fmla="*/ 1159200 w 115884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730" h="590">
                  <a:moveTo>
                    <a:pt x="0" y="114"/>
                  </a:moveTo>
                  <a:lnTo>
                    <a:pt x="292" y="590"/>
                  </a:lnTo>
                  <a:lnTo>
                    <a:pt x="586" y="568"/>
                  </a:lnTo>
                  <a:lnTo>
                    <a:pt x="730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93"/>
            <p:cNvSpPr/>
            <p:nvPr/>
          </p:nvSpPr>
          <p:spPr>
            <a:xfrm>
              <a:off x="4324320" y="8178840"/>
              <a:ext cx="679320" cy="796680"/>
            </a:xfrm>
            <a:custGeom>
              <a:avLst/>
              <a:gdLst>
                <a:gd name="textAreaLeft" fmla="*/ 0 w 679320"/>
                <a:gd name="textAreaRight" fmla="*/ 679320 w 67932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428" h="502">
                  <a:moveTo>
                    <a:pt x="0" y="52"/>
                  </a:moveTo>
                  <a:lnTo>
                    <a:pt x="20" y="502"/>
                  </a:lnTo>
                  <a:lnTo>
                    <a:pt x="64" y="500"/>
                  </a:lnTo>
                  <a:lnTo>
                    <a:pt x="64" y="500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248" y="50"/>
                  </a:lnTo>
                  <a:lnTo>
                    <a:pt x="248" y="50"/>
                  </a:lnTo>
                  <a:lnTo>
                    <a:pt x="386" y="426"/>
                  </a:lnTo>
                  <a:lnTo>
                    <a:pt x="428" y="410"/>
                  </a:lnTo>
                  <a:lnTo>
                    <a:pt x="278" y="0"/>
                  </a:lnTo>
                  <a:lnTo>
                    <a:pt x="0" y="3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94"/>
            <p:cNvSpPr/>
            <p:nvPr/>
          </p:nvSpPr>
          <p:spPr>
            <a:xfrm>
              <a:off x="4282920" y="8712360"/>
              <a:ext cx="796680" cy="86040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502" h="542">
                  <a:moveTo>
                    <a:pt x="0" y="130"/>
                  </a:moveTo>
                  <a:lnTo>
                    <a:pt x="58" y="502"/>
                  </a:lnTo>
                  <a:lnTo>
                    <a:pt x="172" y="542"/>
                  </a:lnTo>
                  <a:lnTo>
                    <a:pt x="374" y="514"/>
                  </a:lnTo>
                  <a:lnTo>
                    <a:pt x="502" y="416"/>
                  </a:lnTo>
                  <a:lnTo>
                    <a:pt x="482" y="90"/>
                  </a:lnTo>
                  <a:lnTo>
                    <a:pt x="344" y="0"/>
                  </a:lnTo>
                  <a:lnTo>
                    <a:pt x="108" y="5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87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95"/>
            <p:cNvSpPr/>
            <p:nvPr/>
          </p:nvSpPr>
          <p:spPr>
            <a:xfrm>
              <a:off x="4359240" y="9166320"/>
              <a:ext cx="720720" cy="40608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454" h="256">
                  <a:moveTo>
                    <a:pt x="454" y="130"/>
                  </a:moveTo>
                  <a:lnTo>
                    <a:pt x="450" y="64"/>
                  </a:lnTo>
                  <a:lnTo>
                    <a:pt x="370" y="0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72" y="72"/>
                  </a:lnTo>
                  <a:lnTo>
                    <a:pt x="38" y="112"/>
                  </a:lnTo>
                  <a:lnTo>
                    <a:pt x="0" y="152"/>
                  </a:lnTo>
                  <a:lnTo>
                    <a:pt x="10" y="216"/>
                  </a:lnTo>
                  <a:lnTo>
                    <a:pt x="124" y="256"/>
                  </a:lnTo>
                  <a:lnTo>
                    <a:pt x="326" y="228"/>
                  </a:lnTo>
                  <a:lnTo>
                    <a:pt x="454" y="130"/>
                  </a:lnTo>
                  <a:close/>
                </a:path>
              </a:pathLst>
            </a:custGeom>
            <a:solidFill>
              <a:srgbClr val="a46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96"/>
            <p:cNvSpPr/>
            <p:nvPr/>
          </p:nvSpPr>
          <p:spPr>
            <a:xfrm>
              <a:off x="2492280" y="1025280"/>
              <a:ext cx="895320" cy="342252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3422520"/>
                <a:gd name="textAreaBottom" fmla="*/ 3422880 h 3422520"/>
              </a:gdLst>
              <a:ahLst/>
              <a:rect l="textAreaLeft" t="textAreaTop" r="textAreaRight" b="textAreaBottom"/>
              <a:pathLst>
                <a:path w="564" h="2156">
                  <a:moveTo>
                    <a:pt x="368" y="408"/>
                  </a:moveTo>
                  <a:lnTo>
                    <a:pt x="368" y="408"/>
                  </a:lnTo>
                  <a:lnTo>
                    <a:pt x="366" y="356"/>
                  </a:lnTo>
                  <a:lnTo>
                    <a:pt x="362" y="304"/>
                  </a:lnTo>
                  <a:lnTo>
                    <a:pt x="358" y="254"/>
                  </a:lnTo>
                  <a:lnTo>
                    <a:pt x="352" y="204"/>
                  </a:lnTo>
                  <a:lnTo>
                    <a:pt x="344" y="158"/>
                  </a:lnTo>
                  <a:lnTo>
                    <a:pt x="334" y="116"/>
                  </a:lnTo>
                  <a:lnTo>
                    <a:pt x="322" y="80"/>
                  </a:lnTo>
                  <a:lnTo>
                    <a:pt x="310" y="48"/>
                  </a:lnTo>
                  <a:lnTo>
                    <a:pt x="302" y="34"/>
                  </a:lnTo>
                  <a:lnTo>
                    <a:pt x="292" y="24"/>
                  </a:lnTo>
                  <a:lnTo>
                    <a:pt x="284" y="14"/>
                  </a:lnTo>
                  <a:lnTo>
                    <a:pt x="274" y="6"/>
                  </a:lnTo>
                  <a:lnTo>
                    <a:pt x="264" y="2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28" y="2"/>
                  </a:lnTo>
                  <a:lnTo>
                    <a:pt x="216" y="6"/>
                  </a:lnTo>
                  <a:lnTo>
                    <a:pt x="202" y="14"/>
                  </a:lnTo>
                  <a:lnTo>
                    <a:pt x="186" y="26"/>
                  </a:lnTo>
                  <a:lnTo>
                    <a:pt x="172" y="40"/>
                  </a:lnTo>
                  <a:lnTo>
                    <a:pt x="156" y="58"/>
                  </a:lnTo>
                  <a:lnTo>
                    <a:pt x="138" y="78"/>
                  </a:lnTo>
                  <a:lnTo>
                    <a:pt x="120" y="102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84" y="158"/>
                  </a:lnTo>
                  <a:lnTo>
                    <a:pt x="68" y="188"/>
                  </a:lnTo>
                  <a:lnTo>
                    <a:pt x="54" y="218"/>
                  </a:lnTo>
                  <a:lnTo>
                    <a:pt x="42" y="248"/>
                  </a:lnTo>
                  <a:lnTo>
                    <a:pt x="32" y="278"/>
                  </a:lnTo>
                  <a:lnTo>
                    <a:pt x="22" y="310"/>
                  </a:lnTo>
                  <a:lnTo>
                    <a:pt x="14" y="340"/>
                  </a:lnTo>
                  <a:lnTo>
                    <a:pt x="8" y="372"/>
                  </a:lnTo>
                  <a:lnTo>
                    <a:pt x="4" y="404"/>
                  </a:lnTo>
                  <a:lnTo>
                    <a:pt x="2" y="436"/>
                  </a:lnTo>
                  <a:lnTo>
                    <a:pt x="0" y="468"/>
                  </a:lnTo>
                  <a:lnTo>
                    <a:pt x="0" y="502"/>
                  </a:lnTo>
                  <a:lnTo>
                    <a:pt x="2" y="568"/>
                  </a:lnTo>
                  <a:lnTo>
                    <a:pt x="8" y="634"/>
                  </a:lnTo>
                  <a:lnTo>
                    <a:pt x="18" y="700"/>
                  </a:lnTo>
                  <a:lnTo>
                    <a:pt x="32" y="764"/>
                  </a:lnTo>
                  <a:lnTo>
                    <a:pt x="46" y="830"/>
                  </a:lnTo>
                  <a:lnTo>
                    <a:pt x="64" y="894"/>
                  </a:lnTo>
                  <a:lnTo>
                    <a:pt x="84" y="958"/>
                  </a:lnTo>
                  <a:lnTo>
                    <a:pt x="106" y="1020"/>
                  </a:lnTo>
                  <a:lnTo>
                    <a:pt x="148" y="1140"/>
                  </a:lnTo>
                  <a:lnTo>
                    <a:pt x="148" y="1140"/>
                  </a:lnTo>
                  <a:lnTo>
                    <a:pt x="190" y="1260"/>
                  </a:lnTo>
                  <a:lnTo>
                    <a:pt x="234" y="1390"/>
                  </a:lnTo>
                  <a:lnTo>
                    <a:pt x="280" y="1526"/>
                  </a:lnTo>
                  <a:lnTo>
                    <a:pt x="328" y="1664"/>
                  </a:lnTo>
                  <a:lnTo>
                    <a:pt x="352" y="1732"/>
                  </a:lnTo>
                  <a:lnTo>
                    <a:pt x="380" y="1800"/>
                  </a:lnTo>
                  <a:lnTo>
                    <a:pt x="406" y="1866"/>
                  </a:lnTo>
                  <a:lnTo>
                    <a:pt x="436" y="1930"/>
                  </a:lnTo>
                  <a:lnTo>
                    <a:pt x="466" y="1992"/>
                  </a:lnTo>
                  <a:lnTo>
                    <a:pt x="496" y="2050"/>
                  </a:lnTo>
                  <a:lnTo>
                    <a:pt x="530" y="2106"/>
                  </a:lnTo>
                  <a:lnTo>
                    <a:pt x="564" y="2156"/>
                  </a:lnTo>
                  <a:lnTo>
                    <a:pt x="564" y="2156"/>
                  </a:lnTo>
                  <a:lnTo>
                    <a:pt x="552" y="2064"/>
                  </a:lnTo>
                  <a:lnTo>
                    <a:pt x="538" y="1972"/>
                  </a:lnTo>
                  <a:lnTo>
                    <a:pt x="522" y="1880"/>
                  </a:lnTo>
                  <a:lnTo>
                    <a:pt x="504" y="1788"/>
                  </a:lnTo>
                  <a:lnTo>
                    <a:pt x="464" y="1606"/>
                  </a:lnTo>
                  <a:lnTo>
                    <a:pt x="426" y="1424"/>
                  </a:lnTo>
                  <a:lnTo>
                    <a:pt x="408" y="1334"/>
                  </a:lnTo>
                  <a:lnTo>
                    <a:pt x="392" y="1242"/>
                  </a:lnTo>
                  <a:lnTo>
                    <a:pt x="378" y="1152"/>
                  </a:lnTo>
                  <a:lnTo>
                    <a:pt x="366" y="1060"/>
                  </a:lnTo>
                  <a:lnTo>
                    <a:pt x="358" y="968"/>
                  </a:lnTo>
                  <a:lnTo>
                    <a:pt x="356" y="876"/>
                  </a:lnTo>
                  <a:lnTo>
                    <a:pt x="356" y="828"/>
                  </a:lnTo>
                  <a:lnTo>
                    <a:pt x="356" y="782"/>
                  </a:lnTo>
                  <a:lnTo>
                    <a:pt x="358" y="734"/>
                  </a:lnTo>
                  <a:lnTo>
                    <a:pt x="362" y="688"/>
                  </a:lnTo>
                  <a:lnTo>
                    <a:pt x="362" y="688"/>
                  </a:lnTo>
                  <a:lnTo>
                    <a:pt x="366" y="642"/>
                  </a:lnTo>
                  <a:lnTo>
                    <a:pt x="368" y="576"/>
                  </a:lnTo>
                  <a:lnTo>
                    <a:pt x="370" y="496"/>
                  </a:lnTo>
                  <a:lnTo>
                    <a:pt x="368" y="408"/>
                  </a:lnTo>
                  <a:lnTo>
                    <a:pt x="368" y="408"/>
                  </a:lnTo>
                  <a:close/>
                </a:path>
              </a:pathLst>
            </a:custGeom>
            <a:solidFill>
              <a:srgbClr val="f9d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97"/>
            <p:cNvSpPr/>
            <p:nvPr/>
          </p:nvSpPr>
          <p:spPr>
            <a:xfrm>
              <a:off x="1342800" y="1809720"/>
              <a:ext cx="1920600" cy="4476960"/>
            </a:xfrm>
            <a:custGeom>
              <a:avLst/>
              <a:gdLst>
                <a:gd name="textAreaLeft" fmla="*/ 0 w 1920600"/>
                <a:gd name="textAreaRight" fmla="*/ 1920960 w 1920600"/>
                <a:gd name="textAreaTop" fmla="*/ 0 h 4476960"/>
                <a:gd name="textAreaBottom" fmla="*/ 4476960 h 4476960"/>
              </a:gdLst>
              <a:ahLst/>
              <a:rect l="textAreaLeft" t="textAreaTop" r="textAreaRight" b="textAreaBottom"/>
              <a:pathLst>
                <a:path w="1210" h="2820">
                  <a:moveTo>
                    <a:pt x="140" y="0"/>
                  </a:moveTo>
                  <a:lnTo>
                    <a:pt x="140" y="0"/>
                  </a:lnTo>
                  <a:lnTo>
                    <a:pt x="122" y="20"/>
                  </a:lnTo>
                  <a:lnTo>
                    <a:pt x="106" y="40"/>
                  </a:lnTo>
                  <a:lnTo>
                    <a:pt x="92" y="60"/>
                  </a:lnTo>
                  <a:lnTo>
                    <a:pt x="78" y="82"/>
                  </a:lnTo>
                  <a:lnTo>
                    <a:pt x="66" y="104"/>
                  </a:lnTo>
                  <a:lnTo>
                    <a:pt x="54" y="126"/>
                  </a:lnTo>
                  <a:lnTo>
                    <a:pt x="44" y="150"/>
                  </a:lnTo>
                  <a:lnTo>
                    <a:pt x="34" y="174"/>
                  </a:lnTo>
                  <a:lnTo>
                    <a:pt x="20" y="224"/>
                  </a:lnTo>
                  <a:lnTo>
                    <a:pt x="10" y="274"/>
                  </a:lnTo>
                  <a:lnTo>
                    <a:pt x="2" y="326"/>
                  </a:lnTo>
                  <a:lnTo>
                    <a:pt x="0" y="382"/>
                  </a:lnTo>
                  <a:lnTo>
                    <a:pt x="2" y="438"/>
                  </a:lnTo>
                  <a:lnTo>
                    <a:pt x="6" y="494"/>
                  </a:lnTo>
                  <a:lnTo>
                    <a:pt x="12" y="552"/>
                  </a:lnTo>
                  <a:lnTo>
                    <a:pt x="24" y="610"/>
                  </a:lnTo>
                  <a:lnTo>
                    <a:pt x="36" y="670"/>
                  </a:lnTo>
                  <a:lnTo>
                    <a:pt x="52" y="730"/>
                  </a:lnTo>
                  <a:lnTo>
                    <a:pt x="68" y="790"/>
                  </a:lnTo>
                  <a:lnTo>
                    <a:pt x="88" y="850"/>
                  </a:lnTo>
                  <a:lnTo>
                    <a:pt x="110" y="910"/>
                  </a:lnTo>
                  <a:lnTo>
                    <a:pt x="132" y="970"/>
                  </a:lnTo>
                  <a:lnTo>
                    <a:pt x="156" y="1028"/>
                  </a:lnTo>
                  <a:lnTo>
                    <a:pt x="182" y="1088"/>
                  </a:lnTo>
                  <a:lnTo>
                    <a:pt x="236" y="1202"/>
                  </a:lnTo>
                  <a:lnTo>
                    <a:pt x="290" y="1312"/>
                  </a:lnTo>
                  <a:lnTo>
                    <a:pt x="344" y="1416"/>
                  </a:lnTo>
                  <a:lnTo>
                    <a:pt x="396" y="1512"/>
                  </a:lnTo>
                  <a:lnTo>
                    <a:pt x="488" y="1674"/>
                  </a:lnTo>
                  <a:lnTo>
                    <a:pt x="488" y="1674"/>
                  </a:lnTo>
                  <a:lnTo>
                    <a:pt x="564" y="1812"/>
                  </a:lnTo>
                  <a:lnTo>
                    <a:pt x="644" y="1964"/>
                  </a:lnTo>
                  <a:lnTo>
                    <a:pt x="726" y="2122"/>
                  </a:lnTo>
                  <a:lnTo>
                    <a:pt x="770" y="2200"/>
                  </a:lnTo>
                  <a:lnTo>
                    <a:pt x="814" y="2280"/>
                  </a:lnTo>
                  <a:lnTo>
                    <a:pt x="858" y="2358"/>
                  </a:lnTo>
                  <a:lnTo>
                    <a:pt x="904" y="2434"/>
                  </a:lnTo>
                  <a:lnTo>
                    <a:pt x="952" y="2510"/>
                  </a:lnTo>
                  <a:lnTo>
                    <a:pt x="1002" y="2580"/>
                  </a:lnTo>
                  <a:lnTo>
                    <a:pt x="1052" y="2648"/>
                  </a:lnTo>
                  <a:lnTo>
                    <a:pt x="1104" y="2710"/>
                  </a:lnTo>
                  <a:lnTo>
                    <a:pt x="1156" y="2768"/>
                  </a:lnTo>
                  <a:lnTo>
                    <a:pt x="1184" y="2796"/>
                  </a:lnTo>
                  <a:lnTo>
                    <a:pt x="1210" y="2820"/>
                  </a:lnTo>
                  <a:lnTo>
                    <a:pt x="1210" y="2820"/>
                  </a:lnTo>
                  <a:lnTo>
                    <a:pt x="1210" y="2790"/>
                  </a:lnTo>
                  <a:lnTo>
                    <a:pt x="1206" y="2758"/>
                  </a:lnTo>
                  <a:lnTo>
                    <a:pt x="1198" y="2726"/>
                  </a:lnTo>
                  <a:lnTo>
                    <a:pt x="1188" y="2694"/>
                  </a:lnTo>
                  <a:lnTo>
                    <a:pt x="1174" y="2660"/>
                  </a:lnTo>
                  <a:lnTo>
                    <a:pt x="1158" y="2626"/>
                  </a:lnTo>
                  <a:lnTo>
                    <a:pt x="1140" y="2592"/>
                  </a:lnTo>
                  <a:lnTo>
                    <a:pt x="1122" y="2558"/>
                  </a:lnTo>
                  <a:lnTo>
                    <a:pt x="1082" y="2490"/>
                  </a:lnTo>
                  <a:lnTo>
                    <a:pt x="1042" y="2424"/>
                  </a:lnTo>
                  <a:lnTo>
                    <a:pt x="1006" y="2360"/>
                  </a:lnTo>
                  <a:lnTo>
                    <a:pt x="990" y="2330"/>
                  </a:lnTo>
                  <a:lnTo>
                    <a:pt x="976" y="2300"/>
                  </a:lnTo>
                  <a:lnTo>
                    <a:pt x="976" y="2300"/>
                  </a:lnTo>
                  <a:lnTo>
                    <a:pt x="926" y="2178"/>
                  </a:lnTo>
                  <a:lnTo>
                    <a:pt x="878" y="2054"/>
                  </a:lnTo>
                  <a:lnTo>
                    <a:pt x="830" y="1930"/>
                  </a:lnTo>
                  <a:lnTo>
                    <a:pt x="784" y="1806"/>
                  </a:lnTo>
                  <a:lnTo>
                    <a:pt x="692" y="1556"/>
                  </a:lnTo>
                  <a:lnTo>
                    <a:pt x="646" y="1432"/>
                  </a:lnTo>
                  <a:lnTo>
                    <a:pt x="598" y="1308"/>
                  </a:lnTo>
                  <a:lnTo>
                    <a:pt x="598" y="1308"/>
                  </a:lnTo>
                  <a:lnTo>
                    <a:pt x="560" y="1218"/>
                  </a:lnTo>
                  <a:lnTo>
                    <a:pt x="520" y="1128"/>
                  </a:lnTo>
                  <a:lnTo>
                    <a:pt x="436" y="948"/>
                  </a:lnTo>
                  <a:lnTo>
                    <a:pt x="396" y="856"/>
                  </a:lnTo>
                  <a:lnTo>
                    <a:pt x="358" y="766"/>
                  </a:lnTo>
                  <a:lnTo>
                    <a:pt x="340" y="720"/>
                  </a:lnTo>
                  <a:lnTo>
                    <a:pt x="324" y="674"/>
                  </a:lnTo>
                  <a:lnTo>
                    <a:pt x="310" y="628"/>
                  </a:lnTo>
                  <a:lnTo>
                    <a:pt x="296" y="582"/>
                  </a:lnTo>
                  <a:lnTo>
                    <a:pt x="296" y="582"/>
                  </a:lnTo>
                  <a:lnTo>
                    <a:pt x="288" y="548"/>
                  </a:lnTo>
                  <a:lnTo>
                    <a:pt x="282" y="512"/>
                  </a:lnTo>
                  <a:lnTo>
                    <a:pt x="272" y="434"/>
                  </a:lnTo>
                  <a:lnTo>
                    <a:pt x="266" y="352"/>
                  </a:lnTo>
                  <a:lnTo>
                    <a:pt x="256" y="268"/>
                  </a:lnTo>
                  <a:lnTo>
                    <a:pt x="250" y="228"/>
                  </a:lnTo>
                  <a:lnTo>
                    <a:pt x="242" y="190"/>
                  </a:lnTo>
                  <a:lnTo>
                    <a:pt x="234" y="152"/>
                  </a:lnTo>
                  <a:lnTo>
                    <a:pt x="222" y="116"/>
                  </a:lnTo>
                  <a:lnTo>
                    <a:pt x="206" y="82"/>
                  </a:lnTo>
                  <a:lnTo>
                    <a:pt x="188" y="52"/>
                  </a:lnTo>
                  <a:lnTo>
                    <a:pt x="178" y="38"/>
                  </a:lnTo>
                  <a:lnTo>
                    <a:pt x="166" y="24"/>
                  </a:lnTo>
                  <a:lnTo>
                    <a:pt x="154" y="1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d2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98"/>
            <p:cNvSpPr/>
            <p:nvPr/>
          </p:nvSpPr>
          <p:spPr>
            <a:xfrm>
              <a:off x="796680" y="3025800"/>
              <a:ext cx="1056960" cy="217476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2174760"/>
                <a:gd name="textAreaBottom" fmla="*/ 2175120 h 2174760"/>
              </a:gdLst>
              <a:ahLst/>
              <a:rect l="textAreaLeft" t="textAreaTop" r="textAreaRight" b="textAreaBottom"/>
              <a:pathLst>
                <a:path w="666" h="1370">
                  <a:moveTo>
                    <a:pt x="318" y="628"/>
                  </a:moveTo>
                  <a:lnTo>
                    <a:pt x="318" y="628"/>
                  </a:lnTo>
                  <a:lnTo>
                    <a:pt x="312" y="594"/>
                  </a:lnTo>
                  <a:lnTo>
                    <a:pt x="306" y="558"/>
                  </a:lnTo>
                  <a:lnTo>
                    <a:pt x="296" y="480"/>
                  </a:lnTo>
                  <a:lnTo>
                    <a:pt x="288" y="398"/>
                  </a:lnTo>
                  <a:lnTo>
                    <a:pt x="276" y="314"/>
                  </a:lnTo>
                  <a:lnTo>
                    <a:pt x="268" y="274"/>
                  </a:lnTo>
                  <a:lnTo>
                    <a:pt x="258" y="234"/>
                  </a:lnTo>
                  <a:lnTo>
                    <a:pt x="248" y="196"/>
                  </a:lnTo>
                  <a:lnTo>
                    <a:pt x="234" y="160"/>
                  </a:lnTo>
                  <a:lnTo>
                    <a:pt x="218" y="126"/>
                  </a:lnTo>
                  <a:lnTo>
                    <a:pt x="200" y="96"/>
                  </a:lnTo>
                  <a:lnTo>
                    <a:pt x="178" y="68"/>
                  </a:lnTo>
                  <a:lnTo>
                    <a:pt x="166" y="54"/>
                  </a:lnTo>
                  <a:lnTo>
                    <a:pt x="154" y="42"/>
                  </a:lnTo>
                  <a:lnTo>
                    <a:pt x="154" y="42"/>
                  </a:lnTo>
                  <a:lnTo>
                    <a:pt x="130" y="24"/>
                  </a:lnTo>
                  <a:lnTo>
                    <a:pt x="110" y="12"/>
                  </a:lnTo>
                  <a:lnTo>
                    <a:pt x="92" y="4"/>
                  </a:lnTo>
                  <a:lnTo>
                    <a:pt x="76" y="0"/>
                  </a:lnTo>
                  <a:lnTo>
                    <a:pt x="60" y="0"/>
                  </a:lnTo>
                  <a:lnTo>
                    <a:pt x="48" y="4"/>
                  </a:lnTo>
                  <a:lnTo>
                    <a:pt x="36" y="12"/>
                  </a:lnTo>
                  <a:lnTo>
                    <a:pt x="26" y="24"/>
                  </a:lnTo>
                  <a:lnTo>
                    <a:pt x="18" y="38"/>
                  </a:lnTo>
                  <a:lnTo>
                    <a:pt x="12" y="56"/>
                  </a:lnTo>
                  <a:lnTo>
                    <a:pt x="8" y="76"/>
                  </a:lnTo>
                  <a:lnTo>
                    <a:pt x="4" y="98"/>
                  </a:lnTo>
                  <a:lnTo>
                    <a:pt x="0" y="122"/>
                  </a:lnTo>
                  <a:lnTo>
                    <a:pt x="0" y="148"/>
                  </a:lnTo>
                  <a:lnTo>
                    <a:pt x="0" y="202"/>
                  </a:lnTo>
                  <a:lnTo>
                    <a:pt x="2" y="262"/>
                  </a:lnTo>
                  <a:lnTo>
                    <a:pt x="10" y="322"/>
                  </a:lnTo>
                  <a:lnTo>
                    <a:pt x="18" y="380"/>
                  </a:lnTo>
                  <a:lnTo>
                    <a:pt x="26" y="438"/>
                  </a:lnTo>
                  <a:lnTo>
                    <a:pt x="36" y="488"/>
                  </a:lnTo>
                  <a:lnTo>
                    <a:pt x="46" y="532"/>
                  </a:lnTo>
                  <a:lnTo>
                    <a:pt x="56" y="566"/>
                  </a:lnTo>
                  <a:lnTo>
                    <a:pt x="62" y="588"/>
                  </a:lnTo>
                  <a:lnTo>
                    <a:pt x="62" y="588"/>
                  </a:lnTo>
                  <a:lnTo>
                    <a:pt x="86" y="644"/>
                  </a:lnTo>
                  <a:lnTo>
                    <a:pt x="114" y="700"/>
                  </a:lnTo>
                  <a:lnTo>
                    <a:pt x="142" y="754"/>
                  </a:lnTo>
                  <a:lnTo>
                    <a:pt x="174" y="808"/>
                  </a:lnTo>
                  <a:lnTo>
                    <a:pt x="208" y="860"/>
                  </a:lnTo>
                  <a:lnTo>
                    <a:pt x="244" y="912"/>
                  </a:lnTo>
                  <a:lnTo>
                    <a:pt x="282" y="962"/>
                  </a:lnTo>
                  <a:lnTo>
                    <a:pt x="320" y="1012"/>
                  </a:lnTo>
                  <a:lnTo>
                    <a:pt x="362" y="1060"/>
                  </a:lnTo>
                  <a:lnTo>
                    <a:pt x="402" y="1108"/>
                  </a:lnTo>
                  <a:lnTo>
                    <a:pt x="446" y="1154"/>
                  </a:lnTo>
                  <a:lnTo>
                    <a:pt x="488" y="1200"/>
                  </a:lnTo>
                  <a:lnTo>
                    <a:pt x="576" y="1288"/>
                  </a:lnTo>
                  <a:lnTo>
                    <a:pt x="666" y="1370"/>
                  </a:lnTo>
                  <a:lnTo>
                    <a:pt x="666" y="1370"/>
                  </a:lnTo>
                  <a:lnTo>
                    <a:pt x="636" y="1342"/>
                  </a:lnTo>
                  <a:lnTo>
                    <a:pt x="608" y="1308"/>
                  </a:lnTo>
                  <a:lnTo>
                    <a:pt x="582" y="1270"/>
                  </a:lnTo>
                  <a:lnTo>
                    <a:pt x="554" y="1230"/>
                  </a:lnTo>
                  <a:lnTo>
                    <a:pt x="528" y="1184"/>
                  </a:lnTo>
                  <a:lnTo>
                    <a:pt x="502" y="1138"/>
                  </a:lnTo>
                  <a:lnTo>
                    <a:pt x="478" y="1090"/>
                  </a:lnTo>
                  <a:lnTo>
                    <a:pt x="456" y="1040"/>
                  </a:lnTo>
                  <a:lnTo>
                    <a:pt x="434" y="988"/>
                  </a:lnTo>
                  <a:lnTo>
                    <a:pt x="414" y="938"/>
                  </a:lnTo>
                  <a:lnTo>
                    <a:pt x="376" y="836"/>
                  </a:lnTo>
                  <a:lnTo>
                    <a:pt x="346" y="740"/>
                  </a:lnTo>
                  <a:lnTo>
                    <a:pt x="322" y="652"/>
                  </a:lnTo>
                  <a:lnTo>
                    <a:pt x="322" y="652"/>
                  </a:lnTo>
                  <a:lnTo>
                    <a:pt x="318" y="628"/>
                  </a:lnTo>
                  <a:lnTo>
                    <a:pt x="318" y="628"/>
                  </a:lnTo>
                  <a:close/>
                </a:path>
              </a:pathLst>
            </a:custGeom>
            <a:solidFill>
              <a:srgbClr val="f9d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99"/>
            <p:cNvSpPr/>
            <p:nvPr/>
          </p:nvSpPr>
          <p:spPr>
            <a:xfrm>
              <a:off x="873000" y="4756320"/>
              <a:ext cx="1164960" cy="153036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734" h="964">
                  <a:moveTo>
                    <a:pt x="368" y="452"/>
                  </a:moveTo>
                  <a:lnTo>
                    <a:pt x="368" y="452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14" y="322"/>
                  </a:lnTo>
                  <a:lnTo>
                    <a:pt x="290" y="256"/>
                  </a:lnTo>
                  <a:lnTo>
                    <a:pt x="278" y="222"/>
                  </a:lnTo>
                  <a:lnTo>
                    <a:pt x="264" y="186"/>
                  </a:lnTo>
                  <a:lnTo>
                    <a:pt x="248" y="154"/>
                  </a:lnTo>
                  <a:lnTo>
                    <a:pt x="232" y="122"/>
                  </a:lnTo>
                  <a:lnTo>
                    <a:pt x="212" y="92"/>
                  </a:lnTo>
                  <a:lnTo>
                    <a:pt x="192" y="66"/>
                  </a:lnTo>
                  <a:lnTo>
                    <a:pt x="168" y="42"/>
                  </a:lnTo>
                  <a:lnTo>
                    <a:pt x="156" y="32"/>
                  </a:lnTo>
                  <a:lnTo>
                    <a:pt x="142" y="24"/>
                  </a:lnTo>
                  <a:lnTo>
                    <a:pt x="128" y="16"/>
                  </a:lnTo>
                  <a:lnTo>
                    <a:pt x="114" y="10"/>
                  </a:lnTo>
                  <a:lnTo>
                    <a:pt x="98" y="6"/>
                  </a:lnTo>
                  <a:lnTo>
                    <a:pt x="82" y="2"/>
                  </a:lnTo>
                  <a:lnTo>
                    <a:pt x="64" y="0"/>
                  </a:lnTo>
                  <a:lnTo>
                    <a:pt x="46" y="2"/>
                  </a:lnTo>
                  <a:lnTo>
                    <a:pt x="2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46"/>
                  </a:lnTo>
                  <a:lnTo>
                    <a:pt x="0" y="84"/>
                  </a:lnTo>
                  <a:lnTo>
                    <a:pt x="2" y="122"/>
                  </a:lnTo>
                  <a:lnTo>
                    <a:pt x="8" y="160"/>
                  </a:lnTo>
                  <a:lnTo>
                    <a:pt x="14" y="198"/>
                  </a:lnTo>
                  <a:lnTo>
                    <a:pt x="24" y="234"/>
                  </a:lnTo>
                  <a:lnTo>
                    <a:pt x="36" y="270"/>
                  </a:lnTo>
                  <a:lnTo>
                    <a:pt x="52" y="304"/>
                  </a:lnTo>
                  <a:lnTo>
                    <a:pt x="68" y="340"/>
                  </a:lnTo>
                  <a:lnTo>
                    <a:pt x="86" y="374"/>
                  </a:lnTo>
                  <a:lnTo>
                    <a:pt x="108" y="408"/>
                  </a:lnTo>
                  <a:lnTo>
                    <a:pt x="130" y="440"/>
                  </a:lnTo>
                  <a:lnTo>
                    <a:pt x="154" y="472"/>
                  </a:lnTo>
                  <a:lnTo>
                    <a:pt x="180" y="504"/>
                  </a:lnTo>
                  <a:lnTo>
                    <a:pt x="208" y="536"/>
                  </a:lnTo>
                  <a:lnTo>
                    <a:pt x="236" y="566"/>
                  </a:lnTo>
                  <a:lnTo>
                    <a:pt x="296" y="626"/>
                  </a:lnTo>
                  <a:lnTo>
                    <a:pt x="358" y="682"/>
                  </a:lnTo>
                  <a:lnTo>
                    <a:pt x="422" y="736"/>
                  </a:lnTo>
                  <a:lnTo>
                    <a:pt x="488" y="788"/>
                  </a:lnTo>
                  <a:lnTo>
                    <a:pt x="552" y="836"/>
                  </a:lnTo>
                  <a:lnTo>
                    <a:pt x="616" y="882"/>
                  </a:lnTo>
                  <a:lnTo>
                    <a:pt x="734" y="964"/>
                  </a:lnTo>
                  <a:lnTo>
                    <a:pt x="734" y="964"/>
                  </a:lnTo>
                  <a:lnTo>
                    <a:pt x="704" y="942"/>
                  </a:lnTo>
                  <a:lnTo>
                    <a:pt x="674" y="918"/>
                  </a:lnTo>
                  <a:lnTo>
                    <a:pt x="648" y="892"/>
                  </a:lnTo>
                  <a:lnTo>
                    <a:pt x="620" y="864"/>
                  </a:lnTo>
                  <a:lnTo>
                    <a:pt x="594" y="834"/>
                  </a:lnTo>
                  <a:lnTo>
                    <a:pt x="570" y="802"/>
                  </a:lnTo>
                  <a:lnTo>
                    <a:pt x="546" y="770"/>
                  </a:lnTo>
                  <a:lnTo>
                    <a:pt x="524" y="738"/>
                  </a:lnTo>
                  <a:lnTo>
                    <a:pt x="480" y="668"/>
                  </a:lnTo>
                  <a:lnTo>
                    <a:pt x="440" y="596"/>
                  </a:lnTo>
                  <a:lnTo>
                    <a:pt x="402" y="524"/>
                  </a:lnTo>
                  <a:lnTo>
                    <a:pt x="368" y="452"/>
                  </a:lnTo>
                  <a:lnTo>
                    <a:pt x="368" y="452"/>
                  </a:lnTo>
                  <a:close/>
                </a:path>
              </a:pathLst>
            </a:custGeom>
            <a:solidFill>
              <a:srgbClr val="d2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グループ化 201"/>
          <p:cNvGrpSpPr/>
          <p:nvPr/>
        </p:nvGrpSpPr>
        <p:grpSpPr>
          <a:xfrm>
            <a:off x="8229600" y="6810480"/>
            <a:ext cx="1898640" cy="7724520"/>
            <a:chOff x="8229600" y="6810480"/>
            <a:chExt cx="1898640" cy="7724520"/>
          </a:xfrm>
        </p:grpSpPr>
        <p:sp>
          <p:nvSpPr>
            <p:cNvPr id="113" name="Freeform 115"/>
            <p:cNvSpPr/>
            <p:nvPr/>
          </p:nvSpPr>
          <p:spPr>
            <a:xfrm>
              <a:off x="8391240" y="6842160"/>
              <a:ext cx="1737000" cy="17366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94" h="1094">
                  <a:moveTo>
                    <a:pt x="1094" y="548"/>
                  </a:moveTo>
                  <a:lnTo>
                    <a:pt x="1094" y="548"/>
                  </a:lnTo>
                  <a:lnTo>
                    <a:pt x="1094" y="576"/>
                  </a:lnTo>
                  <a:lnTo>
                    <a:pt x="1090" y="604"/>
                  </a:lnTo>
                  <a:lnTo>
                    <a:pt x="1088" y="630"/>
                  </a:lnTo>
                  <a:lnTo>
                    <a:pt x="1082" y="658"/>
                  </a:lnTo>
                  <a:lnTo>
                    <a:pt x="1076" y="684"/>
                  </a:lnTo>
                  <a:lnTo>
                    <a:pt x="1070" y="710"/>
                  </a:lnTo>
                  <a:lnTo>
                    <a:pt x="1060" y="736"/>
                  </a:lnTo>
                  <a:lnTo>
                    <a:pt x="1050" y="760"/>
                  </a:lnTo>
                  <a:lnTo>
                    <a:pt x="1040" y="784"/>
                  </a:lnTo>
                  <a:lnTo>
                    <a:pt x="1028" y="808"/>
                  </a:lnTo>
                  <a:lnTo>
                    <a:pt x="1014" y="832"/>
                  </a:lnTo>
                  <a:lnTo>
                    <a:pt x="1000" y="854"/>
                  </a:lnTo>
                  <a:lnTo>
                    <a:pt x="986" y="876"/>
                  </a:lnTo>
                  <a:lnTo>
                    <a:pt x="968" y="896"/>
                  </a:lnTo>
                  <a:lnTo>
                    <a:pt x="952" y="916"/>
                  </a:lnTo>
                  <a:lnTo>
                    <a:pt x="934" y="934"/>
                  </a:lnTo>
                  <a:lnTo>
                    <a:pt x="914" y="952"/>
                  </a:lnTo>
                  <a:lnTo>
                    <a:pt x="894" y="970"/>
                  </a:lnTo>
                  <a:lnTo>
                    <a:pt x="874" y="986"/>
                  </a:lnTo>
                  <a:lnTo>
                    <a:pt x="852" y="1002"/>
                  </a:lnTo>
                  <a:lnTo>
                    <a:pt x="830" y="1016"/>
                  </a:lnTo>
                  <a:lnTo>
                    <a:pt x="808" y="1028"/>
                  </a:lnTo>
                  <a:lnTo>
                    <a:pt x="784" y="1040"/>
                  </a:lnTo>
                  <a:lnTo>
                    <a:pt x="760" y="1052"/>
                  </a:lnTo>
                  <a:lnTo>
                    <a:pt x="734" y="1062"/>
                  </a:lnTo>
                  <a:lnTo>
                    <a:pt x="710" y="1070"/>
                  </a:lnTo>
                  <a:lnTo>
                    <a:pt x="684" y="1078"/>
                  </a:lnTo>
                  <a:lnTo>
                    <a:pt x="656" y="1084"/>
                  </a:lnTo>
                  <a:lnTo>
                    <a:pt x="630" y="1088"/>
                  </a:lnTo>
                  <a:lnTo>
                    <a:pt x="602" y="1092"/>
                  </a:lnTo>
                  <a:lnTo>
                    <a:pt x="574" y="1094"/>
                  </a:lnTo>
                  <a:lnTo>
                    <a:pt x="546" y="1094"/>
                  </a:lnTo>
                  <a:lnTo>
                    <a:pt x="546" y="1094"/>
                  </a:lnTo>
                  <a:lnTo>
                    <a:pt x="518" y="1094"/>
                  </a:lnTo>
                  <a:lnTo>
                    <a:pt x="490" y="1092"/>
                  </a:lnTo>
                  <a:lnTo>
                    <a:pt x="464" y="1088"/>
                  </a:lnTo>
                  <a:lnTo>
                    <a:pt x="436" y="1084"/>
                  </a:lnTo>
                  <a:lnTo>
                    <a:pt x="410" y="1078"/>
                  </a:lnTo>
                  <a:lnTo>
                    <a:pt x="384" y="1070"/>
                  </a:lnTo>
                  <a:lnTo>
                    <a:pt x="358" y="1062"/>
                  </a:lnTo>
                  <a:lnTo>
                    <a:pt x="334" y="1052"/>
                  </a:lnTo>
                  <a:lnTo>
                    <a:pt x="310" y="1040"/>
                  </a:lnTo>
                  <a:lnTo>
                    <a:pt x="286" y="1028"/>
                  </a:lnTo>
                  <a:lnTo>
                    <a:pt x="264" y="1016"/>
                  </a:lnTo>
                  <a:lnTo>
                    <a:pt x="240" y="1002"/>
                  </a:lnTo>
                  <a:lnTo>
                    <a:pt x="220" y="986"/>
                  </a:lnTo>
                  <a:lnTo>
                    <a:pt x="198" y="970"/>
                  </a:lnTo>
                  <a:lnTo>
                    <a:pt x="178" y="952"/>
                  </a:lnTo>
                  <a:lnTo>
                    <a:pt x="160" y="934"/>
                  </a:lnTo>
                  <a:lnTo>
                    <a:pt x="142" y="916"/>
                  </a:lnTo>
                  <a:lnTo>
                    <a:pt x="124" y="896"/>
                  </a:lnTo>
                  <a:lnTo>
                    <a:pt x="108" y="876"/>
                  </a:lnTo>
                  <a:lnTo>
                    <a:pt x="94" y="854"/>
                  </a:lnTo>
                  <a:lnTo>
                    <a:pt x="78" y="832"/>
                  </a:lnTo>
                  <a:lnTo>
                    <a:pt x="66" y="808"/>
                  </a:lnTo>
                  <a:lnTo>
                    <a:pt x="54" y="784"/>
                  </a:lnTo>
                  <a:lnTo>
                    <a:pt x="42" y="760"/>
                  </a:lnTo>
                  <a:lnTo>
                    <a:pt x="32" y="736"/>
                  </a:lnTo>
                  <a:lnTo>
                    <a:pt x="24" y="710"/>
                  </a:lnTo>
                  <a:lnTo>
                    <a:pt x="16" y="684"/>
                  </a:lnTo>
                  <a:lnTo>
                    <a:pt x="10" y="658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0" y="576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0" y="520"/>
                  </a:lnTo>
                  <a:lnTo>
                    <a:pt x="2" y="492"/>
                  </a:lnTo>
                  <a:lnTo>
                    <a:pt x="6" y="464"/>
                  </a:lnTo>
                  <a:lnTo>
                    <a:pt x="10" y="438"/>
                  </a:lnTo>
                  <a:lnTo>
                    <a:pt x="16" y="410"/>
                  </a:lnTo>
                  <a:lnTo>
                    <a:pt x="24" y="384"/>
                  </a:lnTo>
                  <a:lnTo>
                    <a:pt x="32" y="360"/>
                  </a:lnTo>
                  <a:lnTo>
                    <a:pt x="42" y="334"/>
                  </a:lnTo>
                  <a:lnTo>
                    <a:pt x="54" y="310"/>
                  </a:lnTo>
                  <a:lnTo>
                    <a:pt x="66" y="286"/>
                  </a:lnTo>
                  <a:lnTo>
                    <a:pt x="78" y="264"/>
                  </a:lnTo>
                  <a:lnTo>
                    <a:pt x="94" y="242"/>
                  </a:lnTo>
                  <a:lnTo>
                    <a:pt x="108" y="220"/>
                  </a:lnTo>
                  <a:lnTo>
                    <a:pt x="124" y="200"/>
                  </a:lnTo>
                  <a:lnTo>
                    <a:pt x="142" y="180"/>
                  </a:lnTo>
                  <a:lnTo>
                    <a:pt x="160" y="160"/>
                  </a:lnTo>
                  <a:lnTo>
                    <a:pt x="178" y="142"/>
                  </a:lnTo>
                  <a:lnTo>
                    <a:pt x="198" y="126"/>
                  </a:lnTo>
                  <a:lnTo>
                    <a:pt x="220" y="110"/>
                  </a:lnTo>
                  <a:lnTo>
                    <a:pt x="240" y="94"/>
                  </a:lnTo>
                  <a:lnTo>
                    <a:pt x="264" y="80"/>
                  </a:lnTo>
                  <a:lnTo>
                    <a:pt x="286" y="66"/>
                  </a:lnTo>
                  <a:lnTo>
                    <a:pt x="310" y="54"/>
                  </a:lnTo>
                  <a:lnTo>
                    <a:pt x="334" y="44"/>
                  </a:lnTo>
                  <a:lnTo>
                    <a:pt x="358" y="34"/>
                  </a:lnTo>
                  <a:lnTo>
                    <a:pt x="384" y="26"/>
                  </a:lnTo>
                  <a:lnTo>
                    <a:pt x="410" y="18"/>
                  </a:lnTo>
                  <a:lnTo>
                    <a:pt x="436" y="12"/>
                  </a:lnTo>
                  <a:lnTo>
                    <a:pt x="464" y="6"/>
                  </a:lnTo>
                  <a:lnTo>
                    <a:pt x="490" y="4"/>
                  </a:lnTo>
                  <a:lnTo>
                    <a:pt x="518" y="2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74" y="2"/>
                  </a:lnTo>
                  <a:lnTo>
                    <a:pt x="602" y="4"/>
                  </a:lnTo>
                  <a:lnTo>
                    <a:pt x="630" y="6"/>
                  </a:lnTo>
                  <a:lnTo>
                    <a:pt x="656" y="12"/>
                  </a:lnTo>
                  <a:lnTo>
                    <a:pt x="684" y="18"/>
                  </a:lnTo>
                  <a:lnTo>
                    <a:pt x="710" y="26"/>
                  </a:lnTo>
                  <a:lnTo>
                    <a:pt x="734" y="34"/>
                  </a:lnTo>
                  <a:lnTo>
                    <a:pt x="760" y="44"/>
                  </a:lnTo>
                  <a:lnTo>
                    <a:pt x="784" y="54"/>
                  </a:lnTo>
                  <a:lnTo>
                    <a:pt x="808" y="66"/>
                  </a:lnTo>
                  <a:lnTo>
                    <a:pt x="830" y="80"/>
                  </a:lnTo>
                  <a:lnTo>
                    <a:pt x="852" y="94"/>
                  </a:lnTo>
                  <a:lnTo>
                    <a:pt x="874" y="110"/>
                  </a:lnTo>
                  <a:lnTo>
                    <a:pt x="894" y="126"/>
                  </a:lnTo>
                  <a:lnTo>
                    <a:pt x="914" y="142"/>
                  </a:lnTo>
                  <a:lnTo>
                    <a:pt x="934" y="160"/>
                  </a:lnTo>
                  <a:lnTo>
                    <a:pt x="952" y="180"/>
                  </a:lnTo>
                  <a:lnTo>
                    <a:pt x="968" y="200"/>
                  </a:lnTo>
                  <a:lnTo>
                    <a:pt x="986" y="220"/>
                  </a:lnTo>
                  <a:lnTo>
                    <a:pt x="1000" y="242"/>
                  </a:lnTo>
                  <a:lnTo>
                    <a:pt x="1014" y="264"/>
                  </a:lnTo>
                  <a:lnTo>
                    <a:pt x="1028" y="286"/>
                  </a:lnTo>
                  <a:lnTo>
                    <a:pt x="1040" y="310"/>
                  </a:lnTo>
                  <a:lnTo>
                    <a:pt x="1050" y="334"/>
                  </a:lnTo>
                  <a:lnTo>
                    <a:pt x="1060" y="360"/>
                  </a:lnTo>
                  <a:lnTo>
                    <a:pt x="1070" y="384"/>
                  </a:lnTo>
                  <a:lnTo>
                    <a:pt x="1076" y="410"/>
                  </a:lnTo>
                  <a:lnTo>
                    <a:pt x="1082" y="438"/>
                  </a:lnTo>
                  <a:lnTo>
                    <a:pt x="1088" y="464"/>
                  </a:lnTo>
                  <a:lnTo>
                    <a:pt x="1090" y="492"/>
                  </a:lnTo>
                  <a:lnTo>
                    <a:pt x="1094" y="520"/>
                  </a:lnTo>
                  <a:lnTo>
                    <a:pt x="1094" y="548"/>
                  </a:lnTo>
                  <a:lnTo>
                    <a:pt x="1094" y="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8391240" y="8331120"/>
              <a:ext cx="1737000" cy="17366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94" h="1094">
                  <a:moveTo>
                    <a:pt x="1094" y="548"/>
                  </a:moveTo>
                  <a:lnTo>
                    <a:pt x="1094" y="548"/>
                  </a:lnTo>
                  <a:lnTo>
                    <a:pt x="1094" y="576"/>
                  </a:lnTo>
                  <a:lnTo>
                    <a:pt x="1090" y="604"/>
                  </a:lnTo>
                  <a:lnTo>
                    <a:pt x="1088" y="630"/>
                  </a:lnTo>
                  <a:lnTo>
                    <a:pt x="1082" y="658"/>
                  </a:lnTo>
                  <a:lnTo>
                    <a:pt x="1076" y="684"/>
                  </a:lnTo>
                  <a:lnTo>
                    <a:pt x="1070" y="710"/>
                  </a:lnTo>
                  <a:lnTo>
                    <a:pt x="1060" y="736"/>
                  </a:lnTo>
                  <a:lnTo>
                    <a:pt x="1050" y="760"/>
                  </a:lnTo>
                  <a:lnTo>
                    <a:pt x="1040" y="784"/>
                  </a:lnTo>
                  <a:lnTo>
                    <a:pt x="1028" y="808"/>
                  </a:lnTo>
                  <a:lnTo>
                    <a:pt x="1014" y="832"/>
                  </a:lnTo>
                  <a:lnTo>
                    <a:pt x="1000" y="854"/>
                  </a:lnTo>
                  <a:lnTo>
                    <a:pt x="986" y="876"/>
                  </a:lnTo>
                  <a:lnTo>
                    <a:pt x="968" y="896"/>
                  </a:lnTo>
                  <a:lnTo>
                    <a:pt x="952" y="916"/>
                  </a:lnTo>
                  <a:lnTo>
                    <a:pt x="934" y="934"/>
                  </a:lnTo>
                  <a:lnTo>
                    <a:pt x="914" y="952"/>
                  </a:lnTo>
                  <a:lnTo>
                    <a:pt x="894" y="970"/>
                  </a:lnTo>
                  <a:lnTo>
                    <a:pt x="874" y="986"/>
                  </a:lnTo>
                  <a:lnTo>
                    <a:pt x="852" y="1002"/>
                  </a:lnTo>
                  <a:lnTo>
                    <a:pt x="830" y="1016"/>
                  </a:lnTo>
                  <a:lnTo>
                    <a:pt x="808" y="1028"/>
                  </a:lnTo>
                  <a:lnTo>
                    <a:pt x="784" y="1040"/>
                  </a:lnTo>
                  <a:lnTo>
                    <a:pt x="760" y="1052"/>
                  </a:lnTo>
                  <a:lnTo>
                    <a:pt x="734" y="1062"/>
                  </a:lnTo>
                  <a:lnTo>
                    <a:pt x="710" y="1070"/>
                  </a:lnTo>
                  <a:lnTo>
                    <a:pt x="684" y="1078"/>
                  </a:lnTo>
                  <a:lnTo>
                    <a:pt x="656" y="1084"/>
                  </a:lnTo>
                  <a:lnTo>
                    <a:pt x="630" y="1088"/>
                  </a:lnTo>
                  <a:lnTo>
                    <a:pt x="602" y="1092"/>
                  </a:lnTo>
                  <a:lnTo>
                    <a:pt x="574" y="1094"/>
                  </a:lnTo>
                  <a:lnTo>
                    <a:pt x="546" y="1094"/>
                  </a:lnTo>
                  <a:lnTo>
                    <a:pt x="546" y="1094"/>
                  </a:lnTo>
                  <a:lnTo>
                    <a:pt x="518" y="1094"/>
                  </a:lnTo>
                  <a:lnTo>
                    <a:pt x="490" y="1092"/>
                  </a:lnTo>
                  <a:lnTo>
                    <a:pt x="464" y="1088"/>
                  </a:lnTo>
                  <a:lnTo>
                    <a:pt x="436" y="1084"/>
                  </a:lnTo>
                  <a:lnTo>
                    <a:pt x="410" y="1078"/>
                  </a:lnTo>
                  <a:lnTo>
                    <a:pt x="384" y="1070"/>
                  </a:lnTo>
                  <a:lnTo>
                    <a:pt x="358" y="1062"/>
                  </a:lnTo>
                  <a:lnTo>
                    <a:pt x="334" y="1052"/>
                  </a:lnTo>
                  <a:lnTo>
                    <a:pt x="310" y="1040"/>
                  </a:lnTo>
                  <a:lnTo>
                    <a:pt x="286" y="1028"/>
                  </a:lnTo>
                  <a:lnTo>
                    <a:pt x="264" y="1016"/>
                  </a:lnTo>
                  <a:lnTo>
                    <a:pt x="240" y="1002"/>
                  </a:lnTo>
                  <a:lnTo>
                    <a:pt x="220" y="986"/>
                  </a:lnTo>
                  <a:lnTo>
                    <a:pt x="198" y="970"/>
                  </a:lnTo>
                  <a:lnTo>
                    <a:pt x="178" y="952"/>
                  </a:lnTo>
                  <a:lnTo>
                    <a:pt x="160" y="934"/>
                  </a:lnTo>
                  <a:lnTo>
                    <a:pt x="142" y="916"/>
                  </a:lnTo>
                  <a:lnTo>
                    <a:pt x="124" y="896"/>
                  </a:lnTo>
                  <a:lnTo>
                    <a:pt x="108" y="876"/>
                  </a:lnTo>
                  <a:lnTo>
                    <a:pt x="94" y="854"/>
                  </a:lnTo>
                  <a:lnTo>
                    <a:pt x="78" y="832"/>
                  </a:lnTo>
                  <a:lnTo>
                    <a:pt x="66" y="808"/>
                  </a:lnTo>
                  <a:lnTo>
                    <a:pt x="54" y="784"/>
                  </a:lnTo>
                  <a:lnTo>
                    <a:pt x="42" y="760"/>
                  </a:lnTo>
                  <a:lnTo>
                    <a:pt x="32" y="736"/>
                  </a:lnTo>
                  <a:lnTo>
                    <a:pt x="24" y="710"/>
                  </a:lnTo>
                  <a:lnTo>
                    <a:pt x="16" y="684"/>
                  </a:lnTo>
                  <a:lnTo>
                    <a:pt x="10" y="658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0" y="576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0" y="520"/>
                  </a:lnTo>
                  <a:lnTo>
                    <a:pt x="2" y="492"/>
                  </a:lnTo>
                  <a:lnTo>
                    <a:pt x="6" y="464"/>
                  </a:lnTo>
                  <a:lnTo>
                    <a:pt x="10" y="438"/>
                  </a:lnTo>
                  <a:lnTo>
                    <a:pt x="16" y="410"/>
                  </a:lnTo>
                  <a:lnTo>
                    <a:pt x="24" y="384"/>
                  </a:lnTo>
                  <a:lnTo>
                    <a:pt x="32" y="360"/>
                  </a:lnTo>
                  <a:lnTo>
                    <a:pt x="42" y="334"/>
                  </a:lnTo>
                  <a:lnTo>
                    <a:pt x="54" y="310"/>
                  </a:lnTo>
                  <a:lnTo>
                    <a:pt x="66" y="286"/>
                  </a:lnTo>
                  <a:lnTo>
                    <a:pt x="78" y="264"/>
                  </a:lnTo>
                  <a:lnTo>
                    <a:pt x="94" y="242"/>
                  </a:lnTo>
                  <a:lnTo>
                    <a:pt x="108" y="220"/>
                  </a:lnTo>
                  <a:lnTo>
                    <a:pt x="124" y="200"/>
                  </a:lnTo>
                  <a:lnTo>
                    <a:pt x="142" y="180"/>
                  </a:lnTo>
                  <a:lnTo>
                    <a:pt x="160" y="160"/>
                  </a:lnTo>
                  <a:lnTo>
                    <a:pt x="178" y="142"/>
                  </a:lnTo>
                  <a:lnTo>
                    <a:pt x="198" y="126"/>
                  </a:lnTo>
                  <a:lnTo>
                    <a:pt x="220" y="110"/>
                  </a:lnTo>
                  <a:lnTo>
                    <a:pt x="240" y="94"/>
                  </a:lnTo>
                  <a:lnTo>
                    <a:pt x="264" y="80"/>
                  </a:lnTo>
                  <a:lnTo>
                    <a:pt x="286" y="66"/>
                  </a:lnTo>
                  <a:lnTo>
                    <a:pt x="310" y="54"/>
                  </a:lnTo>
                  <a:lnTo>
                    <a:pt x="334" y="44"/>
                  </a:lnTo>
                  <a:lnTo>
                    <a:pt x="358" y="34"/>
                  </a:lnTo>
                  <a:lnTo>
                    <a:pt x="384" y="26"/>
                  </a:lnTo>
                  <a:lnTo>
                    <a:pt x="410" y="18"/>
                  </a:lnTo>
                  <a:lnTo>
                    <a:pt x="436" y="12"/>
                  </a:lnTo>
                  <a:lnTo>
                    <a:pt x="464" y="6"/>
                  </a:lnTo>
                  <a:lnTo>
                    <a:pt x="490" y="4"/>
                  </a:lnTo>
                  <a:lnTo>
                    <a:pt x="518" y="2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74" y="2"/>
                  </a:lnTo>
                  <a:lnTo>
                    <a:pt x="602" y="4"/>
                  </a:lnTo>
                  <a:lnTo>
                    <a:pt x="630" y="6"/>
                  </a:lnTo>
                  <a:lnTo>
                    <a:pt x="656" y="12"/>
                  </a:lnTo>
                  <a:lnTo>
                    <a:pt x="684" y="18"/>
                  </a:lnTo>
                  <a:lnTo>
                    <a:pt x="710" y="26"/>
                  </a:lnTo>
                  <a:lnTo>
                    <a:pt x="734" y="34"/>
                  </a:lnTo>
                  <a:lnTo>
                    <a:pt x="760" y="44"/>
                  </a:lnTo>
                  <a:lnTo>
                    <a:pt x="784" y="54"/>
                  </a:lnTo>
                  <a:lnTo>
                    <a:pt x="808" y="66"/>
                  </a:lnTo>
                  <a:lnTo>
                    <a:pt x="830" y="80"/>
                  </a:lnTo>
                  <a:lnTo>
                    <a:pt x="852" y="94"/>
                  </a:lnTo>
                  <a:lnTo>
                    <a:pt x="874" y="110"/>
                  </a:lnTo>
                  <a:lnTo>
                    <a:pt x="894" y="126"/>
                  </a:lnTo>
                  <a:lnTo>
                    <a:pt x="914" y="142"/>
                  </a:lnTo>
                  <a:lnTo>
                    <a:pt x="934" y="160"/>
                  </a:lnTo>
                  <a:lnTo>
                    <a:pt x="952" y="180"/>
                  </a:lnTo>
                  <a:lnTo>
                    <a:pt x="968" y="200"/>
                  </a:lnTo>
                  <a:lnTo>
                    <a:pt x="986" y="220"/>
                  </a:lnTo>
                  <a:lnTo>
                    <a:pt x="1000" y="242"/>
                  </a:lnTo>
                  <a:lnTo>
                    <a:pt x="1014" y="264"/>
                  </a:lnTo>
                  <a:lnTo>
                    <a:pt x="1028" y="286"/>
                  </a:lnTo>
                  <a:lnTo>
                    <a:pt x="1040" y="310"/>
                  </a:lnTo>
                  <a:lnTo>
                    <a:pt x="1050" y="334"/>
                  </a:lnTo>
                  <a:lnTo>
                    <a:pt x="1060" y="360"/>
                  </a:lnTo>
                  <a:lnTo>
                    <a:pt x="1070" y="384"/>
                  </a:lnTo>
                  <a:lnTo>
                    <a:pt x="1076" y="410"/>
                  </a:lnTo>
                  <a:lnTo>
                    <a:pt x="1082" y="438"/>
                  </a:lnTo>
                  <a:lnTo>
                    <a:pt x="1088" y="464"/>
                  </a:lnTo>
                  <a:lnTo>
                    <a:pt x="1090" y="492"/>
                  </a:lnTo>
                  <a:lnTo>
                    <a:pt x="1094" y="520"/>
                  </a:lnTo>
                  <a:lnTo>
                    <a:pt x="1094" y="548"/>
                  </a:lnTo>
                  <a:lnTo>
                    <a:pt x="1094" y="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8391240" y="9820080"/>
              <a:ext cx="1737000" cy="17366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94" h="1094">
                  <a:moveTo>
                    <a:pt x="1094" y="548"/>
                  </a:moveTo>
                  <a:lnTo>
                    <a:pt x="1094" y="548"/>
                  </a:lnTo>
                  <a:lnTo>
                    <a:pt x="1094" y="576"/>
                  </a:lnTo>
                  <a:lnTo>
                    <a:pt x="1090" y="604"/>
                  </a:lnTo>
                  <a:lnTo>
                    <a:pt x="1088" y="630"/>
                  </a:lnTo>
                  <a:lnTo>
                    <a:pt x="1082" y="658"/>
                  </a:lnTo>
                  <a:lnTo>
                    <a:pt x="1076" y="684"/>
                  </a:lnTo>
                  <a:lnTo>
                    <a:pt x="1070" y="710"/>
                  </a:lnTo>
                  <a:lnTo>
                    <a:pt x="1060" y="736"/>
                  </a:lnTo>
                  <a:lnTo>
                    <a:pt x="1050" y="760"/>
                  </a:lnTo>
                  <a:lnTo>
                    <a:pt x="1040" y="784"/>
                  </a:lnTo>
                  <a:lnTo>
                    <a:pt x="1028" y="808"/>
                  </a:lnTo>
                  <a:lnTo>
                    <a:pt x="1014" y="832"/>
                  </a:lnTo>
                  <a:lnTo>
                    <a:pt x="1000" y="854"/>
                  </a:lnTo>
                  <a:lnTo>
                    <a:pt x="986" y="876"/>
                  </a:lnTo>
                  <a:lnTo>
                    <a:pt x="968" y="896"/>
                  </a:lnTo>
                  <a:lnTo>
                    <a:pt x="952" y="916"/>
                  </a:lnTo>
                  <a:lnTo>
                    <a:pt x="934" y="934"/>
                  </a:lnTo>
                  <a:lnTo>
                    <a:pt x="914" y="952"/>
                  </a:lnTo>
                  <a:lnTo>
                    <a:pt x="894" y="970"/>
                  </a:lnTo>
                  <a:lnTo>
                    <a:pt x="874" y="986"/>
                  </a:lnTo>
                  <a:lnTo>
                    <a:pt x="852" y="1002"/>
                  </a:lnTo>
                  <a:lnTo>
                    <a:pt x="830" y="1016"/>
                  </a:lnTo>
                  <a:lnTo>
                    <a:pt x="808" y="1028"/>
                  </a:lnTo>
                  <a:lnTo>
                    <a:pt x="784" y="1040"/>
                  </a:lnTo>
                  <a:lnTo>
                    <a:pt x="760" y="1052"/>
                  </a:lnTo>
                  <a:lnTo>
                    <a:pt x="734" y="1062"/>
                  </a:lnTo>
                  <a:lnTo>
                    <a:pt x="710" y="1070"/>
                  </a:lnTo>
                  <a:lnTo>
                    <a:pt x="684" y="1078"/>
                  </a:lnTo>
                  <a:lnTo>
                    <a:pt x="656" y="1084"/>
                  </a:lnTo>
                  <a:lnTo>
                    <a:pt x="630" y="1088"/>
                  </a:lnTo>
                  <a:lnTo>
                    <a:pt x="602" y="1092"/>
                  </a:lnTo>
                  <a:lnTo>
                    <a:pt x="574" y="1094"/>
                  </a:lnTo>
                  <a:lnTo>
                    <a:pt x="546" y="1094"/>
                  </a:lnTo>
                  <a:lnTo>
                    <a:pt x="546" y="1094"/>
                  </a:lnTo>
                  <a:lnTo>
                    <a:pt x="518" y="1094"/>
                  </a:lnTo>
                  <a:lnTo>
                    <a:pt x="490" y="1092"/>
                  </a:lnTo>
                  <a:lnTo>
                    <a:pt x="464" y="1088"/>
                  </a:lnTo>
                  <a:lnTo>
                    <a:pt x="436" y="1084"/>
                  </a:lnTo>
                  <a:lnTo>
                    <a:pt x="410" y="1078"/>
                  </a:lnTo>
                  <a:lnTo>
                    <a:pt x="384" y="1070"/>
                  </a:lnTo>
                  <a:lnTo>
                    <a:pt x="358" y="1062"/>
                  </a:lnTo>
                  <a:lnTo>
                    <a:pt x="334" y="1052"/>
                  </a:lnTo>
                  <a:lnTo>
                    <a:pt x="310" y="1040"/>
                  </a:lnTo>
                  <a:lnTo>
                    <a:pt x="286" y="1028"/>
                  </a:lnTo>
                  <a:lnTo>
                    <a:pt x="264" y="1016"/>
                  </a:lnTo>
                  <a:lnTo>
                    <a:pt x="240" y="1002"/>
                  </a:lnTo>
                  <a:lnTo>
                    <a:pt x="220" y="986"/>
                  </a:lnTo>
                  <a:lnTo>
                    <a:pt x="198" y="970"/>
                  </a:lnTo>
                  <a:lnTo>
                    <a:pt x="178" y="952"/>
                  </a:lnTo>
                  <a:lnTo>
                    <a:pt x="160" y="934"/>
                  </a:lnTo>
                  <a:lnTo>
                    <a:pt x="142" y="916"/>
                  </a:lnTo>
                  <a:lnTo>
                    <a:pt x="124" y="896"/>
                  </a:lnTo>
                  <a:lnTo>
                    <a:pt x="108" y="876"/>
                  </a:lnTo>
                  <a:lnTo>
                    <a:pt x="94" y="854"/>
                  </a:lnTo>
                  <a:lnTo>
                    <a:pt x="78" y="832"/>
                  </a:lnTo>
                  <a:lnTo>
                    <a:pt x="66" y="808"/>
                  </a:lnTo>
                  <a:lnTo>
                    <a:pt x="54" y="784"/>
                  </a:lnTo>
                  <a:lnTo>
                    <a:pt x="42" y="760"/>
                  </a:lnTo>
                  <a:lnTo>
                    <a:pt x="32" y="736"/>
                  </a:lnTo>
                  <a:lnTo>
                    <a:pt x="24" y="710"/>
                  </a:lnTo>
                  <a:lnTo>
                    <a:pt x="16" y="684"/>
                  </a:lnTo>
                  <a:lnTo>
                    <a:pt x="10" y="658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0" y="576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0" y="520"/>
                  </a:lnTo>
                  <a:lnTo>
                    <a:pt x="2" y="492"/>
                  </a:lnTo>
                  <a:lnTo>
                    <a:pt x="6" y="464"/>
                  </a:lnTo>
                  <a:lnTo>
                    <a:pt x="10" y="438"/>
                  </a:lnTo>
                  <a:lnTo>
                    <a:pt x="16" y="410"/>
                  </a:lnTo>
                  <a:lnTo>
                    <a:pt x="24" y="384"/>
                  </a:lnTo>
                  <a:lnTo>
                    <a:pt x="32" y="360"/>
                  </a:lnTo>
                  <a:lnTo>
                    <a:pt x="42" y="334"/>
                  </a:lnTo>
                  <a:lnTo>
                    <a:pt x="54" y="310"/>
                  </a:lnTo>
                  <a:lnTo>
                    <a:pt x="66" y="286"/>
                  </a:lnTo>
                  <a:lnTo>
                    <a:pt x="78" y="264"/>
                  </a:lnTo>
                  <a:lnTo>
                    <a:pt x="94" y="242"/>
                  </a:lnTo>
                  <a:lnTo>
                    <a:pt x="108" y="220"/>
                  </a:lnTo>
                  <a:lnTo>
                    <a:pt x="124" y="200"/>
                  </a:lnTo>
                  <a:lnTo>
                    <a:pt x="142" y="180"/>
                  </a:lnTo>
                  <a:lnTo>
                    <a:pt x="160" y="160"/>
                  </a:lnTo>
                  <a:lnTo>
                    <a:pt x="178" y="142"/>
                  </a:lnTo>
                  <a:lnTo>
                    <a:pt x="198" y="126"/>
                  </a:lnTo>
                  <a:lnTo>
                    <a:pt x="220" y="110"/>
                  </a:lnTo>
                  <a:lnTo>
                    <a:pt x="240" y="94"/>
                  </a:lnTo>
                  <a:lnTo>
                    <a:pt x="264" y="80"/>
                  </a:lnTo>
                  <a:lnTo>
                    <a:pt x="286" y="66"/>
                  </a:lnTo>
                  <a:lnTo>
                    <a:pt x="310" y="54"/>
                  </a:lnTo>
                  <a:lnTo>
                    <a:pt x="334" y="44"/>
                  </a:lnTo>
                  <a:lnTo>
                    <a:pt x="358" y="34"/>
                  </a:lnTo>
                  <a:lnTo>
                    <a:pt x="384" y="26"/>
                  </a:lnTo>
                  <a:lnTo>
                    <a:pt x="410" y="18"/>
                  </a:lnTo>
                  <a:lnTo>
                    <a:pt x="436" y="12"/>
                  </a:lnTo>
                  <a:lnTo>
                    <a:pt x="464" y="6"/>
                  </a:lnTo>
                  <a:lnTo>
                    <a:pt x="490" y="4"/>
                  </a:lnTo>
                  <a:lnTo>
                    <a:pt x="518" y="2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74" y="2"/>
                  </a:lnTo>
                  <a:lnTo>
                    <a:pt x="602" y="4"/>
                  </a:lnTo>
                  <a:lnTo>
                    <a:pt x="630" y="6"/>
                  </a:lnTo>
                  <a:lnTo>
                    <a:pt x="656" y="12"/>
                  </a:lnTo>
                  <a:lnTo>
                    <a:pt x="684" y="18"/>
                  </a:lnTo>
                  <a:lnTo>
                    <a:pt x="710" y="26"/>
                  </a:lnTo>
                  <a:lnTo>
                    <a:pt x="734" y="34"/>
                  </a:lnTo>
                  <a:lnTo>
                    <a:pt x="760" y="44"/>
                  </a:lnTo>
                  <a:lnTo>
                    <a:pt x="784" y="54"/>
                  </a:lnTo>
                  <a:lnTo>
                    <a:pt x="808" y="66"/>
                  </a:lnTo>
                  <a:lnTo>
                    <a:pt x="830" y="80"/>
                  </a:lnTo>
                  <a:lnTo>
                    <a:pt x="852" y="94"/>
                  </a:lnTo>
                  <a:lnTo>
                    <a:pt x="874" y="110"/>
                  </a:lnTo>
                  <a:lnTo>
                    <a:pt x="894" y="126"/>
                  </a:lnTo>
                  <a:lnTo>
                    <a:pt x="914" y="142"/>
                  </a:lnTo>
                  <a:lnTo>
                    <a:pt x="934" y="160"/>
                  </a:lnTo>
                  <a:lnTo>
                    <a:pt x="952" y="180"/>
                  </a:lnTo>
                  <a:lnTo>
                    <a:pt x="968" y="200"/>
                  </a:lnTo>
                  <a:lnTo>
                    <a:pt x="986" y="220"/>
                  </a:lnTo>
                  <a:lnTo>
                    <a:pt x="1000" y="242"/>
                  </a:lnTo>
                  <a:lnTo>
                    <a:pt x="1014" y="264"/>
                  </a:lnTo>
                  <a:lnTo>
                    <a:pt x="1028" y="286"/>
                  </a:lnTo>
                  <a:lnTo>
                    <a:pt x="1040" y="310"/>
                  </a:lnTo>
                  <a:lnTo>
                    <a:pt x="1050" y="334"/>
                  </a:lnTo>
                  <a:lnTo>
                    <a:pt x="1060" y="360"/>
                  </a:lnTo>
                  <a:lnTo>
                    <a:pt x="1070" y="384"/>
                  </a:lnTo>
                  <a:lnTo>
                    <a:pt x="1076" y="410"/>
                  </a:lnTo>
                  <a:lnTo>
                    <a:pt x="1082" y="438"/>
                  </a:lnTo>
                  <a:lnTo>
                    <a:pt x="1088" y="464"/>
                  </a:lnTo>
                  <a:lnTo>
                    <a:pt x="1090" y="492"/>
                  </a:lnTo>
                  <a:lnTo>
                    <a:pt x="1094" y="520"/>
                  </a:lnTo>
                  <a:lnTo>
                    <a:pt x="1094" y="548"/>
                  </a:lnTo>
                  <a:lnTo>
                    <a:pt x="1094" y="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8391240" y="11309400"/>
              <a:ext cx="1737000" cy="17366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94" h="1094">
                  <a:moveTo>
                    <a:pt x="1094" y="548"/>
                  </a:moveTo>
                  <a:lnTo>
                    <a:pt x="1094" y="548"/>
                  </a:lnTo>
                  <a:lnTo>
                    <a:pt x="1094" y="576"/>
                  </a:lnTo>
                  <a:lnTo>
                    <a:pt x="1090" y="604"/>
                  </a:lnTo>
                  <a:lnTo>
                    <a:pt x="1088" y="630"/>
                  </a:lnTo>
                  <a:lnTo>
                    <a:pt x="1082" y="658"/>
                  </a:lnTo>
                  <a:lnTo>
                    <a:pt x="1076" y="684"/>
                  </a:lnTo>
                  <a:lnTo>
                    <a:pt x="1070" y="710"/>
                  </a:lnTo>
                  <a:lnTo>
                    <a:pt x="1060" y="736"/>
                  </a:lnTo>
                  <a:lnTo>
                    <a:pt x="1050" y="760"/>
                  </a:lnTo>
                  <a:lnTo>
                    <a:pt x="1040" y="784"/>
                  </a:lnTo>
                  <a:lnTo>
                    <a:pt x="1028" y="808"/>
                  </a:lnTo>
                  <a:lnTo>
                    <a:pt x="1014" y="832"/>
                  </a:lnTo>
                  <a:lnTo>
                    <a:pt x="1000" y="854"/>
                  </a:lnTo>
                  <a:lnTo>
                    <a:pt x="986" y="876"/>
                  </a:lnTo>
                  <a:lnTo>
                    <a:pt x="968" y="896"/>
                  </a:lnTo>
                  <a:lnTo>
                    <a:pt x="952" y="916"/>
                  </a:lnTo>
                  <a:lnTo>
                    <a:pt x="934" y="934"/>
                  </a:lnTo>
                  <a:lnTo>
                    <a:pt x="914" y="952"/>
                  </a:lnTo>
                  <a:lnTo>
                    <a:pt x="894" y="970"/>
                  </a:lnTo>
                  <a:lnTo>
                    <a:pt x="874" y="986"/>
                  </a:lnTo>
                  <a:lnTo>
                    <a:pt x="852" y="1002"/>
                  </a:lnTo>
                  <a:lnTo>
                    <a:pt x="830" y="1016"/>
                  </a:lnTo>
                  <a:lnTo>
                    <a:pt x="808" y="1028"/>
                  </a:lnTo>
                  <a:lnTo>
                    <a:pt x="784" y="1040"/>
                  </a:lnTo>
                  <a:lnTo>
                    <a:pt x="760" y="1052"/>
                  </a:lnTo>
                  <a:lnTo>
                    <a:pt x="734" y="1062"/>
                  </a:lnTo>
                  <a:lnTo>
                    <a:pt x="710" y="1070"/>
                  </a:lnTo>
                  <a:lnTo>
                    <a:pt x="684" y="1078"/>
                  </a:lnTo>
                  <a:lnTo>
                    <a:pt x="656" y="1084"/>
                  </a:lnTo>
                  <a:lnTo>
                    <a:pt x="630" y="1088"/>
                  </a:lnTo>
                  <a:lnTo>
                    <a:pt x="602" y="1092"/>
                  </a:lnTo>
                  <a:lnTo>
                    <a:pt x="574" y="1094"/>
                  </a:lnTo>
                  <a:lnTo>
                    <a:pt x="546" y="1094"/>
                  </a:lnTo>
                  <a:lnTo>
                    <a:pt x="546" y="1094"/>
                  </a:lnTo>
                  <a:lnTo>
                    <a:pt x="518" y="1094"/>
                  </a:lnTo>
                  <a:lnTo>
                    <a:pt x="490" y="1092"/>
                  </a:lnTo>
                  <a:lnTo>
                    <a:pt x="464" y="1088"/>
                  </a:lnTo>
                  <a:lnTo>
                    <a:pt x="436" y="1084"/>
                  </a:lnTo>
                  <a:lnTo>
                    <a:pt x="410" y="1078"/>
                  </a:lnTo>
                  <a:lnTo>
                    <a:pt x="384" y="1070"/>
                  </a:lnTo>
                  <a:lnTo>
                    <a:pt x="358" y="1062"/>
                  </a:lnTo>
                  <a:lnTo>
                    <a:pt x="334" y="1052"/>
                  </a:lnTo>
                  <a:lnTo>
                    <a:pt x="310" y="1040"/>
                  </a:lnTo>
                  <a:lnTo>
                    <a:pt x="286" y="1028"/>
                  </a:lnTo>
                  <a:lnTo>
                    <a:pt x="264" y="1016"/>
                  </a:lnTo>
                  <a:lnTo>
                    <a:pt x="240" y="1002"/>
                  </a:lnTo>
                  <a:lnTo>
                    <a:pt x="220" y="986"/>
                  </a:lnTo>
                  <a:lnTo>
                    <a:pt x="198" y="970"/>
                  </a:lnTo>
                  <a:lnTo>
                    <a:pt x="178" y="952"/>
                  </a:lnTo>
                  <a:lnTo>
                    <a:pt x="160" y="934"/>
                  </a:lnTo>
                  <a:lnTo>
                    <a:pt x="142" y="916"/>
                  </a:lnTo>
                  <a:lnTo>
                    <a:pt x="124" y="896"/>
                  </a:lnTo>
                  <a:lnTo>
                    <a:pt x="108" y="876"/>
                  </a:lnTo>
                  <a:lnTo>
                    <a:pt x="94" y="854"/>
                  </a:lnTo>
                  <a:lnTo>
                    <a:pt x="78" y="832"/>
                  </a:lnTo>
                  <a:lnTo>
                    <a:pt x="66" y="808"/>
                  </a:lnTo>
                  <a:lnTo>
                    <a:pt x="54" y="784"/>
                  </a:lnTo>
                  <a:lnTo>
                    <a:pt x="42" y="760"/>
                  </a:lnTo>
                  <a:lnTo>
                    <a:pt x="32" y="736"/>
                  </a:lnTo>
                  <a:lnTo>
                    <a:pt x="24" y="710"/>
                  </a:lnTo>
                  <a:lnTo>
                    <a:pt x="16" y="684"/>
                  </a:lnTo>
                  <a:lnTo>
                    <a:pt x="10" y="658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0" y="576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0" y="520"/>
                  </a:lnTo>
                  <a:lnTo>
                    <a:pt x="2" y="492"/>
                  </a:lnTo>
                  <a:lnTo>
                    <a:pt x="6" y="464"/>
                  </a:lnTo>
                  <a:lnTo>
                    <a:pt x="10" y="438"/>
                  </a:lnTo>
                  <a:lnTo>
                    <a:pt x="16" y="410"/>
                  </a:lnTo>
                  <a:lnTo>
                    <a:pt x="24" y="384"/>
                  </a:lnTo>
                  <a:lnTo>
                    <a:pt x="32" y="360"/>
                  </a:lnTo>
                  <a:lnTo>
                    <a:pt x="42" y="334"/>
                  </a:lnTo>
                  <a:lnTo>
                    <a:pt x="54" y="310"/>
                  </a:lnTo>
                  <a:lnTo>
                    <a:pt x="66" y="286"/>
                  </a:lnTo>
                  <a:lnTo>
                    <a:pt x="78" y="264"/>
                  </a:lnTo>
                  <a:lnTo>
                    <a:pt x="94" y="242"/>
                  </a:lnTo>
                  <a:lnTo>
                    <a:pt x="108" y="220"/>
                  </a:lnTo>
                  <a:lnTo>
                    <a:pt x="124" y="200"/>
                  </a:lnTo>
                  <a:lnTo>
                    <a:pt x="142" y="180"/>
                  </a:lnTo>
                  <a:lnTo>
                    <a:pt x="160" y="160"/>
                  </a:lnTo>
                  <a:lnTo>
                    <a:pt x="178" y="142"/>
                  </a:lnTo>
                  <a:lnTo>
                    <a:pt x="198" y="126"/>
                  </a:lnTo>
                  <a:lnTo>
                    <a:pt x="220" y="110"/>
                  </a:lnTo>
                  <a:lnTo>
                    <a:pt x="240" y="94"/>
                  </a:lnTo>
                  <a:lnTo>
                    <a:pt x="264" y="80"/>
                  </a:lnTo>
                  <a:lnTo>
                    <a:pt x="286" y="66"/>
                  </a:lnTo>
                  <a:lnTo>
                    <a:pt x="310" y="54"/>
                  </a:lnTo>
                  <a:lnTo>
                    <a:pt x="334" y="44"/>
                  </a:lnTo>
                  <a:lnTo>
                    <a:pt x="358" y="34"/>
                  </a:lnTo>
                  <a:lnTo>
                    <a:pt x="384" y="26"/>
                  </a:lnTo>
                  <a:lnTo>
                    <a:pt x="410" y="18"/>
                  </a:lnTo>
                  <a:lnTo>
                    <a:pt x="436" y="12"/>
                  </a:lnTo>
                  <a:lnTo>
                    <a:pt x="464" y="6"/>
                  </a:lnTo>
                  <a:lnTo>
                    <a:pt x="490" y="4"/>
                  </a:lnTo>
                  <a:lnTo>
                    <a:pt x="518" y="2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74" y="2"/>
                  </a:lnTo>
                  <a:lnTo>
                    <a:pt x="602" y="4"/>
                  </a:lnTo>
                  <a:lnTo>
                    <a:pt x="630" y="6"/>
                  </a:lnTo>
                  <a:lnTo>
                    <a:pt x="656" y="12"/>
                  </a:lnTo>
                  <a:lnTo>
                    <a:pt x="684" y="18"/>
                  </a:lnTo>
                  <a:lnTo>
                    <a:pt x="710" y="26"/>
                  </a:lnTo>
                  <a:lnTo>
                    <a:pt x="734" y="34"/>
                  </a:lnTo>
                  <a:lnTo>
                    <a:pt x="760" y="44"/>
                  </a:lnTo>
                  <a:lnTo>
                    <a:pt x="784" y="54"/>
                  </a:lnTo>
                  <a:lnTo>
                    <a:pt x="808" y="66"/>
                  </a:lnTo>
                  <a:lnTo>
                    <a:pt x="830" y="80"/>
                  </a:lnTo>
                  <a:lnTo>
                    <a:pt x="852" y="94"/>
                  </a:lnTo>
                  <a:lnTo>
                    <a:pt x="874" y="110"/>
                  </a:lnTo>
                  <a:lnTo>
                    <a:pt x="894" y="126"/>
                  </a:lnTo>
                  <a:lnTo>
                    <a:pt x="914" y="142"/>
                  </a:lnTo>
                  <a:lnTo>
                    <a:pt x="934" y="160"/>
                  </a:lnTo>
                  <a:lnTo>
                    <a:pt x="952" y="180"/>
                  </a:lnTo>
                  <a:lnTo>
                    <a:pt x="968" y="200"/>
                  </a:lnTo>
                  <a:lnTo>
                    <a:pt x="986" y="220"/>
                  </a:lnTo>
                  <a:lnTo>
                    <a:pt x="1000" y="242"/>
                  </a:lnTo>
                  <a:lnTo>
                    <a:pt x="1014" y="264"/>
                  </a:lnTo>
                  <a:lnTo>
                    <a:pt x="1028" y="286"/>
                  </a:lnTo>
                  <a:lnTo>
                    <a:pt x="1040" y="310"/>
                  </a:lnTo>
                  <a:lnTo>
                    <a:pt x="1050" y="334"/>
                  </a:lnTo>
                  <a:lnTo>
                    <a:pt x="1060" y="360"/>
                  </a:lnTo>
                  <a:lnTo>
                    <a:pt x="1070" y="384"/>
                  </a:lnTo>
                  <a:lnTo>
                    <a:pt x="1076" y="410"/>
                  </a:lnTo>
                  <a:lnTo>
                    <a:pt x="1082" y="438"/>
                  </a:lnTo>
                  <a:lnTo>
                    <a:pt x="1088" y="464"/>
                  </a:lnTo>
                  <a:lnTo>
                    <a:pt x="1090" y="492"/>
                  </a:lnTo>
                  <a:lnTo>
                    <a:pt x="1094" y="520"/>
                  </a:lnTo>
                  <a:lnTo>
                    <a:pt x="1094" y="548"/>
                  </a:lnTo>
                  <a:lnTo>
                    <a:pt x="1094" y="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8391240" y="12798360"/>
              <a:ext cx="1737000" cy="17366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94" h="1094">
                  <a:moveTo>
                    <a:pt x="1094" y="548"/>
                  </a:moveTo>
                  <a:lnTo>
                    <a:pt x="1094" y="548"/>
                  </a:lnTo>
                  <a:lnTo>
                    <a:pt x="1094" y="576"/>
                  </a:lnTo>
                  <a:lnTo>
                    <a:pt x="1090" y="604"/>
                  </a:lnTo>
                  <a:lnTo>
                    <a:pt x="1088" y="630"/>
                  </a:lnTo>
                  <a:lnTo>
                    <a:pt x="1082" y="658"/>
                  </a:lnTo>
                  <a:lnTo>
                    <a:pt x="1076" y="684"/>
                  </a:lnTo>
                  <a:lnTo>
                    <a:pt x="1070" y="710"/>
                  </a:lnTo>
                  <a:lnTo>
                    <a:pt x="1060" y="736"/>
                  </a:lnTo>
                  <a:lnTo>
                    <a:pt x="1050" y="760"/>
                  </a:lnTo>
                  <a:lnTo>
                    <a:pt x="1040" y="784"/>
                  </a:lnTo>
                  <a:lnTo>
                    <a:pt x="1028" y="808"/>
                  </a:lnTo>
                  <a:lnTo>
                    <a:pt x="1014" y="832"/>
                  </a:lnTo>
                  <a:lnTo>
                    <a:pt x="1000" y="854"/>
                  </a:lnTo>
                  <a:lnTo>
                    <a:pt x="986" y="876"/>
                  </a:lnTo>
                  <a:lnTo>
                    <a:pt x="968" y="896"/>
                  </a:lnTo>
                  <a:lnTo>
                    <a:pt x="952" y="916"/>
                  </a:lnTo>
                  <a:lnTo>
                    <a:pt x="934" y="934"/>
                  </a:lnTo>
                  <a:lnTo>
                    <a:pt x="914" y="952"/>
                  </a:lnTo>
                  <a:lnTo>
                    <a:pt x="894" y="970"/>
                  </a:lnTo>
                  <a:lnTo>
                    <a:pt x="874" y="986"/>
                  </a:lnTo>
                  <a:lnTo>
                    <a:pt x="852" y="1002"/>
                  </a:lnTo>
                  <a:lnTo>
                    <a:pt x="830" y="1016"/>
                  </a:lnTo>
                  <a:lnTo>
                    <a:pt x="808" y="1028"/>
                  </a:lnTo>
                  <a:lnTo>
                    <a:pt x="784" y="1040"/>
                  </a:lnTo>
                  <a:lnTo>
                    <a:pt x="760" y="1052"/>
                  </a:lnTo>
                  <a:lnTo>
                    <a:pt x="734" y="1062"/>
                  </a:lnTo>
                  <a:lnTo>
                    <a:pt x="710" y="1070"/>
                  </a:lnTo>
                  <a:lnTo>
                    <a:pt x="684" y="1078"/>
                  </a:lnTo>
                  <a:lnTo>
                    <a:pt x="656" y="1084"/>
                  </a:lnTo>
                  <a:lnTo>
                    <a:pt x="630" y="1088"/>
                  </a:lnTo>
                  <a:lnTo>
                    <a:pt x="602" y="1092"/>
                  </a:lnTo>
                  <a:lnTo>
                    <a:pt x="574" y="1094"/>
                  </a:lnTo>
                  <a:lnTo>
                    <a:pt x="546" y="1094"/>
                  </a:lnTo>
                  <a:lnTo>
                    <a:pt x="546" y="1094"/>
                  </a:lnTo>
                  <a:lnTo>
                    <a:pt x="518" y="1094"/>
                  </a:lnTo>
                  <a:lnTo>
                    <a:pt x="490" y="1092"/>
                  </a:lnTo>
                  <a:lnTo>
                    <a:pt x="464" y="1088"/>
                  </a:lnTo>
                  <a:lnTo>
                    <a:pt x="436" y="1084"/>
                  </a:lnTo>
                  <a:lnTo>
                    <a:pt x="410" y="1078"/>
                  </a:lnTo>
                  <a:lnTo>
                    <a:pt x="384" y="1070"/>
                  </a:lnTo>
                  <a:lnTo>
                    <a:pt x="358" y="1062"/>
                  </a:lnTo>
                  <a:lnTo>
                    <a:pt x="334" y="1052"/>
                  </a:lnTo>
                  <a:lnTo>
                    <a:pt x="310" y="1040"/>
                  </a:lnTo>
                  <a:lnTo>
                    <a:pt x="286" y="1028"/>
                  </a:lnTo>
                  <a:lnTo>
                    <a:pt x="264" y="1016"/>
                  </a:lnTo>
                  <a:lnTo>
                    <a:pt x="240" y="1002"/>
                  </a:lnTo>
                  <a:lnTo>
                    <a:pt x="220" y="986"/>
                  </a:lnTo>
                  <a:lnTo>
                    <a:pt x="198" y="970"/>
                  </a:lnTo>
                  <a:lnTo>
                    <a:pt x="178" y="952"/>
                  </a:lnTo>
                  <a:lnTo>
                    <a:pt x="160" y="934"/>
                  </a:lnTo>
                  <a:lnTo>
                    <a:pt x="142" y="916"/>
                  </a:lnTo>
                  <a:lnTo>
                    <a:pt x="124" y="896"/>
                  </a:lnTo>
                  <a:lnTo>
                    <a:pt x="108" y="876"/>
                  </a:lnTo>
                  <a:lnTo>
                    <a:pt x="94" y="854"/>
                  </a:lnTo>
                  <a:lnTo>
                    <a:pt x="78" y="832"/>
                  </a:lnTo>
                  <a:lnTo>
                    <a:pt x="66" y="808"/>
                  </a:lnTo>
                  <a:lnTo>
                    <a:pt x="54" y="784"/>
                  </a:lnTo>
                  <a:lnTo>
                    <a:pt x="42" y="760"/>
                  </a:lnTo>
                  <a:lnTo>
                    <a:pt x="32" y="736"/>
                  </a:lnTo>
                  <a:lnTo>
                    <a:pt x="24" y="710"/>
                  </a:lnTo>
                  <a:lnTo>
                    <a:pt x="16" y="684"/>
                  </a:lnTo>
                  <a:lnTo>
                    <a:pt x="10" y="658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0" y="576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0" y="520"/>
                  </a:lnTo>
                  <a:lnTo>
                    <a:pt x="2" y="492"/>
                  </a:lnTo>
                  <a:lnTo>
                    <a:pt x="6" y="464"/>
                  </a:lnTo>
                  <a:lnTo>
                    <a:pt x="10" y="438"/>
                  </a:lnTo>
                  <a:lnTo>
                    <a:pt x="16" y="410"/>
                  </a:lnTo>
                  <a:lnTo>
                    <a:pt x="24" y="384"/>
                  </a:lnTo>
                  <a:lnTo>
                    <a:pt x="32" y="360"/>
                  </a:lnTo>
                  <a:lnTo>
                    <a:pt x="42" y="334"/>
                  </a:lnTo>
                  <a:lnTo>
                    <a:pt x="54" y="310"/>
                  </a:lnTo>
                  <a:lnTo>
                    <a:pt x="66" y="286"/>
                  </a:lnTo>
                  <a:lnTo>
                    <a:pt x="78" y="264"/>
                  </a:lnTo>
                  <a:lnTo>
                    <a:pt x="94" y="242"/>
                  </a:lnTo>
                  <a:lnTo>
                    <a:pt x="108" y="220"/>
                  </a:lnTo>
                  <a:lnTo>
                    <a:pt x="124" y="200"/>
                  </a:lnTo>
                  <a:lnTo>
                    <a:pt x="142" y="180"/>
                  </a:lnTo>
                  <a:lnTo>
                    <a:pt x="160" y="160"/>
                  </a:lnTo>
                  <a:lnTo>
                    <a:pt x="178" y="142"/>
                  </a:lnTo>
                  <a:lnTo>
                    <a:pt x="198" y="126"/>
                  </a:lnTo>
                  <a:lnTo>
                    <a:pt x="220" y="110"/>
                  </a:lnTo>
                  <a:lnTo>
                    <a:pt x="240" y="94"/>
                  </a:lnTo>
                  <a:lnTo>
                    <a:pt x="264" y="80"/>
                  </a:lnTo>
                  <a:lnTo>
                    <a:pt x="286" y="66"/>
                  </a:lnTo>
                  <a:lnTo>
                    <a:pt x="310" y="54"/>
                  </a:lnTo>
                  <a:lnTo>
                    <a:pt x="334" y="44"/>
                  </a:lnTo>
                  <a:lnTo>
                    <a:pt x="358" y="34"/>
                  </a:lnTo>
                  <a:lnTo>
                    <a:pt x="384" y="26"/>
                  </a:lnTo>
                  <a:lnTo>
                    <a:pt x="410" y="18"/>
                  </a:lnTo>
                  <a:lnTo>
                    <a:pt x="436" y="12"/>
                  </a:lnTo>
                  <a:lnTo>
                    <a:pt x="464" y="6"/>
                  </a:lnTo>
                  <a:lnTo>
                    <a:pt x="490" y="4"/>
                  </a:lnTo>
                  <a:lnTo>
                    <a:pt x="518" y="2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74" y="2"/>
                  </a:lnTo>
                  <a:lnTo>
                    <a:pt x="602" y="4"/>
                  </a:lnTo>
                  <a:lnTo>
                    <a:pt x="630" y="6"/>
                  </a:lnTo>
                  <a:lnTo>
                    <a:pt x="656" y="12"/>
                  </a:lnTo>
                  <a:lnTo>
                    <a:pt x="684" y="18"/>
                  </a:lnTo>
                  <a:lnTo>
                    <a:pt x="710" y="26"/>
                  </a:lnTo>
                  <a:lnTo>
                    <a:pt x="734" y="34"/>
                  </a:lnTo>
                  <a:lnTo>
                    <a:pt x="760" y="44"/>
                  </a:lnTo>
                  <a:lnTo>
                    <a:pt x="784" y="54"/>
                  </a:lnTo>
                  <a:lnTo>
                    <a:pt x="808" y="66"/>
                  </a:lnTo>
                  <a:lnTo>
                    <a:pt x="830" y="80"/>
                  </a:lnTo>
                  <a:lnTo>
                    <a:pt x="852" y="94"/>
                  </a:lnTo>
                  <a:lnTo>
                    <a:pt x="874" y="110"/>
                  </a:lnTo>
                  <a:lnTo>
                    <a:pt x="894" y="126"/>
                  </a:lnTo>
                  <a:lnTo>
                    <a:pt x="914" y="142"/>
                  </a:lnTo>
                  <a:lnTo>
                    <a:pt x="934" y="160"/>
                  </a:lnTo>
                  <a:lnTo>
                    <a:pt x="952" y="180"/>
                  </a:lnTo>
                  <a:lnTo>
                    <a:pt x="968" y="200"/>
                  </a:lnTo>
                  <a:lnTo>
                    <a:pt x="986" y="220"/>
                  </a:lnTo>
                  <a:lnTo>
                    <a:pt x="1000" y="242"/>
                  </a:lnTo>
                  <a:lnTo>
                    <a:pt x="1014" y="264"/>
                  </a:lnTo>
                  <a:lnTo>
                    <a:pt x="1028" y="286"/>
                  </a:lnTo>
                  <a:lnTo>
                    <a:pt x="1040" y="310"/>
                  </a:lnTo>
                  <a:lnTo>
                    <a:pt x="1050" y="334"/>
                  </a:lnTo>
                  <a:lnTo>
                    <a:pt x="1060" y="360"/>
                  </a:lnTo>
                  <a:lnTo>
                    <a:pt x="1070" y="384"/>
                  </a:lnTo>
                  <a:lnTo>
                    <a:pt x="1076" y="410"/>
                  </a:lnTo>
                  <a:lnTo>
                    <a:pt x="1082" y="438"/>
                  </a:lnTo>
                  <a:lnTo>
                    <a:pt x="1088" y="464"/>
                  </a:lnTo>
                  <a:lnTo>
                    <a:pt x="1090" y="492"/>
                  </a:lnTo>
                  <a:lnTo>
                    <a:pt x="1094" y="520"/>
                  </a:lnTo>
                  <a:lnTo>
                    <a:pt x="1094" y="548"/>
                  </a:lnTo>
                  <a:lnTo>
                    <a:pt x="1094" y="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17"/>
            <p:cNvSpPr/>
            <p:nvPr/>
          </p:nvSpPr>
          <p:spPr>
            <a:xfrm>
              <a:off x="8229600" y="6810480"/>
              <a:ext cx="1737000" cy="17366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94" h="1094">
                  <a:moveTo>
                    <a:pt x="1094" y="548"/>
                  </a:moveTo>
                  <a:lnTo>
                    <a:pt x="1094" y="548"/>
                  </a:lnTo>
                  <a:lnTo>
                    <a:pt x="1094" y="576"/>
                  </a:lnTo>
                  <a:lnTo>
                    <a:pt x="1092" y="604"/>
                  </a:lnTo>
                  <a:lnTo>
                    <a:pt x="1088" y="630"/>
                  </a:lnTo>
                  <a:lnTo>
                    <a:pt x="1084" y="658"/>
                  </a:lnTo>
                  <a:lnTo>
                    <a:pt x="1078" y="684"/>
                  </a:lnTo>
                  <a:lnTo>
                    <a:pt x="1070" y="710"/>
                  </a:lnTo>
                  <a:lnTo>
                    <a:pt x="1062" y="736"/>
                  </a:lnTo>
                  <a:lnTo>
                    <a:pt x="1052" y="760"/>
                  </a:lnTo>
                  <a:lnTo>
                    <a:pt x="1040" y="784"/>
                  </a:lnTo>
                  <a:lnTo>
                    <a:pt x="1028" y="808"/>
                  </a:lnTo>
                  <a:lnTo>
                    <a:pt x="1016" y="832"/>
                  </a:lnTo>
                  <a:lnTo>
                    <a:pt x="1002" y="854"/>
                  </a:lnTo>
                  <a:lnTo>
                    <a:pt x="986" y="874"/>
                  </a:lnTo>
                  <a:lnTo>
                    <a:pt x="970" y="896"/>
                  </a:lnTo>
                  <a:lnTo>
                    <a:pt x="952" y="916"/>
                  </a:lnTo>
                  <a:lnTo>
                    <a:pt x="934" y="934"/>
                  </a:lnTo>
                  <a:lnTo>
                    <a:pt x="916" y="952"/>
                  </a:lnTo>
                  <a:lnTo>
                    <a:pt x="896" y="970"/>
                  </a:lnTo>
                  <a:lnTo>
                    <a:pt x="876" y="986"/>
                  </a:lnTo>
                  <a:lnTo>
                    <a:pt x="854" y="1002"/>
                  </a:lnTo>
                  <a:lnTo>
                    <a:pt x="832" y="1016"/>
                  </a:lnTo>
                  <a:lnTo>
                    <a:pt x="808" y="1028"/>
                  </a:lnTo>
                  <a:lnTo>
                    <a:pt x="784" y="1040"/>
                  </a:lnTo>
                  <a:lnTo>
                    <a:pt x="760" y="1052"/>
                  </a:lnTo>
                  <a:lnTo>
                    <a:pt x="736" y="1062"/>
                  </a:lnTo>
                  <a:lnTo>
                    <a:pt x="710" y="1070"/>
                  </a:lnTo>
                  <a:lnTo>
                    <a:pt x="684" y="1078"/>
                  </a:lnTo>
                  <a:lnTo>
                    <a:pt x="658" y="1084"/>
                  </a:lnTo>
                  <a:lnTo>
                    <a:pt x="632" y="1088"/>
                  </a:lnTo>
                  <a:lnTo>
                    <a:pt x="604" y="1092"/>
                  </a:lnTo>
                  <a:lnTo>
                    <a:pt x="576" y="1094"/>
                  </a:lnTo>
                  <a:lnTo>
                    <a:pt x="548" y="1094"/>
                  </a:lnTo>
                  <a:lnTo>
                    <a:pt x="548" y="1094"/>
                  </a:lnTo>
                  <a:lnTo>
                    <a:pt x="520" y="1094"/>
                  </a:lnTo>
                  <a:lnTo>
                    <a:pt x="492" y="1092"/>
                  </a:lnTo>
                  <a:lnTo>
                    <a:pt x="464" y="1088"/>
                  </a:lnTo>
                  <a:lnTo>
                    <a:pt x="438" y="1084"/>
                  </a:lnTo>
                  <a:lnTo>
                    <a:pt x="410" y="1078"/>
                  </a:lnTo>
                  <a:lnTo>
                    <a:pt x="386" y="1070"/>
                  </a:lnTo>
                  <a:lnTo>
                    <a:pt x="360" y="1062"/>
                  </a:lnTo>
                  <a:lnTo>
                    <a:pt x="334" y="1052"/>
                  </a:lnTo>
                  <a:lnTo>
                    <a:pt x="310" y="1040"/>
                  </a:lnTo>
                  <a:lnTo>
                    <a:pt x="286" y="1028"/>
                  </a:lnTo>
                  <a:lnTo>
                    <a:pt x="264" y="1016"/>
                  </a:lnTo>
                  <a:lnTo>
                    <a:pt x="242" y="1002"/>
                  </a:lnTo>
                  <a:lnTo>
                    <a:pt x="220" y="986"/>
                  </a:lnTo>
                  <a:lnTo>
                    <a:pt x="200" y="970"/>
                  </a:lnTo>
                  <a:lnTo>
                    <a:pt x="180" y="952"/>
                  </a:lnTo>
                  <a:lnTo>
                    <a:pt x="160" y="934"/>
                  </a:lnTo>
                  <a:lnTo>
                    <a:pt x="142" y="916"/>
                  </a:lnTo>
                  <a:lnTo>
                    <a:pt x="126" y="896"/>
                  </a:lnTo>
                  <a:lnTo>
                    <a:pt x="110" y="874"/>
                  </a:lnTo>
                  <a:lnTo>
                    <a:pt x="94" y="854"/>
                  </a:lnTo>
                  <a:lnTo>
                    <a:pt x="80" y="832"/>
                  </a:lnTo>
                  <a:lnTo>
                    <a:pt x="66" y="808"/>
                  </a:lnTo>
                  <a:lnTo>
                    <a:pt x="54" y="784"/>
                  </a:lnTo>
                  <a:lnTo>
                    <a:pt x="44" y="760"/>
                  </a:lnTo>
                  <a:lnTo>
                    <a:pt x="34" y="736"/>
                  </a:lnTo>
                  <a:lnTo>
                    <a:pt x="26" y="710"/>
                  </a:lnTo>
                  <a:lnTo>
                    <a:pt x="18" y="684"/>
                  </a:lnTo>
                  <a:lnTo>
                    <a:pt x="12" y="658"/>
                  </a:lnTo>
                  <a:lnTo>
                    <a:pt x="6" y="630"/>
                  </a:lnTo>
                  <a:lnTo>
                    <a:pt x="4" y="604"/>
                  </a:lnTo>
                  <a:lnTo>
                    <a:pt x="2" y="576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2" y="520"/>
                  </a:lnTo>
                  <a:lnTo>
                    <a:pt x="4" y="492"/>
                  </a:lnTo>
                  <a:lnTo>
                    <a:pt x="6" y="464"/>
                  </a:lnTo>
                  <a:lnTo>
                    <a:pt x="12" y="438"/>
                  </a:lnTo>
                  <a:lnTo>
                    <a:pt x="18" y="410"/>
                  </a:lnTo>
                  <a:lnTo>
                    <a:pt x="26" y="384"/>
                  </a:lnTo>
                  <a:lnTo>
                    <a:pt x="34" y="360"/>
                  </a:lnTo>
                  <a:lnTo>
                    <a:pt x="44" y="334"/>
                  </a:lnTo>
                  <a:lnTo>
                    <a:pt x="54" y="310"/>
                  </a:lnTo>
                  <a:lnTo>
                    <a:pt x="66" y="286"/>
                  </a:lnTo>
                  <a:lnTo>
                    <a:pt x="80" y="264"/>
                  </a:lnTo>
                  <a:lnTo>
                    <a:pt x="94" y="242"/>
                  </a:lnTo>
                  <a:lnTo>
                    <a:pt x="110" y="220"/>
                  </a:lnTo>
                  <a:lnTo>
                    <a:pt x="126" y="200"/>
                  </a:lnTo>
                  <a:lnTo>
                    <a:pt x="142" y="180"/>
                  </a:lnTo>
                  <a:lnTo>
                    <a:pt x="160" y="160"/>
                  </a:lnTo>
                  <a:lnTo>
                    <a:pt x="180" y="142"/>
                  </a:lnTo>
                  <a:lnTo>
                    <a:pt x="200" y="126"/>
                  </a:lnTo>
                  <a:lnTo>
                    <a:pt x="220" y="110"/>
                  </a:lnTo>
                  <a:lnTo>
                    <a:pt x="242" y="94"/>
                  </a:lnTo>
                  <a:lnTo>
                    <a:pt x="264" y="80"/>
                  </a:lnTo>
                  <a:lnTo>
                    <a:pt x="286" y="66"/>
                  </a:lnTo>
                  <a:lnTo>
                    <a:pt x="310" y="54"/>
                  </a:lnTo>
                  <a:lnTo>
                    <a:pt x="334" y="44"/>
                  </a:lnTo>
                  <a:lnTo>
                    <a:pt x="360" y="34"/>
                  </a:lnTo>
                  <a:lnTo>
                    <a:pt x="386" y="24"/>
                  </a:lnTo>
                  <a:lnTo>
                    <a:pt x="410" y="18"/>
                  </a:lnTo>
                  <a:lnTo>
                    <a:pt x="438" y="12"/>
                  </a:lnTo>
                  <a:lnTo>
                    <a:pt x="464" y="6"/>
                  </a:lnTo>
                  <a:lnTo>
                    <a:pt x="492" y="4"/>
                  </a:lnTo>
                  <a:lnTo>
                    <a:pt x="520" y="2"/>
                  </a:lnTo>
                  <a:lnTo>
                    <a:pt x="548" y="0"/>
                  </a:lnTo>
                  <a:lnTo>
                    <a:pt x="548" y="0"/>
                  </a:lnTo>
                  <a:lnTo>
                    <a:pt x="576" y="2"/>
                  </a:lnTo>
                  <a:lnTo>
                    <a:pt x="604" y="4"/>
                  </a:lnTo>
                  <a:lnTo>
                    <a:pt x="632" y="6"/>
                  </a:lnTo>
                  <a:lnTo>
                    <a:pt x="658" y="12"/>
                  </a:lnTo>
                  <a:lnTo>
                    <a:pt x="684" y="18"/>
                  </a:lnTo>
                  <a:lnTo>
                    <a:pt x="710" y="24"/>
                  </a:lnTo>
                  <a:lnTo>
                    <a:pt x="736" y="34"/>
                  </a:lnTo>
                  <a:lnTo>
                    <a:pt x="760" y="44"/>
                  </a:lnTo>
                  <a:lnTo>
                    <a:pt x="784" y="54"/>
                  </a:lnTo>
                  <a:lnTo>
                    <a:pt x="808" y="66"/>
                  </a:lnTo>
                  <a:lnTo>
                    <a:pt x="832" y="80"/>
                  </a:lnTo>
                  <a:lnTo>
                    <a:pt x="854" y="94"/>
                  </a:lnTo>
                  <a:lnTo>
                    <a:pt x="876" y="110"/>
                  </a:lnTo>
                  <a:lnTo>
                    <a:pt x="896" y="126"/>
                  </a:lnTo>
                  <a:lnTo>
                    <a:pt x="916" y="142"/>
                  </a:lnTo>
                  <a:lnTo>
                    <a:pt x="934" y="160"/>
                  </a:lnTo>
                  <a:lnTo>
                    <a:pt x="952" y="180"/>
                  </a:lnTo>
                  <a:lnTo>
                    <a:pt x="970" y="200"/>
                  </a:lnTo>
                  <a:lnTo>
                    <a:pt x="986" y="220"/>
                  </a:lnTo>
                  <a:lnTo>
                    <a:pt x="1002" y="242"/>
                  </a:lnTo>
                  <a:lnTo>
                    <a:pt x="1016" y="264"/>
                  </a:lnTo>
                  <a:lnTo>
                    <a:pt x="1028" y="286"/>
                  </a:lnTo>
                  <a:lnTo>
                    <a:pt x="1040" y="310"/>
                  </a:lnTo>
                  <a:lnTo>
                    <a:pt x="1052" y="334"/>
                  </a:lnTo>
                  <a:lnTo>
                    <a:pt x="1062" y="360"/>
                  </a:lnTo>
                  <a:lnTo>
                    <a:pt x="1070" y="384"/>
                  </a:lnTo>
                  <a:lnTo>
                    <a:pt x="1078" y="410"/>
                  </a:lnTo>
                  <a:lnTo>
                    <a:pt x="1084" y="438"/>
                  </a:lnTo>
                  <a:lnTo>
                    <a:pt x="1088" y="464"/>
                  </a:lnTo>
                  <a:lnTo>
                    <a:pt x="1092" y="492"/>
                  </a:lnTo>
                  <a:lnTo>
                    <a:pt x="1094" y="520"/>
                  </a:lnTo>
                  <a:lnTo>
                    <a:pt x="1094" y="548"/>
                  </a:lnTo>
                  <a:lnTo>
                    <a:pt x="1094" y="548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18"/>
            <p:cNvSpPr/>
            <p:nvPr/>
          </p:nvSpPr>
          <p:spPr>
            <a:xfrm>
              <a:off x="8235720" y="6823080"/>
              <a:ext cx="1704960" cy="170172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1074" h="1072">
                  <a:moveTo>
                    <a:pt x="1074" y="536"/>
                  </a:moveTo>
                  <a:lnTo>
                    <a:pt x="1074" y="536"/>
                  </a:lnTo>
                  <a:lnTo>
                    <a:pt x="1074" y="564"/>
                  </a:lnTo>
                  <a:lnTo>
                    <a:pt x="1070" y="590"/>
                  </a:lnTo>
                  <a:lnTo>
                    <a:pt x="1068" y="618"/>
                  </a:lnTo>
                  <a:lnTo>
                    <a:pt x="1062" y="644"/>
                  </a:lnTo>
                  <a:lnTo>
                    <a:pt x="1056" y="670"/>
                  </a:lnTo>
                  <a:lnTo>
                    <a:pt x="1050" y="696"/>
                  </a:lnTo>
                  <a:lnTo>
                    <a:pt x="1042" y="720"/>
                  </a:lnTo>
                  <a:lnTo>
                    <a:pt x="1032" y="744"/>
                  </a:lnTo>
                  <a:lnTo>
                    <a:pt x="1020" y="768"/>
                  </a:lnTo>
                  <a:lnTo>
                    <a:pt x="1008" y="792"/>
                  </a:lnTo>
                  <a:lnTo>
                    <a:pt x="996" y="814"/>
                  </a:lnTo>
                  <a:lnTo>
                    <a:pt x="982" y="836"/>
                  </a:lnTo>
                  <a:lnTo>
                    <a:pt x="968" y="856"/>
                  </a:lnTo>
                  <a:lnTo>
                    <a:pt x="952" y="878"/>
                  </a:lnTo>
                  <a:lnTo>
                    <a:pt x="934" y="896"/>
                  </a:lnTo>
                  <a:lnTo>
                    <a:pt x="916" y="916"/>
                  </a:lnTo>
                  <a:lnTo>
                    <a:pt x="898" y="934"/>
                  </a:lnTo>
                  <a:lnTo>
                    <a:pt x="878" y="950"/>
                  </a:lnTo>
                  <a:lnTo>
                    <a:pt x="858" y="966"/>
                  </a:lnTo>
                  <a:lnTo>
                    <a:pt x="838" y="980"/>
                  </a:lnTo>
                  <a:lnTo>
                    <a:pt x="816" y="994"/>
                  </a:lnTo>
                  <a:lnTo>
                    <a:pt x="792" y="1008"/>
                  </a:lnTo>
                  <a:lnTo>
                    <a:pt x="770" y="1020"/>
                  </a:lnTo>
                  <a:lnTo>
                    <a:pt x="746" y="1030"/>
                  </a:lnTo>
                  <a:lnTo>
                    <a:pt x="722" y="1040"/>
                  </a:lnTo>
                  <a:lnTo>
                    <a:pt x="696" y="1048"/>
                  </a:lnTo>
                  <a:lnTo>
                    <a:pt x="672" y="1056"/>
                  </a:lnTo>
                  <a:lnTo>
                    <a:pt x="646" y="1062"/>
                  </a:lnTo>
                  <a:lnTo>
                    <a:pt x="618" y="1066"/>
                  </a:lnTo>
                  <a:lnTo>
                    <a:pt x="592" y="1070"/>
                  </a:lnTo>
                  <a:lnTo>
                    <a:pt x="564" y="1072"/>
                  </a:lnTo>
                  <a:lnTo>
                    <a:pt x="538" y="1072"/>
                  </a:lnTo>
                  <a:lnTo>
                    <a:pt x="538" y="1072"/>
                  </a:lnTo>
                  <a:lnTo>
                    <a:pt x="510" y="1072"/>
                  </a:lnTo>
                  <a:lnTo>
                    <a:pt x="482" y="1070"/>
                  </a:lnTo>
                  <a:lnTo>
                    <a:pt x="456" y="1066"/>
                  </a:lnTo>
                  <a:lnTo>
                    <a:pt x="430" y="1062"/>
                  </a:lnTo>
                  <a:lnTo>
                    <a:pt x="404" y="1056"/>
                  </a:lnTo>
                  <a:lnTo>
                    <a:pt x="378" y="1048"/>
                  </a:lnTo>
                  <a:lnTo>
                    <a:pt x="352" y="1040"/>
                  </a:lnTo>
                  <a:lnTo>
                    <a:pt x="328" y="1030"/>
                  </a:lnTo>
                  <a:lnTo>
                    <a:pt x="304" y="1020"/>
                  </a:lnTo>
                  <a:lnTo>
                    <a:pt x="282" y="1008"/>
                  </a:lnTo>
                  <a:lnTo>
                    <a:pt x="260" y="994"/>
                  </a:lnTo>
                  <a:lnTo>
                    <a:pt x="238" y="980"/>
                  </a:lnTo>
                  <a:lnTo>
                    <a:pt x="216" y="966"/>
                  </a:lnTo>
                  <a:lnTo>
                    <a:pt x="196" y="950"/>
                  </a:lnTo>
                  <a:lnTo>
                    <a:pt x="176" y="934"/>
                  </a:lnTo>
                  <a:lnTo>
                    <a:pt x="158" y="916"/>
                  </a:lnTo>
                  <a:lnTo>
                    <a:pt x="140" y="896"/>
                  </a:lnTo>
                  <a:lnTo>
                    <a:pt x="124" y="878"/>
                  </a:lnTo>
                  <a:lnTo>
                    <a:pt x="108" y="856"/>
                  </a:lnTo>
                  <a:lnTo>
                    <a:pt x="92" y="836"/>
                  </a:lnTo>
                  <a:lnTo>
                    <a:pt x="78" y="814"/>
                  </a:lnTo>
                  <a:lnTo>
                    <a:pt x="66" y="792"/>
                  </a:lnTo>
                  <a:lnTo>
                    <a:pt x="54" y="768"/>
                  </a:lnTo>
                  <a:lnTo>
                    <a:pt x="42" y="744"/>
                  </a:lnTo>
                  <a:lnTo>
                    <a:pt x="34" y="720"/>
                  </a:lnTo>
                  <a:lnTo>
                    <a:pt x="24" y="696"/>
                  </a:lnTo>
                  <a:lnTo>
                    <a:pt x="18" y="670"/>
                  </a:lnTo>
                  <a:lnTo>
                    <a:pt x="12" y="644"/>
                  </a:lnTo>
                  <a:lnTo>
                    <a:pt x="6" y="618"/>
                  </a:lnTo>
                  <a:lnTo>
                    <a:pt x="4" y="590"/>
                  </a:lnTo>
                  <a:lnTo>
                    <a:pt x="2" y="564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2" y="508"/>
                  </a:lnTo>
                  <a:lnTo>
                    <a:pt x="4" y="482"/>
                  </a:lnTo>
                  <a:lnTo>
                    <a:pt x="6" y="454"/>
                  </a:lnTo>
                  <a:lnTo>
                    <a:pt x="12" y="428"/>
                  </a:lnTo>
                  <a:lnTo>
                    <a:pt x="18" y="402"/>
                  </a:lnTo>
                  <a:lnTo>
                    <a:pt x="24" y="376"/>
                  </a:lnTo>
                  <a:lnTo>
                    <a:pt x="34" y="352"/>
                  </a:lnTo>
                  <a:lnTo>
                    <a:pt x="42" y="328"/>
                  </a:lnTo>
                  <a:lnTo>
                    <a:pt x="54" y="304"/>
                  </a:lnTo>
                  <a:lnTo>
                    <a:pt x="66" y="280"/>
                  </a:lnTo>
                  <a:lnTo>
                    <a:pt x="78" y="258"/>
                  </a:lnTo>
                  <a:lnTo>
                    <a:pt x="92" y="236"/>
                  </a:lnTo>
                  <a:lnTo>
                    <a:pt x="108" y="214"/>
                  </a:lnTo>
                  <a:lnTo>
                    <a:pt x="124" y="194"/>
                  </a:lnTo>
                  <a:lnTo>
                    <a:pt x="140" y="176"/>
                  </a:lnTo>
                  <a:lnTo>
                    <a:pt x="158" y="156"/>
                  </a:lnTo>
                  <a:lnTo>
                    <a:pt x="176" y="138"/>
                  </a:lnTo>
                  <a:lnTo>
                    <a:pt x="196" y="122"/>
                  </a:lnTo>
                  <a:lnTo>
                    <a:pt x="216" y="106"/>
                  </a:lnTo>
                  <a:lnTo>
                    <a:pt x="238" y="92"/>
                  </a:lnTo>
                  <a:lnTo>
                    <a:pt x="260" y="78"/>
                  </a:lnTo>
                  <a:lnTo>
                    <a:pt x="282" y="64"/>
                  </a:lnTo>
                  <a:lnTo>
                    <a:pt x="304" y="52"/>
                  </a:lnTo>
                  <a:lnTo>
                    <a:pt x="328" y="42"/>
                  </a:lnTo>
                  <a:lnTo>
                    <a:pt x="352" y="32"/>
                  </a:lnTo>
                  <a:lnTo>
                    <a:pt x="378" y="24"/>
                  </a:lnTo>
                  <a:lnTo>
                    <a:pt x="404" y="16"/>
                  </a:lnTo>
                  <a:lnTo>
                    <a:pt x="430" y="10"/>
                  </a:lnTo>
                  <a:lnTo>
                    <a:pt x="456" y="6"/>
                  </a:lnTo>
                  <a:lnTo>
                    <a:pt x="482" y="2"/>
                  </a:lnTo>
                  <a:lnTo>
                    <a:pt x="510" y="0"/>
                  </a:lnTo>
                  <a:lnTo>
                    <a:pt x="538" y="0"/>
                  </a:lnTo>
                  <a:lnTo>
                    <a:pt x="538" y="0"/>
                  </a:lnTo>
                  <a:lnTo>
                    <a:pt x="564" y="0"/>
                  </a:lnTo>
                  <a:lnTo>
                    <a:pt x="592" y="2"/>
                  </a:lnTo>
                  <a:lnTo>
                    <a:pt x="618" y="6"/>
                  </a:lnTo>
                  <a:lnTo>
                    <a:pt x="646" y="10"/>
                  </a:lnTo>
                  <a:lnTo>
                    <a:pt x="672" y="16"/>
                  </a:lnTo>
                  <a:lnTo>
                    <a:pt x="696" y="24"/>
                  </a:lnTo>
                  <a:lnTo>
                    <a:pt x="722" y="32"/>
                  </a:lnTo>
                  <a:lnTo>
                    <a:pt x="746" y="42"/>
                  </a:lnTo>
                  <a:lnTo>
                    <a:pt x="770" y="52"/>
                  </a:lnTo>
                  <a:lnTo>
                    <a:pt x="792" y="64"/>
                  </a:lnTo>
                  <a:lnTo>
                    <a:pt x="816" y="78"/>
                  </a:lnTo>
                  <a:lnTo>
                    <a:pt x="838" y="92"/>
                  </a:lnTo>
                  <a:lnTo>
                    <a:pt x="858" y="106"/>
                  </a:lnTo>
                  <a:lnTo>
                    <a:pt x="878" y="122"/>
                  </a:lnTo>
                  <a:lnTo>
                    <a:pt x="898" y="138"/>
                  </a:lnTo>
                  <a:lnTo>
                    <a:pt x="916" y="156"/>
                  </a:lnTo>
                  <a:lnTo>
                    <a:pt x="934" y="176"/>
                  </a:lnTo>
                  <a:lnTo>
                    <a:pt x="952" y="194"/>
                  </a:lnTo>
                  <a:lnTo>
                    <a:pt x="968" y="214"/>
                  </a:lnTo>
                  <a:lnTo>
                    <a:pt x="982" y="236"/>
                  </a:lnTo>
                  <a:lnTo>
                    <a:pt x="996" y="258"/>
                  </a:lnTo>
                  <a:lnTo>
                    <a:pt x="1008" y="280"/>
                  </a:lnTo>
                  <a:lnTo>
                    <a:pt x="1020" y="304"/>
                  </a:lnTo>
                  <a:lnTo>
                    <a:pt x="1032" y="328"/>
                  </a:lnTo>
                  <a:lnTo>
                    <a:pt x="1042" y="352"/>
                  </a:lnTo>
                  <a:lnTo>
                    <a:pt x="1050" y="376"/>
                  </a:lnTo>
                  <a:lnTo>
                    <a:pt x="1056" y="402"/>
                  </a:lnTo>
                  <a:lnTo>
                    <a:pt x="1062" y="428"/>
                  </a:lnTo>
                  <a:lnTo>
                    <a:pt x="1068" y="454"/>
                  </a:lnTo>
                  <a:lnTo>
                    <a:pt x="1070" y="482"/>
                  </a:lnTo>
                  <a:lnTo>
                    <a:pt x="1074" y="508"/>
                  </a:lnTo>
                  <a:lnTo>
                    <a:pt x="1074" y="536"/>
                  </a:lnTo>
                  <a:lnTo>
                    <a:pt x="1074" y="536"/>
                  </a:lnTo>
                  <a:close/>
                </a:path>
              </a:pathLst>
            </a:custGeom>
            <a:solidFill>
              <a:srgbClr val="f3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19"/>
            <p:cNvSpPr/>
            <p:nvPr/>
          </p:nvSpPr>
          <p:spPr>
            <a:xfrm>
              <a:off x="8245440" y="6832440"/>
              <a:ext cx="1667160" cy="1670040"/>
            </a:xfrm>
            <a:custGeom>
              <a:avLst/>
              <a:gdLst>
                <a:gd name="textAreaLeft" fmla="*/ 0 w 1667160"/>
                <a:gd name="textAreaRight" fmla="*/ 1667520 w 16671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1050" h="1052">
                  <a:moveTo>
                    <a:pt x="1050" y="526"/>
                  </a:moveTo>
                  <a:lnTo>
                    <a:pt x="1050" y="526"/>
                  </a:lnTo>
                  <a:lnTo>
                    <a:pt x="1050" y="554"/>
                  </a:lnTo>
                  <a:lnTo>
                    <a:pt x="1048" y="580"/>
                  </a:lnTo>
                  <a:lnTo>
                    <a:pt x="1044" y="606"/>
                  </a:lnTo>
                  <a:lnTo>
                    <a:pt x="1040" y="632"/>
                  </a:lnTo>
                  <a:lnTo>
                    <a:pt x="1034" y="658"/>
                  </a:lnTo>
                  <a:lnTo>
                    <a:pt x="1028" y="682"/>
                  </a:lnTo>
                  <a:lnTo>
                    <a:pt x="1018" y="708"/>
                  </a:lnTo>
                  <a:lnTo>
                    <a:pt x="1010" y="730"/>
                  </a:lnTo>
                  <a:lnTo>
                    <a:pt x="998" y="754"/>
                  </a:lnTo>
                  <a:lnTo>
                    <a:pt x="988" y="776"/>
                  </a:lnTo>
                  <a:lnTo>
                    <a:pt x="974" y="798"/>
                  </a:lnTo>
                  <a:lnTo>
                    <a:pt x="960" y="820"/>
                  </a:lnTo>
                  <a:lnTo>
                    <a:pt x="946" y="840"/>
                  </a:lnTo>
                  <a:lnTo>
                    <a:pt x="930" y="860"/>
                  </a:lnTo>
                  <a:lnTo>
                    <a:pt x="914" y="880"/>
                  </a:lnTo>
                  <a:lnTo>
                    <a:pt x="896" y="898"/>
                  </a:lnTo>
                  <a:lnTo>
                    <a:pt x="878" y="916"/>
                  </a:lnTo>
                  <a:lnTo>
                    <a:pt x="860" y="932"/>
                  </a:lnTo>
                  <a:lnTo>
                    <a:pt x="840" y="948"/>
                  </a:lnTo>
                  <a:lnTo>
                    <a:pt x="818" y="962"/>
                  </a:lnTo>
                  <a:lnTo>
                    <a:pt x="798" y="976"/>
                  </a:lnTo>
                  <a:lnTo>
                    <a:pt x="776" y="988"/>
                  </a:lnTo>
                  <a:lnTo>
                    <a:pt x="752" y="1000"/>
                  </a:lnTo>
                  <a:lnTo>
                    <a:pt x="730" y="1010"/>
                  </a:lnTo>
                  <a:lnTo>
                    <a:pt x="706" y="1020"/>
                  </a:lnTo>
                  <a:lnTo>
                    <a:pt x="682" y="1028"/>
                  </a:lnTo>
                  <a:lnTo>
                    <a:pt x="656" y="1036"/>
                  </a:lnTo>
                  <a:lnTo>
                    <a:pt x="630" y="1042"/>
                  </a:lnTo>
                  <a:lnTo>
                    <a:pt x="604" y="1046"/>
                  </a:lnTo>
                  <a:lnTo>
                    <a:pt x="578" y="1050"/>
                  </a:lnTo>
                  <a:lnTo>
                    <a:pt x="552" y="1052"/>
                  </a:lnTo>
                  <a:lnTo>
                    <a:pt x="524" y="1052"/>
                  </a:lnTo>
                  <a:lnTo>
                    <a:pt x="524" y="1052"/>
                  </a:lnTo>
                  <a:lnTo>
                    <a:pt x="498" y="1052"/>
                  </a:lnTo>
                  <a:lnTo>
                    <a:pt x="472" y="1050"/>
                  </a:lnTo>
                  <a:lnTo>
                    <a:pt x="444" y="1046"/>
                  </a:lnTo>
                  <a:lnTo>
                    <a:pt x="418" y="1042"/>
                  </a:lnTo>
                  <a:lnTo>
                    <a:pt x="394" y="1036"/>
                  </a:lnTo>
                  <a:lnTo>
                    <a:pt x="368" y="1028"/>
                  </a:lnTo>
                  <a:lnTo>
                    <a:pt x="344" y="1020"/>
                  </a:lnTo>
                  <a:lnTo>
                    <a:pt x="320" y="1010"/>
                  </a:lnTo>
                  <a:lnTo>
                    <a:pt x="296" y="1000"/>
                  </a:lnTo>
                  <a:lnTo>
                    <a:pt x="274" y="988"/>
                  </a:lnTo>
                  <a:lnTo>
                    <a:pt x="252" y="976"/>
                  </a:lnTo>
                  <a:lnTo>
                    <a:pt x="230" y="962"/>
                  </a:lnTo>
                  <a:lnTo>
                    <a:pt x="210" y="948"/>
                  </a:lnTo>
                  <a:lnTo>
                    <a:pt x="190" y="932"/>
                  </a:lnTo>
                  <a:lnTo>
                    <a:pt x="172" y="916"/>
                  </a:lnTo>
                  <a:lnTo>
                    <a:pt x="154" y="898"/>
                  </a:lnTo>
                  <a:lnTo>
                    <a:pt x="136" y="880"/>
                  </a:lnTo>
                  <a:lnTo>
                    <a:pt x="120" y="860"/>
                  </a:lnTo>
                  <a:lnTo>
                    <a:pt x="104" y="840"/>
                  </a:lnTo>
                  <a:lnTo>
                    <a:pt x="88" y="820"/>
                  </a:lnTo>
                  <a:lnTo>
                    <a:pt x="76" y="798"/>
                  </a:lnTo>
                  <a:lnTo>
                    <a:pt x="62" y="776"/>
                  </a:lnTo>
                  <a:lnTo>
                    <a:pt x="50" y="754"/>
                  </a:lnTo>
                  <a:lnTo>
                    <a:pt x="40" y="730"/>
                  </a:lnTo>
                  <a:lnTo>
                    <a:pt x="30" y="708"/>
                  </a:lnTo>
                  <a:lnTo>
                    <a:pt x="22" y="682"/>
                  </a:lnTo>
                  <a:lnTo>
                    <a:pt x="16" y="658"/>
                  </a:lnTo>
                  <a:lnTo>
                    <a:pt x="10" y="632"/>
                  </a:lnTo>
                  <a:lnTo>
                    <a:pt x="6" y="606"/>
                  </a:lnTo>
                  <a:lnTo>
                    <a:pt x="2" y="580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526"/>
                  </a:lnTo>
                  <a:lnTo>
                    <a:pt x="0" y="500"/>
                  </a:lnTo>
                  <a:lnTo>
                    <a:pt x="2" y="472"/>
                  </a:lnTo>
                  <a:lnTo>
                    <a:pt x="6" y="446"/>
                  </a:lnTo>
                  <a:lnTo>
                    <a:pt x="10" y="420"/>
                  </a:lnTo>
                  <a:lnTo>
                    <a:pt x="16" y="394"/>
                  </a:lnTo>
                  <a:lnTo>
                    <a:pt x="22" y="370"/>
                  </a:lnTo>
                  <a:lnTo>
                    <a:pt x="30" y="346"/>
                  </a:lnTo>
                  <a:lnTo>
                    <a:pt x="40" y="322"/>
                  </a:lnTo>
                  <a:lnTo>
                    <a:pt x="50" y="298"/>
                  </a:lnTo>
                  <a:lnTo>
                    <a:pt x="62" y="276"/>
                  </a:lnTo>
                  <a:lnTo>
                    <a:pt x="76" y="254"/>
                  </a:lnTo>
                  <a:lnTo>
                    <a:pt x="88" y="232"/>
                  </a:lnTo>
                  <a:lnTo>
                    <a:pt x="104" y="212"/>
                  </a:lnTo>
                  <a:lnTo>
                    <a:pt x="120" y="192"/>
                  </a:lnTo>
                  <a:lnTo>
                    <a:pt x="136" y="172"/>
                  </a:lnTo>
                  <a:lnTo>
                    <a:pt x="154" y="154"/>
                  </a:lnTo>
                  <a:lnTo>
                    <a:pt x="172" y="138"/>
                  </a:lnTo>
                  <a:lnTo>
                    <a:pt x="190" y="120"/>
                  </a:lnTo>
                  <a:lnTo>
                    <a:pt x="210" y="104"/>
                  </a:lnTo>
                  <a:lnTo>
                    <a:pt x="230" y="90"/>
                  </a:lnTo>
                  <a:lnTo>
                    <a:pt x="252" y="76"/>
                  </a:lnTo>
                  <a:lnTo>
                    <a:pt x="274" y="64"/>
                  </a:lnTo>
                  <a:lnTo>
                    <a:pt x="296" y="52"/>
                  </a:lnTo>
                  <a:lnTo>
                    <a:pt x="320" y="42"/>
                  </a:lnTo>
                  <a:lnTo>
                    <a:pt x="344" y="32"/>
                  </a:lnTo>
                  <a:lnTo>
                    <a:pt x="368" y="24"/>
                  </a:lnTo>
                  <a:lnTo>
                    <a:pt x="394" y="18"/>
                  </a:lnTo>
                  <a:lnTo>
                    <a:pt x="418" y="12"/>
                  </a:lnTo>
                  <a:lnTo>
                    <a:pt x="444" y="6"/>
                  </a:lnTo>
                  <a:lnTo>
                    <a:pt x="472" y="4"/>
                  </a:lnTo>
                  <a:lnTo>
                    <a:pt x="498" y="2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52" y="2"/>
                  </a:lnTo>
                  <a:lnTo>
                    <a:pt x="578" y="4"/>
                  </a:lnTo>
                  <a:lnTo>
                    <a:pt x="604" y="6"/>
                  </a:lnTo>
                  <a:lnTo>
                    <a:pt x="630" y="12"/>
                  </a:lnTo>
                  <a:lnTo>
                    <a:pt x="656" y="18"/>
                  </a:lnTo>
                  <a:lnTo>
                    <a:pt x="682" y="24"/>
                  </a:lnTo>
                  <a:lnTo>
                    <a:pt x="706" y="32"/>
                  </a:lnTo>
                  <a:lnTo>
                    <a:pt x="730" y="42"/>
                  </a:lnTo>
                  <a:lnTo>
                    <a:pt x="752" y="52"/>
                  </a:lnTo>
                  <a:lnTo>
                    <a:pt x="776" y="64"/>
                  </a:lnTo>
                  <a:lnTo>
                    <a:pt x="798" y="76"/>
                  </a:lnTo>
                  <a:lnTo>
                    <a:pt x="818" y="90"/>
                  </a:lnTo>
                  <a:lnTo>
                    <a:pt x="840" y="104"/>
                  </a:lnTo>
                  <a:lnTo>
                    <a:pt x="860" y="120"/>
                  </a:lnTo>
                  <a:lnTo>
                    <a:pt x="878" y="138"/>
                  </a:lnTo>
                  <a:lnTo>
                    <a:pt x="896" y="154"/>
                  </a:lnTo>
                  <a:lnTo>
                    <a:pt x="914" y="172"/>
                  </a:lnTo>
                  <a:lnTo>
                    <a:pt x="930" y="192"/>
                  </a:lnTo>
                  <a:lnTo>
                    <a:pt x="946" y="212"/>
                  </a:lnTo>
                  <a:lnTo>
                    <a:pt x="960" y="232"/>
                  </a:lnTo>
                  <a:lnTo>
                    <a:pt x="974" y="254"/>
                  </a:lnTo>
                  <a:lnTo>
                    <a:pt x="988" y="276"/>
                  </a:lnTo>
                  <a:lnTo>
                    <a:pt x="998" y="298"/>
                  </a:lnTo>
                  <a:lnTo>
                    <a:pt x="1010" y="322"/>
                  </a:lnTo>
                  <a:lnTo>
                    <a:pt x="1018" y="346"/>
                  </a:lnTo>
                  <a:lnTo>
                    <a:pt x="1028" y="370"/>
                  </a:lnTo>
                  <a:lnTo>
                    <a:pt x="1034" y="394"/>
                  </a:lnTo>
                  <a:lnTo>
                    <a:pt x="1040" y="420"/>
                  </a:lnTo>
                  <a:lnTo>
                    <a:pt x="1044" y="446"/>
                  </a:lnTo>
                  <a:lnTo>
                    <a:pt x="1048" y="472"/>
                  </a:lnTo>
                  <a:lnTo>
                    <a:pt x="1050" y="500"/>
                  </a:lnTo>
                  <a:lnTo>
                    <a:pt x="1050" y="526"/>
                  </a:lnTo>
                  <a:lnTo>
                    <a:pt x="1050" y="526"/>
                  </a:lnTo>
                  <a:close/>
                </a:path>
              </a:pathLst>
            </a:custGeom>
            <a:solidFill>
              <a:srgbClr val="f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20"/>
            <p:cNvSpPr/>
            <p:nvPr/>
          </p:nvSpPr>
          <p:spPr>
            <a:xfrm>
              <a:off x="8251560" y="6845400"/>
              <a:ext cx="1635120" cy="16351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1635120"/>
                <a:gd name="textAreaBottom" fmla="*/ 1635480 h 1635120"/>
              </a:gdLst>
              <a:ahLst/>
              <a:rect l="textAreaLeft" t="textAreaTop" r="textAreaRight" b="textAreaBottom"/>
              <a:pathLst>
                <a:path w="1030" h="1030">
                  <a:moveTo>
                    <a:pt x="1030" y="514"/>
                  </a:moveTo>
                  <a:lnTo>
                    <a:pt x="1030" y="514"/>
                  </a:lnTo>
                  <a:lnTo>
                    <a:pt x="1028" y="542"/>
                  </a:lnTo>
                  <a:lnTo>
                    <a:pt x="1026" y="568"/>
                  </a:lnTo>
                  <a:lnTo>
                    <a:pt x="1024" y="594"/>
                  </a:lnTo>
                  <a:lnTo>
                    <a:pt x="1020" y="618"/>
                  </a:lnTo>
                  <a:lnTo>
                    <a:pt x="1014" y="644"/>
                  </a:lnTo>
                  <a:lnTo>
                    <a:pt x="1006" y="668"/>
                  </a:lnTo>
                  <a:lnTo>
                    <a:pt x="998" y="692"/>
                  </a:lnTo>
                  <a:lnTo>
                    <a:pt x="990" y="716"/>
                  </a:lnTo>
                  <a:lnTo>
                    <a:pt x="978" y="738"/>
                  </a:lnTo>
                  <a:lnTo>
                    <a:pt x="968" y="760"/>
                  </a:lnTo>
                  <a:lnTo>
                    <a:pt x="956" y="782"/>
                  </a:lnTo>
                  <a:lnTo>
                    <a:pt x="942" y="802"/>
                  </a:lnTo>
                  <a:lnTo>
                    <a:pt x="912" y="842"/>
                  </a:lnTo>
                  <a:lnTo>
                    <a:pt x="878" y="880"/>
                  </a:lnTo>
                  <a:lnTo>
                    <a:pt x="842" y="912"/>
                  </a:lnTo>
                  <a:lnTo>
                    <a:pt x="802" y="942"/>
                  </a:lnTo>
                  <a:lnTo>
                    <a:pt x="782" y="956"/>
                  </a:lnTo>
                  <a:lnTo>
                    <a:pt x="760" y="968"/>
                  </a:lnTo>
                  <a:lnTo>
                    <a:pt x="738" y="980"/>
                  </a:lnTo>
                  <a:lnTo>
                    <a:pt x="714" y="990"/>
                  </a:lnTo>
                  <a:lnTo>
                    <a:pt x="692" y="998"/>
                  </a:lnTo>
                  <a:lnTo>
                    <a:pt x="668" y="1006"/>
                  </a:lnTo>
                  <a:lnTo>
                    <a:pt x="644" y="1014"/>
                  </a:lnTo>
                  <a:lnTo>
                    <a:pt x="618" y="1020"/>
                  </a:lnTo>
                  <a:lnTo>
                    <a:pt x="592" y="1024"/>
                  </a:lnTo>
                  <a:lnTo>
                    <a:pt x="568" y="1028"/>
                  </a:lnTo>
                  <a:lnTo>
                    <a:pt x="540" y="1030"/>
                  </a:lnTo>
                  <a:lnTo>
                    <a:pt x="514" y="1030"/>
                  </a:lnTo>
                  <a:lnTo>
                    <a:pt x="514" y="1030"/>
                  </a:lnTo>
                  <a:lnTo>
                    <a:pt x="488" y="1030"/>
                  </a:lnTo>
                  <a:lnTo>
                    <a:pt x="462" y="1028"/>
                  </a:lnTo>
                  <a:lnTo>
                    <a:pt x="436" y="1024"/>
                  </a:lnTo>
                  <a:lnTo>
                    <a:pt x="410" y="1020"/>
                  </a:lnTo>
                  <a:lnTo>
                    <a:pt x="386" y="1014"/>
                  </a:lnTo>
                  <a:lnTo>
                    <a:pt x="362" y="1006"/>
                  </a:lnTo>
                  <a:lnTo>
                    <a:pt x="338" y="998"/>
                  </a:lnTo>
                  <a:lnTo>
                    <a:pt x="314" y="990"/>
                  </a:lnTo>
                  <a:lnTo>
                    <a:pt x="292" y="980"/>
                  </a:lnTo>
                  <a:lnTo>
                    <a:pt x="268" y="968"/>
                  </a:lnTo>
                  <a:lnTo>
                    <a:pt x="248" y="956"/>
                  </a:lnTo>
                  <a:lnTo>
                    <a:pt x="226" y="942"/>
                  </a:lnTo>
                  <a:lnTo>
                    <a:pt x="186" y="912"/>
                  </a:lnTo>
                  <a:lnTo>
                    <a:pt x="150" y="880"/>
                  </a:lnTo>
                  <a:lnTo>
                    <a:pt x="116" y="842"/>
                  </a:lnTo>
                  <a:lnTo>
                    <a:pt x="88" y="802"/>
                  </a:lnTo>
                  <a:lnTo>
                    <a:pt x="74" y="782"/>
                  </a:lnTo>
                  <a:lnTo>
                    <a:pt x="62" y="760"/>
                  </a:lnTo>
                  <a:lnTo>
                    <a:pt x="50" y="738"/>
                  </a:lnTo>
                  <a:lnTo>
                    <a:pt x="40" y="716"/>
                  </a:lnTo>
                  <a:lnTo>
                    <a:pt x="30" y="692"/>
                  </a:lnTo>
                  <a:lnTo>
                    <a:pt x="22" y="668"/>
                  </a:lnTo>
                  <a:lnTo>
                    <a:pt x="16" y="644"/>
                  </a:lnTo>
                  <a:lnTo>
                    <a:pt x="10" y="618"/>
                  </a:lnTo>
                  <a:lnTo>
                    <a:pt x="6" y="594"/>
                  </a:lnTo>
                  <a:lnTo>
                    <a:pt x="2" y="568"/>
                  </a:lnTo>
                  <a:lnTo>
                    <a:pt x="0" y="542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488"/>
                  </a:lnTo>
                  <a:lnTo>
                    <a:pt x="2" y="462"/>
                  </a:lnTo>
                  <a:lnTo>
                    <a:pt x="6" y="436"/>
                  </a:lnTo>
                  <a:lnTo>
                    <a:pt x="10" y="410"/>
                  </a:lnTo>
                  <a:lnTo>
                    <a:pt x="16" y="386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2"/>
                  </a:lnTo>
                  <a:lnTo>
                    <a:pt x="62" y="270"/>
                  </a:lnTo>
                  <a:lnTo>
                    <a:pt x="74" y="248"/>
                  </a:lnTo>
                  <a:lnTo>
                    <a:pt x="88" y="226"/>
                  </a:lnTo>
                  <a:lnTo>
                    <a:pt x="116" y="188"/>
                  </a:lnTo>
                  <a:lnTo>
                    <a:pt x="150" y="150"/>
                  </a:lnTo>
                  <a:lnTo>
                    <a:pt x="186" y="118"/>
                  </a:lnTo>
                  <a:lnTo>
                    <a:pt x="226" y="88"/>
                  </a:lnTo>
                  <a:lnTo>
                    <a:pt x="248" y="74"/>
                  </a:lnTo>
                  <a:lnTo>
                    <a:pt x="268" y="62"/>
                  </a:lnTo>
                  <a:lnTo>
                    <a:pt x="292" y="50"/>
                  </a:lnTo>
                  <a:lnTo>
                    <a:pt x="314" y="40"/>
                  </a:lnTo>
                  <a:lnTo>
                    <a:pt x="338" y="30"/>
                  </a:lnTo>
                  <a:lnTo>
                    <a:pt x="362" y="22"/>
                  </a:lnTo>
                  <a:lnTo>
                    <a:pt x="386" y="16"/>
                  </a:lnTo>
                  <a:lnTo>
                    <a:pt x="410" y="10"/>
                  </a:lnTo>
                  <a:lnTo>
                    <a:pt x="436" y="6"/>
                  </a:lnTo>
                  <a:lnTo>
                    <a:pt x="462" y="2"/>
                  </a:lnTo>
                  <a:lnTo>
                    <a:pt x="488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40" y="0"/>
                  </a:lnTo>
                  <a:lnTo>
                    <a:pt x="568" y="2"/>
                  </a:lnTo>
                  <a:lnTo>
                    <a:pt x="592" y="6"/>
                  </a:lnTo>
                  <a:lnTo>
                    <a:pt x="618" y="10"/>
                  </a:lnTo>
                  <a:lnTo>
                    <a:pt x="644" y="16"/>
                  </a:lnTo>
                  <a:lnTo>
                    <a:pt x="668" y="22"/>
                  </a:lnTo>
                  <a:lnTo>
                    <a:pt x="692" y="30"/>
                  </a:lnTo>
                  <a:lnTo>
                    <a:pt x="714" y="40"/>
                  </a:lnTo>
                  <a:lnTo>
                    <a:pt x="738" y="50"/>
                  </a:lnTo>
                  <a:lnTo>
                    <a:pt x="760" y="62"/>
                  </a:lnTo>
                  <a:lnTo>
                    <a:pt x="782" y="74"/>
                  </a:lnTo>
                  <a:lnTo>
                    <a:pt x="802" y="88"/>
                  </a:lnTo>
                  <a:lnTo>
                    <a:pt x="842" y="118"/>
                  </a:lnTo>
                  <a:lnTo>
                    <a:pt x="878" y="150"/>
                  </a:lnTo>
                  <a:lnTo>
                    <a:pt x="912" y="188"/>
                  </a:lnTo>
                  <a:lnTo>
                    <a:pt x="942" y="226"/>
                  </a:lnTo>
                  <a:lnTo>
                    <a:pt x="956" y="248"/>
                  </a:lnTo>
                  <a:lnTo>
                    <a:pt x="968" y="270"/>
                  </a:lnTo>
                  <a:lnTo>
                    <a:pt x="978" y="292"/>
                  </a:lnTo>
                  <a:lnTo>
                    <a:pt x="990" y="314"/>
                  </a:lnTo>
                  <a:lnTo>
                    <a:pt x="998" y="338"/>
                  </a:lnTo>
                  <a:lnTo>
                    <a:pt x="1006" y="362"/>
                  </a:lnTo>
                  <a:lnTo>
                    <a:pt x="1014" y="386"/>
                  </a:lnTo>
                  <a:lnTo>
                    <a:pt x="1020" y="410"/>
                  </a:lnTo>
                  <a:lnTo>
                    <a:pt x="1024" y="436"/>
                  </a:lnTo>
                  <a:lnTo>
                    <a:pt x="1026" y="462"/>
                  </a:lnTo>
                  <a:lnTo>
                    <a:pt x="1028" y="488"/>
                  </a:lnTo>
                  <a:lnTo>
                    <a:pt x="1030" y="514"/>
                  </a:lnTo>
                  <a:lnTo>
                    <a:pt x="1030" y="514"/>
                  </a:lnTo>
                  <a:close/>
                </a:path>
              </a:pathLst>
            </a:custGeom>
            <a:solidFill>
              <a:srgbClr val="f4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21"/>
            <p:cNvSpPr/>
            <p:nvPr/>
          </p:nvSpPr>
          <p:spPr>
            <a:xfrm>
              <a:off x="8258040" y="6854760"/>
              <a:ext cx="1600200" cy="16030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603080"/>
                <a:gd name="textAreaBottom" fmla="*/ 1603440 h 1603080"/>
              </a:gdLst>
              <a:ahLst/>
              <a:rect l="textAreaLeft" t="textAreaTop" r="textAreaRight" b="textAreaBottom"/>
              <a:pathLst>
                <a:path w="1008" h="1010">
                  <a:moveTo>
                    <a:pt x="1008" y="506"/>
                  </a:moveTo>
                  <a:lnTo>
                    <a:pt x="1008" y="506"/>
                  </a:lnTo>
                  <a:lnTo>
                    <a:pt x="1008" y="532"/>
                  </a:lnTo>
                  <a:lnTo>
                    <a:pt x="1006" y="556"/>
                  </a:lnTo>
                  <a:lnTo>
                    <a:pt x="1002" y="582"/>
                  </a:lnTo>
                  <a:lnTo>
                    <a:pt x="998" y="606"/>
                  </a:lnTo>
                  <a:lnTo>
                    <a:pt x="992" y="632"/>
                  </a:lnTo>
                  <a:lnTo>
                    <a:pt x="986" y="656"/>
                  </a:lnTo>
                  <a:lnTo>
                    <a:pt x="978" y="678"/>
                  </a:lnTo>
                  <a:lnTo>
                    <a:pt x="968" y="702"/>
                  </a:lnTo>
                  <a:lnTo>
                    <a:pt x="948" y="746"/>
                  </a:lnTo>
                  <a:lnTo>
                    <a:pt x="922" y="788"/>
                  </a:lnTo>
                  <a:lnTo>
                    <a:pt x="894" y="826"/>
                  </a:lnTo>
                  <a:lnTo>
                    <a:pt x="860" y="862"/>
                  </a:lnTo>
                  <a:lnTo>
                    <a:pt x="824" y="894"/>
                  </a:lnTo>
                  <a:lnTo>
                    <a:pt x="786" y="924"/>
                  </a:lnTo>
                  <a:lnTo>
                    <a:pt x="744" y="948"/>
                  </a:lnTo>
                  <a:lnTo>
                    <a:pt x="700" y="970"/>
                  </a:lnTo>
                  <a:lnTo>
                    <a:pt x="678" y="980"/>
                  </a:lnTo>
                  <a:lnTo>
                    <a:pt x="654" y="988"/>
                  </a:lnTo>
                  <a:lnTo>
                    <a:pt x="630" y="994"/>
                  </a:lnTo>
                  <a:lnTo>
                    <a:pt x="606" y="1000"/>
                  </a:lnTo>
                  <a:lnTo>
                    <a:pt x="580" y="1004"/>
                  </a:lnTo>
                  <a:lnTo>
                    <a:pt x="556" y="1008"/>
                  </a:lnTo>
                  <a:lnTo>
                    <a:pt x="530" y="1010"/>
                  </a:lnTo>
                  <a:lnTo>
                    <a:pt x="504" y="1010"/>
                  </a:lnTo>
                  <a:lnTo>
                    <a:pt x="504" y="1010"/>
                  </a:lnTo>
                  <a:lnTo>
                    <a:pt x="478" y="1010"/>
                  </a:lnTo>
                  <a:lnTo>
                    <a:pt x="452" y="1008"/>
                  </a:lnTo>
                  <a:lnTo>
                    <a:pt x="428" y="1004"/>
                  </a:lnTo>
                  <a:lnTo>
                    <a:pt x="402" y="1000"/>
                  </a:lnTo>
                  <a:lnTo>
                    <a:pt x="378" y="994"/>
                  </a:lnTo>
                  <a:lnTo>
                    <a:pt x="354" y="988"/>
                  </a:lnTo>
                  <a:lnTo>
                    <a:pt x="330" y="980"/>
                  </a:lnTo>
                  <a:lnTo>
                    <a:pt x="308" y="970"/>
                  </a:lnTo>
                  <a:lnTo>
                    <a:pt x="264" y="948"/>
                  </a:lnTo>
                  <a:lnTo>
                    <a:pt x="222" y="924"/>
                  </a:lnTo>
                  <a:lnTo>
                    <a:pt x="184" y="894"/>
                  </a:lnTo>
                  <a:lnTo>
                    <a:pt x="148" y="862"/>
                  </a:lnTo>
                  <a:lnTo>
                    <a:pt x="114" y="826"/>
                  </a:lnTo>
                  <a:lnTo>
                    <a:pt x="86" y="788"/>
                  </a:lnTo>
                  <a:lnTo>
                    <a:pt x="60" y="746"/>
                  </a:lnTo>
                  <a:lnTo>
                    <a:pt x="40" y="702"/>
                  </a:lnTo>
                  <a:lnTo>
                    <a:pt x="30" y="678"/>
                  </a:lnTo>
                  <a:lnTo>
                    <a:pt x="22" y="656"/>
                  </a:lnTo>
                  <a:lnTo>
                    <a:pt x="16" y="632"/>
                  </a:lnTo>
                  <a:lnTo>
                    <a:pt x="10" y="606"/>
                  </a:lnTo>
                  <a:lnTo>
                    <a:pt x="6" y="582"/>
                  </a:lnTo>
                  <a:lnTo>
                    <a:pt x="2" y="556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506"/>
                  </a:lnTo>
                  <a:lnTo>
                    <a:pt x="0" y="480"/>
                  </a:lnTo>
                  <a:lnTo>
                    <a:pt x="2" y="454"/>
                  </a:lnTo>
                  <a:lnTo>
                    <a:pt x="6" y="428"/>
                  </a:lnTo>
                  <a:lnTo>
                    <a:pt x="10" y="404"/>
                  </a:lnTo>
                  <a:lnTo>
                    <a:pt x="16" y="380"/>
                  </a:lnTo>
                  <a:lnTo>
                    <a:pt x="22" y="356"/>
                  </a:lnTo>
                  <a:lnTo>
                    <a:pt x="30" y="332"/>
                  </a:lnTo>
                  <a:lnTo>
                    <a:pt x="40" y="308"/>
                  </a:lnTo>
                  <a:lnTo>
                    <a:pt x="60" y="264"/>
                  </a:lnTo>
                  <a:lnTo>
                    <a:pt x="86" y="224"/>
                  </a:lnTo>
                  <a:lnTo>
                    <a:pt x="114" y="184"/>
                  </a:lnTo>
                  <a:lnTo>
                    <a:pt x="148" y="148"/>
                  </a:lnTo>
                  <a:lnTo>
                    <a:pt x="184" y="116"/>
                  </a:lnTo>
                  <a:lnTo>
                    <a:pt x="222" y="86"/>
                  </a:lnTo>
                  <a:lnTo>
                    <a:pt x="264" y="62"/>
                  </a:lnTo>
                  <a:lnTo>
                    <a:pt x="308" y="40"/>
                  </a:lnTo>
                  <a:lnTo>
                    <a:pt x="330" y="32"/>
                  </a:lnTo>
                  <a:lnTo>
                    <a:pt x="354" y="24"/>
                  </a:lnTo>
                  <a:lnTo>
                    <a:pt x="378" y="16"/>
                  </a:lnTo>
                  <a:lnTo>
                    <a:pt x="402" y="10"/>
                  </a:lnTo>
                  <a:lnTo>
                    <a:pt x="428" y="6"/>
                  </a:lnTo>
                  <a:lnTo>
                    <a:pt x="452" y="4"/>
                  </a:lnTo>
                  <a:lnTo>
                    <a:pt x="478" y="2"/>
                  </a:lnTo>
                  <a:lnTo>
                    <a:pt x="504" y="0"/>
                  </a:lnTo>
                  <a:lnTo>
                    <a:pt x="504" y="0"/>
                  </a:lnTo>
                  <a:lnTo>
                    <a:pt x="530" y="2"/>
                  </a:lnTo>
                  <a:lnTo>
                    <a:pt x="556" y="4"/>
                  </a:lnTo>
                  <a:lnTo>
                    <a:pt x="580" y="6"/>
                  </a:lnTo>
                  <a:lnTo>
                    <a:pt x="606" y="10"/>
                  </a:lnTo>
                  <a:lnTo>
                    <a:pt x="630" y="16"/>
                  </a:lnTo>
                  <a:lnTo>
                    <a:pt x="654" y="24"/>
                  </a:lnTo>
                  <a:lnTo>
                    <a:pt x="678" y="32"/>
                  </a:lnTo>
                  <a:lnTo>
                    <a:pt x="700" y="40"/>
                  </a:lnTo>
                  <a:lnTo>
                    <a:pt x="744" y="62"/>
                  </a:lnTo>
                  <a:lnTo>
                    <a:pt x="786" y="86"/>
                  </a:lnTo>
                  <a:lnTo>
                    <a:pt x="824" y="116"/>
                  </a:lnTo>
                  <a:lnTo>
                    <a:pt x="860" y="148"/>
                  </a:lnTo>
                  <a:lnTo>
                    <a:pt x="894" y="184"/>
                  </a:lnTo>
                  <a:lnTo>
                    <a:pt x="922" y="224"/>
                  </a:lnTo>
                  <a:lnTo>
                    <a:pt x="948" y="264"/>
                  </a:lnTo>
                  <a:lnTo>
                    <a:pt x="968" y="308"/>
                  </a:lnTo>
                  <a:lnTo>
                    <a:pt x="978" y="332"/>
                  </a:lnTo>
                  <a:lnTo>
                    <a:pt x="986" y="356"/>
                  </a:lnTo>
                  <a:lnTo>
                    <a:pt x="992" y="380"/>
                  </a:lnTo>
                  <a:lnTo>
                    <a:pt x="998" y="404"/>
                  </a:lnTo>
                  <a:lnTo>
                    <a:pt x="1002" y="428"/>
                  </a:lnTo>
                  <a:lnTo>
                    <a:pt x="1006" y="454"/>
                  </a:lnTo>
                  <a:lnTo>
                    <a:pt x="1008" y="480"/>
                  </a:lnTo>
                  <a:lnTo>
                    <a:pt x="1008" y="506"/>
                  </a:lnTo>
                  <a:lnTo>
                    <a:pt x="1008" y="506"/>
                  </a:lnTo>
                  <a:close/>
                </a:path>
              </a:pathLst>
            </a:custGeom>
            <a:solidFill>
              <a:srgbClr val="f4a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22"/>
            <p:cNvSpPr/>
            <p:nvPr/>
          </p:nvSpPr>
          <p:spPr>
            <a:xfrm>
              <a:off x="8264520" y="6867360"/>
              <a:ext cx="1568520" cy="156816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988" h="988">
                  <a:moveTo>
                    <a:pt x="988" y="494"/>
                  </a:moveTo>
                  <a:lnTo>
                    <a:pt x="988" y="494"/>
                  </a:lnTo>
                  <a:lnTo>
                    <a:pt x="986" y="518"/>
                  </a:lnTo>
                  <a:lnTo>
                    <a:pt x="984" y="544"/>
                  </a:lnTo>
                  <a:lnTo>
                    <a:pt x="982" y="568"/>
                  </a:lnTo>
                  <a:lnTo>
                    <a:pt x="978" y="594"/>
                  </a:lnTo>
                  <a:lnTo>
                    <a:pt x="972" y="616"/>
                  </a:lnTo>
                  <a:lnTo>
                    <a:pt x="966" y="640"/>
                  </a:lnTo>
                  <a:lnTo>
                    <a:pt x="948" y="686"/>
                  </a:lnTo>
                  <a:lnTo>
                    <a:pt x="928" y="728"/>
                  </a:lnTo>
                  <a:lnTo>
                    <a:pt x="904" y="770"/>
                  </a:lnTo>
                  <a:lnTo>
                    <a:pt x="874" y="808"/>
                  </a:lnTo>
                  <a:lnTo>
                    <a:pt x="842" y="842"/>
                  </a:lnTo>
                  <a:lnTo>
                    <a:pt x="808" y="874"/>
                  </a:lnTo>
                  <a:lnTo>
                    <a:pt x="770" y="904"/>
                  </a:lnTo>
                  <a:lnTo>
                    <a:pt x="730" y="928"/>
                  </a:lnTo>
                  <a:lnTo>
                    <a:pt x="686" y="948"/>
                  </a:lnTo>
                  <a:lnTo>
                    <a:pt x="640" y="966"/>
                  </a:lnTo>
                  <a:lnTo>
                    <a:pt x="618" y="972"/>
                  </a:lnTo>
                  <a:lnTo>
                    <a:pt x="594" y="978"/>
                  </a:lnTo>
                  <a:lnTo>
                    <a:pt x="568" y="982"/>
                  </a:lnTo>
                  <a:lnTo>
                    <a:pt x="544" y="984"/>
                  </a:lnTo>
                  <a:lnTo>
                    <a:pt x="520" y="986"/>
                  </a:lnTo>
                  <a:lnTo>
                    <a:pt x="494" y="988"/>
                  </a:lnTo>
                  <a:lnTo>
                    <a:pt x="494" y="988"/>
                  </a:lnTo>
                  <a:lnTo>
                    <a:pt x="468" y="986"/>
                  </a:lnTo>
                  <a:lnTo>
                    <a:pt x="444" y="984"/>
                  </a:lnTo>
                  <a:lnTo>
                    <a:pt x="418" y="982"/>
                  </a:lnTo>
                  <a:lnTo>
                    <a:pt x="394" y="978"/>
                  </a:lnTo>
                  <a:lnTo>
                    <a:pt x="370" y="972"/>
                  </a:lnTo>
                  <a:lnTo>
                    <a:pt x="346" y="966"/>
                  </a:lnTo>
                  <a:lnTo>
                    <a:pt x="302" y="948"/>
                  </a:lnTo>
                  <a:lnTo>
                    <a:pt x="258" y="928"/>
                  </a:lnTo>
                  <a:lnTo>
                    <a:pt x="218" y="904"/>
                  </a:lnTo>
                  <a:lnTo>
                    <a:pt x="180" y="874"/>
                  </a:lnTo>
                  <a:lnTo>
                    <a:pt x="144" y="842"/>
                  </a:lnTo>
                  <a:lnTo>
                    <a:pt x="112" y="808"/>
                  </a:lnTo>
                  <a:lnTo>
                    <a:pt x="84" y="770"/>
                  </a:lnTo>
                  <a:lnTo>
                    <a:pt x="60" y="728"/>
                  </a:lnTo>
                  <a:lnTo>
                    <a:pt x="38" y="686"/>
                  </a:lnTo>
                  <a:lnTo>
                    <a:pt x="22" y="640"/>
                  </a:lnTo>
                  <a:lnTo>
                    <a:pt x="16" y="616"/>
                  </a:lnTo>
                  <a:lnTo>
                    <a:pt x="10" y="594"/>
                  </a:lnTo>
                  <a:lnTo>
                    <a:pt x="6" y="568"/>
                  </a:lnTo>
                  <a:lnTo>
                    <a:pt x="2" y="544"/>
                  </a:lnTo>
                  <a:lnTo>
                    <a:pt x="0" y="518"/>
                  </a:lnTo>
                  <a:lnTo>
                    <a:pt x="0" y="494"/>
                  </a:lnTo>
                  <a:lnTo>
                    <a:pt x="0" y="494"/>
                  </a:lnTo>
                  <a:lnTo>
                    <a:pt x="0" y="468"/>
                  </a:lnTo>
                  <a:lnTo>
                    <a:pt x="2" y="444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8" y="302"/>
                  </a:lnTo>
                  <a:lnTo>
                    <a:pt x="60" y="258"/>
                  </a:lnTo>
                  <a:lnTo>
                    <a:pt x="84" y="218"/>
                  </a:lnTo>
                  <a:lnTo>
                    <a:pt x="112" y="180"/>
                  </a:lnTo>
                  <a:lnTo>
                    <a:pt x="144" y="144"/>
                  </a:lnTo>
                  <a:lnTo>
                    <a:pt x="180" y="112"/>
                  </a:lnTo>
                  <a:lnTo>
                    <a:pt x="218" y="84"/>
                  </a:lnTo>
                  <a:lnTo>
                    <a:pt x="258" y="60"/>
                  </a:lnTo>
                  <a:lnTo>
                    <a:pt x="302" y="38"/>
                  </a:lnTo>
                  <a:lnTo>
                    <a:pt x="346" y="22"/>
                  </a:lnTo>
                  <a:lnTo>
                    <a:pt x="370" y="16"/>
                  </a:lnTo>
                  <a:lnTo>
                    <a:pt x="394" y="10"/>
                  </a:lnTo>
                  <a:lnTo>
                    <a:pt x="418" y="6"/>
                  </a:lnTo>
                  <a:lnTo>
                    <a:pt x="444" y="2"/>
                  </a:lnTo>
                  <a:lnTo>
                    <a:pt x="468" y="0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520" y="0"/>
                  </a:lnTo>
                  <a:lnTo>
                    <a:pt x="544" y="2"/>
                  </a:lnTo>
                  <a:lnTo>
                    <a:pt x="568" y="6"/>
                  </a:lnTo>
                  <a:lnTo>
                    <a:pt x="594" y="10"/>
                  </a:lnTo>
                  <a:lnTo>
                    <a:pt x="618" y="16"/>
                  </a:lnTo>
                  <a:lnTo>
                    <a:pt x="640" y="22"/>
                  </a:lnTo>
                  <a:lnTo>
                    <a:pt x="686" y="38"/>
                  </a:lnTo>
                  <a:lnTo>
                    <a:pt x="730" y="60"/>
                  </a:lnTo>
                  <a:lnTo>
                    <a:pt x="770" y="84"/>
                  </a:lnTo>
                  <a:lnTo>
                    <a:pt x="808" y="112"/>
                  </a:lnTo>
                  <a:lnTo>
                    <a:pt x="842" y="144"/>
                  </a:lnTo>
                  <a:lnTo>
                    <a:pt x="874" y="180"/>
                  </a:lnTo>
                  <a:lnTo>
                    <a:pt x="904" y="218"/>
                  </a:lnTo>
                  <a:lnTo>
                    <a:pt x="928" y="258"/>
                  </a:lnTo>
                  <a:lnTo>
                    <a:pt x="948" y="302"/>
                  </a:lnTo>
                  <a:lnTo>
                    <a:pt x="966" y="346"/>
                  </a:lnTo>
                  <a:lnTo>
                    <a:pt x="972" y="370"/>
                  </a:lnTo>
                  <a:lnTo>
                    <a:pt x="978" y="394"/>
                  </a:lnTo>
                  <a:lnTo>
                    <a:pt x="982" y="418"/>
                  </a:lnTo>
                  <a:lnTo>
                    <a:pt x="984" y="444"/>
                  </a:lnTo>
                  <a:lnTo>
                    <a:pt x="986" y="468"/>
                  </a:lnTo>
                  <a:lnTo>
                    <a:pt x="988" y="494"/>
                  </a:lnTo>
                  <a:lnTo>
                    <a:pt x="988" y="494"/>
                  </a:lnTo>
                  <a:close/>
                </a:path>
              </a:pathLst>
            </a:custGeom>
            <a:solidFill>
              <a:srgbClr val="f5a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223"/>
            <p:cNvSpPr/>
            <p:nvPr/>
          </p:nvSpPr>
          <p:spPr>
            <a:xfrm>
              <a:off x="8270640" y="6877080"/>
              <a:ext cx="1533600" cy="15364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536480"/>
                <a:gd name="textAreaBottom" fmla="*/ 1536840 h 1536480"/>
              </a:gdLst>
              <a:ahLst/>
              <a:rect l="textAreaLeft" t="textAreaTop" r="textAreaRight" b="textAreaBottom"/>
              <a:pathLst>
                <a:path w="966" h="968">
                  <a:moveTo>
                    <a:pt x="966" y="484"/>
                  </a:moveTo>
                  <a:lnTo>
                    <a:pt x="966" y="484"/>
                  </a:lnTo>
                  <a:lnTo>
                    <a:pt x="966" y="508"/>
                  </a:lnTo>
                  <a:lnTo>
                    <a:pt x="964" y="534"/>
                  </a:lnTo>
                  <a:lnTo>
                    <a:pt x="960" y="558"/>
                  </a:lnTo>
                  <a:lnTo>
                    <a:pt x="956" y="582"/>
                  </a:lnTo>
                  <a:lnTo>
                    <a:pt x="944" y="628"/>
                  </a:lnTo>
                  <a:lnTo>
                    <a:pt x="928" y="672"/>
                  </a:lnTo>
                  <a:lnTo>
                    <a:pt x="908" y="714"/>
                  </a:lnTo>
                  <a:lnTo>
                    <a:pt x="884" y="754"/>
                  </a:lnTo>
                  <a:lnTo>
                    <a:pt x="856" y="792"/>
                  </a:lnTo>
                  <a:lnTo>
                    <a:pt x="824" y="826"/>
                  </a:lnTo>
                  <a:lnTo>
                    <a:pt x="790" y="856"/>
                  </a:lnTo>
                  <a:lnTo>
                    <a:pt x="754" y="884"/>
                  </a:lnTo>
                  <a:lnTo>
                    <a:pt x="714" y="908"/>
                  </a:lnTo>
                  <a:lnTo>
                    <a:pt x="672" y="930"/>
                  </a:lnTo>
                  <a:lnTo>
                    <a:pt x="626" y="946"/>
                  </a:lnTo>
                  <a:lnTo>
                    <a:pt x="580" y="958"/>
                  </a:lnTo>
                  <a:lnTo>
                    <a:pt x="556" y="962"/>
                  </a:lnTo>
                  <a:lnTo>
                    <a:pt x="532" y="964"/>
                  </a:lnTo>
                  <a:lnTo>
                    <a:pt x="508" y="966"/>
                  </a:lnTo>
                  <a:lnTo>
                    <a:pt x="484" y="968"/>
                  </a:lnTo>
                  <a:lnTo>
                    <a:pt x="484" y="968"/>
                  </a:lnTo>
                  <a:lnTo>
                    <a:pt x="458" y="966"/>
                  </a:lnTo>
                  <a:lnTo>
                    <a:pt x="434" y="964"/>
                  </a:lnTo>
                  <a:lnTo>
                    <a:pt x="410" y="962"/>
                  </a:lnTo>
                  <a:lnTo>
                    <a:pt x="386" y="958"/>
                  </a:lnTo>
                  <a:lnTo>
                    <a:pt x="340" y="946"/>
                  </a:lnTo>
                  <a:lnTo>
                    <a:pt x="296" y="930"/>
                  </a:lnTo>
                  <a:lnTo>
                    <a:pt x="252" y="908"/>
                  </a:lnTo>
                  <a:lnTo>
                    <a:pt x="212" y="884"/>
                  </a:lnTo>
                  <a:lnTo>
                    <a:pt x="176" y="856"/>
                  </a:lnTo>
                  <a:lnTo>
                    <a:pt x="142" y="826"/>
                  </a:lnTo>
                  <a:lnTo>
                    <a:pt x="110" y="792"/>
                  </a:lnTo>
                  <a:lnTo>
                    <a:pt x="82" y="754"/>
                  </a:lnTo>
                  <a:lnTo>
                    <a:pt x="58" y="714"/>
                  </a:lnTo>
                  <a:lnTo>
                    <a:pt x="38" y="672"/>
                  </a:lnTo>
                  <a:lnTo>
                    <a:pt x="22" y="628"/>
                  </a:lnTo>
                  <a:lnTo>
                    <a:pt x="10" y="582"/>
                  </a:lnTo>
                  <a:lnTo>
                    <a:pt x="6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4"/>
                  </a:lnTo>
                  <a:lnTo>
                    <a:pt x="0" y="484"/>
                  </a:lnTo>
                  <a:lnTo>
                    <a:pt x="0" y="460"/>
                  </a:lnTo>
                  <a:lnTo>
                    <a:pt x="2" y="434"/>
                  </a:lnTo>
                  <a:lnTo>
                    <a:pt x="6" y="410"/>
                  </a:lnTo>
                  <a:lnTo>
                    <a:pt x="10" y="386"/>
                  </a:lnTo>
                  <a:lnTo>
                    <a:pt x="22" y="340"/>
                  </a:lnTo>
                  <a:lnTo>
                    <a:pt x="38" y="296"/>
                  </a:lnTo>
                  <a:lnTo>
                    <a:pt x="58" y="254"/>
                  </a:lnTo>
                  <a:lnTo>
                    <a:pt x="82" y="214"/>
                  </a:lnTo>
                  <a:lnTo>
                    <a:pt x="110" y="176"/>
                  </a:lnTo>
                  <a:lnTo>
                    <a:pt x="142" y="142"/>
                  </a:lnTo>
                  <a:lnTo>
                    <a:pt x="176" y="112"/>
                  </a:lnTo>
                  <a:lnTo>
                    <a:pt x="212" y="84"/>
                  </a:lnTo>
                  <a:lnTo>
                    <a:pt x="252" y="60"/>
                  </a:lnTo>
                  <a:lnTo>
                    <a:pt x="296" y="38"/>
                  </a:lnTo>
                  <a:lnTo>
                    <a:pt x="340" y="22"/>
                  </a:lnTo>
                  <a:lnTo>
                    <a:pt x="386" y="10"/>
                  </a:lnTo>
                  <a:lnTo>
                    <a:pt x="410" y="6"/>
                  </a:lnTo>
                  <a:lnTo>
                    <a:pt x="434" y="4"/>
                  </a:lnTo>
                  <a:lnTo>
                    <a:pt x="458" y="2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508" y="2"/>
                  </a:lnTo>
                  <a:lnTo>
                    <a:pt x="532" y="4"/>
                  </a:lnTo>
                  <a:lnTo>
                    <a:pt x="556" y="6"/>
                  </a:lnTo>
                  <a:lnTo>
                    <a:pt x="580" y="10"/>
                  </a:lnTo>
                  <a:lnTo>
                    <a:pt x="626" y="22"/>
                  </a:lnTo>
                  <a:lnTo>
                    <a:pt x="672" y="38"/>
                  </a:lnTo>
                  <a:lnTo>
                    <a:pt x="714" y="60"/>
                  </a:lnTo>
                  <a:lnTo>
                    <a:pt x="754" y="84"/>
                  </a:lnTo>
                  <a:lnTo>
                    <a:pt x="790" y="112"/>
                  </a:lnTo>
                  <a:lnTo>
                    <a:pt x="824" y="142"/>
                  </a:lnTo>
                  <a:lnTo>
                    <a:pt x="856" y="176"/>
                  </a:lnTo>
                  <a:lnTo>
                    <a:pt x="884" y="214"/>
                  </a:lnTo>
                  <a:lnTo>
                    <a:pt x="908" y="254"/>
                  </a:lnTo>
                  <a:lnTo>
                    <a:pt x="928" y="296"/>
                  </a:lnTo>
                  <a:lnTo>
                    <a:pt x="944" y="340"/>
                  </a:lnTo>
                  <a:lnTo>
                    <a:pt x="956" y="386"/>
                  </a:lnTo>
                  <a:lnTo>
                    <a:pt x="960" y="410"/>
                  </a:lnTo>
                  <a:lnTo>
                    <a:pt x="964" y="434"/>
                  </a:lnTo>
                  <a:lnTo>
                    <a:pt x="966" y="460"/>
                  </a:lnTo>
                  <a:lnTo>
                    <a:pt x="966" y="484"/>
                  </a:lnTo>
                  <a:lnTo>
                    <a:pt x="966" y="484"/>
                  </a:lnTo>
                  <a:close/>
                </a:path>
              </a:pathLst>
            </a:custGeom>
            <a:solidFill>
              <a:srgbClr val="f5a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24"/>
            <p:cNvSpPr/>
            <p:nvPr/>
          </p:nvSpPr>
          <p:spPr>
            <a:xfrm>
              <a:off x="8277120" y="6889680"/>
              <a:ext cx="1501920" cy="149832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1498320"/>
                <a:gd name="textAreaBottom" fmla="*/ 1498680 h 1498320"/>
              </a:gdLst>
              <a:ahLst/>
              <a:rect l="textAreaLeft" t="textAreaTop" r="textAreaRight" b="textAreaBottom"/>
              <a:pathLst>
                <a:path w="946" h="944">
                  <a:moveTo>
                    <a:pt x="946" y="472"/>
                  </a:moveTo>
                  <a:lnTo>
                    <a:pt x="946" y="472"/>
                  </a:lnTo>
                  <a:lnTo>
                    <a:pt x="944" y="496"/>
                  </a:lnTo>
                  <a:lnTo>
                    <a:pt x="942" y="520"/>
                  </a:lnTo>
                  <a:lnTo>
                    <a:pt x="940" y="544"/>
                  </a:lnTo>
                  <a:lnTo>
                    <a:pt x="936" y="568"/>
                  </a:lnTo>
                  <a:lnTo>
                    <a:pt x="924" y="612"/>
                  </a:lnTo>
                  <a:lnTo>
                    <a:pt x="908" y="656"/>
                  </a:lnTo>
                  <a:lnTo>
                    <a:pt x="888" y="698"/>
                  </a:lnTo>
                  <a:lnTo>
                    <a:pt x="864" y="736"/>
                  </a:lnTo>
                  <a:lnTo>
                    <a:pt x="838" y="774"/>
                  </a:lnTo>
                  <a:lnTo>
                    <a:pt x="806" y="806"/>
                  </a:lnTo>
                  <a:lnTo>
                    <a:pt x="774" y="838"/>
                  </a:lnTo>
                  <a:lnTo>
                    <a:pt x="738" y="864"/>
                  </a:lnTo>
                  <a:lnTo>
                    <a:pt x="698" y="888"/>
                  </a:lnTo>
                  <a:lnTo>
                    <a:pt x="656" y="908"/>
                  </a:lnTo>
                  <a:lnTo>
                    <a:pt x="614" y="924"/>
                  </a:lnTo>
                  <a:lnTo>
                    <a:pt x="568" y="936"/>
                  </a:lnTo>
                  <a:lnTo>
                    <a:pt x="544" y="940"/>
                  </a:lnTo>
                  <a:lnTo>
                    <a:pt x="522" y="942"/>
                  </a:lnTo>
                  <a:lnTo>
                    <a:pt x="498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48" y="944"/>
                  </a:lnTo>
                  <a:lnTo>
                    <a:pt x="424" y="942"/>
                  </a:lnTo>
                  <a:lnTo>
                    <a:pt x="400" y="940"/>
                  </a:lnTo>
                  <a:lnTo>
                    <a:pt x="378" y="936"/>
                  </a:lnTo>
                  <a:lnTo>
                    <a:pt x="332" y="924"/>
                  </a:lnTo>
                  <a:lnTo>
                    <a:pt x="288" y="908"/>
                  </a:lnTo>
                  <a:lnTo>
                    <a:pt x="248" y="888"/>
                  </a:lnTo>
                  <a:lnTo>
                    <a:pt x="208" y="864"/>
                  </a:lnTo>
                  <a:lnTo>
                    <a:pt x="172" y="838"/>
                  </a:lnTo>
                  <a:lnTo>
                    <a:pt x="138" y="806"/>
                  </a:lnTo>
                  <a:lnTo>
                    <a:pt x="108" y="774"/>
                  </a:lnTo>
                  <a:lnTo>
                    <a:pt x="80" y="736"/>
                  </a:lnTo>
                  <a:lnTo>
                    <a:pt x="58" y="698"/>
                  </a:lnTo>
                  <a:lnTo>
                    <a:pt x="38" y="656"/>
                  </a:lnTo>
                  <a:lnTo>
                    <a:pt x="22" y="612"/>
                  </a:lnTo>
                  <a:lnTo>
                    <a:pt x="10" y="568"/>
                  </a:lnTo>
                  <a:lnTo>
                    <a:pt x="6" y="544"/>
                  </a:lnTo>
                  <a:lnTo>
                    <a:pt x="2" y="520"/>
                  </a:lnTo>
                  <a:lnTo>
                    <a:pt x="0" y="496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0" y="448"/>
                  </a:lnTo>
                  <a:lnTo>
                    <a:pt x="2" y="424"/>
                  </a:lnTo>
                  <a:lnTo>
                    <a:pt x="6" y="400"/>
                  </a:lnTo>
                  <a:lnTo>
                    <a:pt x="10" y="378"/>
                  </a:lnTo>
                  <a:lnTo>
                    <a:pt x="22" y="332"/>
                  </a:lnTo>
                  <a:lnTo>
                    <a:pt x="38" y="288"/>
                  </a:lnTo>
                  <a:lnTo>
                    <a:pt x="58" y="248"/>
                  </a:lnTo>
                  <a:lnTo>
                    <a:pt x="80" y="208"/>
                  </a:lnTo>
                  <a:lnTo>
                    <a:pt x="108" y="172"/>
                  </a:lnTo>
                  <a:lnTo>
                    <a:pt x="138" y="138"/>
                  </a:lnTo>
                  <a:lnTo>
                    <a:pt x="172" y="108"/>
                  </a:lnTo>
                  <a:lnTo>
                    <a:pt x="208" y="80"/>
                  </a:lnTo>
                  <a:lnTo>
                    <a:pt x="248" y="56"/>
                  </a:lnTo>
                  <a:lnTo>
                    <a:pt x="288" y="36"/>
                  </a:lnTo>
                  <a:lnTo>
                    <a:pt x="332" y="20"/>
                  </a:lnTo>
                  <a:lnTo>
                    <a:pt x="378" y="10"/>
                  </a:lnTo>
                  <a:lnTo>
                    <a:pt x="400" y="6"/>
                  </a:lnTo>
                  <a:lnTo>
                    <a:pt x="424" y="2"/>
                  </a:lnTo>
                  <a:lnTo>
                    <a:pt x="448" y="0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98" y="0"/>
                  </a:lnTo>
                  <a:lnTo>
                    <a:pt x="522" y="2"/>
                  </a:lnTo>
                  <a:lnTo>
                    <a:pt x="544" y="6"/>
                  </a:lnTo>
                  <a:lnTo>
                    <a:pt x="568" y="10"/>
                  </a:lnTo>
                  <a:lnTo>
                    <a:pt x="614" y="20"/>
                  </a:lnTo>
                  <a:lnTo>
                    <a:pt x="656" y="36"/>
                  </a:lnTo>
                  <a:lnTo>
                    <a:pt x="698" y="56"/>
                  </a:lnTo>
                  <a:lnTo>
                    <a:pt x="738" y="80"/>
                  </a:lnTo>
                  <a:lnTo>
                    <a:pt x="774" y="108"/>
                  </a:lnTo>
                  <a:lnTo>
                    <a:pt x="806" y="138"/>
                  </a:lnTo>
                  <a:lnTo>
                    <a:pt x="838" y="172"/>
                  </a:lnTo>
                  <a:lnTo>
                    <a:pt x="864" y="208"/>
                  </a:lnTo>
                  <a:lnTo>
                    <a:pt x="888" y="248"/>
                  </a:lnTo>
                  <a:lnTo>
                    <a:pt x="908" y="288"/>
                  </a:lnTo>
                  <a:lnTo>
                    <a:pt x="924" y="332"/>
                  </a:lnTo>
                  <a:lnTo>
                    <a:pt x="936" y="378"/>
                  </a:lnTo>
                  <a:lnTo>
                    <a:pt x="940" y="400"/>
                  </a:lnTo>
                  <a:lnTo>
                    <a:pt x="942" y="424"/>
                  </a:lnTo>
                  <a:lnTo>
                    <a:pt x="944" y="448"/>
                  </a:lnTo>
                  <a:lnTo>
                    <a:pt x="946" y="472"/>
                  </a:lnTo>
                  <a:lnTo>
                    <a:pt x="946" y="472"/>
                  </a:lnTo>
                  <a:close/>
                </a:path>
              </a:pathLst>
            </a:custGeom>
            <a:solidFill>
              <a:srgbClr val="f5a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25"/>
            <p:cNvSpPr/>
            <p:nvPr/>
          </p:nvSpPr>
          <p:spPr>
            <a:xfrm>
              <a:off x="8283240" y="6899040"/>
              <a:ext cx="1467000" cy="146664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924" h="924">
                  <a:moveTo>
                    <a:pt x="924" y="462"/>
                  </a:moveTo>
                  <a:lnTo>
                    <a:pt x="924" y="462"/>
                  </a:lnTo>
                  <a:lnTo>
                    <a:pt x="924" y="486"/>
                  </a:lnTo>
                  <a:lnTo>
                    <a:pt x="922" y="510"/>
                  </a:lnTo>
                  <a:lnTo>
                    <a:pt x="914" y="556"/>
                  </a:lnTo>
                  <a:lnTo>
                    <a:pt x="904" y="600"/>
                  </a:lnTo>
                  <a:lnTo>
                    <a:pt x="888" y="642"/>
                  </a:lnTo>
                  <a:lnTo>
                    <a:pt x="868" y="682"/>
                  </a:lnTo>
                  <a:lnTo>
                    <a:pt x="846" y="722"/>
                  </a:lnTo>
                  <a:lnTo>
                    <a:pt x="818" y="756"/>
                  </a:lnTo>
                  <a:lnTo>
                    <a:pt x="790" y="790"/>
                  </a:lnTo>
                  <a:lnTo>
                    <a:pt x="756" y="820"/>
                  </a:lnTo>
                  <a:lnTo>
                    <a:pt x="720" y="846"/>
                  </a:lnTo>
                  <a:lnTo>
                    <a:pt x="682" y="870"/>
                  </a:lnTo>
                  <a:lnTo>
                    <a:pt x="642" y="888"/>
                  </a:lnTo>
                  <a:lnTo>
                    <a:pt x="600" y="904"/>
                  </a:lnTo>
                  <a:lnTo>
                    <a:pt x="556" y="916"/>
                  </a:lnTo>
                  <a:lnTo>
                    <a:pt x="510" y="922"/>
                  </a:lnTo>
                  <a:lnTo>
                    <a:pt x="486" y="924"/>
                  </a:lnTo>
                  <a:lnTo>
                    <a:pt x="462" y="924"/>
                  </a:lnTo>
                  <a:lnTo>
                    <a:pt x="462" y="924"/>
                  </a:lnTo>
                  <a:lnTo>
                    <a:pt x="438" y="924"/>
                  </a:lnTo>
                  <a:lnTo>
                    <a:pt x="416" y="922"/>
                  </a:lnTo>
                  <a:lnTo>
                    <a:pt x="370" y="916"/>
                  </a:lnTo>
                  <a:lnTo>
                    <a:pt x="324" y="904"/>
                  </a:lnTo>
                  <a:lnTo>
                    <a:pt x="282" y="888"/>
                  </a:lnTo>
                  <a:lnTo>
                    <a:pt x="242" y="870"/>
                  </a:lnTo>
                  <a:lnTo>
                    <a:pt x="204" y="846"/>
                  </a:lnTo>
                  <a:lnTo>
                    <a:pt x="168" y="820"/>
                  </a:lnTo>
                  <a:lnTo>
                    <a:pt x="136" y="790"/>
                  </a:lnTo>
                  <a:lnTo>
                    <a:pt x="106" y="756"/>
                  </a:lnTo>
                  <a:lnTo>
                    <a:pt x="80" y="722"/>
                  </a:lnTo>
                  <a:lnTo>
                    <a:pt x="56" y="682"/>
                  </a:lnTo>
                  <a:lnTo>
                    <a:pt x="36" y="642"/>
                  </a:lnTo>
                  <a:lnTo>
                    <a:pt x="22" y="600"/>
                  </a:lnTo>
                  <a:lnTo>
                    <a:pt x="10" y="556"/>
                  </a:lnTo>
                  <a:lnTo>
                    <a:pt x="2" y="510"/>
                  </a:lnTo>
                  <a:lnTo>
                    <a:pt x="0" y="486"/>
                  </a:lnTo>
                  <a:lnTo>
                    <a:pt x="0" y="462"/>
                  </a:lnTo>
                  <a:lnTo>
                    <a:pt x="0" y="462"/>
                  </a:lnTo>
                  <a:lnTo>
                    <a:pt x="0" y="438"/>
                  </a:lnTo>
                  <a:lnTo>
                    <a:pt x="2" y="416"/>
                  </a:lnTo>
                  <a:lnTo>
                    <a:pt x="10" y="370"/>
                  </a:lnTo>
                  <a:lnTo>
                    <a:pt x="22" y="326"/>
                  </a:lnTo>
                  <a:lnTo>
                    <a:pt x="36" y="282"/>
                  </a:lnTo>
                  <a:lnTo>
                    <a:pt x="56" y="242"/>
                  </a:lnTo>
                  <a:lnTo>
                    <a:pt x="80" y="204"/>
                  </a:lnTo>
                  <a:lnTo>
                    <a:pt x="106" y="168"/>
                  </a:lnTo>
                  <a:lnTo>
                    <a:pt x="136" y="136"/>
                  </a:lnTo>
                  <a:lnTo>
                    <a:pt x="168" y="106"/>
                  </a:lnTo>
                  <a:lnTo>
                    <a:pt x="204" y="80"/>
                  </a:lnTo>
                  <a:lnTo>
                    <a:pt x="242" y="56"/>
                  </a:lnTo>
                  <a:lnTo>
                    <a:pt x="282" y="38"/>
                  </a:lnTo>
                  <a:lnTo>
                    <a:pt x="324" y="22"/>
                  </a:lnTo>
                  <a:lnTo>
                    <a:pt x="370" y="10"/>
                  </a:lnTo>
                  <a:lnTo>
                    <a:pt x="416" y="4"/>
                  </a:lnTo>
                  <a:lnTo>
                    <a:pt x="438" y="2"/>
                  </a:lnTo>
                  <a:lnTo>
                    <a:pt x="462" y="0"/>
                  </a:lnTo>
                  <a:lnTo>
                    <a:pt x="462" y="0"/>
                  </a:lnTo>
                  <a:lnTo>
                    <a:pt x="486" y="2"/>
                  </a:lnTo>
                  <a:lnTo>
                    <a:pt x="510" y="4"/>
                  </a:lnTo>
                  <a:lnTo>
                    <a:pt x="556" y="10"/>
                  </a:lnTo>
                  <a:lnTo>
                    <a:pt x="600" y="22"/>
                  </a:lnTo>
                  <a:lnTo>
                    <a:pt x="642" y="38"/>
                  </a:lnTo>
                  <a:lnTo>
                    <a:pt x="682" y="56"/>
                  </a:lnTo>
                  <a:lnTo>
                    <a:pt x="720" y="80"/>
                  </a:lnTo>
                  <a:lnTo>
                    <a:pt x="756" y="106"/>
                  </a:lnTo>
                  <a:lnTo>
                    <a:pt x="790" y="136"/>
                  </a:lnTo>
                  <a:lnTo>
                    <a:pt x="818" y="168"/>
                  </a:lnTo>
                  <a:lnTo>
                    <a:pt x="846" y="204"/>
                  </a:lnTo>
                  <a:lnTo>
                    <a:pt x="868" y="242"/>
                  </a:lnTo>
                  <a:lnTo>
                    <a:pt x="888" y="282"/>
                  </a:lnTo>
                  <a:lnTo>
                    <a:pt x="904" y="326"/>
                  </a:lnTo>
                  <a:lnTo>
                    <a:pt x="914" y="370"/>
                  </a:lnTo>
                  <a:lnTo>
                    <a:pt x="922" y="416"/>
                  </a:lnTo>
                  <a:lnTo>
                    <a:pt x="924" y="438"/>
                  </a:lnTo>
                  <a:lnTo>
                    <a:pt x="924" y="462"/>
                  </a:lnTo>
                  <a:lnTo>
                    <a:pt x="924" y="462"/>
                  </a:lnTo>
                  <a:close/>
                </a:path>
              </a:pathLst>
            </a:custGeom>
            <a:solidFill>
              <a:srgbClr val="f6a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26"/>
            <p:cNvSpPr/>
            <p:nvPr/>
          </p:nvSpPr>
          <p:spPr>
            <a:xfrm>
              <a:off x="8289720" y="6912000"/>
              <a:ext cx="1435320" cy="1431720"/>
            </a:xfrm>
            <a:custGeom>
              <a:avLst/>
              <a:gdLst>
                <a:gd name="textAreaLeft" fmla="*/ 0 w 1435320"/>
                <a:gd name="textAreaRight" fmla="*/ 1435680 w 1435320"/>
                <a:gd name="textAreaTop" fmla="*/ 0 h 1431720"/>
                <a:gd name="textAreaBottom" fmla="*/ 1432080 h 1431720"/>
              </a:gdLst>
              <a:ahLst/>
              <a:rect l="textAreaLeft" t="textAreaTop" r="textAreaRight" b="textAreaBottom"/>
              <a:pathLst>
                <a:path w="904" h="902">
                  <a:moveTo>
                    <a:pt x="904" y="452"/>
                  </a:moveTo>
                  <a:lnTo>
                    <a:pt x="904" y="452"/>
                  </a:lnTo>
                  <a:lnTo>
                    <a:pt x="900" y="498"/>
                  </a:lnTo>
                  <a:lnTo>
                    <a:pt x="894" y="542"/>
                  </a:lnTo>
                  <a:lnTo>
                    <a:pt x="884" y="586"/>
                  </a:lnTo>
                  <a:lnTo>
                    <a:pt x="868" y="626"/>
                  </a:lnTo>
                  <a:lnTo>
                    <a:pt x="848" y="666"/>
                  </a:lnTo>
                  <a:lnTo>
                    <a:pt x="826" y="704"/>
                  </a:lnTo>
                  <a:lnTo>
                    <a:pt x="800" y="738"/>
                  </a:lnTo>
                  <a:lnTo>
                    <a:pt x="772" y="770"/>
                  </a:lnTo>
                  <a:lnTo>
                    <a:pt x="740" y="800"/>
                  </a:lnTo>
                  <a:lnTo>
                    <a:pt x="704" y="826"/>
                  </a:lnTo>
                  <a:lnTo>
                    <a:pt x="668" y="848"/>
                  </a:lnTo>
                  <a:lnTo>
                    <a:pt x="628" y="868"/>
                  </a:lnTo>
                  <a:lnTo>
                    <a:pt x="586" y="882"/>
                  </a:lnTo>
                  <a:lnTo>
                    <a:pt x="542" y="894"/>
                  </a:lnTo>
                  <a:lnTo>
                    <a:pt x="498" y="900"/>
                  </a:lnTo>
                  <a:lnTo>
                    <a:pt x="452" y="902"/>
                  </a:lnTo>
                  <a:lnTo>
                    <a:pt x="452" y="902"/>
                  </a:lnTo>
                  <a:lnTo>
                    <a:pt x="406" y="900"/>
                  </a:lnTo>
                  <a:lnTo>
                    <a:pt x="360" y="894"/>
                  </a:lnTo>
                  <a:lnTo>
                    <a:pt x="318" y="882"/>
                  </a:lnTo>
                  <a:lnTo>
                    <a:pt x="276" y="868"/>
                  </a:lnTo>
                  <a:lnTo>
                    <a:pt x="236" y="848"/>
                  </a:lnTo>
                  <a:lnTo>
                    <a:pt x="200" y="826"/>
                  </a:lnTo>
                  <a:lnTo>
                    <a:pt x="164" y="800"/>
                  </a:lnTo>
                  <a:lnTo>
                    <a:pt x="132" y="770"/>
                  </a:lnTo>
                  <a:lnTo>
                    <a:pt x="104" y="738"/>
                  </a:lnTo>
                  <a:lnTo>
                    <a:pt x="78" y="704"/>
                  </a:lnTo>
                  <a:lnTo>
                    <a:pt x="56" y="666"/>
                  </a:lnTo>
                  <a:lnTo>
                    <a:pt x="36" y="626"/>
                  </a:lnTo>
                  <a:lnTo>
                    <a:pt x="20" y="586"/>
                  </a:lnTo>
                  <a:lnTo>
                    <a:pt x="10" y="542"/>
                  </a:lnTo>
                  <a:lnTo>
                    <a:pt x="2" y="498"/>
                  </a:lnTo>
                  <a:lnTo>
                    <a:pt x="0" y="452"/>
                  </a:lnTo>
                  <a:lnTo>
                    <a:pt x="0" y="452"/>
                  </a:lnTo>
                  <a:lnTo>
                    <a:pt x="2" y="406"/>
                  </a:lnTo>
                  <a:lnTo>
                    <a:pt x="10" y="360"/>
                  </a:lnTo>
                  <a:lnTo>
                    <a:pt x="20" y="316"/>
                  </a:lnTo>
                  <a:lnTo>
                    <a:pt x="36" y="276"/>
                  </a:lnTo>
                  <a:lnTo>
                    <a:pt x="56" y="236"/>
                  </a:lnTo>
                  <a:lnTo>
                    <a:pt x="78" y="198"/>
                  </a:lnTo>
                  <a:lnTo>
                    <a:pt x="104" y="164"/>
                  </a:lnTo>
                  <a:lnTo>
                    <a:pt x="132" y="132"/>
                  </a:lnTo>
                  <a:lnTo>
                    <a:pt x="164" y="102"/>
                  </a:lnTo>
                  <a:lnTo>
                    <a:pt x="200" y="76"/>
                  </a:lnTo>
                  <a:lnTo>
                    <a:pt x="236" y="54"/>
                  </a:lnTo>
                  <a:lnTo>
                    <a:pt x="276" y="36"/>
                  </a:lnTo>
                  <a:lnTo>
                    <a:pt x="318" y="20"/>
                  </a:lnTo>
                  <a:lnTo>
                    <a:pt x="360" y="8"/>
                  </a:lnTo>
                  <a:lnTo>
                    <a:pt x="406" y="2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98" y="2"/>
                  </a:lnTo>
                  <a:lnTo>
                    <a:pt x="542" y="8"/>
                  </a:lnTo>
                  <a:lnTo>
                    <a:pt x="586" y="20"/>
                  </a:lnTo>
                  <a:lnTo>
                    <a:pt x="628" y="36"/>
                  </a:lnTo>
                  <a:lnTo>
                    <a:pt x="668" y="54"/>
                  </a:lnTo>
                  <a:lnTo>
                    <a:pt x="704" y="76"/>
                  </a:lnTo>
                  <a:lnTo>
                    <a:pt x="740" y="102"/>
                  </a:lnTo>
                  <a:lnTo>
                    <a:pt x="772" y="132"/>
                  </a:lnTo>
                  <a:lnTo>
                    <a:pt x="800" y="164"/>
                  </a:lnTo>
                  <a:lnTo>
                    <a:pt x="826" y="198"/>
                  </a:lnTo>
                  <a:lnTo>
                    <a:pt x="848" y="236"/>
                  </a:lnTo>
                  <a:lnTo>
                    <a:pt x="868" y="276"/>
                  </a:lnTo>
                  <a:lnTo>
                    <a:pt x="884" y="316"/>
                  </a:lnTo>
                  <a:lnTo>
                    <a:pt x="894" y="360"/>
                  </a:lnTo>
                  <a:lnTo>
                    <a:pt x="900" y="406"/>
                  </a:lnTo>
                  <a:lnTo>
                    <a:pt x="904" y="452"/>
                  </a:lnTo>
                  <a:lnTo>
                    <a:pt x="904" y="452"/>
                  </a:lnTo>
                  <a:close/>
                </a:path>
              </a:pathLst>
            </a:custGeom>
            <a:solidFill>
              <a:srgbClr val="f6a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27"/>
            <p:cNvSpPr/>
            <p:nvPr/>
          </p:nvSpPr>
          <p:spPr>
            <a:xfrm>
              <a:off x="8296200" y="6921360"/>
              <a:ext cx="1400400" cy="1400040"/>
            </a:xfrm>
            <a:custGeom>
              <a:avLst/>
              <a:gdLst>
                <a:gd name="textAreaLeft" fmla="*/ 0 w 1400400"/>
                <a:gd name="textAreaRight" fmla="*/ 1400400 w 140040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2" h="882">
                  <a:moveTo>
                    <a:pt x="882" y="442"/>
                  </a:moveTo>
                  <a:lnTo>
                    <a:pt x="882" y="442"/>
                  </a:lnTo>
                  <a:lnTo>
                    <a:pt x="880" y="486"/>
                  </a:lnTo>
                  <a:lnTo>
                    <a:pt x="874" y="530"/>
                  </a:lnTo>
                  <a:lnTo>
                    <a:pt x="862" y="572"/>
                  </a:lnTo>
                  <a:lnTo>
                    <a:pt x="848" y="614"/>
                  </a:lnTo>
                  <a:lnTo>
                    <a:pt x="830" y="652"/>
                  </a:lnTo>
                  <a:lnTo>
                    <a:pt x="806" y="688"/>
                  </a:lnTo>
                  <a:lnTo>
                    <a:pt x="782" y="722"/>
                  </a:lnTo>
                  <a:lnTo>
                    <a:pt x="754" y="754"/>
                  </a:lnTo>
                  <a:lnTo>
                    <a:pt x="722" y="782"/>
                  </a:lnTo>
                  <a:lnTo>
                    <a:pt x="688" y="808"/>
                  </a:lnTo>
                  <a:lnTo>
                    <a:pt x="652" y="830"/>
                  </a:lnTo>
                  <a:lnTo>
                    <a:pt x="614" y="848"/>
                  </a:lnTo>
                  <a:lnTo>
                    <a:pt x="572" y="862"/>
                  </a:lnTo>
                  <a:lnTo>
                    <a:pt x="530" y="874"/>
                  </a:lnTo>
                  <a:lnTo>
                    <a:pt x="486" y="880"/>
                  </a:lnTo>
                  <a:lnTo>
                    <a:pt x="442" y="882"/>
                  </a:lnTo>
                  <a:lnTo>
                    <a:pt x="442" y="882"/>
                  </a:lnTo>
                  <a:lnTo>
                    <a:pt x="396" y="880"/>
                  </a:lnTo>
                  <a:lnTo>
                    <a:pt x="352" y="874"/>
                  </a:lnTo>
                  <a:lnTo>
                    <a:pt x="310" y="862"/>
                  </a:lnTo>
                  <a:lnTo>
                    <a:pt x="270" y="848"/>
                  </a:lnTo>
                  <a:lnTo>
                    <a:pt x="232" y="830"/>
                  </a:lnTo>
                  <a:lnTo>
                    <a:pt x="196" y="808"/>
                  </a:lnTo>
                  <a:lnTo>
                    <a:pt x="162" y="782"/>
                  </a:lnTo>
                  <a:lnTo>
                    <a:pt x="130" y="754"/>
                  </a:lnTo>
                  <a:lnTo>
                    <a:pt x="102" y="722"/>
                  </a:lnTo>
                  <a:lnTo>
                    <a:pt x="76" y="688"/>
                  </a:lnTo>
                  <a:lnTo>
                    <a:pt x="54" y="652"/>
                  </a:lnTo>
                  <a:lnTo>
                    <a:pt x="36" y="614"/>
                  </a:lnTo>
                  <a:lnTo>
                    <a:pt x="20" y="572"/>
                  </a:lnTo>
                  <a:lnTo>
                    <a:pt x="10" y="530"/>
                  </a:lnTo>
                  <a:lnTo>
                    <a:pt x="4" y="486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4" y="396"/>
                  </a:lnTo>
                  <a:lnTo>
                    <a:pt x="10" y="352"/>
                  </a:lnTo>
                  <a:lnTo>
                    <a:pt x="20" y="310"/>
                  </a:lnTo>
                  <a:lnTo>
                    <a:pt x="36" y="270"/>
                  </a:lnTo>
                  <a:lnTo>
                    <a:pt x="54" y="232"/>
                  </a:lnTo>
                  <a:lnTo>
                    <a:pt x="76" y="196"/>
                  </a:lnTo>
                  <a:lnTo>
                    <a:pt x="102" y="162"/>
                  </a:lnTo>
                  <a:lnTo>
                    <a:pt x="130" y="130"/>
                  </a:lnTo>
                  <a:lnTo>
                    <a:pt x="162" y="102"/>
                  </a:lnTo>
                  <a:lnTo>
                    <a:pt x="196" y="76"/>
                  </a:lnTo>
                  <a:lnTo>
                    <a:pt x="232" y="54"/>
                  </a:lnTo>
                  <a:lnTo>
                    <a:pt x="270" y="36"/>
                  </a:lnTo>
                  <a:lnTo>
                    <a:pt x="310" y="20"/>
                  </a:lnTo>
                  <a:lnTo>
                    <a:pt x="352" y="10"/>
                  </a:lnTo>
                  <a:lnTo>
                    <a:pt x="396" y="4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86" y="4"/>
                  </a:lnTo>
                  <a:lnTo>
                    <a:pt x="530" y="10"/>
                  </a:lnTo>
                  <a:lnTo>
                    <a:pt x="572" y="20"/>
                  </a:lnTo>
                  <a:lnTo>
                    <a:pt x="614" y="36"/>
                  </a:lnTo>
                  <a:lnTo>
                    <a:pt x="652" y="54"/>
                  </a:lnTo>
                  <a:lnTo>
                    <a:pt x="688" y="76"/>
                  </a:lnTo>
                  <a:lnTo>
                    <a:pt x="722" y="102"/>
                  </a:lnTo>
                  <a:lnTo>
                    <a:pt x="754" y="130"/>
                  </a:lnTo>
                  <a:lnTo>
                    <a:pt x="782" y="162"/>
                  </a:lnTo>
                  <a:lnTo>
                    <a:pt x="806" y="196"/>
                  </a:lnTo>
                  <a:lnTo>
                    <a:pt x="830" y="232"/>
                  </a:lnTo>
                  <a:lnTo>
                    <a:pt x="848" y="270"/>
                  </a:lnTo>
                  <a:lnTo>
                    <a:pt x="862" y="310"/>
                  </a:lnTo>
                  <a:lnTo>
                    <a:pt x="874" y="352"/>
                  </a:lnTo>
                  <a:lnTo>
                    <a:pt x="880" y="396"/>
                  </a:lnTo>
                  <a:lnTo>
                    <a:pt x="882" y="442"/>
                  </a:lnTo>
                  <a:lnTo>
                    <a:pt x="882" y="442"/>
                  </a:lnTo>
                  <a:close/>
                </a:path>
              </a:pathLst>
            </a:custGeom>
            <a:solidFill>
              <a:srgbClr val="f6a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8"/>
            <p:cNvSpPr/>
            <p:nvPr/>
          </p:nvSpPr>
          <p:spPr>
            <a:xfrm>
              <a:off x="8305560" y="6933960"/>
              <a:ext cx="1365480" cy="136512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860" h="860">
                  <a:moveTo>
                    <a:pt x="860" y="430"/>
                  </a:moveTo>
                  <a:lnTo>
                    <a:pt x="860" y="430"/>
                  </a:lnTo>
                  <a:lnTo>
                    <a:pt x="856" y="474"/>
                  </a:lnTo>
                  <a:lnTo>
                    <a:pt x="850" y="516"/>
                  </a:lnTo>
                  <a:lnTo>
                    <a:pt x="840" y="558"/>
                  </a:lnTo>
                  <a:lnTo>
                    <a:pt x="826" y="598"/>
                  </a:lnTo>
                  <a:lnTo>
                    <a:pt x="808" y="636"/>
                  </a:lnTo>
                  <a:lnTo>
                    <a:pt x="786" y="670"/>
                  </a:lnTo>
                  <a:lnTo>
                    <a:pt x="760" y="704"/>
                  </a:lnTo>
                  <a:lnTo>
                    <a:pt x="734" y="734"/>
                  </a:lnTo>
                  <a:lnTo>
                    <a:pt x="702" y="762"/>
                  </a:lnTo>
                  <a:lnTo>
                    <a:pt x="670" y="786"/>
                  </a:lnTo>
                  <a:lnTo>
                    <a:pt x="634" y="808"/>
                  </a:lnTo>
                  <a:lnTo>
                    <a:pt x="596" y="826"/>
                  </a:lnTo>
                  <a:lnTo>
                    <a:pt x="558" y="840"/>
                  </a:lnTo>
                  <a:lnTo>
                    <a:pt x="516" y="852"/>
                  </a:lnTo>
                  <a:lnTo>
                    <a:pt x="474" y="858"/>
                  </a:lnTo>
                  <a:lnTo>
                    <a:pt x="430" y="860"/>
                  </a:lnTo>
                  <a:lnTo>
                    <a:pt x="430" y="860"/>
                  </a:lnTo>
                  <a:lnTo>
                    <a:pt x="386" y="858"/>
                  </a:lnTo>
                  <a:lnTo>
                    <a:pt x="342" y="852"/>
                  </a:lnTo>
                  <a:lnTo>
                    <a:pt x="302" y="840"/>
                  </a:lnTo>
                  <a:lnTo>
                    <a:pt x="262" y="826"/>
                  </a:lnTo>
                  <a:lnTo>
                    <a:pt x="224" y="808"/>
                  </a:lnTo>
                  <a:lnTo>
                    <a:pt x="188" y="786"/>
                  </a:lnTo>
                  <a:lnTo>
                    <a:pt x="156" y="762"/>
                  </a:lnTo>
                  <a:lnTo>
                    <a:pt x="124" y="734"/>
                  </a:lnTo>
                  <a:lnTo>
                    <a:pt x="98" y="704"/>
                  </a:lnTo>
                  <a:lnTo>
                    <a:pt x="72" y="670"/>
                  </a:lnTo>
                  <a:lnTo>
                    <a:pt x="50" y="636"/>
                  </a:lnTo>
                  <a:lnTo>
                    <a:pt x="32" y="598"/>
                  </a:lnTo>
                  <a:lnTo>
                    <a:pt x="18" y="558"/>
                  </a:lnTo>
                  <a:lnTo>
                    <a:pt x="8" y="516"/>
                  </a:lnTo>
                  <a:lnTo>
                    <a:pt x="2" y="474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2" y="386"/>
                  </a:lnTo>
                  <a:lnTo>
                    <a:pt x="8" y="344"/>
                  </a:lnTo>
                  <a:lnTo>
                    <a:pt x="18" y="302"/>
                  </a:lnTo>
                  <a:lnTo>
                    <a:pt x="32" y="262"/>
                  </a:lnTo>
                  <a:lnTo>
                    <a:pt x="50" y="226"/>
                  </a:lnTo>
                  <a:lnTo>
                    <a:pt x="72" y="190"/>
                  </a:lnTo>
                  <a:lnTo>
                    <a:pt x="98" y="156"/>
                  </a:lnTo>
                  <a:lnTo>
                    <a:pt x="124" y="126"/>
                  </a:lnTo>
                  <a:lnTo>
                    <a:pt x="156" y="98"/>
                  </a:lnTo>
                  <a:lnTo>
                    <a:pt x="188" y="74"/>
                  </a:lnTo>
                  <a:lnTo>
                    <a:pt x="224" y="52"/>
                  </a:lnTo>
                  <a:lnTo>
                    <a:pt x="262" y="34"/>
                  </a:lnTo>
                  <a:lnTo>
                    <a:pt x="302" y="20"/>
                  </a:lnTo>
                  <a:lnTo>
                    <a:pt x="342" y="8"/>
                  </a:lnTo>
                  <a:lnTo>
                    <a:pt x="386" y="2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74" y="2"/>
                  </a:lnTo>
                  <a:lnTo>
                    <a:pt x="516" y="8"/>
                  </a:lnTo>
                  <a:lnTo>
                    <a:pt x="558" y="20"/>
                  </a:lnTo>
                  <a:lnTo>
                    <a:pt x="596" y="34"/>
                  </a:lnTo>
                  <a:lnTo>
                    <a:pt x="634" y="52"/>
                  </a:lnTo>
                  <a:lnTo>
                    <a:pt x="670" y="74"/>
                  </a:lnTo>
                  <a:lnTo>
                    <a:pt x="702" y="98"/>
                  </a:lnTo>
                  <a:lnTo>
                    <a:pt x="734" y="126"/>
                  </a:lnTo>
                  <a:lnTo>
                    <a:pt x="760" y="156"/>
                  </a:lnTo>
                  <a:lnTo>
                    <a:pt x="786" y="190"/>
                  </a:lnTo>
                  <a:lnTo>
                    <a:pt x="808" y="226"/>
                  </a:lnTo>
                  <a:lnTo>
                    <a:pt x="826" y="262"/>
                  </a:lnTo>
                  <a:lnTo>
                    <a:pt x="840" y="302"/>
                  </a:lnTo>
                  <a:lnTo>
                    <a:pt x="850" y="344"/>
                  </a:lnTo>
                  <a:lnTo>
                    <a:pt x="856" y="386"/>
                  </a:lnTo>
                  <a:lnTo>
                    <a:pt x="860" y="430"/>
                  </a:lnTo>
                  <a:lnTo>
                    <a:pt x="860" y="430"/>
                  </a:lnTo>
                  <a:close/>
                </a:path>
              </a:pathLst>
            </a:custGeom>
            <a:solidFill>
              <a:srgbClr val="f6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29"/>
            <p:cNvSpPr/>
            <p:nvPr/>
          </p:nvSpPr>
          <p:spPr>
            <a:xfrm>
              <a:off x="8312040" y="6943680"/>
              <a:ext cx="1330560" cy="1333440"/>
            </a:xfrm>
            <a:custGeom>
              <a:avLst/>
              <a:gdLst>
                <a:gd name="textAreaLeft" fmla="*/ 0 w 1330560"/>
                <a:gd name="textAreaRight" fmla="*/ 1330560 w 13305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838" h="840">
                  <a:moveTo>
                    <a:pt x="838" y="420"/>
                  </a:moveTo>
                  <a:lnTo>
                    <a:pt x="838" y="420"/>
                  </a:lnTo>
                  <a:lnTo>
                    <a:pt x="836" y="464"/>
                  </a:lnTo>
                  <a:lnTo>
                    <a:pt x="830" y="504"/>
                  </a:lnTo>
                  <a:lnTo>
                    <a:pt x="820" y="546"/>
                  </a:lnTo>
                  <a:lnTo>
                    <a:pt x="806" y="584"/>
                  </a:lnTo>
                  <a:lnTo>
                    <a:pt x="788" y="620"/>
                  </a:lnTo>
                  <a:lnTo>
                    <a:pt x="766" y="654"/>
                  </a:lnTo>
                  <a:lnTo>
                    <a:pt x="742" y="688"/>
                  </a:lnTo>
                  <a:lnTo>
                    <a:pt x="716" y="718"/>
                  </a:lnTo>
                  <a:lnTo>
                    <a:pt x="686" y="744"/>
                  </a:lnTo>
                  <a:lnTo>
                    <a:pt x="654" y="768"/>
                  </a:lnTo>
                  <a:lnTo>
                    <a:pt x="618" y="790"/>
                  </a:lnTo>
                  <a:lnTo>
                    <a:pt x="582" y="806"/>
                  </a:lnTo>
                  <a:lnTo>
                    <a:pt x="544" y="822"/>
                  </a:lnTo>
                  <a:lnTo>
                    <a:pt x="504" y="832"/>
                  </a:lnTo>
                  <a:lnTo>
                    <a:pt x="462" y="838"/>
                  </a:lnTo>
                  <a:lnTo>
                    <a:pt x="418" y="840"/>
                  </a:lnTo>
                  <a:lnTo>
                    <a:pt x="418" y="840"/>
                  </a:lnTo>
                  <a:lnTo>
                    <a:pt x="376" y="838"/>
                  </a:lnTo>
                  <a:lnTo>
                    <a:pt x="334" y="832"/>
                  </a:lnTo>
                  <a:lnTo>
                    <a:pt x="294" y="822"/>
                  </a:lnTo>
                  <a:lnTo>
                    <a:pt x="256" y="806"/>
                  </a:lnTo>
                  <a:lnTo>
                    <a:pt x="218" y="790"/>
                  </a:lnTo>
                  <a:lnTo>
                    <a:pt x="184" y="768"/>
                  </a:lnTo>
                  <a:lnTo>
                    <a:pt x="152" y="744"/>
                  </a:lnTo>
                  <a:lnTo>
                    <a:pt x="122" y="718"/>
                  </a:lnTo>
                  <a:lnTo>
                    <a:pt x="96" y="688"/>
                  </a:lnTo>
                  <a:lnTo>
                    <a:pt x="70" y="654"/>
                  </a:lnTo>
                  <a:lnTo>
                    <a:pt x="50" y="620"/>
                  </a:lnTo>
                  <a:lnTo>
                    <a:pt x="32" y="584"/>
                  </a:lnTo>
                  <a:lnTo>
                    <a:pt x="18" y="546"/>
                  </a:lnTo>
                  <a:lnTo>
                    <a:pt x="8" y="504"/>
                  </a:lnTo>
                  <a:lnTo>
                    <a:pt x="2" y="464"/>
                  </a:lnTo>
                  <a:lnTo>
                    <a:pt x="0" y="420"/>
                  </a:lnTo>
                  <a:lnTo>
                    <a:pt x="0" y="420"/>
                  </a:lnTo>
                  <a:lnTo>
                    <a:pt x="2" y="378"/>
                  </a:lnTo>
                  <a:lnTo>
                    <a:pt x="8" y="336"/>
                  </a:lnTo>
                  <a:lnTo>
                    <a:pt x="18" y="296"/>
                  </a:lnTo>
                  <a:lnTo>
                    <a:pt x="32" y="258"/>
                  </a:lnTo>
                  <a:lnTo>
                    <a:pt x="50" y="220"/>
                  </a:lnTo>
                  <a:lnTo>
                    <a:pt x="70" y="186"/>
                  </a:lnTo>
                  <a:lnTo>
                    <a:pt x="96" y="154"/>
                  </a:lnTo>
                  <a:lnTo>
                    <a:pt x="122" y="124"/>
                  </a:lnTo>
                  <a:lnTo>
                    <a:pt x="152" y="96"/>
                  </a:lnTo>
                  <a:lnTo>
                    <a:pt x="184" y="72"/>
                  </a:lnTo>
                  <a:lnTo>
                    <a:pt x="218" y="52"/>
                  </a:lnTo>
                  <a:lnTo>
                    <a:pt x="256" y="34"/>
                  </a:lnTo>
                  <a:lnTo>
                    <a:pt x="294" y="20"/>
                  </a:lnTo>
                  <a:lnTo>
                    <a:pt x="334" y="10"/>
                  </a:lnTo>
                  <a:lnTo>
                    <a:pt x="376" y="4"/>
                  </a:lnTo>
                  <a:lnTo>
                    <a:pt x="418" y="0"/>
                  </a:lnTo>
                  <a:lnTo>
                    <a:pt x="418" y="0"/>
                  </a:lnTo>
                  <a:lnTo>
                    <a:pt x="462" y="4"/>
                  </a:lnTo>
                  <a:lnTo>
                    <a:pt x="504" y="10"/>
                  </a:lnTo>
                  <a:lnTo>
                    <a:pt x="544" y="20"/>
                  </a:lnTo>
                  <a:lnTo>
                    <a:pt x="582" y="34"/>
                  </a:lnTo>
                  <a:lnTo>
                    <a:pt x="618" y="52"/>
                  </a:lnTo>
                  <a:lnTo>
                    <a:pt x="654" y="72"/>
                  </a:lnTo>
                  <a:lnTo>
                    <a:pt x="686" y="96"/>
                  </a:lnTo>
                  <a:lnTo>
                    <a:pt x="716" y="124"/>
                  </a:lnTo>
                  <a:lnTo>
                    <a:pt x="742" y="154"/>
                  </a:lnTo>
                  <a:lnTo>
                    <a:pt x="766" y="186"/>
                  </a:lnTo>
                  <a:lnTo>
                    <a:pt x="788" y="220"/>
                  </a:lnTo>
                  <a:lnTo>
                    <a:pt x="806" y="258"/>
                  </a:lnTo>
                  <a:lnTo>
                    <a:pt x="820" y="296"/>
                  </a:lnTo>
                  <a:lnTo>
                    <a:pt x="830" y="336"/>
                  </a:lnTo>
                  <a:lnTo>
                    <a:pt x="836" y="378"/>
                  </a:lnTo>
                  <a:lnTo>
                    <a:pt x="838" y="420"/>
                  </a:lnTo>
                  <a:lnTo>
                    <a:pt x="838" y="420"/>
                  </a:lnTo>
                  <a:close/>
                </a:path>
              </a:pathLst>
            </a:custGeom>
            <a:solidFill>
              <a:srgbClr val="f7b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30"/>
            <p:cNvSpPr/>
            <p:nvPr/>
          </p:nvSpPr>
          <p:spPr>
            <a:xfrm>
              <a:off x="8318160" y="6956280"/>
              <a:ext cx="1298520" cy="1298520"/>
            </a:xfrm>
            <a:custGeom>
              <a:avLst/>
              <a:gdLst/>
              <a:ahLst/>
              <a:rect l="l" t="t" r="r" b="b"/>
              <a:pathLst>
                <a:path w="818" h="818">
                  <a:moveTo>
                    <a:pt x="818" y="408"/>
                  </a:moveTo>
                  <a:lnTo>
                    <a:pt x="818" y="408"/>
                  </a:lnTo>
                  <a:lnTo>
                    <a:pt x="814" y="450"/>
                  </a:lnTo>
                  <a:lnTo>
                    <a:pt x="808" y="492"/>
                  </a:lnTo>
                  <a:lnTo>
                    <a:pt x="798" y="530"/>
                  </a:lnTo>
                  <a:lnTo>
                    <a:pt x="784" y="568"/>
                  </a:lnTo>
                  <a:lnTo>
                    <a:pt x="768" y="604"/>
                  </a:lnTo>
                  <a:lnTo>
                    <a:pt x="748" y="638"/>
                  </a:lnTo>
                  <a:lnTo>
                    <a:pt x="724" y="668"/>
                  </a:lnTo>
                  <a:lnTo>
                    <a:pt x="698" y="698"/>
                  </a:lnTo>
                  <a:lnTo>
                    <a:pt x="668" y="724"/>
                  </a:lnTo>
                  <a:lnTo>
                    <a:pt x="636" y="748"/>
                  </a:lnTo>
                  <a:lnTo>
                    <a:pt x="604" y="768"/>
                  </a:lnTo>
                  <a:lnTo>
                    <a:pt x="568" y="786"/>
                  </a:lnTo>
                  <a:lnTo>
                    <a:pt x="530" y="800"/>
                  </a:lnTo>
                  <a:lnTo>
                    <a:pt x="490" y="810"/>
                  </a:lnTo>
                  <a:lnTo>
                    <a:pt x="450" y="816"/>
                  </a:lnTo>
                  <a:lnTo>
                    <a:pt x="408" y="818"/>
                  </a:lnTo>
                  <a:lnTo>
                    <a:pt x="408" y="818"/>
                  </a:lnTo>
                  <a:lnTo>
                    <a:pt x="366" y="816"/>
                  </a:lnTo>
                  <a:lnTo>
                    <a:pt x="326" y="810"/>
                  </a:lnTo>
                  <a:lnTo>
                    <a:pt x="286" y="800"/>
                  </a:lnTo>
                  <a:lnTo>
                    <a:pt x="250" y="786"/>
                  </a:lnTo>
                  <a:lnTo>
                    <a:pt x="214" y="768"/>
                  </a:lnTo>
                  <a:lnTo>
                    <a:pt x="180" y="748"/>
                  </a:lnTo>
                  <a:lnTo>
                    <a:pt x="148" y="724"/>
                  </a:lnTo>
                  <a:lnTo>
                    <a:pt x="120" y="698"/>
                  </a:lnTo>
                  <a:lnTo>
                    <a:pt x="92" y="668"/>
                  </a:lnTo>
                  <a:lnTo>
                    <a:pt x="70" y="638"/>
                  </a:lnTo>
                  <a:lnTo>
                    <a:pt x="48" y="604"/>
                  </a:lnTo>
                  <a:lnTo>
                    <a:pt x="32" y="568"/>
                  </a:lnTo>
                  <a:lnTo>
                    <a:pt x="18" y="530"/>
                  </a:lnTo>
                  <a:lnTo>
                    <a:pt x="8" y="492"/>
                  </a:lnTo>
                  <a:lnTo>
                    <a:pt x="2" y="450"/>
                  </a:lnTo>
                  <a:lnTo>
                    <a:pt x="0" y="408"/>
                  </a:lnTo>
                  <a:lnTo>
                    <a:pt x="0" y="408"/>
                  </a:lnTo>
                  <a:lnTo>
                    <a:pt x="2" y="368"/>
                  </a:lnTo>
                  <a:lnTo>
                    <a:pt x="8" y="326"/>
                  </a:lnTo>
                  <a:lnTo>
                    <a:pt x="18" y="288"/>
                  </a:lnTo>
                  <a:lnTo>
                    <a:pt x="32" y="250"/>
                  </a:lnTo>
                  <a:lnTo>
                    <a:pt x="48" y="214"/>
                  </a:lnTo>
                  <a:lnTo>
                    <a:pt x="70" y="180"/>
                  </a:lnTo>
                  <a:lnTo>
                    <a:pt x="92" y="148"/>
                  </a:lnTo>
                  <a:lnTo>
                    <a:pt x="120" y="120"/>
                  </a:lnTo>
                  <a:lnTo>
                    <a:pt x="148" y="94"/>
                  </a:lnTo>
                  <a:lnTo>
                    <a:pt x="180" y="70"/>
                  </a:lnTo>
                  <a:lnTo>
                    <a:pt x="214" y="50"/>
                  </a:lnTo>
                  <a:lnTo>
                    <a:pt x="250" y="32"/>
                  </a:lnTo>
                  <a:lnTo>
                    <a:pt x="286" y="18"/>
                  </a:lnTo>
                  <a:lnTo>
                    <a:pt x="326" y="8"/>
                  </a:lnTo>
                  <a:lnTo>
                    <a:pt x="366" y="2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50" y="2"/>
                  </a:lnTo>
                  <a:lnTo>
                    <a:pt x="490" y="8"/>
                  </a:lnTo>
                  <a:lnTo>
                    <a:pt x="530" y="18"/>
                  </a:lnTo>
                  <a:lnTo>
                    <a:pt x="568" y="32"/>
                  </a:lnTo>
                  <a:lnTo>
                    <a:pt x="604" y="50"/>
                  </a:lnTo>
                  <a:lnTo>
                    <a:pt x="636" y="70"/>
                  </a:lnTo>
                  <a:lnTo>
                    <a:pt x="668" y="94"/>
                  </a:lnTo>
                  <a:lnTo>
                    <a:pt x="698" y="120"/>
                  </a:lnTo>
                  <a:lnTo>
                    <a:pt x="724" y="148"/>
                  </a:lnTo>
                  <a:lnTo>
                    <a:pt x="748" y="180"/>
                  </a:lnTo>
                  <a:lnTo>
                    <a:pt x="768" y="214"/>
                  </a:lnTo>
                  <a:lnTo>
                    <a:pt x="784" y="250"/>
                  </a:lnTo>
                  <a:lnTo>
                    <a:pt x="798" y="288"/>
                  </a:lnTo>
                  <a:lnTo>
                    <a:pt x="808" y="326"/>
                  </a:lnTo>
                  <a:lnTo>
                    <a:pt x="814" y="368"/>
                  </a:lnTo>
                  <a:lnTo>
                    <a:pt x="818" y="408"/>
                  </a:lnTo>
                  <a:lnTo>
                    <a:pt x="818" y="408"/>
                  </a:lnTo>
                  <a:close/>
                </a:path>
              </a:pathLst>
            </a:custGeom>
            <a:solidFill>
              <a:srgbClr val="f7b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31"/>
            <p:cNvSpPr/>
            <p:nvPr/>
          </p:nvSpPr>
          <p:spPr>
            <a:xfrm>
              <a:off x="8324640" y="6968880"/>
              <a:ext cx="1263600" cy="12636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796" h="796">
                  <a:moveTo>
                    <a:pt x="796" y="398"/>
                  </a:moveTo>
                  <a:lnTo>
                    <a:pt x="796" y="398"/>
                  </a:lnTo>
                  <a:lnTo>
                    <a:pt x="794" y="438"/>
                  </a:lnTo>
                  <a:lnTo>
                    <a:pt x="788" y="478"/>
                  </a:lnTo>
                  <a:lnTo>
                    <a:pt x="778" y="516"/>
                  </a:lnTo>
                  <a:lnTo>
                    <a:pt x="764" y="552"/>
                  </a:lnTo>
                  <a:lnTo>
                    <a:pt x="748" y="588"/>
                  </a:lnTo>
                  <a:lnTo>
                    <a:pt x="728" y="620"/>
                  </a:lnTo>
                  <a:lnTo>
                    <a:pt x="706" y="650"/>
                  </a:lnTo>
                  <a:lnTo>
                    <a:pt x="680" y="678"/>
                  </a:lnTo>
                  <a:lnTo>
                    <a:pt x="652" y="704"/>
                  </a:lnTo>
                  <a:lnTo>
                    <a:pt x="620" y="728"/>
                  </a:lnTo>
                  <a:lnTo>
                    <a:pt x="588" y="748"/>
                  </a:lnTo>
                  <a:lnTo>
                    <a:pt x="552" y="764"/>
                  </a:lnTo>
                  <a:lnTo>
                    <a:pt x="516" y="778"/>
                  </a:lnTo>
                  <a:lnTo>
                    <a:pt x="478" y="788"/>
                  </a:lnTo>
                  <a:lnTo>
                    <a:pt x="438" y="794"/>
                  </a:lnTo>
                  <a:lnTo>
                    <a:pt x="398" y="796"/>
                  </a:lnTo>
                  <a:lnTo>
                    <a:pt x="398" y="796"/>
                  </a:lnTo>
                  <a:lnTo>
                    <a:pt x="358" y="794"/>
                  </a:lnTo>
                  <a:lnTo>
                    <a:pt x="318" y="788"/>
                  </a:lnTo>
                  <a:lnTo>
                    <a:pt x="280" y="778"/>
                  </a:lnTo>
                  <a:lnTo>
                    <a:pt x="242" y="764"/>
                  </a:lnTo>
                  <a:lnTo>
                    <a:pt x="208" y="748"/>
                  </a:lnTo>
                  <a:lnTo>
                    <a:pt x="176" y="728"/>
                  </a:lnTo>
                  <a:lnTo>
                    <a:pt x="144" y="704"/>
                  </a:lnTo>
                  <a:lnTo>
                    <a:pt x="116" y="678"/>
                  </a:lnTo>
                  <a:lnTo>
                    <a:pt x="90" y="650"/>
                  </a:lnTo>
                  <a:lnTo>
                    <a:pt x="68" y="620"/>
                  </a:lnTo>
                  <a:lnTo>
                    <a:pt x="48" y="588"/>
                  </a:lnTo>
                  <a:lnTo>
                    <a:pt x="30" y="552"/>
                  </a:lnTo>
                  <a:lnTo>
                    <a:pt x="18" y="516"/>
                  </a:lnTo>
                  <a:lnTo>
                    <a:pt x="8" y="478"/>
                  </a:lnTo>
                  <a:lnTo>
                    <a:pt x="2" y="43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2" y="356"/>
                  </a:lnTo>
                  <a:lnTo>
                    <a:pt x="8" y="316"/>
                  </a:lnTo>
                  <a:lnTo>
                    <a:pt x="18" y="278"/>
                  </a:lnTo>
                  <a:lnTo>
                    <a:pt x="30" y="242"/>
                  </a:lnTo>
                  <a:lnTo>
                    <a:pt x="48" y="208"/>
                  </a:lnTo>
                  <a:lnTo>
                    <a:pt x="68" y="174"/>
                  </a:lnTo>
                  <a:lnTo>
                    <a:pt x="90" y="144"/>
                  </a:lnTo>
                  <a:lnTo>
                    <a:pt x="116" y="116"/>
                  </a:lnTo>
                  <a:lnTo>
                    <a:pt x="144" y="90"/>
                  </a:lnTo>
                  <a:lnTo>
                    <a:pt x="176" y="68"/>
                  </a:lnTo>
                  <a:lnTo>
                    <a:pt x="208" y="48"/>
                  </a:lnTo>
                  <a:lnTo>
                    <a:pt x="242" y="30"/>
                  </a:lnTo>
                  <a:lnTo>
                    <a:pt x="280" y="16"/>
                  </a:lnTo>
                  <a:lnTo>
                    <a:pt x="318" y="8"/>
                  </a:lnTo>
                  <a:lnTo>
                    <a:pt x="358" y="2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438" y="2"/>
                  </a:lnTo>
                  <a:lnTo>
                    <a:pt x="478" y="8"/>
                  </a:lnTo>
                  <a:lnTo>
                    <a:pt x="516" y="16"/>
                  </a:lnTo>
                  <a:lnTo>
                    <a:pt x="552" y="30"/>
                  </a:lnTo>
                  <a:lnTo>
                    <a:pt x="588" y="48"/>
                  </a:lnTo>
                  <a:lnTo>
                    <a:pt x="620" y="68"/>
                  </a:lnTo>
                  <a:lnTo>
                    <a:pt x="652" y="90"/>
                  </a:lnTo>
                  <a:lnTo>
                    <a:pt x="680" y="116"/>
                  </a:lnTo>
                  <a:lnTo>
                    <a:pt x="706" y="144"/>
                  </a:lnTo>
                  <a:lnTo>
                    <a:pt x="728" y="174"/>
                  </a:lnTo>
                  <a:lnTo>
                    <a:pt x="748" y="208"/>
                  </a:lnTo>
                  <a:lnTo>
                    <a:pt x="764" y="242"/>
                  </a:lnTo>
                  <a:lnTo>
                    <a:pt x="778" y="278"/>
                  </a:lnTo>
                  <a:lnTo>
                    <a:pt x="788" y="316"/>
                  </a:lnTo>
                  <a:lnTo>
                    <a:pt x="794" y="356"/>
                  </a:lnTo>
                  <a:lnTo>
                    <a:pt x="796" y="398"/>
                  </a:lnTo>
                  <a:lnTo>
                    <a:pt x="796" y="398"/>
                  </a:lnTo>
                  <a:close/>
                </a:path>
              </a:pathLst>
            </a:custGeom>
            <a:solidFill>
              <a:srgbClr val="f7b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32"/>
            <p:cNvSpPr/>
            <p:nvPr/>
          </p:nvSpPr>
          <p:spPr>
            <a:xfrm>
              <a:off x="8331120" y="6978600"/>
              <a:ext cx="1228680" cy="123156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774" h="776">
                  <a:moveTo>
                    <a:pt x="774" y="388"/>
                  </a:moveTo>
                  <a:lnTo>
                    <a:pt x="774" y="388"/>
                  </a:lnTo>
                  <a:lnTo>
                    <a:pt x="772" y="428"/>
                  </a:lnTo>
                  <a:lnTo>
                    <a:pt x="768" y="466"/>
                  </a:lnTo>
                  <a:lnTo>
                    <a:pt x="758" y="502"/>
                  </a:lnTo>
                  <a:lnTo>
                    <a:pt x="744" y="538"/>
                  </a:lnTo>
                  <a:lnTo>
                    <a:pt x="728" y="572"/>
                  </a:lnTo>
                  <a:lnTo>
                    <a:pt x="708" y="604"/>
                  </a:lnTo>
                  <a:lnTo>
                    <a:pt x="686" y="634"/>
                  </a:lnTo>
                  <a:lnTo>
                    <a:pt x="662" y="662"/>
                  </a:lnTo>
                  <a:lnTo>
                    <a:pt x="634" y="686"/>
                  </a:lnTo>
                  <a:lnTo>
                    <a:pt x="604" y="708"/>
                  </a:lnTo>
                  <a:lnTo>
                    <a:pt x="572" y="728"/>
                  </a:lnTo>
                  <a:lnTo>
                    <a:pt x="538" y="744"/>
                  </a:lnTo>
                  <a:lnTo>
                    <a:pt x="502" y="758"/>
                  </a:lnTo>
                  <a:lnTo>
                    <a:pt x="466" y="768"/>
                  </a:lnTo>
                  <a:lnTo>
                    <a:pt x="428" y="774"/>
                  </a:lnTo>
                  <a:lnTo>
                    <a:pt x="388" y="776"/>
                  </a:lnTo>
                  <a:lnTo>
                    <a:pt x="388" y="776"/>
                  </a:lnTo>
                  <a:lnTo>
                    <a:pt x="348" y="774"/>
                  </a:lnTo>
                  <a:lnTo>
                    <a:pt x="310" y="768"/>
                  </a:lnTo>
                  <a:lnTo>
                    <a:pt x="272" y="758"/>
                  </a:lnTo>
                  <a:lnTo>
                    <a:pt x="236" y="744"/>
                  </a:lnTo>
                  <a:lnTo>
                    <a:pt x="202" y="728"/>
                  </a:lnTo>
                  <a:lnTo>
                    <a:pt x="170" y="708"/>
                  </a:lnTo>
                  <a:lnTo>
                    <a:pt x="140" y="686"/>
                  </a:lnTo>
                  <a:lnTo>
                    <a:pt x="114" y="662"/>
                  </a:lnTo>
                  <a:lnTo>
                    <a:pt x="88" y="634"/>
                  </a:lnTo>
                  <a:lnTo>
                    <a:pt x="66" y="604"/>
                  </a:lnTo>
                  <a:lnTo>
                    <a:pt x="46" y="572"/>
                  </a:lnTo>
                  <a:lnTo>
                    <a:pt x="30" y="538"/>
                  </a:lnTo>
                  <a:lnTo>
                    <a:pt x="18" y="502"/>
                  </a:lnTo>
                  <a:lnTo>
                    <a:pt x="8" y="466"/>
                  </a:lnTo>
                  <a:lnTo>
                    <a:pt x="2" y="428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2" y="348"/>
                  </a:lnTo>
                  <a:lnTo>
                    <a:pt x="8" y="310"/>
                  </a:lnTo>
                  <a:lnTo>
                    <a:pt x="18" y="272"/>
                  </a:lnTo>
                  <a:lnTo>
                    <a:pt x="30" y="236"/>
                  </a:lnTo>
                  <a:lnTo>
                    <a:pt x="46" y="202"/>
                  </a:lnTo>
                  <a:lnTo>
                    <a:pt x="66" y="170"/>
                  </a:lnTo>
                  <a:lnTo>
                    <a:pt x="88" y="142"/>
                  </a:lnTo>
                  <a:lnTo>
                    <a:pt x="114" y="114"/>
                  </a:lnTo>
                  <a:lnTo>
                    <a:pt x="140" y="88"/>
                  </a:lnTo>
                  <a:lnTo>
                    <a:pt x="170" y="66"/>
                  </a:lnTo>
                  <a:lnTo>
                    <a:pt x="202" y="46"/>
                  </a:lnTo>
                  <a:lnTo>
                    <a:pt x="236" y="30"/>
                  </a:lnTo>
                  <a:lnTo>
                    <a:pt x="272" y="18"/>
                  </a:lnTo>
                  <a:lnTo>
                    <a:pt x="310" y="8"/>
                  </a:lnTo>
                  <a:lnTo>
                    <a:pt x="348" y="2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428" y="2"/>
                  </a:lnTo>
                  <a:lnTo>
                    <a:pt x="466" y="8"/>
                  </a:lnTo>
                  <a:lnTo>
                    <a:pt x="502" y="18"/>
                  </a:lnTo>
                  <a:lnTo>
                    <a:pt x="538" y="30"/>
                  </a:lnTo>
                  <a:lnTo>
                    <a:pt x="572" y="46"/>
                  </a:lnTo>
                  <a:lnTo>
                    <a:pt x="604" y="66"/>
                  </a:lnTo>
                  <a:lnTo>
                    <a:pt x="634" y="88"/>
                  </a:lnTo>
                  <a:lnTo>
                    <a:pt x="662" y="114"/>
                  </a:lnTo>
                  <a:lnTo>
                    <a:pt x="686" y="142"/>
                  </a:lnTo>
                  <a:lnTo>
                    <a:pt x="708" y="170"/>
                  </a:lnTo>
                  <a:lnTo>
                    <a:pt x="728" y="202"/>
                  </a:lnTo>
                  <a:lnTo>
                    <a:pt x="744" y="236"/>
                  </a:lnTo>
                  <a:lnTo>
                    <a:pt x="758" y="272"/>
                  </a:lnTo>
                  <a:lnTo>
                    <a:pt x="768" y="310"/>
                  </a:lnTo>
                  <a:lnTo>
                    <a:pt x="772" y="348"/>
                  </a:lnTo>
                  <a:lnTo>
                    <a:pt x="774" y="388"/>
                  </a:lnTo>
                  <a:lnTo>
                    <a:pt x="774" y="388"/>
                  </a:lnTo>
                  <a:close/>
                </a:path>
              </a:pathLst>
            </a:custGeom>
            <a:solidFill>
              <a:srgbClr val="f8b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33"/>
            <p:cNvSpPr/>
            <p:nvPr/>
          </p:nvSpPr>
          <p:spPr>
            <a:xfrm>
              <a:off x="8337240" y="6991200"/>
              <a:ext cx="1197000" cy="1193760"/>
            </a:xfrm>
            <a:custGeom>
              <a:avLst/>
              <a:gdLst>
                <a:gd name="textAreaLeft" fmla="*/ 0 w 1197000"/>
                <a:gd name="textAreaRight" fmla="*/ 1197360 w 1197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754" h="752">
                  <a:moveTo>
                    <a:pt x="754" y="376"/>
                  </a:moveTo>
                  <a:lnTo>
                    <a:pt x="754" y="376"/>
                  </a:lnTo>
                  <a:lnTo>
                    <a:pt x="752" y="414"/>
                  </a:lnTo>
                  <a:lnTo>
                    <a:pt x="746" y="452"/>
                  </a:lnTo>
                  <a:lnTo>
                    <a:pt x="736" y="488"/>
                  </a:lnTo>
                  <a:lnTo>
                    <a:pt x="724" y="522"/>
                  </a:lnTo>
                  <a:lnTo>
                    <a:pt x="708" y="556"/>
                  </a:lnTo>
                  <a:lnTo>
                    <a:pt x="690" y="586"/>
                  </a:lnTo>
                  <a:lnTo>
                    <a:pt x="668" y="616"/>
                  </a:lnTo>
                  <a:lnTo>
                    <a:pt x="644" y="642"/>
                  </a:lnTo>
                  <a:lnTo>
                    <a:pt x="616" y="666"/>
                  </a:lnTo>
                  <a:lnTo>
                    <a:pt x="588" y="688"/>
                  </a:lnTo>
                  <a:lnTo>
                    <a:pt x="556" y="708"/>
                  </a:lnTo>
                  <a:lnTo>
                    <a:pt x="524" y="724"/>
                  </a:lnTo>
                  <a:lnTo>
                    <a:pt x="490" y="736"/>
                  </a:lnTo>
                  <a:lnTo>
                    <a:pt x="452" y="746"/>
                  </a:lnTo>
                  <a:lnTo>
                    <a:pt x="416" y="752"/>
                  </a:lnTo>
                  <a:lnTo>
                    <a:pt x="378" y="752"/>
                  </a:lnTo>
                  <a:lnTo>
                    <a:pt x="378" y="752"/>
                  </a:lnTo>
                  <a:lnTo>
                    <a:pt x="338" y="752"/>
                  </a:lnTo>
                  <a:lnTo>
                    <a:pt x="302" y="746"/>
                  </a:lnTo>
                  <a:lnTo>
                    <a:pt x="264" y="736"/>
                  </a:lnTo>
                  <a:lnTo>
                    <a:pt x="230" y="724"/>
                  </a:lnTo>
                  <a:lnTo>
                    <a:pt x="198" y="708"/>
                  </a:lnTo>
                  <a:lnTo>
                    <a:pt x="166" y="688"/>
                  </a:lnTo>
                  <a:lnTo>
                    <a:pt x="138" y="666"/>
                  </a:lnTo>
                  <a:lnTo>
                    <a:pt x="110" y="642"/>
                  </a:lnTo>
                  <a:lnTo>
                    <a:pt x="86" y="616"/>
                  </a:lnTo>
                  <a:lnTo>
                    <a:pt x="64" y="586"/>
                  </a:lnTo>
                  <a:lnTo>
                    <a:pt x="46" y="556"/>
                  </a:lnTo>
                  <a:lnTo>
                    <a:pt x="30" y="522"/>
                  </a:lnTo>
                  <a:lnTo>
                    <a:pt x="18" y="488"/>
                  </a:lnTo>
                  <a:lnTo>
                    <a:pt x="8" y="452"/>
                  </a:lnTo>
                  <a:lnTo>
                    <a:pt x="2" y="414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2" y="338"/>
                  </a:lnTo>
                  <a:lnTo>
                    <a:pt x="8" y="300"/>
                  </a:lnTo>
                  <a:lnTo>
                    <a:pt x="18" y="264"/>
                  </a:lnTo>
                  <a:lnTo>
                    <a:pt x="30" y="230"/>
                  </a:lnTo>
                  <a:lnTo>
                    <a:pt x="46" y="196"/>
                  </a:lnTo>
                  <a:lnTo>
                    <a:pt x="64" y="166"/>
                  </a:lnTo>
                  <a:lnTo>
                    <a:pt x="86" y="136"/>
                  </a:lnTo>
                  <a:lnTo>
                    <a:pt x="110" y="110"/>
                  </a:lnTo>
                  <a:lnTo>
                    <a:pt x="138" y="86"/>
                  </a:lnTo>
                  <a:lnTo>
                    <a:pt x="166" y="64"/>
                  </a:lnTo>
                  <a:lnTo>
                    <a:pt x="198" y="44"/>
                  </a:lnTo>
                  <a:lnTo>
                    <a:pt x="230" y="28"/>
                  </a:lnTo>
                  <a:lnTo>
                    <a:pt x="264" y="16"/>
                  </a:lnTo>
                  <a:lnTo>
                    <a:pt x="302" y="6"/>
                  </a:lnTo>
                  <a:lnTo>
                    <a:pt x="338" y="2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16" y="2"/>
                  </a:lnTo>
                  <a:lnTo>
                    <a:pt x="452" y="6"/>
                  </a:lnTo>
                  <a:lnTo>
                    <a:pt x="490" y="16"/>
                  </a:lnTo>
                  <a:lnTo>
                    <a:pt x="524" y="28"/>
                  </a:lnTo>
                  <a:lnTo>
                    <a:pt x="556" y="44"/>
                  </a:lnTo>
                  <a:lnTo>
                    <a:pt x="588" y="64"/>
                  </a:lnTo>
                  <a:lnTo>
                    <a:pt x="616" y="86"/>
                  </a:lnTo>
                  <a:lnTo>
                    <a:pt x="644" y="110"/>
                  </a:lnTo>
                  <a:lnTo>
                    <a:pt x="668" y="136"/>
                  </a:lnTo>
                  <a:lnTo>
                    <a:pt x="690" y="166"/>
                  </a:lnTo>
                  <a:lnTo>
                    <a:pt x="708" y="196"/>
                  </a:lnTo>
                  <a:lnTo>
                    <a:pt x="724" y="230"/>
                  </a:lnTo>
                  <a:lnTo>
                    <a:pt x="736" y="264"/>
                  </a:lnTo>
                  <a:lnTo>
                    <a:pt x="746" y="300"/>
                  </a:lnTo>
                  <a:lnTo>
                    <a:pt x="752" y="338"/>
                  </a:lnTo>
                  <a:lnTo>
                    <a:pt x="754" y="376"/>
                  </a:lnTo>
                  <a:lnTo>
                    <a:pt x="754" y="376"/>
                  </a:lnTo>
                  <a:close/>
                </a:path>
              </a:pathLst>
            </a:custGeom>
            <a:solidFill>
              <a:srgbClr val="f8b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34"/>
            <p:cNvSpPr/>
            <p:nvPr/>
          </p:nvSpPr>
          <p:spPr>
            <a:xfrm>
              <a:off x="8343720" y="7000920"/>
              <a:ext cx="1162080" cy="116172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1161720"/>
                <a:gd name="textAreaBottom" fmla="*/ 1162080 h 1161720"/>
              </a:gdLst>
              <a:ahLst/>
              <a:rect l="textAreaLeft" t="textAreaTop" r="textAreaRight" b="textAreaBottom"/>
              <a:pathLst>
                <a:path w="732" h="732">
                  <a:moveTo>
                    <a:pt x="732" y="366"/>
                  </a:moveTo>
                  <a:lnTo>
                    <a:pt x="732" y="366"/>
                  </a:lnTo>
                  <a:lnTo>
                    <a:pt x="730" y="404"/>
                  </a:lnTo>
                  <a:lnTo>
                    <a:pt x="726" y="440"/>
                  </a:lnTo>
                  <a:lnTo>
                    <a:pt x="716" y="476"/>
                  </a:lnTo>
                  <a:lnTo>
                    <a:pt x="704" y="510"/>
                  </a:lnTo>
                  <a:lnTo>
                    <a:pt x="688" y="542"/>
                  </a:lnTo>
                  <a:lnTo>
                    <a:pt x="670" y="572"/>
                  </a:lnTo>
                  <a:lnTo>
                    <a:pt x="650" y="600"/>
                  </a:lnTo>
                  <a:lnTo>
                    <a:pt x="626" y="626"/>
                  </a:lnTo>
                  <a:lnTo>
                    <a:pt x="600" y="650"/>
                  </a:lnTo>
                  <a:lnTo>
                    <a:pt x="572" y="670"/>
                  </a:lnTo>
                  <a:lnTo>
                    <a:pt x="542" y="688"/>
                  </a:lnTo>
                  <a:lnTo>
                    <a:pt x="510" y="704"/>
                  </a:lnTo>
                  <a:lnTo>
                    <a:pt x="476" y="716"/>
                  </a:lnTo>
                  <a:lnTo>
                    <a:pt x="440" y="726"/>
                  </a:lnTo>
                  <a:lnTo>
                    <a:pt x="404" y="730"/>
                  </a:lnTo>
                  <a:lnTo>
                    <a:pt x="366" y="732"/>
                  </a:lnTo>
                  <a:lnTo>
                    <a:pt x="366" y="732"/>
                  </a:lnTo>
                  <a:lnTo>
                    <a:pt x="330" y="730"/>
                  </a:lnTo>
                  <a:lnTo>
                    <a:pt x="292" y="726"/>
                  </a:lnTo>
                  <a:lnTo>
                    <a:pt x="258" y="716"/>
                  </a:lnTo>
                  <a:lnTo>
                    <a:pt x="224" y="704"/>
                  </a:lnTo>
                  <a:lnTo>
                    <a:pt x="192" y="688"/>
                  </a:lnTo>
                  <a:lnTo>
                    <a:pt x="162" y="670"/>
                  </a:lnTo>
                  <a:lnTo>
                    <a:pt x="134" y="650"/>
                  </a:lnTo>
                  <a:lnTo>
                    <a:pt x="108" y="626"/>
                  </a:lnTo>
                  <a:lnTo>
                    <a:pt x="84" y="600"/>
                  </a:lnTo>
                  <a:lnTo>
                    <a:pt x="62" y="572"/>
                  </a:lnTo>
                  <a:lnTo>
                    <a:pt x="44" y="542"/>
                  </a:lnTo>
                  <a:lnTo>
                    <a:pt x="30" y="510"/>
                  </a:lnTo>
                  <a:lnTo>
                    <a:pt x="16" y="476"/>
                  </a:lnTo>
                  <a:lnTo>
                    <a:pt x="8" y="440"/>
                  </a:lnTo>
                  <a:lnTo>
                    <a:pt x="2" y="404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2" y="330"/>
                  </a:lnTo>
                  <a:lnTo>
                    <a:pt x="8" y="292"/>
                  </a:lnTo>
                  <a:lnTo>
                    <a:pt x="16" y="258"/>
                  </a:lnTo>
                  <a:lnTo>
                    <a:pt x="30" y="224"/>
                  </a:lnTo>
                  <a:lnTo>
                    <a:pt x="44" y="192"/>
                  </a:lnTo>
                  <a:lnTo>
                    <a:pt x="62" y="162"/>
                  </a:lnTo>
                  <a:lnTo>
                    <a:pt x="84" y="134"/>
                  </a:lnTo>
                  <a:lnTo>
                    <a:pt x="108" y="108"/>
                  </a:lnTo>
                  <a:lnTo>
                    <a:pt x="134" y="84"/>
                  </a:lnTo>
                  <a:lnTo>
                    <a:pt x="162" y="62"/>
                  </a:lnTo>
                  <a:lnTo>
                    <a:pt x="192" y="44"/>
                  </a:lnTo>
                  <a:lnTo>
                    <a:pt x="224" y="28"/>
                  </a:lnTo>
                  <a:lnTo>
                    <a:pt x="258" y="16"/>
                  </a:lnTo>
                  <a:lnTo>
                    <a:pt x="292" y="8"/>
                  </a:lnTo>
                  <a:lnTo>
                    <a:pt x="330" y="2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404" y="2"/>
                  </a:lnTo>
                  <a:lnTo>
                    <a:pt x="440" y="8"/>
                  </a:lnTo>
                  <a:lnTo>
                    <a:pt x="476" y="16"/>
                  </a:lnTo>
                  <a:lnTo>
                    <a:pt x="510" y="28"/>
                  </a:lnTo>
                  <a:lnTo>
                    <a:pt x="542" y="44"/>
                  </a:lnTo>
                  <a:lnTo>
                    <a:pt x="572" y="62"/>
                  </a:lnTo>
                  <a:lnTo>
                    <a:pt x="600" y="84"/>
                  </a:lnTo>
                  <a:lnTo>
                    <a:pt x="626" y="108"/>
                  </a:lnTo>
                  <a:lnTo>
                    <a:pt x="650" y="134"/>
                  </a:lnTo>
                  <a:lnTo>
                    <a:pt x="670" y="162"/>
                  </a:lnTo>
                  <a:lnTo>
                    <a:pt x="688" y="192"/>
                  </a:lnTo>
                  <a:lnTo>
                    <a:pt x="704" y="224"/>
                  </a:lnTo>
                  <a:lnTo>
                    <a:pt x="716" y="258"/>
                  </a:lnTo>
                  <a:lnTo>
                    <a:pt x="726" y="292"/>
                  </a:lnTo>
                  <a:lnTo>
                    <a:pt x="730" y="330"/>
                  </a:lnTo>
                  <a:lnTo>
                    <a:pt x="732" y="366"/>
                  </a:lnTo>
                  <a:lnTo>
                    <a:pt x="732" y="366"/>
                  </a:lnTo>
                  <a:close/>
                </a:path>
              </a:pathLst>
            </a:custGeom>
            <a:solidFill>
              <a:srgbClr val="f8b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35"/>
            <p:cNvSpPr/>
            <p:nvPr/>
          </p:nvSpPr>
          <p:spPr>
            <a:xfrm>
              <a:off x="8350200" y="7013520"/>
              <a:ext cx="1130400" cy="11268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126800"/>
                <a:gd name="textAreaBottom" fmla="*/ 1127160 h 1126800"/>
              </a:gdLst>
              <a:ahLst/>
              <a:rect l="textAreaLeft" t="textAreaTop" r="textAreaRight" b="textAreaBottom"/>
              <a:pathLst>
                <a:path w="712" h="710">
                  <a:moveTo>
                    <a:pt x="712" y="354"/>
                  </a:moveTo>
                  <a:lnTo>
                    <a:pt x="712" y="354"/>
                  </a:lnTo>
                  <a:lnTo>
                    <a:pt x="710" y="392"/>
                  </a:lnTo>
                  <a:lnTo>
                    <a:pt x="704" y="426"/>
                  </a:lnTo>
                  <a:lnTo>
                    <a:pt x="696" y="460"/>
                  </a:lnTo>
                  <a:lnTo>
                    <a:pt x="684" y="494"/>
                  </a:lnTo>
                  <a:lnTo>
                    <a:pt x="668" y="524"/>
                  </a:lnTo>
                  <a:lnTo>
                    <a:pt x="652" y="554"/>
                  </a:lnTo>
                  <a:lnTo>
                    <a:pt x="630" y="582"/>
                  </a:lnTo>
                  <a:lnTo>
                    <a:pt x="608" y="606"/>
                  </a:lnTo>
                  <a:lnTo>
                    <a:pt x="582" y="630"/>
                  </a:lnTo>
                  <a:lnTo>
                    <a:pt x="556" y="650"/>
                  </a:lnTo>
                  <a:lnTo>
                    <a:pt x="526" y="668"/>
                  </a:lnTo>
                  <a:lnTo>
                    <a:pt x="494" y="682"/>
                  </a:lnTo>
                  <a:lnTo>
                    <a:pt x="462" y="694"/>
                  </a:lnTo>
                  <a:lnTo>
                    <a:pt x="428" y="704"/>
                  </a:lnTo>
                  <a:lnTo>
                    <a:pt x="392" y="708"/>
                  </a:lnTo>
                  <a:lnTo>
                    <a:pt x="356" y="710"/>
                  </a:lnTo>
                  <a:lnTo>
                    <a:pt x="356" y="710"/>
                  </a:lnTo>
                  <a:lnTo>
                    <a:pt x="320" y="708"/>
                  </a:lnTo>
                  <a:lnTo>
                    <a:pt x="284" y="704"/>
                  </a:lnTo>
                  <a:lnTo>
                    <a:pt x="250" y="694"/>
                  </a:lnTo>
                  <a:lnTo>
                    <a:pt x="218" y="682"/>
                  </a:lnTo>
                  <a:lnTo>
                    <a:pt x="186" y="668"/>
                  </a:lnTo>
                  <a:lnTo>
                    <a:pt x="158" y="650"/>
                  </a:lnTo>
                  <a:lnTo>
                    <a:pt x="130" y="630"/>
                  </a:lnTo>
                  <a:lnTo>
                    <a:pt x="104" y="606"/>
                  </a:lnTo>
                  <a:lnTo>
                    <a:pt x="82" y="582"/>
                  </a:lnTo>
                  <a:lnTo>
                    <a:pt x="62" y="554"/>
                  </a:lnTo>
                  <a:lnTo>
                    <a:pt x="44" y="524"/>
                  </a:lnTo>
                  <a:lnTo>
                    <a:pt x="28" y="494"/>
                  </a:lnTo>
                  <a:lnTo>
                    <a:pt x="16" y="460"/>
                  </a:lnTo>
                  <a:lnTo>
                    <a:pt x="8" y="426"/>
                  </a:lnTo>
                  <a:lnTo>
                    <a:pt x="2" y="392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" y="318"/>
                  </a:lnTo>
                  <a:lnTo>
                    <a:pt x="8" y="284"/>
                  </a:lnTo>
                  <a:lnTo>
                    <a:pt x="16" y="250"/>
                  </a:lnTo>
                  <a:lnTo>
                    <a:pt x="28" y="216"/>
                  </a:lnTo>
                  <a:lnTo>
                    <a:pt x="44" y="186"/>
                  </a:lnTo>
                  <a:lnTo>
                    <a:pt x="62" y="156"/>
                  </a:lnTo>
                  <a:lnTo>
                    <a:pt x="82" y="128"/>
                  </a:lnTo>
                  <a:lnTo>
                    <a:pt x="104" y="104"/>
                  </a:lnTo>
                  <a:lnTo>
                    <a:pt x="130" y="80"/>
                  </a:lnTo>
                  <a:lnTo>
                    <a:pt x="158" y="60"/>
                  </a:lnTo>
                  <a:lnTo>
                    <a:pt x="186" y="42"/>
                  </a:lnTo>
                  <a:lnTo>
                    <a:pt x="218" y="28"/>
                  </a:lnTo>
                  <a:lnTo>
                    <a:pt x="250" y="16"/>
                  </a:lnTo>
                  <a:lnTo>
                    <a:pt x="284" y="6"/>
                  </a:lnTo>
                  <a:lnTo>
                    <a:pt x="320" y="2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392" y="2"/>
                  </a:lnTo>
                  <a:lnTo>
                    <a:pt x="428" y="6"/>
                  </a:lnTo>
                  <a:lnTo>
                    <a:pt x="462" y="16"/>
                  </a:lnTo>
                  <a:lnTo>
                    <a:pt x="494" y="28"/>
                  </a:lnTo>
                  <a:lnTo>
                    <a:pt x="526" y="42"/>
                  </a:lnTo>
                  <a:lnTo>
                    <a:pt x="556" y="60"/>
                  </a:lnTo>
                  <a:lnTo>
                    <a:pt x="582" y="80"/>
                  </a:lnTo>
                  <a:lnTo>
                    <a:pt x="608" y="104"/>
                  </a:lnTo>
                  <a:lnTo>
                    <a:pt x="630" y="128"/>
                  </a:lnTo>
                  <a:lnTo>
                    <a:pt x="652" y="156"/>
                  </a:lnTo>
                  <a:lnTo>
                    <a:pt x="668" y="186"/>
                  </a:lnTo>
                  <a:lnTo>
                    <a:pt x="684" y="216"/>
                  </a:lnTo>
                  <a:lnTo>
                    <a:pt x="696" y="250"/>
                  </a:lnTo>
                  <a:lnTo>
                    <a:pt x="704" y="284"/>
                  </a:lnTo>
                  <a:lnTo>
                    <a:pt x="710" y="318"/>
                  </a:lnTo>
                  <a:lnTo>
                    <a:pt x="712" y="354"/>
                  </a:lnTo>
                  <a:lnTo>
                    <a:pt x="712" y="354"/>
                  </a:lnTo>
                  <a:close/>
                </a:path>
              </a:pathLst>
            </a:custGeom>
            <a:solidFill>
              <a:srgbClr val="f8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236"/>
            <p:cNvSpPr/>
            <p:nvPr/>
          </p:nvSpPr>
          <p:spPr>
            <a:xfrm>
              <a:off x="8356320" y="7022880"/>
              <a:ext cx="1095480" cy="1095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690" h="690">
                  <a:moveTo>
                    <a:pt x="690" y="346"/>
                  </a:moveTo>
                  <a:lnTo>
                    <a:pt x="690" y="346"/>
                  </a:lnTo>
                  <a:lnTo>
                    <a:pt x="688" y="380"/>
                  </a:lnTo>
                  <a:lnTo>
                    <a:pt x="684" y="414"/>
                  </a:lnTo>
                  <a:lnTo>
                    <a:pt x="676" y="448"/>
                  </a:lnTo>
                  <a:lnTo>
                    <a:pt x="664" y="480"/>
                  </a:lnTo>
                  <a:lnTo>
                    <a:pt x="650" y="510"/>
                  </a:lnTo>
                  <a:lnTo>
                    <a:pt x="632" y="538"/>
                  </a:lnTo>
                  <a:lnTo>
                    <a:pt x="612" y="564"/>
                  </a:lnTo>
                  <a:lnTo>
                    <a:pt x="590" y="590"/>
                  </a:lnTo>
                  <a:lnTo>
                    <a:pt x="566" y="612"/>
                  </a:lnTo>
                  <a:lnTo>
                    <a:pt x="538" y="632"/>
                  </a:lnTo>
                  <a:lnTo>
                    <a:pt x="510" y="648"/>
                  </a:lnTo>
                  <a:lnTo>
                    <a:pt x="480" y="664"/>
                  </a:lnTo>
                  <a:lnTo>
                    <a:pt x="448" y="674"/>
                  </a:lnTo>
                  <a:lnTo>
                    <a:pt x="416" y="684"/>
                  </a:lnTo>
                  <a:lnTo>
                    <a:pt x="382" y="688"/>
                  </a:lnTo>
                  <a:lnTo>
                    <a:pt x="346" y="690"/>
                  </a:lnTo>
                  <a:lnTo>
                    <a:pt x="346" y="690"/>
                  </a:lnTo>
                  <a:lnTo>
                    <a:pt x="310" y="688"/>
                  </a:lnTo>
                  <a:lnTo>
                    <a:pt x="276" y="684"/>
                  </a:lnTo>
                  <a:lnTo>
                    <a:pt x="244" y="674"/>
                  </a:lnTo>
                  <a:lnTo>
                    <a:pt x="212" y="664"/>
                  </a:lnTo>
                  <a:lnTo>
                    <a:pt x="182" y="648"/>
                  </a:lnTo>
                  <a:lnTo>
                    <a:pt x="152" y="632"/>
                  </a:lnTo>
                  <a:lnTo>
                    <a:pt x="126" y="612"/>
                  </a:lnTo>
                  <a:lnTo>
                    <a:pt x="102" y="590"/>
                  </a:lnTo>
                  <a:lnTo>
                    <a:pt x="80" y="564"/>
                  </a:lnTo>
                  <a:lnTo>
                    <a:pt x="60" y="538"/>
                  </a:lnTo>
                  <a:lnTo>
                    <a:pt x="42" y="510"/>
                  </a:lnTo>
                  <a:lnTo>
                    <a:pt x="28" y="480"/>
                  </a:lnTo>
                  <a:lnTo>
                    <a:pt x="16" y="448"/>
                  </a:lnTo>
                  <a:lnTo>
                    <a:pt x="8" y="414"/>
                  </a:lnTo>
                  <a:lnTo>
                    <a:pt x="2" y="380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2" y="310"/>
                  </a:lnTo>
                  <a:lnTo>
                    <a:pt x="8" y="276"/>
                  </a:lnTo>
                  <a:lnTo>
                    <a:pt x="16" y="242"/>
                  </a:lnTo>
                  <a:lnTo>
                    <a:pt x="28" y="212"/>
                  </a:lnTo>
                  <a:lnTo>
                    <a:pt x="42" y="180"/>
                  </a:lnTo>
                  <a:lnTo>
                    <a:pt x="60" y="152"/>
                  </a:lnTo>
                  <a:lnTo>
                    <a:pt x="80" y="126"/>
                  </a:lnTo>
                  <a:lnTo>
                    <a:pt x="102" y="102"/>
                  </a:lnTo>
                  <a:lnTo>
                    <a:pt x="126" y="80"/>
                  </a:lnTo>
                  <a:lnTo>
                    <a:pt x="152" y="60"/>
                  </a:lnTo>
                  <a:lnTo>
                    <a:pt x="182" y="42"/>
                  </a:lnTo>
                  <a:lnTo>
                    <a:pt x="212" y="28"/>
                  </a:lnTo>
                  <a:lnTo>
                    <a:pt x="244" y="16"/>
                  </a:lnTo>
                  <a:lnTo>
                    <a:pt x="276" y="8"/>
                  </a:lnTo>
                  <a:lnTo>
                    <a:pt x="310" y="2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82" y="2"/>
                  </a:lnTo>
                  <a:lnTo>
                    <a:pt x="416" y="8"/>
                  </a:lnTo>
                  <a:lnTo>
                    <a:pt x="448" y="16"/>
                  </a:lnTo>
                  <a:lnTo>
                    <a:pt x="480" y="28"/>
                  </a:lnTo>
                  <a:lnTo>
                    <a:pt x="510" y="42"/>
                  </a:lnTo>
                  <a:lnTo>
                    <a:pt x="538" y="60"/>
                  </a:lnTo>
                  <a:lnTo>
                    <a:pt x="566" y="80"/>
                  </a:lnTo>
                  <a:lnTo>
                    <a:pt x="590" y="102"/>
                  </a:lnTo>
                  <a:lnTo>
                    <a:pt x="612" y="126"/>
                  </a:lnTo>
                  <a:lnTo>
                    <a:pt x="632" y="152"/>
                  </a:lnTo>
                  <a:lnTo>
                    <a:pt x="650" y="180"/>
                  </a:lnTo>
                  <a:lnTo>
                    <a:pt x="664" y="212"/>
                  </a:lnTo>
                  <a:lnTo>
                    <a:pt x="676" y="242"/>
                  </a:lnTo>
                  <a:lnTo>
                    <a:pt x="684" y="276"/>
                  </a:lnTo>
                  <a:lnTo>
                    <a:pt x="688" y="310"/>
                  </a:lnTo>
                  <a:lnTo>
                    <a:pt x="690" y="346"/>
                  </a:lnTo>
                  <a:lnTo>
                    <a:pt x="690" y="346"/>
                  </a:lnTo>
                  <a:close/>
                </a:path>
              </a:pathLst>
            </a:custGeom>
            <a:solidFill>
              <a:srgbClr val="f9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237"/>
            <p:cNvSpPr/>
            <p:nvPr/>
          </p:nvSpPr>
          <p:spPr>
            <a:xfrm>
              <a:off x="8366040" y="7035840"/>
              <a:ext cx="1060560" cy="106020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668" h="668">
                  <a:moveTo>
                    <a:pt x="668" y="334"/>
                  </a:moveTo>
                  <a:lnTo>
                    <a:pt x="668" y="334"/>
                  </a:lnTo>
                  <a:lnTo>
                    <a:pt x="666" y="368"/>
                  </a:lnTo>
                  <a:lnTo>
                    <a:pt x="660" y="402"/>
                  </a:lnTo>
                  <a:lnTo>
                    <a:pt x="652" y="434"/>
                  </a:lnTo>
                  <a:lnTo>
                    <a:pt x="642" y="464"/>
                  </a:lnTo>
                  <a:lnTo>
                    <a:pt x="628" y="494"/>
                  </a:lnTo>
                  <a:lnTo>
                    <a:pt x="610" y="520"/>
                  </a:lnTo>
                  <a:lnTo>
                    <a:pt x="592" y="546"/>
                  </a:lnTo>
                  <a:lnTo>
                    <a:pt x="570" y="570"/>
                  </a:lnTo>
                  <a:lnTo>
                    <a:pt x="546" y="592"/>
                  </a:lnTo>
                  <a:lnTo>
                    <a:pt x="520" y="610"/>
                  </a:lnTo>
                  <a:lnTo>
                    <a:pt x="492" y="628"/>
                  </a:lnTo>
                  <a:lnTo>
                    <a:pt x="464" y="642"/>
                  </a:lnTo>
                  <a:lnTo>
                    <a:pt x="432" y="654"/>
                  </a:lnTo>
                  <a:lnTo>
                    <a:pt x="400" y="662"/>
                  </a:lnTo>
                  <a:lnTo>
                    <a:pt x="368" y="666"/>
                  </a:lnTo>
                  <a:lnTo>
                    <a:pt x="334" y="668"/>
                  </a:lnTo>
                  <a:lnTo>
                    <a:pt x="334" y="668"/>
                  </a:lnTo>
                  <a:lnTo>
                    <a:pt x="300" y="666"/>
                  </a:lnTo>
                  <a:lnTo>
                    <a:pt x="266" y="662"/>
                  </a:lnTo>
                  <a:lnTo>
                    <a:pt x="234" y="654"/>
                  </a:lnTo>
                  <a:lnTo>
                    <a:pt x="204" y="642"/>
                  </a:lnTo>
                  <a:lnTo>
                    <a:pt x="174" y="628"/>
                  </a:lnTo>
                  <a:lnTo>
                    <a:pt x="146" y="610"/>
                  </a:lnTo>
                  <a:lnTo>
                    <a:pt x="120" y="592"/>
                  </a:lnTo>
                  <a:lnTo>
                    <a:pt x="96" y="570"/>
                  </a:lnTo>
                  <a:lnTo>
                    <a:pt x="76" y="546"/>
                  </a:lnTo>
                  <a:lnTo>
                    <a:pt x="56" y="520"/>
                  </a:lnTo>
                  <a:lnTo>
                    <a:pt x="40" y="494"/>
                  </a:lnTo>
                  <a:lnTo>
                    <a:pt x="26" y="464"/>
                  </a:lnTo>
                  <a:lnTo>
                    <a:pt x="14" y="434"/>
                  </a:lnTo>
                  <a:lnTo>
                    <a:pt x="6" y="402"/>
                  </a:lnTo>
                  <a:lnTo>
                    <a:pt x="0" y="368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00"/>
                  </a:lnTo>
                  <a:lnTo>
                    <a:pt x="6" y="266"/>
                  </a:lnTo>
                  <a:lnTo>
                    <a:pt x="14" y="234"/>
                  </a:lnTo>
                  <a:lnTo>
                    <a:pt x="26" y="204"/>
                  </a:lnTo>
                  <a:lnTo>
                    <a:pt x="40" y="174"/>
                  </a:lnTo>
                  <a:lnTo>
                    <a:pt x="56" y="146"/>
                  </a:lnTo>
                  <a:lnTo>
                    <a:pt x="76" y="122"/>
                  </a:lnTo>
                  <a:lnTo>
                    <a:pt x="96" y="98"/>
                  </a:lnTo>
                  <a:lnTo>
                    <a:pt x="120" y="76"/>
                  </a:lnTo>
                  <a:lnTo>
                    <a:pt x="146" y="56"/>
                  </a:lnTo>
                  <a:lnTo>
                    <a:pt x="174" y="40"/>
                  </a:lnTo>
                  <a:lnTo>
                    <a:pt x="204" y="26"/>
                  </a:lnTo>
                  <a:lnTo>
                    <a:pt x="234" y="14"/>
                  </a:lnTo>
                  <a:lnTo>
                    <a:pt x="266" y="6"/>
                  </a:lnTo>
                  <a:lnTo>
                    <a:pt x="300" y="2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68" y="2"/>
                  </a:lnTo>
                  <a:lnTo>
                    <a:pt x="400" y="6"/>
                  </a:lnTo>
                  <a:lnTo>
                    <a:pt x="432" y="14"/>
                  </a:lnTo>
                  <a:lnTo>
                    <a:pt x="464" y="26"/>
                  </a:lnTo>
                  <a:lnTo>
                    <a:pt x="492" y="40"/>
                  </a:lnTo>
                  <a:lnTo>
                    <a:pt x="520" y="56"/>
                  </a:lnTo>
                  <a:lnTo>
                    <a:pt x="546" y="76"/>
                  </a:lnTo>
                  <a:lnTo>
                    <a:pt x="570" y="98"/>
                  </a:lnTo>
                  <a:lnTo>
                    <a:pt x="592" y="122"/>
                  </a:lnTo>
                  <a:lnTo>
                    <a:pt x="610" y="146"/>
                  </a:lnTo>
                  <a:lnTo>
                    <a:pt x="628" y="174"/>
                  </a:lnTo>
                  <a:lnTo>
                    <a:pt x="642" y="204"/>
                  </a:lnTo>
                  <a:lnTo>
                    <a:pt x="652" y="234"/>
                  </a:lnTo>
                  <a:lnTo>
                    <a:pt x="660" y="266"/>
                  </a:lnTo>
                  <a:lnTo>
                    <a:pt x="666" y="300"/>
                  </a:lnTo>
                  <a:lnTo>
                    <a:pt x="668" y="334"/>
                  </a:lnTo>
                  <a:lnTo>
                    <a:pt x="668" y="334"/>
                  </a:lnTo>
                  <a:close/>
                </a:path>
              </a:pathLst>
            </a:custGeom>
            <a:solidFill>
              <a:srgbClr val="f9c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238"/>
            <p:cNvSpPr/>
            <p:nvPr/>
          </p:nvSpPr>
          <p:spPr>
            <a:xfrm>
              <a:off x="8372160" y="7045200"/>
              <a:ext cx="1025640" cy="10285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646" h="648">
                  <a:moveTo>
                    <a:pt x="646" y="324"/>
                  </a:moveTo>
                  <a:lnTo>
                    <a:pt x="646" y="324"/>
                  </a:lnTo>
                  <a:lnTo>
                    <a:pt x="644" y="358"/>
                  </a:lnTo>
                  <a:lnTo>
                    <a:pt x="640" y="390"/>
                  </a:lnTo>
                  <a:lnTo>
                    <a:pt x="632" y="420"/>
                  </a:lnTo>
                  <a:lnTo>
                    <a:pt x="622" y="450"/>
                  </a:lnTo>
                  <a:lnTo>
                    <a:pt x="608" y="478"/>
                  </a:lnTo>
                  <a:lnTo>
                    <a:pt x="592" y="506"/>
                  </a:lnTo>
                  <a:lnTo>
                    <a:pt x="572" y="530"/>
                  </a:lnTo>
                  <a:lnTo>
                    <a:pt x="552" y="552"/>
                  </a:lnTo>
                  <a:lnTo>
                    <a:pt x="528" y="574"/>
                  </a:lnTo>
                  <a:lnTo>
                    <a:pt x="504" y="592"/>
                  </a:lnTo>
                  <a:lnTo>
                    <a:pt x="478" y="608"/>
                  </a:lnTo>
                  <a:lnTo>
                    <a:pt x="448" y="622"/>
                  </a:lnTo>
                  <a:lnTo>
                    <a:pt x="420" y="634"/>
                  </a:lnTo>
                  <a:lnTo>
                    <a:pt x="388" y="642"/>
                  </a:lnTo>
                  <a:lnTo>
                    <a:pt x="356" y="646"/>
                  </a:lnTo>
                  <a:lnTo>
                    <a:pt x="322" y="648"/>
                  </a:lnTo>
                  <a:lnTo>
                    <a:pt x="322" y="648"/>
                  </a:lnTo>
                  <a:lnTo>
                    <a:pt x="290" y="646"/>
                  </a:lnTo>
                  <a:lnTo>
                    <a:pt x="258" y="642"/>
                  </a:lnTo>
                  <a:lnTo>
                    <a:pt x="226" y="634"/>
                  </a:lnTo>
                  <a:lnTo>
                    <a:pt x="196" y="622"/>
                  </a:lnTo>
                  <a:lnTo>
                    <a:pt x="168" y="608"/>
                  </a:lnTo>
                  <a:lnTo>
                    <a:pt x="142" y="592"/>
                  </a:lnTo>
                  <a:lnTo>
                    <a:pt x="118" y="574"/>
                  </a:lnTo>
                  <a:lnTo>
                    <a:pt x="94" y="552"/>
                  </a:lnTo>
                  <a:lnTo>
                    <a:pt x="74" y="530"/>
                  </a:lnTo>
                  <a:lnTo>
                    <a:pt x="54" y="506"/>
                  </a:lnTo>
                  <a:lnTo>
                    <a:pt x="38" y="478"/>
                  </a:lnTo>
                  <a:lnTo>
                    <a:pt x="24" y="450"/>
                  </a:lnTo>
                  <a:lnTo>
                    <a:pt x="14" y="420"/>
                  </a:lnTo>
                  <a:lnTo>
                    <a:pt x="6" y="390"/>
                  </a:lnTo>
                  <a:lnTo>
                    <a:pt x="0" y="358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0" y="292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4" y="198"/>
                  </a:lnTo>
                  <a:lnTo>
                    <a:pt x="38" y="170"/>
                  </a:lnTo>
                  <a:lnTo>
                    <a:pt x="54" y="144"/>
                  </a:lnTo>
                  <a:lnTo>
                    <a:pt x="74" y="118"/>
                  </a:lnTo>
                  <a:lnTo>
                    <a:pt x="94" y="96"/>
                  </a:lnTo>
                  <a:lnTo>
                    <a:pt x="118" y="74"/>
                  </a:lnTo>
                  <a:lnTo>
                    <a:pt x="142" y="56"/>
                  </a:lnTo>
                  <a:lnTo>
                    <a:pt x="168" y="40"/>
                  </a:lnTo>
                  <a:lnTo>
                    <a:pt x="196" y="26"/>
                  </a:lnTo>
                  <a:lnTo>
                    <a:pt x="226" y="14"/>
                  </a:lnTo>
                  <a:lnTo>
                    <a:pt x="258" y="6"/>
                  </a:lnTo>
                  <a:lnTo>
                    <a:pt x="290" y="2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56" y="2"/>
                  </a:lnTo>
                  <a:lnTo>
                    <a:pt x="388" y="6"/>
                  </a:lnTo>
                  <a:lnTo>
                    <a:pt x="420" y="14"/>
                  </a:lnTo>
                  <a:lnTo>
                    <a:pt x="448" y="26"/>
                  </a:lnTo>
                  <a:lnTo>
                    <a:pt x="478" y="40"/>
                  </a:lnTo>
                  <a:lnTo>
                    <a:pt x="504" y="56"/>
                  </a:lnTo>
                  <a:lnTo>
                    <a:pt x="528" y="74"/>
                  </a:lnTo>
                  <a:lnTo>
                    <a:pt x="552" y="96"/>
                  </a:lnTo>
                  <a:lnTo>
                    <a:pt x="572" y="118"/>
                  </a:lnTo>
                  <a:lnTo>
                    <a:pt x="592" y="144"/>
                  </a:lnTo>
                  <a:lnTo>
                    <a:pt x="608" y="170"/>
                  </a:lnTo>
                  <a:lnTo>
                    <a:pt x="622" y="198"/>
                  </a:lnTo>
                  <a:lnTo>
                    <a:pt x="632" y="228"/>
                  </a:lnTo>
                  <a:lnTo>
                    <a:pt x="640" y="258"/>
                  </a:lnTo>
                  <a:lnTo>
                    <a:pt x="644" y="292"/>
                  </a:lnTo>
                  <a:lnTo>
                    <a:pt x="646" y="324"/>
                  </a:lnTo>
                  <a:lnTo>
                    <a:pt x="646" y="324"/>
                  </a:lnTo>
                  <a:close/>
                </a:path>
              </a:pathLst>
            </a:custGeom>
            <a:solidFill>
              <a:srgbClr val="f9c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39"/>
            <p:cNvSpPr/>
            <p:nvPr/>
          </p:nvSpPr>
          <p:spPr>
            <a:xfrm>
              <a:off x="8378640" y="7057800"/>
              <a:ext cx="993600" cy="9936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626" h="626">
                  <a:moveTo>
                    <a:pt x="626" y="312"/>
                  </a:moveTo>
                  <a:lnTo>
                    <a:pt x="626" y="312"/>
                  </a:lnTo>
                  <a:lnTo>
                    <a:pt x="624" y="344"/>
                  </a:lnTo>
                  <a:lnTo>
                    <a:pt x="620" y="376"/>
                  </a:lnTo>
                  <a:lnTo>
                    <a:pt x="612" y="406"/>
                  </a:lnTo>
                  <a:lnTo>
                    <a:pt x="600" y="434"/>
                  </a:lnTo>
                  <a:lnTo>
                    <a:pt x="588" y="462"/>
                  </a:lnTo>
                  <a:lnTo>
                    <a:pt x="572" y="488"/>
                  </a:lnTo>
                  <a:lnTo>
                    <a:pt x="554" y="512"/>
                  </a:lnTo>
                  <a:lnTo>
                    <a:pt x="534" y="534"/>
                  </a:lnTo>
                  <a:lnTo>
                    <a:pt x="512" y="554"/>
                  </a:lnTo>
                  <a:lnTo>
                    <a:pt x="488" y="572"/>
                  </a:lnTo>
                  <a:lnTo>
                    <a:pt x="462" y="588"/>
                  </a:lnTo>
                  <a:lnTo>
                    <a:pt x="434" y="600"/>
                  </a:lnTo>
                  <a:lnTo>
                    <a:pt x="406" y="612"/>
                  </a:lnTo>
                  <a:lnTo>
                    <a:pt x="376" y="620"/>
                  </a:lnTo>
                  <a:lnTo>
                    <a:pt x="344" y="624"/>
                  </a:lnTo>
                  <a:lnTo>
                    <a:pt x="312" y="626"/>
                  </a:lnTo>
                  <a:lnTo>
                    <a:pt x="312" y="626"/>
                  </a:lnTo>
                  <a:lnTo>
                    <a:pt x="280" y="624"/>
                  </a:lnTo>
                  <a:lnTo>
                    <a:pt x="250" y="620"/>
                  </a:lnTo>
                  <a:lnTo>
                    <a:pt x="220" y="612"/>
                  </a:lnTo>
                  <a:lnTo>
                    <a:pt x="190" y="600"/>
                  </a:lnTo>
                  <a:lnTo>
                    <a:pt x="164" y="588"/>
                  </a:lnTo>
                  <a:lnTo>
                    <a:pt x="138" y="572"/>
                  </a:lnTo>
                  <a:lnTo>
                    <a:pt x="114" y="554"/>
                  </a:lnTo>
                  <a:lnTo>
                    <a:pt x="92" y="534"/>
                  </a:lnTo>
                  <a:lnTo>
                    <a:pt x="70" y="512"/>
                  </a:lnTo>
                  <a:lnTo>
                    <a:pt x="52" y="488"/>
                  </a:lnTo>
                  <a:lnTo>
                    <a:pt x="38" y="462"/>
                  </a:lnTo>
                  <a:lnTo>
                    <a:pt x="24" y="434"/>
                  </a:lnTo>
                  <a:lnTo>
                    <a:pt x="14" y="406"/>
                  </a:lnTo>
                  <a:lnTo>
                    <a:pt x="6" y="376"/>
                  </a:lnTo>
                  <a:lnTo>
                    <a:pt x="2" y="344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2" y="280"/>
                  </a:lnTo>
                  <a:lnTo>
                    <a:pt x="6" y="250"/>
                  </a:lnTo>
                  <a:lnTo>
                    <a:pt x="14" y="220"/>
                  </a:lnTo>
                  <a:lnTo>
                    <a:pt x="24" y="190"/>
                  </a:lnTo>
                  <a:lnTo>
                    <a:pt x="38" y="164"/>
                  </a:lnTo>
                  <a:lnTo>
                    <a:pt x="52" y="138"/>
                  </a:lnTo>
                  <a:lnTo>
                    <a:pt x="70" y="114"/>
                  </a:lnTo>
                  <a:lnTo>
                    <a:pt x="92" y="92"/>
                  </a:lnTo>
                  <a:lnTo>
                    <a:pt x="114" y="70"/>
                  </a:lnTo>
                  <a:lnTo>
                    <a:pt x="138" y="52"/>
                  </a:lnTo>
                  <a:lnTo>
                    <a:pt x="164" y="38"/>
                  </a:lnTo>
                  <a:lnTo>
                    <a:pt x="190" y="24"/>
                  </a:lnTo>
                  <a:lnTo>
                    <a:pt x="220" y="14"/>
                  </a:lnTo>
                  <a:lnTo>
                    <a:pt x="250" y="6"/>
                  </a:lnTo>
                  <a:lnTo>
                    <a:pt x="280" y="2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44" y="2"/>
                  </a:lnTo>
                  <a:lnTo>
                    <a:pt x="376" y="6"/>
                  </a:lnTo>
                  <a:lnTo>
                    <a:pt x="406" y="14"/>
                  </a:lnTo>
                  <a:lnTo>
                    <a:pt x="434" y="24"/>
                  </a:lnTo>
                  <a:lnTo>
                    <a:pt x="462" y="38"/>
                  </a:lnTo>
                  <a:lnTo>
                    <a:pt x="488" y="52"/>
                  </a:lnTo>
                  <a:lnTo>
                    <a:pt x="512" y="70"/>
                  </a:lnTo>
                  <a:lnTo>
                    <a:pt x="534" y="92"/>
                  </a:lnTo>
                  <a:lnTo>
                    <a:pt x="554" y="114"/>
                  </a:lnTo>
                  <a:lnTo>
                    <a:pt x="572" y="138"/>
                  </a:lnTo>
                  <a:lnTo>
                    <a:pt x="588" y="164"/>
                  </a:lnTo>
                  <a:lnTo>
                    <a:pt x="600" y="190"/>
                  </a:lnTo>
                  <a:lnTo>
                    <a:pt x="612" y="220"/>
                  </a:lnTo>
                  <a:lnTo>
                    <a:pt x="620" y="250"/>
                  </a:lnTo>
                  <a:lnTo>
                    <a:pt x="624" y="280"/>
                  </a:lnTo>
                  <a:lnTo>
                    <a:pt x="626" y="312"/>
                  </a:lnTo>
                  <a:lnTo>
                    <a:pt x="626" y="312"/>
                  </a:lnTo>
                  <a:close/>
                </a:path>
              </a:pathLst>
            </a:custGeom>
            <a:solidFill>
              <a:srgbClr val="f9c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240"/>
            <p:cNvSpPr/>
            <p:nvPr/>
          </p:nvSpPr>
          <p:spPr>
            <a:xfrm>
              <a:off x="8385120" y="7067520"/>
              <a:ext cx="958680" cy="9619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4" h="606">
                  <a:moveTo>
                    <a:pt x="604" y="302"/>
                  </a:moveTo>
                  <a:lnTo>
                    <a:pt x="604" y="302"/>
                  </a:lnTo>
                  <a:lnTo>
                    <a:pt x="602" y="334"/>
                  </a:lnTo>
                  <a:lnTo>
                    <a:pt x="598" y="364"/>
                  </a:lnTo>
                  <a:lnTo>
                    <a:pt x="590" y="392"/>
                  </a:lnTo>
                  <a:lnTo>
                    <a:pt x="580" y="420"/>
                  </a:lnTo>
                  <a:lnTo>
                    <a:pt x="568" y="448"/>
                  </a:lnTo>
                  <a:lnTo>
                    <a:pt x="552" y="472"/>
                  </a:lnTo>
                  <a:lnTo>
                    <a:pt x="536" y="496"/>
                  </a:lnTo>
                  <a:lnTo>
                    <a:pt x="516" y="516"/>
                  </a:lnTo>
                  <a:lnTo>
                    <a:pt x="494" y="536"/>
                  </a:lnTo>
                  <a:lnTo>
                    <a:pt x="472" y="554"/>
                  </a:lnTo>
                  <a:lnTo>
                    <a:pt x="446" y="568"/>
                  </a:lnTo>
                  <a:lnTo>
                    <a:pt x="420" y="582"/>
                  </a:lnTo>
                  <a:lnTo>
                    <a:pt x="392" y="592"/>
                  </a:lnTo>
                  <a:lnTo>
                    <a:pt x="364" y="600"/>
                  </a:lnTo>
                  <a:lnTo>
                    <a:pt x="334" y="604"/>
                  </a:lnTo>
                  <a:lnTo>
                    <a:pt x="302" y="606"/>
                  </a:lnTo>
                  <a:lnTo>
                    <a:pt x="302" y="606"/>
                  </a:lnTo>
                  <a:lnTo>
                    <a:pt x="272" y="604"/>
                  </a:lnTo>
                  <a:lnTo>
                    <a:pt x="242" y="600"/>
                  </a:lnTo>
                  <a:lnTo>
                    <a:pt x="212" y="592"/>
                  </a:lnTo>
                  <a:lnTo>
                    <a:pt x="184" y="582"/>
                  </a:lnTo>
                  <a:lnTo>
                    <a:pt x="158" y="568"/>
                  </a:lnTo>
                  <a:lnTo>
                    <a:pt x="134" y="554"/>
                  </a:lnTo>
                  <a:lnTo>
                    <a:pt x="110" y="536"/>
                  </a:lnTo>
                  <a:lnTo>
                    <a:pt x="88" y="516"/>
                  </a:lnTo>
                  <a:lnTo>
                    <a:pt x="68" y="496"/>
                  </a:lnTo>
                  <a:lnTo>
                    <a:pt x="52" y="472"/>
                  </a:lnTo>
                  <a:lnTo>
                    <a:pt x="36" y="448"/>
                  </a:lnTo>
                  <a:lnTo>
                    <a:pt x="24" y="420"/>
                  </a:lnTo>
                  <a:lnTo>
                    <a:pt x="14" y="392"/>
                  </a:lnTo>
                  <a:lnTo>
                    <a:pt x="6" y="364"/>
                  </a:lnTo>
                  <a:lnTo>
                    <a:pt x="2" y="334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2" y="272"/>
                  </a:lnTo>
                  <a:lnTo>
                    <a:pt x="6" y="242"/>
                  </a:lnTo>
                  <a:lnTo>
                    <a:pt x="14" y="212"/>
                  </a:lnTo>
                  <a:lnTo>
                    <a:pt x="24" y="186"/>
                  </a:lnTo>
                  <a:lnTo>
                    <a:pt x="36" y="158"/>
                  </a:lnTo>
                  <a:lnTo>
                    <a:pt x="52" y="134"/>
                  </a:lnTo>
                  <a:lnTo>
                    <a:pt x="68" y="110"/>
                  </a:lnTo>
                  <a:lnTo>
                    <a:pt x="88" y="90"/>
                  </a:lnTo>
                  <a:lnTo>
                    <a:pt x="110" y="70"/>
                  </a:lnTo>
                  <a:lnTo>
                    <a:pt x="134" y="52"/>
                  </a:lnTo>
                  <a:lnTo>
                    <a:pt x="158" y="38"/>
                  </a:lnTo>
                  <a:lnTo>
                    <a:pt x="184" y="24"/>
                  </a:lnTo>
                  <a:lnTo>
                    <a:pt x="212" y="14"/>
                  </a:lnTo>
                  <a:lnTo>
                    <a:pt x="242" y="6"/>
                  </a:lnTo>
                  <a:lnTo>
                    <a:pt x="272" y="2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34" y="2"/>
                  </a:lnTo>
                  <a:lnTo>
                    <a:pt x="364" y="6"/>
                  </a:lnTo>
                  <a:lnTo>
                    <a:pt x="392" y="14"/>
                  </a:lnTo>
                  <a:lnTo>
                    <a:pt x="420" y="24"/>
                  </a:lnTo>
                  <a:lnTo>
                    <a:pt x="446" y="38"/>
                  </a:lnTo>
                  <a:lnTo>
                    <a:pt x="472" y="52"/>
                  </a:lnTo>
                  <a:lnTo>
                    <a:pt x="494" y="70"/>
                  </a:lnTo>
                  <a:lnTo>
                    <a:pt x="516" y="90"/>
                  </a:lnTo>
                  <a:lnTo>
                    <a:pt x="536" y="110"/>
                  </a:lnTo>
                  <a:lnTo>
                    <a:pt x="552" y="134"/>
                  </a:lnTo>
                  <a:lnTo>
                    <a:pt x="568" y="158"/>
                  </a:lnTo>
                  <a:lnTo>
                    <a:pt x="580" y="186"/>
                  </a:lnTo>
                  <a:lnTo>
                    <a:pt x="590" y="212"/>
                  </a:lnTo>
                  <a:lnTo>
                    <a:pt x="598" y="242"/>
                  </a:lnTo>
                  <a:lnTo>
                    <a:pt x="602" y="272"/>
                  </a:lnTo>
                  <a:lnTo>
                    <a:pt x="604" y="302"/>
                  </a:lnTo>
                  <a:lnTo>
                    <a:pt x="604" y="302"/>
                  </a:lnTo>
                  <a:close/>
                </a:path>
              </a:pathLst>
            </a:custGeom>
            <a:solidFill>
              <a:srgbClr val="fac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241"/>
            <p:cNvSpPr/>
            <p:nvPr/>
          </p:nvSpPr>
          <p:spPr>
            <a:xfrm>
              <a:off x="8391240" y="7080120"/>
              <a:ext cx="927000" cy="92700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584" h="584">
                  <a:moveTo>
                    <a:pt x="584" y="292"/>
                  </a:moveTo>
                  <a:lnTo>
                    <a:pt x="584" y="292"/>
                  </a:lnTo>
                  <a:lnTo>
                    <a:pt x="582" y="322"/>
                  </a:lnTo>
                  <a:lnTo>
                    <a:pt x="578" y="350"/>
                  </a:lnTo>
                  <a:lnTo>
                    <a:pt x="570" y="378"/>
                  </a:lnTo>
                  <a:lnTo>
                    <a:pt x="560" y="404"/>
                  </a:lnTo>
                  <a:lnTo>
                    <a:pt x="548" y="430"/>
                  </a:lnTo>
                  <a:lnTo>
                    <a:pt x="534" y="454"/>
                  </a:lnTo>
                  <a:lnTo>
                    <a:pt x="516" y="476"/>
                  </a:lnTo>
                  <a:lnTo>
                    <a:pt x="498" y="498"/>
                  </a:lnTo>
                  <a:lnTo>
                    <a:pt x="478" y="516"/>
                  </a:lnTo>
                  <a:lnTo>
                    <a:pt x="454" y="534"/>
                  </a:lnTo>
                  <a:lnTo>
                    <a:pt x="430" y="548"/>
                  </a:lnTo>
                  <a:lnTo>
                    <a:pt x="406" y="560"/>
                  </a:lnTo>
                  <a:lnTo>
                    <a:pt x="378" y="570"/>
                  </a:lnTo>
                  <a:lnTo>
                    <a:pt x="350" y="578"/>
                  </a:lnTo>
                  <a:lnTo>
                    <a:pt x="322" y="582"/>
                  </a:lnTo>
                  <a:lnTo>
                    <a:pt x="292" y="584"/>
                  </a:lnTo>
                  <a:lnTo>
                    <a:pt x="292" y="584"/>
                  </a:lnTo>
                  <a:lnTo>
                    <a:pt x="262" y="582"/>
                  </a:lnTo>
                  <a:lnTo>
                    <a:pt x="232" y="578"/>
                  </a:lnTo>
                  <a:lnTo>
                    <a:pt x="204" y="570"/>
                  </a:lnTo>
                  <a:lnTo>
                    <a:pt x="178" y="560"/>
                  </a:lnTo>
                  <a:lnTo>
                    <a:pt x="152" y="548"/>
                  </a:lnTo>
                  <a:lnTo>
                    <a:pt x="128" y="534"/>
                  </a:lnTo>
                  <a:lnTo>
                    <a:pt x="106" y="516"/>
                  </a:lnTo>
                  <a:lnTo>
                    <a:pt x="86" y="498"/>
                  </a:lnTo>
                  <a:lnTo>
                    <a:pt x="66" y="476"/>
                  </a:lnTo>
                  <a:lnTo>
                    <a:pt x="50" y="454"/>
                  </a:lnTo>
                  <a:lnTo>
                    <a:pt x="36" y="430"/>
                  </a:lnTo>
                  <a:lnTo>
                    <a:pt x="22" y="404"/>
                  </a:lnTo>
                  <a:lnTo>
                    <a:pt x="14" y="378"/>
                  </a:lnTo>
                  <a:lnTo>
                    <a:pt x="6" y="350"/>
                  </a:lnTo>
                  <a:lnTo>
                    <a:pt x="2" y="32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" y="262"/>
                  </a:lnTo>
                  <a:lnTo>
                    <a:pt x="6" y="232"/>
                  </a:lnTo>
                  <a:lnTo>
                    <a:pt x="14" y="204"/>
                  </a:lnTo>
                  <a:lnTo>
                    <a:pt x="22" y="178"/>
                  </a:lnTo>
                  <a:lnTo>
                    <a:pt x="36" y="152"/>
                  </a:lnTo>
                  <a:lnTo>
                    <a:pt x="50" y="128"/>
                  </a:lnTo>
                  <a:lnTo>
                    <a:pt x="66" y="106"/>
                  </a:lnTo>
                  <a:lnTo>
                    <a:pt x="86" y="86"/>
                  </a:lnTo>
                  <a:lnTo>
                    <a:pt x="106" y="66"/>
                  </a:lnTo>
                  <a:lnTo>
                    <a:pt x="128" y="50"/>
                  </a:lnTo>
                  <a:lnTo>
                    <a:pt x="152" y="34"/>
                  </a:lnTo>
                  <a:lnTo>
                    <a:pt x="178" y="22"/>
                  </a:lnTo>
                  <a:lnTo>
                    <a:pt x="204" y="12"/>
                  </a:lnTo>
                  <a:lnTo>
                    <a:pt x="232" y="6"/>
                  </a:lnTo>
                  <a:lnTo>
                    <a:pt x="262" y="2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322" y="2"/>
                  </a:lnTo>
                  <a:lnTo>
                    <a:pt x="350" y="6"/>
                  </a:lnTo>
                  <a:lnTo>
                    <a:pt x="378" y="12"/>
                  </a:lnTo>
                  <a:lnTo>
                    <a:pt x="406" y="22"/>
                  </a:lnTo>
                  <a:lnTo>
                    <a:pt x="430" y="34"/>
                  </a:lnTo>
                  <a:lnTo>
                    <a:pt x="454" y="50"/>
                  </a:lnTo>
                  <a:lnTo>
                    <a:pt x="478" y="66"/>
                  </a:lnTo>
                  <a:lnTo>
                    <a:pt x="498" y="86"/>
                  </a:lnTo>
                  <a:lnTo>
                    <a:pt x="516" y="106"/>
                  </a:lnTo>
                  <a:lnTo>
                    <a:pt x="534" y="128"/>
                  </a:lnTo>
                  <a:lnTo>
                    <a:pt x="548" y="152"/>
                  </a:lnTo>
                  <a:lnTo>
                    <a:pt x="560" y="178"/>
                  </a:lnTo>
                  <a:lnTo>
                    <a:pt x="570" y="204"/>
                  </a:lnTo>
                  <a:lnTo>
                    <a:pt x="578" y="232"/>
                  </a:lnTo>
                  <a:lnTo>
                    <a:pt x="582" y="262"/>
                  </a:lnTo>
                  <a:lnTo>
                    <a:pt x="584" y="292"/>
                  </a:lnTo>
                  <a:lnTo>
                    <a:pt x="584" y="292"/>
                  </a:lnTo>
                  <a:close/>
                </a:path>
              </a:pathLst>
            </a:custGeom>
            <a:solidFill>
              <a:srgbClr val="fac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42"/>
            <p:cNvSpPr/>
            <p:nvPr/>
          </p:nvSpPr>
          <p:spPr>
            <a:xfrm>
              <a:off x="8397720" y="7089840"/>
              <a:ext cx="892080" cy="89208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562" h="562">
                  <a:moveTo>
                    <a:pt x="562" y="282"/>
                  </a:moveTo>
                  <a:lnTo>
                    <a:pt x="562" y="282"/>
                  </a:lnTo>
                  <a:lnTo>
                    <a:pt x="560" y="310"/>
                  </a:lnTo>
                  <a:lnTo>
                    <a:pt x="556" y="338"/>
                  </a:lnTo>
                  <a:lnTo>
                    <a:pt x="550" y="366"/>
                  </a:lnTo>
                  <a:lnTo>
                    <a:pt x="540" y="392"/>
                  </a:lnTo>
                  <a:lnTo>
                    <a:pt x="528" y="416"/>
                  </a:lnTo>
                  <a:lnTo>
                    <a:pt x="514" y="438"/>
                  </a:lnTo>
                  <a:lnTo>
                    <a:pt x="498" y="460"/>
                  </a:lnTo>
                  <a:lnTo>
                    <a:pt x="480" y="480"/>
                  </a:lnTo>
                  <a:lnTo>
                    <a:pt x="460" y="498"/>
                  </a:lnTo>
                  <a:lnTo>
                    <a:pt x="438" y="514"/>
                  </a:lnTo>
                  <a:lnTo>
                    <a:pt x="416" y="528"/>
                  </a:lnTo>
                  <a:lnTo>
                    <a:pt x="390" y="540"/>
                  </a:lnTo>
                  <a:lnTo>
                    <a:pt x="364" y="550"/>
                  </a:lnTo>
                  <a:lnTo>
                    <a:pt x="338" y="558"/>
                  </a:lnTo>
                  <a:lnTo>
                    <a:pt x="310" y="562"/>
                  </a:lnTo>
                  <a:lnTo>
                    <a:pt x="282" y="562"/>
                  </a:lnTo>
                  <a:lnTo>
                    <a:pt x="282" y="562"/>
                  </a:lnTo>
                  <a:lnTo>
                    <a:pt x="252" y="562"/>
                  </a:lnTo>
                  <a:lnTo>
                    <a:pt x="224" y="558"/>
                  </a:lnTo>
                  <a:lnTo>
                    <a:pt x="198" y="550"/>
                  </a:lnTo>
                  <a:lnTo>
                    <a:pt x="172" y="540"/>
                  </a:lnTo>
                  <a:lnTo>
                    <a:pt x="148" y="528"/>
                  </a:lnTo>
                  <a:lnTo>
                    <a:pt x="124" y="514"/>
                  </a:lnTo>
                  <a:lnTo>
                    <a:pt x="102" y="498"/>
                  </a:lnTo>
                  <a:lnTo>
                    <a:pt x="82" y="480"/>
                  </a:lnTo>
                  <a:lnTo>
                    <a:pt x="64" y="460"/>
                  </a:lnTo>
                  <a:lnTo>
                    <a:pt x="48" y="438"/>
                  </a:lnTo>
                  <a:lnTo>
                    <a:pt x="34" y="416"/>
                  </a:lnTo>
                  <a:lnTo>
                    <a:pt x="22" y="392"/>
                  </a:lnTo>
                  <a:lnTo>
                    <a:pt x="12" y="366"/>
                  </a:lnTo>
                  <a:lnTo>
                    <a:pt x="6" y="338"/>
                  </a:lnTo>
                  <a:lnTo>
                    <a:pt x="2" y="310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2" y="254"/>
                  </a:lnTo>
                  <a:lnTo>
                    <a:pt x="6" y="226"/>
                  </a:lnTo>
                  <a:lnTo>
                    <a:pt x="12" y="198"/>
                  </a:lnTo>
                  <a:lnTo>
                    <a:pt x="22" y="172"/>
                  </a:lnTo>
                  <a:lnTo>
                    <a:pt x="34" y="148"/>
                  </a:lnTo>
                  <a:lnTo>
                    <a:pt x="48" y="124"/>
                  </a:lnTo>
                  <a:lnTo>
                    <a:pt x="64" y="102"/>
                  </a:lnTo>
                  <a:lnTo>
                    <a:pt x="82" y="82"/>
                  </a:lnTo>
                  <a:lnTo>
                    <a:pt x="102" y="64"/>
                  </a:lnTo>
                  <a:lnTo>
                    <a:pt x="124" y="48"/>
                  </a:lnTo>
                  <a:lnTo>
                    <a:pt x="148" y="34"/>
                  </a:lnTo>
                  <a:lnTo>
                    <a:pt x="172" y="22"/>
                  </a:lnTo>
                  <a:lnTo>
                    <a:pt x="198" y="14"/>
                  </a:lnTo>
                  <a:lnTo>
                    <a:pt x="224" y="6"/>
                  </a:lnTo>
                  <a:lnTo>
                    <a:pt x="252" y="2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310" y="2"/>
                  </a:lnTo>
                  <a:lnTo>
                    <a:pt x="338" y="6"/>
                  </a:lnTo>
                  <a:lnTo>
                    <a:pt x="364" y="14"/>
                  </a:lnTo>
                  <a:lnTo>
                    <a:pt x="390" y="22"/>
                  </a:lnTo>
                  <a:lnTo>
                    <a:pt x="416" y="34"/>
                  </a:lnTo>
                  <a:lnTo>
                    <a:pt x="438" y="48"/>
                  </a:lnTo>
                  <a:lnTo>
                    <a:pt x="460" y="64"/>
                  </a:lnTo>
                  <a:lnTo>
                    <a:pt x="480" y="82"/>
                  </a:lnTo>
                  <a:lnTo>
                    <a:pt x="498" y="102"/>
                  </a:lnTo>
                  <a:lnTo>
                    <a:pt x="514" y="124"/>
                  </a:lnTo>
                  <a:lnTo>
                    <a:pt x="528" y="148"/>
                  </a:lnTo>
                  <a:lnTo>
                    <a:pt x="540" y="172"/>
                  </a:lnTo>
                  <a:lnTo>
                    <a:pt x="550" y="198"/>
                  </a:lnTo>
                  <a:lnTo>
                    <a:pt x="556" y="226"/>
                  </a:lnTo>
                  <a:lnTo>
                    <a:pt x="560" y="254"/>
                  </a:lnTo>
                  <a:lnTo>
                    <a:pt x="562" y="282"/>
                  </a:lnTo>
                  <a:lnTo>
                    <a:pt x="562" y="282"/>
                  </a:lnTo>
                  <a:close/>
                </a:path>
              </a:pathLst>
            </a:custGeom>
            <a:solidFill>
              <a:srgbClr val="fac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43"/>
            <p:cNvSpPr/>
            <p:nvPr/>
          </p:nvSpPr>
          <p:spPr>
            <a:xfrm>
              <a:off x="8404200" y="7102440"/>
              <a:ext cx="860400" cy="85716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542" h="540">
                  <a:moveTo>
                    <a:pt x="542" y="270"/>
                  </a:moveTo>
                  <a:lnTo>
                    <a:pt x="542" y="270"/>
                  </a:lnTo>
                  <a:lnTo>
                    <a:pt x="540" y="298"/>
                  </a:lnTo>
                  <a:lnTo>
                    <a:pt x="536" y="324"/>
                  </a:lnTo>
                  <a:lnTo>
                    <a:pt x="530" y="350"/>
                  </a:lnTo>
                  <a:lnTo>
                    <a:pt x="520" y="376"/>
                  </a:lnTo>
                  <a:lnTo>
                    <a:pt x="508" y="400"/>
                  </a:lnTo>
                  <a:lnTo>
                    <a:pt x="496" y="422"/>
                  </a:lnTo>
                  <a:lnTo>
                    <a:pt x="480" y="442"/>
                  </a:lnTo>
                  <a:lnTo>
                    <a:pt x="462" y="462"/>
                  </a:lnTo>
                  <a:lnTo>
                    <a:pt x="442" y="478"/>
                  </a:lnTo>
                  <a:lnTo>
                    <a:pt x="422" y="494"/>
                  </a:lnTo>
                  <a:lnTo>
                    <a:pt x="400" y="508"/>
                  </a:lnTo>
                  <a:lnTo>
                    <a:pt x="376" y="520"/>
                  </a:lnTo>
                  <a:lnTo>
                    <a:pt x="352" y="528"/>
                  </a:lnTo>
                  <a:lnTo>
                    <a:pt x="326" y="536"/>
                  </a:lnTo>
                  <a:lnTo>
                    <a:pt x="298" y="540"/>
                  </a:lnTo>
                  <a:lnTo>
                    <a:pt x="270" y="540"/>
                  </a:lnTo>
                  <a:lnTo>
                    <a:pt x="270" y="540"/>
                  </a:lnTo>
                  <a:lnTo>
                    <a:pt x="244" y="540"/>
                  </a:lnTo>
                  <a:lnTo>
                    <a:pt x="216" y="536"/>
                  </a:lnTo>
                  <a:lnTo>
                    <a:pt x="190" y="528"/>
                  </a:lnTo>
                  <a:lnTo>
                    <a:pt x="166" y="520"/>
                  </a:lnTo>
                  <a:lnTo>
                    <a:pt x="142" y="508"/>
                  </a:lnTo>
                  <a:lnTo>
                    <a:pt x="120" y="494"/>
                  </a:lnTo>
                  <a:lnTo>
                    <a:pt x="98" y="478"/>
                  </a:lnTo>
                  <a:lnTo>
                    <a:pt x="80" y="462"/>
                  </a:lnTo>
                  <a:lnTo>
                    <a:pt x="62" y="442"/>
                  </a:lnTo>
                  <a:lnTo>
                    <a:pt x="46" y="422"/>
                  </a:lnTo>
                  <a:lnTo>
                    <a:pt x="34" y="400"/>
                  </a:lnTo>
                  <a:lnTo>
                    <a:pt x="22" y="376"/>
                  </a:lnTo>
                  <a:lnTo>
                    <a:pt x="12" y="350"/>
                  </a:lnTo>
                  <a:lnTo>
                    <a:pt x="6" y="324"/>
                  </a:lnTo>
                  <a:lnTo>
                    <a:pt x="2" y="298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2" y="242"/>
                  </a:lnTo>
                  <a:lnTo>
                    <a:pt x="6" y="216"/>
                  </a:lnTo>
                  <a:lnTo>
                    <a:pt x="12" y="190"/>
                  </a:lnTo>
                  <a:lnTo>
                    <a:pt x="22" y="164"/>
                  </a:lnTo>
                  <a:lnTo>
                    <a:pt x="34" y="142"/>
                  </a:lnTo>
                  <a:lnTo>
                    <a:pt x="46" y="118"/>
                  </a:lnTo>
                  <a:lnTo>
                    <a:pt x="62" y="98"/>
                  </a:lnTo>
                  <a:lnTo>
                    <a:pt x="80" y="78"/>
                  </a:lnTo>
                  <a:lnTo>
                    <a:pt x="98" y="62"/>
                  </a:lnTo>
                  <a:lnTo>
                    <a:pt x="120" y="46"/>
                  </a:lnTo>
                  <a:lnTo>
                    <a:pt x="142" y="32"/>
                  </a:lnTo>
                  <a:lnTo>
                    <a:pt x="166" y="20"/>
                  </a:lnTo>
                  <a:lnTo>
                    <a:pt x="190" y="12"/>
                  </a:lnTo>
                  <a:lnTo>
                    <a:pt x="216" y="6"/>
                  </a:lnTo>
                  <a:lnTo>
                    <a:pt x="244" y="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98" y="2"/>
                  </a:lnTo>
                  <a:lnTo>
                    <a:pt x="326" y="6"/>
                  </a:lnTo>
                  <a:lnTo>
                    <a:pt x="352" y="12"/>
                  </a:lnTo>
                  <a:lnTo>
                    <a:pt x="376" y="20"/>
                  </a:lnTo>
                  <a:lnTo>
                    <a:pt x="400" y="32"/>
                  </a:lnTo>
                  <a:lnTo>
                    <a:pt x="422" y="46"/>
                  </a:lnTo>
                  <a:lnTo>
                    <a:pt x="442" y="62"/>
                  </a:lnTo>
                  <a:lnTo>
                    <a:pt x="462" y="78"/>
                  </a:lnTo>
                  <a:lnTo>
                    <a:pt x="480" y="98"/>
                  </a:lnTo>
                  <a:lnTo>
                    <a:pt x="496" y="118"/>
                  </a:lnTo>
                  <a:lnTo>
                    <a:pt x="508" y="142"/>
                  </a:lnTo>
                  <a:lnTo>
                    <a:pt x="520" y="164"/>
                  </a:lnTo>
                  <a:lnTo>
                    <a:pt x="530" y="190"/>
                  </a:lnTo>
                  <a:lnTo>
                    <a:pt x="536" y="216"/>
                  </a:lnTo>
                  <a:lnTo>
                    <a:pt x="540" y="242"/>
                  </a:lnTo>
                  <a:lnTo>
                    <a:pt x="542" y="270"/>
                  </a:lnTo>
                  <a:lnTo>
                    <a:pt x="542" y="270"/>
                  </a:lnTo>
                  <a:close/>
                </a:path>
              </a:pathLst>
            </a:custGeom>
            <a:solidFill>
              <a:srgbClr val="fbc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44"/>
            <p:cNvSpPr/>
            <p:nvPr/>
          </p:nvSpPr>
          <p:spPr>
            <a:xfrm>
              <a:off x="8410320" y="7111800"/>
              <a:ext cx="825480" cy="8254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520" h="520">
                  <a:moveTo>
                    <a:pt x="520" y="260"/>
                  </a:moveTo>
                  <a:lnTo>
                    <a:pt x="520" y="260"/>
                  </a:lnTo>
                  <a:lnTo>
                    <a:pt x="518" y="288"/>
                  </a:lnTo>
                  <a:lnTo>
                    <a:pt x="516" y="312"/>
                  </a:lnTo>
                  <a:lnTo>
                    <a:pt x="508" y="338"/>
                  </a:lnTo>
                  <a:lnTo>
                    <a:pt x="500" y="362"/>
                  </a:lnTo>
                  <a:lnTo>
                    <a:pt x="488" y="384"/>
                  </a:lnTo>
                  <a:lnTo>
                    <a:pt x="476" y="406"/>
                  </a:lnTo>
                  <a:lnTo>
                    <a:pt x="460" y="426"/>
                  </a:lnTo>
                  <a:lnTo>
                    <a:pt x="444" y="444"/>
                  </a:lnTo>
                  <a:lnTo>
                    <a:pt x="426" y="462"/>
                  </a:lnTo>
                  <a:lnTo>
                    <a:pt x="406" y="476"/>
                  </a:lnTo>
                  <a:lnTo>
                    <a:pt x="384" y="490"/>
                  </a:lnTo>
                  <a:lnTo>
                    <a:pt x="362" y="500"/>
                  </a:lnTo>
                  <a:lnTo>
                    <a:pt x="338" y="508"/>
                  </a:lnTo>
                  <a:lnTo>
                    <a:pt x="312" y="516"/>
                  </a:lnTo>
                  <a:lnTo>
                    <a:pt x="288" y="520"/>
                  </a:lnTo>
                  <a:lnTo>
                    <a:pt x="260" y="520"/>
                  </a:lnTo>
                  <a:lnTo>
                    <a:pt x="260" y="520"/>
                  </a:lnTo>
                  <a:lnTo>
                    <a:pt x="234" y="520"/>
                  </a:lnTo>
                  <a:lnTo>
                    <a:pt x="208" y="516"/>
                  </a:lnTo>
                  <a:lnTo>
                    <a:pt x="184" y="508"/>
                  </a:lnTo>
                  <a:lnTo>
                    <a:pt x="160" y="500"/>
                  </a:lnTo>
                  <a:lnTo>
                    <a:pt x="136" y="490"/>
                  </a:lnTo>
                  <a:lnTo>
                    <a:pt x="116" y="476"/>
                  </a:lnTo>
                  <a:lnTo>
                    <a:pt x="96" y="462"/>
                  </a:lnTo>
                  <a:lnTo>
                    <a:pt x="76" y="444"/>
                  </a:lnTo>
                  <a:lnTo>
                    <a:pt x="60" y="426"/>
                  </a:lnTo>
                  <a:lnTo>
                    <a:pt x="44" y="406"/>
                  </a:lnTo>
                  <a:lnTo>
                    <a:pt x="32" y="384"/>
                  </a:lnTo>
                  <a:lnTo>
                    <a:pt x="20" y="362"/>
                  </a:lnTo>
                  <a:lnTo>
                    <a:pt x="12" y="338"/>
                  </a:lnTo>
                  <a:lnTo>
                    <a:pt x="6" y="312"/>
                  </a:lnTo>
                  <a:lnTo>
                    <a:pt x="2" y="288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2" y="234"/>
                  </a:lnTo>
                  <a:lnTo>
                    <a:pt x="6" y="208"/>
                  </a:lnTo>
                  <a:lnTo>
                    <a:pt x="12" y="184"/>
                  </a:lnTo>
                  <a:lnTo>
                    <a:pt x="20" y="160"/>
                  </a:lnTo>
                  <a:lnTo>
                    <a:pt x="32" y="136"/>
                  </a:lnTo>
                  <a:lnTo>
                    <a:pt x="44" y="116"/>
                  </a:lnTo>
                  <a:lnTo>
                    <a:pt x="60" y="96"/>
                  </a:lnTo>
                  <a:lnTo>
                    <a:pt x="76" y="76"/>
                  </a:lnTo>
                  <a:lnTo>
                    <a:pt x="96" y="60"/>
                  </a:lnTo>
                  <a:lnTo>
                    <a:pt x="116" y="46"/>
                  </a:lnTo>
                  <a:lnTo>
                    <a:pt x="136" y="32"/>
                  </a:lnTo>
                  <a:lnTo>
                    <a:pt x="160" y="22"/>
                  </a:lnTo>
                  <a:lnTo>
                    <a:pt x="184" y="12"/>
                  </a:lnTo>
                  <a:lnTo>
                    <a:pt x="208" y="6"/>
                  </a:lnTo>
                  <a:lnTo>
                    <a:pt x="234" y="2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8" y="2"/>
                  </a:lnTo>
                  <a:lnTo>
                    <a:pt x="312" y="6"/>
                  </a:lnTo>
                  <a:lnTo>
                    <a:pt x="338" y="12"/>
                  </a:lnTo>
                  <a:lnTo>
                    <a:pt x="362" y="22"/>
                  </a:lnTo>
                  <a:lnTo>
                    <a:pt x="384" y="32"/>
                  </a:lnTo>
                  <a:lnTo>
                    <a:pt x="406" y="46"/>
                  </a:lnTo>
                  <a:lnTo>
                    <a:pt x="426" y="60"/>
                  </a:lnTo>
                  <a:lnTo>
                    <a:pt x="444" y="76"/>
                  </a:lnTo>
                  <a:lnTo>
                    <a:pt x="460" y="96"/>
                  </a:lnTo>
                  <a:lnTo>
                    <a:pt x="476" y="116"/>
                  </a:lnTo>
                  <a:lnTo>
                    <a:pt x="488" y="136"/>
                  </a:lnTo>
                  <a:lnTo>
                    <a:pt x="500" y="160"/>
                  </a:lnTo>
                  <a:lnTo>
                    <a:pt x="508" y="184"/>
                  </a:lnTo>
                  <a:lnTo>
                    <a:pt x="516" y="208"/>
                  </a:lnTo>
                  <a:lnTo>
                    <a:pt x="518" y="234"/>
                  </a:lnTo>
                  <a:lnTo>
                    <a:pt x="520" y="260"/>
                  </a:lnTo>
                  <a:lnTo>
                    <a:pt x="520" y="260"/>
                  </a:lnTo>
                  <a:close/>
                </a:path>
              </a:pathLst>
            </a:custGeom>
            <a:solidFill>
              <a:srgbClr val="fbd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45"/>
            <p:cNvSpPr/>
            <p:nvPr/>
          </p:nvSpPr>
          <p:spPr>
            <a:xfrm>
              <a:off x="8416800" y="7124760"/>
              <a:ext cx="793800" cy="79056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500" h="498">
                  <a:moveTo>
                    <a:pt x="500" y="248"/>
                  </a:moveTo>
                  <a:lnTo>
                    <a:pt x="500" y="248"/>
                  </a:lnTo>
                  <a:lnTo>
                    <a:pt x="498" y="274"/>
                  </a:lnTo>
                  <a:lnTo>
                    <a:pt x="494" y="300"/>
                  </a:lnTo>
                  <a:lnTo>
                    <a:pt x="488" y="324"/>
                  </a:lnTo>
                  <a:lnTo>
                    <a:pt x="480" y="346"/>
                  </a:lnTo>
                  <a:lnTo>
                    <a:pt x="470" y="368"/>
                  </a:lnTo>
                  <a:lnTo>
                    <a:pt x="456" y="388"/>
                  </a:lnTo>
                  <a:lnTo>
                    <a:pt x="442" y="408"/>
                  </a:lnTo>
                  <a:lnTo>
                    <a:pt x="426" y="426"/>
                  </a:lnTo>
                  <a:lnTo>
                    <a:pt x="408" y="442"/>
                  </a:lnTo>
                  <a:lnTo>
                    <a:pt x="390" y="456"/>
                  </a:lnTo>
                  <a:lnTo>
                    <a:pt x="368" y="468"/>
                  </a:lnTo>
                  <a:lnTo>
                    <a:pt x="348" y="478"/>
                  </a:lnTo>
                  <a:lnTo>
                    <a:pt x="324" y="488"/>
                  </a:lnTo>
                  <a:lnTo>
                    <a:pt x="300" y="494"/>
                  </a:lnTo>
                  <a:lnTo>
                    <a:pt x="276" y="496"/>
                  </a:lnTo>
                  <a:lnTo>
                    <a:pt x="250" y="498"/>
                  </a:lnTo>
                  <a:lnTo>
                    <a:pt x="250" y="498"/>
                  </a:lnTo>
                  <a:lnTo>
                    <a:pt x="224" y="496"/>
                  </a:lnTo>
                  <a:lnTo>
                    <a:pt x="200" y="494"/>
                  </a:lnTo>
                  <a:lnTo>
                    <a:pt x="176" y="488"/>
                  </a:lnTo>
                  <a:lnTo>
                    <a:pt x="154" y="478"/>
                  </a:lnTo>
                  <a:lnTo>
                    <a:pt x="132" y="468"/>
                  </a:lnTo>
                  <a:lnTo>
                    <a:pt x="110" y="456"/>
                  </a:lnTo>
                  <a:lnTo>
                    <a:pt x="92" y="442"/>
                  </a:lnTo>
                  <a:lnTo>
                    <a:pt x="74" y="426"/>
                  </a:lnTo>
                  <a:lnTo>
                    <a:pt x="58" y="408"/>
                  </a:lnTo>
                  <a:lnTo>
                    <a:pt x="44" y="388"/>
                  </a:lnTo>
                  <a:lnTo>
                    <a:pt x="30" y="368"/>
                  </a:lnTo>
                  <a:lnTo>
                    <a:pt x="20" y="346"/>
                  </a:lnTo>
                  <a:lnTo>
                    <a:pt x="12" y="324"/>
                  </a:lnTo>
                  <a:lnTo>
                    <a:pt x="6" y="300"/>
                  </a:lnTo>
                  <a:lnTo>
                    <a:pt x="2" y="274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2" y="224"/>
                  </a:lnTo>
                  <a:lnTo>
                    <a:pt x="6" y="198"/>
                  </a:lnTo>
                  <a:lnTo>
                    <a:pt x="12" y="174"/>
                  </a:lnTo>
                  <a:lnTo>
                    <a:pt x="20" y="152"/>
                  </a:lnTo>
                  <a:lnTo>
                    <a:pt x="30" y="130"/>
                  </a:lnTo>
                  <a:lnTo>
                    <a:pt x="44" y="110"/>
                  </a:lnTo>
                  <a:lnTo>
                    <a:pt x="58" y="90"/>
                  </a:lnTo>
                  <a:lnTo>
                    <a:pt x="74" y="72"/>
                  </a:lnTo>
                  <a:lnTo>
                    <a:pt x="92" y="56"/>
                  </a:lnTo>
                  <a:lnTo>
                    <a:pt x="110" y="42"/>
                  </a:lnTo>
                  <a:lnTo>
                    <a:pt x="132" y="30"/>
                  </a:lnTo>
                  <a:lnTo>
                    <a:pt x="154" y="20"/>
                  </a:lnTo>
                  <a:lnTo>
                    <a:pt x="176" y="10"/>
                  </a:lnTo>
                  <a:lnTo>
                    <a:pt x="200" y="4"/>
                  </a:lnTo>
                  <a:lnTo>
                    <a:pt x="224" y="2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76" y="2"/>
                  </a:lnTo>
                  <a:lnTo>
                    <a:pt x="300" y="4"/>
                  </a:lnTo>
                  <a:lnTo>
                    <a:pt x="324" y="10"/>
                  </a:lnTo>
                  <a:lnTo>
                    <a:pt x="348" y="20"/>
                  </a:lnTo>
                  <a:lnTo>
                    <a:pt x="368" y="30"/>
                  </a:lnTo>
                  <a:lnTo>
                    <a:pt x="390" y="42"/>
                  </a:lnTo>
                  <a:lnTo>
                    <a:pt x="408" y="56"/>
                  </a:lnTo>
                  <a:lnTo>
                    <a:pt x="426" y="72"/>
                  </a:lnTo>
                  <a:lnTo>
                    <a:pt x="442" y="90"/>
                  </a:lnTo>
                  <a:lnTo>
                    <a:pt x="456" y="110"/>
                  </a:lnTo>
                  <a:lnTo>
                    <a:pt x="470" y="130"/>
                  </a:lnTo>
                  <a:lnTo>
                    <a:pt x="480" y="152"/>
                  </a:lnTo>
                  <a:lnTo>
                    <a:pt x="488" y="174"/>
                  </a:lnTo>
                  <a:lnTo>
                    <a:pt x="494" y="198"/>
                  </a:lnTo>
                  <a:lnTo>
                    <a:pt x="498" y="224"/>
                  </a:lnTo>
                  <a:lnTo>
                    <a:pt x="500" y="248"/>
                  </a:lnTo>
                  <a:lnTo>
                    <a:pt x="500" y="248"/>
                  </a:lnTo>
                  <a:close/>
                </a:path>
              </a:pathLst>
            </a:custGeom>
            <a:solidFill>
              <a:srgbClr val="fbd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46"/>
            <p:cNvSpPr/>
            <p:nvPr/>
          </p:nvSpPr>
          <p:spPr>
            <a:xfrm>
              <a:off x="8426160" y="7134120"/>
              <a:ext cx="755640" cy="7585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476" h="478">
                  <a:moveTo>
                    <a:pt x="476" y="240"/>
                  </a:moveTo>
                  <a:lnTo>
                    <a:pt x="476" y="240"/>
                  </a:lnTo>
                  <a:lnTo>
                    <a:pt x="474" y="264"/>
                  </a:lnTo>
                  <a:lnTo>
                    <a:pt x="472" y="288"/>
                  </a:lnTo>
                  <a:lnTo>
                    <a:pt x="466" y="310"/>
                  </a:lnTo>
                  <a:lnTo>
                    <a:pt x="458" y="332"/>
                  </a:lnTo>
                  <a:lnTo>
                    <a:pt x="448" y="354"/>
                  </a:lnTo>
                  <a:lnTo>
                    <a:pt x="436" y="372"/>
                  </a:lnTo>
                  <a:lnTo>
                    <a:pt x="422" y="392"/>
                  </a:lnTo>
                  <a:lnTo>
                    <a:pt x="406" y="408"/>
                  </a:lnTo>
                  <a:lnTo>
                    <a:pt x="390" y="424"/>
                  </a:lnTo>
                  <a:lnTo>
                    <a:pt x="370" y="438"/>
                  </a:lnTo>
                  <a:lnTo>
                    <a:pt x="352" y="450"/>
                  </a:lnTo>
                  <a:lnTo>
                    <a:pt x="330" y="460"/>
                  </a:lnTo>
                  <a:lnTo>
                    <a:pt x="308" y="468"/>
                  </a:lnTo>
                  <a:lnTo>
                    <a:pt x="286" y="474"/>
                  </a:lnTo>
                  <a:lnTo>
                    <a:pt x="262" y="476"/>
                  </a:lnTo>
                  <a:lnTo>
                    <a:pt x="238" y="478"/>
                  </a:lnTo>
                  <a:lnTo>
                    <a:pt x="238" y="478"/>
                  </a:lnTo>
                  <a:lnTo>
                    <a:pt x="214" y="476"/>
                  </a:lnTo>
                  <a:lnTo>
                    <a:pt x="190" y="474"/>
                  </a:lnTo>
                  <a:lnTo>
                    <a:pt x="166" y="468"/>
                  </a:lnTo>
                  <a:lnTo>
                    <a:pt x="144" y="460"/>
                  </a:lnTo>
                  <a:lnTo>
                    <a:pt x="124" y="450"/>
                  </a:lnTo>
                  <a:lnTo>
                    <a:pt x="104" y="438"/>
                  </a:lnTo>
                  <a:lnTo>
                    <a:pt x="86" y="424"/>
                  </a:lnTo>
                  <a:lnTo>
                    <a:pt x="68" y="408"/>
                  </a:lnTo>
                  <a:lnTo>
                    <a:pt x="54" y="392"/>
                  </a:lnTo>
                  <a:lnTo>
                    <a:pt x="40" y="372"/>
                  </a:lnTo>
                  <a:lnTo>
                    <a:pt x="28" y="354"/>
                  </a:lnTo>
                  <a:lnTo>
                    <a:pt x="18" y="332"/>
                  </a:lnTo>
                  <a:lnTo>
                    <a:pt x="10" y="310"/>
                  </a:lnTo>
                  <a:lnTo>
                    <a:pt x="4" y="288"/>
                  </a:lnTo>
                  <a:lnTo>
                    <a:pt x="0" y="264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14"/>
                  </a:lnTo>
                  <a:lnTo>
                    <a:pt x="4" y="192"/>
                  </a:lnTo>
                  <a:lnTo>
                    <a:pt x="10" y="168"/>
                  </a:lnTo>
                  <a:lnTo>
                    <a:pt x="18" y="146"/>
                  </a:lnTo>
                  <a:lnTo>
                    <a:pt x="28" y="126"/>
                  </a:lnTo>
                  <a:lnTo>
                    <a:pt x="40" y="106"/>
                  </a:lnTo>
                  <a:lnTo>
                    <a:pt x="54" y="88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104" y="42"/>
                  </a:lnTo>
                  <a:lnTo>
                    <a:pt x="124" y="30"/>
                  </a:lnTo>
                  <a:lnTo>
                    <a:pt x="144" y="20"/>
                  </a:lnTo>
                  <a:lnTo>
                    <a:pt x="166" y="12"/>
                  </a:lnTo>
                  <a:lnTo>
                    <a:pt x="190" y="6"/>
                  </a:lnTo>
                  <a:lnTo>
                    <a:pt x="214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62" y="2"/>
                  </a:lnTo>
                  <a:lnTo>
                    <a:pt x="286" y="6"/>
                  </a:lnTo>
                  <a:lnTo>
                    <a:pt x="308" y="12"/>
                  </a:lnTo>
                  <a:lnTo>
                    <a:pt x="330" y="20"/>
                  </a:lnTo>
                  <a:lnTo>
                    <a:pt x="352" y="30"/>
                  </a:lnTo>
                  <a:lnTo>
                    <a:pt x="370" y="42"/>
                  </a:lnTo>
                  <a:lnTo>
                    <a:pt x="390" y="56"/>
                  </a:lnTo>
                  <a:lnTo>
                    <a:pt x="406" y="70"/>
                  </a:lnTo>
                  <a:lnTo>
                    <a:pt x="422" y="88"/>
                  </a:lnTo>
                  <a:lnTo>
                    <a:pt x="436" y="106"/>
                  </a:lnTo>
                  <a:lnTo>
                    <a:pt x="448" y="126"/>
                  </a:lnTo>
                  <a:lnTo>
                    <a:pt x="458" y="146"/>
                  </a:lnTo>
                  <a:lnTo>
                    <a:pt x="466" y="168"/>
                  </a:lnTo>
                  <a:lnTo>
                    <a:pt x="472" y="192"/>
                  </a:lnTo>
                  <a:lnTo>
                    <a:pt x="474" y="214"/>
                  </a:lnTo>
                  <a:lnTo>
                    <a:pt x="476" y="240"/>
                  </a:lnTo>
                  <a:lnTo>
                    <a:pt x="476" y="240"/>
                  </a:lnTo>
                  <a:close/>
                </a:path>
              </a:pathLst>
            </a:custGeom>
            <a:solidFill>
              <a:srgbClr val="fbd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47"/>
            <p:cNvSpPr/>
            <p:nvPr/>
          </p:nvSpPr>
          <p:spPr>
            <a:xfrm>
              <a:off x="8432640" y="7146720"/>
              <a:ext cx="723960" cy="7236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456" h="456">
                  <a:moveTo>
                    <a:pt x="456" y="228"/>
                  </a:moveTo>
                  <a:lnTo>
                    <a:pt x="456" y="228"/>
                  </a:lnTo>
                  <a:lnTo>
                    <a:pt x="454" y="252"/>
                  </a:lnTo>
                  <a:lnTo>
                    <a:pt x="450" y="274"/>
                  </a:lnTo>
                  <a:lnTo>
                    <a:pt x="444" y="296"/>
                  </a:lnTo>
                  <a:lnTo>
                    <a:pt x="438" y="316"/>
                  </a:lnTo>
                  <a:lnTo>
                    <a:pt x="428" y="336"/>
                  </a:lnTo>
                  <a:lnTo>
                    <a:pt x="416" y="356"/>
                  </a:lnTo>
                  <a:lnTo>
                    <a:pt x="404" y="372"/>
                  </a:lnTo>
                  <a:lnTo>
                    <a:pt x="388" y="388"/>
                  </a:lnTo>
                  <a:lnTo>
                    <a:pt x="372" y="404"/>
                  </a:lnTo>
                  <a:lnTo>
                    <a:pt x="354" y="416"/>
                  </a:lnTo>
                  <a:lnTo>
                    <a:pt x="336" y="428"/>
                  </a:lnTo>
                  <a:lnTo>
                    <a:pt x="316" y="438"/>
                  </a:lnTo>
                  <a:lnTo>
                    <a:pt x="294" y="446"/>
                  </a:lnTo>
                  <a:lnTo>
                    <a:pt x="274" y="452"/>
                  </a:lnTo>
                  <a:lnTo>
                    <a:pt x="250" y="454"/>
                  </a:lnTo>
                  <a:lnTo>
                    <a:pt x="228" y="456"/>
                  </a:lnTo>
                  <a:lnTo>
                    <a:pt x="228" y="456"/>
                  </a:lnTo>
                  <a:lnTo>
                    <a:pt x="204" y="454"/>
                  </a:lnTo>
                  <a:lnTo>
                    <a:pt x="182" y="452"/>
                  </a:lnTo>
                  <a:lnTo>
                    <a:pt x="160" y="446"/>
                  </a:lnTo>
                  <a:lnTo>
                    <a:pt x="138" y="438"/>
                  </a:lnTo>
                  <a:lnTo>
                    <a:pt x="118" y="428"/>
                  </a:lnTo>
                  <a:lnTo>
                    <a:pt x="100" y="416"/>
                  </a:lnTo>
                  <a:lnTo>
                    <a:pt x="82" y="404"/>
                  </a:lnTo>
                  <a:lnTo>
                    <a:pt x="66" y="388"/>
                  </a:lnTo>
                  <a:lnTo>
                    <a:pt x="52" y="372"/>
                  </a:lnTo>
                  <a:lnTo>
                    <a:pt x="38" y="356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6"/>
                  </a:lnTo>
                  <a:lnTo>
                    <a:pt x="4" y="274"/>
                  </a:lnTo>
                  <a:lnTo>
                    <a:pt x="0" y="252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04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40"/>
                  </a:lnTo>
                  <a:lnTo>
                    <a:pt x="26" y="120"/>
                  </a:lnTo>
                  <a:lnTo>
                    <a:pt x="38" y="100"/>
                  </a:lnTo>
                  <a:lnTo>
                    <a:pt x="52" y="82"/>
                  </a:lnTo>
                  <a:lnTo>
                    <a:pt x="66" y="66"/>
                  </a:lnTo>
                  <a:lnTo>
                    <a:pt x="82" y="52"/>
                  </a:lnTo>
                  <a:lnTo>
                    <a:pt x="100" y="38"/>
                  </a:lnTo>
                  <a:lnTo>
                    <a:pt x="118" y="28"/>
                  </a:lnTo>
                  <a:lnTo>
                    <a:pt x="138" y="18"/>
                  </a:lnTo>
                  <a:lnTo>
                    <a:pt x="160" y="10"/>
                  </a:lnTo>
                  <a:lnTo>
                    <a:pt x="182" y="4"/>
                  </a:lnTo>
                  <a:lnTo>
                    <a:pt x="204" y="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4" y="4"/>
                  </a:lnTo>
                  <a:lnTo>
                    <a:pt x="294" y="10"/>
                  </a:lnTo>
                  <a:lnTo>
                    <a:pt x="316" y="18"/>
                  </a:lnTo>
                  <a:lnTo>
                    <a:pt x="336" y="28"/>
                  </a:lnTo>
                  <a:lnTo>
                    <a:pt x="354" y="38"/>
                  </a:lnTo>
                  <a:lnTo>
                    <a:pt x="372" y="52"/>
                  </a:lnTo>
                  <a:lnTo>
                    <a:pt x="388" y="66"/>
                  </a:lnTo>
                  <a:lnTo>
                    <a:pt x="404" y="82"/>
                  </a:lnTo>
                  <a:lnTo>
                    <a:pt x="416" y="100"/>
                  </a:lnTo>
                  <a:lnTo>
                    <a:pt x="428" y="120"/>
                  </a:lnTo>
                  <a:lnTo>
                    <a:pt x="438" y="140"/>
                  </a:lnTo>
                  <a:lnTo>
                    <a:pt x="444" y="160"/>
                  </a:lnTo>
                  <a:lnTo>
                    <a:pt x="450" y="182"/>
                  </a:lnTo>
                  <a:lnTo>
                    <a:pt x="454" y="204"/>
                  </a:lnTo>
                  <a:lnTo>
                    <a:pt x="456" y="228"/>
                  </a:lnTo>
                  <a:lnTo>
                    <a:pt x="456" y="228"/>
                  </a:lnTo>
                  <a:close/>
                </a:path>
              </a:pathLst>
            </a:custGeom>
            <a:solidFill>
              <a:srgbClr val="fbd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48"/>
            <p:cNvSpPr/>
            <p:nvPr/>
          </p:nvSpPr>
          <p:spPr>
            <a:xfrm>
              <a:off x="8439120" y="7156440"/>
              <a:ext cx="689040" cy="69192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434" h="436">
                  <a:moveTo>
                    <a:pt x="434" y="218"/>
                  </a:moveTo>
                  <a:lnTo>
                    <a:pt x="434" y="218"/>
                  </a:lnTo>
                  <a:lnTo>
                    <a:pt x="432" y="240"/>
                  </a:lnTo>
                  <a:lnTo>
                    <a:pt x="430" y="262"/>
                  </a:lnTo>
                  <a:lnTo>
                    <a:pt x="424" y="282"/>
                  </a:lnTo>
                  <a:lnTo>
                    <a:pt x="416" y="302"/>
                  </a:lnTo>
                  <a:lnTo>
                    <a:pt x="408" y="322"/>
                  </a:lnTo>
                  <a:lnTo>
                    <a:pt x="396" y="340"/>
                  </a:lnTo>
                  <a:lnTo>
                    <a:pt x="384" y="356"/>
                  </a:lnTo>
                  <a:lnTo>
                    <a:pt x="370" y="372"/>
                  </a:lnTo>
                  <a:lnTo>
                    <a:pt x="354" y="386"/>
                  </a:lnTo>
                  <a:lnTo>
                    <a:pt x="338" y="398"/>
                  </a:lnTo>
                  <a:lnTo>
                    <a:pt x="320" y="410"/>
                  </a:lnTo>
                  <a:lnTo>
                    <a:pt x="302" y="418"/>
                  </a:lnTo>
                  <a:lnTo>
                    <a:pt x="282" y="426"/>
                  </a:lnTo>
                  <a:lnTo>
                    <a:pt x="260" y="432"/>
                  </a:lnTo>
                  <a:lnTo>
                    <a:pt x="238" y="434"/>
                  </a:lnTo>
                  <a:lnTo>
                    <a:pt x="216" y="436"/>
                  </a:lnTo>
                  <a:lnTo>
                    <a:pt x="216" y="436"/>
                  </a:lnTo>
                  <a:lnTo>
                    <a:pt x="194" y="434"/>
                  </a:lnTo>
                  <a:lnTo>
                    <a:pt x="172" y="432"/>
                  </a:lnTo>
                  <a:lnTo>
                    <a:pt x="152" y="426"/>
                  </a:lnTo>
                  <a:lnTo>
                    <a:pt x="132" y="418"/>
                  </a:lnTo>
                  <a:lnTo>
                    <a:pt x="114" y="410"/>
                  </a:lnTo>
                  <a:lnTo>
                    <a:pt x="96" y="398"/>
                  </a:lnTo>
                  <a:lnTo>
                    <a:pt x="78" y="386"/>
                  </a:lnTo>
                  <a:lnTo>
                    <a:pt x="64" y="372"/>
                  </a:lnTo>
                  <a:lnTo>
                    <a:pt x="50" y="356"/>
                  </a:lnTo>
                  <a:lnTo>
                    <a:pt x="36" y="340"/>
                  </a:lnTo>
                  <a:lnTo>
                    <a:pt x="26" y="322"/>
                  </a:lnTo>
                  <a:lnTo>
                    <a:pt x="16" y="302"/>
                  </a:lnTo>
                  <a:lnTo>
                    <a:pt x="10" y="282"/>
                  </a:lnTo>
                  <a:lnTo>
                    <a:pt x="4" y="262"/>
                  </a:lnTo>
                  <a:lnTo>
                    <a:pt x="0" y="240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196"/>
                  </a:lnTo>
                  <a:lnTo>
                    <a:pt x="4" y="174"/>
                  </a:lnTo>
                  <a:lnTo>
                    <a:pt x="10" y="154"/>
                  </a:lnTo>
                  <a:lnTo>
                    <a:pt x="16" y="134"/>
                  </a:lnTo>
                  <a:lnTo>
                    <a:pt x="26" y="114"/>
                  </a:lnTo>
                  <a:lnTo>
                    <a:pt x="36" y="96"/>
                  </a:lnTo>
                  <a:lnTo>
                    <a:pt x="50" y="80"/>
                  </a:lnTo>
                  <a:lnTo>
                    <a:pt x="64" y="64"/>
                  </a:lnTo>
                  <a:lnTo>
                    <a:pt x="78" y="50"/>
                  </a:lnTo>
                  <a:lnTo>
                    <a:pt x="96" y="38"/>
                  </a:lnTo>
                  <a:lnTo>
                    <a:pt x="114" y="28"/>
                  </a:lnTo>
                  <a:lnTo>
                    <a:pt x="132" y="18"/>
                  </a:lnTo>
                  <a:lnTo>
                    <a:pt x="152" y="10"/>
                  </a:lnTo>
                  <a:lnTo>
                    <a:pt x="172" y="6"/>
                  </a:lnTo>
                  <a:lnTo>
                    <a:pt x="194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38" y="2"/>
                  </a:lnTo>
                  <a:lnTo>
                    <a:pt x="260" y="6"/>
                  </a:lnTo>
                  <a:lnTo>
                    <a:pt x="282" y="10"/>
                  </a:lnTo>
                  <a:lnTo>
                    <a:pt x="302" y="18"/>
                  </a:lnTo>
                  <a:lnTo>
                    <a:pt x="320" y="28"/>
                  </a:lnTo>
                  <a:lnTo>
                    <a:pt x="338" y="38"/>
                  </a:lnTo>
                  <a:lnTo>
                    <a:pt x="354" y="50"/>
                  </a:lnTo>
                  <a:lnTo>
                    <a:pt x="370" y="64"/>
                  </a:lnTo>
                  <a:lnTo>
                    <a:pt x="384" y="80"/>
                  </a:lnTo>
                  <a:lnTo>
                    <a:pt x="396" y="96"/>
                  </a:lnTo>
                  <a:lnTo>
                    <a:pt x="408" y="114"/>
                  </a:lnTo>
                  <a:lnTo>
                    <a:pt x="416" y="134"/>
                  </a:lnTo>
                  <a:lnTo>
                    <a:pt x="424" y="154"/>
                  </a:lnTo>
                  <a:lnTo>
                    <a:pt x="430" y="174"/>
                  </a:lnTo>
                  <a:lnTo>
                    <a:pt x="432" y="196"/>
                  </a:lnTo>
                  <a:lnTo>
                    <a:pt x="434" y="218"/>
                  </a:lnTo>
                  <a:lnTo>
                    <a:pt x="434" y="218"/>
                  </a:lnTo>
                  <a:close/>
                </a:path>
              </a:pathLst>
            </a:custGeom>
            <a:solidFill>
              <a:srgbClr val="fcd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49"/>
            <p:cNvSpPr/>
            <p:nvPr/>
          </p:nvSpPr>
          <p:spPr>
            <a:xfrm>
              <a:off x="8445240" y="7169040"/>
              <a:ext cx="657000" cy="6570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14" h="414">
                  <a:moveTo>
                    <a:pt x="414" y="206"/>
                  </a:moveTo>
                  <a:lnTo>
                    <a:pt x="414" y="206"/>
                  </a:lnTo>
                  <a:lnTo>
                    <a:pt x="412" y="228"/>
                  </a:lnTo>
                  <a:lnTo>
                    <a:pt x="408" y="248"/>
                  </a:lnTo>
                  <a:lnTo>
                    <a:pt x="404" y="268"/>
                  </a:lnTo>
                  <a:lnTo>
                    <a:pt x="396" y="288"/>
                  </a:lnTo>
                  <a:lnTo>
                    <a:pt x="388" y="306"/>
                  </a:lnTo>
                  <a:lnTo>
                    <a:pt x="378" y="322"/>
                  </a:lnTo>
                  <a:lnTo>
                    <a:pt x="366" y="338"/>
                  </a:lnTo>
                  <a:lnTo>
                    <a:pt x="352" y="352"/>
                  </a:lnTo>
                  <a:lnTo>
                    <a:pt x="338" y="366"/>
                  </a:lnTo>
                  <a:lnTo>
                    <a:pt x="322" y="378"/>
                  </a:lnTo>
                  <a:lnTo>
                    <a:pt x="304" y="388"/>
                  </a:lnTo>
                  <a:lnTo>
                    <a:pt x="286" y="398"/>
                  </a:lnTo>
                  <a:lnTo>
                    <a:pt x="268" y="404"/>
                  </a:lnTo>
                  <a:lnTo>
                    <a:pt x="248" y="410"/>
                  </a:lnTo>
                  <a:lnTo>
                    <a:pt x="228" y="412"/>
                  </a:lnTo>
                  <a:lnTo>
                    <a:pt x="206" y="414"/>
                  </a:lnTo>
                  <a:lnTo>
                    <a:pt x="206" y="414"/>
                  </a:lnTo>
                  <a:lnTo>
                    <a:pt x="186" y="412"/>
                  </a:lnTo>
                  <a:lnTo>
                    <a:pt x="164" y="410"/>
                  </a:lnTo>
                  <a:lnTo>
                    <a:pt x="144" y="404"/>
                  </a:lnTo>
                  <a:lnTo>
                    <a:pt x="126" y="398"/>
                  </a:lnTo>
                  <a:lnTo>
                    <a:pt x="108" y="388"/>
                  </a:lnTo>
                  <a:lnTo>
                    <a:pt x="90" y="378"/>
                  </a:lnTo>
                  <a:lnTo>
                    <a:pt x="74" y="366"/>
                  </a:lnTo>
                  <a:lnTo>
                    <a:pt x="60" y="352"/>
                  </a:lnTo>
                  <a:lnTo>
                    <a:pt x="46" y="338"/>
                  </a:lnTo>
                  <a:lnTo>
                    <a:pt x="34" y="322"/>
                  </a:lnTo>
                  <a:lnTo>
                    <a:pt x="24" y="306"/>
                  </a:lnTo>
                  <a:lnTo>
                    <a:pt x="16" y="288"/>
                  </a:lnTo>
                  <a:lnTo>
                    <a:pt x="8" y="268"/>
                  </a:lnTo>
                  <a:lnTo>
                    <a:pt x="4" y="248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186"/>
                  </a:lnTo>
                  <a:lnTo>
                    <a:pt x="4" y="164"/>
                  </a:lnTo>
                  <a:lnTo>
                    <a:pt x="8" y="146"/>
                  </a:lnTo>
                  <a:lnTo>
                    <a:pt x="16" y="126"/>
                  </a:lnTo>
                  <a:lnTo>
                    <a:pt x="24" y="108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4" y="48"/>
                  </a:lnTo>
                  <a:lnTo>
                    <a:pt x="90" y="36"/>
                  </a:lnTo>
                  <a:lnTo>
                    <a:pt x="108" y="24"/>
                  </a:lnTo>
                  <a:lnTo>
                    <a:pt x="126" y="16"/>
                  </a:lnTo>
                  <a:lnTo>
                    <a:pt x="144" y="10"/>
                  </a:lnTo>
                  <a:lnTo>
                    <a:pt x="164" y="4"/>
                  </a:lnTo>
                  <a:lnTo>
                    <a:pt x="186" y="2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28" y="2"/>
                  </a:lnTo>
                  <a:lnTo>
                    <a:pt x="248" y="4"/>
                  </a:lnTo>
                  <a:lnTo>
                    <a:pt x="268" y="10"/>
                  </a:lnTo>
                  <a:lnTo>
                    <a:pt x="286" y="16"/>
                  </a:lnTo>
                  <a:lnTo>
                    <a:pt x="304" y="24"/>
                  </a:lnTo>
                  <a:lnTo>
                    <a:pt x="322" y="36"/>
                  </a:lnTo>
                  <a:lnTo>
                    <a:pt x="338" y="48"/>
                  </a:lnTo>
                  <a:lnTo>
                    <a:pt x="352" y="60"/>
                  </a:lnTo>
                  <a:lnTo>
                    <a:pt x="366" y="76"/>
                  </a:lnTo>
                  <a:lnTo>
                    <a:pt x="378" y="92"/>
                  </a:lnTo>
                  <a:lnTo>
                    <a:pt x="388" y="108"/>
                  </a:lnTo>
                  <a:lnTo>
                    <a:pt x="396" y="126"/>
                  </a:lnTo>
                  <a:lnTo>
                    <a:pt x="404" y="146"/>
                  </a:lnTo>
                  <a:lnTo>
                    <a:pt x="408" y="164"/>
                  </a:lnTo>
                  <a:lnTo>
                    <a:pt x="412" y="186"/>
                  </a:lnTo>
                  <a:lnTo>
                    <a:pt x="414" y="206"/>
                  </a:lnTo>
                  <a:lnTo>
                    <a:pt x="414" y="206"/>
                  </a:lnTo>
                  <a:close/>
                </a:path>
              </a:pathLst>
            </a:custGeom>
            <a:solidFill>
              <a:srgbClr val="fcd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50"/>
            <p:cNvSpPr/>
            <p:nvPr/>
          </p:nvSpPr>
          <p:spPr>
            <a:xfrm>
              <a:off x="8451720" y="7181640"/>
              <a:ext cx="622080" cy="6220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92" h="392">
                  <a:moveTo>
                    <a:pt x="392" y="196"/>
                  </a:moveTo>
                  <a:lnTo>
                    <a:pt x="392" y="196"/>
                  </a:lnTo>
                  <a:lnTo>
                    <a:pt x="390" y="216"/>
                  </a:lnTo>
                  <a:lnTo>
                    <a:pt x="388" y="234"/>
                  </a:lnTo>
                  <a:lnTo>
                    <a:pt x="384" y="254"/>
                  </a:lnTo>
                  <a:lnTo>
                    <a:pt x="376" y="272"/>
                  </a:lnTo>
                  <a:lnTo>
                    <a:pt x="368" y="288"/>
                  </a:lnTo>
                  <a:lnTo>
                    <a:pt x="358" y="304"/>
                  </a:lnTo>
                  <a:lnTo>
                    <a:pt x="348" y="320"/>
                  </a:lnTo>
                  <a:lnTo>
                    <a:pt x="334" y="334"/>
                  </a:lnTo>
                  <a:lnTo>
                    <a:pt x="320" y="346"/>
                  </a:lnTo>
                  <a:lnTo>
                    <a:pt x="306" y="358"/>
                  </a:lnTo>
                  <a:lnTo>
                    <a:pt x="290" y="368"/>
                  </a:lnTo>
                  <a:lnTo>
                    <a:pt x="272" y="376"/>
                  </a:lnTo>
                  <a:lnTo>
                    <a:pt x="254" y="382"/>
                  </a:lnTo>
                  <a:lnTo>
                    <a:pt x="236" y="388"/>
                  </a:lnTo>
                  <a:lnTo>
                    <a:pt x="216" y="390"/>
                  </a:lnTo>
                  <a:lnTo>
                    <a:pt x="196" y="392"/>
                  </a:lnTo>
                  <a:lnTo>
                    <a:pt x="196" y="392"/>
                  </a:lnTo>
                  <a:lnTo>
                    <a:pt x="176" y="390"/>
                  </a:lnTo>
                  <a:lnTo>
                    <a:pt x="156" y="388"/>
                  </a:lnTo>
                  <a:lnTo>
                    <a:pt x="138" y="382"/>
                  </a:lnTo>
                  <a:lnTo>
                    <a:pt x="120" y="376"/>
                  </a:lnTo>
                  <a:lnTo>
                    <a:pt x="102" y="368"/>
                  </a:lnTo>
                  <a:lnTo>
                    <a:pt x="86" y="358"/>
                  </a:lnTo>
                  <a:lnTo>
                    <a:pt x="72" y="346"/>
                  </a:lnTo>
                  <a:lnTo>
                    <a:pt x="58" y="334"/>
                  </a:lnTo>
                  <a:lnTo>
                    <a:pt x="44" y="320"/>
                  </a:lnTo>
                  <a:lnTo>
                    <a:pt x="34" y="304"/>
                  </a:lnTo>
                  <a:lnTo>
                    <a:pt x="24" y="288"/>
                  </a:lnTo>
                  <a:lnTo>
                    <a:pt x="16" y="272"/>
                  </a:lnTo>
                  <a:lnTo>
                    <a:pt x="8" y="254"/>
                  </a:lnTo>
                  <a:lnTo>
                    <a:pt x="4" y="234"/>
                  </a:lnTo>
                  <a:lnTo>
                    <a:pt x="0" y="21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4" y="156"/>
                  </a:lnTo>
                  <a:lnTo>
                    <a:pt x="8" y="136"/>
                  </a:lnTo>
                  <a:lnTo>
                    <a:pt x="16" y="118"/>
                  </a:lnTo>
                  <a:lnTo>
                    <a:pt x="24" y="102"/>
                  </a:lnTo>
                  <a:lnTo>
                    <a:pt x="34" y="86"/>
                  </a:lnTo>
                  <a:lnTo>
                    <a:pt x="44" y="70"/>
                  </a:lnTo>
                  <a:lnTo>
                    <a:pt x="58" y="56"/>
                  </a:lnTo>
                  <a:lnTo>
                    <a:pt x="72" y="44"/>
                  </a:lnTo>
                  <a:lnTo>
                    <a:pt x="86" y="32"/>
                  </a:lnTo>
                  <a:lnTo>
                    <a:pt x="102" y="22"/>
                  </a:lnTo>
                  <a:lnTo>
                    <a:pt x="120" y="14"/>
                  </a:lnTo>
                  <a:lnTo>
                    <a:pt x="138" y="8"/>
                  </a:lnTo>
                  <a:lnTo>
                    <a:pt x="156" y="2"/>
                  </a:lnTo>
                  <a:lnTo>
                    <a:pt x="176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16" y="0"/>
                  </a:lnTo>
                  <a:lnTo>
                    <a:pt x="236" y="2"/>
                  </a:lnTo>
                  <a:lnTo>
                    <a:pt x="254" y="8"/>
                  </a:lnTo>
                  <a:lnTo>
                    <a:pt x="272" y="14"/>
                  </a:lnTo>
                  <a:lnTo>
                    <a:pt x="290" y="22"/>
                  </a:lnTo>
                  <a:lnTo>
                    <a:pt x="306" y="32"/>
                  </a:lnTo>
                  <a:lnTo>
                    <a:pt x="320" y="44"/>
                  </a:lnTo>
                  <a:lnTo>
                    <a:pt x="334" y="56"/>
                  </a:lnTo>
                  <a:lnTo>
                    <a:pt x="348" y="70"/>
                  </a:lnTo>
                  <a:lnTo>
                    <a:pt x="358" y="86"/>
                  </a:lnTo>
                  <a:lnTo>
                    <a:pt x="368" y="102"/>
                  </a:lnTo>
                  <a:lnTo>
                    <a:pt x="376" y="118"/>
                  </a:lnTo>
                  <a:lnTo>
                    <a:pt x="384" y="136"/>
                  </a:lnTo>
                  <a:lnTo>
                    <a:pt x="388" y="156"/>
                  </a:lnTo>
                  <a:lnTo>
                    <a:pt x="390" y="174"/>
                  </a:lnTo>
                  <a:lnTo>
                    <a:pt x="392" y="196"/>
                  </a:lnTo>
                  <a:lnTo>
                    <a:pt x="392" y="196"/>
                  </a:lnTo>
                  <a:close/>
                </a:path>
              </a:pathLst>
            </a:custGeom>
            <a:solidFill>
              <a:srgbClr val="fcd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51"/>
            <p:cNvSpPr/>
            <p:nvPr/>
          </p:nvSpPr>
          <p:spPr>
            <a:xfrm>
              <a:off x="8458200" y="7191360"/>
              <a:ext cx="587160" cy="58716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370" h="370">
                  <a:moveTo>
                    <a:pt x="370" y="186"/>
                  </a:moveTo>
                  <a:lnTo>
                    <a:pt x="370" y="186"/>
                  </a:lnTo>
                  <a:lnTo>
                    <a:pt x="370" y="204"/>
                  </a:lnTo>
                  <a:lnTo>
                    <a:pt x="368" y="222"/>
                  </a:lnTo>
                  <a:lnTo>
                    <a:pt x="362" y="240"/>
                  </a:lnTo>
                  <a:lnTo>
                    <a:pt x="356" y="258"/>
                  </a:lnTo>
                  <a:lnTo>
                    <a:pt x="348" y="274"/>
                  </a:lnTo>
                  <a:lnTo>
                    <a:pt x="340" y="290"/>
                  </a:lnTo>
                  <a:lnTo>
                    <a:pt x="328" y="304"/>
                  </a:lnTo>
                  <a:lnTo>
                    <a:pt x="316" y="316"/>
                  </a:lnTo>
                  <a:lnTo>
                    <a:pt x="304" y="328"/>
                  </a:lnTo>
                  <a:lnTo>
                    <a:pt x="290" y="340"/>
                  </a:lnTo>
                  <a:lnTo>
                    <a:pt x="274" y="348"/>
                  </a:lnTo>
                  <a:lnTo>
                    <a:pt x="258" y="356"/>
                  </a:lnTo>
                  <a:lnTo>
                    <a:pt x="240" y="362"/>
                  </a:lnTo>
                  <a:lnTo>
                    <a:pt x="222" y="368"/>
                  </a:lnTo>
                  <a:lnTo>
                    <a:pt x="204" y="370"/>
                  </a:lnTo>
                  <a:lnTo>
                    <a:pt x="186" y="370"/>
                  </a:lnTo>
                  <a:lnTo>
                    <a:pt x="186" y="370"/>
                  </a:lnTo>
                  <a:lnTo>
                    <a:pt x="166" y="370"/>
                  </a:lnTo>
                  <a:lnTo>
                    <a:pt x="148" y="368"/>
                  </a:lnTo>
                  <a:lnTo>
                    <a:pt x="130" y="362"/>
                  </a:lnTo>
                  <a:lnTo>
                    <a:pt x="114" y="356"/>
                  </a:lnTo>
                  <a:lnTo>
                    <a:pt x="98" y="348"/>
                  </a:lnTo>
                  <a:lnTo>
                    <a:pt x="82" y="340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4"/>
                  </a:lnTo>
                  <a:lnTo>
                    <a:pt x="32" y="290"/>
                  </a:lnTo>
                  <a:lnTo>
                    <a:pt x="22" y="274"/>
                  </a:lnTo>
                  <a:lnTo>
                    <a:pt x="14" y="258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2" y="204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4"/>
                  </a:lnTo>
                  <a:lnTo>
                    <a:pt x="22" y="98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8" y="22"/>
                  </a:lnTo>
                  <a:lnTo>
                    <a:pt x="114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2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204" y="2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8" y="14"/>
                  </a:lnTo>
                  <a:lnTo>
                    <a:pt x="274" y="22"/>
                  </a:lnTo>
                  <a:lnTo>
                    <a:pt x="290" y="32"/>
                  </a:lnTo>
                  <a:lnTo>
                    <a:pt x="304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40" y="82"/>
                  </a:lnTo>
                  <a:lnTo>
                    <a:pt x="348" y="98"/>
                  </a:lnTo>
                  <a:lnTo>
                    <a:pt x="356" y="114"/>
                  </a:lnTo>
                  <a:lnTo>
                    <a:pt x="362" y="130"/>
                  </a:lnTo>
                  <a:lnTo>
                    <a:pt x="368" y="148"/>
                  </a:lnTo>
                  <a:lnTo>
                    <a:pt x="370" y="166"/>
                  </a:lnTo>
                  <a:lnTo>
                    <a:pt x="370" y="186"/>
                  </a:lnTo>
                  <a:lnTo>
                    <a:pt x="370" y="186"/>
                  </a:lnTo>
                  <a:close/>
                </a:path>
              </a:pathLst>
            </a:custGeom>
            <a:solidFill>
              <a:srgbClr val="fc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52"/>
            <p:cNvSpPr/>
            <p:nvPr/>
          </p:nvSpPr>
          <p:spPr>
            <a:xfrm>
              <a:off x="8464320" y="7203960"/>
              <a:ext cx="555480" cy="55224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350" y="174"/>
                  </a:moveTo>
                  <a:lnTo>
                    <a:pt x="350" y="174"/>
                  </a:lnTo>
                  <a:lnTo>
                    <a:pt x="348" y="192"/>
                  </a:lnTo>
                  <a:lnTo>
                    <a:pt x="346" y="210"/>
                  </a:lnTo>
                  <a:lnTo>
                    <a:pt x="342" y="226"/>
                  </a:lnTo>
                  <a:lnTo>
                    <a:pt x="336" y="242"/>
                  </a:lnTo>
                  <a:lnTo>
                    <a:pt x="328" y="258"/>
                  </a:lnTo>
                  <a:lnTo>
                    <a:pt x="320" y="272"/>
                  </a:lnTo>
                  <a:lnTo>
                    <a:pt x="310" y="286"/>
                  </a:lnTo>
                  <a:lnTo>
                    <a:pt x="298" y="298"/>
                  </a:lnTo>
                  <a:lnTo>
                    <a:pt x="286" y="308"/>
                  </a:lnTo>
                  <a:lnTo>
                    <a:pt x="272" y="318"/>
                  </a:lnTo>
                  <a:lnTo>
                    <a:pt x="258" y="328"/>
                  </a:lnTo>
                  <a:lnTo>
                    <a:pt x="244" y="334"/>
                  </a:lnTo>
                  <a:lnTo>
                    <a:pt x="228" y="340"/>
                  </a:lnTo>
                  <a:lnTo>
                    <a:pt x="210" y="346"/>
                  </a:lnTo>
                  <a:lnTo>
                    <a:pt x="192" y="348"/>
                  </a:lnTo>
                  <a:lnTo>
                    <a:pt x="176" y="348"/>
                  </a:lnTo>
                  <a:lnTo>
                    <a:pt x="176" y="348"/>
                  </a:lnTo>
                  <a:lnTo>
                    <a:pt x="158" y="348"/>
                  </a:lnTo>
                  <a:lnTo>
                    <a:pt x="140" y="346"/>
                  </a:lnTo>
                  <a:lnTo>
                    <a:pt x="124" y="340"/>
                  </a:lnTo>
                  <a:lnTo>
                    <a:pt x="108" y="334"/>
                  </a:lnTo>
                  <a:lnTo>
                    <a:pt x="92" y="328"/>
                  </a:lnTo>
                  <a:lnTo>
                    <a:pt x="78" y="318"/>
                  </a:lnTo>
                  <a:lnTo>
                    <a:pt x="64" y="308"/>
                  </a:lnTo>
                  <a:lnTo>
                    <a:pt x="52" y="298"/>
                  </a:lnTo>
                  <a:lnTo>
                    <a:pt x="40" y="286"/>
                  </a:lnTo>
                  <a:lnTo>
                    <a:pt x="30" y="272"/>
                  </a:lnTo>
                  <a:lnTo>
                    <a:pt x="22" y="258"/>
                  </a:lnTo>
                  <a:lnTo>
                    <a:pt x="14" y="242"/>
                  </a:lnTo>
                  <a:lnTo>
                    <a:pt x="8" y="226"/>
                  </a:lnTo>
                  <a:lnTo>
                    <a:pt x="4" y="210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8"/>
                  </a:lnTo>
                  <a:lnTo>
                    <a:pt x="8" y="122"/>
                  </a:lnTo>
                  <a:lnTo>
                    <a:pt x="14" y="106"/>
                  </a:lnTo>
                  <a:lnTo>
                    <a:pt x="22" y="90"/>
                  </a:lnTo>
                  <a:lnTo>
                    <a:pt x="30" y="76"/>
                  </a:lnTo>
                  <a:lnTo>
                    <a:pt x="40" y="62"/>
                  </a:lnTo>
                  <a:lnTo>
                    <a:pt x="52" y="50"/>
                  </a:lnTo>
                  <a:lnTo>
                    <a:pt x="64" y="40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4" y="6"/>
                  </a:lnTo>
                  <a:lnTo>
                    <a:pt x="140" y="2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92" y="0"/>
                  </a:lnTo>
                  <a:lnTo>
                    <a:pt x="210" y="2"/>
                  </a:lnTo>
                  <a:lnTo>
                    <a:pt x="228" y="6"/>
                  </a:lnTo>
                  <a:lnTo>
                    <a:pt x="244" y="12"/>
                  </a:lnTo>
                  <a:lnTo>
                    <a:pt x="258" y="20"/>
                  </a:lnTo>
                  <a:lnTo>
                    <a:pt x="272" y="28"/>
                  </a:lnTo>
                  <a:lnTo>
                    <a:pt x="286" y="40"/>
                  </a:lnTo>
                  <a:lnTo>
                    <a:pt x="298" y="50"/>
                  </a:lnTo>
                  <a:lnTo>
                    <a:pt x="310" y="62"/>
                  </a:lnTo>
                  <a:lnTo>
                    <a:pt x="320" y="76"/>
                  </a:lnTo>
                  <a:lnTo>
                    <a:pt x="328" y="90"/>
                  </a:lnTo>
                  <a:lnTo>
                    <a:pt x="336" y="106"/>
                  </a:lnTo>
                  <a:lnTo>
                    <a:pt x="342" y="122"/>
                  </a:lnTo>
                  <a:lnTo>
                    <a:pt x="346" y="138"/>
                  </a:lnTo>
                  <a:lnTo>
                    <a:pt x="348" y="156"/>
                  </a:lnTo>
                  <a:lnTo>
                    <a:pt x="350" y="174"/>
                  </a:lnTo>
                  <a:lnTo>
                    <a:pt x="350" y="174"/>
                  </a:lnTo>
                  <a:close/>
                </a:path>
              </a:pathLst>
            </a:custGeom>
            <a:solidFill>
              <a:srgbClr val="fce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53"/>
            <p:cNvSpPr/>
            <p:nvPr/>
          </p:nvSpPr>
          <p:spPr>
            <a:xfrm>
              <a:off x="8470800" y="7213680"/>
              <a:ext cx="52056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328" y="164"/>
                  </a:moveTo>
                  <a:lnTo>
                    <a:pt x="328" y="164"/>
                  </a:lnTo>
                  <a:lnTo>
                    <a:pt x="328" y="182"/>
                  </a:lnTo>
                  <a:lnTo>
                    <a:pt x="326" y="198"/>
                  </a:lnTo>
                  <a:lnTo>
                    <a:pt x="322" y="214"/>
                  </a:lnTo>
                  <a:lnTo>
                    <a:pt x="316" y="228"/>
                  </a:lnTo>
                  <a:lnTo>
                    <a:pt x="308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6"/>
                  </a:lnTo>
                  <a:lnTo>
                    <a:pt x="214" y="322"/>
                  </a:lnTo>
                  <a:lnTo>
                    <a:pt x="198" y="326"/>
                  </a:lnTo>
                  <a:lnTo>
                    <a:pt x="182" y="328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8"/>
                  </a:lnTo>
                  <a:lnTo>
                    <a:pt x="132" y="326"/>
                  </a:lnTo>
                  <a:lnTo>
                    <a:pt x="116" y="322"/>
                  </a:lnTo>
                  <a:lnTo>
                    <a:pt x="100" y="316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4"/>
                  </a:lnTo>
                  <a:lnTo>
                    <a:pt x="4" y="198"/>
                  </a:lnTo>
                  <a:lnTo>
                    <a:pt x="2" y="18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48"/>
                  </a:lnTo>
                  <a:lnTo>
                    <a:pt x="4" y="132"/>
                  </a:lnTo>
                  <a:lnTo>
                    <a:pt x="8" y="116"/>
                  </a:lnTo>
                  <a:lnTo>
                    <a:pt x="14" y="100"/>
                  </a:lnTo>
                  <a:lnTo>
                    <a:pt x="20" y="86"/>
                  </a:lnTo>
                  <a:lnTo>
                    <a:pt x="28" y="72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2" y="28"/>
                  </a:lnTo>
                  <a:lnTo>
                    <a:pt x="86" y="20"/>
                  </a:lnTo>
                  <a:lnTo>
                    <a:pt x="100" y="14"/>
                  </a:lnTo>
                  <a:lnTo>
                    <a:pt x="116" y="8"/>
                  </a:lnTo>
                  <a:lnTo>
                    <a:pt x="132" y="4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28" y="14"/>
                  </a:lnTo>
                  <a:lnTo>
                    <a:pt x="242" y="20"/>
                  </a:lnTo>
                  <a:lnTo>
                    <a:pt x="256" y="28"/>
                  </a:lnTo>
                  <a:lnTo>
                    <a:pt x="270" y="38"/>
                  </a:lnTo>
                  <a:lnTo>
                    <a:pt x="280" y="48"/>
                  </a:lnTo>
                  <a:lnTo>
                    <a:pt x="292" y="60"/>
                  </a:lnTo>
                  <a:lnTo>
                    <a:pt x="300" y="72"/>
                  </a:lnTo>
                  <a:lnTo>
                    <a:pt x="308" y="86"/>
                  </a:lnTo>
                  <a:lnTo>
                    <a:pt x="316" y="100"/>
                  </a:lnTo>
                  <a:lnTo>
                    <a:pt x="322" y="116"/>
                  </a:lnTo>
                  <a:lnTo>
                    <a:pt x="326" y="132"/>
                  </a:lnTo>
                  <a:lnTo>
                    <a:pt x="328" y="148"/>
                  </a:lnTo>
                  <a:lnTo>
                    <a:pt x="328" y="164"/>
                  </a:lnTo>
                  <a:lnTo>
                    <a:pt x="328" y="164"/>
                  </a:lnTo>
                  <a:close/>
                </a:path>
              </a:pathLst>
            </a:custGeom>
            <a:solidFill>
              <a:srgbClr val="fd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54"/>
            <p:cNvSpPr/>
            <p:nvPr/>
          </p:nvSpPr>
          <p:spPr>
            <a:xfrm>
              <a:off x="8477280" y="7226280"/>
              <a:ext cx="488880" cy="4856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08" h="306">
                  <a:moveTo>
                    <a:pt x="308" y="152"/>
                  </a:moveTo>
                  <a:lnTo>
                    <a:pt x="308" y="152"/>
                  </a:lnTo>
                  <a:lnTo>
                    <a:pt x="306" y="168"/>
                  </a:lnTo>
                  <a:lnTo>
                    <a:pt x="304" y="184"/>
                  </a:lnTo>
                  <a:lnTo>
                    <a:pt x="300" y="198"/>
                  </a:lnTo>
                  <a:lnTo>
                    <a:pt x="296" y="212"/>
                  </a:lnTo>
                  <a:lnTo>
                    <a:pt x="290" y="226"/>
                  </a:lnTo>
                  <a:lnTo>
                    <a:pt x="282" y="238"/>
                  </a:lnTo>
                  <a:lnTo>
                    <a:pt x="272" y="250"/>
                  </a:lnTo>
                  <a:lnTo>
                    <a:pt x="262" y="262"/>
                  </a:lnTo>
                  <a:lnTo>
                    <a:pt x="252" y="272"/>
                  </a:lnTo>
                  <a:lnTo>
                    <a:pt x="240" y="280"/>
                  </a:lnTo>
                  <a:lnTo>
                    <a:pt x="228" y="288"/>
                  </a:lnTo>
                  <a:lnTo>
                    <a:pt x="214" y="294"/>
                  </a:lnTo>
                  <a:lnTo>
                    <a:pt x="200" y="300"/>
                  </a:lnTo>
                  <a:lnTo>
                    <a:pt x="186" y="304"/>
                  </a:lnTo>
                  <a:lnTo>
                    <a:pt x="170" y="306"/>
                  </a:lnTo>
                  <a:lnTo>
                    <a:pt x="154" y="306"/>
                  </a:lnTo>
                  <a:lnTo>
                    <a:pt x="154" y="306"/>
                  </a:lnTo>
                  <a:lnTo>
                    <a:pt x="138" y="306"/>
                  </a:lnTo>
                  <a:lnTo>
                    <a:pt x="124" y="304"/>
                  </a:lnTo>
                  <a:lnTo>
                    <a:pt x="108" y="300"/>
                  </a:lnTo>
                  <a:lnTo>
                    <a:pt x="94" y="294"/>
                  </a:lnTo>
                  <a:lnTo>
                    <a:pt x="82" y="288"/>
                  </a:lnTo>
                  <a:lnTo>
                    <a:pt x="68" y="280"/>
                  </a:lnTo>
                  <a:lnTo>
                    <a:pt x="56" y="272"/>
                  </a:lnTo>
                  <a:lnTo>
                    <a:pt x="46" y="262"/>
                  </a:lnTo>
                  <a:lnTo>
                    <a:pt x="36" y="250"/>
                  </a:lnTo>
                  <a:lnTo>
                    <a:pt x="28" y="238"/>
                  </a:lnTo>
                  <a:lnTo>
                    <a:pt x="20" y="226"/>
                  </a:lnTo>
                  <a:lnTo>
                    <a:pt x="12" y="212"/>
                  </a:lnTo>
                  <a:lnTo>
                    <a:pt x="8" y="198"/>
                  </a:lnTo>
                  <a:lnTo>
                    <a:pt x="4" y="184"/>
                  </a:lnTo>
                  <a:lnTo>
                    <a:pt x="2" y="168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136"/>
                  </a:lnTo>
                  <a:lnTo>
                    <a:pt x="4" y="122"/>
                  </a:lnTo>
                  <a:lnTo>
                    <a:pt x="8" y="108"/>
                  </a:lnTo>
                  <a:lnTo>
                    <a:pt x="12" y="92"/>
                  </a:lnTo>
                  <a:lnTo>
                    <a:pt x="20" y="80"/>
                  </a:lnTo>
                  <a:lnTo>
                    <a:pt x="28" y="66"/>
                  </a:lnTo>
                  <a:lnTo>
                    <a:pt x="36" y="56"/>
                  </a:lnTo>
                  <a:lnTo>
                    <a:pt x="46" y="44"/>
                  </a:lnTo>
                  <a:lnTo>
                    <a:pt x="56" y="34"/>
                  </a:lnTo>
                  <a:lnTo>
                    <a:pt x="68" y="26"/>
                  </a:lnTo>
                  <a:lnTo>
                    <a:pt x="82" y="18"/>
                  </a:lnTo>
                  <a:lnTo>
                    <a:pt x="94" y="12"/>
                  </a:lnTo>
                  <a:lnTo>
                    <a:pt x="108" y="6"/>
                  </a:lnTo>
                  <a:lnTo>
                    <a:pt x="124" y="2"/>
                  </a:lnTo>
                  <a:lnTo>
                    <a:pt x="138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70" y="0"/>
                  </a:lnTo>
                  <a:lnTo>
                    <a:pt x="186" y="2"/>
                  </a:lnTo>
                  <a:lnTo>
                    <a:pt x="200" y="6"/>
                  </a:lnTo>
                  <a:lnTo>
                    <a:pt x="214" y="12"/>
                  </a:lnTo>
                  <a:lnTo>
                    <a:pt x="228" y="18"/>
                  </a:lnTo>
                  <a:lnTo>
                    <a:pt x="240" y="26"/>
                  </a:lnTo>
                  <a:lnTo>
                    <a:pt x="252" y="34"/>
                  </a:lnTo>
                  <a:lnTo>
                    <a:pt x="262" y="44"/>
                  </a:lnTo>
                  <a:lnTo>
                    <a:pt x="272" y="56"/>
                  </a:lnTo>
                  <a:lnTo>
                    <a:pt x="282" y="66"/>
                  </a:lnTo>
                  <a:lnTo>
                    <a:pt x="290" y="80"/>
                  </a:lnTo>
                  <a:lnTo>
                    <a:pt x="296" y="92"/>
                  </a:lnTo>
                  <a:lnTo>
                    <a:pt x="300" y="108"/>
                  </a:lnTo>
                  <a:lnTo>
                    <a:pt x="304" y="122"/>
                  </a:lnTo>
                  <a:lnTo>
                    <a:pt x="306" y="136"/>
                  </a:lnTo>
                  <a:lnTo>
                    <a:pt x="308" y="152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fde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55"/>
            <p:cNvSpPr/>
            <p:nvPr/>
          </p:nvSpPr>
          <p:spPr>
            <a:xfrm>
              <a:off x="8486640" y="7235640"/>
              <a:ext cx="450720" cy="45396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4" h="286">
                  <a:moveTo>
                    <a:pt x="284" y="144"/>
                  </a:moveTo>
                  <a:lnTo>
                    <a:pt x="284" y="144"/>
                  </a:lnTo>
                  <a:lnTo>
                    <a:pt x="284" y="158"/>
                  </a:lnTo>
                  <a:lnTo>
                    <a:pt x="282" y="172"/>
                  </a:lnTo>
                  <a:lnTo>
                    <a:pt x="278" y="186"/>
                  </a:lnTo>
                  <a:lnTo>
                    <a:pt x="274" y="198"/>
                  </a:lnTo>
                  <a:lnTo>
                    <a:pt x="268" y="212"/>
                  </a:lnTo>
                  <a:lnTo>
                    <a:pt x="260" y="222"/>
                  </a:lnTo>
                  <a:lnTo>
                    <a:pt x="252" y="234"/>
                  </a:lnTo>
                  <a:lnTo>
                    <a:pt x="242" y="244"/>
                  </a:lnTo>
                  <a:lnTo>
                    <a:pt x="232" y="254"/>
                  </a:lnTo>
                  <a:lnTo>
                    <a:pt x="222" y="262"/>
                  </a:lnTo>
                  <a:lnTo>
                    <a:pt x="210" y="268"/>
                  </a:lnTo>
                  <a:lnTo>
                    <a:pt x="198" y="274"/>
                  </a:lnTo>
                  <a:lnTo>
                    <a:pt x="184" y="280"/>
                  </a:lnTo>
                  <a:lnTo>
                    <a:pt x="170" y="284"/>
                  </a:lnTo>
                  <a:lnTo>
                    <a:pt x="156" y="286"/>
                  </a:lnTo>
                  <a:lnTo>
                    <a:pt x="142" y="286"/>
                  </a:lnTo>
                  <a:lnTo>
                    <a:pt x="142" y="286"/>
                  </a:lnTo>
                  <a:lnTo>
                    <a:pt x="128" y="286"/>
                  </a:lnTo>
                  <a:lnTo>
                    <a:pt x="114" y="284"/>
                  </a:lnTo>
                  <a:lnTo>
                    <a:pt x="100" y="280"/>
                  </a:lnTo>
                  <a:lnTo>
                    <a:pt x="86" y="274"/>
                  </a:lnTo>
                  <a:lnTo>
                    <a:pt x="74" y="268"/>
                  </a:lnTo>
                  <a:lnTo>
                    <a:pt x="62" y="262"/>
                  </a:lnTo>
                  <a:lnTo>
                    <a:pt x="50" y="254"/>
                  </a:lnTo>
                  <a:lnTo>
                    <a:pt x="40" y="244"/>
                  </a:lnTo>
                  <a:lnTo>
                    <a:pt x="32" y="234"/>
                  </a:lnTo>
                  <a:lnTo>
                    <a:pt x="24" y="222"/>
                  </a:lnTo>
                  <a:lnTo>
                    <a:pt x="16" y="212"/>
                  </a:lnTo>
                  <a:lnTo>
                    <a:pt x="10" y="198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6" y="76"/>
                  </a:lnTo>
                  <a:lnTo>
                    <a:pt x="24" y="64"/>
                  </a:lnTo>
                  <a:lnTo>
                    <a:pt x="32" y="52"/>
                  </a:lnTo>
                  <a:lnTo>
                    <a:pt x="40" y="42"/>
                  </a:lnTo>
                  <a:lnTo>
                    <a:pt x="50" y="32"/>
                  </a:lnTo>
                  <a:lnTo>
                    <a:pt x="62" y="24"/>
                  </a:lnTo>
                  <a:lnTo>
                    <a:pt x="74" y="18"/>
                  </a:lnTo>
                  <a:lnTo>
                    <a:pt x="86" y="12"/>
                  </a:lnTo>
                  <a:lnTo>
                    <a:pt x="100" y="6"/>
                  </a:lnTo>
                  <a:lnTo>
                    <a:pt x="114" y="4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4"/>
                  </a:lnTo>
                  <a:lnTo>
                    <a:pt x="184" y="6"/>
                  </a:lnTo>
                  <a:lnTo>
                    <a:pt x="198" y="12"/>
                  </a:lnTo>
                  <a:lnTo>
                    <a:pt x="210" y="18"/>
                  </a:lnTo>
                  <a:lnTo>
                    <a:pt x="222" y="24"/>
                  </a:lnTo>
                  <a:lnTo>
                    <a:pt x="232" y="32"/>
                  </a:lnTo>
                  <a:lnTo>
                    <a:pt x="242" y="42"/>
                  </a:lnTo>
                  <a:lnTo>
                    <a:pt x="252" y="52"/>
                  </a:lnTo>
                  <a:lnTo>
                    <a:pt x="260" y="64"/>
                  </a:lnTo>
                  <a:lnTo>
                    <a:pt x="268" y="76"/>
                  </a:lnTo>
                  <a:lnTo>
                    <a:pt x="274" y="88"/>
                  </a:lnTo>
                  <a:lnTo>
                    <a:pt x="278" y="100"/>
                  </a:lnTo>
                  <a:lnTo>
                    <a:pt x="282" y="114"/>
                  </a:lnTo>
                  <a:lnTo>
                    <a:pt x="284" y="128"/>
                  </a:lnTo>
                  <a:lnTo>
                    <a:pt x="284" y="144"/>
                  </a:lnTo>
                  <a:lnTo>
                    <a:pt x="284" y="144"/>
                  </a:lnTo>
                  <a:close/>
                </a:path>
              </a:pathLst>
            </a:custGeom>
            <a:solidFill>
              <a:srgbClr val="fde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56"/>
            <p:cNvSpPr/>
            <p:nvPr/>
          </p:nvSpPr>
          <p:spPr>
            <a:xfrm>
              <a:off x="8493120" y="7248600"/>
              <a:ext cx="419040" cy="4190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64" h="264">
                  <a:moveTo>
                    <a:pt x="264" y="132"/>
                  </a:moveTo>
                  <a:lnTo>
                    <a:pt x="264" y="132"/>
                  </a:lnTo>
                  <a:lnTo>
                    <a:pt x="262" y="146"/>
                  </a:lnTo>
                  <a:lnTo>
                    <a:pt x="260" y="158"/>
                  </a:lnTo>
                  <a:lnTo>
                    <a:pt x="258" y="170"/>
                  </a:lnTo>
                  <a:lnTo>
                    <a:pt x="254" y="182"/>
                  </a:lnTo>
                  <a:lnTo>
                    <a:pt x="248" y="194"/>
                  </a:lnTo>
                  <a:lnTo>
                    <a:pt x="242" y="206"/>
                  </a:lnTo>
                  <a:lnTo>
                    <a:pt x="234" y="216"/>
                  </a:lnTo>
                  <a:lnTo>
                    <a:pt x="224" y="224"/>
                  </a:lnTo>
                  <a:lnTo>
                    <a:pt x="216" y="234"/>
                  </a:lnTo>
                  <a:lnTo>
                    <a:pt x="206" y="242"/>
                  </a:lnTo>
                  <a:lnTo>
                    <a:pt x="194" y="248"/>
                  </a:lnTo>
                  <a:lnTo>
                    <a:pt x="182" y="254"/>
                  </a:lnTo>
                  <a:lnTo>
                    <a:pt x="170" y="258"/>
                  </a:lnTo>
                  <a:lnTo>
                    <a:pt x="158" y="262"/>
                  </a:lnTo>
                  <a:lnTo>
                    <a:pt x="144" y="264"/>
                  </a:lnTo>
                  <a:lnTo>
                    <a:pt x="132" y="264"/>
                  </a:lnTo>
                  <a:lnTo>
                    <a:pt x="132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8"/>
                  </a:lnTo>
                  <a:lnTo>
                    <a:pt x="80" y="254"/>
                  </a:lnTo>
                  <a:lnTo>
                    <a:pt x="68" y="248"/>
                  </a:lnTo>
                  <a:lnTo>
                    <a:pt x="58" y="242"/>
                  </a:lnTo>
                  <a:lnTo>
                    <a:pt x="48" y="234"/>
                  </a:lnTo>
                  <a:lnTo>
                    <a:pt x="38" y="224"/>
                  </a:lnTo>
                  <a:lnTo>
                    <a:pt x="30" y="216"/>
                  </a:lnTo>
                  <a:lnTo>
                    <a:pt x="22" y="206"/>
                  </a:lnTo>
                  <a:lnTo>
                    <a:pt x="16" y="194"/>
                  </a:lnTo>
                  <a:lnTo>
                    <a:pt x="10" y="182"/>
                  </a:lnTo>
                  <a:lnTo>
                    <a:pt x="6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0"/>
                  </a:lnTo>
                  <a:lnTo>
                    <a:pt x="16" y="68"/>
                  </a:lnTo>
                  <a:lnTo>
                    <a:pt x="22" y="58"/>
                  </a:lnTo>
                  <a:lnTo>
                    <a:pt x="30" y="48"/>
                  </a:lnTo>
                  <a:lnTo>
                    <a:pt x="38" y="38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8" y="16"/>
                  </a:lnTo>
                  <a:lnTo>
                    <a:pt x="80" y="10"/>
                  </a:lnTo>
                  <a:lnTo>
                    <a:pt x="92" y="6"/>
                  </a:lnTo>
                  <a:lnTo>
                    <a:pt x="104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8" y="2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4" y="16"/>
                  </a:lnTo>
                  <a:lnTo>
                    <a:pt x="206" y="22"/>
                  </a:lnTo>
                  <a:lnTo>
                    <a:pt x="216" y="30"/>
                  </a:lnTo>
                  <a:lnTo>
                    <a:pt x="224" y="38"/>
                  </a:lnTo>
                  <a:lnTo>
                    <a:pt x="234" y="48"/>
                  </a:lnTo>
                  <a:lnTo>
                    <a:pt x="242" y="58"/>
                  </a:lnTo>
                  <a:lnTo>
                    <a:pt x="248" y="68"/>
                  </a:lnTo>
                  <a:lnTo>
                    <a:pt x="254" y="80"/>
                  </a:lnTo>
                  <a:lnTo>
                    <a:pt x="258" y="92"/>
                  </a:lnTo>
                  <a:lnTo>
                    <a:pt x="260" y="104"/>
                  </a:lnTo>
                  <a:lnTo>
                    <a:pt x="262" y="118"/>
                  </a:lnTo>
                  <a:lnTo>
                    <a:pt x="264" y="132"/>
                  </a:lnTo>
                  <a:lnTo>
                    <a:pt x="264" y="132"/>
                  </a:lnTo>
                  <a:close/>
                </a:path>
              </a:pathLst>
            </a:custGeom>
            <a:solidFill>
              <a:srgbClr val="fde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57"/>
            <p:cNvSpPr/>
            <p:nvPr/>
          </p:nvSpPr>
          <p:spPr>
            <a:xfrm>
              <a:off x="8499240" y="7257960"/>
              <a:ext cx="384120" cy="3870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42" h="244">
                  <a:moveTo>
                    <a:pt x="242" y="122"/>
                  </a:moveTo>
                  <a:lnTo>
                    <a:pt x="242" y="122"/>
                  </a:lnTo>
                  <a:lnTo>
                    <a:pt x="242" y="134"/>
                  </a:lnTo>
                  <a:lnTo>
                    <a:pt x="240" y="146"/>
                  </a:lnTo>
                  <a:lnTo>
                    <a:pt x="234" y="170"/>
                  </a:lnTo>
                  <a:lnTo>
                    <a:pt x="222" y="190"/>
                  </a:lnTo>
                  <a:lnTo>
                    <a:pt x="206" y="208"/>
                  </a:lnTo>
                  <a:lnTo>
                    <a:pt x="188" y="222"/>
                  </a:lnTo>
                  <a:lnTo>
                    <a:pt x="168" y="234"/>
                  </a:lnTo>
                  <a:lnTo>
                    <a:pt x="146" y="242"/>
                  </a:lnTo>
                  <a:lnTo>
                    <a:pt x="134" y="242"/>
                  </a:lnTo>
                  <a:lnTo>
                    <a:pt x="122" y="244"/>
                  </a:lnTo>
                  <a:lnTo>
                    <a:pt x="122" y="244"/>
                  </a:lnTo>
                  <a:lnTo>
                    <a:pt x="108" y="242"/>
                  </a:lnTo>
                  <a:lnTo>
                    <a:pt x="96" y="242"/>
                  </a:lnTo>
                  <a:lnTo>
                    <a:pt x="74" y="234"/>
                  </a:lnTo>
                  <a:lnTo>
                    <a:pt x="54" y="222"/>
                  </a:lnTo>
                  <a:lnTo>
                    <a:pt x="36" y="208"/>
                  </a:lnTo>
                  <a:lnTo>
                    <a:pt x="20" y="190"/>
                  </a:lnTo>
                  <a:lnTo>
                    <a:pt x="10" y="170"/>
                  </a:lnTo>
                  <a:lnTo>
                    <a:pt x="2" y="146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0"/>
                  </a:lnTo>
                  <a:lnTo>
                    <a:pt x="2" y="98"/>
                  </a:lnTo>
                  <a:lnTo>
                    <a:pt x="10" y="74"/>
                  </a:lnTo>
                  <a:lnTo>
                    <a:pt x="20" y="54"/>
                  </a:lnTo>
                  <a:lnTo>
                    <a:pt x="36" y="36"/>
                  </a:lnTo>
                  <a:lnTo>
                    <a:pt x="54" y="22"/>
                  </a:lnTo>
                  <a:lnTo>
                    <a:pt x="74" y="10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4" y="0"/>
                  </a:lnTo>
                  <a:lnTo>
                    <a:pt x="146" y="2"/>
                  </a:lnTo>
                  <a:lnTo>
                    <a:pt x="168" y="10"/>
                  </a:lnTo>
                  <a:lnTo>
                    <a:pt x="188" y="22"/>
                  </a:lnTo>
                  <a:lnTo>
                    <a:pt x="206" y="36"/>
                  </a:lnTo>
                  <a:lnTo>
                    <a:pt x="222" y="54"/>
                  </a:lnTo>
                  <a:lnTo>
                    <a:pt x="234" y="74"/>
                  </a:lnTo>
                  <a:lnTo>
                    <a:pt x="240" y="98"/>
                  </a:lnTo>
                  <a:lnTo>
                    <a:pt x="242" y="110"/>
                  </a:lnTo>
                  <a:lnTo>
                    <a:pt x="242" y="122"/>
                  </a:lnTo>
                  <a:lnTo>
                    <a:pt x="242" y="122"/>
                  </a:lnTo>
                  <a:close/>
                </a:path>
              </a:pathLst>
            </a:custGeom>
            <a:solidFill>
              <a:srgbClr val="fee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58"/>
            <p:cNvSpPr/>
            <p:nvPr/>
          </p:nvSpPr>
          <p:spPr>
            <a:xfrm>
              <a:off x="8505720" y="7270560"/>
              <a:ext cx="352440" cy="3520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22" h="222">
                  <a:moveTo>
                    <a:pt x="222" y="110"/>
                  </a:moveTo>
                  <a:lnTo>
                    <a:pt x="222" y="110"/>
                  </a:lnTo>
                  <a:lnTo>
                    <a:pt x="220" y="132"/>
                  </a:lnTo>
                  <a:lnTo>
                    <a:pt x="212" y="154"/>
                  </a:lnTo>
                  <a:lnTo>
                    <a:pt x="202" y="172"/>
                  </a:lnTo>
                  <a:lnTo>
                    <a:pt x="190" y="188"/>
                  </a:lnTo>
                  <a:lnTo>
                    <a:pt x="172" y="202"/>
                  </a:lnTo>
                  <a:lnTo>
                    <a:pt x="154" y="212"/>
                  </a:lnTo>
                  <a:lnTo>
                    <a:pt x="132" y="218"/>
                  </a:lnTo>
                  <a:lnTo>
                    <a:pt x="110" y="222"/>
                  </a:lnTo>
                  <a:lnTo>
                    <a:pt x="110" y="222"/>
                  </a:lnTo>
                  <a:lnTo>
                    <a:pt x="88" y="218"/>
                  </a:lnTo>
                  <a:lnTo>
                    <a:pt x="68" y="212"/>
                  </a:lnTo>
                  <a:lnTo>
                    <a:pt x="48" y="202"/>
                  </a:lnTo>
                  <a:lnTo>
                    <a:pt x="32" y="188"/>
                  </a:lnTo>
                  <a:lnTo>
                    <a:pt x="18" y="172"/>
                  </a:lnTo>
                  <a:lnTo>
                    <a:pt x="8" y="154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8" y="48"/>
                  </a:lnTo>
                  <a:lnTo>
                    <a:pt x="32" y="32"/>
                  </a:lnTo>
                  <a:lnTo>
                    <a:pt x="48" y="18"/>
                  </a:lnTo>
                  <a:lnTo>
                    <a:pt x="68" y="8"/>
                  </a:lnTo>
                  <a:lnTo>
                    <a:pt x="88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32" y="2"/>
                  </a:lnTo>
                  <a:lnTo>
                    <a:pt x="154" y="8"/>
                  </a:lnTo>
                  <a:lnTo>
                    <a:pt x="172" y="18"/>
                  </a:lnTo>
                  <a:lnTo>
                    <a:pt x="190" y="32"/>
                  </a:lnTo>
                  <a:lnTo>
                    <a:pt x="202" y="48"/>
                  </a:lnTo>
                  <a:lnTo>
                    <a:pt x="212" y="68"/>
                  </a:lnTo>
                  <a:lnTo>
                    <a:pt x="220" y="88"/>
                  </a:lnTo>
                  <a:lnTo>
                    <a:pt x="222" y="110"/>
                  </a:lnTo>
                  <a:lnTo>
                    <a:pt x="222" y="110"/>
                  </a:lnTo>
                  <a:close/>
                </a:path>
              </a:pathLst>
            </a:custGeom>
            <a:solidFill>
              <a:srgbClr val="fee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59"/>
            <p:cNvSpPr/>
            <p:nvPr/>
          </p:nvSpPr>
          <p:spPr>
            <a:xfrm>
              <a:off x="8512200" y="7280280"/>
              <a:ext cx="317520" cy="3204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00" h="202">
                  <a:moveTo>
                    <a:pt x="200" y="100"/>
                  </a:moveTo>
                  <a:lnTo>
                    <a:pt x="200" y="100"/>
                  </a:lnTo>
                  <a:lnTo>
                    <a:pt x="198" y="120"/>
                  </a:lnTo>
                  <a:lnTo>
                    <a:pt x="192" y="140"/>
                  </a:lnTo>
                  <a:lnTo>
                    <a:pt x="184" y="156"/>
                  </a:lnTo>
                  <a:lnTo>
                    <a:pt x="172" y="172"/>
                  </a:lnTo>
                  <a:lnTo>
                    <a:pt x="156" y="184"/>
                  </a:lnTo>
                  <a:lnTo>
                    <a:pt x="140" y="194"/>
                  </a:lnTo>
                  <a:lnTo>
                    <a:pt x="120" y="198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80" y="198"/>
                  </a:lnTo>
                  <a:lnTo>
                    <a:pt x="62" y="194"/>
                  </a:lnTo>
                  <a:lnTo>
                    <a:pt x="44" y="184"/>
                  </a:lnTo>
                  <a:lnTo>
                    <a:pt x="30" y="172"/>
                  </a:lnTo>
                  <a:lnTo>
                    <a:pt x="18" y="156"/>
                  </a:lnTo>
                  <a:lnTo>
                    <a:pt x="8" y="140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8" y="62"/>
                  </a:lnTo>
                  <a:lnTo>
                    <a:pt x="18" y="44"/>
                  </a:lnTo>
                  <a:lnTo>
                    <a:pt x="30" y="30"/>
                  </a:lnTo>
                  <a:lnTo>
                    <a:pt x="44" y="18"/>
                  </a:lnTo>
                  <a:lnTo>
                    <a:pt x="62" y="8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20" y="2"/>
                  </a:lnTo>
                  <a:lnTo>
                    <a:pt x="140" y="8"/>
                  </a:lnTo>
                  <a:lnTo>
                    <a:pt x="156" y="18"/>
                  </a:lnTo>
                  <a:lnTo>
                    <a:pt x="172" y="30"/>
                  </a:lnTo>
                  <a:lnTo>
                    <a:pt x="184" y="44"/>
                  </a:lnTo>
                  <a:lnTo>
                    <a:pt x="192" y="62"/>
                  </a:lnTo>
                  <a:lnTo>
                    <a:pt x="198" y="80"/>
                  </a:lnTo>
                  <a:lnTo>
                    <a:pt x="200" y="100"/>
                  </a:lnTo>
                  <a:lnTo>
                    <a:pt x="200" y="100"/>
                  </a:lnTo>
                  <a:close/>
                </a:path>
              </a:pathLst>
            </a:custGeom>
            <a:solidFill>
              <a:srgbClr val="fee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60"/>
            <p:cNvSpPr/>
            <p:nvPr/>
          </p:nvSpPr>
          <p:spPr>
            <a:xfrm>
              <a:off x="8518320" y="7292880"/>
              <a:ext cx="285480" cy="2822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80" h="178">
                  <a:moveTo>
                    <a:pt x="180" y="90"/>
                  </a:moveTo>
                  <a:lnTo>
                    <a:pt x="180" y="90"/>
                  </a:lnTo>
                  <a:lnTo>
                    <a:pt x="178" y="108"/>
                  </a:lnTo>
                  <a:lnTo>
                    <a:pt x="172" y="124"/>
                  </a:lnTo>
                  <a:lnTo>
                    <a:pt x="164" y="140"/>
                  </a:lnTo>
                  <a:lnTo>
                    <a:pt x="154" y="152"/>
                  </a:lnTo>
                  <a:lnTo>
                    <a:pt x="140" y="164"/>
                  </a:lnTo>
                  <a:lnTo>
                    <a:pt x="124" y="172"/>
                  </a:lnTo>
                  <a:lnTo>
                    <a:pt x="108" y="176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72" y="176"/>
                  </a:lnTo>
                  <a:lnTo>
                    <a:pt x="54" y="172"/>
                  </a:lnTo>
                  <a:lnTo>
                    <a:pt x="40" y="164"/>
                  </a:lnTo>
                  <a:lnTo>
                    <a:pt x="26" y="152"/>
                  </a:lnTo>
                  <a:lnTo>
                    <a:pt x="16" y="140"/>
                  </a:lnTo>
                  <a:lnTo>
                    <a:pt x="8" y="124"/>
                  </a:lnTo>
                  <a:lnTo>
                    <a:pt x="2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8" y="54"/>
                  </a:lnTo>
                  <a:lnTo>
                    <a:pt x="16" y="40"/>
                  </a:lnTo>
                  <a:lnTo>
                    <a:pt x="26" y="26"/>
                  </a:lnTo>
                  <a:lnTo>
                    <a:pt x="40" y="14"/>
                  </a:lnTo>
                  <a:lnTo>
                    <a:pt x="54" y="6"/>
                  </a:lnTo>
                  <a:lnTo>
                    <a:pt x="72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8" y="2"/>
                  </a:lnTo>
                  <a:lnTo>
                    <a:pt x="124" y="6"/>
                  </a:lnTo>
                  <a:lnTo>
                    <a:pt x="140" y="14"/>
                  </a:lnTo>
                  <a:lnTo>
                    <a:pt x="154" y="26"/>
                  </a:lnTo>
                  <a:lnTo>
                    <a:pt x="164" y="40"/>
                  </a:lnTo>
                  <a:lnTo>
                    <a:pt x="172" y="54"/>
                  </a:lnTo>
                  <a:lnTo>
                    <a:pt x="178" y="72"/>
                  </a:lnTo>
                  <a:lnTo>
                    <a:pt x="180" y="90"/>
                  </a:lnTo>
                  <a:lnTo>
                    <a:pt x="180" y="90"/>
                  </a:lnTo>
                  <a:close/>
                </a:path>
              </a:pathLst>
            </a:custGeom>
            <a:solidFill>
              <a:srgbClr val="fef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61"/>
            <p:cNvSpPr/>
            <p:nvPr/>
          </p:nvSpPr>
          <p:spPr>
            <a:xfrm>
              <a:off x="8524800" y="7302600"/>
              <a:ext cx="250560" cy="2505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8" h="158">
                  <a:moveTo>
                    <a:pt x="158" y="80"/>
                  </a:moveTo>
                  <a:lnTo>
                    <a:pt x="158" y="80"/>
                  </a:lnTo>
                  <a:lnTo>
                    <a:pt x="156" y="96"/>
                  </a:lnTo>
                  <a:lnTo>
                    <a:pt x="152" y="110"/>
                  </a:lnTo>
                  <a:lnTo>
                    <a:pt x="144" y="124"/>
                  </a:lnTo>
                  <a:lnTo>
                    <a:pt x="136" y="136"/>
                  </a:lnTo>
                  <a:lnTo>
                    <a:pt x="124" y="146"/>
                  </a:lnTo>
                  <a:lnTo>
                    <a:pt x="110" y="152"/>
                  </a:lnTo>
                  <a:lnTo>
                    <a:pt x="96" y="156"/>
                  </a:lnTo>
                  <a:lnTo>
                    <a:pt x="80" y="158"/>
                  </a:lnTo>
                  <a:lnTo>
                    <a:pt x="80" y="158"/>
                  </a:lnTo>
                  <a:lnTo>
                    <a:pt x="64" y="156"/>
                  </a:lnTo>
                  <a:lnTo>
                    <a:pt x="48" y="152"/>
                  </a:lnTo>
                  <a:lnTo>
                    <a:pt x="36" y="146"/>
                  </a:lnTo>
                  <a:lnTo>
                    <a:pt x="24" y="136"/>
                  </a:lnTo>
                  <a:lnTo>
                    <a:pt x="14" y="124"/>
                  </a:lnTo>
                  <a:lnTo>
                    <a:pt x="6" y="110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8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48" y="6"/>
                  </a:lnTo>
                  <a:lnTo>
                    <a:pt x="6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4"/>
                  </a:lnTo>
                  <a:lnTo>
                    <a:pt x="136" y="24"/>
                  </a:lnTo>
                  <a:lnTo>
                    <a:pt x="144" y="36"/>
                  </a:lnTo>
                  <a:lnTo>
                    <a:pt x="152" y="48"/>
                  </a:lnTo>
                  <a:lnTo>
                    <a:pt x="156" y="64"/>
                  </a:lnTo>
                  <a:lnTo>
                    <a:pt x="158" y="80"/>
                  </a:lnTo>
                  <a:lnTo>
                    <a:pt x="158" y="80"/>
                  </a:lnTo>
                  <a:close/>
                </a:path>
              </a:pathLst>
            </a:custGeom>
            <a:solidFill>
              <a:srgbClr val="fef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62"/>
            <p:cNvSpPr/>
            <p:nvPr/>
          </p:nvSpPr>
          <p:spPr>
            <a:xfrm>
              <a:off x="8531280" y="7315200"/>
              <a:ext cx="218880" cy="2156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8" h="136">
                  <a:moveTo>
                    <a:pt x="138" y="68"/>
                  </a:moveTo>
                  <a:lnTo>
                    <a:pt x="138" y="68"/>
                  </a:lnTo>
                  <a:lnTo>
                    <a:pt x="136" y="82"/>
                  </a:lnTo>
                  <a:lnTo>
                    <a:pt x="132" y="94"/>
                  </a:lnTo>
                  <a:lnTo>
                    <a:pt x="126" y="106"/>
                  </a:lnTo>
                  <a:lnTo>
                    <a:pt x="118" y="116"/>
                  </a:lnTo>
                  <a:lnTo>
                    <a:pt x="108" y="124"/>
                  </a:lnTo>
                  <a:lnTo>
                    <a:pt x="96" y="130"/>
                  </a:lnTo>
                  <a:lnTo>
                    <a:pt x="82" y="134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56" y="134"/>
                  </a:lnTo>
                  <a:lnTo>
                    <a:pt x="42" y="130"/>
                  </a:lnTo>
                  <a:lnTo>
                    <a:pt x="30" y="124"/>
                  </a:lnTo>
                  <a:lnTo>
                    <a:pt x="20" y="116"/>
                  </a:lnTo>
                  <a:lnTo>
                    <a:pt x="12" y="106"/>
                  </a:lnTo>
                  <a:lnTo>
                    <a:pt x="6" y="94"/>
                  </a:lnTo>
                  <a:lnTo>
                    <a:pt x="2" y="8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2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96" y="4"/>
                  </a:lnTo>
                  <a:lnTo>
                    <a:pt x="108" y="12"/>
                  </a:lnTo>
                  <a:lnTo>
                    <a:pt x="118" y="20"/>
                  </a:lnTo>
                  <a:lnTo>
                    <a:pt x="126" y="30"/>
                  </a:lnTo>
                  <a:lnTo>
                    <a:pt x="132" y="42"/>
                  </a:lnTo>
                  <a:lnTo>
                    <a:pt x="136" y="54"/>
                  </a:lnTo>
                  <a:lnTo>
                    <a:pt x="138" y="68"/>
                  </a:lnTo>
                  <a:lnTo>
                    <a:pt x="138" y="68"/>
                  </a:lnTo>
                  <a:close/>
                </a:path>
              </a:pathLst>
            </a:custGeom>
            <a:solidFill>
              <a:srgbClr val="fef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63"/>
            <p:cNvSpPr/>
            <p:nvPr/>
          </p:nvSpPr>
          <p:spPr>
            <a:xfrm>
              <a:off x="8537400" y="7324560"/>
              <a:ext cx="183960" cy="18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6" h="116">
                  <a:moveTo>
                    <a:pt x="116" y="58"/>
                  </a:moveTo>
                  <a:lnTo>
                    <a:pt x="116" y="58"/>
                  </a:lnTo>
                  <a:lnTo>
                    <a:pt x="116" y="70"/>
                  </a:lnTo>
                  <a:lnTo>
                    <a:pt x="112" y="80"/>
                  </a:lnTo>
                  <a:lnTo>
                    <a:pt x="106" y="90"/>
                  </a:lnTo>
                  <a:lnTo>
                    <a:pt x="100" y="100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0" y="114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46" y="114"/>
                  </a:lnTo>
                  <a:lnTo>
                    <a:pt x="36" y="112"/>
                  </a:lnTo>
                  <a:lnTo>
                    <a:pt x="26" y="106"/>
                  </a:lnTo>
                  <a:lnTo>
                    <a:pt x="18" y="100"/>
                  </a:lnTo>
                  <a:lnTo>
                    <a:pt x="10" y="90"/>
                  </a:lnTo>
                  <a:lnTo>
                    <a:pt x="6" y="80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10" y="26"/>
                  </a:lnTo>
                  <a:lnTo>
                    <a:pt x="18" y="18"/>
                  </a:lnTo>
                  <a:lnTo>
                    <a:pt x="26" y="10"/>
                  </a:lnTo>
                  <a:lnTo>
                    <a:pt x="36" y="6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2"/>
                  </a:lnTo>
                  <a:lnTo>
                    <a:pt x="80" y="6"/>
                  </a:lnTo>
                  <a:lnTo>
                    <a:pt x="90" y="10"/>
                  </a:lnTo>
                  <a:lnTo>
                    <a:pt x="100" y="18"/>
                  </a:lnTo>
                  <a:lnTo>
                    <a:pt x="106" y="26"/>
                  </a:lnTo>
                  <a:lnTo>
                    <a:pt x="112" y="36"/>
                  </a:lnTo>
                  <a:lnTo>
                    <a:pt x="116" y="46"/>
                  </a:lnTo>
                  <a:lnTo>
                    <a:pt x="116" y="58"/>
                  </a:lnTo>
                  <a:lnTo>
                    <a:pt x="116" y="58"/>
                  </a:lnTo>
                  <a:close/>
                </a:path>
              </a:pathLst>
            </a:custGeom>
            <a:solidFill>
              <a:srgbClr val="fff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64"/>
            <p:cNvSpPr/>
            <p:nvPr/>
          </p:nvSpPr>
          <p:spPr>
            <a:xfrm>
              <a:off x="8547120" y="7337520"/>
              <a:ext cx="149040" cy="149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4" h="94">
                  <a:moveTo>
                    <a:pt x="94" y="46"/>
                  </a:moveTo>
                  <a:lnTo>
                    <a:pt x="94" y="46"/>
                  </a:lnTo>
                  <a:lnTo>
                    <a:pt x="92" y="56"/>
                  </a:lnTo>
                  <a:lnTo>
                    <a:pt x="90" y="66"/>
                  </a:lnTo>
                  <a:lnTo>
                    <a:pt x="86" y="74"/>
                  </a:lnTo>
                  <a:lnTo>
                    <a:pt x="80" y="80"/>
                  </a:lnTo>
                  <a:lnTo>
                    <a:pt x="72" y="86"/>
                  </a:lnTo>
                  <a:lnTo>
                    <a:pt x="64" y="90"/>
                  </a:lnTo>
                  <a:lnTo>
                    <a:pt x="56" y="92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36" y="92"/>
                  </a:lnTo>
                  <a:lnTo>
                    <a:pt x="28" y="90"/>
                  </a:lnTo>
                  <a:lnTo>
                    <a:pt x="20" y="86"/>
                  </a:lnTo>
                  <a:lnTo>
                    <a:pt x="12" y="80"/>
                  </a:lnTo>
                  <a:lnTo>
                    <a:pt x="8" y="74"/>
                  </a:lnTo>
                  <a:lnTo>
                    <a:pt x="2" y="6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80" y="14"/>
                  </a:lnTo>
                  <a:lnTo>
                    <a:pt x="86" y="20"/>
                  </a:lnTo>
                  <a:lnTo>
                    <a:pt x="90" y="28"/>
                  </a:lnTo>
                  <a:lnTo>
                    <a:pt x="92" y="38"/>
                  </a:lnTo>
                  <a:lnTo>
                    <a:pt x="94" y="46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fff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65"/>
            <p:cNvSpPr/>
            <p:nvPr/>
          </p:nvSpPr>
          <p:spPr>
            <a:xfrm>
              <a:off x="8553240" y="7346880"/>
              <a:ext cx="114120" cy="117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2" h="74">
                  <a:moveTo>
                    <a:pt x="72" y="38"/>
                  </a:moveTo>
                  <a:lnTo>
                    <a:pt x="72" y="38"/>
                  </a:lnTo>
                  <a:lnTo>
                    <a:pt x="72" y="44"/>
                  </a:lnTo>
                  <a:lnTo>
                    <a:pt x="70" y="52"/>
                  </a:lnTo>
                  <a:lnTo>
                    <a:pt x="66" y="58"/>
                  </a:lnTo>
                  <a:lnTo>
                    <a:pt x="62" y="62"/>
                  </a:lnTo>
                  <a:lnTo>
                    <a:pt x="56" y="68"/>
                  </a:lnTo>
                  <a:lnTo>
                    <a:pt x="50" y="70"/>
                  </a:lnTo>
                  <a:lnTo>
                    <a:pt x="44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8" y="72"/>
                  </a:lnTo>
                  <a:lnTo>
                    <a:pt x="22" y="70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2" y="12"/>
                  </a:lnTo>
                  <a:lnTo>
                    <a:pt x="66" y="16"/>
                  </a:lnTo>
                  <a:lnTo>
                    <a:pt x="70" y="24"/>
                  </a:lnTo>
                  <a:lnTo>
                    <a:pt x="72" y="30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fffa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66"/>
            <p:cNvSpPr/>
            <p:nvPr/>
          </p:nvSpPr>
          <p:spPr>
            <a:xfrm>
              <a:off x="8559720" y="735948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52" y="26"/>
                  </a:move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ff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67"/>
            <p:cNvSpPr/>
            <p:nvPr/>
          </p:nvSpPr>
          <p:spPr>
            <a:xfrm>
              <a:off x="8566200" y="736920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6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68"/>
            <p:cNvSpPr/>
            <p:nvPr/>
          </p:nvSpPr>
          <p:spPr>
            <a:xfrm>
              <a:off x="8572320" y="73818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8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69"/>
            <p:cNvSpPr/>
            <p:nvPr/>
          </p:nvSpPr>
          <p:spPr>
            <a:xfrm>
              <a:off x="8229600" y="8299440"/>
              <a:ext cx="1737000" cy="17366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94" h="1094">
                  <a:moveTo>
                    <a:pt x="1094" y="548"/>
                  </a:moveTo>
                  <a:lnTo>
                    <a:pt x="1094" y="548"/>
                  </a:lnTo>
                  <a:lnTo>
                    <a:pt x="1094" y="576"/>
                  </a:lnTo>
                  <a:lnTo>
                    <a:pt x="1092" y="604"/>
                  </a:lnTo>
                  <a:lnTo>
                    <a:pt x="1088" y="630"/>
                  </a:lnTo>
                  <a:lnTo>
                    <a:pt x="1084" y="658"/>
                  </a:lnTo>
                  <a:lnTo>
                    <a:pt x="1078" y="684"/>
                  </a:lnTo>
                  <a:lnTo>
                    <a:pt x="1070" y="710"/>
                  </a:lnTo>
                  <a:lnTo>
                    <a:pt x="1062" y="736"/>
                  </a:lnTo>
                  <a:lnTo>
                    <a:pt x="1052" y="760"/>
                  </a:lnTo>
                  <a:lnTo>
                    <a:pt x="1040" y="784"/>
                  </a:lnTo>
                  <a:lnTo>
                    <a:pt x="1028" y="808"/>
                  </a:lnTo>
                  <a:lnTo>
                    <a:pt x="1016" y="832"/>
                  </a:lnTo>
                  <a:lnTo>
                    <a:pt x="1002" y="854"/>
                  </a:lnTo>
                  <a:lnTo>
                    <a:pt x="986" y="874"/>
                  </a:lnTo>
                  <a:lnTo>
                    <a:pt x="970" y="896"/>
                  </a:lnTo>
                  <a:lnTo>
                    <a:pt x="952" y="916"/>
                  </a:lnTo>
                  <a:lnTo>
                    <a:pt x="934" y="934"/>
                  </a:lnTo>
                  <a:lnTo>
                    <a:pt x="916" y="952"/>
                  </a:lnTo>
                  <a:lnTo>
                    <a:pt x="896" y="970"/>
                  </a:lnTo>
                  <a:lnTo>
                    <a:pt x="876" y="986"/>
                  </a:lnTo>
                  <a:lnTo>
                    <a:pt x="854" y="1002"/>
                  </a:lnTo>
                  <a:lnTo>
                    <a:pt x="832" y="1016"/>
                  </a:lnTo>
                  <a:lnTo>
                    <a:pt x="808" y="1028"/>
                  </a:lnTo>
                  <a:lnTo>
                    <a:pt x="784" y="1040"/>
                  </a:lnTo>
                  <a:lnTo>
                    <a:pt x="760" y="1052"/>
                  </a:lnTo>
                  <a:lnTo>
                    <a:pt x="736" y="1062"/>
                  </a:lnTo>
                  <a:lnTo>
                    <a:pt x="710" y="1070"/>
                  </a:lnTo>
                  <a:lnTo>
                    <a:pt x="684" y="1078"/>
                  </a:lnTo>
                  <a:lnTo>
                    <a:pt x="658" y="1084"/>
                  </a:lnTo>
                  <a:lnTo>
                    <a:pt x="632" y="1088"/>
                  </a:lnTo>
                  <a:lnTo>
                    <a:pt x="604" y="1092"/>
                  </a:lnTo>
                  <a:lnTo>
                    <a:pt x="576" y="1094"/>
                  </a:lnTo>
                  <a:lnTo>
                    <a:pt x="548" y="1094"/>
                  </a:lnTo>
                  <a:lnTo>
                    <a:pt x="548" y="1094"/>
                  </a:lnTo>
                  <a:lnTo>
                    <a:pt x="520" y="1094"/>
                  </a:lnTo>
                  <a:lnTo>
                    <a:pt x="492" y="1092"/>
                  </a:lnTo>
                  <a:lnTo>
                    <a:pt x="464" y="1088"/>
                  </a:lnTo>
                  <a:lnTo>
                    <a:pt x="438" y="1084"/>
                  </a:lnTo>
                  <a:lnTo>
                    <a:pt x="410" y="1078"/>
                  </a:lnTo>
                  <a:lnTo>
                    <a:pt x="386" y="1070"/>
                  </a:lnTo>
                  <a:lnTo>
                    <a:pt x="360" y="1062"/>
                  </a:lnTo>
                  <a:lnTo>
                    <a:pt x="334" y="1052"/>
                  </a:lnTo>
                  <a:lnTo>
                    <a:pt x="310" y="1040"/>
                  </a:lnTo>
                  <a:lnTo>
                    <a:pt x="286" y="1028"/>
                  </a:lnTo>
                  <a:lnTo>
                    <a:pt x="264" y="1016"/>
                  </a:lnTo>
                  <a:lnTo>
                    <a:pt x="242" y="1002"/>
                  </a:lnTo>
                  <a:lnTo>
                    <a:pt x="220" y="986"/>
                  </a:lnTo>
                  <a:lnTo>
                    <a:pt x="200" y="970"/>
                  </a:lnTo>
                  <a:lnTo>
                    <a:pt x="180" y="952"/>
                  </a:lnTo>
                  <a:lnTo>
                    <a:pt x="160" y="934"/>
                  </a:lnTo>
                  <a:lnTo>
                    <a:pt x="142" y="916"/>
                  </a:lnTo>
                  <a:lnTo>
                    <a:pt x="126" y="896"/>
                  </a:lnTo>
                  <a:lnTo>
                    <a:pt x="110" y="874"/>
                  </a:lnTo>
                  <a:lnTo>
                    <a:pt x="94" y="854"/>
                  </a:lnTo>
                  <a:lnTo>
                    <a:pt x="80" y="832"/>
                  </a:lnTo>
                  <a:lnTo>
                    <a:pt x="66" y="808"/>
                  </a:lnTo>
                  <a:lnTo>
                    <a:pt x="54" y="784"/>
                  </a:lnTo>
                  <a:lnTo>
                    <a:pt x="44" y="760"/>
                  </a:lnTo>
                  <a:lnTo>
                    <a:pt x="34" y="736"/>
                  </a:lnTo>
                  <a:lnTo>
                    <a:pt x="26" y="710"/>
                  </a:lnTo>
                  <a:lnTo>
                    <a:pt x="18" y="684"/>
                  </a:lnTo>
                  <a:lnTo>
                    <a:pt x="12" y="658"/>
                  </a:lnTo>
                  <a:lnTo>
                    <a:pt x="6" y="630"/>
                  </a:lnTo>
                  <a:lnTo>
                    <a:pt x="4" y="604"/>
                  </a:lnTo>
                  <a:lnTo>
                    <a:pt x="2" y="576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2" y="520"/>
                  </a:lnTo>
                  <a:lnTo>
                    <a:pt x="4" y="492"/>
                  </a:lnTo>
                  <a:lnTo>
                    <a:pt x="6" y="464"/>
                  </a:lnTo>
                  <a:lnTo>
                    <a:pt x="12" y="438"/>
                  </a:lnTo>
                  <a:lnTo>
                    <a:pt x="18" y="410"/>
                  </a:lnTo>
                  <a:lnTo>
                    <a:pt x="26" y="384"/>
                  </a:lnTo>
                  <a:lnTo>
                    <a:pt x="34" y="360"/>
                  </a:lnTo>
                  <a:lnTo>
                    <a:pt x="44" y="334"/>
                  </a:lnTo>
                  <a:lnTo>
                    <a:pt x="54" y="310"/>
                  </a:lnTo>
                  <a:lnTo>
                    <a:pt x="66" y="286"/>
                  </a:lnTo>
                  <a:lnTo>
                    <a:pt x="80" y="264"/>
                  </a:lnTo>
                  <a:lnTo>
                    <a:pt x="94" y="242"/>
                  </a:lnTo>
                  <a:lnTo>
                    <a:pt x="110" y="220"/>
                  </a:lnTo>
                  <a:lnTo>
                    <a:pt x="126" y="200"/>
                  </a:lnTo>
                  <a:lnTo>
                    <a:pt x="142" y="180"/>
                  </a:lnTo>
                  <a:lnTo>
                    <a:pt x="160" y="160"/>
                  </a:lnTo>
                  <a:lnTo>
                    <a:pt x="180" y="142"/>
                  </a:lnTo>
                  <a:lnTo>
                    <a:pt x="200" y="126"/>
                  </a:lnTo>
                  <a:lnTo>
                    <a:pt x="220" y="110"/>
                  </a:lnTo>
                  <a:lnTo>
                    <a:pt x="242" y="94"/>
                  </a:lnTo>
                  <a:lnTo>
                    <a:pt x="264" y="80"/>
                  </a:lnTo>
                  <a:lnTo>
                    <a:pt x="286" y="66"/>
                  </a:lnTo>
                  <a:lnTo>
                    <a:pt x="310" y="54"/>
                  </a:lnTo>
                  <a:lnTo>
                    <a:pt x="334" y="44"/>
                  </a:lnTo>
                  <a:lnTo>
                    <a:pt x="360" y="34"/>
                  </a:lnTo>
                  <a:lnTo>
                    <a:pt x="386" y="24"/>
                  </a:lnTo>
                  <a:lnTo>
                    <a:pt x="410" y="18"/>
                  </a:lnTo>
                  <a:lnTo>
                    <a:pt x="438" y="12"/>
                  </a:lnTo>
                  <a:lnTo>
                    <a:pt x="464" y="6"/>
                  </a:lnTo>
                  <a:lnTo>
                    <a:pt x="492" y="4"/>
                  </a:lnTo>
                  <a:lnTo>
                    <a:pt x="520" y="2"/>
                  </a:lnTo>
                  <a:lnTo>
                    <a:pt x="548" y="0"/>
                  </a:lnTo>
                  <a:lnTo>
                    <a:pt x="548" y="0"/>
                  </a:lnTo>
                  <a:lnTo>
                    <a:pt x="576" y="2"/>
                  </a:lnTo>
                  <a:lnTo>
                    <a:pt x="604" y="4"/>
                  </a:lnTo>
                  <a:lnTo>
                    <a:pt x="632" y="6"/>
                  </a:lnTo>
                  <a:lnTo>
                    <a:pt x="658" y="12"/>
                  </a:lnTo>
                  <a:lnTo>
                    <a:pt x="684" y="18"/>
                  </a:lnTo>
                  <a:lnTo>
                    <a:pt x="710" y="24"/>
                  </a:lnTo>
                  <a:lnTo>
                    <a:pt x="736" y="34"/>
                  </a:lnTo>
                  <a:lnTo>
                    <a:pt x="760" y="44"/>
                  </a:lnTo>
                  <a:lnTo>
                    <a:pt x="784" y="54"/>
                  </a:lnTo>
                  <a:lnTo>
                    <a:pt x="808" y="66"/>
                  </a:lnTo>
                  <a:lnTo>
                    <a:pt x="832" y="80"/>
                  </a:lnTo>
                  <a:lnTo>
                    <a:pt x="854" y="94"/>
                  </a:lnTo>
                  <a:lnTo>
                    <a:pt x="876" y="110"/>
                  </a:lnTo>
                  <a:lnTo>
                    <a:pt x="896" y="126"/>
                  </a:lnTo>
                  <a:lnTo>
                    <a:pt x="916" y="142"/>
                  </a:lnTo>
                  <a:lnTo>
                    <a:pt x="934" y="160"/>
                  </a:lnTo>
                  <a:lnTo>
                    <a:pt x="952" y="180"/>
                  </a:lnTo>
                  <a:lnTo>
                    <a:pt x="970" y="200"/>
                  </a:lnTo>
                  <a:lnTo>
                    <a:pt x="986" y="220"/>
                  </a:lnTo>
                  <a:lnTo>
                    <a:pt x="1002" y="242"/>
                  </a:lnTo>
                  <a:lnTo>
                    <a:pt x="1016" y="264"/>
                  </a:lnTo>
                  <a:lnTo>
                    <a:pt x="1028" y="286"/>
                  </a:lnTo>
                  <a:lnTo>
                    <a:pt x="1040" y="310"/>
                  </a:lnTo>
                  <a:lnTo>
                    <a:pt x="1052" y="334"/>
                  </a:lnTo>
                  <a:lnTo>
                    <a:pt x="1062" y="360"/>
                  </a:lnTo>
                  <a:lnTo>
                    <a:pt x="1070" y="384"/>
                  </a:lnTo>
                  <a:lnTo>
                    <a:pt x="1078" y="410"/>
                  </a:lnTo>
                  <a:lnTo>
                    <a:pt x="1084" y="438"/>
                  </a:lnTo>
                  <a:lnTo>
                    <a:pt x="1088" y="464"/>
                  </a:lnTo>
                  <a:lnTo>
                    <a:pt x="1092" y="492"/>
                  </a:lnTo>
                  <a:lnTo>
                    <a:pt x="1094" y="520"/>
                  </a:lnTo>
                  <a:lnTo>
                    <a:pt x="1094" y="548"/>
                  </a:lnTo>
                  <a:lnTo>
                    <a:pt x="1094" y="548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70"/>
            <p:cNvSpPr/>
            <p:nvPr/>
          </p:nvSpPr>
          <p:spPr>
            <a:xfrm>
              <a:off x="8235720" y="8312040"/>
              <a:ext cx="1704960" cy="170172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1074" h="1072">
                  <a:moveTo>
                    <a:pt x="1074" y="536"/>
                  </a:moveTo>
                  <a:lnTo>
                    <a:pt x="1074" y="536"/>
                  </a:lnTo>
                  <a:lnTo>
                    <a:pt x="1074" y="564"/>
                  </a:lnTo>
                  <a:lnTo>
                    <a:pt x="1070" y="590"/>
                  </a:lnTo>
                  <a:lnTo>
                    <a:pt x="1068" y="618"/>
                  </a:lnTo>
                  <a:lnTo>
                    <a:pt x="1062" y="644"/>
                  </a:lnTo>
                  <a:lnTo>
                    <a:pt x="1056" y="670"/>
                  </a:lnTo>
                  <a:lnTo>
                    <a:pt x="1050" y="696"/>
                  </a:lnTo>
                  <a:lnTo>
                    <a:pt x="1042" y="720"/>
                  </a:lnTo>
                  <a:lnTo>
                    <a:pt x="1032" y="744"/>
                  </a:lnTo>
                  <a:lnTo>
                    <a:pt x="1020" y="768"/>
                  </a:lnTo>
                  <a:lnTo>
                    <a:pt x="1008" y="792"/>
                  </a:lnTo>
                  <a:lnTo>
                    <a:pt x="996" y="814"/>
                  </a:lnTo>
                  <a:lnTo>
                    <a:pt x="982" y="836"/>
                  </a:lnTo>
                  <a:lnTo>
                    <a:pt x="968" y="856"/>
                  </a:lnTo>
                  <a:lnTo>
                    <a:pt x="952" y="878"/>
                  </a:lnTo>
                  <a:lnTo>
                    <a:pt x="934" y="896"/>
                  </a:lnTo>
                  <a:lnTo>
                    <a:pt x="916" y="916"/>
                  </a:lnTo>
                  <a:lnTo>
                    <a:pt x="898" y="934"/>
                  </a:lnTo>
                  <a:lnTo>
                    <a:pt x="878" y="950"/>
                  </a:lnTo>
                  <a:lnTo>
                    <a:pt x="858" y="966"/>
                  </a:lnTo>
                  <a:lnTo>
                    <a:pt x="838" y="980"/>
                  </a:lnTo>
                  <a:lnTo>
                    <a:pt x="816" y="994"/>
                  </a:lnTo>
                  <a:lnTo>
                    <a:pt x="792" y="1008"/>
                  </a:lnTo>
                  <a:lnTo>
                    <a:pt x="770" y="1020"/>
                  </a:lnTo>
                  <a:lnTo>
                    <a:pt x="746" y="1030"/>
                  </a:lnTo>
                  <a:lnTo>
                    <a:pt x="722" y="1040"/>
                  </a:lnTo>
                  <a:lnTo>
                    <a:pt x="696" y="1048"/>
                  </a:lnTo>
                  <a:lnTo>
                    <a:pt x="672" y="1056"/>
                  </a:lnTo>
                  <a:lnTo>
                    <a:pt x="646" y="1062"/>
                  </a:lnTo>
                  <a:lnTo>
                    <a:pt x="618" y="1066"/>
                  </a:lnTo>
                  <a:lnTo>
                    <a:pt x="592" y="1070"/>
                  </a:lnTo>
                  <a:lnTo>
                    <a:pt x="564" y="1072"/>
                  </a:lnTo>
                  <a:lnTo>
                    <a:pt x="538" y="1072"/>
                  </a:lnTo>
                  <a:lnTo>
                    <a:pt x="538" y="1072"/>
                  </a:lnTo>
                  <a:lnTo>
                    <a:pt x="510" y="1072"/>
                  </a:lnTo>
                  <a:lnTo>
                    <a:pt x="482" y="1070"/>
                  </a:lnTo>
                  <a:lnTo>
                    <a:pt x="456" y="1066"/>
                  </a:lnTo>
                  <a:lnTo>
                    <a:pt x="430" y="1062"/>
                  </a:lnTo>
                  <a:lnTo>
                    <a:pt x="404" y="1056"/>
                  </a:lnTo>
                  <a:lnTo>
                    <a:pt x="378" y="1048"/>
                  </a:lnTo>
                  <a:lnTo>
                    <a:pt x="352" y="1040"/>
                  </a:lnTo>
                  <a:lnTo>
                    <a:pt x="328" y="1030"/>
                  </a:lnTo>
                  <a:lnTo>
                    <a:pt x="304" y="1020"/>
                  </a:lnTo>
                  <a:lnTo>
                    <a:pt x="282" y="1008"/>
                  </a:lnTo>
                  <a:lnTo>
                    <a:pt x="260" y="994"/>
                  </a:lnTo>
                  <a:lnTo>
                    <a:pt x="238" y="980"/>
                  </a:lnTo>
                  <a:lnTo>
                    <a:pt x="216" y="966"/>
                  </a:lnTo>
                  <a:lnTo>
                    <a:pt x="196" y="950"/>
                  </a:lnTo>
                  <a:lnTo>
                    <a:pt x="176" y="934"/>
                  </a:lnTo>
                  <a:lnTo>
                    <a:pt x="158" y="916"/>
                  </a:lnTo>
                  <a:lnTo>
                    <a:pt x="140" y="896"/>
                  </a:lnTo>
                  <a:lnTo>
                    <a:pt x="124" y="878"/>
                  </a:lnTo>
                  <a:lnTo>
                    <a:pt x="108" y="856"/>
                  </a:lnTo>
                  <a:lnTo>
                    <a:pt x="92" y="836"/>
                  </a:lnTo>
                  <a:lnTo>
                    <a:pt x="78" y="814"/>
                  </a:lnTo>
                  <a:lnTo>
                    <a:pt x="66" y="792"/>
                  </a:lnTo>
                  <a:lnTo>
                    <a:pt x="54" y="768"/>
                  </a:lnTo>
                  <a:lnTo>
                    <a:pt x="42" y="744"/>
                  </a:lnTo>
                  <a:lnTo>
                    <a:pt x="34" y="720"/>
                  </a:lnTo>
                  <a:lnTo>
                    <a:pt x="24" y="696"/>
                  </a:lnTo>
                  <a:lnTo>
                    <a:pt x="18" y="670"/>
                  </a:lnTo>
                  <a:lnTo>
                    <a:pt x="12" y="644"/>
                  </a:lnTo>
                  <a:lnTo>
                    <a:pt x="6" y="618"/>
                  </a:lnTo>
                  <a:lnTo>
                    <a:pt x="4" y="590"/>
                  </a:lnTo>
                  <a:lnTo>
                    <a:pt x="2" y="564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2" y="508"/>
                  </a:lnTo>
                  <a:lnTo>
                    <a:pt x="4" y="482"/>
                  </a:lnTo>
                  <a:lnTo>
                    <a:pt x="6" y="454"/>
                  </a:lnTo>
                  <a:lnTo>
                    <a:pt x="12" y="428"/>
                  </a:lnTo>
                  <a:lnTo>
                    <a:pt x="18" y="402"/>
                  </a:lnTo>
                  <a:lnTo>
                    <a:pt x="24" y="376"/>
                  </a:lnTo>
                  <a:lnTo>
                    <a:pt x="34" y="352"/>
                  </a:lnTo>
                  <a:lnTo>
                    <a:pt x="42" y="328"/>
                  </a:lnTo>
                  <a:lnTo>
                    <a:pt x="54" y="304"/>
                  </a:lnTo>
                  <a:lnTo>
                    <a:pt x="66" y="280"/>
                  </a:lnTo>
                  <a:lnTo>
                    <a:pt x="78" y="258"/>
                  </a:lnTo>
                  <a:lnTo>
                    <a:pt x="92" y="236"/>
                  </a:lnTo>
                  <a:lnTo>
                    <a:pt x="108" y="214"/>
                  </a:lnTo>
                  <a:lnTo>
                    <a:pt x="124" y="194"/>
                  </a:lnTo>
                  <a:lnTo>
                    <a:pt x="140" y="176"/>
                  </a:lnTo>
                  <a:lnTo>
                    <a:pt x="158" y="156"/>
                  </a:lnTo>
                  <a:lnTo>
                    <a:pt x="176" y="138"/>
                  </a:lnTo>
                  <a:lnTo>
                    <a:pt x="196" y="122"/>
                  </a:lnTo>
                  <a:lnTo>
                    <a:pt x="216" y="106"/>
                  </a:lnTo>
                  <a:lnTo>
                    <a:pt x="238" y="92"/>
                  </a:lnTo>
                  <a:lnTo>
                    <a:pt x="260" y="78"/>
                  </a:lnTo>
                  <a:lnTo>
                    <a:pt x="282" y="64"/>
                  </a:lnTo>
                  <a:lnTo>
                    <a:pt x="304" y="52"/>
                  </a:lnTo>
                  <a:lnTo>
                    <a:pt x="328" y="42"/>
                  </a:lnTo>
                  <a:lnTo>
                    <a:pt x="352" y="32"/>
                  </a:lnTo>
                  <a:lnTo>
                    <a:pt x="378" y="24"/>
                  </a:lnTo>
                  <a:lnTo>
                    <a:pt x="404" y="16"/>
                  </a:lnTo>
                  <a:lnTo>
                    <a:pt x="430" y="10"/>
                  </a:lnTo>
                  <a:lnTo>
                    <a:pt x="456" y="6"/>
                  </a:lnTo>
                  <a:lnTo>
                    <a:pt x="482" y="2"/>
                  </a:lnTo>
                  <a:lnTo>
                    <a:pt x="510" y="0"/>
                  </a:lnTo>
                  <a:lnTo>
                    <a:pt x="538" y="0"/>
                  </a:lnTo>
                  <a:lnTo>
                    <a:pt x="538" y="0"/>
                  </a:lnTo>
                  <a:lnTo>
                    <a:pt x="564" y="0"/>
                  </a:lnTo>
                  <a:lnTo>
                    <a:pt x="592" y="2"/>
                  </a:lnTo>
                  <a:lnTo>
                    <a:pt x="618" y="6"/>
                  </a:lnTo>
                  <a:lnTo>
                    <a:pt x="646" y="10"/>
                  </a:lnTo>
                  <a:lnTo>
                    <a:pt x="672" y="16"/>
                  </a:lnTo>
                  <a:lnTo>
                    <a:pt x="696" y="24"/>
                  </a:lnTo>
                  <a:lnTo>
                    <a:pt x="722" y="32"/>
                  </a:lnTo>
                  <a:lnTo>
                    <a:pt x="746" y="42"/>
                  </a:lnTo>
                  <a:lnTo>
                    <a:pt x="770" y="52"/>
                  </a:lnTo>
                  <a:lnTo>
                    <a:pt x="792" y="64"/>
                  </a:lnTo>
                  <a:lnTo>
                    <a:pt x="816" y="78"/>
                  </a:lnTo>
                  <a:lnTo>
                    <a:pt x="838" y="92"/>
                  </a:lnTo>
                  <a:lnTo>
                    <a:pt x="858" y="106"/>
                  </a:lnTo>
                  <a:lnTo>
                    <a:pt x="878" y="122"/>
                  </a:lnTo>
                  <a:lnTo>
                    <a:pt x="898" y="138"/>
                  </a:lnTo>
                  <a:lnTo>
                    <a:pt x="916" y="156"/>
                  </a:lnTo>
                  <a:lnTo>
                    <a:pt x="934" y="176"/>
                  </a:lnTo>
                  <a:lnTo>
                    <a:pt x="952" y="194"/>
                  </a:lnTo>
                  <a:lnTo>
                    <a:pt x="968" y="214"/>
                  </a:lnTo>
                  <a:lnTo>
                    <a:pt x="982" y="236"/>
                  </a:lnTo>
                  <a:lnTo>
                    <a:pt x="996" y="258"/>
                  </a:lnTo>
                  <a:lnTo>
                    <a:pt x="1008" y="280"/>
                  </a:lnTo>
                  <a:lnTo>
                    <a:pt x="1020" y="304"/>
                  </a:lnTo>
                  <a:lnTo>
                    <a:pt x="1032" y="328"/>
                  </a:lnTo>
                  <a:lnTo>
                    <a:pt x="1042" y="352"/>
                  </a:lnTo>
                  <a:lnTo>
                    <a:pt x="1050" y="376"/>
                  </a:lnTo>
                  <a:lnTo>
                    <a:pt x="1056" y="402"/>
                  </a:lnTo>
                  <a:lnTo>
                    <a:pt x="1062" y="428"/>
                  </a:lnTo>
                  <a:lnTo>
                    <a:pt x="1068" y="454"/>
                  </a:lnTo>
                  <a:lnTo>
                    <a:pt x="1070" y="482"/>
                  </a:lnTo>
                  <a:lnTo>
                    <a:pt x="1074" y="508"/>
                  </a:lnTo>
                  <a:lnTo>
                    <a:pt x="1074" y="536"/>
                  </a:lnTo>
                  <a:lnTo>
                    <a:pt x="1074" y="536"/>
                  </a:lnTo>
                  <a:close/>
                </a:path>
              </a:pathLst>
            </a:custGeom>
            <a:solidFill>
              <a:srgbClr val="f3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71"/>
            <p:cNvSpPr/>
            <p:nvPr/>
          </p:nvSpPr>
          <p:spPr>
            <a:xfrm>
              <a:off x="8245440" y="8321760"/>
              <a:ext cx="1667160" cy="1670040"/>
            </a:xfrm>
            <a:custGeom>
              <a:avLst/>
              <a:gdLst>
                <a:gd name="textAreaLeft" fmla="*/ 0 w 1667160"/>
                <a:gd name="textAreaRight" fmla="*/ 1667520 w 16671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1050" h="1052">
                  <a:moveTo>
                    <a:pt x="1050" y="526"/>
                  </a:moveTo>
                  <a:lnTo>
                    <a:pt x="1050" y="526"/>
                  </a:lnTo>
                  <a:lnTo>
                    <a:pt x="1050" y="554"/>
                  </a:lnTo>
                  <a:lnTo>
                    <a:pt x="1048" y="580"/>
                  </a:lnTo>
                  <a:lnTo>
                    <a:pt x="1044" y="606"/>
                  </a:lnTo>
                  <a:lnTo>
                    <a:pt x="1040" y="632"/>
                  </a:lnTo>
                  <a:lnTo>
                    <a:pt x="1034" y="658"/>
                  </a:lnTo>
                  <a:lnTo>
                    <a:pt x="1028" y="682"/>
                  </a:lnTo>
                  <a:lnTo>
                    <a:pt x="1018" y="708"/>
                  </a:lnTo>
                  <a:lnTo>
                    <a:pt x="1010" y="730"/>
                  </a:lnTo>
                  <a:lnTo>
                    <a:pt x="998" y="754"/>
                  </a:lnTo>
                  <a:lnTo>
                    <a:pt x="988" y="776"/>
                  </a:lnTo>
                  <a:lnTo>
                    <a:pt x="974" y="798"/>
                  </a:lnTo>
                  <a:lnTo>
                    <a:pt x="960" y="820"/>
                  </a:lnTo>
                  <a:lnTo>
                    <a:pt x="946" y="840"/>
                  </a:lnTo>
                  <a:lnTo>
                    <a:pt x="930" y="860"/>
                  </a:lnTo>
                  <a:lnTo>
                    <a:pt x="914" y="880"/>
                  </a:lnTo>
                  <a:lnTo>
                    <a:pt x="896" y="898"/>
                  </a:lnTo>
                  <a:lnTo>
                    <a:pt x="878" y="916"/>
                  </a:lnTo>
                  <a:lnTo>
                    <a:pt x="860" y="932"/>
                  </a:lnTo>
                  <a:lnTo>
                    <a:pt x="840" y="948"/>
                  </a:lnTo>
                  <a:lnTo>
                    <a:pt x="818" y="962"/>
                  </a:lnTo>
                  <a:lnTo>
                    <a:pt x="798" y="976"/>
                  </a:lnTo>
                  <a:lnTo>
                    <a:pt x="776" y="988"/>
                  </a:lnTo>
                  <a:lnTo>
                    <a:pt x="752" y="1000"/>
                  </a:lnTo>
                  <a:lnTo>
                    <a:pt x="730" y="1010"/>
                  </a:lnTo>
                  <a:lnTo>
                    <a:pt x="706" y="1020"/>
                  </a:lnTo>
                  <a:lnTo>
                    <a:pt x="682" y="1028"/>
                  </a:lnTo>
                  <a:lnTo>
                    <a:pt x="656" y="1036"/>
                  </a:lnTo>
                  <a:lnTo>
                    <a:pt x="630" y="1042"/>
                  </a:lnTo>
                  <a:lnTo>
                    <a:pt x="604" y="1046"/>
                  </a:lnTo>
                  <a:lnTo>
                    <a:pt x="578" y="1050"/>
                  </a:lnTo>
                  <a:lnTo>
                    <a:pt x="552" y="1052"/>
                  </a:lnTo>
                  <a:lnTo>
                    <a:pt x="524" y="1052"/>
                  </a:lnTo>
                  <a:lnTo>
                    <a:pt x="524" y="1052"/>
                  </a:lnTo>
                  <a:lnTo>
                    <a:pt x="498" y="1052"/>
                  </a:lnTo>
                  <a:lnTo>
                    <a:pt x="472" y="1050"/>
                  </a:lnTo>
                  <a:lnTo>
                    <a:pt x="444" y="1046"/>
                  </a:lnTo>
                  <a:lnTo>
                    <a:pt x="418" y="1042"/>
                  </a:lnTo>
                  <a:lnTo>
                    <a:pt x="394" y="1036"/>
                  </a:lnTo>
                  <a:lnTo>
                    <a:pt x="368" y="1028"/>
                  </a:lnTo>
                  <a:lnTo>
                    <a:pt x="344" y="1020"/>
                  </a:lnTo>
                  <a:lnTo>
                    <a:pt x="320" y="1010"/>
                  </a:lnTo>
                  <a:lnTo>
                    <a:pt x="296" y="1000"/>
                  </a:lnTo>
                  <a:lnTo>
                    <a:pt x="274" y="988"/>
                  </a:lnTo>
                  <a:lnTo>
                    <a:pt x="252" y="976"/>
                  </a:lnTo>
                  <a:lnTo>
                    <a:pt x="230" y="962"/>
                  </a:lnTo>
                  <a:lnTo>
                    <a:pt x="210" y="948"/>
                  </a:lnTo>
                  <a:lnTo>
                    <a:pt x="190" y="932"/>
                  </a:lnTo>
                  <a:lnTo>
                    <a:pt x="172" y="916"/>
                  </a:lnTo>
                  <a:lnTo>
                    <a:pt x="154" y="898"/>
                  </a:lnTo>
                  <a:lnTo>
                    <a:pt x="136" y="880"/>
                  </a:lnTo>
                  <a:lnTo>
                    <a:pt x="120" y="860"/>
                  </a:lnTo>
                  <a:lnTo>
                    <a:pt x="104" y="840"/>
                  </a:lnTo>
                  <a:lnTo>
                    <a:pt x="88" y="820"/>
                  </a:lnTo>
                  <a:lnTo>
                    <a:pt x="76" y="798"/>
                  </a:lnTo>
                  <a:lnTo>
                    <a:pt x="62" y="776"/>
                  </a:lnTo>
                  <a:lnTo>
                    <a:pt x="50" y="754"/>
                  </a:lnTo>
                  <a:lnTo>
                    <a:pt x="40" y="730"/>
                  </a:lnTo>
                  <a:lnTo>
                    <a:pt x="30" y="708"/>
                  </a:lnTo>
                  <a:lnTo>
                    <a:pt x="22" y="682"/>
                  </a:lnTo>
                  <a:lnTo>
                    <a:pt x="16" y="658"/>
                  </a:lnTo>
                  <a:lnTo>
                    <a:pt x="10" y="632"/>
                  </a:lnTo>
                  <a:lnTo>
                    <a:pt x="6" y="606"/>
                  </a:lnTo>
                  <a:lnTo>
                    <a:pt x="2" y="580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526"/>
                  </a:lnTo>
                  <a:lnTo>
                    <a:pt x="0" y="500"/>
                  </a:lnTo>
                  <a:lnTo>
                    <a:pt x="2" y="472"/>
                  </a:lnTo>
                  <a:lnTo>
                    <a:pt x="6" y="446"/>
                  </a:lnTo>
                  <a:lnTo>
                    <a:pt x="10" y="420"/>
                  </a:lnTo>
                  <a:lnTo>
                    <a:pt x="16" y="394"/>
                  </a:lnTo>
                  <a:lnTo>
                    <a:pt x="22" y="370"/>
                  </a:lnTo>
                  <a:lnTo>
                    <a:pt x="30" y="346"/>
                  </a:lnTo>
                  <a:lnTo>
                    <a:pt x="40" y="322"/>
                  </a:lnTo>
                  <a:lnTo>
                    <a:pt x="50" y="298"/>
                  </a:lnTo>
                  <a:lnTo>
                    <a:pt x="62" y="276"/>
                  </a:lnTo>
                  <a:lnTo>
                    <a:pt x="76" y="254"/>
                  </a:lnTo>
                  <a:lnTo>
                    <a:pt x="88" y="232"/>
                  </a:lnTo>
                  <a:lnTo>
                    <a:pt x="104" y="212"/>
                  </a:lnTo>
                  <a:lnTo>
                    <a:pt x="120" y="192"/>
                  </a:lnTo>
                  <a:lnTo>
                    <a:pt x="136" y="172"/>
                  </a:lnTo>
                  <a:lnTo>
                    <a:pt x="154" y="154"/>
                  </a:lnTo>
                  <a:lnTo>
                    <a:pt x="172" y="138"/>
                  </a:lnTo>
                  <a:lnTo>
                    <a:pt x="190" y="120"/>
                  </a:lnTo>
                  <a:lnTo>
                    <a:pt x="210" y="104"/>
                  </a:lnTo>
                  <a:lnTo>
                    <a:pt x="230" y="90"/>
                  </a:lnTo>
                  <a:lnTo>
                    <a:pt x="252" y="76"/>
                  </a:lnTo>
                  <a:lnTo>
                    <a:pt x="274" y="64"/>
                  </a:lnTo>
                  <a:lnTo>
                    <a:pt x="296" y="52"/>
                  </a:lnTo>
                  <a:lnTo>
                    <a:pt x="320" y="42"/>
                  </a:lnTo>
                  <a:lnTo>
                    <a:pt x="344" y="32"/>
                  </a:lnTo>
                  <a:lnTo>
                    <a:pt x="368" y="24"/>
                  </a:lnTo>
                  <a:lnTo>
                    <a:pt x="394" y="18"/>
                  </a:lnTo>
                  <a:lnTo>
                    <a:pt x="418" y="12"/>
                  </a:lnTo>
                  <a:lnTo>
                    <a:pt x="444" y="6"/>
                  </a:lnTo>
                  <a:lnTo>
                    <a:pt x="472" y="4"/>
                  </a:lnTo>
                  <a:lnTo>
                    <a:pt x="498" y="2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52" y="2"/>
                  </a:lnTo>
                  <a:lnTo>
                    <a:pt x="578" y="4"/>
                  </a:lnTo>
                  <a:lnTo>
                    <a:pt x="604" y="6"/>
                  </a:lnTo>
                  <a:lnTo>
                    <a:pt x="630" y="12"/>
                  </a:lnTo>
                  <a:lnTo>
                    <a:pt x="656" y="18"/>
                  </a:lnTo>
                  <a:lnTo>
                    <a:pt x="682" y="24"/>
                  </a:lnTo>
                  <a:lnTo>
                    <a:pt x="706" y="32"/>
                  </a:lnTo>
                  <a:lnTo>
                    <a:pt x="730" y="42"/>
                  </a:lnTo>
                  <a:lnTo>
                    <a:pt x="752" y="52"/>
                  </a:lnTo>
                  <a:lnTo>
                    <a:pt x="776" y="64"/>
                  </a:lnTo>
                  <a:lnTo>
                    <a:pt x="798" y="76"/>
                  </a:lnTo>
                  <a:lnTo>
                    <a:pt x="818" y="90"/>
                  </a:lnTo>
                  <a:lnTo>
                    <a:pt x="840" y="104"/>
                  </a:lnTo>
                  <a:lnTo>
                    <a:pt x="860" y="120"/>
                  </a:lnTo>
                  <a:lnTo>
                    <a:pt x="878" y="138"/>
                  </a:lnTo>
                  <a:lnTo>
                    <a:pt x="896" y="154"/>
                  </a:lnTo>
                  <a:lnTo>
                    <a:pt x="914" y="172"/>
                  </a:lnTo>
                  <a:lnTo>
                    <a:pt x="930" y="192"/>
                  </a:lnTo>
                  <a:lnTo>
                    <a:pt x="946" y="212"/>
                  </a:lnTo>
                  <a:lnTo>
                    <a:pt x="960" y="232"/>
                  </a:lnTo>
                  <a:lnTo>
                    <a:pt x="974" y="254"/>
                  </a:lnTo>
                  <a:lnTo>
                    <a:pt x="988" y="276"/>
                  </a:lnTo>
                  <a:lnTo>
                    <a:pt x="998" y="298"/>
                  </a:lnTo>
                  <a:lnTo>
                    <a:pt x="1010" y="322"/>
                  </a:lnTo>
                  <a:lnTo>
                    <a:pt x="1018" y="346"/>
                  </a:lnTo>
                  <a:lnTo>
                    <a:pt x="1028" y="370"/>
                  </a:lnTo>
                  <a:lnTo>
                    <a:pt x="1034" y="394"/>
                  </a:lnTo>
                  <a:lnTo>
                    <a:pt x="1040" y="420"/>
                  </a:lnTo>
                  <a:lnTo>
                    <a:pt x="1044" y="446"/>
                  </a:lnTo>
                  <a:lnTo>
                    <a:pt x="1048" y="472"/>
                  </a:lnTo>
                  <a:lnTo>
                    <a:pt x="1050" y="500"/>
                  </a:lnTo>
                  <a:lnTo>
                    <a:pt x="1050" y="526"/>
                  </a:lnTo>
                  <a:lnTo>
                    <a:pt x="1050" y="526"/>
                  </a:lnTo>
                  <a:close/>
                </a:path>
              </a:pathLst>
            </a:custGeom>
            <a:solidFill>
              <a:srgbClr val="f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72"/>
            <p:cNvSpPr/>
            <p:nvPr/>
          </p:nvSpPr>
          <p:spPr>
            <a:xfrm>
              <a:off x="8251560" y="8334360"/>
              <a:ext cx="1635120" cy="16351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1635120"/>
                <a:gd name="textAreaBottom" fmla="*/ 1635480 h 1635120"/>
              </a:gdLst>
              <a:ahLst/>
              <a:rect l="textAreaLeft" t="textAreaTop" r="textAreaRight" b="textAreaBottom"/>
              <a:pathLst>
                <a:path w="1030" h="1030">
                  <a:moveTo>
                    <a:pt x="1030" y="514"/>
                  </a:moveTo>
                  <a:lnTo>
                    <a:pt x="1030" y="514"/>
                  </a:lnTo>
                  <a:lnTo>
                    <a:pt x="1028" y="542"/>
                  </a:lnTo>
                  <a:lnTo>
                    <a:pt x="1026" y="568"/>
                  </a:lnTo>
                  <a:lnTo>
                    <a:pt x="1024" y="594"/>
                  </a:lnTo>
                  <a:lnTo>
                    <a:pt x="1020" y="618"/>
                  </a:lnTo>
                  <a:lnTo>
                    <a:pt x="1014" y="644"/>
                  </a:lnTo>
                  <a:lnTo>
                    <a:pt x="1006" y="668"/>
                  </a:lnTo>
                  <a:lnTo>
                    <a:pt x="998" y="692"/>
                  </a:lnTo>
                  <a:lnTo>
                    <a:pt x="990" y="716"/>
                  </a:lnTo>
                  <a:lnTo>
                    <a:pt x="978" y="738"/>
                  </a:lnTo>
                  <a:lnTo>
                    <a:pt x="968" y="760"/>
                  </a:lnTo>
                  <a:lnTo>
                    <a:pt x="956" y="782"/>
                  </a:lnTo>
                  <a:lnTo>
                    <a:pt x="942" y="802"/>
                  </a:lnTo>
                  <a:lnTo>
                    <a:pt x="912" y="842"/>
                  </a:lnTo>
                  <a:lnTo>
                    <a:pt x="878" y="880"/>
                  </a:lnTo>
                  <a:lnTo>
                    <a:pt x="842" y="912"/>
                  </a:lnTo>
                  <a:lnTo>
                    <a:pt x="802" y="942"/>
                  </a:lnTo>
                  <a:lnTo>
                    <a:pt x="782" y="956"/>
                  </a:lnTo>
                  <a:lnTo>
                    <a:pt x="760" y="968"/>
                  </a:lnTo>
                  <a:lnTo>
                    <a:pt x="738" y="980"/>
                  </a:lnTo>
                  <a:lnTo>
                    <a:pt x="714" y="990"/>
                  </a:lnTo>
                  <a:lnTo>
                    <a:pt x="692" y="998"/>
                  </a:lnTo>
                  <a:lnTo>
                    <a:pt x="668" y="1006"/>
                  </a:lnTo>
                  <a:lnTo>
                    <a:pt x="644" y="1014"/>
                  </a:lnTo>
                  <a:lnTo>
                    <a:pt x="618" y="1020"/>
                  </a:lnTo>
                  <a:lnTo>
                    <a:pt x="592" y="1024"/>
                  </a:lnTo>
                  <a:lnTo>
                    <a:pt x="568" y="1028"/>
                  </a:lnTo>
                  <a:lnTo>
                    <a:pt x="540" y="1030"/>
                  </a:lnTo>
                  <a:lnTo>
                    <a:pt x="514" y="1030"/>
                  </a:lnTo>
                  <a:lnTo>
                    <a:pt x="514" y="1030"/>
                  </a:lnTo>
                  <a:lnTo>
                    <a:pt x="488" y="1030"/>
                  </a:lnTo>
                  <a:lnTo>
                    <a:pt x="462" y="1028"/>
                  </a:lnTo>
                  <a:lnTo>
                    <a:pt x="436" y="1024"/>
                  </a:lnTo>
                  <a:lnTo>
                    <a:pt x="410" y="1020"/>
                  </a:lnTo>
                  <a:lnTo>
                    <a:pt x="386" y="1014"/>
                  </a:lnTo>
                  <a:lnTo>
                    <a:pt x="362" y="1006"/>
                  </a:lnTo>
                  <a:lnTo>
                    <a:pt x="338" y="998"/>
                  </a:lnTo>
                  <a:lnTo>
                    <a:pt x="314" y="990"/>
                  </a:lnTo>
                  <a:lnTo>
                    <a:pt x="292" y="980"/>
                  </a:lnTo>
                  <a:lnTo>
                    <a:pt x="268" y="968"/>
                  </a:lnTo>
                  <a:lnTo>
                    <a:pt x="248" y="956"/>
                  </a:lnTo>
                  <a:lnTo>
                    <a:pt x="226" y="942"/>
                  </a:lnTo>
                  <a:lnTo>
                    <a:pt x="186" y="912"/>
                  </a:lnTo>
                  <a:lnTo>
                    <a:pt x="150" y="880"/>
                  </a:lnTo>
                  <a:lnTo>
                    <a:pt x="116" y="842"/>
                  </a:lnTo>
                  <a:lnTo>
                    <a:pt x="88" y="802"/>
                  </a:lnTo>
                  <a:lnTo>
                    <a:pt x="74" y="782"/>
                  </a:lnTo>
                  <a:lnTo>
                    <a:pt x="62" y="760"/>
                  </a:lnTo>
                  <a:lnTo>
                    <a:pt x="50" y="738"/>
                  </a:lnTo>
                  <a:lnTo>
                    <a:pt x="40" y="716"/>
                  </a:lnTo>
                  <a:lnTo>
                    <a:pt x="30" y="692"/>
                  </a:lnTo>
                  <a:lnTo>
                    <a:pt x="22" y="668"/>
                  </a:lnTo>
                  <a:lnTo>
                    <a:pt x="16" y="644"/>
                  </a:lnTo>
                  <a:lnTo>
                    <a:pt x="10" y="618"/>
                  </a:lnTo>
                  <a:lnTo>
                    <a:pt x="6" y="594"/>
                  </a:lnTo>
                  <a:lnTo>
                    <a:pt x="2" y="568"/>
                  </a:lnTo>
                  <a:lnTo>
                    <a:pt x="0" y="542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488"/>
                  </a:lnTo>
                  <a:lnTo>
                    <a:pt x="2" y="462"/>
                  </a:lnTo>
                  <a:lnTo>
                    <a:pt x="6" y="436"/>
                  </a:lnTo>
                  <a:lnTo>
                    <a:pt x="10" y="410"/>
                  </a:lnTo>
                  <a:lnTo>
                    <a:pt x="16" y="386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2"/>
                  </a:lnTo>
                  <a:lnTo>
                    <a:pt x="62" y="270"/>
                  </a:lnTo>
                  <a:lnTo>
                    <a:pt x="74" y="248"/>
                  </a:lnTo>
                  <a:lnTo>
                    <a:pt x="88" y="226"/>
                  </a:lnTo>
                  <a:lnTo>
                    <a:pt x="116" y="188"/>
                  </a:lnTo>
                  <a:lnTo>
                    <a:pt x="150" y="150"/>
                  </a:lnTo>
                  <a:lnTo>
                    <a:pt x="186" y="118"/>
                  </a:lnTo>
                  <a:lnTo>
                    <a:pt x="226" y="88"/>
                  </a:lnTo>
                  <a:lnTo>
                    <a:pt x="248" y="74"/>
                  </a:lnTo>
                  <a:lnTo>
                    <a:pt x="268" y="62"/>
                  </a:lnTo>
                  <a:lnTo>
                    <a:pt x="292" y="50"/>
                  </a:lnTo>
                  <a:lnTo>
                    <a:pt x="314" y="40"/>
                  </a:lnTo>
                  <a:lnTo>
                    <a:pt x="338" y="30"/>
                  </a:lnTo>
                  <a:lnTo>
                    <a:pt x="362" y="22"/>
                  </a:lnTo>
                  <a:lnTo>
                    <a:pt x="386" y="16"/>
                  </a:lnTo>
                  <a:lnTo>
                    <a:pt x="410" y="10"/>
                  </a:lnTo>
                  <a:lnTo>
                    <a:pt x="436" y="6"/>
                  </a:lnTo>
                  <a:lnTo>
                    <a:pt x="462" y="2"/>
                  </a:lnTo>
                  <a:lnTo>
                    <a:pt x="488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40" y="0"/>
                  </a:lnTo>
                  <a:lnTo>
                    <a:pt x="568" y="2"/>
                  </a:lnTo>
                  <a:lnTo>
                    <a:pt x="592" y="6"/>
                  </a:lnTo>
                  <a:lnTo>
                    <a:pt x="618" y="10"/>
                  </a:lnTo>
                  <a:lnTo>
                    <a:pt x="644" y="16"/>
                  </a:lnTo>
                  <a:lnTo>
                    <a:pt x="668" y="22"/>
                  </a:lnTo>
                  <a:lnTo>
                    <a:pt x="692" y="30"/>
                  </a:lnTo>
                  <a:lnTo>
                    <a:pt x="714" y="40"/>
                  </a:lnTo>
                  <a:lnTo>
                    <a:pt x="738" y="50"/>
                  </a:lnTo>
                  <a:lnTo>
                    <a:pt x="760" y="62"/>
                  </a:lnTo>
                  <a:lnTo>
                    <a:pt x="782" y="74"/>
                  </a:lnTo>
                  <a:lnTo>
                    <a:pt x="802" y="88"/>
                  </a:lnTo>
                  <a:lnTo>
                    <a:pt x="842" y="118"/>
                  </a:lnTo>
                  <a:lnTo>
                    <a:pt x="878" y="150"/>
                  </a:lnTo>
                  <a:lnTo>
                    <a:pt x="912" y="188"/>
                  </a:lnTo>
                  <a:lnTo>
                    <a:pt x="942" y="226"/>
                  </a:lnTo>
                  <a:lnTo>
                    <a:pt x="956" y="248"/>
                  </a:lnTo>
                  <a:lnTo>
                    <a:pt x="968" y="270"/>
                  </a:lnTo>
                  <a:lnTo>
                    <a:pt x="978" y="292"/>
                  </a:lnTo>
                  <a:lnTo>
                    <a:pt x="990" y="314"/>
                  </a:lnTo>
                  <a:lnTo>
                    <a:pt x="998" y="338"/>
                  </a:lnTo>
                  <a:lnTo>
                    <a:pt x="1006" y="362"/>
                  </a:lnTo>
                  <a:lnTo>
                    <a:pt x="1014" y="386"/>
                  </a:lnTo>
                  <a:lnTo>
                    <a:pt x="1020" y="410"/>
                  </a:lnTo>
                  <a:lnTo>
                    <a:pt x="1024" y="436"/>
                  </a:lnTo>
                  <a:lnTo>
                    <a:pt x="1026" y="462"/>
                  </a:lnTo>
                  <a:lnTo>
                    <a:pt x="1028" y="488"/>
                  </a:lnTo>
                  <a:lnTo>
                    <a:pt x="1030" y="514"/>
                  </a:lnTo>
                  <a:lnTo>
                    <a:pt x="1030" y="514"/>
                  </a:lnTo>
                  <a:close/>
                </a:path>
              </a:pathLst>
            </a:custGeom>
            <a:solidFill>
              <a:srgbClr val="f4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73"/>
            <p:cNvSpPr/>
            <p:nvPr/>
          </p:nvSpPr>
          <p:spPr>
            <a:xfrm>
              <a:off x="8258040" y="8343720"/>
              <a:ext cx="1600200" cy="16030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603080"/>
                <a:gd name="textAreaBottom" fmla="*/ 1603440 h 1603080"/>
              </a:gdLst>
              <a:ahLst/>
              <a:rect l="textAreaLeft" t="textAreaTop" r="textAreaRight" b="textAreaBottom"/>
              <a:pathLst>
                <a:path w="1008" h="1010">
                  <a:moveTo>
                    <a:pt x="1008" y="506"/>
                  </a:moveTo>
                  <a:lnTo>
                    <a:pt x="1008" y="506"/>
                  </a:lnTo>
                  <a:lnTo>
                    <a:pt x="1008" y="532"/>
                  </a:lnTo>
                  <a:lnTo>
                    <a:pt x="1006" y="556"/>
                  </a:lnTo>
                  <a:lnTo>
                    <a:pt x="1002" y="582"/>
                  </a:lnTo>
                  <a:lnTo>
                    <a:pt x="998" y="606"/>
                  </a:lnTo>
                  <a:lnTo>
                    <a:pt x="992" y="632"/>
                  </a:lnTo>
                  <a:lnTo>
                    <a:pt x="986" y="656"/>
                  </a:lnTo>
                  <a:lnTo>
                    <a:pt x="978" y="678"/>
                  </a:lnTo>
                  <a:lnTo>
                    <a:pt x="968" y="702"/>
                  </a:lnTo>
                  <a:lnTo>
                    <a:pt x="948" y="746"/>
                  </a:lnTo>
                  <a:lnTo>
                    <a:pt x="922" y="788"/>
                  </a:lnTo>
                  <a:lnTo>
                    <a:pt x="894" y="826"/>
                  </a:lnTo>
                  <a:lnTo>
                    <a:pt x="860" y="862"/>
                  </a:lnTo>
                  <a:lnTo>
                    <a:pt x="824" y="894"/>
                  </a:lnTo>
                  <a:lnTo>
                    <a:pt x="786" y="924"/>
                  </a:lnTo>
                  <a:lnTo>
                    <a:pt x="744" y="948"/>
                  </a:lnTo>
                  <a:lnTo>
                    <a:pt x="700" y="970"/>
                  </a:lnTo>
                  <a:lnTo>
                    <a:pt x="678" y="980"/>
                  </a:lnTo>
                  <a:lnTo>
                    <a:pt x="654" y="988"/>
                  </a:lnTo>
                  <a:lnTo>
                    <a:pt x="630" y="994"/>
                  </a:lnTo>
                  <a:lnTo>
                    <a:pt x="606" y="1000"/>
                  </a:lnTo>
                  <a:lnTo>
                    <a:pt x="580" y="1004"/>
                  </a:lnTo>
                  <a:lnTo>
                    <a:pt x="556" y="1008"/>
                  </a:lnTo>
                  <a:lnTo>
                    <a:pt x="530" y="1010"/>
                  </a:lnTo>
                  <a:lnTo>
                    <a:pt x="504" y="1010"/>
                  </a:lnTo>
                  <a:lnTo>
                    <a:pt x="504" y="1010"/>
                  </a:lnTo>
                  <a:lnTo>
                    <a:pt x="478" y="1010"/>
                  </a:lnTo>
                  <a:lnTo>
                    <a:pt x="452" y="1008"/>
                  </a:lnTo>
                  <a:lnTo>
                    <a:pt x="428" y="1004"/>
                  </a:lnTo>
                  <a:lnTo>
                    <a:pt x="402" y="1000"/>
                  </a:lnTo>
                  <a:lnTo>
                    <a:pt x="378" y="994"/>
                  </a:lnTo>
                  <a:lnTo>
                    <a:pt x="354" y="988"/>
                  </a:lnTo>
                  <a:lnTo>
                    <a:pt x="330" y="980"/>
                  </a:lnTo>
                  <a:lnTo>
                    <a:pt x="308" y="970"/>
                  </a:lnTo>
                  <a:lnTo>
                    <a:pt x="264" y="948"/>
                  </a:lnTo>
                  <a:lnTo>
                    <a:pt x="222" y="924"/>
                  </a:lnTo>
                  <a:lnTo>
                    <a:pt x="184" y="894"/>
                  </a:lnTo>
                  <a:lnTo>
                    <a:pt x="148" y="862"/>
                  </a:lnTo>
                  <a:lnTo>
                    <a:pt x="114" y="826"/>
                  </a:lnTo>
                  <a:lnTo>
                    <a:pt x="86" y="788"/>
                  </a:lnTo>
                  <a:lnTo>
                    <a:pt x="60" y="746"/>
                  </a:lnTo>
                  <a:lnTo>
                    <a:pt x="40" y="702"/>
                  </a:lnTo>
                  <a:lnTo>
                    <a:pt x="30" y="678"/>
                  </a:lnTo>
                  <a:lnTo>
                    <a:pt x="22" y="656"/>
                  </a:lnTo>
                  <a:lnTo>
                    <a:pt x="16" y="632"/>
                  </a:lnTo>
                  <a:lnTo>
                    <a:pt x="10" y="606"/>
                  </a:lnTo>
                  <a:lnTo>
                    <a:pt x="6" y="582"/>
                  </a:lnTo>
                  <a:lnTo>
                    <a:pt x="2" y="556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506"/>
                  </a:lnTo>
                  <a:lnTo>
                    <a:pt x="0" y="480"/>
                  </a:lnTo>
                  <a:lnTo>
                    <a:pt x="2" y="454"/>
                  </a:lnTo>
                  <a:lnTo>
                    <a:pt x="6" y="428"/>
                  </a:lnTo>
                  <a:lnTo>
                    <a:pt x="10" y="404"/>
                  </a:lnTo>
                  <a:lnTo>
                    <a:pt x="16" y="380"/>
                  </a:lnTo>
                  <a:lnTo>
                    <a:pt x="22" y="356"/>
                  </a:lnTo>
                  <a:lnTo>
                    <a:pt x="30" y="332"/>
                  </a:lnTo>
                  <a:lnTo>
                    <a:pt x="40" y="308"/>
                  </a:lnTo>
                  <a:lnTo>
                    <a:pt x="60" y="264"/>
                  </a:lnTo>
                  <a:lnTo>
                    <a:pt x="86" y="224"/>
                  </a:lnTo>
                  <a:lnTo>
                    <a:pt x="114" y="184"/>
                  </a:lnTo>
                  <a:lnTo>
                    <a:pt x="148" y="148"/>
                  </a:lnTo>
                  <a:lnTo>
                    <a:pt x="184" y="116"/>
                  </a:lnTo>
                  <a:lnTo>
                    <a:pt x="222" y="86"/>
                  </a:lnTo>
                  <a:lnTo>
                    <a:pt x="264" y="62"/>
                  </a:lnTo>
                  <a:lnTo>
                    <a:pt x="308" y="40"/>
                  </a:lnTo>
                  <a:lnTo>
                    <a:pt x="330" y="32"/>
                  </a:lnTo>
                  <a:lnTo>
                    <a:pt x="354" y="24"/>
                  </a:lnTo>
                  <a:lnTo>
                    <a:pt x="378" y="16"/>
                  </a:lnTo>
                  <a:lnTo>
                    <a:pt x="402" y="10"/>
                  </a:lnTo>
                  <a:lnTo>
                    <a:pt x="428" y="6"/>
                  </a:lnTo>
                  <a:lnTo>
                    <a:pt x="452" y="4"/>
                  </a:lnTo>
                  <a:lnTo>
                    <a:pt x="478" y="2"/>
                  </a:lnTo>
                  <a:lnTo>
                    <a:pt x="504" y="0"/>
                  </a:lnTo>
                  <a:lnTo>
                    <a:pt x="504" y="0"/>
                  </a:lnTo>
                  <a:lnTo>
                    <a:pt x="530" y="2"/>
                  </a:lnTo>
                  <a:lnTo>
                    <a:pt x="556" y="4"/>
                  </a:lnTo>
                  <a:lnTo>
                    <a:pt x="580" y="6"/>
                  </a:lnTo>
                  <a:lnTo>
                    <a:pt x="606" y="10"/>
                  </a:lnTo>
                  <a:lnTo>
                    <a:pt x="630" y="16"/>
                  </a:lnTo>
                  <a:lnTo>
                    <a:pt x="654" y="24"/>
                  </a:lnTo>
                  <a:lnTo>
                    <a:pt x="678" y="32"/>
                  </a:lnTo>
                  <a:lnTo>
                    <a:pt x="700" y="40"/>
                  </a:lnTo>
                  <a:lnTo>
                    <a:pt x="744" y="62"/>
                  </a:lnTo>
                  <a:lnTo>
                    <a:pt x="786" y="86"/>
                  </a:lnTo>
                  <a:lnTo>
                    <a:pt x="824" y="116"/>
                  </a:lnTo>
                  <a:lnTo>
                    <a:pt x="860" y="148"/>
                  </a:lnTo>
                  <a:lnTo>
                    <a:pt x="894" y="184"/>
                  </a:lnTo>
                  <a:lnTo>
                    <a:pt x="922" y="224"/>
                  </a:lnTo>
                  <a:lnTo>
                    <a:pt x="948" y="264"/>
                  </a:lnTo>
                  <a:lnTo>
                    <a:pt x="968" y="308"/>
                  </a:lnTo>
                  <a:lnTo>
                    <a:pt x="978" y="332"/>
                  </a:lnTo>
                  <a:lnTo>
                    <a:pt x="986" y="356"/>
                  </a:lnTo>
                  <a:lnTo>
                    <a:pt x="992" y="380"/>
                  </a:lnTo>
                  <a:lnTo>
                    <a:pt x="998" y="404"/>
                  </a:lnTo>
                  <a:lnTo>
                    <a:pt x="1002" y="428"/>
                  </a:lnTo>
                  <a:lnTo>
                    <a:pt x="1006" y="454"/>
                  </a:lnTo>
                  <a:lnTo>
                    <a:pt x="1008" y="480"/>
                  </a:lnTo>
                  <a:lnTo>
                    <a:pt x="1008" y="506"/>
                  </a:lnTo>
                  <a:lnTo>
                    <a:pt x="1008" y="506"/>
                  </a:lnTo>
                  <a:close/>
                </a:path>
              </a:pathLst>
            </a:custGeom>
            <a:solidFill>
              <a:srgbClr val="f4a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74"/>
            <p:cNvSpPr/>
            <p:nvPr/>
          </p:nvSpPr>
          <p:spPr>
            <a:xfrm>
              <a:off x="8264520" y="8356680"/>
              <a:ext cx="1568520" cy="156816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988" h="988">
                  <a:moveTo>
                    <a:pt x="988" y="494"/>
                  </a:moveTo>
                  <a:lnTo>
                    <a:pt x="988" y="494"/>
                  </a:lnTo>
                  <a:lnTo>
                    <a:pt x="986" y="518"/>
                  </a:lnTo>
                  <a:lnTo>
                    <a:pt x="984" y="544"/>
                  </a:lnTo>
                  <a:lnTo>
                    <a:pt x="982" y="568"/>
                  </a:lnTo>
                  <a:lnTo>
                    <a:pt x="978" y="594"/>
                  </a:lnTo>
                  <a:lnTo>
                    <a:pt x="972" y="616"/>
                  </a:lnTo>
                  <a:lnTo>
                    <a:pt x="966" y="640"/>
                  </a:lnTo>
                  <a:lnTo>
                    <a:pt x="948" y="686"/>
                  </a:lnTo>
                  <a:lnTo>
                    <a:pt x="928" y="728"/>
                  </a:lnTo>
                  <a:lnTo>
                    <a:pt x="904" y="770"/>
                  </a:lnTo>
                  <a:lnTo>
                    <a:pt x="874" y="808"/>
                  </a:lnTo>
                  <a:lnTo>
                    <a:pt x="842" y="842"/>
                  </a:lnTo>
                  <a:lnTo>
                    <a:pt x="808" y="874"/>
                  </a:lnTo>
                  <a:lnTo>
                    <a:pt x="770" y="904"/>
                  </a:lnTo>
                  <a:lnTo>
                    <a:pt x="730" y="928"/>
                  </a:lnTo>
                  <a:lnTo>
                    <a:pt x="686" y="948"/>
                  </a:lnTo>
                  <a:lnTo>
                    <a:pt x="640" y="966"/>
                  </a:lnTo>
                  <a:lnTo>
                    <a:pt x="618" y="972"/>
                  </a:lnTo>
                  <a:lnTo>
                    <a:pt x="594" y="978"/>
                  </a:lnTo>
                  <a:lnTo>
                    <a:pt x="568" y="982"/>
                  </a:lnTo>
                  <a:lnTo>
                    <a:pt x="544" y="984"/>
                  </a:lnTo>
                  <a:lnTo>
                    <a:pt x="520" y="986"/>
                  </a:lnTo>
                  <a:lnTo>
                    <a:pt x="494" y="988"/>
                  </a:lnTo>
                  <a:lnTo>
                    <a:pt x="494" y="988"/>
                  </a:lnTo>
                  <a:lnTo>
                    <a:pt x="468" y="986"/>
                  </a:lnTo>
                  <a:lnTo>
                    <a:pt x="444" y="984"/>
                  </a:lnTo>
                  <a:lnTo>
                    <a:pt x="418" y="982"/>
                  </a:lnTo>
                  <a:lnTo>
                    <a:pt x="394" y="978"/>
                  </a:lnTo>
                  <a:lnTo>
                    <a:pt x="370" y="972"/>
                  </a:lnTo>
                  <a:lnTo>
                    <a:pt x="346" y="966"/>
                  </a:lnTo>
                  <a:lnTo>
                    <a:pt x="302" y="948"/>
                  </a:lnTo>
                  <a:lnTo>
                    <a:pt x="258" y="928"/>
                  </a:lnTo>
                  <a:lnTo>
                    <a:pt x="218" y="904"/>
                  </a:lnTo>
                  <a:lnTo>
                    <a:pt x="180" y="874"/>
                  </a:lnTo>
                  <a:lnTo>
                    <a:pt x="144" y="842"/>
                  </a:lnTo>
                  <a:lnTo>
                    <a:pt x="112" y="808"/>
                  </a:lnTo>
                  <a:lnTo>
                    <a:pt x="84" y="770"/>
                  </a:lnTo>
                  <a:lnTo>
                    <a:pt x="60" y="728"/>
                  </a:lnTo>
                  <a:lnTo>
                    <a:pt x="38" y="686"/>
                  </a:lnTo>
                  <a:lnTo>
                    <a:pt x="22" y="640"/>
                  </a:lnTo>
                  <a:lnTo>
                    <a:pt x="16" y="616"/>
                  </a:lnTo>
                  <a:lnTo>
                    <a:pt x="10" y="594"/>
                  </a:lnTo>
                  <a:lnTo>
                    <a:pt x="6" y="568"/>
                  </a:lnTo>
                  <a:lnTo>
                    <a:pt x="2" y="544"/>
                  </a:lnTo>
                  <a:lnTo>
                    <a:pt x="0" y="518"/>
                  </a:lnTo>
                  <a:lnTo>
                    <a:pt x="0" y="494"/>
                  </a:lnTo>
                  <a:lnTo>
                    <a:pt x="0" y="494"/>
                  </a:lnTo>
                  <a:lnTo>
                    <a:pt x="0" y="468"/>
                  </a:lnTo>
                  <a:lnTo>
                    <a:pt x="2" y="444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8" y="302"/>
                  </a:lnTo>
                  <a:lnTo>
                    <a:pt x="60" y="258"/>
                  </a:lnTo>
                  <a:lnTo>
                    <a:pt x="84" y="218"/>
                  </a:lnTo>
                  <a:lnTo>
                    <a:pt x="112" y="180"/>
                  </a:lnTo>
                  <a:lnTo>
                    <a:pt x="144" y="144"/>
                  </a:lnTo>
                  <a:lnTo>
                    <a:pt x="180" y="112"/>
                  </a:lnTo>
                  <a:lnTo>
                    <a:pt x="218" y="84"/>
                  </a:lnTo>
                  <a:lnTo>
                    <a:pt x="258" y="60"/>
                  </a:lnTo>
                  <a:lnTo>
                    <a:pt x="302" y="38"/>
                  </a:lnTo>
                  <a:lnTo>
                    <a:pt x="346" y="22"/>
                  </a:lnTo>
                  <a:lnTo>
                    <a:pt x="370" y="16"/>
                  </a:lnTo>
                  <a:lnTo>
                    <a:pt x="394" y="10"/>
                  </a:lnTo>
                  <a:lnTo>
                    <a:pt x="418" y="6"/>
                  </a:lnTo>
                  <a:lnTo>
                    <a:pt x="444" y="2"/>
                  </a:lnTo>
                  <a:lnTo>
                    <a:pt x="468" y="0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520" y="0"/>
                  </a:lnTo>
                  <a:lnTo>
                    <a:pt x="544" y="2"/>
                  </a:lnTo>
                  <a:lnTo>
                    <a:pt x="568" y="6"/>
                  </a:lnTo>
                  <a:lnTo>
                    <a:pt x="594" y="10"/>
                  </a:lnTo>
                  <a:lnTo>
                    <a:pt x="618" y="16"/>
                  </a:lnTo>
                  <a:lnTo>
                    <a:pt x="640" y="22"/>
                  </a:lnTo>
                  <a:lnTo>
                    <a:pt x="686" y="38"/>
                  </a:lnTo>
                  <a:lnTo>
                    <a:pt x="730" y="60"/>
                  </a:lnTo>
                  <a:lnTo>
                    <a:pt x="770" y="84"/>
                  </a:lnTo>
                  <a:lnTo>
                    <a:pt x="808" y="112"/>
                  </a:lnTo>
                  <a:lnTo>
                    <a:pt x="842" y="144"/>
                  </a:lnTo>
                  <a:lnTo>
                    <a:pt x="874" y="180"/>
                  </a:lnTo>
                  <a:lnTo>
                    <a:pt x="904" y="218"/>
                  </a:lnTo>
                  <a:lnTo>
                    <a:pt x="928" y="258"/>
                  </a:lnTo>
                  <a:lnTo>
                    <a:pt x="948" y="302"/>
                  </a:lnTo>
                  <a:lnTo>
                    <a:pt x="966" y="346"/>
                  </a:lnTo>
                  <a:lnTo>
                    <a:pt x="972" y="370"/>
                  </a:lnTo>
                  <a:lnTo>
                    <a:pt x="978" y="394"/>
                  </a:lnTo>
                  <a:lnTo>
                    <a:pt x="982" y="418"/>
                  </a:lnTo>
                  <a:lnTo>
                    <a:pt x="984" y="444"/>
                  </a:lnTo>
                  <a:lnTo>
                    <a:pt x="986" y="468"/>
                  </a:lnTo>
                  <a:lnTo>
                    <a:pt x="988" y="494"/>
                  </a:lnTo>
                  <a:lnTo>
                    <a:pt x="988" y="494"/>
                  </a:lnTo>
                  <a:close/>
                </a:path>
              </a:pathLst>
            </a:custGeom>
            <a:solidFill>
              <a:srgbClr val="f5a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75"/>
            <p:cNvSpPr/>
            <p:nvPr/>
          </p:nvSpPr>
          <p:spPr>
            <a:xfrm>
              <a:off x="8270640" y="8366040"/>
              <a:ext cx="1533600" cy="15364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536480"/>
                <a:gd name="textAreaBottom" fmla="*/ 1536840 h 1536480"/>
              </a:gdLst>
              <a:ahLst/>
              <a:rect l="textAreaLeft" t="textAreaTop" r="textAreaRight" b="textAreaBottom"/>
              <a:pathLst>
                <a:path w="966" h="968">
                  <a:moveTo>
                    <a:pt x="966" y="484"/>
                  </a:moveTo>
                  <a:lnTo>
                    <a:pt x="966" y="484"/>
                  </a:lnTo>
                  <a:lnTo>
                    <a:pt x="966" y="508"/>
                  </a:lnTo>
                  <a:lnTo>
                    <a:pt x="964" y="534"/>
                  </a:lnTo>
                  <a:lnTo>
                    <a:pt x="960" y="558"/>
                  </a:lnTo>
                  <a:lnTo>
                    <a:pt x="956" y="582"/>
                  </a:lnTo>
                  <a:lnTo>
                    <a:pt x="944" y="628"/>
                  </a:lnTo>
                  <a:lnTo>
                    <a:pt x="928" y="672"/>
                  </a:lnTo>
                  <a:lnTo>
                    <a:pt x="908" y="714"/>
                  </a:lnTo>
                  <a:lnTo>
                    <a:pt x="884" y="754"/>
                  </a:lnTo>
                  <a:lnTo>
                    <a:pt x="856" y="792"/>
                  </a:lnTo>
                  <a:lnTo>
                    <a:pt x="824" y="826"/>
                  </a:lnTo>
                  <a:lnTo>
                    <a:pt x="790" y="856"/>
                  </a:lnTo>
                  <a:lnTo>
                    <a:pt x="754" y="884"/>
                  </a:lnTo>
                  <a:lnTo>
                    <a:pt x="714" y="908"/>
                  </a:lnTo>
                  <a:lnTo>
                    <a:pt x="672" y="930"/>
                  </a:lnTo>
                  <a:lnTo>
                    <a:pt x="626" y="946"/>
                  </a:lnTo>
                  <a:lnTo>
                    <a:pt x="580" y="958"/>
                  </a:lnTo>
                  <a:lnTo>
                    <a:pt x="556" y="962"/>
                  </a:lnTo>
                  <a:lnTo>
                    <a:pt x="532" y="964"/>
                  </a:lnTo>
                  <a:lnTo>
                    <a:pt x="508" y="966"/>
                  </a:lnTo>
                  <a:lnTo>
                    <a:pt x="484" y="968"/>
                  </a:lnTo>
                  <a:lnTo>
                    <a:pt x="484" y="968"/>
                  </a:lnTo>
                  <a:lnTo>
                    <a:pt x="458" y="966"/>
                  </a:lnTo>
                  <a:lnTo>
                    <a:pt x="434" y="964"/>
                  </a:lnTo>
                  <a:lnTo>
                    <a:pt x="410" y="962"/>
                  </a:lnTo>
                  <a:lnTo>
                    <a:pt x="386" y="958"/>
                  </a:lnTo>
                  <a:lnTo>
                    <a:pt x="340" y="946"/>
                  </a:lnTo>
                  <a:lnTo>
                    <a:pt x="296" y="930"/>
                  </a:lnTo>
                  <a:lnTo>
                    <a:pt x="252" y="908"/>
                  </a:lnTo>
                  <a:lnTo>
                    <a:pt x="212" y="884"/>
                  </a:lnTo>
                  <a:lnTo>
                    <a:pt x="176" y="856"/>
                  </a:lnTo>
                  <a:lnTo>
                    <a:pt x="142" y="826"/>
                  </a:lnTo>
                  <a:lnTo>
                    <a:pt x="110" y="792"/>
                  </a:lnTo>
                  <a:lnTo>
                    <a:pt x="82" y="754"/>
                  </a:lnTo>
                  <a:lnTo>
                    <a:pt x="58" y="714"/>
                  </a:lnTo>
                  <a:lnTo>
                    <a:pt x="38" y="672"/>
                  </a:lnTo>
                  <a:lnTo>
                    <a:pt x="22" y="628"/>
                  </a:lnTo>
                  <a:lnTo>
                    <a:pt x="10" y="582"/>
                  </a:lnTo>
                  <a:lnTo>
                    <a:pt x="6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4"/>
                  </a:lnTo>
                  <a:lnTo>
                    <a:pt x="0" y="484"/>
                  </a:lnTo>
                  <a:lnTo>
                    <a:pt x="0" y="460"/>
                  </a:lnTo>
                  <a:lnTo>
                    <a:pt x="2" y="434"/>
                  </a:lnTo>
                  <a:lnTo>
                    <a:pt x="6" y="410"/>
                  </a:lnTo>
                  <a:lnTo>
                    <a:pt x="10" y="386"/>
                  </a:lnTo>
                  <a:lnTo>
                    <a:pt x="22" y="340"/>
                  </a:lnTo>
                  <a:lnTo>
                    <a:pt x="38" y="296"/>
                  </a:lnTo>
                  <a:lnTo>
                    <a:pt x="58" y="254"/>
                  </a:lnTo>
                  <a:lnTo>
                    <a:pt x="82" y="214"/>
                  </a:lnTo>
                  <a:lnTo>
                    <a:pt x="110" y="176"/>
                  </a:lnTo>
                  <a:lnTo>
                    <a:pt x="142" y="142"/>
                  </a:lnTo>
                  <a:lnTo>
                    <a:pt x="176" y="112"/>
                  </a:lnTo>
                  <a:lnTo>
                    <a:pt x="212" y="84"/>
                  </a:lnTo>
                  <a:lnTo>
                    <a:pt x="252" y="60"/>
                  </a:lnTo>
                  <a:lnTo>
                    <a:pt x="296" y="38"/>
                  </a:lnTo>
                  <a:lnTo>
                    <a:pt x="340" y="22"/>
                  </a:lnTo>
                  <a:lnTo>
                    <a:pt x="386" y="10"/>
                  </a:lnTo>
                  <a:lnTo>
                    <a:pt x="410" y="6"/>
                  </a:lnTo>
                  <a:lnTo>
                    <a:pt x="434" y="4"/>
                  </a:lnTo>
                  <a:lnTo>
                    <a:pt x="458" y="2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508" y="2"/>
                  </a:lnTo>
                  <a:lnTo>
                    <a:pt x="532" y="4"/>
                  </a:lnTo>
                  <a:lnTo>
                    <a:pt x="556" y="6"/>
                  </a:lnTo>
                  <a:lnTo>
                    <a:pt x="580" y="10"/>
                  </a:lnTo>
                  <a:lnTo>
                    <a:pt x="626" y="22"/>
                  </a:lnTo>
                  <a:lnTo>
                    <a:pt x="672" y="38"/>
                  </a:lnTo>
                  <a:lnTo>
                    <a:pt x="714" y="60"/>
                  </a:lnTo>
                  <a:lnTo>
                    <a:pt x="754" y="84"/>
                  </a:lnTo>
                  <a:lnTo>
                    <a:pt x="790" y="112"/>
                  </a:lnTo>
                  <a:lnTo>
                    <a:pt x="824" y="142"/>
                  </a:lnTo>
                  <a:lnTo>
                    <a:pt x="856" y="176"/>
                  </a:lnTo>
                  <a:lnTo>
                    <a:pt x="884" y="214"/>
                  </a:lnTo>
                  <a:lnTo>
                    <a:pt x="908" y="254"/>
                  </a:lnTo>
                  <a:lnTo>
                    <a:pt x="928" y="296"/>
                  </a:lnTo>
                  <a:lnTo>
                    <a:pt x="944" y="340"/>
                  </a:lnTo>
                  <a:lnTo>
                    <a:pt x="956" y="386"/>
                  </a:lnTo>
                  <a:lnTo>
                    <a:pt x="960" y="410"/>
                  </a:lnTo>
                  <a:lnTo>
                    <a:pt x="964" y="434"/>
                  </a:lnTo>
                  <a:lnTo>
                    <a:pt x="966" y="460"/>
                  </a:lnTo>
                  <a:lnTo>
                    <a:pt x="966" y="484"/>
                  </a:lnTo>
                  <a:lnTo>
                    <a:pt x="966" y="484"/>
                  </a:lnTo>
                  <a:close/>
                </a:path>
              </a:pathLst>
            </a:custGeom>
            <a:solidFill>
              <a:srgbClr val="f5a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76"/>
            <p:cNvSpPr/>
            <p:nvPr/>
          </p:nvSpPr>
          <p:spPr>
            <a:xfrm>
              <a:off x="8277120" y="8378640"/>
              <a:ext cx="1501920" cy="149832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1498320"/>
                <a:gd name="textAreaBottom" fmla="*/ 1498680 h 1498320"/>
              </a:gdLst>
              <a:ahLst/>
              <a:rect l="textAreaLeft" t="textAreaTop" r="textAreaRight" b="textAreaBottom"/>
              <a:pathLst>
                <a:path w="946" h="944">
                  <a:moveTo>
                    <a:pt x="946" y="472"/>
                  </a:moveTo>
                  <a:lnTo>
                    <a:pt x="946" y="472"/>
                  </a:lnTo>
                  <a:lnTo>
                    <a:pt x="944" y="496"/>
                  </a:lnTo>
                  <a:lnTo>
                    <a:pt x="942" y="520"/>
                  </a:lnTo>
                  <a:lnTo>
                    <a:pt x="940" y="544"/>
                  </a:lnTo>
                  <a:lnTo>
                    <a:pt x="936" y="568"/>
                  </a:lnTo>
                  <a:lnTo>
                    <a:pt x="924" y="612"/>
                  </a:lnTo>
                  <a:lnTo>
                    <a:pt x="908" y="656"/>
                  </a:lnTo>
                  <a:lnTo>
                    <a:pt x="888" y="698"/>
                  </a:lnTo>
                  <a:lnTo>
                    <a:pt x="864" y="736"/>
                  </a:lnTo>
                  <a:lnTo>
                    <a:pt x="838" y="774"/>
                  </a:lnTo>
                  <a:lnTo>
                    <a:pt x="806" y="806"/>
                  </a:lnTo>
                  <a:lnTo>
                    <a:pt x="774" y="838"/>
                  </a:lnTo>
                  <a:lnTo>
                    <a:pt x="738" y="864"/>
                  </a:lnTo>
                  <a:lnTo>
                    <a:pt x="698" y="888"/>
                  </a:lnTo>
                  <a:lnTo>
                    <a:pt x="656" y="908"/>
                  </a:lnTo>
                  <a:lnTo>
                    <a:pt x="614" y="924"/>
                  </a:lnTo>
                  <a:lnTo>
                    <a:pt x="568" y="936"/>
                  </a:lnTo>
                  <a:lnTo>
                    <a:pt x="544" y="940"/>
                  </a:lnTo>
                  <a:lnTo>
                    <a:pt x="522" y="942"/>
                  </a:lnTo>
                  <a:lnTo>
                    <a:pt x="498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48" y="944"/>
                  </a:lnTo>
                  <a:lnTo>
                    <a:pt x="424" y="942"/>
                  </a:lnTo>
                  <a:lnTo>
                    <a:pt x="400" y="940"/>
                  </a:lnTo>
                  <a:lnTo>
                    <a:pt x="378" y="936"/>
                  </a:lnTo>
                  <a:lnTo>
                    <a:pt x="332" y="924"/>
                  </a:lnTo>
                  <a:lnTo>
                    <a:pt x="288" y="908"/>
                  </a:lnTo>
                  <a:lnTo>
                    <a:pt x="248" y="888"/>
                  </a:lnTo>
                  <a:lnTo>
                    <a:pt x="208" y="864"/>
                  </a:lnTo>
                  <a:lnTo>
                    <a:pt x="172" y="838"/>
                  </a:lnTo>
                  <a:lnTo>
                    <a:pt x="138" y="806"/>
                  </a:lnTo>
                  <a:lnTo>
                    <a:pt x="108" y="774"/>
                  </a:lnTo>
                  <a:lnTo>
                    <a:pt x="80" y="736"/>
                  </a:lnTo>
                  <a:lnTo>
                    <a:pt x="58" y="698"/>
                  </a:lnTo>
                  <a:lnTo>
                    <a:pt x="38" y="656"/>
                  </a:lnTo>
                  <a:lnTo>
                    <a:pt x="22" y="612"/>
                  </a:lnTo>
                  <a:lnTo>
                    <a:pt x="10" y="568"/>
                  </a:lnTo>
                  <a:lnTo>
                    <a:pt x="6" y="544"/>
                  </a:lnTo>
                  <a:lnTo>
                    <a:pt x="2" y="520"/>
                  </a:lnTo>
                  <a:lnTo>
                    <a:pt x="0" y="496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0" y="448"/>
                  </a:lnTo>
                  <a:lnTo>
                    <a:pt x="2" y="424"/>
                  </a:lnTo>
                  <a:lnTo>
                    <a:pt x="6" y="400"/>
                  </a:lnTo>
                  <a:lnTo>
                    <a:pt x="10" y="378"/>
                  </a:lnTo>
                  <a:lnTo>
                    <a:pt x="22" y="332"/>
                  </a:lnTo>
                  <a:lnTo>
                    <a:pt x="38" y="288"/>
                  </a:lnTo>
                  <a:lnTo>
                    <a:pt x="58" y="248"/>
                  </a:lnTo>
                  <a:lnTo>
                    <a:pt x="80" y="208"/>
                  </a:lnTo>
                  <a:lnTo>
                    <a:pt x="108" y="172"/>
                  </a:lnTo>
                  <a:lnTo>
                    <a:pt x="138" y="138"/>
                  </a:lnTo>
                  <a:lnTo>
                    <a:pt x="172" y="108"/>
                  </a:lnTo>
                  <a:lnTo>
                    <a:pt x="208" y="80"/>
                  </a:lnTo>
                  <a:lnTo>
                    <a:pt x="248" y="56"/>
                  </a:lnTo>
                  <a:lnTo>
                    <a:pt x="288" y="36"/>
                  </a:lnTo>
                  <a:lnTo>
                    <a:pt x="332" y="20"/>
                  </a:lnTo>
                  <a:lnTo>
                    <a:pt x="378" y="10"/>
                  </a:lnTo>
                  <a:lnTo>
                    <a:pt x="400" y="6"/>
                  </a:lnTo>
                  <a:lnTo>
                    <a:pt x="424" y="2"/>
                  </a:lnTo>
                  <a:lnTo>
                    <a:pt x="448" y="0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98" y="0"/>
                  </a:lnTo>
                  <a:lnTo>
                    <a:pt x="522" y="2"/>
                  </a:lnTo>
                  <a:lnTo>
                    <a:pt x="544" y="6"/>
                  </a:lnTo>
                  <a:lnTo>
                    <a:pt x="568" y="10"/>
                  </a:lnTo>
                  <a:lnTo>
                    <a:pt x="614" y="20"/>
                  </a:lnTo>
                  <a:lnTo>
                    <a:pt x="656" y="36"/>
                  </a:lnTo>
                  <a:lnTo>
                    <a:pt x="698" y="56"/>
                  </a:lnTo>
                  <a:lnTo>
                    <a:pt x="738" y="80"/>
                  </a:lnTo>
                  <a:lnTo>
                    <a:pt x="774" y="108"/>
                  </a:lnTo>
                  <a:lnTo>
                    <a:pt x="806" y="138"/>
                  </a:lnTo>
                  <a:lnTo>
                    <a:pt x="838" y="172"/>
                  </a:lnTo>
                  <a:lnTo>
                    <a:pt x="864" y="208"/>
                  </a:lnTo>
                  <a:lnTo>
                    <a:pt x="888" y="248"/>
                  </a:lnTo>
                  <a:lnTo>
                    <a:pt x="908" y="288"/>
                  </a:lnTo>
                  <a:lnTo>
                    <a:pt x="924" y="332"/>
                  </a:lnTo>
                  <a:lnTo>
                    <a:pt x="936" y="378"/>
                  </a:lnTo>
                  <a:lnTo>
                    <a:pt x="940" y="400"/>
                  </a:lnTo>
                  <a:lnTo>
                    <a:pt x="942" y="424"/>
                  </a:lnTo>
                  <a:lnTo>
                    <a:pt x="944" y="448"/>
                  </a:lnTo>
                  <a:lnTo>
                    <a:pt x="946" y="472"/>
                  </a:lnTo>
                  <a:lnTo>
                    <a:pt x="946" y="472"/>
                  </a:lnTo>
                  <a:close/>
                </a:path>
              </a:pathLst>
            </a:custGeom>
            <a:solidFill>
              <a:srgbClr val="f5a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77"/>
            <p:cNvSpPr/>
            <p:nvPr/>
          </p:nvSpPr>
          <p:spPr>
            <a:xfrm>
              <a:off x="8283240" y="8388360"/>
              <a:ext cx="1467000" cy="146664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924" h="924">
                  <a:moveTo>
                    <a:pt x="924" y="462"/>
                  </a:moveTo>
                  <a:lnTo>
                    <a:pt x="924" y="462"/>
                  </a:lnTo>
                  <a:lnTo>
                    <a:pt x="924" y="486"/>
                  </a:lnTo>
                  <a:lnTo>
                    <a:pt x="922" y="510"/>
                  </a:lnTo>
                  <a:lnTo>
                    <a:pt x="914" y="556"/>
                  </a:lnTo>
                  <a:lnTo>
                    <a:pt x="904" y="600"/>
                  </a:lnTo>
                  <a:lnTo>
                    <a:pt x="888" y="642"/>
                  </a:lnTo>
                  <a:lnTo>
                    <a:pt x="868" y="682"/>
                  </a:lnTo>
                  <a:lnTo>
                    <a:pt x="846" y="722"/>
                  </a:lnTo>
                  <a:lnTo>
                    <a:pt x="818" y="756"/>
                  </a:lnTo>
                  <a:lnTo>
                    <a:pt x="790" y="790"/>
                  </a:lnTo>
                  <a:lnTo>
                    <a:pt x="756" y="820"/>
                  </a:lnTo>
                  <a:lnTo>
                    <a:pt x="720" y="846"/>
                  </a:lnTo>
                  <a:lnTo>
                    <a:pt x="682" y="870"/>
                  </a:lnTo>
                  <a:lnTo>
                    <a:pt x="642" y="888"/>
                  </a:lnTo>
                  <a:lnTo>
                    <a:pt x="600" y="904"/>
                  </a:lnTo>
                  <a:lnTo>
                    <a:pt x="556" y="916"/>
                  </a:lnTo>
                  <a:lnTo>
                    <a:pt x="510" y="922"/>
                  </a:lnTo>
                  <a:lnTo>
                    <a:pt x="486" y="924"/>
                  </a:lnTo>
                  <a:lnTo>
                    <a:pt x="462" y="924"/>
                  </a:lnTo>
                  <a:lnTo>
                    <a:pt x="462" y="924"/>
                  </a:lnTo>
                  <a:lnTo>
                    <a:pt x="438" y="924"/>
                  </a:lnTo>
                  <a:lnTo>
                    <a:pt x="416" y="922"/>
                  </a:lnTo>
                  <a:lnTo>
                    <a:pt x="370" y="916"/>
                  </a:lnTo>
                  <a:lnTo>
                    <a:pt x="324" y="904"/>
                  </a:lnTo>
                  <a:lnTo>
                    <a:pt x="282" y="888"/>
                  </a:lnTo>
                  <a:lnTo>
                    <a:pt x="242" y="870"/>
                  </a:lnTo>
                  <a:lnTo>
                    <a:pt x="204" y="846"/>
                  </a:lnTo>
                  <a:lnTo>
                    <a:pt x="168" y="820"/>
                  </a:lnTo>
                  <a:lnTo>
                    <a:pt x="136" y="790"/>
                  </a:lnTo>
                  <a:lnTo>
                    <a:pt x="106" y="756"/>
                  </a:lnTo>
                  <a:lnTo>
                    <a:pt x="80" y="722"/>
                  </a:lnTo>
                  <a:lnTo>
                    <a:pt x="56" y="682"/>
                  </a:lnTo>
                  <a:lnTo>
                    <a:pt x="36" y="642"/>
                  </a:lnTo>
                  <a:lnTo>
                    <a:pt x="22" y="600"/>
                  </a:lnTo>
                  <a:lnTo>
                    <a:pt x="10" y="556"/>
                  </a:lnTo>
                  <a:lnTo>
                    <a:pt x="2" y="510"/>
                  </a:lnTo>
                  <a:lnTo>
                    <a:pt x="0" y="486"/>
                  </a:lnTo>
                  <a:lnTo>
                    <a:pt x="0" y="462"/>
                  </a:lnTo>
                  <a:lnTo>
                    <a:pt x="0" y="462"/>
                  </a:lnTo>
                  <a:lnTo>
                    <a:pt x="0" y="438"/>
                  </a:lnTo>
                  <a:lnTo>
                    <a:pt x="2" y="416"/>
                  </a:lnTo>
                  <a:lnTo>
                    <a:pt x="10" y="370"/>
                  </a:lnTo>
                  <a:lnTo>
                    <a:pt x="22" y="326"/>
                  </a:lnTo>
                  <a:lnTo>
                    <a:pt x="36" y="282"/>
                  </a:lnTo>
                  <a:lnTo>
                    <a:pt x="56" y="242"/>
                  </a:lnTo>
                  <a:lnTo>
                    <a:pt x="80" y="204"/>
                  </a:lnTo>
                  <a:lnTo>
                    <a:pt x="106" y="168"/>
                  </a:lnTo>
                  <a:lnTo>
                    <a:pt x="136" y="136"/>
                  </a:lnTo>
                  <a:lnTo>
                    <a:pt x="168" y="106"/>
                  </a:lnTo>
                  <a:lnTo>
                    <a:pt x="204" y="80"/>
                  </a:lnTo>
                  <a:lnTo>
                    <a:pt x="242" y="56"/>
                  </a:lnTo>
                  <a:lnTo>
                    <a:pt x="282" y="38"/>
                  </a:lnTo>
                  <a:lnTo>
                    <a:pt x="324" y="22"/>
                  </a:lnTo>
                  <a:lnTo>
                    <a:pt x="370" y="10"/>
                  </a:lnTo>
                  <a:lnTo>
                    <a:pt x="416" y="4"/>
                  </a:lnTo>
                  <a:lnTo>
                    <a:pt x="438" y="2"/>
                  </a:lnTo>
                  <a:lnTo>
                    <a:pt x="462" y="0"/>
                  </a:lnTo>
                  <a:lnTo>
                    <a:pt x="462" y="0"/>
                  </a:lnTo>
                  <a:lnTo>
                    <a:pt x="486" y="2"/>
                  </a:lnTo>
                  <a:lnTo>
                    <a:pt x="510" y="4"/>
                  </a:lnTo>
                  <a:lnTo>
                    <a:pt x="556" y="10"/>
                  </a:lnTo>
                  <a:lnTo>
                    <a:pt x="600" y="22"/>
                  </a:lnTo>
                  <a:lnTo>
                    <a:pt x="642" y="38"/>
                  </a:lnTo>
                  <a:lnTo>
                    <a:pt x="682" y="56"/>
                  </a:lnTo>
                  <a:lnTo>
                    <a:pt x="720" y="80"/>
                  </a:lnTo>
                  <a:lnTo>
                    <a:pt x="756" y="106"/>
                  </a:lnTo>
                  <a:lnTo>
                    <a:pt x="790" y="136"/>
                  </a:lnTo>
                  <a:lnTo>
                    <a:pt x="818" y="168"/>
                  </a:lnTo>
                  <a:lnTo>
                    <a:pt x="846" y="204"/>
                  </a:lnTo>
                  <a:lnTo>
                    <a:pt x="868" y="242"/>
                  </a:lnTo>
                  <a:lnTo>
                    <a:pt x="888" y="282"/>
                  </a:lnTo>
                  <a:lnTo>
                    <a:pt x="904" y="326"/>
                  </a:lnTo>
                  <a:lnTo>
                    <a:pt x="914" y="370"/>
                  </a:lnTo>
                  <a:lnTo>
                    <a:pt x="922" y="416"/>
                  </a:lnTo>
                  <a:lnTo>
                    <a:pt x="924" y="438"/>
                  </a:lnTo>
                  <a:lnTo>
                    <a:pt x="924" y="462"/>
                  </a:lnTo>
                  <a:lnTo>
                    <a:pt x="924" y="462"/>
                  </a:lnTo>
                  <a:close/>
                </a:path>
              </a:pathLst>
            </a:custGeom>
            <a:solidFill>
              <a:srgbClr val="f6a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78"/>
            <p:cNvSpPr/>
            <p:nvPr/>
          </p:nvSpPr>
          <p:spPr>
            <a:xfrm>
              <a:off x="8289720" y="8400960"/>
              <a:ext cx="1435320" cy="1431720"/>
            </a:xfrm>
            <a:custGeom>
              <a:avLst/>
              <a:gdLst>
                <a:gd name="textAreaLeft" fmla="*/ 0 w 1435320"/>
                <a:gd name="textAreaRight" fmla="*/ 1435680 w 1435320"/>
                <a:gd name="textAreaTop" fmla="*/ 0 h 1431720"/>
                <a:gd name="textAreaBottom" fmla="*/ 1432080 h 1431720"/>
              </a:gdLst>
              <a:ahLst/>
              <a:rect l="textAreaLeft" t="textAreaTop" r="textAreaRight" b="textAreaBottom"/>
              <a:pathLst>
                <a:path w="904" h="902">
                  <a:moveTo>
                    <a:pt x="904" y="452"/>
                  </a:moveTo>
                  <a:lnTo>
                    <a:pt x="904" y="452"/>
                  </a:lnTo>
                  <a:lnTo>
                    <a:pt x="900" y="498"/>
                  </a:lnTo>
                  <a:lnTo>
                    <a:pt x="894" y="542"/>
                  </a:lnTo>
                  <a:lnTo>
                    <a:pt x="884" y="586"/>
                  </a:lnTo>
                  <a:lnTo>
                    <a:pt x="868" y="626"/>
                  </a:lnTo>
                  <a:lnTo>
                    <a:pt x="848" y="666"/>
                  </a:lnTo>
                  <a:lnTo>
                    <a:pt x="826" y="704"/>
                  </a:lnTo>
                  <a:lnTo>
                    <a:pt x="800" y="738"/>
                  </a:lnTo>
                  <a:lnTo>
                    <a:pt x="772" y="770"/>
                  </a:lnTo>
                  <a:lnTo>
                    <a:pt x="740" y="800"/>
                  </a:lnTo>
                  <a:lnTo>
                    <a:pt x="704" y="826"/>
                  </a:lnTo>
                  <a:lnTo>
                    <a:pt x="668" y="848"/>
                  </a:lnTo>
                  <a:lnTo>
                    <a:pt x="628" y="868"/>
                  </a:lnTo>
                  <a:lnTo>
                    <a:pt x="586" y="882"/>
                  </a:lnTo>
                  <a:lnTo>
                    <a:pt x="542" y="894"/>
                  </a:lnTo>
                  <a:lnTo>
                    <a:pt x="498" y="900"/>
                  </a:lnTo>
                  <a:lnTo>
                    <a:pt x="452" y="902"/>
                  </a:lnTo>
                  <a:lnTo>
                    <a:pt x="452" y="902"/>
                  </a:lnTo>
                  <a:lnTo>
                    <a:pt x="406" y="900"/>
                  </a:lnTo>
                  <a:lnTo>
                    <a:pt x="360" y="894"/>
                  </a:lnTo>
                  <a:lnTo>
                    <a:pt x="318" y="882"/>
                  </a:lnTo>
                  <a:lnTo>
                    <a:pt x="276" y="868"/>
                  </a:lnTo>
                  <a:lnTo>
                    <a:pt x="236" y="848"/>
                  </a:lnTo>
                  <a:lnTo>
                    <a:pt x="200" y="826"/>
                  </a:lnTo>
                  <a:lnTo>
                    <a:pt x="164" y="800"/>
                  </a:lnTo>
                  <a:lnTo>
                    <a:pt x="132" y="770"/>
                  </a:lnTo>
                  <a:lnTo>
                    <a:pt x="104" y="738"/>
                  </a:lnTo>
                  <a:lnTo>
                    <a:pt x="78" y="704"/>
                  </a:lnTo>
                  <a:lnTo>
                    <a:pt x="56" y="666"/>
                  </a:lnTo>
                  <a:lnTo>
                    <a:pt x="36" y="626"/>
                  </a:lnTo>
                  <a:lnTo>
                    <a:pt x="20" y="586"/>
                  </a:lnTo>
                  <a:lnTo>
                    <a:pt x="10" y="542"/>
                  </a:lnTo>
                  <a:lnTo>
                    <a:pt x="2" y="498"/>
                  </a:lnTo>
                  <a:lnTo>
                    <a:pt x="0" y="452"/>
                  </a:lnTo>
                  <a:lnTo>
                    <a:pt x="0" y="452"/>
                  </a:lnTo>
                  <a:lnTo>
                    <a:pt x="2" y="406"/>
                  </a:lnTo>
                  <a:lnTo>
                    <a:pt x="10" y="360"/>
                  </a:lnTo>
                  <a:lnTo>
                    <a:pt x="20" y="316"/>
                  </a:lnTo>
                  <a:lnTo>
                    <a:pt x="36" y="276"/>
                  </a:lnTo>
                  <a:lnTo>
                    <a:pt x="56" y="236"/>
                  </a:lnTo>
                  <a:lnTo>
                    <a:pt x="78" y="198"/>
                  </a:lnTo>
                  <a:lnTo>
                    <a:pt x="104" y="164"/>
                  </a:lnTo>
                  <a:lnTo>
                    <a:pt x="132" y="132"/>
                  </a:lnTo>
                  <a:lnTo>
                    <a:pt x="164" y="102"/>
                  </a:lnTo>
                  <a:lnTo>
                    <a:pt x="200" y="76"/>
                  </a:lnTo>
                  <a:lnTo>
                    <a:pt x="236" y="54"/>
                  </a:lnTo>
                  <a:lnTo>
                    <a:pt x="276" y="36"/>
                  </a:lnTo>
                  <a:lnTo>
                    <a:pt x="318" y="20"/>
                  </a:lnTo>
                  <a:lnTo>
                    <a:pt x="360" y="8"/>
                  </a:lnTo>
                  <a:lnTo>
                    <a:pt x="406" y="2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98" y="2"/>
                  </a:lnTo>
                  <a:lnTo>
                    <a:pt x="542" y="8"/>
                  </a:lnTo>
                  <a:lnTo>
                    <a:pt x="586" y="20"/>
                  </a:lnTo>
                  <a:lnTo>
                    <a:pt x="628" y="36"/>
                  </a:lnTo>
                  <a:lnTo>
                    <a:pt x="668" y="54"/>
                  </a:lnTo>
                  <a:lnTo>
                    <a:pt x="704" y="76"/>
                  </a:lnTo>
                  <a:lnTo>
                    <a:pt x="740" y="102"/>
                  </a:lnTo>
                  <a:lnTo>
                    <a:pt x="772" y="132"/>
                  </a:lnTo>
                  <a:lnTo>
                    <a:pt x="800" y="164"/>
                  </a:lnTo>
                  <a:lnTo>
                    <a:pt x="826" y="198"/>
                  </a:lnTo>
                  <a:lnTo>
                    <a:pt x="848" y="236"/>
                  </a:lnTo>
                  <a:lnTo>
                    <a:pt x="868" y="276"/>
                  </a:lnTo>
                  <a:lnTo>
                    <a:pt x="884" y="316"/>
                  </a:lnTo>
                  <a:lnTo>
                    <a:pt x="894" y="360"/>
                  </a:lnTo>
                  <a:lnTo>
                    <a:pt x="900" y="406"/>
                  </a:lnTo>
                  <a:lnTo>
                    <a:pt x="904" y="452"/>
                  </a:lnTo>
                  <a:lnTo>
                    <a:pt x="904" y="452"/>
                  </a:lnTo>
                  <a:close/>
                </a:path>
              </a:pathLst>
            </a:custGeom>
            <a:solidFill>
              <a:srgbClr val="f6a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79"/>
            <p:cNvSpPr/>
            <p:nvPr/>
          </p:nvSpPr>
          <p:spPr>
            <a:xfrm>
              <a:off x="8296200" y="8410680"/>
              <a:ext cx="1400400" cy="1400040"/>
            </a:xfrm>
            <a:custGeom>
              <a:avLst/>
              <a:gdLst>
                <a:gd name="textAreaLeft" fmla="*/ 0 w 1400400"/>
                <a:gd name="textAreaRight" fmla="*/ 1400400 w 140040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2" h="882">
                  <a:moveTo>
                    <a:pt x="882" y="442"/>
                  </a:moveTo>
                  <a:lnTo>
                    <a:pt x="882" y="442"/>
                  </a:lnTo>
                  <a:lnTo>
                    <a:pt x="880" y="486"/>
                  </a:lnTo>
                  <a:lnTo>
                    <a:pt x="874" y="530"/>
                  </a:lnTo>
                  <a:lnTo>
                    <a:pt x="862" y="572"/>
                  </a:lnTo>
                  <a:lnTo>
                    <a:pt x="848" y="614"/>
                  </a:lnTo>
                  <a:lnTo>
                    <a:pt x="830" y="652"/>
                  </a:lnTo>
                  <a:lnTo>
                    <a:pt x="806" y="688"/>
                  </a:lnTo>
                  <a:lnTo>
                    <a:pt x="782" y="722"/>
                  </a:lnTo>
                  <a:lnTo>
                    <a:pt x="754" y="754"/>
                  </a:lnTo>
                  <a:lnTo>
                    <a:pt x="722" y="782"/>
                  </a:lnTo>
                  <a:lnTo>
                    <a:pt x="688" y="808"/>
                  </a:lnTo>
                  <a:lnTo>
                    <a:pt x="652" y="830"/>
                  </a:lnTo>
                  <a:lnTo>
                    <a:pt x="614" y="848"/>
                  </a:lnTo>
                  <a:lnTo>
                    <a:pt x="572" y="862"/>
                  </a:lnTo>
                  <a:lnTo>
                    <a:pt x="530" y="874"/>
                  </a:lnTo>
                  <a:lnTo>
                    <a:pt x="486" y="880"/>
                  </a:lnTo>
                  <a:lnTo>
                    <a:pt x="442" y="882"/>
                  </a:lnTo>
                  <a:lnTo>
                    <a:pt x="442" y="882"/>
                  </a:lnTo>
                  <a:lnTo>
                    <a:pt x="396" y="880"/>
                  </a:lnTo>
                  <a:lnTo>
                    <a:pt x="352" y="874"/>
                  </a:lnTo>
                  <a:lnTo>
                    <a:pt x="310" y="862"/>
                  </a:lnTo>
                  <a:lnTo>
                    <a:pt x="270" y="848"/>
                  </a:lnTo>
                  <a:lnTo>
                    <a:pt x="232" y="830"/>
                  </a:lnTo>
                  <a:lnTo>
                    <a:pt x="196" y="808"/>
                  </a:lnTo>
                  <a:lnTo>
                    <a:pt x="162" y="782"/>
                  </a:lnTo>
                  <a:lnTo>
                    <a:pt x="130" y="754"/>
                  </a:lnTo>
                  <a:lnTo>
                    <a:pt x="102" y="722"/>
                  </a:lnTo>
                  <a:lnTo>
                    <a:pt x="76" y="688"/>
                  </a:lnTo>
                  <a:lnTo>
                    <a:pt x="54" y="652"/>
                  </a:lnTo>
                  <a:lnTo>
                    <a:pt x="36" y="614"/>
                  </a:lnTo>
                  <a:lnTo>
                    <a:pt x="20" y="572"/>
                  </a:lnTo>
                  <a:lnTo>
                    <a:pt x="10" y="530"/>
                  </a:lnTo>
                  <a:lnTo>
                    <a:pt x="4" y="486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4" y="396"/>
                  </a:lnTo>
                  <a:lnTo>
                    <a:pt x="10" y="352"/>
                  </a:lnTo>
                  <a:lnTo>
                    <a:pt x="20" y="310"/>
                  </a:lnTo>
                  <a:lnTo>
                    <a:pt x="36" y="270"/>
                  </a:lnTo>
                  <a:lnTo>
                    <a:pt x="54" y="232"/>
                  </a:lnTo>
                  <a:lnTo>
                    <a:pt x="76" y="196"/>
                  </a:lnTo>
                  <a:lnTo>
                    <a:pt x="102" y="162"/>
                  </a:lnTo>
                  <a:lnTo>
                    <a:pt x="130" y="130"/>
                  </a:lnTo>
                  <a:lnTo>
                    <a:pt x="162" y="102"/>
                  </a:lnTo>
                  <a:lnTo>
                    <a:pt x="196" y="76"/>
                  </a:lnTo>
                  <a:lnTo>
                    <a:pt x="232" y="54"/>
                  </a:lnTo>
                  <a:lnTo>
                    <a:pt x="270" y="36"/>
                  </a:lnTo>
                  <a:lnTo>
                    <a:pt x="310" y="20"/>
                  </a:lnTo>
                  <a:lnTo>
                    <a:pt x="352" y="10"/>
                  </a:lnTo>
                  <a:lnTo>
                    <a:pt x="396" y="4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86" y="4"/>
                  </a:lnTo>
                  <a:lnTo>
                    <a:pt x="530" y="10"/>
                  </a:lnTo>
                  <a:lnTo>
                    <a:pt x="572" y="20"/>
                  </a:lnTo>
                  <a:lnTo>
                    <a:pt x="614" y="36"/>
                  </a:lnTo>
                  <a:lnTo>
                    <a:pt x="652" y="54"/>
                  </a:lnTo>
                  <a:lnTo>
                    <a:pt x="688" y="76"/>
                  </a:lnTo>
                  <a:lnTo>
                    <a:pt x="722" y="102"/>
                  </a:lnTo>
                  <a:lnTo>
                    <a:pt x="754" y="130"/>
                  </a:lnTo>
                  <a:lnTo>
                    <a:pt x="782" y="162"/>
                  </a:lnTo>
                  <a:lnTo>
                    <a:pt x="806" y="196"/>
                  </a:lnTo>
                  <a:lnTo>
                    <a:pt x="830" y="232"/>
                  </a:lnTo>
                  <a:lnTo>
                    <a:pt x="848" y="270"/>
                  </a:lnTo>
                  <a:lnTo>
                    <a:pt x="862" y="310"/>
                  </a:lnTo>
                  <a:lnTo>
                    <a:pt x="874" y="352"/>
                  </a:lnTo>
                  <a:lnTo>
                    <a:pt x="880" y="396"/>
                  </a:lnTo>
                  <a:lnTo>
                    <a:pt x="882" y="442"/>
                  </a:lnTo>
                  <a:lnTo>
                    <a:pt x="882" y="442"/>
                  </a:lnTo>
                  <a:close/>
                </a:path>
              </a:pathLst>
            </a:custGeom>
            <a:solidFill>
              <a:srgbClr val="f6a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80"/>
            <p:cNvSpPr/>
            <p:nvPr/>
          </p:nvSpPr>
          <p:spPr>
            <a:xfrm>
              <a:off x="8305560" y="8423280"/>
              <a:ext cx="1365480" cy="136512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860" h="860">
                  <a:moveTo>
                    <a:pt x="860" y="430"/>
                  </a:moveTo>
                  <a:lnTo>
                    <a:pt x="860" y="430"/>
                  </a:lnTo>
                  <a:lnTo>
                    <a:pt x="856" y="474"/>
                  </a:lnTo>
                  <a:lnTo>
                    <a:pt x="850" y="516"/>
                  </a:lnTo>
                  <a:lnTo>
                    <a:pt x="840" y="558"/>
                  </a:lnTo>
                  <a:lnTo>
                    <a:pt x="826" y="598"/>
                  </a:lnTo>
                  <a:lnTo>
                    <a:pt x="808" y="636"/>
                  </a:lnTo>
                  <a:lnTo>
                    <a:pt x="786" y="670"/>
                  </a:lnTo>
                  <a:lnTo>
                    <a:pt x="760" y="704"/>
                  </a:lnTo>
                  <a:lnTo>
                    <a:pt x="734" y="734"/>
                  </a:lnTo>
                  <a:lnTo>
                    <a:pt x="702" y="762"/>
                  </a:lnTo>
                  <a:lnTo>
                    <a:pt x="670" y="786"/>
                  </a:lnTo>
                  <a:lnTo>
                    <a:pt x="634" y="808"/>
                  </a:lnTo>
                  <a:lnTo>
                    <a:pt x="596" y="826"/>
                  </a:lnTo>
                  <a:lnTo>
                    <a:pt x="558" y="840"/>
                  </a:lnTo>
                  <a:lnTo>
                    <a:pt x="516" y="852"/>
                  </a:lnTo>
                  <a:lnTo>
                    <a:pt x="474" y="858"/>
                  </a:lnTo>
                  <a:lnTo>
                    <a:pt x="430" y="860"/>
                  </a:lnTo>
                  <a:lnTo>
                    <a:pt x="430" y="860"/>
                  </a:lnTo>
                  <a:lnTo>
                    <a:pt x="386" y="858"/>
                  </a:lnTo>
                  <a:lnTo>
                    <a:pt x="342" y="852"/>
                  </a:lnTo>
                  <a:lnTo>
                    <a:pt x="302" y="840"/>
                  </a:lnTo>
                  <a:lnTo>
                    <a:pt x="262" y="826"/>
                  </a:lnTo>
                  <a:lnTo>
                    <a:pt x="224" y="808"/>
                  </a:lnTo>
                  <a:lnTo>
                    <a:pt x="188" y="786"/>
                  </a:lnTo>
                  <a:lnTo>
                    <a:pt x="156" y="762"/>
                  </a:lnTo>
                  <a:lnTo>
                    <a:pt x="124" y="734"/>
                  </a:lnTo>
                  <a:lnTo>
                    <a:pt x="98" y="704"/>
                  </a:lnTo>
                  <a:lnTo>
                    <a:pt x="72" y="670"/>
                  </a:lnTo>
                  <a:lnTo>
                    <a:pt x="50" y="636"/>
                  </a:lnTo>
                  <a:lnTo>
                    <a:pt x="32" y="598"/>
                  </a:lnTo>
                  <a:lnTo>
                    <a:pt x="18" y="558"/>
                  </a:lnTo>
                  <a:lnTo>
                    <a:pt x="8" y="516"/>
                  </a:lnTo>
                  <a:lnTo>
                    <a:pt x="2" y="474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2" y="386"/>
                  </a:lnTo>
                  <a:lnTo>
                    <a:pt x="8" y="344"/>
                  </a:lnTo>
                  <a:lnTo>
                    <a:pt x="18" y="302"/>
                  </a:lnTo>
                  <a:lnTo>
                    <a:pt x="32" y="262"/>
                  </a:lnTo>
                  <a:lnTo>
                    <a:pt x="50" y="226"/>
                  </a:lnTo>
                  <a:lnTo>
                    <a:pt x="72" y="190"/>
                  </a:lnTo>
                  <a:lnTo>
                    <a:pt x="98" y="156"/>
                  </a:lnTo>
                  <a:lnTo>
                    <a:pt x="124" y="126"/>
                  </a:lnTo>
                  <a:lnTo>
                    <a:pt x="156" y="98"/>
                  </a:lnTo>
                  <a:lnTo>
                    <a:pt x="188" y="74"/>
                  </a:lnTo>
                  <a:lnTo>
                    <a:pt x="224" y="52"/>
                  </a:lnTo>
                  <a:lnTo>
                    <a:pt x="262" y="34"/>
                  </a:lnTo>
                  <a:lnTo>
                    <a:pt x="302" y="20"/>
                  </a:lnTo>
                  <a:lnTo>
                    <a:pt x="342" y="8"/>
                  </a:lnTo>
                  <a:lnTo>
                    <a:pt x="386" y="2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74" y="2"/>
                  </a:lnTo>
                  <a:lnTo>
                    <a:pt x="516" y="8"/>
                  </a:lnTo>
                  <a:lnTo>
                    <a:pt x="558" y="20"/>
                  </a:lnTo>
                  <a:lnTo>
                    <a:pt x="596" y="34"/>
                  </a:lnTo>
                  <a:lnTo>
                    <a:pt x="634" y="52"/>
                  </a:lnTo>
                  <a:lnTo>
                    <a:pt x="670" y="74"/>
                  </a:lnTo>
                  <a:lnTo>
                    <a:pt x="702" y="98"/>
                  </a:lnTo>
                  <a:lnTo>
                    <a:pt x="734" y="126"/>
                  </a:lnTo>
                  <a:lnTo>
                    <a:pt x="760" y="156"/>
                  </a:lnTo>
                  <a:lnTo>
                    <a:pt x="786" y="190"/>
                  </a:lnTo>
                  <a:lnTo>
                    <a:pt x="808" y="226"/>
                  </a:lnTo>
                  <a:lnTo>
                    <a:pt x="826" y="262"/>
                  </a:lnTo>
                  <a:lnTo>
                    <a:pt x="840" y="302"/>
                  </a:lnTo>
                  <a:lnTo>
                    <a:pt x="850" y="344"/>
                  </a:lnTo>
                  <a:lnTo>
                    <a:pt x="856" y="386"/>
                  </a:lnTo>
                  <a:lnTo>
                    <a:pt x="860" y="430"/>
                  </a:lnTo>
                  <a:lnTo>
                    <a:pt x="860" y="430"/>
                  </a:lnTo>
                  <a:close/>
                </a:path>
              </a:pathLst>
            </a:custGeom>
            <a:solidFill>
              <a:srgbClr val="f6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81"/>
            <p:cNvSpPr/>
            <p:nvPr/>
          </p:nvSpPr>
          <p:spPr>
            <a:xfrm>
              <a:off x="8312040" y="8432640"/>
              <a:ext cx="1330560" cy="1333440"/>
            </a:xfrm>
            <a:custGeom>
              <a:avLst/>
              <a:gdLst>
                <a:gd name="textAreaLeft" fmla="*/ 0 w 1330560"/>
                <a:gd name="textAreaRight" fmla="*/ 1330560 w 13305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838" h="840">
                  <a:moveTo>
                    <a:pt x="838" y="420"/>
                  </a:moveTo>
                  <a:lnTo>
                    <a:pt x="838" y="420"/>
                  </a:lnTo>
                  <a:lnTo>
                    <a:pt x="836" y="464"/>
                  </a:lnTo>
                  <a:lnTo>
                    <a:pt x="830" y="504"/>
                  </a:lnTo>
                  <a:lnTo>
                    <a:pt x="820" y="546"/>
                  </a:lnTo>
                  <a:lnTo>
                    <a:pt x="806" y="584"/>
                  </a:lnTo>
                  <a:lnTo>
                    <a:pt x="788" y="620"/>
                  </a:lnTo>
                  <a:lnTo>
                    <a:pt x="766" y="654"/>
                  </a:lnTo>
                  <a:lnTo>
                    <a:pt x="742" y="688"/>
                  </a:lnTo>
                  <a:lnTo>
                    <a:pt x="716" y="718"/>
                  </a:lnTo>
                  <a:lnTo>
                    <a:pt x="686" y="744"/>
                  </a:lnTo>
                  <a:lnTo>
                    <a:pt x="654" y="768"/>
                  </a:lnTo>
                  <a:lnTo>
                    <a:pt x="618" y="790"/>
                  </a:lnTo>
                  <a:lnTo>
                    <a:pt x="582" y="806"/>
                  </a:lnTo>
                  <a:lnTo>
                    <a:pt x="544" y="822"/>
                  </a:lnTo>
                  <a:lnTo>
                    <a:pt x="504" y="832"/>
                  </a:lnTo>
                  <a:lnTo>
                    <a:pt x="462" y="838"/>
                  </a:lnTo>
                  <a:lnTo>
                    <a:pt x="418" y="840"/>
                  </a:lnTo>
                  <a:lnTo>
                    <a:pt x="418" y="840"/>
                  </a:lnTo>
                  <a:lnTo>
                    <a:pt x="376" y="838"/>
                  </a:lnTo>
                  <a:lnTo>
                    <a:pt x="334" y="832"/>
                  </a:lnTo>
                  <a:lnTo>
                    <a:pt x="294" y="822"/>
                  </a:lnTo>
                  <a:lnTo>
                    <a:pt x="256" y="806"/>
                  </a:lnTo>
                  <a:lnTo>
                    <a:pt x="218" y="790"/>
                  </a:lnTo>
                  <a:lnTo>
                    <a:pt x="184" y="768"/>
                  </a:lnTo>
                  <a:lnTo>
                    <a:pt x="152" y="744"/>
                  </a:lnTo>
                  <a:lnTo>
                    <a:pt x="122" y="718"/>
                  </a:lnTo>
                  <a:lnTo>
                    <a:pt x="96" y="688"/>
                  </a:lnTo>
                  <a:lnTo>
                    <a:pt x="70" y="654"/>
                  </a:lnTo>
                  <a:lnTo>
                    <a:pt x="50" y="620"/>
                  </a:lnTo>
                  <a:lnTo>
                    <a:pt x="32" y="584"/>
                  </a:lnTo>
                  <a:lnTo>
                    <a:pt x="18" y="546"/>
                  </a:lnTo>
                  <a:lnTo>
                    <a:pt x="8" y="504"/>
                  </a:lnTo>
                  <a:lnTo>
                    <a:pt x="2" y="464"/>
                  </a:lnTo>
                  <a:lnTo>
                    <a:pt x="0" y="420"/>
                  </a:lnTo>
                  <a:lnTo>
                    <a:pt x="0" y="420"/>
                  </a:lnTo>
                  <a:lnTo>
                    <a:pt x="2" y="378"/>
                  </a:lnTo>
                  <a:lnTo>
                    <a:pt x="8" y="336"/>
                  </a:lnTo>
                  <a:lnTo>
                    <a:pt x="18" y="296"/>
                  </a:lnTo>
                  <a:lnTo>
                    <a:pt x="32" y="258"/>
                  </a:lnTo>
                  <a:lnTo>
                    <a:pt x="50" y="220"/>
                  </a:lnTo>
                  <a:lnTo>
                    <a:pt x="70" y="186"/>
                  </a:lnTo>
                  <a:lnTo>
                    <a:pt x="96" y="154"/>
                  </a:lnTo>
                  <a:lnTo>
                    <a:pt x="122" y="124"/>
                  </a:lnTo>
                  <a:lnTo>
                    <a:pt x="152" y="96"/>
                  </a:lnTo>
                  <a:lnTo>
                    <a:pt x="184" y="72"/>
                  </a:lnTo>
                  <a:lnTo>
                    <a:pt x="218" y="52"/>
                  </a:lnTo>
                  <a:lnTo>
                    <a:pt x="256" y="34"/>
                  </a:lnTo>
                  <a:lnTo>
                    <a:pt x="294" y="20"/>
                  </a:lnTo>
                  <a:lnTo>
                    <a:pt x="334" y="10"/>
                  </a:lnTo>
                  <a:lnTo>
                    <a:pt x="376" y="4"/>
                  </a:lnTo>
                  <a:lnTo>
                    <a:pt x="418" y="0"/>
                  </a:lnTo>
                  <a:lnTo>
                    <a:pt x="418" y="0"/>
                  </a:lnTo>
                  <a:lnTo>
                    <a:pt x="462" y="4"/>
                  </a:lnTo>
                  <a:lnTo>
                    <a:pt x="504" y="10"/>
                  </a:lnTo>
                  <a:lnTo>
                    <a:pt x="544" y="20"/>
                  </a:lnTo>
                  <a:lnTo>
                    <a:pt x="582" y="34"/>
                  </a:lnTo>
                  <a:lnTo>
                    <a:pt x="618" y="52"/>
                  </a:lnTo>
                  <a:lnTo>
                    <a:pt x="654" y="72"/>
                  </a:lnTo>
                  <a:lnTo>
                    <a:pt x="686" y="96"/>
                  </a:lnTo>
                  <a:lnTo>
                    <a:pt x="716" y="124"/>
                  </a:lnTo>
                  <a:lnTo>
                    <a:pt x="742" y="154"/>
                  </a:lnTo>
                  <a:lnTo>
                    <a:pt x="766" y="186"/>
                  </a:lnTo>
                  <a:lnTo>
                    <a:pt x="788" y="220"/>
                  </a:lnTo>
                  <a:lnTo>
                    <a:pt x="806" y="258"/>
                  </a:lnTo>
                  <a:lnTo>
                    <a:pt x="820" y="296"/>
                  </a:lnTo>
                  <a:lnTo>
                    <a:pt x="830" y="336"/>
                  </a:lnTo>
                  <a:lnTo>
                    <a:pt x="836" y="378"/>
                  </a:lnTo>
                  <a:lnTo>
                    <a:pt x="838" y="420"/>
                  </a:lnTo>
                  <a:lnTo>
                    <a:pt x="838" y="420"/>
                  </a:lnTo>
                  <a:close/>
                </a:path>
              </a:pathLst>
            </a:custGeom>
            <a:solidFill>
              <a:srgbClr val="f7b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82"/>
            <p:cNvSpPr/>
            <p:nvPr/>
          </p:nvSpPr>
          <p:spPr>
            <a:xfrm>
              <a:off x="8318160" y="8445600"/>
              <a:ext cx="1298520" cy="1298520"/>
            </a:xfrm>
            <a:custGeom>
              <a:avLst/>
              <a:gdLst/>
              <a:ahLst/>
              <a:rect l="l" t="t" r="r" b="b"/>
              <a:pathLst>
                <a:path w="818" h="818">
                  <a:moveTo>
                    <a:pt x="818" y="408"/>
                  </a:moveTo>
                  <a:lnTo>
                    <a:pt x="818" y="408"/>
                  </a:lnTo>
                  <a:lnTo>
                    <a:pt x="814" y="450"/>
                  </a:lnTo>
                  <a:lnTo>
                    <a:pt x="808" y="492"/>
                  </a:lnTo>
                  <a:lnTo>
                    <a:pt x="798" y="530"/>
                  </a:lnTo>
                  <a:lnTo>
                    <a:pt x="784" y="568"/>
                  </a:lnTo>
                  <a:lnTo>
                    <a:pt x="768" y="604"/>
                  </a:lnTo>
                  <a:lnTo>
                    <a:pt x="748" y="638"/>
                  </a:lnTo>
                  <a:lnTo>
                    <a:pt x="724" y="668"/>
                  </a:lnTo>
                  <a:lnTo>
                    <a:pt x="698" y="698"/>
                  </a:lnTo>
                  <a:lnTo>
                    <a:pt x="668" y="724"/>
                  </a:lnTo>
                  <a:lnTo>
                    <a:pt x="636" y="748"/>
                  </a:lnTo>
                  <a:lnTo>
                    <a:pt x="604" y="768"/>
                  </a:lnTo>
                  <a:lnTo>
                    <a:pt x="568" y="786"/>
                  </a:lnTo>
                  <a:lnTo>
                    <a:pt x="530" y="800"/>
                  </a:lnTo>
                  <a:lnTo>
                    <a:pt x="490" y="810"/>
                  </a:lnTo>
                  <a:lnTo>
                    <a:pt x="450" y="816"/>
                  </a:lnTo>
                  <a:lnTo>
                    <a:pt x="408" y="818"/>
                  </a:lnTo>
                  <a:lnTo>
                    <a:pt x="408" y="818"/>
                  </a:lnTo>
                  <a:lnTo>
                    <a:pt x="366" y="816"/>
                  </a:lnTo>
                  <a:lnTo>
                    <a:pt x="326" y="810"/>
                  </a:lnTo>
                  <a:lnTo>
                    <a:pt x="286" y="800"/>
                  </a:lnTo>
                  <a:lnTo>
                    <a:pt x="250" y="786"/>
                  </a:lnTo>
                  <a:lnTo>
                    <a:pt x="214" y="768"/>
                  </a:lnTo>
                  <a:lnTo>
                    <a:pt x="180" y="748"/>
                  </a:lnTo>
                  <a:lnTo>
                    <a:pt x="148" y="724"/>
                  </a:lnTo>
                  <a:lnTo>
                    <a:pt x="120" y="698"/>
                  </a:lnTo>
                  <a:lnTo>
                    <a:pt x="92" y="668"/>
                  </a:lnTo>
                  <a:lnTo>
                    <a:pt x="70" y="638"/>
                  </a:lnTo>
                  <a:lnTo>
                    <a:pt x="48" y="604"/>
                  </a:lnTo>
                  <a:lnTo>
                    <a:pt x="32" y="568"/>
                  </a:lnTo>
                  <a:lnTo>
                    <a:pt x="18" y="530"/>
                  </a:lnTo>
                  <a:lnTo>
                    <a:pt x="8" y="492"/>
                  </a:lnTo>
                  <a:lnTo>
                    <a:pt x="2" y="450"/>
                  </a:lnTo>
                  <a:lnTo>
                    <a:pt x="0" y="408"/>
                  </a:lnTo>
                  <a:lnTo>
                    <a:pt x="0" y="408"/>
                  </a:lnTo>
                  <a:lnTo>
                    <a:pt x="2" y="368"/>
                  </a:lnTo>
                  <a:lnTo>
                    <a:pt x="8" y="326"/>
                  </a:lnTo>
                  <a:lnTo>
                    <a:pt x="18" y="288"/>
                  </a:lnTo>
                  <a:lnTo>
                    <a:pt x="32" y="250"/>
                  </a:lnTo>
                  <a:lnTo>
                    <a:pt x="48" y="214"/>
                  </a:lnTo>
                  <a:lnTo>
                    <a:pt x="70" y="180"/>
                  </a:lnTo>
                  <a:lnTo>
                    <a:pt x="92" y="148"/>
                  </a:lnTo>
                  <a:lnTo>
                    <a:pt x="120" y="120"/>
                  </a:lnTo>
                  <a:lnTo>
                    <a:pt x="148" y="94"/>
                  </a:lnTo>
                  <a:lnTo>
                    <a:pt x="180" y="70"/>
                  </a:lnTo>
                  <a:lnTo>
                    <a:pt x="214" y="50"/>
                  </a:lnTo>
                  <a:lnTo>
                    <a:pt x="250" y="32"/>
                  </a:lnTo>
                  <a:lnTo>
                    <a:pt x="286" y="18"/>
                  </a:lnTo>
                  <a:lnTo>
                    <a:pt x="326" y="8"/>
                  </a:lnTo>
                  <a:lnTo>
                    <a:pt x="366" y="2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50" y="2"/>
                  </a:lnTo>
                  <a:lnTo>
                    <a:pt x="490" y="8"/>
                  </a:lnTo>
                  <a:lnTo>
                    <a:pt x="530" y="18"/>
                  </a:lnTo>
                  <a:lnTo>
                    <a:pt x="568" y="32"/>
                  </a:lnTo>
                  <a:lnTo>
                    <a:pt x="604" y="50"/>
                  </a:lnTo>
                  <a:lnTo>
                    <a:pt x="636" y="70"/>
                  </a:lnTo>
                  <a:lnTo>
                    <a:pt x="668" y="94"/>
                  </a:lnTo>
                  <a:lnTo>
                    <a:pt x="698" y="120"/>
                  </a:lnTo>
                  <a:lnTo>
                    <a:pt x="724" y="148"/>
                  </a:lnTo>
                  <a:lnTo>
                    <a:pt x="748" y="180"/>
                  </a:lnTo>
                  <a:lnTo>
                    <a:pt x="768" y="214"/>
                  </a:lnTo>
                  <a:lnTo>
                    <a:pt x="784" y="250"/>
                  </a:lnTo>
                  <a:lnTo>
                    <a:pt x="798" y="288"/>
                  </a:lnTo>
                  <a:lnTo>
                    <a:pt x="808" y="326"/>
                  </a:lnTo>
                  <a:lnTo>
                    <a:pt x="814" y="368"/>
                  </a:lnTo>
                  <a:lnTo>
                    <a:pt x="818" y="408"/>
                  </a:lnTo>
                  <a:lnTo>
                    <a:pt x="818" y="408"/>
                  </a:lnTo>
                  <a:close/>
                </a:path>
              </a:pathLst>
            </a:custGeom>
            <a:solidFill>
              <a:srgbClr val="f7b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83"/>
            <p:cNvSpPr/>
            <p:nvPr/>
          </p:nvSpPr>
          <p:spPr>
            <a:xfrm>
              <a:off x="8324640" y="8458200"/>
              <a:ext cx="1263600" cy="12636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796" h="796">
                  <a:moveTo>
                    <a:pt x="796" y="398"/>
                  </a:moveTo>
                  <a:lnTo>
                    <a:pt x="796" y="398"/>
                  </a:lnTo>
                  <a:lnTo>
                    <a:pt x="794" y="438"/>
                  </a:lnTo>
                  <a:lnTo>
                    <a:pt x="788" y="478"/>
                  </a:lnTo>
                  <a:lnTo>
                    <a:pt x="778" y="516"/>
                  </a:lnTo>
                  <a:lnTo>
                    <a:pt x="764" y="552"/>
                  </a:lnTo>
                  <a:lnTo>
                    <a:pt x="748" y="588"/>
                  </a:lnTo>
                  <a:lnTo>
                    <a:pt x="728" y="620"/>
                  </a:lnTo>
                  <a:lnTo>
                    <a:pt x="706" y="650"/>
                  </a:lnTo>
                  <a:lnTo>
                    <a:pt x="680" y="678"/>
                  </a:lnTo>
                  <a:lnTo>
                    <a:pt x="652" y="704"/>
                  </a:lnTo>
                  <a:lnTo>
                    <a:pt x="620" y="728"/>
                  </a:lnTo>
                  <a:lnTo>
                    <a:pt x="588" y="748"/>
                  </a:lnTo>
                  <a:lnTo>
                    <a:pt x="552" y="764"/>
                  </a:lnTo>
                  <a:lnTo>
                    <a:pt x="516" y="778"/>
                  </a:lnTo>
                  <a:lnTo>
                    <a:pt x="478" y="788"/>
                  </a:lnTo>
                  <a:lnTo>
                    <a:pt x="438" y="794"/>
                  </a:lnTo>
                  <a:lnTo>
                    <a:pt x="398" y="796"/>
                  </a:lnTo>
                  <a:lnTo>
                    <a:pt x="398" y="796"/>
                  </a:lnTo>
                  <a:lnTo>
                    <a:pt x="358" y="794"/>
                  </a:lnTo>
                  <a:lnTo>
                    <a:pt x="318" y="788"/>
                  </a:lnTo>
                  <a:lnTo>
                    <a:pt x="280" y="778"/>
                  </a:lnTo>
                  <a:lnTo>
                    <a:pt x="242" y="764"/>
                  </a:lnTo>
                  <a:lnTo>
                    <a:pt x="208" y="748"/>
                  </a:lnTo>
                  <a:lnTo>
                    <a:pt x="176" y="728"/>
                  </a:lnTo>
                  <a:lnTo>
                    <a:pt x="144" y="704"/>
                  </a:lnTo>
                  <a:lnTo>
                    <a:pt x="116" y="678"/>
                  </a:lnTo>
                  <a:lnTo>
                    <a:pt x="90" y="650"/>
                  </a:lnTo>
                  <a:lnTo>
                    <a:pt x="68" y="620"/>
                  </a:lnTo>
                  <a:lnTo>
                    <a:pt x="48" y="588"/>
                  </a:lnTo>
                  <a:lnTo>
                    <a:pt x="30" y="552"/>
                  </a:lnTo>
                  <a:lnTo>
                    <a:pt x="18" y="516"/>
                  </a:lnTo>
                  <a:lnTo>
                    <a:pt x="8" y="478"/>
                  </a:lnTo>
                  <a:lnTo>
                    <a:pt x="2" y="43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2" y="356"/>
                  </a:lnTo>
                  <a:lnTo>
                    <a:pt x="8" y="316"/>
                  </a:lnTo>
                  <a:lnTo>
                    <a:pt x="18" y="278"/>
                  </a:lnTo>
                  <a:lnTo>
                    <a:pt x="30" y="242"/>
                  </a:lnTo>
                  <a:lnTo>
                    <a:pt x="48" y="208"/>
                  </a:lnTo>
                  <a:lnTo>
                    <a:pt x="68" y="174"/>
                  </a:lnTo>
                  <a:lnTo>
                    <a:pt x="90" y="144"/>
                  </a:lnTo>
                  <a:lnTo>
                    <a:pt x="116" y="116"/>
                  </a:lnTo>
                  <a:lnTo>
                    <a:pt x="144" y="90"/>
                  </a:lnTo>
                  <a:lnTo>
                    <a:pt x="176" y="68"/>
                  </a:lnTo>
                  <a:lnTo>
                    <a:pt x="208" y="48"/>
                  </a:lnTo>
                  <a:lnTo>
                    <a:pt x="242" y="30"/>
                  </a:lnTo>
                  <a:lnTo>
                    <a:pt x="280" y="16"/>
                  </a:lnTo>
                  <a:lnTo>
                    <a:pt x="318" y="8"/>
                  </a:lnTo>
                  <a:lnTo>
                    <a:pt x="358" y="2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438" y="2"/>
                  </a:lnTo>
                  <a:lnTo>
                    <a:pt x="478" y="8"/>
                  </a:lnTo>
                  <a:lnTo>
                    <a:pt x="516" y="16"/>
                  </a:lnTo>
                  <a:lnTo>
                    <a:pt x="552" y="30"/>
                  </a:lnTo>
                  <a:lnTo>
                    <a:pt x="588" y="48"/>
                  </a:lnTo>
                  <a:lnTo>
                    <a:pt x="620" y="68"/>
                  </a:lnTo>
                  <a:lnTo>
                    <a:pt x="652" y="90"/>
                  </a:lnTo>
                  <a:lnTo>
                    <a:pt x="680" y="116"/>
                  </a:lnTo>
                  <a:lnTo>
                    <a:pt x="706" y="144"/>
                  </a:lnTo>
                  <a:lnTo>
                    <a:pt x="728" y="174"/>
                  </a:lnTo>
                  <a:lnTo>
                    <a:pt x="748" y="208"/>
                  </a:lnTo>
                  <a:lnTo>
                    <a:pt x="764" y="242"/>
                  </a:lnTo>
                  <a:lnTo>
                    <a:pt x="778" y="278"/>
                  </a:lnTo>
                  <a:lnTo>
                    <a:pt x="788" y="316"/>
                  </a:lnTo>
                  <a:lnTo>
                    <a:pt x="794" y="356"/>
                  </a:lnTo>
                  <a:lnTo>
                    <a:pt x="796" y="398"/>
                  </a:lnTo>
                  <a:lnTo>
                    <a:pt x="796" y="398"/>
                  </a:lnTo>
                  <a:close/>
                </a:path>
              </a:pathLst>
            </a:custGeom>
            <a:solidFill>
              <a:srgbClr val="f7b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84"/>
            <p:cNvSpPr/>
            <p:nvPr/>
          </p:nvSpPr>
          <p:spPr>
            <a:xfrm>
              <a:off x="8331120" y="8467560"/>
              <a:ext cx="1228680" cy="123156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774" h="776">
                  <a:moveTo>
                    <a:pt x="774" y="388"/>
                  </a:moveTo>
                  <a:lnTo>
                    <a:pt x="774" y="388"/>
                  </a:lnTo>
                  <a:lnTo>
                    <a:pt x="772" y="428"/>
                  </a:lnTo>
                  <a:lnTo>
                    <a:pt x="768" y="466"/>
                  </a:lnTo>
                  <a:lnTo>
                    <a:pt x="758" y="502"/>
                  </a:lnTo>
                  <a:lnTo>
                    <a:pt x="744" y="538"/>
                  </a:lnTo>
                  <a:lnTo>
                    <a:pt x="728" y="572"/>
                  </a:lnTo>
                  <a:lnTo>
                    <a:pt x="708" y="604"/>
                  </a:lnTo>
                  <a:lnTo>
                    <a:pt x="686" y="634"/>
                  </a:lnTo>
                  <a:lnTo>
                    <a:pt x="662" y="662"/>
                  </a:lnTo>
                  <a:lnTo>
                    <a:pt x="634" y="686"/>
                  </a:lnTo>
                  <a:lnTo>
                    <a:pt x="604" y="708"/>
                  </a:lnTo>
                  <a:lnTo>
                    <a:pt x="572" y="728"/>
                  </a:lnTo>
                  <a:lnTo>
                    <a:pt x="538" y="744"/>
                  </a:lnTo>
                  <a:lnTo>
                    <a:pt x="502" y="758"/>
                  </a:lnTo>
                  <a:lnTo>
                    <a:pt x="466" y="768"/>
                  </a:lnTo>
                  <a:lnTo>
                    <a:pt x="428" y="774"/>
                  </a:lnTo>
                  <a:lnTo>
                    <a:pt x="388" y="776"/>
                  </a:lnTo>
                  <a:lnTo>
                    <a:pt x="388" y="776"/>
                  </a:lnTo>
                  <a:lnTo>
                    <a:pt x="348" y="774"/>
                  </a:lnTo>
                  <a:lnTo>
                    <a:pt x="310" y="768"/>
                  </a:lnTo>
                  <a:lnTo>
                    <a:pt x="272" y="758"/>
                  </a:lnTo>
                  <a:lnTo>
                    <a:pt x="236" y="744"/>
                  </a:lnTo>
                  <a:lnTo>
                    <a:pt x="202" y="728"/>
                  </a:lnTo>
                  <a:lnTo>
                    <a:pt x="170" y="708"/>
                  </a:lnTo>
                  <a:lnTo>
                    <a:pt x="140" y="686"/>
                  </a:lnTo>
                  <a:lnTo>
                    <a:pt x="114" y="662"/>
                  </a:lnTo>
                  <a:lnTo>
                    <a:pt x="88" y="634"/>
                  </a:lnTo>
                  <a:lnTo>
                    <a:pt x="66" y="604"/>
                  </a:lnTo>
                  <a:lnTo>
                    <a:pt x="46" y="572"/>
                  </a:lnTo>
                  <a:lnTo>
                    <a:pt x="30" y="538"/>
                  </a:lnTo>
                  <a:lnTo>
                    <a:pt x="18" y="502"/>
                  </a:lnTo>
                  <a:lnTo>
                    <a:pt x="8" y="466"/>
                  </a:lnTo>
                  <a:lnTo>
                    <a:pt x="2" y="428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2" y="348"/>
                  </a:lnTo>
                  <a:lnTo>
                    <a:pt x="8" y="310"/>
                  </a:lnTo>
                  <a:lnTo>
                    <a:pt x="18" y="272"/>
                  </a:lnTo>
                  <a:lnTo>
                    <a:pt x="30" y="236"/>
                  </a:lnTo>
                  <a:lnTo>
                    <a:pt x="46" y="202"/>
                  </a:lnTo>
                  <a:lnTo>
                    <a:pt x="66" y="170"/>
                  </a:lnTo>
                  <a:lnTo>
                    <a:pt x="88" y="142"/>
                  </a:lnTo>
                  <a:lnTo>
                    <a:pt x="114" y="114"/>
                  </a:lnTo>
                  <a:lnTo>
                    <a:pt x="140" y="88"/>
                  </a:lnTo>
                  <a:lnTo>
                    <a:pt x="170" y="66"/>
                  </a:lnTo>
                  <a:lnTo>
                    <a:pt x="202" y="46"/>
                  </a:lnTo>
                  <a:lnTo>
                    <a:pt x="236" y="30"/>
                  </a:lnTo>
                  <a:lnTo>
                    <a:pt x="272" y="18"/>
                  </a:lnTo>
                  <a:lnTo>
                    <a:pt x="310" y="8"/>
                  </a:lnTo>
                  <a:lnTo>
                    <a:pt x="348" y="2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428" y="2"/>
                  </a:lnTo>
                  <a:lnTo>
                    <a:pt x="466" y="8"/>
                  </a:lnTo>
                  <a:lnTo>
                    <a:pt x="502" y="18"/>
                  </a:lnTo>
                  <a:lnTo>
                    <a:pt x="538" y="30"/>
                  </a:lnTo>
                  <a:lnTo>
                    <a:pt x="572" y="46"/>
                  </a:lnTo>
                  <a:lnTo>
                    <a:pt x="604" y="66"/>
                  </a:lnTo>
                  <a:lnTo>
                    <a:pt x="634" y="88"/>
                  </a:lnTo>
                  <a:lnTo>
                    <a:pt x="662" y="114"/>
                  </a:lnTo>
                  <a:lnTo>
                    <a:pt x="686" y="142"/>
                  </a:lnTo>
                  <a:lnTo>
                    <a:pt x="708" y="170"/>
                  </a:lnTo>
                  <a:lnTo>
                    <a:pt x="728" y="202"/>
                  </a:lnTo>
                  <a:lnTo>
                    <a:pt x="744" y="236"/>
                  </a:lnTo>
                  <a:lnTo>
                    <a:pt x="758" y="272"/>
                  </a:lnTo>
                  <a:lnTo>
                    <a:pt x="768" y="310"/>
                  </a:lnTo>
                  <a:lnTo>
                    <a:pt x="772" y="348"/>
                  </a:lnTo>
                  <a:lnTo>
                    <a:pt x="774" y="388"/>
                  </a:lnTo>
                  <a:lnTo>
                    <a:pt x="774" y="388"/>
                  </a:lnTo>
                  <a:close/>
                </a:path>
              </a:pathLst>
            </a:custGeom>
            <a:solidFill>
              <a:srgbClr val="f8b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85"/>
            <p:cNvSpPr/>
            <p:nvPr/>
          </p:nvSpPr>
          <p:spPr>
            <a:xfrm>
              <a:off x="8337240" y="8480520"/>
              <a:ext cx="1197000" cy="1193760"/>
            </a:xfrm>
            <a:custGeom>
              <a:avLst/>
              <a:gdLst>
                <a:gd name="textAreaLeft" fmla="*/ 0 w 1197000"/>
                <a:gd name="textAreaRight" fmla="*/ 1197360 w 1197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754" h="752">
                  <a:moveTo>
                    <a:pt x="754" y="376"/>
                  </a:moveTo>
                  <a:lnTo>
                    <a:pt x="754" y="376"/>
                  </a:lnTo>
                  <a:lnTo>
                    <a:pt x="752" y="414"/>
                  </a:lnTo>
                  <a:lnTo>
                    <a:pt x="746" y="452"/>
                  </a:lnTo>
                  <a:lnTo>
                    <a:pt x="736" y="488"/>
                  </a:lnTo>
                  <a:lnTo>
                    <a:pt x="724" y="522"/>
                  </a:lnTo>
                  <a:lnTo>
                    <a:pt x="708" y="556"/>
                  </a:lnTo>
                  <a:lnTo>
                    <a:pt x="690" y="586"/>
                  </a:lnTo>
                  <a:lnTo>
                    <a:pt x="668" y="616"/>
                  </a:lnTo>
                  <a:lnTo>
                    <a:pt x="644" y="642"/>
                  </a:lnTo>
                  <a:lnTo>
                    <a:pt x="616" y="666"/>
                  </a:lnTo>
                  <a:lnTo>
                    <a:pt x="588" y="688"/>
                  </a:lnTo>
                  <a:lnTo>
                    <a:pt x="556" y="708"/>
                  </a:lnTo>
                  <a:lnTo>
                    <a:pt x="524" y="724"/>
                  </a:lnTo>
                  <a:lnTo>
                    <a:pt x="490" y="736"/>
                  </a:lnTo>
                  <a:lnTo>
                    <a:pt x="452" y="746"/>
                  </a:lnTo>
                  <a:lnTo>
                    <a:pt x="416" y="752"/>
                  </a:lnTo>
                  <a:lnTo>
                    <a:pt x="378" y="752"/>
                  </a:lnTo>
                  <a:lnTo>
                    <a:pt x="378" y="752"/>
                  </a:lnTo>
                  <a:lnTo>
                    <a:pt x="338" y="752"/>
                  </a:lnTo>
                  <a:lnTo>
                    <a:pt x="302" y="746"/>
                  </a:lnTo>
                  <a:lnTo>
                    <a:pt x="264" y="736"/>
                  </a:lnTo>
                  <a:lnTo>
                    <a:pt x="230" y="724"/>
                  </a:lnTo>
                  <a:lnTo>
                    <a:pt x="198" y="708"/>
                  </a:lnTo>
                  <a:lnTo>
                    <a:pt x="166" y="688"/>
                  </a:lnTo>
                  <a:lnTo>
                    <a:pt x="138" y="666"/>
                  </a:lnTo>
                  <a:lnTo>
                    <a:pt x="110" y="642"/>
                  </a:lnTo>
                  <a:lnTo>
                    <a:pt x="86" y="616"/>
                  </a:lnTo>
                  <a:lnTo>
                    <a:pt x="64" y="586"/>
                  </a:lnTo>
                  <a:lnTo>
                    <a:pt x="46" y="556"/>
                  </a:lnTo>
                  <a:lnTo>
                    <a:pt x="30" y="522"/>
                  </a:lnTo>
                  <a:lnTo>
                    <a:pt x="18" y="488"/>
                  </a:lnTo>
                  <a:lnTo>
                    <a:pt x="8" y="452"/>
                  </a:lnTo>
                  <a:lnTo>
                    <a:pt x="2" y="414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2" y="338"/>
                  </a:lnTo>
                  <a:lnTo>
                    <a:pt x="8" y="300"/>
                  </a:lnTo>
                  <a:lnTo>
                    <a:pt x="18" y="264"/>
                  </a:lnTo>
                  <a:lnTo>
                    <a:pt x="30" y="230"/>
                  </a:lnTo>
                  <a:lnTo>
                    <a:pt x="46" y="196"/>
                  </a:lnTo>
                  <a:lnTo>
                    <a:pt x="64" y="166"/>
                  </a:lnTo>
                  <a:lnTo>
                    <a:pt x="86" y="136"/>
                  </a:lnTo>
                  <a:lnTo>
                    <a:pt x="110" y="110"/>
                  </a:lnTo>
                  <a:lnTo>
                    <a:pt x="138" y="86"/>
                  </a:lnTo>
                  <a:lnTo>
                    <a:pt x="166" y="64"/>
                  </a:lnTo>
                  <a:lnTo>
                    <a:pt x="198" y="44"/>
                  </a:lnTo>
                  <a:lnTo>
                    <a:pt x="230" y="28"/>
                  </a:lnTo>
                  <a:lnTo>
                    <a:pt x="264" y="16"/>
                  </a:lnTo>
                  <a:lnTo>
                    <a:pt x="302" y="6"/>
                  </a:lnTo>
                  <a:lnTo>
                    <a:pt x="338" y="2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16" y="2"/>
                  </a:lnTo>
                  <a:lnTo>
                    <a:pt x="452" y="6"/>
                  </a:lnTo>
                  <a:lnTo>
                    <a:pt x="490" y="16"/>
                  </a:lnTo>
                  <a:lnTo>
                    <a:pt x="524" y="28"/>
                  </a:lnTo>
                  <a:lnTo>
                    <a:pt x="556" y="44"/>
                  </a:lnTo>
                  <a:lnTo>
                    <a:pt x="588" y="64"/>
                  </a:lnTo>
                  <a:lnTo>
                    <a:pt x="616" y="86"/>
                  </a:lnTo>
                  <a:lnTo>
                    <a:pt x="644" y="110"/>
                  </a:lnTo>
                  <a:lnTo>
                    <a:pt x="668" y="136"/>
                  </a:lnTo>
                  <a:lnTo>
                    <a:pt x="690" y="166"/>
                  </a:lnTo>
                  <a:lnTo>
                    <a:pt x="708" y="196"/>
                  </a:lnTo>
                  <a:lnTo>
                    <a:pt x="724" y="230"/>
                  </a:lnTo>
                  <a:lnTo>
                    <a:pt x="736" y="264"/>
                  </a:lnTo>
                  <a:lnTo>
                    <a:pt x="746" y="300"/>
                  </a:lnTo>
                  <a:lnTo>
                    <a:pt x="752" y="338"/>
                  </a:lnTo>
                  <a:lnTo>
                    <a:pt x="754" y="376"/>
                  </a:lnTo>
                  <a:lnTo>
                    <a:pt x="754" y="376"/>
                  </a:lnTo>
                  <a:close/>
                </a:path>
              </a:pathLst>
            </a:custGeom>
            <a:solidFill>
              <a:srgbClr val="f8b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86"/>
            <p:cNvSpPr/>
            <p:nvPr/>
          </p:nvSpPr>
          <p:spPr>
            <a:xfrm>
              <a:off x="8343720" y="8489880"/>
              <a:ext cx="1162080" cy="116172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1161720"/>
                <a:gd name="textAreaBottom" fmla="*/ 1162080 h 1161720"/>
              </a:gdLst>
              <a:ahLst/>
              <a:rect l="textAreaLeft" t="textAreaTop" r="textAreaRight" b="textAreaBottom"/>
              <a:pathLst>
                <a:path w="732" h="732">
                  <a:moveTo>
                    <a:pt x="732" y="366"/>
                  </a:moveTo>
                  <a:lnTo>
                    <a:pt x="732" y="366"/>
                  </a:lnTo>
                  <a:lnTo>
                    <a:pt x="730" y="404"/>
                  </a:lnTo>
                  <a:lnTo>
                    <a:pt x="726" y="440"/>
                  </a:lnTo>
                  <a:lnTo>
                    <a:pt x="716" y="476"/>
                  </a:lnTo>
                  <a:lnTo>
                    <a:pt x="704" y="510"/>
                  </a:lnTo>
                  <a:lnTo>
                    <a:pt x="688" y="542"/>
                  </a:lnTo>
                  <a:lnTo>
                    <a:pt x="670" y="572"/>
                  </a:lnTo>
                  <a:lnTo>
                    <a:pt x="650" y="600"/>
                  </a:lnTo>
                  <a:lnTo>
                    <a:pt x="626" y="626"/>
                  </a:lnTo>
                  <a:lnTo>
                    <a:pt x="600" y="650"/>
                  </a:lnTo>
                  <a:lnTo>
                    <a:pt x="572" y="670"/>
                  </a:lnTo>
                  <a:lnTo>
                    <a:pt x="542" y="688"/>
                  </a:lnTo>
                  <a:lnTo>
                    <a:pt x="510" y="704"/>
                  </a:lnTo>
                  <a:lnTo>
                    <a:pt x="476" y="716"/>
                  </a:lnTo>
                  <a:lnTo>
                    <a:pt x="440" y="726"/>
                  </a:lnTo>
                  <a:lnTo>
                    <a:pt x="404" y="730"/>
                  </a:lnTo>
                  <a:lnTo>
                    <a:pt x="366" y="732"/>
                  </a:lnTo>
                  <a:lnTo>
                    <a:pt x="366" y="732"/>
                  </a:lnTo>
                  <a:lnTo>
                    <a:pt x="330" y="730"/>
                  </a:lnTo>
                  <a:lnTo>
                    <a:pt x="292" y="726"/>
                  </a:lnTo>
                  <a:lnTo>
                    <a:pt x="258" y="716"/>
                  </a:lnTo>
                  <a:lnTo>
                    <a:pt x="224" y="704"/>
                  </a:lnTo>
                  <a:lnTo>
                    <a:pt x="192" y="688"/>
                  </a:lnTo>
                  <a:lnTo>
                    <a:pt x="162" y="670"/>
                  </a:lnTo>
                  <a:lnTo>
                    <a:pt x="134" y="650"/>
                  </a:lnTo>
                  <a:lnTo>
                    <a:pt x="108" y="626"/>
                  </a:lnTo>
                  <a:lnTo>
                    <a:pt x="84" y="600"/>
                  </a:lnTo>
                  <a:lnTo>
                    <a:pt x="62" y="572"/>
                  </a:lnTo>
                  <a:lnTo>
                    <a:pt x="44" y="542"/>
                  </a:lnTo>
                  <a:lnTo>
                    <a:pt x="30" y="510"/>
                  </a:lnTo>
                  <a:lnTo>
                    <a:pt x="16" y="476"/>
                  </a:lnTo>
                  <a:lnTo>
                    <a:pt x="8" y="440"/>
                  </a:lnTo>
                  <a:lnTo>
                    <a:pt x="2" y="404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2" y="330"/>
                  </a:lnTo>
                  <a:lnTo>
                    <a:pt x="8" y="292"/>
                  </a:lnTo>
                  <a:lnTo>
                    <a:pt x="16" y="258"/>
                  </a:lnTo>
                  <a:lnTo>
                    <a:pt x="30" y="224"/>
                  </a:lnTo>
                  <a:lnTo>
                    <a:pt x="44" y="192"/>
                  </a:lnTo>
                  <a:lnTo>
                    <a:pt x="62" y="162"/>
                  </a:lnTo>
                  <a:lnTo>
                    <a:pt x="84" y="134"/>
                  </a:lnTo>
                  <a:lnTo>
                    <a:pt x="108" y="108"/>
                  </a:lnTo>
                  <a:lnTo>
                    <a:pt x="134" y="84"/>
                  </a:lnTo>
                  <a:lnTo>
                    <a:pt x="162" y="62"/>
                  </a:lnTo>
                  <a:lnTo>
                    <a:pt x="192" y="44"/>
                  </a:lnTo>
                  <a:lnTo>
                    <a:pt x="224" y="28"/>
                  </a:lnTo>
                  <a:lnTo>
                    <a:pt x="258" y="16"/>
                  </a:lnTo>
                  <a:lnTo>
                    <a:pt x="292" y="8"/>
                  </a:lnTo>
                  <a:lnTo>
                    <a:pt x="330" y="2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404" y="2"/>
                  </a:lnTo>
                  <a:lnTo>
                    <a:pt x="440" y="8"/>
                  </a:lnTo>
                  <a:lnTo>
                    <a:pt x="476" y="16"/>
                  </a:lnTo>
                  <a:lnTo>
                    <a:pt x="510" y="28"/>
                  </a:lnTo>
                  <a:lnTo>
                    <a:pt x="542" y="44"/>
                  </a:lnTo>
                  <a:lnTo>
                    <a:pt x="572" y="62"/>
                  </a:lnTo>
                  <a:lnTo>
                    <a:pt x="600" y="84"/>
                  </a:lnTo>
                  <a:lnTo>
                    <a:pt x="626" y="108"/>
                  </a:lnTo>
                  <a:lnTo>
                    <a:pt x="650" y="134"/>
                  </a:lnTo>
                  <a:lnTo>
                    <a:pt x="670" y="162"/>
                  </a:lnTo>
                  <a:lnTo>
                    <a:pt x="688" y="192"/>
                  </a:lnTo>
                  <a:lnTo>
                    <a:pt x="704" y="224"/>
                  </a:lnTo>
                  <a:lnTo>
                    <a:pt x="716" y="258"/>
                  </a:lnTo>
                  <a:lnTo>
                    <a:pt x="726" y="292"/>
                  </a:lnTo>
                  <a:lnTo>
                    <a:pt x="730" y="330"/>
                  </a:lnTo>
                  <a:lnTo>
                    <a:pt x="732" y="366"/>
                  </a:lnTo>
                  <a:lnTo>
                    <a:pt x="732" y="366"/>
                  </a:lnTo>
                  <a:close/>
                </a:path>
              </a:pathLst>
            </a:custGeom>
            <a:solidFill>
              <a:srgbClr val="f8b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87"/>
            <p:cNvSpPr/>
            <p:nvPr/>
          </p:nvSpPr>
          <p:spPr>
            <a:xfrm>
              <a:off x="8350200" y="8502480"/>
              <a:ext cx="1130400" cy="11268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126800"/>
                <a:gd name="textAreaBottom" fmla="*/ 1127160 h 1126800"/>
              </a:gdLst>
              <a:ahLst/>
              <a:rect l="textAreaLeft" t="textAreaTop" r="textAreaRight" b="textAreaBottom"/>
              <a:pathLst>
                <a:path w="712" h="710">
                  <a:moveTo>
                    <a:pt x="712" y="354"/>
                  </a:moveTo>
                  <a:lnTo>
                    <a:pt x="712" y="354"/>
                  </a:lnTo>
                  <a:lnTo>
                    <a:pt x="710" y="392"/>
                  </a:lnTo>
                  <a:lnTo>
                    <a:pt x="704" y="426"/>
                  </a:lnTo>
                  <a:lnTo>
                    <a:pt x="696" y="460"/>
                  </a:lnTo>
                  <a:lnTo>
                    <a:pt x="684" y="494"/>
                  </a:lnTo>
                  <a:lnTo>
                    <a:pt x="668" y="524"/>
                  </a:lnTo>
                  <a:lnTo>
                    <a:pt x="652" y="554"/>
                  </a:lnTo>
                  <a:lnTo>
                    <a:pt x="630" y="582"/>
                  </a:lnTo>
                  <a:lnTo>
                    <a:pt x="608" y="606"/>
                  </a:lnTo>
                  <a:lnTo>
                    <a:pt x="582" y="630"/>
                  </a:lnTo>
                  <a:lnTo>
                    <a:pt x="556" y="650"/>
                  </a:lnTo>
                  <a:lnTo>
                    <a:pt x="526" y="668"/>
                  </a:lnTo>
                  <a:lnTo>
                    <a:pt x="494" y="682"/>
                  </a:lnTo>
                  <a:lnTo>
                    <a:pt x="462" y="694"/>
                  </a:lnTo>
                  <a:lnTo>
                    <a:pt x="428" y="704"/>
                  </a:lnTo>
                  <a:lnTo>
                    <a:pt x="392" y="708"/>
                  </a:lnTo>
                  <a:lnTo>
                    <a:pt x="356" y="710"/>
                  </a:lnTo>
                  <a:lnTo>
                    <a:pt x="356" y="710"/>
                  </a:lnTo>
                  <a:lnTo>
                    <a:pt x="320" y="708"/>
                  </a:lnTo>
                  <a:lnTo>
                    <a:pt x="284" y="704"/>
                  </a:lnTo>
                  <a:lnTo>
                    <a:pt x="250" y="694"/>
                  </a:lnTo>
                  <a:lnTo>
                    <a:pt x="218" y="682"/>
                  </a:lnTo>
                  <a:lnTo>
                    <a:pt x="186" y="668"/>
                  </a:lnTo>
                  <a:lnTo>
                    <a:pt x="158" y="650"/>
                  </a:lnTo>
                  <a:lnTo>
                    <a:pt x="130" y="630"/>
                  </a:lnTo>
                  <a:lnTo>
                    <a:pt x="104" y="606"/>
                  </a:lnTo>
                  <a:lnTo>
                    <a:pt x="82" y="582"/>
                  </a:lnTo>
                  <a:lnTo>
                    <a:pt x="62" y="554"/>
                  </a:lnTo>
                  <a:lnTo>
                    <a:pt x="44" y="524"/>
                  </a:lnTo>
                  <a:lnTo>
                    <a:pt x="28" y="494"/>
                  </a:lnTo>
                  <a:lnTo>
                    <a:pt x="16" y="460"/>
                  </a:lnTo>
                  <a:lnTo>
                    <a:pt x="8" y="426"/>
                  </a:lnTo>
                  <a:lnTo>
                    <a:pt x="2" y="392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" y="318"/>
                  </a:lnTo>
                  <a:lnTo>
                    <a:pt x="8" y="284"/>
                  </a:lnTo>
                  <a:lnTo>
                    <a:pt x="16" y="250"/>
                  </a:lnTo>
                  <a:lnTo>
                    <a:pt x="28" y="216"/>
                  </a:lnTo>
                  <a:lnTo>
                    <a:pt x="44" y="186"/>
                  </a:lnTo>
                  <a:lnTo>
                    <a:pt x="62" y="156"/>
                  </a:lnTo>
                  <a:lnTo>
                    <a:pt x="82" y="128"/>
                  </a:lnTo>
                  <a:lnTo>
                    <a:pt x="104" y="104"/>
                  </a:lnTo>
                  <a:lnTo>
                    <a:pt x="130" y="80"/>
                  </a:lnTo>
                  <a:lnTo>
                    <a:pt x="158" y="60"/>
                  </a:lnTo>
                  <a:lnTo>
                    <a:pt x="186" y="42"/>
                  </a:lnTo>
                  <a:lnTo>
                    <a:pt x="218" y="28"/>
                  </a:lnTo>
                  <a:lnTo>
                    <a:pt x="250" y="16"/>
                  </a:lnTo>
                  <a:lnTo>
                    <a:pt x="284" y="6"/>
                  </a:lnTo>
                  <a:lnTo>
                    <a:pt x="320" y="2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392" y="2"/>
                  </a:lnTo>
                  <a:lnTo>
                    <a:pt x="428" y="6"/>
                  </a:lnTo>
                  <a:lnTo>
                    <a:pt x="462" y="16"/>
                  </a:lnTo>
                  <a:lnTo>
                    <a:pt x="494" y="28"/>
                  </a:lnTo>
                  <a:lnTo>
                    <a:pt x="526" y="42"/>
                  </a:lnTo>
                  <a:lnTo>
                    <a:pt x="556" y="60"/>
                  </a:lnTo>
                  <a:lnTo>
                    <a:pt x="582" y="80"/>
                  </a:lnTo>
                  <a:lnTo>
                    <a:pt x="608" y="104"/>
                  </a:lnTo>
                  <a:lnTo>
                    <a:pt x="630" y="128"/>
                  </a:lnTo>
                  <a:lnTo>
                    <a:pt x="652" y="156"/>
                  </a:lnTo>
                  <a:lnTo>
                    <a:pt x="668" y="186"/>
                  </a:lnTo>
                  <a:lnTo>
                    <a:pt x="684" y="216"/>
                  </a:lnTo>
                  <a:lnTo>
                    <a:pt x="696" y="250"/>
                  </a:lnTo>
                  <a:lnTo>
                    <a:pt x="704" y="284"/>
                  </a:lnTo>
                  <a:lnTo>
                    <a:pt x="710" y="318"/>
                  </a:lnTo>
                  <a:lnTo>
                    <a:pt x="712" y="354"/>
                  </a:lnTo>
                  <a:lnTo>
                    <a:pt x="712" y="354"/>
                  </a:lnTo>
                  <a:close/>
                </a:path>
              </a:pathLst>
            </a:custGeom>
            <a:solidFill>
              <a:srgbClr val="f8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88"/>
            <p:cNvSpPr/>
            <p:nvPr/>
          </p:nvSpPr>
          <p:spPr>
            <a:xfrm>
              <a:off x="8356320" y="8512200"/>
              <a:ext cx="1095480" cy="1095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690" h="690">
                  <a:moveTo>
                    <a:pt x="690" y="346"/>
                  </a:moveTo>
                  <a:lnTo>
                    <a:pt x="690" y="346"/>
                  </a:lnTo>
                  <a:lnTo>
                    <a:pt x="688" y="380"/>
                  </a:lnTo>
                  <a:lnTo>
                    <a:pt x="684" y="414"/>
                  </a:lnTo>
                  <a:lnTo>
                    <a:pt x="676" y="448"/>
                  </a:lnTo>
                  <a:lnTo>
                    <a:pt x="664" y="480"/>
                  </a:lnTo>
                  <a:lnTo>
                    <a:pt x="650" y="510"/>
                  </a:lnTo>
                  <a:lnTo>
                    <a:pt x="632" y="538"/>
                  </a:lnTo>
                  <a:lnTo>
                    <a:pt x="612" y="564"/>
                  </a:lnTo>
                  <a:lnTo>
                    <a:pt x="590" y="590"/>
                  </a:lnTo>
                  <a:lnTo>
                    <a:pt x="566" y="612"/>
                  </a:lnTo>
                  <a:lnTo>
                    <a:pt x="538" y="632"/>
                  </a:lnTo>
                  <a:lnTo>
                    <a:pt x="510" y="648"/>
                  </a:lnTo>
                  <a:lnTo>
                    <a:pt x="480" y="664"/>
                  </a:lnTo>
                  <a:lnTo>
                    <a:pt x="448" y="674"/>
                  </a:lnTo>
                  <a:lnTo>
                    <a:pt x="416" y="684"/>
                  </a:lnTo>
                  <a:lnTo>
                    <a:pt x="382" y="688"/>
                  </a:lnTo>
                  <a:lnTo>
                    <a:pt x="346" y="690"/>
                  </a:lnTo>
                  <a:lnTo>
                    <a:pt x="346" y="690"/>
                  </a:lnTo>
                  <a:lnTo>
                    <a:pt x="310" y="688"/>
                  </a:lnTo>
                  <a:lnTo>
                    <a:pt x="276" y="684"/>
                  </a:lnTo>
                  <a:lnTo>
                    <a:pt x="244" y="674"/>
                  </a:lnTo>
                  <a:lnTo>
                    <a:pt x="212" y="664"/>
                  </a:lnTo>
                  <a:lnTo>
                    <a:pt x="182" y="648"/>
                  </a:lnTo>
                  <a:lnTo>
                    <a:pt x="152" y="632"/>
                  </a:lnTo>
                  <a:lnTo>
                    <a:pt x="126" y="612"/>
                  </a:lnTo>
                  <a:lnTo>
                    <a:pt x="102" y="590"/>
                  </a:lnTo>
                  <a:lnTo>
                    <a:pt x="80" y="564"/>
                  </a:lnTo>
                  <a:lnTo>
                    <a:pt x="60" y="538"/>
                  </a:lnTo>
                  <a:lnTo>
                    <a:pt x="42" y="510"/>
                  </a:lnTo>
                  <a:lnTo>
                    <a:pt x="28" y="480"/>
                  </a:lnTo>
                  <a:lnTo>
                    <a:pt x="16" y="448"/>
                  </a:lnTo>
                  <a:lnTo>
                    <a:pt x="8" y="414"/>
                  </a:lnTo>
                  <a:lnTo>
                    <a:pt x="2" y="380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2" y="310"/>
                  </a:lnTo>
                  <a:lnTo>
                    <a:pt x="8" y="276"/>
                  </a:lnTo>
                  <a:lnTo>
                    <a:pt x="16" y="242"/>
                  </a:lnTo>
                  <a:lnTo>
                    <a:pt x="28" y="212"/>
                  </a:lnTo>
                  <a:lnTo>
                    <a:pt x="42" y="180"/>
                  </a:lnTo>
                  <a:lnTo>
                    <a:pt x="60" y="152"/>
                  </a:lnTo>
                  <a:lnTo>
                    <a:pt x="80" y="126"/>
                  </a:lnTo>
                  <a:lnTo>
                    <a:pt x="102" y="102"/>
                  </a:lnTo>
                  <a:lnTo>
                    <a:pt x="126" y="80"/>
                  </a:lnTo>
                  <a:lnTo>
                    <a:pt x="152" y="60"/>
                  </a:lnTo>
                  <a:lnTo>
                    <a:pt x="182" y="42"/>
                  </a:lnTo>
                  <a:lnTo>
                    <a:pt x="212" y="28"/>
                  </a:lnTo>
                  <a:lnTo>
                    <a:pt x="244" y="16"/>
                  </a:lnTo>
                  <a:lnTo>
                    <a:pt x="276" y="8"/>
                  </a:lnTo>
                  <a:lnTo>
                    <a:pt x="310" y="2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82" y="2"/>
                  </a:lnTo>
                  <a:lnTo>
                    <a:pt x="416" y="8"/>
                  </a:lnTo>
                  <a:lnTo>
                    <a:pt x="448" y="16"/>
                  </a:lnTo>
                  <a:lnTo>
                    <a:pt x="480" y="28"/>
                  </a:lnTo>
                  <a:lnTo>
                    <a:pt x="510" y="42"/>
                  </a:lnTo>
                  <a:lnTo>
                    <a:pt x="538" y="60"/>
                  </a:lnTo>
                  <a:lnTo>
                    <a:pt x="566" y="80"/>
                  </a:lnTo>
                  <a:lnTo>
                    <a:pt x="590" y="102"/>
                  </a:lnTo>
                  <a:lnTo>
                    <a:pt x="612" y="126"/>
                  </a:lnTo>
                  <a:lnTo>
                    <a:pt x="632" y="152"/>
                  </a:lnTo>
                  <a:lnTo>
                    <a:pt x="650" y="180"/>
                  </a:lnTo>
                  <a:lnTo>
                    <a:pt x="664" y="212"/>
                  </a:lnTo>
                  <a:lnTo>
                    <a:pt x="676" y="242"/>
                  </a:lnTo>
                  <a:lnTo>
                    <a:pt x="684" y="276"/>
                  </a:lnTo>
                  <a:lnTo>
                    <a:pt x="688" y="310"/>
                  </a:lnTo>
                  <a:lnTo>
                    <a:pt x="690" y="346"/>
                  </a:lnTo>
                  <a:lnTo>
                    <a:pt x="690" y="346"/>
                  </a:lnTo>
                  <a:close/>
                </a:path>
              </a:pathLst>
            </a:custGeom>
            <a:solidFill>
              <a:srgbClr val="f9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289"/>
            <p:cNvSpPr/>
            <p:nvPr/>
          </p:nvSpPr>
          <p:spPr>
            <a:xfrm>
              <a:off x="8366040" y="8524800"/>
              <a:ext cx="1060560" cy="106020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668" h="668">
                  <a:moveTo>
                    <a:pt x="668" y="334"/>
                  </a:moveTo>
                  <a:lnTo>
                    <a:pt x="668" y="334"/>
                  </a:lnTo>
                  <a:lnTo>
                    <a:pt x="666" y="368"/>
                  </a:lnTo>
                  <a:lnTo>
                    <a:pt x="660" y="402"/>
                  </a:lnTo>
                  <a:lnTo>
                    <a:pt x="652" y="434"/>
                  </a:lnTo>
                  <a:lnTo>
                    <a:pt x="642" y="464"/>
                  </a:lnTo>
                  <a:lnTo>
                    <a:pt x="628" y="494"/>
                  </a:lnTo>
                  <a:lnTo>
                    <a:pt x="610" y="520"/>
                  </a:lnTo>
                  <a:lnTo>
                    <a:pt x="592" y="546"/>
                  </a:lnTo>
                  <a:lnTo>
                    <a:pt x="570" y="570"/>
                  </a:lnTo>
                  <a:lnTo>
                    <a:pt x="546" y="592"/>
                  </a:lnTo>
                  <a:lnTo>
                    <a:pt x="520" y="610"/>
                  </a:lnTo>
                  <a:lnTo>
                    <a:pt x="492" y="628"/>
                  </a:lnTo>
                  <a:lnTo>
                    <a:pt x="464" y="642"/>
                  </a:lnTo>
                  <a:lnTo>
                    <a:pt x="432" y="654"/>
                  </a:lnTo>
                  <a:lnTo>
                    <a:pt x="400" y="662"/>
                  </a:lnTo>
                  <a:lnTo>
                    <a:pt x="368" y="666"/>
                  </a:lnTo>
                  <a:lnTo>
                    <a:pt x="334" y="668"/>
                  </a:lnTo>
                  <a:lnTo>
                    <a:pt x="334" y="668"/>
                  </a:lnTo>
                  <a:lnTo>
                    <a:pt x="300" y="666"/>
                  </a:lnTo>
                  <a:lnTo>
                    <a:pt x="266" y="662"/>
                  </a:lnTo>
                  <a:lnTo>
                    <a:pt x="234" y="654"/>
                  </a:lnTo>
                  <a:lnTo>
                    <a:pt x="204" y="642"/>
                  </a:lnTo>
                  <a:lnTo>
                    <a:pt x="174" y="628"/>
                  </a:lnTo>
                  <a:lnTo>
                    <a:pt x="146" y="610"/>
                  </a:lnTo>
                  <a:lnTo>
                    <a:pt x="120" y="592"/>
                  </a:lnTo>
                  <a:lnTo>
                    <a:pt x="96" y="570"/>
                  </a:lnTo>
                  <a:lnTo>
                    <a:pt x="76" y="546"/>
                  </a:lnTo>
                  <a:lnTo>
                    <a:pt x="56" y="520"/>
                  </a:lnTo>
                  <a:lnTo>
                    <a:pt x="40" y="494"/>
                  </a:lnTo>
                  <a:lnTo>
                    <a:pt x="26" y="464"/>
                  </a:lnTo>
                  <a:lnTo>
                    <a:pt x="14" y="434"/>
                  </a:lnTo>
                  <a:lnTo>
                    <a:pt x="6" y="402"/>
                  </a:lnTo>
                  <a:lnTo>
                    <a:pt x="0" y="368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00"/>
                  </a:lnTo>
                  <a:lnTo>
                    <a:pt x="6" y="266"/>
                  </a:lnTo>
                  <a:lnTo>
                    <a:pt x="14" y="234"/>
                  </a:lnTo>
                  <a:lnTo>
                    <a:pt x="26" y="204"/>
                  </a:lnTo>
                  <a:lnTo>
                    <a:pt x="40" y="174"/>
                  </a:lnTo>
                  <a:lnTo>
                    <a:pt x="56" y="146"/>
                  </a:lnTo>
                  <a:lnTo>
                    <a:pt x="76" y="122"/>
                  </a:lnTo>
                  <a:lnTo>
                    <a:pt x="96" y="98"/>
                  </a:lnTo>
                  <a:lnTo>
                    <a:pt x="120" y="76"/>
                  </a:lnTo>
                  <a:lnTo>
                    <a:pt x="146" y="56"/>
                  </a:lnTo>
                  <a:lnTo>
                    <a:pt x="174" y="40"/>
                  </a:lnTo>
                  <a:lnTo>
                    <a:pt x="204" y="26"/>
                  </a:lnTo>
                  <a:lnTo>
                    <a:pt x="234" y="14"/>
                  </a:lnTo>
                  <a:lnTo>
                    <a:pt x="266" y="6"/>
                  </a:lnTo>
                  <a:lnTo>
                    <a:pt x="300" y="2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68" y="2"/>
                  </a:lnTo>
                  <a:lnTo>
                    <a:pt x="400" y="6"/>
                  </a:lnTo>
                  <a:lnTo>
                    <a:pt x="432" y="14"/>
                  </a:lnTo>
                  <a:lnTo>
                    <a:pt x="464" y="26"/>
                  </a:lnTo>
                  <a:lnTo>
                    <a:pt x="492" y="40"/>
                  </a:lnTo>
                  <a:lnTo>
                    <a:pt x="520" y="56"/>
                  </a:lnTo>
                  <a:lnTo>
                    <a:pt x="546" y="76"/>
                  </a:lnTo>
                  <a:lnTo>
                    <a:pt x="570" y="98"/>
                  </a:lnTo>
                  <a:lnTo>
                    <a:pt x="592" y="122"/>
                  </a:lnTo>
                  <a:lnTo>
                    <a:pt x="610" y="146"/>
                  </a:lnTo>
                  <a:lnTo>
                    <a:pt x="628" y="174"/>
                  </a:lnTo>
                  <a:lnTo>
                    <a:pt x="642" y="204"/>
                  </a:lnTo>
                  <a:lnTo>
                    <a:pt x="652" y="234"/>
                  </a:lnTo>
                  <a:lnTo>
                    <a:pt x="660" y="266"/>
                  </a:lnTo>
                  <a:lnTo>
                    <a:pt x="666" y="300"/>
                  </a:lnTo>
                  <a:lnTo>
                    <a:pt x="668" y="334"/>
                  </a:lnTo>
                  <a:lnTo>
                    <a:pt x="668" y="334"/>
                  </a:lnTo>
                  <a:close/>
                </a:path>
              </a:pathLst>
            </a:custGeom>
            <a:solidFill>
              <a:srgbClr val="f9c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290"/>
            <p:cNvSpPr/>
            <p:nvPr/>
          </p:nvSpPr>
          <p:spPr>
            <a:xfrm>
              <a:off x="8372160" y="8534520"/>
              <a:ext cx="1025640" cy="10285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646" h="648">
                  <a:moveTo>
                    <a:pt x="646" y="324"/>
                  </a:moveTo>
                  <a:lnTo>
                    <a:pt x="646" y="324"/>
                  </a:lnTo>
                  <a:lnTo>
                    <a:pt x="644" y="358"/>
                  </a:lnTo>
                  <a:lnTo>
                    <a:pt x="640" y="390"/>
                  </a:lnTo>
                  <a:lnTo>
                    <a:pt x="632" y="420"/>
                  </a:lnTo>
                  <a:lnTo>
                    <a:pt x="622" y="450"/>
                  </a:lnTo>
                  <a:lnTo>
                    <a:pt x="608" y="478"/>
                  </a:lnTo>
                  <a:lnTo>
                    <a:pt x="592" y="506"/>
                  </a:lnTo>
                  <a:lnTo>
                    <a:pt x="572" y="530"/>
                  </a:lnTo>
                  <a:lnTo>
                    <a:pt x="552" y="552"/>
                  </a:lnTo>
                  <a:lnTo>
                    <a:pt x="528" y="574"/>
                  </a:lnTo>
                  <a:lnTo>
                    <a:pt x="504" y="592"/>
                  </a:lnTo>
                  <a:lnTo>
                    <a:pt x="478" y="608"/>
                  </a:lnTo>
                  <a:lnTo>
                    <a:pt x="448" y="622"/>
                  </a:lnTo>
                  <a:lnTo>
                    <a:pt x="420" y="634"/>
                  </a:lnTo>
                  <a:lnTo>
                    <a:pt x="388" y="642"/>
                  </a:lnTo>
                  <a:lnTo>
                    <a:pt x="356" y="646"/>
                  </a:lnTo>
                  <a:lnTo>
                    <a:pt x="322" y="648"/>
                  </a:lnTo>
                  <a:lnTo>
                    <a:pt x="322" y="648"/>
                  </a:lnTo>
                  <a:lnTo>
                    <a:pt x="290" y="646"/>
                  </a:lnTo>
                  <a:lnTo>
                    <a:pt x="258" y="642"/>
                  </a:lnTo>
                  <a:lnTo>
                    <a:pt x="226" y="634"/>
                  </a:lnTo>
                  <a:lnTo>
                    <a:pt x="196" y="622"/>
                  </a:lnTo>
                  <a:lnTo>
                    <a:pt x="168" y="608"/>
                  </a:lnTo>
                  <a:lnTo>
                    <a:pt x="142" y="592"/>
                  </a:lnTo>
                  <a:lnTo>
                    <a:pt x="118" y="574"/>
                  </a:lnTo>
                  <a:lnTo>
                    <a:pt x="94" y="552"/>
                  </a:lnTo>
                  <a:lnTo>
                    <a:pt x="74" y="530"/>
                  </a:lnTo>
                  <a:lnTo>
                    <a:pt x="54" y="506"/>
                  </a:lnTo>
                  <a:lnTo>
                    <a:pt x="38" y="478"/>
                  </a:lnTo>
                  <a:lnTo>
                    <a:pt x="24" y="450"/>
                  </a:lnTo>
                  <a:lnTo>
                    <a:pt x="14" y="420"/>
                  </a:lnTo>
                  <a:lnTo>
                    <a:pt x="6" y="390"/>
                  </a:lnTo>
                  <a:lnTo>
                    <a:pt x="0" y="358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0" y="292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4" y="198"/>
                  </a:lnTo>
                  <a:lnTo>
                    <a:pt x="38" y="170"/>
                  </a:lnTo>
                  <a:lnTo>
                    <a:pt x="54" y="144"/>
                  </a:lnTo>
                  <a:lnTo>
                    <a:pt x="74" y="118"/>
                  </a:lnTo>
                  <a:lnTo>
                    <a:pt x="94" y="96"/>
                  </a:lnTo>
                  <a:lnTo>
                    <a:pt x="118" y="74"/>
                  </a:lnTo>
                  <a:lnTo>
                    <a:pt x="142" y="56"/>
                  </a:lnTo>
                  <a:lnTo>
                    <a:pt x="168" y="40"/>
                  </a:lnTo>
                  <a:lnTo>
                    <a:pt x="196" y="26"/>
                  </a:lnTo>
                  <a:lnTo>
                    <a:pt x="226" y="14"/>
                  </a:lnTo>
                  <a:lnTo>
                    <a:pt x="258" y="6"/>
                  </a:lnTo>
                  <a:lnTo>
                    <a:pt x="290" y="2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56" y="2"/>
                  </a:lnTo>
                  <a:lnTo>
                    <a:pt x="388" y="6"/>
                  </a:lnTo>
                  <a:lnTo>
                    <a:pt x="420" y="14"/>
                  </a:lnTo>
                  <a:lnTo>
                    <a:pt x="448" y="26"/>
                  </a:lnTo>
                  <a:lnTo>
                    <a:pt x="478" y="40"/>
                  </a:lnTo>
                  <a:lnTo>
                    <a:pt x="504" y="56"/>
                  </a:lnTo>
                  <a:lnTo>
                    <a:pt x="528" y="74"/>
                  </a:lnTo>
                  <a:lnTo>
                    <a:pt x="552" y="96"/>
                  </a:lnTo>
                  <a:lnTo>
                    <a:pt x="572" y="118"/>
                  </a:lnTo>
                  <a:lnTo>
                    <a:pt x="592" y="144"/>
                  </a:lnTo>
                  <a:lnTo>
                    <a:pt x="608" y="170"/>
                  </a:lnTo>
                  <a:lnTo>
                    <a:pt x="622" y="198"/>
                  </a:lnTo>
                  <a:lnTo>
                    <a:pt x="632" y="228"/>
                  </a:lnTo>
                  <a:lnTo>
                    <a:pt x="640" y="258"/>
                  </a:lnTo>
                  <a:lnTo>
                    <a:pt x="644" y="292"/>
                  </a:lnTo>
                  <a:lnTo>
                    <a:pt x="646" y="324"/>
                  </a:lnTo>
                  <a:lnTo>
                    <a:pt x="646" y="324"/>
                  </a:lnTo>
                  <a:close/>
                </a:path>
              </a:pathLst>
            </a:custGeom>
            <a:solidFill>
              <a:srgbClr val="f9c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291"/>
            <p:cNvSpPr/>
            <p:nvPr/>
          </p:nvSpPr>
          <p:spPr>
            <a:xfrm>
              <a:off x="8378640" y="8547120"/>
              <a:ext cx="993600" cy="9936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626" h="626">
                  <a:moveTo>
                    <a:pt x="626" y="312"/>
                  </a:moveTo>
                  <a:lnTo>
                    <a:pt x="626" y="312"/>
                  </a:lnTo>
                  <a:lnTo>
                    <a:pt x="624" y="344"/>
                  </a:lnTo>
                  <a:lnTo>
                    <a:pt x="620" y="376"/>
                  </a:lnTo>
                  <a:lnTo>
                    <a:pt x="612" y="406"/>
                  </a:lnTo>
                  <a:lnTo>
                    <a:pt x="600" y="434"/>
                  </a:lnTo>
                  <a:lnTo>
                    <a:pt x="588" y="462"/>
                  </a:lnTo>
                  <a:lnTo>
                    <a:pt x="572" y="488"/>
                  </a:lnTo>
                  <a:lnTo>
                    <a:pt x="554" y="512"/>
                  </a:lnTo>
                  <a:lnTo>
                    <a:pt x="534" y="534"/>
                  </a:lnTo>
                  <a:lnTo>
                    <a:pt x="512" y="554"/>
                  </a:lnTo>
                  <a:lnTo>
                    <a:pt x="488" y="572"/>
                  </a:lnTo>
                  <a:lnTo>
                    <a:pt x="462" y="588"/>
                  </a:lnTo>
                  <a:lnTo>
                    <a:pt x="434" y="600"/>
                  </a:lnTo>
                  <a:lnTo>
                    <a:pt x="406" y="612"/>
                  </a:lnTo>
                  <a:lnTo>
                    <a:pt x="376" y="620"/>
                  </a:lnTo>
                  <a:lnTo>
                    <a:pt x="344" y="624"/>
                  </a:lnTo>
                  <a:lnTo>
                    <a:pt x="312" y="626"/>
                  </a:lnTo>
                  <a:lnTo>
                    <a:pt x="312" y="626"/>
                  </a:lnTo>
                  <a:lnTo>
                    <a:pt x="280" y="624"/>
                  </a:lnTo>
                  <a:lnTo>
                    <a:pt x="250" y="620"/>
                  </a:lnTo>
                  <a:lnTo>
                    <a:pt x="220" y="612"/>
                  </a:lnTo>
                  <a:lnTo>
                    <a:pt x="190" y="600"/>
                  </a:lnTo>
                  <a:lnTo>
                    <a:pt x="164" y="588"/>
                  </a:lnTo>
                  <a:lnTo>
                    <a:pt x="138" y="572"/>
                  </a:lnTo>
                  <a:lnTo>
                    <a:pt x="114" y="554"/>
                  </a:lnTo>
                  <a:lnTo>
                    <a:pt x="92" y="534"/>
                  </a:lnTo>
                  <a:lnTo>
                    <a:pt x="70" y="512"/>
                  </a:lnTo>
                  <a:lnTo>
                    <a:pt x="52" y="488"/>
                  </a:lnTo>
                  <a:lnTo>
                    <a:pt x="38" y="462"/>
                  </a:lnTo>
                  <a:lnTo>
                    <a:pt x="24" y="434"/>
                  </a:lnTo>
                  <a:lnTo>
                    <a:pt x="14" y="406"/>
                  </a:lnTo>
                  <a:lnTo>
                    <a:pt x="6" y="376"/>
                  </a:lnTo>
                  <a:lnTo>
                    <a:pt x="2" y="344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2" y="280"/>
                  </a:lnTo>
                  <a:lnTo>
                    <a:pt x="6" y="250"/>
                  </a:lnTo>
                  <a:lnTo>
                    <a:pt x="14" y="220"/>
                  </a:lnTo>
                  <a:lnTo>
                    <a:pt x="24" y="190"/>
                  </a:lnTo>
                  <a:lnTo>
                    <a:pt x="38" y="164"/>
                  </a:lnTo>
                  <a:lnTo>
                    <a:pt x="52" y="138"/>
                  </a:lnTo>
                  <a:lnTo>
                    <a:pt x="70" y="114"/>
                  </a:lnTo>
                  <a:lnTo>
                    <a:pt x="92" y="92"/>
                  </a:lnTo>
                  <a:lnTo>
                    <a:pt x="114" y="70"/>
                  </a:lnTo>
                  <a:lnTo>
                    <a:pt x="138" y="52"/>
                  </a:lnTo>
                  <a:lnTo>
                    <a:pt x="164" y="38"/>
                  </a:lnTo>
                  <a:lnTo>
                    <a:pt x="190" y="24"/>
                  </a:lnTo>
                  <a:lnTo>
                    <a:pt x="220" y="14"/>
                  </a:lnTo>
                  <a:lnTo>
                    <a:pt x="250" y="6"/>
                  </a:lnTo>
                  <a:lnTo>
                    <a:pt x="280" y="2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44" y="2"/>
                  </a:lnTo>
                  <a:lnTo>
                    <a:pt x="376" y="6"/>
                  </a:lnTo>
                  <a:lnTo>
                    <a:pt x="406" y="14"/>
                  </a:lnTo>
                  <a:lnTo>
                    <a:pt x="434" y="24"/>
                  </a:lnTo>
                  <a:lnTo>
                    <a:pt x="462" y="38"/>
                  </a:lnTo>
                  <a:lnTo>
                    <a:pt x="488" y="52"/>
                  </a:lnTo>
                  <a:lnTo>
                    <a:pt x="512" y="70"/>
                  </a:lnTo>
                  <a:lnTo>
                    <a:pt x="534" y="92"/>
                  </a:lnTo>
                  <a:lnTo>
                    <a:pt x="554" y="114"/>
                  </a:lnTo>
                  <a:lnTo>
                    <a:pt x="572" y="138"/>
                  </a:lnTo>
                  <a:lnTo>
                    <a:pt x="588" y="164"/>
                  </a:lnTo>
                  <a:lnTo>
                    <a:pt x="600" y="190"/>
                  </a:lnTo>
                  <a:lnTo>
                    <a:pt x="612" y="220"/>
                  </a:lnTo>
                  <a:lnTo>
                    <a:pt x="620" y="250"/>
                  </a:lnTo>
                  <a:lnTo>
                    <a:pt x="624" y="280"/>
                  </a:lnTo>
                  <a:lnTo>
                    <a:pt x="626" y="312"/>
                  </a:lnTo>
                  <a:lnTo>
                    <a:pt x="626" y="312"/>
                  </a:lnTo>
                  <a:close/>
                </a:path>
              </a:pathLst>
            </a:custGeom>
            <a:solidFill>
              <a:srgbClr val="f9c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292"/>
            <p:cNvSpPr/>
            <p:nvPr/>
          </p:nvSpPr>
          <p:spPr>
            <a:xfrm>
              <a:off x="8385120" y="8556480"/>
              <a:ext cx="958680" cy="9619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4" h="606">
                  <a:moveTo>
                    <a:pt x="604" y="302"/>
                  </a:moveTo>
                  <a:lnTo>
                    <a:pt x="604" y="302"/>
                  </a:lnTo>
                  <a:lnTo>
                    <a:pt x="602" y="334"/>
                  </a:lnTo>
                  <a:lnTo>
                    <a:pt x="598" y="364"/>
                  </a:lnTo>
                  <a:lnTo>
                    <a:pt x="590" y="392"/>
                  </a:lnTo>
                  <a:lnTo>
                    <a:pt x="580" y="420"/>
                  </a:lnTo>
                  <a:lnTo>
                    <a:pt x="568" y="448"/>
                  </a:lnTo>
                  <a:lnTo>
                    <a:pt x="552" y="472"/>
                  </a:lnTo>
                  <a:lnTo>
                    <a:pt x="536" y="496"/>
                  </a:lnTo>
                  <a:lnTo>
                    <a:pt x="516" y="516"/>
                  </a:lnTo>
                  <a:lnTo>
                    <a:pt x="494" y="536"/>
                  </a:lnTo>
                  <a:lnTo>
                    <a:pt x="472" y="554"/>
                  </a:lnTo>
                  <a:lnTo>
                    <a:pt x="446" y="568"/>
                  </a:lnTo>
                  <a:lnTo>
                    <a:pt x="420" y="582"/>
                  </a:lnTo>
                  <a:lnTo>
                    <a:pt x="392" y="592"/>
                  </a:lnTo>
                  <a:lnTo>
                    <a:pt x="364" y="600"/>
                  </a:lnTo>
                  <a:lnTo>
                    <a:pt x="334" y="604"/>
                  </a:lnTo>
                  <a:lnTo>
                    <a:pt x="302" y="606"/>
                  </a:lnTo>
                  <a:lnTo>
                    <a:pt x="302" y="606"/>
                  </a:lnTo>
                  <a:lnTo>
                    <a:pt x="272" y="604"/>
                  </a:lnTo>
                  <a:lnTo>
                    <a:pt x="242" y="600"/>
                  </a:lnTo>
                  <a:lnTo>
                    <a:pt x="212" y="592"/>
                  </a:lnTo>
                  <a:lnTo>
                    <a:pt x="184" y="582"/>
                  </a:lnTo>
                  <a:lnTo>
                    <a:pt x="158" y="568"/>
                  </a:lnTo>
                  <a:lnTo>
                    <a:pt x="134" y="554"/>
                  </a:lnTo>
                  <a:lnTo>
                    <a:pt x="110" y="536"/>
                  </a:lnTo>
                  <a:lnTo>
                    <a:pt x="88" y="516"/>
                  </a:lnTo>
                  <a:lnTo>
                    <a:pt x="68" y="496"/>
                  </a:lnTo>
                  <a:lnTo>
                    <a:pt x="52" y="472"/>
                  </a:lnTo>
                  <a:lnTo>
                    <a:pt x="36" y="448"/>
                  </a:lnTo>
                  <a:lnTo>
                    <a:pt x="24" y="420"/>
                  </a:lnTo>
                  <a:lnTo>
                    <a:pt x="14" y="392"/>
                  </a:lnTo>
                  <a:lnTo>
                    <a:pt x="6" y="364"/>
                  </a:lnTo>
                  <a:lnTo>
                    <a:pt x="2" y="334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2" y="272"/>
                  </a:lnTo>
                  <a:lnTo>
                    <a:pt x="6" y="242"/>
                  </a:lnTo>
                  <a:lnTo>
                    <a:pt x="14" y="212"/>
                  </a:lnTo>
                  <a:lnTo>
                    <a:pt x="24" y="186"/>
                  </a:lnTo>
                  <a:lnTo>
                    <a:pt x="36" y="158"/>
                  </a:lnTo>
                  <a:lnTo>
                    <a:pt x="52" y="134"/>
                  </a:lnTo>
                  <a:lnTo>
                    <a:pt x="68" y="110"/>
                  </a:lnTo>
                  <a:lnTo>
                    <a:pt x="88" y="90"/>
                  </a:lnTo>
                  <a:lnTo>
                    <a:pt x="110" y="70"/>
                  </a:lnTo>
                  <a:lnTo>
                    <a:pt x="134" y="52"/>
                  </a:lnTo>
                  <a:lnTo>
                    <a:pt x="158" y="38"/>
                  </a:lnTo>
                  <a:lnTo>
                    <a:pt x="184" y="24"/>
                  </a:lnTo>
                  <a:lnTo>
                    <a:pt x="212" y="14"/>
                  </a:lnTo>
                  <a:lnTo>
                    <a:pt x="242" y="6"/>
                  </a:lnTo>
                  <a:lnTo>
                    <a:pt x="272" y="2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34" y="2"/>
                  </a:lnTo>
                  <a:lnTo>
                    <a:pt x="364" y="6"/>
                  </a:lnTo>
                  <a:lnTo>
                    <a:pt x="392" y="14"/>
                  </a:lnTo>
                  <a:lnTo>
                    <a:pt x="420" y="24"/>
                  </a:lnTo>
                  <a:lnTo>
                    <a:pt x="446" y="38"/>
                  </a:lnTo>
                  <a:lnTo>
                    <a:pt x="472" y="52"/>
                  </a:lnTo>
                  <a:lnTo>
                    <a:pt x="494" y="70"/>
                  </a:lnTo>
                  <a:lnTo>
                    <a:pt x="516" y="90"/>
                  </a:lnTo>
                  <a:lnTo>
                    <a:pt x="536" y="110"/>
                  </a:lnTo>
                  <a:lnTo>
                    <a:pt x="552" y="134"/>
                  </a:lnTo>
                  <a:lnTo>
                    <a:pt x="568" y="158"/>
                  </a:lnTo>
                  <a:lnTo>
                    <a:pt x="580" y="186"/>
                  </a:lnTo>
                  <a:lnTo>
                    <a:pt x="590" y="212"/>
                  </a:lnTo>
                  <a:lnTo>
                    <a:pt x="598" y="242"/>
                  </a:lnTo>
                  <a:lnTo>
                    <a:pt x="602" y="272"/>
                  </a:lnTo>
                  <a:lnTo>
                    <a:pt x="604" y="302"/>
                  </a:lnTo>
                  <a:lnTo>
                    <a:pt x="604" y="302"/>
                  </a:lnTo>
                  <a:close/>
                </a:path>
              </a:pathLst>
            </a:custGeom>
            <a:solidFill>
              <a:srgbClr val="fac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293"/>
            <p:cNvSpPr/>
            <p:nvPr/>
          </p:nvSpPr>
          <p:spPr>
            <a:xfrm>
              <a:off x="8391240" y="8569440"/>
              <a:ext cx="927000" cy="92700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584" h="584">
                  <a:moveTo>
                    <a:pt x="584" y="292"/>
                  </a:moveTo>
                  <a:lnTo>
                    <a:pt x="584" y="292"/>
                  </a:lnTo>
                  <a:lnTo>
                    <a:pt x="582" y="322"/>
                  </a:lnTo>
                  <a:lnTo>
                    <a:pt x="578" y="350"/>
                  </a:lnTo>
                  <a:lnTo>
                    <a:pt x="570" y="378"/>
                  </a:lnTo>
                  <a:lnTo>
                    <a:pt x="560" y="404"/>
                  </a:lnTo>
                  <a:lnTo>
                    <a:pt x="548" y="430"/>
                  </a:lnTo>
                  <a:lnTo>
                    <a:pt x="534" y="454"/>
                  </a:lnTo>
                  <a:lnTo>
                    <a:pt x="516" y="476"/>
                  </a:lnTo>
                  <a:lnTo>
                    <a:pt x="498" y="498"/>
                  </a:lnTo>
                  <a:lnTo>
                    <a:pt x="478" y="516"/>
                  </a:lnTo>
                  <a:lnTo>
                    <a:pt x="454" y="534"/>
                  </a:lnTo>
                  <a:lnTo>
                    <a:pt x="430" y="548"/>
                  </a:lnTo>
                  <a:lnTo>
                    <a:pt x="406" y="560"/>
                  </a:lnTo>
                  <a:lnTo>
                    <a:pt x="378" y="570"/>
                  </a:lnTo>
                  <a:lnTo>
                    <a:pt x="350" y="578"/>
                  </a:lnTo>
                  <a:lnTo>
                    <a:pt x="322" y="582"/>
                  </a:lnTo>
                  <a:lnTo>
                    <a:pt x="292" y="584"/>
                  </a:lnTo>
                  <a:lnTo>
                    <a:pt x="292" y="584"/>
                  </a:lnTo>
                  <a:lnTo>
                    <a:pt x="262" y="582"/>
                  </a:lnTo>
                  <a:lnTo>
                    <a:pt x="232" y="578"/>
                  </a:lnTo>
                  <a:lnTo>
                    <a:pt x="204" y="570"/>
                  </a:lnTo>
                  <a:lnTo>
                    <a:pt x="178" y="560"/>
                  </a:lnTo>
                  <a:lnTo>
                    <a:pt x="152" y="548"/>
                  </a:lnTo>
                  <a:lnTo>
                    <a:pt x="128" y="534"/>
                  </a:lnTo>
                  <a:lnTo>
                    <a:pt x="106" y="516"/>
                  </a:lnTo>
                  <a:lnTo>
                    <a:pt x="86" y="498"/>
                  </a:lnTo>
                  <a:lnTo>
                    <a:pt x="66" y="476"/>
                  </a:lnTo>
                  <a:lnTo>
                    <a:pt x="50" y="454"/>
                  </a:lnTo>
                  <a:lnTo>
                    <a:pt x="36" y="430"/>
                  </a:lnTo>
                  <a:lnTo>
                    <a:pt x="22" y="404"/>
                  </a:lnTo>
                  <a:lnTo>
                    <a:pt x="14" y="378"/>
                  </a:lnTo>
                  <a:lnTo>
                    <a:pt x="6" y="350"/>
                  </a:lnTo>
                  <a:lnTo>
                    <a:pt x="2" y="32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" y="262"/>
                  </a:lnTo>
                  <a:lnTo>
                    <a:pt x="6" y="232"/>
                  </a:lnTo>
                  <a:lnTo>
                    <a:pt x="14" y="204"/>
                  </a:lnTo>
                  <a:lnTo>
                    <a:pt x="22" y="178"/>
                  </a:lnTo>
                  <a:lnTo>
                    <a:pt x="36" y="152"/>
                  </a:lnTo>
                  <a:lnTo>
                    <a:pt x="50" y="128"/>
                  </a:lnTo>
                  <a:lnTo>
                    <a:pt x="66" y="106"/>
                  </a:lnTo>
                  <a:lnTo>
                    <a:pt x="86" y="86"/>
                  </a:lnTo>
                  <a:lnTo>
                    <a:pt x="106" y="66"/>
                  </a:lnTo>
                  <a:lnTo>
                    <a:pt x="128" y="50"/>
                  </a:lnTo>
                  <a:lnTo>
                    <a:pt x="152" y="34"/>
                  </a:lnTo>
                  <a:lnTo>
                    <a:pt x="178" y="22"/>
                  </a:lnTo>
                  <a:lnTo>
                    <a:pt x="204" y="12"/>
                  </a:lnTo>
                  <a:lnTo>
                    <a:pt x="232" y="6"/>
                  </a:lnTo>
                  <a:lnTo>
                    <a:pt x="262" y="2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322" y="2"/>
                  </a:lnTo>
                  <a:lnTo>
                    <a:pt x="350" y="6"/>
                  </a:lnTo>
                  <a:lnTo>
                    <a:pt x="378" y="12"/>
                  </a:lnTo>
                  <a:lnTo>
                    <a:pt x="406" y="22"/>
                  </a:lnTo>
                  <a:lnTo>
                    <a:pt x="430" y="34"/>
                  </a:lnTo>
                  <a:lnTo>
                    <a:pt x="454" y="50"/>
                  </a:lnTo>
                  <a:lnTo>
                    <a:pt x="478" y="66"/>
                  </a:lnTo>
                  <a:lnTo>
                    <a:pt x="498" y="86"/>
                  </a:lnTo>
                  <a:lnTo>
                    <a:pt x="516" y="106"/>
                  </a:lnTo>
                  <a:lnTo>
                    <a:pt x="534" y="128"/>
                  </a:lnTo>
                  <a:lnTo>
                    <a:pt x="548" y="152"/>
                  </a:lnTo>
                  <a:lnTo>
                    <a:pt x="560" y="178"/>
                  </a:lnTo>
                  <a:lnTo>
                    <a:pt x="570" y="204"/>
                  </a:lnTo>
                  <a:lnTo>
                    <a:pt x="578" y="232"/>
                  </a:lnTo>
                  <a:lnTo>
                    <a:pt x="582" y="262"/>
                  </a:lnTo>
                  <a:lnTo>
                    <a:pt x="584" y="292"/>
                  </a:lnTo>
                  <a:lnTo>
                    <a:pt x="584" y="292"/>
                  </a:lnTo>
                  <a:close/>
                </a:path>
              </a:pathLst>
            </a:custGeom>
            <a:solidFill>
              <a:srgbClr val="fac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94"/>
            <p:cNvSpPr/>
            <p:nvPr/>
          </p:nvSpPr>
          <p:spPr>
            <a:xfrm>
              <a:off x="8397720" y="8578800"/>
              <a:ext cx="892080" cy="89208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562" h="562">
                  <a:moveTo>
                    <a:pt x="562" y="282"/>
                  </a:moveTo>
                  <a:lnTo>
                    <a:pt x="562" y="282"/>
                  </a:lnTo>
                  <a:lnTo>
                    <a:pt x="560" y="310"/>
                  </a:lnTo>
                  <a:lnTo>
                    <a:pt x="556" y="338"/>
                  </a:lnTo>
                  <a:lnTo>
                    <a:pt x="550" y="366"/>
                  </a:lnTo>
                  <a:lnTo>
                    <a:pt x="540" y="392"/>
                  </a:lnTo>
                  <a:lnTo>
                    <a:pt x="528" y="416"/>
                  </a:lnTo>
                  <a:lnTo>
                    <a:pt x="514" y="438"/>
                  </a:lnTo>
                  <a:lnTo>
                    <a:pt x="498" y="460"/>
                  </a:lnTo>
                  <a:lnTo>
                    <a:pt x="480" y="480"/>
                  </a:lnTo>
                  <a:lnTo>
                    <a:pt x="460" y="498"/>
                  </a:lnTo>
                  <a:lnTo>
                    <a:pt x="438" y="514"/>
                  </a:lnTo>
                  <a:lnTo>
                    <a:pt x="416" y="528"/>
                  </a:lnTo>
                  <a:lnTo>
                    <a:pt x="390" y="540"/>
                  </a:lnTo>
                  <a:lnTo>
                    <a:pt x="364" y="550"/>
                  </a:lnTo>
                  <a:lnTo>
                    <a:pt x="338" y="558"/>
                  </a:lnTo>
                  <a:lnTo>
                    <a:pt x="310" y="562"/>
                  </a:lnTo>
                  <a:lnTo>
                    <a:pt x="282" y="562"/>
                  </a:lnTo>
                  <a:lnTo>
                    <a:pt x="282" y="562"/>
                  </a:lnTo>
                  <a:lnTo>
                    <a:pt x="252" y="562"/>
                  </a:lnTo>
                  <a:lnTo>
                    <a:pt x="224" y="558"/>
                  </a:lnTo>
                  <a:lnTo>
                    <a:pt x="198" y="550"/>
                  </a:lnTo>
                  <a:lnTo>
                    <a:pt x="172" y="540"/>
                  </a:lnTo>
                  <a:lnTo>
                    <a:pt x="148" y="528"/>
                  </a:lnTo>
                  <a:lnTo>
                    <a:pt x="124" y="514"/>
                  </a:lnTo>
                  <a:lnTo>
                    <a:pt x="102" y="498"/>
                  </a:lnTo>
                  <a:lnTo>
                    <a:pt x="82" y="480"/>
                  </a:lnTo>
                  <a:lnTo>
                    <a:pt x="64" y="460"/>
                  </a:lnTo>
                  <a:lnTo>
                    <a:pt x="48" y="438"/>
                  </a:lnTo>
                  <a:lnTo>
                    <a:pt x="34" y="416"/>
                  </a:lnTo>
                  <a:lnTo>
                    <a:pt x="22" y="392"/>
                  </a:lnTo>
                  <a:lnTo>
                    <a:pt x="12" y="366"/>
                  </a:lnTo>
                  <a:lnTo>
                    <a:pt x="6" y="338"/>
                  </a:lnTo>
                  <a:lnTo>
                    <a:pt x="2" y="310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2" y="254"/>
                  </a:lnTo>
                  <a:lnTo>
                    <a:pt x="6" y="226"/>
                  </a:lnTo>
                  <a:lnTo>
                    <a:pt x="12" y="198"/>
                  </a:lnTo>
                  <a:lnTo>
                    <a:pt x="22" y="172"/>
                  </a:lnTo>
                  <a:lnTo>
                    <a:pt x="34" y="148"/>
                  </a:lnTo>
                  <a:lnTo>
                    <a:pt x="48" y="124"/>
                  </a:lnTo>
                  <a:lnTo>
                    <a:pt x="64" y="102"/>
                  </a:lnTo>
                  <a:lnTo>
                    <a:pt x="82" y="82"/>
                  </a:lnTo>
                  <a:lnTo>
                    <a:pt x="102" y="64"/>
                  </a:lnTo>
                  <a:lnTo>
                    <a:pt x="124" y="48"/>
                  </a:lnTo>
                  <a:lnTo>
                    <a:pt x="148" y="34"/>
                  </a:lnTo>
                  <a:lnTo>
                    <a:pt x="172" y="22"/>
                  </a:lnTo>
                  <a:lnTo>
                    <a:pt x="198" y="14"/>
                  </a:lnTo>
                  <a:lnTo>
                    <a:pt x="224" y="6"/>
                  </a:lnTo>
                  <a:lnTo>
                    <a:pt x="252" y="2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310" y="2"/>
                  </a:lnTo>
                  <a:lnTo>
                    <a:pt x="338" y="6"/>
                  </a:lnTo>
                  <a:lnTo>
                    <a:pt x="364" y="14"/>
                  </a:lnTo>
                  <a:lnTo>
                    <a:pt x="390" y="22"/>
                  </a:lnTo>
                  <a:lnTo>
                    <a:pt x="416" y="34"/>
                  </a:lnTo>
                  <a:lnTo>
                    <a:pt x="438" y="48"/>
                  </a:lnTo>
                  <a:lnTo>
                    <a:pt x="460" y="64"/>
                  </a:lnTo>
                  <a:lnTo>
                    <a:pt x="480" y="82"/>
                  </a:lnTo>
                  <a:lnTo>
                    <a:pt x="498" y="102"/>
                  </a:lnTo>
                  <a:lnTo>
                    <a:pt x="514" y="124"/>
                  </a:lnTo>
                  <a:lnTo>
                    <a:pt x="528" y="148"/>
                  </a:lnTo>
                  <a:lnTo>
                    <a:pt x="540" y="172"/>
                  </a:lnTo>
                  <a:lnTo>
                    <a:pt x="550" y="198"/>
                  </a:lnTo>
                  <a:lnTo>
                    <a:pt x="556" y="226"/>
                  </a:lnTo>
                  <a:lnTo>
                    <a:pt x="560" y="254"/>
                  </a:lnTo>
                  <a:lnTo>
                    <a:pt x="562" y="282"/>
                  </a:lnTo>
                  <a:lnTo>
                    <a:pt x="562" y="282"/>
                  </a:lnTo>
                  <a:close/>
                </a:path>
              </a:pathLst>
            </a:custGeom>
            <a:solidFill>
              <a:srgbClr val="fac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95"/>
            <p:cNvSpPr/>
            <p:nvPr/>
          </p:nvSpPr>
          <p:spPr>
            <a:xfrm>
              <a:off x="8404200" y="8591400"/>
              <a:ext cx="860400" cy="85716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542" h="540">
                  <a:moveTo>
                    <a:pt x="542" y="270"/>
                  </a:moveTo>
                  <a:lnTo>
                    <a:pt x="542" y="270"/>
                  </a:lnTo>
                  <a:lnTo>
                    <a:pt x="540" y="298"/>
                  </a:lnTo>
                  <a:lnTo>
                    <a:pt x="536" y="324"/>
                  </a:lnTo>
                  <a:lnTo>
                    <a:pt x="530" y="350"/>
                  </a:lnTo>
                  <a:lnTo>
                    <a:pt x="520" y="376"/>
                  </a:lnTo>
                  <a:lnTo>
                    <a:pt x="508" y="400"/>
                  </a:lnTo>
                  <a:lnTo>
                    <a:pt x="496" y="422"/>
                  </a:lnTo>
                  <a:lnTo>
                    <a:pt x="480" y="442"/>
                  </a:lnTo>
                  <a:lnTo>
                    <a:pt x="462" y="462"/>
                  </a:lnTo>
                  <a:lnTo>
                    <a:pt x="442" y="478"/>
                  </a:lnTo>
                  <a:lnTo>
                    <a:pt x="422" y="494"/>
                  </a:lnTo>
                  <a:lnTo>
                    <a:pt x="400" y="508"/>
                  </a:lnTo>
                  <a:lnTo>
                    <a:pt x="376" y="520"/>
                  </a:lnTo>
                  <a:lnTo>
                    <a:pt x="352" y="528"/>
                  </a:lnTo>
                  <a:lnTo>
                    <a:pt x="326" y="536"/>
                  </a:lnTo>
                  <a:lnTo>
                    <a:pt x="298" y="540"/>
                  </a:lnTo>
                  <a:lnTo>
                    <a:pt x="270" y="540"/>
                  </a:lnTo>
                  <a:lnTo>
                    <a:pt x="270" y="540"/>
                  </a:lnTo>
                  <a:lnTo>
                    <a:pt x="244" y="540"/>
                  </a:lnTo>
                  <a:lnTo>
                    <a:pt x="216" y="536"/>
                  </a:lnTo>
                  <a:lnTo>
                    <a:pt x="190" y="528"/>
                  </a:lnTo>
                  <a:lnTo>
                    <a:pt x="166" y="520"/>
                  </a:lnTo>
                  <a:lnTo>
                    <a:pt x="142" y="508"/>
                  </a:lnTo>
                  <a:lnTo>
                    <a:pt x="120" y="494"/>
                  </a:lnTo>
                  <a:lnTo>
                    <a:pt x="98" y="478"/>
                  </a:lnTo>
                  <a:lnTo>
                    <a:pt x="80" y="462"/>
                  </a:lnTo>
                  <a:lnTo>
                    <a:pt x="62" y="442"/>
                  </a:lnTo>
                  <a:lnTo>
                    <a:pt x="46" y="422"/>
                  </a:lnTo>
                  <a:lnTo>
                    <a:pt x="34" y="400"/>
                  </a:lnTo>
                  <a:lnTo>
                    <a:pt x="22" y="376"/>
                  </a:lnTo>
                  <a:lnTo>
                    <a:pt x="12" y="350"/>
                  </a:lnTo>
                  <a:lnTo>
                    <a:pt x="6" y="324"/>
                  </a:lnTo>
                  <a:lnTo>
                    <a:pt x="2" y="298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2" y="242"/>
                  </a:lnTo>
                  <a:lnTo>
                    <a:pt x="6" y="216"/>
                  </a:lnTo>
                  <a:lnTo>
                    <a:pt x="12" y="190"/>
                  </a:lnTo>
                  <a:lnTo>
                    <a:pt x="22" y="164"/>
                  </a:lnTo>
                  <a:lnTo>
                    <a:pt x="34" y="142"/>
                  </a:lnTo>
                  <a:lnTo>
                    <a:pt x="46" y="118"/>
                  </a:lnTo>
                  <a:lnTo>
                    <a:pt x="62" y="98"/>
                  </a:lnTo>
                  <a:lnTo>
                    <a:pt x="80" y="78"/>
                  </a:lnTo>
                  <a:lnTo>
                    <a:pt x="98" y="62"/>
                  </a:lnTo>
                  <a:lnTo>
                    <a:pt x="120" y="46"/>
                  </a:lnTo>
                  <a:lnTo>
                    <a:pt x="142" y="32"/>
                  </a:lnTo>
                  <a:lnTo>
                    <a:pt x="166" y="20"/>
                  </a:lnTo>
                  <a:lnTo>
                    <a:pt x="190" y="12"/>
                  </a:lnTo>
                  <a:lnTo>
                    <a:pt x="216" y="6"/>
                  </a:lnTo>
                  <a:lnTo>
                    <a:pt x="244" y="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98" y="2"/>
                  </a:lnTo>
                  <a:lnTo>
                    <a:pt x="326" y="6"/>
                  </a:lnTo>
                  <a:lnTo>
                    <a:pt x="352" y="12"/>
                  </a:lnTo>
                  <a:lnTo>
                    <a:pt x="376" y="20"/>
                  </a:lnTo>
                  <a:lnTo>
                    <a:pt x="400" y="32"/>
                  </a:lnTo>
                  <a:lnTo>
                    <a:pt x="422" y="46"/>
                  </a:lnTo>
                  <a:lnTo>
                    <a:pt x="442" y="62"/>
                  </a:lnTo>
                  <a:lnTo>
                    <a:pt x="462" y="78"/>
                  </a:lnTo>
                  <a:lnTo>
                    <a:pt x="480" y="98"/>
                  </a:lnTo>
                  <a:lnTo>
                    <a:pt x="496" y="118"/>
                  </a:lnTo>
                  <a:lnTo>
                    <a:pt x="508" y="142"/>
                  </a:lnTo>
                  <a:lnTo>
                    <a:pt x="520" y="164"/>
                  </a:lnTo>
                  <a:lnTo>
                    <a:pt x="530" y="190"/>
                  </a:lnTo>
                  <a:lnTo>
                    <a:pt x="536" y="216"/>
                  </a:lnTo>
                  <a:lnTo>
                    <a:pt x="540" y="242"/>
                  </a:lnTo>
                  <a:lnTo>
                    <a:pt x="542" y="270"/>
                  </a:lnTo>
                  <a:lnTo>
                    <a:pt x="542" y="270"/>
                  </a:lnTo>
                  <a:close/>
                </a:path>
              </a:pathLst>
            </a:custGeom>
            <a:solidFill>
              <a:srgbClr val="fbc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96"/>
            <p:cNvSpPr/>
            <p:nvPr/>
          </p:nvSpPr>
          <p:spPr>
            <a:xfrm>
              <a:off x="8410320" y="8601120"/>
              <a:ext cx="825480" cy="8254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520" h="520">
                  <a:moveTo>
                    <a:pt x="520" y="260"/>
                  </a:moveTo>
                  <a:lnTo>
                    <a:pt x="520" y="260"/>
                  </a:lnTo>
                  <a:lnTo>
                    <a:pt x="518" y="288"/>
                  </a:lnTo>
                  <a:lnTo>
                    <a:pt x="516" y="312"/>
                  </a:lnTo>
                  <a:lnTo>
                    <a:pt x="508" y="338"/>
                  </a:lnTo>
                  <a:lnTo>
                    <a:pt x="500" y="362"/>
                  </a:lnTo>
                  <a:lnTo>
                    <a:pt x="488" y="384"/>
                  </a:lnTo>
                  <a:lnTo>
                    <a:pt x="476" y="406"/>
                  </a:lnTo>
                  <a:lnTo>
                    <a:pt x="460" y="426"/>
                  </a:lnTo>
                  <a:lnTo>
                    <a:pt x="444" y="444"/>
                  </a:lnTo>
                  <a:lnTo>
                    <a:pt x="426" y="462"/>
                  </a:lnTo>
                  <a:lnTo>
                    <a:pt x="406" y="476"/>
                  </a:lnTo>
                  <a:lnTo>
                    <a:pt x="384" y="490"/>
                  </a:lnTo>
                  <a:lnTo>
                    <a:pt x="362" y="500"/>
                  </a:lnTo>
                  <a:lnTo>
                    <a:pt x="338" y="508"/>
                  </a:lnTo>
                  <a:lnTo>
                    <a:pt x="312" y="516"/>
                  </a:lnTo>
                  <a:lnTo>
                    <a:pt x="288" y="520"/>
                  </a:lnTo>
                  <a:lnTo>
                    <a:pt x="260" y="520"/>
                  </a:lnTo>
                  <a:lnTo>
                    <a:pt x="260" y="520"/>
                  </a:lnTo>
                  <a:lnTo>
                    <a:pt x="234" y="520"/>
                  </a:lnTo>
                  <a:lnTo>
                    <a:pt x="208" y="516"/>
                  </a:lnTo>
                  <a:lnTo>
                    <a:pt x="184" y="508"/>
                  </a:lnTo>
                  <a:lnTo>
                    <a:pt x="160" y="500"/>
                  </a:lnTo>
                  <a:lnTo>
                    <a:pt x="136" y="490"/>
                  </a:lnTo>
                  <a:lnTo>
                    <a:pt x="116" y="476"/>
                  </a:lnTo>
                  <a:lnTo>
                    <a:pt x="96" y="462"/>
                  </a:lnTo>
                  <a:lnTo>
                    <a:pt x="76" y="444"/>
                  </a:lnTo>
                  <a:lnTo>
                    <a:pt x="60" y="426"/>
                  </a:lnTo>
                  <a:lnTo>
                    <a:pt x="44" y="406"/>
                  </a:lnTo>
                  <a:lnTo>
                    <a:pt x="32" y="384"/>
                  </a:lnTo>
                  <a:lnTo>
                    <a:pt x="20" y="362"/>
                  </a:lnTo>
                  <a:lnTo>
                    <a:pt x="12" y="338"/>
                  </a:lnTo>
                  <a:lnTo>
                    <a:pt x="6" y="312"/>
                  </a:lnTo>
                  <a:lnTo>
                    <a:pt x="2" y="288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2" y="234"/>
                  </a:lnTo>
                  <a:lnTo>
                    <a:pt x="6" y="208"/>
                  </a:lnTo>
                  <a:lnTo>
                    <a:pt x="12" y="184"/>
                  </a:lnTo>
                  <a:lnTo>
                    <a:pt x="20" y="160"/>
                  </a:lnTo>
                  <a:lnTo>
                    <a:pt x="32" y="136"/>
                  </a:lnTo>
                  <a:lnTo>
                    <a:pt x="44" y="116"/>
                  </a:lnTo>
                  <a:lnTo>
                    <a:pt x="60" y="96"/>
                  </a:lnTo>
                  <a:lnTo>
                    <a:pt x="76" y="76"/>
                  </a:lnTo>
                  <a:lnTo>
                    <a:pt x="96" y="60"/>
                  </a:lnTo>
                  <a:lnTo>
                    <a:pt x="116" y="46"/>
                  </a:lnTo>
                  <a:lnTo>
                    <a:pt x="136" y="32"/>
                  </a:lnTo>
                  <a:lnTo>
                    <a:pt x="160" y="22"/>
                  </a:lnTo>
                  <a:lnTo>
                    <a:pt x="184" y="12"/>
                  </a:lnTo>
                  <a:lnTo>
                    <a:pt x="208" y="6"/>
                  </a:lnTo>
                  <a:lnTo>
                    <a:pt x="234" y="2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8" y="2"/>
                  </a:lnTo>
                  <a:lnTo>
                    <a:pt x="312" y="6"/>
                  </a:lnTo>
                  <a:lnTo>
                    <a:pt x="338" y="12"/>
                  </a:lnTo>
                  <a:lnTo>
                    <a:pt x="362" y="22"/>
                  </a:lnTo>
                  <a:lnTo>
                    <a:pt x="384" y="32"/>
                  </a:lnTo>
                  <a:lnTo>
                    <a:pt x="406" y="46"/>
                  </a:lnTo>
                  <a:lnTo>
                    <a:pt x="426" y="60"/>
                  </a:lnTo>
                  <a:lnTo>
                    <a:pt x="444" y="76"/>
                  </a:lnTo>
                  <a:lnTo>
                    <a:pt x="460" y="96"/>
                  </a:lnTo>
                  <a:lnTo>
                    <a:pt x="476" y="116"/>
                  </a:lnTo>
                  <a:lnTo>
                    <a:pt x="488" y="136"/>
                  </a:lnTo>
                  <a:lnTo>
                    <a:pt x="500" y="160"/>
                  </a:lnTo>
                  <a:lnTo>
                    <a:pt x="508" y="184"/>
                  </a:lnTo>
                  <a:lnTo>
                    <a:pt x="516" y="208"/>
                  </a:lnTo>
                  <a:lnTo>
                    <a:pt x="518" y="234"/>
                  </a:lnTo>
                  <a:lnTo>
                    <a:pt x="520" y="260"/>
                  </a:lnTo>
                  <a:lnTo>
                    <a:pt x="520" y="260"/>
                  </a:lnTo>
                  <a:close/>
                </a:path>
              </a:pathLst>
            </a:custGeom>
            <a:solidFill>
              <a:srgbClr val="fbd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97"/>
            <p:cNvSpPr/>
            <p:nvPr/>
          </p:nvSpPr>
          <p:spPr>
            <a:xfrm>
              <a:off x="8416800" y="8613720"/>
              <a:ext cx="793800" cy="79056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500" h="498">
                  <a:moveTo>
                    <a:pt x="500" y="248"/>
                  </a:moveTo>
                  <a:lnTo>
                    <a:pt x="500" y="248"/>
                  </a:lnTo>
                  <a:lnTo>
                    <a:pt x="498" y="274"/>
                  </a:lnTo>
                  <a:lnTo>
                    <a:pt x="494" y="300"/>
                  </a:lnTo>
                  <a:lnTo>
                    <a:pt x="488" y="324"/>
                  </a:lnTo>
                  <a:lnTo>
                    <a:pt x="480" y="346"/>
                  </a:lnTo>
                  <a:lnTo>
                    <a:pt x="470" y="368"/>
                  </a:lnTo>
                  <a:lnTo>
                    <a:pt x="456" y="388"/>
                  </a:lnTo>
                  <a:lnTo>
                    <a:pt x="442" y="408"/>
                  </a:lnTo>
                  <a:lnTo>
                    <a:pt x="426" y="426"/>
                  </a:lnTo>
                  <a:lnTo>
                    <a:pt x="408" y="442"/>
                  </a:lnTo>
                  <a:lnTo>
                    <a:pt x="390" y="456"/>
                  </a:lnTo>
                  <a:lnTo>
                    <a:pt x="368" y="468"/>
                  </a:lnTo>
                  <a:lnTo>
                    <a:pt x="348" y="478"/>
                  </a:lnTo>
                  <a:lnTo>
                    <a:pt x="324" y="488"/>
                  </a:lnTo>
                  <a:lnTo>
                    <a:pt x="300" y="494"/>
                  </a:lnTo>
                  <a:lnTo>
                    <a:pt x="276" y="496"/>
                  </a:lnTo>
                  <a:lnTo>
                    <a:pt x="250" y="498"/>
                  </a:lnTo>
                  <a:lnTo>
                    <a:pt x="250" y="498"/>
                  </a:lnTo>
                  <a:lnTo>
                    <a:pt x="224" y="496"/>
                  </a:lnTo>
                  <a:lnTo>
                    <a:pt x="200" y="494"/>
                  </a:lnTo>
                  <a:lnTo>
                    <a:pt x="176" y="488"/>
                  </a:lnTo>
                  <a:lnTo>
                    <a:pt x="154" y="478"/>
                  </a:lnTo>
                  <a:lnTo>
                    <a:pt x="132" y="468"/>
                  </a:lnTo>
                  <a:lnTo>
                    <a:pt x="110" y="456"/>
                  </a:lnTo>
                  <a:lnTo>
                    <a:pt x="92" y="442"/>
                  </a:lnTo>
                  <a:lnTo>
                    <a:pt x="74" y="426"/>
                  </a:lnTo>
                  <a:lnTo>
                    <a:pt x="58" y="408"/>
                  </a:lnTo>
                  <a:lnTo>
                    <a:pt x="44" y="388"/>
                  </a:lnTo>
                  <a:lnTo>
                    <a:pt x="30" y="368"/>
                  </a:lnTo>
                  <a:lnTo>
                    <a:pt x="20" y="346"/>
                  </a:lnTo>
                  <a:lnTo>
                    <a:pt x="12" y="324"/>
                  </a:lnTo>
                  <a:lnTo>
                    <a:pt x="6" y="300"/>
                  </a:lnTo>
                  <a:lnTo>
                    <a:pt x="2" y="274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2" y="224"/>
                  </a:lnTo>
                  <a:lnTo>
                    <a:pt x="6" y="198"/>
                  </a:lnTo>
                  <a:lnTo>
                    <a:pt x="12" y="174"/>
                  </a:lnTo>
                  <a:lnTo>
                    <a:pt x="20" y="152"/>
                  </a:lnTo>
                  <a:lnTo>
                    <a:pt x="30" y="130"/>
                  </a:lnTo>
                  <a:lnTo>
                    <a:pt x="44" y="110"/>
                  </a:lnTo>
                  <a:lnTo>
                    <a:pt x="58" y="90"/>
                  </a:lnTo>
                  <a:lnTo>
                    <a:pt x="74" y="72"/>
                  </a:lnTo>
                  <a:lnTo>
                    <a:pt x="92" y="56"/>
                  </a:lnTo>
                  <a:lnTo>
                    <a:pt x="110" y="42"/>
                  </a:lnTo>
                  <a:lnTo>
                    <a:pt x="132" y="30"/>
                  </a:lnTo>
                  <a:lnTo>
                    <a:pt x="154" y="20"/>
                  </a:lnTo>
                  <a:lnTo>
                    <a:pt x="176" y="10"/>
                  </a:lnTo>
                  <a:lnTo>
                    <a:pt x="200" y="4"/>
                  </a:lnTo>
                  <a:lnTo>
                    <a:pt x="224" y="2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76" y="2"/>
                  </a:lnTo>
                  <a:lnTo>
                    <a:pt x="300" y="4"/>
                  </a:lnTo>
                  <a:lnTo>
                    <a:pt x="324" y="10"/>
                  </a:lnTo>
                  <a:lnTo>
                    <a:pt x="348" y="20"/>
                  </a:lnTo>
                  <a:lnTo>
                    <a:pt x="368" y="30"/>
                  </a:lnTo>
                  <a:lnTo>
                    <a:pt x="390" y="42"/>
                  </a:lnTo>
                  <a:lnTo>
                    <a:pt x="408" y="56"/>
                  </a:lnTo>
                  <a:lnTo>
                    <a:pt x="426" y="72"/>
                  </a:lnTo>
                  <a:lnTo>
                    <a:pt x="442" y="90"/>
                  </a:lnTo>
                  <a:lnTo>
                    <a:pt x="456" y="110"/>
                  </a:lnTo>
                  <a:lnTo>
                    <a:pt x="470" y="130"/>
                  </a:lnTo>
                  <a:lnTo>
                    <a:pt x="480" y="152"/>
                  </a:lnTo>
                  <a:lnTo>
                    <a:pt x="488" y="174"/>
                  </a:lnTo>
                  <a:lnTo>
                    <a:pt x="494" y="198"/>
                  </a:lnTo>
                  <a:lnTo>
                    <a:pt x="498" y="224"/>
                  </a:lnTo>
                  <a:lnTo>
                    <a:pt x="500" y="248"/>
                  </a:lnTo>
                  <a:lnTo>
                    <a:pt x="500" y="248"/>
                  </a:lnTo>
                  <a:close/>
                </a:path>
              </a:pathLst>
            </a:custGeom>
            <a:solidFill>
              <a:srgbClr val="fbd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98"/>
            <p:cNvSpPr/>
            <p:nvPr/>
          </p:nvSpPr>
          <p:spPr>
            <a:xfrm>
              <a:off x="8426160" y="8623080"/>
              <a:ext cx="755640" cy="7585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476" h="478">
                  <a:moveTo>
                    <a:pt x="476" y="240"/>
                  </a:moveTo>
                  <a:lnTo>
                    <a:pt x="476" y="240"/>
                  </a:lnTo>
                  <a:lnTo>
                    <a:pt x="474" y="264"/>
                  </a:lnTo>
                  <a:lnTo>
                    <a:pt x="472" y="288"/>
                  </a:lnTo>
                  <a:lnTo>
                    <a:pt x="466" y="310"/>
                  </a:lnTo>
                  <a:lnTo>
                    <a:pt x="458" y="332"/>
                  </a:lnTo>
                  <a:lnTo>
                    <a:pt x="448" y="354"/>
                  </a:lnTo>
                  <a:lnTo>
                    <a:pt x="436" y="372"/>
                  </a:lnTo>
                  <a:lnTo>
                    <a:pt x="422" y="392"/>
                  </a:lnTo>
                  <a:lnTo>
                    <a:pt x="406" y="408"/>
                  </a:lnTo>
                  <a:lnTo>
                    <a:pt x="390" y="424"/>
                  </a:lnTo>
                  <a:lnTo>
                    <a:pt x="370" y="438"/>
                  </a:lnTo>
                  <a:lnTo>
                    <a:pt x="352" y="450"/>
                  </a:lnTo>
                  <a:lnTo>
                    <a:pt x="330" y="460"/>
                  </a:lnTo>
                  <a:lnTo>
                    <a:pt x="308" y="468"/>
                  </a:lnTo>
                  <a:lnTo>
                    <a:pt x="286" y="474"/>
                  </a:lnTo>
                  <a:lnTo>
                    <a:pt x="262" y="476"/>
                  </a:lnTo>
                  <a:lnTo>
                    <a:pt x="238" y="478"/>
                  </a:lnTo>
                  <a:lnTo>
                    <a:pt x="238" y="478"/>
                  </a:lnTo>
                  <a:lnTo>
                    <a:pt x="214" y="476"/>
                  </a:lnTo>
                  <a:lnTo>
                    <a:pt x="190" y="474"/>
                  </a:lnTo>
                  <a:lnTo>
                    <a:pt x="166" y="468"/>
                  </a:lnTo>
                  <a:lnTo>
                    <a:pt x="144" y="460"/>
                  </a:lnTo>
                  <a:lnTo>
                    <a:pt x="124" y="450"/>
                  </a:lnTo>
                  <a:lnTo>
                    <a:pt x="104" y="438"/>
                  </a:lnTo>
                  <a:lnTo>
                    <a:pt x="86" y="424"/>
                  </a:lnTo>
                  <a:lnTo>
                    <a:pt x="68" y="408"/>
                  </a:lnTo>
                  <a:lnTo>
                    <a:pt x="54" y="392"/>
                  </a:lnTo>
                  <a:lnTo>
                    <a:pt x="40" y="372"/>
                  </a:lnTo>
                  <a:lnTo>
                    <a:pt x="28" y="354"/>
                  </a:lnTo>
                  <a:lnTo>
                    <a:pt x="18" y="332"/>
                  </a:lnTo>
                  <a:lnTo>
                    <a:pt x="10" y="310"/>
                  </a:lnTo>
                  <a:lnTo>
                    <a:pt x="4" y="288"/>
                  </a:lnTo>
                  <a:lnTo>
                    <a:pt x="0" y="264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14"/>
                  </a:lnTo>
                  <a:lnTo>
                    <a:pt x="4" y="192"/>
                  </a:lnTo>
                  <a:lnTo>
                    <a:pt x="10" y="168"/>
                  </a:lnTo>
                  <a:lnTo>
                    <a:pt x="18" y="146"/>
                  </a:lnTo>
                  <a:lnTo>
                    <a:pt x="28" y="126"/>
                  </a:lnTo>
                  <a:lnTo>
                    <a:pt x="40" y="106"/>
                  </a:lnTo>
                  <a:lnTo>
                    <a:pt x="54" y="88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104" y="42"/>
                  </a:lnTo>
                  <a:lnTo>
                    <a:pt x="124" y="30"/>
                  </a:lnTo>
                  <a:lnTo>
                    <a:pt x="144" y="20"/>
                  </a:lnTo>
                  <a:lnTo>
                    <a:pt x="166" y="12"/>
                  </a:lnTo>
                  <a:lnTo>
                    <a:pt x="190" y="6"/>
                  </a:lnTo>
                  <a:lnTo>
                    <a:pt x="214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62" y="2"/>
                  </a:lnTo>
                  <a:lnTo>
                    <a:pt x="286" y="6"/>
                  </a:lnTo>
                  <a:lnTo>
                    <a:pt x="308" y="12"/>
                  </a:lnTo>
                  <a:lnTo>
                    <a:pt x="330" y="20"/>
                  </a:lnTo>
                  <a:lnTo>
                    <a:pt x="352" y="30"/>
                  </a:lnTo>
                  <a:lnTo>
                    <a:pt x="370" y="42"/>
                  </a:lnTo>
                  <a:lnTo>
                    <a:pt x="390" y="56"/>
                  </a:lnTo>
                  <a:lnTo>
                    <a:pt x="406" y="70"/>
                  </a:lnTo>
                  <a:lnTo>
                    <a:pt x="422" y="88"/>
                  </a:lnTo>
                  <a:lnTo>
                    <a:pt x="436" y="106"/>
                  </a:lnTo>
                  <a:lnTo>
                    <a:pt x="448" y="126"/>
                  </a:lnTo>
                  <a:lnTo>
                    <a:pt x="458" y="146"/>
                  </a:lnTo>
                  <a:lnTo>
                    <a:pt x="466" y="168"/>
                  </a:lnTo>
                  <a:lnTo>
                    <a:pt x="472" y="192"/>
                  </a:lnTo>
                  <a:lnTo>
                    <a:pt x="474" y="214"/>
                  </a:lnTo>
                  <a:lnTo>
                    <a:pt x="476" y="240"/>
                  </a:lnTo>
                  <a:lnTo>
                    <a:pt x="476" y="240"/>
                  </a:lnTo>
                  <a:close/>
                </a:path>
              </a:pathLst>
            </a:custGeom>
            <a:solidFill>
              <a:srgbClr val="fbd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99"/>
            <p:cNvSpPr/>
            <p:nvPr/>
          </p:nvSpPr>
          <p:spPr>
            <a:xfrm>
              <a:off x="8432640" y="8636040"/>
              <a:ext cx="723960" cy="7236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456" h="456">
                  <a:moveTo>
                    <a:pt x="456" y="228"/>
                  </a:moveTo>
                  <a:lnTo>
                    <a:pt x="456" y="228"/>
                  </a:lnTo>
                  <a:lnTo>
                    <a:pt x="454" y="252"/>
                  </a:lnTo>
                  <a:lnTo>
                    <a:pt x="450" y="274"/>
                  </a:lnTo>
                  <a:lnTo>
                    <a:pt x="444" y="296"/>
                  </a:lnTo>
                  <a:lnTo>
                    <a:pt x="438" y="316"/>
                  </a:lnTo>
                  <a:lnTo>
                    <a:pt x="428" y="336"/>
                  </a:lnTo>
                  <a:lnTo>
                    <a:pt x="416" y="356"/>
                  </a:lnTo>
                  <a:lnTo>
                    <a:pt x="404" y="372"/>
                  </a:lnTo>
                  <a:lnTo>
                    <a:pt x="388" y="388"/>
                  </a:lnTo>
                  <a:lnTo>
                    <a:pt x="372" y="404"/>
                  </a:lnTo>
                  <a:lnTo>
                    <a:pt x="354" y="416"/>
                  </a:lnTo>
                  <a:lnTo>
                    <a:pt x="336" y="428"/>
                  </a:lnTo>
                  <a:lnTo>
                    <a:pt x="316" y="438"/>
                  </a:lnTo>
                  <a:lnTo>
                    <a:pt x="294" y="446"/>
                  </a:lnTo>
                  <a:lnTo>
                    <a:pt x="274" y="452"/>
                  </a:lnTo>
                  <a:lnTo>
                    <a:pt x="250" y="454"/>
                  </a:lnTo>
                  <a:lnTo>
                    <a:pt x="228" y="456"/>
                  </a:lnTo>
                  <a:lnTo>
                    <a:pt x="228" y="456"/>
                  </a:lnTo>
                  <a:lnTo>
                    <a:pt x="204" y="454"/>
                  </a:lnTo>
                  <a:lnTo>
                    <a:pt x="182" y="452"/>
                  </a:lnTo>
                  <a:lnTo>
                    <a:pt x="160" y="446"/>
                  </a:lnTo>
                  <a:lnTo>
                    <a:pt x="138" y="438"/>
                  </a:lnTo>
                  <a:lnTo>
                    <a:pt x="118" y="428"/>
                  </a:lnTo>
                  <a:lnTo>
                    <a:pt x="100" y="416"/>
                  </a:lnTo>
                  <a:lnTo>
                    <a:pt x="82" y="404"/>
                  </a:lnTo>
                  <a:lnTo>
                    <a:pt x="66" y="388"/>
                  </a:lnTo>
                  <a:lnTo>
                    <a:pt x="52" y="372"/>
                  </a:lnTo>
                  <a:lnTo>
                    <a:pt x="38" y="356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6"/>
                  </a:lnTo>
                  <a:lnTo>
                    <a:pt x="4" y="274"/>
                  </a:lnTo>
                  <a:lnTo>
                    <a:pt x="0" y="252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04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40"/>
                  </a:lnTo>
                  <a:lnTo>
                    <a:pt x="26" y="120"/>
                  </a:lnTo>
                  <a:lnTo>
                    <a:pt x="38" y="100"/>
                  </a:lnTo>
                  <a:lnTo>
                    <a:pt x="52" y="82"/>
                  </a:lnTo>
                  <a:lnTo>
                    <a:pt x="66" y="66"/>
                  </a:lnTo>
                  <a:lnTo>
                    <a:pt x="82" y="52"/>
                  </a:lnTo>
                  <a:lnTo>
                    <a:pt x="100" y="38"/>
                  </a:lnTo>
                  <a:lnTo>
                    <a:pt x="118" y="28"/>
                  </a:lnTo>
                  <a:lnTo>
                    <a:pt x="138" y="18"/>
                  </a:lnTo>
                  <a:lnTo>
                    <a:pt x="160" y="10"/>
                  </a:lnTo>
                  <a:lnTo>
                    <a:pt x="182" y="4"/>
                  </a:lnTo>
                  <a:lnTo>
                    <a:pt x="204" y="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4" y="4"/>
                  </a:lnTo>
                  <a:lnTo>
                    <a:pt x="294" y="10"/>
                  </a:lnTo>
                  <a:lnTo>
                    <a:pt x="316" y="18"/>
                  </a:lnTo>
                  <a:lnTo>
                    <a:pt x="336" y="28"/>
                  </a:lnTo>
                  <a:lnTo>
                    <a:pt x="354" y="38"/>
                  </a:lnTo>
                  <a:lnTo>
                    <a:pt x="372" y="52"/>
                  </a:lnTo>
                  <a:lnTo>
                    <a:pt x="388" y="66"/>
                  </a:lnTo>
                  <a:lnTo>
                    <a:pt x="404" y="82"/>
                  </a:lnTo>
                  <a:lnTo>
                    <a:pt x="416" y="100"/>
                  </a:lnTo>
                  <a:lnTo>
                    <a:pt x="428" y="120"/>
                  </a:lnTo>
                  <a:lnTo>
                    <a:pt x="438" y="140"/>
                  </a:lnTo>
                  <a:lnTo>
                    <a:pt x="444" y="160"/>
                  </a:lnTo>
                  <a:lnTo>
                    <a:pt x="450" y="182"/>
                  </a:lnTo>
                  <a:lnTo>
                    <a:pt x="454" y="204"/>
                  </a:lnTo>
                  <a:lnTo>
                    <a:pt x="456" y="228"/>
                  </a:lnTo>
                  <a:lnTo>
                    <a:pt x="456" y="228"/>
                  </a:lnTo>
                  <a:close/>
                </a:path>
              </a:pathLst>
            </a:custGeom>
            <a:solidFill>
              <a:srgbClr val="fbd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300"/>
            <p:cNvSpPr/>
            <p:nvPr/>
          </p:nvSpPr>
          <p:spPr>
            <a:xfrm>
              <a:off x="8439120" y="8645400"/>
              <a:ext cx="689040" cy="69192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434" h="436">
                  <a:moveTo>
                    <a:pt x="434" y="218"/>
                  </a:moveTo>
                  <a:lnTo>
                    <a:pt x="434" y="218"/>
                  </a:lnTo>
                  <a:lnTo>
                    <a:pt x="432" y="240"/>
                  </a:lnTo>
                  <a:lnTo>
                    <a:pt x="430" y="262"/>
                  </a:lnTo>
                  <a:lnTo>
                    <a:pt x="424" y="282"/>
                  </a:lnTo>
                  <a:lnTo>
                    <a:pt x="416" y="302"/>
                  </a:lnTo>
                  <a:lnTo>
                    <a:pt x="408" y="322"/>
                  </a:lnTo>
                  <a:lnTo>
                    <a:pt x="396" y="340"/>
                  </a:lnTo>
                  <a:lnTo>
                    <a:pt x="384" y="356"/>
                  </a:lnTo>
                  <a:lnTo>
                    <a:pt x="370" y="372"/>
                  </a:lnTo>
                  <a:lnTo>
                    <a:pt x="354" y="386"/>
                  </a:lnTo>
                  <a:lnTo>
                    <a:pt x="338" y="398"/>
                  </a:lnTo>
                  <a:lnTo>
                    <a:pt x="320" y="410"/>
                  </a:lnTo>
                  <a:lnTo>
                    <a:pt x="302" y="418"/>
                  </a:lnTo>
                  <a:lnTo>
                    <a:pt x="282" y="426"/>
                  </a:lnTo>
                  <a:lnTo>
                    <a:pt x="260" y="432"/>
                  </a:lnTo>
                  <a:lnTo>
                    <a:pt x="238" y="434"/>
                  </a:lnTo>
                  <a:lnTo>
                    <a:pt x="216" y="436"/>
                  </a:lnTo>
                  <a:lnTo>
                    <a:pt x="216" y="436"/>
                  </a:lnTo>
                  <a:lnTo>
                    <a:pt x="194" y="434"/>
                  </a:lnTo>
                  <a:lnTo>
                    <a:pt x="172" y="432"/>
                  </a:lnTo>
                  <a:lnTo>
                    <a:pt x="152" y="426"/>
                  </a:lnTo>
                  <a:lnTo>
                    <a:pt x="132" y="418"/>
                  </a:lnTo>
                  <a:lnTo>
                    <a:pt x="114" y="410"/>
                  </a:lnTo>
                  <a:lnTo>
                    <a:pt x="96" y="398"/>
                  </a:lnTo>
                  <a:lnTo>
                    <a:pt x="78" y="386"/>
                  </a:lnTo>
                  <a:lnTo>
                    <a:pt x="64" y="372"/>
                  </a:lnTo>
                  <a:lnTo>
                    <a:pt x="50" y="356"/>
                  </a:lnTo>
                  <a:lnTo>
                    <a:pt x="36" y="340"/>
                  </a:lnTo>
                  <a:lnTo>
                    <a:pt x="26" y="322"/>
                  </a:lnTo>
                  <a:lnTo>
                    <a:pt x="16" y="302"/>
                  </a:lnTo>
                  <a:lnTo>
                    <a:pt x="10" y="282"/>
                  </a:lnTo>
                  <a:lnTo>
                    <a:pt x="4" y="262"/>
                  </a:lnTo>
                  <a:lnTo>
                    <a:pt x="0" y="240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196"/>
                  </a:lnTo>
                  <a:lnTo>
                    <a:pt x="4" y="174"/>
                  </a:lnTo>
                  <a:lnTo>
                    <a:pt x="10" y="154"/>
                  </a:lnTo>
                  <a:lnTo>
                    <a:pt x="16" y="134"/>
                  </a:lnTo>
                  <a:lnTo>
                    <a:pt x="26" y="114"/>
                  </a:lnTo>
                  <a:lnTo>
                    <a:pt x="36" y="96"/>
                  </a:lnTo>
                  <a:lnTo>
                    <a:pt x="50" y="80"/>
                  </a:lnTo>
                  <a:lnTo>
                    <a:pt x="64" y="64"/>
                  </a:lnTo>
                  <a:lnTo>
                    <a:pt x="78" y="50"/>
                  </a:lnTo>
                  <a:lnTo>
                    <a:pt x="96" y="38"/>
                  </a:lnTo>
                  <a:lnTo>
                    <a:pt x="114" y="28"/>
                  </a:lnTo>
                  <a:lnTo>
                    <a:pt x="132" y="18"/>
                  </a:lnTo>
                  <a:lnTo>
                    <a:pt x="152" y="10"/>
                  </a:lnTo>
                  <a:lnTo>
                    <a:pt x="172" y="6"/>
                  </a:lnTo>
                  <a:lnTo>
                    <a:pt x="194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38" y="2"/>
                  </a:lnTo>
                  <a:lnTo>
                    <a:pt x="260" y="6"/>
                  </a:lnTo>
                  <a:lnTo>
                    <a:pt x="282" y="10"/>
                  </a:lnTo>
                  <a:lnTo>
                    <a:pt x="302" y="18"/>
                  </a:lnTo>
                  <a:lnTo>
                    <a:pt x="320" y="28"/>
                  </a:lnTo>
                  <a:lnTo>
                    <a:pt x="338" y="38"/>
                  </a:lnTo>
                  <a:lnTo>
                    <a:pt x="354" y="50"/>
                  </a:lnTo>
                  <a:lnTo>
                    <a:pt x="370" y="64"/>
                  </a:lnTo>
                  <a:lnTo>
                    <a:pt x="384" y="80"/>
                  </a:lnTo>
                  <a:lnTo>
                    <a:pt x="396" y="96"/>
                  </a:lnTo>
                  <a:lnTo>
                    <a:pt x="408" y="114"/>
                  </a:lnTo>
                  <a:lnTo>
                    <a:pt x="416" y="134"/>
                  </a:lnTo>
                  <a:lnTo>
                    <a:pt x="424" y="154"/>
                  </a:lnTo>
                  <a:lnTo>
                    <a:pt x="430" y="174"/>
                  </a:lnTo>
                  <a:lnTo>
                    <a:pt x="432" y="196"/>
                  </a:lnTo>
                  <a:lnTo>
                    <a:pt x="434" y="218"/>
                  </a:lnTo>
                  <a:lnTo>
                    <a:pt x="434" y="218"/>
                  </a:lnTo>
                  <a:close/>
                </a:path>
              </a:pathLst>
            </a:custGeom>
            <a:solidFill>
              <a:srgbClr val="fcd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301"/>
            <p:cNvSpPr/>
            <p:nvPr/>
          </p:nvSpPr>
          <p:spPr>
            <a:xfrm>
              <a:off x="8445240" y="8658000"/>
              <a:ext cx="657000" cy="6570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14" h="414">
                  <a:moveTo>
                    <a:pt x="414" y="206"/>
                  </a:moveTo>
                  <a:lnTo>
                    <a:pt x="414" y="206"/>
                  </a:lnTo>
                  <a:lnTo>
                    <a:pt x="412" y="228"/>
                  </a:lnTo>
                  <a:lnTo>
                    <a:pt x="408" y="248"/>
                  </a:lnTo>
                  <a:lnTo>
                    <a:pt x="404" y="268"/>
                  </a:lnTo>
                  <a:lnTo>
                    <a:pt x="396" y="288"/>
                  </a:lnTo>
                  <a:lnTo>
                    <a:pt x="388" y="306"/>
                  </a:lnTo>
                  <a:lnTo>
                    <a:pt x="378" y="322"/>
                  </a:lnTo>
                  <a:lnTo>
                    <a:pt x="366" y="338"/>
                  </a:lnTo>
                  <a:lnTo>
                    <a:pt x="352" y="352"/>
                  </a:lnTo>
                  <a:lnTo>
                    <a:pt x="338" y="366"/>
                  </a:lnTo>
                  <a:lnTo>
                    <a:pt x="322" y="378"/>
                  </a:lnTo>
                  <a:lnTo>
                    <a:pt x="304" y="388"/>
                  </a:lnTo>
                  <a:lnTo>
                    <a:pt x="286" y="398"/>
                  </a:lnTo>
                  <a:lnTo>
                    <a:pt x="268" y="404"/>
                  </a:lnTo>
                  <a:lnTo>
                    <a:pt x="248" y="410"/>
                  </a:lnTo>
                  <a:lnTo>
                    <a:pt x="228" y="412"/>
                  </a:lnTo>
                  <a:lnTo>
                    <a:pt x="206" y="414"/>
                  </a:lnTo>
                  <a:lnTo>
                    <a:pt x="206" y="414"/>
                  </a:lnTo>
                  <a:lnTo>
                    <a:pt x="186" y="412"/>
                  </a:lnTo>
                  <a:lnTo>
                    <a:pt x="164" y="410"/>
                  </a:lnTo>
                  <a:lnTo>
                    <a:pt x="144" y="404"/>
                  </a:lnTo>
                  <a:lnTo>
                    <a:pt x="126" y="398"/>
                  </a:lnTo>
                  <a:lnTo>
                    <a:pt x="108" y="388"/>
                  </a:lnTo>
                  <a:lnTo>
                    <a:pt x="90" y="378"/>
                  </a:lnTo>
                  <a:lnTo>
                    <a:pt x="74" y="366"/>
                  </a:lnTo>
                  <a:lnTo>
                    <a:pt x="60" y="352"/>
                  </a:lnTo>
                  <a:lnTo>
                    <a:pt x="46" y="338"/>
                  </a:lnTo>
                  <a:lnTo>
                    <a:pt x="34" y="322"/>
                  </a:lnTo>
                  <a:lnTo>
                    <a:pt x="24" y="306"/>
                  </a:lnTo>
                  <a:lnTo>
                    <a:pt x="16" y="288"/>
                  </a:lnTo>
                  <a:lnTo>
                    <a:pt x="8" y="268"/>
                  </a:lnTo>
                  <a:lnTo>
                    <a:pt x="4" y="248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186"/>
                  </a:lnTo>
                  <a:lnTo>
                    <a:pt x="4" y="164"/>
                  </a:lnTo>
                  <a:lnTo>
                    <a:pt x="8" y="146"/>
                  </a:lnTo>
                  <a:lnTo>
                    <a:pt x="16" y="126"/>
                  </a:lnTo>
                  <a:lnTo>
                    <a:pt x="24" y="108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4" y="48"/>
                  </a:lnTo>
                  <a:lnTo>
                    <a:pt x="90" y="36"/>
                  </a:lnTo>
                  <a:lnTo>
                    <a:pt x="108" y="24"/>
                  </a:lnTo>
                  <a:lnTo>
                    <a:pt x="126" y="16"/>
                  </a:lnTo>
                  <a:lnTo>
                    <a:pt x="144" y="10"/>
                  </a:lnTo>
                  <a:lnTo>
                    <a:pt x="164" y="4"/>
                  </a:lnTo>
                  <a:lnTo>
                    <a:pt x="186" y="2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28" y="2"/>
                  </a:lnTo>
                  <a:lnTo>
                    <a:pt x="248" y="4"/>
                  </a:lnTo>
                  <a:lnTo>
                    <a:pt x="268" y="10"/>
                  </a:lnTo>
                  <a:lnTo>
                    <a:pt x="286" y="16"/>
                  </a:lnTo>
                  <a:lnTo>
                    <a:pt x="304" y="24"/>
                  </a:lnTo>
                  <a:lnTo>
                    <a:pt x="322" y="36"/>
                  </a:lnTo>
                  <a:lnTo>
                    <a:pt x="338" y="48"/>
                  </a:lnTo>
                  <a:lnTo>
                    <a:pt x="352" y="60"/>
                  </a:lnTo>
                  <a:lnTo>
                    <a:pt x="366" y="76"/>
                  </a:lnTo>
                  <a:lnTo>
                    <a:pt x="378" y="92"/>
                  </a:lnTo>
                  <a:lnTo>
                    <a:pt x="388" y="108"/>
                  </a:lnTo>
                  <a:lnTo>
                    <a:pt x="396" y="126"/>
                  </a:lnTo>
                  <a:lnTo>
                    <a:pt x="404" y="146"/>
                  </a:lnTo>
                  <a:lnTo>
                    <a:pt x="408" y="164"/>
                  </a:lnTo>
                  <a:lnTo>
                    <a:pt x="412" y="186"/>
                  </a:lnTo>
                  <a:lnTo>
                    <a:pt x="414" y="206"/>
                  </a:lnTo>
                  <a:lnTo>
                    <a:pt x="414" y="206"/>
                  </a:lnTo>
                  <a:close/>
                </a:path>
              </a:pathLst>
            </a:custGeom>
            <a:solidFill>
              <a:srgbClr val="fcd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302"/>
            <p:cNvSpPr/>
            <p:nvPr/>
          </p:nvSpPr>
          <p:spPr>
            <a:xfrm>
              <a:off x="8451720" y="8670960"/>
              <a:ext cx="622080" cy="6220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92" h="392">
                  <a:moveTo>
                    <a:pt x="392" y="196"/>
                  </a:moveTo>
                  <a:lnTo>
                    <a:pt x="392" y="196"/>
                  </a:lnTo>
                  <a:lnTo>
                    <a:pt x="390" y="216"/>
                  </a:lnTo>
                  <a:lnTo>
                    <a:pt x="388" y="234"/>
                  </a:lnTo>
                  <a:lnTo>
                    <a:pt x="384" y="254"/>
                  </a:lnTo>
                  <a:lnTo>
                    <a:pt x="376" y="272"/>
                  </a:lnTo>
                  <a:lnTo>
                    <a:pt x="368" y="288"/>
                  </a:lnTo>
                  <a:lnTo>
                    <a:pt x="358" y="304"/>
                  </a:lnTo>
                  <a:lnTo>
                    <a:pt x="348" y="320"/>
                  </a:lnTo>
                  <a:lnTo>
                    <a:pt x="334" y="334"/>
                  </a:lnTo>
                  <a:lnTo>
                    <a:pt x="320" y="346"/>
                  </a:lnTo>
                  <a:lnTo>
                    <a:pt x="306" y="358"/>
                  </a:lnTo>
                  <a:lnTo>
                    <a:pt x="290" y="368"/>
                  </a:lnTo>
                  <a:lnTo>
                    <a:pt x="272" y="376"/>
                  </a:lnTo>
                  <a:lnTo>
                    <a:pt x="254" y="382"/>
                  </a:lnTo>
                  <a:lnTo>
                    <a:pt x="236" y="388"/>
                  </a:lnTo>
                  <a:lnTo>
                    <a:pt x="216" y="390"/>
                  </a:lnTo>
                  <a:lnTo>
                    <a:pt x="196" y="392"/>
                  </a:lnTo>
                  <a:lnTo>
                    <a:pt x="196" y="392"/>
                  </a:lnTo>
                  <a:lnTo>
                    <a:pt x="176" y="390"/>
                  </a:lnTo>
                  <a:lnTo>
                    <a:pt x="156" y="388"/>
                  </a:lnTo>
                  <a:lnTo>
                    <a:pt x="138" y="382"/>
                  </a:lnTo>
                  <a:lnTo>
                    <a:pt x="120" y="376"/>
                  </a:lnTo>
                  <a:lnTo>
                    <a:pt x="102" y="368"/>
                  </a:lnTo>
                  <a:lnTo>
                    <a:pt x="86" y="358"/>
                  </a:lnTo>
                  <a:lnTo>
                    <a:pt x="72" y="346"/>
                  </a:lnTo>
                  <a:lnTo>
                    <a:pt x="58" y="334"/>
                  </a:lnTo>
                  <a:lnTo>
                    <a:pt x="44" y="320"/>
                  </a:lnTo>
                  <a:lnTo>
                    <a:pt x="34" y="304"/>
                  </a:lnTo>
                  <a:lnTo>
                    <a:pt x="24" y="288"/>
                  </a:lnTo>
                  <a:lnTo>
                    <a:pt x="16" y="272"/>
                  </a:lnTo>
                  <a:lnTo>
                    <a:pt x="8" y="254"/>
                  </a:lnTo>
                  <a:lnTo>
                    <a:pt x="4" y="234"/>
                  </a:lnTo>
                  <a:lnTo>
                    <a:pt x="0" y="21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4" y="156"/>
                  </a:lnTo>
                  <a:lnTo>
                    <a:pt x="8" y="136"/>
                  </a:lnTo>
                  <a:lnTo>
                    <a:pt x="16" y="118"/>
                  </a:lnTo>
                  <a:lnTo>
                    <a:pt x="24" y="102"/>
                  </a:lnTo>
                  <a:lnTo>
                    <a:pt x="34" y="86"/>
                  </a:lnTo>
                  <a:lnTo>
                    <a:pt x="44" y="70"/>
                  </a:lnTo>
                  <a:lnTo>
                    <a:pt x="58" y="56"/>
                  </a:lnTo>
                  <a:lnTo>
                    <a:pt x="72" y="44"/>
                  </a:lnTo>
                  <a:lnTo>
                    <a:pt x="86" y="32"/>
                  </a:lnTo>
                  <a:lnTo>
                    <a:pt x="102" y="22"/>
                  </a:lnTo>
                  <a:lnTo>
                    <a:pt x="120" y="14"/>
                  </a:lnTo>
                  <a:lnTo>
                    <a:pt x="138" y="8"/>
                  </a:lnTo>
                  <a:lnTo>
                    <a:pt x="156" y="2"/>
                  </a:lnTo>
                  <a:lnTo>
                    <a:pt x="176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16" y="0"/>
                  </a:lnTo>
                  <a:lnTo>
                    <a:pt x="236" y="2"/>
                  </a:lnTo>
                  <a:lnTo>
                    <a:pt x="254" y="8"/>
                  </a:lnTo>
                  <a:lnTo>
                    <a:pt x="272" y="14"/>
                  </a:lnTo>
                  <a:lnTo>
                    <a:pt x="290" y="22"/>
                  </a:lnTo>
                  <a:lnTo>
                    <a:pt x="306" y="32"/>
                  </a:lnTo>
                  <a:lnTo>
                    <a:pt x="320" y="44"/>
                  </a:lnTo>
                  <a:lnTo>
                    <a:pt x="334" y="56"/>
                  </a:lnTo>
                  <a:lnTo>
                    <a:pt x="348" y="70"/>
                  </a:lnTo>
                  <a:lnTo>
                    <a:pt x="358" y="86"/>
                  </a:lnTo>
                  <a:lnTo>
                    <a:pt x="368" y="102"/>
                  </a:lnTo>
                  <a:lnTo>
                    <a:pt x="376" y="118"/>
                  </a:lnTo>
                  <a:lnTo>
                    <a:pt x="384" y="136"/>
                  </a:lnTo>
                  <a:lnTo>
                    <a:pt x="388" y="156"/>
                  </a:lnTo>
                  <a:lnTo>
                    <a:pt x="390" y="174"/>
                  </a:lnTo>
                  <a:lnTo>
                    <a:pt x="392" y="196"/>
                  </a:lnTo>
                  <a:lnTo>
                    <a:pt x="392" y="196"/>
                  </a:lnTo>
                  <a:close/>
                </a:path>
              </a:pathLst>
            </a:custGeom>
            <a:solidFill>
              <a:srgbClr val="fcd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303"/>
            <p:cNvSpPr/>
            <p:nvPr/>
          </p:nvSpPr>
          <p:spPr>
            <a:xfrm>
              <a:off x="8458200" y="8680320"/>
              <a:ext cx="587160" cy="58716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370" h="370">
                  <a:moveTo>
                    <a:pt x="370" y="186"/>
                  </a:moveTo>
                  <a:lnTo>
                    <a:pt x="370" y="186"/>
                  </a:lnTo>
                  <a:lnTo>
                    <a:pt x="370" y="204"/>
                  </a:lnTo>
                  <a:lnTo>
                    <a:pt x="368" y="222"/>
                  </a:lnTo>
                  <a:lnTo>
                    <a:pt x="362" y="240"/>
                  </a:lnTo>
                  <a:lnTo>
                    <a:pt x="356" y="258"/>
                  </a:lnTo>
                  <a:lnTo>
                    <a:pt x="348" y="274"/>
                  </a:lnTo>
                  <a:lnTo>
                    <a:pt x="340" y="290"/>
                  </a:lnTo>
                  <a:lnTo>
                    <a:pt x="328" y="304"/>
                  </a:lnTo>
                  <a:lnTo>
                    <a:pt x="316" y="316"/>
                  </a:lnTo>
                  <a:lnTo>
                    <a:pt x="304" y="328"/>
                  </a:lnTo>
                  <a:lnTo>
                    <a:pt x="290" y="340"/>
                  </a:lnTo>
                  <a:lnTo>
                    <a:pt x="274" y="348"/>
                  </a:lnTo>
                  <a:lnTo>
                    <a:pt x="258" y="356"/>
                  </a:lnTo>
                  <a:lnTo>
                    <a:pt x="240" y="362"/>
                  </a:lnTo>
                  <a:lnTo>
                    <a:pt x="222" y="368"/>
                  </a:lnTo>
                  <a:lnTo>
                    <a:pt x="204" y="370"/>
                  </a:lnTo>
                  <a:lnTo>
                    <a:pt x="186" y="370"/>
                  </a:lnTo>
                  <a:lnTo>
                    <a:pt x="186" y="370"/>
                  </a:lnTo>
                  <a:lnTo>
                    <a:pt x="166" y="370"/>
                  </a:lnTo>
                  <a:lnTo>
                    <a:pt x="148" y="368"/>
                  </a:lnTo>
                  <a:lnTo>
                    <a:pt x="130" y="362"/>
                  </a:lnTo>
                  <a:lnTo>
                    <a:pt x="114" y="356"/>
                  </a:lnTo>
                  <a:lnTo>
                    <a:pt x="98" y="348"/>
                  </a:lnTo>
                  <a:lnTo>
                    <a:pt x="82" y="340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4"/>
                  </a:lnTo>
                  <a:lnTo>
                    <a:pt x="32" y="290"/>
                  </a:lnTo>
                  <a:lnTo>
                    <a:pt x="22" y="274"/>
                  </a:lnTo>
                  <a:lnTo>
                    <a:pt x="14" y="258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2" y="204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4"/>
                  </a:lnTo>
                  <a:lnTo>
                    <a:pt x="22" y="98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8" y="22"/>
                  </a:lnTo>
                  <a:lnTo>
                    <a:pt x="114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2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204" y="2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8" y="14"/>
                  </a:lnTo>
                  <a:lnTo>
                    <a:pt x="274" y="22"/>
                  </a:lnTo>
                  <a:lnTo>
                    <a:pt x="290" y="32"/>
                  </a:lnTo>
                  <a:lnTo>
                    <a:pt x="304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40" y="82"/>
                  </a:lnTo>
                  <a:lnTo>
                    <a:pt x="348" y="98"/>
                  </a:lnTo>
                  <a:lnTo>
                    <a:pt x="356" y="114"/>
                  </a:lnTo>
                  <a:lnTo>
                    <a:pt x="362" y="130"/>
                  </a:lnTo>
                  <a:lnTo>
                    <a:pt x="368" y="148"/>
                  </a:lnTo>
                  <a:lnTo>
                    <a:pt x="370" y="166"/>
                  </a:lnTo>
                  <a:lnTo>
                    <a:pt x="370" y="186"/>
                  </a:lnTo>
                  <a:lnTo>
                    <a:pt x="370" y="186"/>
                  </a:lnTo>
                  <a:close/>
                </a:path>
              </a:pathLst>
            </a:custGeom>
            <a:solidFill>
              <a:srgbClr val="fc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304"/>
            <p:cNvSpPr/>
            <p:nvPr/>
          </p:nvSpPr>
          <p:spPr>
            <a:xfrm>
              <a:off x="8464320" y="8693280"/>
              <a:ext cx="555480" cy="55224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350" y="174"/>
                  </a:moveTo>
                  <a:lnTo>
                    <a:pt x="350" y="174"/>
                  </a:lnTo>
                  <a:lnTo>
                    <a:pt x="348" y="192"/>
                  </a:lnTo>
                  <a:lnTo>
                    <a:pt x="346" y="210"/>
                  </a:lnTo>
                  <a:lnTo>
                    <a:pt x="342" y="226"/>
                  </a:lnTo>
                  <a:lnTo>
                    <a:pt x="336" y="242"/>
                  </a:lnTo>
                  <a:lnTo>
                    <a:pt x="328" y="258"/>
                  </a:lnTo>
                  <a:lnTo>
                    <a:pt x="320" y="272"/>
                  </a:lnTo>
                  <a:lnTo>
                    <a:pt x="310" y="286"/>
                  </a:lnTo>
                  <a:lnTo>
                    <a:pt x="298" y="298"/>
                  </a:lnTo>
                  <a:lnTo>
                    <a:pt x="286" y="308"/>
                  </a:lnTo>
                  <a:lnTo>
                    <a:pt x="272" y="318"/>
                  </a:lnTo>
                  <a:lnTo>
                    <a:pt x="258" y="328"/>
                  </a:lnTo>
                  <a:lnTo>
                    <a:pt x="244" y="334"/>
                  </a:lnTo>
                  <a:lnTo>
                    <a:pt x="228" y="340"/>
                  </a:lnTo>
                  <a:lnTo>
                    <a:pt x="210" y="346"/>
                  </a:lnTo>
                  <a:lnTo>
                    <a:pt x="192" y="348"/>
                  </a:lnTo>
                  <a:lnTo>
                    <a:pt x="176" y="348"/>
                  </a:lnTo>
                  <a:lnTo>
                    <a:pt x="176" y="348"/>
                  </a:lnTo>
                  <a:lnTo>
                    <a:pt x="158" y="348"/>
                  </a:lnTo>
                  <a:lnTo>
                    <a:pt x="140" y="346"/>
                  </a:lnTo>
                  <a:lnTo>
                    <a:pt x="124" y="340"/>
                  </a:lnTo>
                  <a:lnTo>
                    <a:pt x="108" y="334"/>
                  </a:lnTo>
                  <a:lnTo>
                    <a:pt x="92" y="328"/>
                  </a:lnTo>
                  <a:lnTo>
                    <a:pt x="78" y="318"/>
                  </a:lnTo>
                  <a:lnTo>
                    <a:pt x="64" y="308"/>
                  </a:lnTo>
                  <a:lnTo>
                    <a:pt x="52" y="298"/>
                  </a:lnTo>
                  <a:lnTo>
                    <a:pt x="40" y="286"/>
                  </a:lnTo>
                  <a:lnTo>
                    <a:pt x="30" y="272"/>
                  </a:lnTo>
                  <a:lnTo>
                    <a:pt x="22" y="258"/>
                  </a:lnTo>
                  <a:lnTo>
                    <a:pt x="14" y="242"/>
                  </a:lnTo>
                  <a:lnTo>
                    <a:pt x="8" y="226"/>
                  </a:lnTo>
                  <a:lnTo>
                    <a:pt x="4" y="210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8"/>
                  </a:lnTo>
                  <a:lnTo>
                    <a:pt x="8" y="122"/>
                  </a:lnTo>
                  <a:lnTo>
                    <a:pt x="14" y="106"/>
                  </a:lnTo>
                  <a:lnTo>
                    <a:pt x="22" y="90"/>
                  </a:lnTo>
                  <a:lnTo>
                    <a:pt x="30" y="76"/>
                  </a:lnTo>
                  <a:lnTo>
                    <a:pt x="40" y="62"/>
                  </a:lnTo>
                  <a:lnTo>
                    <a:pt x="52" y="50"/>
                  </a:lnTo>
                  <a:lnTo>
                    <a:pt x="64" y="40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4" y="6"/>
                  </a:lnTo>
                  <a:lnTo>
                    <a:pt x="140" y="2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92" y="0"/>
                  </a:lnTo>
                  <a:lnTo>
                    <a:pt x="210" y="2"/>
                  </a:lnTo>
                  <a:lnTo>
                    <a:pt x="228" y="6"/>
                  </a:lnTo>
                  <a:lnTo>
                    <a:pt x="244" y="12"/>
                  </a:lnTo>
                  <a:lnTo>
                    <a:pt x="258" y="20"/>
                  </a:lnTo>
                  <a:lnTo>
                    <a:pt x="272" y="28"/>
                  </a:lnTo>
                  <a:lnTo>
                    <a:pt x="286" y="40"/>
                  </a:lnTo>
                  <a:lnTo>
                    <a:pt x="298" y="50"/>
                  </a:lnTo>
                  <a:lnTo>
                    <a:pt x="310" y="62"/>
                  </a:lnTo>
                  <a:lnTo>
                    <a:pt x="320" y="76"/>
                  </a:lnTo>
                  <a:lnTo>
                    <a:pt x="328" y="90"/>
                  </a:lnTo>
                  <a:lnTo>
                    <a:pt x="336" y="106"/>
                  </a:lnTo>
                  <a:lnTo>
                    <a:pt x="342" y="122"/>
                  </a:lnTo>
                  <a:lnTo>
                    <a:pt x="346" y="138"/>
                  </a:lnTo>
                  <a:lnTo>
                    <a:pt x="348" y="156"/>
                  </a:lnTo>
                  <a:lnTo>
                    <a:pt x="350" y="174"/>
                  </a:lnTo>
                  <a:lnTo>
                    <a:pt x="350" y="174"/>
                  </a:lnTo>
                  <a:close/>
                </a:path>
              </a:pathLst>
            </a:custGeom>
            <a:solidFill>
              <a:srgbClr val="fce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05"/>
            <p:cNvSpPr/>
            <p:nvPr/>
          </p:nvSpPr>
          <p:spPr>
            <a:xfrm>
              <a:off x="8470800" y="8702640"/>
              <a:ext cx="52056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328" y="164"/>
                  </a:moveTo>
                  <a:lnTo>
                    <a:pt x="328" y="164"/>
                  </a:lnTo>
                  <a:lnTo>
                    <a:pt x="328" y="182"/>
                  </a:lnTo>
                  <a:lnTo>
                    <a:pt x="326" y="198"/>
                  </a:lnTo>
                  <a:lnTo>
                    <a:pt x="322" y="214"/>
                  </a:lnTo>
                  <a:lnTo>
                    <a:pt x="316" y="228"/>
                  </a:lnTo>
                  <a:lnTo>
                    <a:pt x="308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6"/>
                  </a:lnTo>
                  <a:lnTo>
                    <a:pt x="214" y="322"/>
                  </a:lnTo>
                  <a:lnTo>
                    <a:pt x="198" y="326"/>
                  </a:lnTo>
                  <a:lnTo>
                    <a:pt x="182" y="328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8"/>
                  </a:lnTo>
                  <a:lnTo>
                    <a:pt x="132" y="326"/>
                  </a:lnTo>
                  <a:lnTo>
                    <a:pt x="116" y="322"/>
                  </a:lnTo>
                  <a:lnTo>
                    <a:pt x="100" y="316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4"/>
                  </a:lnTo>
                  <a:lnTo>
                    <a:pt x="4" y="198"/>
                  </a:lnTo>
                  <a:lnTo>
                    <a:pt x="2" y="18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48"/>
                  </a:lnTo>
                  <a:lnTo>
                    <a:pt x="4" y="132"/>
                  </a:lnTo>
                  <a:lnTo>
                    <a:pt x="8" y="116"/>
                  </a:lnTo>
                  <a:lnTo>
                    <a:pt x="14" y="100"/>
                  </a:lnTo>
                  <a:lnTo>
                    <a:pt x="20" y="86"/>
                  </a:lnTo>
                  <a:lnTo>
                    <a:pt x="28" y="72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2" y="28"/>
                  </a:lnTo>
                  <a:lnTo>
                    <a:pt x="86" y="20"/>
                  </a:lnTo>
                  <a:lnTo>
                    <a:pt x="100" y="14"/>
                  </a:lnTo>
                  <a:lnTo>
                    <a:pt x="116" y="8"/>
                  </a:lnTo>
                  <a:lnTo>
                    <a:pt x="132" y="4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28" y="14"/>
                  </a:lnTo>
                  <a:lnTo>
                    <a:pt x="242" y="20"/>
                  </a:lnTo>
                  <a:lnTo>
                    <a:pt x="256" y="28"/>
                  </a:lnTo>
                  <a:lnTo>
                    <a:pt x="270" y="38"/>
                  </a:lnTo>
                  <a:lnTo>
                    <a:pt x="280" y="48"/>
                  </a:lnTo>
                  <a:lnTo>
                    <a:pt x="292" y="60"/>
                  </a:lnTo>
                  <a:lnTo>
                    <a:pt x="300" y="72"/>
                  </a:lnTo>
                  <a:lnTo>
                    <a:pt x="308" y="86"/>
                  </a:lnTo>
                  <a:lnTo>
                    <a:pt x="316" y="100"/>
                  </a:lnTo>
                  <a:lnTo>
                    <a:pt x="322" y="116"/>
                  </a:lnTo>
                  <a:lnTo>
                    <a:pt x="326" y="132"/>
                  </a:lnTo>
                  <a:lnTo>
                    <a:pt x="328" y="148"/>
                  </a:lnTo>
                  <a:lnTo>
                    <a:pt x="328" y="164"/>
                  </a:lnTo>
                  <a:lnTo>
                    <a:pt x="328" y="164"/>
                  </a:lnTo>
                  <a:close/>
                </a:path>
              </a:pathLst>
            </a:custGeom>
            <a:solidFill>
              <a:srgbClr val="fd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06"/>
            <p:cNvSpPr/>
            <p:nvPr/>
          </p:nvSpPr>
          <p:spPr>
            <a:xfrm>
              <a:off x="8477280" y="8715240"/>
              <a:ext cx="488880" cy="4856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08" h="306">
                  <a:moveTo>
                    <a:pt x="308" y="152"/>
                  </a:moveTo>
                  <a:lnTo>
                    <a:pt x="308" y="152"/>
                  </a:lnTo>
                  <a:lnTo>
                    <a:pt x="306" y="168"/>
                  </a:lnTo>
                  <a:lnTo>
                    <a:pt x="304" y="184"/>
                  </a:lnTo>
                  <a:lnTo>
                    <a:pt x="300" y="198"/>
                  </a:lnTo>
                  <a:lnTo>
                    <a:pt x="296" y="212"/>
                  </a:lnTo>
                  <a:lnTo>
                    <a:pt x="290" y="226"/>
                  </a:lnTo>
                  <a:lnTo>
                    <a:pt x="282" y="238"/>
                  </a:lnTo>
                  <a:lnTo>
                    <a:pt x="272" y="250"/>
                  </a:lnTo>
                  <a:lnTo>
                    <a:pt x="262" y="262"/>
                  </a:lnTo>
                  <a:lnTo>
                    <a:pt x="252" y="272"/>
                  </a:lnTo>
                  <a:lnTo>
                    <a:pt x="240" y="280"/>
                  </a:lnTo>
                  <a:lnTo>
                    <a:pt x="228" y="288"/>
                  </a:lnTo>
                  <a:lnTo>
                    <a:pt x="214" y="294"/>
                  </a:lnTo>
                  <a:lnTo>
                    <a:pt x="200" y="300"/>
                  </a:lnTo>
                  <a:lnTo>
                    <a:pt x="186" y="304"/>
                  </a:lnTo>
                  <a:lnTo>
                    <a:pt x="170" y="306"/>
                  </a:lnTo>
                  <a:lnTo>
                    <a:pt x="154" y="306"/>
                  </a:lnTo>
                  <a:lnTo>
                    <a:pt x="154" y="306"/>
                  </a:lnTo>
                  <a:lnTo>
                    <a:pt x="138" y="306"/>
                  </a:lnTo>
                  <a:lnTo>
                    <a:pt x="124" y="304"/>
                  </a:lnTo>
                  <a:lnTo>
                    <a:pt x="108" y="300"/>
                  </a:lnTo>
                  <a:lnTo>
                    <a:pt x="94" y="294"/>
                  </a:lnTo>
                  <a:lnTo>
                    <a:pt x="82" y="288"/>
                  </a:lnTo>
                  <a:lnTo>
                    <a:pt x="68" y="280"/>
                  </a:lnTo>
                  <a:lnTo>
                    <a:pt x="56" y="272"/>
                  </a:lnTo>
                  <a:lnTo>
                    <a:pt x="46" y="262"/>
                  </a:lnTo>
                  <a:lnTo>
                    <a:pt x="36" y="250"/>
                  </a:lnTo>
                  <a:lnTo>
                    <a:pt x="28" y="238"/>
                  </a:lnTo>
                  <a:lnTo>
                    <a:pt x="20" y="226"/>
                  </a:lnTo>
                  <a:lnTo>
                    <a:pt x="12" y="212"/>
                  </a:lnTo>
                  <a:lnTo>
                    <a:pt x="8" y="198"/>
                  </a:lnTo>
                  <a:lnTo>
                    <a:pt x="4" y="184"/>
                  </a:lnTo>
                  <a:lnTo>
                    <a:pt x="2" y="168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136"/>
                  </a:lnTo>
                  <a:lnTo>
                    <a:pt x="4" y="122"/>
                  </a:lnTo>
                  <a:lnTo>
                    <a:pt x="8" y="108"/>
                  </a:lnTo>
                  <a:lnTo>
                    <a:pt x="12" y="92"/>
                  </a:lnTo>
                  <a:lnTo>
                    <a:pt x="20" y="80"/>
                  </a:lnTo>
                  <a:lnTo>
                    <a:pt x="28" y="66"/>
                  </a:lnTo>
                  <a:lnTo>
                    <a:pt x="36" y="56"/>
                  </a:lnTo>
                  <a:lnTo>
                    <a:pt x="46" y="44"/>
                  </a:lnTo>
                  <a:lnTo>
                    <a:pt x="56" y="34"/>
                  </a:lnTo>
                  <a:lnTo>
                    <a:pt x="68" y="26"/>
                  </a:lnTo>
                  <a:lnTo>
                    <a:pt x="82" y="18"/>
                  </a:lnTo>
                  <a:lnTo>
                    <a:pt x="94" y="12"/>
                  </a:lnTo>
                  <a:lnTo>
                    <a:pt x="108" y="6"/>
                  </a:lnTo>
                  <a:lnTo>
                    <a:pt x="124" y="2"/>
                  </a:lnTo>
                  <a:lnTo>
                    <a:pt x="138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70" y="0"/>
                  </a:lnTo>
                  <a:lnTo>
                    <a:pt x="186" y="2"/>
                  </a:lnTo>
                  <a:lnTo>
                    <a:pt x="200" y="6"/>
                  </a:lnTo>
                  <a:lnTo>
                    <a:pt x="214" y="12"/>
                  </a:lnTo>
                  <a:lnTo>
                    <a:pt x="228" y="18"/>
                  </a:lnTo>
                  <a:lnTo>
                    <a:pt x="240" y="26"/>
                  </a:lnTo>
                  <a:lnTo>
                    <a:pt x="252" y="34"/>
                  </a:lnTo>
                  <a:lnTo>
                    <a:pt x="262" y="44"/>
                  </a:lnTo>
                  <a:lnTo>
                    <a:pt x="272" y="56"/>
                  </a:lnTo>
                  <a:lnTo>
                    <a:pt x="282" y="66"/>
                  </a:lnTo>
                  <a:lnTo>
                    <a:pt x="290" y="80"/>
                  </a:lnTo>
                  <a:lnTo>
                    <a:pt x="296" y="92"/>
                  </a:lnTo>
                  <a:lnTo>
                    <a:pt x="300" y="108"/>
                  </a:lnTo>
                  <a:lnTo>
                    <a:pt x="304" y="122"/>
                  </a:lnTo>
                  <a:lnTo>
                    <a:pt x="306" y="136"/>
                  </a:lnTo>
                  <a:lnTo>
                    <a:pt x="308" y="152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fde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07"/>
            <p:cNvSpPr/>
            <p:nvPr/>
          </p:nvSpPr>
          <p:spPr>
            <a:xfrm>
              <a:off x="8486640" y="8724960"/>
              <a:ext cx="450720" cy="45396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4" h="286">
                  <a:moveTo>
                    <a:pt x="284" y="144"/>
                  </a:moveTo>
                  <a:lnTo>
                    <a:pt x="284" y="144"/>
                  </a:lnTo>
                  <a:lnTo>
                    <a:pt x="284" y="158"/>
                  </a:lnTo>
                  <a:lnTo>
                    <a:pt x="282" y="172"/>
                  </a:lnTo>
                  <a:lnTo>
                    <a:pt x="278" y="186"/>
                  </a:lnTo>
                  <a:lnTo>
                    <a:pt x="274" y="198"/>
                  </a:lnTo>
                  <a:lnTo>
                    <a:pt x="268" y="212"/>
                  </a:lnTo>
                  <a:lnTo>
                    <a:pt x="260" y="222"/>
                  </a:lnTo>
                  <a:lnTo>
                    <a:pt x="252" y="234"/>
                  </a:lnTo>
                  <a:lnTo>
                    <a:pt x="242" y="244"/>
                  </a:lnTo>
                  <a:lnTo>
                    <a:pt x="232" y="254"/>
                  </a:lnTo>
                  <a:lnTo>
                    <a:pt x="222" y="262"/>
                  </a:lnTo>
                  <a:lnTo>
                    <a:pt x="210" y="268"/>
                  </a:lnTo>
                  <a:lnTo>
                    <a:pt x="198" y="274"/>
                  </a:lnTo>
                  <a:lnTo>
                    <a:pt x="184" y="280"/>
                  </a:lnTo>
                  <a:lnTo>
                    <a:pt x="170" y="284"/>
                  </a:lnTo>
                  <a:lnTo>
                    <a:pt x="156" y="286"/>
                  </a:lnTo>
                  <a:lnTo>
                    <a:pt x="142" y="286"/>
                  </a:lnTo>
                  <a:lnTo>
                    <a:pt x="142" y="286"/>
                  </a:lnTo>
                  <a:lnTo>
                    <a:pt x="128" y="286"/>
                  </a:lnTo>
                  <a:lnTo>
                    <a:pt x="114" y="284"/>
                  </a:lnTo>
                  <a:lnTo>
                    <a:pt x="100" y="280"/>
                  </a:lnTo>
                  <a:lnTo>
                    <a:pt x="86" y="274"/>
                  </a:lnTo>
                  <a:lnTo>
                    <a:pt x="74" y="268"/>
                  </a:lnTo>
                  <a:lnTo>
                    <a:pt x="62" y="262"/>
                  </a:lnTo>
                  <a:lnTo>
                    <a:pt x="50" y="254"/>
                  </a:lnTo>
                  <a:lnTo>
                    <a:pt x="40" y="244"/>
                  </a:lnTo>
                  <a:lnTo>
                    <a:pt x="32" y="234"/>
                  </a:lnTo>
                  <a:lnTo>
                    <a:pt x="24" y="222"/>
                  </a:lnTo>
                  <a:lnTo>
                    <a:pt x="16" y="212"/>
                  </a:lnTo>
                  <a:lnTo>
                    <a:pt x="10" y="198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6" y="76"/>
                  </a:lnTo>
                  <a:lnTo>
                    <a:pt x="24" y="64"/>
                  </a:lnTo>
                  <a:lnTo>
                    <a:pt x="32" y="52"/>
                  </a:lnTo>
                  <a:lnTo>
                    <a:pt x="40" y="42"/>
                  </a:lnTo>
                  <a:lnTo>
                    <a:pt x="50" y="32"/>
                  </a:lnTo>
                  <a:lnTo>
                    <a:pt x="62" y="24"/>
                  </a:lnTo>
                  <a:lnTo>
                    <a:pt x="74" y="18"/>
                  </a:lnTo>
                  <a:lnTo>
                    <a:pt x="86" y="12"/>
                  </a:lnTo>
                  <a:lnTo>
                    <a:pt x="100" y="6"/>
                  </a:lnTo>
                  <a:lnTo>
                    <a:pt x="114" y="4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4"/>
                  </a:lnTo>
                  <a:lnTo>
                    <a:pt x="184" y="6"/>
                  </a:lnTo>
                  <a:lnTo>
                    <a:pt x="198" y="12"/>
                  </a:lnTo>
                  <a:lnTo>
                    <a:pt x="210" y="18"/>
                  </a:lnTo>
                  <a:lnTo>
                    <a:pt x="222" y="24"/>
                  </a:lnTo>
                  <a:lnTo>
                    <a:pt x="232" y="32"/>
                  </a:lnTo>
                  <a:lnTo>
                    <a:pt x="242" y="42"/>
                  </a:lnTo>
                  <a:lnTo>
                    <a:pt x="252" y="52"/>
                  </a:lnTo>
                  <a:lnTo>
                    <a:pt x="260" y="64"/>
                  </a:lnTo>
                  <a:lnTo>
                    <a:pt x="268" y="76"/>
                  </a:lnTo>
                  <a:lnTo>
                    <a:pt x="274" y="88"/>
                  </a:lnTo>
                  <a:lnTo>
                    <a:pt x="278" y="100"/>
                  </a:lnTo>
                  <a:lnTo>
                    <a:pt x="282" y="114"/>
                  </a:lnTo>
                  <a:lnTo>
                    <a:pt x="284" y="128"/>
                  </a:lnTo>
                  <a:lnTo>
                    <a:pt x="284" y="144"/>
                  </a:lnTo>
                  <a:lnTo>
                    <a:pt x="284" y="144"/>
                  </a:lnTo>
                  <a:close/>
                </a:path>
              </a:pathLst>
            </a:custGeom>
            <a:solidFill>
              <a:srgbClr val="fde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08"/>
            <p:cNvSpPr/>
            <p:nvPr/>
          </p:nvSpPr>
          <p:spPr>
            <a:xfrm>
              <a:off x="8493120" y="8737560"/>
              <a:ext cx="419040" cy="4190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64" h="264">
                  <a:moveTo>
                    <a:pt x="264" y="132"/>
                  </a:moveTo>
                  <a:lnTo>
                    <a:pt x="264" y="132"/>
                  </a:lnTo>
                  <a:lnTo>
                    <a:pt x="262" y="146"/>
                  </a:lnTo>
                  <a:lnTo>
                    <a:pt x="260" y="158"/>
                  </a:lnTo>
                  <a:lnTo>
                    <a:pt x="258" y="170"/>
                  </a:lnTo>
                  <a:lnTo>
                    <a:pt x="254" y="182"/>
                  </a:lnTo>
                  <a:lnTo>
                    <a:pt x="248" y="194"/>
                  </a:lnTo>
                  <a:lnTo>
                    <a:pt x="242" y="206"/>
                  </a:lnTo>
                  <a:lnTo>
                    <a:pt x="234" y="216"/>
                  </a:lnTo>
                  <a:lnTo>
                    <a:pt x="224" y="224"/>
                  </a:lnTo>
                  <a:lnTo>
                    <a:pt x="216" y="234"/>
                  </a:lnTo>
                  <a:lnTo>
                    <a:pt x="206" y="242"/>
                  </a:lnTo>
                  <a:lnTo>
                    <a:pt x="194" y="248"/>
                  </a:lnTo>
                  <a:lnTo>
                    <a:pt x="182" y="254"/>
                  </a:lnTo>
                  <a:lnTo>
                    <a:pt x="170" y="258"/>
                  </a:lnTo>
                  <a:lnTo>
                    <a:pt x="158" y="262"/>
                  </a:lnTo>
                  <a:lnTo>
                    <a:pt x="144" y="264"/>
                  </a:lnTo>
                  <a:lnTo>
                    <a:pt x="132" y="264"/>
                  </a:lnTo>
                  <a:lnTo>
                    <a:pt x="132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8"/>
                  </a:lnTo>
                  <a:lnTo>
                    <a:pt x="80" y="254"/>
                  </a:lnTo>
                  <a:lnTo>
                    <a:pt x="68" y="248"/>
                  </a:lnTo>
                  <a:lnTo>
                    <a:pt x="58" y="242"/>
                  </a:lnTo>
                  <a:lnTo>
                    <a:pt x="48" y="234"/>
                  </a:lnTo>
                  <a:lnTo>
                    <a:pt x="38" y="224"/>
                  </a:lnTo>
                  <a:lnTo>
                    <a:pt x="30" y="216"/>
                  </a:lnTo>
                  <a:lnTo>
                    <a:pt x="22" y="206"/>
                  </a:lnTo>
                  <a:lnTo>
                    <a:pt x="16" y="194"/>
                  </a:lnTo>
                  <a:lnTo>
                    <a:pt x="10" y="182"/>
                  </a:lnTo>
                  <a:lnTo>
                    <a:pt x="6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0"/>
                  </a:lnTo>
                  <a:lnTo>
                    <a:pt x="16" y="68"/>
                  </a:lnTo>
                  <a:lnTo>
                    <a:pt x="22" y="58"/>
                  </a:lnTo>
                  <a:lnTo>
                    <a:pt x="30" y="48"/>
                  </a:lnTo>
                  <a:lnTo>
                    <a:pt x="38" y="38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8" y="16"/>
                  </a:lnTo>
                  <a:lnTo>
                    <a:pt x="80" y="10"/>
                  </a:lnTo>
                  <a:lnTo>
                    <a:pt x="92" y="6"/>
                  </a:lnTo>
                  <a:lnTo>
                    <a:pt x="104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8" y="2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4" y="16"/>
                  </a:lnTo>
                  <a:lnTo>
                    <a:pt x="206" y="22"/>
                  </a:lnTo>
                  <a:lnTo>
                    <a:pt x="216" y="30"/>
                  </a:lnTo>
                  <a:lnTo>
                    <a:pt x="224" y="38"/>
                  </a:lnTo>
                  <a:lnTo>
                    <a:pt x="234" y="48"/>
                  </a:lnTo>
                  <a:lnTo>
                    <a:pt x="242" y="58"/>
                  </a:lnTo>
                  <a:lnTo>
                    <a:pt x="248" y="68"/>
                  </a:lnTo>
                  <a:lnTo>
                    <a:pt x="254" y="80"/>
                  </a:lnTo>
                  <a:lnTo>
                    <a:pt x="258" y="92"/>
                  </a:lnTo>
                  <a:lnTo>
                    <a:pt x="260" y="104"/>
                  </a:lnTo>
                  <a:lnTo>
                    <a:pt x="262" y="118"/>
                  </a:lnTo>
                  <a:lnTo>
                    <a:pt x="264" y="132"/>
                  </a:lnTo>
                  <a:lnTo>
                    <a:pt x="264" y="132"/>
                  </a:lnTo>
                  <a:close/>
                </a:path>
              </a:pathLst>
            </a:custGeom>
            <a:solidFill>
              <a:srgbClr val="fde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09"/>
            <p:cNvSpPr/>
            <p:nvPr/>
          </p:nvSpPr>
          <p:spPr>
            <a:xfrm>
              <a:off x="8499240" y="8746920"/>
              <a:ext cx="384120" cy="3870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42" h="244">
                  <a:moveTo>
                    <a:pt x="242" y="122"/>
                  </a:moveTo>
                  <a:lnTo>
                    <a:pt x="242" y="122"/>
                  </a:lnTo>
                  <a:lnTo>
                    <a:pt x="242" y="134"/>
                  </a:lnTo>
                  <a:lnTo>
                    <a:pt x="240" y="146"/>
                  </a:lnTo>
                  <a:lnTo>
                    <a:pt x="234" y="170"/>
                  </a:lnTo>
                  <a:lnTo>
                    <a:pt x="222" y="190"/>
                  </a:lnTo>
                  <a:lnTo>
                    <a:pt x="206" y="208"/>
                  </a:lnTo>
                  <a:lnTo>
                    <a:pt x="188" y="222"/>
                  </a:lnTo>
                  <a:lnTo>
                    <a:pt x="168" y="234"/>
                  </a:lnTo>
                  <a:lnTo>
                    <a:pt x="146" y="242"/>
                  </a:lnTo>
                  <a:lnTo>
                    <a:pt x="134" y="242"/>
                  </a:lnTo>
                  <a:lnTo>
                    <a:pt x="122" y="244"/>
                  </a:lnTo>
                  <a:lnTo>
                    <a:pt x="122" y="244"/>
                  </a:lnTo>
                  <a:lnTo>
                    <a:pt x="108" y="242"/>
                  </a:lnTo>
                  <a:lnTo>
                    <a:pt x="96" y="242"/>
                  </a:lnTo>
                  <a:lnTo>
                    <a:pt x="74" y="234"/>
                  </a:lnTo>
                  <a:lnTo>
                    <a:pt x="54" y="222"/>
                  </a:lnTo>
                  <a:lnTo>
                    <a:pt x="36" y="208"/>
                  </a:lnTo>
                  <a:lnTo>
                    <a:pt x="20" y="190"/>
                  </a:lnTo>
                  <a:lnTo>
                    <a:pt x="10" y="170"/>
                  </a:lnTo>
                  <a:lnTo>
                    <a:pt x="2" y="146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0"/>
                  </a:lnTo>
                  <a:lnTo>
                    <a:pt x="2" y="98"/>
                  </a:lnTo>
                  <a:lnTo>
                    <a:pt x="10" y="74"/>
                  </a:lnTo>
                  <a:lnTo>
                    <a:pt x="20" y="54"/>
                  </a:lnTo>
                  <a:lnTo>
                    <a:pt x="36" y="36"/>
                  </a:lnTo>
                  <a:lnTo>
                    <a:pt x="54" y="22"/>
                  </a:lnTo>
                  <a:lnTo>
                    <a:pt x="74" y="10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4" y="0"/>
                  </a:lnTo>
                  <a:lnTo>
                    <a:pt x="146" y="2"/>
                  </a:lnTo>
                  <a:lnTo>
                    <a:pt x="168" y="10"/>
                  </a:lnTo>
                  <a:lnTo>
                    <a:pt x="188" y="22"/>
                  </a:lnTo>
                  <a:lnTo>
                    <a:pt x="206" y="36"/>
                  </a:lnTo>
                  <a:lnTo>
                    <a:pt x="222" y="54"/>
                  </a:lnTo>
                  <a:lnTo>
                    <a:pt x="234" y="74"/>
                  </a:lnTo>
                  <a:lnTo>
                    <a:pt x="240" y="98"/>
                  </a:lnTo>
                  <a:lnTo>
                    <a:pt x="242" y="110"/>
                  </a:lnTo>
                  <a:lnTo>
                    <a:pt x="242" y="122"/>
                  </a:lnTo>
                  <a:lnTo>
                    <a:pt x="242" y="122"/>
                  </a:lnTo>
                  <a:close/>
                </a:path>
              </a:pathLst>
            </a:custGeom>
            <a:solidFill>
              <a:srgbClr val="fee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10"/>
            <p:cNvSpPr/>
            <p:nvPr/>
          </p:nvSpPr>
          <p:spPr>
            <a:xfrm>
              <a:off x="8505720" y="8759880"/>
              <a:ext cx="352440" cy="3520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22" h="222">
                  <a:moveTo>
                    <a:pt x="222" y="110"/>
                  </a:moveTo>
                  <a:lnTo>
                    <a:pt x="222" y="110"/>
                  </a:lnTo>
                  <a:lnTo>
                    <a:pt x="220" y="132"/>
                  </a:lnTo>
                  <a:lnTo>
                    <a:pt x="212" y="154"/>
                  </a:lnTo>
                  <a:lnTo>
                    <a:pt x="202" y="172"/>
                  </a:lnTo>
                  <a:lnTo>
                    <a:pt x="190" y="188"/>
                  </a:lnTo>
                  <a:lnTo>
                    <a:pt x="172" y="202"/>
                  </a:lnTo>
                  <a:lnTo>
                    <a:pt x="154" y="212"/>
                  </a:lnTo>
                  <a:lnTo>
                    <a:pt x="132" y="218"/>
                  </a:lnTo>
                  <a:lnTo>
                    <a:pt x="110" y="222"/>
                  </a:lnTo>
                  <a:lnTo>
                    <a:pt x="110" y="222"/>
                  </a:lnTo>
                  <a:lnTo>
                    <a:pt x="88" y="218"/>
                  </a:lnTo>
                  <a:lnTo>
                    <a:pt x="68" y="212"/>
                  </a:lnTo>
                  <a:lnTo>
                    <a:pt x="48" y="202"/>
                  </a:lnTo>
                  <a:lnTo>
                    <a:pt x="32" y="188"/>
                  </a:lnTo>
                  <a:lnTo>
                    <a:pt x="18" y="172"/>
                  </a:lnTo>
                  <a:lnTo>
                    <a:pt x="8" y="154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8" y="48"/>
                  </a:lnTo>
                  <a:lnTo>
                    <a:pt x="32" y="32"/>
                  </a:lnTo>
                  <a:lnTo>
                    <a:pt x="48" y="18"/>
                  </a:lnTo>
                  <a:lnTo>
                    <a:pt x="68" y="8"/>
                  </a:lnTo>
                  <a:lnTo>
                    <a:pt x="88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32" y="2"/>
                  </a:lnTo>
                  <a:lnTo>
                    <a:pt x="154" y="8"/>
                  </a:lnTo>
                  <a:lnTo>
                    <a:pt x="172" y="18"/>
                  </a:lnTo>
                  <a:lnTo>
                    <a:pt x="190" y="32"/>
                  </a:lnTo>
                  <a:lnTo>
                    <a:pt x="202" y="48"/>
                  </a:lnTo>
                  <a:lnTo>
                    <a:pt x="212" y="68"/>
                  </a:lnTo>
                  <a:lnTo>
                    <a:pt x="220" y="88"/>
                  </a:lnTo>
                  <a:lnTo>
                    <a:pt x="222" y="110"/>
                  </a:lnTo>
                  <a:lnTo>
                    <a:pt x="222" y="110"/>
                  </a:lnTo>
                  <a:close/>
                </a:path>
              </a:pathLst>
            </a:custGeom>
            <a:solidFill>
              <a:srgbClr val="fee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11"/>
            <p:cNvSpPr/>
            <p:nvPr/>
          </p:nvSpPr>
          <p:spPr>
            <a:xfrm>
              <a:off x="8512200" y="8769240"/>
              <a:ext cx="317520" cy="3204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00" h="202">
                  <a:moveTo>
                    <a:pt x="200" y="100"/>
                  </a:moveTo>
                  <a:lnTo>
                    <a:pt x="200" y="100"/>
                  </a:lnTo>
                  <a:lnTo>
                    <a:pt x="198" y="120"/>
                  </a:lnTo>
                  <a:lnTo>
                    <a:pt x="192" y="140"/>
                  </a:lnTo>
                  <a:lnTo>
                    <a:pt x="184" y="156"/>
                  </a:lnTo>
                  <a:lnTo>
                    <a:pt x="172" y="172"/>
                  </a:lnTo>
                  <a:lnTo>
                    <a:pt x="156" y="184"/>
                  </a:lnTo>
                  <a:lnTo>
                    <a:pt x="140" y="194"/>
                  </a:lnTo>
                  <a:lnTo>
                    <a:pt x="120" y="198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80" y="198"/>
                  </a:lnTo>
                  <a:lnTo>
                    <a:pt x="62" y="194"/>
                  </a:lnTo>
                  <a:lnTo>
                    <a:pt x="44" y="184"/>
                  </a:lnTo>
                  <a:lnTo>
                    <a:pt x="30" y="172"/>
                  </a:lnTo>
                  <a:lnTo>
                    <a:pt x="18" y="156"/>
                  </a:lnTo>
                  <a:lnTo>
                    <a:pt x="8" y="140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8" y="62"/>
                  </a:lnTo>
                  <a:lnTo>
                    <a:pt x="18" y="44"/>
                  </a:lnTo>
                  <a:lnTo>
                    <a:pt x="30" y="30"/>
                  </a:lnTo>
                  <a:lnTo>
                    <a:pt x="44" y="18"/>
                  </a:lnTo>
                  <a:lnTo>
                    <a:pt x="62" y="8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20" y="2"/>
                  </a:lnTo>
                  <a:lnTo>
                    <a:pt x="140" y="8"/>
                  </a:lnTo>
                  <a:lnTo>
                    <a:pt x="156" y="18"/>
                  </a:lnTo>
                  <a:lnTo>
                    <a:pt x="172" y="30"/>
                  </a:lnTo>
                  <a:lnTo>
                    <a:pt x="184" y="44"/>
                  </a:lnTo>
                  <a:lnTo>
                    <a:pt x="192" y="62"/>
                  </a:lnTo>
                  <a:lnTo>
                    <a:pt x="198" y="80"/>
                  </a:lnTo>
                  <a:lnTo>
                    <a:pt x="200" y="100"/>
                  </a:lnTo>
                  <a:lnTo>
                    <a:pt x="200" y="100"/>
                  </a:lnTo>
                  <a:close/>
                </a:path>
              </a:pathLst>
            </a:custGeom>
            <a:solidFill>
              <a:srgbClr val="fee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312"/>
            <p:cNvSpPr/>
            <p:nvPr/>
          </p:nvSpPr>
          <p:spPr>
            <a:xfrm>
              <a:off x="8518320" y="8781840"/>
              <a:ext cx="285480" cy="2822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80" h="178">
                  <a:moveTo>
                    <a:pt x="180" y="90"/>
                  </a:moveTo>
                  <a:lnTo>
                    <a:pt x="180" y="90"/>
                  </a:lnTo>
                  <a:lnTo>
                    <a:pt x="178" y="108"/>
                  </a:lnTo>
                  <a:lnTo>
                    <a:pt x="172" y="124"/>
                  </a:lnTo>
                  <a:lnTo>
                    <a:pt x="164" y="140"/>
                  </a:lnTo>
                  <a:lnTo>
                    <a:pt x="154" y="152"/>
                  </a:lnTo>
                  <a:lnTo>
                    <a:pt x="140" y="164"/>
                  </a:lnTo>
                  <a:lnTo>
                    <a:pt x="124" y="172"/>
                  </a:lnTo>
                  <a:lnTo>
                    <a:pt x="108" y="176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72" y="176"/>
                  </a:lnTo>
                  <a:lnTo>
                    <a:pt x="54" y="172"/>
                  </a:lnTo>
                  <a:lnTo>
                    <a:pt x="40" y="164"/>
                  </a:lnTo>
                  <a:lnTo>
                    <a:pt x="26" y="152"/>
                  </a:lnTo>
                  <a:lnTo>
                    <a:pt x="16" y="140"/>
                  </a:lnTo>
                  <a:lnTo>
                    <a:pt x="8" y="124"/>
                  </a:lnTo>
                  <a:lnTo>
                    <a:pt x="2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8" y="54"/>
                  </a:lnTo>
                  <a:lnTo>
                    <a:pt x="16" y="40"/>
                  </a:lnTo>
                  <a:lnTo>
                    <a:pt x="26" y="26"/>
                  </a:lnTo>
                  <a:lnTo>
                    <a:pt x="40" y="14"/>
                  </a:lnTo>
                  <a:lnTo>
                    <a:pt x="54" y="6"/>
                  </a:lnTo>
                  <a:lnTo>
                    <a:pt x="72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8" y="2"/>
                  </a:lnTo>
                  <a:lnTo>
                    <a:pt x="124" y="6"/>
                  </a:lnTo>
                  <a:lnTo>
                    <a:pt x="140" y="14"/>
                  </a:lnTo>
                  <a:lnTo>
                    <a:pt x="154" y="26"/>
                  </a:lnTo>
                  <a:lnTo>
                    <a:pt x="164" y="40"/>
                  </a:lnTo>
                  <a:lnTo>
                    <a:pt x="172" y="54"/>
                  </a:lnTo>
                  <a:lnTo>
                    <a:pt x="178" y="72"/>
                  </a:lnTo>
                  <a:lnTo>
                    <a:pt x="180" y="90"/>
                  </a:lnTo>
                  <a:lnTo>
                    <a:pt x="180" y="90"/>
                  </a:lnTo>
                  <a:close/>
                </a:path>
              </a:pathLst>
            </a:custGeom>
            <a:solidFill>
              <a:srgbClr val="fef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13"/>
            <p:cNvSpPr/>
            <p:nvPr/>
          </p:nvSpPr>
          <p:spPr>
            <a:xfrm>
              <a:off x="8524800" y="8791560"/>
              <a:ext cx="250560" cy="2505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8" h="158">
                  <a:moveTo>
                    <a:pt x="158" y="80"/>
                  </a:moveTo>
                  <a:lnTo>
                    <a:pt x="158" y="80"/>
                  </a:lnTo>
                  <a:lnTo>
                    <a:pt x="156" y="96"/>
                  </a:lnTo>
                  <a:lnTo>
                    <a:pt x="152" y="110"/>
                  </a:lnTo>
                  <a:lnTo>
                    <a:pt x="144" y="124"/>
                  </a:lnTo>
                  <a:lnTo>
                    <a:pt x="136" y="136"/>
                  </a:lnTo>
                  <a:lnTo>
                    <a:pt x="124" y="146"/>
                  </a:lnTo>
                  <a:lnTo>
                    <a:pt x="110" y="152"/>
                  </a:lnTo>
                  <a:lnTo>
                    <a:pt x="96" y="156"/>
                  </a:lnTo>
                  <a:lnTo>
                    <a:pt x="80" y="158"/>
                  </a:lnTo>
                  <a:lnTo>
                    <a:pt x="80" y="158"/>
                  </a:lnTo>
                  <a:lnTo>
                    <a:pt x="64" y="156"/>
                  </a:lnTo>
                  <a:lnTo>
                    <a:pt x="48" y="152"/>
                  </a:lnTo>
                  <a:lnTo>
                    <a:pt x="36" y="146"/>
                  </a:lnTo>
                  <a:lnTo>
                    <a:pt x="24" y="136"/>
                  </a:lnTo>
                  <a:lnTo>
                    <a:pt x="14" y="124"/>
                  </a:lnTo>
                  <a:lnTo>
                    <a:pt x="6" y="110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8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48" y="6"/>
                  </a:lnTo>
                  <a:lnTo>
                    <a:pt x="6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4"/>
                  </a:lnTo>
                  <a:lnTo>
                    <a:pt x="136" y="24"/>
                  </a:lnTo>
                  <a:lnTo>
                    <a:pt x="144" y="36"/>
                  </a:lnTo>
                  <a:lnTo>
                    <a:pt x="152" y="48"/>
                  </a:lnTo>
                  <a:lnTo>
                    <a:pt x="156" y="64"/>
                  </a:lnTo>
                  <a:lnTo>
                    <a:pt x="158" y="80"/>
                  </a:lnTo>
                  <a:lnTo>
                    <a:pt x="158" y="80"/>
                  </a:lnTo>
                  <a:close/>
                </a:path>
              </a:pathLst>
            </a:custGeom>
            <a:solidFill>
              <a:srgbClr val="fef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314"/>
            <p:cNvSpPr/>
            <p:nvPr/>
          </p:nvSpPr>
          <p:spPr>
            <a:xfrm>
              <a:off x="8531280" y="8804160"/>
              <a:ext cx="218880" cy="2156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8" h="136">
                  <a:moveTo>
                    <a:pt x="138" y="68"/>
                  </a:moveTo>
                  <a:lnTo>
                    <a:pt x="138" y="68"/>
                  </a:lnTo>
                  <a:lnTo>
                    <a:pt x="136" y="82"/>
                  </a:lnTo>
                  <a:lnTo>
                    <a:pt x="132" y="94"/>
                  </a:lnTo>
                  <a:lnTo>
                    <a:pt x="126" y="106"/>
                  </a:lnTo>
                  <a:lnTo>
                    <a:pt x="118" y="116"/>
                  </a:lnTo>
                  <a:lnTo>
                    <a:pt x="108" y="124"/>
                  </a:lnTo>
                  <a:lnTo>
                    <a:pt x="96" y="130"/>
                  </a:lnTo>
                  <a:lnTo>
                    <a:pt x="82" y="134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56" y="134"/>
                  </a:lnTo>
                  <a:lnTo>
                    <a:pt x="42" y="130"/>
                  </a:lnTo>
                  <a:lnTo>
                    <a:pt x="30" y="124"/>
                  </a:lnTo>
                  <a:lnTo>
                    <a:pt x="20" y="116"/>
                  </a:lnTo>
                  <a:lnTo>
                    <a:pt x="12" y="106"/>
                  </a:lnTo>
                  <a:lnTo>
                    <a:pt x="6" y="94"/>
                  </a:lnTo>
                  <a:lnTo>
                    <a:pt x="2" y="8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2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96" y="4"/>
                  </a:lnTo>
                  <a:lnTo>
                    <a:pt x="108" y="12"/>
                  </a:lnTo>
                  <a:lnTo>
                    <a:pt x="118" y="20"/>
                  </a:lnTo>
                  <a:lnTo>
                    <a:pt x="126" y="30"/>
                  </a:lnTo>
                  <a:lnTo>
                    <a:pt x="132" y="42"/>
                  </a:lnTo>
                  <a:lnTo>
                    <a:pt x="136" y="54"/>
                  </a:lnTo>
                  <a:lnTo>
                    <a:pt x="138" y="68"/>
                  </a:lnTo>
                  <a:lnTo>
                    <a:pt x="138" y="68"/>
                  </a:lnTo>
                  <a:close/>
                </a:path>
              </a:pathLst>
            </a:custGeom>
            <a:solidFill>
              <a:srgbClr val="fef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316"/>
            <p:cNvSpPr/>
            <p:nvPr/>
          </p:nvSpPr>
          <p:spPr>
            <a:xfrm>
              <a:off x="8537400" y="8813880"/>
              <a:ext cx="183960" cy="18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6" h="116">
                  <a:moveTo>
                    <a:pt x="116" y="58"/>
                  </a:moveTo>
                  <a:lnTo>
                    <a:pt x="116" y="58"/>
                  </a:lnTo>
                  <a:lnTo>
                    <a:pt x="116" y="70"/>
                  </a:lnTo>
                  <a:lnTo>
                    <a:pt x="112" y="80"/>
                  </a:lnTo>
                  <a:lnTo>
                    <a:pt x="106" y="90"/>
                  </a:lnTo>
                  <a:lnTo>
                    <a:pt x="100" y="100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0" y="114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46" y="114"/>
                  </a:lnTo>
                  <a:lnTo>
                    <a:pt x="36" y="112"/>
                  </a:lnTo>
                  <a:lnTo>
                    <a:pt x="26" y="106"/>
                  </a:lnTo>
                  <a:lnTo>
                    <a:pt x="18" y="100"/>
                  </a:lnTo>
                  <a:lnTo>
                    <a:pt x="10" y="90"/>
                  </a:lnTo>
                  <a:lnTo>
                    <a:pt x="6" y="80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10" y="26"/>
                  </a:lnTo>
                  <a:lnTo>
                    <a:pt x="18" y="18"/>
                  </a:lnTo>
                  <a:lnTo>
                    <a:pt x="26" y="10"/>
                  </a:lnTo>
                  <a:lnTo>
                    <a:pt x="36" y="6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2"/>
                  </a:lnTo>
                  <a:lnTo>
                    <a:pt x="80" y="6"/>
                  </a:lnTo>
                  <a:lnTo>
                    <a:pt x="90" y="10"/>
                  </a:lnTo>
                  <a:lnTo>
                    <a:pt x="100" y="18"/>
                  </a:lnTo>
                  <a:lnTo>
                    <a:pt x="106" y="26"/>
                  </a:lnTo>
                  <a:lnTo>
                    <a:pt x="112" y="36"/>
                  </a:lnTo>
                  <a:lnTo>
                    <a:pt x="116" y="46"/>
                  </a:lnTo>
                  <a:lnTo>
                    <a:pt x="116" y="58"/>
                  </a:lnTo>
                  <a:lnTo>
                    <a:pt x="116" y="58"/>
                  </a:lnTo>
                  <a:close/>
                </a:path>
              </a:pathLst>
            </a:custGeom>
            <a:solidFill>
              <a:srgbClr val="fff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317"/>
            <p:cNvSpPr/>
            <p:nvPr/>
          </p:nvSpPr>
          <p:spPr>
            <a:xfrm>
              <a:off x="8547120" y="8826480"/>
              <a:ext cx="149040" cy="149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4" h="94">
                  <a:moveTo>
                    <a:pt x="94" y="46"/>
                  </a:moveTo>
                  <a:lnTo>
                    <a:pt x="94" y="46"/>
                  </a:lnTo>
                  <a:lnTo>
                    <a:pt x="92" y="56"/>
                  </a:lnTo>
                  <a:lnTo>
                    <a:pt x="90" y="66"/>
                  </a:lnTo>
                  <a:lnTo>
                    <a:pt x="86" y="74"/>
                  </a:lnTo>
                  <a:lnTo>
                    <a:pt x="80" y="80"/>
                  </a:lnTo>
                  <a:lnTo>
                    <a:pt x="72" y="86"/>
                  </a:lnTo>
                  <a:lnTo>
                    <a:pt x="64" y="90"/>
                  </a:lnTo>
                  <a:lnTo>
                    <a:pt x="56" y="92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36" y="92"/>
                  </a:lnTo>
                  <a:lnTo>
                    <a:pt x="28" y="90"/>
                  </a:lnTo>
                  <a:lnTo>
                    <a:pt x="20" y="86"/>
                  </a:lnTo>
                  <a:lnTo>
                    <a:pt x="12" y="80"/>
                  </a:lnTo>
                  <a:lnTo>
                    <a:pt x="8" y="74"/>
                  </a:lnTo>
                  <a:lnTo>
                    <a:pt x="2" y="6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80" y="14"/>
                  </a:lnTo>
                  <a:lnTo>
                    <a:pt x="86" y="20"/>
                  </a:lnTo>
                  <a:lnTo>
                    <a:pt x="90" y="28"/>
                  </a:lnTo>
                  <a:lnTo>
                    <a:pt x="92" y="38"/>
                  </a:lnTo>
                  <a:lnTo>
                    <a:pt x="94" y="46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fff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318"/>
            <p:cNvSpPr/>
            <p:nvPr/>
          </p:nvSpPr>
          <p:spPr>
            <a:xfrm>
              <a:off x="8553240" y="8835840"/>
              <a:ext cx="114120" cy="117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2" h="74">
                  <a:moveTo>
                    <a:pt x="72" y="38"/>
                  </a:moveTo>
                  <a:lnTo>
                    <a:pt x="72" y="38"/>
                  </a:lnTo>
                  <a:lnTo>
                    <a:pt x="72" y="44"/>
                  </a:lnTo>
                  <a:lnTo>
                    <a:pt x="70" y="52"/>
                  </a:lnTo>
                  <a:lnTo>
                    <a:pt x="66" y="58"/>
                  </a:lnTo>
                  <a:lnTo>
                    <a:pt x="62" y="62"/>
                  </a:lnTo>
                  <a:lnTo>
                    <a:pt x="56" y="68"/>
                  </a:lnTo>
                  <a:lnTo>
                    <a:pt x="50" y="70"/>
                  </a:lnTo>
                  <a:lnTo>
                    <a:pt x="44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8" y="72"/>
                  </a:lnTo>
                  <a:lnTo>
                    <a:pt x="22" y="70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2" y="12"/>
                  </a:lnTo>
                  <a:lnTo>
                    <a:pt x="66" y="16"/>
                  </a:lnTo>
                  <a:lnTo>
                    <a:pt x="70" y="24"/>
                  </a:lnTo>
                  <a:lnTo>
                    <a:pt x="72" y="30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fffa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19"/>
            <p:cNvSpPr/>
            <p:nvPr/>
          </p:nvSpPr>
          <p:spPr>
            <a:xfrm>
              <a:off x="8559720" y="88488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52" y="26"/>
                  </a:move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ff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20"/>
            <p:cNvSpPr/>
            <p:nvPr/>
          </p:nvSpPr>
          <p:spPr>
            <a:xfrm>
              <a:off x="8566200" y="885816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6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21"/>
            <p:cNvSpPr/>
            <p:nvPr/>
          </p:nvSpPr>
          <p:spPr>
            <a:xfrm>
              <a:off x="8572320" y="8870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8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22"/>
            <p:cNvSpPr/>
            <p:nvPr/>
          </p:nvSpPr>
          <p:spPr>
            <a:xfrm>
              <a:off x="8229600" y="9788400"/>
              <a:ext cx="1737000" cy="17366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94" h="1094">
                  <a:moveTo>
                    <a:pt x="1094" y="548"/>
                  </a:moveTo>
                  <a:lnTo>
                    <a:pt x="1094" y="548"/>
                  </a:lnTo>
                  <a:lnTo>
                    <a:pt x="1094" y="576"/>
                  </a:lnTo>
                  <a:lnTo>
                    <a:pt x="1092" y="604"/>
                  </a:lnTo>
                  <a:lnTo>
                    <a:pt x="1088" y="630"/>
                  </a:lnTo>
                  <a:lnTo>
                    <a:pt x="1084" y="658"/>
                  </a:lnTo>
                  <a:lnTo>
                    <a:pt x="1078" y="684"/>
                  </a:lnTo>
                  <a:lnTo>
                    <a:pt x="1070" y="710"/>
                  </a:lnTo>
                  <a:lnTo>
                    <a:pt x="1062" y="736"/>
                  </a:lnTo>
                  <a:lnTo>
                    <a:pt x="1052" y="760"/>
                  </a:lnTo>
                  <a:lnTo>
                    <a:pt x="1040" y="784"/>
                  </a:lnTo>
                  <a:lnTo>
                    <a:pt x="1028" y="808"/>
                  </a:lnTo>
                  <a:lnTo>
                    <a:pt x="1016" y="832"/>
                  </a:lnTo>
                  <a:lnTo>
                    <a:pt x="1002" y="854"/>
                  </a:lnTo>
                  <a:lnTo>
                    <a:pt x="986" y="874"/>
                  </a:lnTo>
                  <a:lnTo>
                    <a:pt x="970" y="896"/>
                  </a:lnTo>
                  <a:lnTo>
                    <a:pt x="952" y="916"/>
                  </a:lnTo>
                  <a:lnTo>
                    <a:pt x="934" y="934"/>
                  </a:lnTo>
                  <a:lnTo>
                    <a:pt x="916" y="952"/>
                  </a:lnTo>
                  <a:lnTo>
                    <a:pt x="896" y="970"/>
                  </a:lnTo>
                  <a:lnTo>
                    <a:pt x="876" y="986"/>
                  </a:lnTo>
                  <a:lnTo>
                    <a:pt x="854" y="1002"/>
                  </a:lnTo>
                  <a:lnTo>
                    <a:pt x="832" y="1016"/>
                  </a:lnTo>
                  <a:lnTo>
                    <a:pt x="808" y="1028"/>
                  </a:lnTo>
                  <a:lnTo>
                    <a:pt x="784" y="1040"/>
                  </a:lnTo>
                  <a:lnTo>
                    <a:pt x="760" y="1052"/>
                  </a:lnTo>
                  <a:lnTo>
                    <a:pt x="736" y="1062"/>
                  </a:lnTo>
                  <a:lnTo>
                    <a:pt x="710" y="1070"/>
                  </a:lnTo>
                  <a:lnTo>
                    <a:pt x="684" y="1078"/>
                  </a:lnTo>
                  <a:lnTo>
                    <a:pt x="658" y="1084"/>
                  </a:lnTo>
                  <a:lnTo>
                    <a:pt x="632" y="1088"/>
                  </a:lnTo>
                  <a:lnTo>
                    <a:pt x="604" y="1092"/>
                  </a:lnTo>
                  <a:lnTo>
                    <a:pt x="576" y="1094"/>
                  </a:lnTo>
                  <a:lnTo>
                    <a:pt x="548" y="1094"/>
                  </a:lnTo>
                  <a:lnTo>
                    <a:pt x="548" y="1094"/>
                  </a:lnTo>
                  <a:lnTo>
                    <a:pt x="520" y="1094"/>
                  </a:lnTo>
                  <a:lnTo>
                    <a:pt x="492" y="1092"/>
                  </a:lnTo>
                  <a:lnTo>
                    <a:pt x="464" y="1088"/>
                  </a:lnTo>
                  <a:lnTo>
                    <a:pt x="438" y="1084"/>
                  </a:lnTo>
                  <a:lnTo>
                    <a:pt x="410" y="1078"/>
                  </a:lnTo>
                  <a:lnTo>
                    <a:pt x="386" y="1070"/>
                  </a:lnTo>
                  <a:lnTo>
                    <a:pt x="360" y="1062"/>
                  </a:lnTo>
                  <a:lnTo>
                    <a:pt x="334" y="1052"/>
                  </a:lnTo>
                  <a:lnTo>
                    <a:pt x="310" y="1040"/>
                  </a:lnTo>
                  <a:lnTo>
                    <a:pt x="286" y="1028"/>
                  </a:lnTo>
                  <a:lnTo>
                    <a:pt x="264" y="1016"/>
                  </a:lnTo>
                  <a:lnTo>
                    <a:pt x="242" y="1002"/>
                  </a:lnTo>
                  <a:lnTo>
                    <a:pt x="220" y="986"/>
                  </a:lnTo>
                  <a:lnTo>
                    <a:pt x="200" y="970"/>
                  </a:lnTo>
                  <a:lnTo>
                    <a:pt x="180" y="952"/>
                  </a:lnTo>
                  <a:lnTo>
                    <a:pt x="160" y="934"/>
                  </a:lnTo>
                  <a:lnTo>
                    <a:pt x="142" y="916"/>
                  </a:lnTo>
                  <a:lnTo>
                    <a:pt x="126" y="896"/>
                  </a:lnTo>
                  <a:lnTo>
                    <a:pt x="110" y="874"/>
                  </a:lnTo>
                  <a:lnTo>
                    <a:pt x="94" y="854"/>
                  </a:lnTo>
                  <a:lnTo>
                    <a:pt x="80" y="832"/>
                  </a:lnTo>
                  <a:lnTo>
                    <a:pt x="66" y="808"/>
                  </a:lnTo>
                  <a:lnTo>
                    <a:pt x="54" y="784"/>
                  </a:lnTo>
                  <a:lnTo>
                    <a:pt x="44" y="760"/>
                  </a:lnTo>
                  <a:lnTo>
                    <a:pt x="34" y="736"/>
                  </a:lnTo>
                  <a:lnTo>
                    <a:pt x="26" y="710"/>
                  </a:lnTo>
                  <a:lnTo>
                    <a:pt x="18" y="684"/>
                  </a:lnTo>
                  <a:lnTo>
                    <a:pt x="12" y="658"/>
                  </a:lnTo>
                  <a:lnTo>
                    <a:pt x="6" y="630"/>
                  </a:lnTo>
                  <a:lnTo>
                    <a:pt x="4" y="604"/>
                  </a:lnTo>
                  <a:lnTo>
                    <a:pt x="2" y="576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2" y="520"/>
                  </a:lnTo>
                  <a:lnTo>
                    <a:pt x="4" y="492"/>
                  </a:lnTo>
                  <a:lnTo>
                    <a:pt x="6" y="464"/>
                  </a:lnTo>
                  <a:lnTo>
                    <a:pt x="12" y="438"/>
                  </a:lnTo>
                  <a:lnTo>
                    <a:pt x="18" y="410"/>
                  </a:lnTo>
                  <a:lnTo>
                    <a:pt x="26" y="384"/>
                  </a:lnTo>
                  <a:lnTo>
                    <a:pt x="34" y="360"/>
                  </a:lnTo>
                  <a:lnTo>
                    <a:pt x="44" y="334"/>
                  </a:lnTo>
                  <a:lnTo>
                    <a:pt x="54" y="310"/>
                  </a:lnTo>
                  <a:lnTo>
                    <a:pt x="66" y="286"/>
                  </a:lnTo>
                  <a:lnTo>
                    <a:pt x="80" y="264"/>
                  </a:lnTo>
                  <a:lnTo>
                    <a:pt x="94" y="242"/>
                  </a:lnTo>
                  <a:lnTo>
                    <a:pt x="110" y="220"/>
                  </a:lnTo>
                  <a:lnTo>
                    <a:pt x="126" y="200"/>
                  </a:lnTo>
                  <a:lnTo>
                    <a:pt x="142" y="180"/>
                  </a:lnTo>
                  <a:lnTo>
                    <a:pt x="160" y="160"/>
                  </a:lnTo>
                  <a:lnTo>
                    <a:pt x="180" y="142"/>
                  </a:lnTo>
                  <a:lnTo>
                    <a:pt x="200" y="126"/>
                  </a:lnTo>
                  <a:lnTo>
                    <a:pt x="220" y="110"/>
                  </a:lnTo>
                  <a:lnTo>
                    <a:pt x="242" y="94"/>
                  </a:lnTo>
                  <a:lnTo>
                    <a:pt x="264" y="80"/>
                  </a:lnTo>
                  <a:lnTo>
                    <a:pt x="286" y="66"/>
                  </a:lnTo>
                  <a:lnTo>
                    <a:pt x="310" y="54"/>
                  </a:lnTo>
                  <a:lnTo>
                    <a:pt x="334" y="44"/>
                  </a:lnTo>
                  <a:lnTo>
                    <a:pt x="360" y="34"/>
                  </a:lnTo>
                  <a:lnTo>
                    <a:pt x="386" y="24"/>
                  </a:lnTo>
                  <a:lnTo>
                    <a:pt x="410" y="18"/>
                  </a:lnTo>
                  <a:lnTo>
                    <a:pt x="438" y="12"/>
                  </a:lnTo>
                  <a:lnTo>
                    <a:pt x="464" y="6"/>
                  </a:lnTo>
                  <a:lnTo>
                    <a:pt x="492" y="4"/>
                  </a:lnTo>
                  <a:lnTo>
                    <a:pt x="520" y="2"/>
                  </a:lnTo>
                  <a:lnTo>
                    <a:pt x="548" y="0"/>
                  </a:lnTo>
                  <a:lnTo>
                    <a:pt x="548" y="0"/>
                  </a:lnTo>
                  <a:lnTo>
                    <a:pt x="576" y="2"/>
                  </a:lnTo>
                  <a:lnTo>
                    <a:pt x="604" y="4"/>
                  </a:lnTo>
                  <a:lnTo>
                    <a:pt x="632" y="6"/>
                  </a:lnTo>
                  <a:lnTo>
                    <a:pt x="658" y="12"/>
                  </a:lnTo>
                  <a:lnTo>
                    <a:pt x="684" y="18"/>
                  </a:lnTo>
                  <a:lnTo>
                    <a:pt x="710" y="24"/>
                  </a:lnTo>
                  <a:lnTo>
                    <a:pt x="736" y="34"/>
                  </a:lnTo>
                  <a:lnTo>
                    <a:pt x="760" y="44"/>
                  </a:lnTo>
                  <a:lnTo>
                    <a:pt x="784" y="54"/>
                  </a:lnTo>
                  <a:lnTo>
                    <a:pt x="808" y="66"/>
                  </a:lnTo>
                  <a:lnTo>
                    <a:pt x="832" y="80"/>
                  </a:lnTo>
                  <a:lnTo>
                    <a:pt x="854" y="94"/>
                  </a:lnTo>
                  <a:lnTo>
                    <a:pt x="876" y="110"/>
                  </a:lnTo>
                  <a:lnTo>
                    <a:pt x="896" y="126"/>
                  </a:lnTo>
                  <a:lnTo>
                    <a:pt x="916" y="142"/>
                  </a:lnTo>
                  <a:lnTo>
                    <a:pt x="934" y="160"/>
                  </a:lnTo>
                  <a:lnTo>
                    <a:pt x="952" y="180"/>
                  </a:lnTo>
                  <a:lnTo>
                    <a:pt x="970" y="200"/>
                  </a:lnTo>
                  <a:lnTo>
                    <a:pt x="986" y="220"/>
                  </a:lnTo>
                  <a:lnTo>
                    <a:pt x="1002" y="242"/>
                  </a:lnTo>
                  <a:lnTo>
                    <a:pt x="1016" y="264"/>
                  </a:lnTo>
                  <a:lnTo>
                    <a:pt x="1028" y="286"/>
                  </a:lnTo>
                  <a:lnTo>
                    <a:pt x="1040" y="310"/>
                  </a:lnTo>
                  <a:lnTo>
                    <a:pt x="1052" y="334"/>
                  </a:lnTo>
                  <a:lnTo>
                    <a:pt x="1062" y="360"/>
                  </a:lnTo>
                  <a:lnTo>
                    <a:pt x="1070" y="384"/>
                  </a:lnTo>
                  <a:lnTo>
                    <a:pt x="1078" y="410"/>
                  </a:lnTo>
                  <a:lnTo>
                    <a:pt x="1084" y="438"/>
                  </a:lnTo>
                  <a:lnTo>
                    <a:pt x="1088" y="464"/>
                  </a:lnTo>
                  <a:lnTo>
                    <a:pt x="1092" y="492"/>
                  </a:lnTo>
                  <a:lnTo>
                    <a:pt x="1094" y="520"/>
                  </a:lnTo>
                  <a:lnTo>
                    <a:pt x="1094" y="548"/>
                  </a:lnTo>
                  <a:lnTo>
                    <a:pt x="1094" y="548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23"/>
            <p:cNvSpPr/>
            <p:nvPr/>
          </p:nvSpPr>
          <p:spPr>
            <a:xfrm>
              <a:off x="8235720" y="9801360"/>
              <a:ext cx="1704960" cy="170172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1074" h="1072">
                  <a:moveTo>
                    <a:pt x="1074" y="536"/>
                  </a:moveTo>
                  <a:lnTo>
                    <a:pt x="1074" y="536"/>
                  </a:lnTo>
                  <a:lnTo>
                    <a:pt x="1074" y="564"/>
                  </a:lnTo>
                  <a:lnTo>
                    <a:pt x="1070" y="590"/>
                  </a:lnTo>
                  <a:lnTo>
                    <a:pt x="1068" y="618"/>
                  </a:lnTo>
                  <a:lnTo>
                    <a:pt x="1062" y="644"/>
                  </a:lnTo>
                  <a:lnTo>
                    <a:pt x="1056" y="670"/>
                  </a:lnTo>
                  <a:lnTo>
                    <a:pt x="1050" y="696"/>
                  </a:lnTo>
                  <a:lnTo>
                    <a:pt x="1042" y="720"/>
                  </a:lnTo>
                  <a:lnTo>
                    <a:pt x="1032" y="744"/>
                  </a:lnTo>
                  <a:lnTo>
                    <a:pt x="1020" y="768"/>
                  </a:lnTo>
                  <a:lnTo>
                    <a:pt x="1008" y="792"/>
                  </a:lnTo>
                  <a:lnTo>
                    <a:pt x="996" y="814"/>
                  </a:lnTo>
                  <a:lnTo>
                    <a:pt x="982" y="836"/>
                  </a:lnTo>
                  <a:lnTo>
                    <a:pt x="968" y="856"/>
                  </a:lnTo>
                  <a:lnTo>
                    <a:pt x="952" y="878"/>
                  </a:lnTo>
                  <a:lnTo>
                    <a:pt x="934" y="896"/>
                  </a:lnTo>
                  <a:lnTo>
                    <a:pt x="916" y="916"/>
                  </a:lnTo>
                  <a:lnTo>
                    <a:pt x="898" y="934"/>
                  </a:lnTo>
                  <a:lnTo>
                    <a:pt x="878" y="950"/>
                  </a:lnTo>
                  <a:lnTo>
                    <a:pt x="858" y="966"/>
                  </a:lnTo>
                  <a:lnTo>
                    <a:pt x="838" y="980"/>
                  </a:lnTo>
                  <a:lnTo>
                    <a:pt x="816" y="994"/>
                  </a:lnTo>
                  <a:lnTo>
                    <a:pt x="792" y="1008"/>
                  </a:lnTo>
                  <a:lnTo>
                    <a:pt x="770" y="1020"/>
                  </a:lnTo>
                  <a:lnTo>
                    <a:pt x="746" y="1030"/>
                  </a:lnTo>
                  <a:lnTo>
                    <a:pt x="722" y="1040"/>
                  </a:lnTo>
                  <a:lnTo>
                    <a:pt x="696" y="1048"/>
                  </a:lnTo>
                  <a:lnTo>
                    <a:pt x="672" y="1056"/>
                  </a:lnTo>
                  <a:lnTo>
                    <a:pt x="646" y="1062"/>
                  </a:lnTo>
                  <a:lnTo>
                    <a:pt x="618" y="1066"/>
                  </a:lnTo>
                  <a:lnTo>
                    <a:pt x="592" y="1070"/>
                  </a:lnTo>
                  <a:lnTo>
                    <a:pt x="564" y="1072"/>
                  </a:lnTo>
                  <a:lnTo>
                    <a:pt x="538" y="1072"/>
                  </a:lnTo>
                  <a:lnTo>
                    <a:pt x="538" y="1072"/>
                  </a:lnTo>
                  <a:lnTo>
                    <a:pt x="510" y="1072"/>
                  </a:lnTo>
                  <a:lnTo>
                    <a:pt x="482" y="1070"/>
                  </a:lnTo>
                  <a:lnTo>
                    <a:pt x="456" y="1066"/>
                  </a:lnTo>
                  <a:lnTo>
                    <a:pt x="430" y="1062"/>
                  </a:lnTo>
                  <a:lnTo>
                    <a:pt x="404" y="1056"/>
                  </a:lnTo>
                  <a:lnTo>
                    <a:pt x="378" y="1048"/>
                  </a:lnTo>
                  <a:lnTo>
                    <a:pt x="352" y="1040"/>
                  </a:lnTo>
                  <a:lnTo>
                    <a:pt x="328" y="1030"/>
                  </a:lnTo>
                  <a:lnTo>
                    <a:pt x="304" y="1020"/>
                  </a:lnTo>
                  <a:lnTo>
                    <a:pt x="282" y="1008"/>
                  </a:lnTo>
                  <a:lnTo>
                    <a:pt x="260" y="994"/>
                  </a:lnTo>
                  <a:lnTo>
                    <a:pt x="238" y="980"/>
                  </a:lnTo>
                  <a:lnTo>
                    <a:pt x="216" y="966"/>
                  </a:lnTo>
                  <a:lnTo>
                    <a:pt x="196" y="950"/>
                  </a:lnTo>
                  <a:lnTo>
                    <a:pt x="176" y="934"/>
                  </a:lnTo>
                  <a:lnTo>
                    <a:pt x="158" y="916"/>
                  </a:lnTo>
                  <a:lnTo>
                    <a:pt x="140" y="896"/>
                  </a:lnTo>
                  <a:lnTo>
                    <a:pt x="124" y="878"/>
                  </a:lnTo>
                  <a:lnTo>
                    <a:pt x="108" y="856"/>
                  </a:lnTo>
                  <a:lnTo>
                    <a:pt x="92" y="836"/>
                  </a:lnTo>
                  <a:lnTo>
                    <a:pt x="78" y="814"/>
                  </a:lnTo>
                  <a:lnTo>
                    <a:pt x="66" y="792"/>
                  </a:lnTo>
                  <a:lnTo>
                    <a:pt x="54" y="768"/>
                  </a:lnTo>
                  <a:lnTo>
                    <a:pt x="42" y="744"/>
                  </a:lnTo>
                  <a:lnTo>
                    <a:pt x="34" y="720"/>
                  </a:lnTo>
                  <a:lnTo>
                    <a:pt x="24" y="696"/>
                  </a:lnTo>
                  <a:lnTo>
                    <a:pt x="18" y="670"/>
                  </a:lnTo>
                  <a:lnTo>
                    <a:pt x="12" y="644"/>
                  </a:lnTo>
                  <a:lnTo>
                    <a:pt x="6" y="618"/>
                  </a:lnTo>
                  <a:lnTo>
                    <a:pt x="4" y="590"/>
                  </a:lnTo>
                  <a:lnTo>
                    <a:pt x="2" y="564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2" y="508"/>
                  </a:lnTo>
                  <a:lnTo>
                    <a:pt x="4" y="482"/>
                  </a:lnTo>
                  <a:lnTo>
                    <a:pt x="6" y="454"/>
                  </a:lnTo>
                  <a:lnTo>
                    <a:pt x="12" y="428"/>
                  </a:lnTo>
                  <a:lnTo>
                    <a:pt x="18" y="402"/>
                  </a:lnTo>
                  <a:lnTo>
                    <a:pt x="24" y="376"/>
                  </a:lnTo>
                  <a:lnTo>
                    <a:pt x="34" y="352"/>
                  </a:lnTo>
                  <a:lnTo>
                    <a:pt x="42" y="328"/>
                  </a:lnTo>
                  <a:lnTo>
                    <a:pt x="54" y="304"/>
                  </a:lnTo>
                  <a:lnTo>
                    <a:pt x="66" y="280"/>
                  </a:lnTo>
                  <a:lnTo>
                    <a:pt x="78" y="258"/>
                  </a:lnTo>
                  <a:lnTo>
                    <a:pt x="92" y="236"/>
                  </a:lnTo>
                  <a:lnTo>
                    <a:pt x="108" y="214"/>
                  </a:lnTo>
                  <a:lnTo>
                    <a:pt x="124" y="194"/>
                  </a:lnTo>
                  <a:lnTo>
                    <a:pt x="140" y="176"/>
                  </a:lnTo>
                  <a:lnTo>
                    <a:pt x="158" y="156"/>
                  </a:lnTo>
                  <a:lnTo>
                    <a:pt x="176" y="138"/>
                  </a:lnTo>
                  <a:lnTo>
                    <a:pt x="196" y="122"/>
                  </a:lnTo>
                  <a:lnTo>
                    <a:pt x="216" y="106"/>
                  </a:lnTo>
                  <a:lnTo>
                    <a:pt x="238" y="92"/>
                  </a:lnTo>
                  <a:lnTo>
                    <a:pt x="260" y="78"/>
                  </a:lnTo>
                  <a:lnTo>
                    <a:pt x="282" y="64"/>
                  </a:lnTo>
                  <a:lnTo>
                    <a:pt x="304" y="52"/>
                  </a:lnTo>
                  <a:lnTo>
                    <a:pt x="328" y="42"/>
                  </a:lnTo>
                  <a:lnTo>
                    <a:pt x="352" y="32"/>
                  </a:lnTo>
                  <a:lnTo>
                    <a:pt x="378" y="24"/>
                  </a:lnTo>
                  <a:lnTo>
                    <a:pt x="404" y="16"/>
                  </a:lnTo>
                  <a:lnTo>
                    <a:pt x="430" y="10"/>
                  </a:lnTo>
                  <a:lnTo>
                    <a:pt x="456" y="6"/>
                  </a:lnTo>
                  <a:lnTo>
                    <a:pt x="482" y="2"/>
                  </a:lnTo>
                  <a:lnTo>
                    <a:pt x="510" y="0"/>
                  </a:lnTo>
                  <a:lnTo>
                    <a:pt x="538" y="0"/>
                  </a:lnTo>
                  <a:lnTo>
                    <a:pt x="538" y="0"/>
                  </a:lnTo>
                  <a:lnTo>
                    <a:pt x="564" y="0"/>
                  </a:lnTo>
                  <a:lnTo>
                    <a:pt x="592" y="2"/>
                  </a:lnTo>
                  <a:lnTo>
                    <a:pt x="618" y="6"/>
                  </a:lnTo>
                  <a:lnTo>
                    <a:pt x="646" y="10"/>
                  </a:lnTo>
                  <a:lnTo>
                    <a:pt x="672" y="16"/>
                  </a:lnTo>
                  <a:lnTo>
                    <a:pt x="696" y="24"/>
                  </a:lnTo>
                  <a:lnTo>
                    <a:pt x="722" y="32"/>
                  </a:lnTo>
                  <a:lnTo>
                    <a:pt x="746" y="42"/>
                  </a:lnTo>
                  <a:lnTo>
                    <a:pt x="770" y="52"/>
                  </a:lnTo>
                  <a:lnTo>
                    <a:pt x="792" y="64"/>
                  </a:lnTo>
                  <a:lnTo>
                    <a:pt x="816" y="78"/>
                  </a:lnTo>
                  <a:lnTo>
                    <a:pt x="838" y="92"/>
                  </a:lnTo>
                  <a:lnTo>
                    <a:pt x="858" y="106"/>
                  </a:lnTo>
                  <a:lnTo>
                    <a:pt x="878" y="122"/>
                  </a:lnTo>
                  <a:lnTo>
                    <a:pt x="898" y="138"/>
                  </a:lnTo>
                  <a:lnTo>
                    <a:pt x="916" y="156"/>
                  </a:lnTo>
                  <a:lnTo>
                    <a:pt x="934" y="176"/>
                  </a:lnTo>
                  <a:lnTo>
                    <a:pt x="952" y="194"/>
                  </a:lnTo>
                  <a:lnTo>
                    <a:pt x="968" y="214"/>
                  </a:lnTo>
                  <a:lnTo>
                    <a:pt x="982" y="236"/>
                  </a:lnTo>
                  <a:lnTo>
                    <a:pt x="996" y="258"/>
                  </a:lnTo>
                  <a:lnTo>
                    <a:pt x="1008" y="280"/>
                  </a:lnTo>
                  <a:lnTo>
                    <a:pt x="1020" y="304"/>
                  </a:lnTo>
                  <a:lnTo>
                    <a:pt x="1032" y="328"/>
                  </a:lnTo>
                  <a:lnTo>
                    <a:pt x="1042" y="352"/>
                  </a:lnTo>
                  <a:lnTo>
                    <a:pt x="1050" y="376"/>
                  </a:lnTo>
                  <a:lnTo>
                    <a:pt x="1056" y="402"/>
                  </a:lnTo>
                  <a:lnTo>
                    <a:pt x="1062" y="428"/>
                  </a:lnTo>
                  <a:lnTo>
                    <a:pt x="1068" y="454"/>
                  </a:lnTo>
                  <a:lnTo>
                    <a:pt x="1070" y="482"/>
                  </a:lnTo>
                  <a:lnTo>
                    <a:pt x="1074" y="508"/>
                  </a:lnTo>
                  <a:lnTo>
                    <a:pt x="1074" y="536"/>
                  </a:lnTo>
                  <a:lnTo>
                    <a:pt x="1074" y="536"/>
                  </a:lnTo>
                  <a:close/>
                </a:path>
              </a:pathLst>
            </a:custGeom>
            <a:solidFill>
              <a:srgbClr val="f3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24"/>
            <p:cNvSpPr/>
            <p:nvPr/>
          </p:nvSpPr>
          <p:spPr>
            <a:xfrm>
              <a:off x="8245440" y="9810720"/>
              <a:ext cx="1667160" cy="1670040"/>
            </a:xfrm>
            <a:custGeom>
              <a:avLst/>
              <a:gdLst>
                <a:gd name="textAreaLeft" fmla="*/ 0 w 1667160"/>
                <a:gd name="textAreaRight" fmla="*/ 1667520 w 16671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1050" h="1052">
                  <a:moveTo>
                    <a:pt x="1050" y="526"/>
                  </a:moveTo>
                  <a:lnTo>
                    <a:pt x="1050" y="526"/>
                  </a:lnTo>
                  <a:lnTo>
                    <a:pt x="1050" y="554"/>
                  </a:lnTo>
                  <a:lnTo>
                    <a:pt x="1048" y="580"/>
                  </a:lnTo>
                  <a:lnTo>
                    <a:pt x="1044" y="606"/>
                  </a:lnTo>
                  <a:lnTo>
                    <a:pt x="1040" y="632"/>
                  </a:lnTo>
                  <a:lnTo>
                    <a:pt x="1034" y="658"/>
                  </a:lnTo>
                  <a:lnTo>
                    <a:pt x="1028" y="682"/>
                  </a:lnTo>
                  <a:lnTo>
                    <a:pt x="1018" y="708"/>
                  </a:lnTo>
                  <a:lnTo>
                    <a:pt x="1010" y="730"/>
                  </a:lnTo>
                  <a:lnTo>
                    <a:pt x="998" y="754"/>
                  </a:lnTo>
                  <a:lnTo>
                    <a:pt x="988" y="776"/>
                  </a:lnTo>
                  <a:lnTo>
                    <a:pt x="974" y="798"/>
                  </a:lnTo>
                  <a:lnTo>
                    <a:pt x="960" y="820"/>
                  </a:lnTo>
                  <a:lnTo>
                    <a:pt x="946" y="840"/>
                  </a:lnTo>
                  <a:lnTo>
                    <a:pt x="930" y="860"/>
                  </a:lnTo>
                  <a:lnTo>
                    <a:pt x="914" y="880"/>
                  </a:lnTo>
                  <a:lnTo>
                    <a:pt x="896" y="898"/>
                  </a:lnTo>
                  <a:lnTo>
                    <a:pt x="878" y="916"/>
                  </a:lnTo>
                  <a:lnTo>
                    <a:pt x="860" y="932"/>
                  </a:lnTo>
                  <a:lnTo>
                    <a:pt x="840" y="948"/>
                  </a:lnTo>
                  <a:lnTo>
                    <a:pt x="818" y="962"/>
                  </a:lnTo>
                  <a:lnTo>
                    <a:pt x="798" y="976"/>
                  </a:lnTo>
                  <a:lnTo>
                    <a:pt x="776" y="988"/>
                  </a:lnTo>
                  <a:lnTo>
                    <a:pt x="752" y="1000"/>
                  </a:lnTo>
                  <a:lnTo>
                    <a:pt x="730" y="1010"/>
                  </a:lnTo>
                  <a:lnTo>
                    <a:pt x="706" y="1020"/>
                  </a:lnTo>
                  <a:lnTo>
                    <a:pt x="682" y="1028"/>
                  </a:lnTo>
                  <a:lnTo>
                    <a:pt x="656" y="1036"/>
                  </a:lnTo>
                  <a:lnTo>
                    <a:pt x="630" y="1042"/>
                  </a:lnTo>
                  <a:lnTo>
                    <a:pt x="604" y="1046"/>
                  </a:lnTo>
                  <a:lnTo>
                    <a:pt x="578" y="1050"/>
                  </a:lnTo>
                  <a:lnTo>
                    <a:pt x="552" y="1052"/>
                  </a:lnTo>
                  <a:lnTo>
                    <a:pt x="524" y="1052"/>
                  </a:lnTo>
                  <a:lnTo>
                    <a:pt x="524" y="1052"/>
                  </a:lnTo>
                  <a:lnTo>
                    <a:pt x="498" y="1052"/>
                  </a:lnTo>
                  <a:lnTo>
                    <a:pt x="472" y="1050"/>
                  </a:lnTo>
                  <a:lnTo>
                    <a:pt x="444" y="1046"/>
                  </a:lnTo>
                  <a:lnTo>
                    <a:pt x="418" y="1042"/>
                  </a:lnTo>
                  <a:lnTo>
                    <a:pt x="394" y="1036"/>
                  </a:lnTo>
                  <a:lnTo>
                    <a:pt x="368" y="1028"/>
                  </a:lnTo>
                  <a:lnTo>
                    <a:pt x="344" y="1020"/>
                  </a:lnTo>
                  <a:lnTo>
                    <a:pt x="320" y="1010"/>
                  </a:lnTo>
                  <a:lnTo>
                    <a:pt x="296" y="1000"/>
                  </a:lnTo>
                  <a:lnTo>
                    <a:pt x="274" y="988"/>
                  </a:lnTo>
                  <a:lnTo>
                    <a:pt x="252" y="976"/>
                  </a:lnTo>
                  <a:lnTo>
                    <a:pt x="230" y="962"/>
                  </a:lnTo>
                  <a:lnTo>
                    <a:pt x="210" y="948"/>
                  </a:lnTo>
                  <a:lnTo>
                    <a:pt x="190" y="932"/>
                  </a:lnTo>
                  <a:lnTo>
                    <a:pt x="172" y="916"/>
                  </a:lnTo>
                  <a:lnTo>
                    <a:pt x="154" y="898"/>
                  </a:lnTo>
                  <a:lnTo>
                    <a:pt x="136" y="880"/>
                  </a:lnTo>
                  <a:lnTo>
                    <a:pt x="120" y="860"/>
                  </a:lnTo>
                  <a:lnTo>
                    <a:pt x="104" y="840"/>
                  </a:lnTo>
                  <a:lnTo>
                    <a:pt x="88" y="820"/>
                  </a:lnTo>
                  <a:lnTo>
                    <a:pt x="76" y="798"/>
                  </a:lnTo>
                  <a:lnTo>
                    <a:pt x="62" y="776"/>
                  </a:lnTo>
                  <a:lnTo>
                    <a:pt x="50" y="754"/>
                  </a:lnTo>
                  <a:lnTo>
                    <a:pt x="40" y="730"/>
                  </a:lnTo>
                  <a:lnTo>
                    <a:pt x="30" y="708"/>
                  </a:lnTo>
                  <a:lnTo>
                    <a:pt x="22" y="682"/>
                  </a:lnTo>
                  <a:lnTo>
                    <a:pt x="16" y="658"/>
                  </a:lnTo>
                  <a:lnTo>
                    <a:pt x="10" y="632"/>
                  </a:lnTo>
                  <a:lnTo>
                    <a:pt x="6" y="606"/>
                  </a:lnTo>
                  <a:lnTo>
                    <a:pt x="2" y="580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526"/>
                  </a:lnTo>
                  <a:lnTo>
                    <a:pt x="0" y="500"/>
                  </a:lnTo>
                  <a:lnTo>
                    <a:pt x="2" y="472"/>
                  </a:lnTo>
                  <a:lnTo>
                    <a:pt x="6" y="446"/>
                  </a:lnTo>
                  <a:lnTo>
                    <a:pt x="10" y="420"/>
                  </a:lnTo>
                  <a:lnTo>
                    <a:pt x="16" y="394"/>
                  </a:lnTo>
                  <a:lnTo>
                    <a:pt x="22" y="370"/>
                  </a:lnTo>
                  <a:lnTo>
                    <a:pt x="30" y="346"/>
                  </a:lnTo>
                  <a:lnTo>
                    <a:pt x="40" y="322"/>
                  </a:lnTo>
                  <a:lnTo>
                    <a:pt x="50" y="298"/>
                  </a:lnTo>
                  <a:lnTo>
                    <a:pt x="62" y="276"/>
                  </a:lnTo>
                  <a:lnTo>
                    <a:pt x="76" y="254"/>
                  </a:lnTo>
                  <a:lnTo>
                    <a:pt x="88" y="232"/>
                  </a:lnTo>
                  <a:lnTo>
                    <a:pt x="104" y="212"/>
                  </a:lnTo>
                  <a:lnTo>
                    <a:pt x="120" y="192"/>
                  </a:lnTo>
                  <a:lnTo>
                    <a:pt x="136" y="172"/>
                  </a:lnTo>
                  <a:lnTo>
                    <a:pt x="154" y="154"/>
                  </a:lnTo>
                  <a:lnTo>
                    <a:pt x="172" y="138"/>
                  </a:lnTo>
                  <a:lnTo>
                    <a:pt x="190" y="120"/>
                  </a:lnTo>
                  <a:lnTo>
                    <a:pt x="210" y="104"/>
                  </a:lnTo>
                  <a:lnTo>
                    <a:pt x="230" y="90"/>
                  </a:lnTo>
                  <a:lnTo>
                    <a:pt x="252" y="76"/>
                  </a:lnTo>
                  <a:lnTo>
                    <a:pt x="274" y="64"/>
                  </a:lnTo>
                  <a:lnTo>
                    <a:pt x="296" y="52"/>
                  </a:lnTo>
                  <a:lnTo>
                    <a:pt x="320" y="42"/>
                  </a:lnTo>
                  <a:lnTo>
                    <a:pt x="344" y="32"/>
                  </a:lnTo>
                  <a:lnTo>
                    <a:pt x="368" y="24"/>
                  </a:lnTo>
                  <a:lnTo>
                    <a:pt x="394" y="18"/>
                  </a:lnTo>
                  <a:lnTo>
                    <a:pt x="418" y="12"/>
                  </a:lnTo>
                  <a:lnTo>
                    <a:pt x="444" y="6"/>
                  </a:lnTo>
                  <a:lnTo>
                    <a:pt x="472" y="4"/>
                  </a:lnTo>
                  <a:lnTo>
                    <a:pt x="498" y="2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52" y="2"/>
                  </a:lnTo>
                  <a:lnTo>
                    <a:pt x="578" y="4"/>
                  </a:lnTo>
                  <a:lnTo>
                    <a:pt x="604" y="6"/>
                  </a:lnTo>
                  <a:lnTo>
                    <a:pt x="630" y="12"/>
                  </a:lnTo>
                  <a:lnTo>
                    <a:pt x="656" y="18"/>
                  </a:lnTo>
                  <a:lnTo>
                    <a:pt x="682" y="24"/>
                  </a:lnTo>
                  <a:lnTo>
                    <a:pt x="706" y="32"/>
                  </a:lnTo>
                  <a:lnTo>
                    <a:pt x="730" y="42"/>
                  </a:lnTo>
                  <a:lnTo>
                    <a:pt x="752" y="52"/>
                  </a:lnTo>
                  <a:lnTo>
                    <a:pt x="776" y="64"/>
                  </a:lnTo>
                  <a:lnTo>
                    <a:pt x="798" y="76"/>
                  </a:lnTo>
                  <a:lnTo>
                    <a:pt x="818" y="90"/>
                  </a:lnTo>
                  <a:lnTo>
                    <a:pt x="840" y="104"/>
                  </a:lnTo>
                  <a:lnTo>
                    <a:pt x="860" y="120"/>
                  </a:lnTo>
                  <a:lnTo>
                    <a:pt x="878" y="138"/>
                  </a:lnTo>
                  <a:lnTo>
                    <a:pt x="896" y="154"/>
                  </a:lnTo>
                  <a:lnTo>
                    <a:pt x="914" y="172"/>
                  </a:lnTo>
                  <a:lnTo>
                    <a:pt x="930" y="192"/>
                  </a:lnTo>
                  <a:lnTo>
                    <a:pt x="946" y="212"/>
                  </a:lnTo>
                  <a:lnTo>
                    <a:pt x="960" y="232"/>
                  </a:lnTo>
                  <a:lnTo>
                    <a:pt x="974" y="254"/>
                  </a:lnTo>
                  <a:lnTo>
                    <a:pt x="988" y="276"/>
                  </a:lnTo>
                  <a:lnTo>
                    <a:pt x="998" y="298"/>
                  </a:lnTo>
                  <a:lnTo>
                    <a:pt x="1010" y="322"/>
                  </a:lnTo>
                  <a:lnTo>
                    <a:pt x="1018" y="346"/>
                  </a:lnTo>
                  <a:lnTo>
                    <a:pt x="1028" y="370"/>
                  </a:lnTo>
                  <a:lnTo>
                    <a:pt x="1034" y="394"/>
                  </a:lnTo>
                  <a:lnTo>
                    <a:pt x="1040" y="420"/>
                  </a:lnTo>
                  <a:lnTo>
                    <a:pt x="1044" y="446"/>
                  </a:lnTo>
                  <a:lnTo>
                    <a:pt x="1048" y="472"/>
                  </a:lnTo>
                  <a:lnTo>
                    <a:pt x="1050" y="500"/>
                  </a:lnTo>
                  <a:lnTo>
                    <a:pt x="1050" y="526"/>
                  </a:lnTo>
                  <a:lnTo>
                    <a:pt x="1050" y="526"/>
                  </a:lnTo>
                  <a:close/>
                </a:path>
              </a:pathLst>
            </a:custGeom>
            <a:solidFill>
              <a:srgbClr val="f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5"/>
            <p:cNvSpPr/>
            <p:nvPr/>
          </p:nvSpPr>
          <p:spPr>
            <a:xfrm>
              <a:off x="8251560" y="9823320"/>
              <a:ext cx="1635120" cy="16351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1635120"/>
                <a:gd name="textAreaBottom" fmla="*/ 1635480 h 1635120"/>
              </a:gdLst>
              <a:ahLst/>
              <a:rect l="textAreaLeft" t="textAreaTop" r="textAreaRight" b="textAreaBottom"/>
              <a:pathLst>
                <a:path w="1030" h="1030">
                  <a:moveTo>
                    <a:pt x="1030" y="514"/>
                  </a:moveTo>
                  <a:lnTo>
                    <a:pt x="1030" y="514"/>
                  </a:lnTo>
                  <a:lnTo>
                    <a:pt x="1028" y="542"/>
                  </a:lnTo>
                  <a:lnTo>
                    <a:pt x="1026" y="568"/>
                  </a:lnTo>
                  <a:lnTo>
                    <a:pt x="1024" y="594"/>
                  </a:lnTo>
                  <a:lnTo>
                    <a:pt x="1020" y="618"/>
                  </a:lnTo>
                  <a:lnTo>
                    <a:pt x="1014" y="644"/>
                  </a:lnTo>
                  <a:lnTo>
                    <a:pt x="1006" y="668"/>
                  </a:lnTo>
                  <a:lnTo>
                    <a:pt x="998" y="692"/>
                  </a:lnTo>
                  <a:lnTo>
                    <a:pt x="990" y="716"/>
                  </a:lnTo>
                  <a:lnTo>
                    <a:pt x="978" y="738"/>
                  </a:lnTo>
                  <a:lnTo>
                    <a:pt x="968" y="760"/>
                  </a:lnTo>
                  <a:lnTo>
                    <a:pt x="956" y="782"/>
                  </a:lnTo>
                  <a:lnTo>
                    <a:pt x="942" y="802"/>
                  </a:lnTo>
                  <a:lnTo>
                    <a:pt x="912" y="842"/>
                  </a:lnTo>
                  <a:lnTo>
                    <a:pt x="878" y="880"/>
                  </a:lnTo>
                  <a:lnTo>
                    <a:pt x="842" y="912"/>
                  </a:lnTo>
                  <a:lnTo>
                    <a:pt x="802" y="942"/>
                  </a:lnTo>
                  <a:lnTo>
                    <a:pt x="782" y="956"/>
                  </a:lnTo>
                  <a:lnTo>
                    <a:pt x="760" y="968"/>
                  </a:lnTo>
                  <a:lnTo>
                    <a:pt x="738" y="980"/>
                  </a:lnTo>
                  <a:lnTo>
                    <a:pt x="714" y="990"/>
                  </a:lnTo>
                  <a:lnTo>
                    <a:pt x="692" y="998"/>
                  </a:lnTo>
                  <a:lnTo>
                    <a:pt x="668" y="1006"/>
                  </a:lnTo>
                  <a:lnTo>
                    <a:pt x="644" y="1014"/>
                  </a:lnTo>
                  <a:lnTo>
                    <a:pt x="618" y="1020"/>
                  </a:lnTo>
                  <a:lnTo>
                    <a:pt x="592" y="1024"/>
                  </a:lnTo>
                  <a:lnTo>
                    <a:pt x="568" y="1028"/>
                  </a:lnTo>
                  <a:lnTo>
                    <a:pt x="540" y="1030"/>
                  </a:lnTo>
                  <a:lnTo>
                    <a:pt x="514" y="1030"/>
                  </a:lnTo>
                  <a:lnTo>
                    <a:pt x="514" y="1030"/>
                  </a:lnTo>
                  <a:lnTo>
                    <a:pt x="488" y="1030"/>
                  </a:lnTo>
                  <a:lnTo>
                    <a:pt x="462" y="1028"/>
                  </a:lnTo>
                  <a:lnTo>
                    <a:pt x="436" y="1024"/>
                  </a:lnTo>
                  <a:lnTo>
                    <a:pt x="410" y="1020"/>
                  </a:lnTo>
                  <a:lnTo>
                    <a:pt x="386" y="1014"/>
                  </a:lnTo>
                  <a:lnTo>
                    <a:pt x="362" y="1006"/>
                  </a:lnTo>
                  <a:lnTo>
                    <a:pt x="338" y="998"/>
                  </a:lnTo>
                  <a:lnTo>
                    <a:pt x="314" y="990"/>
                  </a:lnTo>
                  <a:lnTo>
                    <a:pt x="292" y="980"/>
                  </a:lnTo>
                  <a:lnTo>
                    <a:pt x="268" y="968"/>
                  </a:lnTo>
                  <a:lnTo>
                    <a:pt x="248" y="956"/>
                  </a:lnTo>
                  <a:lnTo>
                    <a:pt x="226" y="942"/>
                  </a:lnTo>
                  <a:lnTo>
                    <a:pt x="186" y="912"/>
                  </a:lnTo>
                  <a:lnTo>
                    <a:pt x="150" y="880"/>
                  </a:lnTo>
                  <a:lnTo>
                    <a:pt x="116" y="842"/>
                  </a:lnTo>
                  <a:lnTo>
                    <a:pt x="88" y="802"/>
                  </a:lnTo>
                  <a:lnTo>
                    <a:pt x="74" y="782"/>
                  </a:lnTo>
                  <a:lnTo>
                    <a:pt x="62" y="760"/>
                  </a:lnTo>
                  <a:lnTo>
                    <a:pt x="50" y="738"/>
                  </a:lnTo>
                  <a:lnTo>
                    <a:pt x="40" y="716"/>
                  </a:lnTo>
                  <a:lnTo>
                    <a:pt x="30" y="692"/>
                  </a:lnTo>
                  <a:lnTo>
                    <a:pt x="22" y="668"/>
                  </a:lnTo>
                  <a:lnTo>
                    <a:pt x="16" y="644"/>
                  </a:lnTo>
                  <a:lnTo>
                    <a:pt x="10" y="618"/>
                  </a:lnTo>
                  <a:lnTo>
                    <a:pt x="6" y="594"/>
                  </a:lnTo>
                  <a:lnTo>
                    <a:pt x="2" y="568"/>
                  </a:lnTo>
                  <a:lnTo>
                    <a:pt x="0" y="542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488"/>
                  </a:lnTo>
                  <a:lnTo>
                    <a:pt x="2" y="462"/>
                  </a:lnTo>
                  <a:lnTo>
                    <a:pt x="6" y="436"/>
                  </a:lnTo>
                  <a:lnTo>
                    <a:pt x="10" y="410"/>
                  </a:lnTo>
                  <a:lnTo>
                    <a:pt x="16" y="386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2"/>
                  </a:lnTo>
                  <a:lnTo>
                    <a:pt x="62" y="270"/>
                  </a:lnTo>
                  <a:lnTo>
                    <a:pt x="74" y="248"/>
                  </a:lnTo>
                  <a:lnTo>
                    <a:pt x="88" y="226"/>
                  </a:lnTo>
                  <a:lnTo>
                    <a:pt x="116" y="188"/>
                  </a:lnTo>
                  <a:lnTo>
                    <a:pt x="150" y="150"/>
                  </a:lnTo>
                  <a:lnTo>
                    <a:pt x="186" y="118"/>
                  </a:lnTo>
                  <a:lnTo>
                    <a:pt x="226" y="88"/>
                  </a:lnTo>
                  <a:lnTo>
                    <a:pt x="248" y="74"/>
                  </a:lnTo>
                  <a:lnTo>
                    <a:pt x="268" y="62"/>
                  </a:lnTo>
                  <a:lnTo>
                    <a:pt x="292" y="50"/>
                  </a:lnTo>
                  <a:lnTo>
                    <a:pt x="314" y="40"/>
                  </a:lnTo>
                  <a:lnTo>
                    <a:pt x="338" y="30"/>
                  </a:lnTo>
                  <a:lnTo>
                    <a:pt x="362" y="22"/>
                  </a:lnTo>
                  <a:lnTo>
                    <a:pt x="386" y="16"/>
                  </a:lnTo>
                  <a:lnTo>
                    <a:pt x="410" y="10"/>
                  </a:lnTo>
                  <a:lnTo>
                    <a:pt x="436" y="6"/>
                  </a:lnTo>
                  <a:lnTo>
                    <a:pt x="462" y="2"/>
                  </a:lnTo>
                  <a:lnTo>
                    <a:pt x="488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40" y="0"/>
                  </a:lnTo>
                  <a:lnTo>
                    <a:pt x="568" y="2"/>
                  </a:lnTo>
                  <a:lnTo>
                    <a:pt x="592" y="6"/>
                  </a:lnTo>
                  <a:lnTo>
                    <a:pt x="618" y="10"/>
                  </a:lnTo>
                  <a:lnTo>
                    <a:pt x="644" y="16"/>
                  </a:lnTo>
                  <a:lnTo>
                    <a:pt x="668" y="22"/>
                  </a:lnTo>
                  <a:lnTo>
                    <a:pt x="692" y="30"/>
                  </a:lnTo>
                  <a:lnTo>
                    <a:pt x="714" y="40"/>
                  </a:lnTo>
                  <a:lnTo>
                    <a:pt x="738" y="50"/>
                  </a:lnTo>
                  <a:lnTo>
                    <a:pt x="760" y="62"/>
                  </a:lnTo>
                  <a:lnTo>
                    <a:pt x="782" y="74"/>
                  </a:lnTo>
                  <a:lnTo>
                    <a:pt x="802" y="88"/>
                  </a:lnTo>
                  <a:lnTo>
                    <a:pt x="842" y="118"/>
                  </a:lnTo>
                  <a:lnTo>
                    <a:pt x="878" y="150"/>
                  </a:lnTo>
                  <a:lnTo>
                    <a:pt x="912" y="188"/>
                  </a:lnTo>
                  <a:lnTo>
                    <a:pt x="942" y="226"/>
                  </a:lnTo>
                  <a:lnTo>
                    <a:pt x="956" y="248"/>
                  </a:lnTo>
                  <a:lnTo>
                    <a:pt x="968" y="270"/>
                  </a:lnTo>
                  <a:lnTo>
                    <a:pt x="978" y="292"/>
                  </a:lnTo>
                  <a:lnTo>
                    <a:pt x="990" y="314"/>
                  </a:lnTo>
                  <a:lnTo>
                    <a:pt x="998" y="338"/>
                  </a:lnTo>
                  <a:lnTo>
                    <a:pt x="1006" y="362"/>
                  </a:lnTo>
                  <a:lnTo>
                    <a:pt x="1014" y="386"/>
                  </a:lnTo>
                  <a:lnTo>
                    <a:pt x="1020" y="410"/>
                  </a:lnTo>
                  <a:lnTo>
                    <a:pt x="1024" y="436"/>
                  </a:lnTo>
                  <a:lnTo>
                    <a:pt x="1026" y="462"/>
                  </a:lnTo>
                  <a:lnTo>
                    <a:pt x="1028" y="488"/>
                  </a:lnTo>
                  <a:lnTo>
                    <a:pt x="1030" y="514"/>
                  </a:lnTo>
                  <a:lnTo>
                    <a:pt x="1030" y="514"/>
                  </a:lnTo>
                  <a:close/>
                </a:path>
              </a:pathLst>
            </a:custGeom>
            <a:solidFill>
              <a:srgbClr val="f4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26"/>
            <p:cNvSpPr/>
            <p:nvPr/>
          </p:nvSpPr>
          <p:spPr>
            <a:xfrm>
              <a:off x="8258040" y="9833040"/>
              <a:ext cx="1600200" cy="16030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603080"/>
                <a:gd name="textAreaBottom" fmla="*/ 1603440 h 1603080"/>
              </a:gdLst>
              <a:ahLst/>
              <a:rect l="textAreaLeft" t="textAreaTop" r="textAreaRight" b="textAreaBottom"/>
              <a:pathLst>
                <a:path w="1008" h="1010">
                  <a:moveTo>
                    <a:pt x="1008" y="506"/>
                  </a:moveTo>
                  <a:lnTo>
                    <a:pt x="1008" y="506"/>
                  </a:lnTo>
                  <a:lnTo>
                    <a:pt x="1008" y="532"/>
                  </a:lnTo>
                  <a:lnTo>
                    <a:pt x="1006" y="556"/>
                  </a:lnTo>
                  <a:lnTo>
                    <a:pt x="1002" y="582"/>
                  </a:lnTo>
                  <a:lnTo>
                    <a:pt x="998" y="606"/>
                  </a:lnTo>
                  <a:lnTo>
                    <a:pt x="992" y="632"/>
                  </a:lnTo>
                  <a:lnTo>
                    <a:pt x="986" y="656"/>
                  </a:lnTo>
                  <a:lnTo>
                    <a:pt x="978" y="678"/>
                  </a:lnTo>
                  <a:lnTo>
                    <a:pt x="968" y="702"/>
                  </a:lnTo>
                  <a:lnTo>
                    <a:pt x="948" y="746"/>
                  </a:lnTo>
                  <a:lnTo>
                    <a:pt x="922" y="788"/>
                  </a:lnTo>
                  <a:lnTo>
                    <a:pt x="894" y="826"/>
                  </a:lnTo>
                  <a:lnTo>
                    <a:pt x="860" y="862"/>
                  </a:lnTo>
                  <a:lnTo>
                    <a:pt x="824" y="894"/>
                  </a:lnTo>
                  <a:lnTo>
                    <a:pt x="786" y="924"/>
                  </a:lnTo>
                  <a:lnTo>
                    <a:pt x="744" y="948"/>
                  </a:lnTo>
                  <a:lnTo>
                    <a:pt x="700" y="970"/>
                  </a:lnTo>
                  <a:lnTo>
                    <a:pt x="678" y="980"/>
                  </a:lnTo>
                  <a:lnTo>
                    <a:pt x="654" y="988"/>
                  </a:lnTo>
                  <a:lnTo>
                    <a:pt x="630" y="994"/>
                  </a:lnTo>
                  <a:lnTo>
                    <a:pt x="606" y="1000"/>
                  </a:lnTo>
                  <a:lnTo>
                    <a:pt x="580" y="1004"/>
                  </a:lnTo>
                  <a:lnTo>
                    <a:pt x="556" y="1008"/>
                  </a:lnTo>
                  <a:lnTo>
                    <a:pt x="530" y="1010"/>
                  </a:lnTo>
                  <a:lnTo>
                    <a:pt x="504" y="1010"/>
                  </a:lnTo>
                  <a:lnTo>
                    <a:pt x="504" y="1010"/>
                  </a:lnTo>
                  <a:lnTo>
                    <a:pt x="478" y="1010"/>
                  </a:lnTo>
                  <a:lnTo>
                    <a:pt x="452" y="1008"/>
                  </a:lnTo>
                  <a:lnTo>
                    <a:pt x="428" y="1004"/>
                  </a:lnTo>
                  <a:lnTo>
                    <a:pt x="402" y="1000"/>
                  </a:lnTo>
                  <a:lnTo>
                    <a:pt x="378" y="994"/>
                  </a:lnTo>
                  <a:lnTo>
                    <a:pt x="354" y="988"/>
                  </a:lnTo>
                  <a:lnTo>
                    <a:pt x="330" y="980"/>
                  </a:lnTo>
                  <a:lnTo>
                    <a:pt x="308" y="970"/>
                  </a:lnTo>
                  <a:lnTo>
                    <a:pt x="264" y="948"/>
                  </a:lnTo>
                  <a:lnTo>
                    <a:pt x="222" y="924"/>
                  </a:lnTo>
                  <a:lnTo>
                    <a:pt x="184" y="894"/>
                  </a:lnTo>
                  <a:lnTo>
                    <a:pt x="148" y="862"/>
                  </a:lnTo>
                  <a:lnTo>
                    <a:pt x="114" y="826"/>
                  </a:lnTo>
                  <a:lnTo>
                    <a:pt x="86" y="788"/>
                  </a:lnTo>
                  <a:lnTo>
                    <a:pt x="60" y="746"/>
                  </a:lnTo>
                  <a:lnTo>
                    <a:pt x="40" y="702"/>
                  </a:lnTo>
                  <a:lnTo>
                    <a:pt x="30" y="678"/>
                  </a:lnTo>
                  <a:lnTo>
                    <a:pt x="22" y="656"/>
                  </a:lnTo>
                  <a:lnTo>
                    <a:pt x="16" y="632"/>
                  </a:lnTo>
                  <a:lnTo>
                    <a:pt x="10" y="606"/>
                  </a:lnTo>
                  <a:lnTo>
                    <a:pt x="6" y="582"/>
                  </a:lnTo>
                  <a:lnTo>
                    <a:pt x="2" y="556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506"/>
                  </a:lnTo>
                  <a:lnTo>
                    <a:pt x="0" y="480"/>
                  </a:lnTo>
                  <a:lnTo>
                    <a:pt x="2" y="454"/>
                  </a:lnTo>
                  <a:lnTo>
                    <a:pt x="6" y="428"/>
                  </a:lnTo>
                  <a:lnTo>
                    <a:pt x="10" y="404"/>
                  </a:lnTo>
                  <a:lnTo>
                    <a:pt x="16" y="380"/>
                  </a:lnTo>
                  <a:lnTo>
                    <a:pt x="22" y="356"/>
                  </a:lnTo>
                  <a:lnTo>
                    <a:pt x="30" y="332"/>
                  </a:lnTo>
                  <a:lnTo>
                    <a:pt x="40" y="308"/>
                  </a:lnTo>
                  <a:lnTo>
                    <a:pt x="60" y="264"/>
                  </a:lnTo>
                  <a:lnTo>
                    <a:pt x="86" y="224"/>
                  </a:lnTo>
                  <a:lnTo>
                    <a:pt x="114" y="184"/>
                  </a:lnTo>
                  <a:lnTo>
                    <a:pt x="148" y="148"/>
                  </a:lnTo>
                  <a:lnTo>
                    <a:pt x="184" y="116"/>
                  </a:lnTo>
                  <a:lnTo>
                    <a:pt x="222" y="86"/>
                  </a:lnTo>
                  <a:lnTo>
                    <a:pt x="264" y="62"/>
                  </a:lnTo>
                  <a:lnTo>
                    <a:pt x="308" y="40"/>
                  </a:lnTo>
                  <a:lnTo>
                    <a:pt x="330" y="32"/>
                  </a:lnTo>
                  <a:lnTo>
                    <a:pt x="354" y="24"/>
                  </a:lnTo>
                  <a:lnTo>
                    <a:pt x="378" y="16"/>
                  </a:lnTo>
                  <a:lnTo>
                    <a:pt x="402" y="10"/>
                  </a:lnTo>
                  <a:lnTo>
                    <a:pt x="428" y="6"/>
                  </a:lnTo>
                  <a:lnTo>
                    <a:pt x="452" y="4"/>
                  </a:lnTo>
                  <a:lnTo>
                    <a:pt x="478" y="2"/>
                  </a:lnTo>
                  <a:lnTo>
                    <a:pt x="504" y="0"/>
                  </a:lnTo>
                  <a:lnTo>
                    <a:pt x="504" y="0"/>
                  </a:lnTo>
                  <a:lnTo>
                    <a:pt x="530" y="2"/>
                  </a:lnTo>
                  <a:lnTo>
                    <a:pt x="556" y="4"/>
                  </a:lnTo>
                  <a:lnTo>
                    <a:pt x="580" y="6"/>
                  </a:lnTo>
                  <a:lnTo>
                    <a:pt x="606" y="10"/>
                  </a:lnTo>
                  <a:lnTo>
                    <a:pt x="630" y="16"/>
                  </a:lnTo>
                  <a:lnTo>
                    <a:pt x="654" y="24"/>
                  </a:lnTo>
                  <a:lnTo>
                    <a:pt x="678" y="32"/>
                  </a:lnTo>
                  <a:lnTo>
                    <a:pt x="700" y="40"/>
                  </a:lnTo>
                  <a:lnTo>
                    <a:pt x="744" y="62"/>
                  </a:lnTo>
                  <a:lnTo>
                    <a:pt x="786" y="86"/>
                  </a:lnTo>
                  <a:lnTo>
                    <a:pt x="824" y="116"/>
                  </a:lnTo>
                  <a:lnTo>
                    <a:pt x="860" y="148"/>
                  </a:lnTo>
                  <a:lnTo>
                    <a:pt x="894" y="184"/>
                  </a:lnTo>
                  <a:lnTo>
                    <a:pt x="922" y="224"/>
                  </a:lnTo>
                  <a:lnTo>
                    <a:pt x="948" y="264"/>
                  </a:lnTo>
                  <a:lnTo>
                    <a:pt x="968" y="308"/>
                  </a:lnTo>
                  <a:lnTo>
                    <a:pt x="978" y="332"/>
                  </a:lnTo>
                  <a:lnTo>
                    <a:pt x="986" y="356"/>
                  </a:lnTo>
                  <a:lnTo>
                    <a:pt x="992" y="380"/>
                  </a:lnTo>
                  <a:lnTo>
                    <a:pt x="998" y="404"/>
                  </a:lnTo>
                  <a:lnTo>
                    <a:pt x="1002" y="428"/>
                  </a:lnTo>
                  <a:lnTo>
                    <a:pt x="1006" y="454"/>
                  </a:lnTo>
                  <a:lnTo>
                    <a:pt x="1008" y="480"/>
                  </a:lnTo>
                  <a:lnTo>
                    <a:pt x="1008" y="506"/>
                  </a:lnTo>
                  <a:lnTo>
                    <a:pt x="1008" y="506"/>
                  </a:lnTo>
                  <a:close/>
                </a:path>
              </a:pathLst>
            </a:custGeom>
            <a:solidFill>
              <a:srgbClr val="f4a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27"/>
            <p:cNvSpPr/>
            <p:nvPr/>
          </p:nvSpPr>
          <p:spPr>
            <a:xfrm>
              <a:off x="8264520" y="9845640"/>
              <a:ext cx="1568520" cy="156816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988" h="988">
                  <a:moveTo>
                    <a:pt x="988" y="494"/>
                  </a:moveTo>
                  <a:lnTo>
                    <a:pt x="988" y="494"/>
                  </a:lnTo>
                  <a:lnTo>
                    <a:pt x="986" y="518"/>
                  </a:lnTo>
                  <a:lnTo>
                    <a:pt x="984" y="544"/>
                  </a:lnTo>
                  <a:lnTo>
                    <a:pt x="982" y="568"/>
                  </a:lnTo>
                  <a:lnTo>
                    <a:pt x="978" y="594"/>
                  </a:lnTo>
                  <a:lnTo>
                    <a:pt x="972" y="616"/>
                  </a:lnTo>
                  <a:lnTo>
                    <a:pt x="966" y="640"/>
                  </a:lnTo>
                  <a:lnTo>
                    <a:pt x="948" y="686"/>
                  </a:lnTo>
                  <a:lnTo>
                    <a:pt x="928" y="728"/>
                  </a:lnTo>
                  <a:lnTo>
                    <a:pt x="904" y="770"/>
                  </a:lnTo>
                  <a:lnTo>
                    <a:pt x="874" y="808"/>
                  </a:lnTo>
                  <a:lnTo>
                    <a:pt x="842" y="842"/>
                  </a:lnTo>
                  <a:lnTo>
                    <a:pt x="808" y="874"/>
                  </a:lnTo>
                  <a:lnTo>
                    <a:pt x="770" y="904"/>
                  </a:lnTo>
                  <a:lnTo>
                    <a:pt x="730" y="928"/>
                  </a:lnTo>
                  <a:lnTo>
                    <a:pt x="686" y="948"/>
                  </a:lnTo>
                  <a:lnTo>
                    <a:pt x="640" y="966"/>
                  </a:lnTo>
                  <a:lnTo>
                    <a:pt x="618" y="972"/>
                  </a:lnTo>
                  <a:lnTo>
                    <a:pt x="594" y="978"/>
                  </a:lnTo>
                  <a:lnTo>
                    <a:pt x="568" y="982"/>
                  </a:lnTo>
                  <a:lnTo>
                    <a:pt x="544" y="984"/>
                  </a:lnTo>
                  <a:lnTo>
                    <a:pt x="520" y="986"/>
                  </a:lnTo>
                  <a:lnTo>
                    <a:pt x="494" y="988"/>
                  </a:lnTo>
                  <a:lnTo>
                    <a:pt x="494" y="988"/>
                  </a:lnTo>
                  <a:lnTo>
                    <a:pt x="468" y="986"/>
                  </a:lnTo>
                  <a:lnTo>
                    <a:pt x="444" y="984"/>
                  </a:lnTo>
                  <a:lnTo>
                    <a:pt x="418" y="982"/>
                  </a:lnTo>
                  <a:lnTo>
                    <a:pt x="394" y="978"/>
                  </a:lnTo>
                  <a:lnTo>
                    <a:pt x="370" y="972"/>
                  </a:lnTo>
                  <a:lnTo>
                    <a:pt x="346" y="966"/>
                  </a:lnTo>
                  <a:lnTo>
                    <a:pt x="302" y="948"/>
                  </a:lnTo>
                  <a:lnTo>
                    <a:pt x="258" y="928"/>
                  </a:lnTo>
                  <a:lnTo>
                    <a:pt x="218" y="904"/>
                  </a:lnTo>
                  <a:lnTo>
                    <a:pt x="180" y="874"/>
                  </a:lnTo>
                  <a:lnTo>
                    <a:pt x="144" y="842"/>
                  </a:lnTo>
                  <a:lnTo>
                    <a:pt x="112" y="808"/>
                  </a:lnTo>
                  <a:lnTo>
                    <a:pt x="84" y="770"/>
                  </a:lnTo>
                  <a:lnTo>
                    <a:pt x="60" y="728"/>
                  </a:lnTo>
                  <a:lnTo>
                    <a:pt x="38" y="686"/>
                  </a:lnTo>
                  <a:lnTo>
                    <a:pt x="22" y="640"/>
                  </a:lnTo>
                  <a:lnTo>
                    <a:pt x="16" y="616"/>
                  </a:lnTo>
                  <a:lnTo>
                    <a:pt x="10" y="594"/>
                  </a:lnTo>
                  <a:lnTo>
                    <a:pt x="6" y="568"/>
                  </a:lnTo>
                  <a:lnTo>
                    <a:pt x="2" y="544"/>
                  </a:lnTo>
                  <a:lnTo>
                    <a:pt x="0" y="518"/>
                  </a:lnTo>
                  <a:lnTo>
                    <a:pt x="0" y="494"/>
                  </a:lnTo>
                  <a:lnTo>
                    <a:pt x="0" y="494"/>
                  </a:lnTo>
                  <a:lnTo>
                    <a:pt x="0" y="468"/>
                  </a:lnTo>
                  <a:lnTo>
                    <a:pt x="2" y="444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8" y="302"/>
                  </a:lnTo>
                  <a:lnTo>
                    <a:pt x="60" y="258"/>
                  </a:lnTo>
                  <a:lnTo>
                    <a:pt x="84" y="218"/>
                  </a:lnTo>
                  <a:lnTo>
                    <a:pt x="112" y="180"/>
                  </a:lnTo>
                  <a:lnTo>
                    <a:pt x="144" y="144"/>
                  </a:lnTo>
                  <a:lnTo>
                    <a:pt x="180" y="112"/>
                  </a:lnTo>
                  <a:lnTo>
                    <a:pt x="218" y="84"/>
                  </a:lnTo>
                  <a:lnTo>
                    <a:pt x="258" y="60"/>
                  </a:lnTo>
                  <a:lnTo>
                    <a:pt x="302" y="38"/>
                  </a:lnTo>
                  <a:lnTo>
                    <a:pt x="346" y="22"/>
                  </a:lnTo>
                  <a:lnTo>
                    <a:pt x="370" y="16"/>
                  </a:lnTo>
                  <a:lnTo>
                    <a:pt x="394" y="10"/>
                  </a:lnTo>
                  <a:lnTo>
                    <a:pt x="418" y="6"/>
                  </a:lnTo>
                  <a:lnTo>
                    <a:pt x="444" y="2"/>
                  </a:lnTo>
                  <a:lnTo>
                    <a:pt x="468" y="0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520" y="0"/>
                  </a:lnTo>
                  <a:lnTo>
                    <a:pt x="544" y="2"/>
                  </a:lnTo>
                  <a:lnTo>
                    <a:pt x="568" y="6"/>
                  </a:lnTo>
                  <a:lnTo>
                    <a:pt x="594" y="10"/>
                  </a:lnTo>
                  <a:lnTo>
                    <a:pt x="618" y="16"/>
                  </a:lnTo>
                  <a:lnTo>
                    <a:pt x="640" y="22"/>
                  </a:lnTo>
                  <a:lnTo>
                    <a:pt x="686" y="38"/>
                  </a:lnTo>
                  <a:lnTo>
                    <a:pt x="730" y="60"/>
                  </a:lnTo>
                  <a:lnTo>
                    <a:pt x="770" y="84"/>
                  </a:lnTo>
                  <a:lnTo>
                    <a:pt x="808" y="112"/>
                  </a:lnTo>
                  <a:lnTo>
                    <a:pt x="842" y="144"/>
                  </a:lnTo>
                  <a:lnTo>
                    <a:pt x="874" y="180"/>
                  </a:lnTo>
                  <a:lnTo>
                    <a:pt x="904" y="218"/>
                  </a:lnTo>
                  <a:lnTo>
                    <a:pt x="928" y="258"/>
                  </a:lnTo>
                  <a:lnTo>
                    <a:pt x="948" y="302"/>
                  </a:lnTo>
                  <a:lnTo>
                    <a:pt x="966" y="346"/>
                  </a:lnTo>
                  <a:lnTo>
                    <a:pt x="972" y="370"/>
                  </a:lnTo>
                  <a:lnTo>
                    <a:pt x="978" y="394"/>
                  </a:lnTo>
                  <a:lnTo>
                    <a:pt x="982" y="418"/>
                  </a:lnTo>
                  <a:lnTo>
                    <a:pt x="984" y="444"/>
                  </a:lnTo>
                  <a:lnTo>
                    <a:pt x="986" y="468"/>
                  </a:lnTo>
                  <a:lnTo>
                    <a:pt x="988" y="494"/>
                  </a:lnTo>
                  <a:lnTo>
                    <a:pt x="988" y="494"/>
                  </a:lnTo>
                  <a:close/>
                </a:path>
              </a:pathLst>
            </a:custGeom>
            <a:solidFill>
              <a:srgbClr val="f5a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28"/>
            <p:cNvSpPr/>
            <p:nvPr/>
          </p:nvSpPr>
          <p:spPr>
            <a:xfrm>
              <a:off x="8270640" y="9855000"/>
              <a:ext cx="1533600" cy="15364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536480"/>
                <a:gd name="textAreaBottom" fmla="*/ 1536840 h 1536480"/>
              </a:gdLst>
              <a:ahLst/>
              <a:rect l="textAreaLeft" t="textAreaTop" r="textAreaRight" b="textAreaBottom"/>
              <a:pathLst>
                <a:path w="966" h="968">
                  <a:moveTo>
                    <a:pt x="966" y="484"/>
                  </a:moveTo>
                  <a:lnTo>
                    <a:pt x="966" y="484"/>
                  </a:lnTo>
                  <a:lnTo>
                    <a:pt x="966" y="508"/>
                  </a:lnTo>
                  <a:lnTo>
                    <a:pt x="964" y="534"/>
                  </a:lnTo>
                  <a:lnTo>
                    <a:pt x="960" y="558"/>
                  </a:lnTo>
                  <a:lnTo>
                    <a:pt x="956" y="582"/>
                  </a:lnTo>
                  <a:lnTo>
                    <a:pt x="944" y="628"/>
                  </a:lnTo>
                  <a:lnTo>
                    <a:pt x="928" y="672"/>
                  </a:lnTo>
                  <a:lnTo>
                    <a:pt x="908" y="714"/>
                  </a:lnTo>
                  <a:lnTo>
                    <a:pt x="884" y="754"/>
                  </a:lnTo>
                  <a:lnTo>
                    <a:pt x="856" y="792"/>
                  </a:lnTo>
                  <a:lnTo>
                    <a:pt x="824" y="826"/>
                  </a:lnTo>
                  <a:lnTo>
                    <a:pt x="790" y="856"/>
                  </a:lnTo>
                  <a:lnTo>
                    <a:pt x="754" y="884"/>
                  </a:lnTo>
                  <a:lnTo>
                    <a:pt x="714" y="908"/>
                  </a:lnTo>
                  <a:lnTo>
                    <a:pt x="672" y="930"/>
                  </a:lnTo>
                  <a:lnTo>
                    <a:pt x="626" y="946"/>
                  </a:lnTo>
                  <a:lnTo>
                    <a:pt x="580" y="958"/>
                  </a:lnTo>
                  <a:lnTo>
                    <a:pt x="556" y="962"/>
                  </a:lnTo>
                  <a:lnTo>
                    <a:pt x="532" y="964"/>
                  </a:lnTo>
                  <a:lnTo>
                    <a:pt x="508" y="966"/>
                  </a:lnTo>
                  <a:lnTo>
                    <a:pt x="484" y="968"/>
                  </a:lnTo>
                  <a:lnTo>
                    <a:pt x="484" y="968"/>
                  </a:lnTo>
                  <a:lnTo>
                    <a:pt x="458" y="966"/>
                  </a:lnTo>
                  <a:lnTo>
                    <a:pt x="434" y="964"/>
                  </a:lnTo>
                  <a:lnTo>
                    <a:pt x="410" y="962"/>
                  </a:lnTo>
                  <a:lnTo>
                    <a:pt x="386" y="958"/>
                  </a:lnTo>
                  <a:lnTo>
                    <a:pt x="340" y="946"/>
                  </a:lnTo>
                  <a:lnTo>
                    <a:pt x="296" y="930"/>
                  </a:lnTo>
                  <a:lnTo>
                    <a:pt x="252" y="908"/>
                  </a:lnTo>
                  <a:lnTo>
                    <a:pt x="212" y="884"/>
                  </a:lnTo>
                  <a:lnTo>
                    <a:pt x="176" y="856"/>
                  </a:lnTo>
                  <a:lnTo>
                    <a:pt x="142" y="826"/>
                  </a:lnTo>
                  <a:lnTo>
                    <a:pt x="110" y="792"/>
                  </a:lnTo>
                  <a:lnTo>
                    <a:pt x="82" y="754"/>
                  </a:lnTo>
                  <a:lnTo>
                    <a:pt x="58" y="714"/>
                  </a:lnTo>
                  <a:lnTo>
                    <a:pt x="38" y="672"/>
                  </a:lnTo>
                  <a:lnTo>
                    <a:pt x="22" y="628"/>
                  </a:lnTo>
                  <a:lnTo>
                    <a:pt x="10" y="582"/>
                  </a:lnTo>
                  <a:lnTo>
                    <a:pt x="6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4"/>
                  </a:lnTo>
                  <a:lnTo>
                    <a:pt x="0" y="484"/>
                  </a:lnTo>
                  <a:lnTo>
                    <a:pt x="0" y="460"/>
                  </a:lnTo>
                  <a:lnTo>
                    <a:pt x="2" y="434"/>
                  </a:lnTo>
                  <a:lnTo>
                    <a:pt x="6" y="410"/>
                  </a:lnTo>
                  <a:lnTo>
                    <a:pt x="10" y="386"/>
                  </a:lnTo>
                  <a:lnTo>
                    <a:pt x="22" y="340"/>
                  </a:lnTo>
                  <a:lnTo>
                    <a:pt x="38" y="296"/>
                  </a:lnTo>
                  <a:lnTo>
                    <a:pt x="58" y="254"/>
                  </a:lnTo>
                  <a:lnTo>
                    <a:pt x="82" y="214"/>
                  </a:lnTo>
                  <a:lnTo>
                    <a:pt x="110" y="176"/>
                  </a:lnTo>
                  <a:lnTo>
                    <a:pt x="142" y="142"/>
                  </a:lnTo>
                  <a:lnTo>
                    <a:pt x="176" y="112"/>
                  </a:lnTo>
                  <a:lnTo>
                    <a:pt x="212" y="84"/>
                  </a:lnTo>
                  <a:lnTo>
                    <a:pt x="252" y="60"/>
                  </a:lnTo>
                  <a:lnTo>
                    <a:pt x="296" y="38"/>
                  </a:lnTo>
                  <a:lnTo>
                    <a:pt x="340" y="22"/>
                  </a:lnTo>
                  <a:lnTo>
                    <a:pt x="386" y="10"/>
                  </a:lnTo>
                  <a:lnTo>
                    <a:pt x="410" y="6"/>
                  </a:lnTo>
                  <a:lnTo>
                    <a:pt x="434" y="4"/>
                  </a:lnTo>
                  <a:lnTo>
                    <a:pt x="458" y="2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508" y="2"/>
                  </a:lnTo>
                  <a:lnTo>
                    <a:pt x="532" y="4"/>
                  </a:lnTo>
                  <a:lnTo>
                    <a:pt x="556" y="6"/>
                  </a:lnTo>
                  <a:lnTo>
                    <a:pt x="580" y="10"/>
                  </a:lnTo>
                  <a:lnTo>
                    <a:pt x="626" y="22"/>
                  </a:lnTo>
                  <a:lnTo>
                    <a:pt x="672" y="38"/>
                  </a:lnTo>
                  <a:lnTo>
                    <a:pt x="714" y="60"/>
                  </a:lnTo>
                  <a:lnTo>
                    <a:pt x="754" y="84"/>
                  </a:lnTo>
                  <a:lnTo>
                    <a:pt x="790" y="112"/>
                  </a:lnTo>
                  <a:lnTo>
                    <a:pt x="824" y="142"/>
                  </a:lnTo>
                  <a:lnTo>
                    <a:pt x="856" y="176"/>
                  </a:lnTo>
                  <a:lnTo>
                    <a:pt x="884" y="214"/>
                  </a:lnTo>
                  <a:lnTo>
                    <a:pt x="908" y="254"/>
                  </a:lnTo>
                  <a:lnTo>
                    <a:pt x="928" y="296"/>
                  </a:lnTo>
                  <a:lnTo>
                    <a:pt x="944" y="340"/>
                  </a:lnTo>
                  <a:lnTo>
                    <a:pt x="956" y="386"/>
                  </a:lnTo>
                  <a:lnTo>
                    <a:pt x="960" y="410"/>
                  </a:lnTo>
                  <a:lnTo>
                    <a:pt x="964" y="434"/>
                  </a:lnTo>
                  <a:lnTo>
                    <a:pt x="966" y="460"/>
                  </a:lnTo>
                  <a:lnTo>
                    <a:pt x="966" y="484"/>
                  </a:lnTo>
                  <a:lnTo>
                    <a:pt x="966" y="484"/>
                  </a:lnTo>
                  <a:close/>
                </a:path>
              </a:pathLst>
            </a:custGeom>
            <a:solidFill>
              <a:srgbClr val="f5a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29"/>
            <p:cNvSpPr/>
            <p:nvPr/>
          </p:nvSpPr>
          <p:spPr>
            <a:xfrm>
              <a:off x="8277120" y="9867960"/>
              <a:ext cx="1501920" cy="149832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1498320"/>
                <a:gd name="textAreaBottom" fmla="*/ 1498680 h 1498320"/>
              </a:gdLst>
              <a:ahLst/>
              <a:rect l="textAreaLeft" t="textAreaTop" r="textAreaRight" b="textAreaBottom"/>
              <a:pathLst>
                <a:path w="946" h="944">
                  <a:moveTo>
                    <a:pt x="946" y="472"/>
                  </a:moveTo>
                  <a:lnTo>
                    <a:pt x="946" y="472"/>
                  </a:lnTo>
                  <a:lnTo>
                    <a:pt x="944" y="496"/>
                  </a:lnTo>
                  <a:lnTo>
                    <a:pt x="942" y="520"/>
                  </a:lnTo>
                  <a:lnTo>
                    <a:pt x="940" y="544"/>
                  </a:lnTo>
                  <a:lnTo>
                    <a:pt x="936" y="568"/>
                  </a:lnTo>
                  <a:lnTo>
                    <a:pt x="924" y="612"/>
                  </a:lnTo>
                  <a:lnTo>
                    <a:pt x="908" y="656"/>
                  </a:lnTo>
                  <a:lnTo>
                    <a:pt x="888" y="698"/>
                  </a:lnTo>
                  <a:lnTo>
                    <a:pt x="864" y="736"/>
                  </a:lnTo>
                  <a:lnTo>
                    <a:pt x="838" y="774"/>
                  </a:lnTo>
                  <a:lnTo>
                    <a:pt x="806" y="806"/>
                  </a:lnTo>
                  <a:lnTo>
                    <a:pt x="774" y="838"/>
                  </a:lnTo>
                  <a:lnTo>
                    <a:pt x="738" y="864"/>
                  </a:lnTo>
                  <a:lnTo>
                    <a:pt x="698" y="888"/>
                  </a:lnTo>
                  <a:lnTo>
                    <a:pt x="656" y="908"/>
                  </a:lnTo>
                  <a:lnTo>
                    <a:pt x="614" y="924"/>
                  </a:lnTo>
                  <a:lnTo>
                    <a:pt x="568" y="936"/>
                  </a:lnTo>
                  <a:lnTo>
                    <a:pt x="544" y="940"/>
                  </a:lnTo>
                  <a:lnTo>
                    <a:pt x="522" y="942"/>
                  </a:lnTo>
                  <a:lnTo>
                    <a:pt x="498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48" y="944"/>
                  </a:lnTo>
                  <a:lnTo>
                    <a:pt x="424" y="942"/>
                  </a:lnTo>
                  <a:lnTo>
                    <a:pt x="400" y="940"/>
                  </a:lnTo>
                  <a:lnTo>
                    <a:pt x="378" y="936"/>
                  </a:lnTo>
                  <a:lnTo>
                    <a:pt x="332" y="924"/>
                  </a:lnTo>
                  <a:lnTo>
                    <a:pt x="288" y="908"/>
                  </a:lnTo>
                  <a:lnTo>
                    <a:pt x="248" y="888"/>
                  </a:lnTo>
                  <a:lnTo>
                    <a:pt x="208" y="864"/>
                  </a:lnTo>
                  <a:lnTo>
                    <a:pt x="172" y="838"/>
                  </a:lnTo>
                  <a:lnTo>
                    <a:pt x="138" y="806"/>
                  </a:lnTo>
                  <a:lnTo>
                    <a:pt x="108" y="774"/>
                  </a:lnTo>
                  <a:lnTo>
                    <a:pt x="80" y="736"/>
                  </a:lnTo>
                  <a:lnTo>
                    <a:pt x="58" y="698"/>
                  </a:lnTo>
                  <a:lnTo>
                    <a:pt x="38" y="656"/>
                  </a:lnTo>
                  <a:lnTo>
                    <a:pt x="22" y="612"/>
                  </a:lnTo>
                  <a:lnTo>
                    <a:pt x="10" y="568"/>
                  </a:lnTo>
                  <a:lnTo>
                    <a:pt x="6" y="544"/>
                  </a:lnTo>
                  <a:lnTo>
                    <a:pt x="2" y="520"/>
                  </a:lnTo>
                  <a:lnTo>
                    <a:pt x="0" y="496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0" y="448"/>
                  </a:lnTo>
                  <a:lnTo>
                    <a:pt x="2" y="424"/>
                  </a:lnTo>
                  <a:lnTo>
                    <a:pt x="6" y="400"/>
                  </a:lnTo>
                  <a:lnTo>
                    <a:pt x="10" y="378"/>
                  </a:lnTo>
                  <a:lnTo>
                    <a:pt x="22" y="332"/>
                  </a:lnTo>
                  <a:lnTo>
                    <a:pt x="38" y="288"/>
                  </a:lnTo>
                  <a:lnTo>
                    <a:pt x="58" y="248"/>
                  </a:lnTo>
                  <a:lnTo>
                    <a:pt x="80" y="208"/>
                  </a:lnTo>
                  <a:lnTo>
                    <a:pt x="108" y="172"/>
                  </a:lnTo>
                  <a:lnTo>
                    <a:pt x="138" y="138"/>
                  </a:lnTo>
                  <a:lnTo>
                    <a:pt x="172" y="108"/>
                  </a:lnTo>
                  <a:lnTo>
                    <a:pt x="208" y="80"/>
                  </a:lnTo>
                  <a:lnTo>
                    <a:pt x="248" y="56"/>
                  </a:lnTo>
                  <a:lnTo>
                    <a:pt x="288" y="36"/>
                  </a:lnTo>
                  <a:lnTo>
                    <a:pt x="332" y="20"/>
                  </a:lnTo>
                  <a:lnTo>
                    <a:pt x="378" y="10"/>
                  </a:lnTo>
                  <a:lnTo>
                    <a:pt x="400" y="6"/>
                  </a:lnTo>
                  <a:lnTo>
                    <a:pt x="424" y="2"/>
                  </a:lnTo>
                  <a:lnTo>
                    <a:pt x="448" y="0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98" y="0"/>
                  </a:lnTo>
                  <a:lnTo>
                    <a:pt x="522" y="2"/>
                  </a:lnTo>
                  <a:lnTo>
                    <a:pt x="544" y="6"/>
                  </a:lnTo>
                  <a:lnTo>
                    <a:pt x="568" y="10"/>
                  </a:lnTo>
                  <a:lnTo>
                    <a:pt x="614" y="20"/>
                  </a:lnTo>
                  <a:lnTo>
                    <a:pt x="656" y="36"/>
                  </a:lnTo>
                  <a:lnTo>
                    <a:pt x="698" y="56"/>
                  </a:lnTo>
                  <a:lnTo>
                    <a:pt x="738" y="80"/>
                  </a:lnTo>
                  <a:lnTo>
                    <a:pt x="774" y="108"/>
                  </a:lnTo>
                  <a:lnTo>
                    <a:pt x="806" y="138"/>
                  </a:lnTo>
                  <a:lnTo>
                    <a:pt x="838" y="172"/>
                  </a:lnTo>
                  <a:lnTo>
                    <a:pt x="864" y="208"/>
                  </a:lnTo>
                  <a:lnTo>
                    <a:pt x="888" y="248"/>
                  </a:lnTo>
                  <a:lnTo>
                    <a:pt x="908" y="288"/>
                  </a:lnTo>
                  <a:lnTo>
                    <a:pt x="924" y="332"/>
                  </a:lnTo>
                  <a:lnTo>
                    <a:pt x="936" y="378"/>
                  </a:lnTo>
                  <a:lnTo>
                    <a:pt x="940" y="400"/>
                  </a:lnTo>
                  <a:lnTo>
                    <a:pt x="942" y="424"/>
                  </a:lnTo>
                  <a:lnTo>
                    <a:pt x="944" y="448"/>
                  </a:lnTo>
                  <a:lnTo>
                    <a:pt x="946" y="472"/>
                  </a:lnTo>
                  <a:lnTo>
                    <a:pt x="946" y="472"/>
                  </a:lnTo>
                  <a:close/>
                </a:path>
              </a:pathLst>
            </a:custGeom>
            <a:solidFill>
              <a:srgbClr val="f5a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30"/>
            <p:cNvSpPr/>
            <p:nvPr/>
          </p:nvSpPr>
          <p:spPr>
            <a:xfrm>
              <a:off x="8283240" y="9877320"/>
              <a:ext cx="1467000" cy="146664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924" h="924">
                  <a:moveTo>
                    <a:pt x="924" y="462"/>
                  </a:moveTo>
                  <a:lnTo>
                    <a:pt x="924" y="462"/>
                  </a:lnTo>
                  <a:lnTo>
                    <a:pt x="924" y="486"/>
                  </a:lnTo>
                  <a:lnTo>
                    <a:pt x="922" y="510"/>
                  </a:lnTo>
                  <a:lnTo>
                    <a:pt x="914" y="556"/>
                  </a:lnTo>
                  <a:lnTo>
                    <a:pt x="904" y="600"/>
                  </a:lnTo>
                  <a:lnTo>
                    <a:pt x="888" y="642"/>
                  </a:lnTo>
                  <a:lnTo>
                    <a:pt x="868" y="682"/>
                  </a:lnTo>
                  <a:lnTo>
                    <a:pt x="846" y="722"/>
                  </a:lnTo>
                  <a:lnTo>
                    <a:pt x="818" y="756"/>
                  </a:lnTo>
                  <a:lnTo>
                    <a:pt x="790" y="790"/>
                  </a:lnTo>
                  <a:lnTo>
                    <a:pt x="756" y="820"/>
                  </a:lnTo>
                  <a:lnTo>
                    <a:pt x="720" y="846"/>
                  </a:lnTo>
                  <a:lnTo>
                    <a:pt x="682" y="870"/>
                  </a:lnTo>
                  <a:lnTo>
                    <a:pt x="642" y="888"/>
                  </a:lnTo>
                  <a:lnTo>
                    <a:pt x="600" y="904"/>
                  </a:lnTo>
                  <a:lnTo>
                    <a:pt x="556" y="916"/>
                  </a:lnTo>
                  <a:lnTo>
                    <a:pt x="510" y="922"/>
                  </a:lnTo>
                  <a:lnTo>
                    <a:pt x="486" y="924"/>
                  </a:lnTo>
                  <a:lnTo>
                    <a:pt x="462" y="924"/>
                  </a:lnTo>
                  <a:lnTo>
                    <a:pt x="462" y="924"/>
                  </a:lnTo>
                  <a:lnTo>
                    <a:pt x="438" y="924"/>
                  </a:lnTo>
                  <a:lnTo>
                    <a:pt x="416" y="922"/>
                  </a:lnTo>
                  <a:lnTo>
                    <a:pt x="370" y="916"/>
                  </a:lnTo>
                  <a:lnTo>
                    <a:pt x="324" y="904"/>
                  </a:lnTo>
                  <a:lnTo>
                    <a:pt x="282" y="888"/>
                  </a:lnTo>
                  <a:lnTo>
                    <a:pt x="242" y="870"/>
                  </a:lnTo>
                  <a:lnTo>
                    <a:pt x="204" y="846"/>
                  </a:lnTo>
                  <a:lnTo>
                    <a:pt x="168" y="820"/>
                  </a:lnTo>
                  <a:lnTo>
                    <a:pt x="136" y="790"/>
                  </a:lnTo>
                  <a:lnTo>
                    <a:pt x="106" y="756"/>
                  </a:lnTo>
                  <a:lnTo>
                    <a:pt x="80" y="722"/>
                  </a:lnTo>
                  <a:lnTo>
                    <a:pt x="56" y="682"/>
                  </a:lnTo>
                  <a:lnTo>
                    <a:pt x="36" y="642"/>
                  </a:lnTo>
                  <a:lnTo>
                    <a:pt x="22" y="600"/>
                  </a:lnTo>
                  <a:lnTo>
                    <a:pt x="10" y="556"/>
                  </a:lnTo>
                  <a:lnTo>
                    <a:pt x="2" y="510"/>
                  </a:lnTo>
                  <a:lnTo>
                    <a:pt x="0" y="486"/>
                  </a:lnTo>
                  <a:lnTo>
                    <a:pt x="0" y="462"/>
                  </a:lnTo>
                  <a:lnTo>
                    <a:pt x="0" y="462"/>
                  </a:lnTo>
                  <a:lnTo>
                    <a:pt x="0" y="438"/>
                  </a:lnTo>
                  <a:lnTo>
                    <a:pt x="2" y="416"/>
                  </a:lnTo>
                  <a:lnTo>
                    <a:pt x="10" y="370"/>
                  </a:lnTo>
                  <a:lnTo>
                    <a:pt x="22" y="326"/>
                  </a:lnTo>
                  <a:lnTo>
                    <a:pt x="36" y="282"/>
                  </a:lnTo>
                  <a:lnTo>
                    <a:pt x="56" y="242"/>
                  </a:lnTo>
                  <a:lnTo>
                    <a:pt x="80" y="204"/>
                  </a:lnTo>
                  <a:lnTo>
                    <a:pt x="106" y="168"/>
                  </a:lnTo>
                  <a:lnTo>
                    <a:pt x="136" y="136"/>
                  </a:lnTo>
                  <a:lnTo>
                    <a:pt x="168" y="106"/>
                  </a:lnTo>
                  <a:lnTo>
                    <a:pt x="204" y="80"/>
                  </a:lnTo>
                  <a:lnTo>
                    <a:pt x="242" y="56"/>
                  </a:lnTo>
                  <a:lnTo>
                    <a:pt x="282" y="38"/>
                  </a:lnTo>
                  <a:lnTo>
                    <a:pt x="324" y="22"/>
                  </a:lnTo>
                  <a:lnTo>
                    <a:pt x="370" y="10"/>
                  </a:lnTo>
                  <a:lnTo>
                    <a:pt x="416" y="4"/>
                  </a:lnTo>
                  <a:lnTo>
                    <a:pt x="438" y="2"/>
                  </a:lnTo>
                  <a:lnTo>
                    <a:pt x="462" y="0"/>
                  </a:lnTo>
                  <a:lnTo>
                    <a:pt x="462" y="0"/>
                  </a:lnTo>
                  <a:lnTo>
                    <a:pt x="486" y="2"/>
                  </a:lnTo>
                  <a:lnTo>
                    <a:pt x="510" y="4"/>
                  </a:lnTo>
                  <a:lnTo>
                    <a:pt x="556" y="10"/>
                  </a:lnTo>
                  <a:lnTo>
                    <a:pt x="600" y="22"/>
                  </a:lnTo>
                  <a:lnTo>
                    <a:pt x="642" y="38"/>
                  </a:lnTo>
                  <a:lnTo>
                    <a:pt x="682" y="56"/>
                  </a:lnTo>
                  <a:lnTo>
                    <a:pt x="720" y="80"/>
                  </a:lnTo>
                  <a:lnTo>
                    <a:pt x="756" y="106"/>
                  </a:lnTo>
                  <a:lnTo>
                    <a:pt x="790" y="136"/>
                  </a:lnTo>
                  <a:lnTo>
                    <a:pt x="818" y="168"/>
                  </a:lnTo>
                  <a:lnTo>
                    <a:pt x="846" y="204"/>
                  </a:lnTo>
                  <a:lnTo>
                    <a:pt x="868" y="242"/>
                  </a:lnTo>
                  <a:lnTo>
                    <a:pt x="888" y="282"/>
                  </a:lnTo>
                  <a:lnTo>
                    <a:pt x="904" y="326"/>
                  </a:lnTo>
                  <a:lnTo>
                    <a:pt x="914" y="370"/>
                  </a:lnTo>
                  <a:lnTo>
                    <a:pt x="922" y="416"/>
                  </a:lnTo>
                  <a:lnTo>
                    <a:pt x="924" y="438"/>
                  </a:lnTo>
                  <a:lnTo>
                    <a:pt x="924" y="462"/>
                  </a:lnTo>
                  <a:lnTo>
                    <a:pt x="924" y="462"/>
                  </a:lnTo>
                  <a:close/>
                </a:path>
              </a:pathLst>
            </a:custGeom>
            <a:solidFill>
              <a:srgbClr val="f6a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31"/>
            <p:cNvSpPr/>
            <p:nvPr/>
          </p:nvSpPr>
          <p:spPr>
            <a:xfrm>
              <a:off x="8289720" y="9889920"/>
              <a:ext cx="1435320" cy="1431720"/>
            </a:xfrm>
            <a:custGeom>
              <a:avLst/>
              <a:gdLst>
                <a:gd name="textAreaLeft" fmla="*/ 0 w 1435320"/>
                <a:gd name="textAreaRight" fmla="*/ 1435680 w 1435320"/>
                <a:gd name="textAreaTop" fmla="*/ 0 h 1431720"/>
                <a:gd name="textAreaBottom" fmla="*/ 1432080 h 1431720"/>
              </a:gdLst>
              <a:ahLst/>
              <a:rect l="textAreaLeft" t="textAreaTop" r="textAreaRight" b="textAreaBottom"/>
              <a:pathLst>
                <a:path w="904" h="902">
                  <a:moveTo>
                    <a:pt x="904" y="452"/>
                  </a:moveTo>
                  <a:lnTo>
                    <a:pt x="904" y="452"/>
                  </a:lnTo>
                  <a:lnTo>
                    <a:pt x="900" y="498"/>
                  </a:lnTo>
                  <a:lnTo>
                    <a:pt x="894" y="542"/>
                  </a:lnTo>
                  <a:lnTo>
                    <a:pt x="884" y="586"/>
                  </a:lnTo>
                  <a:lnTo>
                    <a:pt x="868" y="626"/>
                  </a:lnTo>
                  <a:lnTo>
                    <a:pt x="848" y="666"/>
                  </a:lnTo>
                  <a:lnTo>
                    <a:pt x="826" y="704"/>
                  </a:lnTo>
                  <a:lnTo>
                    <a:pt x="800" y="738"/>
                  </a:lnTo>
                  <a:lnTo>
                    <a:pt x="772" y="770"/>
                  </a:lnTo>
                  <a:lnTo>
                    <a:pt x="740" y="800"/>
                  </a:lnTo>
                  <a:lnTo>
                    <a:pt x="704" y="826"/>
                  </a:lnTo>
                  <a:lnTo>
                    <a:pt x="668" y="848"/>
                  </a:lnTo>
                  <a:lnTo>
                    <a:pt x="628" y="868"/>
                  </a:lnTo>
                  <a:lnTo>
                    <a:pt x="586" y="882"/>
                  </a:lnTo>
                  <a:lnTo>
                    <a:pt x="542" y="894"/>
                  </a:lnTo>
                  <a:lnTo>
                    <a:pt x="498" y="900"/>
                  </a:lnTo>
                  <a:lnTo>
                    <a:pt x="452" y="902"/>
                  </a:lnTo>
                  <a:lnTo>
                    <a:pt x="452" y="902"/>
                  </a:lnTo>
                  <a:lnTo>
                    <a:pt x="406" y="900"/>
                  </a:lnTo>
                  <a:lnTo>
                    <a:pt x="360" y="894"/>
                  </a:lnTo>
                  <a:lnTo>
                    <a:pt x="318" y="882"/>
                  </a:lnTo>
                  <a:lnTo>
                    <a:pt x="276" y="868"/>
                  </a:lnTo>
                  <a:lnTo>
                    <a:pt x="236" y="848"/>
                  </a:lnTo>
                  <a:lnTo>
                    <a:pt x="200" y="826"/>
                  </a:lnTo>
                  <a:lnTo>
                    <a:pt x="164" y="800"/>
                  </a:lnTo>
                  <a:lnTo>
                    <a:pt x="132" y="770"/>
                  </a:lnTo>
                  <a:lnTo>
                    <a:pt x="104" y="738"/>
                  </a:lnTo>
                  <a:lnTo>
                    <a:pt x="78" y="704"/>
                  </a:lnTo>
                  <a:lnTo>
                    <a:pt x="56" y="666"/>
                  </a:lnTo>
                  <a:lnTo>
                    <a:pt x="36" y="626"/>
                  </a:lnTo>
                  <a:lnTo>
                    <a:pt x="20" y="586"/>
                  </a:lnTo>
                  <a:lnTo>
                    <a:pt x="10" y="542"/>
                  </a:lnTo>
                  <a:lnTo>
                    <a:pt x="2" y="498"/>
                  </a:lnTo>
                  <a:lnTo>
                    <a:pt x="0" y="452"/>
                  </a:lnTo>
                  <a:lnTo>
                    <a:pt x="0" y="452"/>
                  </a:lnTo>
                  <a:lnTo>
                    <a:pt x="2" y="406"/>
                  </a:lnTo>
                  <a:lnTo>
                    <a:pt x="10" y="360"/>
                  </a:lnTo>
                  <a:lnTo>
                    <a:pt x="20" y="316"/>
                  </a:lnTo>
                  <a:lnTo>
                    <a:pt x="36" y="276"/>
                  </a:lnTo>
                  <a:lnTo>
                    <a:pt x="56" y="236"/>
                  </a:lnTo>
                  <a:lnTo>
                    <a:pt x="78" y="198"/>
                  </a:lnTo>
                  <a:lnTo>
                    <a:pt x="104" y="164"/>
                  </a:lnTo>
                  <a:lnTo>
                    <a:pt x="132" y="132"/>
                  </a:lnTo>
                  <a:lnTo>
                    <a:pt x="164" y="102"/>
                  </a:lnTo>
                  <a:lnTo>
                    <a:pt x="200" y="76"/>
                  </a:lnTo>
                  <a:lnTo>
                    <a:pt x="236" y="54"/>
                  </a:lnTo>
                  <a:lnTo>
                    <a:pt x="276" y="36"/>
                  </a:lnTo>
                  <a:lnTo>
                    <a:pt x="318" y="20"/>
                  </a:lnTo>
                  <a:lnTo>
                    <a:pt x="360" y="8"/>
                  </a:lnTo>
                  <a:lnTo>
                    <a:pt x="406" y="2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98" y="2"/>
                  </a:lnTo>
                  <a:lnTo>
                    <a:pt x="542" y="8"/>
                  </a:lnTo>
                  <a:lnTo>
                    <a:pt x="586" y="20"/>
                  </a:lnTo>
                  <a:lnTo>
                    <a:pt x="628" y="36"/>
                  </a:lnTo>
                  <a:lnTo>
                    <a:pt x="668" y="54"/>
                  </a:lnTo>
                  <a:lnTo>
                    <a:pt x="704" y="76"/>
                  </a:lnTo>
                  <a:lnTo>
                    <a:pt x="740" y="102"/>
                  </a:lnTo>
                  <a:lnTo>
                    <a:pt x="772" y="132"/>
                  </a:lnTo>
                  <a:lnTo>
                    <a:pt x="800" y="164"/>
                  </a:lnTo>
                  <a:lnTo>
                    <a:pt x="826" y="198"/>
                  </a:lnTo>
                  <a:lnTo>
                    <a:pt x="848" y="236"/>
                  </a:lnTo>
                  <a:lnTo>
                    <a:pt x="868" y="276"/>
                  </a:lnTo>
                  <a:lnTo>
                    <a:pt x="884" y="316"/>
                  </a:lnTo>
                  <a:lnTo>
                    <a:pt x="894" y="360"/>
                  </a:lnTo>
                  <a:lnTo>
                    <a:pt x="900" y="406"/>
                  </a:lnTo>
                  <a:lnTo>
                    <a:pt x="904" y="452"/>
                  </a:lnTo>
                  <a:lnTo>
                    <a:pt x="904" y="452"/>
                  </a:lnTo>
                  <a:close/>
                </a:path>
              </a:pathLst>
            </a:custGeom>
            <a:solidFill>
              <a:srgbClr val="f6a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32"/>
            <p:cNvSpPr/>
            <p:nvPr/>
          </p:nvSpPr>
          <p:spPr>
            <a:xfrm>
              <a:off x="8296200" y="9899640"/>
              <a:ext cx="1400400" cy="1400040"/>
            </a:xfrm>
            <a:custGeom>
              <a:avLst/>
              <a:gdLst>
                <a:gd name="textAreaLeft" fmla="*/ 0 w 1400400"/>
                <a:gd name="textAreaRight" fmla="*/ 1400400 w 140040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2" h="882">
                  <a:moveTo>
                    <a:pt x="882" y="442"/>
                  </a:moveTo>
                  <a:lnTo>
                    <a:pt x="882" y="442"/>
                  </a:lnTo>
                  <a:lnTo>
                    <a:pt x="880" y="486"/>
                  </a:lnTo>
                  <a:lnTo>
                    <a:pt x="874" y="530"/>
                  </a:lnTo>
                  <a:lnTo>
                    <a:pt x="862" y="572"/>
                  </a:lnTo>
                  <a:lnTo>
                    <a:pt x="848" y="614"/>
                  </a:lnTo>
                  <a:lnTo>
                    <a:pt x="830" y="652"/>
                  </a:lnTo>
                  <a:lnTo>
                    <a:pt x="806" y="688"/>
                  </a:lnTo>
                  <a:lnTo>
                    <a:pt x="782" y="722"/>
                  </a:lnTo>
                  <a:lnTo>
                    <a:pt x="754" y="754"/>
                  </a:lnTo>
                  <a:lnTo>
                    <a:pt x="722" y="782"/>
                  </a:lnTo>
                  <a:lnTo>
                    <a:pt x="688" y="808"/>
                  </a:lnTo>
                  <a:lnTo>
                    <a:pt x="652" y="830"/>
                  </a:lnTo>
                  <a:lnTo>
                    <a:pt x="614" y="848"/>
                  </a:lnTo>
                  <a:lnTo>
                    <a:pt x="572" y="862"/>
                  </a:lnTo>
                  <a:lnTo>
                    <a:pt x="530" y="874"/>
                  </a:lnTo>
                  <a:lnTo>
                    <a:pt x="486" y="880"/>
                  </a:lnTo>
                  <a:lnTo>
                    <a:pt x="442" y="882"/>
                  </a:lnTo>
                  <a:lnTo>
                    <a:pt x="442" y="882"/>
                  </a:lnTo>
                  <a:lnTo>
                    <a:pt x="396" y="880"/>
                  </a:lnTo>
                  <a:lnTo>
                    <a:pt x="352" y="874"/>
                  </a:lnTo>
                  <a:lnTo>
                    <a:pt x="310" y="862"/>
                  </a:lnTo>
                  <a:lnTo>
                    <a:pt x="270" y="848"/>
                  </a:lnTo>
                  <a:lnTo>
                    <a:pt x="232" y="830"/>
                  </a:lnTo>
                  <a:lnTo>
                    <a:pt x="196" y="808"/>
                  </a:lnTo>
                  <a:lnTo>
                    <a:pt x="162" y="782"/>
                  </a:lnTo>
                  <a:lnTo>
                    <a:pt x="130" y="754"/>
                  </a:lnTo>
                  <a:lnTo>
                    <a:pt x="102" y="722"/>
                  </a:lnTo>
                  <a:lnTo>
                    <a:pt x="76" y="688"/>
                  </a:lnTo>
                  <a:lnTo>
                    <a:pt x="54" y="652"/>
                  </a:lnTo>
                  <a:lnTo>
                    <a:pt x="36" y="614"/>
                  </a:lnTo>
                  <a:lnTo>
                    <a:pt x="20" y="572"/>
                  </a:lnTo>
                  <a:lnTo>
                    <a:pt x="10" y="530"/>
                  </a:lnTo>
                  <a:lnTo>
                    <a:pt x="4" y="486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4" y="396"/>
                  </a:lnTo>
                  <a:lnTo>
                    <a:pt x="10" y="352"/>
                  </a:lnTo>
                  <a:lnTo>
                    <a:pt x="20" y="310"/>
                  </a:lnTo>
                  <a:lnTo>
                    <a:pt x="36" y="270"/>
                  </a:lnTo>
                  <a:lnTo>
                    <a:pt x="54" y="232"/>
                  </a:lnTo>
                  <a:lnTo>
                    <a:pt x="76" y="196"/>
                  </a:lnTo>
                  <a:lnTo>
                    <a:pt x="102" y="162"/>
                  </a:lnTo>
                  <a:lnTo>
                    <a:pt x="130" y="130"/>
                  </a:lnTo>
                  <a:lnTo>
                    <a:pt x="162" y="102"/>
                  </a:lnTo>
                  <a:lnTo>
                    <a:pt x="196" y="76"/>
                  </a:lnTo>
                  <a:lnTo>
                    <a:pt x="232" y="54"/>
                  </a:lnTo>
                  <a:lnTo>
                    <a:pt x="270" y="36"/>
                  </a:lnTo>
                  <a:lnTo>
                    <a:pt x="310" y="20"/>
                  </a:lnTo>
                  <a:lnTo>
                    <a:pt x="352" y="10"/>
                  </a:lnTo>
                  <a:lnTo>
                    <a:pt x="396" y="4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86" y="4"/>
                  </a:lnTo>
                  <a:lnTo>
                    <a:pt x="530" y="10"/>
                  </a:lnTo>
                  <a:lnTo>
                    <a:pt x="572" y="20"/>
                  </a:lnTo>
                  <a:lnTo>
                    <a:pt x="614" y="36"/>
                  </a:lnTo>
                  <a:lnTo>
                    <a:pt x="652" y="54"/>
                  </a:lnTo>
                  <a:lnTo>
                    <a:pt x="688" y="76"/>
                  </a:lnTo>
                  <a:lnTo>
                    <a:pt x="722" y="102"/>
                  </a:lnTo>
                  <a:lnTo>
                    <a:pt x="754" y="130"/>
                  </a:lnTo>
                  <a:lnTo>
                    <a:pt x="782" y="162"/>
                  </a:lnTo>
                  <a:lnTo>
                    <a:pt x="806" y="196"/>
                  </a:lnTo>
                  <a:lnTo>
                    <a:pt x="830" y="232"/>
                  </a:lnTo>
                  <a:lnTo>
                    <a:pt x="848" y="270"/>
                  </a:lnTo>
                  <a:lnTo>
                    <a:pt x="862" y="310"/>
                  </a:lnTo>
                  <a:lnTo>
                    <a:pt x="874" y="352"/>
                  </a:lnTo>
                  <a:lnTo>
                    <a:pt x="880" y="396"/>
                  </a:lnTo>
                  <a:lnTo>
                    <a:pt x="882" y="442"/>
                  </a:lnTo>
                  <a:lnTo>
                    <a:pt x="882" y="442"/>
                  </a:lnTo>
                  <a:close/>
                </a:path>
              </a:pathLst>
            </a:custGeom>
            <a:solidFill>
              <a:srgbClr val="f6a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33"/>
            <p:cNvSpPr/>
            <p:nvPr/>
          </p:nvSpPr>
          <p:spPr>
            <a:xfrm>
              <a:off x="8305560" y="9912240"/>
              <a:ext cx="1365480" cy="136512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860" h="860">
                  <a:moveTo>
                    <a:pt x="860" y="430"/>
                  </a:moveTo>
                  <a:lnTo>
                    <a:pt x="860" y="430"/>
                  </a:lnTo>
                  <a:lnTo>
                    <a:pt x="856" y="474"/>
                  </a:lnTo>
                  <a:lnTo>
                    <a:pt x="850" y="516"/>
                  </a:lnTo>
                  <a:lnTo>
                    <a:pt x="840" y="558"/>
                  </a:lnTo>
                  <a:lnTo>
                    <a:pt x="826" y="598"/>
                  </a:lnTo>
                  <a:lnTo>
                    <a:pt x="808" y="636"/>
                  </a:lnTo>
                  <a:lnTo>
                    <a:pt x="786" y="670"/>
                  </a:lnTo>
                  <a:lnTo>
                    <a:pt x="760" y="704"/>
                  </a:lnTo>
                  <a:lnTo>
                    <a:pt x="734" y="734"/>
                  </a:lnTo>
                  <a:lnTo>
                    <a:pt x="702" y="762"/>
                  </a:lnTo>
                  <a:lnTo>
                    <a:pt x="670" y="786"/>
                  </a:lnTo>
                  <a:lnTo>
                    <a:pt x="634" y="808"/>
                  </a:lnTo>
                  <a:lnTo>
                    <a:pt x="596" y="826"/>
                  </a:lnTo>
                  <a:lnTo>
                    <a:pt x="558" y="840"/>
                  </a:lnTo>
                  <a:lnTo>
                    <a:pt x="516" y="852"/>
                  </a:lnTo>
                  <a:lnTo>
                    <a:pt x="474" y="858"/>
                  </a:lnTo>
                  <a:lnTo>
                    <a:pt x="430" y="860"/>
                  </a:lnTo>
                  <a:lnTo>
                    <a:pt x="430" y="860"/>
                  </a:lnTo>
                  <a:lnTo>
                    <a:pt x="386" y="858"/>
                  </a:lnTo>
                  <a:lnTo>
                    <a:pt x="342" y="852"/>
                  </a:lnTo>
                  <a:lnTo>
                    <a:pt x="302" y="840"/>
                  </a:lnTo>
                  <a:lnTo>
                    <a:pt x="262" y="826"/>
                  </a:lnTo>
                  <a:lnTo>
                    <a:pt x="224" y="808"/>
                  </a:lnTo>
                  <a:lnTo>
                    <a:pt x="188" y="786"/>
                  </a:lnTo>
                  <a:lnTo>
                    <a:pt x="156" y="762"/>
                  </a:lnTo>
                  <a:lnTo>
                    <a:pt x="124" y="734"/>
                  </a:lnTo>
                  <a:lnTo>
                    <a:pt x="98" y="704"/>
                  </a:lnTo>
                  <a:lnTo>
                    <a:pt x="72" y="670"/>
                  </a:lnTo>
                  <a:lnTo>
                    <a:pt x="50" y="636"/>
                  </a:lnTo>
                  <a:lnTo>
                    <a:pt x="32" y="598"/>
                  </a:lnTo>
                  <a:lnTo>
                    <a:pt x="18" y="558"/>
                  </a:lnTo>
                  <a:lnTo>
                    <a:pt x="8" y="516"/>
                  </a:lnTo>
                  <a:lnTo>
                    <a:pt x="2" y="474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2" y="386"/>
                  </a:lnTo>
                  <a:lnTo>
                    <a:pt x="8" y="344"/>
                  </a:lnTo>
                  <a:lnTo>
                    <a:pt x="18" y="302"/>
                  </a:lnTo>
                  <a:lnTo>
                    <a:pt x="32" y="262"/>
                  </a:lnTo>
                  <a:lnTo>
                    <a:pt x="50" y="226"/>
                  </a:lnTo>
                  <a:lnTo>
                    <a:pt x="72" y="190"/>
                  </a:lnTo>
                  <a:lnTo>
                    <a:pt x="98" y="156"/>
                  </a:lnTo>
                  <a:lnTo>
                    <a:pt x="124" y="126"/>
                  </a:lnTo>
                  <a:lnTo>
                    <a:pt x="156" y="98"/>
                  </a:lnTo>
                  <a:lnTo>
                    <a:pt x="188" y="74"/>
                  </a:lnTo>
                  <a:lnTo>
                    <a:pt x="224" y="52"/>
                  </a:lnTo>
                  <a:lnTo>
                    <a:pt x="262" y="34"/>
                  </a:lnTo>
                  <a:lnTo>
                    <a:pt x="302" y="20"/>
                  </a:lnTo>
                  <a:lnTo>
                    <a:pt x="342" y="8"/>
                  </a:lnTo>
                  <a:lnTo>
                    <a:pt x="386" y="2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74" y="2"/>
                  </a:lnTo>
                  <a:lnTo>
                    <a:pt x="516" y="8"/>
                  </a:lnTo>
                  <a:lnTo>
                    <a:pt x="558" y="20"/>
                  </a:lnTo>
                  <a:lnTo>
                    <a:pt x="596" y="34"/>
                  </a:lnTo>
                  <a:lnTo>
                    <a:pt x="634" y="52"/>
                  </a:lnTo>
                  <a:lnTo>
                    <a:pt x="670" y="74"/>
                  </a:lnTo>
                  <a:lnTo>
                    <a:pt x="702" y="98"/>
                  </a:lnTo>
                  <a:lnTo>
                    <a:pt x="734" y="126"/>
                  </a:lnTo>
                  <a:lnTo>
                    <a:pt x="760" y="156"/>
                  </a:lnTo>
                  <a:lnTo>
                    <a:pt x="786" y="190"/>
                  </a:lnTo>
                  <a:lnTo>
                    <a:pt x="808" y="226"/>
                  </a:lnTo>
                  <a:lnTo>
                    <a:pt x="826" y="262"/>
                  </a:lnTo>
                  <a:lnTo>
                    <a:pt x="840" y="302"/>
                  </a:lnTo>
                  <a:lnTo>
                    <a:pt x="850" y="344"/>
                  </a:lnTo>
                  <a:lnTo>
                    <a:pt x="856" y="386"/>
                  </a:lnTo>
                  <a:lnTo>
                    <a:pt x="860" y="430"/>
                  </a:lnTo>
                  <a:lnTo>
                    <a:pt x="860" y="430"/>
                  </a:lnTo>
                  <a:close/>
                </a:path>
              </a:pathLst>
            </a:custGeom>
            <a:solidFill>
              <a:srgbClr val="f6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34"/>
            <p:cNvSpPr/>
            <p:nvPr/>
          </p:nvSpPr>
          <p:spPr>
            <a:xfrm>
              <a:off x="8312040" y="9921960"/>
              <a:ext cx="1330560" cy="1333440"/>
            </a:xfrm>
            <a:custGeom>
              <a:avLst/>
              <a:gdLst>
                <a:gd name="textAreaLeft" fmla="*/ 0 w 1330560"/>
                <a:gd name="textAreaRight" fmla="*/ 1330560 w 13305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838" h="840">
                  <a:moveTo>
                    <a:pt x="838" y="420"/>
                  </a:moveTo>
                  <a:lnTo>
                    <a:pt x="838" y="420"/>
                  </a:lnTo>
                  <a:lnTo>
                    <a:pt x="836" y="464"/>
                  </a:lnTo>
                  <a:lnTo>
                    <a:pt x="830" y="504"/>
                  </a:lnTo>
                  <a:lnTo>
                    <a:pt x="820" y="546"/>
                  </a:lnTo>
                  <a:lnTo>
                    <a:pt x="806" y="584"/>
                  </a:lnTo>
                  <a:lnTo>
                    <a:pt x="788" y="620"/>
                  </a:lnTo>
                  <a:lnTo>
                    <a:pt x="766" y="654"/>
                  </a:lnTo>
                  <a:lnTo>
                    <a:pt x="742" y="688"/>
                  </a:lnTo>
                  <a:lnTo>
                    <a:pt x="716" y="718"/>
                  </a:lnTo>
                  <a:lnTo>
                    <a:pt x="686" y="744"/>
                  </a:lnTo>
                  <a:lnTo>
                    <a:pt x="654" y="768"/>
                  </a:lnTo>
                  <a:lnTo>
                    <a:pt x="618" y="790"/>
                  </a:lnTo>
                  <a:lnTo>
                    <a:pt x="582" y="806"/>
                  </a:lnTo>
                  <a:lnTo>
                    <a:pt x="544" y="822"/>
                  </a:lnTo>
                  <a:lnTo>
                    <a:pt x="504" y="832"/>
                  </a:lnTo>
                  <a:lnTo>
                    <a:pt x="462" y="838"/>
                  </a:lnTo>
                  <a:lnTo>
                    <a:pt x="418" y="840"/>
                  </a:lnTo>
                  <a:lnTo>
                    <a:pt x="418" y="840"/>
                  </a:lnTo>
                  <a:lnTo>
                    <a:pt x="376" y="838"/>
                  </a:lnTo>
                  <a:lnTo>
                    <a:pt x="334" y="832"/>
                  </a:lnTo>
                  <a:lnTo>
                    <a:pt x="294" y="822"/>
                  </a:lnTo>
                  <a:lnTo>
                    <a:pt x="256" y="806"/>
                  </a:lnTo>
                  <a:lnTo>
                    <a:pt x="218" y="790"/>
                  </a:lnTo>
                  <a:lnTo>
                    <a:pt x="184" y="768"/>
                  </a:lnTo>
                  <a:lnTo>
                    <a:pt x="152" y="744"/>
                  </a:lnTo>
                  <a:lnTo>
                    <a:pt x="122" y="718"/>
                  </a:lnTo>
                  <a:lnTo>
                    <a:pt x="96" y="688"/>
                  </a:lnTo>
                  <a:lnTo>
                    <a:pt x="70" y="654"/>
                  </a:lnTo>
                  <a:lnTo>
                    <a:pt x="50" y="620"/>
                  </a:lnTo>
                  <a:lnTo>
                    <a:pt x="32" y="584"/>
                  </a:lnTo>
                  <a:lnTo>
                    <a:pt x="18" y="546"/>
                  </a:lnTo>
                  <a:lnTo>
                    <a:pt x="8" y="504"/>
                  </a:lnTo>
                  <a:lnTo>
                    <a:pt x="2" y="464"/>
                  </a:lnTo>
                  <a:lnTo>
                    <a:pt x="0" y="420"/>
                  </a:lnTo>
                  <a:lnTo>
                    <a:pt x="0" y="420"/>
                  </a:lnTo>
                  <a:lnTo>
                    <a:pt x="2" y="378"/>
                  </a:lnTo>
                  <a:lnTo>
                    <a:pt x="8" y="336"/>
                  </a:lnTo>
                  <a:lnTo>
                    <a:pt x="18" y="296"/>
                  </a:lnTo>
                  <a:lnTo>
                    <a:pt x="32" y="258"/>
                  </a:lnTo>
                  <a:lnTo>
                    <a:pt x="50" y="220"/>
                  </a:lnTo>
                  <a:lnTo>
                    <a:pt x="70" y="186"/>
                  </a:lnTo>
                  <a:lnTo>
                    <a:pt x="96" y="154"/>
                  </a:lnTo>
                  <a:lnTo>
                    <a:pt x="122" y="124"/>
                  </a:lnTo>
                  <a:lnTo>
                    <a:pt x="152" y="96"/>
                  </a:lnTo>
                  <a:lnTo>
                    <a:pt x="184" y="72"/>
                  </a:lnTo>
                  <a:lnTo>
                    <a:pt x="218" y="52"/>
                  </a:lnTo>
                  <a:lnTo>
                    <a:pt x="256" y="34"/>
                  </a:lnTo>
                  <a:lnTo>
                    <a:pt x="294" y="20"/>
                  </a:lnTo>
                  <a:lnTo>
                    <a:pt x="334" y="10"/>
                  </a:lnTo>
                  <a:lnTo>
                    <a:pt x="376" y="4"/>
                  </a:lnTo>
                  <a:lnTo>
                    <a:pt x="418" y="0"/>
                  </a:lnTo>
                  <a:lnTo>
                    <a:pt x="418" y="0"/>
                  </a:lnTo>
                  <a:lnTo>
                    <a:pt x="462" y="4"/>
                  </a:lnTo>
                  <a:lnTo>
                    <a:pt x="504" y="10"/>
                  </a:lnTo>
                  <a:lnTo>
                    <a:pt x="544" y="20"/>
                  </a:lnTo>
                  <a:lnTo>
                    <a:pt x="582" y="34"/>
                  </a:lnTo>
                  <a:lnTo>
                    <a:pt x="618" y="52"/>
                  </a:lnTo>
                  <a:lnTo>
                    <a:pt x="654" y="72"/>
                  </a:lnTo>
                  <a:lnTo>
                    <a:pt x="686" y="96"/>
                  </a:lnTo>
                  <a:lnTo>
                    <a:pt x="716" y="124"/>
                  </a:lnTo>
                  <a:lnTo>
                    <a:pt x="742" y="154"/>
                  </a:lnTo>
                  <a:lnTo>
                    <a:pt x="766" y="186"/>
                  </a:lnTo>
                  <a:lnTo>
                    <a:pt x="788" y="220"/>
                  </a:lnTo>
                  <a:lnTo>
                    <a:pt x="806" y="258"/>
                  </a:lnTo>
                  <a:lnTo>
                    <a:pt x="820" y="296"/>
                  </a:lnTo>
                  <a:lnTo>
                    <a:pt x="830" y="336"/>
                  </a:lnTo>
                  <a:lnTo>
                    <a:pt x="836" y="378"/>
                  </a:lnTo>
                  <a:lnTo>
                    <a:pt x="838" y="420"/>
                  </a:lnTo>
                  <a:lnTo>
                    <a:pt x="838" y="420"/>
                  </a:lnTo>
                  <a:close/>
                </a:path>
              </a:pathLst>
            </a:custGeom>
            <a:solidFill>
              <a:srgbClr val="f7b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335"/>
            <p:cNvSpPr/>
            <p:nvPr/>
          </p:nvSpPr>
          <p:spPr>
            <a:xfrm>
              <a:off x="8318160" y="9934560"/>
              <a:ext cx="1298520" cy="1298520"/>
            </a:xfrm>
            <a:custGeom>
              <a:avLst/>
              <a:gdLst/>
              <a:ahLst/>
              <a:rect l="l" t="t" r="r" b="b"/>
              <a:pathLst>
                <a:path w="818" h="818">
                  <a:moveTo>
                    <a:pt x="818" y="408"/>
                  </a:moveTo>
                  <a:lnTo>
                    <a:pt x="818" y="408"/>
                  </a:lnTo>
                  <a:lnTo>
                    <a:pt x="814" y="450"/>
                  </a:lnTo>
                  <a:lnTo>
                    <a:pt x="808" y="492"/>
                  </a:lnTo>
                  <a:lnTo>
                    <a:pt x="798" y="530"/>
                  </a:lnTo>
                  <a:lnTo>
                    <a:pt x="784" y="568"/>
                  </a:lnTo>
                  <a:lnTo>
                    <a:pt x="768" y="604"/>
                  </a:lnTo>
                  <a:lnTo>
                    <a:pt x="748" y="638"/>
                  </a:lnTo>
                  <a:lnTo>
                    <a:pt x="724" y="668"/>
                  </a:lnTo>
                  <a:lnTo>
                    <a:pt x="698" y="698"/>
                  </a:lnTo>
                  <a:lnTo>
                    <a:pt x="668" y="724"/>
                  </a:lnTo>
                  <a:lnTo>
                    <a:pt x="636" y="748"/>
                  </a:lnTo>
                  <a:lnTo>
                    <a:pt x="604" y="768"/>
                  </a:lnTo>
                  <a:lnTo>
                    <a:pt x="568" y="786"/>
                  </a:lnTo>
                  <a:lnTo>
                    <a:pt x="530" y="800"/>
                  </a:lnTo>
                  <a:lnTo>
                    <a:pt x="490" y="810"/>
                  </a:lnTo>
                  <a:lnTo>
                    <a:pt x="450" y="816"/>
                  </a:lnTo>
                  <a:lnTo>
                    <a:pt x="408" y="818"/>
                  </a:lnTo>
                  <a:lnTo>
                    <a:pt x="408" y="818"/>
                  </a:lnTo>
                  <a:lnTo>
                    <a:pt x="366" y="816"/>
                  </a:lnTo>
                  <a:lnTo>
                    <a:pt x="326" y="810"/>
                  </a:lnTo>
                  <a:lnTo>
                    <a:pt x="286" y="800"/>
                  </a:lnTo>
                  <a:lnTo>
                    <a:pt x="250" y="786"/>
                  </a:lnTo>
                  <a:lnTo>
                    <a:pt x="214" y="768"/>
                  </a:lnTo>
                  <a:lnTo>
                    <a:pt x="180" y="748"/>
                  </a:lnTo>
                  <a:lnTo>
                    <a:pt x="148" y="724"/>
                  </a:lnTo>
                  <a:lnTo>
                    <a:pt x="120" y="698"/>
                  </a:lnTo>
                  <a:lnTo>
                    <a:pt x="92" y="668"/>
                  </a:lnTo>
                  <a:lnTo>
                    <a:pt x="70" y="638"/>
                  </a:lnTo>
                  <a:lnTo>
                    <a:pt x="48" y="604"/>
                  </a:lnTo>
                  <a:lnTo>
                    <a:pt x="32" y="568"/>
                  </a:lnTo>
                  <a:lnTo>
                    <a:pt x="18" y="530"/>
                  </a:lnTo>
                  <a:lnTo>
                    <a:pt x="8" y="492"/>
                  </a:lnTo>
                  <a:lnTo>
                    <a:pt x="2" y="450"/>
                  </a:lnTo>
                  <a:lnTo>
                    <a:pt x="0" y="408"/>
                  </a:lnTo>
                  <a:lnTo>
                    <a:pt x="0" y="408"/>
                  </a:lnTo>
                  <a:lnTo>
                    <a:pt x="2" y="368"/>
                  </a:lnTo>
                  <a:lnTo>
                    <a:pt x="8" y="326"/>
                  </a:lnTo>
                  <a:lnTo>
                    <a:pt x="18" y="288"/>
                  </a:lnTo>
                  <a:lnTo>
                    <a:pt x="32" y="250"/>
                  </a:lnTo>
                  <a:lnTo>
                    <a:pt x="48" y="214"/>
                  </a:lnTo>
                  <a:lnTo>
                    <a:pt x="70" y="180"/>
                  </a:lnTo>
                  <a:lnTo>
                    <a:pt x="92" y="148"/>
                  </a:lnTo>
                  <a:lnTo>
                    <a:pt x="120" y="120"/>
                  </a:lnTo>
                  <a:lnTo>
                    <a:pt x="148" y="94"/>
                  </a:lnTo>
                  <a:lnTo>
                    <a:pt x="180" y="70"/>
                  </a:lnTo>
                  <a:lnTo>
                    <a:pt x="214" y="50"/>
                  </a:lnTo>
                  <a:lnTo>
                    <a:pt x="250" y="32"/>
                  </a:lnTo>
                  <a:lnTo>
                    <a:pt x="286" y="18"/>
                  </a:lnTo>
                  <a:lnTo>
                    <a:pt x="326" y="8"/>
                  </a:lnTo>
                  <a:lnTo>
                    <a:pt x="366" y="2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50" y="2"/>
                  </a:lnTo>
                  <a:lnTo>
                    <a:pt x="490" y="8"/>
                  </a:lnTo>
                  <a:lnTo>
                    <a:pt x="530" y="18"/>
                  </a:lnTo>
                  <a:lnTo>
                    <a:pt x="568" y="32"/>
                  </a:lnTo>
                  <a:lnTo>
                    <a:pt x="604" y="50"/>
                  </a:lnTo>
                  <a:lnTo>
                    <a:pt x="636" y="70"/>
                  </a:lnTo>
                  <a:lnTo>
                    <a:pt x="668" y="94"/>
                  </a:lnTo>
                  <a:lnTo>
                    <a:pt x="698" y="120"/>
                  </a:lnTo>
                  <a:lnTo>
                    <a:pt x="724" y="148"/>
                  </a:lnTo>
                  <a:lnTo>
                    <a:pt x="748" y="180"/>
                  </a:lnTo>
                  <a:lnTo>
                    <a:pt x="768" y="214"/>
                  </a:lnTo>
                  <a:lnTo>
                    <a:pt x="784" y="250"/>
                  </a:lnTo>
                  <a:lnTo>
                    <a:pt x="798" y="288"/>
                  </a:lnTo>
                  <a:lnTo>
                    <a:pt x="808" y="326"/>
                  </a:lnTo>
                  <a:lnTo>
                    <a:pt x="814" y="368"/>
                  </a:lnTo>
                  <a:lnTo>
                    <a:pt x="818" y="408"/>
                  </a:lnTo>
                  <a:lnTo>
                    <a:pt x="818" y="408"/>
                  </a:lnTo>
                  <a:close/>
                </a:path>
              </a:pathLst>
            </a:custGeom>
            <a:solidFill>
              <a:srgbClr val="f7b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36"/>
            <p:cNvSpPr/>
            <p:nvPr/>
          </p:nvSpPr>
          <p:spPr>
            <a:xfrm>
              <a:off x="8324640" y="9947160"/>
              <a:ext cx="1263600" cy="12636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796" h="796">
                  <a:moveTo>
                    <a:pt x="796" y="398"/>
                  </a:moveTo>
                  <a:lnTo>
                    <a:pt x="796" y="398"/>
                  </a:lnTo>
                  <a:lnTo>
                    <a:pt x="794" y="438"/>
                  </a:lnTo>
                  <a:lnTo>
                    <a:pt x="788" y="478"/>
                  </a:lnTo>
                  <a:lnTo>
                    <a:pt x="778" y="516"/>
                  </a:lnTo>
                  <a:lnTo>
                    <a:pt x="764" y="552"/>
                  </a:lnTo>
                  <a:lnTo>
                    <a:pt x="748" y="588"/>
                  </a:lnTo>
                  <a:lnTo>
                    <a:pt x="728" y="620"/>
                  </a:lnTo>
                  <a:lnTo>
                    <a:pt x="706" y="650"/>
                  </a:lnTo>
                  <a:lnTo>
                    <a:pt x="680" y="678"/>
                  </a:lnTo>
                  <a:lnTo>
                    <a:pt x="652" y="704"/>
                  </a:lnTo>
                  <a:lnTo>
                    <a:pt x="620" y="728"/>
                  </a:lnTo>
                  <a:lnTo>
                    <a:pt x="588" y="748"/>
                  </a:lnTo>
                  <a:lnTo>
                    <a:pt x="552" y="764"/>
                  </a:lnTo>
                  <a:lnTo>
                    <a:pt x="516" y="778"/>
                  </a:lnTo>
                  <a:lnTo>
                    <a:pt x="478" y="788"/>
                  </a:lnTo>
                  <a:lnTo>
                    <a:pt x="438" y="794"/>
                  </a:lnTo>
                  <a:lnTo>
                    <a:pt x="398" y="796"/>
                  </a:lnTo>
                  <a:lnTo>
                    <a:pt x="398" y="796"/>
                  </a:lnTo>
                  <a:lnTo>
                    <a:pt x="358" y="794"/>
                  </a:lnTo>
                  <a:lnTo>
                    <a:pt x="318" y="788"/>
                  </a:lnTo>
                  <a:lnTo>
                    <a:pt x="280" y="778"/>
                  </a:lnTo>
                  <a:lnTo>
                    <a:pt x="242" y="764"/>
                  </a:lnTo>
                  <a:lnTo>
                    <a:pt x="208" y="748"/>
                  </a:lnTo>
                  <a:lnTo>
                    <a:pt x="176" y="728"/>
                  </a:lnTo>
                  <a:lnTo>
                    <a:pt x="144" y="704"/>
                  </a:lnTo>
                  <a:lnTo>
                    <a:pt x="116" y="678"/>
                  </a:lnTo>
                  <a:lnTo>
                    <a:pt x="90" y="650"/>
                  </a:lnTo>
                  <a:lnTo>
                    <a:pt x="68" y="620"/>
                  </a:lnTo>
                  <a:lnTo>
                    <a:pt x="48" y="588"/>
                  </a:lnTo>
                  <a:lnTo>
                    <a:pt x="30" y="552"/>
                  </a:lnTo>
                  <a:lnTo>
                    <a:pt x="18" y="516"/>
                  </a:lnTo>
                  <a:lnTo>
                    <a:pt x="8" y="478"/>
                  </a:lnTo>
                  <a:lnTo>
                    <a:pt x="2" y="43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2" y="356"/>
                  </a:lnTo>
                  <a:lnTo>
                    <a:pt x="8" y="316"/>
                  </a:lnTo>
                  <a:lnTo>
                    <a:pt x="18" y="278"/>
                  </a:lnTo>
                  <a:lnTo>
                    <a:pt x="30" y="242"/>
                  </a:lnTo>
                  <a:lnTo>
                    <a:pt x="48" y="208"/>
                  </a:lnTo>
                  <a:lnTo>
                    <a:pt x="68" y="174"/>
                  </a:lnTo>
                  <a:lnTo>
                    <a:pt x="90" y="144"/>
                  </a:lnTo>
                  <a:lnTo>
                    <a:pt x="116" y="116"/>
                  </a:lnTo>
                  <a:lnTo>
                    <a:pt x="144" y="90"/>
                  </a:lnTo>
                  <a:lnTo>
                    <a:pt x="176" y="68"/>
                  </a:lnTo>
                  <a:lnTo>
                    <a:pt x="208" y="48"/>
                  </a:lnTo>
                  <a:lnTo>
                    <a:pt x="242" y="30"/>
                  </a:lnTo>
                  <a:lnTo>
                    <a:pt x="280" y="16"/>
                  </a:lnTo>
                  <a:lnTo>
                    <a:pt x="318" y="8"/>
                  </a:lnTo>
                  <a:lnTo>
                    <a:pt x="358" y="2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438" y="2"/>
                  </a:lnTo>
                  <a:lnTo>
                    <a:pt x="478" y="8"/>
                  </a:lnTo>
                  <a:lnTo>
                    <a:pt x="516" y="16"/>
                  </a:lnTo>
                  <a:lnTo>
                    <a:pt x="552" y="30"/>
                  </a:lnTo>
                  <a:lnTo>
                    <a:pt x="588" y="48"/>
                  </a:lnTo>
                  <a:lnTo>
                    <a:pt x="620" y="68"/>
                  </a:lnTo>
                  <a:lnTo>
                    <a:pt x="652" y="90"/>
                  </a:lnTo>
                  <a:lnTo>
                    <a:pt x="680" y="116"/>
                  </a:lnTo>
                  <a:lnTo>
                    <a:pt x="706" y="144"/>
                  </a:lnTo>
                  <a:lnTo>
                    <a:pt x="728" y="174"/>
                  </a:lnTo>
                  <a:lnTo>
                    <a:pt x="748" y="208"/>
                  </a:lnTo>
                  <a:lnTo>
                    <a:pt x="764" y="242"/>
                  </a:lnTo>
                  <a:lnTo>
                    <a:pt x="778" y="278"/>
                  </a:lnTo>
                  <a:lnTo>
                    <a:pt x="788" y="316"/>
                  </a:lnTo>
                  <a:lnTo>
                    <a:pt x="794" y="356"/>
                  </a:lnTo>
                  <a:lnTo>
                    <a:pt x="796" y="398"/>
                  </a:lnTo>
                  <a:lnTo>
                    <a:pt x="796" y="398"/>
                  </a:lnTo>
                  <a:close/>
                </a:path>
              </a:pathLst>
            </a:custGeom>
            <a:solidFill>
              <a:srgbClr val="f7b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37"/>
            <p:cNvSpPr/>
            <p:nvPr/>
          </p:nvSpPr>
          <p:spPr>
            <a:xfrm>
              <a:off x="8331120" y="9956880"/>
              <a:ext cx="1228680" cy="123156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774" h="776">
                  <a:moveTo>
                    <a:pt x="774" y="388"/>
                  </a:moveTo>
                  <a:lnTo>
                    <a:pt x="774" y="388"/>
                  </a:lnTo>
                  <a:lnTo>
                    <a:pt x="772" y="428"/>
                  </a:lnTo>
                  <a:lnTo>
                    <a:pt x="768" y="466"/>
                  </a:lnTo>
                  <a:lnTo>
                    <a:pt x="758" y="502"/>
                  </a:lnTo>
                  <a:lnTo>
                    <a:pt x="744" y="538"/>
                  </a:lnTo>
                  <a:lnTo>
                    <a:pt x="728" y="572"/>
                  </a:lnTo>
                  <a:lnTo>
                    <a:pt x="708" y="604"/>
                  </a:lnTo>
                  <a:lnTo>
                    <a:pt x="686" y="634"/>
                  </a:lnTo>
                  <a:lnTo>
                    <a:pt x="662" y="662"/>
                  </a:lnTo>
                  <a:lnTo>
                    <a:pt x="634" y="686"/>
                  </a:lnTo>
                  <a:lnTo>
                    <a:pt x="604" y="708"/>
                  </a:lnTo>
                  <a:lnTo>
                    <a:pt x="572" y="728"/>
                  </a:lnTo>
                  <a:lnTo>
                    <a:pt x="538" y="744"/>
                  </a:lnTo>
                  <a:lnTo>
                    <a:pt x="502" y="758"/>
                  </a:lnTo>
                  <a:lnTo>
                    <a:pt x="466" y="768"/>
                  </a:lnTo>
                  <a:lnTo>
                    <a:pt x="428" y="774"/>
                  </a:lnTo>
                  <a:lnTo>
                    <a:pt x="388" y="776"/>
                  </a:lnTo>
                  <a:lnTo>
                    <a:pt x="388" y="776"/>
                  </a:lnTo>
                  <a:lnTo>
                    <a:pt x="348" y="774"/>
                  </a:lnTo>
                  <a:lnTo>
                    <a:pt x="310" y="768"/>
                  </a:lnTo>
                  <a:lnTo>
                    <a:pt x="272" y="758"/>
                  </a:lnTo>
                  <a:lnTo>
                    <a:pt x="236" y="744"/>
                  </a:lnTo>
                  <a:lnTo>
                    <a:pt x="202" y="728"/>
                  </a:lnTo>
                  <a:lnTo>
                    <a:pt x="170" y="708"/>
                  </a:lnTo>
                  <a:lnTo>
                    <a:pt x="140" y="686"/>
                  </a:lnTo>
                  <a:lnTo>
                    <a:pt x="114" y="662"/>
                  </a:lnTo>
                  <a:lnTo>
                    <a:pt x="88" y="634"/>
                  </a:lnTo>
                  <a:lnTo>
                    <a:pt x="66" y="604"/>
                  </a:lnTo>
                  <a:lnTo>
                    <a:pt x="46" y="572"/>
                  </a:lnTo>
                  <a:lnTo>
                    <a:pt x="30" y="538"/>
                  </a:lnTo>
                  <a:lnTo>
                    <a:pt x="18" y="502"/>
                  </a:lnTo>
                  <a:lnTo>
                    <a:pt x="8" y="466"/>
                  </a:lnTo>
                  <a:lnTo>
                    <a:pt x="2" y="428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2" y="348"/>
                  </a:lnTo>
                  <a:lnTo>
                    <a:pt x="8" y="310"/>
                  </a:lnTo>
                  <a:lnTo>
                    <a:pt x="18" y="272"/>
                  </a:lnTo>
                  <a:lnTo>
                    <a:pt x="30" y="236"/>
                  </a:lnTo>
                  <a:lnTo>
                    <a:pt x="46" y="202"/>
                  </a:lnTo>
                  <a:lnTo>
                    <a:pt x="66" y="170"/>
                  </a:lnTo>
                  <a:lnTo>
                    <a:pt x="88" y="142"/>
                  </a:lnTo>
                  <a:lnTo>
                    <a:pt x="114" y="114"/>
                  </a:lnTo>
                  <a:lnTo>
                    <a:pt x="140" y="88"/>
                  </a:lnTo>
                  <a:lnTo>
                    <a:pt x="170" y="66"/>
                  </a:lnTo>
                  <a:lnTo>
                    <a:pt x="202" y="46"/>
                  </a:lnTo>
                  <a:lnTo>
                    <a:pt x="236" y="30"/>
                  </a:lnTo>
                  <a:lnTo>
                    <a:pt x="272" y="18"/>
                  </a:lnTo>
                  <a:lnTo>
                    <a:pt x="310" y="8"/>
                  </a:lnTo>
                  <a:lnTo>
                    <a:pt x="348" y="2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428" y="2"/>
                  </a:lnTo>
                  <a:lnTo>
                    <a:pt x="466" y="8"/>
                  </a:lnTo>
                  <a:lnTo>
                    <a:pt x="502" y="18"/>
                  </a:lnTo>
                  <a:lnTo>
                    <a:pt x="538" y="30"/>
                  </a:lnTo>
                  <a:lnTo>
                    <a:pt x="572" y="46"/>
                  </a:lnTo>
                  <a:lnTo>
                    <a:pt x="604" y="66"/>
                  </a:lnTo>
                  <a:lnTo>
                    <a:pt x="634" y="88"/>
                  </a:lnTo>
                  <a:lnTo>
                    <a:pt x="662" y="114"/>
                  </a:lnTo>
                  <a:lnTo>
                    <a:pt x="686" y="142"/>
                  </a:lnTo>
                  <a:lnTo>
                    <a:pt x="708" y="170"/>
                  </a:lnTo>
                  <a:lnTo>
                    <a:pt x="728" y="202"/>
                  </a:lnTo>
                  <a:lnTo>
                    <a:pt x="744" y="236"/>
                  </a:lnTo>
                  <a:lnTo>
                    <a:pt x="758" y="272"/>
                  </a:lnTo>
                  <a:lnTo>
                    <a:pt x="768" y="310"/>
                  </a:lnTo>
                  <a:lnTo>
                    <a:pt x="772" y="348"/>
                  </a:lnTo>
                  <a:lnTo>
                    <a:pt x="774" y="388"/>
                  </a:lnTo>
                  <a:lnTo>
                    <a:pt x="774" y="388"/>
                  </a:lnTo>
                  <a:close/>
                </a:path>
              </a:pathLst>
            </a:custGeom>
            <a:solidFill>
              <a:srgbClr val="f8b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38"/>
            <p:cNvSpPr/>
            <p:nvPr/>
          </p:nvSpPr>
          <p:spPr>
            <a:xfrm>
              <a:off x="8337240" y="9969480"/>
              <a:ext cx="1197000" cy="1193760"/>
            </a:xfrm>
            <a:custGeom>
              <a:avLst/>
              <a:gdLst>
                <a:gd name="textAreaLeft" fmla="*/ 0 w 1197000"/>
                <a:gd name="textAreaRight" fmla="*/ 1197360 w 1197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754" h="752">
                  <a:moveTo>
                    <a:pt x="754" y="376"/>
                  </a:moveTo>
                  <a:lnTo>
                    <a:pt x="754" y="376"/>
                  </a:lnTo>
                  <a:lnTo>
                    <a:pt x="752" y="414"/>
                  </a:lnTo>
                  <a:lnTo>
                    <a:pt x="746" y="452"/>
                  </a:lnTo>
                  <a:lnTo>
                    <a:pt x="736" y="488"/>
                  </a:lnTo>
                  <a:lnTo>
                    <a:pt x="724" y="522"/>
                  </a:lnTo>
                  <a:lnTo>
                    <a:pt x="708" y="556"/>
                  </a:lnTo>
                  <a:lnTo>
                    <a:pt x="690" y="586"/>
                  </a:lnTo>
                  <a:lnTo>
                    <a:pt x="668" y="616"/>
                  </a:lnTo>
                  <a:lnTo>
                    <a:pt x="644" y="642"/>
                  </a:lnTo>
                  <a:lnTo>
                    <a:pt x="616" y="666"/>
                  </a:lnTo>
                  <a:lnTo>
                    <a:pt x="588" y="688"/>
                  </a:lnTo>
                  <a:lnTo>
                    <a:pt x="556" y="708"/>
                  </a:lnTo>
                  <a:lnTo>
                    <a:pt x="524" y="724"/>
                  </a:lnTo>
                  <a:lnTo>
                    <a:pt x="490" y="736"/>
                  </a:lnTo>
                  <a:lnTo>
                    <a:pt x="452" y="746"/>
                  </a:lnTo>
                  <a:lnTo>
                    <a:pt x="416" y="752"/>
                  </a:lnTo>
                  <a:lnTo>
                    <a:pt x="378" y="752"/>
                  </a:lnTo>
                  <a:lnTo>
                    <a:pt x="378" y="752"/>
                  </a:lnTo>
                  <a:lnTo>
                    <a:pt x="338" y="752"/>
                  </a:lnTo>
                  <a:lnTo>
                    <a:pt x="302" y="746"/>
                  </a:lnTo>
                  <a:lnTo>
                    <a:pt x="264" y="736"/>
                  </a:lnTo>
                  <a:lnTo>
                    <a:pt x="230" y="724"/>
                  </a:lnTo>
                  <a:lnTo>
                    <a:pt x="198" y="708"/>
                  </a:lnTo>
                  <a:lnTo>
                    <a:pt x="166" y="688"/>
                  </a:lnTo>
                  <a:lnTo>
                    <a:pt x="138" y="666"/>
                  </a:lnTo>
                  <a:lnTo>
                    <a:pt x="110" y="642"/>
                  </a:lnTo>
                  <a:lnTo>
                    <a:pt x="86" y="616"/>
                  </a:lnTo>
                  <a:lnTo>
                    <a:pt x="64" y="586"/>
                  </a:lnTo>
                  <a:lnTo>
                    <a:pt x="46" y="556"/>
                  </a:lnTo>
                  <a:lnTo>
                    <a:pt x="30" y="522"/>
                  </a:lnTo>
                  <a:lnTo>
                    <a:pt x="18" y="488"/>
                  </a:lnTo>
                  <a:lnTo>
                    <a:pt x="8" y="452"/>
                  </a:lnTo>
                  <a:lnTo>
                    <a:pt x="2" y="414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2" y="338"/>
                  </a:lnTo>
                  <a:lnTo>
                    <a:pt x="8" y="300"/>
                  </a:lnTo>
                  <a:lnTo>
                    <a:pt x="18" y="264"/>
                  </a:lnTo>
                  <a:lnTo>
                    <a:pt x="30" y="230"/>
                  </a:lnTo>
                  <a:lnTo>
                    <a:pt x="46" y="196"/>
                  </a:lnTo>
                  <a:lnTo>
                    <a:pt x="64" y="166"/>
                  </a:lnTo>
                  <a:lnTo>
                    <a:pt x="86" y="136"/>
                  </a:lnTo>
                  <a:lnTo>
                    <a:pt x="110" y="110"/>
                  </a:lnTo>
                  <a:lnTo>
                    <a:pt x="138" y="86"/>
                  </a:lnTo>
                  <a:lnTo>
                    <a:pt x="166" y="64"/>
                  </a:lnTo>
                  <a:lnTo>
                    <a:pt x="198" y="44"/>
                  </a:lnTo>
                  <a:lnTo>
                    <a:pt x="230" y="28"/>
                  </a:lnTo>
                  <a:lnTo>
                    <a:pt x="264" y="16"/>
                  </a:lnTo>
                  <a:lnTo>
                    <a:pt x="302" y="6"/>
                  </a:lnTo>
                  <a:lnTo>
                    <a:pt x="338" y="2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16" y="2"/>
                  </a:lnTo>
                  <a:lnTo>
                    <a:pt x="452" y="6"/>
                  </a:lnTo>
                  <a:lnTo>
                    <a:pt x="490" y="16"/>
                  </a:lnTo>
                  <a:lnTo>
                    <a:pt x="524" y="28"/>
                  </a:lnTo>
                  <a:lnTo>
                    <a:pt x="556" y="44"/>
                  </a:lnTo>
                  <a:lnTo>
                    <a:pt x="588" y="64"/>
                  </a:lnTo>
                  <a:lnTo>
                    <a:pt x="616" y="86"/>
                  </a:lnTo>
                  <a:lnTo>
                    <a:pt x="644" y="110"/>
                  </a:lnTo>
                  <a:lnTo>
                    <a:pt x="668" y="136"/>
                  </a:lnTo>
                  <a:lnTo>
                    <a:pt x="690" y="166"/>
                  </a:lnTo>
                  <a:lnTo>
                    <a:pt x="708" y="196"/>
                  </a:lnTo>
                  <a:lnTo>
                    <a:pt x="724" y="230"/>
                  </a:lnTo>
                  <a:lnTo>
                    <a:pt x="736" y="264"/>
                  </a:lnTo>
                  <a:lnTo>
                    <a:pt x="746" y="300"/>
                  </a:lnTo>
                  <a:lnTo>
                    <a:pt x="752" y="338"/>
                  </a:lnTo>
                  <a:lnTo>
                    <a:pt x="754" y="376"/>
                  </a:lnTo>
                  <a:lnTo>
                    <a:pt x="754" y="376"/>
                  </a:lnTo>
                  <a:close/>
                </a:path>
              </a:pathLst>
            </a:custGeom>
            <a:solidFill>
              <a:srgbClr val="f8b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39"/>
            <p:cNvSpPr/>
            <p:nvPr/>
          </p:nvSpPr>
          <p:spPr>
            <a:xfrm>
              <a:off x="8343720" y="9978840"/>
              <a:ext cx="1162080" cy="116172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1161720"/>
                <a:gd name="textAreaBottom" fmla="*/ 1162080 h 1161720"/>
              </a:gdLst>
              <a:ahLst/>
              <a:rect l="textAreaLeft" t="textAreaTop" r="textAreaRight" b="textAreaBottom"/>
              <a:pathLst>
                <a:path w="732" h="732">
                  <a:moveTo>
                    <a:pt x="732" y="366"/>
                  </a:moveTo>
                  <a:lnTo>
                    <a:pt x="732" y="366"/>
                  </a:lnTo>
                  <a:lnTo>
                    <a:pt x="730" y="404"/>
                  </a:lnTo>
                  <a:lnTo>
                    <a:pt x="726" y="440"/>
                  </a:lnTo>
                  <a:lnTo>
                    <a:pt x="716" y="476"/>
                  </a:lnTo>
                  <a:lnTo>
                    <a:pt x="704" y="510"/>
                  </a:lnTo>
                  <a:lnTo>
                    <a:pt x="688" y="542"/>
                  </a:lnTo>
                  <a:lnTo>
                    <a:pt x="670" y="572"/>
                  </a:lnTo>
                  <a:lnTo>
                    <a:pt x="650" y="600"/>
                  </a:lnTo>
                  <a:lnTo>
                    <a:pt x="626" y="626"/>
                  </a:lnTo>
                  <a:lnTo>
                    <a:pt x="600" y="650"/>
                  </a:lnTo>
                  <a:lnTo>
                    <a:pt x="572" y="670"/>
                  </a:lnTo>
                  <a:lnTo>
                    <a:pt x="542" y="688"/>
                  </a:lnTo>
                  <a:lnTo>
                    <a:pt x="510" y="704"/>
                  </a:lnTo>
                  <a:lnTo>
                    <a:pt x="476" y="716"/>
                  </a:lnTo>
                  <a:lnTo>
                    <a:pt x="440" y="726"/>
                  </a:lnTo>
                  <a:lnTo>
                    <a:pt x="404" y="730"/>
                  </a:lnTo>
                  <a:lnTo>
                    <a:pt x="366" y="732"/>
                  </a:lnTo>
                  <a:lnTo>
                    <a:pt x="366" y="732"/>
                  </a:lnTo>
                  <a:lnTo>
                    <a:pt x="330" y="730"/>
                  </a:lnTo>
                  <a:lnTo>
                    <a:pt x="292" y="726"/>
                  </a:lnTo>
                  <a:lnTo>
                    <a:pt x="258" y="716"/>
                  </a:lnTo>
                  <a:lnTo>
                    <a:pt x="224" y="704"/>
                  </a:lnTo>
                  <a:lnTo>
                    <a:pt x="192" y="688"/>
                  </a:lnTo>
                  <a:lnTo>
                    <a:pt x="162" y="670"/>
                  </a:lnTo>
                  <a:lnTo>
                    <a:pt x="134" y="650"/>
                  </a:lnTo>
                  <a:lnTo>
                    <a:pt x="108" y="626"/>
                  </a:lnTo>
                  <a:lnTo>
                    <a:pt x="84" y="600"/>
                  </a:lnTo>
                  <a:lnTo>
                    <a:pt x="62" y="572"/>
                  </a:lnTo>
                  <a:lnTo>
                    <a:pt x="44" y="542"/>
                  </a:lnTo>
                  <a:lnTo>
                    <a:pt x="30" y="510"/>
                  </a:lnTo>
                  <a:lnTo>
                    <a:pt x="16" y="476"/>
                  </a:lnTo>
                  <a:lnTo>
                    <a:pt x="8" y="440"/>
                  </a:lnTo>
                  <a:lnTo>
                    <a:pt x="2" y="404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2" y="330"/>
                  </a:lnTo>
                  <a:lnTo>
                    <a:pt x="8" y="292"/>
                  </a:lnTo>
                  <a:lnTo>
                    <a:pt x="16" y="258"/>
                  </a:lnTo>
                  <a:lnTo>
                    <a:pt x="30" y="224"/>
                  </a:lnTo>
                  <a:lnTo>
                    <a:pt x="44" y="192"/>
                  </a:lnTo>
                  <a:lnTo>
                    <a:pt x="62" y="162"/>
                  </a:lnTo>
                  <a:lnTo>
                    <a:pt x="84" y="134"/>
                  </a:lnTo>
                  <a:lnTo>
                    <a:pt x="108" y="108"/>
                  </a:lnTo>
                  <a:lnTo>
                    <a:pt x="134" y="84"/>
                  </a:lnTo>
                  <a:lnTo>
                    <a:pt x="162" y="62"/>
                  </a:lnTo>
                  <a:lnTo>
                    <a:pt x="192" y="44"/>
                  </a:lnTo>
                  <a:lnTo>
                    <a:pt x="224" y="28"/>
                  </a:lnTo>
                  <a:lnTo>
                    <a:pt x="258" y="16"/>
                  </a:lnTo>
                  <a:lnTo>
                    <a:pt x="292" y="8"/>
                  </a:lnTo>
                  <a:lnTo>
                    <a:pt x="330" y="2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404" y="2"/>
                  </a:lnTo>
                  <a:lnTo>
                    <a:pt x="440" y="8"/>
                  </a:lnTo>
                  <a:lnTo>
                    <a:pt x="476" y="16"/>
                  </a:lnTo>
                  <a:lnTo>
                    <a:pt x="510" y="28"/>
                  </a:lnTo>
                  <a:lnTo>
                    <a:pt x="542" y="44"/>
                  </a:lnTo>
                  <a:lnTo>
                    <a:pt x="572" y="62"/>
                  </a:lnTo>
                  <a:lnTo>
                    <a:pt x="600" y="84"/>
                  </a:lnTo>
                  <a:lnTo>
                    <a:pt x="626" y="108"/>
                  </a:lnTo>
                  <a:lnTo>
                    <a:pt x="650" y="134"/>
                  </a:lnTo>
                  <a:lnTo>
                    <a:pt x="670" y="162"/>
                  </a:lnTo>
                  <a:lnTo>
                    <a:pt x="688" y="192"/>
                  </a:lnTo>
                  <a:lnTo>
                    <a:pt x="704" y="224"/>
                  </a:lnTo>
                  <a:lnTo>
                    <a:pt x="716" y="258"/>
                  </a:lnTo>
                  <a:lnTo>
                    <a:pt x="726" y="292"/>
                  </a:lnTo>
                  <a:lnTo>
                    <a:pt x="730" y="330"/>
                  </a:lnTo>
                  <a:lnTo>
                    <a:pt x="732" y="366"/>
                  </a:lnTo>
                  <a:lnTo>
                    <a:pt x="732" y="366"/>
                  </a:lnTo>
                  <a:close/>
                </a:path>
              </a:pathLst>
            </a:custGeom>
            <a:solidFill>
              <a:srgbClr val="f8b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40"/>
            <p:cNvSpPr/>
            <p:nvPr/>
          </p:nvSpPr>
          <p:spPr>
            <a:xfrm>
              <a:off x="8350200" y="9991800"/>
              <a:ext cx="1130400" cy="11268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126800"/>
                <a:gd name="textAreaBottom" fmla="*/ 1127160 h 1126800"/>
              </a:gdLst>
              <a:ahLst/>
              <a:rect l="textAreaLeft" t="textAreaTop" r="textAreaRight" b="textAreaBottom"/>
              <a:pathLst>
                <a:path w="712" h="710">
                  <a:moveTo>
                    <a:pt x="712" y="354"/>
                  </a:moveTo>
                  <a:lnTo>
                    <a:pt x="712" y="354"/>
                  </a:lnTo>
                  <a:lnTo>
                    <a:pt x="710" y="392"/>
                  </a:lnTo>
                  <a:lnTo>
                    <a:pt x="704" y="426"/>
                  </a:lnTo>
                  <a:lnTo>
                    <a:pt x="696" y="460"/>
                  </a:lnTo>
                  <a:lnTo>
                    <a:pt x="684" y="494"/>
                  </a:lnTo>
                  <a:lnTo>
                    <a:pt x="668" y="524"/>
                  </a:lnTo>
                  <a:lnTo>
                    <a:pt x="652" y="554"/>
                  </a:lnTo>
                  <a:lnTo>
                    <a:pt x="630" y="582"/>
                  </a:lnTo>
                  <a:lnTo>
                    <a:pt x="608" y="606"/>
                  </a:lnTo>
                  <a:lnTo>
                    <a:pt x="582" y="630"/>
                  </a:lnTo>
                  <a:lnTo>
                    <a:pt x="556" y="650"/>
                  </a:lnTo>
                  <a:lnTo>
                    <a:pt x="526" y="668"/>
                  </a:lnTo>
                  <a:lnTo>
                    <a:pt x="494" y="682"/>
                  </a:lnTo>
                  <a:lnTo>
                    <a:pt x="462" y="694"/>
                  </a:lnTo>
                  <a:lnTo>
                    <a:pt x="428" y="704"/>
                  </a:lnTo>
                  <a:lnTo>
                    <a:pt x="392" y="708"/>
                  </a:lnTo>
                  <a:lnTo>
                    <a:pt x="356" y="710"/>
                  </a:lnTo>
                  <a:lnTo>
                    <a:pt x="356" y="710"/>
                  </a:lnTo>
                  <a:lnTo>
                    <a:pt x="320" y="708"/>
                  </a:lnTo>
                  <a:lnTo>
                    <a:pt x="284" y="704"/>
                  </a:lnTo>
                  <a:lnTo>
                    <a:pt x="250" y="694"/>
                  </a:lnTo>
                  <a:lnTo>
                    <a:pt x="218" y="682"/>
                  </a:lnTo>
                  <a:lnTo>
                    <a:pt x="186" y="668"/>
                  </a:lnTo>
                  <a:lnTo>
                    <a:pt x="158" y="650"/>
                  </a:lnTo>
                  <a:lnTo>
                    <a:pt x="130" y="630"/>
                  </a:lnTo>
                  <a:lnTo>
                    <a:pt x="104" y="606"/>
                  </a:lnTo>
                  <a:lnTo>
                    <a:pt x="82" y="582"/>
                  </a:lnTo>
                  <a:lnTo>
                    <a:pt x="62" y="554"/>
                  </a:lnTo>
                  <a:lnTo>
                    <a:pt x="44" y="524"/>
                  </a:lnTo>
                  <a:lnTo>
                    <a:pt x="28" y="494"/>
                  </a:lnTo>
                  <a:lnTo>
                    <a:pt x="16" y="460"/>
                  </a:lnTo>
                  <a:lnTo>
                    <a:pt x="8" y="426"/>
                  </a:lnTo>
                  <a:lnTo>
                    <a:pt x="2" y="392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" y="318"/>
                  </a:lnTo>
                  <a:lnTo>
                    <a:pt x="8" y="284"/>
                  </a:lnTo>
                  <a:lnTo>
                    <a:pt x="16" y="250"/>
                  </a:lnTo>
                  <a:lnTo>
                    <a:pt x="28" y="216"/>
                  </a:lnTo>
                  <a:lnTo>
                    <a:pt x="44" y="186"/>
                  </a:lnTo>
                  <a:lnTo>
                    <a:pt x="62" y="156"/>
                  </a:lnTo>
                  <a:lnTo>
                    <a:pt x="82" y="128"/>
                  </a:lnTo>
                  <a:lnTo>
                    <a:pt x="104" y="104"/>
                  </a:lnTo>
                  <a:lnTo>
                    <a:pt x="130" y="80"/>
                  </a:lnTo>
                  <a:lnTo>
                    <a:pt x="158" y="60"/>
                  </a:lnTo>
                  <a:lnTo>
                    <a:pt x="186" y="42"/>
                  </a:lnTo>
                  <a:lnTo>
                    <a:pt x="218" y="28"/>
                  </a:lnTo>
                  <a:lnTo>
                    <a:pt x="250" y="16"/>
                  </a:lnTo>
                  <a:lnTo>
                    <a:pt x="284" y="6"/>
                  </a:lnTo>
                  <a:lnTo>
                    <a:pt x="320" y="2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392" y="2"/>
                  </a:lnTo>
                  <a:lnTo>
                    <a:pt x="428" y="6"/>
                  </a:lnTo>
                  <a:lnTo>
                    <a:pt x="462" y="16"/>
                  </a:lnTo>
                  <a:lnTo>
                    <a:pt x="494" y="28"/>
                  </a:lnTo>
                  <a:lnTo>
                    <a:pt x="526" y="42"/>
                  </a:lnTo>
                  <a:lnTo>
                    <a:pt x="556" y="60"/>
                  </a:lnTo>
                  <a:lnTo>
                    <a:pt x="582" y="80"/>
                  </a:lnTo>
                  <a:lnTo>
                    <a:pt x="608" y="104"/>
                  </a:lnTo>
                  <a:lnTo>
                    <a:pt x="630" y="128"/>
                  </a:lnTo>
                  <a:lnTo>
                    <a:pt x="652" y="156"/>
                  </a:lnTo>
                  <a:lnTo>
                    <a:pt x="668" y="186"/>
                  </a:lnTo>
                  <a:lnTo>
                    <a:pt x="684" y="216"/>
                  </a:lnTo>
                  <a:lnTo>
                    <a:pt x="696" y="250"/>
                  </a:lnTo>
                  <a:lnTo>
                    <a:pt x="704" y="284"/>
                  </a:lnTo>
                  <a:lnTo>
                    <a:pt x="710" y="318"/>
                  </a:lnTo>
                  <a:lnTo>
                    <a:pt x="712" y="354"/>
                  </a:lnTo>
                  <a:lnTo>
                    <a:pt x="712" y="354"/>
                  </a:lnTo>
                  <a:close/>
                </a:path>
              </a:pathLst>
            </a:custGeom>
            <a:solidFill>
              <a:srgbClr val="f8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41"/>
            <p:cNvSpPr/>
            <p:nvPr/>
          </p:nvSpPr>
          <p:spPr>
            <a:xfrm>
              <a:off x="8356320" y="10001160"/>
              <a:ext cx="1095480" cy="1095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690" h="690">
                  <a:moveTo>
                    <a:pt x="690" y="346"/>
                  </a:moveTo>
                  <a:lnTo>
                    <a:pt x="690" y="346"/>
                  </a:lnTo>
                  <a:lnTo>
                    <a:pt x="688" y="380"/>
                  </a:lnTo>
                  <a:lnTo>
                    <a:pt x="684" y="414"/>
                  </a:lnTo>
                  <a:lnTo>
                    <a:pt x="676" y="448"/>
                  </a:lnTo>
                  <a:lnTo>
                    <a:pt x="664" y="480"/>
                  </a:lnTo>
                  <a:lnTo>
                    <a:pt x="650" y="510"/>
                  </a:lnTo>
                  <a:lnTo>
                    <a:pt x="632" y="538"/>
                  </a:lnTo>
                  <a:lnTo>
                    <a:pt x="612" y="564"/>
                  </a:lnTo>
                  <a:lnTo>
                    <a:pt x="590" y="590"/>
                  </a:lnTo>
                  <a:lnTo>
                    <a:pt x="566" y="612"/>
                  </a:lnTo>
                  <a:lnTo>
                    <a:pt x="538" y="632"/>
                  </a:lnTo>
                  <a:lnTo>
                    <a:pt x="510" y="648"/>
                  </a:lnTo>
                  <a:lnTo>
                    <a:pt x="480" y="664"/>
                  </a:lnTo>
                  <a:lnTo>
                    <a:pt x="448" y="674"/>
                  </a:lnTo>
                  <a:lnTo>
                    <a:pt x="416" y="684"/>
                  </a:lnTo>
                  <a:lnTo>
                    <a:pt x="382" y="688"/>
                  </a:lnTo>
                  <a:lnTo>
                    <a:pt x="346" y="690"/>
                  </a:lnTo>
                  <a:lnTo>
                    <a:pt x="346" y="690"/>
                  </a:lnTo>
                  <a:lnTo>
                    <a:pt x="310" y="688"/>
                  </a:lnTo>
                  <a:lnTo>
                    <a:pt x="276" y="684"/>
                  </a:lnTo>
                  <a:lnTo>
                    <a:pt x="244" y="674"/>
                  </a:lnTo>
                  <a:lnTo>
                    <a:pt x="212" y="664"/>
                  </a:lnTo>
                  <a:lnTo>
                    <a:pt x="182" y="648"/>
                  </a:lnTo>
                  <a:lnTo>
                    <a:pt x="152" y="632"/>
                  </a:lnTo>
                  <a:lnTo>
                    <a:pt x="126" y="612"/>
                  </a:lnTo>
                  <a:lnTo>
                    <a:pt x="102" y="590"/>
                  </a:lnTo>
                  <a:lnTo>
                    <a:pt x="80" y="564"/>
                  </a:lnTo>
                  <a:lnTo>
                    <a:pt x="60" y="538"/>
                  </a:lnTo>
                  <a:lnTo>
                    <a:pt x="42" y="510"/>
                  </a:lnTo>
                  <a:lnTo>
                    <a:pt x="28" y="480"/>
                  </a:lnTo>
                  <a:lnTo>
                    <a:pt x="16" y="448"/>
                  </a:lnTo>
                  <a:lnTo>
                    <a:pt x="8" y="414"/>
                  </a:lnTo>
                  <a:lnTo>
                    <a:pt x="2" y="380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2" y="310"/>
                  </a:lnTo>
                  <a:lnTo>
                    <a:pt x="8" y="276"/>
                  </a:lnTo>
                  <a:lnTo>
                    <a:pt x="16" y="242"/>
                  </a:lnTo>
                  <a:lnTo>
                    <a:pt x="28" y="212"/>
                  </a:lnTo>
                  <a:lnTo>
                    <a:pt x="42" y="180"/>
                  </a:lnTo>
                  <a:lnTo>
                    <a:pt x="60" y="152"/>
                  </a:lnTo>
                  <a:lnTo>
                    <a:pt x="80" y="126"/>
                  </a:lnTo>
                  <a:lnTo>
                    <a:pt x="102" y="102"/>
                  </a:lnTo>
                  <a:lnTo>
                    <a:pt x="126" y="80"/>
                  </a:lnTo>
                  <a:lnTo>
                    <a:pt x="152" y="60"/>
                  </a:lnTo>
                  <a:lnTo>
                    <a:pt x="182" y="42"/>
                  </a:lnTo>
                  <a:lnTo>
                    <a:pt x="212" y="28"/>
                  </a:lnTo>
                  <a:lnTo>
                    <a:pt x="244" y="16"/>
                  </a:lnTo>
                  <a:lnTo>
                    <a:pt x="276" y="8"/>
                  </a:lnTo>
                  <a:lnTo>
                    <a:pt x="310" y="2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82" y="2"/>
                  </a:lnTo>
                  <a:lnTo>
                    <a:pt x="416" y="8"/>
                  </a:lnTo>
                  <a:lnTo>
                    <a:pt x="448" y="16"/>
                  </a:lnTo>
                  <a:lnTo>
                    <a:pt x="480" y="28"/>
                  </a:lnTo>
                  <a:lnTo>
                    <a:pt x="510" y="42"/>
                  </a:lnTo>
                  <a:lnTo>
                    <a:pt x="538" y="60"/>
                  </a:lnTo>
                  <a:lnTo>
                    <a:pt x="566" y="80"/>
                  </a:lnTo>
                  <a:lnTo>
                    <a:pt x="590" y="102"/>
                  </a:lnTo>
                  <a:lnTo>
                    <a:pt x="612" y="126"/>
                  </a:lnTo>
                  <a:lnTo>
                    <a:pt x="632" y="152"/>
                  </a:lnTo>
                  <a:lnTo>
                    <a:pt x="650" y="180"/>
                  </a:lnTo>
                  <a:lnTo>
                    <a:pt x="664" y="212"/>
                  </a:lnTo>
                  <a:lnTo>
                    <a:pt x="676" y="242"/>
                  </a:lnTo>
                  <a:lnTo>
                    <a:pt x="684" y="276"/>
                  </a:lnTo>
                  <a:lnTo>
                    <a:pt x="688" y="310"/>
                  </a:lnTo>
                  <a:lnTo>
                    <a:pt x="690" y="346"/>
                  </a:lnTo>
                  <a:lnTo>
                    <a:pt x="690" y="346"/>
                  </a:lnTo>
                  <a:close/>
                </a:path>
              </a:pathLst>
            </a:custGeom>
            <a:solidFill>
              <a:srgbClr val="f9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42"/>
            <p:cNvSpPr/>
            <p:nvPr/>
          </p:nvSpPr>
          <p:spPr>
            <a:xfrm>
              <a:off x="8366040" y="10013760"/>
              <a:ext cx="1060560" cy="106020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668" h="668">
                  <a:moveTo>
                    <a:pt x="668" y="334"/>
                  </a:moveTo>
                  <a:lnTo>
                    <a:pt x="668" y="334"/>
                  </a:lnTo>
                  <a:lnTo>
                    <a:pt x="666" y="368"/>
                  </a:lnTo>
                  <a:lnTo>
                    <a:pt x="660" y="402"/>
                  </a:lnTo>
                  <a:lnTo>
                    <a:pt x="652" y="434"/>
                  </a:lnTo>
                  <a:lnTo>
                    <a:pt x="642" y="464"/>
                  </a:lnTo>
                  <a:lnTo>
                    <a:pt x="628" y="494"/>
                  </a:lnTo>
                  <a:lnTo>
                    <a:pt x="610" y="520"/>
                  </a:lnTo>
                  <a:lnTo>
                    <a:pt x="592" y="546"/>
                  </a:lnTo>
                  <a:lnTo>
                    <a:pt x="570" y="570"/>
                  </a:lnTo>
                  <a:lnTo>
                    <a:pt x="546" y="592"/>
                  </a:lnTo>
                  <a:lnTo>
                    <a:pt x="520" y="610"/>
                  </a:lnTo>
                  <a:lnTo>
                    <a:pt x="492" y="628"/>
                  </a:lnTo>
                  <a:lnTo>
                    <a:pt x="464" y="642"/>
                  </a:lnTo>
                  <a:lnTo>
                    <a:pt x="432" y="654"/>
                  </a:lnTo>
                  <a:lnTo>
                    <a:pt x="400" y="662"/>
                  </a:lnTo>
                  <a:lnTo>
                    <a:pt x="368" y="666"/>
                  </a:lnTo>
                  <a:lnTo>
                    <a:pt x="334" y="668"/>
                  </a:lnTo>
                  <a:lnTo>
                    <a:pt x="334" y="668"/>
                  </a:lnTo>
                  <a:lnTo>
                    <a:pt x="300" y="666"/>
                  </a:lnTo>
                  <a:lnTo>
                    <a:pt x="266" y="662"/>
                  </a:lnTo>
                  <a:lnTo>
                    <a:pt x="234" y="654"/>
                  </a:lnTo>
                  <a:lnTo>
                    <a:pt x="204" y="642"/>
                  </a:lnTo>
                  <a:lnTo>
                    <a:pt x="174" y="628"/>
                  </a:lnTo>
                  <a:lnTo>
                    <a:pt x="146" y="610"/>
                  </a:lnTo>
                  <a:lnTo>
                    <a:pt x="120" y="592"/>
                  </a:lnTo>
                  <a:lnTo>
                    <a:pt x="96" y="570"/>
                  </a:lnTo>
                  <a:lnTo>
                    <a:pt x="76" y="546"/>
                  </a:lnTo>
                  <a:lnTo>
                    <a:pt x="56" y="520"/>
                  </a:lnTo>
                  <a:lnTo>
                    <a:pt x="40" y="494"/>
                  </a:lnTo>
                  <a:lnTo>
                    <a:pt x="26" y="464"/>
                  </a:lnTo>
                  <a:lnTo>
                    <a:pt x="14" y="434"/>
                  </a:lnTo>
                  <a:lnTo>
                    <a:pt x="6" y="402"/>
                  </a:lnTo>
                  <a:lnTo>
                    <a:pt x="0" y="368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00"/>
                  </a:lnTo>
                  <a:lnTo>
                    <a:pt x="6" y="266"/>
                  </a:lnTo>
                  <a:lnTo>
                    <a:pt x="14" y="234"/>
                  </a:lnTo>
                  <a:lnTo>
                    <a:pt x="26" y="204"/>
                  </a:lnTo>
                  <a:lnTo>
                    <a:pt x="40" y="174"/>
                  </a:lnTo>
                  <a:lnTo>
                    <a:pt x="56" y="146"/>
                  </a:lnTo>
                  <a:lnTo>
                    <a:pt x="76" y="122"/>
                  </a:lnTo>
                  <a:lnTo>
                    <a:pt x="96" y="98"/>
                  </a:lnTo>
                  <a:lnTo>
                    <a:pt x="120" y="76"/>
                  </a:lnTo>
                  <a:lnTo>
                    <a:pt x="146" y="56"/>
                  </a:lnTo>
                  <a:lnTo>
                    <a:pt x="174" y="40"/>
                  </a:lnTo>
                  <a:lnTo>
                    <a:pt x="204" y="26"/>
                  </a:lnTo>
                  <a:lnTo>
                    <a:pt x="234" y="14"/>
                  </a:lnTo>
                  <a:lnTo>
                    <a:pt x="266" y="6"/>
                  </a:lnTo>
                  <a:lnTo>
                    <a:pt x="300" y="2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68" y="2"/>
                  </a:lnTo>
                  <a:lnTo>
                    <a:pt x="400" y="6"/>
                  </a:lnTo>
                  <a:lnTo>
                    <a:pt x="432" y="14"/>
                  </a:lnTo>
                  <a:lnTo>
                    <a:pt x="464" y="26"/>
                  </a:lnTo>
                  <a:lnTo>
                    <a:pt x="492" y="40"/>
                  </a:lnTo>
                  <a:lnTo>
                    <a:pt x="520" y="56"/>
                  </a:lnTo>
                  <a:lnTo>
                    <a:pt x="546" y="76"/>
                  </a:lnTo>
                  <a:lnTo>
                    <a:pt x="570" y="98"/>
                  </a:lnTo>
                  <a:lnTo>
                    <a:pt x="592" y="122"/>
                  </a:lnTo>
                  <a:lnTo>
                    <a:pt x="610" y="146"/>
                  </a:lnTo>
                  <a:lnTo>
                    <a:pt x="628" y="174"/>
                  </a:lnTo>
                  <a:lnTo>
                    <a:pt x="642" y="204"/>
                  </a:lnTo>
                  <a:lnTo>
                    <a:pt x="652" y="234"/>
                  </a:lnTo>
                  <a:lnTo>
                    <a:pt x="660" y="266"/>
                  </a:lnTo>
                  <a:lnTo>
                    <a:pt x="666" y="300"/>
                  </a:lnTo>
                  <a:lnTo>
                    <a:pt x="668" y="334"/>
                  </a:lnTo>
                  <a:lnTo>
                    <a:pt x="668" y="334"/>
                  </a:lnTo>
                  <a:close/>
                </a:path>
              </a:pathLst>
            </a:custGeom>
            <a:solidFill>
              <a:srgbClr val="f9c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43"/>
            <p:cNvSpPr/>
            <p:nvPr/>
          </p:nvSpPr>
          <p:spPr>
            <a:xfrm>
              <a:off x="8372160" y="10023480"/>
              <a:ext cx="1025640" cy="10285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646" h="648">
                  <a:moveTo>
                    <a:pt x="646" y="324"/>
                  </a:moveTo>
                  <a:lnTo>
                    <a:pt x="646" y="324"/>
                  </a:lnTo>
                  <a:lnTo>
                    <a:pt x="644" y="358"/>
                  </a:lnTo>
                  <a:lnTo>
                    <a:pt x="640" y="390"/>
                  </a:lnTo>
                  <a:lnTo>
                    <a:pt x="632" y="420"/>
                  </a:lnTo>
                  <a:lnTo>
                    <a:pt x="622" y="450"/>
                  </a:lnTo>
                  <a:lnTo>
                    <a:pt x="608" y="478"/>
                  </a:lnTo>
                  <a:lnTo>
                    <a:pt x="592" y="506"/>
                  </a:lnTo>
                  <a:lnTo>
                    <a:pt x="572" y="530"/>
                  </a:lnTo>
                  <a:lnTo>
                    <a:pt x="552" y="552"/>
                  </a:lnTo>
                  <a:lnTo>
                    <a:pt x="528" y="574"/>
                  </a:lnTo>
                  <a:lnTo>
                    <a:pt x="504" y="592"/>
                  </a:lnTo>
                  <a:lnTo>
                    <a:pt x="478" y="608"/>
                  </a:lnTo>
                  <a:lnTo>
                    <a:pt x="448" y="622"/>
                  </a:lnTo>
                  <a:lnTo>
                    <a:pt x="420" y="634"/>
                  </a:lnTo>
                  <a:lnTo>
                    <a:pt x="388" y="642"/>
                  </a:lnTo>
                  <a:lnTo>
                    <a:pt x="356" y="646"/>
                  </a:lnTo>
                  <a:lnTo>
                    <a:pt x="322" y="648"/>
                  </a:lnTo>
                  <a:lnTo>
                    <a:pt x="322" y="648"/>
                  </a:lnTo>
                  <a:lnTo>
                    <a:pt x="290" y="646"/>
                  </a:lnTo>
                  <a:lnTo>
                    <a:pt x="258" y="642"/>
                  </a:lnTo>
                  <a:lnTo>
                    <a:pt x="226" y="634"/>
                  </a:lnTo>
                  <a:lnTo>
                    <a:pt x="196" y="622"/>
                  </a:lnTo>
                  <a:lnTo>
                    <a:pt x="168" y="608"/>
                  </a:lnTo>
                  <a:lnTo>
                    <a:pt x="142" y="592"/>
                  </a:lnTo>
                  <a:lnTo>
                    <a:pt x="118" y="574"/>
                  </a:lnTo>
                  <a:lnTo>
                    <a:pt x="94" y="552"/>
                  </a:lnTo>
                  <a:lnTo>
                    <a:pt x="74" y="530"/>
                  </a:lnTo>
                  <a:lnTo>
                    <a:pt x="54" y="506"/>
                  </a:lnTo>
                  <a:lnTo>
                    <a:pt x="38" y="478"/>
                  </a:lnTo>
                  <a:lnTo>
                    <a:pt x="24" y="450"/>
                  </a:lnTo>
                  <a:lnTo>
                    <a:pt x="14" y="420"/>
                  </a:lnTo>
                  <a:lnTo>
                    <a:pt x="6" y="390"/>
                  </a:lnTo>
                  <a:lnTo>
                    <a:pt x="0" y="358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0" y="292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4" y="198"/>
                  </a:lnTo>
                  <a:lnTo>
                    <a:pt x="38" y="170"/>
                  </a:lnTo>
                  <a:lnTo>
                    <a:pt x="54" y="144"/>
                  </a:lnTo>
                  <a:lnTo>
                    <a:pt x="74" y="118"/>
                  </a:lnTo>
                  <a:lnTo>
                    <a:pt x="94" y="96"/>
                  </a:lnTo>
                  <a:lnTo>
                    <a:pt x="118" y="74"/>
                  </a:lnTo>
                  <a:lnTo>
                    <a:pt x="142" y="56"/>
                  </a:lnTo>
                  <a:lnTo>
                    <a:pt x="168" y="40"/>
                  </a:lnTo>
                  <a:lnTo>
                    <a:pt x="196" y="26"/>
                  </a:lnTo>
                  <a:lnTo>
                    <a:pt x="226" y="14"/>
                  </a:lnTo>
                  <a:lnTo>
                    <a:pt x="258" y="6"/>
                  </a:lnTo>
                  <a:lnTo>
                    <a:pt x="290" y="2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56" y="2"/>
                  </a:lnTo>
                  <a:lnTo>
                    <a:pt x="388" y="6"/>
                  </a:lnTo>
                  <a:lnTo>
                    <a:pt x="420" y="14"/>
                  </a:lnTo>
                  <a:lnTo>
                    <a:pt x="448" y="26"/>
                  </a:lnTo>
                  <a:lnTo>
                    <a:pt x="478" y="40"/>
                  </a:lnTo>
                  <a:lnTo>
                    <a:pt x="504" y="56"/>
                  </a:lnTo>
                  <a:lnTo>
                    <a:pt x="528" y="74"/>
                  </a:lnTo>
                  <a:lnTo>
                    <a:pt x="552" y="96"/>
                  </a:lnTo>
                  <a:lnTo>
                    <a:pt x="572" y="118"/>
                  </a:lnTo>
                  <a:lnTo>
                    <a:pt x="592" y="144"/>
                  </a:lnTo>
                  <a:lnTo>
                    <a:pt x="608" y="170"/>
                  </a:lnTo>
                  <a:lnTo>
                    <a:pt x="622" y="198"/>
                  </a:lnTo>
                  <a:lnTo>
                    <a:pt x="632" y="228"/>
                  </a:lnTo>
                  <a:lnTo>
                    <a:pt x="640" y="258"/>
                  </a:lnTo>
                  <a:lnTo>
                    <a:pt x="644" y="292"/>
                  </a:lnTo>
                  <a:lnTo>
                    <a:pt x="646" y="324"/>
                  </a:lnTo>
                  <a:lnTo>
                    <a:pt x="646" y="324"/>
                  </a:lnTo>
                  <a:close/>
                </a:path>
              </a:pathLst>
            </a:custGeom>
            <a:solidFill>
              <a:srgbClr val="f9c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344"/>
            <p:cNvSpPr/>
            <p:nvPr/>
          </p:nvSpPr>
          <p:spPr>
            <a:xfrm>
              <a:off x="8378640" y="10036080"/>
              <a:ext cx="993600" cy="9936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626" h="626">
                  <a:moveTo>
                    <a:pt x="626" y="312"/>
                  </a:moveTo>
                  <a:lnTo>
                    <a:pt x="626" y="312"/>
                  </a:lnTo>
                  <a:lnTo>
                    <a:pt x="624" y="344"/>
                  </a:lnTo>
                  <a:lnTo>
                    <a:pt x="620" y="376"/>
                  </a:lnTo>
                  <a:lnTo>
                    <a:pt x="612" y="406"/>
                  </a:lnTo>
                  <a:lnTo>
                    <a:pt x="600" y="434"/>
                  </a:lnTo>
                  <a:lnTo>
                    <a:pt x="588" y="462"/>
                  </a:lnTo>
                  <a:lnTo>
                    <a:pt x="572" y="488"/>
                  </a:lnTo>
                  <a:lnTo>
                    <a:pt x="554" y="512"/>
                  </a:lnTo>
                  <a:lnTo>
                    <a:pt x="534" y="534"/>
                  </a:lnTo>
                  <a:lnTo>
                    <a:pt x="512" y="554"/>
                  </a:lnTo>
                  <a:lnTo>
                    <a:pt x="488" y="572"/>
                  </a:lnTo>
                  <a:lnTo>
                    <a:pt x="462" y="588"/>
                  </a:lnTo>
                  <a:lnTo>
                    <a:pt x="434" y="600"/>
                  </a:lnTo>
                  <a:lnTo>
                    <a:pt x="406" y="612"/>
                  </a:lnTo>
                  <a:lnTo>
                    <a:pt x="376" y="620"/>
                  </a:lnTo>
                  <a:lnTo>
                    <a:pt x="344" y="624"/>
                  </a:lnTo>
                  <a:lnTo>
                    <a:pt x="312" y="626"/>
                  </a:lnTo>
                  <a:lnTo>
                    <a:pt x="312" y="626"/>
                  </a:lnTo>
                  <a:lnTo>
                    <a:pt x="280" y="624"/>
                  </a:lnTo>
                  <a:lnTo>
                    <a:pt x="250" y="620"/>
                  </a:lnTo>
                  <a:lnTo>
                    <a:pt x="220" y="612"/>
                  </a:lnTo>
                  <a:lnTo>
                    <a:pt x="190" y="600"/>
                  </a:lnTo>
                  <a:lnTo>
                    <a:pt x="164" y="588"/>
                  </a:lnTo>
                  <a:lnTo>
                    <a:pt x="138" y="572"/>
                  </a:lnTo>
                  <a:lnTo>
                    <a:pt x="114" y="554"/>
                  </a:lnTo>
                  <a:lnTo>
                    <a:pt x="92" y="534"/>
                  </a:lnTo>
                  <a:lnTo>
                    <a:pt x="70" y="512"/>
                  </a:lnTo>
                  <a:lnTo>
                    <a:pt x="52" y="488"/>
                  </a:lnTo>
                  <a:lnTo>
                    <a:pt x="38" y="462"/>
                  </a:lnTo>
                  <a:lnTo>
                    <a:pt x="24" y="434"/>
                  </a:lnTo>
                  <a:lnTo>
                    <a:pt x="14" y="406"/>
                  </a:lnTo>
                  <a:lnTo>
                    <a:pt x="6" y="376"/>
                  </a:lnTo>
                  <a:lnTo>
                    <a:pt x="2" y="344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2" y="280"/>
                  </a:lnTo>
                  <a:lnTo>
                    <a:pt x="6" y="250"/>
                  </a:lnTo>
                  <a:lnTo>
                    <a:pt x="14" y="220"/>
                  </a:lnTo>
                  <a:lnTo>
                    <a:pt x="24" y="190"/>
                  </a:lnTo>
                  <a:lnTo>
                    <a:pt x="38" y="164"/>
                  </a:lnTo>
                  <a:lnTo>
                    <a:pt x="52" y="138"/>
                  </a:lnTo>
                  <a:lnTo>
                    <a:pt x="70" y="114"/>
                  </a:lnTo>
                  <a:lnTo>
                    <a:pt x="92" y="92"/>
                  </a:lnTo>
                  <a:lnTo>
                    <a:pt x="114" y="70"/>
                  </a:lnTo>
                  <a:lnTo>
                    <a:pt x="138" y="52"/>
                  </a:lnTo>
                  <a:lnTo>
                    <a:pt x="164" y="38"/>
                  </a:lnTo>
                  <a:lnTo>
                    <a:pt x="190" y="24"/>
                  </a:lnTo>
                  <a:lnTo>
                    <a:pt x="220" y="14"/>
                  </a:lnTo>
                  <a:lnTo>
                    <a:pt x="250" y="6"/>
                  </a:lnTo>
                  <a:lnTo>
                    <a:pt x="280" y="2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44" y="2"/>
                  </a:lnTo>
                  <a:lnTo>
                    <a:pt x="376" y="6"/>
                  </a:lnTo>
                  <a:lnTo>
                    <a:pt x="406" y="14"/>
                  </a:lnTo>
                  <a:lnTo>
                    <a:pt x="434" y="24"/>
                  </a:lnTo>
                  <a:lnTo>
                    <a:pt x="462" y="38"/>
                  </a:lnTo>
                  <a:lnTo>
                    <a:pt x="488" y="52"/>
                  </a:lnTo>
                  <a:lnTo>
                    <a:pt x="512" y="70"/>
                  </a:lnTo>
                  <a:lnTo>
                    <a:pt x="534" y="92"/>
                  </a:lnTo>
                  <a:lnTo>
                    <a:pt x="554" y="114"/>
                  </a:lnTo>
                  <a:lnTo>
                    <a:pt x="572" y="138"/>
                  </a:lnTo>
                  <a:lnTo>
                    <a:pt x="588" y="164"/>
                  </a:lnTo>
                  <a:lnTo>
                    <a:pt x="600" y="190"/>
                  </a:lnTo>
                  <a:lnTo>
                    <a:pt x="612" y="220"/>
                  </a:lnTo>
                  <a:lnTo>
                    <a:pt x="620" y="250"/>
                  </a:lnTo>
                  <a:lnTo>
                    <a:pt x="624" y="280"/>
                  </a:lnTo>
                  <a:lnTo>
                    <a:pt x="626" y="312"/>
                  </a:lnTo>
                  <a:lnTo>
                    <a:pt x="626" y="312"/>
                  </a:lnTo>
                  <a:close/>
                </a:path>
              </a:pathLst>
            </a:custGeom>
            <a:solidFill>
              <a:srgbClr val="f9c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345"/>
            <p:cNvSpPr/>
            <p:nvPr/>
          </p:nvSpPr>
          <p:spPr>
            <a:xfrm>
              <a:off x="8385120" y="10045800"/>
              <a:ext cx="958680" cy="9619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4" h="606">
                  <a:moveTo>
                    <a:pt x="604" y="302"/>
                  </a:moveTo>
                  <a:lnTo>
                    <a:pt x="604" y="302"/>
                  </a:lnTo>
                  <a:lnTo>
                    <a:pt x="602" y="334"/>
                  </a:lnTo>
                  <a:lnTo>
                    <a:pt x="598" y="364"/>
                  </a:lnTo>
                  <a:lnTo>
                    <a:pt x="590" y="392"/>
                  </a:lnTo>
                  <a:lnTo>
                    <a:pt x="580" y="420"/>
                  </a:lnTo>
                  <a:lnTo>
                    <a:pt x="568" y="448"/>
                  </a:lnTo>
                  <a:lnTo>
                    <a:pt x="552" y="472"/>
                  </a:lnTo>
                  <a:lnTo>
                    <a:pt x="536" y="496"/>
                  </a:lnTo>
                  <a:lnTo>
                    <a:pt x="516" y="516"/>
                  </a:lnTo>
                  <a:lnTo>
                    <a:pt x="494" y="536"/>
                  </a:lnTo>
                  <a:lnTo>
                    <a:pt x="472" y="554"/>
                  </a:lnTo>
                  <a:lnTo>
                    <a:pt x="446" y="568"/>
                  </a:lnTo>
                  <a:lnTo>
                    <a:pt x="420" y="582"/>
                  </a:lnTo>
                  <a:lnTo>
                    <a:pt x="392" y="592"/>
                  </a:lnTo>
                  <a:lnTo>
                    <a:pt x="364" y="600"/>
                  </a:lnTo>
                  <a:lnTo>
                    <a:pt x="334" y="604"/>
                  </a:lnTo>
                  <a:lnTo>
                    <a:pt x="302" y="606"/>
                  </a:lnTo>
                  <a:lnTo>
                    <a:pt x="302" y="606"/>
                  </a:lnTo>
                  <a:lnTo>
                    <a:pt x="272" y="604"/>
                  </a:lnTo>
                  <a:lnTo>
                    <a:pt x="242" y="600"/>
                  </a:lnTo>
                  <a:lnTo>
                    <a:pt x="212" y="592"/>
                  </a:lnTo>
                  <a:lnTo>
                    <a:pt x="184" y="582"/>
                  </a:lnTo>
                  <a:lnTo>
                    <a:pt x="158" y="568"/>
                  </a:lnTo>
                  <a:lnTo>
                    <a:pt x="134" y="554"/>
                  </a:lnTo>
                  <a:lnTo>
                    <a:pt x="110" y="536"/>
                  </a:lnTo>
                  <a:lnTo>
                    <a:pt x="88" y="516"/>
                  </a:lnTo>
                  <a:lnTo>
                    <a:pt x="68" y="496"/>
                  </a:lnTo>
                  <a:lnTo>
                    <a:pt x="52" y="472"/>
                  </a:lnTo>
                  <a:lnTo>
                    <a:pt x="36" y="448"/>
                  </a:lnTo>
                  <a:lnTo>
                    <a:pt x="24" y="420"/>
                  </a:lnTo>
                  <a:lnTo>
                    <a:pt x="14" y="392"/>
                  </a:lnTo>
                  <a:lnTo>
                    <a:pt x="6" y="364"/>
                  </a:lnTo>
                  <a:lnTo>
                    <a:pt x="2" y="334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2" y="272"/>
                  </a:lnTo>
                  <a:lnTo>
                    <a:pt x="6" y="242"/>
                  </a:lnTo>
                  <a:lnTo>
                    <a:pt x="14" y="212"/>
                  </a:lnTo>
                  <a:lnTo>
                    <a:pt x="24" y="186"/>
                  </a:lnTo>
                  <a:lnTo>
                    <a:pt x="36" y="158"/>
                  </a:lnTo>
                  <a:lnTo>
                    <a:pt x="52" y="134"/>
                  </a:lnTo>
                  <a:lnTo>
                    <a:pt x="68" y="110"/>
                  </a:lnTo>
                  <a:lnTo>
                    <a:pt x="88" y="90"/>
                  </a:lnTo>
                  <a:lnTo>
                    <a:pt x="110" y="70"/>
                  </a:lnTo>
                  <a:lnTo>
                    <a:pt x="134" y="52"/>
                  </a:lnTo>
                  <a:lnTo>
                    <a:pt x="158" y="38"/>
                  </a:lnTo>
                  <a:lnTo>
                    <a:pt x="184" y="24"/>
                  </a:lnTo>
                  <a:lnTo>
                    <a:pt x="212" y="14"/>
                  </a:lnTo>
                  <a:lnTo>
                    <a:pt x="242" y="6"/>
                  </a:lnTo>
                  <a:lnTo>
                    <a:pt x="272" y="2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34" y="2"/>
                  </a:lnTo>
                  <a:lnTo>
                    <a:pt x="364" y="6"/>
                  </a:lnTo>
                  <a:lnTo>
                    <a:pt x="392" y="14"/>
                  </a:lnTo>
                  <a:lnTo>
                    <a:pt x="420" y="24"/>
                  </a:lnTo>
                  <a:lnTo>
                    <a:pt x="446" y="38"/>
                  </a:lnTo>
                  <a:lnTo>
                    <a:pt x="472" y="52"/>
                  </a:lnTo>
                  <a:lnTo>
                    <a:pt x="494" y="70"/>
                  </a:lnTo>
                  <a:lnTo>
                    <a:pt x="516" y="90"/>
                  </a:lnTo>
                  <a:lnTo>
                    <a:pt x="536" y="110"/>
                  </a:lnTo>
                  <a:lnTo>
                    <a:pt x="552" y="134"/>
                  </a:lnTo>
                  <a:lnTo>
                    <a:pt x="568" y="158"/>
                  </a:lnTo>
                  <a:lnTo>
                    <a:pt x="580" y="186"/>
                  </a:lnTo>
                  <a:lnTo>
                    <a:pt x="590" y="212"/>
                  </a:lnTo>
                  <a:lnTo>
                    <a:pt x="598" y="242"/>
                  </a:lnTo>
                  <a:lnTo>
                    <a:pt x="602" y="272"/>
                  </a:lnTo>
                  <a:lnTo>
                    <a:pt x="604" y="302"/>
                  </a:lnTo>
                  <a:lnTo>
                    <a:pt x="604" y="302"/>
                  </a:lnTo>
                  <a:close/>
                </a:path>
              </a:pathLst>
            </a:custGeom>
            <a:solidFill>
              <a:srgbClr val="fac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346"/>
            <p:cNvSpPr/>
            <p:nvPr/>
          </p:nvSpPr>
          <p:spPr>
            <a:xfrm>
              <a:off x="8391240" y="10058400"/>
              <a:ext cx="927000" cy="92700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584" h="584">
                  <a:moveTo>
                    <a:pt x="584" y="292"/>
                  </a:moveTo>
                  <a:lnTo>
                    <a:pt x="584" y="292"/>
                  </a:lnTo>
                  <a:lnTo>
                    <a:pt x="582" y="322"/>
                  </a:lnTo>
                  <a:lnTo>
                    <a:pt x="578" y="350"/>
                  </a:lnTo>
                  <a:lnTo>
                    <a:pt x="570" y="378"/>
                  </a:lnTo>
                  <a:lnTo>
                    <a:pt x="560" y="404"/>
                  </a:lnTo>
                  <a:lnTo>
                    <a:pt x="548" y="430"/>
                  </a:lnTo>
                  <a:lnTo>
                    <a:pt x="534" y="454"/>
                  </a:lnTo>
                  <a:lnTo>
                    <a:pt x="516" y="476"/>
                  </a:lnTo>
                  <a:lnTo>
                    <a:pt x="498" y="498"/>
                  </a:lnTo>
                  <a:lnTo>
                    <a:pt x="478" y="516"/>
                  </a:lnTo>
                  <a:lnTo>
                    <a:pt x="454" y="534"/>
                  </a:lnTo>
                  <a:lnTo>
                    <a:pt x="430" y="548"/>
                  </a:lnTo>
                  <a:lnTo>
                    <a:pt x="406" y="560"/>
                  </a:lnTo>
                  <a:lnTo>
                    <a:pt x="378" y="570"/>
                  </a:lnTo>
                  <a:lnTo>
                    <a:pt x="350" y="578"/>
                  </a:lnTo>
                  <a:lnTo>
                    <a:pt x="322" y="582"/>
                  </a:lnTo>
                  <a:lnTo>
                    <a:pt x="292" y="584"/>
                  </a:lnTo>
                  <a:lnTo>
                    <a:pt x="292" y="584"/>
                  </a:lnTo>
                  <a:lnTo>
                    <a:pt x="262" y="582"/>
                  </a:lnTo>
                  <a:lnTo>
                    <a:pt x="232" y="578"/>
                  </a:lnTo>
                  <a:lnTo>
                    <a:pt x="204" y="570"/>
                  </a:lnTo>
                  <a:lnTo>
                    <a:pt x="178" y="560"/>
                  </a:lnTo>
                  <a:lnTo>
                    <a:pt x="152" y="548"/>
                  </a:lnTo>
                  <a:lnTo>
                    <a:pt x="128" y="534"/>
                  </a:lnTo>
                  <a:lnTo>
                    <a:pt x="106" y="516"/>
                  </a:lnTo>
                  <a:lnTo>
                    <a:pt x="86" y="498"/>
                  </a:lnTo>
                  <a:lnTo>
                    <a:pt x="66" y="476"/>
                  </a:lnTo>
                  <a:lnTo>
                    <a:pt x="50" y="454"/>
                  </a:lnTo>
                  <a:lnTo>
                    <a:pt x="36" y="430"/>
                  </a:lnTo>
                  <a:lnTo>
                    <a:pt x="22" y="404"/>
                  </a:lnTo>
                  <a:lnTo>
                    <a:pt x="14" y="378"/>
                  </a:lnTo>
                  <a:lnTo>
                    <a:pt x="6" y="350"/>
                  </a:lnTo>
                  <a:lnTo>
                    <a:pt x="2" y="32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" y="262"/>
                  </a:lnTo>
                  <a:lnTo>
                    <a:pt x="6" y="232"/>
                  </a:lnTo>
                  <a:lnTo>
                    <a:pt x="14" y="204"/>
                  </a:lnTo>
                  <a:lnTo>
                    <a:pt x="22" y="178"/>
                  </a:lnTo>
                  <a:lnTo>
                    <a:pt x="36" y="152"/>
                  </a:lnTo>
                  <a:lnTo>
                    <a:pt x="50" y="128"/>
                  </a:lnTo>
                  <a:lnTo>
                    <a:pt x="66" y="106"/>
                  </a:lnTo>
                  <a:lnTo>
                    <a:pt x="86" y="86"/>
                  </a:lnTo>
                  <a:lnTo>
                    <a:pt x="106" y="66"/>
                  </a:lnTo>
                  <a:lnTo>
                    <a:pt x="128" y="50"/>
                  </a:lnTo>
                  <a:lnTo>
                    <a:pt x="152" y="34"/>
                  </a:lnTo>
                  <a:lnTo>
                    <a:pt x="178" y="22"/>
                  </a:lnTo>
                  <a:lnTo>
                    <a:pt x="204" y="12"/>
                  </a:lnTo>
                  <a:lnTo>
                    <a:pt x="232" y="6"/>
                  </a:lnTo>
                  <a:lnTo>
                    <a:pt x="262" y="2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322" y="2"/>
                  </a:lnTo>
                  <a:lnTo>
                    <a:pt x="350" y="6"/>
                  </a:lnTo>
                  <a:lnTo>
                    <a:pt x="378" y="12"/>
                  </a:lnTo>
                  <a:lnTo>
                    <a:pt x="406" y="22"/>
                  </a:lnTo>
                  <a:lnTo>
                    <a:pt x="430" y="34"/>
                  </a:lnTo>
                  <a:lnTo>
                    <a:pt x="454" y="50"/>
                  </a:lnTo>
                  <a:lnTo>
                    <a:pt x="478" y="66"/>
                  </a:lnTo>
                  <a:lnTo>
                    <a:pt x="498" y="86"/>
                  </a:lnTo>
                  <a:lnTo>
                    <a:pt x="516" y="106"/>
                  </a:lnTo>
                  <a:lnTo>
                    <a:pt x="534" y="128"/>
                  </a:lnTo>
                  <a:lnTo>
                    <a:pt x="548" y="152"/>
                  </a:lnTo>
                  <a:lnTo>
                    <a:pt x="560" y="178"/>
                  </a:lnTo>
                  <a:lnTo>
                    <a:pt x="570" y="204"/>
                  </a:lnTo>
                  <a:lnTo>
                    <a:pt x="578" y="232"/>
                  </a:lnTo>
                  <a:lnTo>
                    <a:pt x="582" y="262"/>
                  </a:lnTo>
                  <a:lnTo>
                    <a:pt x="584" y="292"/>
                  </a:lnTo>
                  <a:lnTo>
                    <a:pt x="584" y="292"/>
                  </a:lnTo>
                  <a:close/>
                </a:path>
              </a:pathLst>
            </a:custGeom>
            <a:solidFill>
              <a:srgbClr val="fac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347"/>
            <p:cNvSpPr/>
            <p:nvPr/>
          </p:nvSpPr>
          <p:spPr>
            <a:xfrm>
              <a:off x="8397720" y="10067760"/>
              <a:ext cx="892080" cy="89208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562" h="562">
                  <a:moveTo>
                    <a:pt x="562" y="282"/>
                  </a:moveTo>
                  <a:lnTo>
                    <a:pt x="562" y="282"/>
                  </a:lnTo>
                  <a:lnTo>
                    <a:pt x="560" y="310"/>
                  </a:lnTo>
                  <a:lnTo>
                    <a:pt x="556" y="338"/>
                  </a:lnTo>
                  <a:lnTo>
                    <a:pt x="550" y="366"/>
                  </a:lnTo>
                  <a:lnTo>
                    <a:pt x="540" y="392"/>
                  </a:lnTo>
                  <a:lnTo>
                    <a:pt x="528" y="416"/>
                  </a:lnTo>
                  <a:lnTo>
                    <a:pt x="514" y="438"/>
                  </a:lnTo>
                  <a:lnTo>
                    <a:pt x="498" y="460"/>
                  </a:lnTo>
                  <a:lnTo>
                    <a:pt x="480" y="480"/>
                  </a:lnTo>
                  <a:lnTo>
                    <a:pt x="460" y="498"/>
                  </a:lnTo>
                  <a:lnTo>
                    <a:pt x="438" y="514"/>
                  </a:lnTo>
                  <a:lnTo>
                    <a:pt x="416" y="528"/>
                  </a:lnTo>
                  <a:lnTo>
                    <a:pt x="390" y="540"/>
                  </a:lnTo>
                  <a:lnTo>
                    <a:pt x="364" y="550"/>
                  </a:lnTo>
                  <a:lnTo>
                    <a:pt x="338" y="558"/>
                  </a:lnTo>
                  <a:lnTo>
                    <a:pt x="310" y="562"/>
                  </a:lnTo>
                  <a:lnTo>
                    <a:pt x="282" y="562"/>
                  </a:lnTo>
                  <a:lnTo>
                    <a:pt x="282" y="562"/>
                  </a:lnTo>
                  <a:lnTo>
                    <a:pt x="252" y="562"/>
                  </a:lnTo>
                  <a:lnTo>
                    <a:pt x="224" y="558"/>
                  </a:lnTo>
                  <a:lnTo>
                    <a:pt x="198" y="550"/>
                  </a:lnTo>
                  <a:lnTo>
                    <a:pt x="172" y="540"/>
                  </a:lnTo>
                  <a:lnTo>
                    <a:pt x="148" y="528"/>
                  </a:lnTo>
                  <a:lnTo>
                    <a:pt x="124" y="514"/>
                  </a:lnTo>
                  <a:lnTo>
                    <a:pt x="102" y="498"/>
                  </a:lnTo>
                  <a:lnTo>
                    <a:pt x="82" y="480"/>
                  </a:lnTo>
                  <a:lnTo>
                    <a:pt x="64" y="460"/>
                  </a:lnTo>
                  <a:lnTo>
                    <a:pt x="48" y="438"/>
                  </a:lnTo>
                  <a:lnTo>
                    <a:pt x="34" y="416"/>
                  </a:lnTo>
                  <a:lnTo>
                    <a:pt x="22" y="392"/>
                  </a:lnTo>
                  <a:lnTo>
                    <a:pt x="12" y="366"/>
                  </a:lnTo>
                  <a:lnTo>
                    <a:pt x="6" y="338"/>
                  </a:lnTo>
                  <a:lnTo>
                    <a:pt x="2" y="310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2" y="254"/>
                  </a:lnTo>
                  <a:lnTo>
                    <a:pt x="6" y="226"/>
                  </a:lnTo>
                  <a:lnTo>
                    <a:pt x="12" y="198"/>
                  </a:lnTo>
                  <a:lnTo>
                    <a:pt x="22" y="172"/>
                  </a:lnTo>
                  <a:lnTo>
                    <a:pt x="34" y="148"/>
                  </a:lnTo>
                  <a:lnTo>
                    <a:pt x="48" y="124"/>
                  </a:lnTo>
                  <a:lnTo>
                    <a:pt x="64" y="102"/>
                  </a:lnTo>
                  <a:lnTo>
                    <a:pt x="82" y="82"/>
                  </a:lnTo>
                  <a:lnTo>
                    <a:pt x="102" y="64"/>
                  </a:lnTo>
                  <a:lnTo>
                    <a:pt x="124" y="48"/>
                  </a:lnTo>
                  <a:lnTo>
                    <a:pt x="148" y="34"/>
                  </a:lnTo>
                  <a:lnTo>
                    <a:pt x="172" y="22"/>
                  </a:lnTo>
                  <a:lnTo>
                    <a:pt x="198" y="14"/>
                  </a:lnTo>
                  <a:lnTo>
                    <a:pt x="224" y="6"/>
                  </a:lnTo>
                  <a:lnTo>
                    <a:pt x="252" y="2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310" y="2"/>
                  </a:lnTo>
                  <a:lnTo>
                    <a:pt x="338" y="6"/>
                  </a:lnTo>
                  <a:lnTo>
                    <a:pt x="364" y="14"/>
                  </a:lnTo>
                  <a:lnTo>
                    <a:pt x="390" y="22"/>
                  </a:lnTo>
                  <a:lnTo>
                    <a:pt x="416" y="34"/>
                  </a:lnTo>
                  <a:lnTo>
                    <a:pt x="438" y="48"/>
                  </a:lnTo>
                  <a:lnTo>
                    <a:pt x="460" y="64"/>
                  </a:lnTo>
                  <a:lnTo>
                    <a:pt x="480" y="82"/>
                  </a:lnTo>
                  <a:lnTo>
                    <a:pt x="498" y="102"/>
                  </a:lnTo>
                  <a:lnTo>
                    <a:pt x="514" y="124"/>
                  </a:lnTo>
                  <a:lnTo>
                    <a:pt x="528" y="148"/>
                  </a:lnTo>
                  <a:lnTo>
                    <a:pt x="540" y="172"/>
                  </a:lnTo>
                  <a:lnTo>
                    <a:pt x="550" y="198"/>
                  </a:lnTo>
                  <a:lnTo>
                    <a:pt x="556" y="226"/>
                  </a:lnTo>
                  <a:lnTo>
                    <a:pt x="560" y="254"/>
                  </a:lnTo>
                  <a:lnTo>
                    <a:pt x="562" y="282"/>
                  </a:lnTo>
                  <a:lnTo>
                    <a:pt x="562" y="282"/>
                  </a:lnTo>
                  <a:close/>
                </a:path>
              </a:pathLst>
            </a:custGeom>
            <a:solidFill>
              <a:srgbClr val="fac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348"/>
            <p:cNvSpPr/>
            <p:nvPr/>
          </p:nvSpPr>
          <p:spPr>
            <a:xfrm>
              <a:off x="8404200" y="10080720"/>
              <a:ext cx="860400" cy="85716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542" h="540">
                  <a:moveTo>
                    <a:pt x="542" y="270"/>
                  </a:moveTo>
                  <a:lnTo>
                    <a:pt x="542" y="270"/>
                  </a:lnTo>
                  <a:lnTo>
                    <a:pt x="540" y="298"/>
                  </a:lnTo>
                  <a:lnTo>
                    <a:pt x="536" y="324"/>
                  </a:lnTo>
                  <a:lnTo>
                    <a:pt x="530" y="350"/>
                  </a:lnTo>
                  <a:lnTo>
                    <a:pt x="520" y="376"/>
                  </a:lnTo>
                  <a:lnTo>
                    <a:pt x="508" y="400"/>
                  </a:lnTo>
                  <a:lnTo>
                    <a:pt x="496" y="422"/>
                  </a:lnTo>
                  <a:lnTo>
                    <a:pt x="480" y="442"/>
                  </a:lnTo>
                  <a:lnTo>
                    <a:pt x="462" y="462"/>
                  </a:lnTo>
                  <a:lnTo>
                    <a:pt x="442" y="478"/>
                  </a:lnTo>
                  <a:lnTo>
                    <a:pt x="422" y="494"/>
                  </a:lnTo>
                  <a:lnTo>
                    <a:pt x="400" y="508"/>
                  </a:lnTo>
                  <a:lnTo>
                    <a:pt x="376" y="520"/>
                  </a:lnTo>
                  <a:lnTo>
                    <a:pt x="352" y="528"/>
                  </a:lnTo>
                  <a:lnTo>
                    <a:pt x="326" y="536"/>
                  </a:lnTo>
                  <a:lnTo>
                    <a:pt x="298" y="540"/>
                  </a:lnTo>
                  <a:lnTo>
                    <a:pt x="270" y="540"/>
                  </a:lnTo>
                  <a:lnTo>
                    <a:pt x="270" y="540"/>
                  </a:lnTo>
                  <a:lnTo>
                    <a:pt x="244" y="540"/>
                  </a:lnTo>
                  <a:lnTo>
                    <a:pt x="216" y="536"/>
                  </a:lnTo>
                  <a:lnTo>
                    <a:pt x="190" y="528"/>
                  </a:lnTo>
                  <a:lnTo>
                    <a:pt x="166" y="520"/>
                  </a:lnTo>
                  <a:lnTo>
                    <a:pt x="142" y="508"/>
                  </a:lnTo>
                  <a:lnTo>
                    <a:pt x="120" y="494"/>
                  </a:lnTo>
                  <a:lnTo>
                    <a:pt x="98" y="478"/>
                  </a:lnTo>
                  <a:lnTo>
                    <a:pt x="80" y="462"/>
                  </a:lnTo>
                  <a:lnTo>
                    <a:pt x="62" y="442"/>
                  </a:lnTo>
                  <a:lnTo>
                    <a:pt x="46" y="422"/>
                  </a:lnTo>
                  <a:lnTo>
                    <a:pt x="34" y="400"/>
                  </a:lnTo>
                  <a:lnTo>
                    <a:pt x="22" y="376"/>
                  </a:lnTo>
                  <a:lnTo>
                    <a:pt x="12" y="350"/>
                  </a:lnTo>
                  <a:lnTo>
                    <a:pt x="6" y="324"/>
                  </a:lnTo>
                  <a:lnTo>
                    <a:pt x="2" y="298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2" y="242"/>
                  </a:lnTo>
                  <a:lnTo>
                    <a:pt x="6" y="216"/>
                  </a:lnTo>
                  <a:lnTo>
                    <a:pt x="12" y="190"/>
                  </a:lnTo>
                  <a:lnTo>
                    <a:pt x="22" y="164"/>
                  </a:lnTo>
                  <a:lnTo>
                    <a:pt x="34" y="142"/>
                  </a:lnTo>
                  <a:lnTo>
                    <a:pt x="46" y="118"/>
                  </a:lnTo>
                  <a:lnTo>
                    <a:pt x="62" y="98"/>
                  </a:lnTo>
                  <a:lnTo>
                    <a:pt x="80" y="78"/>
                  </a:lnTo>
                  <a:lnTo>
                    <a:pt x="98" y="62"/>
                  </a:lnTo>
                  <a:lnTo>
                    <a:pt x="120" y="46"/>
                  </a:lnTo>
                  <a:lnTo>
                    <a:pt x="142" y="32"/>
                  </a:lnTo>
                  <a:lnTo>
                    <a:pt x="166" y="20"/>
                  </a:lnTo>
                  <a:lnTo>
                    <a:pt x="190" y="12"/>
                  </a:lnTo>
                  <a:lnTo>
                    <a:pt x="216" y="6"/>
                  </a:lnTo>
                  <a:lnTo>
                    <a:pt x="244" y="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98" y="2"/>
                  </a:lnTo>
                  <a:lnTo>
                    <a:pt x="326" y="6"/>
                  </a:lnTo>
                  <a:lnTo>
                    <a:pt x="352" y="12"/>
                  </a:lnTo>
                  <a:lnTo>
                    <a:pt x="376" y="20"/>
                  </a:lnTo>
                  <a:lnTo>
                    <a:pt x="400" y="32"/>
                  </a:lnTo>
                  <a:lnTo>
                    <a:pt x="422" y="46"/>
                  </a:lnTo>
                  <a:lnTo>
                    <a:pt x="442" y="62"/>
                  </a:lnTo>
                  <a:lnTo>
                    <a:pt x="462" y="78"/>
                  </a:lnTo>
                  <a:lnTo>
                    <a:pt x="480" y="98"/>
                  </a:lnTo>
                  <a:lnTo>
                    <a:pt x="496" y="118"/>
                  </a:lnTo>
                  <a:lnTo>
                    <a:pt x="508" y="142"/>
                  </a:lnTo>
                  <a:lnTo>
                    <a:pt x="520" y="164"/>
                  </a:lnTo>
                  <a:lnTo>
                    <a:pt x="530" y="190"/>
                  </a:lnTo>
                  <a:lnTo>
                    <a:pt x="536" y="216"/>
                  </a:lnTo>
                  <a:lnTo>
                    <a:pt x="540" y="242"/>
                  </a:lnTo>
                  <a:lnTo>
                    <a:pt x="542" y="270"/>
                  </a:lnTo>
                  <a:lnTo>
                    <a:pt x="542" y="270"/>
                  </a:lnTo>
                  <a:close/>
                </a:path>
              </a:pathLst>
            </a:custGeom>
            <a:solidFill>
              <a:srgbClr val="fbc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349"/>
            <p:cNvSpPr/>
            <p:nvPr/>
          </p:nvSpPr>
          <p:spPr>
            <a:xfrm>
              <a:off x="8410320" y="10090080"/>
              <a:ext cx="825480" cy="8254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520" h="520">
                  <a:moveTo>
                    <a:pt x="520" y="260"/>
                  </a:moveTo>
                  <a:lnTo>
                    <a:pt x="520" y="260"/>
                  </a:lnTo>
                  <a:lnTo>
                    <a:pt x="518" y="288"/>
                  </a:lnTo>
                  <a:lnTo>
                    <a:pt x="516" y="312"/>
                  </a:lnTo>
                  <a:lnTo>
                    <a:pt x="508" y="338"/>
                  </a:lnTo>
                  <a:lnTo>
                    <a:pt x="500" y="362"/>
                  </a:lnTo>
                  <a:lnTo>
                    <a:pt x="488" y="384"/>
                  </a:lnTo>
                  <a:lnTo>
                    <a:pt x="476" y="406"/>
                  </a:lnTo>
                  <a:lnTo>
                    <a:pt x="460" y="426"/>
                  </a:lnTo>
                  <a:lnTo>
                    <a:pt x="444" y="444"/>
                  </a:lnTo>
                  <a:lnTo>
                    <a:pt x="426" y="462"/>
                  </a:lnTo>
                  <a:lnTo>
                    <a:pt x="406" y="476"/>
                  </a:lnTo>
                  <a:lnTo>
                    <a:pt x="384" y="490"/>
                  </a:lnTo>
                  <a:lnTo>
                    <a:pt x="362" y="500"/>
                  </a:lnTo>
                  <a:lnTo>
                    <a:pt x="338" y="508"/>
                  </a:lnTo>
                  <a:lnTo>
                    <a:pt x="312" y="516"/>
                  </a:lnTo>
                  <a:lnTo>
                    <a:pt x="288" y="520"/>
                  </a:lnTo>
                  <a:lnTo>
                    <a:pt x="260" y="520"/>
                  </a:lnTo>
                  <a:lnTo>
                    <a:pt x="260" y="520"/>
                  </a:lnTo>
                  <a:lnTo>
                    <a:pt x="234" y="520"/>
                  </a:lnTo>
                  <a:lnTo>
                    <a:pt x="208" y="516"/>
                  </a:lnTo>
                  <a:lnTo>
                    <a:pt x="184" y="508"/>
                  </a:lnTo>
                  <a:lnTo>
                    <a:pt x="160" y="500"/>
                  </a:lnTo>
                  <a:lnTo>
                    <a:pt x="136" y="490"/>
                  </a:lnTo>
                  <a:lnTo>
                    <a:pt x="116" y="476"/>
                  </a:lnTo>
                  <a:lnTo>
                    <a:pt x="96" y="462"/>
                  </a:lnTo>
                  <a:lnTo>
                    <a:pt x="76" y="444"/>
                  </a:lnTo>
                  <a:lnTo>
                    <a:pt x="60" y="426"/>
                  </a:lnTo>
                  <a:lnTo>
                    <a:pt x="44" y="406"/>
                  </a:lnTo>
                  <a:lnTo>
                    <a:pt x="32" y="384"/>
                  </a:lnTo>
                  <a:lnTo>
                    <a:pt x="20" y="362"/>
                  </a:lnTo>
                  <a:lnTo>
                    <a:pt x="12" y="338"/>
                  </a:lnTo>
                  <a:lnTo>
                    <a:pt x="6" y="312"/>
                  </a:lnTo>
                  <a:lnTo>
                    <a:pt x="2" y="288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2" y="234"/>
                  </a:lnTo>
                  <a:lnTo>
                    <a:pt x="6" y="208"/>
                  </a:lnTo>
                  <a:lnTo>
                    <a:pt x="12" y="184"/>
                  </a:lnTo>
                  <a:lnTo>
                    <a:pt x="20" y="160"/>
                  </a:lnTo>
                  <a:lnTo>
                    <a:pt x="32" y="136"/>
                  </a:lnTo>
                  <a:lnTo>
                    <a:pt x="44" y="116"/>
                  </a:lnTo>
                  <a:lnTo>
                    <a:pt x="60" y="96"/>
                  </a:lnTo>
                  <a:lnTo>
                    <a:pt x="76" y="76"/>
                  </a:lnTo>
                  <a:lnTo>
                    <a:pt x="96" y="60"/>
                  </a:lnTo>
                  <a:lnTo>
                    <a:pt x="116" y="46"/>
                  </a:lnTo>
                  <a:lnTo>
                    <a:pt x="136" y="32"/>
                  </a:lnTo>
                  <a:lnTo>
                    <a:pt x="160" y="22"/>
                  </a:lnTo>
                  <a:lnTo>
                    <a:pt x="184" y="12"/>
                  </a:lnTo>
                  <a:lnTo>
                    <a:pt x="208" y="6"/>
                  </a:lnTo>
                  <a:lnTo>
                    <a:pt x="234" y="2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8" y="2"/>
                  </a:lnTo>
                  <a:lnTo>
                    <a:pt x="312" y="6"/>
                  </a:lnTo>
                  <a:lnTo>
                    <a:pt x="338" y="12"/>
                  </a:lnTo>
                  <a:lnTo>
                    <a:pt x="362" y="22"/>
                  </a:lnTo>
                  <a:lnTo>
                    <a:pt x="384" y="32"/>
                  </a:lnTo>
                  <a:lnTo>
                    <a:pt x="406" y="46"/>
                  </a:lnTo>
                  <a:lnTo>
                    <a:pt x="426" y="60"/>
                  </a:lnTo>
                  <a:lnTo>
                    <a:pt x="444" y="76"/>
                  </a:lnTo>
                  <a:lnTo>
                    <a:pt x="460" y="96"/>
                  </a:lnTo>
                  <a:lnTo>
                    <a:pt x="476" y="116"/>
                  </a:lnTo>
                  <a:lnTo>
                    <a:pt x="488" y="136"/>
                  </a:lnTo>
                  <a:lnTo>
                    <a:pt x="500" y="160"/>
                  </a:lnTo>
                  <a:lnTo>
                    <a:pt x="508" y="184"/>
                  </a:lnTo>
                  <a:lnTo>
                    <a:pt x="516" y="208"/>
                  </a:lnTo>
                  <a:lnTo>
                    <a:pt x="518" y="234"/>
                  </a:lnTo>
                  <a:lnTo>
                    <a:pt x="520" y="260"/>
                  </a:lnTo>
                  <a:lnTo>
                    <a:pt x="520" y="260"/>
                  </a:lnTo>
                  <a:close/>
                </a:path>
              </a:pathLst>
            </a:custGeom>
            <a:solidFill>
              <a:srgbClr val="fbd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350"/>
            <p:cNvSpPr/>
            <p:nvPr/>
          </p:nvSpPr>
          <p:spPr>
            <a:xfrm>
              <a:off x="8416800" y="10102680"/>
              <a:ext cx="793800" cy="79056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500" h="498">
                  <a:moveTo>
                    <a:pt x="500" y="248"/>
                  </a:moveTo>
                  <a:lnTo>
                    <a:pt x="500" y="248"/>
                  </a:lnTo>
                  <a:lnTo>
                    <a:pt x="498" y="274"/>
                  </a:lnTo>
                  <a:lnTo>
                    <a:pt x="494" y="300"/>
                  </a:lnTo>
                  <a:lnTo>
                    <a:pt x="488" y="324"/>
                  </a:lnTo>
                  <a:lnTo>
                    <a:pt x="480" y="346"/>
                  </a:lnTo>
                  <a:lnTo>
                    <a:pt x="470" y="368"/>
                  </a:lnTo>
                  <a:lnTo>
                    <a:pt x="456" y="388"/>
                  </a:lnTo>
                  <a:lnTo>
                    <a:pt x="442" y="408"/>
                  </a:lnTo>
                  <a:lnTo>
                    <a:pt x="426" y="426"/>
                  </a:lnTo>
                  <a:lnTo>
                    <a:pt x="408" y="442"/>
                  </a:lnTo>
                  <a:lnTo>
                    <a:pt x="390" y="456"/>
                  </a:lnTo>
                  <a:lnTo>
                    <a:pt x="368" y="468"/>
                  </a:lnTo>
                  <a:lnTo>
                    <a:pt x="348" y="478"/>
                  </a:lnTo>
                  <a:lnTo>
                    <a:pt x="324" y="488"/>
                  </a:lnTo>
                  <a:lnTo>
                    <a:pt x="300" y="494"/>
                  </a:lnTo>
                  <a:lnTo>
                    <a:pt x="276" y="496"/>
                  </a:lnTo>
                  <a:lnTo>
                    <a:pt x="250" y="498"/>
                  </a:lnTo>
                  <a:lnTo>
                    <a:pt x="250" y="498"/>
                  </a:lnTo>
                  <a:lnTo>
                    <a:pt x="224" y="496"/>
                  </a:lnTo>
                  <a:lnTo>
                    <a:pt x="200" y="494"/>
                  </a:lnTo>
                  <a:lnTo>
                    <a:pt x="176" y="488"/>
                  </a:lnTo>
                  <a:lnTo>
                    <a:pt x="154" y="478"/>
                  </a:lnTo>
                  <a:lnTo>
                    <a:pt x="132" y="468"/>
                  </a:lnTo>
                  <a:lnTo>
                    <a:pt x="110" y="456"/>
                  </a:lnTo>
                  <a:lnTo>
                    <a:pt x="92" y="442"/>
                  </a:lnTo>
                  <a:lnTo>
                    <a:pt x="74" y="426"/>
                  </a:lnTo>
                  <a:lnTo>
                    <a:pt x="58" y="408"/>
                  </a:lnTo>
                  <a:lnTo>
                    <a:pt x="44" y="388"/>
                  </a:lnTo>
                  <a:lnTo>
                    <a:pt x="30" y="368"/>
                  </a:lnTo>
                  <a:lnTo>
                    <a:pt x="20" y="346"/>
                  </a:lnTo>
                  <a:lnTo>
                    <a:pt x="12" y="324"/>
                  </a:lnTo>
                  <a:lnTo>
                    <a:pt x="6" y="300"/>
                  </a:lnTo>
                  <a:lnTo>
                    <a:pt x="2" y="274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2" y="224"/>
                  </a:lnTo>
                  <a:lnTo>
                    <a:pt x="6" y="198"/>
                  </a:lnTo>
                  <a:lnTo>
                    <a:pt x="12" y="174"/>
                  </a:lnTo>
                  <a:lnTo>
                    <a:pt x="20" y="152"/>
                  </a:lnTo>
                  <a:lnTo>
                    <a:pt x="30" y="130"/>
                  </a:lnTo>
                  <a:lnTo>
                    <a:pt x="44" y="110"/>
                  </a:lnTo>
                  <a:lnTo>
                    <a:pt x="58" y="90"/>
                  </a:lnTo>
                  <a:lnTo>
                    <a:pt x="74" y="72"/>
                  </a:lnTo>
                  <a:lnTo>
                    <a:pt x="92" y="56"/>
                  </a:lnTo>
                  <a:lnTo>
                    <a:pt x="110" y="42"/>
                  </a:lnTo>
                  <a:lnTo>
                    <a:pt x="132" y="30"/>
                  </a:lnTo>
                  <a:lnTo>
                    <a:pt x="154" y="20"/>
                  </a:lnTo>
                  <a:lnTo>
                    <a:pt x="176" y="10"/>
                  </a:lnTo>
                  <a:lnTo>
                    <a:pt x="200" y="4"/>
                  </a:lnTo>
                  <a:lnTo>
                    <a:pt x="224" y="2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76" y="2"/>
                  </a:lnTo>
                  <a:lnTo>
                    <a:pt x="300" y="4"/>
                  </a:lnTo>
                  <a:lnTo>
                    <a:pt x="324" y="10"/>
                  </a:lnTo>
                  <a:lnTo>
                    <a:pt x="348" y="20"/>
                  </a:lnTo>
                  <a:lnTo>
                    <a:pt x="368" y="30"/>
                  </a:lnTo>
                  <a:lnTo>
                    <a:pt x="390" y="42"/>
                  </a:lnTo>
                  <a:lnTo>
                    <a:pt x="408" y="56"/>
                  </a:lnTo>
                  <a:lnTo>
                    <a:pt x="426" y="72"/>
                  </a:lnTo>
                  <a:lnTo>
                    <a:pt x="442" y="90"/>
                  </a:lnTo>
                  <a:lnTo>
                    <a:pt x="456" y="110"/>
                  </a:lnTo>
                  <a:lnTo>
                    <a:pt x="470" y="130"/>
                  </a:lnTo>
                  <a:lnTo>
                    <a:pt x="480" y="152"/>
                  </a:lnTo>
                  <a:lnTo>
                    <a:pt x="488" y="174"/>
                  </a:lnTo>
                  <a:lnTo>
                    <a:pt x="494" y="198"/>
                  </a:lnTo>
                  <a:lnTo>
                    <a:pt x="498" y="224"/>
                  </a:lnTo>
                  <a:lnTo>
                    <a:pt x="500" y="248"/>
                  </a:lnTo>
                  <a:lnTo>
                    <a:pt x="500" y="248"/>
                  </a:lnTo>
                  <a:close/>
                </a:path>
              </a:pathLst>
            </a:custGeom>
            <a:solidFill>
              <a:srgbClr val="fbd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351"/>
            <p:cNvSpPr/>
            <p:nvPr/>
          </p:nvSpPr>
          <p:spPr>
            <a:xfrm>
              <a:off x="8426160" y="10112400"/>
              <a:ext cx="755640" cy="7585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476" h="478">
                  <a:moveTo>
                    <a:pt x="476" y="240"/>
                  </a:moveTo>
                  <a:lnTo>
                    <a:pt x="476" y="240"/>
                  </a:lnTo>
                  <a:lnTo>
                    <a:pt x="474" y="264"/>
                  </a:lnTo>
                  <a:lnTo>
                    <a:pt x="472" y="288"/>
                  </a:lnTo>
                  <a:lnTo>
                    <a:pt x="466" y="310"/>
                  </a:lnTo>
                  <a:lnTo>
                    <a:pt x="458" y="332"/>
                  </a:lnTo>
                  <a:lnTo>
                    <a:pt x="448" y="354"/>
                  </a:lnTo>
                  <a:lnTo>
                    <a:pt x="436" y="372"/>
                  </a:lnTo>
                  <a:lnTo>
                    <a:pt x="422" y="392"/>
                  </a:lnTo>
                  <a:lnTo>
                    <a:pt x="406" y="408"/>
                  </a:lnTo>
                  <a:lnTo>
                    <a:pt x="390" y="424"/>
                  </a:lnTo>
                  <a:lnTo>
                    <a:pt x="370" y="438"/>
                  </a:lnTo>
                  <a:lnTo>
                    <a:pt x="352" y="450"/>
                  </a:lnTo>
                  <a:lnTo>
                    <a:pt x="330" y="460"/>
                  </a:lnTo>
                  <a:lnTo>
                    <a:pt x="308" y="468"/>
                  </a:lnTo>
                  <a:lnTo>
                    <a:pt x="286" y="474"/>
                  </a:lnTo>
                  <a:lnTo>
                    <a:pt x="262" y="476"/>
                  </a:lnTo>
                  <a:lnTo>
                    <a:pt x="238" y="478"/>
                  </a:lnTo>
                  <a:lnTo>
                    <a:pt x="238" y="478"/>
                  </a:lnTo>
                  <a:lnTo>
                    <a:pt x="214" y="476"/>
                  </a:lnTo>
                  <a:lnTo>
                    <a:pt x="190" y="474"/>
                  </a:lnTo>
                  <a:lnTo>
                    <a:pt x="166" y="468"/>
                  </a:lnTo>
                  <a:lnTo>
                    <a:pt x="144" y="460"/>
                  </a:lnTo>
                  <a:lnTo>
                    <a:pt x="124" y="450"/>
                  </a:lnTo>
                  <a:lnTo>
                    <a:pt x="104" y="438"/>
                  </a:lnTo>
                  <a:lnTo>
                    <a:pt x="86" y="424"/>
                  </a:lnTo>
                  <a:lnTo>
                    <a:pt x="68" y="408"/>
                  </a:lnTo>
                  <a:lnTo>
                    <a:pt x="54" y="392"/>
                  </a:lnTo>
                  <a:lnTo>
                    <a:pt x="40" y="372"/>
                  </a:lnTo>
                  <a:lnTo>
                    <a:pt x="28" y="354"/>
                  </a:lnTo>
                  <a:lnTo>
                    <a:pt x="18" y="332"/>
                  </a:lnTo>
                  <a:lnTo>
                    <a:pt x="10" y="310"/>
                  </a:lnTo>
                  <a:lnTo>
                    <a:pt x="4" y="288"/>
                  </a:lnTo>
                  <a:lnTo>
                    <a:pt x="0" y="264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14"/>
                  </a:lnTo>
                  <a:lnTo>
                    <a:pt x="4" y="192"/>
                  </a:lnTo>
                  <a:lnTo>
                    <a:pt x="10" y="168"/>
                  </a:lnTo>
                  <a:lnTo>
                    <a:pt x="18" y="146"/>
                  </a:lnTo>
                  <a:lnTo>
                    <a:pt x="28" y="126"/>
                  </a:lnTo>
                  <a:lnTo>
                    <a:pt x="40" y="106"/>
                  </a:lnTo>
                  <a:lnTo>
                    <a:pt x="54" y="88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104" y="42"/>
                  </a:lnTo>
                  <a:lnTo>
                    <a:pt x="124" y="30"/>
                  </a:lnTo>
                  <a:lnTo>
                    <a:pt x="144" y="20"/>
                  </a:lnTo>
                  <a:lnTo>
                    <a:pt x="166" y="12"/>
                  </a:lnTo>
                  <a:lnTo>
                    <a:pt x="190" y="6"/>
                  </a:lnTo>
                  <a:lnTo>
                    <a:pt x="214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62" y="2"/>
                  </a:lnTo>
                  <a:lnTo>
                    <a:pt x="286" y="6"/>
                  </a:lnTo>
                  <a:lnTo>
                    <a:pt x="308" y="12"/>
                  </a:lnTo>
                  <a:lnTo>
                    <a:pt x="330" y="20"/>
                  </a:lnTo>
                  <a:lnTo>
                    <a:pt x="352" y="30"/>
                  </a:lnTo>
                  <a:lnTo>
                    <a:pt x="370" y="42"/>
                  </a:lnTo>
                  <a:lnTo>
                    <a:pt x="390" y="56"/>
                  </a:lnTo>
                  <a:lnTo>
                    <a:pt x="406" y="70"/>
                  </a:lnTo>
                  <a:lnTo>
                    <a:pt x="422" y="88"/>
                  </a:lnTo>
                  <a:lnTo>
                    <a:pt x="436" y="106"/>
                  </a:lnTo>
                  <a:lnTo>
                    <a:pt x="448" y="126"/>
                  </a:lnTo>
                  <a:lnTo>
                    <a:pt x="458" y="146"/>
                  </a:lnTo>
                  <a:lnTo>
                    <a:pt x="466" y="168"/>
                  </a:lnTo>
                  <a:lnTo>
                    <a:pt x="472" y="192"/>
                  </a:lnTo>
                  <a:lnTo>
                    <a:pt x="474" y="214"/>
                  </a:lnTo>
                  <a:lnTo>
                    <a:pt x="476" y="240"/>
                  </a:lnTo>
                  <a:lnTo>
                    <a:pt x="476" y="240"/>
                  </a:lnTo>
                  <a:close/>
                </a:path>
              </a:pathLst>
            </a:custGeom>
            <a:solidFill>
              <a:srgbClr val="fbd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352"/>
            <p:cNvSpPr/>
            <p:nvPr/>
          </p:nvSpPr>
          <p:spPr>
            <a:xfrm>
              <a:off x="8432640" y="10125000"/>
              <a:ext cx="723960" cy="7236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456" h="456">
                  <a:moveTo>
                    <a:pt x="456" y="228"/>
                  </a:moveTo>
                  <a:lnTo>
                    <a:pt x="456" y="228"/>
                  </a:lnTo>
                  <a:lnTo>
                    <a:pt x="454" y="252"/>
                  </a:lnTo>
                  <a:lnTo>
                    <a:pt x="450" y="274"/>
                  </a:lnTo>
                  <a:lnTo>
                    <a:pt x="444" y="296"/>
                  </a:lnTo>
                  <a:lnTo>
                    <a:pt x="438" y="316"/>
                  </a:lnTo>
                  <a:lnTo>
                    <a:pt x="428" y="336"/>
                  </a:lnTo>
                  <a:lnTo>
                    <a:pt x="416" y="356"/>
                  </a:lnTo>
                  <a:lnTo>
                    <a:pt x="404" y="372"/>
                  </a:lnTo>
                  <a:lnTo>
                    <a:pt x="388" y="388"/>
                  </a:lnTo>
                  <a:lnTo>
                    <a:pt x="372" y="404"/>
                  </a:lnTo>
                  <a:lnTo>
                    <a:pt x="354" y="416"/>
                  </a:lnTo>
                  <a:lnTo>
                    <a:pt x="336" y="428"/>
                  </a:lnTo>
                  <a:lnTo>
                    <a:pt x="316" y="438"/>
                  </a:lnTo>
                  <a:lnTo>
                    <a:pt x="294" y="446"/>
                  </a:lnTo>
                  <a:lnTo>
                    <a:pt x="274" y="452"/>
                  </a:lnTo>
                  <a:lnTo>
                    <a:pt x="250" y="454"/>
                  </a:lnTo>
                  <a:lnTo>
                    <a:pt x="228" y="456"/>
                  </a:lnTo>
                  <a:lnTo>
                    <a:pt x="228" y="456"/>
                  </a:lnTo>
                  <a:lnTo>
                    <a:pt x="204" y="454"/>
                  </a:lnTo>
                  <a:lnTo>
                    <a:pt x="182" y="452"/>
                  </a:lnTo>
                  <a:lnTo>
                    <a:pt x="160" y="446"/>
                  </a:lnTo>
                  <a:lnTo>
                    <a:pt x="138" y="438"/>
                  </a:lnTo>
                  <a:lnTo>
                    <a:pt x="118" y="428"/>
                  </a:lnTo>
                  <a:lnTo>
                    <a:pt x="100" y="416"/>
                  </a:lnTo>
                  <a:lnTo>
                    <a:pt x="82" y="404"/>
                  </a:lnTo>
                  <a:lnTo>
                    <a:pt x="66" y="388"/>
                  </a:lnTo>
                  <a:lnTo>
                    <a:pt x="52" y="372"/>
                  </a:lnTo>
                  <a:lnTo>
                    <a:pt x="38" y="356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6"/>
                  </a:lnTo>
                  <a:lnTo>
                    <a:pt x="4" y="274"/>
                  </a:lnTo>
                  <a:lnTo>
                    <a:pt x="0" y="252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04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40"/>
                  </a:lnTo>
                  <a:lnTo>
                    <a:pt x="26" y="120"/>
                  </a:lnTo>
                  <a:lnTo>
                    <a:pt x="38" y="100"/>
                  </a:lnTo>
                  <a:lnTo>
                    <a:pt x="52" y="82"/>
                  </a:lnTo>
                  <a:lnTo>
                    <a:pt x="66" y="66"/>
                  </a:lnTo>
                  <a:lnTo>
                    <a:pt x="82" y="52"/>
                  </a:lnTo>
                  <a:lnTo>
                    <a:pt x="100" y="38"/>
                  </a:lnTo>
                  <a:lnTo>
                    <a:pt x="118" y="28"/>
                  </a:lnTo>
                  <a:lnTo>
                    <a:pt x="138" y="18"/>
                  </a:lnTo>
                  <a:lnTo>
                    <a:pt x="160" y="10"/>
                  </a:lnTo>
                  <a:lnTo>
                    <a:pt x="182" y="4"/>
                  </a:lnTo>
                  <a:lnTo>
                    <a:pt x="204" y="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4" y="4"/>
                  </a:lnTo>
                  <a:lnTo>
                    <a:pt x="294" y="10"/>
                  </a:lnTo>
                  <a:lnTo>
                    <a:pt x="316" y="18"/>
                  </a:lnTo>
                  <a:lnTo>
                    <a:pt x="336" y="28"/>
                  </a:lnTo>
                  <a:lnTo>
                    <a:pt x="354" y="38"/>
                  </a:lnTo>
                  <a:lnTo>
                    <a:pt x="372" y="52"/>
                  </a:lnTo>
                  <a:lnTo>
                    <a:pt x="388" y="66"/>
                  </a:lnTo>
                  <a:lnTo>
                    <a:pt x="404" y="82"/>
                  </a:lnTo>
                  <a:lnTo>
                    <a:pt x="416" y="100"/>
                  </a:lnTo>
                  <a:lnTo>
                    <a:pt x="428" y="120"/>
                  </a:lnTo>
                  <a:lnTo>
                    <a:pt x="438" y="140"/>
                  </a:lnTo>
                  <a:lnTo>
                    <a:pt x="444" y="160"/>
                  </a:lnTo>
                  <a:lnTo>
                    <a:pt x="450" y="182"/>
                  </a:lnTo>
                  <a:lnTo>
                    <a:pt x="454" y="204"/>
                  </a:lnTo>
                  <a:lnTo>
                    <a:pt x="456" y="228"/>
                  </a:lnTo>
                  <a:lnTo>
                    <a:pt x="456" y="228"/>
                  </a:lnTo>
                  <a:close/>
                </a:path>
              </a:pathLst>
            </a:custGeom>
            <a:solidFill>
              <a:srgbClr val="fbd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353"/>
            <p:cNvSpPr/>
            <p:nvPr/>
          </p:nvSpPr>
          <p:spPr>
            <a:xfrm>
              <a:off x="8439120" y="10134720"/>
              <a:ext cx="689040" cy="69192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434" h="436">
                  <a:moveTo>
                    <a:pt x="434" y="218"/>
                  </a:moveTo>
                  <a:lnTo>
                    <a:pt x="434" y="218"/>
                  </a:lnTo>
                  <a:lnTo>
                    <a:pt x="432" y="240"/>
                  </a:lnTo>
                  <a:lnTo>
                    <a:pt x="430" y="262"/>
                  </a:lnTo>
                  <a:lnTo>
                    <a:pt x="424" y="282"/>
                  </a:lnTo>
                  <a:lnTo>
                    <a:pt x="416" y="302"/>
                  </a:lnTo>
                  <a:lnTo>
                    <a:pt x="408" y="322"/>
                  </a:lnTo>
                  <a:lnTo>
                    <a:pt x="396" y="340"/>
                  </a:lnTo>
                  <a:lnTo>
                    <a:pt x="384" y="356"/>
                  </a:lnTo>
                  <a:lnTo>
                    <a:pt x="370" y="372"/>
                  </a:lnTo>
                  <a:lnTo>
                    <a:pt x="354" y="386"/>
                  </a:lnTo>
                  <a:lnTo>
                    <a:pt x="338" y="398"/>
                  </a:lnTo>
                  <a:lnTo>
                    <a:pt x="320" y="410"/>
                  </a:lnTo>
                  <a:lnTo>
                    <a:pt x="302" y="418"/>
                  </a:lnTo>
                  <a:lnTo>
                    <a:pt x="282" y="426"/>
                  </a:lnTo>
                  <a:lnTo>
                    <a:pt x="260" y="432"/>
                  </a:lnTo>
                  <a:lnTo>
                    <a:pt x="238" y="434"/>
                  </a:lnTo>
                  <a:lnTo>
                    <a:pt x="216" y="436"/>
                  </a:lnTo>
                  <a:lnTo>
                    <a:pt x="216" y="436"/>
                  </a:lnTo>
                  <a:lnTo>
                    <a:pt x="194" y="434"/>
                  </a:lnTo>
                  <a:lnTo>
                    <a:pt x="172" y="432"/>
                  </a:lnTo>
                  <a:lnTo>
                    <a:pt x="152" y="426"/>
                  </a:lnTo>
                  <a:lnTo>
                    <a:pt x="132" y="418"/>
                  </a:lnTo>
                  <a:lnTo>
                    <a:pt x="114" y="410"/>
                  </a:lnTo>
                  <a:lnTo>
                    <a:pt x="96" y="398"/>
                  </a:lnTo>
                  <a:lnTo>
                    <a:pt x="78" y="386"/>
                  </a:lnTo>
                  <a:lnTo>
                    <a:pt x="64" y="372"/>
                  </a:lnTo>
                  <a:lnTo>
                    <a:pt x="50" y="356"/>
                  </a:lnTo>
                  <a:lnTo>
                    <a:pt x="36" y="340"/>
                  </a:lnTo>
                  <a:lnTo>
                    <a:pt x="26" y="322"/>
                  </a:lnTo>
                  <a:lnTo>
                    <a:pt x="16" y="302"/>
                  </a:lnTo>
                  <a:lnTo>
                    <a:pt x="10" y="282"/>
                  </a:lnTo>
                  <a:lnTo>
                    <a:pt x="4" y="262"/>
                  </a:lnTo>
                  <a:lnTo>
                    <a:pt x="0" y="240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196"/>
                  </a:lnTo>
                  <a:lnTo>
                    <a:pt x="4" y="174"/>
                  </a:lnTo>
                  <a:lnTo>
                    <a:pt x="10" y="154"/>
                  </a:lnTo>
                  <a:lnTo>
                    <a:pt x="16" y="134"/>
                  </a:lnTo>
                  <a:lnTo>
                    <a:pt x="26" y="114"/>
                  </a:lnTo>
                  <a:lnTo>
                    <a:pt x="36" y="96"/>
                  </a:lnTo>
                  <a:lnTo>
                    <a:pt x="50" y="80"/>
                  </a:lnTo>
                  <a:lnTo>
                    <a:pt x="64" y="64"/>
                  </a:lnTo>
                  <a:lnTo>
                    <a:pt x="78" y="50"/>
                  </a:lnTo>
                  <a:lnTo>
                    <a:pt x="96" y="38"/>
                  </a:lnTo>
                  <a:lnTo>
                    <a:pt x="114" y="28"/>
                  </a:lnTo>
                  <a:lnTo>
                    <a:pt x="132" y="18"/>
                  </a:lnTo>
                  <a:lnTo>
                    <a:pt x="152" y="10"/>
                  </a:lnTo>
                  <a:lnTo>
                    <a:pt x="172" y="6"/>
                  </a:lnTo>
                  <a:lnTo>
                    <a:pt x="194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38" y="2"/>
                  </a:lnTo>
                  <a:lnTo>
                    <a:pt x="260" y="6"/>
                  </a:lnTo>
                  <a:lnTo>
                    <a:pt x="282" y="10"/>
                  </a:lnTo>
                  <a:lnTo>
                    <a:pt x="302" y="18"/>
                  </a:lnTo>
                  <a:lnTo>
                    <a:pt x="320" y="28"/>
                  </a:lnTo>
                  <a:lnTo>
                    <a:pt x="338" y="38"/>
                  </a:lnTo>
                  <a:lnTo>
                    <a:pt x="354" y="50"/>
                  </a:lnTo>
                  <a:lnTo>
                    <a:pt x="370" y="64"/>
                  </a:lnTo>
                  <a:lnTo>
                    <a:pt x="384" y="80"/>
                  </a:lnTo>
                  <a:lnTo>
                    <a:pt x="396" y="96"/>
                  </a:lnTo>
                  <a:lnTo>
                    <a:pt x="408" y="114"/>
                  </a:lnTo>
                  <a:lnTo>
                    <a:pt x="416" y="134"/>
                  </a:lnTo>
                  <a:lnTo>
                    <a:pt x="424" y="154"/>
                  </a:lnTo>
                  <a:lnTo>
                    <a:pt x="430" y="174"/>
                  </a:lnTo>
                  <a:lnTo>
                    <a:pt x="432" y="196"/>
                  </a:lnTo>
                  <a:lnTo>
                    <a:pt x="434" y="218"/>
                  </a:lnTo>
                  <a:lnTo>
                    <a:pt x="434" y="218"/>
                  </a:lnTo>
                  <a:close/>
                </a:path>
              </a:pathLst>
            </a:custGeom>
            <a:solidFill>
              <a:srgbClr val="fcd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354"/>
            <p:cNvSpPr/>
            <p:nvPr/>
          </p:nvSpPr>
          <p:spPr>
            <a:xfrm>
              <a:off x="8445240" y="10147320"/>
              <a:ext cx="657000" cy="6570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14" h="414">
                  <a:moveTo>
                    <a:pt x="414" y="206"/>
                  </a:moveTo>
                  <a:lnTo>
                    <a:pt x="414" y="206"/>
                  </a:lnTo>
                  <a:lnTo>
                    <a:pt x="412" y="228"/>
                  </a:lnTo>
                  <a:lnTo>
                    <a:pt x="408" y="248"/>
                  </a:lnTo>
                  <a:lnTo>
                    <a:pt x="404" y="268"/>
                  </a:lnTo>
                  <a:lnTo>
                    <a:pt x="396" y="288"/>
                  </a:lnTo>
                  <a:lnTo>
                    <a:pt x="388" y="306"/>
                  </a:lnTo>
                  <a:lnTo>
                    <a:pt x="378" y="322"/>
                  </a:lnTo>
                  <a:lnTo>
                    <a:pt x="366" y="338"/>
                  </a:lnTo>
                  <a:lnTo>
                    <a:pt x="352" y="352"/>
                  </a:lnTo>
                  <a:lnTo>
                    <a:pt x="338" y="366"/>
                  </a:lnTo>
                  <a:lnTo>
                    <a:pt x="322" y="378"/>
                  </a:lnTo>
                  <a:lnTo>
                    <a:pt x="304" y="388"/>
                  </a:lnTo>
                  <a:lnTo>
                    <a:pt x="286" y="398"/>
                  </a:lnTo>
                  <a:lnTo>
                    <a:pt x="268" y="404"/>
                  </a:lnTo>
                  <a:lnTo>
                    <a:pt x="248" y="410"/>
                  </a:lnTo>
                  <a:lnTo>
                    <a:pt x="228" y="412"/>
                  </a:lnTo>
                  <a:lnTo>
                    <a:pt x="206" y="414"/>
                  </a:lnTo>
                  <a:lnTo>
                    <a:pt x="206" y="414"/>
                  </a:lnTo>
                  <a:lnTo>
                    <a:pt x="186" y="412"/>
                  </a:lnTo>
                  <a:lnTo>
                    <a:pt x="164" y="410"/>
                  </a:lnTo>
                  <a:lnTo>
                    <a:pt x="144" y="404"/>
                  </a:lnTo>
                  <a:lnTo>
                    <a:pt x="126" y="398"/>
                  </a:lnTo>
                  <a:lnTo>
                    <a:pt x="108" y="388"/>
                  </a:lnTo>
                  <a:lnTo>
                    <a:pt x="90" y="378"/>
                  </a:lnTo>
                  <a:lnTo>
                    <a:pt x="74" y="366"/>
                  </a:lnTo>
                  <a:lnTo>
                    <a:pt x="60" y="352"/>
                  </a:lnTo>
                  <a:lnTo>
                    <a:pt x="46" y="338"/>
                  </a:lnTo>
                  <a:lnTo>
                    <a:pt x="34" y="322"/>
                  </a:lnTo>
                  <a:lnTo>
                    <a:pt x="24" y="306"/>
                  </a:lnTo>
                  <a:lnTo>
                    <a:pt x="16" y="288"/>
                  </a:lnTo>
                  <a:lnTo>
                    <a:pt x="8" y="268"/>
                  </a:lnTo>
                  <a:lnTo>
                    <a:pt x="4" y="248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186"/>
                  </a:lnTo>
                  <a:lnTo>
                    <a:pt x="4" y="164"/>
                  </a:lnTo>
                  <a:lnTo>
                    <a:pt x="8" y="146"/>
                  </a:lnTo>
                  <a:lnTo>
                    <a:pt x="16" y="126"/>
                  </a:lnTo>
                  <a:lnTo>
                    <a:pt x="24" y="108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4" y="48"/>
                  </a:lnTo>
                  <a:lnTo>
                    <a:pt x="90" y="36"/>
                  </a:lnTo>
                  <a:lnTo>
                    <a:pt x="108" y="24"/>
                  </a:lnTo>
                  <a:lnTo>
                    <a:pt x="126" y="16"/>
                  </a:lnTo>
                  <a:lnTo>
                    <a:pt x="144" y="10"/>
                  </a:lnTo>
                  <a:lnTo>
                    <a:pt x="164" y="4"/>
                  </a:lnTo>
                  <a:lnTo>
                    <a:pt x="186" y="2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28" y="2"/>
                  </a:lnTo>
                  <a:lnTo>
                    <a:pt x="248" y="4"/>
                  </a:lnTo>
                  <a:lnTo>
                    <a:pt x="268" y="10"/>
                  </a:lnTo>
                  <a:lnTo>
                    <a:pt x="286" y="16"/>
                  </a:lnTo>
                  <a:lnTo>
                    <a:pt x="304" y="24"/>
                  </a:lnTo>
                  <a:lnTo>
                    <a:pt x="322" y="36"/>
                  </a:lnTo>
                  <a:lnTo>
                    <a:pt x="338" y="48"/>
                  </a:lnTo>
                  <a:lnTo>
                    <a:pt x="352" y="60"/>
                  </a:lnTo>
                  <a:lnTo>
                    <a:pt x="366" y="76"/>
                  </a:lnTo>
                  <a:lnTo>
                    <a:pt x="378" y="92"/>
                  </a:lnTo>
                  <a:lnTo>
                    <a:pt x="388" y="108"/>
                  </a:lnTo>
                  <a:lnTo>
                    <a:pt x="396" y="126"/>
                  </a:lnTo>
                  <a:lnTo>
                    <a:pt x="404" y="146"/>
                  </a:lnTo>
                  <a:lnTo>
                    <a:pt x="408" y="164"/>
                  </a:lnTo>
                  <a:lnTo>
                    <a:pt x="412" y="186"/>
                  </a:lnTo>
                  <a:lnTo>
                    <a:pt x="414" y="206"/>
                  </a:lnTo>
                  <a:lnTo>
                    <a:pt x="414" y="206"/>
                  </a:lnTo>
                  <a:close/>
                </a:path>
              </a:pathLst>
            </a:custGeom>
            <a:solidFill>
              <a:srgbClr val="fcd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55"/>
            <p:cNvSpPr/>
            <p:nvPr/>
          </p:nvSpPr>
          <p:spPr>
            <a:xfrm>
              <a:off x="8451720" y="10159920"/>
              <a:ext cx="622080" cy="6220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92" h="392">
                  <a:moveTo>
                    <a:pt x="392" y="196"/>
                  </a:moveTo>
                  <a:lnTo>
                    <a:pt x="392" y="196"/>
                  </a:lnTo>
                  <a:lnTo>
                    <a:pt x="390" y="216"/>
                  </a:lnTo>
                  <a:lnTo>
                    <a:pt x="388" y="234"/>
                  </a:lnTo>
                  <a:lnTo>
                    <a:pt x="384" y="254"/>
                  </a:lnTo>
                  <a:lnTo>
                    <a:pt x="376" y="272"/>
                  </a:lnTo>
                  <a:lnTo>
                    <a:pt x="368" y="288"/>
                  </a:lnTo>
                  <a:lnTo>
                    <a:pt x="358" y="304"/>
                  </a:lnTo>
                  <a:lnTo>
                    <a:pt x="348" y="320"/>
                  </a:lnTo>
                  <a:lnTo>
                    <a:pt x="334" y="334"/>
                  </a:lnTo>
                  <a:lnTo>
                    <a:pt x="320" y="346"/>
                  </a:lnTo>
                  <a:lnTo>
                    <a:pt x="306" y="358"/>
                  </a:lnTo>
                  <a:lnTo>
                    <a:pt x="290" y="368"/>
                  </a:lnTo>
                  <a:lnTo>
                    <a:pt x="272" y="376"/>
                  </a:lnTo>
                  <a:lnTo>
                    <a:pt x="254" y="382"/>
                  </a:lnTo>
                  <a:lnTo>
                    <a:pt x="236" y="388"/>
                  </a:lnTo>
                  <a:lnTo>
                    <a:pt x="216" y="390"/>
                  </a:lnTo>
                  <a:lnTo>
                    <a:pt x="196" y="392"/>
                  </a:lnTo>
                  <a:lnTo>
                    <a:pt x="196" y="392"/>
                  </a:lnTo>
                  <a:lnTo>
                    <a:pt x="176" y="390"/>
                  </a:lnTo>
                  <a:lnTo>
                    <a:pt x="156" y="388"/>
                  </a:lnTo>
                  <a:lnTo>
                    <a:pt x="138" y="382"/>
                  </a:lnTo>
                  <a:lnTo>
                    <a:pt x="120" y="376"/>
                  </a:lnTo>
                  <a:lnTo>
                    <a:pt x="102" y="368"/>
                  </a:lnTo>
                  <a:lnTo>
                    <a:pt x="86" y="358"/>
                  </a:lnTo>
                  <a:lnTo>
                    <a:pt x="72" y="346"/>
                  </a:lnTo>
                  <a:lnTo>
                    <a:pt x="58" y="334"/>
                  </a:lnTo>
                  <a:lnTo>
                    <a:pt x="44" y="320"/>
                  </a:lnTo>
                  <a:lnTo>
                    <a:pt x="34" y="304"/>
                  </a:lnTo>
                  <a:lnTo>
                    <a:pt x="24" y="288"/>
                  </a:lnTo>
                  <a:lnTo>
                    <a:pt x="16" y="272"/>
                  </a:lnTo>
                  <a:lnTo>
                    <a:pt x="8" y="254"/>
                  </a:lnTo>
                  <a:lnTo>
                    <a:pt x="4" y="234"/>
                  </a:lnTo>
                  <a:lnTo>
                    <a:pt x="0" y="21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4" y="156"/>
                  </a:lnTo>
                  <a:lnTo>
                    <a:pt x="8" y="136"/>
                  </a:lnTo>
                  <a:lnTo>
                    <a:pt x="16" y="118"/>
                  </a:lnTo>
                  <a:lnTo>
                    <a:pt x="24" y="102"/>
                  </a:lnTo>
                  <a:lnTo>
                    <a:pt x="34" y="86"/>
                  </a:lnTo>
                  <a:lnTo>
                    <a:pt x="44" y="70"/>
                  </a:lnTo>
                  <a:lnTo>
                    <a:pt x="58" y="56"/>
                  </a:lnTo>
                  <a:lnTo>
                    <a:pt x="72" y="44"/>
                  </a:lnTo>
                  <a:lnTo>
                    <a:pt x="86" y="32"/>
                  </a:lnTo>
                  <a:lnTo>
                    <a:pt x="102" y="22"/>
                  </a:lnTo>
                  <a:lnTo>
                    <a:pt x="120" y="14"/>
                  </a:lnTo>
                  <a:lnTo>
                    <a:pt x="138" y="8"/>
                  </a:lnTo>
                  <a:lnTo>
                    <a:pt x="156" y="2"/>
                  </a:lnTo>
                  <a:lnTo>
                    <a:pt x="176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16" y="0"/>
                  </a:lnTo>
                  <a:lnTo>
                    <a:pt x="236" y="2"/>
                  </a:lnTo>
                  <a:lnTo>
                    <a:pt x="254" y="8"/>
                  </a:lnTo>
                  <a:lnTo>
                    <a:pt x="272" y="14"/>
                  </a:lnTo>
                  <a:lnTo>
                    <a:pt x="290" y="22"/>
                  </a:lnTo>
                  <a:lnTo>
                    <a:pt x="306" y="32"/>
                  </a:lnTo>
                  <a:lnTo>
                    <a:pt x="320" y="44"/>
                  </a:lnTo>
                  <a:lnTo>
                    <a:pt x="334" y="56"/>
                  </a:lnTo>
                  <a:lnTo>
                    <a:pt x="348" y="70"/>
                  </a:lnTo>
                  <a:lnTo>
                    <a:pt x="358" y="86"/>
                  </a:lnTo>
                  <a:lnTo>
                    <a:pt x="368" y="102"/>
                  </a:lnTo>
                  <a:lnTo>
                    <a:pt x="376" y="118"/>
                  </a:lnTo>
                  <a:lnTo>
                    <a:pt x="384" y="136"/>
                  </a:lnTo>
                  <a:lnTo>
                    <a:pt x="388" y="156"/>
                  </a:lnTo>
                  <a:lnTo>
                    <a:pt x="390" y="174"/>
                  </a:lnTo>
                  <a:lnTo>
                    <a:pt x="392" y="196"/>
                  </a:lnTo>
                  <a:lnTo>
                    <a:pt x="392" y="196"/>
                  </a:lnTo>
                  <a:close/>
                </a:path>
              </a:pathLst>
            </a:custGeom>
            <a:solidFill>
              <a:srgbClr val="fcd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56"/>
            <p:cNvSpPr/>
            <p:nvPr/>
          </p:nvSpPr>
          <p:spPr>
            <a:xfrm>
              <a:off x="8458200" y="10169640"/>
              <a:ext cx="587160" cy="58716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370" h="370">
                  <a:moveTo>
                    <a:pt x="370" y="186"/>
                  </a:moveTo>
                  <a:lnTo>
                    <a:pt x="370" y="186"/>
                  </a:lnTo>
                  <a:lnTo>
                    <a:pt x="370" y="204"/>
                  </a:lnTo>
                  <a:lnTo>
                    <a:pt x="368" y="222"/>
                  </a:lnTo>
                  <a:lnTo>
                    <a:pt x="362" y="240"/>
                  </a:lnTo>
                  <a:lnTo>
                    <a:pt x="356" y="258"/>
                  </a:lnTo>
                  <a:lnTo>
                    <a:pt x="348" y="274"/>
                  </a:lnTo>
                  <a:lnTo>
                    <a:pt x="340" y="290"/>
                  </a:lnTo>
                  <a:lnTo>
                    <a:pt x="328" y="304"/>
                  </a:lnTo>
                  <a:lnTo>
                    <a:pt x="316" y="316"/>
                  </a:lnTo>
                  <a:lnTo>
                    <a:pt x="304" y="328"/>
                  </a:lnTo>
                  <a:lnTo>
                    <a:pt x="290" y="340"/>
                  </a:lnTo>
                  <a:lnTo>
                    <a:pt x="274" y="348"/>
                  </a:lnTo>
                  <a:lnTo>
                    <a:pt x="258" y="356"/>
                  </a:lnTo>
                  <a:lnTo>
                    <a:pt x="240" y="362"/>
                  </a:lnTo>
                  <a:lnTo>
                    <a:pt x="222" y="368"/>
                  </a:lnTo>
                  <a:lnTo>
                    <a:pt x="204" y="370"/>
                  </a:lnTo>
                  <a:lnTo>
                    <a:pt x="186" y="370"/>
                  </a:lnTo>
                  <a:lnTo>
                    <a:pt x="186" y="370"/>
                  </a:lnTo>
                  <a:lnTo>
                    <a:pt x="166" y="370"/>
                  </a:lnTo>
                  <a:lnTo>
                    <a:pt x="148" y="368"/>
                  </a:lnTo>
                  <a:lnTo>
                    <a:pt x="130" y="362"/>
                  </a:lnTo>
                  <a:lnTo>
                    <a:pt x="114" y="356"/>
                  </a:lnTo>
                  <a:lnTo>
                    <a:pt x="98" y="348"/>
                  </a:lnTo>
                  <a:lnTo>
                    <a:pt x="82" y="340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4"/>
                  </a:lnTo>
                  <a:lnTo>
                    <a:pt x="32" y="290"/>
                  </a:lnTo>
                  <a:lnTo>
                    <a:pt x="22" y="274"/>
                  </a:lnTo>
                  <a:lnTo>
                    <a:pt x="14" y="258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2" y="204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4"/>
                  </a:lnTo>
                  <a:lnTo>
                    <a:pt x="22" y="98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8" y="22"/>
                  </a:lnTo>
                  <a:lnTo>
                    <a:pt x="114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2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204" y="2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8" y="14"/>
                  </a:lnTo>
                  <a:lnTo>
                    <a:pt x="274" y="22"/>
                  </a:lnTo>
                  <a:lnTo>
                    <a:pt x="290" y="32"/>
                  </a:lnTo>
                  <a:lnTo>
                    <a:pt x="304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40" y="82"/>
                  </a:lnTo>
                  <a:lnTo>
                    <a:pt x="348" y="98"/>
                  </a:lnTo>
                  <a:lnTo>
                    <a:pt x="356" y="114"/>
                  </a:lnTo>
                  <a:lnTo>
                    <a:pt x="362" y="130"/>
                  </a:lnTo>
                  <a:lnTo>
                    <a:pt x="368" y="148"/>
                  </a:lnTo>
                  <a:lnTo>
                    <a:pt x="370" y="166"/>
                  </a:lnTo>
                  <a:lnTo>
                    <a:pt x="370" y="186"/>
                  </a:lnTo>
                  <a:lnTo>
                    <a:pt x="370" y="186"/>
                  </a:lnTo>
                  <a:close/>
                </a:path>
              </a:pathLst>
            </a:custGeom>
            <a:solidFill>
              <a:srgbClr val="fc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57"/>
            <p:cNvSpPr/>
            <p:nvPr/>
          </p:nvSpPr>
          <p:spPr>
            <a:xfrm>
              <a:off x="8464320" y="10182240"/>
              <a:ext cx="555480" cy="55224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350" y="174"/>
                  </a:moveTo>
                  <a:lnTo>
                    <a:pt x="350" y="174"/>
                  </a:lnTo>
                  <a:lnTo>
                    <a:pt x="348" y="192"/>
                  </a:lnTo>
                  <a:lnTo>
                    <a:pt x="346" y="210"/>
                  </a:lnTo>
                  <a:lnTo>
                    <a:pt x="342" y="226"/>
                  </a:lnTo>
                  <a:lnTo>
                    <a:pt x="336" y="242"/>
                  </a:lnTo>
                  <a:lnTo>
                    <a:pt x="328" y="258"/>
                  </a:lnTo>
                  <a:lnTo>
                    <a:pt x="320" y="272"/>
                  </a:lnTo>
                  <a:lnTo>
                    <a:pt x="310" y="286"/>
                  </a:lnTo>
                  <a:lnTo>
                    <a:pt x="298" y="298"/>
                  </a:lnTo>
                  <a:lnTo>
                    <a:pt x="286" y="308"/>
                  </a:lnTo>
                  <a:lnTo>
                    <a:pt x="272" y="318"/>
                  </a:lnTo>
                  <a:lnTo>
                    <a:pt x="258" y="328"/>
                  </a:lnTo>
                  <a:lnTo>
                    <a:pt x="244" y="334"/>
                  </a:lnTo>
                  <a:lnTo>
                    <a:pt x="228" y="340"/>
                  </a:lnTo>
                  <a:lnTo>
                    <a:pt x="210" y="346"/>
                  </a:lnTo>
                  <a:lnTo>
                    <a:pt x="192" y="348"/>
                  </a:lnTo>
                  <a:lnTo>
                    <a:pt x="176" y="348"/>
                  </a:lnTo>
                  <a:lnTo>
                    <a:pt x="176" y="348"/>
                  </a:lnTo>
                  <a:lnTo>
                    <a:pt x="158" y="348"/>
                  </a:lnTo>
                  <a:lnTo>
                    <a:pt x="140" y="346"/>
                  </a:lnTo>
                  <a:lnTo>
                    <a:pt x="124" y="340"/>
                  </a:lnTo>
                  <a:lnTo>
                    <a:pt x="108" y="334"/>
                  </a:lnTo>
                  <a:lnTo>
                    <a:pt x="92" y="328"/>
                  </a:lnTo>
                  <a:lnTo>
                    <a:pt x="78" y="318"/>
                  </a:lnTo>
                  <a:lnTo>
                    <a:pt x="64" y="308"/>
                  </a:lnTo>
                  <a:lnTo>
                    <a:pt x="52" y="298"/>
                  </a:lnTo>
                  <a:lnTo>
                    <a:pt x="40" y="286"/>
                  </a:lnTo>
                  <a:lnTo>
                    <a:pt x="30" y="272"/>
                  </a:lnTo>
                  <a:lnTo>
                    <a:pt x="22" y="258"/>
                  </a:lnTo>
                  <a:lnTo>
                    <a:pt x="14" y="242"/>
                  </a:lnTo>
                  <a:lnTo>
                    <a:pt x="8" y="226"/>
                  </a:lnTo>
                  <a:lnTo>
                    <a:pt x="4" y="210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8"/>
                  </a:lnTo>
                  <a:lnTo>
                    <a:pt x="8" y="122"/>
                  </a:lnTo>
                  <a:lnTo>
                    <a:pt x="14" y="106"/>
                  </a:lnTo>
                  <a:lnTo>
                    <a:pt x="22" y="90"/>
                  </a:lnTo>
                  <a:lnTo>
                    <a:pt x="30" y="76"/>
                  </a:lnTo>
                  <a:lnTo>
                    <a:pt x="40" y="62"/>
                  </a:lnTo>
                  <a:lnTo>
                    <a:pt x="52" y="50"/>
                  </a:lnTo>
                  <a:lnTo>
                    <a:pt x="64" y="40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4" y="6"/>
                  </a:lnTo>
                  <a:lnTo>
                    <a:pt x="140" y="2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92" y="0"/>
                  </a:lnTo>
                  <a:lnTo>
                    <a:pt x="210" y="2"/>
                  </a:lnTo>
                  <a:lnTo>
                    <a:pt x="228" y="6"/>
                  </a:lnTo>
                  <a:lnTo>
                    <a:pt x="244" y="12"/>
                  </a:lnTo>
                  <a:lnTo>
                    <a:pt x="258" y="20"/>
                  </a:lnTo>
                  <a:lnTo>
                    <a:pt x="272" y="28"/>
                  </a:lnTo>
                  <a:lnTo>
                    <a:pt x="286" y="40"/>
                  </a:lnTo>
                  <a:lnTo>
                    <a:pt x="298" y="50"/>
                  </a:lnTo>
                  <a:lnTo>
                    <a:pt x="310" y="62"/>
                  </a:lnTo>
                  <a:lnTo>
                    <a:pt x="320" y="76"/>
                  </a:lnTo>
                  <a:lnTo>
                    <a:pt x="328" y="90"/>
                  </a:lnTo>
                  <a:lnTo>
                    <a:pt x="336" y="106"/>
                  </a:lnTo>
                  <a:lnTo>
                    <a:pt x="342" y="122"/>
                  </a:lnTo>
                  <a:lnTo>
                    <a:pt x="346" y="138"/>
                  </a:lnTo>
                  <a:lnTo>
                    <a:pt x="348" y="156"/>
                  </a:lnTo>
                  <a:lnTo>
                    <a:pt x="350" y="174"/>
                  </a:lnTo>
                  <a:lnTo>
                    <a:pt x="350" y="174"/>
                  </a:lnTo>
                  <a:close/>
                </a:path>
              </a:pathLst>
            </a:custGeom>
            <a:solidFill>
              <a:srgbClr val="fce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58"/>
            <p:cNvSpPr/>
            <p:nvPr/>
          </p:nvSpPr>
          <p:spPr>
            <a:xfrm>
              <a:off x="8470800" y="10191600"/>
              <a:ext cx="52056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328" y="164"/>
                  </a:moveTo>
                  <a:lnTo>
                    <a:pt x="328" y="164"/>
                  </a:lnTo>
                  <a:lnTo>
                    <a:pt x="328" y="182"/>
                  </a:lnTo>
                  <a:lnTo>
                    <a:pt x="326" y="198"/>
                  </a:lnTo>
                  <a:lnTo>
                    <a:pt x="322" y="214"/>
                  </a:lnTo>
                  <a:lnTo>
                    <a:pt x="316" y="228"/>
                  </a:lnTo>
                  <a:lnTo>
                    <a:pt x="308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6"/>
                  </a:lnTo>
                  <a:lnTo>
                    <a:pt x="214" y="322"/>
                  </a:lnTo>
                  <a:lnTo>
                    <a:pt x="198" y="326"/>
                  </a:lnTo>
                  <a:lnTo>
                    <a:pt x="182" y="328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8"/>
                  </a:lnTo>
                  <a:lnTo>
                    <a:pt x="132" y="326"/>
                  </a:lnTo>
                  <a:lnTo>
                    <a:pt x="116" y="322"/>
                  </a:lnTo>
                  <a:lnTo>
                    <a:pt x="100" y="316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4"/>
                  </a:lnTo>
                  <a:lnTo>
                    <a:pt x="4" y="198"/>
                  </a:lnTo>
                  <a:lnTo>
                    <a:pt x="2" y="18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48"/>
                  </a:lnTo>
                  <a:lnTo>
                    <a:pt x="4" y="132"/>
                  </a:lnTo>
                  <a:lnTo>
                    <a:pt x="8" y="116"/>
                  </a:lnTo>
                  <a:lnTo>
                    <a:pt x="14" y="100"/>
                  </a:lnTo>
                  <a:lnTo>
                    <a:pt x="20" y="86"/>
                  </a:lnTo>
                  <a:lnTo>
                    <a:pt x="28" y="72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2" y="28"/>
                  </a:lnTo>
                  <a:lnTo>
                    <a:pt x="86" y="20"/>
                  </a:lnTo>
                  <a:lnTo>
                    <a:pt x="100" y="14"/>
                  </a:lnTo>
                  <a:lnTo>
                    <a:pt x="116" y="8"/>
                  </a:lnTo>
                  <a:lnTo>
                    <a:pt x="132" y="4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28" y="14"/>
                  </a:lnTo>
                  <a:lnTo>
                    <a:pt x="242" y="20"/>
                  </a:lnTo>
                  <a:lnTo>
                    <a:pt x="256" y="28"/>
                  </a:lnTo>
                  <a:lnTo>
                    <a:pt x="270" y="38"/>
                  </a:lnTo>
                  <a:lnTo>
                    <a:pt x="280" y="48"/>
                  </a:lnTo>
                  <a:lnTo>
                    <a:pt x="292" y="60"/>
                  </a:lnTo>
                  <a:lnTo>
                    <a:pt x="300" y="72"/>
                  </a:lnTo>
                  <a:lnTo>
                    <a:pt x="308" y="86"/>
                  </a:lnTo>
                  <a:lnTo>
                    <a:pt x="316" y="100"/>
                  </a:lnTo>
                  <a:lnTo>
                    <a:pt x="322" y="116"/>
                  </a:lnTo>
                  <a:lnTo>
                    <a:pt x="326" y="132"/>
                  </a:lnTo>
                  <a:lnTo>
                    <a:pt x="328" y="148"/>
                  </a:lnTo>
                  <a:lnTo>
                    <a:pt x="328" y="164"/>
                  </a:lnTo>
                  <a:lnTo>
                    <a:pt x="328" y="164"/>
                  </a:lnTo>
                  <a:close/>
                </a:path>
              </a:pathLst>
            </a:custGeom>
            <a:solidFill>
              <a:srgbClr val="fd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59"/>
            <p:cNvSpPr/>
            <p:nvPr/>
          </p:nvSpPr>
          <p:spPr>
            <a:xfrm>
              <a:off x="8477280" y="10204560"/>
              <a:ext cx="488880" cy="4856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08" h="306">
                  <a:moveTo>
                    <a:pt x="308" y="152"/>
                  </a:moveTo>
                  <a:lnTo>
                    <a:pt x="308" y="152"/>
                  </a:lnTo>
                  <a:lnTo>
                    <a:pt x="306" y="168"/>
                  </a:lnTo>
                  <a:lnTo>
                    <a:pt x="304" y="184"/>
                  </a:lnTo>
                  <a:lnTo>
                    <a:pt x="300" y="198"/>
                  </a:lnTo>
                  <a:lnTo>
                    <a:pt x="296" y="212"/>
                  </a:lnTo>
                  <a:lnTo>
                    <a:pt x="290" y="226"/>
                  </a:lnTo>
                  <a:lnTo>
                    <a:pt x="282" y="238"/>
                  </a:lnTo>
                  <a:lnTo>
                    <a:pt x="272" y="250"/>
                  </a:lnTo>
                  <a:lnTo>
                    <a:pt x="262" y="262"/>
                  </a:lnTo>
                  <a:lnTo>
                    <a:pt x="252" y="272"/>
                  </a:lnTo>
                  <a:lnTo>
                    <a:pt x="240" y="280"/>
                  </a:lnTo>
                  <a:lnTo>
                    <a:pt x="228" y="288"/>
                  </a:lnTo>
                  <a:lnTo>
                    <a:pt x="214" y="294"/>
                  </a:lnTo>
                  <a:lnTo>
                    <a:pt x="200" y="300"/>
                  </a:lnTo>
                  <a:lnTo>
                    <a:pt x="186" y="304"/>
                  </a:lnTo>
                  <a:lnTo>
                    <a:pt x="170" y="306"/>
                  </a:lnTo>
                  <a:lnTo>
                    <a:pt x="154" y="306"/>
                  </a:lnTo>
                  <a:lnTo>
                    <a:pt x="154" y="306"/>
                  </a:lnTo>
                  <a:lnTo>
                    <a:pt x="138" y="306"/>
                  </a:lnTo>
                  <a:lnTo>
                    <a:pt x="124" y="304"/>
                  </a:lnTo>
                  <a:lnTo>
                    <a:pt x="108" y="300"/>
                  </a:lnTo>
                  <a:lnTo>
                    <a:pt x="94" y="294"/>
                  </a:lnTo>
                  <a:lnTo>
                    <a:pt x="82" y="288"/>
                  </a:lnTo>
                  <a:lnTo>
                    <a:pt x="68" y="280"/>
                  </a:lnTo>
                  <a:lnTo>
                    <a:pt x="56" y="272"/>
                  </a:lnTo>
                  <a:lnTo>
                    <a:pt x="46" y="262"/>
                  </a:lnTo>
                  <a:lnTo>
                    <a:pt x="36" y="250"/>
                  </a:lnTo>
                  <a:lnTo>
                    <a:pt x="28" y="238"/>
                  </a:lnTo>
                  <a:lnTo>
                    <a:pt x="20" y="226"/>
                  </a:lnTo>
                  <a:lnTo>
                    <a:pt x="12" y="212"/>
                  </a:lnTo>
                  <a:lnTo>
                    <a:pt x="8" y="198"/>
                  </a:lnTo>
                  <a:lnTo>
                    <a:pt x="4" y="184"/>
                  </a:lnTo>
                  <a:lnTo>
                    <a:pt x="2" y="168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136"/>
                  </a:lnTo>
                  <a:lnTo>
                    <a:pt x="4" y="122"/>
                  </a:lnTo>
                  <a:lnTo>
                    <a:pt x="8" y="108"/>
                  </a:lnTo>
                  <a:lnTo>
                    <a:pt x="12" y="92"/>
                  </a:lnTo>
                  <a:lnTo>
                    <a:pt x="20" y="80"/>
                  </a:lnTo>
                  <a:lnTo>
                    <a:pt x="28" y="66"/>
                  </a:lnTo>
                  <a:lnTo>
                    <a:pt x="36" y="56"/>
                  </a:lnTo>
                  <a:lnTo>
                    <a:pt x="46" y="44"/>
                  </a:lnTo>
                  <a:lnTo>
                    <a:pt x="56" y="34"/>
                  </a:lnTo>
                  <a:lnTo>
                    <a:pt x="68" y="26"/>
                  </a:lnTo>
                  <a:lnTo>
                    <a:pt x="82" y="18"/>
                  </a:lnTo>
                  <a:lnTo>
                    <a:pt x="94" y="12"/>
                  </a:lnTo>
                  <a:lnTo>
                    <a:pt x="108" y="6"/>
                  </a:lnTo>
                  <a:lnTo>
                    <a:pt x="124" y="2"/>
                  </a:lnTo>
                  <a:lnTo>
                    <a:pt x="138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70" y="0"/>
                  </a:lnTo>
                  <a:lnTo>
                    <a:pt x="186" y="2"/>
                  </a:lnTo>
                  <a:lnTo>
                    <a:pt x="200" y="6"/>
                  </a:lnTo>
                  <a:lnTo>
                    <a:pt x="214" y="12"/>
                  </a:lnTo>
                  <a:lnTo>
                    <a:pt x="228" y="18"/>
                  </a:lnTo>
                  <a:lnTo>
                    <a:pt x="240" y="26"/>
                  </a:lnTo>
                  <a:lnTo>
                    <a:pt x="252" y="34"/>
                  </a:lnTo>
                  <a:lnTo>
                    <a:pt x="262" y="44"/>
                  </a:lnTo>
                  <a:lnTo>
                    <a:pt x="272" y="56"/>
                  </a:lnTo>
                  <a:lnTo>
                    <a:pt x="282" y="66"/>
                  </a:lnTo>
                  <a:lnTo>
                    <a:pt x="290" y="80"/>
                  </a:lnTo>
                  <a:lnTo>
                    <a:pt x="296" y="92"/>
                  </a:lnTo>
                  <a:lnTo>
                    <a:pt x="300" y="108"/>
                  </a:lnTo>
                  <a:lnTo>
                    <a:pt x="304" y="122"/>
                  </a:lnTo>
                  <a:lnTo>
                    <a:pt x="306" y="136"/>
                  </a:lnTo>
                  <a:lnTo>
                    <a:pt x="308" y="152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fde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60"/>
            <p:cNvSpPr/>
            <p:nvPr/>
          </p:nvSpPr>
          <p:spPr>
            <a:xfrm>
              <a:off x="8486640" y="10213920"/>
              <a:ext cx="450720" cy="45396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4" h="286">
                  <a:moveTo>
                    <a:pt x="284" y="144"/>
                  </a:moveTo>
                  <a:lnTo>
                    <a:pt x="284" y="144"/>
                  </a:lnTo>
                  <a:lnTo>
                    <a:pt x="284" y="158"/>
                  </a:lnTo>
                  <a:lnTo>
                    <a:pt x="282" y="172"/>
                  </a:lnTo>
                  <a:lnTo>
                    <a:pt x="278" y="186"/>
                  </a:lnTo>
                  <a:lnTo>
                    <a:pt x="274" y="198"/>
                  </a:lnTo>
                  <a:lnTo>
                    <a:pt x="268" y="212"/>
                  </a:lnTo>
                  <a:lnTo>
                    <a:pt x="260" y="222"/>
                  </a:lnTo>
                  <a:lnTo>
                    <a:pt x="252" y="234"/>
                  </a:lnTo>
                  <a:lnTo>
                    <a:pt x="242" y="244"/>
                  </a:lnTo>
                  <a:lnTo>
                    <a:pt x="232" y="254"/>
                  </a:lnTo>
                  <a:lnTo>
                    <a:pt x="222" y="262"/>
                  </a:lnTo>
                  <a:lnTo>
                    <a:pt x="210" y="268"/>
                  </a:lnTo>
                  <a:lnTo>
                    <a:pt x="198" y="274"/>
                  </a:lnTo>
                  <a:lnTo>
                    <a:pt x="184" y="280"/>
                  </a:lnTo>
                  <a:lnTo>
                    <a:pt x="170" y="284"/>
                  </a:lnTo>
                  <a:lnTo>
                    <a:pt x="156" y="286"/>
                  </a:lnTo>
                  <a:lnTo>
                    <a:pt x="142" y="286"/>
                  </a:lnTo>
                  <a:lnTo>
                    <a:pt x="142" y="286"/>
                  </a:lnTo>
                  <a:lnTo>
                    <a:pt x="128" y="286"/>
                  </a:lnTo>
                  <a:lnTo>
                    <a:pt x="114" y="284"/>
                  </a:lnTo>
                  <a:lnTo>
                    <a:pt x="100" y="280"/>
                  </a:lnTo>
                  <a:lnTo>
                    <a:pt x="86" y="274"/>
                  </a:lnTo>
                  <a:lnTo>
                    <a:pt x="74" y="268"/>
                  </a:lnTo>
                  <a:lnTo>
                    <a:pt x="62" y="262"/>
                  </a:lnTo>
                  <a:lnTo>
                    <a:pt x="50" y="254"/>
                  </a:lnTo>
                  <a:lnTo>
                    <a:pt x="40" y="244"/>
                  </a:lnTo>
                  <a:lnTo>
                    <a:pt x="32" y="234"/>
                  </a:lnTo>
                  <a:lnTo>
                    <a:pt x="24" y="222"/>
                  </a:lnTo>
                  <a:lnTo>
                    <a:pt x="16" y="212"/>
                  </a:lnTo>
                  <a:lnTo>
                    <a:pt x="10" y="198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6" y="76"/>
                  </a:lnTo>
                  <a:lnTo>
                    <a:pt x="24" y="64"/>
                  </a:lnTo>
                  <a:lnTo>
                    <a:pt x="32" y="52"/>
                  </a:lnTo>
                  <a:lnTo>
                    <a:pt x="40" y="42"/>
                  </a:lnTo>
                  <a:lnTo>
                    <a:pt x="50" y="32"/>
                  </a:lnTo>
                  <a:lnTo>
                    <a:pt x="62" y="24"/>
                  </a:lnTo>
                  <a:lnTo>
                    <a:pt x="74" y="18"/>
                  </a:lnTo>
                  <a:lnTo>
                    <a:pt x="86" y="12"/>
                  </a:lnTo>
                  <a:lnTo>
                    <a:pt x="100" y="6"/>
                  </a:lnTo>
                  <a:lnTo>
                    <a:pt x="114" y="4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4"/>
                  </a:lnTo>
                  <a:lnTo>
                    <a:pt x="184" y="6"/>
                  </a:lnTo>
                  <a:lnTo>
                    <a:pt x="198" y="12"/>
                  </a:lnTo>
                  <a:lnTo>
                    <a:pt x="210" y="18"/>
                  </a:lnTo>
                  <a:lnTo>
                    <a:pt x="222" y="24"/>
                  </a:lnTo>
                  <a:lnTo>
                    <a:pt x="232" y="32"/>
                  </a:lnTo>
                  <a:lnTo>
                    <a:pt x="242" y="42"/>
                  </a:lnTo>
                  <a:lnTo>
                    <a:pt x="252" y="52"/>
                  </a:lnTo>
                  <a:lnTo>
                    <a:pt x="260" y="64"/>
                  </a:lnTo>
                  <a:lnTo>
                    <a:pt x="268" y="76"/>
                  </a:lnTo>
                  <a:lnTo>
                    <a:pt x="274" y="88"/>
                  </a:lnTo>
                  <a:lnTo>
                    <a:pt x="278" y="100"/>
                  </a:lnTo>
                  <a:lnTo>
                    <a:pt x="282" y="114"/>
                  </a:lnTo>
                  <a:lnTo>
                    <a:pt x="284" y="128"/>
                  </a:lnTo>
                  <a:lnTo>
                    <a:pt x="284" y="144"/>
                  </a:lnTo>
                  <a:lnTo>
                    <a:pt x="284" y="144"/>
                  </a:lnTo>
                  <a:close/>
                </a:path>
              </a:pathLst>
            </a:custGeom>
            <a:solidFill>
              <a:srgbClr val="fde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61"/>
            <p:cNvSpPr/>
            <p:nvPr/>
          </p:nvSpPr>
          <p:spPr>
            <a:xfrm>
              <a:off x="8493120" y="10226520"/>
              <a:ext cx="419040" cy="4190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64" h="264">
                  <a:moveTo>
                    <a:pt x="264" y="132"/>
                  </a:moveTo>
                  <a:lnTo>
                    <a:pt x="264" y="132"/>
                  </a:lnTo>
                  <a:lnTo>
                    <a:pt x="262" y="146"/>
                  </a:lnTo>
                  <a:lnTo>
                    <a:pt x="260" y="158"/>
                  </a:lnTo>
                  <a:lnTo>
                    <a:pt x="258" y="170"/>
                  </a:lnTo>
                  <a:lnTo>
                    <a:pt x="254" y="182"/>
                  </a:lnTo>
                  <a:lnTo>
                    <a:pt x="248" y="194"/>
                  </a:lnTo>
                  <a:lnTo>
                    <a:pt x="242" y="206"/>
                  </a:lnTo>
                  <a:lnTo>
                    <a:pt x="234" y="216"/>
                  </a:lnTo>
                  <a:lnTo>
                    <a:pt x="224" y="224"/>
                  </a:lnTo>
                  <a:lnTo>
                    <a:pt x="216" y="234"/>
                  </a:lnTo>
                  <a:lnTo>
                    <a:pt x="206" y="242"/>
                  </a:lnTo>
                  <a:lnTo>
                    <a:pt x="194" y="248"/>
                  </a:lnTo>
                  <a:lnTo>
                    <a:pt x="182" y="254"/>
                  </a:lnTo>
                  <a:lnTo>
                    <a:pt x="170" y="258"/>
                  </a:lnTo>
                  <a:lnTo>
                    <a:pt x="158" y="262"/>
                  </a:lnTo>
                  <a:lnTo>
                    <a:pt x="144" y="264"/>
                  </a:lnTo>
                  <a:lnTo>
                    <a:pt x="132" y="264"/>
                  </a:lnTo>
                  <a:lnTo>
                    <a:pt x="132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8"/>
                  </a:lnTo>
                  <a:lnTo>
                    <a:pt x="80" y="254"/>
                  </a:lnTo>
                  <a:lnTo>
                    <a:pt x="68" y="248"/>
                  </a:lnTo>
                  <a:lnTo>
                    <a:pt x="58" y="242"/>
                  </a:lnTo>
                  <a:lnTo>
                    <a:pt x="48" y="234"/>
                  </a:lnTo>
                  <a:lnTo>
                    <a:pt x="38" y="224"/>
                  </a:lnTo>
                  <a:lnTo>
                    <a:pt x="30" y="216"/>
                  </a:lnTo>
                  <a:lnTo>
                    <a:pt x="22" y="206"/>
                  </a:lnTo>
                  <a:lnTo>
                    <a:pt x="16" y="194"/>
                  </a:lnTo>
                  <a:lnTo>
                    <a:pt x="10" y="182"/>
                  </a:lnTo>
                  <a:lnTo>
                    <a:pt x="6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0"/>
                  </a:lnTo>
                  <a:lnTo>
                    <a:pt x="16" y="68"/>
                  </a:lnTo>
                  <a:lnTo>
                    <a:pt x="22" y="58"/>
                  </a:lnTo>
                  <a:lnTo>
                    <a:pt x="30" y="48"/>
                  </a:lnTo>
                  <a:lnTo>
                    <a:pt x="38" y="38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8" y="16"/>
                  </a:lnTo>
                  <a:lnTo>
                    <a:pt x="80" y="10"/>
                  </a:lnTo>
                  <a:lnTo>
                    <a:pt x="92" y="6"/>
                  </a:lnTo>
                  <a:lnTo>
                    <a:pt x="104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8" y="2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4" y="16"/>
                  </a:lnTo>
                  <a:lnTo>
                    <a:pt x="206" y="22"/>
                  </a:lnTo>
                  <a:lnTo>
                    <a:pt x="216" y="30"/>
                  </a:lnTo>
                  <a:lnTo>
                    <a:pt x="224" y="38"/>
                  </a:lnTo>
                  <a:lnTo>
                    <a:pt x="234" y="48"/>
                  </a:lnTo>
                  <a:lnTo>
                    <a:pt x="242" y="58"/>
                  </a:lnTo>
                  <a:lnTo>
                    <a:pt x="248" y="68"/>
                  </a:lnTo>
                  <a:lnTo>
                    <a:pt x="254" y="80"/>
                  </a:lnTo>
                  <a:lnTo>
                    <a:pt x="258" y="92"/>
                  </a:lnTo>
                  <a:lnTo>
                    <a:pt x="260" y="104"/>
                  </a:lnTo>
                  <a:lnTo>
                    <a:pt x="262" y="118"/>
                  </a:lnTo>
                  <a:lnTo>
                    <a:pt x="264" y="132"/>
                  </a:lnTo>
                  <a:lnTo>
                    <a:pt x="264" y="132"/>
                  </a:lnTo>
                  <a:close/>
                </a:path>
              </a:pathLst>
            </a:custGeom>
            <a:solidFill>
              <a:srgbClr val="fde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62"/>
            <p:cNvSpPr/>
            <p:nvPr/>
          </p:nvSpPr>
          <p:spPr>
            <a:xfrm>
              <a:off x="8499240" y="10236240"/>
              <a:ext cx="384120" cy="3870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42" h="244">
                  <a:moveTo>
                    <a:pt x="242" y="122"/>
                  </a:moveTo>
                  <a:lnTo>
                    <a:pt x="242" y="122"/>
                  </a:lnTo>
                  <a:lnTo>
                    <a:pt x="242" y="134"/>
                  </a:lnTo>
                  <a:lnTo>
                    <a:pt x="240" y="146"/>
                  </a:lnTo>
                  <a:lnTo>
                    <a:pt x="234" y="170"/>
                  </a:lnTo>
                  <a:lnTo>
                    <a:pt x="222" y="190"/>
                  </a:lnTo>
                  <a:lnTo>
                    <a:pt x="206" y="208"/>
                  </a:lnTo>
                  <a:lnTo>
                    <a:pt x="188" y="222"/>
                  </a:lnTo>
                  <a:lnTo>
                    <a:pt x="168" y="234"/>
                  </a:lnTo>
                  <a:lnTo>
                    <a:pt x="146" y="242"/>
                  </a:lnTo>
                  <a:lnTo>
                    <a:pt x="134" y="242"/>
                  </a:lnTo>
                  <a:lnTo>
                    <a:pt x="122" y="244"/>
                  </a:lnTo>
                  <a:lnTo>
                    <a:pt x="122" y="244"/>
                  </a:lnTo>
                  <a:lnTo>
                    <a:pt x="108" y="242"/>
                  </a:lnTo>
                  <a:lnTo>
                    <a:pt x="96" y="242"/>
                  </a:lnTo>
                  <a:lnTo>
                    <a:pt x="74" y="234"/>
                  </a:lnTo>
                  <a:lnTo>
                    <a:pt x="54" y="222"/>
                  </a:lnTo>
                  <a:lnTo>
                    <a:pt x="36" y="208"/>
                  </a:lnTo>
                  <a:lnTo>
                    <a:pt x="20" y="190"/>
                  </a:lnTo>
                  <a:lnTo>
                    <a:pt x="10" y="170"/>
                  </a:lnTo>
                  <a:lnTo>
                    <a:pt x="2" y="146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0"/>
                  </a:lnTo>
                  <a:lnTo>
                    <a:pt x="2" y="98"/>
                  </a:lnTo>
                  <a:lnTo>
                    <a:pt x="10" y="74"/>
                  </a:lnTo>
                  <a:lnTo>
                    <a:pt x="20" y="54"/>
                  </a:lnTo>
                  <a:lnTo>
                    <a:pt x="36" y="36"/>
                  </a:lnTo>
                  <a:lnTo>
                    <a:pt x="54" y="22"/>
                  </a:lnTo>
                  <a:lnTo>
                    <a:pt x="74" y="10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4" y="0"/>
                  </a:lnTo>
                  <a:lnTo>
                    <a:pt x="146" y="2"/>
                  </a:lnTo>
                  <a:lnTo>
                    <a:pt x="168" y="10"/>
                  </a:lnTo>
                  <a:lnTo>
                    <a:pt x="188" y="22"/>
                  </a:lnTo>
                  <a:lnTo>
                    <a:pt x="206" y="36"/>
                  </a:lnTo>
                  <a:lnTo>
                    <a:pt x="222" y="54"/>
                  </a:lnTo>
                  <a:lnTo>
                    <a:pt x="234" y="74"/>
                  </a:lnTo>
                  <a:lnTo>
                    <a:pt x="240" y="98"/>
                  </a:lnTo>
                  <a:lnTo>
                    <a:pt x="242" y="110"/>
                  </a:lnTo>
                  <a:lnTo>
                    <a:pt x="242" y="122"/>
                  </a:lnTo>
                  <a:lnTo>
                    <a:pt x="242" y="122"/>
                  </a:lnTo>
                  <a:close/>
                </a:path>
              </a:pathLst>
            </a:custGeom>
            <a:solidFill>
              <a:srgbClr val="fee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63"/>
            <p:cNvSpPr/>
            <p:nvPr/>
          </p:nvSpPr>
          <p:spPr>
            <a:xfrm>
              <a:off x="8505720" y="10248840"/>
              <a:ext cx="352440" cy="3520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22" h="222">
                  <a:moveTo>
                    <a:pt x="222" y="110"/>
                  </a:moveTo>
                  <a:lnTo>
                    <a:pt x="222" y="110"/>
                  </a:lnTo>
                  <a:lnTo>
                    <a:pt x="220" y="132"/>
                  </a:lnTo>
                  <a:lnTo>
                    <a:pt x="212" y="154"/>
                  </a:lnTo>
                  <a:lnTo>
                    <a:pt x="202" y="172"/>
                  </a:lnTo>
                  <a:lnTo>
                    <a:pt x="190" y="188"/>
                  </a:lnTo>
                  <a:lnTo>
                    <a:pt x="172" y="202"/>
                  </a:lnTo>
                  <a:lnTo>
                    <a:pt x="154" y="212"/>
                  </a:lnTo>
                  <a:lnTo>
                    <a:pt x="132" y="218"/>
                  </a:lnTo>
                  <a:lnTo>
                    <a:pt x="110" y="222"/>
                  </a:lnTo>
                  <a:lnTo>
                    <a:pt x="110" y="222"/>
                  </a:lnTo>
                  <a:lnTo>
                    <a:pt x="88" y="218"/>
                  </a:lnTo>
                  <a:lnTo>
                    <a:pt x="68" y="212"/>
                  </a:lnTo>
                  <a:lnTo>
                    <a:pt x="48" y="202"/>
                  </a:lnTo>
                  <a:lnTo>
                    <a:pt x="32" y="188"/>
                  </a:lnTo>
                  <a:lnTo>
                    <a:pt x="18" y="172"/>
                  </a:lnTo>
                  <a:lnTo>
                    <a:pt x="8" y="154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8" y="48"/>
                  </a:lnTo>
                  <a:lnTo>
                    <a:pt x="32" y="32"/>
                  </a:lnTo>
                  <a:lnTo>
                    <a:pt x="48" y="18"/>
                  </a:lnTo>
                  <a:lnTo>
                    <a:pt x="68" y="8"/>
                  </a:lnTo>
                  <a:lnTo>
                    <a:pt x="88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32" y="2"/>
                  </a:lnTo>
                  <a:lnTo>
                    <a:pt x="154" y="8"/>
                  </a:lnTo>
                  <a:lnTo>
                    <a:pt x="172" y="18"/>
                  </a:lnTo>
                  <a:lnTo>
                    <a:pt x="190" y="32"/>
                  </a:lnTo>
                  <a:lnTo>
                    <a:pt x="202" y="48"/>
                  </a:lnTo>
                  <a:lnTo>
                    <a:pt x="212" y="68"/>
                  </a:lnTo>
                  <a:lnTo>
                    <a:pt x="220" y="88"/>
                  </a:lnTo>
                  <a:lnTo>
                    <a:pt x="222" y="110"/>
                  </a:lnTo>
                  <a:lnTo>
                    <a:pt x="222" y="110"/>
                  </a:lnTo>
                  <a:close/>
                </a:path>
              </a:pathLst>
            </a:custGeom>
            <a:solidFill>
              <a:srgbClr val="fee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64"/>
            <p:cNvSpPr/>
            <p:nvPr/>
          </p:nvSpPr>
          <p:spPr>
            <a:xfrm>
              <a:off x="8512200" y="10258560"/>
              <a:ext cx="317520" cy="3204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00" h="202">
                  <a:moveTo>
                    <a:pt x="200" y="100"/>
                  </a:moveTo>
                  <a:lnTo>
                    <a:pt x="200" y="100"/>
                  </a:lnTo>
                  <a:lnTo>
                    <a:pt x="198" y="120"/>
                  </a:lnTo>
                  <a:lnTo>
                    <a:pt x="192" y="140"/>
                  </a:lnTo>
                  <a:lnTo>
                    <a:pt x="184" y="156"/>
                  </a:lnTo>
                  <a:lnTo>
                    <a:pt x="172" y="172"/>
                  </a:lnTo>
                  <a:lnTo>
                    <a:pt x="156" y="184"/>
                  </a:lnTo>
                  <a:lnTo>
                    <a:pt x="140" y="194"/>
                  </a:lnTo>
                  <a:lnTo>
                    <a:pt x="120" y="198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80" y="198"/>
                  </a:lnTo>
                  <a:lnTo>
                    <a:pt x="62" y="194"/>
                  </a:lnTo>
                  <a:lnTo>
                    <a:pt x="44" y="184"/>
                  </a:lnTo>
                  <a:lnTo>
                    <a:pt x="30" y="172"/>
                  </a:lnTo>
                  <a:lnTo>
                    <a:pt x="18" y="156"/>
                  </a:lnTo>
                  <a:lnTo>
                    <a:pt x="8" y="140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8" y="62"/>
                  </a:lnTo>
                  <a:lnTo>
                    <a:pt x="18" y="44"/>
                  </a:lnTo>
                  <a:lnTo>
                    <a:pt x="30" y="30"/>
                  </a:lnTo>
                  <a:lnTo>
                    <a:pt x="44" y="18"/>
                  </a:lnTo>
                  <a:lnTo>
                    <a:pt x="62" y="8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20" y="2"/>
                  </a:lnTo>
                  <a:lnTo>
                    <a:pt x="140" y="8"/>
                  </a:lnTo>
                  <a:lnTo>
                    <a:pt x="156" y="18"/>
                  </a:lnTo>
                  <a:lnTo>
                    <a:pt x="172" y="30"/>
                  </a:lnTo>
                  <a:lnTo>
                    <a:pt x="184" y="44"/>
                  </a:lnTo>
                  <a:lnTo>
                    <a:pt x="192" y="62"/>
                  </a:lnTo>
                  <a:lnTo>
                    <a:pt x="198" y="80"/>
                  </a:lnTo>
                  <a:lnTo>
                    <a:pt x="200" y="100"/>
                  </a:lnTo>
                  <a:lnTo>
                    <a:pt x="200" y="100"/>
                  </a:lnTo>
                  <a:close/>
                </a:path>
              </a:pathLst>
            </a:custGeom>
            <a:solidFill>
              <a:srgbClr val="fee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65"/>
            <p:cNvSpPr/>
            <p:nvPr/>
          </p:nvSpPr>
          <p:spPr>
            <a:xfrm>
              <a:off x="8518320" y="10271160"/>
              <a:ext cx="285480" cy="2822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80" h="178">
                  <a:moveTo>
                    <a:pt x="180" y="90"/>
                  </a:moveTo>
                  <a:lnTo>
                    <a:pt x="180" y="90"/>
                  </a:lnTo>
                  <a:lnTo>
                    <a:pt x="178" y="108"/>
                  </a:lnTo>
                  <a:lnTo>
                    <a:pt x="172" y="124"/>
                  </a:lnTo>
                  <a:lnTo>
                    <a:pt x="164" y="140"/>
                  </a:lnTo>
                  <a:lnTo>
                    <a:pt x="154" y="152"/>
                  </a:lnTo>
                  <a:lnTo>
                    <a:pt x="140" y="164"/>
                  </a:lnTo>
                  <a:lnTo>
                    <a:pt x="124" y="172"/>
                  </a:lnTo>
                  <a:lnTo>
                    <a:pt x="108" y="176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72" y="176"/>
                  </a:lnTo>
                  <a:lnTo>
                    <a:pt x="54" y="172"/>
                  </a:lnTo>
                  <a:lnTo>
                    <a:pt x="40" y="164"/>
                  </a:lnTo>
                  <a:lnTo>
                    <a:pt x="26" y="152"/>
                  </a:lnTo>
                  <a:lnTo>
                    <a:pt x="16" y="140"/>
                  </a:lnTo>
                  <a:lnTo>
                    <a:pt x="8" y="124"/>
                  </a:lnTo>
                  <a:lnTo>
                    <a:pt x="2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8" y="54"/>
                  </a:lnTo>
                  <a:lnTo>
                    <a:pt x="16" y="40"/>
                  </a:lnTo>
                  <a:lnTo>
                    <a:pt x="26" y="26"/>
                  </a:lnTo>
                  <a:lnTo>
                    <a:pt x="40" y="14"/>
                  </a:lnTo>
                  <a:lnTo>
                    <a:pt x="54" y="6"/>
                  </a:lnTo>
                  <a:lnTo>
                    <a:pt x="72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8" y="2"/>
                  </a:lnTo>
                  <a:lnTo>
                    <a:pt x="124" y="6"/>
                  </a:lnTo>
                  <a:lnTo>
                    <a:pt x="140" y="14"/>
                  </a:lnTo>
                  <a:lnTo>
                    <a:pt x="154" y="26"/>
                  </a:lnTo>
                  <a:lnTo>
                    <a:pt x="164" y="40"/>
                  </a:lnTo>
                  <a:lnTo>
                    <a:pt x="172" y="54"/>
                  </a:lnTo>
                  <a:lnTo>
                    <a:pt x="178" y="72"/>
                  </a:lnTo>
                  <a:lnTo>
                    <a:pt x="180" y="90"/>
                  </a:lnTo>
                  <a:lnTo>
                    <a:pt x="180" y="90"/>
                  </a:lnTo>
                  <a:close/>
                </a:path>
              </a:pathLst>
            </a:custGeom>
            <a:solidFill>
              <a:srgbClr val="fef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66"/>
            <p:cNvSpPr/>
            <p:nvPr/>
          </p:nvSpPr>
          <p:spPr>
            <a:xfrm>
              <a:off x="8524800" y="10280520"/>
              <a:ext cx="250560" cy="2505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8" h="158">
                  <a:moveTo>
                    <a:pt x="158" y="80"/>
                  </a:moveTo>
                  <a:lnTo>
                    <a:pt x="158" y="80"/>
                  </a:lnTo>
                  <a:lnTo>
                    <a:pt x="156" y="96"/>
                  </a:lnTo>
                  <a:lnTo>
                    <a:pt x="152" y="110"/>
                  </a:lnTo>
                  <a:lnTo>
                    <a:pt x="144" y="124"/>
                  </a:lnTo>
                  <a:lnTo>
                    <a:pt x="136" y="136"/>
                  </a:lnTo>
                  <a:lnTo>
                    <a:pt x="124" y="146"/>
                  </a:lnTo>
                  <a:lnTo>
                    <a:pt x="110" y="152"/>
                  </a:lnTo>
                  <a:lnTo>
                    <a:pt x="96" y="156"/>
                  </a:lnTo>
                  <a:lnTo>
                    <a:pt x="80" y="158"/>
                  </a:lnTo>
                  <a:lnTo>
                    <a:pt x="80" y="158"/>
                  </a:lnTo>
                  <a:lnTo>
                    <a:pt x="64" y="156"/>
                  </a:lnTo>
                  <a:lnTo>
                    <a:pt x="48" y="152"/>
                  </a:lnTo>
                  <a:lnTo>
                    <a:pt x="36" y="146"/>
                  </a:lnTo>
                  <a:lnTo>
                    <a:pt x="24" y="136"/>
                  </a:lnTo>
                  <a:lnTo>
                    <a:pt x="14" y="124"/>
                  </a:lnTo>
                  <a:lnTo>
                    <a:pt x="6" y="110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8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48" y="6"/>
                  </a:lnTo>
                  <a:lnTo>
                    <a:pt x="6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4"/>
                  </a:lnTo>
                  <a:lnTo>
                    <a:pt x="136" y="24"/>
                  </a:lnTo>
                  <a:lnTo>
                    <a:pt x="144" y="36"/>
                  </a:lnTo>
                  <a:lnTo>
                    <a:pt x="152" y="48"/>
                  </a:lnTo>
                  <a:lnTo>
                    <a:pt x="156" y="64"/>
                  </a:lnTo>
                  <a:lnTo>
                    <a:pt x="158" y="80"/>
                  </a:lnTo>
                  <a:lnTo>
                    <a:pt x="158" y="80"/>
                  </a:lnTo>
                  <a:close/>
                </a:path>
              </a:pathLst>
            </a:custGeom>
            <a:solidFill>
              <a:srgbClr val="fef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67"/>
            <p:cNvSpPr/>
            <p:nvPr/>
          </p:nvSpPr>
          <p:spPr>
            <a:xfrm>
              <a:off x="8531280" y="10293480"/>
              <a:ext cx="218880" cy="2156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8" h="136">
                  <a:moveTo>
                    <a:pt x="138" y="68"/>
                  </a:moveTo>
                  <a:lnTo>
                    <a:pt x="138" y="68"/>
                  </a:lnTo>
                  <a:lnTo>
                    <a:pt x="136" y="82"/>
                  </a:lnTo>
                  <a:lnTo>
                    <a:pt x="132" y="94"/>
                  </a:lnTo>
                  <a:lnTo>
                    <a:pt x="126" y="106"/>
                  </a:lnTo>
                  <a:lnTo>
                    <a:pt x="118" y="116"/>
                  </a:lnTo>
                  <a:lnTo>
                    <a:pt x="108" y="124"/>
                  </a:lnTo>
                  <a:lnTo>
                    <a:pt x="96" y="130"/>
                  </a:lnTo>
                  <a:lnTo>
                    <a:pt x="82" y="134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56" y="134"/>
                  </a:lnTo>
                  <a:lnTo>
                    <a:pt x="42" y="130"/>
                  </a:lnTo>
                  <a:lnTo>
                    <a:pt x="30" y="124"/>
                  </a:lnTo>
                  <a:lnTo>
                    <a:pt x="20" y="116"/>
                  </a:lnTo>
                  <a:lnTo>
                    <a:pt x="12" y="106"/>
                  </a:lnTo>
                  <a:lnTo>
                    <a:pt x="6" y="94"/>
                  </a:lnTo>
                  <a:lnTo>
                    <a:pt x="2" y="8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2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96" y="4"/>
                  </a:lnTo>
                  <a:lnTo>
                    <a:pt x="108" y="12"/>
                  </a:lnTo>
                  <a:lnTo>
                    <a:pt x="118" y="20"/>
                  </a:lnTo>
                  <a:lnTo>
                    <a:pt x="126" y="30"/>
                  </a:lnTo>
                  <a:lnTo>
                    <a:pt x="132" y="42"/>
                  </a:lnTo>
                  <a:lnTo>
                    <a:pt x="136" y="54"/>
                  </a:lnTo>
                  <a:lnTo>
                    <a:pt x="138" y="68"/>
                  </a:lnTo>
                  <a:lnTo>
                    <a:pt x="138" y="68"/>
                  </a:lnTo>
                  <a:close/>
                </a:path>
              </a:pathLst>
            </a:custGeom>
            <a:solidFill>
              <a:srgbClr val="fef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368"/>
            <p:cNvSpPr/>
            <p:nvPr/>
          </p:nvSpPr>
          <p:spPr>
            <a:xfrm>
              <a:off x="8537400" y="10302840"/>
              <a:ext cx="183960" cy="18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6" h="116">
                  <a:moveTo>
                    <a:pt x="116" y="58"/>
                  </a:moveTo>
                  <a:lnTo>
                    <a:pt x="116" y="58"/>
                  </a:lnTo>
                  <a:lnTo>
                    <a:pt x="116" y="70"/>
                  </a:lnTo>
                  <a:lnTo>
                    <a:pt x="112" y="80"/>
                  </a:lnTo>
                  <a:lnTo>
                    <a:pt x="106" y="90"/>
                  </a:lnTo>
                  <a:lnTo>
                    <a:pt x="100" y="100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0" y="114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46" y="114"/>
                  </a:lnTo>
                  <a:lnTo>
                    <a:pt x="36" y="112"/>
                  </a:lnTo>
                  <a:lnTo>
                    <a:pt x="26" y="106"/>
                  </a:lnTo>
                  <a:lnTo>
                    <a:pt x="18" y="100"/>
                  </a:lnTo>
                  <a:lnTo>
                    <a:pt x="10" y="90"/>
                  </a:lnTo>
                  <a:lnTo>
                    <a:pt x="6" y="80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10" y="26"/>
                  </a:lnTo>
                  <a:lnTo>
                    <a:pt x="18" y="18"/>
                  </a:lnTo>
                  <a:lnTo>
                    <a:pt x="26" y="10"/>
                  </a:lnTo>
                  <a:lnTo>
                    <a:pt x="36" y="6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2"/>
                  </a:lnTo>
                  <a:lnTo>
                    <a:pt x="80" y="6"/>
                  </a:lnTo>
                  <a:lnTo>
                    <a:pt x="90" y="10"/>
                  </a:lnTo>
                  <a:lnTo>
                    <a:pt x="100" y="18"/>
                  </a:lnTo>
                  <a:lnTo>
                    <a:pt x="106" y="26"/>
                  </a:lnTo>
                  <a:lnTo>
                    <a:pt x="112" y="36"/>
                  </a:lnTo>
                  <a:lnTo>
                    <a:pt x="116" y="46"/>
                  </a:lnTo>
                  <a:lnTo>
                    <a:pt x="116" y="58"/>
                  </a:lnTo>
                  <a:lnTo>
                    <a:pt x="116" y="58"/>
                  </a:lnTo>
                  <a:close/>
                </a:path>
              </a:pathLst>
            </a:custGeom>
            <a:solidFill>
              <a:srgbClr val="fff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369"/>
            <p:cNvSpPr/>
            <p:nvPr/>
          </p:nvSpPr>
          <p:spPr>
            <a:xfrm>
              <a:off x="8547120" y="10315440"/>
              <a:ext cx="149040" cy="149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4" h="94">
                  <a:moveTo>
                    <a:pt x="94" y="46"/>
                  </a:moveTo>
                  <a:lnTo>
                    <a:pt x="94" y="46"/>
                  </a:lnTo>
                  <a:lnTo>
                    <a:pt x="92" y="56"/>
                  </a:lnTo>
                  <a:lnTo>
                    <a:pt x="90" y="66"/>
                  </a:lnTo>
                  <a:lnTo>
                    <a:pt x="86" y="74"/>
                  </a:lnTo>
                  <a:lnTo>
                    <a:pt x="80" y="80"/>
                  </a:lnTo>
                  <a:lnTo>
                    <a:pt x="72" y="86"/>
                  </a:lnTo>
                  <a:lnTo>
                    <a:pt x="64" y="90"/>
                  </a:lnTo>
                  <a:lnTo>
                    <a:pt x="56" y="92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36" y="92"/>
                  </a:lnTo>
                  <a:lnTo>
                    <a:pt x="28" y="90"/>
                  </a:lnTo>
                  <a:lnTo>
                    <a:pt x="20" y="86"/>
                  </a:lnTo>
                  <a:lnTo>
                    <a:pt x="12" y="80"/>
                  </a:lnTo>
                  <a:lnTo>
                    <a:pt x="8" y="74"/>
                  </a:lnTo>
                  <a:lnTo>
                    <a:pt x="2" y="6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80" y="14"/>
                  </a:lnTo>
                  <a:lnTo>
                    <a:pt x="86" y="20"/>
                  </a:lnTo>
                  <a:lnTo>
                    <a:pt x="90" y="28"/>
                  </a:lnTo>
                  <a:lnTo>
                    <a:pt x="92" y="38"/>
                  </a:lnTo>
                  <a:lnTo>
                    <a:pt x="94" y="46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fff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70"/>
            <p:cNvSpPr/>
            <p:nvPr/>
          </p:nvSpPr>
          <p:spPr>
            <a:xfrm>
              <a:off x="8553240" y="10325160"/>
              <a:ext cx="114120" cy="117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2" h="74">
                  <a:moveTo>
                    <a:pt x="72" y="38"/>
                  </a:moveTo>
                  <a:lnTo>
                    <a:pt x="72" y="38"/>
                  </a:lnTo>
                  <a:lnTo>
                    <a:pt x="72" y="44"/>
                  </a:lnTo>
                  <a:lnTo>
                    <a:pt x="70" y="52"/>
                  </a:lnTo>
                  <a:lnTo>
                    <a:pt x="66" y="58"/>
                  </a:lnTo>
                  <a:lnTo>
                    <a:pt x="62" y="62"/>
                  </a:lnTo>
                  <a:lnTo>
                    <a:pt x="56" y="68"/>
                  </a:lnTo>
                  <a:lnTo>
                    <a:pt x="50" y="70"/>
                  </a:lnTo>
                  <a:lnTo>
                    <a:pt x="44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8" y="72"/>
                  </a:lnTo>
                  <a:lnTo>
                    <a:pt x="22" y="70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2" y="12"/>
                  </a:lnTo>
                  <a:lnTo>
                    <a:pt x="66" y="16"/>
                  </a:lnTo>
                  <a:lnTo>
                    <a:pt x="70" y="24"/>
                  </a:lnTo>
                  <a:lnTo>
                    <a:pt x="72" y="30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fffa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71"/>
            <p:cNvSpPr/>
            <p:nvPr/>
          </p:nvSpPr>
          <p:spPr>
            <a:xfrm>
              <a:off x="8559720" y="103377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52" y="26"/>
                  </a:move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ff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72"/>
            <p:cNvSpPr/>
            <p:nvPr/>
          </p:nvSpPr>
          <p:spPr>
            <a:xfrm>
              <a:off x="8566200" y="1034712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6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73"/>
            <p:cNvSpPr/>
            <p:nvPr/>
          </p:nvSpPr>
          <p:spPr>
            <a:xfrm>
              <a:off x="8572320" y="103600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8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74"/>
            <p:cNvSpPr/>
            <p:nvPr/>
          </p:nvSpPr>
          <p:spPr>
            <a:xfrm>
              <a:off x="8229600" y="11277720"/>
              <a:ext cx="1737000" cy="17366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94" h="1094">
                  <a:moveTo>
                    <a:pt x="1094" y="548"/>
                  </a:moveTo>
                  <a:lnTo>
                    <a:pt x="1094" y="548"/>
                  </a:lnTo>
                  <a:lnTo>
                    <a:pt x="1094" y="576"/>
                  </a:lnTo>
                  <a:lnTo>
                    <a:pt x="1092" y="604"/>
                  </a:lnTo>
                  <a:lnTo>
                    <a:pt x="1088" y="630"/>
                  </a:lnTo>
                  <a:lnTo>
                    <a:pt x="1084" y="658"/>
                  </a:lnTo>
                  <a:lnTo>
                    <a:pt x="1078" y="684"/>
                  </a:lnTo>
                  <a:lnTo>
                    <a:pt x="1070" y="710"/>
                  </a:lnTo>
                  <a:lnTo>
                    <a:pt x="1062" y="736"/>
                  </a:lnTo>
                  <a:lnTo>
                    <a:pt x="1052" y="760"/>
                  </a:lnTo>
                  <a:lnTo>
                    <a:pt x="1040" y="784"/>
                  </a:lnTo>
                  <a:lnTo>
                    <a:pt x="1028" y="808"/>
                  </a:lnTo>
                  <a:lnTo>
                    <a:pt x="1016" y="832"/>
                  </a:lnTo>
                  <a:lnTo>
                    <a:pt x="1002" y="854"/>
                  </a:lnTo>
                  <a:lnTo>
                    <a:pt x="986" y="874"/>
                  </a:lnTo>
                  <a:lnTo>
                    <a:pt x="970" y="896"/>
                  </a:lnTo>
                  <a:lnTo>
                    <a:pt x="952" y="916"/>
                  </a:lnTo>
                  <a:lnTo>
                    <a:pt x="934" y="934"/>
                  </a:lnTo>
                  <a:lnTo>
                    <a:pt x="916" y="952"/>
                  </a:lnTo>
                  <a:lnTo>
                    <a:pt x="896" y="970"/>
                  </a:lnTo>
                  <a:lnTo>
                    <a:pt x="876" y="986"/>
                  </a:lnTo>
                  <a:lnTo>
                    <a:pt x="854" y="1002"/>
                  </a:lnTo>
                  <a:lnTo>
                    <a:pt x="832" y="1016"/>
                  </a:lnTo>
                  <a:lnTo>
                    <a:pt x="808" y="1028"/>
                  </a:lnTo>
                  <a:lnTo>
                    <a:pt x="784" y="1040"/>
                  </a:lnTo>
                  <a:lnTo>
                    <a:pt x="760" y="1052"/>
                  </a:lnTo>
                  <a:lnTo>
                    <a:pt x="736" y="1062"/>
                  </a:lnTo>
                  <a:lnTo>
                    <a:pt x="710" y="1070"/>
                  </a:lnTo>
                  <a:lnTo>
                    <a:pt x="684" y="1078"/>
                  </a:lnTo>
                  <a:lnTo>
                    <a:pt x="658" y="1084"/>
                  </a:lnTo>
                  <a:lnTo>
                    <a:pt x="632" y="1088"/>
                  </a:lnTo>
                  <a:lnTo>
                    <a:pt x="604" y="1092"/>
                  </a:lnTo>
                  <a:lnTo>
                    <a:pt x="576" y="1094"/>
                  </a:lnTo>
                  <a:lnTo>
                    <a:pt x="548" y="1094"/>
                  </a:lnTo>
                  <a:lnTo>
                    <a:pt x="548" y="1094"/>
                  </a:lnTo>
                  <a:lnTo>
                    <a:pt x="520" y="1094"/>
                  </a:lnTo>
                  <a:lnTo>
                    <a:pt x="492" y="1092"/>
                  </a:lnTo>
                  <a:lnTo>
                    <a:pt x="464" y="1088"/>
                  </a:lnTo>
                  <a:lnTo>
                    <a:pt x="438" y="1084"/>
                  </a:lnTo>
                  <a:lnTo>
                    <a:pt x="410" y="1078"/>
                  </a:lnTo>
                  <a:lnTo>
                    <a:pt x="386" y="1070"/>
                  </a:lnTo>
                  <a:lnTo>
                    <a:pt x="360" y="1062"/>
                  </a:lnTo>
                  <a:lnTo>
                    <a:pt x="334" y="1052"/>
                  </a:lnTo>
                  <a:lnTo>
                    <a:pt x="310" y="1040"/>
                  </a:lnTo>
                  <a:lnTo>
                    <a:pt x="286" y="1028"/>
                  </a:lnTo>
                  <a:lnTo>
                    <a:pt x="264" y="1016"/>
                  </a:lnTo>
                  <a:lnTo>
                    <a:pt x="242" y="1002"/>
                  </a:lnTo>
                  <a:lnTo>
                    <a:pt x="220" y="986"/>
                  </a:lnTo>
                  <a:lnTo>
                    <a:pt x="200" y="970"/>
                  </a:lnTo>
                  <a:lnTo>
                    <a:pt x="180" y="952"/>
                  </a:lnTo>
                  <a:lnTo>
                    <a:pt x="160" y="934"/>
                  </a:lnTo>
                  <a:lnTo>
                    <a:pt x="142" y="916"/>
                  </a:lnTo>
                  <a:lnTo>
                    <a:pt x="126" y="896"/>
                  </a:lnTo>
                  <a:lnTo>
                    <a:pt x="110" y="874"/>
                  </a:lnTo>
                  <a:lnTo>
                    <a:pt x="94" y="854"/>
                  </a:lnTo>
                  <a:lnTo>
                    <a:pt x="80" y="832"/>
                  </a:lnTo>
                  <a:lnTo>
                    <a:pt x="66" y="808"/>
                  </a:lnTo>
                  <a:lnTo>
                    <a:pt x="54" y="784"/>
                  </a:lnTo>
                  <a:lnTo>
                    <a:pt x="44" y="760"/>
                  </a:lnTo>
                  <a:lnTo>
                    <a:pt x="34" y="736"/>
                  </a:lnTo>
                  <a:lnTo>
                    <a:pt x="26" y="710"/>
                  </a:lnTo>
                  <a:lnTo>
                    <a:pt x="18" y="684"/>
                  </a:lnTo>
                  <a:lnTo>
                    <a:pt x="12" y="658"/>
                  </a:lnTo>
                  <a:lnTo>
                    <a:pt x="6" y="630"/>
                  </a:lnTo>
                  <a:lnTo>
                    <a:pt x="4" y="604"/>
                  </a:lnTo>
                  <a:lnTo>
                    <a:pt x="2" y="576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2" y="520"/>
                  </a:lnTo>
                  <a:lnTo>
                    <a:pt x="4" y="492"/>
                  </a:lnTo>
                  <a:lnTo>
                    <a:pt x="6" y="464"/>
                  </a:lnTo>
                  <a:lnTo>
                    <a:pt x="12" y="438"/>
                  </a:lnTo>
                  <a:lnTo>
                    <a:pt x="18" y="410"/>
                  </a:lnTo>
                  <a:lnTo>
                    <a:pt x="26" y="384"/>
                  </a:lnTo>
                  <a:lnTo>
                    <a:pt x="34" y="360"/>
                  </a:lnTo>
                  <a:lnTo>
                    <a:pt x="44" y="334"/>
                  </a:lnTo>
                  <a:lnTo>
                    <a:pt x="54" y="310"/>
                  </a:lnTo>
                  <a:lnTo>
                    <a:pt x="66" y="286"/>
                  </a:lnTo>
                  <a:lnTo>
                    <a:pt x="80" y="264"/>
                  </a:lnTo>
                  <a:lnTo>
                    <a:pt x="94" y="242"/>
                  </a:lnTo>
                  <a:lnTo>
                    <a:pt x="110" y="220"/>
                  </a:lnTo>
                  <a:lnTo>
                    <a:pt x="126" y="200"/>
                  </a:lnTo>
                  <a:lnTo>
                    <a:pt x="142" y="180"/>
                  </a:lnTo>
                  <a:lnTo>
                    <a:pt x="160" y="160"/>
                  </a:lnTo>
                  <a:lnTo>
                    <a:pt x="180" y="142"/>
                  </a:lnTo>
                  <a:lnTo>
                    <a:pt x="200" y="126"/>
                  </a:lnTo>
                  <a:lnTo>
                    <a:pt x="220" y="110"/>
                  </a:lnTo>
                  <a:lnTo>
                    <a:pt x="242" y="94"/>
                  </a:lnTo>
                  <a:lnTo>
                    <a:pt x="264" y="80"/>
                  </a:lnTo>
                  <a:lnTo>
                    <a:pt x="286" y="66"/>
                  </a:lnTo>
                  <a:lnTo>
                    <a:pt x="310" y="54"/>
                  </a:lnTo>
                  <a:lnTo>
                    <a:pt x="334" y="44"/>
                  </a:lnTo>
                  <a:lnTo>
                    <a:pt x="360" y="34"/>
                  </a:lnTo>
                  <a:lnTo>
                    <a:pt x="386" y="24"/>
                  </a:lnTo>
                  <a:lnTo>
                    <a:pt x="410" y="18"/>
                  </a:lnTo>
                  <a:lnTo>
                    <a:pt x="438" y="12"/>
                  </a:lnTo>
                  <a:lnTo>
                    <a:pt x="464" y="6"/>
                  </a:lnTo>
                  <a:lnTo>
                    <a:pt x="492" y="4"/>
                  </a:lnTo>
                  <a:lnTo>
                    <a:pt x="520" y="2"/>
                  </a:lnTo>
                  <a:lnTo>
                    <a:pt x="548" y="0"/>
                  </a:lnTo>
                  <a:lnTo>
                    <a:pt x="548" y="0"/>
                  </a:lnTo>
                  <a:lnTo>
                    <a:pt x="576" y="2"/>
                  </a:lnTo>
                  <a:lnTo>
                    <a:pt x="604" y="4"/>
                  </a:lnTo>
                  <a:lnTo>
                    <a:pt x="632" y="6"/>
                  </a:lnTo>
                  <a:lnTo>
                    <a:pt x="658" y="12"/>
                  </a:lnTo>
                  <a:lnTo>
                    <a:pt x="684" y="18"/>
                  </a:lnTo>
                  <a:lnTo>
                    <a:pt x="710" y="24"/>
                  </a:lnTo>
                  <a:lnTo>
                    <a:pt x="736" y="34"/>
                  </a:lnTo>
                  <a:lnTo>
                    <a:pt x="760" y="44"/>
                  </a:lnTo>
                  <a:lnTo>
                    <a:pt x="784" y="54"/>
                  </a:lnTo>
                  <a:lnTo>
                    <a:pt x="808" y="66"/>
                  </a:lnTo>
                  <a:lnTo>
                    <a:pt x="832" y="80"/>
                  </a:lnTo>
                  <a:lnTo>
                    <a:pt x="854" y="94"/>
                  </a:lnTo>
                  <a:lnTo>
                    <a:pt x="876" y="110"/>
                  </a:lnTo>
                  <a:lnTo>
                    <a:pt x="896" y="126"/>
                  </a:lnTo>
                  <a:lnTo>
                    <a:pt x="916" y="142"/>
                  </a:lnTo>
                  <a:lnTo>
                    <a:pt x="934" y="160"/>
                  </a:lnTo>
                  <a:lnTo>
                    <a:pt x="952" y="180"/>
                  </a:lnTo>
                  <a:lnTo>
                    <a:pt x="970" y="200"/>
                  </a:lnTo>
                  <a:lnTo>
                    <a:pt x="986" y="220"/>
                  </a:lnTo>
                  <a:lnTo>
                    <a:pt x="1002" y="242"/>
                  </a:lnTo>
                  <a:lnTo>
                    <a:pt x="1016" y="264"/>
                  </a:lnTo>
                  <a:lnTo>
                    <a:pt x="1028" y="286"/>
                  </a:lnTo>
                  <a:lnTo>
                    <a:pt x="1040" y="310"/>
                  </a:lnTo>
                  <a:lnTo>
                    <a:pt x="1052" y="334"/>
                  </a:lnTo>
                  <a:lnTo>
                    <a:pt x="1062" y="360"/>
                  </a:lnTo>
                  <a:lnTo>
                    <a:pt x="1070" y="384"/>
                  </a:lnTo>
                  <a:lnTo>
                    <a:pt x="1078" y="410"/>
                  </a:lnTo>
                  <a:lnTo>
                    <a:pt x="1084" y="438"/>
                  </a:lnTo>
                  <a:lnTo>
                    <a:pt x="1088" y="464"/>
                  </a:lnTo>
                  <a:lnTo>
                    <a:pt x="1092" y="492"/>
                  </a:lnTo>
                  <a:lnTo>
                    <a:pt x="1094" y="520"/>
                  </a:lnTo>
                  <a:lnTo>
                    <a:pt x="1094" y="548"/>
                  </a:lnTo>
                  <a:lnTo>
                    <a:pt x="1094" y="548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75"/>
            <p:cNvSpPr/>
            <p:nvPr/>
          </p:nvSpPr>
          <p:spPr>
            <a:xfrm>
              <a:off x="8235720" y="11290320"/>
              <a:ext cx="1704960" cy="170172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1074" h="1072">
                  <a:moveTo>
                    <a:pt x="1074" y="536"/>
                  </a:moveTo>
                  <a:lnTo>
                    <a:pt x="1074" y="536"/>
                  </a:lnTo>
                  <a:lnTo>
                    <a:pt x="1074" y="564"/>
                  </a:lnTo>
                  <a:lnTo>
                    <a:pt x="1070" y="590"/>
                  </a:lnTo>
                  <a:lnTo>
                    <a:pt x="1068" y="618"/>
                  </a:lnTo>
                  <a:lnTo>
                    <a:pt x="1062" y="644"/>
                  </a:lnTo>
                  <a:lnTo>
                    <a:pt x="1056" y="670"/>
                  </a:lnTo>
                  <a:lnTo>
                    <a:pt x="1050" y="696"/>
                  </a:lnTo>
                  <a:lnTo>
                    <a:pt x="1042" y="720"/>
                  </a:lnTo>
                  <a:lnTo>
                    <a:pt x="1032" y="744"/>
                  </a:lnTo>
                  <a:lnTo>
                    <a:pt x="1020" y="768"/>
                  </a:lnTo>
                  <a:lnTo>
                    <a:pt x="1008" y="792"/>
                  </a:lnTo>
                  <a:lnTo>
                    <a:pt x="996" y="814"/>
                  </a:lnTo>
                  <a:lnTo>
                    <a:pt x="982" y="836"/>
                  </a:lnTo>
                  <a:lnTo>
                    <a:pt x="968" y="856"/>
                  </a:lnTo>
                  <a:lnTo>
                    <a:pt x="952" y="878"/>
                  </a:lnTo>
                  <a:lnTo>
                    <a:pt x="934" y="896"/>
                  </a:lnTo>
                  <a:lnTo>
                    <a:pt x="916" y="916"/>
                  </a:lnTo>
                  <a:lnTo>
                    <a:pt x="898" y="934"/>
                  </a:lnTo>
                  <a:lnTo>
                    <a:pt x="878" y="950"/>
                  </a:lnTo>
                  <a:lnTo>
                    <a:pt x="858" y="966"/>
                  </a:lnTo>
                  <a:lnTo>
                    <a:pt x="838" y="980"/>
                  </a:lnTo>
                  <a:lnTo>
                    <a:pt x="816" y="994"/>
                  </a:lnTo>
                  <a:lnTo>
                    <a:pt x="792" y="1008"/>
                  </a:lnTo>
                  <a:lnTo>
                    <a:pt x="770" y="1020"/>
                  </a:lnTo>
                  <a:lnTo>
                    <a:pt x="746" y="1030"/>
                  </a:lnTo>
                  <a:lnTo>
                    <a:pt x="722" y="1040"/>
                  </a:lnTo>
                  <a:lnTo>
                    <a:pt x="696" y="1048"/>
                  </a:lnTo>
                  <a:lnTo>
                    <a:pt x="672" y="1056"/>
                  </a:lnTo>
                  <a:lnTo>
                    <a:pt x="646" y="1062"/>
                  </a:lnTo>
                  <a:lnTo>
                    <a:pt x="618" y="1066"/>
                  </a:lnTo>
                  <a:lnTo>
                    <a:pt x="592" y="1070"/>
                  </a:lnTo>
                  <a:lnTo>
                    <a:pt x="564" y="1072"/>
                  </a:lnTo>
                  <a:lnTo>
                    <a:pt x="538" y="1072"/>
                  </a:lnTo>
                  <a:lnTo>
                    <a:pt x="538" y="1072"/>
                  </a:lnTo>
                  <a:lnTo>
                    <a:pt x="510" y="1072"/>
                  </a:lnTo>
                  <a:lnTo>
                    <a:pt x="482" y="1070"/>
                  </a:lnTo>
                  <a:lnTo>
                    <a:pt x="456" y="1066"/>
                  </a:lnTo>
                  <a:lnTo>
                    <a:pt x="430" y="1062"/>
                  </a:lnTo>
                  <a:lnTo>
                    <a:pt x="404" y="1056"/>
                  </a:lnTo>
                  <a:lnTo>
                    <a:pt x="378" y="1048"/>
                  </a:lnTo>
                  <a:lnTo>
                    <a:pt x="352" y="1040"/>
                  </a:lnTo>
                  <a:lnTo>
                    <a:pt x="328" y="1030"/>
                  </a:lnTo>
                  <a:lnTo>
                    <a:pt x="304" y="1020"/>
                  </a:lnTo>
                  <a:lnTo>
                    <a:pt x="282" y="1008"/>
                  </a:lnTo>
                  <a:lnTo>
                    <a:pt x="260" y="994"/>
                  </a:lnTo>
                  <a:lnTo>
                    <a:pt x="238" y="980"/>
                  </a:lnTo>
                  <a:lnTo>
                    <a:pt x="216" y="966"/>
                  </a:lnTo>
                  <a:lnTo>
                    <a:pt x="196" y="950"/>
                  </a:lnTo>
                  <a:lnTo>
                    <a:pt x="176" y="934"/>
                  </a:lnTo>
                  <a:lnTo>
                    <a:pt x="158" y="916"/>
                  </a:lnTo>
                  <a:lnTo>
                    <a:pt x="140" y="896"/>
                  </a:lnTo>
                  <a:lnTo>
                    <a:pt x="124" y="878"/>
                  </a:lnTo>
                  <a:lnTo>
                    <a:pt x="108" y="856"/>
                  </a:lnTo>
                  <a:lnTo>
                    <a:pt x="92" y="836"/>
                  </a:lnTo>
                  <a:lnTo>
                    <a:pt x="78" y="814"/>
                  </a:lnTo>
                  <a:lnTo>
                    <a:pt x="66" y="792"/>
                  </a:lnTo>
                  <a:lnTo>
                    <a:pt x="54" y="768"/>
                  </a:lnTo>
                  <a:lnTo>
                    <a:pt x="42" y="744"/>
                  </a:lnTo>
                  <a:lnTo>
                    <a:pt x="34" y="720"/>
                  </a:lnTo>
                  <a:lnTo>
                    <a:pt x="24" y="696"/>
                  </a:lnTo>
                  <a:lnTo>
                    <a:pt x="18" y="670"/>
                  </a:lnTo>
                  <a:lnTo>
                    <a:pt x="12" y="644"/>
                  </a:lnTo>
                  <a:lnTo>
                    <a:pt x="6" y="618"/>
                  </a:lnTo>
                  <a:lnTo>
                    <a:pt x="4" y="590"/>
                  </a:lnTo>
                  <a:lnTo>
                    <a:pt x="2" y="564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2" y="508"/>
                  </a:lnTo>
                  <a:lnTo>
                    <a:pt x="4" y="482"/>
                  </a:lnTo>
                  <a:lnTo>
                    <a:pt x="6" y="454"/>
                  </a:lnTo>
                  <a:lnTo>
                    <a:pt x="12" y="428"/>
                  </a:lnTo>
                  <a:lnTo>
                    <a:pt x="18" y="402"/>
                  </a:lnTo>
                  <a:lnTo>
                    <a:pt x="24" y="376"/>
                  </a:lnTo>
                  <a:lnTo>
                    <a:pt x="34" y="352"/>
                  </a:lnTo>
                  <a:lnTo>
                    <a:pt x="42" y="328"/>
                  </a:lnTo>
                  <a:lnTo>
                    <a:pt x="54" y="304"/>
                  </a:lnTo>
                  <a:lnTo>
                    <a:pt x="66" y="280"/>
                  </a:lnTo>
                  <a:lnTo>
                    <a:pt x="78" y="258"/>
                  </a:lnTo>
                  <a:lnTo>
                    <a:pt x="92" y="236"/>
                  </a:lnTo>
                  <a:lnTo>
                    <a:pt x="108" y="214"/>
                  </a:lnTo>
                  <a:lnTo>
                    <a:pt x="124" y="194"/>
                  </a:lnTo>
                  <a:lnTo>
                    <a:pt x="140" y="176"/>
                  </a:lnTo>
                  <a:lnTo>
                    <a:pt x="158" y="156"/>
                  </a:lnTo>
                  <a:lnTo>
                    <a:pt x="176" y="138"/>
                  </a:lnTo>
                  <a:lnTo>
                    <a:pt x="196" y="122"/>
                  </a:lnTo>
                  <a:lnTo>
                    <a:pt x="216" y="106"/>
                  </a:lnTo>
                  <a:lnTo>
                    <a:pt x="238" y="92"/>
                  </a:lnTo>
                  <a:lnTo>
                    <a:pt x="260" y="78"/>
                  </a:lnTo>
                  <a:lnTo>
                    <a:pt x="282" y="64"/>
                  </a:lnTo>
                  <a:lnTo>
                    <a:pt x="304" y="52"/>
                  </a:lnTo>
                  <a:lnTo>
                    <a:pt x="328" y="42"/>
                  </a:lnTo>
                  <a:lnTo>
                    <a:pt x="352" y="32"/>
                  </a:lnTo>
                  <a:lnTo>
                    <a:pt x="378" y="24"/>
                  </a:lnTo>
                  <a:lnTo>
                    <a:pt x="404" y="16"/>
                  </a:lnTo>
                  <a:lnTo>
                    <a:pt x="430" y="10"/>
                  </a:lnTo>
                  <a:lnTo>
                    <a:pt x="456" y="6"/>
                  </a:lnTo>
                  <a:lnTo>
                    <a:pt x="482" y="2"/>
                  </a:lnTo>
                  <a:lnTo>
                    <a:pt x="510" y="0"/>
                  </a:lnTo>
                  <a:lnTo>
                    <a:pt x="538" y="0"/>
                  </a:lnTo>
                  <a:lnTo>
                    <a:pt x="538" y="0"/>
                  </a:lnTo>
                  <a:lnTo>
                    <a:pt x="564" y="0"/>
                  </a:lnTo>
                  <a:lnTo>
                    <a:pt x="592" y="2"/>
                  </a:lnTo>
                  <a:lnTo>
                    <a:pt x="618" y="6"/>
                  </a:lnTo>
                  <a:lnTo>
                    <a:pt x="646" y="10"/>
                  </a:lnTo>
                  <a:lnTo>
                    <a:pt x="672" y="16"/>
                  </a:lnTo>
                  <a:lnTo>
                    <a:pt x="696" y="24"/>
                  </a:lnTo>
                  <a:lnTo>
                    <a:pt x="722" y="32"/>
                  </a:lnTo>
                  <a:lnTo>
                    <a:pt x="746" y="42"/>
                  </a:lnTo>
                  <a:lnTo>
                    <a:pt x="770" y="52"/>
                  </a:lnTo>
                  <a:lnTo>
                    <a:pt x="792" y="64"/>
                  </a:lnTo>
                  <a:lnTo>
                    <a:pt x="816" y="78"/>
                  </a:lnTo>
                  <a:lnTo>
                    <a:pt x="838" y="92"/>
                  </a:lnTo>
                  <a:lnTo>
                    <a:pt x="858" y="106"/>
                  </a:lnTo>
                  <a:lnTo>
                    <a:pt x="878" y="122"/>
                  </a:lnTo>
                  <a:lnTo>
                    <a:pt x="898" y="138"/>
                  </a:lnTo>
                  <a:lnTo>
                    <a:pt x="916" y="156"/>
                  </a:lnTo>
                  <a:lnTo>
                    <a:pt x="934" y="176"/>
                  </a:lnTo>
                  <a:lnTo>
                    <a:pt x="952" y="194"/>
                  </a:lnTo>
                  <a:lnTo>
                    <a:pt x="968" y="214"/>
                  </a:lnTo>
                  <a:lnTo>
                    <a:pt x="982" y="236"/>
                  </a:lnTo>
                  <a:lnTo>
                    <a:pt x="996" y="258"/>
                  </a:lnTo>
                  <a:lnTo>
                    <a:pt x="1008" y="280"/>
                  </a:lnTo>
                  <a:lnTo>
                    <a:pt x="1020" y="304"/>
                  </a:lnTo>
                  <a:lnTo>
                    <a:pt x="1032" y="328"/>
                  </a:lnTo>
                  <a:lnTo>
                    <a:pt x="1042" y="352"/>
                  </a:lnTo>
                  <a:lnTo>
                    <a:pt x="1050" y="376"/>
                  </a:lnTo>
                  <a:lnTo>
                    <a:pt x="1056" y="402"/>
                  </a:lnTo>
                  <a:lnTo>
                    <a:pt x="1062" y="428"/>
                  </a:lnTo>
                  <a:lnTo>
                    <a:pt x="1068" y="454"/>
                  </a:lnTo>
                  <a:lnTo>
                    <a:pt x="1070" y="482"/>
                  </a:lnTo>
                  <a:lnTo>
                    <a:pt x="1074" y="508"/>
                  </a:lnTo>
                  <a:lnTo>
                    <a:pt x="1074" y="536"/>
                  </a:lnTo>
                  <a:lnTo>
                    <a:pt x="1074" y="536"/>
                  </a:lnTo>
                  <a:close/>
                </a:path>
              </a:pathLst>
            </a:custGeom>
            <a:solidFill>
              <a:srgbClr val="f3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76"/>
            <p:cNvSpPr/>
            <p:nvPr/>
          </p:nvSpPr>
          <p:spPr>
            <a:xfrm>
              <a:off x="8245440" y="11299680"/>
              <a:ext cx="1667160" cy="1670040"/>
            </a:xfrm>
            <a:custGeom>
              <a:avLst/>
              <a:gdLst>
                <a:gd name="textAreaLeft" fmla="*/ 0 w 1667160"/>
                <a:gd name="textAreaRight" fmla="*/ 1667520 w 16671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1050" h="1052">
                  <a:moveTo>
                    <a:pt x="1050" y="526"/>
                  </a:moveTo>
                  <a:lnTo>
                    <a:pt x="1050" y="526"/>
                  </a:lnTo>
                  <a:lnTo>
                    <a:pt x="1050" y="554"/>
                  </a:lnTo>
                  <a:lnTo>
                    <a:pt x="1048" y="580"/>
                  </a:lnTo>
                  <a:lnTo>
                    <a:pt x="1044" y="606"/>
                  </a:lnTo>
                  <a:lnTo>
                    <a:pt x="1040" y="632"/>
                  </a:lnTo>
                  <a:lnTo>
                    <a:pt x="1034" y="658"/>
                  </a:lnTo>
                  <a:lnTo>
                    <a:pt x="1028" y="682"/>
                  </a:lnTo>
                  <a:lnTo>
                    <a:pt x="1018" y="708"/>
                  </a:lnTo>
                  <a:lnTo>
                    <a:pt x="1010" y="730"/>
                  </a:lnTo>
                  <a:lnTo>
                    <a:pt x="998" y="754"/>
                  </a:lnTo>
                  <a:lnTo>
                    <a:pt x="988" y="776"/>
                  </a:lnTo>
                  <a:lnTo>
                    <a:pt x="974" y="798"/>
                  </a:lnTo>
                  <a:lnTo>
                    <a:pt x="960" y="820"/>
                  </a:lnTo>
                  <a:lnTo>
                    <a:pt x="946" y="840"/>
                  </a:lnTo>
                  <a:lnTo>
                    <a:pt x="930" y="860"/>
                  </a:lnTo>
                  <a:lnTo>
                    <a:pt x="914" y="880"/>
                  </a:lnTo>
                  <a:lnTo>
                    <a:pt x="896" y="898"/>
                  </a:lnTo>
                  <a:lnTo>
                    <a:pt x="878" y="916"/>
                  </a:lnTo>
                  <a:lnTo>
                    <a:pt x="860" y="932"/>
                  </a:lnTo>
                  <a:lnTo>
                    <a:pt x="840" y="948"/>
                  </a:lnTo>
                  <a:lnTo>
                    <a:pt x="818" y="962"/>
                  </a:lnTo>
                  <a:lnTo>
                    <a:pt x="798" y="976"/>
                  </a:lnTo>
                  <a:lnTo>
                    <a:pt x="776" y="988"/>
                  </a:lnTo>
                  <a:lnTo>
                    <a:pt x="752" y="1000"/>
                  </a:lnTo>
                  <a:lnTo>
                    <a:pt x="730" y="1010"/>
                  </a:lnTo>
                  <a:lnTo>
                    <a:pt x="706" y="1020"/>
                  </a:lnTo>
                  <a:lnTo>
                    <a:pt x="682" y="1028"/>
                  </a:lnTo>
                  <a:lnTo>
                    <a:pt x="656" y="1036"/>
                  </a:lnTo>
                  <a:lnTo>
                    <a:pt x="630" y="1042"/>
                  </a:lnTo>
                  <a:lnTo>
                    <a:pt x="604" y="1046"/>
                  </a:lnTo>
                  <a:lnTo>
                    <a:pt x="578" y="1050"/>
                  </a:lnTo>
                  <a:lnTo>
                    <a:pt x="552" y="1052"/>
                  </a:lnTo>
                  <a:lnTo>
                    <a:pt x="524" y="1052"/>
                  </a:lnTo>
                  <a:lnTo>
                    <a:pt x="524" y="1052"/>
                  </a:lnTo>
                  <a:lnTo>
                    <a:pt x="498" y="1052"/>
                  </a:lnTo>
                  <a:lnTo>
                    <a:pt x="472" y="1050"/>
                  </a:lnTo>
                  <a:lnTo>
                    <a:pt x="444" y="1046"/>
                  </a:lnTo>
                  <a:lnTo>
                    <a:pt x="418" y="1042"/>
                  </a:lnTo>
                  <a:lnTo>
                    <a:pt x="394" y="1036"/>
                  </a:lnTo>
                  <a:lnTo>
                    <a:pt x="368" y="1028"/>
                  </a:lnTo>
                  <a:lnTo>
                    <a:pt x="344" y="1020"/>
                  </a:lnTo>
                  <a:lnTo>
                    <a:pt x="320" y="1010"/>
                  </a:lnTo>
                  <a:lnTo>
                    <a:pt x="296" y="1000"/>
                  </a:lnTo>
                  <a:lnTo>
                    <a:pt x="274" y="988"/>
                  </a:lnTo>
                  <a:lnTo>
                    <a:pt x="252" y="976"/>
                  </a:lnTo>
                  <a:lnTo>
                    <a:pt x="230" y="962"/>
                  </a:lnTo>
                  <a:lnTo>
                    <a:pt x="210" y="948"/>
                  </a:lnTo>
                  <a:lnTo>
                    <a:pt x="190" y="932"/>
                  </a:lnTo>
                  <a:lnTo>
                    <a:pt x="172" y="916"/>
                  </a:lnTo>
                  <a:lnTo>
                    <a:pt x="154" y="898"/>
                  </a:lnTo>
                  <a:lnTo>
                    <a:pt x="136" y="880"/>
                  </a:lnTo>
                  <a:lnTo>
                    <a:pt x="120" y="860"/>
                  </a:lnTo>
                  <a:lnTo>
                    <a:pt x="104" y="840"/>
                  </a:lnTo>
                  <a:lnTo>
                    <a:pt x="88" y="820"/>
                  </a:lnTo>
                  <a:lnTo>
                    <a:pt x="76" y="798"/>
                  </a:lnTo>
                  <a:lnTo>
                    <a:pt x="62" y="776"/>
                  </a:lnTo>
                  <a:lnTo>
                    <a:pt x="50" y="754"/>
                  </a:lnTo>
                  <a:lnTo>
                    <a:pt x="40" y="730"/>
                  </a:lnTo>
                  <a:lnTo>
                    <a:pt x="30" y="708"/>
                  </a:lnTo>
                  <a:lnTo>
                    <a:pt x="22" y="682"/>
                  </a:lnTo>
                  <a:lnTo>
                    <a:pt x="16" y="658"/>
                  </a:lnTo>
                  <a:lnTo>
                    <a:pt x="10" y="632"/>
                  </a:lnTo>
                  <a:lnTo>
                    <a:pt x="6" y="606"/>
                  </a:lnTo>
                  <a:lnTo>
                    <a:pt x="2" y="580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526"/>
                  </a:lnTo>
                  <a:lnTo>
                    <a:pt x="0" y="500"/>
                  </a:lnTo>
                  <a:lnTo>
                    <a:pt x="2" y="472"/>
                  </a:lnTo>
                  <a:lnTo>
                    <a:pt x="6" y="446"/>
                  </a:lnTo>
                  <a:lnTo>
                    <a:pt x="10" y="420"/>
                  </a:lnTo>
                  <a:lnTo>
                    <a:pt x="16" y="394"/>
                  </a:lnTo>
                  <a:lnTo>
                    <a:pt x="22" y="370"/>
                  </a:lnTo>
                  <a:lnTo>
                    <a:pt x="30" y="346"/>
                  </a:lnTo>
                  <a:lnTo>
                    <a:pt x="40" y="322"/>
                  </a:lnTo>
                  <a:lnTo>
                    <a:pt x="50" y="298"/>
                  </a:lnTo>
                  <a:lnTo>
                    <a:pt x="62" y="276"/>
                  </a:lnTo>
                  <a:lnTo>
                    <a:pt x="76" y="254"/>
                  </a:lnTo>
                  <a:lnTo>
                    <a:pt x="88" y="232"/>
                  </a:lnTo>
                  <a:lnTo>
                    <a:pt x="104" y="212"/>
                  </a:lnTo>
                  <a:lnTo>
                    <a:pt x="120" y="192"/>
                  </a:lnTo>
                  <a:lnTo>
                    <a:pt x="136" y="172"/>
                  </a:lnTo>
                  <a:lnTo>
                    <a:pt x="154" y="154"/>
                  </a:lnTo>
                  <a:lnTo>
                    <a:pt x="172" y="138"/>
                  </a:lnTo>
                  <a:lnTo>
                    <a:pt x="190" y="120"/>
                  </a:lnTo>
                  <a:lnTo>
                    <a:pt x="210" y="104"/>
                  </a:lnTo>
                  <a:lnTo>
                    <a:pt x="230" y="90"/>
                  </a:lnTo>
                  <a:lnTo>
                    <a:pt x="252" y="76"/>
                  </a:lnTo>
                  <a:lnTo>
                    <a:pt x="274" y="64"/>
                  </a:lnTo>
                  <a:lnTo>
                    <a:pt x="296" y="52"/>
                  </a:lnTo>
                  <a:lnTo>
                    <a:pt x="320" y="42"/>
                  </a:lnTo>
                  <a:lnTo>
                    <a:pt x="344" y="32"/>
                  </a:lnTo>
                  <a:lnTo>
                    <a:pt x="368" y="24"/>
                  </a:lnTo>
                  <a:lnTo>
                    <a:pt x="394" y="18"/>
                  </a:lnTo>
                  <a:lnTo>
                    <a:pt x="418" y="12"/>
                  </a:lnTo>
                  <a:lnTo>
                    <a:pt x="444" y="6"/>
                  </a:lnTo>
                  <a:lnTo>
                    <a:pt x="472" y="4"/>
                  </a:lnTo>
                  <a:lnTo>
                    <a:pt x="498" y="2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52" y="2"/>
                  </a:lnTo>
                  <a:lnTo>
                    <a:pt x="578" y="4"/>
                  </a:lnTo>
                  <a:lnTo>
                    <a:pt x="604" y="6"/>
                  </a:lnTo>
                  <a:lnTo>
                    <a:pt x="630" y="12"/>
                  </a:lnTo>
                  <a:lnTo>
                    <a:pt x="656" y="18"/>
                  </a:lnTo>
                  <a:lnTo>
                    <a:pt x="682" y="24"/>
                  </a:lnTo>
                  <a:lnTo>
                    <a:pt x="706" y="32"/>
                  </a:lnTo>
                  <a:lnTo>
                    <a:pt x="730" y="42"/>
                  </a:lnTo>
                  <a:lnTo>
                    <a:pt x="752" y="52"/>
                  </a:lnTo>
                  <a:lnTo>
                    <a:pt x="776" y="64"/>
                  </a:lnTo>
                  <a:lnTo>
                    <a:pt x="798" y="76"/>
                  </a:lnTo>
                  <a:lnTo>
                    <a:pt x="818" y="90"/>
                  </a:lnTo>
                  <a:lnTo>
                    <a:pt x="840" y="104"/>
                  </a:lnTo>
                  <a:lnTo>
                    <a:pt x="860" y="120"/>
                  </a:lnTo>
                  <a:lnTo>
                    <a:pt x="878" y="138"/>
                  </a:lnTo>
                  <a:lnTo>
                    <a:pt x="896" y="154"/>
                  </a:lnTo>
                  <a:lnTo>
                    <a:pt x="914" y="172"/>
                  </a:lnTo>
                  <a:lnTo>
                    <a:pt x="930" y="192"/>
                  </a:lnTo>
                  <a:lnTo>
                    <a:pt x="946" y="212"/>
                  </a:lnTo>
                  <a:lnTo>
                    <a:pt x="960" y="232"/>
                  </a:lnTo>
                  <a:lnTo>
                    <a:pt x="974" y="254"/>
                  </a:lnTo>
                  <a:lnTo>
                    <a:pt x="988" y="276"/>
                  </a:lnTo>
                  <a:lnTo>
                    <a:pt x="998" y="298"/>
                  </a:lnTo>
                  <a:lnTo>
                    <a:pt x="1010" y="322"/>
                  </a:lnTo>
                  <a:lnTo>
                    <a:pt x="1018" y="346"/>
                  </a:lnTo>
                  <a:lnTo>
                    <a:pt x="1028" y="370"/>
                  </a:lnTo>
                  <a:lnTo>
                    <a:pt x="1034" y="394"/>
                  </a:lnTo>
                  <a:lnTo>
                    <a:pt x="1040" y="420"/>
                  </a:lnTo>
                  <a:lnTo>
                    <a:pt x="1044" y="446"/>
                  </a:lnTo>
                  <a:lnTo>
                    <a:pt x="1048" y="472"/>
                  </a:lnTo>
                  <a:lnTo>
                    <a:pt x="1050" y="500"/>
                  </a:lnTo>
                  <a:lnTo>
                    <a:pt x="1050" y="526"/>
                  </a:lnTo>
                  <a:lnTo>
                    <a:pt x="1050" y="526"/>
                  </a:lnTo>
                  <a:close/>
                </a:path>
              </a:pathLst>
            </a:custGeom>
            <a:solidFill>
              <a:srgbClr val="f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77"/>
            <p:cNvSpPr/>
            <p:nvPr/>
          </p:nvSpPr>
          <p:spPr>
            <a:xfrm>
              <a:off x="8251560" y="11312640"/>
              <a:ext cx="1635120" cy="16351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1635120"/>
                <a:gd name="textAreaBottom" fmla="*/ 1635480 h 1635120"/>
              </a:gdLst>
              <a:ahLst/>
              <a:rect l="textAreaLeft" t="textAreaTop" r="textAreaRight" b="textAreaBottom"/>
              <a:pathLst>
                <a:path w="1030" h="1030">
                  <a:moveTo>
                    <a:pt x="1030" y="514"/>
                  </a:moveTo>
                  <a:lnTo>
                    <a:pt x="1030" y="514"/>
                  </a:lnTo>
                  <a:lnTo>
                    <a:pt x="1028" y="542"/>
                  </a:lnTo>
                  <a:lnTo>
                    <a:pt x="1026" y="568"/>
                  </a:lnTo>
                  <a:lnTo>
                    <a:pt x="1024" y="594"/>
                  </a:lnTo>
                  <a:lnTo>
                    <a:pt x="1020" y="618"/>
                  </a:lnTo>
                  <a:lnTo>
                    <a:pt x="1014" y="644"/>
                  </a:lnTo>
                  <a:lnTo>
                    <a:pt x="1006" y="668"/>
                  </a:lnTo>
                  <a:lnTo>
                    <a:pt x="998" y="692"/>
                  </a:lnTo>
                  <a:lnTo>
                    <a:pt x="990" y="716"/>
                  </a:lnTo>
                  <a:lnTo>
                    <a:pt x="978" y="738"/>
                  </a:lnTo>
                  <a:lnTo>
                    <a:pt x="968" y="760"/>
                  </a:lnTo>
                  <a:lnTo>
                    <a:pt x="956" y="782"/>
                  </a:lnTo>
                  <a:lnTo>
                    <a:pt x="942" y="802"/>
                  </a:lnTo>
                  <a:lnTo>
                    <a:pt x="912" y="842"/>
                  </a:lnTo>
                  <a:lnTo>
                    <a:pt x="878" y="880"/>
                  </a:lnTo>
                  <a:lnTo>
                    <a:pt x="842" y="912"/>
                  </a:lnTo>
                  <a:lnTo>
                    <a:pt x="802" y="942"/>
                  </a:lnTo>
                  <a:lnTo>
                    <a:pt x="782" y="956"/>
                  </a:lnTo>
                  <a:lnTo>
                    <a:pt x="760" y="968"/>
                  </a:lnTo>
                  <a:lnTo>
                    <a:pt x="738" y="980"/>
                  </a:lnTo>
                  <a:lnTo>
                    <a:pt x="714" y="990"/>
                  </a:lnTo>
                  <a:lnTo>
                    <a:pt x="692" y="998"/>
                  </a:lnTo>
                  <a:lnTo>
                    <a:pt x="668" y="1006"/>
                  </a:lnTo>
                  <a:lnTo>
                    <a:pt x="644" y="1014"/>
                  </a:lnTo>
                  <a:lnTo>
                    <a:pt x="618" y="1020"/>
                  </a:lnTo>
                  <a:lnTo>
                    <a:pt x="592" y="1024"/>
                  </a:lnTo>
                  <a:lnTo>
                    <a:pt x="568" y="1028"/>
                  </a:lnTo>
                  <a:lnTo>
                    <a:pt x="540" y="1030"/>
                  </a:lnTo>
                  <a:lnTo>
                    <a:pt x="514" y="1030"/>
                  </a:lnTo>
                  <a:lnTo>
                    <a:pt x="514" y="1030"/>
                  </a:lnTo>
                  <a:lnTo>
                    <a:pt x="488" y="1030"/>
                  </a:lnTo>
                  <a:lnTo>
                    <a:pt x="462" y="1028"/>
                  </a:lnTo>
                  <a:lnTo>
                    <a:pt x="436" y="1024"/>
                  </a:lnTo>
                  <a:lnTo>
                    <a:pt x="410" y="1020"/>
                  </a:lnTo>
                  <a:lnTo>
                    <a:pt x="386" y="1014"/>
                  </a:lnTo>
                  <a:lnTo>
                    <a:pt x="362" y="1006"/>
                  </a:lnTo>
                  <a:lnTo>
                    <a:pt x="338" y="998"/>
                  </a:lnTo>
                  <a:lnTo>
                    <a:pt x="314" y="990"/>
                  </a:lnTo>
                  <a:lnTo>
                    <a:pt x="292" y="980"/>
                  </a:lnTo>
                  <a:lnTo>
                    <a:pt x="268" y="968"/>
                  </a:lnTo>
                  <a:lnTo>
                    <a:pt x="248" y="956"/>
                  </a:lnTo>
                  <a:lnTo>
                    <a:pt x="226" y="942"/>
                  </a:lnTo>
                  <a:lnTo>
                    <a:pt x="186" y="912"/>
                  </a:lnTo>
                  <a:lnTo>
                    <a:pt x="150" y="880"/>
                  </a:lnTo>
                  <a:lnTo>
                    <a:pt x="116" y="842"/>
                  </a:lnTo>
                  <a:lnTo>
                    <a:pt x="88" y="802"/>
                  </a:lnTo>
                  <a:lnTo>
                    <a:pt x="74" y="782"/>
                  </a:lnTo>
                  <a:lnTo>
                    <a:pt x="62" y="760"/>
                  </a:lnTo>
                  <a:lnTo>
                    <a:pt x="50" y="738"/>
                  </a:lnTo>
                  <a:lnTo>
                    <a:pt x="40" y="716"/>
                  </a:lnTo>
                  <a:lnTo>
                    <a:pt x="30" y="692"/>
                  </a:lnTo>
                  <a:lnTo>
                    <a:pt x="22" y="668"/>
                  </a:lnTo>
                  <a:lnTo>
                    <a:pt x="16" y="644"/>
                  </a:lnTo>
                  <a:lnTo>
                    <a:pt x="10" y="618"/>
                  </a:lnTo>
                  <a:lnTo>
                    <a:pt x="6" y="594"/>
                  </a:lnTo>
                  <a:lnTo>
                    <a:pt x="2" y="568"/>
                  </a:lnTo>
                  <a:lnTo>
                    <a:pt x="0" y="542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488"/>
                  </a:lnTo>
                  <a:lnTo>
                    <a:pt x="2" y="462"/>
                  </a:lnTo>
                  <a:lnTo>
                    <a:pt x="6" y="436"/>
                  </a:lnTo>
                  <a:lnTo>
                    <a:pt x="10" y="410"/>
                  </a:lnTo>
                  <a:lnTo>
                    <a:pt x="16" y="386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2"/>
                  </a:lnTo>
                  <a:lnTo>
                    <a:pt x="62" y="270"/>
                  </a:lnTo>
                  <a:lnTo>
                    <a:pt x="74" y="248"/>
                  </a:lnTo>
                  <a:lnTo>
                    <a:pt x="88" y="226"/>
                  </a:lnTo>
                  <a:lnTo>
                    <a:pt x="116" y="188"/>
                  </a:lnTo>
                  <a:lnTo>
                    <a:pt x="150" y="150"/>
                  </a:lnTo>
                  <a:lnTo>
                    <a:pt x="186" y="118"/>
                  </a:lnTo>
                  <a:lnTo>
                    <a:pt x="226" y="88"/>
                  </a:lnTo>
                  <a:lnTo>
                    <a:pt x="248" y="74"/>
                  </a:lnTo>
                  <a:lnTo>
                    <a:pt x="268" y="62"/>
                  </a:lnTo>
                  <a:lnTo>
                    <a:pt x="292" y="50"/>
                  </a:lnTo>
                  <a:lnTo>
                    <a:pt x="314" y="40"/>
                  </a:lnTo>
                  <a:lnTo>
                    <a:pt x="338" y="30"/>
                  </a:lnTo>
                  <a:lnTo>
                    <a:pt x="362" y="22"/>
                  </a:lnTo>
                  <a:lnTo>
                    <a:pt x="386" y="16"/>
                  </a:lnTo>
                  <a:lnTo>
                    <a:pt x="410" y="10"/>
                  </a:lnTo>
                  <a:lnTo>
                    <a:pt x="436" y="6"/>
                  </a:lnTo>
                  <a:lnTo>
                    <a:pt x="462" y="2"/>
                  </a:lnTo>
                  <a:lnTo>
                    <a:pt x="488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40" y="0"/>
                  </a:lnTo>
                  <a:lnTo>
                    <a:pt x="568" y="2"/>
                  </a:lnTo>
                  <a:lnTo>
                    <a:pt x="592" y="6"/>
                  </a:lnTo>
                  <a:lnTo>
                    <a:pt x="618" y="10"/>
                  </a:lnTo>
                  <a:lnTo>
                    <a:pt x="644" y="16"/>
                  </a:lnTo>
                  <a:lnTo>
                    <a:pt x="668" y="22"/>
                  </a:lnTo>
                  <a:lnTo>
                    <a:pt x="692" y="30"/>
                  </a:lnTo>
                  <a:lnTo>
                    <a:pt x="714" y="40"/>
                  </a:lnTo>
                  <a:lnTo>
                    <a:pt x="738" y="50"/>
                  </a:lnTo>
                  <a:lnTo>
                    <a:pt x="760" y="62"/>
                  </a:lnTo>
                  <a:lnTo>
                    <a:pt x="782" y="74"/>
                  </a:lnTo>
                  <a:lnTo>
                    <a:pt x="802" y="88"/>
                  </a:lnTo>
                  <a:lnTo>
                    <a:pt x="842" y="118"/>
                  </a:lnTo>
                  <a:lnTo>
                    <a:pt x="878" y="150"/>
                  </a:lnTo>
                  <a:lnTo>
                    <a:pt x="912" y="188"/>
                  </a:lnTo>
                  <a:lnTo>
                    <a:pt x="942" y="226"/>
                  </a:lnTo>
                  <a:lnTo>
                    <a:pt x="956" y="248"/>
                  </a:lnTo>
                  <a:lnTo>
                    <a:pt x="968" y="270"/>
                  </a:lnTo>
                  <a:lnTo>
                    <a:pt x="978" y="292"/>
                  </a:lnTo>
                  <a:lnTo>
                    <a:pt x="990" y="314"/>
                  </a:lnTo>
                  <a:lnTo>
                    <a:pt x="998" y="338"/>
                  </a:lnTo>
                  <a:lnTo>
                    <a:pt x="1006" y="362"/>
                  </a:lnTo>
                  <a:lnTo>
                    <a:pt x="1014" y="386"/>
                  </a:lnTo>
                  <a:lnTo>
                    <a:pt x="1020" y="410"/>
                  </a:lnTo>
                  <a:lnTo>
                    <a:pt x="1024" y="436"/>
                  </a:lnTo>
                  <a:lnTo>
                    <a:pt x="1026" y="462"/>
                  </a:lnTo>
                  <a:lnTo>
                    <a:pt x="1028" y="488"/>
                  </a:lnTo>
                  <a:lnTo>
                    <a:pt x="1030" y="514"/>
                  </a:lnTo>
                  <a:lnTo>
                    <a:pt x="1030" y="514"/>
                  </a:lnTo>
                  <a:close/>
                </a:path>
              </a:pathLst>
            </a:custGeom>
            <a:solidFill>
              <a:srgbClr val="f4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78"/>
            <p:cNvSpPr/>
            <p:nvPr/>
          </p:nvSpPr>
          <p:spPr>
            <a:xfrm>
              <a:off x="8258040" y="11322000"/>
              <a:ext cx="1600200" cy="16030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603080"/>
                <a:gd name="textAreaBottom" fmla="*/ 1603440 h 1603080"/>
              </a:gdLst>
              <a:ahLst/>
              <a:rect l="textAreaLeft" t="textAreaTop" r="textAreaRight" b="textAreaBottom"/>
              <a:pathLst>
                <a:path w="1008" h="1010">
                  <a:moveTo>
                    <a:pt x="1008" y="506"/>
                  </a:moveTo>
                  <a:lnTo>
                    <a:pt x="1008" y="506"/>
                  </a:lnTo>
                  <a:lnTo>
                    <a:pt x="1008" y="532"/>
                  </a:lnTo>
                  <a:lnTo>
                    <a:pt x="1006" y="556"/>
                  </a:lnTo>
                  <a:lnTo>
                    <a:pt x="1002" y="582"/>
                  </a:lnTo>
                  <a:lnTo>
                    <a:pt x="998" y="606"/>
                  </a:lnTo>
                  <a:lnTo>
                    <a:pt x="992" y="632"/>
                  </a:lnTo>
                  <a:lnTo>
                    <a:pt x="986" y="656"/>
                  </a:lnTo>
                  <a:lnTo>
                    <a:pt x="978" y="678"/>
                  </a:lnTo>
                  <a:lnTo>
                    <a:pt x="968" y="702"/>
                  </a:lnTo>
                  <a:lnTo>
                    <a:pt x="948" y="746"/>
                  </a:lnTo>
                  <a:lnTo>
                    <a:pt x="922" y="788"/>
                  </a:lnTo>
                  <a:lnTo>
                    <a:pt x="894" y="826"/>
                  </a:lnTo>
                  <a:lnTo>
                    <a:pt x="860" y="862"/>
                  </a:lnTo>
                  <a:lnTo>
                    <a:pt x="824" y="894"/>
                  </a:lnTo>
                  <a:lnTo>
                    <a:pt x="786" y="924"/>
                  </a:lnTo>
                  <a:lnTo>
                    <a:pt x="744" y="948"/>
                  </a:lnTo>
                  <a:lnTo>
                    <a:pt x="700" y="970"/>
                  </a:lnTo>
                  <a:lnTo>
                    <a:pt x="678" y="980"/>
                  </a:lnTo>
                  <a:lnTo>
                    <a:pt x="654" y="988"/>
                  </a:lnTo>
                  <a:lnTo>
                    <a:pt x="630" y="994"/>
                  </a:lnTo>
                  <a:lnTo>
                    <a:pt x="606" y="1000"/>
                  </a:lnTo>
                  <a:lnTo>
                    <a:pt x="580" y="1004"/>
                  </a:lnTo>
                  <a:lnTo>
                    <a:pt x="556" y="1008"/>
                  </a:lnTo>
                  <a:lnTo>
                    <a:pt x="530" y="1010"/>
                  </a:lnTo>
                  <a:lnTo>
                    <a:pt x="504" y="1010"/>
                  </a:lnTo>
                  <a:lnTo>
                    <a:pt x="504" y="1010"/>
                  </a:lnTo>
                  <a:lnTo>
                    <a:pt x="478" y="1010"/>
                  </a:lnTo>
                  <a:lnTo>
                    <a:pt x="452" y="1008"/>
                  </a:lnTo>
                  <a:lnTo>
                    <a:pt x="428" y="1004"/>
                  </a:lnTo>
                  <a:lnTo>
                    <a:pt x="402" y="1000"/>
                  </a:lnTo>
                  <a:lnTo>
                    <a:pt x="378" y="994"/>
                  </a:lnTo>
                  <a:lnTo>
                    <a:pt x="354" y="988"/>
                  </a:lnTo>
                  <a:lnTo>
                    <a:pt x="330" y="980"/>
                  </a:lnTo>
                  <a:lnTo>
                    <a:pt x="308" y="970"/>
                  </a:lnTo>
                  <a:lnTo>
                    <a:pt x="264" y="948"/>
                  </a:lnTo>
                  <a:lnTo>
                    <a:pt x="222" y="924"/>
                  </a:lnTo>
                  <a:lnTo>
                    <a:pt x="184" y="894"/>
                  </a:lnTo>
                  <a:lnTo>
                    <a:pt x="148" y="862"/>
                  </a:lnTo>
                  <a:lnTo>
                    <a:pt x="114" y="826"/>
                  </a:lnTo>
                  <a:lnTo>
                    <a:pt x="86" y="788"/>
                  </a:lnTo>
                  <a:lnTo>
                    <a:pt x="60" y="746"/>
                  </a:lnTo>
                  <a:lnTo>
                    <a:pt x="40" y="702"/>
                  </a:lnTo>
                  <a:lnTo>
                    <a:pt x="30" y="678"/>
                  </a:lnTo>
                  <a:lnTo>
                    <a:pt x="22" y="656"/>
                  </a:lnTo>
                  <a:lnTo>
                    <a:pt x="16" y="632"/>
                  </a:lnTo>
                  <a:lnTo>
                    <a:pt x="10" y="606"/>
                  </a:lnTo>
                  <a:lnTo>
                    <a:pt x="6" y="582"/>
                  </a:lnTo>
                  <a:lnTo>
                    <a:pt x="2" y="556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506"/>
                  </a:lnTo>
                  <a:lnTo>
                    <a:pt x="0" y="480"/>
                  </a:lnTo>
                  <a:lnTo>
                    <a:pt x="2" y="454"/>
                  </a:lnTo>
                  <a:lnTo>
                    <a:pt x="6" y="428"/>
                  </a:lnTo>
                  <a:lnTo>
                    <a:pt x="10" y="404"/>
                  </a:lnTo>
                  <a:lnTo>
                    <a:pt x="16" y="380"/>
                  </a:lnTo>
                  <a:lnTo>
                    <a:pt x="22" y="356"/>
                  </a:lnTo>
                  <a:lnTo>
                    <a:pt x="30" y="332"/>
                  </a:lnTo>
                  <a:lnTo>
                    <a:pt x="40" y="308"/>
                  </a:lnTo>
                  <a:lnTo>
                    <a:pt x="60" y="264"/>
                  </a:lnTo>
                  <a:lnTo>
                    <a:pt x="86" y="224"/>
                  </a:lnTo>
                  <a:lnTo>
                    <a:pt x="114" y="184"/>
                  </a:lnTo>
                  <a:lnTo>
                    <a:pt x="148" y="148"/>
                  </a:lnTo>
                  <a:lnTo>
                    <a:pt x="184" y="116"/>
                  </a:lnTo>
                  <a:lnTo>
                    <a:pt x="222" y="86"/>
                  </a:lnTo>
                  <a:lnTo>
                    <a:pt x="264" y="62"/>
                  </a:lnTo>
                  <a:lnTo>
                    <a:pt x="308" y="40"/>
                  </a:lnTo>
                  <a:lnTo>
                    <a:pt x="330" y="32"/>
                  </a:lnTo>
                  <a:lnTo>
                    <a:pt x="354" y="24"/>
                  </a:lnTo>
                  <a:lnTo>
                    <a:pt x="378" y="16"/>
                  </a:lnTo>
                  <a:lnTo>
                    <a:pt x="402" y="10"/>
                  </a:lnTo>
                  <a:lnTo>
                    <a:pt x="428" y="6"/>
                  </a:lnTo>
                  <a:lnTo>
                    <a:pt x="452" y="4"/>
                  </a:lnTo>
                  <a:lnTo>
                    <a:pt x="478" y="2"/>
                  </a:lnTo>
                  <a:lnTo>
                    <a:pt x="504" y="0"/>
                  </a:lnTo>
                  <a:lnTo>
                    <a:pt x="504" y="0"/>
                  </a:lnTo>
                  <a:lnTo>
                    <a:pt x="530" y="2"/>
                  </a:lnTo>
                  <a:lnTo>
                    <a:pt x="556" y="4"/>
                  </a:lnTo>
                  <a:lnTo>
                    <a:pt x="580" y="6"/>
                  </a:lnTo>
                  <a:lnTo>
                    <a:pt x="606" y="10"/>
                  </a:lnTo>
                  <a:lnTo>
                    <a:pt x="630" y="16"/>
                  </a:lnTo>
                  <a:lnTo>
                    <a:pt x="654" y="24"/>
                  </a:lnTo>
                  <a:lnTo>
                    <a:pt x="678" y="32"/>
                  </a:lnTo>
                  <a:lnTo>
                    <a:pt x="700" y="40"/>
                  </a:lnTo>
                  <a:lnTo>
                    <a:pt x="744" y="62"/>
                  </a:lnTo>
                  <a:lnTo>
                    <a:pt x="786" y="86"/>
                  </a:lnTo>
                  <a:lnTo>
                    <a:pt x="824" y="116"/>
                  </a:lnTo>
                  <a:lnTo>
                    <a:pt x="860" y="148"/>
                  </a:lnTo>
                  <a:lnTo>
                    <a:pt x="894" y="184"/>
                  </a:lnTo>
                  <a:lnTo>
                    <a:pt x="922" y="224"/>
                  </a:lnTo>
                  <a:lnTo>
                    <a:pt x="948" y="264"/>
                  </a:lnTo>
                  <a:lnTo>
                    <a:pt x="968" y="308"/>
                  </a:lnTo>
                  <a:lnTo>
                    <a:pt x="978" y="332"/>
                  </a:lnTo>
                  <a:lnTo>
                    <a:pt x="986" y="356"/>
                  </a:lnTo>
                  <a:lnTo>
                    <a:pt x="992" y="380"/>
                  </a:lnTo>
                  <a:lnTo>
                    <a:pt x="998" y="404"/>
                  </a:lnTo>
                  <a:lnTo>
                    <a:pt x="1002" y="428"/>
                  </a:lnTo>
                  <a:lnTo>
                    <a:pt x="1006" y="454"/>
                  </a:lnTo>
                  <a:lnTo>
                    <a:pt x="1008" y="480"/>
                  </a:lnTo>
                  <a:lnTo>
                    <a:pt x="1008" y="506"/>
                  </a:lnTo>
                  <a:lnTo>
                    <a:pt x="1008" y="506"/>
                  </a:lnTo>
                  <a:close/>
                </a:path>
              </a:pathLst>
            </a:custGeom>
            <a:solidFill>
              <a:srgbClr val="f4a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79"/>
            <p:cNvSpPr/>
            <p:nvPr/>
          </p:nvSpPr>
          <p:spPr>
            <a:xfrm>
              <a:off x="8264520" y="11334600"/>
              <a:ext cx="1568520" cy="156816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988" h="988">
                  <a:moveTo>
                    <a:pt x="988" y="494"/>
                  </a:moveTo>
                  <a:lnTo>
                    <a:pt x="988" y="494"/>
                  </a:lnTo>
                  <a:lnTo>
                    <a:pt x="986" y="518"/>
                  </a:lnTo>
                  <a:lnTo>
                    <a:pt x="984" y="544"/>
                  </a:lnTo>
                  <a:lnTo>
                    <a:pt x="982" y="568"/>
                  </a:lnTo>
                  <a:lnTo>
                    <a:pt x="978" y="594"/>
                  </a:lnTo>
                  <a:lnTo>
                    <a:pt x="972" y="616"/>
                  </a:lnTo>
                  <a:lnTo>
                    <a:pt x="966" y="640"/>
                  </a:lnTo>
                  <a:lnTo>
                    <a:pt x="948" y="686"/>
                  </a:lnTo>
                  <a:lnTo>
                    <a:pt x="928" y="728"/>
                  </a:lnTo>
                  <a:lnTo>
                    <a:pt x="904" y="770"/>
                  </a:lnTo>
                  <a:lnTo>
                    <a:pt x="874" y="808"/>
                  </a:lnTo>
                  <a:lnTo>
                    <a:pt x="842" y="842"/>
                  </a:lnTo>
                  <a:lnTo>
                    <a:pt x="808" y="874"/>
                  </a:lnTo>
                  <a:lnTo>
                    <a:pt x="770" y="904"/>
                  </a:lnTo>
                  <a:lnTo>
                    <a:pt x="730" y="928"/>
                  </a:lnTo>
                  <a:lnTo>
                    <a:pt x="686" y="948"/>
                  </a:lnTo>
                  <a:lnTo>
                    <a:pt x="640" y="966"/>
                  </a:lnTo>
                  <a:lnTo>
                    <a:pt x="618" y="972"/>
                  </a:lnTo>
                  <a:lnTo>
                    <a:pt x="594" y="978"/>
                  </a:lnTo>
                  <a:lnTo>
                    <a:pt x="568" y="982"/>
                  </a:lnTo>
                  <a:lnTo>
                    <a:pt x="544" y="984"/>
                  </a:lnTo>
                  <a:lnTo>
                    <a:pt x="520" y="986"/>
                  </a:lnTo>
                  <a:lnTo>
                    <a:pt x="494" y="988"/>
                  </a:lnTo>
                  <a:lnTo>
                    <a:pt x="494" y="988"/>
                  </a:lnTo>
                  <a:lnTo>
                    <a:pt x="468" y="986"/>
                  </a:lnTo>
                  <a:lnTo>
                    <a:pt x="444" y="984"/>
                  </a:lnTo>
                  <a:lnTo>
                    <a:pt x="418" y="982"/>
                  </a:lnTo>
                  <a:lnTo>
                    <a:pt x="394" y="978"/>
                  </a:lnTo>
                  <a:lnTo>
                    <a:pt x="370" y="972"/>
                  </a:lnTo>
                  <a:lnTo>
                    <a:pt x="346" y="966"/>
                  </a:lnTo>
                  <a:lnTo>
                    <a:pt x="302" y="948"/>
                  </a:lnTo>
                  <a:lnTo>
                    <a:pt x="258" y="928"/>
                  </a:lnTo>
                  <a:lnTo>
                    <a:pt x="218" y="904"/>
                  </a:lnTo>
                  <a:lnTo>
                    <a:pt x="180" y="874"/>
                  </a:lnTo>
                  <a:lnTo>
                    <a:pt x="144" y="842"/>
                  </a:lnTo>
                  <a:lnTo>
                    <a:pt x="112" y="808"/>
                  </a:lnTo>
                  <a:lnTo>
                    <a:pt x="84" y="770"/>
                  </a:lnTo>
                  <a:lnTo>
                    <a:pt x="60" y="728"/>
                  </a:lnTo>
                  <a:lnTo>
                    <a:pt x="38" y="686"/>
                  </a:lnTo>
                  <a:lnTo>
                    <a:pt x="22" y="640"/>
                  </a:lnTo>
                  <a:lnTo>
                    <a:pt x="16" y="616"/>
                  </a:lnTo>
                  <a:lnTo>
                    <a:pt x="10" y="594"/>
                  </a:lnTo>
                  <a:lnTo>
                    <a:pt x="6" y="568"/>
                  </a:lnTo>
                  <a:lnTo>
                    <a:pt x="2" y="544"/>
                  </a:lnTo>
                  <a:lnTo>
                    <a:pt x="0" y="518"/>
                  </a:lnTo>
                  <a:lnTo>
                    <a:pt x="0" y="494"/>
                  </a:lnTo>
                  <a:lnTo>
                    <a:pt x="0" y="494"/>
                  </a:lnTo>
                  <a:lnTo>
                    <a:pt x="0" y="468"/>
                  </a:lnTo>
                  <a:lnTo>
                    <a:pt x="2" y="444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8" y="302"/>
                  </a:lnTo>
                  <a:lnTo>
                    <a:pt x="60" y="258"/>
                  </a:lnTo>
                  <a:lnTo>
                    <a:pt x="84" y="218"/>
                  </a:lnTo>
                  <a:lnTo>
                    <a:pt x="112" y="180"/>
                  </a:lnTo>
                  <a:lnTo>
                    <a:pt x="144" y="144"/>
                  </a:lnTo>
                  <a:lnTo>
                    <a:pt x="180" y="112"/>
                  </a:lnTo>
                  <a:lnTo>
                    <a:pt x="218" y="84"/>
                  </a:lnTo>
                  <a:lnTo>
                    <a:pt x="258" y="60"/>
                  </a:lnTo>
                  <a:lnTo>
                    <a:pt x="302" y="38"/>
                  </a:lnTo>
                  <a:lnTo>
                    <a:pt x="346" y="22"/>
                  </a:lnTo>
                  <a:lnTo>
                    <a:pt x="370" y="16"/>
                  </a:lnTo>
                  <a:lnTo>
                    <a:pt x="394" y="10"/>
                  </a:lnTo>
                  <a:lnTo>
                    <a:pt x="418" y="6"/>
                  </a:lnTo>
                  <a:lnTo>
                    <a:pt x="444" y="2"/>
                  </a:lnTo>
                  <a:lnTo>
                    <a:pt x="468" y="0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520" y="0"/>
                  </a:lnTo>
                  <a:lnTo>
                    <a:pt x="544" y="2"/>
                  </a:lnTo>
                  <a:lnTo>
                    <a:pt x="568" y="6"/>
                  </a:lnTo>
                  <a:lnTo>
                    <a:pt x="594" y="10"/>
                  </a:lnTo>
                  <a:lnTo>
                    <a:pt x="618" y="16"/>
                  </a:lnTo>
                  <a:lnTo>
                    <a:pt x="640" y="22"/>
                  </a:lnTo>
                  <a:lnTo>
                    <a:pt x="686" y="38"/>
                  </a:lnTo>
                  <a:lnTo>
                    <a:pt x="730" y="60"/>
                  </a:lnTo>
                  <a:lnTo>
                    <a:pt x="770" y="84"/>
                  </a:lnTo>
                  <a:lnTo>
                    <a:pt x="808" y="112"/>
                  </a:lnTo>
                  <a:lnTo>
                    <a:pt x="842" y="144"/>
                  </a:lnTo>
                  <a:lnTo>
                    <a:pt x="874" y="180"/>
                  </a:lnTo>
                  <a:lnTo>
                    <a:pt x="904" y="218"/>
                  </a:lnTo>
                  <a:lnTo>
                    <a:pt x="928" y="258"/>
                  </a:lnTo>
                  <a:lnTo>
                    <a:pt x="948" y="302"/>
                  </a:lnTo>
                  <a:lnTo>
                    <a:pt x="966" y="346"/>
                  </a:lnTo>
                  <a:lnTo>
                    <a:pt x="972" y="370"/>
                  </a:lnTo>
                  <a:lnTo>
                    <a:pt x="978" y="394"/>
                  </a:lnTo>
                  <a:lnTo>
                    <a:pt x="982" y="418"/>
                  </a:lnTo>
                  <a:lnTo>
                    <a:pt x="984" y="444"/>
                  </a:lnTo>
                  <a:lnTo>
                    <a:pt x="986" y="468"/>
                  </a:lnTo>
                  <a:lnTo>
                    <a:pt x="988" y="494"/>
                  </a:lnTo>
                  <a:lnTo>
                    <a:pt x="988" y="494"/>
                  </a:lnTo>
                  <a:close/>
                </a:path>
              </a:pathLst>
            </a:custGeom>
            <a:solidFill>
              <a:srgbClr val="f5a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80"/>
            <p:cNvSpPr/>
            <p:nvPr/>
          </p:nvSpPr>
          <p:spPr>
            <a:xfrm>
              <a:off x="8270640" y="11344320"/>
              <a:ext cx="1533600" cy="15364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536480"/>
                <a:gd name="textAreaBottom" fmla="*/ 1536840 h 1536480"/>
              </a:gdLst>
              <a:ahLst/>
              <a:rect l="textAreaLeft" t="textAreaTop" r="textAreaRight" b="textAreaBottom"/>
              <a:pathLst>
                <a:path w="966" h="968">
                  <a:moveTo>
                    <a:pt x="966" y="484"/>
                  </a:moveTo>
                  <a:lnTo>
                    <a:pt x="966" y="484"/>
                  </a:lnTo>
                  <a:lnTo>
                    <a:pt x="966" y="508"/>
                  </a:lnTo>
                  <a:lnTo>
                    <a:pt x="964" y="534"/>
                  </a:lnTo>
                  <a:lnTo>
                    <a:pt x="960" y="558"/>
                  </a:lnTo>
                  <a:lnTo>
                    <a:pt x="956" y="582"/>
                  </a:lnTo>
                  <a:lnTo>
                    <a:pt x="944" y="628"/>
                  </a:lnTo>
                  <a:lnTo>
                    <a:pt x="928" y="672"/>
                  </a:lnTo>
                  <a:lnTo>
                    <a:pt x="908" y="714"/>
                  </a:lnTo>
                  <a:lnTo>
                    <a:pt x="884" y="754"/>
                  </a:lnTo>
                  <a:lnTo>
                    <a:pt x="856" y="792"/>
                  </a:lnTo>
                  <a:lnTo>
                    <a:pt x="824" y="826"/>
                  </a:lnTo>
                  <a:lnTo>
                    <a:pt x="790" y="856"/>
                  </a:lnTo>
                  <a:lnTo>
                    <a:pt x="754" y="884"/>
                  </a:lnTo>
                  <a:lnTo>
                    <a:pt x="714" y="908"/>
                  </a:lnTo>
                  <a:lnTo>
                    <a:pt x="672" y="930"/>
                  </a:lnTo>
                  <a:lnTo>
                    <a:pt x="626" y="946"/>
                  </a:lnTo>
                  <a:lnTo>
                    <a:pt x="580" y="958"/>
                  </a:lnTo>
                  <a:lnTo>
                    <a:pt x="556" y="962"/>
                  </a:lnTo>
                  <a:lnTo>
                    <a:pt x="532" y="964"/>
                  </a:lnTo>
                  <a:lnTo>
                    <a:pt x="508" y="966"/>
                  </a:lnTo>
                  <a:lnTo>
                    <a:pt x="484" y="968"/>
                  </a:lnTo>
                  <a:lnTo>
                    <a:pt x="484" y="968"/>
                  </a:lnTo>
                  <a:lnTo>
                    <a:pt x="458" y="966"/>
                  </a:lnTo>
                  <a:lnTo>
                    <a:pt x="434" y="964"/>
                  </a:lnTo>
                  <a:lnTo>
                    <a:pt x="410" y="962"/>
                  </a:lnTo>
                  <a:lnTo>
                    <a:pt x="386" y="958"/>
                  </a:lnTo>
                  <a:lnTo>
                    <a:pt x="340" y="946"/>
                  </a:lnTo>
                  <a:lnTo>
                    <a:pt x="296" y="930"/>
                  </a:lnTo>
                  <a:lnTo>
                    <a:pt x="252" y="908"/>
                  </a:lnTo>
                  <a:lnTo>
                    <a:pt x="212" y="884"/>
                  </a:lnTo>
                  <a:lnTo>
                    <a:pt x="176" y="856"/>
                  </a:lnTo>
                  <a:lnTo>
                    <a:pt x="142" y="826"/>
                  </a:lnTo>
                  <a:lnTo>
                    <a:pt x="110" y="792"/>
                  </a:lnTo>
                  <a:lnTo>
                    <a:pt x="82" y="754"/>
                  </a:lnTo>
                  <a:lnTo>
                    <a:pt x="58" y="714"/>
                  </a:lnTo>
                  <a:lnTo>
                    <a:pt x="38" y="672"/>
                  </a:lnTo>
                  <a:lnTo>
                    <a:pt x="22" y="628"/>
                  </a:lnTo>
                  <a:lnTo>
                    <a:pt x="10" y="582"/>
                  </a:lnTo>
                  <a:lnTo>
                    <a:pt x="6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4"/>
                  </a:lnTo>
                  <a:lnTo>
                    <a:pt x="0" y="484"/>
                  </a:lnTo>
                  <a:lnTo>
                    <a:pt x="0" y="460"/>
                  </a:lnTo>
                  <a:lnTo>
                    <a:pt x="2" y="434"/>
                  </a:lnTo>
                  <a:lnTo>
                    <a:pt x="6" y="410"/>
                  </a:lnTo>
                  <a:lnTo>
                    <a:pt x="10" y="386"/>
                  </a:lnTo>
                  <a:lnTo>
                    <a:pt x="22" y="340"/>
                  </a:lnTo>
                  <a:lnTo>
                    <a:pt x="38" y="296"/>
                  </a:lnTo>
                  <a:lnTo>
                    <a:pt x="58" y="254"/>
                  </a:lnTo>
                  <a:lnTo>
                    <a:pt x="82" y="214"/>
                  </a:lnTo>
                  <a:lnTo>
                    <a:pt x="110" y="176"/>
                  </a:lnTo>
                  <a:lnTo>
                    <a:pt x="142" y="142"/>
                  </a:lnTo>
                  <a:lnTo>
                    <a:pt x="176" y="112"/>
                  </a:lnTo>
                  <a:lnTo>
                    <a:pt x="212" y="84"/>
                  </a:lnTo>
                  <a:lnTo>
                    <a:pt x="252" y="60"/>
                  </a:lnTo>
                  <a:lnTo>
                    <a:pt x="296" y="38"/>
                  </a:lnTo>
                  <a:lnTo>
                    <a:pt x="340" y="22"/>
                  </a:lnTo>
                  <a:lnTo>
                    <a:pt x="386" y="10"/>
                  </a:lnTo>
                  <a:lnTo>
                    <a:pt x="410" y="6"/>
                  </a:lnTo>
                  <a:lnTo>
                    <a:pt x="434" y="4"/>
                  </a:lnTo>
                  <a:lnTo>
                    <a:pt x="458" y="2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508" y="2"/>
                  </a:lnTo>
                  <a:lnTo>
                    <a:pt x="532" y="4"/>
                  </a:lnTo>
                  <a:lnTo>
                    <a:pt x="556" y="6"/>
                  </a:lnTo>
                  <a:lnTo>
                    <a:pt x="580" y="10"/>
                  </a:lnTo>
                  <a:lnTo>
                    <a:pt x="626" y="22"/>
                  </a:lnTo>
                  <a:lnTo>
                    <a:pt x="672" y="38"/>
                  </a:lnTo>
                  <a:lnTo>
                    <a:pt x="714" y="60"/>
                  </a:lnTo>
                  <a:lnTo>
                    <a:pt x="754" y="84"/>
                  </a:lnTo>
                  <a:lnTo>
                    <a:pt x="790" y="112"/>
                  </a:lnTo>
                  <a:lnTo>
                    <a:pt x="824" y="142"/>
                  </a:lnTo>
                  <a:lnTo>
                    <a:pt x="856" y="176"/>
                  </a:lnTo>
                  <a:lnTo>
                    <a:pt x="884" y="214"/>
                  </a:lnTo>
                  <a:lnTo>
                    <a:pt x="908" y="254"/>
                  </a:lnTo>
                  <a:lnTo>
                    <a:pt x="928" y="296"/>
                  </a:lnTo>
                  <a:lnTo>
                    <a:pt x="944" y="340"/>
                  </a:lnTo>
                  <a:lnTo>
                    <a:pt x="956" y="386"/>
                  </a:lnTo>
                  <a:lnTo>
                    <a:pt x="960" y="410"/>
                  </a:lnTo>
                  <a:lnTo>
                    <a:pt x="964" y="434"/>
                  </a:lnTo>
                  <a:lnTo>
                    <a:pt x="966" y="460"/>
                  </a:lnTo>
                  <a:lnTo>
                    <a:pt x="966" y="484"/>
                  </a:lnTo>
                  <a:lnTo>
                    <a:pt x="966" y="484"/>
                  </a:lnTo>
                  <a:close/>
                </a:path>
              </a:pathLst>
            </a:custGeom>
            <a:solidFill>
              <a:srgbClr val="f5a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81"/>
            <p:cNvSpPr/>
            <p:nvPr/>
          </p:nvSpPr>
          <p:spPr>
            <a:xfrm>
              <a:off x="8277120" y="11356920"/>
              <a:ext cx="1501920" cy="149832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1498320"/>
                <a:gd name="textAreaBottom" fmla="*/ 1498680 h 1498320"/>
              </a:gdLst>
              <a:ahLst/>
              <a:rect l="textAreaLeft" t="textAreaTop" r="textAreaRight" b="textAreaBottom"/>
              <a:pathLst>
                <a:path w="946" h="944">
                  <a:moveTo>
                    <a:pt x="946" y="472"/>
                  </a:moveTo>
                  <a:lnTo>
                    <a:pt x="946" y="472"/>
                  </a:lnTo>
                  <a:lnTo>
                    <a:pt x="944" y="496"/>
                  </a:lnTo>
                  <a:lnTo>
                    <a:pt x="942" y="520"/>
                  </a:lnTo>
                  <a:lnTo>
                    <a:pt x="940" y="544"/>
                  </a:lnTo>
                  <a:lnTo>
                    <a:pt x="936" y="568"/>
                  </a:lnTo>
                  <a:lnTo>
                    <a:pt x="924" y="612"/>
                  </a:lnTo>
                  <a:lnTo>
                    <a:pt x="908" y="656"/>
                  </a:lnTo>
                  <a:lnTo>
                    <a:pt x="888" y="698"/>
                  </a:lnTo>
                  <a:lnTo>
                    <a:pt x="864" y="736"/>
                  </a:lnTo>
                  <a:lnTo>
                    <a:pt x="838" y="774"/>
                  </a:lnTo>
                  <a:lnTo>
                    <a:pt x="806" y="806"/>
                  </a:lnTo>
                  <a:lnTo>
                    <a:pt x="774" y="838"/>
                  </a:lnTo>
                  <a:lnTo>
                    <a:pt x="738" y="864"/>
                  </a:lnTo>
                  <a:lnTo>
                    <a:pt x="698" y="888"/>
                  </a:lnTo>
                  <a:lnTo>
                    <a:pt x="656" y="908"/>
                  </a:lnTo>
                  <a:lnTo>
                    <a:pt x="614" y="924"/>
                  </a:lnTo>
                  <a:lnTo>
                    <a:pt x="568" y="936"/>
                  </a:lnTo>
                  <a:lnTo>
                    <a:pt x="544" y="940"/>
                  </a:lnTo>
                  <a:lnTo>
                    <a:pt x="522" y="942"/>
                  </a:lnTo>
                  <a:lnTo>
                    <a:pt x="498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48" y="944"/>
                  </a:lnTo>
                  <a:lnTo>
                    <a:pt x="424" y="942"/>
                  </a:lnTo>
                  <a:lnTo>
                    <a:pt x="400" y="940"/>
                  </a:lnTo>
                  <a:lnTo>
                    <a:pt x="378" y="936"/>
                  </a:lnTo>
                  <a:lnTo>
                    <a:pt x="332" y="924"/>
                  </a:lnTo>
                  <a:lnTo>
                    <a:pt x="288" y="908"/>
                  </a:lnTo>
                  <a:lnTo>
                    <a:pt x="248" y="888"/>
                  </a:lnTo>
                  <a:lnTo>
                    <a:pt x="208" y="864"/>
                  </a:lnTo>
                  <a:lnTo>
                    <a:pt x="172" y="838"/>
                  </a:lnTo>
                  <a:lnTo>
                    <a:pt x="138" y="806"/>
                  </a:lnTo>
                  <a:lnTo>
                    <a:pt x="108" y="774"/>
                  </a:lnTo>
                  <a:lnTo>
                    <a:pt x="80" y="736"/>
                  </a:lnTo>
                  <a:lnTo>
                    <a:pt x="58" y="698"/>
                  </a:lnTo>
                  <a:lnTo>
                    <a:pt x="38" y="656"/>
                  </a:lnTo>
                  <a:lnTo>
                    <a:pt x="22" y="612"/>
                  </a:lnTo>
                  <a:lnTo>
                    <a:pt x="10" y="568"/>
                  </a:lnTo>
                  <a:lnTo>
                    <a:pt x="6" y="544"/>
                  </a:lnTo>
                  <a:lnTo>
                    <a:pt x="2" y="520"/>
                  </a:lnTo>
                  <a:lnTo>
                    <a:pt x="0" y="496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0" y="448"/>
                  </a:lnTo>
                  <a:lnTo>
                    <a:pt x="2" y="424"/>
                  </a:lnTo>
                  <a:lnTo>
                    <a:pt x="6" y="400"/>
                  </a:lnTo>
                  <a:lnTo>
                    <a:pt x="10" y="378"/>
                  </a:lnTo>
                  <a:lnTo>
                    <a:pt x="22" y="332"/>
                  </a:lnTo>
                  <a:lnTo>
                    <a:pt x="38" y="288"/>
                  </a:lnTo>
                  <a:lnTo>
                    <a:pt x="58" y="248"/>
                  </a:lnTo>
                  <a:lnTo>
                    <a:pt x="80" y="208"/>
                  </a:lnTo>
                  <a:lnTo>
                    <a:pt x="108" y="172"/>
                  </a:lnTo>
                  <a:lnTo>
                    <a:pt x="138" y="138"/>
                  </a:lnTo>
                  <a:lnTo>
                    <a:pt x="172" y="108"/>
                  </a:lnTo>
                  <a:lnTo>
                    <a:pt x="208" y="80"/>
                  </a:lnTo>
                  <a:lnTo>
                    <a:pt x="248" y="56"/>
                  </a:lnTo>
                  <a:lnTo>
                    <a:pt x="288" y="36"/>
                  </a:lnTo>
                  <a:lnTo>
                    <a:pt x="332" y="20"/>
                  </a:lnTo>
                  <a:lnTo>
                    <a:pt x="378" y="10"/>
                  </a:lnTo>
                  <a:lnTo>
                    <a:pt x="400" y="6"/>
                  </a:lnTo>
                  <a:lnTo>
                    <a:pt x="424" y="2"/>
                  </a:lnTo>
                  <a:lnTo>
                    <a:pt x="448" y="0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98" y="0"/>
                  </a:lnTo>
                  <a:lnTo>
                    <a:pt x="522" y="2"/>
                  </a:lnTo>
                  <a:lnTo>
                    <a:pt x="544" y="6"/>
                  </a:lnTo>
                  <a:lnTo>
                    <a:pt x="568" y="10"/>
                  </a:lnTo>
                  <a:lnTo>
                    <a:pt x="614" y="20"/>
                  </a:lnTo>
                  <a:lnTo>
                    <a:pt x="656" y="36"/>
                  </a:lnTo>
                  <a:lnTo>
                    <a:pt x="698" y="56"/>
                  </a:lnTo>
                  <a:lnTo>
                    <a:pt x="738" y="80"/>
                  </a:lnTo>
                  <a:lnTo>
                    <a:pt x="774" y="108"/>
                  </a:lnTo>
                  <a:lnTo>
                    <a:pt x="806" y="138"/>
                  </a:lnTo>
                  <a:lnTo>
                    <a:pt x="838" y="172"/>
                  </a:lnTo>
                  <a:lnTo>
                    <a:pt x="864" y="208"/>
                  </a:lnTo>
                  <a:lnTo>
                    <a:pt x="888" y="248"/>
                  </a:lnTo>
                  <a:lnTo>
                    <a:pt x="908" y="288"/>
                  </a:lnTo>
                  <a:lnTo>
                    <a:pt x="924" y="332"/>
                  </a:lnTo>
                  <a:lnTo>
                    <a:pt x="936" y="378"/>
                  </a:lnTo>
                  <a:lnTo>
                    <a:pt x="940" y="400"/>
                  </a:lnTo>
                  <a:lnTo>
                    <a:pt x="942" y="424"/>
                  </a:lnTo>
                  <a:lnTo>
                    <a:pt x="944" y="448"/>
                  </a:lnTo>
                  <a:lnTo>
                    <a:pt x="946" y="472"/>
                  </a:lnTo>
                  <a:lnTo>
                    <a:pt x="946" y="472"/>
                  </a:lnTo>
                  <a:close/>
                </a:path>
              </a:pathLst>
            </a:custGeom>
            <a:solidFill>
              <a:srgbClr val="f5a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82"/>
            <p:cNvSpPr/>
            <p:nvPr/>
          </p:nvSpPr>
          <p:spPr>
            <a:xfrm>
              <a:off x="8283240" y="11366640"/>
              <a:ext cx="1467000" cy="146664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924" h="924">
                  <a:moveTo>
                    <a:pt x="924" y="462"/>
                  </a:moveTo>
                  <a:lnTo>
                    <a:pt x="924" y="462"/>
                  </a:lnTo>
                  <a:lnTo>
                    <a:pt x="924" y="486"/>
                  </a:lnTo>
                  <a:lnTo>
                    <a:pt x="922" y="510"/>
                  </a:lnTo>
                  <a:lnTo>
                    <a:pt x="914" y="556"/>
                  </a:lnTo>
                  <a:lnTo>
                    <a:pt x="904" y="600"/>
                  </a:lnTo>
                  <a:lnTo>
                    <a:pt x="888" y="642"/>
                  </a:lnTo>
                  <a:lnTo>
                    <a:pt x="868" y="682"/>
                  </a:lnTo>
                  <a:lnTo>
                    <a:pt x="846" y="722"/>
                  </a:lnTo>
                  <a:lnTo>
                    <a:pt x="818" y="756"/>
                  </a:lnTo>
                  <a:lnTo>
                    <a:pt x="790" y="790"/>
                  </a:lnTo>
                  <a:lnTo>
                    <a:pt x="756" y="820"/>
                  </a:lnTo>
                  <a:lnTo>
                    <a:pt x="720" y="846"/>
                  </a:lnTo>
                  <a:lnTo>
                    <a:pt x="682" y="870"/>
                  </a:lnTo>
                  <a:lnTo>
                    <a:pt x="642" y="888"/>
                  </a:lnTo>
                  <a:lnTo>
                    <a:pt x="600" y="904"/>
                  </a:lnTo>
                  <a:lnTo>
                    <a:pt x="556" y="916"/>
                  </a:lnTo>
                  <a:lnTo>
                    <a:pt x="510" y="922"/>
                  </a:lnTo>
                  <a:lnTo>
                    <a:pt x="486" y="924"/>
                  </a:lnTo>
                  <a:lnTo>
                    <a:pt x="462" y="924"/>
                  </a:lnTo>
                  <a:lnTo>
                    <a:pt x="462" y="924"/>
                  </a:lnTo>
                  <a:lnTo>
                    <a:pt x="438" y="924"/>
                  </a:lnTo>
                  <a:lnTo>
                    <a:pt x="416" y="922"/>
                  </a:lnTo>
                  <a:lnTo>
                    <a:pt x="370" y="916"/>
                  </a:lnTo>
                  <a:lnTo>
                    <a:pt x="324" y="904"/>
                  </a:lnTo>
                  <a:lnTo>
                    <a:pt x="282" y="888"/>
                  </a:lnTo>
                  <a:lnTo>
                    <a:pt x="242" y="870"/>
                  </a:lnTo>
                  <a:lnTo>
                    <a:pt x="204" y="846"/>
                  </a:lnTo>
                  <a:lnTo>
                    <a:pt x="168" y="820"/>
                  </a:lnTo>
                  <a:lnTo>
                    <a:pt x="136" y="790"/>
                  </a:lnTo>
                  <a:lnTo>
                    <a:pt x="106" y="756"/>
                  </a:lnTo>
                  <a:lnTo>
                    <a:pt x="80" y="722"/>
                  </a:lnTo>
                  <a:lnTo>
                    <a:pt x="56" y="682"/>
                  </a:lnTo>
                  <a:lnTo>
                    <a:pt x="36" y="642"/>
                  </a:lnTo>
                  <a:lnTo>
                    <a:pt x="22" y="600"/>
                  </a:lnTo>
                  <a:lnTo>
                    <a:pt x="10" y="556"/>
                  </a:lnTo>
                  <a:lnTo>
                    <a:pt x="2" y="510"/>
                  </a:lnTo>
                  <a:lnTo>
                    <a:pt x="0" y="486"/>
                  </a:lnTo>
                  <a:lnTo>
                    <a:pt x="0" y="462"/>
                  </a:lnTo>
                  <a:lnTo>
                    <a:pt x="0" y="462"/>
                  </a:lnTo>
                  <a:lnTo>
                    <a:pt x="0" y="438"/>
                  </a:lnTo>
                  <a:lnTo>
                    <a:pt x="2" y="416"/>
                  </a:lnTo>
                  <a:lnTo>
                    <a:pt x="10" y="370"/>
                  </a:lnTo>
                  <a:lnTo>
                    <a:pt x="22" y="326"/>
                  </a:lnTo>
                  <a:lnTo>
                    <a:pt x="36" y="282"/>
                  </a:lnTo>
                  <a:lnTo>
                    <a:pt x="56" y="242"/>
                  </a:lnTo>
                  <a:lnTo>
                    <a:pt x="80" y="204"/>
                  </a:lnTo>
                  <a:lnTo>
                    <a:pt x="106" y="168"/>
                  </a:lnTo>
                  <a:lnTo>
                    <a:pt x="136" y="136"/>
                  </a:lnTo>
                  <a:lnTo>
                    <a:pt x="168" y="106"/>
                  </a:lnTo>
                  <a:lnTo>
                    <a:pt x="204" y="80"/>
                  </a:lnTo>
                  <a:lnTo>
                    <a:pt x="242" y="56"/>
                  </a:lnTo>
                  <a:lnTo>
                    <a:pt x="282" y="38"/>
                  </a:lnTo>
                  <a:lnTo>
                    <a:pt x="324" y="22"/>
                  </a:lnTo>
                  <a:lnTo>
                    <a:pt x="370" y="10"/>
                  </a:lnTo>
                  <a:lnTo>
                    <a:pt x="416" y="4"/>
                  </a:lnTo>
                  <a:lnTo>
                    <a:pt x="438" y="2"/>
                  </a:lnTo>
                  <a:lnTo>
                    <a:pt x="462" y="0"/>
                  </a:lnTo>
                  <a:lnTo>
                    <a:pt x="462" y="0"/>
                  </a:lnTo>
                  <a:lnTo>
                    <a:pt x="486" y="2"/>
                  </a:lnTo>
                  <a:lnTo>
                    <a:pt x="510" y="4"/>
                  </a:lnTo>
                  <a:lnTo>
                    <a:pt x="556" y="10"/>
                  </a:lnTo>
                  <a:lnTo>
                    <a:pt x="600" y="22"/>
                  </a:lnTo>
                  <a:lnTo>
                    <a:pt x="642" y="38"/>
                  </a:lnTo>
                  <a:lnTo>
                    <a:pt x="682" y="56"/>
                  </a:lnTo>
                  <a:lnTo>
                    <a:pt x="720" y="80"/>
                  </a:lnTo>
                  <a:lnTo>
                    <a:pt x="756" y="106"/>
                  </a:lnTo>
                  <a:lnTo>
                    <a:pt x="790" y="136"/>
                  </a:lnTo>
                  <a:lnTo>
                    <a:pt x="818" y="168"/>
                  </a:lnTo>
                  <a:lnTo>
                    <a:pt x="846" y="204"/>
                  </a:lnTo>
                  <a:lnTo>
                    <a:pt x="868" y="242"/>
                  </a:lnTo>
                  <a:lnTo>
                    <a:pt x="888" y="282"/>
                  </a:lnTo>
                  <a:lnTo>
                    <a:pt x="904" y="326"/>
                  </a:lnTo>
                  <a:lnTo>
                    <a:pt x="914" y="370"/>
                  </a:lnTo>
                  <a:lnTo>
                    <a:pt x="922" y="416"/>
                  </a:lnTo>
                  <a:lnTo>
                    <a:pt x="924" y="438"/>
                  </a:lnTo>
                  <a:lnTo>
                    <a:pt x="924" y="462"/>
                  </a:lnTo>
                  <a:lnTo>
                    <a:pt x="924" y="462"/>
                  </a:lnTo>
                  <a:close/>
                </a:path>
              </a:pathLst>
            </a:custGeom>
            <a:solidFill>
              <a:srgbClr val="f6a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83"/>
            <p:cNvSpPr/>
            <p:nvPr/>
          </p:nvSpPr>
          <p:spPr>
            <a:xfrm>
              <a:off x="8289720" y="11379240"/>
              <a:ext cx="1435320" cy="1431720"/>
            </a:xfrm>
            <a:custGeom>
              <a:avLst/>
              <a:gdLst>
                <a:gd name="textAreaLeft" fmla="*/ 0 w 1435320"/>
                <a:gd name="textAreaRight" fmla="*/ 1435680 w 1435320"/>
                <a:gd name="textAreaTop" fmla="*/ 0 h 1431720"/>
                <a:gd name="textAreaBottom" fmla="*/ 1432080 h 1431720"/>
              </a:gdLst>
              <a:ahLst/>
              <a:rect l="textAreaLeft" t="textAreaTop" r="textAreaRight" b="textAreaBottom"/>
              <a:pathLst>
                <a:path w="904" h="902">
                  <a:moveTo>
                    <a:pt x="904" y="452"/>
                  </a:moveTo>
                  <a:lnTo>
                    <a:pt x="904" y="452"/>
                  </a:lnTo>
                  <a:lnTo>
                    <a:pt x="900" y="498"/>
                  </a:lnTo>
                  <a:lnTo>
                    <a:pt x="894" y="542"/>
                  </a:lnTo>
                  <a:lnTo>
                    <a:pt x="884" y="586"/>
                  </a:lnTo>
                  <a:lnTo>
                    <a:pt x="868" y="626"/>
                  </a:lnTo>
                  <a:lnTo>
                    <a:pt x="848" y="666"/>
                  </a:lnTo>
                  <a:lnTo>
                    <a:pt x="826" y="704"/>
                  </a:lnTo>
                  <a:lnTo>
                    <a:pt x="800" y="738"/>
                  </a:lnTo>
                  <a:lnTo>
                    <a:pt x="772" y="770"/>
                  </a:lnTo>
                  <a:lnTo>
                    <a:pt x="740" y="800"/>
                  </a:lnTo>
                  <a:lnTo>
                    <a:pt x="704" y="826"/>
                  </a:lnTo>
                  <a:lnTo>
                    <a:pt x="668" y="848"/>
                  </a:lnTo>
                  <a:lnTo>
                    <a:pt x="628" y="868"/>
                  </a:lnTo>
                  <a:lnTo>
                    <a:pt x="586" y="882"/>
                  </a:lnTo>
                  <a:lnTo>
                    <a:pt x="542" y="894"/>
                  </a:lnTo>
                  <a:lnTo>
                    <a:pt x="498" y="900"/>
                  </a:lnTo>
                  <a:lnTo>
                    <a:pt x="452" y="902"/>
                  </a:lnTo>
                  <a:lnTo>
                    <a:pt x="452" y="902"/>
                  </a:lnTo>
                  <a:lnTo>
                    <a:pt x="406" y="900"/>
                  </a:lnTo>
                  <a:lnTo>
                    <a:pt x="360" y="894"/>
                  </a:lnTo>
                  <a:lnTo>
                    <a:pt x="318" y="882"/>
                  </a:lnTo>
                  <a:lnTo>
                    <a:pt x="276" y="868"/>
                  </a:lnTo>
                  <a:lnTo>
                    <a:pt x="236" y="848"/>
                  </a:lnTo>
                  <a:lnTo>
                    <a:pt x="200" y="826"/>
                  </a:lnTo>
                  <a:lnTo>
                    <a:pt x="164" y="800"/>
                  </a:lnTo>
                  <a:lnTo>
                    <a:pt x="132" y="770"/>
                  </a:lnTo>
                  <a:lnTo>
                    <a:pt x="104" y="738"/>
                  </a:lnTo>
                  <a:lnTo>
                    <a:pt x="78" y="704"/>
                  </a:lnTo>
                  <a:lnTo>
                    <a:pt x="56" y="666"/>
                  </a:lnTo>
                  <a:lnTo>
                    <a:pt x="36" y="626"/>
                  </a:lnTo>
                  <a:lnTo>
                    <a:pt x="20" y="586"/>
                  </a:lnTo>
                  <a:lnTo>
                    <a:pt x="10" y="542"/>
                  </a:lnTo>
                  <a:lnTo>
                    <a:pt x="2" y="498"/>
                  </a:lnTo>
                  <a:lnTo>
                    <a:pt x="0" y="452"/>
                  </a:lnTo>
                  <a:lnTo>
                    <a:pt x="0" y="452"/>
                  </a:lnTo>
                  <a:lnTo>
                    <a:pt x="2" y="406"/>
                  </a:lnTo>
                  <a:lnTo>
                    <a:pt x="10" y="360"/>
                  </a:lnTo>
                  <a:lnTo>
                    <a:pt x="20" y="316"/>
                  </a:lnTo>
                  <a:lnTo>
                    <a:pt x="36" y="276"/>
                  </a:lnTo>
                  <a:lnTo>
                    <a:pt x="56" y="236"/>
                  </a:lnTo>
                  <a:lnTo>
                    <a:pt x="78" y="198"/>
                  </a:lnTo>
                  <a:lnTo>
                    <a:pt x="104" y="164"/>
                  </a:lnTo>
                  <a:lnTo>
                    <a:pt x="132" y="132"/>
                  </a:lnTo>
                  <a:lnTo>
                    <a:pt x="164" y="102"/>
                  </a:lnTo>
                  <a:lnTo>
                    <a:pt x="200" y="76"/>
                  </a:lnTo>
                  <a:lnTo>
                    <a:pt x="236" y="54"/>
                  </a:lnTo>
                  <a:lnTo>
                    <a:pt x="276" y="36"/>
                  </a:lnTo>
                  <a:lnTo>
                    <a:pt x="318" y="20"/>
                  </a:lnTo>
                  <a:lnTo>
                    <a:pt x="360" y="8"/>
                  </a:lnTo>
                  <a:lnTo>
                    <a:pt x="406" y="2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98" y="2"/>
                  </a:lnTo>
                  <a:lnTo>
                    <a:pt x="542" y="8"/>
                  </a:lnTo>
                  <a:lnTo>
                    <a:pt x="586" y="20"/>
                  </a:lnTo>
                  <a:lnTo>
                    <a:pt x="628" y="36"/>
                  </a:lnTo>
                  <a:lnTo>
                    <a:pt x="668" y="54"/>
                  </a:lnTo>
                  <a:lnTo>
                    <a:pt x="704" y="76"/>
                  </a:lnTo>
                  <a:lnTo>
                    <a:pt x="740" y="102"/>
                  </a:lnTo>
                  <a:lnTo>
                    <a:pt x="772" y="132"/>
                  </a:lnTo>
                  <a:lnTo>
                    <a:pt x="800" y="164"/>
                  </a:lnTo>
                  <a:lnTo>
                    <a:pt x="826" y="198"/>
                  </a:lnTo>
                  <a:lnTo>
                    <a:pt x="848" y="236"/>
                  </a:lnTo>
                  <a:lnTo>
                    <a:pt x="868" y="276"/>
                  </a:lnTo>
                  <a:lnTo>
                    <a:pt x="884" y="316"/>
                  </a:lnTo>
                  <a:lnTo>
                    <a:pt x="894" y="360"/>
                  </a:lnTo>
                  <a:lnTo>
                    <a:pt x="900" y="406"/>
                  </a:lnTo>
                  <a:lnTo>
                    <a:pt x="904" y="452"/>
                  </a:lnTo>
                  <a:lnTo>
                    <a:pt x="904" y="452"/>
                  </a:lnTo>
                  <a:close/>
                </a:path>
              </a:pathLst>
            </a:custGeom>
            <a:solidFill>
              <a:srgbClr val="f6a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84"/>
            <p:cNvSpPr/>
            <p:nvPr/>
          </p:nvSpPr>
          <p:spPr>
            <a:xfrm>
              <a:off x="8296200" y="11388600"/>
              <a:ext cx="1400400" cy="1400040"/>
            </a:xfrm>
            <a:custGeom>
              <a:avLst/>
              <a:gdLst>
                <a:gd name="textAreaLeft" fmla="*/ 0 w 1400400"/>
                <a:gd name="textAreaRight" fmla="*/ 1400400 w 140040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2" h="882">
                  <a:moveTo>
                    <a:pt x="882" y="442"/>
                  </a:moveTo>
                  <a:lnTo>
                    <a:pt x="882" y="442"/>
                  </a:lnTo>
                  <a:lnTo>
                    <a:pt x="880" y="486"/>
                  </a:lnTo>
                  <a:lnTo>
                    <a:pt x="874" y="530"/>
                  </a:lnTo>
                  <a:lnTo>
                    <a:pt x="862" y="572"/>
                  </a:lnTo>
                  <a:lnTo>
                    <a:pt x="848" y="614"/>
                  </a:lnTo>
                  <a:lnTo>
                    <a:pt x="830" y="652"/>
                  </a:lnTo>
                  <a:lnTo>
                    <a:pt x="806" y="688"/>
                  </a:lnTo>
                  <a:lnTo>
                    <a:pt x="782" y="722"/>
                  </a:lnTo>
                  <a:lnTo>
                    <a:pt x="754" y="754"/>
                  </a:lnTo>
                  <a:lnTo>
                    <a:pt x="722" y="782"/>
                  </a:lnTo>
                  <a:lnTo>
                    <a:pt x="688" y="808"/>
                  </a:lnTo>
                  <a:lnTo>
                    <a:pt x="652" y="830"/>
                  </a:lnTo>
                  <a:lnTo>
                    <a:pt x="614" y="848"/>
                  </a:lnTo>
                  <a:lnTo>
                    <a:pt x="572" y="862"/>
                  </a:lnTo>
                  <a:lnTo>
                    <a:pt x="530" y="874"/>
                  </a:lnTo>
                  <a:lnTo>
                    <a:pt x="486" y="880"/>
                  </a:lnTo>
                  <a:lnTo>
                    <a:pt x="442" y="882"/>
                  </a:lnTo>
                  <a:lnTo>
                    <a:pt x="442" y="882"/>
                  </a:lnTo>
                  <a:lnTo>
                    <a:pt x="396" y="880"/>
                  </a:lnTo>
                  <a:lnTo>
                    <a:pt x="352" y="874"/>
                  </a:lnTo>
                  <a:lnTo>
                    <a:pt x="310" y="862"/>
                  </a:lnTo>
                  <a:lnTo>
                    <a:pt x="270" y="848"/>
                  </a:lnTo>
                  <a:lnTo>
                    <a:pt x="232" y="830"/>
                  </a:lnTo>
                  <a:lnTo>
                    <a:pt x="196" y="808"/>
                  </a:lnTo>
                  <a:lnTo>
                    <a:pt x="162" y="782"/>
                  </a:lnTo>
                  <a:lnTo>
                    <a:pt x="130" y="754"/>
                  </a:lnTo>
                  <a:lnTo>
                    <a:pt x="102" y="722"/>
                  </a:lnTo>
                  <a:lnTo>
                    <a:pt x="76" y="688"/>
                  </a:lnTo>
                  <a:lnTo>
                    <a:pt x="54" y="652"/>
                  </a:lnTo>
                  <a:lnTo>
                    <a:pt x="36" y="614"/>
                  </a:lnTo>
                  <a:lnTo>
                    <a:pt x="20" y="572"/>
                  </a:lnTo>
                  <a:lnTo>
                    <a:pt x="10" y="530"/>
                  </a:lnTo>
                  <a:lnTo>
                    <a:pt x="4" y="486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4" y="396"/>
                  </a:lnTo>
                  <a:lnTo>
                    <a:pt x="10" y="352"/>
                  </a:lnTo>
                  <a:lnTo>
                    <a:pt x="20" y="310"/>
                  </a:lnTo>
                  <a:lnTo>
                    <a:pt x="36" y="270"/>
                  </a:lnTo>
                  <a:lnTo>
                    <a:pt x="54" y="232"/>
                  </a:lnTo>
                  <a:lnTo>
                    <a:pt x="76" y="196"/>
                  </a:lnTo>
                  <a:lnTo>
                    <a:pt x="102" y="162"/>
                  </a:lnTo>
                  <a:lnTo>
                    <a:pt x="130" y="130"/>
                  </a:lnTo>
                  <a:lnTo>
                    <a:pt x="162" y="102"/>
                  </a:lnTo>
                  <a:lnTo>
                    <a:pt x="196" y="76"/>
                  </a:lnTo>
                  <a:lnTo>
                    <a:pt x="232" y="54"/>
                  </a:lnTo>
                  <a:lnTo>
                    <a:pt x="270" y="36"/>
                  </a:lnTo>
                  <a:lnTo>
                    <a:pt x="310" y="20"/>
                  </a:lnTo>
                  <a:lnTo>
                    <a:pt x="352" y="10"/>
                  </a:lnTo>
                  <a:lnTo>
                    <a:pt x="396" y="4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86" y="4"/>
                  </a:lnTo>
                  <a:lnTo>
                    <a:pt x="530" y="10"/>
                  </a:lnTo>
                  <a:lnTo>
                    <a:pt x="572" y="20"/>
                  </a:lnTo>
                  <a:lnTo>
                    <a:pt x="614" y="36"/>
                  </a:lnTo>
                  <a:lnTo>
                    <a:pt x="652" y="54"/>
                  </a:lnTo>
                  <a:lnTo>
                    <a:pt x="688" y="76"/>
                  </a:lnTo>
                  <a:lnTo>
                    <a:pt x="722" y="102"/>
                  </a:lnTo>
                  <a:lnTo>
                    <a:pt x="754" y="130"/>
                  </a:lnTo>
                  <a:lnTo>
                    <a:pt x="782" y="162"/>
                  </a:lnTo>
                  <a:lnTo>
                    <a:pt x="806" y="196"/>
                  </a:lnTo>
                  <a:lnTo>
                    <a:pt x="830" y="232"/>
                  </a:lnTo>
                  <a:lnTo>
                    <a:pt x="848" y="270"/>
                  </a:lnTo>
                  <a:lnTo>
                    <a:pt x="862" y="310"/>
                  </a:lnTo>
                  <a:lnTo>
                    <a:pt x="874" y="352"/>
                  </a:lnTo>
                  <a:lnTo>
                    <a:pt x="880" y="396"/>
                  </a:lnTo>
                  <a:lnTo>
                    <a:pt x="882" y="442"/>
                  </a:lnTo>
                  <a:lnTo>
                    <a:pt x="882" y="442"/>
                  </a:lnTo>
                  <a:close/>
                </a:path>
              </a:pathLst>
            </a:custGeom>
            <a:solidFill>
              <a:srgbClr val="f6a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85"/>
            <p:cNvSpPr/>
            <p:nvPr/>
          </p:nvSpPr>
          <p:spPr>
            <a:xfrm>
              <a:off x="8305560" y="11401560"/>
              <a:ext cx="1365480" cy="136512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860" h="860">
                  <a:moveTo>
                    <a:pt x="860" y="430"/>
                  </a:moveTo>
                  <a:lnTo>
                    <a:pt x="860" y="430"/>
                  </a:lnTo>
                  <a:lnTo>
                    <a:pt x="856" y="474"/>
                  </a:lnTo>
                  <a:lnTo>
                    <a:pt x="850" y="516"/>
                  </a:lnTo>
                  <a:lnTo>
                    <a:pt x="840" y="558"/>
                  </a:lnTo>
                  <a:lnTo>
                    <a:pt x="826" y="598"/>
                  </a:lnTo>
                  <a:lnTo>
                    <a:pt x="808" y="636"/>
                  </a:lnTo>
                  <a:lnTo>
                    <a:pt x="786" y="670"/>
                  </a:lnTo>
                  <a:lnTo>
                    <a:pt x="760" y="704"/>
                  </a:lnTo>
                  <a:lnTo>
                    <a:pt x="734" y="734"/>
                  </a:lnTo>
                  <a:lnTo>
                    <a:pt x="702" y="762"/>
                  </a:lnTo>
                  <a:lnTo>
                    <a:pt x="670" y="786"/>
                  </a:lnTo>
                  <a:lnTo>
                    <a:pt x="634" y="808"/>
                  </a:lnTo>
                  <a:lnTo>
                    <a:pt x="596" y="826"/>
                  </a:lnTo>
                  <a:lnTo>
                    <a:pt x="558" y="840"/>
                  </a:lnTo>
                  <a:lnTo>
                    <a:pt x="516" y="852"/>
                  </a:lnTo>
                  <a:lnTo>
                    <a:pt x="474" y="858"/>
                  </a:lnTo>
                  <a:lnTo>
                    <a:pt x="430" y="860"/>
                  </a:lnTo>
                  <a:lnTo>
                    <a:pt x="430" y="860"/>
                  </a:lnTo>
                  <a:lnTo>
                    <a:pt x="386" y="858"/>
                  </a:lnTo>
                  <a:lnTo>
                    <a:pt x="342" y="852"/>
                  </a:lnTo>
                  <a:lnTo>
                    <a:pt x="302" y="840"/>
                  </a:lnTo>
                  <a:lnTo>
                    <a:pt x="262" y="826"/>
                  </a:lnTo>
                  <a:lnTo>
                    <a:pt x="224" y="808"/>
                  </a:lnTo>
                  <a:lnTo>
                    <a:pt x="188" y="786"/>
                  </a:lnTo>
                  <a:lnTo>
                    <a:pt x="156" y="762"/>
                  </a:lnTo>
                  <a:lnTo>
                    <a:pt x="124" y="734"/>
                  </a:lnTo>
                  <a:lnTo>
                    <a:pt x="98" y="704"/>
                  </a:lnTo>
                  <a:lnTo>
                    <a:pt x="72" y="670"/>
                  </a:lnTo>
                  <a:lnTo>
                    <a:pt x="50" y="636"/>
                  </a:lnTo>
                  <a:lnTo>
                    <a:pt x="32" y="598"/>
                  </a:lnTo>
                  <a:lnTo>
                    <a:pt x="18" y="558"/>
                  </a:lnTo>
                  <a:lnTo>
                    <a:pt x="8" y="516"/>
                  </a:lnTo>
                  <a:lnTo>
                    <a:pt x="2" y="474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2" y="386"/>
                  </a:lnTo>
                  <a:lnTo>
                    <a:pt x="8" y="344"/>
                  </a:lnTo>
                  <a:lnTo>
                    <a:pt x="18" y="302"/>
                  </a:lnTo>
                  <a:lnTo>
                    <a:pt x="32" y="262"/>
                  </a:lnTo>
                  <a:lnTo>
                    <a:pt x="50" y="226"/>
                  </a:lnTo>
                  <a:lnTo>
                    <a:pt x="72" y="190"/>
                  </a:lnTo>
                  <a:lnTo>
                    <a:pt x="98" y="156"/>
                  </a:lnTo>
                  <a:lnTo>
                    <a:pt x="124" y="126"/>
                  </a:lnTo>
                  <a:lnTo>
                    <a:pt x="156" y="98"/>
                  </a:lnTo>
                  <a:lnTo>
                    <a:pt x="188" y="74"/>
                  </a:lnTo>
                  <a:lnTo>
                    <a:pt x="224" y="52"/>
                  </a:lnTo>
                  <a:lnTo>
                    <a:pt x="262" y="34"/>
                  </a:lnTo>
                  <a:lnTo>
                    <a:pt x="302" y="20"/>
                  </a:lnTo>
                  <a:lnTo>
                    <a:pt x="342" y="8"/>
                  </a:lnTo>
                  <a:lnTo>
                    <a:pt x="386" y="2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74" y="2"/>
                  </a:lnTo>
                  <a:lnTo>
                    <a:pt x="516" y="8"/>
                  </a:lnTo>
                  <a:lnTo>
                    <a:pt x="558" y="20"/>
                  </a:lnTo>
                  <a:lnTo>
                    <a:pt x="596" y="34"/>
                  </a:lnTo>
                  <a:lnTo>
                    <a:pt x="634" y="52"/>
                  </a:lnTo>
                  <a:lnTo>
                    <a:pt x="670" y="74"/>
                  </a:lnTo>
                  <a:lnTo>
                    <a:pt x="702" y="98"/>
                  </a:lnTo>
                  <a:lnTo>
                    <a:pt x="734" y="126"/>
                  </a:lnTo>
                  <a:lnTo>
                    <a:pt x="760" y="156"/>
                  </a:lnTo>
                  <a:lnTo>
                    <a:pt x="786" y="190"/>
                  </a:lnTo>
                  <a:lnTo>
                    <a:pt x="808" y="226"/>
                  </a:lnTo>
                  <a:lnTo>
                    <a:pt x="826" y="262"/>
                  </a:lnTo>
                  <a:lnTo>
                    <a:pt x="840" y="302"/>
                  </a:lnTo>
                  <a:lnTo>
                    <a:pt x="850" y="344"/>
                  </a:lnTo>
                  <a:lnTo>
                    <a:pt x="856" y="386"/>
                  </a:lnTo>
                  <a:lnTo>
                    <a:pt x="860" y="430"/>
                  </a:lnTo>
                  <a:lnTo>
                    <a:pt x="860" y="430"/>
                  </a:lnTo>
                  <a:close/>
                </a:path>
              </a:pathLst>
            </a:custGeom>
            <a:solidFill>
              <a:srgbClr val="f6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86"/>
            <p:cNvSpPr/>
            <p:nvPr/>
          </p:nvSpPr>
          <p:spPr>
            <a:xfrm>
              <a:off x="8312040" y="11410920"/>
              <a:ext cx="1330560" cy="1333440"/>
            </a:xfrm>
            <a:custGeom>
              <a:avLst/>
              <a:gdLst>
                <a:gd name="textAreaLeft" fmla="*/ 0 w 1330560"/>
                <a:gd name="textAreaRight" fmla="*/ 1330560 w 13305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838" h="840">
                  <a:moveTo>
                    <a:pt x="838" y="420"/>
                  </a:moveTo>
                  <a:lnTo>
                    <a:pt x="838" y="420"/>
                  </a:lnTo>
                  <a:lnTo>
                    <a:pt x="836" y="464"/>
                  </a:lnTo>
                  <a:lnTo>
                    <a:pt x="830" y="504"/>
                  </a:lnTo>
                  <a:lnTo>
                    <a:pt x="820" y="546"/>
                  </a:lnTo>
                  <a:lnTo>
                    <a:pt x="806" y="584"/>
                  </a:lnTo>
                  <a:lnTo>
                    <a:pt x="788" y="620"/>
                  </a:lnTo>
                  <a:lnTo>
                    <a:pt x="766" y="654"/>
                  </a:lnTo>
                  <a:lnTo>
                    <a:pt x="742" y="688"/>
                  </a:lnTo>
                  <a:lnTo>
                    <a:pt x="716" y="718"/>
                  </a:lnTo>
                  <a:lnTo>
                    <a:pt x="686" y="744"/>
                  </a:lnTo>
                  <a:lnTo>
                    <a:pt x="654" y="768"/>
                  </a:lnTo>
                  <a:lnTo>
                    <a:pt x="618" y="790"/>
                  </a:lnTo>
                  <a:lnTo>
                    <a:pt x="582" y="806"/>
                  </a:lnTo>
                  <a:lnTo>
                    <a:pt x="544" y="822"/>
                  </a:lnTo>
                  <a:lnTo>
                    <a:pt x="504" y="832"/>
                  </a:lnTo>
                  <a:lnTo>
                    <a:pt x="462" y="838"/>
                  </a:lnTo>
                  <a:lnTo>
                    <a:pt x="418" y="840"/>
                  </a:lnTo>
                  <a:lnTo>
                    <a:pt x="418" y="840"/>
                  </a:lnTo>
                  <a:lnTo>
                    <a:pt x="376" y="838"/>
                  </a:lnTo>
                  <a:lnTo>
                    <a:pt x="334" y="832"/>
                  </a:lnTo>
                  <a:lnTo>
                    <a:pt x="294" y="822"/>
                  </a:lnTo>
                  <a:lnTo>
                    <a:pt x="256" y="806"/>
                  </a:lnTo>
                  <a:lnTo>
                    <a:pt x="218" y="790"/>
                  </a:lnTo>
                  <a:lnTo>
                    <a:pt x="184" y="768"/>
                  </a:lnTo>
                  <a:lnTo>
                    <a:pt x="152" y="744"/>
                  </a:lnTo>
                  <a:lnTo>
                    <a:pt x="122" y="718"/>
                  </a:lnTo>
                  <a:lnTo>
                    <a:pt x="96" y="688"/>
                  </a:lnTo>
                  <a:lnTo>
                    <a:pt x="70" y="654"/>
                  </a:lnTo>
                  <a:lnTo>
                    <a:pt x="50" y="620"/>
                  </a:lnTo>
                  <a:lnTo>
                    <a:pt x="32" y="584"/>
                  </a:lnTo>
                  <a:lnTo>
                    <a:pt x="18" y="546"/>
                  </a:lnTo>
                  <a:lnTo>
                    <a:pt x="8" y="504"/>
                  </a:lnTo>
                  <a:lnTo>
                    <a:pt x="2" y="464"/>
                  </a:lnTo>
                  <a:lnTo>
                    <a:pt x="0" y="420"/>
                  </a:lnTo>
                  <a:lnTo>
                    <a:pt x="0" y="420"/>
                  </a:lnTo>
                  <a:lnTo>
                    <a:pt x="2" y="378"/>
                  </a:lnTo>
                  <a:lnTo>
                    <a:pt x="8" y="336"/>
                  </a:lnTo>
                  <a:lnTo>
                    <a:pt x="18" y="296"/>
                  </a:lnTo>
                  <a:lnTo>
                    <a:pt x="32" y="258"/>
                  </a:lnTo>
                  <a:lnTo>
                    <a:pt x="50" y="220"/>
                  </a:lnTo>
                  <a:lnTo>
                    <a:pt x="70" y="186"/>
                  </a:lnTo>
                  <a:lnTo>
                    <a:pt x="96" y="154"/>
                  </a:lnTo>
                  <a:lnTo>
                    <a:pt x="122" y="124"/>
                  </a:lnTo>
                  <a:lnTo>
                    <a:pt x="152" y="96"/>
                  </a:lnTo>
                  <a:lnTo>
                    <a:pt x="184" y="72"/>
                  </a:lnTo>
                  <a:lnTo>
                    <a:pt x="218" y="52"/>
                  </a:lnTo>
                  <a:lnTo>
                    <a:pt x="256" y="34"/>
                  </a:lnTo>
                  <a:lnTo>
                    <a:pt x="294" y="20"/>
                  </a:lnTo>
                  <a:lnTo>
                    <a:pt x="334" y="10"/>
                  </a:lnTo>
                  <a:lnTo>
                    <a:pt x="376" y="4"/>
                  </a:lnTo>
                  <a:lnTo>
                    <a:pt x="418" y="0"/>
                  </a:lnTo>
                  <a:lnTo>
                    <a:pt x="418" y="0"/>
                  </a:lnTo>
                  <a:lnTo>
                    <a:pt x="462" y="4"/>
                  </a:lnTo>
                  <a:lnTo>
                    <a:pt x="504" y="10"/>
                  </a:lnTo>
                  <a:lnTo>
                    <a:pt x="544" y="20"/>
                  </a:lnTo>
                  <a:lnTo>
                    <a:pt x="582" y="34"/>
                  </a:lnTo>
                  <a:lnTo>
                    <a:pt x="618" y="52"/>
                  </a:lnTo>
                  <a:lnTo>
                    <a:pt x="654" y="72"/>
                  </a:lnTo>
                  <a:lnTo>
                    <a:pt x="686" y="96"/>
                  </a:lnTo>
                  <a:lnTo>
                    <a:pt x="716" y="124"/>
                  </a:lnTo>
                  <a:lnTo>
                    <a:pt x="742" y="154"/>
                  </a:lnTo>
                  <a:lnTo>
                    <a:pt x="766" y="186"/>
                  </a:lnTo>
                  <a:lnTo>
                    <a:pt x="788" y="220"/>
                  </a:lnTo>
                  <a:lnTo>
                    <a:pt x="806" y="258"/>
                  </a:lnTo>
                  <a:lnTo>
                    <a:pt x="820" y="296"/>
                  </a:lnTo>
                  <a:lnTo>
                    <a:pt x="830" y="336"/>
                  </a:lnTo>
                  <a:lnTo>
                    <a:pt x="836" y="378"/>
                  </a:lnTo>
                  <a:lnTo>
                    <a:pt x="838" y="420"/>
                  </a:lnTo>
                  <a:lnTo>
                    <a:pt x="838" y="420"/>
                  </a:lnTo>
                  <a:close/>
                </a:path>
              </a:pathLst>
            </a:custGeom>
            <a:solidFill>
              <a:srgbClr val="f7b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387"/>
            <p:cNvSpPr/>
            <p:nvPr/>
          </p:nvSpPr>
          <p:spPr>
            <a:xfrm>
              <a:off x="8318160" y="11423520"/>
              <a:ext cx="1298520" cy="1298520"/>
            </a:xfrm>
            <a:custGeom>
              <a:avLst/>
              <a:gdLst/>
              <a:ahLst/>
              <a:rect l="l" t="t" r="r" b="b"/>
              <a:pathLst>
                <a:path w="818" h="818">
                  <a:moveTo>
                    <a:pt x="818" y="408"/>
                  </a:moveTo>
                  <a:lnTo>
                    <a:pt x="818" y="408"/>
                  </a:lnTo>
                  <a:lnTo>
                    <a:pt x="814" y="450"/>
                  </a:lnTo>
                  <a:lnTo>
                    <a:pt x="808" y="492"/>
                  </a:lnTo>
                  <a:lnTo>
                    <a:pt x="798" y="530"/>
                  </a:lnTo>
                  <a:lnTo>
                    <a:pt x="784" y="568"/>
                  </a:lnTo>
                  <a:lnTo>
                    <a:pt x="768" y="604"/>
                  </a:lnTo>
                  <a:lnTo>
                    <a:pt x="748" y="638"/>
                  </a:lnTo>
                  <a:lnTo>
                    <a:pt x="724" y="668"/>
                  </a:lnTo>
                  <a:lnTo>
                    <a:pt x="698" y="698"/>
                  </a:lnTo>
                  <a:lnTo>
                    <a:pt x="668" y="724"/>
                  </a:lnTo>
                  <a:lnTo>
                    <a:pt x="636" y="748"/>
                  </a:lnTo>
                  <a:lnTo>
                    <a:pt x="604" y="768"/>
                  </a:lnTo>
                  <a:lnTo>
                    <a:pt x="568" y="786"/>
                  </a:lnTo>
                  <a:lnTo>
                    <a:pt x="530" y="800"/>
                  </a:lnTo>
                  <a:lnTo>
                    <a:pt x="490" y="810"/>
                  </a:lnTo>
                  <a:lnTo>
                    <a:pt x="450" y="816"/>
                  </a:lnTo>
                  <a:lnTo>
                    <a:pt x="408" y="818"/>
                  </a:lnTo>
                  <a:lnTo>
                    <a:pt x="408" y="818"/>
                  </a:lnTo>
                  <a:lnTo>
                    <a:pt x="366" y="816"/>
                  </a:lnTo>
                  <a:lnTo>
                    <a:pt x="326" y="810"/>
                  </a:lnTo>
                  <a:lnTo>
                    <a:pt x="286" y="800"/>
                  </a:lnTo>
                  <a:lnTo>
                    <a:pt x="250" y="786"/>
                  </a:lnTo>
                  <a:lnTo>
                    <a:pt x="214" y="768"/>
                  </a:lnTo>
                  <a:lnTo>
                    <a:pt x="180" y="748"/>
                  </a:lnTo>
                  <a:lnTo>
                    <a:pt x="148" y="724"/>
                  </a:lnTo>
                  <a:lnTo>
                    <a:pt x="120" y="698"/>
                  </a:lnTo>
                  <a:lnTo>
                    <a:pt x="92" y="668"/>
                  </a:lnTo>
                  <a:lnTo>
                    <a:pt x="70" y="638"/>
                  </a:lnTo>
                  <a:lnTo>
                    <a:pt x="48" y="604"/>
                  </a:lnTo>
                  <a:lnTo>
                    <a:pt x="32" y="568"/>
                  </a:lnTo>
                  <a:lnTo>
                    <a:pt x="18" y="530"/>
                  </a:lnTo>
                  <a:lnTo>
                    <a:pt x="8" y="492"/>
                  </a:lnTo>
                  <a:lnTo>
                    <a:pt x="2" y="450"/>
                  </a:lnTo>
                  <a:lnTo>
                    <a:pt x="0" y="408"/>
                  </a:lnTo>
                  <a:lnTo>
                    <a:pt x="0" y="408"/>
                  </a:lnTo>
                  <a:lnTo>
                    <a:pt x="2" y="368"/>
                  </a:lnTo>
                  <a:lnTo>
                    <a:pt x="8" y="326"/>
                  </a:lnTo>
                  <a:lnTo>
                    <a:pt x="18" y="288"/>
                  </a:lnTo>
                  <a:lnTo>
                    <a:pt x="32" y="250"/>
                  </a:lnTo>
                  <a:lnTo>
                    <a:pt x="48" y="214"/>
                  </a:lnTo>
                  <a:lnTo>
                    <a:pt x="70" y="180"/>
                  </a:lnTo>
                  <a:lnTo>
                    <a:pt x="92" y="148"/>
                  </a:lnTo>
                  <a:lnTo>
                    <a:pt x="120" y="120"/>
                  </a:lnTo>
                  <a:lnTo>
                    <a:pt x="148" y="94"/>
                  </a:lnTo>
                  <a:lnTo>
                    <a:pt x="180" y="70"/>
                  </a:lnTo>
                  <a:lnTo>
                    <a:pt x="214" y="50"/>
                  </a:lnTo>
                  <a:lnTo>
                    <a:pt x="250" y="32"/>
                  </a:lnTo>
                  <a:lnTo>
                    <a:pt x="286" y="18"/>
                  </a:lnTo>
                  <a:lnTo>
                    <a:pt x="326" y="8"/>
                  </a:lnTo>
                  <a:lnTo>
                    <a:pt x="366" y="2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50" y="2"/>
                  </a:lnTo>
                  <a:lnTo>
                    <a:pt x="490" y="8"/>
                  </a:lnTo>
                  <a:lnTo>
                    <a:pt x="530" y="18"/>
                  </a:lnTo>
                  <a:lnTo>
                    <a:pt x="568" y="32"/>
                  </a:lnTo>
                  <a:lnTo>
                    <a:pt x="604" y="50"/>
                  </a:lnTo>
                  <a:lnTo>
                    <a:pt x="636" y="70"/>
                  </a:lnTo>
                  <a:lnTo>
                    <a:pt x="668" y="94"/>
                  </a:lnTo>
                  <a:lnTo>
                    <a:pt x="698" y="120"/>
                  </a:lnTo>
                  <a:lnTo>
                    <a:pt x="724" y="148"/>
                  </a:lnTo>
                  <a:lnTo>
                    <a:pt x="748" y="180"/>
                  </a:lnTo>
                  <a:lnTo>
                    <a:pt x="768" y="214"/>
                  </a:lnTo>
                  <a:lnTo>
                    <a:pt x="784" y="250"/>
                  </a:lnTo>
                  <a:lnTo>
                    <a:pt x="798" y="288"/>
                  </a:lnTo>
                  <a:lnTo>
                    <a:pt x="808" y="326"/>
                  </a:lnTo>
                  <a:lnTo>
                    <a:pt x="814" y="368"/>
                  </a:lnTo>
                  <a:lnTo>
                    <a:pt x="818" y="408"/>
                  </a:lnTo>
                  <a:lnTo>
                    <a:pt x="818" y="408"/>
                  </a:lnTo>
                  <a:close/>
                </a:path>
              </a:pathLst>
            </a:custGeom>
            <a:solidFill>
              <a:srgbClr val="f7b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388"/>
            <p:cNvSpPr/>
            <p:nvPr/>
          </p:nvSpPr>
          <p:spPr>
            <a:xfrm>
              <a:off x="8324640" y="11436480"/>
              <a:ext cx="1263600" cy="12636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796" h="796">
                  <a:moveTo>
                    <a:pt x="796" y="398"/>
                  </a:moveTo>
                  <a:lnTo>
                    <a:pt x="796" y="398"/>
                  </a:lnTo>
                  <a:lnTo>
                    <a:pt x="794" y="438"/>
                  </a:lnTo>
                  <a:lnTo>
                    <a:pt x="788" y="478"/>
                  </a:lnTo>
                  <a:lnTo>
                    <a:pt x="778" y="516"/>
                  </a:lnTo>
                  <a:lnTo>
                    <a:pt x="764" y="552"/>
                  </a:lnTo>
                  <a:lnTo>
                    <a:pt x="748" y="588"/>
                  </a:lnTo>
                  <a:lnTo>
                    <a:pt x="728" y="620"/>
                  </a:lnTo>
                  <a:lnTo>
                    <a:pt x="706" y="650"/>
                  </a:lnTo>
                  <a:lnTo>
                    <a:pt x="680" y="678"/>
                  </a:lnTo>
                  <a:lnTo>
                    <a:pt x="652" y="704"/>
                  </a:lnTo>
                  <a:lnTo>
                    <a:pt x="620" y="728"/>
                  </a:lnTo>
                  <a:lnTo>
                    <a:pt x="588" y="748"/>
                  </a:lnTo>
                  <a:lnTo>
                    <a:pt x="552" y="764"/>
                  </a:lnTo>
                  <a:lnTo>
                    <a:pt x="516" y="778"/>
                  </a:lnTo>
                  <a:lnTo>
                    <a:pt x="478" y="788"/>
                  </a:lnTo>
                  <a:lnTo>
                    <a:pt x="438" y="794"/>
                  </a:lnTo>
                  <a:lnTo>
                    <a:pt x="398" y="796"/>
                  </a:lnTo>
                  <a:lnTo>
                    <a:pt x="398" y="796"/>
                  </a:lnTo>
                  <a:lnTo>
                    <a:pt x="358" y="794"/>
                  </a:lnTo>
                  <a:lnTo>
                    <a:pt x="318" y="788"/>
                  </a:lnTo>
                  <a:lnTo>
                    <a:pt x="280" y="778"/>
                  </a:lnTo>
                  <a:lnTo>
                    <a:pt x="242" y="764"/>
                  </a:lnTo>
                  <a:lnTo>
                    <a:pt x="208" y="748"/>
                  </a:lnTo>
                  <a:lnTo>
                    <a:pt x="176" y="728"/>
                  </a:lnTo>
                  <a:lnTo>
                    <a:pt x="144" y="704"/>
                  </a:lnTo>
                  <a:lnTo>
                    <a:pt x="116" y="678"/>
                  </a:lnTo>
                  <a:lnTo>
                    <a:pt x="90" y="650"/>
                  </a:lnTo>
                  <a:lnTo>
                    <a:pt x="68" y="620"/>
                  </a:lnTo>
                  <a:lnTo>
                    <a:pt x="48" y="588"/>
                  </a:lnTo>
                  <a:lnTo>
                    <a:pt x="30" y="552"/>
                  </a:lnTo>
                  <a:lnTo>
                    <a:pt x="18" y="516"/>
                  </a:lnTo>
                  <a:lnTo>
                    <a:pt x="8" y="478"/>
                  </a:lnTo>
                  <a:lnTo>
                    <a:pt x="2" y="43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2" y="356"/>
                  </a:lnTo>
                  <a:lnTo>
                    <a:pt x="8" y="316"/>
                  </a:lnTo>
                  <a:lnTo>
                    <a:pt x="18" y="278"/>
                  </a:lnTo>
                  <a:lnTo>
                    <a:pt x="30" y="242"/>
                  </a:lnTo>
                  <a:lnTo>
                    <a:pt x="48" y="208"/>
                  </a:lnTo>
                  <a:lnTo>
                    <a:pt x="68" y="174"/>
                  </a:lnTo>
                  <a:lnTo>
                    <a:pt x="90" y="144"/>
                  </a:lnTo>
                  <a:lnTo>
                    <a:pt x="116" y="116"/>
                  </a:lnTo>
                  <a:lnTo>
                    <a:pt x="144" y="90"/>
                  </a:lnTo>
                  <a:lnTo>
                    <a:pt x="176" y="68"/>
                  </a:lnTo>
                  <a:lnTo>
                    <a:pt x="208" y="48"/>
                  </a:lnTo>
                  <a:lnTo>
                    <a:pt x="242" y="30"/>
                  </a:lnTo>
                  <a:lnTo>
                    <a:pt x="280" y="16"/>
                  </a:lnTo>
                  <a:lnTo>
                    <a:pt x="318" y="8"/>
                  </a:lnTo>
                  <a:lnTo>
                    <a:pt x="358" y="2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438" y="2"/>
                  </a:lnTo>
                  <a:lnTo>
                    <a:pt x="478" y="8"/>
                  </a:lnTo>
                  <a:lnTo>
                    <a:pt x="516" y="16"/>
                  </a:lnTo>
                  <a:lnTo>
                    <a:pt x="552" y="30"/>
                  </a:lnTo>
                  <a:lnTo>
                    <a:pt x="588" y="48"/>
                  </a:lnTo>
                  <a:lnTo>
                    <a:pt x="620" y="68"/>
                  </a:lnTo>
                  <a:lnTo>
                    <a:pt x="652" y="90"/>
                  </a:lnTo>
                  <a:lnTo>
                    <a:pt x="680" y="116"/>
                  </a:lnTo>
                  <a:lnTo>
                    <a:pt x="706" y="144"/>
                  </a:lnTo>
                  <a:lnTo>
                    <a:pt x="728" y="174"/>
                  </a:lnTo>
                  <a:lnTo>
                    <a:pt x="748" y="208"/>
                  </a:lnTo>
                  <a:lnTo>
                    <a:pt x="764" y="242"/>
                  </a:lnTo>
                  <a:lnTo>
                    <a:pt x="778" y="278"/>
                  </a:lnTo>
                  <a:lnTo>
                    <a:pt x="788" y="316"/>
                  </a:lnTo>
                  <a:lnTo>
                    <a:pt x="794" y="356"/>
                  </a:lnTo>
                  <a:lnTo>
                    <a:pt x="796" y="398"/>
                  </a:lnTo>
                  <a:lnTo>
                    <a:pt x="796" y="398"/>
                  </a:lnTo>
                  <a:close/>
                </a:path>
              </a:pathLst>
            </a:custGeom>
            <a:solidFill>
              <a:srgbClr val="f7b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389"/>
            <p:cNvSpPr/>
            <p:nvPr/>
          </p:nvSpPr>
          <p:spPr>
            <a:xfrm>
              <a:off x="8331120" y="11445840"/>
              <a:ext cx="1228680" cy="123156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774" h="776">
                  <a:moveTo>
                    <a:pt x="774" y="388"/>
                  </a:moveTo>
                  <a:lnTo>
                    <a:pt x="774" y="388"/>
                  </a:lnTo>
                  <a:lnTo>
                    <a:pt x="772" y="428"/>
                  </a:lnTo>
                  <a:lnTo>
                    <a:pt x="768" y="466"/>
                  </a:lnTo>
                  <a:lnTo>
                    <a:pt x="758" y="502"/>
                  </a:lnTo>
                  <a:lnTo>
                    <a:pt x="744" y="538"/>
                  </a:lnTo>
                  <a:lnTo>
                    <a:pt x="728" y="572"/>
                  </a:lnTo>
                  <a:lnTo>
                    <a:pt x="708" y="604"/>
                  </a:lnTo>
                  <a:lnTo>
                    <a:pt x="686" y="634"/>
                  </a:lnTo>
                  <a:lnTo>
                    <a:pt x="662" y="662"/>
                  </a:lnTo>
                  <a:lnTo>
                    <a:pt x="634" y="686"/>
                  </a:lnTo>
                  <a:lnTo>
                    <a:pt x="604" y="708"/>
                  </a:lnTo>
                  <a:lnTo>
                    <a:pt x="572" y="728"/>
                  </a:lnTo>
                  <a:lnTo>
                    <a:pt x="538" y="744"/>
                  </a:lnTo>
                  <a:lnTo>
                    <a:pt x="502" y="758"/>
                  </a:lnTo>
                  <a:lnTo>
                    <a:pt x="466" y="768"/>
                  </a:lnTo>
                  <a:lnTo>
                    <a:pt x="428" y="774"/>
                  </a:lnTo>
                  <a:lnTo>
                    <a:pt x="388" y="776"/>
                  </a:lnTo>
                  <a:lnTo>
                    <a:pt x="388" y="776"/>
                  </a:lnTo>
                  <a:lnTo>
                    <a:pt x="348" y="774"/>
                  </a:lnTo>
                  <a:lnTo>
                    <a:pt x="310" y="768"/>
                  </a:lnTo>
                  <a:lnTo>
                    <a:pt x="272" y="758"/>
                  </a:lnTo>
                  <a:lnTo>
                    <a:pt x="236" y="744"/>
                  </a:lnTo>
                  <a:lnTo>
                    <a:pt x="202" y="728"/>
                  </a:lnTo>
                  <a:lnTo>
                    <a:pt x="170" y="708"/>
                  </a:lnTo>
                  <a:lnTo>
                    <a:pt x="140" y="686"/>
                  </a:lnTo>
                  <a:lnTo>
                    <a:pt x="114" y="662"/>
                  </a:lnTo>
                  <a:lnTo>
                    <a:pt x="88" y="634"/>
                  </a:lnTo>
                  <a:lnTo>
                    <a:pt x="66" y="604"/>
                  </a:lnTo>
                  <a:lnTo>
                    <a:pt x="46" y="572"/>
                  </a:lnTo>
                  <a:lnTo>
                    <a:pt x="30" y="538"/>
                  </a:lnTo>
                  <a:lnTo>
                    <a:pt x="18" y="502"/>
                  </a:lnTo>
                  <a:lnTo>
                    <a:pt x="8" y="466"/>
                  </a:lnTo>
                  <a:lnTo>
                    <a:pt x="2" y="428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2" y="348"/>
                  </a:lnTo>
                  <a:lnTo>
                    <a:pt x="8" y="310"/>
                  </a:lnTo>
                  <a:lnTo>
                    <a:pt x="18" y="272"/>
                  </a:lnTo>
                  <a:lnTo>
                    <a:pt x="30" y="236"/>
                  </a:lnTo>
                  <a:lnTo>
                    <a:pt x="46" y="202"/>
                  </a:lnTo>
                  <a:lnTo>
                    <a:pt x="66" y="170"/>
                  </a:lnTo>
                  <a:lnTo>
                    <a:pt x="88" y="142"/>
                  </a:lnTo>
                  <a:lnTo>
                    <a:pt x="114" y="114"/>
                  </a:lnTo>
                  <a:lnTo>
                    <a:pt x="140" y="88"/>
                  </a:lnTo>
                  <a:lnTo>
                    <a:pt x="170" y="66"/>
                  </a:lnTo>
                  <a:lnTo>
                    <a:pt x="202" y="46"/>
                  </a:lnTo>
                  <a:lnTo>
                    <a:pt x="236" y="30"/>
                  </a:lnTo>
                  <a:lnTo>
                    <a:pt x="272" y="18"/>
                  </a:lnTo>
                  <a:lnTo>
                    <a:pt x="310" y="8"/>
                  </a:lnTo>
                  <a:lnTo>
                    <a:pt x="348" y="2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428" y="2"/>
                  </a:lnTo>
                  <a:lnTo>
                    <a:pt x="466" y="8"/>
                  </a:lnTo>
                  <a:lnTo>
                    <a:pt x="502" y="18"/>
                  </a:lnTo>
                  <a:lnTo>
                    <a:pt x="538" y="30"/>
                  </a:lnTo>
                  <a:lnTo>
                    <a:pt x="572" y="46"/>
                  </a:lnTo>
                  <a:lnTo>
                    <a:pt x="604" y="66"/>
                  </a:lnTo>
                  <a:lnTo>
                    <a:pt x="634" y="88"/>
                  </a:lnTo>
                  <a:lnTo>
                    <a:pt x="662" y="114"/>
                  </a:lnTo>
                  <a:lnTo>
                    <a:pt x="686" y="142"/>
                  </a:lnTo>
                  <a:lnTo>
                    <a:pt x="708" y="170"/>
                  </a:lnTo>
                  <a:lnTo>
                    <a:pt x="728" y="202"/>
                  </a:lnTo>
                  <a:lnTo>
                    <a:pt x="744" y="236"/>
                  </a:lnTo>
                  <a:lnTo>
                    <a:pt x="758" y="272"/>
                  </a:lnTo>
                  <a:lnTo>
                    <a:pt x="768" y="310"/>
                  </a:lnTo>
                  <a:lnTo>
                    <a:pt x="772" y="348"/>
                  </a:lnTo>
                  <a:lnTo>
                    <a:pt x="774" y="388"/>
                  </a:lnTo>
                  <a:lnTo>
                    <a:pt x="774" y="388"/>
                  </a:lnTo>
                  <a:close/>
                </a:path>
              </a:pathLst>
            </a:custGeom>
            <a:solidFill>
              <a:srgbClr val="f8b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90"/>
            <p:cNvSpPr/>
            <p:nvPr/>
          </p:nvSpPr>
          <p:spPr>
            <a:xfrm>
              <a:off x="8337240" y="11458440"/>
              <a:ext cx="1197000" cy="1193760"/>
            </a:xfrm>
            <a:custGeom>
              <a:avLst/>
              <a:gdLst>
                <a:gd name="textAreaLeft" fmla="*/ 0 w 1197000"/>
                <a:gd name="textAreaRight" fmla="*/ 1197360 w 1197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754" h="752">
                  <a:moveTo>
                    <a:pt x="754" y="376"/>
                  </a:moveTo>
                  <a:lnTo>
                    <a:pt x="754" y="376"/>
                  </a:lnTo>
                  <a:lnTo>
                    <a:pt x="752" y="414"/>
                  </a:lnTo>
                  <a:lnTo>
                    <a:pt x="746" y="452"/>
                  </a:lnTo>
                  <a:lnTo>
                    <a:pt x="736" y="488"/>
                  </a:lnTo>
                  <a:lnTo>
                    <a:pt x="724" y="522"/>
                  </a:lnTo>
                  <a:lnTo>
                    <a:pt x="708" y="556"/>
                  </a:lnTo>
                  <a:lnTo>
                    <a:pt x="690" y="586"/>
                  </a:lnTo>
                  <a:lnTo>
                    <a:pt x="668" y="616"/>
                  </a:lnTo>
                  <a:lnTo>
                    <a:pt x="644" y="642"/>
                  </a:lnTo>
                  <a:lnTo>
                    <a:pt x="616" y="666"/>
                  </a:lnTo>
                  <a:lnTo>
                    <a:pt x="588" y="688"/>
                  </a:lnTo>
                  <a:lnTo>
                    <a:pt x="556" y="708"/>
                  </a:lnTo>
                  <a:lnTo>
                    <a:pt x="524" y="724"/>
                  </a:lnTo>
                  <a:lnTo>
                    <a:pt x="490" y="736"/>
                  </a:lnTo>
                  <a:lnTo>
                    <a:pt x="452" y="746"/>
                  </a:lnTo>
                  <a:lnTo>
                    <a:pt x="416" y="752"/>
                  </a:lnTo>
                  <a:lnTo>
                    <a:pt x="378" y="752"/>
                  </a:lnTo>
                  <a:lnTo>
                    <a:pt x="378" y="752"/>
                  </a:lnTo>
                  <a:lnTo>
                    <a:pt x="338" y="752"/>
                  </a:lnTo>
                  <a:lnTo>
                    <a:pt x="302" y="746"/>
                  </a:lnTo>
                  <a:lnTo>
                    <a:pt x="264" y="736"/>
                  </a:lnTo>
                  <a:lnTo>
                    <a:pt x="230" y="724"/>
                  </a:lnTo>
                  <a:lnTo>
                    <a:pt x="198" y="708"/>
                  </a:lnTo>
                  <a:lnTo>
                    <a:pt x="166" y="688"/>
                  </a:lnTo>
                  <a:lnTo>
                    <a:pt x="138" y="666"/>
                  </a:lnTo>
                  <a:lnTo>
                    <a:pt x="110" y="642"/>
                  </a:lnTo>
                  <a:lnTo>
                    <a:pt x="86" y="616"/>
                  </a:lnTo>
                  <a:lnTo>
                    <a:pt x="64" y="586"/>
                  </a:lnTo>
                  <a:lnTo>
                    <a:pt x="46" y="556"/>
                  </a:lnTo>
                  <a:lnTo>
                    <a:pt x="30" y="522"/>
                  </a:lnTo>
                  <a:lnTo>
                    <a:pt x="18" y="488"/>
                  </a:lnTo>
                  <a:lnTo>
                    <a:pt x="8" y="452"/>
                  </a:lnTo>
                  <a:lnTo>
                    <a:pt x="2" y="414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2" y="338"/>
                  </a:lnTo>
                  <a:lnTo>
                    <a:pt x="8" y="300"/>
                  </a:lnTo>
                  <a:lnTo>
                    <a:pt x="18" y="264"/>
                  </a:lnTo>
                  <a:lnTo>
                    <a:pt x="30" y="230"/>
                  </a:lnTo>
                  <a:lnTo>
                    <a:pt x="46" y="196"/>
                  </a:lnTo>
                  <a:lnTo>
                    <a:pt x="64" y="166"/>
                  </a:lnTo>
                  <a:lnTo>
                    <a:pt x="86" y="136"/>
                  </a:lnTo>
                  <a:lnTo>
                    <a:pt x="110" y="110"/>
                  </a:lnTo>
                  <a:lnTo>
                    <a:pt x="138" y="86"/>
                  </a:lnTo>
                  <a:lnTo>
                    <a:pt x="166" y="64"/>
                  </a:lnTo>
                  <a:lnTo>
                    <a:pt x="198" y="44"/>
                  </a:lnTo>
                  <a:lnTo>
                    <a:pt x="230" y="28"/>
                  </a:lnTo>
                  <a:lnTo>
                    <a:pt x="264" y="16"/>
                  </a:lnTo>
                  <a:lnTo>
                    <a:pt x="302" y="6"/>
                  </a:lnTo>
                  <a:lnTo>
                    <a:pt x="338" y="2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16" y="2"/>
                  </a:lnTo>
                  <a:lnTo>
                    <a:pt x="452" y="6"/>
                  </a:lnTo>
                  <a:lnTo>
                    <a:pt x="490" y="16"/>
                  </a:lnTo>
                  <a:lnTo>
                    <a:pt x="524" y="28"/>
                  </a:lnTo>
                  <a:lnTo>
                    <a:pt x="556" y="44"/>
                  </a:lnTo>
                  <a:lnTo>
                    <a:pt x="588" y="64"/>
                  </a:lnTo>
                  <a:lnTo>
                    <a:pt x="616" y="86"/>
                  </a:lnTo>
                  <a:lnTo>
                    <a:pt x="644" y="110"/>
                  </a:lnTo>
                  <a:lnTo>
                    <a:pt x="668" y="136"/>
                  </a:lnTo>
                  <a:lnTo>
                    <a:pt x="690" y="166"/>
                  </a:lnTo>
                  <a:lnTo>
                    <a:pt x="708" y="196"/>
                  </a:lnTo>
                  <a:lnTo>
                    <a:pt x="724" y="230"/>
                  </a:lnTo>
                  <a:lnTo>
                    <a:pt x="736" y="264"/>
                  </a:lnTo>
                  <a:lnTo>
                    <a:pt x="746" y="300"/>
                  </a:lnTo>
                  <a:lnTo>
                    <a:pt x="752" y="338"/>
                  </a:lnTo>
                  <a:lnTo>
                    <a:pt x="754" y="376"/>
                  </a:lnTo>
                  <a:lnTo>
                    <a:pt x="754" y="376"/>
                  </a:lnTo>
                  <a:close/>
                </a:path>
              </a:pathLst>
            </a:custGeom>
            <a:solidFill>
              <a:srgbClr val="f8b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391"/>
            <p:cNvSpPr/>
            <p:nvPr/>
          </p:nvSpPr>
          <p:spPr>
            <a:xfrm>
              <a:off x="8343720" y="11468160"/>
              <a:ext cx="1162080" cy="116172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1161720"/>
                <a:gd name="textAreaBottom" fmla="*/ 1162080 h 1161720"/>
              </a:gdLst>
              <a:ahLst/>
              <a:rect l="textAreaLeft" t="textAreaTop" r="textAreaRight" b="textAreaBottom"/>
              <a:pathLst>
                <a:path w="732" h="732">
                  <a:moveTo>
                    <a:pt x="732" y="366"/>
                  </a:moveTo>
                  <a:lnTo>
                    <a:pt x="732" y="366"/>
                  </a:lnTo>
                  <a:lnTo>
                    <a:pt x="730" y="404"/>
                  </a:lnTo>
                  <a:lnTo>
                    <a:pt x="726" y="440"/>
                  </a:lnTo>
                  <a:lnTo>
                    <a:pt x="716" y="476"/>
                  </a:lnTo>
                  <a:lnTo>
                    <a:pt x="704" y="510"/>
                  </a:lnTo>
                  <a:lnTo>
                    <a:pt x="688" y="542"/>
                  </a:lnTo>
                  <a:lnTo>
                    <a:pt x="670" y="572"/>
                  </a:lnTo>
                  <a:lnTo>
                    <a:pt x="650" y="600"/>
                  </a:lnTo>
                  <a:lnTo>
                    <a:pt x="626" y="626"/>
                  </a:lnTo>
                  <a:lnTo>
                    <a:pt x="600" y="650"/>
                  </a:lnTo>
                  <a:lnTo>
                    <a:pt x="572" y="670"/>
                  </a:lnTo>
                  <a:lnTo>
                    <a:pt x="542" y="688"/>
                  </a:lnTo>
                  <a:lnTo>
                    <a:pt x="510" y="704"/>
                  </a:lnTo>
                  <a:lnTo>
                    <a:pt x="476" y="716"/>
                  </a:lnTo>
                  <a:lnTo>
                    <a:pt x="440" y="726"/>
                  </a:lnTo>
                  <a:lnTo>
                    <a:pt x="404" y="730"/>
                  </a:lnTo>
                  <a:lnTo>
                    <a:pt x="366" y="732"/>
                  </a:lnTo>
                  <a:lnTo>
                    <a:pt x="366" y="732"/>
                  </a:lnTo>
                  <a:lnTo>
                    <a:pt x="330" y="730"/>
                  </a:lnTo>
                  <a:lnTo>
                    <a:pt x="292" y="726"/>
                  </a:lnTo>
                  <a:lnTo>
                    <a:pt x="258" y="716"/>
                  </a:lnTo>
                  <a:lnTo>
                    <a:pt x="224" y="704"/>
                  </a:lnTo>
                  <a:lnTo>
                    <a:pt x="192" y="688"/>
                  </a:lnTo>
                  <a:lnTo>
                    <a:pt x="162" y="670"/>
                  </a:lnTo>
                  <a:lnTo>
                    <a:pt x="134" y="650"/>
                  </a:lnTo>
                  <a:lnTo>
                    <a:pt x="108" y="626"/>
                  </a:lnTo>
                  <a:lnTo>
                    <a:pt x="84" y="600"/>
                  </a:lnTo>
                  <a:lnTo>
                    <a:pt x="62" y="572"/>
                  </a:lnTo>
                  <a:lnTo>
                    <a:pt x="44" y="542"/>
                  </a:lnTo>
                  <a:lnTo>
                    <a:pt x="30" y="510"/>
                  </a:lnTo>
                  <a:lnTo>
                    <a:pt x="16" y="476"/>
                  </a:lnTo>
                  <a:lnTo>
                    <a:pt x="8" y="440"/>
                  </a:lnTo>
                  <a:lnTo>
                    <a:pt x="2" y="404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2" y="330"/>
                  </a:lnTo>
                  <a:lnTo>
                    <a:pt x="8" y="292"/>
                  </a:lnTo>
                  <a:lnTo>
                    <a:pt x="16" y="258"/>
                  </a:lnTo>
                  <a:lnTo>
                    <a:pt x="30" y="224"/>
                  </a:lnTo>
                  <a:lnTo>
                    <a:pt x="44" y="192"/>
                  </a:lnTo>
                  <a:lnTo>
                    <a:pt x="62" y="162"/>
                  </a:lnTo>
                  <a:lnTo>
                    <a:pt x="84" y="134"/>
                  </a:lnTo>
                  <a:lnTo>
                    <a:pt x="108" y="108"/>
                  </a:lnTo>
                  <a:lnTo>
                    <a:pt x="134" y="84"/>
                  </a:lnTo>
                  <a:lnTo>
                    <a:pt x="162" y="62"/>
                  </a:lnTo>
                  <a:lnTo>
                    <a:pt x="192" y="44"/>
                  </a:lnTo>
                  <a:lnTo>
                    <a:pt x="224" y="28"/>
                  </a:lnTo>
                  <a:lnTo>
                    <a:pt x="258" y="16"/>
                  </a:lnTo>
                  <a:lnTo>
                    <a:pt x="292" y="8"/>
                  </a:lnTo>
                  <a:lnTo>
                    <a:pt x="330" y="2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404" y="2"/>
                  </a:lnTo>
                  <a:lnTo>
                    <a:pt x="440" y="8"/>
                  </a:lnTo>
                  <a:lnTo>
                    <a:pt x="476" y="16"/>
                  </a:lnTo>
                  <a:lnTo>
                    <a:pt x="510" y="28"/>
                  </a:lnTo>
                  <a:lnTo>
                    <a:pt x="542" y="44"/>
                  </a:lnTo>
                  <a:lnTo>
                    <a:pt x="572" y="62"/>
                  </a:lnTo>
                  <a:lnTo>
                    <a:pt x="600" y="84"/>
                  </a:lnTo>
                  <a:lnTo>
                    <a:pt x="626" y="108"/>
                  </a:lnTo>
                  <a:lnTo>
                    <a:pt x="650" y="134"/>
                  </a:lnTo>
                  <a:lnTo>
                    <a:pt x="670" y="162"/>
                  </a:lnTo>
                  <a:lnTo>
                    <a:pt x="688" y="192"/>
                  </a:lnTo>
                  <a:lnTo>
                    <a:pt x="704" y="224"/>
                  </a:lnTo>
                  <a:lnTo>
                    <a:pt x="716" y="258"/>
                  </a:lnTo>
                  <a:lnTo>
                    <a:pt x="726" y="292"/>
                  </a:lnTo>
                  <a:lnTo>
                    <a:pt x="730" y="330"/>
                  </a:lnTo>
                  <a:lnTo>
                    <a:pt x="732" y="366"/>
                  </a:lnTo>
                  <a:lnTo>
                    <a:pt x="732" y="366"/>
                  </a:lnTo>
                  <a:close/>
                </a:path>
              </a:pathLst>
            </a:custGeom>
            <a:solidFill>
              <a:srgbClr val="f8b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92"/>
            <p:cNvSpPr/>
            <p:nvPr/>
          </p:nvSpPr>
          <p:spPr>
            <a:xfrm>
              <a:off x="8350200" y="11480760"/>
              <a:ext cx="1130400" cy="11268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126800"/>
                <a:gd name="textAreaBottom" fmla="*/ 1127160 h 1126800"/>
              </a:gdLst>
              <a:ahLst/>
              <a:rect l="textAreaLeft" t="textAreaTop" r="textAreaRight" b="textAreaBottom"/>
              <a:pathLst>
                <a:path w="712" h="710">
                  <a:moveTo>
                    <a:pt x="712" y="354"/>
                  </a:moveTo>
                  <a:lnTo>
                    <a:pt x="712" y="354"/>
                  </a:lnTo>
                  <a:lnTo>
                    <a:pt x="710" y="392"/>
                  </a:lnTo>
                  <a:lnTo>
                    <a:pt x="704" y="426"/>
                  </a:lnTo>
                  <a:lnTo>
                    <a:pt x="696" y="460"/>
                  </a:lnTo>
                  <a:lnTo>
                    <a:pt x="684" y="494"/>
                  </a:lnTo>
                  <a:lnTo>
                    <a:pt x="668" y="524"/>
                  </a:lnTo>
                  <a:lnTo>
                    <a:pt x="652" y="554"/>
                  </a:lnTo>
                  <a:lnTo>
                    <a:pt x="630" y="582"/>
                  </a:lnTo>
                  <a:lnTo>
                    <a:pt x="608" y="606"/>
                  </a:lnTo>
                  <a:lnTo>
                    <a:pt x="582" y="630"/>
                  </a:lnTo>
                  <a:lnTo>
                    <a:pt x="556" y="650"/>
                  </a:lnTo>
                  <a:lnTo>
                    <a:pt x="526" y="668"/>
                  </a:lnTo>
                  <a:lnTo>
                    <a:pt x="494" y="682"/>
                  </a:lnTo>
                  <a:lnTo>
                    <a:pt x="462" y="694"/>
                  </a:lnTo>
                  <a:lnTo>
                    <a:pt x="428" y="704"/>
                  </a:lnTo>
                  <a:lnTo>
                    <a:pt x="392" y="708"/>
                  </a:lnTo>
                  <a:lnTo>
                    <a:pt x="356" y="710"/>
                  </a:lnTo>
                  <a:lnTo>
                    <a:pt x="356" y="710"/>
                  </a:lnTo>
                  <a:lnTo>
                    <a:pt x="320" y="708"/>
                  </a:lnTo>
                  <a:lnTo>
                    <a:pt x="284" y="704"/>
                  </a:lnTo>
                  <a:lnTo>
                    <a:pt x="250" y="694"/>
                  </a:lnTo>
                  <a:lnTo>
                    <a:pt x="218" y="682"/>
                  </a:lnTo>
                  <a:lnTo>
                    <a:pt x="186" y="668"/>
                  </a:lnTo>
                  <a:lnTo>
                    <a:pt x="158" y="650"/>
                  </a:lnTo>
                  <a:lnTo>
                    <a:pt x="130" y="630"/>
                  </a:lnTo>
                  <a:lnTo>
                    <a:pt x="104" y="606"/>
                  </a:lnTo>
                  <a:lnTo>
                    <a:pt x="82" y="582"/>
                  </a:lnTo>
                  <a:lnTo>
                    <a:pt x="62" y="554"/>
                  </a:lnTo>
                  <a:lnTo>
                    <a:pt x="44" y="524"/>
                  </a:lnTo>
                  <a:lnTo>
                    <a:pt x="28" y="494"/>
                  </a:lnTo>
                  <a:lnTo>
                    <a:pt x="16" y="460"/>
                  </a:lnTo>
                  <a:lnTo>
                    <a:pt x="8" y="426"/>
                  </a:lnTo>
                  <a:lnTo>
                    <a:pt x="2" y="392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" y="318"/>
                  </a:lnTo>
                  <a:lnTo>
                    <a:pt x="8" y="284"/>
                  </a:lnTo>
                  <a:lnTo>
                    <a:pt x="16" y="250"/>
                  </a:lnTo>
                  <a:lnTo>
                    <a:pt x="28" y="216"/>
                  </a:lnTo>
                  <a:lnTo>
                    <a:pt x="44" y="186"/>
                  </a:lnTo>
                  <a:lnTo>
                    <a:pt x="62" y="156"/>
                  </a:lnTo>
                  <a:lnTo>
                    <a:pt x="82" y="128"/>
                  </a:lnTo>
                  <a:lnTo>
                    <a:pt x="104" y="104"/>
                  </a:lnTo>
                  <a:lnTo>
                    <a:pt x="130" y="80"/>
                  </a:lnTo>
                  <a:lnTo>
                    <a:pt x="158" y="60"/>
                  </a:lnTo>
                  <a:lnTo>
                    <a:pt x="186" y="42"/>
                  </a:lnTo>
                  <a:lnTo>
                    <a:pt x="218" y="28"/>
                  </a:lnTo>
                  <a:lnTo>
                    <a:pt x="250" y="16"/>
                  </a:lnTo>
                  <a:lnTo>
                    <a:pt x="284" y="6"/>
                  </a:lnTo>
                  <a:lnTo>
                    <a:pt x="320" y="2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392" y="2"/>
                  </a:lnTo>
                  <a:lnTo>
                    <a:pt x="428" y="6"/>
                  </a:lnTo>
                  <a:lnTo>
                    <a:pt x="462" y="16"/>
                  </a:lnTo>
                  <a:lnTo>
                    <a:pt x="494" y="28"/>
                  </a:lnTo>
                  <a:lnTo>
                    <a:pt x="526" y="42"/>
                  </a:lnTo>
                  <a:lnTo>
                    <a:pt x="556" y="60"/>
                  </a:lnTo>
                  <a:lnTo>
                    <a:pt x="582" y="80"/>
                  </a:lnTo>
                  <a:lnTo>
                    <a:pt x="608" y="104"/>
                  </a:lnTo>
                  <a:lnTo>
                    <a:pt x="630" y="128"/>
                  </a:lnTo>
                  <a:lnTo>
                    <a:pt x="652" y="156"/>
                  </a:lnTo>
                  <a:lnTo>
                    <a:pt x="668" y="186"/>
                  </a:lnTo>
                  <a:lnTo>
                    <a:pt x="684" y="216"/>
                  </a:lnTo>
                  <a:lnTo>
                    <a:pt x="696" y="250"/>
                  </a:lnTo>
                  <a:lnTo>
                    <a:pt x="704" y="284"/>
                  </a:lnTo>
                  <a:lnTo>
                    <a:pt x="710" y="318"/>
                  </a:lnTo>
                  <a:lnTo>
                    <a:pt x="712" y="354"/>
                  </a:lnTo>
                  <a:lnTo>
                    <a:pt x="712" y="354"/>
                  </a:lnTo>
                  <a:close/>
                </a:path>
              </a:pathLst>
            </a:custGeom>
            <a:solidFill>
              <a:srgbClr val="f8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93"/>
            <p:cNvSpPr/>
            <p:nvPr/>
          </p:nvSpPr>
          <p:spPr>
            <a:xfrm>
              <a:off x="8356320" y="11490480"/>
              <a:ext cx="1095480" cy="1095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690" h="690">
                  <a:moveTo>
                    <a:pt x="690" y="346"/>
                  </a:moveTo>
                  <a:lnTo>
                    <a:pt x="690" y="346"/>
                  </a:lnTo>
                  <a:lnTo>
                    <a:pt x="688" y="380"/>
                  </a:lnTo>
                  <a:lnTo>
                    <a:pt x="684" y="414"/>
                  </a:lnTo>
                  <a:lnTo>
                    <a:pt x="676" y="448"/>
                  </a:lnTo>
                  <a:lnTo>
                    <a:pt x="664" y="480"/>
                  </a:lnTo>
                  <a:lnTo>
                    <a:pt x="650" y="510"/>
                  </a:lnTo>
                  <a:lnTo>
                    <a:pt x="632" y="538"/>
                  </a:lnTo>
                  <a:lnTo>
                    <a:pt x="612" y="564"/>
                  </a:lnTo>
                  <a:lnTo>
                    <a:pt x="590" y="590"/>
                  </a:lnTo>
                  <a:lnTo>
                    <a:pt x="566" y="612"/>
                  </a:lnTo>
                  <a:lnTo>
                    <a:pt x="538" y="632"/>
                  </a:lnTo>
                  <a:lnTo>
                    <a:pt x="510" y="648"/>
                  </a:lnTo>
                  <a:lnTo>
                    <a:pt x="480" y="664"/>
                  </a:lnTo>
                  <a:lnTo>
                    <a:pt x="448" y="674"/>
                  </a:lnTo>
                  <a:lnTo>
                    <a:pt x="416" y="684"/>
                  </a:lnTo>
                  <a:lnTo>
                    <a:pt x="382" y="688"/>
                  </a:lnTo>
                  <a:lnTo>
                    <a:pt x="346" y="690"/>
                  </a:lnTo>
                  <a:lnTo>
                    <a:pt x="346" y="690"/>
                  </a:lnTo>
                  <a:lnTo>
                    <a:pt x="310" y="688"/>
                  </a:lnTo>
                  <a:lnTo>
                    <a:pt x="276" y="684"/>
                  </a:lnTo>
                  <a:lnTo>
                    <a:pt x="244" y="674"/>
                  </a:lnTo>
                  <a:lnTo>
                    <a:pt x="212" y="664"/>
                  </a:lnTo>
                  <a:lnTo>
                    <a:pt x="182" y="648"/>
                  </a:lnTo>
                  <a:lnTo>
                    <a:pt x="152" y="632"/>
                  </a:lnTo>
                  <a:lnTo>
                    <a:pt x="126" y="612"/>
                  </a:lnTo>
                  <a:lnTo>
                    <a:pt x="102" y="590"/>
                  </a:lnTo>
                  <a:lnTo>
                    <a:pt x="80" y="564"/>
                  </a:lnTo>
                  <a:lnTo>
                    <a:pt x="60" y="538"/>
                  </a:lnTo>
                  <a:lnTo>
                    <a:pt x="42" y="510"/>
                  </a:lnTo>
                  <a:lnTo>
                    <a:pt x="28" y="480"/>
                  </a:lnTo>
                  <a:lnTo>
                    <a:pt x="16" y="448"/>
                  </a:lnTo>
                  <a:lnTo>
                    <a:pt x="8" y="414"/>
                  </a:lnTo>
                  <a:lnTo>
                    <a:pt x="2" y="380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2" y="310"/>
                  </a:lnTo>
                  <a:lnTo>
                    <a:pt x="8" y="276"/>
                  </a:lnTo>
                  <a:lnTo>
                    <a:pt x="16" y="242"/>
                  </a:lnTo>
                  <a:lnTo>
                    <a:pt x="28" y="212"/>
                  </a:lnTo>
                  <a:lnTo>
                    <a:pt x="42" y="180"/>
                  </a:lnTo>
                  <a:lnTo>
                    <a:pt x="60" y="152"/>
                  </a:lnTo>
                  <a:lnTo>
                    <a:pt x="80" y="126"/>
                  </a:lnTo>
                  <a:lnTo>
                    <a:pt x="102" y="102"/>
                  </a:lnTo>
                  <a:lnTo>
                    <a:pt x="126" y="80"/>
                  </a:lnTo>
                  <a:lnTo>
                    <a:pt x="152" y="60"/>
                  </a:lnTo>
                  <a:lnTo>
                    <a:pt x="182" y="42"/>
                  </a:lnTo>
                  <a:lnTo>
                    <a:pt x="212" y="28"/>
                  </a:lnTo>
                  <a:lnTo>
                    <a:pt x="244" y="16"/>
                  </a:lnTo>
                  <a:lnTo>
                    <a:pt x="276" y="8"/>
                  </a:lnTo>
                  <a:lnTo>
                    <a:pt x="310" y="2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82" y="2"/>
                  </a:lnTo>
                  <a:lnTo>
                    <a:pt x="416" y="8"/>
                  </a:lnTo>
                  <a:lnTo>
                    <a:pt x="448" y="16"/>
                  </a:lnTo>
                  <a:lnTo>
                    <a:pt x="480" y="28"/>
                  </a:lnTo>
                  <a:lnTo>
                    <a:pt x="510" y="42"/>
                  </a:lnTo>
                  <a:lnTo>
                    <a:pt x="538" y="60"/>
                  </a:lnTo>
                  <a:lnTo>
                    <a:pt x="566" y="80"/>
                  </a:lnTo>
                  <a:lnTo>
                    <a:pt x="590" y="102"/>
                  </a:lnTo>
                  <a:lnTo>
                    <a:pt x="612" y="126"/>
                  </a:lnTo>
                  <a:lnTo>
                    <a:pt x="632" y="152"/>
                  </a:lnTo>
                  <a:lnTo>
                    <a:pt x="650" y="180"/>
                  </a:lnTo>
                  <a:lnTo>
                    <a:pt x="664" y="212"/>
                  </a:lnTo>
                  <a:lnTo>
                    <a:pt x="676" y="242"/>
                  </a:lnTo>
                  <a:lnTo>
                    <a:pt x="684" y="276"/>
                  </a:lnTo>
                  <a:lnTo>
                    <a:pt x="688" y="310"/>
                  </a:lnTo>
                  <a:lnTo>
                    <a:pt x="690" y="346"/>
                  </a:lnTo>
                  <a:lnTo>
                    <a:pt x="690" y="346"/>
                  </a:lnTo>
                  <a:close/>
                </a:path>
              </a:pathLst>
            </a:custGeom>
            <a:solidFill>
              <a:srgbClr val="f9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94"/>
            <p:cNvSpPr/>
            <p:nvPr/>
          </p:nvSpPr>
          <p:spPr>
            <a:xfrm>
              <a:off x="8366040" y="11503080"/>
              <a:ext cx="1060560" cy="106020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668" h="668">
                  <a:moveTo>
                    <a:pt x="668" y="334"/>
                  </a:moveTo>
                  <a:lnTo>
                    <a:pt x="668" y="334"/>
                  </a:lnTo>
                  <a:lnTo>
                    <a:pt x="666" y="368"/>
                  </a:lnTo>
                  <a:lnTo>
                    <a:pt x="660" y="402"/>
                  </a:lnTo>
                  <a:lnTo>
                    <a:pt x="652" y="434"/>
                  </a:lnTo>
                  <a:lnTo>
                    <a:pt x="642" y="464"/>
                  </a:lnTo>
                  <a:lnTo>
                    <a:pt x="628" y="494"/>
                  </a:lnTo>
                  <a:lnTo>
                    <a:pt x="610" y="520"/>
                  </a:lnTo>
                  <a:lnTo>
                    <a:pt x="592" y="546"/>
                  </a:lnTo>
                  <a:lnTo>
                    <a:pt x="570" y="570"/>
                  </a:lnTo>
                  <a:lnTo>
                    <a:pt x="546" y="592"/>
                  </a:lnTo>
                  <a:lnTo>
                    <a:pt x="520" y="610"/>
                  </a:lnTo>
                  <a:lnTo>
                    <a:pt x="492" y="628"/>
                  </a:lnTo>
                  <a:lnTo>
                    <a:pt x="464" y="642"/>
                  </a:lnTo>
                  <a:lnTo>
                    <a:pt x="432" y="654"/>
                  </a:lnTo>
                  <a:lnTo>
                    <a:pt x="400" y="662"/>
                  </a:lnTo>
                  <a:lnTo>
                    <a:pt x="368" y="666"/>
                  </a:lnTo>
                  <a:lnTo>
                    <a:pt x="334" y="668"/>
                  </a:lnTo>
                  <a:lnTo>
                    <a:pt x="334" y="668"/>
                  </a:lnTo>
                  <a:lnTo>
                    <a:pt x="300" y="666"/>
                  </a:lnTo>
                  <a:lnTo>
                    <a:pt x="266" y="662"/>
                  </a:lnTo>
                  <a:lnTo>
                    <a:pt x="234" y="654"/>
                  </a:lnTo>
                  <a:lnTo>
                    <a:pt x="204" y="642"/>
                  </a:lnTo>
                  <a:lnTo>
                    <a:pt x="174" y="628"/>
                  </a:lnTo>
                  <a:lnTo>
                    <a:pt x="146" y="610"/>
                  </a:lnTo>
                  <a:lnTo>
                    <a:pt x="120" y="592"/>
                  </a:lnTo>
                  <a:lnTo>
                    <a:pt x="96" y="570"/>
                  </a:lnTo>
                  <a:lnTo>
                    <a:pt x="76" y="546"/>
                  </a:lnTo>
                  <a:lnTo>
                    <a:pt x="56" y="520"/>
                  </a:lnTo>
                  <a:lnTo>
                    <a:pt x="40" y="494"/>
                  </a:lnTo>
                  <a:lnTo>
                    <a:pt x="26" y="464"/>
                  </a:lnTo>
                  <a:lnTo>
                    <a:pt x="14" y="434"/>
                  </a:lnTo>
                  <a:lnTo>
                    <a:pt x="6" y="402"/>
                  </a:lnTo>
                  <a:lnTo>
                    <a:pt x="0" y="368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00"/>
                  </a:lnTo>
                  <a:lnTo>
                    <a:pt x="6" y="266"/>
                  </a:lnTo>
                  <a:lnTo>
                    <a:pt x="14" y="234"/>
                  </a:lnTo>
                  <a:lnTo>
                    <a:pt x="26" y="204"/>
                  </a:lnTo>
                  <a:lnTo>
                    <a:pt x="40" y="174"/>
                  </a:lnTo>
                  <a:lnTo>
                    <a:pt x="56" y="146"/>
                  </a:lnTo>
                  <a:lnTo>
                    <a:pt x="76" y="122"/>
                  </a:lnTo>
                  <a:lnTo>
                    <a:pt x="96" y="98"/>
                  </a:lnTo>
                  <a:lnTo>
                    <a:pt x="120" y="76"/>
                  </a:lnTo>
                  <a:lnTo>
                    <a:pt x="146" y="56"/>
                  </a:lnTo>
                  <a:lnTo>
                    <a:pt x="174" y="40"/>
                  </a:lnTo>
                  <a:lnTo>
                    <a:pt x="204" y="26"/>
                  </a:lnTo>
                  <a:lnTo>
                    <a:pt x="234" y="14"/>
                  </a:lnTo>
                  <a:lnTo>
                    <a:pt x="266" y="6"/>
                  </a:lnTo>
                  <a:lnTo>
                    <a:pt x="300" y="2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68" y="2"/>
                  </a:lnTo>
                  <a:lnTo>
                    <a:pt x="400" y="6"/>
                  </a:lnTo>
                  <a:lnTo>
                    <a:pt x="432" y="14"/>
                  </a:lnTo>
                  <a:lnTo>
                    <a:pt x="464" y="26"/>
                  </a:lnTo>
                  <a:lnTo>
                    <a:pt x="492" y="40"/>
                  </a:lnTo>
                  <a:lnTo>
                    <a:pt x="520" y="56"/>
                  </a:lnTo>
                  <a:lnTo>
                    <a:pt x="546" y="76"/>
                  </a:lnTo>
                  <a:lnTo>
                    <a:pt x="570" y="98"/>
                  </a:lnTo>
                  <a:lnTo>
                    <a:pt x="592" y="122"/>
                  </a:lnTo>
                  <a:lnTo>
                    <a:pt x="610" y="146"/>
                  </a:lnTo>
                  <a:lnTo>
                    <a:pt x="628" y="174"/>
                  </a:lnTo>
                  <a:lnTo>
                    <a:pt x="642" y="204"/>
                  </a:lnTo>
                  <a:lnTo>
                    <a:pt x="652" y="234"/>
                  </a:lnTo>
                  <a:lnTo>
                    <a:pt x="660" y="266"/>
                  </a:lnTo>
                  <a:lnTo>
                    <a:pt x="666" y="300"/>
                  </a:lnTo>
                  <a:lnTo>
                    <a:pt x="668" y="334"/>
                  </a:lnTo>
                  <a:lnTo>
                    <a:pt x="668" y="334"/>
                  </a:lnTo>
                  <a:close/>
                </a:path>
              </a:pathLst>
            </a:custGeom>
            <a:solidFill>
              <a:srgbClr val="f9c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95"/>
            <p:cNvSpPr/>
            <p:nvPr/>
          </p:nvSpPr>
          <p:spPr>
            <a:xfrm>
              <a:off x="8372160" y="11512440"/>
              <a:ext cx="1025640" cy="10285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646" h="648">
                  <a:moveTo>
                    <a:pt x="646" y="324"/>
                  </a:moveTo>
                  <a:lnTo>
                    <a:pt x="646" y="324"/>
                  </a:lnTo>
                  <a:lnTo>
                    <a:pt x="644" y="358"/>
                  </a:lnTo>
                  <a:lnTo>
                    <a:pt x="640" y="390"/>
                  </a:lnTo>
                  <a:lnTo>
                    <a:pt x="632" y="420"/>
                  </a:lnTo>
                  <a:lnTo>
                    <a:pt x="622" y="450"/>
                  </a:lnTo>
                  <a:lnTo>
                    <a:pt x="608" y="478"/>
                  </a:lnTo>
                  <a:lnTo>
                    <a:pt x="592" y="506"/>
                  </a:lnTo>
                  <a:lnTo>
                    <a:pt x="572" y="530"/>
                  </a:lnTo>
                  <a:lnTo>
                    <a:pt x="552" y="552"/>
                  </a:lnTo>
                  <a:lnTo>
                    <a:pt x="528" y="574"/>
                  </a:lnTo>
                  <a:lnTo>
                    <a:pt x="504" y="592"/>
                  </a:lnTo>
                  <a:lnTo>
                    <a:pt x="478" y="608"/>
                  </a:lnTo>
                  <a:lnTo>
                    <a:pt x="448" y="622"/>
                  </a:lnTo>
                  <a:lnTo>
                    <a:pt x="420" y="634"/>
                  </a:lnTo>
                  <a:lnTo>
                    <a:pt x="388" y="642"/>
                  </a:lnTo>
                  <a:lnTo>
                    <a:pt x="356" y="646"/>
                  </a:lnTo>
                  <a:lnTo>
                    <a:pt x="322" y="648"/>
                  </a:lnTo>
                  <a:lnTo>
                    <a:pt x="322" y="648"/>
                  </a:lnTo>
                  <a:lnTo>
                    <a:pt x="290" y="646"/>
                  </a:lnTo>
                  <a:lnTo>
                    <a:pt x="258" y="642"/>
                  </a:lnTo>
                  <a:lnTo>
                    <a:pt x="226" y="634"/>
                  </a:lnTo>
                  <a:lnTo>
                    <a:pt x="196" y="622"/>
                  </a:lnTo>
                  <a:lnTo>
                    <a:pt x="168" y="608"/>
                  </a:lnTo>
                  <a:lnTo>
                    <a:pt x="142" y="592"/>
                  </a:lnTo>
                  <a:lnTo>
                    <a:pt x="118" y="574"/>
                  </a:lnTo>
                  <a:lnTo>
                    <a:pt x="94" y="552"/>
                  </a:lnTo>
                  <a:lnTo>
                    <a:pt x="74" y="530"/>
                  </a:lnTo>
                  <a:lnTo>
                    <a:pt x="54" y="506"/>
                  </a:lnTo>
                  <a:lnTo>
                    <a:pt x="38" y="478"/>
                  </a:lnTo>
                  <a:lnTo>
                    <a:pt x="24" y="450"/>
                  </a:lnTo>
                  <a:lnTo>
                    <a:pt x="14" y="420"/>
                  </a:lnTo>
                  <a:lnTo>
                    <a:pt x="6" y="390"/>
                  </a:lnTo>
                  <a:lnTo>
                    <a:pt x="0" y="358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0" y="292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4" y="198"/>
                  </a:lnTo>
                  <a:lnTo>
                    <a:pt x="38" y="170"/>
                  </a:lnTo>
                  <a:lnTo>
                    <a:pt x="54" y="144"/>
                  </a:lnTo>
                  <a:lnTo>
                    <a:pt x="74" y="118"/>
                  </a:lnTo>
                  <a:lnTo>
                    <a:pt x="94" y="96"/>
                  </a:lnTo>
                  <a:lnTo>
                    <a:pt x="118" y="74"/>
                  </a:lnTo>
                  <a:lnTo>
                    <a:pt x="142" y="56"/>
                  </a:lnTo>
                  <a:lnTo>
                    <a:pt x="168" y="40"/>
                  </a:lnTo>
                  <a:lnTo>
                    <a:pt x="196" y="26"/>
                  </a:lnTo>
                  <a:lnTo>
                    <a:pt x="226" y="14"/>
                  </a:lnTo>
                  <a:lnTo>
                    <a:pt x="258" y="6"/>
                  </a:lnTo>
                  <a:lnTo>
                    <a:pt x="290" y="2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56" y="2"/>
                  </a:lnTo>
                  <a:lnTo>
                    <a:pt x="388" y="6"/>
                  </a:lnTo>
                  <a:lnTo>
                    <a:pt x="420" y="14"/>
                  </a:lnTo>
                  <a:lnTo>
                    <a:pt x="448" y="26"/>
                  </a:lnTo>
                  <a:lnTo>
                    <a:pt x="478" y="40"/>
                  </a:lnTo>
                  <a:lnTo>
                    <a:pt x="504" y="56"/>
                  </a:lnTo>
                  <a:lnTo>
                    <a:pt x="528" y="74"/>
                  </a:lnTo>
                  <a:lnTo>
                    <a:pt x="552" y="96"/>
                  </a:lnTo>
                  <a:lnTo>
                    <a:pt x="572" y="118"/>
                  </a:lnTo>
                  <a:lnTo>
                    <a:pt x="592" y="144"/>
                  </a:lnTo>
                  <a:lnTo>
                    <a:pt x="608" y="170"/>
                  </a:lnTo>
                  <a:lnTo>
                    <a:pt x="622" y="198"/>
                  </a:lnTo>
                  <a:lnTo>
                    <a:pt x="632" y="228"/>
                  </a:lnTo>
                  <a:lnTo>
                    <a:pt x="640" y="258"/>
                  </a:lnTo>
                  <a:lnTo>
                    <a:pt x="644" y="292"/>
                  </a:lnTo>
                  <a:lnTo>
                    <a:pt x="646" y="324"/>
                  </a:lnTo>
                  <a:lnTo>
                    <a:pt x="646" y="324"/>
                  </a:lnTo>
                  <a:close/>
                </a:path>
              </a:pathLst>
            </a:custGeom>
            <a:solidFill>
              <a:srgbClr val="f9c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96"/>
            <p:cNvSpPr/>
            <p:nvPr/>
          </p:nvSpPr>
          <p:spPr>
            <a:xfrm>
              <a:off x="8378640" y="11525400"/>
              <a:ext cx="993600" cy="9936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626" h="626">
                  <a:moveTo>
                    <a:pt x="626" y="312"/>
                  </a:moveTo>
                  <a:lnTo>
                    <a:pt x="626" y="312"/>
                  </a:lnTo>
                  <a:lnTo>
                    <a:pt x="624" y="344"/>
                  </a:lnTo>
                  <a:lnTo>
                    <a:pt x="620" y="376"/>
                  </a:lnTo>
                  <a:lnTo>
                    <a:pt x="612" y="406"/>
                  </a:lnTo>
                  <a:lnTo>
                    <a:pt x="600" y="434"/>
                  </a:lnTo>
                  <a:lnTo>
                    <a:pt x="588" y="462"/>
                  </a:lnTo>
                  <a:lnTo>
                    <a:pt x="572" y="488"/>
                  </a:lnTo>
                  <a:lnTo>
                    <a:pt x="554" y="512"/>
                  </a:lnTo>
                  <a:lnTo>
                    <a:pt x="534" y="534"/>
                  </a:lnTo>
                  <a:lnTo>
                    <a:pt x="512" y="554"/>
                  </a:lnTo>
                  <a:lnTo>
                    <a:pt x="488" y="572"/>
                  </a:lnTo>
                  <a:lnTo>
                    <a:pt x="462" y="588"/>
                  </a:lnTo>
                  <a:lnTo>
                    <a:pt x="434" y="600"/>
                  </a:lnTo>
                  <a:lnTo>
                    <a:pt x="406" y="612"/>
                  </a:lnTo>
                  <a:lnTo>
                    <a:pt x="376" y="620"/>
                  </a:lnTo>
                  <a:lnTo>
                    <a:pt x="344" y="624"/>
                  </a:lnTo>
                  <a:lnTo>
                    <a:pt x="312" y="626"/>
                  </a:lnTo>
                  <a:lnTo>
                    <a:pt x="312" y="626"/>
                  </a:lnTo>
                  <a:lnTo>
                    <a:pt x="280" y="624"/>
                  </a:lnTo>
                  <a:lnTo>
                    <a:pt x="250" y="620"/>
                  </a:lnTo>
                  <a:lnTo>
                    <a:pt x="220" y="612"/>
                  </a:lnTo>
                  <a:lnTo>
                    <a:pt x="190" y="600"/>
                  </a:lnTo>
                  <a:lnTo>
                    <a:pt x="164" y="588"/>
                  </a:lnTo>
                  <a:lnTo>
                    <a:pt x="138" y="572"/>
                  </a:lnTo>
                  <a:lnTo>
                    <a:pt x="114" y="554"/>
                  </a:lnTo>
                  <a:lnTo>
                    <a:pt x="92" y="534"/>
                  </a:lnTo>
                  <a:lnTo>
                    <a:pt x="70" y="512"/>
                  </a:lnTo>
                  <a:lnTo>
                    <a:pt x="52" y="488"/>
                  </a:lnTo>
                  <a:lnTo>
                    <a:pt x="38" y="462"/>
                  </a:lnTo>
                  <a:lnTo>
                    <a:pt x="24" y="434"/>
                  </a:lnTo>
                  <a:lnTo>
                    <a:pt x="14" y="406"/>
                  </a:lnTo>
                  <a:lnTo>
                    <a:pt x="6" y="376"/>
                  </a:lnTo>
                  <a:lnTo>
                    <a:pt x="2" y="344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2" y="280"/>
                  </a:lnTo>
                  <a:lnTo>
                    <a:pt x="6" y="250"/>
                  </a:lnTo>
                  <a:lnTo>
                    <a:pt x="14" y="220"/>
                  </a:lnTo>
                  <a:lnTo>
                    <a:pt x="24" y="190"/>
                  </a:lnTo>
                  <a:lnTo>
                    <a:pt x="38" y="164"/>
                  </a:lnTo>
                  <a:lnTo>
                    <a:pt x="52" y="138"/>
                  </a:lnTo>
                  <a:lnTo>
                    <a:pt x="70" y="114"/>
                  </a:lnTo>
                  <a:lnTo>
                    <a:pt x="92" y="92"/>
                  </a:lnTo>
                  <a:lnTo>
                    <a:pt x="114" y="70"/>
                  </a:lnTo>
                  <a:lnTo>
                    <a:pt x="138" y="52"/>
                  </a:lnTo>
                  <a:lnTo>
                    <a:pt x="164" y="38"/>
                  </a:lnTo>
                  <a:lnTo>
                    <a:pt x="190" y="24"/>
                  </a:lnTo>
                  <a:lnTo>
                    <a:pt x="220" y="14"/>
                  </a:lnTo>
                  <a:lnTo>
                    <a:pt x="250" y="6"/>
                  </a:lnTo>
                  <a:lnTo>
                    <a:pt x="280" y="2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44" y="2"/>
                  </a:lnTo>
                  <a:lnTo>
                    <a:pt x="376" y="6"/>
                  </a:lnTo>
                  <a:lnTo>
                    <a:pt x="406" y="14"/>
                  </a:lnTo>
                  <a:lnTo>
                    <a:pt x="434" y="24"/>
                  </a:lnTo>
                  <a:lnTo>
                    <a:pt x="462" y="38"/>
                  </a:lnTo>
                  <a:lnTo>
                    <a:pt x="488" y="52"/>
                  </a:lnTo>
                  <a:lnTo>
                    <a:pt x="512" y="70"/>
                  </a:lnTo>
                  <a:lnTo>
                    <a:pt x="534" y="92"/>
                  </a:lnTo>
                  <a:lnTo>
                    <a:pt x="554" y="114"/>
                  </a:lnTo>
                  <a:lnTo>
                    <a:pt x="572" y="138"/>
                  </a:lnTo>
                  <a:lnTo>
                    <a:pt x="588" y="164"/>
                  </a:lnTo>
                  <a:lnTo>
                    <a:pt x="600" y="190"/>
                  </a:lnTo>
                  <a:lnTo>
                    <a:pt x="612" y="220"/>
                  </a:lnTo>
                  <a:lnTo>
                    <a:pt x="620" y="250"/>
                  </a:lnTo>
                  <a:lnTo>
                    <a:pt x="624" y="280"/>
                  </a:lnTo>
                  <a:lnTo>
                    <a:pt x="626" y="312"/>
                  </a:lnTo>
                  <a:lnTo>
                    <a:pt x="626" y="312"/>
                  </a:lnTo>
                  <a:close/>
                </a:path>
              </a:pathLst>
            </a:custGeom>
            <a:solidFill>
              <a:srgbClr val="f9c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97"/>
            <p:cNvSpPr/>
            <p:nvPr/>
          </p:nvSpPr>
          <p:spPr>
            <a:xfrm>
              <a:off x="8385120" y="11534760"/>
              <a:ext cx="958680" cy="9619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4" h="606">
                  <a:moveTo>
                    <a:pt x="604" y="302"/>
                  </a:moveTo>
                  <a:lnTo>
                    <a:pt x="604" y="302"/>
                  </a:lnTo>
                  <a:lnTo>
                    <a:pt x="602" y="334"/>
                  </a:lnTo>
                  <a:lnTo>
                    <a:pt x="598" y="364"/>
                  </a:lnTo>
                  <a:lnTo>
                    <a:pt x="590" y="392"/>
                  </a:lnTo>
                  <a:lnTo>
                    <a:pt x="580" y="420"/>
                  </a:lnTo>
                  <a:lnTo>
                    <a:pt x="568" y="448"/>
                  </a:lnTo>
                  <a:lnTo>
                    <a:pt x="552" y="472"/>
                  </a:lnTo>
                  <a:lnTo>
                    <a:pt x="536" y="496"/>
                  </a:lnTo>
                  <a:lnTo>
                    <a:pt x="516" y="516"/>
                  </a:lnTo>
                  <a:lnTo>
                    <a:pt x="494" y="536"/>
                  </a:lnTo>
                  <a:lnTo>
                    <a:pt x="472" y="554"/>
                  </a:lnTo>
                  <a:lnTo>
                    <a:pt x="446" y="568"/>
                  </a:lnTo>
                  <a:lnTo>
                    <a:pt x="420" y="582"/>
                  </a:lnTo>
                  <a:lnTo>
                    <a:pt x="392" y="592"/>
                  </a:lnTo>
                  <a:lnTo>
                    <a:pt x="364" y="600"/>
                  </a:lnTo>
                  <a:lnTo>
                    <a:pt x="334" y="604"/>
                  </a:lnTo>
                  <a:lnTo>
                    <a:pt x="302" y="606"/>
                  </a:lnTo>
                  <a:lnTo>
                    <a:pt x="302" y="606"/>
                  </a:lnTo>
                  <a:lnTo>
                    <a:pt x="272" y="604"/>
                  </a:lnTo>
                  <a:lnTo>
                    <a:pt x="242" y="600"/>
                  </a:lnTo>
                  <a:lnTo>
                    <a:pt x="212" y="592"/>
                  </a:lnTo>
                  <a:lnTo>
                    <a:pt x="184" y="582"/>
                  </a:lnTo>
                  <a:lnTo>
                    <a:pt x="158" y="568"/>
                  </a:lnTo>
                  <a:lnTo>
                    <a:pt x="134" y="554"/>
                  </a:lnTo>
                  <a:lnTo>
                    <a:pt x="110" y="536"/>
                  </a:lnTo>
                  <a:lnTo>
                    <a:pt x="88" y="516"/>
                  </a:lnTo>
                  <a:lnTo>
                    <a:pt x="68" y="496"/>
                  </a:lnTo>
                  <a:lnTo>
                    <a:pt x="52" y="472"/>
                  </a:lnTo>
                  <a:lnTo>
                    <a:pt x="36" y="448"/>
                  </a:lnTo>
                  <a:lnTo>
                    <a:pt x="24" y="420"/>
                  </a:lnTo>
                  <a:lnTo>
                    <a:pt x="14" y="392"/>
                  </a:lnTo>
                  <a:lnTo>
                    <a:pt x="6" y="364"/>
                  </a:lnTo>
                  <a:lnTo>
                    <a:pt x="2" y="334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2" y="272"/>
                  </a:lnTo>
                  <a:lnTo>
                    <a:pt x="6" y="242"/>
                  </a:lnTo>
                  <a:lnTo>
                    <a:pt x="14" y="212"/>
                  </a:lnTo>
                  <a:lnTo>
                    <a:pt x="24" y="186"/>
                  </a:lnTo>
                  <a:lnTo>
                    <a:pt x="36" y="158"/>
                  </a:lnTo>
                  <a:lnTo>
                    <a:pt x="52" y="134"/>
                  </a:lnTo>
                  <a:lnTo>
                    <a:pt x="68" y="110"/>
                  </a:lnTo>
                  <a:lnTo>
                    <a:pt x="88" y="90"/>
                  </a:lnTo>
                  <a:lnTo>
                    <a:pt x="110" y="70"/>
                  </a:lnTo>
                  <a:lnTo>
                    <a:pt x="134" y="52"/>
                  </a:lnTo>
                  <a:lnTo>
                    <a:pt x="158" y="38"/>
                  </a:lnTo>
                  <a:lnTo>
                    <a:pt x="184" y="24"/>
                  </a:lnTo>
                  <a:lnTo>
                    <a:pt x="212" y="14"/>
                  </a:lnTo>
                  <a:lnTo>
                    <a:pt x="242" y="6"/>
                  </a:lnTo>
                  <a:lnTo>
                    <a:pt x="272" y="2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34" y="2"/>
                  </a:lnTo>
                  <a:lnTo>
                    <a:pt x="364" y="6"/>
                  </a:lnTo>
                  <a:lnTo>
                    <a:pt x="392" y="14"/>
                  </a:lnTo>
                  <a:lnTo>
                    <a:pt x="420" y="24"/>
                  </a:lnTo>
                  <a:lnTo>
                    <a:pt x="446" y="38"/>
                  </a:lnTo>
                  <a:lnTo>
                    <a:pt x="472" y="52"/>
                  </a:lnTo>
                  <a:lnTo>
                    <a:pt x="494" y="70"/>
                  </a:lnTo>
                  <a:lnTo>
                    <a:pt x="516" y="90"/>
                  </a:lnTo>
                  <a:lnTo>
                    <a:pt x="536" y="110"/>
                  </a:lnTo>
                  <a:lnTo>
                    <a:pt x="552" y="134"/>
                  </a:lnTo>
                  <a:lnTo>
                    <a:pt x="568" y="158"/>
                  </a:lnTo>
                  <a:lnTo>
                    <a:pt x="580" y="186"/>
                  </a:lnTo>
                  <a:lnTo>
                    <a:pt x="590" y="212"/>
                  </a:lnTo>
                  <a:lnTo>
                    <a:pt x="598" y="242"/>
                  </a:lnTo>
                  <a:lnTo>
                    <a:pt x="602" y="272"/>
                  </a:lnTo>
                  <a:lnTo>
                    <a:pt x="604" y="302"/>
                  </a:lnTo>
                  <a:lnTo>
                    <a:pt x="604" y="302"/>
                  </a:lnTo>
                  <a:close/>
                </a:path>
              </a:pathLst>
            </a:custGeom>
            <a:solidFill>
              <a:srgbClr val="fac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98"/>
            <p:cNvSpPr/>
            <p:nvPr/>
          </p:nvSpPr>
          <p:spPr>
            <a:xfrm>
              <a:off x="8391240" y="11547360"/>
              <a:ext cx="927000" cy="92700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584" h="584">
                  <a:moveTo>
                    <a:pt x="584" y="292"/>
                  </a:moveTo>
                  <a:lnTo>
                    <a:pt x="584" y="292"/>
                  </a:lnTo>
                  <a:lnTo>
                    <a:pt x="582" y="322"/>
                  </a:lnTo>
                  <a:lnTo>
                    <a:pt x="578" y="350"/>
                  </a:lnTo>
                  <a:lnTo>
                    <a:pt x="570" y="378"/>
                  </a:lnTo>
                  <a:lnTo>
                    <a:pt x="560" y="404"/>
                  </a:lnTo>
                  <a:lnTo>
                    <a:pt x="548" y="430"/>
                  </a:lnTo>
                  <a:lnTo>
                    <a:pt x="534" y="454"/>
                  </a:lnTo>
                  <a:lnTo>
                    <a:pt x="516" y="476"/>
                  </a:lnTo>
                  <a:lnTo>
                    <a:pt x="498" y="498"/>
                  </a:lnTo>
                  <a:lnTo>
                    <a:pt x="478" y="516"/>
                  </a:lnTo>
                  <a:lnTo>
                    <a:pt x="454" y="534"/>
                  </a:lnTo>
                  <a:lnTo>
                    <a:pt x="430" y="548"/>
                  </a:lnTo>
                  <a:lnTo>
                    <a:pt x="406" y="560"/>
                  </a:lnTo>
                  <a:lnTo>
                    <a:pt x="378" y="570"/>
                  </a:lnTo>
                  <a:lnTo>
                    <a:pt x="350" y="578"/>
                  </a:lnTo>
                  <a:lnTo>
                    <a:pt x="322" y="582"/>
                  </a:lnTo>
                  <a:lnTo>
                    <a:pt x="292" y="584"/>
                  </a:lnTo>
                  <a:lnTo>
                    <a:pt x="292" y="584"/>
                  </a:lnTo>
                  <a:lnTo>
                    <a:pt x="262" y="582"/>
                  </a:lnTo>
                  <a:lnTo>
                    <a:pt x="232" y="578"/>
                  </a:lnTo>
                  <a:lnTo>
                    <a:pt x="204" y="570"/>
                  </a:lnTo>
                  <a:lnTo>
                    <a:pt x="178" y="560"/>
                  </a:lnTo>
                  <a:lnTo>
                    <a:pt x="152" y="548"/>
                  </a:lnTo>
                  <a:lnTo>
                    <a:pt x="128" y="534"/>
                  </a:lnTo>
                  <a:lnTo>
                    <a:pt x="106" y="516"/>
                  </a:lnTo>
                  <a:lnTo>
                    <a:pt x="86" y="498"/>
                  </a:lnTo>
                  <a:lnTo>
                    <a:pt x="66" y="476"/>
                  </a:lnTo>
                  <a:lnTo>
                    <a:pt x="50" y="454"/>
                  </a:lnTo>
                  <a:lnTo>
                    <a:pt x="36" y="430"/>
                  </a:lnTo>
                  <a:lnTo>
                    <a:pt x="22" y="404"/>
                  </a:lnTo>
                  <a:lnTo>
                    <a:pt x="14" y="378"/>
                  </a:lnTo>
                  <a:lnTo>
                    <a:pt x="6" y="350"/>
                  </a:lnTo>
                  <a:lnTo>
                    <a:pt x="2" y="32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" y="262"/>
                  </a:lnTo>
                  <a:lnTo>
                    <a:pt x="6" y="232"/>
                  </a:lnTo>
                  <a:lnTo>
                    <a:pt x="14" y="204"/>
                  </a:lnTo>
                  <a:lnTo>
                    <a:pt x="22" y="178"/>
                  </a:lnTo>
                  <a:lnTo>
                    <a:pt x="36" y="152"/>
                  </a:lnTo>
                  <a:lnTo>
                    <a:pt x="50" y="128"/>
                  </a:lnTo>
                  <a:lnTo>
                    <a:pt x="66" y="106"/>
                  </a:lnTo>
                  <a:lnTo>
                    <a:pt x="86" y="86"/>
                  </a:lnTo>
                  <a:lnTo>
                    <a:pt x="106" y="66"/>
                  </a:lnTo>
                  <a:lnTo>
                    <a:pt x="128" y="50"/>
                  </a:lnTo>
                  <a:lnTo>
                    <a:pt x="152" y="34"/>
                  </a:lnTo>
                  <a:lnTo>
                    <a:pt x="178" y="22"/>
                  </a:lnTo>
                  <a:lnTo>
                    <a:pt x="204" y="12"/>
                  </a:lnTo>
                  <a:lnTo>
                    <a:pt x="232" y="6"/>
                  </a:lnTo>
                  <a:lnTo>
                    <a:pt x="262" y="2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322" y="2"/>
                  </a:lnTo>
                  <a:lnTo>
                    <a:pt x="350" y="6"/>
                  </a:lnTo>
                  <a:lnTo>
                    <a:pt x="378" y="12"/>
                  </a:lnTo>
                  <a:lnTo>
                    <a:pt x="406" y="22"/>
                  </a:lnTo>
                  <a:lnTo>
                    <a:pt x="430" y="34"/>
                  </a:lnTo>
                  <a:lnTo>
                    <a:pt x="454" y="50"/>
                  </a:lnTo>
                  <a:lnTo>
                    <a:pt x="478" y="66"/>
                  </a:lnTo>
                  <a:lnTo>
                    <a:pt x="498" y="86"/>
                  </a:lnTo>
                  <a:lnTo>
                    <a:pt x="516" y="106"/>
                  </a:lnTo>
                  <a:lnTo>
                    <a:pt x="534" y="128"/>
                  </a:lnTo>
                  <a:lnTo>
                    <a:pt x="548" y="152"/>
                  </a:lnTo>
                  <a:lnTo>
                    <a:pt x="560" y="178"/>
                  </a:lnTo>
                  <a:lnTo>
                    <a:pt x="570" y="204"/>
                  </a:lnTo>
                  <a:lnTo>
                    <a:pt x="578" y="232"/>
                  </a:lnTo>
                  <a:lnTo>
                    <a:pt x="582" y="262"/>
                  </a:lnTo>
                  <a:lnTo>
                    <a:pt x="584" y="292"/>
                  </a:lnTo>
                  <a:lnTo>
                    <a:pt x="584" y="292"/>
                  </a:lnTo>
                  <a:close/>
                </a:path>
              </a:pathLst>
            </a:custGeom>
            <a:solidFill>
              <a:srgbClr val="fac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99"/>
            <p:cNvSpPr/>
            <p:nvPr/>
          </p:nvSpPr>
          <p:spPr>
            <a:xfrm>
              <a:off x="8397720" y="11557080"/>
              <a:ext cx="892080" cy="89208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562" h="562">
                  <a:moveTo>
                    <a:pt x="562" y="282"/>
                  </a:moveTo>
                  <a:lnTo>
                    <a:pt x="562" y="282"/>
                  </a:lnTo>
                  <a:lnTo>
                    <a:pt x="560" y="310"/>
                  </a:lnTo>
                  <a:lnTo>
                    <a:pt x="556" y="338"/>
                  </a:lnTo>
                  <a:lnTo>
                    <a:pt x="550" y="366"/>
                  </a:lnTo>
                  <a:lnTo>
                    <a:pt x="540" y="392"/>
                  </a:lnTo>
                  <a:lnTo>
                    <a:pt x="528" y="416"/>
                  </a:lnTo>
                  <a:lnTo>
                    <a:pt x="514" y="438"/>
                  </a:lnTo>
                  <a:lnTo>
                    <a:pt x="498" y="460"/>
                  </a:lnTo>
                  <a:lnTo>
                    <a:pt x="480" y="480"/>
                  </a:lnTo>
                  <a:lnTo>
                    <a:pt x="460" y="498"/>
                  </a:lnTo>
                  <a:lnTo>
                    <a:pt x="438" y="514"/>
                  </a:lnTo>
                  <a:lnTo>
                    <a:pt x="416" y="528"/>
                  </a:lnTo>
                  <a:lnTo>
                    <a:pt x="390" y="540"/>
                  </a:lnTo>
                  <a:lnTo>
                    <a:pt x="364" y="550"/>
                  </a:lnTo>
                  <a:lnTo>
                    <a:pt x="338" y="558"/>
                  </a:lnTo>
                  <a:lnTo>
                    <a:pt x="310" y="562"/>
                  </a:lnTo>
                  <a:lnTo>
                    <a:pt x="282" y="562"/>
                  </a:lnTo>
                  <a:lnTo>
                    <a:pt x="282" y="562"/>
                  </a:lnTo>
                  <a:lnTo>
                    <a:pt x="252" y="562"/>
                  </a:lnTo>
                  <a:lnTo>
                    <a:pt x="224" y="558"/>
                  </a:lnTo>
                  <a:lnTo>
                    <a:pt x="198" y="550"/>
                  </a:lnTo>
                  <a:lnTo>
                    <a:pt x="172" y="540"/>
                  </a:lnTo>
                  <a:lnTo>
                    <a:pt x="148" y="528"/>
                  </a:lnTo>
                  <a:lnTo>
                    <a:pt x="124" y="514"/>
                  </a:lnTo>
                  <a:lnTo>
                    <a:pt x="102" y="498"/>
                  </a:lnTo>
                  <a:lnTo>
                    <a:pt x="82" y="480"/>
                  </a:lnTo>
                  <a:lnTo>
                    <a:pt x="64" y="460"/>
                  </a:lnTo>
                  <a:lnTo>
                    <a:pt x="48" y="438"/>
                  </a:lnTo>
                  <a:lnTo>
                    <a:pt x="34" y="416"/>
                  </a:lnTo>
                  <a:lnTo>
                    <a:pt x="22" y="392"/>
                  </a:lnTo>
                  <a:lnTo>
                    <a:pt x="12" y="366"/>
                  </a:lnTo>
                  <a:lnTo>
                    <a:pt x="6" y="338"/>
                  </a:lnTo>
                  <a:lnTo>
                    <a:pt x="2" y="310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2" y="254"/>
                  </a:lnTo>
                  <a:lnTo>
                    <a:pt x="6" y="226"/>
                  </a:lnTo>
                  <a:lnTo>
                    <a:pt x="12" y="198"/>
                  </a:lnTo>
                  <a:lnTo>
                    <a:pt x="22" y="172"/>
                  </a:lnTo>
                  <a:lnTo>
                    <a:pt x="34" y="148"/>
                  </a:lnTo>
                  <a:lnTo>
                    <a:pt x="48" y="124"/>
                  </a:lnTo>
                  <a:lnTo>
                    <a:pt x="64" y="102"/>
                  </a:lnTo>
                  <a:lnTo>
                    <a:pt x="82" y="82"/>
                  </a:lnTo>
                  <a:lnTo>
                    <a:pt x="102" y="64"/>
                  </a:lnTo>
                  <a:lnTo>
                    <a:pt x="124" y="48"/>
                  </a:lnTo>
                  <a:lnTo>
                    <a:pt x="148" y="34"/>
                  </a:lnTo>
                  <a:lnTo>
                    <a:pt x="172" y="22"/>
                  </a:lnTo>
                  <a:lnTo>
                    <a:pt x="198" y="14"/>
                  </a:lnTo>
                  <a:lnTo>
                    <a:pt x="224" y="6"/>
                  </a:lnTo>
                  <a:lnTo>
                    <a:pt x="252" y="2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310" y="2"/>
                  </a:lnTo>
                  <a:lnTo>
                    <a:pt x="338" y="6"/>
                  </a:lnTo>
                  <a:lnTo>
                    <a:pt x="364" y="14"/>
                  </a:lnTo>
                  <a:lnTo>
                    <a:pt x="390" y="22"/>
                  </a:lnTo>
                  <a:lnTo>
                    <a:pt x="416" y="34"/>
                  </a:lnTo>
                  <a:lnTo>
                    <a:pt x="438" y="48"/>
                  </a:lnTo>
                  <a:lnTo>
                    <a:pt x="460" y="64"/>
                  </a:lnTo>
                  <a:lnTo>
                    <a:pt x="480" y="82"/>
                  </a:lnTo>
                  <a:lnTo>
                    <a:pt x="498" y="102"/>
                  </a:lnTo>
                  <a:lnTo>
                    <a:pt x="514" y="124"/>
                  </a:lnTo>
                  <a:lnTo>
                    <a:pt x="528" y="148"/>
                  </a:lnTo>
                  <a:lnTo>
                    <a:pt x="540" y="172"/>
                  </a:lnTo>
                  <a:lnTo>
                    <a:pt x="550" y="198"/>
                  </a:lnTo>
                  <a:lnTo>
                    <a:pt x="556" y="226"/>
                  </a:lnTo>
                  <a:lnTo>
                    <a:pt x="560" y="254"/>
                  </a:lnTo>
                  <a:lnTo>
                    <a:pt x="562" y="282"/>
                  </a:lnTo>
                  <a:lnTo>
                    <a:pt x="562" y="282"/>
                  </a:lnTo>
                  <a:close/>
                </a:path>
              </a:pathLst>
            </a:custGeom>
            <a:solidFill>
              <a:srgbClr val="fac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400"/>
            <p:cNvSpPr/>
            <p:nvPr/>
          </p:nvSpPr>
          <p:spPr>
            <a:xfrm>
              <a:off x="8404200" y="11569680"/>
              <a:ext cx="860400" cy="85716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542" h="540">
                  <a:moveTo>
                    <a:pt x="542" y="270"/>
                  </a:moveTo>
                  <a:lnTo>
                    <a:pt x="542" y="270"/>
                  </a:lnTo>
                  <a:lnTo>
                    <a:pt x="540" y="298"/>
                  </a:lnTo>
                  <a:lnTo>
                    <a:pt x="536" y="324"/>
                  </a:lnTo>
                  <a:lnTo>
                    <a:pt x="530" y="350"/>
                  </a:lnTo>
                  <a:lnTo>
                    <a:pt x="520" y="376"/>
                  </a:lnTo>
                  <a:lnTo>
                    <a:pt x="508" y="400"/>
                  </a:lnTo>
                  <a:lnTo>
                    <a:pt x="496" y="422"/>
                  </a:lnTo>
                  <a:lnTo>
                    <a:pt x="480" y="442"/>
                  </a:lnTo>
                  <a:lnTo>
                    <a:pt x="462" y="462"/>
                  </a:lnTo>
                  <a:lnTo>
                    <a:pt x="442" y="478"/>
                  </a:lnTo>
                  <a:lnTo>
                    <a:pt x="422" y="494"/>
                  </a:lnTo>
                  <a:lnTo>
                    <a:pt x="400" y="508"/>
                  </a:lnTo>
                  <a:lnTo>
                    <a:pt x="376" y="520"/>
                  </a:lnTo>
                  <a:lnTo>
                    <a:pt x="352" y="528"/>
                  </a:lnTo>
                  <a:lnTo>
                    <a:pt x="326" y="536"/>
                  </a:lnTo>
                  <a:lnTo>
                    <a:pt x="298" y="540"/>
                  </a:lnTo>
                  <a:lnTo>
                    <a:pt x="270" y="540"/>
                  </a:lnTo>
                  <a:lnTo>
                    <a:pt x="270" y="540"/>
                  </a:lnTo>
                  <a:lnTo>
                    <a:pt x="244" y="540"/>
                  </a:lnTo>
                  <a:lnTo>
                    <a:pt x="216" y="536"/>
                  </a:lnTo>
                  <a:lnTo>
                    <a:pt x="190" y="528"/>
                  </a:lnTo>
                  <a:lnTo>
                    <a:pt x="166" y="520"/>
                  </a:lnTo>
                  <a:lnTo>
                    <a:pt x="142" y="508"/>
                  </a:lnTo>
                  <a:lnTo>
                    <a:pt x="120" y="494"/>
                  </a:lnTo>
                  <a:lnTo>
                    <a:pt x="98" y="478"/>
                  </a:lnTo>
                  <a:lnTo>
                    <a:pt x="80" y="462"/>
                  </a:lnTo>
                  <a:lnTo>
                    <a:pt x="62" y="442"/>
                  </a:lnTo>
                  <a:lnTo>
                    <a:pt x="46" y="422"/>
                  </a:lnTo>
                  <a:lnTo>
                    <a:pt x="34" y="400"/>
                  </a:lnTo>
                  <a:lnTo>
                    <a:pt x="22" y="376"/>
                  </a:lnTo>
                  <a:lnTo>
                    <a:pt x="12" y="350"/>
                  </a:lnTo>
                  <a:lnTo>
                    <a:pt x="6" y="324"/>
                  </a:lnTo>
                  <a:lnTo>
                    <a:pt x="2" y="298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2" y="242"/>
                  </a:lnTo>
                  <a:lnTo>
                    <a:pt x="6" y="216"/>
                  </a:lnTo>
                  <a:lnTo>
                    <a:pt x="12" y="190"/>
                  </a:lnTo>
                  <a:lnTo>
                    <a:pt x="22" y="164"/>
                  </a:lnTo>
                  <a:lnTo>
                    <a:pt x="34" y="142"/>
                  </a:lnTo>
                  <a:lnTo>
                    <a:pt x="46" y="118"/>
                  </a:lnTo>
                  <a:lnTo>
                    <a:pt x="62" y="98"/>
                  </a:lnTo>
                  <a:lnTo>
                    <a:pt x="80" y="78"/>
                  </a:lnTo>
                  <a:lnTo>
                    <a:pt x="98" y="62"/>
                  </a:lnTo>
                  <a:lnTo>
                    <a:pt x="120" y="46"/>
                  </a:lnTo>
                  <a:lnTo>
                    <a:pt x="142" y="32"/>
                  </a:lnTo>
                  <a:lnTo>
                    <a:pt x="166" y="20"/>
                  </a:lnTo>
                  <a:lnTo>
                    <a:pt x="190" y="12"/>
                  </a:lnTo>
                  <a:lnTo>
                    <a:pt x="216" y="6"/>
                  </a:lnTo>
                  <a:lnTo>
                    <a:pt x="244" y="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98" y="2"/>
                  </a:lnTo>
                  <a:lnTo>
                    <a:pt x="326" y="6"/>
                  </a:lnTo>
                  <a:lnTo>
                    <a:pt x="352" y="12"/>
                  </a:lnTo>
                  <a:lnTo>
                    <a:pt x="376" y="20"/>
                  </a:lnTo>
                  <a:lnTo>
                    <a:pt x="400" y="32"/>
                  </a:lnTo>
                  <a:lnTo>
                    <a:pt x="422" y="46"/>
                  </a:lnTo>
                  <a:lnTo>
                    <a:pt x="442" y="62"/>
                  </a:lnTo>
                  <a:lnTo>
                    <a:pt x="462" y="78"/>
                  </a:lnTo>
                  <a:lnTo>
                    <a:pt x="480" y="98"/>
                  </a:lnTo>
                  <a:lnTo>
                    <a:pt x="496" y="118"/>
                  </a:lnTo>
                  <a:lnTo>
                    <a:pt x="508" y="142"/>
                  </a:lnTo>
                  <a:lnTo>
                    <a:pt x="520" y="164"/>
                  </a:lnTo>
                  <a:lnTo>
                    <a:pt x="530" y="190"/>
                  </a:lnTo>
                  <a:lnTo>
                    <a:pt x="536" y="216"/>
                  </a:lnTo>
                  <a:lnTo>
                    <a:pt x="540" y="242"/>
                  </a:lnTo>
                  <a:lnTo>
                    <a:pt x="542" y="270"/>
                  </a:lnTo>
                  <a:lnTo>
                    <a:pt x="542" y="270"/>
                  </a:lnTo>
                  <a:close/>
                </a:path>
              </a:pathLst>
            </a:custGeom>
            <a:solidFill>
              <a:srgbClr val="fbc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401"/>
            <p:cNvSpPr/>
            <p:nvPr/>
          </p:nvSpPr>
          <p:spPr>
            <a:xfrm>
              <a:off x="8410320" y="11579040"/>
              <a:ext cx="825480" cy="8254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520" h="520">
                  <a:moveTo>
                    <a:pt x="520" y="260"/>
                  </a:moveTo>
                  <a:lnTo>
                    <a:pt x="520" y="260"/>
                  </a:lnTo>
                  <a:lnTo>
                    <a:pt x="518" y="288"/>
                  </a:lnTo>
                  <a:lnTo>
                    <a:pt x="516" y="312"/>
                  </a:lnTo>
                  <a:lnTo>
                    <a:pt x="508" y="338"/>
                  </a:lnTo>
                  <a:lnTo>
                    <a:pt x="500" y="362"/>
                  </a:lnTo>
                  <a:lnTo>
                    <a:pt x="488" y="384"/>
                  </a:lnTo>
                  <a:lnTo>
                    <a:pt x="476" y="406"/>
                  </a:lnTo>
                  <a:lnTo>
                    <a:pt x="460" y="426"/>
                  </a:lnTo>
                  <a:lnTo>
                    <a:pt x="444" y="444"/>
                  </a:lnTo>
                  <a:lnTo>
                    <a:pt x="426" y="462"/>
                  </a:lnTo>
                  <a:lnTo>
                    <a:pt x="406" y="476"/>
                  </a:lnTo>
                  <a:lnTo>
                    <a:pt x="384" y="490"/>
                  </a:lnTo>
                  <a:lnTo>
                    <a:pt x="362" y="500"/>
                  </a:lnTo>
                  <a:lnTo>
                    <a:pt x="338" y="508"/>
                  </a:lnTo>
                  <a:lnTo>
                    <a:pt x="312" y="516"/>
                  </a:lnTo>
                  <a:lnTo>
                    <a:pt x="288" y="520"/>
                  </a:lnTo>
                  <a:lnTo>
                    <a:pt x="260" y="520"/>
                  </a:lnTo>
                  <a:lnTo>
                    <a:pt x="260" y="520"/>
                  </a:lnTo>
                  <a:lnTo>
                    <a:pt x="234" y="520"/>
                  </a:lnTo>
                  <a:lnTo>
                    <a:pt x="208" y="516"/>
                  </a:lnTo>
                  <a:lnTo>
                    <a:pt x="184" y="508"/>
                  </a:lnTo>
                  <a:lnTo>
                    <a:pt x="160" y="500"/>
                  </a:lnTo>
                  <a:lnTo>
                    <a:pt x="136" y="490"/>
                  </a:lnTo>
                  <a:lnTo>
                    <a:pt x="116" y="476"/>
                  </a:lnTo>
                  <a:lnTo>
                    <a:pt x="96" y="462"/>
                  </a:lnTo>
                  <a:lnTo>
                    <a:pt x="76" y="444"/>
                  </a:lnTo>
                  <a:lnTo>
                    <a:pt x="60" y="426"/>
                  </a:lnTo>
                  <a:lnTo>
                    <a:pt x="44" y="406"/>
                  </a:lnTo>
                  <a:lnTo>
                    <a:pt x="32" y="384"/>
                  </a:lnTo>
                  <a:lnTo>
                    <a:pt x="20" y="362"/>
                  </a:lnTo>
                  <a:lnTo>
                    <a:pt x="12" y="338"/>
                  </a:lnTo>
                  <a:lnTo>
                    <a:pt x="6" y="312"/>
                  </a:lnTo>
                  <a:lnTo>
                    <a:pt x="2" y="288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2" y="234"/>
                  </a:lnTo>
                  <a:lnTo>
                    <a:pt x="6" y="208"/>
                  </a:lnTo>
                  <a:lnTo>
                    <a:pt x="12" y="184"/>
                  </a:lnTo>
                  <a:lnTo>
                    <a:pt x="20" y="160"/>
                  </a:lnTo>
                  <a:lnTo>
                    <a:pt x="32" y="136"/>
                  </a:lnTo>
                  <a:lnTo>
                    <a:pt x="44" y="116"/>
                  </a:lnTo>
                  <a:lnTo>
                    <a:pt x="60" y="96"/>
                  </a:lnTo>
                  <a:lnTo>
                    <a:pt x="76" y="76"/>
                  </a:lnTo>
                  <a:lnTo>
                    <a:pt x="96" y="60"/>
                  </a:lnTo>
                  <a:lnTo>
                    <a:pt x="116" y="46"/>
                  </a:lnTo>
                  <a:lnTo>
                    <a:pt x="136" y="32"/>
                  </a:lnTo>
                  <a:lnTo>
                    <a:pt x="160" y="22"/>
                  </a:lnTo>
                  <a:lnTo>
                    <a:pt x="184" y="12"/>
                  </a:lnTo>
                  <a:lnTo>
                    <a:pt x="208" y="6"/>
                  </a:lnTo>
                  <a:lnTo>
                    <a:pt x="234" y="2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8" y="2"/>
                  </a:lnTo>
                  <a:lnTo>
                    <a:pt x="312" y="6"/>
                  </a:lnTo>
                  <a:lnTo>
                    <a:pt x="338" y="12"/>
                  </a:lnTo>
                  <a:lnTo>
                    <a:pt x="362" y="22"/>
                  </a:lnTo>
                  <a:lnTo>
                    <a:pt x="384" y="32"/>
                  </a:lnTo>
                  <a:lnTo>
                    <a:pt x="406" y="46"/>
                  </a:lnTo>
                  <a:lnTo>
                    <a:pt x="426" y="60"/>
                  </a:lnTo>
                  <a:lnTo>
                    <a:pt x="444" y="76"/>
                  </a:lnTo>
                  <a:lnTo>
                    <a:pt x="460" y="96"/>
                  </a:lnTo>
                  <a:lnTo>
                    <a:pt x="476" y="116"/>
                  </a:lnTo>
                  <a:lnTo>
                    <a:pt x="488" y="136"/>
                  </a:lnTo>
                  <a:lnTo>
                    <a:pt x="500" y="160"/>
                  </a:lnTo>
                  <a:lnTo>
                    <a:pt x="508" y="184"/>
                  </a:lnTo>
                  <a:lnTo>
                    <a:pt x="516" y="208"/>
                  </a:lnTo>
                  <a:lnTo>
                    <a:pt x="518" y="234"/>
                  </a:lnTo>
                  <a:lnTo>
                    <a:pt x="520" y="260"/>
                  </a:lnTo>
                  <a:lnTo>
                    <a:pt x="520" y="260"/>
                  </a:lnTo>
                  <a:close/>
                </a:path>
              </a:pathLst>
            </a:custGeom>
            <a:solidFill>
              <a:srgbClr val="fbd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402"/>
            <p:cNvSpPr/>
            <p:nvPr/>
          </p:nvSpPr>
          <p:spPr>
            <a:xfrm>
              <a:off x="8416800" y="11592000"/>
              <a:ext cx="793800" cy="79056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500" h="498">
                  <a:moveTo>
                    <a:pt x="500" y="248"/>
                  </a:moveTo>
                  <a:lnTo>
                    <a:pt x="500" y="248"/>
                  </a:lnTo>
                  <a:lnTo>
                    <a:pt x="498" y="274"/>
                  </a:lnTo>
                  <a:lnTo>
                    <a:pt x="494" y="300"/>
                  </a:lnTo>
                  <a:lnTo>
                    <a:pt x="488" y="324"/>
                  </a:lnTo>
                  <a:lnTo>
                    <a:pt x="480" y="346"/>
                  </a:lnTo>
                  <a:lnTo>
                    <a:pt x="470" y="368"/>
                  </a:lnTo>
                  <a:lnTo>
                    <a:pt x="456" y="388"/>
                  </a:lnTo>
                  <a:lnTo>
                    <a:pt x="442" y="408"/>
                  </a:lnTo>
                  <a:lnTo>
                    <a:pt x="426" y="426"/>
                  </a:lnTo>
                  <a:lnTo>
                    <a:pt x="408" y="442"/>
                  </a:lnTo>
                  <a:lnTo>
                    <a:pt x="390" y="456"/>
                  </a:lnTo>
                  <a:lnTo>
                    <a:pt x="368" y="468"/>
                  </a:lnTo>
                  <a:lnTo>
                    <a:pt x="348" y="478"/>
                  </a:lnTo>
                  <a:lnTo>
                    <a:pt x="324" y="488"/>
                  </a:lnTo>
                  <a:lnTo>
                    <a:pt x="300" y="494"/>
                  </a:lnTo>
                  <a:lnTo>
                    <a:pt x="276" y="496"/>
                  </a:lnTo>
                  <a:lnTo>
                    <a:pt x="250" y="498"/>
                  </a:lnTo>
                  <a:lnTo>
                    <a:pt x="250" y="498"/>
                  </a:lnTo>
                  <a:lnTo>
                    <a:pt x="224" y="496"/>
                  </a:lnTo>
                  <a:lnTo>
                    <a:pt x="200" y="494"/>
                  </a:lnTo>
                  <a:lnTo>
                    <a:pt x="176" y="488"/>
                  </a:lnTo>
                  <a:lnTo>
                    <a:pt x="154" y="478"/>
                  </a:lnTo>
                  <a:lnTo>
                    <a:pt x="132" y="468"/>
                  </a:lnTo>
                  <a:lnTo>
                    <a:pt x="110" y="456"/>
                  </a:lnTo>
                  <a:lnTo>
                    <a:pt x="92" y="442"/>
                  </a:lnTo>
                  <a:lnTo>
                    <a:pt x="74" y="426"/>
                  </a:lnTo>
                  <a:lnTo>
                    <a:pt x="58" y="408"/>
                  </a:lnTo>
                  <a:lnTo>
                    <a:pt x="44" y="388"/>
                  </a:lnTo>
                  <a:lnTo>
                    <a:pt x="30" y="368"/>
                  </a:lnTo>
                  <a:lnTo>
                    <a:pt x="20" y="346"/>
                  </a:lnTo>
                  <a:lnTo>
                    <a:pt x="12" y="324"/>
                  </a:lnTo>
                  <a:lnTo>
                    <a:pt x="6" y="300"/>
                  </a:lnTo>
                  <a:lnTo>
                    <a:pt x="2" y="274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2" y="224"/>
                  </a:lnTo>
                  <a:lnTo>
                    <a:pt x="6" y="198"/>
                  </a:lnTo>
                  <a:lnTo>
                    <a:pt x="12" y="174"/>
                  </a:lnTo>
                  <a:lnTo>
                    <a:pt x="20" y="152"/>
                  </a:lnTo>
                  <a:lnTo>
                    <a:pt x="30" y="130"/>
                  </a:lnTo>
                  <a:lnTo>
                    <a:pt x="44" y="110"/>
                  </a:lnTo>
                  <a:lnTo>
                    <a:pt x="58" y="90"/>
                  </a:lnTo>
                  <a:lnTo>
                    <a:pt x="74" y="72"/>
                  </a:lnTo>
                  <a:lnTo>
                    <a:pt x="92" y="56"/>
                  </a:lnTo>
                  <a:lnTo>
                    <a:pt x="110" y="42"/>
                  </a:lnTo>
                  <a:lnTo>
                    <a:pt x="132" y="30"/>
                  </a:lnTo>
                  <a:lnTo>
                    <a:pt x="154" y="20"/>
                  </a:lnTo>
                  <a:lnTo>
                    <a:pt x="176" y="10"/>
                  </a:lnTo>
                  <a:lnTo>
                    <a:pt x="200" y="4"/>
                  </a:lnTo>
                  <a:lnTo>
                    <a:pt x="224" y="2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76" y="2"/>
                  </a:lnTo>
                  <a:lnTo>
                    <a:pt x="300" y="4"/>
                  </a:lnTo>
                  <a:lnTo>
                    <a:pt x="324" y="10"/>
                  </a:lnTo>
                  <a:lnTo>
                    <a:pt x="348" y="20"/>
                  </a:lnTo>
                  <a:lnTo>
                    <a:pt x="368" y="30"/>
                  </a:lnTo>
                  <a:lnTo>
                    <a:pt x="390" y="42"/>
                  </a:lnTo>
                  <a:lnTo>
                    <a:pt x="408" y="56"/>
                  </a:lnTo>
                  <a:lnTo>
                    <a:pt x="426" y="72"/>
                  </a:lnTo>
                  <a:lnTo>
                    <a:pt x="442" y="90"/>
                  </a:lnTo>
                  <a:lnTo>
                    <a:pt x="456" y="110"/>
                  </a:lnTo>
                  <a:lnTo>
                    <a:pt x="470" y="130"/>
                  </a:lnTo>
                  <a:lnTo>
                    <a:pt x="480" y="152"/>
                  </a:lnTo>
                  <a:lnTo>
                    <a:pt x="488" y="174"/>
                  </a:lnTo>
                  <a:lnTo>
                    <a:pt x="494" y="198"/>
                  </a:lnTo>
                  <a:lnTo>
                    <a:pt x="498" y="224"/>
                  </a:lnTo>
                  <a:lnTo>
                    <a:pt x="500" y="248"/>
                  </a:lnTo>
                  <a:lnTo>
                    <a:pt x="500" y="248"/>
                  </a:lnTo>
                  <a:close/>
                </a:path>
              </a:pathLst>
            </a:custGeom>
            <a:solidFill>
              <a:srgbClr val="fbd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403"/>
            <p:cNvSpPr/>
            <p:nvPr/>
          </p:nvSpPr>
          <p:spPr>
            <a:xfrm>
              <a:off x="8426160" y="11601360"/>
              <a:ext cx="755640" cy="7585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476" h="478">
                  <a:moveTo>
                    <a:pt x="476" y="240"/>
                  </a:moveTo>
                  <a:lnTo>
                    <a:pt x="476" y="240"/>
                  </a:lnTo>
                  <a:lnTo>
                    <a:pt x="474" y="264"/>
                  </a:lnTo>
                  <a:lnTo>
                    <a:pt x="472" y="288"/>
                  </a:lnTo>
                  <a:lnTo>
                    <a:pt x="466" y="310"/>
                  </a:lnTo>
                  <a:lnTo>
                    <a:pt x="458" y="332"/>
                  </a:lnTo>
                  <a:lnTo>
                    <a:pt x="448" y="354"/>
                  </a:lnTo>
                  <a:lnTo>
                    <a:pt x="436" y="372"/>
                  </a:lnTo>
                  <a:lnTo>
                    <a:pt x="422" y="392"/>
                  </a:lnTo>
                  <a:lnTo>
                    <a:pt x="406" y="408"/>
                  </a:lnTo>
                  <a:lnTo>
                    <a:pt x="390" y="424"/>
                  </a:lnTo>
                  <a:lnTo>
                    <a:pt x="370" y="438"/>
                  </a:lnTo>
                  <a:lnTo>
                    <a:pt x="352" y="450"/>
                  </a:lnTo>
                  <a:lnTo>
                    <a:pt x="330" y="460"/>
                  </a:lnTo>
                  <a:lnTo>
                    <a:pt x="308" y="468"/>
                  </a:lnTo>
                  <a:lnTo>
                    <a:pt x="286" y="474"/>
                  </a:lnTo>
                  <a:lnTo>
                    <a:pt x="262" y="476"/>
                  </a:lnTo>
                  <a:lnTo>
                    <a:pt x="238" y="478"/>
                  </a:lnTo>
                  <a:lnTo>
                    <a:pt x="238" y="478"/>
                  </a:lnTo>
                  <a:lnTo>
                    <a:pt x="214" y="476"/>
                  </a:lnTo>
                  <a:lnTo>
                    <a:pt x="190" y="474"/>
                  </a:lnTo>
                  <a:lnTo>
                    <a:pt x="166" y="468"/>
                  </a:lnTo>
                  <a:lnTo>
                    <a:pt x="144" y="460"/>
                  </a:lnTo>
                  <a:lnTo>
                    <a:pt x="124" y="450"/>
                  </a:lnTo>
                  <a:lnTo>
                    <a:pt x="104" y="438"/>
                  </a:lnTo>
                  <a:lnTo>
                    <a:pt x="86" y="424"/>
                  </a:lnTo>
                  <a:lnTo>
                    <a:pt x="68" y="408"/>
                  </a:lnTo>
                  <a:lnTo>
                    <a:pt x="54" y="392"/>
                  </a:lnTo>
                  <a:lnTo>
                    <a:pt x="40" y="372"/>
                  </a:lnTo>
                  <a:lnTo>
                    <a:pt x="28" y="354"/>
                  </a:lnTo>
                  <a:lnTo>
                    <a:pt x="18" y="332"/>
                  </a:lnTo>
                  <a:lnTo>
                    <a:pt x="10" y="310"/>
                  </a:lnTo>
                  <a:lnTo>
                    <a:pt x="4" y="288"/>
                  </a:lnTo>
                  <a:lnTo>
                    <a:pt x="0" y="264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14"/>
                  </a:lnTo>
                  <a:lnTo>
                    <a:pt x="4" y="192"/>
                  </a:lnTo>
                  <a:lnTo>
                    <a:pt x="10" y="168"/>
                  </a:lnTo>
                  <a:lnTo>
                    <a:pt x="18" y="146"/>
                  </a:lnTo>
                  <a:lnTo>
                    <a:pt x="28" y="126"/>
                  </a:lnTo>
                  <a:lnTo>
                    <a:pt x="40" y="106"/>
                  </a:lnTo>
                  <a:lnTo>
                    <a:pt x="54" y="88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104" y="42"/>
                  </a:lnTo>
                  <a:lnTo>
                    <a:pt x="124" y="30"/>
                  </a:lnTo>
                  <a:lnTo>
                    <a:pt x="144" y="20"/>
                  </a:lnTo>
                  <a:lnTo>
                    <a:pt x="166" y="12"/>
                  </a:lnTo>
                  <a:lnTo>
                    <a:pt x="190" y="6"/>
                  </a:lnTo>
                  <a:lnTo>
                    <a:pt x="214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62" y="2"/>
                  </a:lnTo>
                  <a:lnTo>
                    <a:pt x="286" y="6"/>
                  </a:lnTo>
                  <a:lnTo>
                    <a:pt x="308" y="12"/>
                  </a:lnTo>
                  <a:lnTo>
                    <a:pt x="330" y="20"/>
                  </a:lnTo>
                  <a:lnTo>
                    <a:pt x="352" y="30"/>
                  </a:lnTo>
                  <a:lnTo>
                    <a:pt x="370" y="42"/>
                  </a:lnTo>
                  <a:lnTo>
                    <a:pt x="390" y="56"/>
                  </a:lnTo>
                  <a:lnTo>
                    <a:pt x="406" y="70"/>
                  </a:lnTo>
                  <a:lnTo>
                    <a:pt x="422" y="88"/>
                  </a:lnTo>
                  <a:lnTo>
                    <a:pt x="436" y="106"/>
                  </a:lnTo>
                  <a:lnTo>
                    <a:pt x="448" y="126"/>
                  </a:lnTo>
                  <a:lnTo>
                    <a:pt x="458" y="146"/>
                  </a:lnTo>
                  <a:lnTo>
                    <a:pt x="466" y="168"/>
                  </a:lnTo>
                  <a:lnTo>
                    <a:pt x="472" y="192"/>
                  </a:lnTo>
                  <a:lnTo>
                    <a:pt x="474" y="214"/>
                  </a:lnTo>
                  <a:lnTo>
                    <a:pt x="476" y="240"/>
                  </a:lnTo>
                  <a:lnTo>
                    <a:pt x="476" y="240"/>
                  </a:lnTo>
                  <a:close/>
                </a:path>
              </a:pathLst>
            </a:custGeom>
            <a:solidFill>
              <a:srgbClr val="fbd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404"/>
            <p:cNvSpPr/>
            <p:nvPr/>
          </p:nvSpPr>
          <p:spPr>
            <a:xfrm>
              <a:off x="8432640" y="11614320"/>
              <a:ext cx="723960" cy="7236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456" h="456">
                  <a:moveTo>
                    <a:pt x="456" y="228"/>
                  </a:moveTo>
                  <a:lnTo>
                    <a:pt x="456" y="228"/>
                  </a:lnTo>
                  <a:lnTo>
                    <a:pt x="454" y="252"/>
                  </a:lnTo>
                  <a:lnTo>
                    <a:pt x="450" y="274"/>
                  </a:lnTo>
                  <a:lnTo>
                    <a:pt x="444" y="296"/>
                  </a:lnTo>
                  <a:lnTo>
                    <a:pt x="438" y="316"/>
                  </a:lnTo>
                  <a:lnTo>
                    <a:pt x="428" y="336"/>
                  </a:lnTo>
                  <a:lnTo>
                    <a:pt x="416" y="356"/>
                  </a:lnTo>
                  <a:lnTo>
                    <a:pt x="404" y="372"/>
                  </a:lnTo>
                  <a:lnTo>
                    <a:pt x="388" y="388"/>
                  </a:lnTo>
                  <a:lnTo>
                    <a:pt x="372" y="404"/>
                  </a:lnTo>
                  <a:lnTo>
                    <a:pt x="354" y="416"/>
                  </a:lnTo>
                  <a:lnTo>
                    <a:pt x="336" y="428"/>
                  </a:lnTo>
                  <a:lnTo>
                    <a:pt x="316" y="438"/>
                  </a:lnTo>
                  <a:lnTo>
                    <a:pt x="294" y="446"/>
                  </a:lnTo>
                  <a:lnTo>
                    <a:pt x="274" y="452"/>
                  </a:lnTo>
                  <a:lnTo>
                    <a:pt x="250" y="454"/>
                  </a:lnTo>
                  <a:lnTo>
                    <a:pt x="228" y="456"/>
                  </a:lnTo>
                  <a:lnTo>
                    <a:pt x="228" y="456"/>
                  </a:lnTo>
                  <a:lnTo>
                    <a:pt x="204" y="454"/>
                  </a:lnTo>
                  <a:lnTo>
                    <a:pt x="182" y="452"/>
                  </a:lnTo>
                  <a:lnTo>
                    <a:pt x="160" y="446"/>
                  </a:lnTo>
                  <a:lnTo>
                    <a:pt x="138" y="438"/>
                  </a:lnTo>
                  <a:lnTo>
                    <a:pt x="118" y="428"/>
                  </a:lnTo>
                  <a:lnTo>
                    <a:pt x="100" y="416"/>
                  </a:lnTo>
                  <a:lnTo>
                    <a:pt x="82" y="404"/>
                  </a:lnTo>
                  <a:lnTo>
                    <a:pt x="66" y="388"/>
                  </a:lnTo>
                  <a:lnTo>
                    <a:pt x="52" y="372"/>
                  </a:lnTo>
                  <a:lnTo>
                    <a:pt x="38" y="356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6"/>
                  </a:lnTo>
                  <a:lnTo>
                    <a:pt x="4" y="274"/>
                  </a:lnTo>
                  <a:lnTo>
                    <a:pt x="0" y="252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04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40"/>
                  </a:lnTo>
                  <a:lnTo>
                    <a:pt x="26" y="120"/>
                  </a:lnTo>
                  <a:lnTo>
                    <a:pt x="38" y="100"/>
                  </a:lnTo>
                  <a:lnTo>
                    <a:pt x="52" y="82"/>
                  </a:lnTo>
                  <a:lnTo>
                    <a:pt x="66" y="66"/>
                  </a:lnTo>
                  <a:lnTo>
                    <a:pt x="82" y="52"/>
                  </a:lnTo>
                  <a:lnTo>
                    <a:pt x="100" y="38"/>
                  </a:lnTo>
                  <a:lnTo>
                    <a:pt x="118" y="28"/>
                  </a:lnTo>
                  <a:lnTo>
                    <a:pt x="138" y="18"/>
                  </a:lnTo>
                  <a:lnTo>
                    <a:pt x="160" y="10"/>
                  </a:lnTo>
                  <a:lnTo>
                    <a:pt x="182" y="4"/>
                  </a:lnTo>
                  <a:lnTo>
                    <a:pt x="204" y="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4" y="4"/>
                  </a:lnTo>
                  <a:lnTo>
                    <a:pt x="294" y="10"/>
                  </a:lnTo>
                  <a:lnTo>
                    <a:pt x="316" y="18"/>
                  </a:lnTo>
                  <a:lnTo>
                    <a:pt x="336" y="28"/>
                  </a:lnTo>
                  <a:lnTo>
                    <a:pt x="354" y="38"/>
                  </a:lnTo>
                  <a:lnTo>
                    <a:pt x="372" y="52"/>
                  </a:lnTo>
                  <a:lnTo>
                    <a:pt x="388" y="66"/>
                  </a:lnTo>
                  <a:lnTo>
                    <a:pt x="404" y="82"/>
                  </a:lnTo>
                  <a:lnTo>
                    <a:pt x="416" y="100"/>
                  </a:lnTo>
                  <a:lnTo>
                    <a:pt x="428" y="120"/>
                  </a:lnTo>
                  <a:lnTo>
                    <a:pt x="438" y="140"/>
                  </a:lnTo>
                  <a:lnTo>
                    <a:pt x="444" y="160"/>
                  </a:lnTo>
                  <a:lnTo>
                    <a:pt x="450" y="182"/>
                  </a:lnTo>
                  <a:lnTo>
                    <a:pt x="454" y="204"/>
                  </a:lnTo>
                  <a:lnTo>
                    <a:pt x="456" y="228"/>
                  </a:lnTo>
                  <a:lnTo>
                    <a:pt x="456" y="228"/>
                  </a:lnTo>
                  <a:close/>
                </a:path>
              </a:pathLst>
            </a:custGeom>
            <a:solidFill>
              <a:srgbClr val="fbd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405"/>
            <p:cNvSpPr/>
            <p:nvPr/>
          </p:nvSpPr>
          <p:spPr>
            <a:xfrm>
              <a:off x="8439120" y="11623680"/>
              <a:ext cx="689040" cy="69192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434" h="436">
                  <a:moveTo>
                    <a:pt x="434" y="218"/>
                  </a:moveTo>
                  <a:lnTo>
                    <a:pt x="434" y="218"/>
                  </a:lnTo>
                  <a:lnTo>
                    <a:pt x="432" y="240"/>
                  </a:lnTo>
                  <a:lnTo>
                    <a:pt x="430" y="262"/>
                  </a:lnTo>
                  <a:lnTo>
                    <a:pt x="424" y="282"/>
                  </a:lnTo>
                  <a:lnTo>
                    <a:pt x="416" y="302"/>
                  </a:lnTo>
                  <a:lnTo>
                    <a:pt x="408" y="322"/>
                  </a:lnTo>
                  <a:lnTo>
                    <a:pt x="396" y="340"/>
                  </a:lnTo>
                  <a:lnTo>
                    <a:pt x="384" y="356"/>
                  </a:lnTo>
                  <a:lnTo>
                    <a:pt x="370" y="372"/>
                  </a:lnTo>
                  <a:lnTo>
                    <a:pt x="354" y="386"/>
                  </a:lnTo>
                  <a:lnTo>
                    <a:pt x="338" y="398"/>
                  </a:lnTo>
                  <a:lnTo>
                    <a:pt x="320" y="410"/>
                  </a:lnTo>
                  <a:lnTo>
                    <a:pt x="302" y="418"/>
                  </a:lnTo>
                  <a:lnTo>
                    <a:pt x="282" y="426"/>
                  </a:lnTo>
                  <a:lnTo>
                    <a:pt x="260" y="432"/>
                  </a:lnTo>
                  <a:lnTo>
                    <a:pt x="238" y="434"/>
                  </a:lnTo>
                  <a:lnTo>
                    <a:pt x="216" y="436"/>
                  </a:lnTo>
                  <a:lnTo>
                    <a:pt x="216" y="436"/>
                  </a:lnTo>
                  <a:lnTo>
                    <a:pt x="194" y="434"/>
                  </a:lnTo>
                  <a:lnTo>
                    <a:pt x="172" y="432"/>
                  </a:lnTo>
                  <a:lnTo>
                    <a:pt x="152" y="426"/>
                  </a:lnTo>
                  <a:lnTo>
                    <a:pt x="132" y="418"/>
                  </a:lnTo>
                  <a:lnTo>
                    <a:pt x="114" y="410"/>
                  </a:lnTo>
                  <a:lnTo>
                    <a:pt x="96" y="398"/>
                  </a:lnTo>
                  <a:lnTo>
                    <a:pt x="78" y="386"/>
                  </a:lnTo>
                  <a:lnTo>
                    <a:pt x="64" y="372"/>
                  </a:lnTo>
                  <a:lnTo>
                    <a:pt x="50" y="356"/>
                  </a:lnTo>
                  <a:lnTo>
                    <a:pt x="36" y="340"/>
                  </a:lnTo>
                  <a:lnTo>
                    <a:pt x="26" y="322"/>
                  </a:lnTo>
                  <a:lnTo>
                    <a:pt x="16" y="302"/>
                  </a:lnTo>
                  <a:lnTo>
                    <a:pt x="10" y="282"/>
                  </a:lnTo>
                  <a:lnTo>
                    <a:pt x="4" y="262"/>
                  </a:lnTo>
                  <a:lnTo>
                    <a:pt x="0" y="240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196"/>
                  </a:lnTo>
                  <a:lnTo>
                    <a:pt x="4" y="174"/>
                  </a:lnTo>
                  <a:lnTo>
                    <a:pt x="10" y="154"/>
                  </a:lnTo>
                  <a:lnTo>
                    <a:pt x="16" y="134"/>
                  </a:lnTo>
                  <a:lnTo>
                    <a:pt x="26" y="114"/>
                  </a:lnTo>
                  <a:lnTo>
                    <a:pt x="36" y="96"/>
                  </a:lnTo>
                  <a:lnTo>
                    <a:pt x="50" y="80"/>
                  </a:lnTo>
                  <a:lnTo>
                    <a:pt x="64" y="64"/>
                  </a:lnTo>
                  <a:lnTo>
                    <a:pt x="78" y="50"/>
                  </a:lnTo>
                  <a:lnTo>
                    <a:pt x="96" y="38"/>
                  </a:lnTo>
                  <a:lnTo>
                    <a:pt x="114" y="28"/>
                  </a:lnTo>
                  <a:lnTo>
                    <a:pt x="132" y="18"/>
                  </a:lnTo>
                  <a:lnTo>
                    <a:pt x="152" y="10"/>
                  </a:lnTo>
                  <a:lnTo>
                    <a:pt x="172" y="6"/>
                  </a:lnTo>
                  <a:lnTo>
                    <a:pt x="194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38" y="2"/>
                  </a:lnTo>
                  <a:lnTo>
                    <a:pt x="260" y="6"/>
                  </a:lnTo>
                  <a:lnTo>
                    <a:pt x="282" y="10"/>
                  </a:lnTo>
                  <a:lnTo>
                    <a:pt x="302" y="18"/>
                  </a:lnTo>
                  <a:lnTo>
                    <a:pt x="320" y="28"/>
                  </a:lnTo>
                  <a:lnTo>
                    <a:pt x="338" y="38"/>
                  </a:lnTo>
                  <a:lnTo>
                    <a:pt x="354" y="50"/>
                  </a:lnTo>
                  <a:lnTo>
                    <a:pt x="370" y="64"/>
                  </a:lnTo>
                  <a:lnTo>
                    <a:pt x="384" y="80"/>
                  </a:lnTo>
                  <a:lnTo>
                    <a:pt x="396" y="96"/>
                  </a:lnTo>
                  <a:lnTo>
                    <a:pt x="408" y="114"/>
                  </a:lnTo>
                  <a:lnTo>
                    <a:pt x="416" y="134"/>
                  </a:lnTo>
                  <a:lnTo>
                    <a:pt x="424" y="154"/>
                  </a:lnTo>
                  <a:lnTo>
                    <a:pt x="430" y="174"/>
                  </a:lnTo>
                  <a:lnTo>
                    <a:pt x="432" y="196"/>
                  </a:lnTo>
                  <a:lnTo>
                    <a:pt x="434" y="218"/>
                  </a:lnTo>
                  <a:lnTo>
                    <a:pt x="434" y="218"/>
                  </a:lnTo>
                  <a:close/>
                </a:path>
              </a:pathLst>
            </a:custGeom>
            <a:solidFill>
              <a:srgbClr val="fcd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406"/>
            <p:cNvSpPr/>
            <p:nvPr/>
          </p:nvSpPr>
          <p:spPr>
            <a:xfrm>
              <a:off x="8445240" y="11636280"/>
              <a:ext cx="657000" cy="6570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14" h="414">
                  <a:moveTo>
                    <a:pt x="414" y="206"/>
                  </a:moveTo>
                  <a:lnTo>
                    <a:pt x="414" y="206"/>
                  </a:lnTo>
                  <a:lnTo>
                    <a:pt x="412" y="228"/>
                  </a:lnTo>
                  <a:lnTo>
                    <a:pt x="408" y="248"/>
                  </a:lnTo>
                  <a:lnTo>
                    <a:pt x="404" y="268"/>
                  </a:lnTo>
                  <a:lnTo>
                    <a:pt x="396" y="288"/>
                  </a:lnTo>
                  <a:lnTo>
                    <a:pt x="388" y="306"/>
                  </a:lnTo>
                  <a:lnTo>
                    <a:pt x="378" y="322"/>
                  </a:lnTo>
                  <a:lnTo>
                    <a:pt x="366" y="338"/>
                  </a:lnTo>
                  <a:lnTo>
                    <a:pt x="352" y="352"/>
                  </a:lnTo>
                  <a:lnTo>
                    <a:pt x="338" y="366"/>
                  </a:lnTo>
                  <a:lnTo>
                    <a:pt x="322" y="378"/>
                  </a:lnTo>
                  <a:lnTo>
                    <a:pt x="304" y="388"/>
                  </a:lnTo>
                  <a:lnTo>
                    <a:pt x="286" y="398"/>
                  </a:lnTo>
                  <a:lnTo>
                    <a:pt x="268" y="404"/>
                  </a:lnTo>
                  <a:lnTo>
                    <a:pt x="248" y="410"/>
                  </a:lnTo>
                  <a:lnTo>
                    <a:pt x="228" y="412"/>
                  </a:lnTo>
                  <a:lnTo>
                    <a:pt x="206" y="414"/>
                  </a:lnTo>
                  <a:lnTo>
                    <a:pt x="206" y="414"/>
                  </a:lnTo>
                  <a:lnTo>
                    <a:pt x="186" y="412"/>
                  </a:lnTo>
                  <a:lnTo>
                    <a:pt x="164" y="410"/>
                  </a:lnTo>
                  <a:lnTo>
                    <a:pt x="144" y="404"/>
                  </a:lnTo>
                  <a:lnTo>
                    <a:pt x="126" y="398"/>
                  </a:lnTo>
                  <a:lnTo>
                    <a:pt x="108" y="388"/>
                  </a:lnTo>
                  <a:lnTo>
                    <a:pt x="90" y="378"/>
                  </a:lnTo>
                  <a:lnTo>
                    <a:pt x="74" y="366"/>
                  </a:lnTo>
                  <a:lnTo>
                    <a:pt x="60" y="352"/>
                  </a:lnTo>
                  <a:lnTo>
                    <a:pt x="46" y="338"/>
                  </a:lnTo>
                  <a:lnTo>
                    <a:pt x="34" y="322"/>
                  </a:lnTo>
                  <a:lnTo>
                    <a:pt x="24" y="306"/>
                  </a:lnTo>
                  <a:lnTo>
                    <a:pt x="16" y="288"/>
                  </a:lnTo>
                  <a:lnTo>
                    <a:pt x="8" y="268"/>
                  </a:lnTo>
                  <a:lnTo>
                    <a:pt x="4" y="248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186"/>
                  </a:lnTo>
                  <a:lnTo>
                    <a:pt x="4" y="164"/>
                  </a:lnTo>
                  <a:lnTo>
                    <a:pt x="8" y="146"/>
                  </a:lnTo>
                  <a:lnTo>
                    <a:pt x="16" y="126"/>
                  </a:lnTo>
                  <a:lnTo>
                    <a:pt x="24" y="108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4" y="48"/>
                  </a:lnTo>
                  <a:lnTo>
                    <a:pt x="90" y="36"/>
                  </a:lnTo>
                  <a:lnTo>
                    <a:pt x="108" y="24"/>
                  </a:lnTo>
                  <a:lnTo>
                    <a:pt x="126" y="16"/>
                  </a:lnTo>
                  <a:lnTo>
                    <a:pt x="144" y="10"/>
                  </a:lnTo>
                  <a:lnTo>
                    <a:pt x="164" y="4"/>
                  </a:lnTo>
                  <a:lnTo>
                    <a:pt x="186" y="2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28" y="2"/>
                  </a:lnTo>
                  <a:lnTo>
                    <a:pt x="248" y="4"/>
                  </a:lnTo>
                  <a:lnTo>
                    <a:pt x="268" y="10"/>
                  </a:lnTo>
                  <a:lnTo>
                    <a:pt x="286" y="16"/>
                  </a:lnTo>
                  <a:lnTo>
                    <a:pt x="304" y="24"/>
                  </a:lnTo>
                  <a:lnTo>
                    <a:pt x="322" y="36"/>
                  </a:lnTo>
                  <a:lnTo>
                    <a:pt x="338" y="48"/>
                  </a:lnTo>
                  <a:lnTo>
                    <a:pt x="352" y="60"/>
                  </a:lnTo>
                  <a:lnTo>
                    <a:pt x="366" y="76"/>
                  </a:lnTo>
                  <a:lnTo>
                    <a:pt x="378" y="92"/>
                  </a:lnTo>
                  <a:lnTo>
                    <a:pt x="388" y="108"/>
                  </a:lnTo>
                  <a:lnTo>
                    <a:pt x="396" y="126"/>
                  </a:lnTo>
                  <a:lnTo>
                    <a:pt x="404" y="146"/>
                  </a:lnTo>
                  <a:lnTo>
                    <a:pt x="408" y="164"/>
                  </a:lnTo>
                  <a:lnTo>
                    <a:pt x="412" y="186"/>
                  </a:lnTo>
                  <a:lnTo>
                    <a:pt x="414" y="206"/>
                  </a:lnTo>
                  <a:lnTo>
                    <a:pt x="414" y="206"/>
                  </a:lnTo>
                  <a:close/>
                </a:path>
              </a:pathLst>
            </a:custGeom>
            <a:solidFill>
              <a:srgbClr val="fcd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07"/>
            <p:cNvSpPr/>
            <p:nvPr/>
          </p:nvSpPr>
          <p:spPr>
            <a:xfrm>
              <a:off x="8451720" y="11649240"/>
              <a:ext cx="622080" cy="6220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92" h="392">
                  <a:moveTo>
                    <a:pt x="392" y="196"/>
                  </a:moveTo>
                  <a:lnTo>
                    <a:pt x="392" y="196"/>
                  </a:lnTo>
                  <a:lnTo>
                    <a:pt x="390" y="216"/>
                  </a:lnTo>
                  <a:lnTo>
                    <a:pt x="388" y="234"/>
                  </a:lnTo>
                  <a:lnTo>
                    <a:pt x="384" y="254"/>
                  </a:lnTo>
                  <a:lnTo>
                    <a:pt x="376" y="272"/>
                  </a:lnTo>
                  <a:lnTo>
                    <a:pt x="368" y="288"/>
                  </a:lnTo>
                  <a:lnTo>
                    <a:pt x="358" y="304"/>
                  </a:lnTo>
                  <a:lnTo>
                    <a:pt x="348" y="320"/>
                  </a:lnTo>
                  <a:lnTo>
                    <a:pt x="334" y="334"/>
                  </a:lnTo>
                  <a:lnTo>
                    <a:pt x="320" y="346"/>
                  </a:lnTo>
                  <a:lnTo>
                    <a:pt x="306" y="358"/>
                  </a:lnTo>
                  <a:lnTo>
                    <a:pt x="290" y="368"/>
                  </a:lnTo>
                  <a:lnTo>
                    <a:pt x="272" y="376"/>
                  </a:lnTo>
                  <a:lnTo>
                    <a:pt x="254" y="382"/>
                  </a:lnTo>
                  <a:lnTo>
                    <a:pt x="236" y="388"/>
                  </a:lnTo>
                  <a:lnTo>
                    <a:pt x="216" y="390"/>
                  </a:lnTo>
                  <a:lnTo>
                    <a:pt x="196" y="392"/>
                  </a:lnTo>
                  <a:lnTo>
                    <a:pt x="196" y="392"/>
                  </a:lnTo>
                  <a:lnTo>
                    <a:pt x="176" y="390"/>
                  </a:lnTo>
                  <a:lnTo>
                    <a:pt x="156" y="388"/>
                  </a:lnTo>
                  <a:lnTo>
                    <a:pt x="138" y="382"/>
                  </a:lnTo>
                  <a:lnTo>
                    <a:pt x="120" y="376"/>
                  </a:lnTo>
                  <a:lnTo>
                    <a:pt x="102" y="368"/>
                  </a:lnTo>
                  <a:lnTo>
                    <a:pt x="86" y="358"/>
                  </a:lnTo>
                  <a:lnTo>
                    <a:pt x="72" y="346"/>
                  </a:lnTo>
                  <a:lnTo>
                    <a:pt x="58" y="334"/>
                  </a:lnTo>
                  <a:lnTo>
                    <a:pt x="44" y="320"/>
                  </a:lnTo>
                  <a:lnTo>
                    <a:pt x="34" y="304"/>
                  </a:lnTo>
                  <a:lnTo>
                    <a:pt x="24" y="288"/>
                  </a:lnTo>
                  <a:lnTo>
                    <a:pt x="16" y="272"/>
                  </a:lnTo>
                  <a:lnTo>
                    <a:pt x="8" y="254"/>
                  </a:lnTo>
                  <a:lnTo>
                    <a:pt x="4" y="234"/>
                  </a:lnTo>
                  <a:lnTo>
                    <a:pt x="0" y="21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4" y="156"/>
                  </a:lnTo>
                  <a:lnTo>
                    <a:pt x="8" y="136"/>
                  </a:lnTo>
                  <a:lnTo>
                    <a:pt x="16" y="118"/>
                  </a:lnTo>
                  <a:lnTo>
                    <a:pt x="24" y="102"/>
                  </a:lnTo>
                  <a:lnTo>
                    <a:pt x="34" y="86"/>
                  </a:lnTo>
                  <a:lnTo>
                    <a:pt x="44" y="70"/>
                  </a:lnTo>
                  <a:lnTo>
                    <a:pt x="58" y="56"/>
                  </a:lnTo>
                  <a:lnTo>
                    <a:pt x="72" y="44"/>
                  </a:lnTo>
                  <a:lnTo>
                    <a:pt x="86" y="32"/>
                  </a:lnTo>
                  <a:lnTo>
                    <a:pt x="102" y="22"/>
                  </a:lnTo>
                  <a:lnTo>
                    <a:pt x="120" y="14"/>
                  </a:lnTo>
                  <a:lnTo>
                    <a:pt x="138" y="8"/>
                  </a:lnTo>
                  <a:lnTo>
                    <a:pt x="156" y="2"/>
                  </a:lnTo>
                  <a:lnTo>
                    <a:pt x="176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16" y="0"/>
                  </a:lnTo>
                  <a:lnTo>
                    <a:pt x="236" y="2"/>
                  </a:lnTo>
                  <a:lnTo>
                    <a:pt x="254" y="8"/>
                  </a:lnTo>
                  <a:lnTo>
                    <a:pt x="272" y="14"/>
                  </a:lnTo>
                  <a:lnTo>
                    <a:pt x="290" y="22"/>
                  </a:lnTo>
                  <a:lnTo>
                    <a:pt x="306" y="32"/>
                  </a:lnTo>
                  <a:lnTo>
                    <a:pt x="320" y="44"/>
                  </a:lnTo>
                  <a:lnTo>
                    <a:pt x="334" y="56"/>
                  </a:lnTo>
                  <a:lnTo>
                    <a:pt x="348" y="70"/>
                  </a:lnTo>
                  <a:lnTo>
                    <a:pt x="358" y="86"/>
                  </a:lnTo>
                  <a:lnTo>
                    <a:pt x="368" y="102"/>
                  </a:lnTo>
                  <a:lnTo>
                    <a:pt x="376" y="118"/>
                  </a:lnTo>
                  <a:lnTo>
                    <a:pt x="384" y="136"/>
                  </a:lnTo>
                  <a:lnTo>
                    <a:pt x="388" y="156"/>
                  </a:lnTo>
                  <a:lnTo>
                    <a:pt x="390" y="174"/>
                  </a:lnTo>
                  <a:lnTo>
                    <a:pt x="392" y="196"/>
                  </a:lnTo>
                  <a:lnTo>
                    <a:pt x="392" y="196"/>
                  </a:lnTo>
                  <a:close/>
                </a:path>
              </a:pathLst>
            </a:custGeom>
            <a:solidFill>
              <a:srgbClr val="fcd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408"/>
            <p:cNvSpPr/>
            <p:nvPr/>
          </p:nvSpPr>
          <p:spPr>
            <a:xfrm>
              <a:off x="8458200" y="11658600"/>
              <a:ext cx="587160" cy="58716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370" h="370">
                  <a:moveTo>
                    <a:pt x="370" y="186"/>
                  </a:moveTo>
                  <a:lnTo>
                    <a:pt x="370" y="186"/>
                  </a:lnTo>
                  <a:lnTo>
                    <a:pt x="370" y="204"/>
                  </a:lnTo>
                  <a:lnTo>
                    <a:pt x="368" y="222"/>
                  </a:lnTo>
                  <a:lnTo>
                    <a:pt x="362" y="240"/>
                  </a:lnTo>
                  <a:lnTo>
                    <a:pt x="356" y="258"/>
                  </a:lnTo>
                  <a:lnTo>
                    <a:pt x="348" y="274"/>
                  </a:lnTo>
                  <a:lnTo>
                    <a:pt x="340" y="290"/>
                  </a:lnTo>
                  <a:lnTo>
                    <a:pt x="328" y="304"/>
                  </a:lnTo>
                  <a:lnTo>
                    <a:pt x="316" y="316"/>
                  </a:lnTo>
                  <a:lnTo>
                    <a:pt x="304" y="328"/>
                  </a:lnTo>
                  <a:lnTo>
                    <a:pt x="290" y="340"/>
                  </a:lnTo>
                  <a:lnTo>
                    <a:pt x="274" y="348"/>
                  </a:lnTo>
                  <a:lnTo>
                    <a:pt x="258" y="356"/>
                  </a:lnTo>
                  <a:lnTo>
                    <a:pt x="240" y="362"/>
                  </a:lnTo>
                  <a:lnTo>
                    <a:pt x="222" y="368"/>
                  </a:lnTo>
                  <a:lnTo>
                    <a:pt x="204" y="370"/>
                  </a:lnTo>
                  <a:lnTo>
                    <a:pt x="186" y="370"/>
                  </a:lnTo>
                  <a:lnTo>
                    <a:pt x="186" y="370"/>
                  </a:lnTo>
                  <a:lnTo>
                    <a:pt x="166" y="370"/>
                  </a:lnTo>
                  <a:lnTo>
                    <a:pt x="148" y="368"/>
                  </a:lnTo>
                  <a:lnTo>
                    <a:pt x="130" y="362"/>
                  </a:lnTo>
                  <a:lnTo>
                    <a:pt x="114" y="356"/>
                  </a:lnTo>
                  <a:lnTo>
                    <a:pt x="98" y="348"/>
                  </a:lnTo>
                  <a:lnTo>
                    <a:pt x="82" y="340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4"/>
                  </a:lnTo>
                  <a:lnTo>
                    <a:pt x="32" y="290"/>
                  </a:lnTo>
                  <a:lnTo>
                    <a:pt x="22" y="274"/>
                  </a:lnTo>
                  <a:lnTo>
                    <a:pt x="14" y="258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2" y="204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4"/>
                  </a:lnTo>
                  <a:lnTo>
                    <a:pt x="22" y="98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8" y="22"/>
                  </a:lnTo>
                  <a:lnTo>
                    <a:pt x="114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2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204" y="2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8" y="14"/>
                  </a:lnTo>
                  <a:lnTo>
                    <a:pt x="274" y="22"/>
                  </a:lnTo>
                  <a:lnTo>
                    <a:pt x="290" y="32"/>
                  </a:lnTo>
                  <a:lnTo>
                    <a:pt x="304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40" y="82"/>
                  </a:lnTo>
                  <a:lnTo>
                    <a:pt x="348" y="98"/>
                  </a:lnTo>
                  <a:lnTo>
                    <a:pt x="356" y="114"/>
                  </a:lnTo>
                  <a:lnTo>
                    <a:pt x="362" y="130"/>
                  </a:lnTo>
                  <a:lnTo>
                    <a:pt x="368" y="148"/>
                  </a:lnTo>
                  <a:lnTo>
                    <a:pt x="370" y="166"/>
                  </a:lnTo>
                  <a:lnTo>
                    <a:pt x="370" y="186"/>
                  </a:lnTo>
                  <a:lnTo>
                    <a:pt x="370" y="186"/>
                  </a:lnTo>
                  <a:close/>
                </a:path>
              </a:pathLst>
            </a:custGeom>
            <a:solidFill>
              <a:srgbClr val="fc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409"/>
            <p:cNvSpPr/>
            <p:nvPr/>
          </p:nvSpPr>
          <p:spPr>
            <a:xfrm>
              <a:off x="8464320" y="11671200"/>
              <a:ext cx="555480" cy="55224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350" y="174"/>
                  </a:moveTo>
                  <a:lnTo>
                    <a:pt x="350" y="174"/>
                  </a:lnTo>
                  <a:lnTo>
                    <a:pt x="348" y="192"/>
                  </a:lnTo>
                  <a:lnTo>
                    <a:pt x="346" y="210"/>
                  </a:lnTo>
                  <a:lnTo>
                    <a:pt x="342" y="226"/>
                  </a:lnTo>
                  <a:lnTo>
                    <a:pt x="336" y="242"/>
                  </a:lnTo>
                  <a:lnTo>
                    <a:pt x="328" y="258"/>
                  </a:lnTo>
                  <a:lnTo>
                    <a:pt x="320" y="272"/>
                  </a:lnTo>
                  <a:lnTo>
                    <a:pt x="310" y="286"/>
                  </a:lnTo>
                  <a:lnTo>
                    <a:pt x="298" y="298"/>
                  </a:lnTo>
                  <a:lnTo>
                    <a:pt x="286" y="308"/>
                  </a:lnTo>
                  <a:lnTo>
                    <a:pt x="272" y="318"/>
                  </a:lnTo>
                  <a:lnTo>
                    <a:pt x="258" y="328"/>
                  </a:lnTo>
                  <a:lnTo>
                    <a:pt x="244" y="334"/>
                  </a:lnTo>
                  <a:lnTo>
                    <a:pt x="228" y="340"/>
                  </a:lnTo>
                  <a:lnTo>
                    <a:pt x="210" y="346"/>
                  </a:lnTo>
                  <a:lnTo>
                    <a:pt x="192" y="348"/>
                  </a:lnTo>
                  <a:lnTo>
                    <a:pt x="176" y="348"/>
                  </a:lnTo>
                  <a:lnTo>
                    <a:pt x="176" y="348"/>
                  </a:lnTo>
                  <a:lnTo>
                    <a:pt x="158" y="348"/>
                  </a:lnTo>
                  <a:lnTo>
                    <a:pt x="140" y="346"/>
                  </a:lnTo>
                  <a:lnTo>
                    <a:pt x="124" y="340"/>
                  </a:lnTo>
                  <a:lnTo>
                    <a:pt x="108" y="334"/>
                  </a:lnTo>
                  <a:lnTo>
                    <a:pt x="92" y="328"/>
                  </a:lnTo>
                  <a:lnTo>
                    <a:pt x="78" y="318"/>
                  </a:lnTo>
                  <a:lnTo>
                    <a:pt x="64" y="308"/>
                  </a:lnTo>
                  <a:lnTo>
                    <a:pt x="52" y="298"/>
                  </a:lnTo>
                  <a:lnTo>
                    <a:pt x="40" y="286"/>
                  </a:lnTo>
                  <a:lnTo>
                    <a:pt x="30" y="272"/>
                  </a:lnTo>
                  <a:lnTo>
                    <a:pt x="22" y="258"/>
                  </a:lnTo>
                  <a:lnTo>
                    <a:pt x="14" y="242"/>
                  </a:lnTo>
                  <a:lnTo>
                    <a:pt x="8" y="226"/>
                  </a:lnTo>
                  <a:lnTo>
                    <a:pt x="4" y="210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8"/>
                  </a:lnTo>
                  <a:lnTo>
                    <a:pt x="8" y="122"/>
                  </a:lnTo>
                  <a:lnTo>
                    <a:pt x="14" y="106"/>
                  </a:lnTo>
                  <a:lnTo>
                    <a:pt x="22" y="90"/>
                  </a:lnTo>
                  <a:lnTo>
                    <a:pt x="30" y="76"/>
                  </a:lnTo>
                  <a:lnTo>
                    <a:pt x="40" y="62"/>
                  </a:lnTo>
                  <a:lnTo>
                    <a:pt x="52" y="50"/>
                  </a:lnTo>
                  <a:lnTo>
                    <a:pt x="64" y="40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4" y="6"/>
                  </a:lnTo>
                  <a:lnTo>
                    <a:pt x="140" y="2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92" y="0"/>
                  </a:lnTo>
                  <a:lnTo>
                    <a:pt x="210" y="2"/>
                  </a:lnTo>
                  <a:lnTo>
                    <a:pt x="228" y="6"/>
                  </a:lnTo>
                  <a:lnTo>
                    <a:pt x="244" y="12"/>
                  </a:lnTo>
                  <a:lnTo>
                    <a:pt x="258" y="20"/>
                  </a:lnTo>
                  <a:lnTo>
                    <a:pt x="272" y="28"/>
                  </a:lnTo>
                  <a:lnTo>
                    <a:pt x="286" y="40"/>
                  </a:lnTo>
                  <a:lnTo>
                    <a:pt x="298" y="50"/>
                  </a:lnTo>
                  <a:lnTo>
                    <a:pt x="310" y="62"/>
                  </a:lnTo>
                  <a:lnTo>
                    <a:pt x="320" y="76"/>
                  </a:lnTo>
                  <a:lnTo>
                    <a:pt x="328" y="90"/>
                  </a:lnTo>
                  <a:lnTo>
                    <a:pt x="336" y="106"/>
                  </a:lnTo>
                  <a:lnTo>
                    <a:pt x="342" y="122"/>
                  </a:lnTo>
                  <a:lnTo>
                    <a:pt x="346" y="138"/>
                  </a:lnTo>
                  <a:lnTo>
                    <a:pt x="348" y="156"/>
                  </a:lnTo>
                  <a:lnTo>
                    <a:pt x="350" y="174"/>
                  </a:lnTo>
                  <a:lnTo>
                    <a:pt x="350" y="174"/>
                  </a:lnTo>
                  <a:close/>
                </a:path>
              </a:pathLst>
            </a:custGeom>
            <a:solidFill>
              <a:srgbClr val="fce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410"/>
            <p:cNvSpPr/>
            <p:nvPr/>
          </p:nvSpPr>
          <p:spPr>
            <a:xfrm>
              <a:off x="8470800" y="11680920"/>
              <a:ext cx="52056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328" y="164"/>
                  </a:moveTo>
                  <a:lnTo>
                    <a:pt x="328" y="164"/>
                  </a:lnTo>
                  <a:lnTo>
                    <a:pt x="328" y="182"/>
                  </a:lnTo>
                  <a:lnTo>
                    <a:pt x="326" y="198"/>
                  </a:lnTo>
                  <a:lnTo>
                    <a:pt x="322" y="214"/>
                  </a:lnTo>
                  <a:lnTo>
                    <a:pt x="316" y="228"/>
                  </a:lnTo>
                  <a:lnTo>
                    <a:pt x="308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6"/>
                  </a:lnTo>
                  <a:lnTo>
                    <a:pt x="214" y="322"/>
                  </a:lnTo>
                  <a:lnTo>
                    <a:pt x="198" y="326"/>
                  </a:lnTo>
                  <a:lnTo>
                    <a:pt x="182" y="328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8"/>
                  </a:lnTo>
                  <a:lnTo>
                    <a:pt x="132" y="326"/>
                  </a:lnTo>
                  <a:lnTo>
                    <a:pt x="116" y="322"/>
                  </a:lnTo>
                  <a:lnTo>
                    <a:pt x="100" y="316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4"/>
                  </a:lnTo>
                  <a:lnTo>
                    <a:pt x="4" y="198"/>
                  </a:lnTo>
                  <a:lnTo>
                    <a:pt x="2" y="18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48"/>
                  </a:lnTo>
                  <a:lnTo>
                    <a:pt x="4" y="132"/>
                  </a:lnTo>
                  <a:lnTo>
                    <a:pt x="8" y="116"/>
                  </a:lnTo>
                  <a:lnTo>
                    <a:pt x="14" y="100"/>
                  </a:lnTo>
                  <a:lnTo>
                    <a:pt x="20" y="86"/>
                  </a:lnTo>
                  <a:lnTo>
                    <a:pt x="28" y="72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2" y="28"/>
                  </a:lnTo>
                  <a:lnTo>
                    <a:pt x="86" y="20"/>
                  </a:lnTo>
                  <a:lnTo>
                    <a:pt x="100" y="14"/>
                  </a:lnTo>
                  <a:lnTo>
                    <a:pt x="116" y="8"/>
                  </a:lnTo>
                  <a:lnTo>
                    <a:pt x="132" y="4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28" y="14"/>
                  </a:lnTo>
                  <a:lnTo>
                    <a:pt x="242" y="20"/>
                  </a:lnTo>
                  <a:lnTo>
                    <a:pt x="256" y="28"/>
                  </a:lnTo>
                  <a:lnTo>
                    <a:pt x="270" y="38"/>
                  </a:lnTo>
                  <a:lnTo>
                    <a:pt x="280" y="48"/>
                  </a:lnTo>
                  <a:lnTo>
                    <a:pt x="292" y="60"/>
                  </a:lnTo>
                  <a:lnTo>
                    <a:pt x="300" y="72"/>
                  </a:lnTo>
                  <a:lnTo>
                    <a:pt x="308" y="86"/>
                  </a:lnTo>
                  <a:lnTo>
                    <a:pt x="316" y="100"/>
                  </a:lnTo>
                  <a:lnTo>
                    <a:pt x="322" y="116"/>
                  </a:lnTo>
                  <a:lnTo>
                    <a:pt x="326" y="132"/>
                  </a:lnTo>
                  <a:lnTo>
                    <a:pt x="328" y="148"/>
                  </a:lnTo>
                  <a:lnTo>
                    <a:pt x="328" y="164"/>
                  </a:lnTo>
                  <a:lnTo>
                    <a:pt x="328" y="164"/>
                  </a:lnTo>
                  <a:close/>
                </a:path>
              </a:pathLst>
            </a:custGeom>
            <a:solidFill>
              <a:srgbClr val="fd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411"/>
            <p:cNvSpPr/>
            <p:nvPr/>
          </p:nvSpPr>
          <p:spPr>
            <a:xfrm>
              <a:off x="8477280" y="11693520"/>
              <a:ext cx="488880" cy="4856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08" h="306">
                  <a:moveTo>
                    <a:pt x="308" y="152"/>
                  </a:moveTo>
                  <a:lnTo>
                    <a:pt x="308" y="152"/>
                  </a:lnTo>
                  <a:lnTo>
                    <a:pt x="306" y="168"/>
                  </a:lnTo>
                  <a:lnTo>
                    <a:pt x="304" y="184"/>
                  </a:lnTo>
                  <a:lnTo>
                    <a:pt x="300" y="198"/>
                  </a:lnTo>
                  <a:lnTo>
                    <a:pt x="296" y="212"/>
                  </a:lnTo>
                  <a:lnTo>
                    <a:pt x="290" y="226"/>
                  </a:lnTo>
                  <a:lnTo>
                    <a:pt x="282" y="238"/>
                  </a:lnTo>
                  <a:lnTo>
                    <a:pt x="272" y="250"/>
                  </a:lnTo>
                  <a:lnTo>
                    <a:pt x="262" y="262"/>
                  </a:lnTo>
                  <a:lnTo>
                    <a:pt x="252" y="272"/>
                  </a:lnTo>
                  <a:lnTo>
                    <a:pt x="240" y="280"/>
                  </a:lnTo>
                  <a:lnTo>
                    <a:pt x="228" y="288"/>
                  </a:lnTo>
                  <a:lnTo>
                    <a:pt x="214" y="294"/>
                  </a:lnTo>
                  <a:lnTo>
                    <a:pt x="200" y="300"/>
                  </a:lnTo>
                  <a:lnTo>
                    <a:pt x="186" y="304"/>
                  </a:lnTo>
                  <a:lnTo>
                    <a:pt x="170" y="306"/>
                  </a:lnTo>
                  <a:lnTo>
                    <a:pt x="154" y="306"/>
                  </a:lnTo>
                  <a:lnTo>
                    <a:pt x="154" y="306"/>
                  </a:lnTo>
                  <a:lnTo>
                    <a:pt x="138" y="306"/>
                  </a:lnTo>
                  <a:lnTo>
                    <a:pt x="124" y="304"/>
                  </a:lnTo>
                  <a:lnTo>
                    <a:pt x="108" y="300"/>
                  </a:lnTo>
                  <a:lnTo>
                    <a:pt x="94" y="294"/>
                  </a:lnTo>
                  <a:lnTo>
                    <a:pt x="82" y="288"/>
                  </a:lnTo>
                  <a:lnTo>
                    <a:pt x="68" y="280"/>
                  </a:lnTo>
                  <a:lnTo>
                    <a:pt x="56" y="272"/>
                  </a:lnTo>
                  <a:lnTo>
                    <a:pt x="46" y="262"/>
                  </a:lnTo>
                  <a:lnTo>
                    <a:pt x="36" y="250"/>
                  </a:lnTo>
                  <a:lnTo>
                    <a:pt x="28" y="238"/>
                  </a:lnTo>
                  <a:lnTo>
                    <a:pt x="20" y="226"/>
                  </a:lnTo>
                  <a:lnTo>
                    <a:pt x="12" y="212"/>
                  </a:lnTo>
                  <a:lnTo>
                    <a:pt x="8" y="198"/>
                  </a:lnTo>
                  <a:lnTo>
                    <a:pt x="4" y="184"/>
                  </a:lnTo>
                  <a:lnTo>
                    <a:pt x="2" y="168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136"/>
                  </a:lnTo>
                  <a:lnTo>
                    <a:pt x="4" y="122"/>
                  </a:lnTo>
                  <a:lnTo>
                    <a:pt x="8" y="108"/>
                  </a:lnTo>
                  <a:lnTo>
                    <a:pt x="12" y="92"/>
                  </a:lnTo>
                  <a:lnTo>
                    <a:pt x="20" y="80"/>
                  </a:lnTo>
                  <a:lnTo>
                    <a:pt x="28" y="66"/>
                  </a:lnTo>
                  <a:lnTo>
                    <a:pt x="36" y="56"/>
                  </a:lnTo>
                  <a:lnTo>
                    <a:pt x="46" y="44"/>
                  </a:lnTo>
                  <a:lnTo>
                    <a:pt x="56" y="34"/>
                  </a:lnTo>
                  <a:lnTo>
                    <a:pt x="68" y="26"/>
                  </a:lnTo>
                  <a:lnTo>
                    <a:pt x="82" y="18"/>
                  </a:lnTo>
                  <a:lnTo>
                    <a:pt x="94" y="12"/>
                  </a:lnTo>
                  <a:lnTo>
                    <a:pt x="108" y="6"/>
                  </a:lnTo>
                  <a:lnTo>
                    <a:pt x="124" y="2"/>
                  </a:lnTo>
                  <a:lnTo>
                    <a:pt x="138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70" y="0"/>
                  </a:lnTo>
                  <a:lnTo>
                    <a:pt x="186" y="2"/>
                  </a:lnTo>
                  <a:lnTo>
                    <a:pt x="200" y="6"/>
                  </a:lnTo>
                  <a:lnTo>
                    <a:pt x="214" y="12"/>
                  </a:lnTo>
                  <a:lnTo>
                    <a:pt x="228" y="18"/>
                  </a:lnTo>
                  <a:lnTo>
                    <a:pt x="240" y="26"/>
                  </a:lnTo>
                  <a:lnTo>
                    <a:pt x="252" y="34"/>
                  </a:lnTo>
                  <a:lnTo>
                    <a:pt x="262" y="44"/>
                  </a:lnTo>
                  <a:lnTo>
                    <a:pt x="272" y="56"/>
                  </a:lnTo>
                  <a:lnTo>
                    <a:pt x="282" y="66"/>
                  </a:lnTo>
                  <a:lnTo>
                    <a:pt x="290" y="80"/>
                  </a:lnTo>
                  <a:lnTo>
                    <a:pt x="296" y="92"/>
                  </a:lnTo>
                  <a:lnTo>
                    <a:pt x="300" y="108"/>
                  </a:lnTo>
                  <a:lnTo>
                    <a:pt x="304" y="122"/>
                  </a:lnTo>
                  <a:lnTo>
                    <a:pt x="306" y="136"/>
                  </a:lnTo>
                  <a:lnTo>
                    <a:pt x="308" y="152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fde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412"/>
            <p:cNvSpPr/>
            <p:nvPr/>
          </p:nvSpPr>
          <p:spPr>
            <a:xfrm>
              <a:off x="8486640" y="11702880"/>
              <a:ext cx="450720" cy="45396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4" h="286">
                  <a:moveTo>
                    <a:pt x="284" y="144"/>
                  </a:moveTo>
                  <a:lnTo>
                    <a:pt x="284" y="144"/>
                  </a:lnTo>
                  <a:lnTo>
                    <a:pt x="284" y="158"/>
                  </a:lnTo>
                  <a:lnTo>
                    <a:pt x="282" y="172"/>
                  </a:lnTo>
                  <a:lnTo>
                    <a:pt x="278" y="186"/>
                  </a:lnTo>
                  <a:lnTo>
                    <a:pt x="274" y="198"/>
                  </a:lnTo>
                  <a:lnTo>
                    <a:pt x="268" y="212"/>
                  </a:lnTo>
                  <a:lnTo>
                    <a:pt x="260" y="222"/>
                  </a:lnTo>
                  <a:lnTo>
                    <a:pt x="252" y="234"/>
                  </a:lnTo>
                  <a:lnTo>
                    <a:pt x="242" y="244"/>
                  </a:lnTo>
                  <a:lnTo>
                    <a:pt x="232" y="254"/>
                  </a:lnTo>
                  <a:lnTo>
                    <a:pt x="222" y="262"/>
                  </a:lnTo>
                  <a:lnTo>
                    <a:pt x="210" y="268"/>
                  </a:lnTo>
                  <a:lnTo>
                    <a:pt x="198" y="274"/>
                  </a:lnTo>
                  <a:lnTo>
                    <a:pt x="184" y="280"/>
                  </a:lnTo>
                  <a:lnTo>
                    <a:pt x="170" y="284"/>
                  </a:lnTo>
                  <a:lnTo>
                    <a:pt x="156" y="286"/>
                  </a:lnTo>
                  <a:lnTo>
                    <a:pt x="142" y="286"/>
                  </a:lnTo>
                  <a:lnTo>
                    <a:pt x="142" y="286"/>
                  </a:lnTo>
                  <a:lnTo>
                    <a:pt x="128" y="286"/>
                  </a:lnTo>
                  <a:lnTo>
                    <a:pt x="114" y="284"/>
                  </a:lnTo>
                  <a:lnTo>
                    <a:pt x="100" y="280"/>
                  </a:lnTo>
                  <a:lnTo>
                    <a:pt x="86" y="274"/>
                  </a:lnTo>
                  <a:lnTo>
                    <a:pt x="74" y="268"/>
                  </a:lnTo>
                  <a:lnTo>
                    <a:pt x="62" y="262"/>
                  </a:lnTo>
                  <a:lnTo>
                    <a:pt x="50" y="254"/>
                  </a:lnTo>
                  <a:lnTo>
                    <a:pt x="40" y="244"/>
                  </a:lnTo>
                  <a:lnTo>
                    <a:pt x="32" y="234"/>
                  </a:lnTo>
                  <a:lnTo>
                    <a:pt x="24" y="222"/>
                  </a:lnTo>
                  <a:lnTo>
                    <a:pt x="16" y="212"/>
                  </a:lnTo>
                  <a:lnTo>
                    <a:pt x="10" y="198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6" y="76"/>
                  </a:lnTo>
                  <a:lnTo>
                    <a:pt x="24" y="64"/>
                  </a:lnTo>
                  <a:lnTo>
                    <a:pt x="32" y="52"/>
                  </a:lnTo>
                  <a:lnTo>
                    <a:pt x="40" y="42"/>
                  </a:lnTo>
                  <a:lnTo>
                    <a:pt x="50" y="32"/>
                  </a:lnTo>
                  <a:lnTo>
                    <a:pt x="62" y="24"/>
                  </a:lnTo>
                  <a:lnTo>
                    <a:pt x="74" y="18"/>
                  </a:lnTo>
                  <a:lnTo>
                    <a:pt x="86" y="12"/>
                  </a:lnTo>
                  <a:lnTo>
                    <a:pt x="100" y="6"/>
                  </a:lnTo>
                  <a:lnTo>
                    <a:pt x="114" y="4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4"/>
                  </a:lnTo>
                  <a:lnTo>
                    <a:pt x="184" y="6"/>
                  </a:lnTo>
                  <a:lnTo>
                    <a:pt x="198" y="12"/>
                  </a:lnTo>
                  <a:lnTo>
                    <a:pt x="210" y="18"/>
                  </a:lnTo>
                  <a:lnTo>
                    <a:pt x="222" y="24"/>
                  </a:lnTo>
                  <a:lnTo>
                    <a:pt x="232" y="32"/>
                  </a:lnTo>
                  <a:lnTo>
                    <a:pt x="242" y="42"/>
                  </a:lnTo>
                  <a:lnTo>
                    <a:pt x="252" y="52"/>
                  </a:lnTo>
                  <a:lnTo>
                    <a:pt x="260" y="64"/>
                  </a:lnTo>
                  <a:lnTo>
                    <a:pt x="268" y="76"/>
                  </a:lnTo>
                  <a:lnTo>
                    <a:pt x="274" y="88"/>
                  </a:lnTo>
                  <a:lnTo>
                    <a:pt x="278" y="100"/>
                  </a:lnTo>
                  <a:lnTo>
                    <a:pt x="282" y="114"/>
                  </a:lnTo>
                  <a:lnTo>
                    <a:pt x="284" y="128"/>
                  </a:lnTo>
                  <a:lnTo>
                    <a:pt x="284" y="144"/>
                  </a:lnTo>
                  <a:lnTo>
                    <a:pt x="284" y="144"/>
                  </a:lnTo>
                  <a:close/>
                </a:path>
              </a:pathLst>
            </a:custGeom>
            <a:solidFill>
              <a:srgbClr val="fde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13"/>
            <p:cNvSpPr/>
            <p:nvPr/>
          </p:nvSpPr>
          <p:spPr>
            <a:xfrm>
              <a:off x="8493120" y="11715840"/>
              <a:ext cx="419040" cy="4190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64" h="264">
                  <a:moveTo>
                    <a:pt x="264" y="132"/>
                  </a:moveTo>
                  <a:lnTo>
                    <a:pt x="264" y="132"/>
                  </a:lnTo>
                  <a:lnTo>
                    <a:pt x="262" y="146"/>
                  </a:lnTo>
                  <a:lnTo>
                    <a:pt x="260" y="158"/>
                  </a:lnTo>
                  <a:lnTo>
                    <a:pt x="258" y="170"/>
                  </a:lnTo>
                  <a:lnTo>
                    <a:pt x="254" y="182"/>
                  </a:lnTo>
                  <a:lnTo>
                    <a:pt x="248" y="194"/>
                  </a:lnTo>
                  <a:lnTo>
                    <a:pt x="242" y="206"/>
                  </a:lnTo>
                  <a:lnTo>
                    <a:pt x="234" y="216"/>
                  </a:lnTo>
                  <a:lnTo>
                    <a:pt x="224" y="224"/>
                  </a:lnTo>
                  <a:lnTo>
                    <a:pt x="216" y="234"/>
                  </a:lnTo>
                  <a:lnTo>
                    <a:pt x="206" y="242"/>
                  </a:lnTo>
                  <a:lnTo>
                    <a:pt x="194" y="248"/>
                  </a:lnTo>
                  <a:lnTo>
                    <a:pt x="182" y="254"/>
                  </a:lnTo>
                  <a:lnTo>
                    <a:pt x="170" y="258"/>
                  </a:lnTo>
                  <a:lnTo>
                    <a:pt x="158" y="262"/>
                  </a:lnTo>
                  <a:lnTo>
                    <a:pt x="144" y="264"/>
                  </a:lnTo>
                  <a:lnTo>
                    <a:pt x="132" y="264"/>
                  </a:lnTo>
                  <a:lnTo>
                    <a:pt x="132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8"/>
                  </a:lnTo>
                  <a:lnTo>
                    <a:pt x="80" y="254"/>
                  </a:lnTo>
                  <a:lnTo>
                    <a:pt x="68" y="248"/>
                  </a:lnTo>
                  <a:lnTo>
                    <a:pt x="58" y="242"/>
                  </a:lnTo>
                  <a:lnTo>
                    <a:pt x="48" y="234"/>
                  </a:lnTo>
                  <a:lnTo>
                    <a:pt x="38" y="224"/>
                  </a:lnTo>
                  <a:lnTo>
                    <a:pt x="30" y="216"/>
                  </a:lnTo>
                  <a:lnTo>
                    <a:pt x="22" y="206"/>
                  </a:lnTo>
                  <a:lnTo>
                    <a:pt x="16" y="194"/>
                  </a:lnTo>
                  <a:lnTo>
                    <a:pt x="10" y="182"/>
                  </a:lnTo>
                  <a:lnTo>
                    <a:pt x="6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0"/>
                  </a:lnTo>
                  <a:lnTo>
                    <a:pt x="16" y="68"/>
                  </a:lnTo>
                  <a:lnTo>
                    <a:pt x="22" y="58"/>
                  </a:lnTo>
                  <a:lnTo>
                    <a:pt x="30" y="48"/>
                  </a:lnTo>
                  <a:lnTo>
                    <a:pt x="38" y="38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8" y="16"/>
                  </a:lnTo>
                  <a:lnTo>
                    <a:pt x="80" y="10"/>
                  </a:lnTo>
                  <a:lnTo>
                    <a:pt x="92" y="6"/>
                  </a:lnTo>
                  <a:lnTo>
                    <a:pt x="104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8" y="2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4" y="16"/>
                  </a:lnTo>
                  <a:lnTo>
                    <a:pt x="206" y="22"/>
                  </a:lnTo>
                  <a:lnTo>
                    <a:pt x="216" y="30"/>
                  </a:lnTo>
                  <a:lnTo>
                    <a:pt x="224" y="38"/>
                  </a:lnTo>
                  <a:lnTo>
                    <a:pt x="234" y="48"/>
                  </a:lnTo>
                  <a:lnTo>
                    <a:pt x="242" y="58"/>
                  </a:lnTo>
                  <a:lnTo>
                    <a:pt x="248" y="68"/>
                  </a:lnTo>
                  <a:lnTo>
                    <a:pt x="254" y="80"/>
                  </a:lnTo>
                  <a:lnTo>
                    <a:pt x="258" y="92"/>
                  </a:lnTo>
                  <a:lnTo>
                    <a:pt x="260" y="104"/>
                  </a:lnTo>
                  <a:lnTo>
                    <a:pt x="262" y="118"/>
                  </a:lnTo>
                  <a:lnTo>
                    <a:pt x="264" y="132"/>
                  </a:lnTo>
                  <a:lnTo>
                    <a:pt x="264" y="132"/>
                  </a:lnTo>
                  <a:close/>
                </a:path>
              </a:pathLst>
            </a:custGeom>
            <a:solidFill>
              <a:srgbClr val="fde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414"/>
            <p:cNvSpPr/>
            <p:nvPr/>
          </p:nvSpPr>
          <p:spPr>
            <a:xfrm>
              <a:off x="8499240" y="11725200"/>
              <a:ext cx="384120" cy="3870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42" h="244">
                  <a:moveTo>
                    <a:pt x="242" y="122"/>
                  </a:moveTo>
                  <a:lnTo>
                    <a:pt x="242" y="122"/>
                  </a:lnTo>
                  <a:lnTo>
                    <a:pt x="242" y="134"/>
                  </a:lnTo>
                  <a:lnTo>
                    <a:pt x="240" y="146"/>
                  </a:lnTo>
                  <a:lnTo>
                    <a:pt x="234" y="170"/>
                  </a:lnTo>
                  <a:lnTo>
                    <a:pt x="222" y="190"/>
                  </a:lnTo>
                  <a:lnTo>
                    <a:pt x="206" y="208"/>
                  </a:lnTo>
                  <a:lnTo>
                    <a:pt x="188" y="222"/>
                  </a:lnTo>
                  <a:lnTo>
                    <a:pt x="168" y="234"/>
                  </a:lnTo>
                  <a:lnTo>
                    <a:pt x="146" y="242"/>
                  </a:lnTo>
                  <a:lnTo>
                    <a:pt x="134" y="242"/>
                  </a:lnTo>
                  <a:lnTo>
                    <a:pt x="122" y="244"/>
                  </a:lnTo>
                  <a:lnTo>
                    <a:pt x="122" y="244"/>
                  </a:lnTo>
                  <a:lnTo>
                    <a:pt x="108" y="242"/>
                  </a:lnTo>
                  <a:lnTo>
                    <a:pt x="96" y="242"/>
                  </a:lnTo>
                  <a:lnTo>
                    <a:pt x="74" y="234"/>
                  </a:lnTo>
                  <a:lnTo>
                    <a:pt x="54" y="222"/>
                  </a:lnTo>
                  <a:lnTo>
                    <a:pt x="36" y="208"/>
                  </a:lnTo>
                  <a:lnTo>
                    <a:pt x="20" y="190"/>
                  </a:lnTo>
                  <a:lnTo>
                    <a:pt x="10" y="170"/>
                  </a:lnTo>
                  <a:lnTo>
                    <a:pt x="2" y="146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0"/>
                  </a:lnTo>
                  <a:lnTo>
                    <a:pt x="2" y="98"/>
                  </a:lnTo>
                  <a:lnTo>
                    <a:pt x="10" y="74"/>
                  </a:lnTo>
                  <a:lnTo>
                    <a:pt x="20" y="54"/>
                  </a:lnTo>
                  <a:lnTo>
                    <a:pt x="36" y="36"/>
                  </a:lnTo>
                  <a:lnTo>
                    <a:pt x="54" y="22"/>
                  </a:lnTo>
                  <a:lnTo>
                    <a:pt x="74" y="10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4" y="0"/>
                  </a:lnTo>
                  <a:lnTo>
                    <a:pt x="146" y="2"/>
                  </a:lnTo>
                  <a:lnTo>
                    <a:pt x="168" y="10"/>
                  </a:lnTo>
                  <a:lnTo>
                    <a:pt x="188" y="22"/>
                  </a:lnTo>
                  <a:lnTo>
                    <a:pt x="206" y="36"/>
                  </a:lnTo>
                  <a:lnTo>
                    <a:pt x="222" y="54"/>
                  </a:lnTo>
                  <a:lnTo>
                    <a:pt x="234" y="74"/>
                  </a:lnTo>
                  <a:lnTo>
                    <a:pt x="240" y="98"/>
                  </a:lnTo>
                  <a:lnTo>
                    <a:pt x="242" y="110"/>
                  </a:lnTo>
                  <a:lnTo>
                    <a:pt x="242" y="122"/>
                  </a:lnTo>
                  <a:lnTo>
                    <a:pt x="242" y="122"/>
                  </a:lnTo>
                  <a:close/>
                </a:path>
              </a:pathLst>
            </a:custGeom>
            <a:solidFill>
              <a:srgbClr val="fee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415"/>
            <p:cNvSpPr/>
            <p:nvPr/>
          </p:nvSpPr>
          <p:spPr>
            <a:xfrm>
              <a:off x="8505720" y="11737800"/>
              <a:ext cx="352440" cy="3520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22" h="222">
                  <a:moveTo>
                    <a:pt x="222" y="110"/>
                  </a:moveTo>
                  <a:lnTo>
                    <a:pt x="222" y="110"/>
                  </a:lnTo>
                  <a:lnTo>
                    <a:pt x="220" y="132"/>
                  </a:lnTo>
                  <a:lnTo>
                    <a:pt x="212" y="154"/>
                  </a:lnTo>
                  <a:lnTo>
                    <a:pt x="202" y="172"/>
                  </a:lnTo>
                  <a:lnTo>
                    <a:pt x="190" y="188"/>
                  </a:lnTo>
                  <a:lnTo>
                    <a:pt x="172" y="202"/>
                  </a:lnTo>
                  <a:lnTo>
                    <a:pt x="154" y="212"/>
                  </a:lnTo>
                  <a:lnTo>
                    <a:pt x="132" y="218"/>
                  </a:lnTo>
                  <a:lnTo>
                    <a:pt x="110" y="222"/>
                  </a:lnTo>
                  <a:lnTo>
                    <a:pt x="110" y="222"/>
                  </a:lnTo>
                  <a:lnTo>
                    <a:pt x="88" y="218"/>
                  </a:lnTo>
                  <a:lnTo>
                    <a:pt x="68" y="212"/>
                  </a:lnTo>
                  <a:lnTo>
                    <a:pt x="48" y="202"/>
                  </a:lnTo>
                  <a:lnTo>
                    <a:pt x="32" y="188"/>
                  </a:lnTo>
                  <a:lnTo>
                    <a:pt x="18" y="172"/>
                  </a:lnTo>
                  <a:lnTo>
                    <a:pt x="8" y="154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8" y="48"/>
                  </a:lnTo>
                  <a:lnTo>
                    <a:pt x="32" y="32"/>
                  </a:lnTo>
                  <a:lnTo>
                    <a:pt x="48" y="18"/>
                  </a:lnTo>
                  <a:lnTo>
                    <a:pt x="68" y="8"/>
                  </a:lnTo>
                  <a:lnTo>
                    <a:pt x="88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32" y="2"/>
                  </a:lnTo>
                  <a:lnTo>
                    <a:pt x="154" y="8"/>
                  </a:lnTo>
                  <a:lnTo>
                    <a:pt x="172" y="18"/>
                  </a:lnTo>
                  <a:lnTo>
                    <a:pt x="190" y="32"/>
                  </a:lnTo>
                  <a:lnTo>
                    <a:pt x="202" y="48"/>
                  </a:lnTo>
                  <a:lnTo>
                    <a:pt x="212" y="68"/>
                  </a:lnTo>
                  <a:lnTo>
                    <a:pt x="220" y="88"/>
                  </a:lnTo>
                  <a:lnTo>
                    <a:pt x="222" y="110"/>
                  </a:lnTo>
                  <a:lnTo>
                    <a:pt x="222" y="110"/>
                  </a:lnTo>
                  <a:close/>
                </a:path>
              </a:pathLst>
            </a:custGeom>
            <a:solidFill>
              <a:srgbClr val="fee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416"/>
            <p:cNvSpPr/>
            <p:nvPr/>
          </p:nvSpPr>
          <p:spPr>
            <a:xfrm>
              <a:off x="8512200" y="11747520"/>
              <a:ext cx="317520" cy="3204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00" h="202">
                  <a:moveTo>
                    <a:pt x="200" y="100"/>
                  </a:moveTo>
                  <a:lnTo>
                    <a:pt x="200" y="100"/>
                  </a:lnTo>
                  <a:lnTo>
                    <a:pt x="198" y="120"/>
                  </a:lnTo>
                  <a:lnTo>
                    <a:pt x="192" y="140"/>
                  </a:lnTo>
                  <a:lnTo>
                    <a:pt x="184" y="156"/>
                  </a:lnTo>
                  <a:lnTo>
                    <a:pt x="172" y="172"/>
                  </a:lnTo>
                  <a:lnTo>
                    <a:pt x="156" y="184"/>
                  </a:lnTo>
                  <a:lnTo>
                    <a:pt x="140" y="194"/>
                  </a:lnTo>
                  <a:lnTo>
                    <a:pt x="120" y="198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80" y="198"/>
                  </a:lnTo>
                  <a:lnTo>
                    <a:pt x="62" y="194"/>
                  </a:lnTo>
                  <a:lnTo>
                    <a:pt x="44" y="184"/>
                  </a:lnTo>
                  <a:lnTo>
                    <a:pt x="30" y="172"/>
                  </a:lnTo>
                  <a:lnTo>
                    <a:pt x="18" y="156"/>
                  </a:lnTo>
                  <a:lnTo>
                    <a:pt x="8" y="140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8" y="62"/>
                  </a:lnTo>
                  <a:lnTo>
                    <a:pt x="18" y="44"/>
                  </a:lnTo>
                  <a:lnTo>
                    <a:pt x="30" y="30"/>
                  </a:lnTo>
                  <a:lnTo>
                    <a:pt x="44" y="18"/>
                  </a:lnTo>
                  <a:lnTo>
                    <a:pt x="62" y="8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20" y="2"/>
                  </a:lnTo>
                  <a:lnTo>
                    <a:pt x="140" y="8"/>
                  </a:lnTo>
                  <a:lnTo>
                    <a:pt x="156" y="18"/>
                  </a:lnTo>
                  <a:lnTo>
                    <a:pt x="172" y="30"/>
                  </a:lnTo>
                  <a:lnTo>
                    <a:pt x="184" y="44"/>
                  </a:lnTo>
                  <a:lnTo>
                    <a:pt x="192" y="62"/>
                  </a:lnTo>
                  <a:lnTo>
                    <a:pt x="198" y="80"/>
                  </a:lnTo>
                  <a:lnTo>
                    <a:pt x="200" y="100"/>
                  </a:lnTo>
                  <a:lnTo>
                    <a:pt x="200" y="100"/>
                  </a:lnTo>
                  <a:close/>
                </a:path>
              </a:pathLst>
            </a:custGeom>
            <a:solidFill>
              <a:srgbClr val="fee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417"/>
            <p:cNvSpPr/>
            <p:nvPr/>
          </p:nvSpPr>
          <p:spPr>
            <a:xfrm>
              <a:off x="8518320" y="11760120"/>
              <a:ext cx="285480" cy="2822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80" h="178">
                  <a:moveTo>
                    <a:pt x="180" y="90"/>
                  </a:moveTo>
                  <a:lnTo>
                    <a:pt x="180" y="90"/>
                  </a:lnTo>
                  <a:lnTo>
                    <a:pt x="178" y="108"/>
                  </a:lnTo>
                  <a:lnTo>
                    <a:pt x="172" y="124"/>
                  </a:lnTo>
                  <a:lnTo>
                    <a:pt x="164" y="140"/>
                  </a:lnTo>
                  <a:lnTo>
                    <a:pt x="154" y="152"/>
                  </a:lnTo>
                  <a:lnTo>
                    <a:pt x="140" y="164"/>
                  </a:lnTo>
                  <a:lnTo>
                    <a:pt x="124" y="172"/>
                  </a:lnTo>
                  <a:lnTo>
                    <a:pt x="108" y="176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72" y="176"/>
                  </a:lnTo>
                  <a:lnTo>
                    <a:pt x="54" y="172"/>
                  </a:lnTo>
                  <a:lnTo>
                    <a:pt x="40" y="164"/>
                  </a:lnTo>
                  <a:lnTo>
                    <a:pt x="26" y="152"/>
                  </a:lnTo>
                  <a:lnTo>
                    <a:pt x="16" y="140"/>
                  </a:lnTo>
                  <a:lnTo>
                    <a:pt x="8" y="124"/>
                  </a:lnTo>
                  <a:lnTo>
                    <a:pt x="2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8" y="54"/>
                  </a:lnTo>
                  <a:lnTo>
                    <a:pt x="16" y="40"/>
                  </a:lnTo>
                  <a:lnTo>
                    <a:pt x="26" y="26"/>
                  </a:lnTo>
                  <a:lnTo>
                    <a:pt x="40" y="14"/>
                  </a:lnTo>
                  <a:lnTo>
                    <a:pt x="54" y="6"/>
                  </a:lnTo>
                  <a:lnTo>
                    <a:pt x="72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8" y="2"/>
                  </a:lnTo>
                  <a:lnTo>
                    <a:pt x="124" y="6"/>
                  </a:lnTo>
                  <a:lnTo>
                    <a:pt x="140" y="14"/>
                  </a:lnTo>
                  <a:lnTo>
                    <a:pt x="154" y="26"/>
                  </a:lnTo>
                  <a:lnTo>
                    <a:pt x="164" y="40"/>
                  </a:lnTo>
                  <a:lnTo>
                    <a:pt x="172" y="54"/>
                  </a:lnTo>
                  <a:lnTo>
                    <a:pt x="178" y="72"/>
                  </a:lnTo>
                  <a:lnTo>
                    <a:pt x="180" y="90"/>
                  </a:lnTo>
                  <a:lnTo>
                    <a:pt x="180" y="90"/>
                  </a:lnTo>
                  <a:close/>
                </a:path>
              </a:pathLst>
            </a:custGeom>
            <a:solidFill>
              <a:srgbClr val="fef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418"/>
            <p:cNvSpPr/>
            <p:nvPr/>
          </p:nvSpPr>
          <p:spPr>
            <a:xfrm>
              <a:off x="8524800" y="11769840"/>
              <a:ext cx="250560" cy="2505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8" h="158">
                  <a:moveTo>
                    <a:pt x="158" y="80"/>
                  </a:moveTo>
                  <a:lnTo>
                    <a:pt x="158" y="80"/>
                  </a:lnTo>
                  <a:lnTo>
                    <a:pt x="156" y="96"/>
                  </a:lnTo>
                  <a:lnTo>
                    <a:pt x="152" y="110"/>
                  </a:lnTo>
                  <a:lnTo>
                    <a:pt x="144" y="124"/>
                  </a:lnTo>
                  <a:lnTo>
                    <a:pt x="136" y="136"/>
                  </a:lnTo>
                  <a:lnTo>
                    <a:pt x="124" y="146"/>
                  </a:lnTo>
                  <a:lnTo>
                    <a:pt x="110" y="152"/>
                  </a:lnTo>
                  <a:lnTo>
                    <a:pt x="96" y="156"/>
                  </a:lnTo>
                  <a:lnTo>
                    <a:pt x="80" y="158"/>
                  </a:lnTo>
                  <a:lnTo>
                    <a:pt x="80" y="158"/>
                  </a:lnTo>
                  <a:lnTo>
                    <a:pt x="64" y="156"/>
                  </a:lnTo>
                  <a:lnTo>
                    <a:pt x="48" y="152"/>
                  </a:lnTo>
                  <a:lnTo>
                    <a:pt x="36" y="146"/>
                  </a:lnTo>
                  <a:lnTo>
                    <a:pt x="24" y="136"/>
                  </a:lnTo>
                  <a:lnTo>
                    <a:pt x="14" y="124"/>
                  </a:lnTo>
                  <a:lnTo>
                    <a:pt x="6" y="110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8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48" y="6"/>
                  </a:lnTo>
                  <a:lnTo>
                    <a:pt x="6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4"/>
                  </a:lnTo>
                  <a:lnTo>
                    <a:pt x="136" y="24"/>
                  </a:lnTo>
                  <a:lnTo>
                    <a:pt x="144" y="36"/>
                  </a:lnTo>
                  <a:lnTo>
                    <a:pt x="152" y="48"/>
                  </a:lnTo>
                  <a:lnTo>
                    <a:pt x="156" y="64"/>
                  </a:lnTo>
                  <a:lnTo>
                    <a:pt x="158" y="80"/>
                  </a:lnTo>
                  <a:lnTo>
                    <a:pt x="158" y="80"/>
                  </a:lnTo>
                  <a:close/>
                </a:path>
              </a:pathLst>
            </a:custGeom>
            <a:solidFill>
              <a:srgbClr val="fef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419"/>
            <p:cNvSpPr/>
            <p:nvPr/>
          </p:nvSpPr>
          <p:spPr>
            <a:xfrm>
              <a:off x="8531280" y="11782440"/>
              <a:ext cx="218880" cy="2156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8" h="136">
                  <a:moveTo>
                    <a:pt x="138" y="68"/>
                  </a:moveTo>
                  <a:lnTo>
                    <a:pt x="138" y="68"/>
                  </a:lnTo>
                  <a:lnTo>
                    <a:pt x="136" y="82"/>
                  </a:lnTo>
                  <a:lnTo>
                    <a:pt x="132" y="94"/>
                  </a:lnTo>
                  <a:lnTo>
                    <a:pt x="126" y="106"/>
                  </a:lnTo>
                  <a:lnTo>
                    <a:pt x="118" y="116"/>
                  </a:lnTo>
                  <a:lnTo>
                    <a:pt x="108" y="124"/>
                  </a:lnTo>
                  <a:lnTo>
                    <a:pt x="96" y="130"/>
                  </a:lnTo>
                  <a:lnTo>
                    <a:pt x="82" y="134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56" y="134"/>
                  </a:lnTo>
                  <a:lnTo>
                    <a:pt x="42" y="130"/>
                  </a:lnTo>
                  <a:lnTo>
                    <a:pt x="30" y="124"/>
                  </a:lnTo>
                  <a:lnTo>
                    <a:pt x="20" y="116"/>
                  </a:lnTo>
                  <a:lnTo>
                    <a:pt x="12" y="106"/>
                  </a:lnTo>
                  <a:lnTo>
                    <a:pt x="6" y="94"/>
                  </a:lnTo>
                  <a:lnTo>
                    <a:pt x="2" y="8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2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96" y="4"/>
                  </a:lnTo>
                  <a:lnTo>
                    <a:pt x="108" y="12"/>
                  </a:lnTo>
                  <a:lnTo>
                    <a:pt x="118" y="20"/>
                  </a:lnTo>
                  <a:lnTo>
                    <a:pt x="126" y="30"/>
                  </a:lnTo>
                  <a:lnTo>
                    <a:pt x="132" y="42"/>
                  </a:lnTo>
                  <a:lnTo>
                    <a:pt x="136" y="54"/>
                  </a:lnTo>
                  <a:lnTo>
                    <a:pt x="138" y="68"/>
                  </a:lnTo>
                  <a:lnTo>
                    <a:pt x="138" y="68"/>
                  </a:lnTo>
                  <a:close/>
                </a:path>
              </a:pathLst>
            </a:custGeom>
            <a:solidFill>
              <a:srgbClr val="fef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420"/>
            <p:cNvSpPr/>
            <p:nvPr/>
          </p:nvSpPr>
          <p:spPr>
            <a:xfrm>
              <a:off x="8537400" y="11791800"/>
              <a:ext cx="183960" cy="18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6" h="116">
                  <a:moveTo>
                    <a:pt x="116" y="58"/>
                  </a:moveTo>
                  <a:lnTo>
                    <a:pt x="116" y="58"/>
                  </a:lnTo>
                  <a:lnTo>
                    <a:pt x="116" y="70"/>
                  </a:lnTo>
                  <a:lnTo>
                    <a:pt x="112" y="80"/>
                  </a:lnTo>
                  <a:lnTo>
                    <a:pt x="106" y="90"/>
                  </a:lnTo>
                  <a:lnTo>
                    <a:pt x="100" y="100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0" y="114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46" y="114"/>
                  </a:lnTo>
                  <a:lnTo>
                    <a:pt x="36" y="112"/>
                  </a:lnTo>
                  <a:lnTo>
                    <a:pt x="26" y="106"/>
                  </a:lnTo>
                  <a:lnTo>
                    <a:pt x="18" y="100"/>
                  </a:lnTo>
                  <a:lnTo>
                    <a:pt x="10" y="90"/>
                  </a:lnTo>
                  <a:lnTo>
                    <a:pt x="6" y="80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10" y="26"/>
                  </a:lnTo>
                  <a:lnTo>
                    <a:pt x="18" y="18"/>
                  </a:lnTo>
                  <a:lnTo>
                    <a:pt x="26" y="10"/>
                  </a:lnTo>
                  <a:lnTo>
                    <a:pt x="36" y="6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2"/>
                  </a:lnTo>
                  <a:lnTo>
                    <a:pt x="80" y="6"/>
                  </a:lnTo>
                  <a:lnTo>
                    <a:pt x="90" y="10"/>
                  </a:lnTo>
                  <a:lnTo>
                    <a:pt x="100" y="18"/>
                  </a:lnTo>
                  <a:lnTo>
                    <a:pt x="106" y="26"/>
                  </a:lnTo>
                  <a:lnTo>
                    <a:pt x="112" y="36"/>
                  </a:lnTo>
                  <a:lnTo>
                    <a:pt x="116" y="46"/>
                  </a:lnTo>
                  <a:lnTo>
                    <a:pt x="116" y="58"/>
                  </a:lnTo>
                  <a:lnTo>
                    <a:pt x="116" y="58"/>
                  </a:lnTo>
                  <a:close/>
                </a:path>
              </a:pathLst>
            </a:custGeom>
            <a:solidFill>
              <a:srgbClr val="fff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421"/>
            <p:cNvSpPr/>
            <p:nvPr/>
          </p:nvSpPr>
          <p:spPr>
            <a:xfrm>
              <a:off x="8547120" y="11804760"/>
              <a:ext cx="149040" cy="149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4" h="94">
                  <a:moveTo>
                    <a:pt x="94" y="46"/>
                  </a:moveTo>
                  <a:lnTo>
                    <a:pt x="94" y="46"/>
                  </a:lnTo>
                  <a:lnTo>
                    <a:pt x="92" y="56"/>
                  </a:lnTo>
                  <a:lnTo>
                    <a:pt x="90" y="66"/>
                  </a:lnTo>
                  <a:lnTo>
                    <a:pt x="86" y="74"/>
                  </a:lnTo>
                  <a:lnTo>
                    <a:pt x="80" y="80"/>
                  </a:lnTo>
                  <a:lnTo>
                    <a:pt x="72" y="86"/>
                  </a:lnTo>
                  <a:lnTo>
                    <a:pt x="64" y="90"/>
                  </a:lnTo>
                  <a:lnTo>
                    <a:pt x="56" y="92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36" y="92"/>
                  </a:lnTo>
                  <a:lnTo>
                    <a:pt x="28" y="90"/>
                  </a:lnTo>
                  <a:lnTo>
                    <a:pt x="20" y="86"/>
                  </a:lnTo>
                  <a:lnTo>
                    <a:pt x="12" y="80"/>
                  </a:lnTo>
                  <a:lnTo>
                    <a:pt x="8" y="74"/>
                  </a:lnTo>
                  <a:lnTo>
                    <a:pt x="2" y="6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80" y="14"/>
                  </a:lnTo>
                  <a:lnTo>
                    <a:pt x="86" y="20"/>
                  </a:lnTo>
                  <a:lnTo>
                    <a:pt x="90" y="28"/>
                  </a:lnTo>
                  <a:lnTo>
                    <a:pt x="92" y="38"/>
                  </a:lnTo>
                  <a:lnTo>
                    <a:pt x="94" y="46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fff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422"/>
            <p:cNvSpPr/>
            <p:nvPr/>
          </p:nvSpPr>
          <p:spPr>
            <a:xfrm>
              <a:off x="8553240" y="11814120"/>
              <a:ext cx="114120" cy="117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2" h="74">
                  <a:moveTo>
                    <a:pt x="72" y="38"/>
                  </a:moveTo>
                  <a:lnTo>
                    <a:pt x="72" y="38"/>
                  </a:lnTo>
                  <a:lnTo>
                    <a:pt x="72" y="44"/>
                  </a:lnTo>
                  <a:lnTo>
                    <a:pt x="70" y="52"/>
                  </a:lnTo>
                  <a:lnTo>
                    <a:pt x="66" y="58"/>
                  </a:lnTo>
                  <a:lnTo>
                    <a:pt x="62" y="62"/>
                  </a:lnTo>
                  <a:lnTo>
                    <a:pt x="56" y="68"/>
                  </a:lnTo>
                  <a:lnTo>
                    <a:pt x="50" y="70"/>
                  </a:lnTo>
                  <a:lnTo>
                    <a:pt x="44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8" y="72"/>
                  </a:lnTo>
                  <a:lnTo>
                    <a:pt x="22" y="70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2" y="12"/>
                  </a:lnTo>
                  <a:lnTo>
                    <a:pt x="66" y="16"/>
                  </a:lnTo>
                  <a:lnTo>
                    <a:pt x="70" y="24"/>
                  </a:lnTo>
                  <a:lnTo>
                    <a:pt x="72" y="30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fffa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423"/>
            <p:cNvSpPr/>
            <p:nvPr/>
          </p:nvSpPr>
          <p:spPr>
            <a:xfrm>
              <a:off x="8559720" y="1182672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52" y="26"/>
                  </a:move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ff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424"/>
            <p:cNvSpPr/>
            <p:nvPr/>
          </p:nvSpPr>
          <p:spPr>
            <a:xfrm>
              <a:off x="8566200" y="1183644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6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425"/>
            <p:cNvSpPr/>
            <p:nvPr/>
          </p:nvSpPr>
          <p:spPr>
            <a:xfrm>
              <a:off x="8572320" y="118490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8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426"/>
            <p:cNvSpPr/>
            <p:nvPr/>
          </p:nvSpPr>
          <p:spPr>
            <a:xfrm>
              <a:off x="8229600" y="12766680"/>
              <a:ext cx="1737000" cy="173664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94" h="1094">
                  <a:moveTo>
                    <a:pt x="1094" y="548"/>
                  </a:moveTo>
                  <a:lnTo>
                    <a:pt x="1094" y="548"/>
                  </a:lnTo>
                  <a:lnTo>
                    <a:pt x="1094" y="576"/>
                  </a:lnTo>
                  <a:lnTo>
                    <a:pt x="1092" y="604"/>
                  </a:lnTo>
                  <a:lnTo>
                    <a:pt x="1088" y="630"/>
                  </a:lnTo>
                  <a:lnTo>
                    <a:pt x="1084" y="658"/>
                  </a:lnTo>
                  <a:lnTo>
                    <a:pt x="1078" y="684"/>
                  </a:lnTo>
                  <a:lnTo>
                    <a:pt x="1070" y="710"/>
                  </a:lnTo>
                  <a:lnTo>
                    <a:pt x="1062" y="736"/>
                  </a:lnTo>
                  <a:lnTo>
                    <a:pt x="1052" y="760"/>
                  </a:lnTo>
                  <a:lnTo>
                    <a:pt x="1040" y="784"/>
                  </a:lnTo>
                  <a:lnTo>
                    <a:pt x="1028" y="808"/>
                  </a:lnTo>
                  <a:lnTo>
                    <a:pt x="1016" y="832"/>
                  </a:lnTo>
                  <a:lnTo>
                    <a:pt x="1002" y="854"/>
                  </a:lnTo>
                  <a:lnTo>
                    <a:pt x="986" y="874"/>
                  </a:lnTo>
                  <a:lnTo>
                    <a:pt x="970" y="896"/>
                  </a:lnTo>
                  <a:lnTo>
                    <a:pt x="952" y="916"/>
                  </a:lnTo>
                  <a:lnTo>
                    <a:pt x="934" y="934"/>
                  </a:lnTo>
                  <a:lnTo>
                    <a:pt x="916" y="952"/>
                  </a:lnTo>
                  <a:lnTo>
                    <a:pt x="896" y="970"/>
                  </a:lnTo>
                  <a:lnTo>
                    <a:pt x="876" y="986"/>
                  </a:lnTo>
                  <a:lnTo>
                    <a:pt x="854" y="1002"/>
                  </a:lnTo>
                  <a:lnTo>
                    <a:pt x="832" y="1016"/>
                  </a:lnTo>
                  <a:lnTo>
                    <a:pt x="808" y="1028"/>
                  </a:lnTo>
                  <a:lnTo>
                    <a:pt x="784" y="1040"/>
                  </a:lnTo>
                  <a:lnTo>
                    <a:pt x="760" y="1052"/>
                  </a:lnTo>
                  <a:lnTo>
                    <a:pt x="736" y="1062"/>
                  </a:lnTo>
                  <a:lnTo>
                    <a:pt x="710" y="1070"/>
                  </a:lnTo>
                  <a:lnTo>
                    <a:pt x="684" y="1078"/>
                  </a:lnTo>
                  <a:lnTo>
                    <a:pt x="658" y="1084"/>
                  </a:lnTo>
                  <a:lnTo>
                    <a:pt x="632" y="1088"/>
                  </a:lnTo>
                  <a:lnTo>
                    <a:pt x="604" y="1092"/>
                  </a:lnTo>
                  <a:lnTo>
                    <a:pt x="576" y="1094"/>
                  </a:lnTo>
                  <a:lnTo>
                    <a:pt x="548" y="1094"/>
                  </a:lnTo>
                  <a:lnTo>
                    <a:pt x="548" y="1094"/>
                  </a:lnTo>
                  <a:lnTo>
                    <a:pt x="520" y="1094"/>
                  </a:lnTo>
                  <a:lnTo>
                    <a:pt x="492" y="1092"/>
                  </a:lnTo>
                  <a:lnTo>
                    <a:pt x="464" y="1088"/>
                  </a:lnTo>
                  <a:lnTo>
                    <a:pt x="438" y="1084"/>
                  </a:lnTo>
                  <a:lnTo>
                    <a:pt x="410" y="1078"/>
                  </a:lnTo>
                  <a:lnTo>
                    <a:pt x="386" y="1070"/>
                  </a:lnTo>
                  <a:lnTo>
                    <a:pt x="360" y="1062"/>
                  </a:lnTo>
                  <a:lnTo>
                    <a:pt x="334" y="1052"/>
                  </a:lnTo>
                  <a:lnTo>
                    <a:pt x="310" y="1040"/>
                  </a:lnTo>
                  <a:lnTo>
                    <a:pt x="286" y="1028"/>
                  </a:lnTo>
                  <a:lnTo>
                    <a:pt x="264" y="1016"/>
                  </a:lnTo>
                  <a:lnTo>
                    <a:pt x="242" y="1002"/>
                  </a:lnTo>
                  <a:lnTo>
                    <a:pt x="220" y="986"/>
                  </a:lnTo>
                  <a:lnTo>
                    <a:pt x="200" y="970"/>
                  </a:lnTo>
                  <a:lnTo>
                    <a:pt x="180" y="952"/>
                  </a:lnTo>
                  <a:lnTo>
                    <a:pt x="160" y="934"/>
                  </a:lnTo>
                  <a:lnTo>
                    <a:pt x="142" y="916"/>
                  </a:lnTo>
                  <a:lnTo>
                    <a:pt x="126" y="896"/>
                  </a:lnTo>
                  <a:lnTo>
                    <a:pt x="110" y="874"/>
                  </a:lnTo>
                  <a:lnTo>
                    <a:pt x="94" y="854"/>
                  </a:lnTo>
                  <a:lnTo>
                    <a:pt x="80" y="832"/>
                  </a:lnTo>
                  <a:lnTo>
                    <a:pt x="66" y="808"/>
                  </a:lnTo>
                  <a:lnTo>
                    <a:pt x="54" y="784"/>
                  </a:lnTo>
                  <a:lnTo>
                    <a:pt x="44" y="760"/>
                  </a:lnTo>
                  <a:lnTo>
                    <a:pt x="34" y="736"/>
                  </a:lnTo>
                  <a:lnTo>
                    <a:pt x="26" y="710"/>
                  </a:lnTo>
                  <a:lnTo>
                    <a:pt x="18" y="684"/>
                  </a:lnTo>
                  <a:lnTo>
                    <a:pt x="12" y="658"/>
                  </a:lnTo>
                  <a:lnTo>
                    <a:pt x="6" y="630"/>
                  </a:lnTo>
                  <a:lnTo>
                    <a:pt x="4" y="604"/>
                  </a:lnTo>
                  <a:lnTo>
                    <a:pt x="2" y="576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2" y="520"/>
                  </a:lnTo>
                  <a:lnTo>
                    <a:pt x="4" y="492"/>
                  </a:lnTo>
                  <a:lnTo>
                    <a:pt x="6" y="464"/>
                  </a:lnTo>
                  <a:lnTo>
                    <a:pt x="12" y="438"/>
                  </a:lnTo>
                  <a:lnTo>
                    <a:pt x="18" y="410"/>
                  </a:lnTo>
                  <a:lnTo>
                    <a:pt x="26" y="384"/>
                  </a:lnTo>
                  <a:lnTo>
                    <a:pt x="34" y="360"/>
                  </a:lnTo>
                  <a:lnTo>
                    <a:pt x="44" y="334"/>
                  </a:lnTo>
                  <a:lnTo>
                    <a:pt x="54" y="310"/>
                  </a:lnTo>
                  <a:lnTo>
                    <a:pt x="66" y="286"/>
                  </a:lnTo>
                  <a:lnTo>
                    <a:pt x="80" y="264"/>
                  </a:lnTo>
                  <a:lnTo>
                    <a:pt x="94" y="242"/>
                  </a:lnTo>
                  <a:lnTo>
                    <a:pt x="110" y="220"/>
                  </a:lnTo>
                  <a:lnTo>
                    <a:pt x="126" y="200"/>
                  </a:lnTo>
                  <a:lnTo>
                    <a:pt x="142" y="180"/>
                  </a:lnTo>
                  <a:lnTo>
                    <a:pt x="160" y="160"/>
                  </a:lnTo>
                  <a:lnTo>
                    <a:pt x="180" y="142"/>
                  </a:lnTo>
                  <a:lnTo>
                    <a:pt x="200" y="126"/>
                  </a:lnTo>
                  <a:lnTo>
                    <a:pt x="220" y="110"/>
                  </a:lnTo>
                  <a:lnTo>
                    <a:pt x="242" y="94"/>
                  </a:lnTo>
                  <a:lnTo>
                    <a:pt x="264" y="80"/>
                  </a:lnTo>
                  <a:lnTo>
                    <a:pt x="286" y="66"/>
                  </a:lnTo>
                  <a:lnTo>
                    <a:pt x="310" y="54"/>
                  </a:lnTo>
                  <a:lnTo>
                    <a:pt x="334" y="44"/>
                  </a:lnTo>
                  <a:lnTo>
                    <a:pt x="360" y="34"/>
                  </a:lnTo>
                  <a:lnTo>
                    <a:pt x="386" y="24"/>
                  </a:lnTo>
                  <a:lnTo>
                    <a:pt x="410" y="18"/>
                  </a:lnTo>
                  <a:lnTo>
                    <a:pt x="438" y="12"/>
                  </a:lnTo>
                  <a:lnTo>
                    <a:pt x="464" y="6"/>
                  </a:lnTo>
                  <a:lnTo>
                    <a:pt x="492" y="4"/>
                  </a:lnTo>
                  <a:lnTo>
                    <a:pt x="520" y="2"/>
                  </a:lnTo>
                  <a:lnTo>
                    <a:pt x="548" y="0"/>
                  </a:lnTo>
                  <a:lnTo>
                    <a:pt x="548" y="0"/>
                  </a:lnTo>
                  <a:lnTo>
                    <a:pt x="576" y="2"/>
                  </a:lnTo>
                  <a:lnTo>
                    <a:pt x="604" y="4"/>
                  </a:lnTo>
                  <a:lnTo>
                    <a:pt x="632" y="6"/>
                  </a:lnTo>
                  <a:lnTo>
                    <a:pt x="658" y="12"/>
                  </a:lnTo>
                  <a:lnTo>
                    <a:pt x="684" y="18"/>
                  </a:lnTo>
                  <a:lnTo>
                    <a:pt x="710" y="24"/>
                  </a:lnTo>
                  <a:lnTo>
                    <a:pt x="736" y="34"/>
                  </a:lnTo>
                  <a:lnTo>
                    <a:pt x="760" y="44"/>
                  </a:lnTo>
                  <a:lnTo>
                    <a:pt x="784" y="54"/>
                  </a:lnTo>
                  <a:lnTo>
                    <a:pt x="808" y="66"/>
                  </a:lnTo>
                  <a:lnTo>
                    <a:pt x="832" y="80"/>
                  </a:lnTo>
                  <a:lnTo>
                    <a:pt x="854" y="94"/>
                  </a:lnTo>
                  <a:lnTo>
                    <a:pt x="876" y="110"/>
                  </a:lnTo>
                  <a:lnTo>
                    <a:pt x="896" y="126"/>
                  </a:lnTo>
                  <a:lnTo>
                    <a:pt x="916" y="142"/>
                  </a:lnTo>
                  <a:lnTo>
                    <a:pt x="934" y="160"/>
                  </a:lnTo>
                  <a:lnTo>
                    <a:pt x="952" y="180"/>
                  </a:lnTo>
                  <a:lnTo>
                    <a:pt x="970" y="200"/>
                  </a:lnTo>
                  <a:lnTo>
                    <a:pt x="986" y="220"/>
                  </a:lnTo>
                  <a:lnTo>
                    <a:pt x="1002" y="242"/>
                  </a:lnTo>
                  <a:lnTo>
                    <a:pt x="1016" y="264"/>
                  </a:lnTo>
                  <a:lnTo>
                    <a:pt x="1028" y="286"/>
                  </a:lnTo>
                  <a:lnTo>
                    <a:pt x="1040" y="310"/>
                  </a:lnTo>
                  <a:lnTo>
                    <a:pt x="1052" y="334"/>
                  </a:lnTo>
                  <a:lnTo>
                    <a:pt x="1062" y="360"/>
                  </a:lnTo>
                  <a:lnTo>
                    <a:pt x="1070" y="384"/>
                  </a:lnTo>
                  <a:lnTo>
                    <a:pt x="1078" y="410"/>
                  </a:lnTo>
                  <a:lnTo>
                    <a:pt x="1084" y="438"/>
                  </a:lnTo>
                  <a:lnTo>
                    <a:pt x="1088" y="464"/>
                  </a:lnTo>
                  <a:lnTo>
                    <a:pt x="1092" y="492"/>
                  </a:lnTo>
                  <a:lnTo>
                    <a:pt x="1094" y="520"/>
                  </a:lnTo>
                  <a:lnTo>
                    <a:pt x="1094" y="548"/>
                  </a:lnTo>
                  <a:lnTo>
                    <a:pt x="1094" y="548"/>
                  </a:lnTo>
                  <a:close/>
                </a:path>
              </a:pathLst>
            </a:custGeom>
            <a:solidFill>
              <a:srgbClr val="f3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427"/>
            <p:cNvSpPr/>
            <p:nvPr/>
          </p:nvSpPr>
          <p:spPr>
            <a:xfrm>
              <a:off x="8235720" y="12779280"/>
              <a:ext cx="1704960" cy="170172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1074" h="1072">
                  <a:moveTo>
                    <a:pt x="1074" y="536"/>
                  </a:moveTo>
                  <a:lnTo>
                    <a:pt x="1074" y="536"/>
                  </a:lnTo>
                  <a:lnTo>
                    <a:pt x="1074" y="564"/>
                  </a:lnTo>
                  <a:lnTo>
                    <a:pt x="1070" y="590"/>
                  </a:lnTo>
                  <a:lnTo>
                    <a:pt x="1068" y="618"/>
                  </a:lnTo>
                  <a:lnTo>
                    <a:pt x="1062" y="644"/>
                  </a:lnTo>
                  <a:lnTo>
                    <a:pt x="1056" y="670"/>
                  </a:lnTo>
                  <a:lnTo>
                    <a:pt x="1050" y="696"/>
                  </a:lnTo>
                  <a:lnTo>
                    <a:pt x="1042" y="720"/>
                  </a:lnTo>
                  <a:lnTo>
                    <a:pt x="1032" y="744"/>
                  </a:lnTo>
                  <a:lnTo>
                    <a:pt x="1020" y="768"/>
                  </a:lnTo>
                  <a:lnTo>
                    <a:pt x="1008" y="792"/>
                  </a:lnTo>
                  <a:lnTo>
                    <a:pt x="996" y="814"/>
                  </a:lnTo>
                  <a:lnTo>
                    <a:pt x="982" y="836"/>
                  </a:lnTo>
                  <a:lnTo>
                    <a:pt x="968" y="856"/>
                  </a:lnTo>
                  <a:lnTo>
                    <a:pt x="952" y="878"/>
                  </a:lnTo>
                  <a:lnTo>
                    <a:pt x="934" y="896"/>
                  </a:lnTo>
                  <a:lnTo>
                    <a:pt x="916" y="916"/>
                  </a:lnTo>
                  <a:lnTo>
                    <a:pt x="898" y="934"/>
                  </a:lnTo>
                  <a:lnTo>
                    <a:pt x="878" y="950"/>
                  </a:lnTo>
                  <a:lnTo>
                    <a:pt x="858" y="966"/>
                  </a:lnTo>
                  <a:lnTo>
                    <a:pt x="838" y="980"/>
                  </a:lnTo>
                  <a:lnTo>
                    <a:pt x="816" y="994"/>
                  </a:lnTo>
                  <a:lnTo>
                    <a:pt x="792" y="1008"/>
                  </a:lnTo>
                  <a:lnTo>
                    <a:pt x="770" y="1020"/>
                  </a:lnTo>
                  <a:lnTo>
                    <a:pt x="746" y="1030"/>
                  </a:lnTo>
                  <a:lnTo>
                    <a:pt x="722" y="1040"/>
                  </a:lnTo>
                  <a:lnTo>
                    <a:pt x="696" y="1048"/>
                  </a:lnTo>
                  <a:lnTo>
                    <a:pt x="672" y="1056"/>
                  </a:lnTo>
                  <a:lnTo>
                    <a:pt x="646" y="1062"/>
                  </a:lnTo>
                  <a:lnTo>
                    <a:pt x="618" y="1066"/>
                  </a:lnTo>
                  <a:lnTo>
                    <a:pt x="592" y="1070"/>
                  </a:lnTo>
                  <a:lnTo>
                    <a:pt x="564" y="1072"/>
                  </a:lnTo>
                  <a:lnTo>
                    <a:pt x="538" y="1072"/>
                  </a:lnTo>
                  <a:lnTo>
                    <a:pt x="538" y="1072"/>
                  </a:lnTo>
                  <a:lnTo>
                    <a:pt x="510" y="1072"/>
                  </a:lnTo>
                  <a:lnTo>
                    <a:pt x="482" y="1070"/>
                  </a:lnTo>
                  <a:lnTo>
                    <a:pt x="456" y="1066"/>
                  </a:lnTo>
                  <a:lnTo>
                    <a:pt x="430" y="1062"/>
                  </a:lnTo>
                  <a:lnTo>
                    <a:pt x="404" y="1056"/>
                  </a:lnTo>
                  <a:lnTo>
                    <a:pt x="378" y="1048"/>
                  </a:lnTo>
                  <a:lnTo>
                    <a:pt x="352" y="1040"/>
                  </a:lnTo>
                  <a:lnTo>
                    <a:pt x="328" y="1030"/>
                  </a:lnTo>
                  <a:lnTo>
                    <a:pt x="304" y="1020"/>
                  </a:lnTo>
                  <a:lnTo>
                    <a:pt x="282" y="1008"/>
                  </a:lnTo>
                  <a:lnTo>
                    <a:pt x="260" y="994"/>
                  </a:lnTo>
                  <a:lnTo>
                    <a:pt x="238" y="980"/>
                  </a:lnTo>
                  <a:lnTo>
                    <a:pt x="216" y="966"/>
                  </a:lnTo>
                  <a:lnTo>
                    <a:pt x="196" y="950"/>
                  </a:lnTo>
                  <a:lnTo>
                    <a:pt x="176" y="934"/>
                  </a:lnTo>
                  <a:lnTo>
                    <a:pt x="158" y="916"/>
                  </a:lnTo>
                  <a:lnTo>
                    <a:pt x="140" y="896"/>
                  </a:lnTo>
                  <a:lnTo>
                    <a:pt x="124" y="878"/>
                  </a:lnTo>
                  <a:lnTo>
                    <a:pt x="108" y="856"/>
                  </a:lnTo>
                  <a:lnTo>
                    <a:pt x="92" y="836"/>
                  </a:lnTo>
                  <a:lnTo>
                    <a:pt x="78" y="814"/>
                  </a:lnTo>
                  <a:lnTo>
                    <a:pt x="66" y="792"/>
                  </a:lnTo>
                  <a:lnTo>
                    <a:pt x="54" y="768"/>
                  </a:lnTo>
                  <a:lnTo>
                    <a:pt x="42" y="744"/>
                  </a:lnTo>
                  <a:lnTo>
                    <a:pt x="34" y="720"/>
                  </a:lnTo>
                  <a:lnTo>
                    <a:pt x="24" y="696"/>
                  </a:lnTo>
                  <a:lnTo>
                    <a:pt x="18" y="670"/>
                  </a:lnTo>
                  <a:lnTo>
                    <a:pt x="12" y="644"/>
                  </a:lnTo>
                  <a:lnTo>
                    <a:pt x="6" y="618"/>
                  </a:lnTo>
                  <a:lnTo>
                    <a:pt x="4" y="590"/>
                  </a:lnTo>
                  <a:lnTo>
                    <a:pt x="2" y="564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2" y="508"/>
                  </a:lnTo>
                  <a:lnTo>
                    <a:pt x="4" y="482"/>
                  </a:lnTo>
                  <a:lnTo>
                    <a:pt x="6" y="454"/>
                  </a:lnTo>
                  <a:lnTo>
                    <a:pt x="12" y="428"/>
                  </a:lnTo>
                  <a:lnTo>
                    <a:pt x="18" y="402"/>
                  </a:lnTo>
                  <a:lnTo>
                    <a:pt x="24" y="376"/>
                  </a:lnTo>
                  <a:lnTo>
                    <a:pt x="34" y="352"/>
                  </a:lnTo>
                  <a:lnTo>
                    <a:pt x="42" y="328"/>
                  </a:lnTo>
                  <a:lnTo>
                    <a:pt x="54" y="304"/>
                  </a:lnTo>
                  <a:lnTo>
                    <a:pt x="66" y="280"/>
                  </a:lnTo>
                  <a:lnTo>
                    <a:pt x="78" y="258"/>
                  </a:lnTo>
                  <a:lnTo>
                    <a:pt x="92" y="236"/>
                  </a:lnTo>
                  <a:lnTo>
                    <a:pt x="108" y="214"/>
                  </a:lnTo>
                  <a:lnTo>
                    <a:pt x="124" y="194"/>
                  </a:lnTo>
                  <a:lnTo>
                    <a:pt x="140" y="176"/>
                  </a:lnTo>
                  <a:lnTo>
                    <a:pt x="158" y="156"/>
                  </a:lnTo>
                  <a:lnTo>
                    <a:pt x="176" y="138"/>
                  </a:lnTo>
                  <a:lnTo>
                    <a:pt x="196" y="122"/>
                  </a:lnTo>
                  <a:lnTo>
                    <a:pt x="216" y="106"/>
                  </a:lnTo>
                  <a:lnTo>
                    <a:pt x="238" y="92"/>
                  </a:lnTo>
                  <a:lnTo>
                    <a:pt x="260" y="78"/>
                  </a:lnTo>
                  <a:lnTo>
                    <a:pt x="282" y="64"/>
                  </a:lnTo>
                  <a:lnTo>
                    <a:pt x="304" y="52"/>
                  </a:lnTo>
                  <a:lnTo>
                    <a:pt x="328" y="42"/>
                  </a:lnTo>
                  <a:lnTo>
                    <a:pt x="352" y="32"/>
                  </a:lnTo>
                  <a:lnTo>
                    <a:pt x="378" y="24"/>
                  </a:lnTo>
                  <a:lnTo>
                    <a:pt x="404" y="16"/>
                  </a:lnTo>
                  <a:lnTo>
                    <a:pt x="430" y="10"/>
                  </a:lnTo>
                  <a:lnTo>
                    <a:pt x="456" y="6"/>
                  </a:lnTo>
                  <a:lnTo>
                    <a:pt x="482" y="2"/>
                  </a:lnTo>
                  <a:lnTo>
                    <a:pt x="510" y="0"/>
                  </a:lnTo>
                  <a:lnTo>
                    <a:pt x="538" y="0"/>
                  </a:lnTo>
                  <a:lnTo>
                    <a:pt x="538" y="0"/>
                  </a:lnTo>
                  <a:lnTo>
                    <a:pt x="564" y="0"/>
                  </a:lnTo>
                  <a:lnTo>
                    <a:pt x="592" y="2"/>
                  </a:lnTo>
                  <a:lnTo>
                    <a:pt x="618" y="6"/>
                  </a:lnTo>
                  <a:lnTo>
                    <a:pt x="646" y="10"/>
                  </a:lnTo>
                  <a:lnTo>
                    <a:pt x="672" y="16"/>
                  </a:lnTo>
                  <a:lnTo>
                    <a:pt x="696" y="24"/>
                  </a:lnTo>
                  <a:lnTo>
                    <a:pt x="722" y="32"/>
                  </a:lnTo>
                  <a:lnTo>
                    <a:pt x="746" y="42"/>
                  </a:lnTo>
                  <a:lnTo>
                    <a:pt x="770" y="52"/>
                  </a:lnTo>
                  <a:lnTo>
                    <a:pt x="792" y="64"/>
                  </a:lnTo>
                  <a:lnTo>
                    <a:pt x="816" y="78"/>
                  </a:lnTo>
                  <a:lnTo>
                    <a:pt x="838" y="92"/>
                  </a:lnTo>
                  <a:lnTo>
                    <a:pt x="858" y="106"/>
                  </a:lnTo>
                  <a:lnTo>
                    <a:pt x="878" y="122"/>
                  </a:lnTo>
                  <a:lnTo>
                    <a:pt x="898" y="138"/>
                  </a:lnTo>
                  <a:lnTo>
                    <a:pt x="916" y="156"/>
                  </a:lnTo>
                  <a:lnTo>
                    <a:pt x="934" y="176"/>
                  </a:lnTo>
                  <a:lnTo>
                    <a:pt x="952" y="194"/>
                  </a:lnTo>
                  <a:lnTo>
                    <a:pt x="968" y="214"/>
                  </a:lnTo>
                  <a:lnTo>
                    <a:pt x="982" y="236"/>
                  </a:lnTo>
                  <a:lnTo>
                    <a:pt x="996" y="258"/>
                  </a:lnTo>
                  <a:lnTo>
                    <a:pt x="1008" y="280"/>
                  </a:lnTo>
                  <a:lnTo>
                    <a:pt x="1020" y="304"/>
                  </a:lnTo>
                  <a:lnTo>
                    <a:pt x="1032" y="328"/>
                  </a:lnTo>
                  <a:lnTo>
                    <a:pt x="1042" y="352"/>
                  </a:lnTo>
                  <a:lnTo>
                    <a:pt x="1050" y="376"/>
                  </a:lnTo>
                  <a:lnTo>
                    <a:pt x="1056" y="402"/>
                  </a:lnTo>
                  <a:lnTo>
                    <a:pt x="1062" y="428"/>
                  </a:lnTo>
                  <a:lnTo>
                    <a:pt x="1068" y="454"/>
                  </a:lnTo>
                  <a:lnTo>
                    <a:pt x="1070" y="482"/>
                  </a:lnTo>
                  <a:lnTo>
                    <a:pt x="1074" y="508"/>
                  </a:lnTo>
                  <a:lnTo>
                    <a:pt x="1074" y="536"/>
                  </a:lnTo>
                  <a:lnTo>
                    <a:pt x="1074" y="536"/>
                  </a:lnTo>
                  <a:close/>
                </a:path>
              </a:pathLst>
            </a:custGeom>
            <a:solidFill>
              <a:srgbClr val="f3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428"/>
            <p:cNvSpPr/>
            <p:nvPr/>
          </p:nvSpPr>
          <p:spPr>
            <a:xfrm>
              <a:off x="8245440" y="12789000"/>
              <a:ext cx="1667160" cy="1670040"/>
            </a:xfrm>
            <a:custGeom>
              <a:avLst/>
              <a:gdLst>
                <a:gd name="textAreaLeft" fmla="*/ 0 w 1667160"/>
                <a:gd name="textAreaRight" fmla="*/ 1667520 w 16671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1050" h="1052">
                  <a:moveTo>
                    <a:pt x="1050" y="526"/>
                  </a:moveTo>
                  <a:lnTo>
                    <a:pt x="1050" y="526"/>
                  </a:lnTo>
                  <a:lnTo>
                    <a:pt x="1050" y="554"/>
                  </a:lnTo>
                  <a:lnTo>
                    <a:pt x="1048" y="580"/>
                  </a:lnTo>
                  <a:lnTo>
                    <a:pt x="1044" y="606"/>
                  </a:lnTo>
                  <a:lnTo>
                    <a:pt x="1040" y="632"/>
                  </a:lnTo>
                  <a:lnTo>
                    <a:pt x="1034" y="658"/>
                  </a:lnTo>
                  <a:lnTo>
                    <a:pt x="1028" y="682"/>
                  </a:lnTo>
                  <a:lnTo>
                    <a:pt x="1018" y="708"/>
                  </a:lnTo>
                  <a:lnTo>
                    <a:pt x="1010" y="730"/>
                  </a:lnTo>
                  <a:lnTo>
                    <a:pt x="998" y="754"/>
                  </a:lnTo>
                  <a:lnTo>
                    <a:pt x="988" y="776"/>
                  </a:lnTo>
                  <a:lnTo>
                    <a:pt x="974" y="798"/>
                  </a:lnTo>
                  <a:lnTo>
                    <a:pt x="960" y="820"/>
                  </a:lnTo>
                  <a:lnTo>
                    <a:pt x="946" y="840"/>
                  </a:lnTo>
                  <a:lnTo>
                    <a:pt x="930" y="860"/>
                  </a:lnTo>
                  <a:lnTo>
                    <a:pt x="914" y="880"/>
                  </a:lnTo>
                  <a:lnTo>
                    <a:pt x="896" y="898"/>
                  </a:lnTo>
                  <a:lnTo>
                    <a:pt x="878" y="916"/>
                  </a:lnTo>
                  <a:lnTo>
                    <a:pt x="860" y="932"/>
                  </a:lnTo>
                  <a:lnTo>
                    <a:pt x="840" y="948"/>
                  </a:lnTo>
                  <a:lnTo>
                    <a:pt x="818" y="962"/>
                  </a:lnTo>
                  <a:lnTo>
                    <a:pt x="798" y="976"/>
                  </a:lnTo>
                  <a:lnTo>
                    <a:pt x="776" y="988"/>
                  </a:lnTo>
                  <a:lnTo>
                    <a:pt x="752" y="1000"/>
                  </a:lnTo>
                  <a:lnTo>
                    <a:pt x="730" y="1010"/>
                  </a:lnTo>
                  <a:lnTo>
                    <a:pt x="706" y="1020"/>
                  </a:lnTo>
                  <a:lnTo>
                    <a:pt x="682" y="1028"/>
                  </a:lnTo>
                  <a:lnTo>
                    <a:pt x="656" y="1036"/>
                  </a:lnTo>
                  <a:lnTo>
                    <a:pt x="630" y="1042"/>
                  </a:lnTo>
                  <a:lnTo>
                    <a:pt x="604" y="1046"/>
                  </a:lnTo>
                  <a:lnTo>
                    <a:pt x="578" y="1050"/>
                  </a:lnTo>
                  <a:lnTo>
                    <a:pt x="552" y="1052"/>
                  </a:lnTo>
                  <a:lnTo>
                    <a:pt x="524" y="1052"/>
                  </a:lnTo>
                  <a:lnTo>
                    <a:pt x="524" y="1052"/>
                  </a:lnTo>
                  <a:lnTo>
                    <a:pt x="498" y="1052"/>
                  </a:lnTo>
                  <a:lnTo>
                    <a:pt x="472" y="1050"/>
                  </a:lnTo>
                  <a:lnTo>
                    <a:pt x="444" y="1046"/>
                  </a:lnTo>
                  <a:lnTo>
                    <a:pt x="418" y="1042"/>
                  </a:lnTo>
                  <a:lnTo>
                    <a:pt x="394" y="1036"/>
                  </a:lnTo>
                  <a:lnTo>
                    <a:pt x="368" y="1028"/>
                  </a:lnTo>
                  <a:lnTo>
                    <a:pt x="344" y="1020"/>
                  </a:lnTo>
                  <a:lnTo>
                    <a:pt x="320" y="1010"/>
                  </a:lnTo>
                  <a:lnTo>
                    <a:pt x="296" y="1000"/>
                  </a:lnTo>
                  <a:lnTo>
                    <a:pt x="274" y="988"/>
                  </a:lnTo>
                  <a:lnTo>
                    <a:pt x="252" y="976"/>
                  </a:lnTo>
                  <a:lnTo>
                    <a:pt x="230" y="962"/>
                  </a:lnTo>
                  <a:lnTo>
                    <a:pt x="210" y="948"/>
                  </a:lnTo>
                  <a:lnTo>
                    <a:pt x="190" y="932"/>
                  </a:lnTo>
                  <a:lnTo>
                    <a:pt x="172" y="916"/>
                  </a:lnTo>
                  <a:lnTo>
                    <a:pt x="154" y="898"/>
                  </a:lnTo>
                  <a:lnTo>
                    <a:pt x="136" y="880"/>
                  </a:lnTo>
                  <a:lnTo>
                    <a:pt x="120" y="860"/>
                  </a:lnTo>
                  <a:lnTo>
                    <a:pt x="104" y="840"/>
                  </a:lnTo>
                  <a:lnTo>
                    <a:pt x="88" y="820"/>
                  </a:lnTo>
                  <a:lnTo>
                    <a:pt x="76" y="798"/>
                  </a:lnTo>
                  <a:lnTo>
                    <a:pt x="62" y="776"/>
                  </a:lnTo>
                  <a:lnTo>
                    <a:pt x="50" y="754"/>
                  </a:lnTo>
                  <a:lnTo>
                    <a:pt x="40" y="730"/>
                  </a:lnTo>
                  <a:lnTo>
                    <a:pt x="30" y="708"/>
                  </a:lnTo>
                  <a:lnTo>
                    <a:pt x="22" y="682"/>
                  </a:lnTo>
                  <a:lnTo>
                    <a:pt x="16" y="658"/>
                  </a:lnTo>
                  <a:lnTo>
                    <a:pt x="10" y="632"/>
                  </a:lnTo>
                  <a:lnTo>
                    <a:pt x="6" y="606"/>
                  </a:lnTo>
                  <a:lnTo>
                    <a:pt x="2" y="580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526"/>
                  </a:lnTo>
                  <a:lnTo>
                    <a:pt x="0" y="500"/>
                  </a:lnTo>
                  <a:lnTo>
                    <a:pt x="2" y="472"/>
                  </a:lnTo>
                  <a:lnTo>
                    <a:pt x="6" y="446"/>
                  </a:lnTo>
                  <a:lnTo>
                    <a:pt x="10" y="420"/>
                  </a:lnTo>
                  <a:lnTo>
                    <a:pt x="16" y="394"/>
                  </a:lnTo>
                  <a:lnTo>
                    <a:pt x="22" y="370"/>
                  </a:lnTo>
                  <a:lnTo>
                    <a:pt x="30" y="346"/>
                  </a:lnTo>
                  <a:lnTo>
                    <a:pt x="40" y="322"/>
                  </a:lnTo>
                  <a:lnTo>
                    <a:pt x="50" y="298"/>
                  </a:lnTo>
                  <a:lnTo>
                    <a:pt x="62" y="276"/>
                  </a:lnTo>
                  <a:lnTo>
                    <a:pt x="76" y="254"/>
                  </a:lnTo>
                  <a:lnTo>
                    <a:pt x="88" y="232"/>
                  </a:lnTo>
                  <a:lnTo>
                    <a:pt x="104" y="212"/>
                  </a:lnTo>
                  <a:lnTo>
                    <a:pt x="120" y="192"/>
                  </a:lnTo>
                  <a:lnTo>
                    <a:pt x="136" y="172"/>
                  </a:lnTo>
                  <a:lnTo>
                    <a:pt x="154" y="154"/>
                  </a:lnTo>
                  <a:lnTo>
                    <a:pt x="172" y="138"/>
                  </a:lnTo>
                  <a:lnTo>
                    <a:pt x="190" y="120"/>
                  </a:lnTo>
                  <a:lnTo>
                    <a:pt x="210" y="104"/>
                  </a:lnTo>
                  <a:lnTo>
                    <a:pt x="230" y="90"/>
                  </a:lnTo>
                  <a:lnTo>
                    <a:pt x="252" y="76"/>
                  </a:lnTo>
                  <a:lnTo>
                    <a:pt x="274" y="64"/>
                  </a:lnTo>
                  <a:lnTo>
                    <a:pt x="296" y="52"/>
                  </a:lnTo>
                  <a:lnTo>
                    <a:pt x="320" y="42"/>
                  </a:lnTo>
                  <a:lnTo>
                    <a:pt x="344" y="32"/>
                  </a:lnTo>
                  <a:lnTo>
                    <a:pt x="368" y="24"/>
                  </a:lnTo>
                  <a:lnTo>
                    <a:pt x="394" y="18"/>
                  </a:lnTo>
                  <a:lnTo>
                    <a:pt x="418" y="12"/>
                  </a:lnTo>
                  <a:lnTo>
                    <a:pt x="444" y="6"/>
                  </a:lnTo>
                  <a:lnTo>
                    <a:pt x="472" y="4"/>
                  </a:lnTo>
                  <a:lnTo>
                    <a:pt x="498" y="2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52" y="2"/>
                  </a:lnTo>
                  <a:lnTo>
                    <a:pt x="578" y="4"/>
                  </a:lnTo>
                  <a:lnTo>
                    <a:pt x="604" y="6"/>
                  </a:lnTo>
                  <a:lnTo>
                    <a:pt x="630" y="12"/>
                  </a:lnTo>
                  <a:lnTo>
                    <a:pt x="656" y="18"/>
                  </a:lnTo>
                  <a:lnTo>
                    <a:pt x="682" y="24"/>
                  </a:lnTo>
                  <a:lnTo>
                    <a:pt x="706" y="32"/>
                  </a:lnTo>
                  <a:lnTo>
                    <a:pt x="730" y="42"/>
                  </a:lnTo>
                  <a:lnTo>
                    <a:pt x="752" y="52"/>
                  </a:lnTo>
                  <a:lnTo>
                    <a:pt x="776" y="64"/>
                  </a:lnTo>
                  <a:lnTo>
                    <a:pt x="798" y="76"/>
                  </a:lnTo>
                  <a:lnTo>
                    <a:pt x="818" y="90"/>
                  </a:lnTo>
                  <a:lnTo>
                    <a:pt x="840" y="104"/>
                  </a:lnTo>
                  <a:lnTo>
                    <a:pt x="860" y="120"/>
                  </a:lnTo>
                  <a:lnTo>
                    <a:pt x="878" y="138"/>
                  </a:lnTo>
                  <a:lnTo>
                    <a:pt x="896" y="154"/>
                  </a:lnTo>
                  <a:lnTo>
                    <a:pt x="914" y="172"/>
                  </a:lnTo>
                  <a:lnTo>
                    <a:pt x="930" y="192"/>
                  </a:lnTo>
                  <a:lnTo>
                    <a:pt x="946" y="212"/>
                  </a:lnTo>
                  <a:lnTo>
                    <a:pt x="960" y="232"/>
                  </a:lnTo>
                  <a:lnTo>
                    <a:pt x="974" y="254"/>
                  </a:lnTo>
                  <a:lnTo>
                    <a:pt x="988" y="276"/>
                  </a:lnTo>
                  <a:lnTo>
                    <a:pt x="998" y="298"/>
                  </a:lnTo>
                  <a:lnTo>
                    <a:pt x="1010" y="322"/>
                  </a:lnTo>
                  <a:lnTo>
                    <a:pt x="1018" y="346"/>
                  </a:lnTo>
                  <a:lnTo>
                    <a:pt x="1028" y="370"/>
                  </a:lnTo>
                  <a:lnTo>
                    <a:pt x="1034" y="394"/>
                  </a:lnTo>
                  <a:lnTo>
                    <a:pt x="1040" y="420"/>
                  </a:lnTo>
                  <a:lnTo>
                    <a:pt x="1044" y="446"/>
                  </a:lnTo>
                  <a:lnTo>
                    <a:pt x="1048" y="472"/>
                  </a:lnTo>
                  <a:lnTo>
                    <a:pt x="1050" y="500"/>
                  </a:lnTo>
                  <a:lnTo>
                    <a:pt x="1050" y="526"/>
                  </a:lnTo>
                  <a:lnTo>
                    <a:pt x="1050" y="526"/>
                  </a:lnTo>
                  <a:close/>
                </a:path>
              </a:pathLst>
            </a:custGeom>
            <a:solidFill>
              <a:srgbClr val="f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429"/>
            <p:cNvSpPr/>
            <p:nvPr/>
          </p:nvSpPr>
          <p:spPr>
            <a:xfrm>
              <a:off x="8251560" y="12801600"/>
              <a:ext cx="1635120" cy="16351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1635120"/>
                <a:gd name="textAreaBottom" fmla="*/ 1635480 h 1635120"/>
              </a:gdLst>
              <a:ahLst/>
              <a:rect l="textAreaLeft" t="textAreaTop" r="textAreaRight" b="textAreaBottom"/>
              <a:pathLst>
                <a:path w="1030" h="1030">
                  <a:moveTo>
                    <a:pt x="1030" y="514"/>
                  </a:moveTo>
                  <a:lnTo>
                    <a:pt x="1030" y="514"/>
                  </a:lnTo>
                  <a:lnTo>
                    <a:pt x="1028" y="542"/>
                  </a:lnTo>
                  <a:lnTo>
                    <a:pt x="1026" y="568"/>
                  </a:lnTo>
                  <a:lnTo>
                    <a:pt x="1024" y="594"/>
                  </a:lnTo>
                  <a:lnTo>
                    <a:pt x="1020" y="618"/>
                  </a:lnTo>
                  <a:lnTo>
                    <a:pt x="1014" y="644"/>
                  </a:lnTo>
                  <a:lnTo>
                    <a:pt x="1006" y="668"/>
                  </a:lnTo>
                  <a:lnTo>
                    <a:pt x="998" y="692"/>
                  </a:lnTo>
                  <a:lnTo>
                    <a:pt x="990" y="716"/>
                  </a:lnTo>
                  <a:lnTo>
                    <a:pt x="978" y="738"/>
                  </a:lnTo>
                  <a:lnTo>
                    <a:pt x="968" y="760"/>
                  </a:lnTo>
                  <a:lnTo>
                    <a:pt x="956" y="782"/>
                  </a:lnTo>
                  <a:lnTo>
                    <a:pt x="942" y="802"/>
                  </a:lnTo>
                  <a:lnTo>
                    <a:pt x="912" y="842"/>
                  </a:lnTo>
                  <a:lnTo>
                    <a:pt x="878" y="880"/>
                  </a:lnTo>
                  <a:lnTo>
                    <a:pt x="842" y="912"/>
                  </a:lnTo>
                  <a:lnTo>
                    <a:pt x="802" y="942"/>
                  </a:lnTo>
                  <a:lnTo>
                    <a:pt x="782" y="956"/>
                  </a:lnTo>
                  <a:lnTo>
                    <a:pt x="760" y="968"/>
                  </a:lnTo>
                  <a:lnTo>
                    <a:pt x="738" y="980"/>
                  </a:lnTo>
                  <a:lnTo>
                    <a:pt x="714" y="990"/>
                  </a:lnTo>
                  <a:lnTo>
                    <a:pt x="692" y="998"/>
                  </a:lnTo>
                  <a:lnTo>
                    <a:pt x="668" y="1006"/>
                  </a:lnTo>
                  <a:lnTo>
                    <a:pt x="644" y="1014"/>
                  </a:lnTo>
                  <a:lnTo>
                    <a:pt x="618" y="1020"/>
                  </a:lnTo>
                  <a:lnTo>
                    <a:pt x="592" y="1024"/>
                  </a:lnTo>
                  <a:lnTo>
                    <a:pt x="568" y="1028"/>
                  </a:lnTo>
                  <a:lnTo>
                    <a:pt x="540" y="1030"/>
                  </a:lnTo>
                  <a:lnTo>
                    <a:pt x="514" y="1030"/>
                  </a:lnTo>
                  <a:lnTo>
                    <a:pt x="514" y="1030"/>
                  </a:lnTo>
                  <a:lnTo>
                    <a:pt x="488" y="1030"/>
                  </a:lnTo>
                  <a:lnTo>
                    <a:pt x="462" y="1028"/>
                  </a:lnTo>
                  <a:lnTo>
                    <a:pt x="436" y="1024"/>
                  </a:lnTo>
                  <a:lnTo>
                    <a:pt x="410" y="1020"/>
                  </a:lnTo>
                  <a:lnTo>
                    <a:pt x="386" y="1014"/>
                  </a:lnTo>
                  <a:lnTo>
                    <a:pt x="362" y="1006"/>
                  </a:lnTo>
                  <a:lnTo>
                    <a:pt x="338" y="998"/>
                  </a:lnTo>
                  <a:lnTo>
                    <a:pt x="314" y="990"/>
                  </a:lnTo>
                  <a:lnTo>
                    <a:pt x="292" y="980"/>
                  </a:lnTo>
                  <a:lnTo>
                    <a:pt x="268" y="968"/>
                  </a:lnTo>
                  <a:lnTo>
                    <a:pt x="248" y="956"/>
                  </a:lnTo>
                  <a:lnTo>
                    <a:pt x="226" y="942"/>
                  </a:lnTo>
                  <a:lnTo>
                    <a:pt x="186" y="912"/>
                  </a:lnTo>
                  <a:lnTo>
                    <a:pt x="150" y="880"/>
                  </a:lnTo>
                  <a:lnTo>
                    <a:pt x="116" y="842"/>
                  </a:lnTo>
                  <a:lnTo>
                    <a:pt x="88" y="802"/>
                  </a:lnTo>
                  <a:lnTo>
                    <a:pt x="74" y="782"/>
                  </a:lnTo>
                  <a:lnTo>
                    <a:pt x="62" y="760"/>
                  </a:lnTo>
                  <a:lnTo>
                    <a:pt x="50" y="738"/>
                  </a:lnTo>
                  <a:lnTo>
                    <a:pt x="40" y="716"/>
                  </a:lnTo>
                  <a:lnTo>
                    <a:pt x="30" y="692"/>
                  </a:lnTo>
                  <a:lnTo>
                    <a:pt x="22" y="668"/>
                  </a:lnTo>
                  <a:lnTo>
                    <a:pt x="16" y="644"/>
                  </a:lnTo>
                  <a:lnTo>
                    <a:pt x="10" y="618"/>
                  </a:lnTo>
                  <a:lnTo>
                    <a:pt x="6" y="594"/>
                  </a:lnTo>
                  <a:lnTo>
                    <a:pt x="2" y="568"/>
                  </a:lnTo>
                  <a:lnTo>
                    <a:pt x="0" y="542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488"/>
                  </a:lnTo>
                  <a:lnTo>
                    <a:pt x="2" y="462"/>
                  </a:lnTo>
                  <a:lnTo>
                    <a:pt x="6" y="436"/>
                  </a:lnTo>
                  <a:lnTo>
                    <a:pt x="10" y="410"/>
                  </a:lnTo>
                  <a:lnTo>
                    <a:pt x="16" y="386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2"/>
                  </a:lnTo>
                  <a:lnTo>
                    <a:pt x="62" y="270"/>
                  </a:lnTo>
                  <a:lnTo>
                    <a:pt x="74" y="248"/>
                  </a:lnTo>
                  <a:lnTo>
                    <a:pt x="88" y="226"/>
                  </a:lnTo>
                  <a:lnTo>
                    <a:pt x="116" y="188"/>
                  </a:lnTo>
                  <a:lnTo>
                    <a:pt x="150" y="150"/>
                  </a:lnTo>
                  <a:lnTo>
                    <a:pt x="186" y="118"/>
                  </a:lnTo>
                  <a:lnTo>
                    <a:pt x="226" y="88"/>
                  </a:lnTo>
                  <a:lnTo>
                    <a:pt x="248" y="74"/>
                  </a:lnTo>
                  <a:lnTo>
                    <a:pt x="268" y="62"/>
                  </a:lnTo>
                  <a:lnTo>
                    <a:pt x="292" y="50"/>
                  </a:lnTo>
                  <a:lnTo>
                    <a:pt x="314" y="40"/>
                  </a:lnTo>
                  <a:lnTo>
                    <a:pt x="338" y="30"/>
                  </a:lnTo>
                  <a:lnTo>
                    <a:pt x="362" y="22"/>
                  </a:lnTo>
                  <a:lnTo>
                    <a:pt x="386" y="16"/>
                  </a:lnTo>
                  <a:lnTo>
                    <a:pt x="410" y="10"/>
                  </a:lnTo>
                  <a:lnTo>
                    <a:pt x="436" y="6"/>
                  </a:lnTo>
                  <a:lnTo>
                    <a:pt x="462" y="2"/>
                  </a:lnTo>
                  <a:lnTo>
                    <a:pt x="488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40" y="0"/>
                  </a:lnTo>
                  <a:lnTo>
                    <a:pt x="568" y="2"/>
                  </a:lnTo>
                  <a:lnTo>
                    <a:pt x="592" y="6"/>
                  </a:lnTo>
                  <a:lnTo>
                    <a:pt x="618" y="10"/>
                  </a:lnTo>
                  <a:lnTo>
                    <a:pt x="644" y="16"/>
                  </a:lnTo>
                  <a:lnTo>
                    <a:pt x="668" y="22"/>
                  </a:lnTo>
                  <a:lnTo>
                    <a:pt x="692" y="30"/>
                  </a:lnTo>
                  <a:lnTo>
                    <a:pt x="714" y="40"/>
                  </a:lnTo>
                  <a:lnTo>
                    <a:pt x="738" y="50"/>
                  </a:lnTo>
                  <a:lnTo>
                    <a:pt x="760" y="62"/>
                  </a:lnTo>
                  <a:lnTo>
                    <a:pt x="782" y="74"/>
                  </a:lnTo>
                  <a:lnTo>
                    <a:pt x="802" y="88"/>
                  </a:lnTo>
                  <a:lnTo>
                    <a:pt x="842" y="118"/>
                  </a:lnTo>
                  <a:lnTo>
                    <a:pt x="878" y="150"/>
                  </a:lnTo>
                  <a:lnTo>
                    <a:pt x="912" y="188"/>
                  </a:lnTo>
                  <a:lnTo>
                    <a:pt x="942" y="226"/>
                  </a:lnTo>
                  <a:lnTo>
                    <a:pt x="956" y="248"/>
                  </a:lnTo>
                  <a:lnTo>
                    <a:pt x="968" y="270"/>
                  </a:lnTo>
                  <a:lnTo>
                    <a:pt x="978" y="292"/>
                  </a:lnTo>
                  <a:lnTo>
                    <a:pt x="990" y="314"/>
                  </a:lnTo>
                  <a:lnTo>
                    <a:pt x="998" y="338"/>
                  </a:lnTo>
                  <a:lnTo>
                    <a:pt x="1006" y="362"/>
                  </a:lnTo>
                  <a:lnTo>
                    <a:pt x="1014" y="386"/>
                  </a:lnTo>
                  <a:lnTo>
                    <a:pt x="1020" y="410"/>
                  </a:lnTo>
                  <a:lnTo>
                    <a:pt x="1024" y="436"/>
                  </a:lnTo>
                  <a:lnTo>
                    <a:pt x="1026" y="462"/>
                  </a:lnTo>
                  <a:lnTo>
                    <a:pt x="1028" y="488"/>
                  </a:lnTo>
                  <a:lnTo>
                    <a:pt x="1030" y="514"/>
                  </a:lnTo>
                  <a:lnTo>
                    <a:pt x="1030" y="514"/>
                  </a:lnTo>
                  <a:close/>
                </a:path>
              </a:pathLst>
            </a:custGeom>
            <a:solidFill>
              <a:srgbClr val="f4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430"/>
            <p:cNvSpPr/>
            <p:nvPr/>
          </p:nvSpPr>
          <p:spPr>
            <a:xfrm>
              <a:off x="8258040" y="12810960"/>
              <a:ext cx="1600200" cy="16030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603080"/>
                <a:gd name="textAreaBottom" fmla="*/ 1603440 h 1603080"/>
              </a:gdLst>
              <a:ahLst/>
              <a:rect l="textAreaLeft" t="textAreaTop" r="textAreaRight" b="textAreaBottom"/>
              <a:pathLst>
                <a:path w="1008" h="1010">
                  <a:moveTo>
                    <a:pt x="1008" y="506"/>
                  </a:moveTo>
                  <a:lnTo>
                    <a:pt x="1008" y="506"/>
                  </a:lnTo>
                  <a:lnTo>
                    <a:pt x="1008" y="532"/>
                  </a:lnTo>
                  <a:lnTo>
                    <a:pt x="1006" y="556"/>
                  </a:lnTo>
                  <a:lnTo>
                    <a:pt x="1002" y="582"/>
                  </a:lnTo>
                  <a:lnTo>
                    <a:pt x="998" y="606"/>
                  </a:lnTo>
                  <a:lnTo>
                    <a:pt x="992" y="632"/>
                  </a:lnTo>
                  <a:lnTo>
                    <a:pt x="986" y="656"/>
                  </a:lnTo>
                  <a:lnTo>
                    <a:pt x="978" y="678"/>
                  </a:lnTo>
                  <a:lnTo>
                    <a:pt x="968" y="702"/>
                  </a:lnTo>
                  <a:lnTo>
                    <a:pt x="948" y="746"/>
                  </a:lnTo>
                  <a:lnTo>
                    <a:pt x="922" y="788"/>
                  </a:lnTo>
                  <a:lnTo>
                    <a:pt x="894" y="826"/>
                  </a:lnTo>
                  <a:lnTo>
                    <a:pt x="860" y="862"/>
                  </a:lnTo>
                  <a:lnTo>
                    <a:pt x="824" y="894"/>
                  </a:lnTo>
                  <a:lnTo>
                    <a:pt x="786" y="924"/>
                  </a:lnTo>
                  <a:lnTo>
                    <a:pt x="744" y="948"/>
                  </a:lnTo>
                  <a:lnTo>
                    <a:pt x="700" y="970"/>
                  </a:lnTo>
                  <a:lnTo>
                    <a:pt x="678" y="980"/>
                  </a:lnTo>
                  <a:lnTo>
                    <a:pt x="654" y="988"/>
                  </a:lnTo>
                  <a:lnTo>
                    <a:pt x="630" y="994"/>
                  </a:lnTo>
                  <a:lnTo>
                    <a:pt x="606" y="1000"/>
                  </a:lnTo>
                  <a:lnTo>
                    <a:pt x="580" y="1004"/>
                  </a:lnTo>
                  <a:lnTo>
                    <a:pt x="556" y="1008"/>
                  </a:lnTo>
                  <a:lnTo>
                    <a:pt x="530" y="1010"/>
                  </a:lnTo>
                  <a:lnTo>
                    <a:pt x="504" y="1010"/>
                  </a:lnTo>
                  <a:lnTo>
                    <a:pt x="504" y="1010"/>
                  </a:lnTo>
                  <a:lnTo>
                    <a:pt x="478" y="1010"/>
                  </a:lnTo>
                  <a:lnTo>
                    <a:pt x="452" y="1008"/>
                  </a:lnTo>
                  <a:lnTo>
                    <a:pt x="428" y="1004"/>
                  </a:lnTo>
                  <a:lnTo>
                    <a:pt x="402" y="1000"/>
                  </a:lnTo>
                  <a:lnTo>
                    <a:pt x="378" y="994"/>
                  </a:lnTo>
                  <a:lnTo>
                    <a:pt x="354" y="988"/>
                  </a:lnTo>
                  <a:lnTo>
                    <a:pt x="330" y="980"/>
                  </a:lnTo>
                  <a:lnTo>
                    <a:pt x="308" y="970"/>
                  </a:lnTo>
                  <a:lnTo>
                    <a:pt x="264" y="948"/>
                  </a:lnTo>
                  <a:lnTo>
                    <a:pt x="222" y="924"/>
                  </a:lnTo>
                  <a:lnTo>
                    <a:pt x="184" y="894"/>
                  </a:lnTo>
                  <a:lnTo>
                    <a:pt x="148" y="862"/>
                  </a:lnTo>
                  <a:lnTo>
                    <a:pt x="114" y="826"/>
                  </a:lnTo>
                  <a:lnTo>
                    <a:pt x="86" y="788"/>
                  </a:lnTo>
                  <a:lnTo>
                    <a:pt x="60" y="746"/>
                  </a:lnTo>
                  <a:lnTo>
                    <a:pt x="40" y="702"/>
                  </a:lnTo>
                  <a:lnTo>
                    <a:pt x="30" y="678"/>
                  </a:lnTo>
                  <a:lnTo>
                    <a:pt x="22" y="656"/>
                  </a:lnTo>
                  <a:lnTo>
                    <a:pt x="16" y="632"/>
                  </a:lnTo>
                  <a:lnTo>
                    <a:pt x="10" y="606"/>
                  </a:lnTo>
                  <a:lnTo>
                    <a:pt x="6" y="582"/>
                  </a:lnTo>
                  <a:lnTo>
                    <a:pt x="2" y="556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506"/>
                  </a:lnTo>
                  <a:lnTo>
                    <a:pt x="0" y="480"/>
                  </a:lnTo>
                  <a:lnTo>
                    <a:pt x="2" y="454"/>
                  </a:lnTo>
                  <a:lnTo>
                    <a:pt x="6" y="428"/>
                  </a:lnTo>
                  <a:lnTo>
                    <a:pt x="10" y="404"/>
                  </a:lnTo>
                  <a:lnTo>
                    <a:pt x="16" y="380"/>
                  </a:lnTo>
                  <a:lnTo>
                    <a:pt x="22" y="356"/>
                  </a:lnTo>
                  <a:lnTo>
                    <a:pt x="30" y="332"/>
                  </a:lnTo>
                  <a:lnTo>
                    <a:pt x="40" y="308"/>
                  </a:lnTo>
                  <a:lnTo>
                    <a:pt x="60" y="264"/>
                  </a:lnTo>
                  <a:lnTo>
                    <a:pt x="86" y="224"/>
                  </a:lnTo>
                  <a:lnTo>
                    <a:pt x="114" y="184"/>
                  </a:lnTo>
                  <a:lnTo>
                    <a:pt x="148" y="148"/>
                  </a:lnTo>
                  <a:lnTo>
                    <a:pt x="184" y="116"/>
                  </a:lnTo>
                  <a:lnTo>
                    <a:pt x="222" y="86"/>
                  </a:lnTo>
                  <a:lnTo>
                    <a:pt x="264" y="62"/>
                  </a:lnTo>
                  <a:lnTo>
                    <a:pt x="308" y="40"/>
                  </a:lnTo>
                  <a:lnTo>
                    <a:pt x="330" y="32"/>
                  </a:lnTo>
                  <a:lnTo>
                    <a:pt x="354" y="24"/>
                  </a:lnTo>
                  <a:lnTo>
                    <a:pt x="378" y="16"/>
                  </a:lnTo>
                  <a:lnTo>
                    <a:pt x="402" y="10"/>
                  </a:lnTo>
                  <a:lnTo>
                    <a:pt x="428" y="6"/>
                  </a:lnTo>
                  <a:lnTo>
                    <a:pt x="452" y="4"/>
                  </a:lnTo>
                  <a:lnTo>
                    <a:pt x="478" y="2"/>
                  </a:lnTo>
                  <a:lnTo>
                    <a:pt x="504" y="0"/>
                  </a:lnTo>
                  <a:lnTo>
                    <a:pt x="504" y="0"/>
                  </a:lnTo>
                  <a:lnTo>
                    <a:pt x="530" y="2"/>
                  </a:lnTo>
                  <a:lnTo>
                    <a:pt x="556" y="4"/>
                  </a:lnTo>
                  <a:lnTo>
                    <a:pt x="580" y="6"/>
                  </a:lnTo>
                  <a:lnTo>
                    <a:pt x="606" y="10"/>
                  </a:lnTo>
                  <a:lnTo>
                    <a:pt x="630" y="16"/>
                  </a:lnTo>
                  <a:lnTo>
                    <a:pt x="654" y="24"/>
                  </a:lnTo>
                  <a:lnTo>
                    <a:pt x="678" y="32"/>
                  </a:lnTo>
                  <a:lnTo>
                    <a:pt x="700" y="40"/>
                  </a:lnTo>
                  <a:lnTo>
                    <a:pt x="744" y="62"/>
                  </a:lnTo>
                  <a:lnTo>
                    <a:pt x="786" y="86"/>
                  </a:lnTo>
                  <a:lnTo>
                    <a:pt x="824" y="116"/>
                  </a:lnTo>
                  <a:lnTo>
                    <a:pt x="860" y="148"/>
                  </a:lnTo>
                  <a:lnTo>
                    <a:pt x="894" y="184"/>
                  </a:lnTo>
                  <a:lnTo>
                    <a:pt x="922" y="224"/>
                  </a:lnTo>
                  <a:lnTo>
                    <a:pt x="948" y="264"/>
                  </a:lnTo>
                  <a:lnTo>
                    <a:pt x="968" y="308"/>
                  </a:lnTo>
                  <a:lnTo>
                    <a:pt x="978" y="332"/>
                  </a:lnTo>
                  <a:lnTo>
                    <a:pt x="986" y="356"/>
                  </a:lnTo>
                  <a:lnTo>
                    <a:pt x="992" y="380"/>
                  </a:lnTo>
                  <a:lnTo>
                    <a:pt x="998" y="404"/>
                  </a:lnTo>
                  <a:lnTo>
                    <a:pt x="1002" y="428"/>
                  </a:lnTo>
                  <a:lnTo>
                    <a:pt x="1006" y="454"/>
                  </a:lnTo>
                  <a:lnTo>
                    <a:pt x="1008" y="480"/>
                  </a:lnTo>
                  <a:lnTo>
                    <a:pt x="1008" y="506"/>
                  </a:lnTo>
                  <a:lnTo>
                    <a:pt x="1008" y="506"/>
                  </a:lnTo>
                  <a:close/>
                </a:path>
              </a:pathLst>
            </a:custGeom>
            <a:solidFill>
              <a:srgbClr val="f4a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431"/>
            <p:cNvSpPr/>
            <p:nvPr/>
          </p:nvSpPr>
          <p:spPr>
            <a:xfrm>
              <a:off x="8264520" y="12823920"/>
              <a:ext cx="1568520" cy="156816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988" h="988">
                  <a:moveTo>
                    <a:pt x="988" y="494"/>
                  </a:moveTo>
                  <a:lnTo>
                    <a:pt x="988" y="494"/>
                  </a:lnTo>
                  <a:lnTo>
                    <a:pt x="986" y="518"/>
                  </a:lnTo>
                  <a:lnTo>
                    <a:pt x="984" y="544"/>
                  </a:lnTo>
                  <a:lnTo>
                    <a:pt x="982" y="568"/>
                  </a:lnTo>
                  <a:lnTo>
                    <a:pt x="978" y="594"/>
                  </a:lnTo>
                  <a:lnTo>
                    <a:pt x="972" y="616"/>
                  </a:lnTo>
                  <a:lnTo>
                    <a:pt x="966" y="640"/>
                  </a:lnTo>
                  <a:lnTo>
                    <a:pt x="948" y="686"/>
                  </a:lnTo>
                  <a:lnTo>
                    <a:pt x="928" y="728"/>
                  </a:lnTo>
                  <a:lnTo>
                    <a:pt x="904" y="770"/>
                  </a:lnTo>
                  <a:lnTo>
                    <a:pt x="874" y="808"/>
                  </a:lnTo>
                  <a:lnTo>
                    <a:pt x="842" y="842"/>
                  </a:lnTo>
                  <a:lnTo>
                    <a:pt x="808" y="874"/>
                  </a:lnTo>
                  <a:lnTo>
                    <a:pt x="770" y="904"/>
                  </a:lnTo>
                  <a:lnTo>
                    <a:pt x="730" y="928"/>
                  </a:lnTo>
                  <a:lnTo>
                    <a:pt x="686" y="948"/>
                  </a:lnTo>
                  <a:lnTo>
                    <a:pt x="640" y="966"/>
                  </a:lnTo>
                  <a:lnTo>
                    <a:pt x="618" y="972"/>
                  </a:lnTo>
                  <a:lnTo>
                    <a:pt x="594" y="978"/>
                  </a:lnTo>
                  <a:lnTo>
                    <a:pt x="568" y="982"/>
                  </a:lnTo>
                  <a:lnTo>
                    <a:pt x="544" y="984"/>
                  </a:lnTo>
                  <a:lnTo>
                    <a:pt x="520" y="986"/>
                  </a:lnTo>
                  <a:lnTo>
                    <a:pt x="494" y="988"/>
                  </a:lnTo>
                  <a:lnTo>
                    <a:pt x="494" y="988"/>
                  </a:lnTo>
                  <a:lnTo>
                    <a:pt x="468" y="986"/>
                  </a:lnTo>
                  <a:lnTo>
                    <a:pt x="444" y="984"/>
                  </a:lnTo>
                  <a:lnTo>
                    <a:pt x="418" y="982"/>
                  </a:lnTo>
                  <a:lnTo>
                    <a:pt x="394" y="978"/>
                  </a:lnTo>
                  <a:lnTo>
                    <a:pt x="370" y="972"/>
                  </a:lnTo>
                  <a:lnTo>
                    <a:pt x="346" y="966"/>
                  </a:lnTo>
                  <a:lnTo>
                    <a:pt x="302" y="948"/>
                  </a:lnTo>
                  <a:lnTo>
                    <a:pt x="258" y="928"/>
                  </a:lnTo>
                  <a:lnTo>
                    <a:pt x="218" y="904"/>
                  </a:lnTo>
                  <a:lnTo>
                    <a:pt x="180" y="874"/>
                  </a:lnTo>
                  <a:lnTo>
                    <a:pt x="144" y="842"/>
                  </a:lnTo>
                  <a:lnTo>
                    <a:pt x="112" y="808"/>
                  </a:lnTo>
                  <a:lnTo>
                    <a:pt x="84" y="770"/>
                  </a:lnTo>
                  <a:lnTo>
                    <a:pt x="60" y="728"/>
                  </a:lnTo>
                  <a:lnTo>
                    <a:pt x="38" y="686"/>
                  </a:lnTo>
                  <a:lnTo>
                    <a:pt x="22" y="640"/>
                  </a:lnTo>
                  <a:lnTo>
                    <a:pt x="16" y="616"/>
                  </a:lnTo>
                  <a:lnTo>
                    <a:pt x="10" y="594"/>
                  </a:lnTo>
                  <a:lnTo>
                    <a:pt x="6" y="568"/>
                  </a:lnTo>
                  <a:lnTo>
                    <a:pt x="2" y="544"/>
                  </a:lnTo>
                  <a:lnTo>
                    <a:pt x="0" y="518"/>
                  </a:lnTo>
                  <a:lnTo>
                    <a:pt x="0" y="494"/>
                  </a:lnTo>
                  <a:lnTo>
                    <a:pt x="0" y="494"/>
                  </a:lnTo>
                  <a:lnTo>
                    <a:pt x="0" y="468"/>
                  </a:lnTo>
                  <a:lnTo>
                    <a:pt x="2" y="444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8" y="302"/>
                  </a:lnTo>
                  <a:lnTo>
                    <a:pt x="60" y="258"/>
                  </a:lnTo>
                  <a:lnTo>
                    <a:pt x="84" y="218"/>
                  </a:lnTo>
                  <a:lnTo>
                    <a:pt x="112" y="180"/>
                  </a:lnTo>
                  <a:lnTo>
                    <a:pt x="144" y="144"/>
                  </a:lnTo>
                  <a:lnTo>
                    <a:pt x="180" y="112"/>
                  </a:lnTo>
                  <a:lnTo>
                    <a:pt x="218" y="84"/>
                  </a:lnTo>
                  <a:lnTo>
                    <a:pt x="258" y="60"/>
                  </a:lnTo>
                  <a:lnTo>
                    <a:pt x="302" y="38"/>
                  </a:lnTo>
                  <a:lnTo>
                    <a:pt x="346" y="22"/>
                  </a:lnTo>
                  <a:lnTo>
                    <a:pt x="370" y="16"/>
                  </a:lnTo>
                  <a:lnTo>
                    <a:pt x="394" y="10"/>
                  </a:lnTo>
                  <a:lnTo>
                    <a:pt x="418" y="6"/>
                  </a:lnTo>
                  <a:lnTo>
                    <a:pt x="444" y="2"/>
                  </a:lnTo>
                  <a:lnTo>
                    <a:pt x="468" y="0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520" y="0"/>
                  </a:lnTo>
                  <a:lnTo>
                    <a:pt x="544" y="2"/>
                  </a:lnTo>
                  <a:lnTo>
                    <a:pt x="568" y="6"/>
                  </a:lnTo>
                  <a:lnTo>
                    <a:pt x="594" y="10"/>
                  </a:lnTo>
                  <a:lnTo>
                    <a:pt x="618" y="16"/>
                  </a:lnTo>
                  <a:lnTo>
                    <a:pt x="640" y="22"/>
                  </a:lnTo>
                  <a:lnTo>
                    <a:pt x="686" y="38"/>
                  </a:lnTo>
                  <a:lnTo>
                    <a:pt x="730" y="60"/>
                  </a:lnTo>
                  <a:lnTo>
                    <a:pt x="770" y="84"/>
                  </a:lnTo>
                  <a:lnTo>
                    <a:pt x="808" y="112"/>
                  </a:lnTo>
                  <a:lnTo>
                    <a:pt x="842" y="144"/>
                  </a:lnTo>
                  <a:lnTo>
                    <a:pt x="874" y="180"/>
                  </a:lnTo>
                  <a:lnTo>
                    <a:pt x="904" y="218"/>
                  </a:lnTo>
                  <a:lnTo>
                    <a:pt x="928" y="258"/>
                  </a:lnTo>
                  <a:lnTo>
                    <a:pt x="948" y="302"/>
                  </a:lnTo>
                  <a:lnTo>
                    <a:pt x="966" y="346"/>
                  </a:lnTo>
                  <a:lnTo>
                    <a:pt x="972" y="370"/>
                  </a:lnTo>
                  <a:lnTo>
                    <a:pt x="978" y="394"/>
                  </a:lnTo>
                  <a:lnTo>
                    <a:pt x="982" y="418"/>
                  </a:lnTo>
                  <a:lnTo>
                    <a:pt x="984" y="444"/>
                  </a:lnTo>
                  <a:lnTo>
                    <a:pt x="986" y="468"/>
                  </a:lnTo>
                  <a:lnTo>
                    <a:pt x="988" y="494"/>
                  </a:lnTo>
                  <a:lnTo>
                    <a:pt x="988" y="494"/>
                  </a:lnTo>
                  <a:close/>
                </a:path>
              </a:pathLst>
            </a:custGeom>
            <a:solidFill>
              <a:srgbClr val="f5a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432"/>
            <p:cNvSpPr/>
            <p:nvPr/>
          </p:nvSpPr>
          <p:spPr>
            <a:xfrm>
              <a:off x="8270640" y="12833280"/>
              <a:ext cx="1533600" cy="15364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536480"/>
                <a:gd name="textAreaBottom" fmla="*/ 1536840 h 1536480"/>
              </a:gdLst>
              <a:ahLst/>
              <a:rect l="textAreaLeft" t="textAreaTop" r="textAreaRight" b="textAreaBottom"/>
              <a:pathLst>
                <a:path w="966" h="968">
                  <a:moveTo>
                    <a:pt x="966" y="484"/>
                  </a:moveTo>
                  <a:lnTo>
                    <a:pt x="966" y="484"/>
                  </a:lnTo>
                  <a:lnTo>
                    <a:pt x="966" y="508"/>
                  </a:lnTo>
                  <a:lnTo>
                    <a:pt x="964" y="534"/>
                  </a:lnTo>
                  <a:lnTo>
                    <a:pt x="960" y="558"/>
                  </a:lnTo>
                  <a:lnTo>
                    <a:pt x="956" y="582"/>
                  </a:lnTo>
                  <a:lnTo>
                    <a:pt x="944" y="628"/>
                  </a:lnTo>
                  <a:lnTo>
                    <a:pt x="928" y="672"/>
                  </a:lnTo>
                  <a:lnTo>
                    <a:pt x="908" y="714"/>
                  </a:lnTo>
                  <a:lnTo>
                    <a:pt x="884" y="754"/>
                  </a:lnTo>
                  <a:lnTo>
                    <a:pt x="856" y="792"/>
                  </a:lnTo>
                  <a:lnTo>
                    <a:pt x="824" y="826"/>
                  </a:lnTo>
                  <a:lnTo>
                    <a:pt x="790" y="856"/>
                  </a:lnTo>
                  <a:lnTo>
                    <a:pt x="754" y="884"/>
                  </a:lnTo>
                  <a:lnTo>
                    <a:pt x="714" y="908"/>
                  </a:lnTo>
                  <a:lnTo>
                    <a:pt x="672" y="930"/>
                  </a:lnTo>
                  <a:lnTo>
                    <a:pt x="626" y="946"/>
                  </a:lnTo>
                  <a:lnTo>
                    <a:pt x="580" y="958"/>
                  </a:lnTo>
                  <a:lnTo>
                    <a:pt x="556" y="962"/>
                  </a:lnTo>
                  <a:lnTo>
                    <a:pt x="532" y="964"/>
                  </a:lnTo>
                  <a:lnTo>
                    <a:pt x="508" y="966"/>
                  </a:lnTo>
                  <a:lnTo>
                    <a:pt x="484" y="968"/>
                  </a:lnTo>
                  <a:lnTo>
                    <a:pt x="484" y="968"/>
                  </a:lnTo>
                  <a:lnTo>
                    <a:pt x="458" y="966"/>
                  </a:lnTo>
                  <a:lnTo>
                    <a:pt x="434" y="964"/>
                  </a:lnTo>
                  <a:lnTo>
                    <a:pt x="410" y="962"/>
                  </a:lnTo>
                  <a:lnTo>
                    <a:pt x="386" y="958"/>
                  </a:lnTo>
                  <a:lnTo>
                    <a:pt x="340" y="946"/>
                  </a:lnTo>
                  <a:lnTo>
                    <a:pt x="296" y="930"/>
                  </a:lnTo>
                  <a:lnTo>
                    <a:pt x="252" y="908"/>
                  </a:lnTo>
                  <a:lnTo>
                    <a:pt x="212" y="884"/>
                  </a:lnTo>
                  <a:lnTo>
                    <a:pt x="176" y="856"/>
                  </a:lnTo>
                  <a:lnTo>
                    <a:pt x="142" y="826"/>
                  </a:lnTo>
                  <a:lnTo>
                    <a:pt x="110" y="792"/>
                  </a:lnTo>
                  <a:lnTo>
                    <a:pt x="82" y="754"/>
                  </a:lnTo>
                  <a:lnTo>
                    <a:pt x="58" y="714"/>
                  </a:lnTo>
                  <a:lnTo>
                    <a:pt x="38" y="672"/>
                  </a:lnTo>
                  <a:lnTo>
                    <a:pt x="22" y="628"/>
                  </a:lnTo>
                  <a:lnTo>
                    <a:pt x="10" y="582"/>
                  </a:lnTo>
                  <a:lnTo>
                    <a:pt x="6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4"/>
                  </a:lnTo>
                  <a:lnTo>
                    <a:pt x="0" y="484"/>
                  </a:lnTo>
                  <a:lnTo>
                    <a:pt x="0" y="460"/>
                  </a:lnTo>
                  <a:lnTo>
                    <a:pt x="2" y="434"/>
                  </a:lnTo>
                  <a:lnTo>
                    <a:pt x="6" y="410"/>
                  </a:lnTo>
                  <a:lnTo>
                    <a:pt x="10" y="386"/>
                  </a:lnTo>
                  <a:lnTo>
                    <a:pt x="22" y="340"/>
                  </a:lnTo>
                  <a:lnTo>
                    <a:pt x="38" y="296"/>
                  </a:lnTo>
                  <a:lnTo>
                    <a:pt x="58" y="254"/>
                  </a:lnTo>
                  <a:lnTo>
                    <a:pt x="82" y="214"/>
                  </a:lnTo>
                  <a:lnTo>
                    <a:pt x="110" y="176"/>
                  </a:lnTo>
                  <a:lnTo>
                    <a:pt x="142" y="142"/>
                  </a:lnTo>
                  <a:lnTo>
                    <a:pt x="176" y="112"/>
                  </a:lnTo>
                  <a:lnTo>
                    <a:pt x="212" y="84"/>
                  </a:lnTo>
                  <a:lnTo>
                    <a:pt x="252" y="60"/>
                  </a:lnTo>
                  <a:lnTo>
                    <a:pt x="296" y="38"/>
                  </a:lnTo>
                  <a:lnTo>
                    <a:pt x="340" y="22"/>
                  </a:lnTo>
                  <a:lnTo>
                    <a:pt x="386" y="10"/>
                  </a:lnTo>
                  <a:lnTo>
                    <a:pt x="410" y="6"/>
                  </a:lnTo>
                  <a:lnTo>
                    <a:pt x="434" y="4"/>
                  </a:lnTo>
                  <a:lnTo>
                    <a:pt x="458" y="2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508" y="2"/>
                  </a:lnTo>
                  <a:lnTo>
                    <a:pt x="532" y="4"/>
                  </a:lnTo>
                  <a:lnTo>
                    <a:pt x="556" y="6"/>
                  </a:lnTo>
                  <a:lnTo>
                    <a:pt x="580" y="10"/>
                  </a:lnTo>
                  <a:lnTo>
                    <a:pt x="626" y="22"/>
                  </a:lnTo>
                  <a:lnTo>
                    <a:pt x="672" y="38"/>
                  </a:lnTo>
                  <a:lnTo>
                    <a:pt x="714" y="60"/>
                  </a:lnTo>
                  <a:lnTo>
                    <a:pt x="754" y="84"/>
                  </a:lnTo>
                  <a:lnTo>
                    <a:pt x="790" y="112"/>
                  </a:lnTo>
                  <a:lnTo>
                    <a:pt x="824" y="142"/>
                  </a:lnTo>
                  <a:lnTo>
                    <a:pt x="856" y="176"/>
                  </a:lnTo>
                  <a:lnTo>
                    <a:pt x="884" y="214"/>
                  </a:lnTo>
                  <a:lnTo>
                    <a:pt x="908" y="254"/>
                  </a:lnTo>
                  <a:lnTo>
                    <a:pt x="928" y="296"/>
                  </a:lnTo>
                  <a:lnTo>
                    <a:pt x="944" y="340"/>
                  </a:lnTo>
                  <a:lnTo>
                    <a:pt x="956" y="386"/>
                  </a:lnTo>
                  <a:lnTo>
                    <a:pt x="960" y="410"/>
                  </a:lnTo>
                  <a:lnTo>
                    <a:pt x="964" y="434"/>
                  </a:lnTo>
                  <a:lnTo>
                    <a:pt x="966" y="460"/>
                  </a:lnTo>
                  <a:lnTo>
                    <a:pt x="966" y="484"/>
                  </a:lnTo>
                  <a:lnTo>
                    <a:pt x="966" y="484"/>
                  </a:lnTo>
                  <a:close/>
                </a:path>
              </a:pathLst>
            </a:custGeom>
            <a:solidFill>
              <a:srgbClr val="f5a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433"/>
            <p:cNvSpPr/>
            <p:nvPr/>
          </p:nvSpPr>
          <p:spPr>
            <a:xfrm>
              <a:off x="8277120" y="12845880"/>
              <a:ext cx="1501920" cy="149832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1498320"/>
                <a:gd name="textAreaBottom" fmla="*/ 1498680 h 1498320"/>
              </a:gdLst>
              <a:ahLst/>
              <a:rect l="textAreaLeft" t="textAreaTop" r="textAreaRight" b="textAreaBottom"/>
              <a:pathLst>
                <a:path w="946" h="944">
                  <a:moveTo>
                    <a:pt x="946" y="472"/>
                  </a:moveTo>
                  <a:lnTo>
                    <a:pt x="946" y="472"/>
                  </a:lnTo>
                  <a:lnTo>
                    <a:pt x="944" y="496"/>
                  </a:lnTo>
                  <a:lnTo>
                    <a:pt x="942" y="520"/>
                  </a:lnTo>
                  <a:lnTo>
                    <a:pt x="940" y="544"/>
                  </a:lnTo>
                  <a:lnTo>
                    <a:pt x="936" y="568"/>
                  </a:lnTo>
                  <a:lnTo>
                    <a:pt x="924" y="612"/>
                  </a:lnTo>
                  <a:lnTo>
                    <a:pt x="908" y="656"/>
                  </a:lnTo>
                  <a:lnTo>
                    <a:pt x="888" y="698"/>
                  </a:lnTo>
                  <a:lnTo>
                    <a:pt x="864" y="736"/>
                  </a:lnTo>
                  <a:lnTo>
                    <a:pt x="838" y="774"/>
                  </a:lnTo>
                  <a:lnTo>
                    <a:pt x="806" y="806"/>
                  </a:lnTo>
                  <a:lnTo>
                    <a:pt x="774" y="838"/>
                  </a:lnTo>
                  <a:lnTo>
                    <a:pt x="738" y="864"/>
                  </a:lnTo>
                  <a:lnTo>
                    <a:pt x="698" y="888"/>
                  </a:lnTo>
                  <a:lnTo>
                    <a:pt x="656" y="908"/>
                  </a:lnTo>
                  <a:lnTo>
                    <a:pt x="614" y="924"/>
                  </a:lnTo>
                  <a:lnTo>
                    <a:pt x="568" y="936"/>
                  </a:lnTo>
                  <a:lnTo>
                    <a:pt x="544" y="940"/>
                  </a:lnTo>
                  <a:lnTo>
                    <a:pt x="522" y="942"/>
                  </a:lnTo>
                  <a:lnTo>
                    <a:pt x="498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48" y="944"/>
                  </a:lnTo>
                  <a:lnTo>
                    <a:pt x="424" y="942"/>
                  </a:lnTo>
                  <a:lnTo>
                    <a:pt x="400" y="940"/>
                  </a:lnTo>
                  <a:lnTo>
                    <a:pt x="378" y="936"/>
                  </a:lnTo>
                  <a:lnTo>
                    <a:pt x="332" y="924"/>
                  </a:lnTo>
                  <a:lnTo>
                    <a:pt x="288" y="908"/>
                  </a:lnTo>
                  <a:lnTo>
                    <a:pt x="248" y="888"/>
                  </a:lnTo>
                  <a:lnTo>
                    <a:pt x="208" y="864"/>
                  </a:lnTo>
                  <a:lnTo>
                    <a:pt x="172" y="838"/>
                  </a:lnTo>
                  <a:lnTo>
                    <a:pt x="138" y="806"/>
                  </a:lnTo>
                  <a:lnTo>
                    <a:pt x="108" y="774"/>
                  </a:lnTo>
                  <a:lnTo>
                    <a:pt x="80" y="736"/>
                  </a:lnTo>
                  <a:lnTo>
                    <a:pt x="58" y="698"/>
                  </a:lnTo>
                  <a:lnTo>
                    <a:pt x="38" y="656"/>
                  </a:lnTo>
                  <a:lnTo>
                    <a:pt x="22" y="612"/>
                  </a:lnTo>
                  <a:lnTo>
                    <a:pt x="10" y="568"/>
                  </a:lnTo>
                  <a:lnTo>
                    <a:pt x="6" y="544"/>
                  </a:lnTo>
                  <a:lnTo>
                    <a:pt x="2" y="520"/>
                  </a:lnTo>
                  <a:lnTo>
                    <a:pt x="0" y="496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0" y="448"/>
                  </a:lnTo>
                  <a:lnTo>
                    <a:pt x="2" y="424"/>
                  </a:lnTo>
                  <a:lnTo>
                    <a:pt x="6" y="400"/>
                  </a:lnTo>
                  <a:lnTo>
                    <a:pt x="10" y="378"/>
                  </a:lnTo>
                  <a:lnTo>
                    <a:pt x="22" y="332"/>
                  </a:lnTo>
                  <a:lnTo>
                    <a:pt x="38" y="288"/>
                  </a:lnTo>
                  <a:lnTo>
                    <a:pt x="58" y="248"/>
                  </a:lnTo>
                  <a:lnTo>
                    <a:pt x="80" y="208"/>
                  </a:lnTo>
                  <a:lnTo>
                    <a:pt x="108" y="172"/>
                  </a:lnTo>
                  <a:lnTo>
                    <a:pt x="138" y="138"/>
                  </a:lnTo>
                  <a:lnTo>
                    <a:pt x="172" y="108"/>
                  </a:lnTo>
                  <a:lnTo>
                    <a:pt x="208" y="80"/>
                  </a:lnTo>
                  <a:lnTo>
                    <a:pt x="248" y="56"/>
                  </a:lnTo>
                  <a:lnTo>
                    <a:pt x="288" y="36"/>
                  </a:lnTo>
                  <a:lnTo>
                    <a:pt x="332" y="20"/>
                  </a:lnTo>
                  <a:lnTo>
                    <a:pt x="378" y="10"/>
                  </a:lnTo>
                  <a:lnTo>
                    <a:pt x="400" y="6"/>
                  </a:lnTo>
                  <a:lnTo>
                    <a:pt x="424" y="2"/>
                  </a:lnTo>
                  <a:lnTo>
                    <a:pt x="448" y="0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98" y="0"/>
                  </a:lnTo>
                  <a:lnTo>
                    <a:pt x="522" y="2"/>
                  </a:lnTo>
                  <a:lnTo>
                    <a:pt x="544" y="6"/>
                  </a:lnTo>
                  <a:lnTo>
                    <a:pt x="568" y="10"/>
                  </a:lnTo>
                  <a:lnTo>
                    <a:pt x="614" y="20"/>
                  </a:lnTo>
                  <a:lnTo>
                    <a:pt x="656" y="36"/>
                  </a:lnTo>
                  <a:lnTo>
                    <a:pt x="698" y="56"/>
                  </a:lnTo>
                  <a:lnTo>
                    <a:pt x="738" y="80"/>
                  </a:lnTo>
                  <a:lnTo>
                    <a:pt x="774" y="108"/>
                  </a:lnTo>
                  <a:lnTo>
                    <a:pt x="806" y="138"/>
                  </a:lnTo>
                  <a:lnTo>
                    <a:pt x="838" y="172"/>
                  </a:lnTo>
                  <a:lnTo>
                    <a:pt x="864" y="208"/>
                  </a:lnTo>
                  <a:lnTo>
                    <a:pt x="888" y="248"/>
                  </a:lnTo>
                  <a:lnTo>
                    <a:pt x="908" y="288"/>
                  </a:lnTo>
                  <a:lnTo>
                    <a:pt x="924" y="332"/>
                  </a:lnTo>
                  <a:lnTo>
                    <a:pt x="936" y="378"/>
                  </a:lnTo>
                  <a:lnTo>
                    <a:pt x="940" y="400"/>
                  </a:lnTo>
                  <a:lnTo>
                    <a:pt x="942" y="424"/>
                  </a:lnTo>
                  <a:lnTo>
                    <a:pt x="944" y="448"/>
                  </a:lnTo>
                  <a:lnTo>
                    <a:pt x="946" y="472"/>
                  </a:lnTo>
                  <a:lnTo>
                    <a:pt x="946" y="472"/>
                  </a:lnTo>
                  <a:close/>
                </a:path>
              </a:pathLst>
            </a:custGeom>
            <a:solidFill>
              <a:srgbClr val="f5a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434"/>
            <p:cNvSpPr/>
            <p:nvPr/>
          </p:nvSpPr>
          <p:spPr>
            <a:xfrm>
              <a:off x="8283240" y="12855600"/>
              <a:ext cx="1467000" cy="146664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924" h="924">
                  <a:moveTo>
                    <a:pt x="924" y="462"/>
                  </a:moveTo>
                  <a:lnTo>
                    <a:pt x="924" y="462"/>
                  </a:lnTo>
                  <a:lnTo>
                    <a:pt x="924" y="486"/>
                  </a:lnTo>
                  <a:lnTo>
                    <a:pt x="922" y="510"/>
                  </a:lnTo>
                  <a:lnTo>
                    <a:pt x="914" y="556"/>
                  </a:lnTo>
                  <a:lnTo>
                    <a:pt x="904" y="600"/>
                  </a:lnTo>
                  <a:lnTo>
                    <a:pt x="888" y="642"/>
                  </a:lnTo>
                  <a:lnTo>
                    <a:pt x="868" y="682"/>
                  </a:lnTo>
                  <a:lnTo>
                    <a:pt x="846" y="722"/>
                  </a:lnTo>
                  <a:lnTo>
                    <a:pt x="818" y="756"/>
                  </a:lnTo>
                  <a:lnTo>
                    <a:pt x="790" y="790"/>
                  </a:lnTo>
                  <a:lnTo>
                    <a:pt x="756" y="820"/>
                  </a:lnTo>
                  <a:lnTo>
                    <a:pt x="720" y="846"/>
                  </a:lnTo>
                  <a:lnTo>
                    <a:pt x="682" y="870"/>
                  </a:lnTo>
                  <a:lnTo>
                    <a:pt x="642" y="888"/>
                  </a:lnTo>
                  <a:lnTo>
                    <a:pt x="600" y="904"/>
                  </a:lnTo>
                  <a:lnTo>
                    <a:pt x="556" y="916"/>
                  </a:lnTo>
                  <a:lnTo>
                    <a:pt x="510" y="922"/>
                  </a:lnTo>
                  <a:lnTo>
                    <a:pt x="486" y="924"/>
                  </a:lnTo>
                  <a:lnTo>
                    <a:pt x="462" y="924"/>
                  </a:lnTo>
                  <a:lnTo>
                    <a:pt x="462" y="924"/>
                  </a:lnTo>
                  <a:lnTo>
                    <a:pt x="438" y="924"/>
                  </a:lnTo>
                  <a:lnTo>
                    <a:pt x="416" y="922"/>
                  </a:lnTo>
                  <a:lnTo>
                    <a:pt x="370" y="916"/>
                  </a:lnTo>
                  <a:lnTo>
                    <a:pt x="324" y="904"/>
                  </a:lnTo>
                  <a:lnTo>
                    <a:pt x="282" y="888"/>
                  </a:lnTo>
                  <a:lnTo>
                    <a:pt x="242" y="870"/>
                  </a:lnTo>
                  <a:lnTo>
                    <a:pt x="204" y="846"/>
                  </a:lnTo>
                  <a:lnTo>
                    <a:pt x="168" y="820"/>
                  </a:lnTo>
                  <a:lnTo>
                    <a:pt x="136" y="790"/>
                  </a:lnTo>
                  <a:lnTo>
                    <a:pt x="106" y="756"/>
                  </a:lnTo>
                  <a:lnTo>
                    <a:pt x="80" y="722"/>
                  </a:lnTo>
                  <a:lnTo>
                    <a:pt x="56" y="682"/>
                  </a:lnTo>
                  <a:lnTo>
                    <a:pt x="36" y="642"/>
                  </a:lnTo>
                  <a:lnTo>
                    <a:pt x="22" y="600"/>
                  </a:lnTo>
                  <a:lnTo>
                    <a:pt x="10" y="556"/>
                  </a:lnTo>
                  <a:lnTo>
                    <a:pt x="2" y="510"/>
                  </a:lnTo>
                  <a:lnTo>
                    <a:pt x="0" y="486"/>
                  </a:lnTo>
                  <a:lnTo>
                    <a:pt x="0" y="462"/>
                  </a:lnTo>
                  <a:lnTo>
                    <a:pt x="0" y="462"/>
                  </a:lnTo>
                  <a:lnTo>
                    <a:pt x="0" y="438"/>
                  </a:lnTo>
                  <a:lnTo>
                    <a:pt x="2" y="416"/>
                  </a:lnTo>
                  <a:lnTo>
                    <a:pt x="10" y="370"/>
                  </a:lnTo>
                  <a:lnTo>
                    <a:pt x="22" y="326"/>
                  </a:lnTo>
                  <a:lnTo>
                    <a:pt x="36" y="282"/>
                  </a:lnTo>
                  <a:lnTo>
                    <a:pt x="56" y="242"/>
                  </a:lnTo>
                  <a:lnTo>
                    <a:pt x="80" y="204"/>
                  </a:lnTo>
                  <a:lnTo>
                    <a:pt x="106" y="168"/>
                  </a:lnTo>
                  <a:lnTo>
                    <a:pt x="136" y="136"/>
                  </a:lnTo>
                  <a:lnTo>
                    <a:pt x="168" y="106"/>
                  </a:lnTo>
                  <a:lnTo>
                    <a:pt x="204" y="80"/>
                  </a:lnTo>
                  <a:lnTo>
                    <a:pt x="242" y="56"/>
                  </a:lnTo>
                  <a:lnTo>
                    <a:pt x="282" y="38"/>
                  </a:lnTo>
                  <a:lnTo>
                    <a:pt x="324" y="22"/>
                  </a:lnTo>
                  <a:lnTo>
                    <a:pt x="370" y="10"/>
                  </a:lnTo>
                  <a:lnTo>
                    <a:pt x="416" y="4"/>
                  </a:lnTo>
                  <a:lnTo>
                    <a:pt x="438" y="2"/>
                  </a:lnTo>
                  <a:lnTo>
                    <a:pt x="462" y="0"/>
                  </a:lnTo>
                  <a:lnTo>
                    <a:pt x="462" y="0"/>
                  </a:lnTo>
                  <a:lnTo>
                    <a:pt x="486" y="2"/>
                  </a:lnTo>
                  <a:lnTo>
                    <a:pt x="510" y="4"/>
                  </a:lnTo>
                  <a:lnTo>
                    <a:pt x="556" y="10"/>
                  </a:lnTo>
                  <a:lnTo>
                    <a:pt x="600" y="22"/>
                  </a:lnTo>
                  <a:lnTo>
                    <a:pt x="642" y="38"/>
                  </a:lnTo>
                  <a:lnTo>
                    <a:pt x="682" y="56"/>
                  </a:lnTo>
                  <a:lnTo>
                    <a:pt x="720" y="80"/>
                  </a:lnTo>
                  <a:lnTo>
                    <a:pt x="756" y="106"/>
                  </a:lnTo>
                  <a:lnTo>
                    <a:pt x="790" y="136"/>
                  </a:lnTo>
                  <a:lnTo>
                    <a:pt x="818" y="168"/>
                  </a:lnTo>
                  <a:lnTo>
                    <a:pt x="846" y="204"/>
                  </a:lnTo>
                  <a:lnTo>
                    <a:pt x="868" y="242"/>
                  </a:lnTo>
                  <a:lnTo>
                    <a:pt x="888" y="282"/>
                  </a:lnTo>
                  <a:lnTo>
                    <a:pt x="904" y="326"/>
                  </a:lnTo>
                  <a:lnTo>
                    <a:pt x="914" y="370"/>
                  </a:lnTo>
                  <a:lnTo>
                    <a:pt x="922" y="416"/>
                  </a:lnTo>
                  <a:lnTo>
                    <a:pt x="924" y="438"/>
                  </a:lnTo>
                  <a:lnTo>
                    <a:pt x="924" y="462"/>
                  </a:lnTo>
                  <a:lnTo>
                    <a:pt x="924" y="462"/>
                  </a:lnTo>
                  <a:close/>
                </a:path>
              </a:pathLst>
            </a:custGeom>
            <a:solidFill>
              <a:srgbClr val="f6a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435"/>
            <p:cNvSpPr/>
            <p:nvPr/>
          </p:nvSpPr>
          <p:spPr>
            <a:xfrm>
              <a:off x="8289720" y="12868200"/>
              <a:ext cx="1435320" cy="1431720"/>
            </a:xfrm>
            <a:custGeom>
              <a:avLst/>
              <a:gdLst>
                <a:gd name="textAreaLeft" fmla="*/ 0 w 1435320"/>
                <a:gd name="textAreaRight" fmla="*/ 1435680 w 1435320"/>
                <a:gd name="textAreaTop" fmla="*/ 0 h 1431720"/>
                <a:gd name="textAreaBottom" fmla="*/ 1432080 h 1431720"/>
              </a:gdLst>
              <a:ahLst/>
              <a:rect l="textAreaLeft" t="textAreaTop" r="textAreaRight" b="textAreaBottom"/>
              <a:pathLst>
                <a:path w="904" h="902">
                  <a:moveTo>
                    <a:pt x="904" y="452"/>
                  </a:moveTo>
                  <a:lnTo>
                    <a:pt x="904" y="452"/>
                  </a:lnTo>
                  <a:lnTo>
                    <a:pt x="900" y="498"/>
                  </a:lnTo>
                  <a:lnTo>
                    <a:pt x="894" y="542"/>
                  </a:lnTo>
                  <a:lnTo>
                    <a:pt x="884" y="586"/>
                  </a:lnTo>
                  <a:lnTo>
                    <a:pt x="868" y="626"/>
                  </a:lnTo>
                  <a:lnTo>
                    <a:pt x="848" y="666"/>
                  </a:lnTo>
                  <a:lnTo>
                    <a:pt x="826" y="704"/>
                  </a:lnTo>
                  <a:lnTo>
                    <a:pt x="800" y="738"/>
                  </a:lnTo>
                  <a:lnTo>
                    <a:pt x="772" y="770"/>
                  </a:lnTo>
                  <a:lnTo>
                    <a:pt x="740" y="800"/>
                  </a:lnTo>
                  <a:lnTo>
                    <a:pt x="704" y="826"/>
                  </a:lnTo>
                  <a:lnTo>
                    <a:pt x="668" y="848"/>
                  </a:lnTo>
                  <a:lnTo>
                    <a:pt x="628" y="868"/>
                  </a:lnTo>
                  <a:lnTo>
                    <a:pt x="586" y="882"/>
                  </a:lnTo>
                  <a:lnTo>
                    <a:pt x="542" y="894"/>
                  </a:lnTo>
                  <a:lnTo>
                    <a:pt x="498" y="900"/>
                  </a:lnTo>
                  <a:lnTo>
                    <a:pt x="452" y="902"/>
                  </a:lnTo>
                  <a:lnTo>
                    <a:pt x="452" y="902"/>
                  </a:lnTo>
                  <a:lnTo>
                    <a:pt x="406" y="900"/>
                  </a:lnTo>
                  <a:lnTo>
                    <a:pt x="360" y="894"/>
                  </a:lnTo>
                  <a:lnTo>
                    <a:pt x="318" y="882"/>
                  </a:lnTo>
                  <a:lnTo>
                    <a:pt x="276" y="868"/>
                  </a:lnTo>
                  <a:lnTo>
                    <a:pt x="236" y="848"/>
                  </a:lnTo>
                  <a:lnTo>
                    <a:pt x="200" y="826"/>
                  </a:lnTo>
                  <a:lnTo>
                    <a:pt x="164" y="800"/>
                  </a:lnTo>
                  <a:lnTo>
                    <a:pt x="132" y="770"/>
                  </a:lnTo>
                  <a:lnTo>
                    <a:pt x="104" y="738"/>
                  </a:lnTo>
                  <a:lnTo>
                    <a:pt x="78" y="704"/>
                  </a:lnTo>
                  <a:lnTo>
                    <a:pt x="56" y="666"/>
                  </a:lnTo>
                  <a:lnTo>
                    <a:pt x="36" y="626"/>
                  </a:lnTo>
                  <a:lnTo>
                    <a:pt x="20" y="586"/>
                  </a:lnTo>
                  <a:lnTo>
                    <a:pt x="10" y="542"/>
                  </a:lnTo>
                  <a:lnTo>
                    <a:pt x="2" y="498"/>
                  </a:lnTo>
                  <a:lnTo>
                    <a:pt x="0" y="452"/>
                  </a:lnTo>
                  <a:lnTo>
                    <a:pt x="0" y="452"/>
                  </a:lnTo>
                  <a:lnTo>
                    <a:pt x="2" y="406"/>
                  </a:lnTo>
                  <a:lnTo>
                    <a:pt x="10" y="360"/>
                  </a:lnTo>
                  <a:lnTo>
                    <a:pt x="20" y="316"/>
                  </a:lnTo>
                  <a:lnTo>
                    <a:pt x="36" y="276"/>
                  </a:lnTo>
                  <a:lnTo>
                    <a:pt x="56" y="236"/>
                  </a:lnTo>
                  <a:lnTo>
                    <a:pt x="78" y="198"/>
                  </a:lnTo>
                  <a:lnTo>
                    <a:pt x="104" y="164"/>
                  </a:lnTo>
                  <a:lnTo>
                    <a:pt x="132" y="132"/>
                  </a:lnTo>
                  <a:lnTo>
                    <a:pt x="164" y="102"/>
                  </a:lnTo>
                  <a:lnTo>
                    <a:pt x="200" y="76"/>
                  </a:lnTo>
                  <a:lnTo>
                    <a:pt x="236" y="54"/>
                  </a:lnTo>
                  <a:lnTo>
                    <a:pt x="276" y="36"/>
                  </a:lnTo>
                  <a:lnTo>
                    <a:pt x="318" y="20"/>
                  </a:lnTo>
                  <a:lnTo>
                    <a:pt x="360" y="8"/>
                  </a:lnTo>
                  <a:lnTo>
                    <a:pt x="406" y="2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98" y="2"/>
                  </a:lnTo>
                  <a:lnTo>
                    <a:pt x="542" y="8"/>
                  </a:lnTo>
                  <a:lnTo>
                    <a:pt x="586" y="20"/>
                  </a:lnTo>
                  <a:lnTo>
                    <a:pt x="628" y="36"/>
                  </a:lnTo>
                  <a:lnTo>
                    <a:pt x="668" y="54"/>
                  </a:lnTo>
                  <a:lnTo>
                    <a:pt x="704" y="76"/>
                  </a:lnTo>
                  <a:lnTo>
                    <a:pt x="740" y="102"/>
                  </a:lnTo>
                  <a:lnTo>
                    <a:pt x="772" y="132"/>
                  </a:lnTo>
                  <a:lnTo>
                    <a:pt x="800" y="164"/>
                  </a:lnTo>
                  <a:lnTo>
                    <a:pt x="826" y="198"/>
                  </a:lnTo>
                  <a:lnTo>
                    <a:pt x="848" y="236"/>
                  </a:lnTo>
                  <a:lnTo>
                    <a:pt x="868" y="276"/>
                  </a:lnTo>
                  <a:lnTo>
                    <a:pt x="884" y="316"/>
                  </a:lnTo>
                  <a:lnTo>
                    <a:pt x="894" y="360"/>
                  </a:lnTo>
                  <a:lnTo>
                    <a:pt x="900" y="406"/>
                  </a:lnTo>
                  <a:lnTo>
                    <a:pt x="904" y="452"/>
                  </a:lnTo>
                  <a:lnTo>
                    <a:pt x="904" y="452"/>
                  </a:lnTo>
                  <a:close/>
                </a:path>
              </a:pathLst>
            </a:custGeom>
            <a:solidFill>
              <a:srgbClr val="f6a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436"/>
            <p:cNvSpPr/>
            <p:nvPr/>
          </p:nvSpPr>
          <p:spPr>
            <a:xfrm>
              <a:off x="8296200" y="12877920"/>
              <a:ext cx="1400400" cy="1400040"/>
            </a:xfrm>
            <a:custGeom>
              <a:avLst/>
              <a:gdLst>
                <a:gd name="textAreaLeft" fmla="*/ 0 w 1400400"/>
                <a:gd name="textAreaRight" fmla="*/ 1400400 w 140040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2" h="882">
                  <a:moveTo>
                    <a:pt x="882" y="442"/>
                  </a:moveTo>
                  <a:lnTo>
                    <a:pt x="882" y="442"/>
                  </a:lnTo>
                  <a:lnTo>
                    <a:pt x="880" y="486"/>
                  </a:lnTo>
                  <a:lnTo>
                    <a:pt x="874" y="530"/>
                  </a:lnTo>
                  <a:lnTo>
                    <a:pt x="862" y="572"/>
                  </a:lnTo>
                  <a:lnTo>
                    <a:pt x="848" y="614"/>
                  </a:lnTo>
                  <a:lnTo>
                    <a:pt x="830" y="652"/>
                  </a:lnTo>
                  <a:lnTo>
                    <a:pt x="806" y="688"/>
                  </a:lnTo>
                  <a:lnTo>
                    <a:pt x="782" y="722"/>
                  </a:lnTo>
                  <a:lnTo>
                    <a:pt x="754" y="754"/>
                  </a:lnTo>
                  <a:lnTo>
                    <a:pt x="722" y="782"/>
                  </a:lnTo>
                  <a:lnTo>
                    <a:pt x="688" y="808"/>
                  </a:lnTo>
                  <a:lnTo>
                    <a:pt x="652" y="830"/>
                  </a:lnTo>
                  <a:lnTo>
                    <a:pt x="614" y="848"/>
                  </a:lnTo>
                  <a:lnTo>
                    <a:pt x="572" y="862"/>
                  </a:lnTo>
                  <a:lnTo>
                    <a:pt x="530" y="874"/>
                  </a:lnTo>
                  <a:lnTo>
                    <a:pt x="486" y="880"/>
                  </a:lnTo>
                  <a:lnTo>
                    <a:pt x="442" y="882"/>
                  </a:lnTo>
                  <a:lnTo>
                    <a:pt x="442" y="882"/>
                  </a:lnTo>
                  <a:lnTo>
                    <a:pt x="396" y="880"/>
                  </a:lnTo>
                  <a:lnTo>
                    <a:pt x="352" y="874"/>
                  </a:lnTo>
                  <a:lnTo>
                    <a:pt x="310" y="862"/>
                  </a:lnTo>
                  <a:lnTo>
                    <a:pt x="270" y="848"/>
                  </a:lnTo>
                  <a:lnTo>
                    <a:pt x="232" y="830"/>
                  </a:lnTo>
                  <a:lnTo>
                    <a:pt x="196" y="808"/>
                  </a:lnTo>
                  <a:lnTo>
                    <a:pt x="162" y="782"/>
                  </a:lnTo>
                  <a:lnTo>
                    <a:pt x="130" y="754"/>
                  </a:lnTo>
                  <a:lnTo>
                    <a:pt x="102" y="722"/>
                  </a:lnTo>
                  <a:lnTo>
                    <a:pt x="76" y="688"/>
                  </a:lnTo>
                  <a:lnTo>
                    <a:pt x="54" y="652"/>
                  </a:lnTo>
                  <a:lnTo>
                    <a:pt x="36" y="614"/>
                  </a:lnTo>
                  <a:lnTo>
                    <a:pt x="20" y="572"/>
                  </a:lnTo>
                  <a:lnTo>
                    <a:pt x="10" y="530"/>
                  </a:lnTo>
                  <a:lnTo>
                    <a:pt x="4" y="486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4" y="396"/>
                  </a:lnTo>
                  <a:lnTo>
                    <a:pt x="10" y="352"/>
                  </a:lnTo>
                  <a:lnTo>
                    <a:pt x="20" y="310"/>
                  </a:lnTo>
                  <a:lnTo>
                    <a:pt x="36" y="270"/>
                  </a:lnTo>
                  <a:lnTo>
                    <a:pt x="54" y="232"/>
                  </a:lnTo>
                  <a:lnTo>
                    <a:pt x="76" y="196"/>
                  </a:lnTo>
                  <a:lnTo>
                    <a:pt x="102" y="162"/>
                  </a:lnTo>
                  <a:lnTo>
                    <a:pt x="130" y="130"/>
                  </a:lnTo>
                  <a:lnTo>
                    <a:pt x="162" y="102"/>
                  </a:lnTo>
                  <a:lnTo>
                    <a:pt x="196" y="76"/>
                  </a:lnTo>
                  <a:lnTo>
                    <a:pt x="232" y="54"/>
                  </a:lnTo>
                  <a:lnTo>
                    <a:pt x="270" y="36"/>
                  </a:lnTo>
                  <a:lnTo>
                    <a:pt x="310" y="20"/>
                  </a:lnTo>
                  <a:lnTo>
                    <a:pt x="352" y="10"/>
                  </a:lnTo>
                  <a:lnTo>
                    <a:pt x="396" y="4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86" y="4"/>
                  </a:lnTo>
                  <a:lnTo>
                    <a:pt x="530" y="10"/>
                  </a:lnTo>
                  <a:lnTo>
                    <a:pt x="572" y="20"/>
                  </a:lnTo>
                  <a:lnTo>
                    <a:pt x="614" y="36"/>
                  </a:lnTo>
                  <a:lnTo>
                    <a:pt x="652" y="54"/>
                  </a:lnTo>
                  <a:lnTo>
                    <a:pt x="688" y="76"/>
                  </a:lnTo>
                  <a:lnTo>
                    <a:pt x="722" y="102"/>
                  </a:lnTo>
                  <a:lnTo>
                    <a:pt x="754" y="130"/>
                  </a:lnTo>
                  <a:lnTo>
                    <a:pt x="782" y="162"/>
                  </a:lnTo>
                  <a:lnTo>
                    <a:pt x="806" y="196"/>
                  </a:lnTo>
                  <a:lnTo>
                    <a:pt x="830" y="232"/>
                  </a:lnTo>
                  <a:lnTo>
                    <a:pt x="848" y="270"/>
                  </a:lnTo>
                  <a:lnTo>
                    <a:pt x="862" y="310"/>
                  </a:lnTo>
                  <a:lnTo>
                    <a:pt x="874" y="352"/>
                  </a:lnTo>
                  <a:lnTo>
                    <a:pt x="880" y="396"/>
                  </a:lnTo>
                  <a:lnTo>
                    <a:pt x="882" y="442"/>
                  </a:lnTo>
                  <a:lnTo>
                    <a:pt x="882" y="442"/>
                  </a:lnTo>
                  <a:close/>
                </a:path>
              </a:pathLst>
            </a:custGeom>
            <a:solidFill>
              <a:srgbClr val="f6a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437"/>
            <p:cNvSpPr/>
            <p:nvPr/>
          </p:nvSpPr>
          <p:spPr>
            <a:xfrm>
              <a:off x="8305560" y="12890520"/>
              <a:ext cx="1365480" cy="136512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860" h="860">
                  <a:moveTo>
                    <a:pt x="860" y="430"/>
                  </a:moveTo>
                  <a:lnTo>
                    <a:pt x="860" y="430"/>
                  </a:lnTo>
                  <a:lnTo>
                    <a:pt x="856" y="474"/>
                  </a:lnTo>
                  <a:lnTo>
                    <a:pt x="850" y="516"/>
                  </a:lnTo>
                  <a:lnTo>
                    <a:pt x="840" y="558"/>
                  </a:lnTo>
                  <a:lnTo>
                    <a:pt x="826" y="598"/>
                  </a:lnTo>
                  <a:lnTo>
                    <a:pt x="808" y="636"/>
                  </a:lnTo>
                  <a:lnTo>
                    <a:pt x="786" y="670"/>
                  </a:lnTo>
                  <a:lnTo>
                    <a:pt x="760" y="704"/>
                  </a:lnTo>
                  <a:lnTo>
                    <a:pt x="734" y="734"/>
                  </a:lnTo>
                  <a:lnTo>
                    <a:pt x="702" y="762"/>
                  </a:lnTo>
                  <a:lnTo>
                    <a:pt x="670" y="786"/>
                  </a:lnTo>
                  <a:lnTo>
                    <a:pt x="634" y="808"/>
                  </a:lnTo>
                  <a:lnTo>
                    <a:pt x="596" y="826"/>
                  </a:lnTo>
                  <a:lnTo>
                    <a:pt x="558" y="840"/>
                  </a:lnTo>
                  <a:lnTo>
                    <a:pt x="516" y="852"/>
                  </a:lnTo>
                  <a:lnTo>
                    <a:pt x="474" y="858"/>
                  </a:lnTo>
                  <a:lnTo>
                    <a:pt x="430" y="860"/>
                  </a:lnTo>
                  <a:lnTo>
                    <a:pt x="430" y="860"/>
                  </a:lnTo>
                  <a:lnTo>
                    <a:pt x="386" y="858"/>
                  </a:lnTo>
                  <a:lnTo>
                    <a:pt x="342" y="852"/>
                  </a:lnTo>
                  <a:lnTo>
                    <a:pt x="302" y="840"/>
                  </a:lnTo>
                  <a:lnTo>
                    <a:pt x="262" y="826"/>
                  </a:lnTo>
                  <a:lnTo>
                    <a:pt x="224" y="808"/>
                  </a:lnTo>
                  <a:lnTo>
                    <a:pt x="188" y="786"/>
                  </a:lnTo>
                  <a:lnTo>
                    <a:pt x="156" y="762"/>
                  </a:lnTo>
                  <a:lnTo>
                    <a:pt x="124" y="734"/>
                  </a:lnTo>
                  <a:lnTo>
                    <a:pt x="98" y="704"/>
                  </a:lnTo>
                  <a:lnTo>
                    <a:pt x="72" y="670"/>
                  </a:lnTo>
                  <a:lnTo>
                    <a:pt x="50" y="636"/>
                  </a:lnTo>
                  <a:lnTo>
                    <a:pt x="32" y="598"/>
                  </a:lnTo>
                  <a:lnTo>
                    <a:pt x="18" y="558"/>
                  </a:lnTo>
                  <a:lnTo>
                    <a:pt x="8" y="516"/>
                  </a:lnTo>
                  <a:lnTo>
                    <a:pt x="2" y="474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2" y="386"/>
                  </a:lnTo>
                  <a:lnTo>
                    <a:pt x="8" y="344"/>
                  </a:lnTo>
                  <a:lnTo>
                    <a:pt x="18" y="302"/>
                  </a:lnTo>
                  <a:lnTo>
                    <a:pt x="32" y="262"/>
                  </a:lnTo>
                  <a:lnTo>
                    <a:pt x="50" y="226"/>
                  </a:lnTo>
                  <a:lnTo>
                    <a:pt x="72" y="190"/>
                  </a:lnTo>
                  <a:lnTo>
                    <a:pt x="98" y="156"/>
                  </a:lnTo>
                  <a:lnTo>
                    <a:pt x="124" y="126"/>
                  </a:lnTo>
                  <a:lnTo>
                    <a:pt x="156" y="98"/>
                  </a:lnTo>
                  <a:lnTo>
                    <a:pt x="188" y="74"/>
                  </a:lnTo>
                  <a:lnTo>
                    <a:pt x="224" y="52"/>
                  </a:lnTo>
                  <a:lnTo>
                    <a:pt x="262" y="34"/>
                  </a:lnTo>
                  <a:lnTo>
                    <a:pt x="302" y="20"/>
                  </a:lnTo>
                  <a:lnTo>
                    <a:pt x="342" y="8"/>
                  </a:lnTo>
                  <a:lnTo>
                    <a:pt x="386" y="2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74" y="2"/>
                  </a:lnTo>
                  <a:lnTo>
                    <a:pt x="516" y="8"/>
                  </a:lnTo>
                  <a:lnTo>
                    <a:pt x="558" y="20"/>
                  </a:lnTo>
                  <a:lnTo>
                    <a:pt x="596" y="34"/>
                  </a:lnTo>
                  <a:lnTo>
                    <a:pt x="634" y="52"/>
                  </a:lnTo>
                  <a:lnTo>
                    <a:pt x="670" y="74"/>
                  </a:lnTo>
                  <a:lnTo>
                    <a:pt x="702" y="98"/>
                  </a:lnTo>
                  <a:lnTo>
                    <a:pt x="734" y="126"/>
                  </a:lnTo>
                  <a:lnTo>
                    <a:pt x="760" y="156"/>
                  </a:lnTo>
                  <a:lnTo>
                    <a:pt x="786" y="190"/>
                  </a:lnTo>
                  <a:lnTo>
                    <a:pt x="808" y="226"/>
                  </a:lnTo>
                  <a:lnTo>
                    <a:pt x="826" y="262"/>
                  </a:lnTo>
                  <a:lnTo>
                    <a:pt x="840" y="302"/>
                  </a:lnTo>
                  <a:lnTo>
                    <a:pt x="850" y="344"/>
                  </a:lnTo>
                  <a:lnTo>
                    <a:pt x="856" y="386"/>
                  </a:lnTo>
                  <a:lnTo>
                    <a:pt x="860" y="430"/>
                  </a:lnTo>
                  <a:lnTo>
                    <a:pt x="860" y="430"/>
                  </a:lnTo>
                  <a:close/>
                </a:path>
              </a:pathLst>
            </a:custGeom>
            <a:solidFill>
              <a:srgbClr val="f6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438"/>
            <p:cNvSpPr/>
            <p:nvPr/>
          </p:nvSpPr>
          <p:spPr>
            <a:xfrm>
              <a:off x="8312040" y="12899880"/>
              <a:ext cx="1330560" cy="1333440"/>
            </a:xfrm>
            <a:custGeom>
              <a:avLst/>
              <a:gdLst>
                <a:gd name="textAreaLeft" fmla="*/ 0 w 1330560"/>
                <a:gd name="textAreaRight" fmla="*/ 1330560 w 13305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838" h="840">
                  <a:moveTo>
                    <a:pt x="838" y="420"/>
                  </a:moveTo>
                  <a:lnTo>
                    <a:pt x="838" y="420"/>
                  </a:lnTo>
                  <a:lnTo>
                    <a:pt x="836" y="464"/>
                  </a:lnTo>
                  <a:lnTo>
                    <a:pt x="830" y="504"/>
                  </a:lnTo>
                  <a:lnTo>
                    <a:pt x="820" y="546"/>
                  </a:lnTo>
                  <a:lnTo>
                    <a:pt x="806" y="584"/>
                  </a:lnTo>
                  <a:lnTo>
                    <a:pt x="788" y="620"/>
                  </a:lnTo>
                  <a:lnTo>
                    <a:pt x="766" y="654"/>
                  </a:lnTo>
                  <a:lnTo>
                    <a:pt x="742" y="688"/>
                  </a:lnTo>
                  <a:lnTo>
                    <a:pt x="716" y="718"/>
                  </a:lnTo>
                  <a:lnTo>
                    <a:pt x="686" y="744"/>
                  </a:lnTo>
                  <a:lnTo>
                    <a:pt x="654" y="768"/>
                  </a:lnTo>
                  <a:lnTo>
                    <a:pt x="618" y="790"/>
                  </a:lnTo>
                  <a:lnTo>
                    <a:pt x="582" y="806"/>
                  </a:lnTo>
                  <a:lnTo>
                    <a:pt x="544" y="822"/>
                  </a:lnTo>
                  <a:lnTo>
                    <a:pt x="504" y="832"/>
                  </a:lnTo>
                  <a:lnTo>
                    <a:pt x="462" y="838"/>
                  </a:lnTo>
                  <a:lnTo>
                    <a:pt x="418" y="840"/>
                  </a:lnTo>
                  <a:lnTo>
                    <a:pt x="418" y="840"/>
                  </a:lnTo>
                  <a:lnTo>
                    <a:pt x="376" y="838"/>
                  </a:lnTo>
                  <a:lnTo>
                    <a:pt x="334" y="832"/>
                  </a:lnTo>
                  <a:lnTo>
                    <a:pt x="294" y="822"/>
                  </a:lnTo>
                  <a:lnTo>
                    <a:pt x="256" y="806"/>
                  </a:lnTo>
                  <a:lnTo>
                    <a:pt x="218" y="790"/>
                  </a:lnTo>
                  <a:lnTo>
                    <a:pt x="184" y="768"/>
                  </a:lnTo>
                  <a:lnTo>
                    <a:pt x="152" y="744"/>
                  </a:lnTo>
                  <a:lnTo>
                    <a:pt x="122" y="718"/>
                  </a:lnTo>
                  <a:lnTo>
                    <a:pt x="96" y="688"/>
                  </a:lnTo>
                  <a:lnTo>
                    <a:pt x="70" y="654"/>
                  </a:lnTo>
                  <a:lnTo>
                    <a:pt x="50" y="620"/>
                  </a:lnTo>
                  <a:lnTo>
                    <a:pt x="32" y="584"/>
                  </a:lnTo>
                  <a:lnTo>
                    <a:pt x="18" y="546"/>
                  </a:lnTo>
                  <a:lnTo>
                    <a:pt x="8" y="504"/>
                  </a:lnTo>
                  <a:lnTo>
                    <a:pt x="2" y="464"/>
                  </a:lnTo>
                  <a:lnTo>
                    <a:pt x="0" y="420"/>
                  </a:lnTo>
                  <a:lnTo>
                    <a:pt x="0" y="420"/>
                  </a:lnTo>
                  <a:lnTo>
                    <a:pt x="2" y="378"/>
                  </a:lnTo>
                  <a:lnTo>
                    <a:pt x="8" y="336"/>
                  </a:lnTo>
                  <a:lnTo>
                    <a:pt x="18" y="296"/>
                  </a:lnTo>
                  <a:lnTo>
                    <a:pt x="32" y="258"/>
                  </a:lnTo>
                  <a:lnTo>
                    <a:pt x="50" y="220"/>
                  </a:lnTo>
                  <a:lnTo>
                    <a:pt x="70" y="186"/>
                  </a:lnTo>
                  <a:lnTo>
                    <a:pt x="96" y="154"/>
                  </a:lnTo>
                  <a:lnTo>
                    <a:pt x="122" y="124"/>
                  </a:lnTo>
                  <a:lnTo>
                    <a:pt x="152" y="96"/>
                  </a:lnTo>
                  <a:lnTo>
                    <a:pt x="184" y="72"/>
                  </a:lnTo>
                  <a:lnTo>
                    <a:pt x="218" y="52"/>
                  </a:lnTo>
                  <a:lnTo>
                    <a:pt x="256" y="34"/>
                  </a:lnTo>
                  <a:lnTo>
                    <a:pt x="294" y="20"/>
                  </a:lnTo>
                  <a:lnTo>
                    <a:pt x="334" y="10"/>
                  </a:lnTo>
                  <a:lnTo>
                    <a:pt x="376" y="4"/>
                  </a:lnTo>
                  <a:lnTo>
                    <a:pt x="418" y="0"/>
                  </a:lnTo>
                  <a:lnTo>
                    <a:pt x="418" y="0"/>
                  </a:lnTo>
                  <a:lnTo>
                    <a:pt x="462" y="4"/>
                  </a:lnTo>
                  <a:lnTo>
                    <a:pt x="504" y="10"/>
                  </a:lnTo>
                  <a:lnTo>
                    <a:pt x="544" y="20"/>
                  </a:lnTo>
                  <a:lnTo>
                    <a:pt x="582" y="34"/>
                  </a:lnTo>
                  <a:lnTo>
                    <a:pt x="618" y="52"/>
                  </a:lnTo>
                  <a:lnTo>
                    <a:pt x="654" y="72"/>
                  </a:lnTo>
                  <a:lnTo>
                    <a:pt x="686" y="96"/>
                  </a:lnTo>
                  <a:lnTo>
                    <a:pt x="716" y="124"/>
                  </a:lnTo>
                  <a:lnTo>
                    <a:pt x="742" y="154"/>
                  </a:lnTo>
                  <a:lnTo>
                    <a:pt x="766" y="186"/>
                  </a:lnTo>
                  <a:lnTo>
                    <a:pt x="788" y="220"/>
                  </a:lnTo>
                  <a:lnTo>
                    <a:pt x="806" y="258"/>
                  </a:lnTo>
                  <a:lnTo>
                    <a:pt x="820" y="296"/>
                  </a:lnTo>
                  <a:lnTo>
                    <a:pt x="830" y="336"/>
                  </a:lnTo>
                  <a:lnTo>
                    <a:pt x="836" y="378"/>
                  </a:lnTo>
                  <a:lnTo>
                    <a:pt x="838" y="420"/>
                  </a:lnTo>
                  <a:lnTo>
                    <a:pt x="838" y="420"/>
                  </a:lnTo>
                  <a:close/>
                </a:path>
              </a:pathLst>
            </a:custGeom>
            <a:solidFill>
              <a:srgbClr val="f7b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439"/>
            <p:cNvSpPr/>
            <p:nvPr/>
          </p:nvSpPr>
          <p:spPr>
            <a:xfrm>
              <a:off x="8318160" y="12912840"/>
              <a:ext cx="1298520" cy="1298520"/>
            </a:xfrm>
            <a:custGeom>
              <a:avLst/>
              <a:gdLst/>
              <a:ahLst/>
              <a:rect l="l" t="t" r="r" b="b"/>
              <a:pathLst>
                <a:path w="818" h="818">
                  <a:moveTo>
                    <a:pt x="818" y="408"/>
                  </a:moveTo>
                  <a:lnTo>
                    <a:pt x="818" y="408"/>
                  </a:lnTo>
                  <a:lnTo>
                    <a:pt x="814" y="450"/>
                  </a:lnTo>
                  <a:lnTo>
                    <a:pt x="808" y="492"/>
                  </a:lnTo>
                  <a:lnTo>
                    <a:pt x="798" y="530"/>
                  </a:lnTo>
                  <a:lnTo>
                    <a:pt x="784" y="568"/>
                  </a:lnTo>
                  <a:lnTo>
                    <a:pt x="768" y="604"/>
                  </a:lnTo>
                  <a:lnTo>
                    <a:pt x="748" y="638"/>
                  </a:lnTo>
                  <a:lnTo>
                    <a:pt x="724" y="668"/>
                  </a:lnTo>
                  <a:lnTo>
                    <a:pt x="698" y="698"/>
                  </a:lnTo>
                  <a:lnTo>
                    <a:pt x="668" y="724"/>
                  </a:lnTo>
                  <a:lnTo>
                    <a:pt x="636" y="748"/>
                  </a:lnTo>
                  <a:lnTo>
                    <a:pt x="604" y="768"/>
                  </a:lnTo>
                  <a:lnTo>
                    <a:pt x="568" y="786"/>
                  </a:lnTo>
                  <a:lnTo>
                    <a:pt x="530" y="800"/>
                  </a:lnTo>
                  <a:lnTo>
                    <a:pt x="490" y="810"/>
                  </a:lnTo>
                  <a:lnTo>
                    <a:pt x="450" y="816"/>
                  </a:lnTo>
                  <a:lnTo>
                    <a:pt x="408" y="818"/>
                  </a:lnTo>
                  <a:lnTo>
                    <a:pt x="408" y="818"/>
                  </a:lnTo>
                  <a:lnTo>
                    <a:pt x="366" y="816"/>
                  </a:lnTo>
                  <a:lnTo>
                    <a:pt x="326" y="810"/>
                  </a:lnTo>
                  <a:lnTo>
                    <a:pt x="286" y="800"/>
                  </a:lnTo>
                  <a:lnTo>
                    <a:pt x="250" y="786"/>
                  </a:lnTo>
                  <a:lnTo>
                    <a:pt x="214" y="768"/>
                  </a:lnTo>
                  <a:lnTo>
                    <a:pt x="180" y="748"/>
                  </a:lnTo>
                  <a:lnTo>
                    <a:pt x="148" y="724"/>
                  </a:lnTo>
                  <a:lnTo>
                    <a:pt x="120" y="698"/>
                  </a:lnTo>
                  <a:lnTo>
                    <a:pt x="92" y="668"/>
                  </a:lnTo>
                  <a:lnTo>
                    <a:pt x="70" y="638"/>
                  </a:lnTo>
                  <a:lnTo>
                    <a:pt x="48" y="604"/>
                  </a:lnTo>
                  <a:lnTo>
                    <a:pt x="32" y="568"/>
                  </a:lnTo>
                  <a:lnTo>
                    <a:pt x="18" y="530"/>
                  </a:lnTo>
                  <a:lnTo>
                    <a:pt x="8" y="492"/>
                  </a:lnTo>
                  <a:lnTo>
                    <a:pt x="2" y="450"/>
                  </a:lnTo>
                  <a:lnTo>
                    <a:pt x="0" y="408"/>
                  </a:lnTo>
                  <a:lnTo>
                    <a:pt x="0" y="408"/>
                  </a:lnTo>
                  <a:lnTo>
                    <a:pt x="2" y="368"/>
                  </a:lnTo>
                  <a:lnTo>
                    <a:pt x="8" y="326"/>
                  </a:lnTo>
                  <a:lnTo>
                    <a:pt x="18" y="288"/>
                  </a:lnTo>
                  <a:lnTo>
                    <a:pt x="32" y="250"/>
                  </a:lnTo>
                  <a:lnTo>
                    <a:pt x="48" y="214"/>
                  </a:lnTo>
                  <a:lnTo>
                    <a:pt x="70" y="180"/>
                  </a:lnTo>
                  <a:lnTo>
                    <a:pt x="92" y="148"/>
                  </a:lnTo>
                  <a:lnTo>
                    <a:pt x="120" y="120"/>
                  </a:lnTo>
                  <a:lnTo>
                    <a:pt x="148" y="94"/>
                  </a:lnTo>
                  <a:lnTo>
                    <a:pt x="180" y="70"/>
                  </a:lnTo>
                  <a:lnTo>
                    <a:pt x="214" y="50"/>
                  </a:lnTo>
                  <a:lnTo>
                    <a:pt x="250" y="32"/>
                  </a:lnTo>
                  <a:lnTo>
                    <a:pt x="286" y="18"/>
                  </a:lnTo>
                  <a:lnTo>
                    <a:pt x="326" y="8"/>
                  </a:lnTo>
                  <a:lnTo>
                    <a:pt x="366" y="2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50" y="2"/>
                  </a:lnTo>
                  <a:lnTo>
                    <a:pt x="490" y="8"/>
                  </a:lnTo>
                  <a:lnTo>
                    <a:pt x="530" y="18"/>
                  </a:lnTo>
                  <a:lnTo>
                    <a:pt x="568" y="32"/>
                  </a:lnTo>
                  <a:lnTo>
                    <a:pt x="604" y="50"/>
                  </a:lnTo>
                  <a:lnTo>
                    <a:pt x="636" y="70"/>
                  </a:lnTo>
                  <a:lnTo>
                    <a:pt x="668" y="94"/>
                  </a:lnTo>
                  <a:lnTo>
                    <a:pt x="698" y="120"/>
                  </a:lnTo>
                  <a:lnTo>
                    <a:pt x="724" y="148"/>
                  </a:lnTo>
                  <a:lnTo>
                    <a:pt x="748" y="180"/>
                  </a:lnTo>
                  <a:lnTo>
                    <a:pt x="768" y="214"/>
                  </a:lnTo>
                  <a:lnTo>
                    <a:pt x="784" y="250"/>
                  </a:lnTo>
                  <a:lnTo>
                    <a:pt x="798" y="288"/>
                  </a:lnTo>
                  <a:lnTo>
                    <a:pt x="808" y="326"/>
                  </a:lnTo>
                  <a:lnTo>
                    <a:pt x="814" y="368"/>
                  </a:lnTo>
                  <a:lnTo>
                    <a:pt x="818" y="408"/>
                  </a:lnTo>
                  <a:lnTo>
                    <a:pt x="818" y="408"/>
                  </a:lnTo>
                  <a:close/>
                </a:path>
              </a:pathLst>
            </a:custGeom>
            <a:solidFill>
              <a:srgbClr val="f7b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40"/>
            <p:cNvSpPr/>
            <p:nvPr/>
          </p:nvSpPr>
          <p:spPr>
            <a:xfrm>
              <a:off x="8324640" y="12925440"/>
              <a:ext cx="1263600" cy="12636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796" h="796">
                  <a:moveTo>
                    <a:pt x="796" y="398"/>
                  </a:moveTo>
                  <a:lnTo>
                    <a:pt x="796" y="398"/>
                  </a:lnTo>
                  <a:lnTo>
                    <a:pt x="794" y="438"/>
                  </a:lnTo>
                  <a:lnTo>
                    <a:pt x="788" y="478"/>
                  </a:lnTo>
                  <a:lnTo>
                    <a:pt x="778" y="516"/>
                  </a:lnTo>
                  <a:lnTo>
                    <a:pt x="764" y="552"/>
                  </a:lnTo>
                  <a:lnTo>
                    <a:pt x="748" y="588"/>
                  </a:lnTo>
                  <a:lnTo>
                    <a:pt x="728" y="620"/>
                  </a:lnTo>
                  <a:lnTo>
                    <a:pt x="706" y="650"/>
                  </a:lnTo>
                  <a:lnTo>
                    <a:pt x="680" y="678"/>
                  </a:lnTo>
                  <a:lnTo>
                    <a:pt x="652" y="704"/>
                  </a:lnTo>
                  <a:lnTo>
                    <a:pt x="620" y="728"/>
                  </a:lnTo>
                  <a:lnTo>
                    <a:pt x="588" y="748"/>
                  </a:lnTo>
                  <a:lnTo>
                    <a:pt x="552" y="764"/>
                  </a:lnTo>
                  <a:lnTo>
                    <a:pt x="516" y="778"/>
                  </a:lnTo>
                  <a:lnTo>
                    <a:pt x="478" y="788"/>
                  </a:lnTo>
                  <a:lnTo>
                    <a:pt x="438" y="794"/>
                  </a:lnTo>
                  <a:lnTo>
                    <a:pt x="398" y="796"/>
                  </a:lnTo>
                  <a:lnTo>
                    <a:pt x="398" y="796"/>
                  </a:lnTo>
                  <a:lnTo>
                    <a:pt x="358" y="794"/>
                  </a:lnTo>
                  <a:lnTo>
                    <a:pt x="318" y="788"/>
                  </a:lnTo>
                  <a:lnTo>
                    <a:pt x="280" y="778"/>
                  </a:lnTo>
                  <a:lnTo>
                    <a:pt x="242" y="764"/>
                  </a:lnTo>
                  <a:lnTo>
                    <a:pt x="208" y="748"/>
                  </a:lnTo>
                  <a:lnTo>
                    <a:pt x="176" y="728"/>
                  </a:lnTo>
                  <a:lnTo>
                    <a:pt x="144" y="704"/>
                  </a:lnTo>
                  <a:lnTo>
                    <a:pt x="116" y="678"/>
                  </a:lnTo>
                  <a:lnTo>
                    <a:pt x="90" y="650"/>
                  </a:lnTo>
                  <a:lnTo>
                    <a:pt x="68" y="620"/>
                  </a:lnTo>
                  <a:lnTo>
                    <a:pt x="48" y="588"/>
                  </a:lnTo>
                  <a:lnTo>
                    <a:pt x="30" y="552"/>
                  </a:lnTo>
                  <a:lnTo>
                    <a:pt x="18" y="516"/>
                  </a:lnTo>
                  <a:lnTo>
                    <a:pt x="8" y="478"/>
                  </a:lnTo>
                  <a:lnTo>
                    <a:pt x="2" y="43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2" y="356"/>
                  </a:lnTo>
                  <a:lnTo>
                    <a:pt x="8" y="316"/>
                  </a:lnTo>
                  <a:lnTo>
                    <a:pt x="18" y="278"/>
                  </a:lnTo>
                  <a:lnTo>
                    <a:pt x="30" y="242"/>
                  </a:lnTo>
                  <a:lnTo>
                    <a:pt x="48" y="208"/>
                  </a:lnTo>
                  <a:lnTo>
                    <a:pt x="68" y="174"/>
                  </a:lnTo>
                  <a:lnTo>
                    <a:pt x="90" y="144"/>
                  </a:lnTo>
                  <a:lnTo>
                    <a:pt x="116" y="116"/>
                  </a:lnTo>
                  <a:lnTo>
                    <a:pt x="144" y="90"/>
                  </a:lnTo>
                  <a:lnTo>
                    <a:pt x="176" y="68"/>
                  </a:lnTo>
                  <a:lnTo>
                    <a:pt x="208" y="48"/>
                  </a:lnTo>
                  <a:lnTo>
                    <a:pt x="242" y="30"/>
                  </a:lnTo>
                  <a:lnTo>
                    <a:pt x="280" y="16"/>
                  </a:lnTo>
                  <a:lnTo>
                    <a:pt x="318" y="8"/>
                  </a:lnTo>
                  <a:lnTo>
                    <a:pt x="358" y="2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438" y="2"/>
                  </a:lnTo>
                  <a:lnTo>
                    <a:pt x="478" y="8"/>
                  </a:lnTo>
                  <a:lnTo>
                    <a:pt x="516" y="16"/>
                  </a:lnTo>
                  <a:lnTo>
                    <a:pt x="552" y="30"/>
                  </a:lnTo>
                  <a:lnTo>
                    <a:pt x="588" y="48"/>
                  </a:lnTo>
                  <a:lnTo>
                    <a:pt x="620" y="68"/>
                  </a:lnTo>
                  <a:lnTo>
                    <a:pt x="652" y="90"/>
                  </a:lnTo>
                  <a:lnTo>
                    <a:pt x="680" y="116"/>
                  </a:lnTo>
                  <a:lnTo>
                    <a:pt x="706" y="144"/>
                  </a:lnTo>
                  <a:lnTo>
                    <a:pt x="728" y="174"/>
                  </a:lnTo>
                  <a:lnTo>
                    <a:pt x="748" y="208"/>
                  </a:lnTo>
                  <a:lnTo>
                    <a:pt x="764" y="242"/>
                  </a:lnTo>
                  <a:lnTo>
                    <a:pt x="778" y="278"/>
                  </a:lnTo>
                  <a:lnTo>
                    <a:pt x="788" y="316"/>
                  </a:lnTo>
                  <a:lnTo>
                    <a:pt x="794" y="356"/>
                  </a:lnTo>
                  <a:lnTo>
                    <a:pt x="796" y="398"/>
                  </a:lnTo>
                  <a:lnTo>
                    <a:pt x="796" y="398"/>
                  </a:lnTo>
                  <a:close/>
                </a:path>
              </a:pathLst>
            </a:custGeom>
            <a:solidFill>
              <a:srgbClr val="f7b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441"/>
            <p:cNvSpPr/>
            <p:nvPr/>
          </p:nvSpPr>
          <p:spPr>
            <a:xfrm>
              <a:off x="8331120" y="12934800"/>
              <a:ext cx="1228680" cy="123156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774" h="776">
                  <a:moveTo>
                    <a:pt x="774" y="388"/>
                  </a:moveTo>
                  <a:lnTo>
                    <a:pt x="774" y="388"/>
                  </a:lnTo>
                  <a:lnTo>
                    <a:pt x="772" y="428"/>
                  </a:lnTo>
                  <a:lnTo>
                    <a:pt x="768" y="466"/>
                  </a:lnTo>
                  <a:lnTo>
                    <a:pt x="758" y="502"/>
                  </a:lnTo>
                  <a:lnTo>
                    <a:pt x="744" y="538"/>
                  </a:lnTo>
                  <a:lnTo>
                    <a:pt x="728" y="572"/>
                  </a:lnTo>
                  <a:lnTo>
                    <a:pt x="708" y="604"/>
                  </a:lnTo>
                  <a:lnTo>
                    <a:pt x="686" y="634"/>
                  </a:lnTo>
                  <a:lnTo>
                    <a:pt x="662" y="662"/>
                  </a:lnTo>
                  <a:lnTo>
                    <a:pt x="634" y="686"/>
                  </a:lnTo>
                  <a:lnTo>
                    <a:pt x="604" y="708"/>
                  </a:lnTo>
                  <a:lnTo>
                    <a:pt x="572" y="728"/>
                  </a:lnTo>
                  <a:lnTo>
                    <a:pt x="538" y="744"/>
                  </a:lnTo>
                  <a:lnTo>
                    <a:pt x="502" y="758"/>
                  </a:lnTo>
                  <a:lnTo>
                    <a:pt x="466" y="768"/>
                  </a:lnTo>
                  <a:lnTo>
                    <a:pt x="428" y="774"/>
                  </a:lnTo>
                  <a:lnTo>
                    <a:pt x="388" y="776"/>
                  </a:lnTo>
                  <a:lnTo>
                    <a:pt x="388" y="776"/>
                  </a:lnTo>
                  <a:lnTo>
                    <a:pt x="348" y="774"/>
                  </a:lnTo>
                  <a:lnTo>
                    <a:pt x="310" y="768"/>
                  </a:lnTo>
                  <a:lnTo>
                    <a:pt x="272" y="758"/>
                  </a:lnTo>
                  <a:lnTo>
                    <a:pt x="236" y="744"/>
                  </a:lnTo>
                  <a:lnTo>
                    <a:pt x="202" y="728"/>
                  </a:lnTo>
                  <a:lnTo>
                    <a:pt x="170" y="708"/>
                  </a:lnTo>
                  <a:lnTo>
                    <a:pt x="140" y="686"/>
                  </a:lnTo>
                  <a:lnTo>
                    <a:pt x="114" y="662"/>
                  </a:lnTo>
                  <a:lnTo>
                    <a:pt x="88" y="634"/>
                  </a:lnTo>
                  <a:lnTo>
                    <a:pt x="66" y="604"/>
                  </a:lnTo>
                  <a:lnTo>
                    <a:pt x="46" y="572"/>
                  </a:lnTo>
                  <a:lnTo>
                    <a:pt x="30" y="538"/>
                  </a:lnTo>
                  <a:lnTo>
                    <a:pt x="18" y="502"/>
                  </a:lnTo>
                  <a:lnTo>
                    <a:pt x="8" y="466"/>
                  </a:lnTo>
                  <a:lnTo>
                    <a:pt x="2" y="428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2" y="348"/>
                  </a:lnTo>
                  <a:lnTo>
                    <a:pt x="8" y="310"/>
                  </a:lnTo>
                  <a:lnTo>
                    <a:pt x="18" y="272"/>
                  </a:lnTo>
                  <a:lnTo>
                    <a:pt x="30" y="236"/>
                  </a:lnTo>
                  <a:lnTo>
                    <a:pt x="46" y="202"/>
                  </a:lnTo>
                  <a:lnTo>
                    <a:pt x="66" y="170"/>
                  </a:lnTo>
                  <a:lnTo>
                    <a:pt x="88" y="142"/>
                  </a:lnTo>
                  <a:lnTo>
                    <a:pt x="114" y="114"/>
                  </a:lnTo>
                  <a:lnTo>
                    <a:pt x="140" y="88"/>
                  </a:lnTo>
                  <a:lnTo>
                    <a:pt x="170" y="66"/>
                  </a:lnTo>
                  <a:lnTo>
                    <a:pt x="202" y="46"/>
                  </a:lnTo>
                  <a:lnTo>
                    <a:pt x="236" y="30"/>
                  </a:lnTo>
                  <a:lnTo>
                    <a:pt x="272" y="18"/>
                  </a:lnTo>
                  <a:lnTo>
                    <a:pt x="310" y="8"/>
                  </a:lnTo>
                  <a:lnTo>
                    <a:pt x="348" y="2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428" y="2"/>
                  </a:lnTo>
                  <a:lnTo>
                    <a:pt x="466" y="8"/>
                  </a:lnTo>
                  <a:lnTo>
                    <a:pt x="502" y="18"/>
                  </a:lnTo>
                  <a:lnTo>
                    <a:pt x="538" y="30"/>
                  </a:lnTo>
                  <a:lnTo>
                    <a:pt x="572" y="46"/>
                  </a:lnTo>
                  <a:lnTo>
                    <a:pt x="604" y="66"/>
                  </a:lnTo>
                  <a:lnTo>
                    <a:pt x="634" y="88"/>
                  </a:lnTo>
                  <a:lnTo>
                    <a:pt x="662" y="114"/>
                  </a:lnTo>
                  <a:lnTo>
                    <a:pt x="686" y="142"/>
                  </a:lnTo>
                  <a:lnTo>
                    <a:pt x="708" y="170"/>
                  </a:lnTo>
                  <a:lnTo>
                    <a:pt x="728" y="202"/>
                  </a:lnTo>
                  <a:lnTo>
                    <a:pt x="744" y="236"/>
                  </a:lnTo>
                  <a:lnTo>
                    <a:pt x="758" y="272"/>
                  </a:lnTo>
                  <a:lnTo>
                    <a:pt x="768" y="310"/>
                  </a:lnTo>
                  <a:lnTo>
                    <a:pt x="772" y="348"/>
                  </a:lnTo>
                  <a:lnTo>
                    <a:pt x="774" y="388"/>
                  </a:lnTo>
                  <a:lnTo>
                    <a:pt x="774" y="388"/>
                  </a:lnTo>
                  <a:close/>
                </a:path>
              </a:pathLst>
            </a:custGeom>
            <a:solidFill>
              <a:srgbClr val="f8b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42"/>
            <p:cNvSpPr/>
            <p:nvPr/>
          </p:nvSpPr>
          <p:spPr>
            <a:xfrm>
              <a:off x="8337240" y="12947760"/>
              <a:ext cx="1197000" cy="1193760"/>
            </a:xfrm>
            <a:custGeom>
              <a:avLst/>
              <a:gdLst>
                <a:gd name="textAreaLeft" fmla="*/ 0 w 1197000"/>
                <a:gd name="textAreaRight" fmla="*/ 1197360 w 1197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754" h="752">
                  <a:moveTo>
                    <a:pt x="754" y="376"/>
                  </a:moveTo>
                  <a:lnTo>
                    <a:pt x="754" y="376"/>
                  </a:lnTo>
                  <a:lnTo>
                    <a:pt x="752" y="414"/>
                  </a:lnTo>
                  <a:lnTo>
                    <a:pt x="746" y="452"/>
                  </a:lnTo>
                  <a:lnTo>
                    <a:pt x="736" y="488"/>
                  </a:lnTo>
                  <a:lnTo>
                    <a:pt x="724" y="522"/>
                  </a:lnTo>
                  <a:lnTo>
                    <a:pt x="708" y="556"/>
                  </a:lnTo>
                  <a:lnTo>
                    <a:pt x="690" y="586"/>
                  </a:lnTo>
                  <a:lnTo>
                    <a:pt x="668" y="616"/>
                  </a:lnTo>
                  <a:lnTo>
                    <a:pt x="644" y="642"/>
                  </a:lnTo>
                  <a:lnTo>
                    <a:pt x="616" y="666"/>
                  </a:lnTo>
                  <a:lnTo>
                    <a:pt x="588" y="688"/>
                  </a:lnTo>
                  <a:lnTo>
                    <a:pt x="556" y="708"/>
                  </a:lnTo>
                  <a:lnTo>
                    <a:pt x="524" y="724"/>
                  </a:lnTo>
                  <a:lnTo>
                    <a:pt x="490" y="736"/>
                  </a:lnTo>
                  <a:lnTo>
                    <a:pt x="452" y="746"/>
                  </a:lnTo>
                  <a:lnTo>
                    <a:pt x="416" y="752"/>
                  </a:lnTo>
                  <a:lnTo>
                    <a:pt x="378" y="752"/>
                  </a:lnTo>
                  <a:lnTo>
                    <a:pt x="378" y="752"/>
                  </a:lnTo>
                  <a:lnTo>
                    <a:pt x="338" y="752"/>
                  </a:lnTo>
                  <a:lnTo>
                    <a:pt x="302" y="746"/>
                  </a:lnTo>
                  <a:lnTo>
                    <a:pt x="264" y="736"/>
                  </a:lnTo>
                  <a:lnTo>
                    <a:pt x="230" y="724"/>
                  </a:lnTo>
                  <a:lnTo>
                    <a:pt x="198" y="708"/>
                  </a:lnTo>
                  <a:lnTo>
                    <a:pt x="166" y="688"/>
                  </a:lnTo>
                  <a:lnTo>
                    <a:pt x="138" y="666"/>
                  </a:lnTo>
                  <a:lnTo>
                    <a:pt x="110" y="642"/>
                  </a:lnTo>
                  <a:lnTo>
                    <a:pt x="86" y="616"/>
                  </a:lnTo>
                  <a:lnTo>
                    <a:pt x="64" y="586"/>
                  </a:lnTo>
                  <a:lnTo>
                    <a:pt x="46" y="556"/>
                  </a:lnTo>
                  <a:lnTo>
                    <a:pt x="30" y="522"/>
                  </a:lnTo>
                  <a:lnTo>
                    <a:pt x="18" y="488"/>
                  </a:lnTo>
                  <a:lnTo>
                    <a:pt x="8" y="452"/>
                  </a:lnTo>
                  <a:lnTo>
                    <a:pt x="2" y="414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2" y="338"/>
                  </a:lnTo>
                  <a:lnTo>
                    <a:pt x="8" y="300"/>
                  </a:lnTo>
                  <a:lnTo>
                    <a:pt x="18" y="264"/>
                  </a:lnTo>
                  <a:lnTo>
                    <a:pt x="30" y="230"/>
                  </a:lnTo>
                  <a:lnTo>
                    <a:pt x="46" y="196"/>
                  </a:lnTo>
                  <a:lnTo>
                    <a:pt x="64" y="166"/>
                  </a:lnTo>
                  <a:lnTo>
                    <a:pt x="86" y="136"/>
                  </a:lnTo>
                  <a:lnTo>
                    <a:pt x="110" y="110"/>
                  </a:lnTo>
                  <a:lnTo>
                    <a:pt x="138" y="86"/>
                  </a:lnTo>
                  <a:lnTo>
                    <a:pt x="166" y="64"/>
                  </a:lnTo>
                  <a:lnTo>
                    <a:pt x="198" y="44"/>
                  </a:lnTo>
                  <a:lnTo>
                    <a:pt x="230" y="28"/>
                  </a:lnTo>
                  <a:lnTo>
                    <a:pt x="264" y="16"/>
                  </a:lnTo>
                  <a:lnTo>
                    <a:pt x="302" y="6"/>
                  </a:lnTo>
                  <a:lnTo>
                    <a:pt x="338" y="2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16" y="2"/>
                  </a:lnTo>
                  <a:lnTo>
                    <a:pt x="452" y="6"/>
                  </a:lnTo>
                  <a:lnTo>
                    <a:pt x="490" y="16"/>
                  </a:lnTo>
                  <a:lnTo>
                    <a:pt x="524" y="28"/>
                  </a:lnTo>
                  <a:lnTo>
                    <a:pt x="556" y="44"/>
                  </a:lnTo>
                  <a:lnTo>
                    <a:pt x="588" y="64"/>
                  </a:lnTo>
                  <a:lnTo>
                    <a:pt x="616" y="86"/>
                  </a:lnTo>
                  <a:lnTo>
                    <a:pt x="644" y="110"/>
                  </a:lnTo>
                  <a:lnTo>
                    <a:pt x="668" y="136"/>
                  </a:lnTo>
                  <a:lnTo>
                    <a:pt x="690" y="166"/>
                  </a:lnTo>
                  <a:lnTo>
                    <a:pt x="708" y="196"/>
                  </a:lnTo>
                  <a:lnTo>
                    <a:pt x="724" y="230"/>
                  </a:lnTo>
                  <a:lnTo>
                    <a:pt x="736" y="264"/>
                  </a:lnTo>
                  <a:lnTo>
                    <a:pt x="746" y="300"/>
                  </a:lnTo>
                  <a:lnTo>
                    <a:pt x="752" y="338"/>
                  </a:lnTo>
                  <a:lnTo>
                    <a:pt x="754" y="376"/>
                  </a:lnTo>
                  <a:lnTo>
                    <a:pt x="754" y="376"/>
                  </a:lnTo>
                  <a:close/>
                </a:path>
              </a:pathLst>
            </a:custGeom>
            <a:solidFill>
              <a:srgbClr val="f8b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443"/>
            <p:cNvSpPr/>
            <p:nvPr/>
          </p:nvSpPr>
          <p:spPr>
            <a:xfrm>
              <a:off x="8343720" y="12957120"/>
              <a:ext cx="1162080" cy="116172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1161720"/>
                <a:gd name="textAreaBottom" fmla="*/ 1162080 h 1161720"/>
              </a:gdLst>
              <a:ahLst/>
              <a:rect l="textAreaLeft" t="textAreaTop" r="textAreaRight" b="textAreaBottom"/>
              <a:pathLst>
                <a:path w="732" h="732">
                  <a:moveTo>
                    <a:pt x="732" y="366"/>
                  </a:moveTo>
                  <a:lnTo>
                    <a:pt x="732" y="366"/>
                  </a:lnTo>
                  <a:lnTo>
                    <a:pt x="730" y="404"/>
                  </a:lnTo>
                  <a:lnTo>
                    <a:pt x="726" y="440"/>
                  </a:lnTo>
                  <a:lnTo>
                    <a:pt x="716" y="476"/>
                  </a:lnTo>
                  <a:lnTo>
                    <a:pt x="704" y="510"/>
                  </a:lnTo>
                  <a:lnTo>
                    <a:pt x="688" y="542"/>
                  </a:lnTo>
                  <a:lnTo>
                    <a:pt x="670" y="572"/>
                  </a:lnTo>
                  <a:lnTo>
                    <a:pt x="650" y="600"/>
                  </a:lnTo>
                  <a:lnTo>
                    <a:pt x="626" y="626"/>
                  </a:lnTo>
                  <a:lnTo>
                    <a:pt x="600" y="650"/>
                  </a:lnTo>
                  <a:lnTo>
                    <a:pt x="572" y="670"/>
                  </a:lnTo>
                  <a:lnTo>
                    <a:pt x="542" y="688"/>
                  </a:lnTo>
                  <a:lnTo>
                    <a:pt x="510" y="704"/>
                  </a:lnTo>
                  <a:lnTo>
                    <a:pt x="476" y="716"/>
                  </a:lnTo>
                  <a:lnTo>
                    <a:pt x="440" y="726"/>
                  </a:lnTo>
                  <a:lnTo>
                    <a:pt x="404" y="730"/>
                  </a:lnTo>
                  <a:lnTo>
                    <a:pt x="366" y="732"/>
                  </a:lnTo>
                  <a:lnTo>
                    <a:pt x="366" y="732"/>
                  </a:lnTo>
                  <a:lnTo>
                    <a:pt x="330" y="730"/>
                  </a:lnTo>
                  <a:lnTo>
                    <a:pt x="292" y="726"/>
                  </a:lnTo>
                  <a:lnTo>
                    <a:pt x="258" y="716"/>
                  </a:lnTo>
                  <a:lnTo>
                    <a:pt x="224" y="704"/>
                  </a:lnTo>
                  <a:lnTo>
                    <a:pt x="192" y="688"/>
                  </a:lnTo>
                  <a:lnTo>
                    <a:pt x="162" y="670"/>
                  </a:lnTo>
                  <a:lnTo>
                    <a:pt x="134" y="650"/>
                  </a:lnTo>
                  <a:lnTo>
                    <a:pt x="108" y="626"/>
                  </a:lnTo>
                  <a:lnTo>
                    <a:pt x="84" y="600"/>
                  </a:lnTo>
                  <a:lnTo>
                    <a:pt x="62" y="572"/>
                  </a:lnTo>
                  <a:lnTo>
                    <a:pt x="44" y="542"/>
                  </a:lnTo>
                  <a:lnTo>
                    <a:pt x="30" y="510"/>
                  </a:lnTo>
                  <a:lnTo>
                    <a:pt x="16" y="476"/>
                  </a:lnTo>
                  <a:lnTo>
                    <a:pt x="8" y="440"/>
                  </a:lnTo>
                  <a:lnTo>
                    <a:pt x="2" y="404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2" y="330"/>
                  </a:lnTo>
                  <a:lnTo>
                    <a:pt x="8" y="292"/>
                  </a:lnTo>
                  <a:lnTo>
                    <a:pt x="16" y="258"/>
                  </a:lnTo>
                  <a:lnTo>
                    <a:pt x="30" y="224"/>
                  </a:lnTo>
                  <a:lnTo>
                    <a:pt x="44" y="192"/>
                  </a:lnTo>
                  <a:lnTo>
                    <a:pt x="62" y="162"/>
                  </a:lnTo>
                  <a:lnTo>
                    <a:pt x="84" y="134"/>
                  </a:lnTo>
                  <a:lnTo>
                    <a:pt x="108" y="108"/>
                  </a:lnTo>
                  <a:lnTo>
                    <a:pt x="134" y="84"/>
                  </a:lnTo>
                  <a:lnTo>
                    <a:pt x="162" y="62"/>
                  </a:lnTo>
                  <a:lnTo>
                    <a:pt x="192" y="44"/>
                  </a:lnTo>
                  <a:lnTo>
                    <a:pt x="224" y="28"/>
                  </a:lnTo>
                  <a:lnTo>
                    <a:pt x="258" y="16"/>
                  </a:lnTo>
                  <a:lnTo>
                    <a:pt x="292" y="8"/>
                  </a:lnTo>
                  <a:lnTo>
                    <a:pt x="330" y="2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404" y="2"/>
                  </a:lnTo>
                  <a:lnTo>
                    <a:pt x="440" y="8"/>
                  </a:lnTo>
                  <a:lnTo>
                    <a:pt x="476" y="16"/>
                  </a:lnTo>
                  <a:lnTo>
                    <a:pt x="510" y="28"/>
                  </a:lnTo>
                  <a:lnTo>
                    <a:pt x="542" y="44"/>
                  </a:lnTo>
                  <a:lnTo>
                    <a:pt x="572" y="62"/>
                  </a:lnTo>
                  <a:lnTo>
                    <a:pt x="600" y="84"/>
                  </a:lnTo>
                  <a:lnTo>
                    <a:pt x="626" y="108"/>
                  </a:lnTo>
                  <a:lnTo>
                    <a:pt x="650" y="134"/>
                  </a:lnTo>
                  <a:lnTo>
                    <a:pt x="670" y="162"/>
                  </a:lnTo>
                  <a:lnTo>
                    <a:pt x="688" y="192"/>
                  </a:lnTo>
                  <a:lnTo>
                    <a:pt x="704" y="224"/>
                  </a:lnTo>
                  <a:lnTo>
                    <a:pt x="716" y="258"/>
                  </a:lnTo>
                  <a:lnTo>
                    <a:pt x="726" y="292"/>
                  </a:lnTo>
                  <a:lnTo>
                    <a:pt x="730" y="330"/>
                  </a:lnTo>
                  <a:lnTo>
                    <a:pt x="732" y="366"/>
                  </a:lnTo>
                  <a:lnTo>
                    <a:pt x="732" y="366"/>
                  </a:lnTo>
                  <a:close/>
                </a:path>
              </a:pathLst>
            </a:custGeom>
            <a:solidFill>
              <a:srgbClr val="f8b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444"/>
            <p:cNvSpPr/>
            <p:nvPr/>
          </p:nvSpPr>
          <p:spPr>
            <a:xfrm>
              <a:off x="8350200" y="12969720"/>
              <a:ext cx="1130400" cy="11268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126800"/>
                <a:gd name="textAreaBottom" fmla="*/ 1127160 h 1126800"/>
              </a:gdLst>
              <a:ahLst/>
              <a:rect l="textAreaLeft" t="textAreaTop" r="textAreaRight" b="textAreaBottom"/>
              <a:pathLst>
                <a:path w="712" h="710">
                  <a:moveTo>
                    <a:pt x="712" y="354"/>
                  </a:moveTo>
                  <a:lnTo>
                    <a:pt x="712" y="354"/>
                  </a:lnTo>
                  <a:lnTo>
                    <a:pt x="710" y="392"/>
                  </a:lnTo>
                  <a:lnTo>
                    <a:pt x="704" y="426"/>
                  </a:lnTo>
                  <a:lnTo>
                    <a:pt x="696" y="460"/>
                  </a:lnTo>
                  <a:lnTo>
                    <a:pt x="684" y="494"/>
                  </a:lnTo>
                  <a:lnTo>
                    <a:pt x="668" y="524"/>
                  </a:lnTo>
                  <a:lnTo>
                    <a:pt x="652" y="554"/>
                  </a:lnTo>
                  <a:lnTo>
                    <a:pt x="630" y="582"/>
                  </a:lnTo>
                  <a:lnTo>
                    <a:pt x="608" y="606"/>
                  </a:lnTo>
                  <a:lnTo>
                    <a:pt x="582" y="630"/>
                  </a:lnTo>
                  <a:lnTo>
                    <a:pt x="556" y="650"/>
                  </a:lnTo>
                  <a:lnTo>
                    <a:pt x="526" y="668"/>
                  </a:lnTo>
                  <a:lnTo>
                    <a:pt x="494" y="682"/>
                  </a:lnTo>
                  <a:lnTo>
                    <a:pt x="462" y="694"/>
                  </a:lnTo>
                  <a:lnTo>
                    <a:pt x="428" y="704"/>
                  </a:lnTo>
                  <a:lnTo>
                    <a:pt x="392" y="708"/>
                  </a:lnTo>
                  <a:lnTo>
                    <a:pt x="356" y="710"/>
                  </a:lnTo>
                  <a:lnTo>
                    <a:pt x="356" y="710"/>
                  </a:lnTo>
                  <a:lnTo>
                    <a:pt x="320" y="708"/>
                  </a:lnTo>
                  <a:lnTo>
                    <a:pt x="284" y="704"/>
                  </a:lnTo>
                  <a:lnTo>
                    <a:pt x="250" y="694"/>
                  </a:lnTo>
                  <a:lnTo>
                    <a:pt x="218" y="682"/>
                  </a:lnTo>
                  <a:lnTo>
                    <a:pt x="186" y="668"/>
                  </a:lnTo>
                  <a:lnTo>
                    <a:pt x="158" y="650"/>
                  </a:lnTo>
                  <a:lnTo>
                    <a:pt x="130" y="630"/>
                  </a:lnTo>
                  <a:lnTo>
                    <a:pt x="104" y="606"/>
                  </a:lnTo>
                  <a:lnTo>
                    <a:pt x="82" y="582"/>
                  </a:lnTo>
                  <a:lnTo>
                    <a:pt x="62" y="554"/>
                  </a:lnTo>
                  <a:lnTo>
                    <a:pt x="44" y="524"/>
                  </a:lnTo>
                  <a:lnTo>
                    <a:pt x="28" y="494"/>
                  </a:lnTo>
                  <a:lnTo>
                    <a:pt x="16" y="460"/>
                  </a:lnTo>
                  <a:lnTo>
                    <a:pt x="8" y="426"/>
                  </a:lnTo>
                  <a:lnTo>
                    <a:pt x="2" y="392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" y="318"/>
                  </a:lnTo>
                  <a:lnTo>
                    <a:pt x="8" y="284"/>
                  </a:lnTo>
                  <a:lnTo>
                    <a:pt x="16" y="250"/>
                  </a:lnTo>
                  <a:lnTo>
                    <a:pt x="28" y="216"/>
                  </a:lnTo>
                  <a:lnTo>
                    <a:pt x="44" y="186"/>
                  </a:lnTo>
                  <a:lnTo>
                    <a:pt x="62" y="156"/>
                  </a:lnTo>
                  <a:lnTo>
                    <a:pt x="82" y="128"/>
                  </a:lnTo>
                  <a:lnTo>
                    <a:pt x="104" y="104"/>
                  </a:lnTo>
                  <a:lnTo>
                    <a:pt x="130" y="80"/>
                  </a:lnTo>
                  <a:lnTo>
                    <a:pt x="158" y="60"/>
                  </a:lnTo>
                  <a:lnTo>
                    <a:pt x="186" y="42"/>
                  </a:lnTo>
                  <a:lnTo>
                    <a:pt x="218" y="28"/>
                  </a:lnTo>
                  <a:lnTo>
                    <a:pt x="250" y="16"/>
                  </a:lnTo>
                  <a:lnTo>
                    <a:pt x="284" y="6"/>
                  </a:lnTo>
                  <a:lnTo>
                    <a:pt x="320" y="2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392" y="2"/>
                  </a:lnTo>
                  <a:lnTo>
                    <a:pt x="428" y="6"/>
                  </a:lnTo>
                  <a:lnTo>
                    <a:pt x="462" y="16"/>
                  </a:lnTo>
                  <a:lnTo>
                    <a:pt x="494" y="28"/>
                  </a:lnTo>
                  <a:lnTo>
                    <a:pt x="526" y="42"/>
                  </a:lnTo>
                  <a:lnTo>
                    <a:pt x="556" y="60"/>
                  </a:lnTo>
                  <a:lnTo>
                    <a:pt x="582" y="80"/>
                  </a:lnTo>
                  <a:lnTo>
                    <a:pt x="608" y="104"/>
                  </a:lnTo>
                  <a:lnTo>
                    <a:pt x="630" y="128"/>
                  </a:lnTo>
                  <a:lnTo>
                    <a:pt x="652" y="156"/>
                  </a:lnTo>
                  <a:lnTo>
                    <a:pt x="668" y="186"/>
                  </a:lnTo>
                  <a:lnTo>
                    <a:pt x="684" y="216"/>
                  </a:lnTo>
                  <a:lnTo>
                    <a:pt x="696" y="250"/>
                  </a:lnTo>
                  <a:lnTo>
                    <a:pt x="704" y="284"/>
                  </a:lnTo>
                  <a:lnTo>
                    <a:pt x="710" y="318"/>
                  </a:lnTo>
                  <a:lnTo>
                    <a:pt x="712" y="354"/>
                  </a:lnTo>
                  <a:lnTo>
                    <a:pt x="712" y="354"/>
                  </a:lnTo>
                  <a:close/>
                </a:path>
              </a:pathLst>
            </a:custGeom>
            <a:solidFill>
              <a:srgbClr val="f8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445"/>
            <p:cNvSpPr/>
            <p:nvPr/>
          </p:nvSpPr>
          <p:spPr>
            <a:xfrm>
              <a:off x="8356320" y="12979440"/>
              <a:ext cx="1095480" cy="109512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690" h="690">
                  <a:moveTo>
                    <a:pt x="690" y="346"/>
                  </a:moveTo>
                  <a:lnTo>
                    <a:pt x="690" y="346"/>
                  </a:lnTo>
                  <a:lnTo>
                    <a:pt x="688" y="380"/>
                  </a:lnTo>
                  <a:lnTo>
                    <a:pt x="684" y="414"/>
                  </a:lnTo>
                  <a:lnTo>
                    <a:pt x="676" y="448"/>
                  </a:lnTo>
                  <a:lnTo>
                    <a:pt x="664" y="480"/>
                  </a:lnTo>
                  <a:lnTo>
                    <a:pt x="650" y="510"/>
                  </a:lnTo>
                  <a:lnTo>
                    <a:pt x="632" y="538"/>
                  </a:lnTo>
                  <a:lnTo>
                    <a:pt x="612" y="564"/>
                  </a:lnTo>
                  <a:lnTo>
                    <a:pt x="590" y="590"/>
                  </a:lnTo>
                  <a:lnTo>
                    <a:pt x="566" y="612"/>
                  </a:lnTo>
                  <a:lnTo>
                    <a:pt x="538" y="632"/>
                  </a:lnTo>
                  <a:lnTo>
                    <a:pt x="510" y="648"/>
                  </a:lnTo>
                  <a:lnTo>
                    <a:pt x="480" y="664"/>
                  </a:lnTo>
                  <a:lnTo>
                    <a:pt x="448" y="674"/>
                  </a:lnTo>
                  <a:lnTo>
                    <a:pt x="416" y="684"/>
                  </a:lnTo>
                  <a:lnTo>
                    <a:pt x="382" y="688"/>
                  </a:lnTo>
                  <a:lnTo>
                    <a:pt x="346" y="690"/>
                  </a:lnTo>
                  <a:lnTo>
                    <a:pt x="346" y="690"/>
                  </a:lnTo>
                  <a:lnTo>
                    <a:pt x="310" y="688"/>
                  </a:lnTo>
                  <a:lnTo>
                    <a:pt x="276" y="684"/>
                  </a:lnTo>
                  <a:lnTo>
                    <a:pt x="244" y="674"/>
                  </a:lnTo>
                  <a:lnTo>
                    <a:pt x="212" y="664"/>
                  </a:lnTo>
                  <a:lnTo>
                    <a:pt x="182" y="648"/>
                  </a:lnTo>
                  <a:lnTo>
                    <a:pt x="152" y="632"/>
                  </a:lnTo>
                  <a:lnTo>
                    <a:pt x="126" y="612"/>
                  </a:lnTo>
                  <a:lnTo>
                    <a:pt x="102" y="590"/>
                  </a:lnTo>
                  <a:lnTo>
                    <a:pt x="80" y="564"/>
                  </a:lnTo>
                  <a:lnTo>
                    <a:pt x="60" y="538"/>
                  </a:lnTo>
                  <a:lnTo>
                    <a:pt x="42" y="510"/>
                  </a:lnTo>
                  <a:lnTo>
                    <a:pt x="28" y="480"/>
                  </a:lnTo>
                  <a:lnTo>
                    <a:pt x="16" y="448"/>
                  </a:lnTo>
                  <a:lnTo>
                    <a:pt x="8" y="414"/>
                  </a:lnTo>
                  <a:lnTo>
                    <a:pt x="2" y="380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2" y="310"/>
                  </a:lnTo>
                  <a:lnTo>
                    <a:pt x="8" y="276"/>
                  </a:lnTo>
                  <a:lnTo>
                    <a:pt x="16" y="242"/>
                  </a:lnTo>
                  <a:lnTo>
                    <a:pt x="28" y="212"/>
                  </a:lnTo>
                  <a:lnTo>
                    <a:pt x="42" y="180"/>
                  </a:lnTo>
                  <a:lnTo>
                    <a:pt x="60" y="152"/>
                  </a:lnTo>
                  <a:lnTo>
                    <a:pt x="80" y="126"/>
                  </a:lnTo>
                  <a:lnTo>
                    <a:pt x="102" y="102"/>
                  </a:lnTo>
                  <a:lnTo>
                    <a:pt x="126" y="80"/>
                  </a:lnTo>
                  <a:lnTo>
                    <a:pt x="152" y="60"/>
                  </a:lnTo>
                  <a:lnTo>
                    <a:pt x="182" y="42"/>
                  </a:lnTo>
                  <a:lnTo>
                    <a:pt x="212" y="28"/>
                  </a:lnTo>
                  <a:lnTo>
                    <a:pt x="244" y="16"/>
                  </a:lnTo>
                  <a:lnTo>
                    <a:pt x="276" y="8"/>
                  </a:lnTo>
                  <a:lnTo>
                    <a:pt x="310" y="2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82" y="2"/>
                  </a:lnTo>
                  <a:lnTo>
                    <a:pt x="416" y="8"/>
                  </a:lnTo>
                  <a:lnTo>
                    <a:pt x="448" y="16"/>
                  </a:lnTo>
                  <a:lnTo>
                    <a:pt x="480" y="28"/>
                  </a:lnTo>
                  <a:lnTo>
                    <a:pt x="510" y="42"/>
                  </a:lnTo>
                  <a:lnTo>
                    <a:pt x="538" y="60"/>
                  </a:lnTo>
                  <a:lnTo>
                    <a:pt x="566" y="80"/>
                  </a:lnTo>
                  <a:lnTo>
                    <a:pt x="590" y="102"/>
                  </a:lnTo>
                  <a:lnTo>
                    <a:pt x="612" y="126"/>
                  </a:lnTo>
                  <a:lnTo>
                    <a:pt x="632" y="152"/>
                  </a:lnTo>
                  <a:lnTo>
                    <a:pt x="650" y="180"/>
                  </a:lnTo>
                  <a:lnTo>
                    <a:pt x="664" y="212"/>
                  </a:lnTo>
                  <a:lnTo>
                    <a:pt x="676" y="242"/>
                  </a:lnTo>
                  <a:lnTo>
                    <a:pt x="684" y="276"/>
                  </a:lnTo>
                  <a:lnTo>
                    <a:pt x="688" y="310"/>
                  </a:lnTo>
                  <a:lnTo>
                    <a:pt x="690" y="346"/>
                  </a:lnTo>
                  <a:lnTo>
                    <a:pt x="690" y="346"/>
                  </a:lnTo>
                  <a:close/>
                </a:path>
              </a:pathLst>
            </a:custGeom>
            <a:solidFill>
              <a:srgbClr val="f9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446"/>
            <p:cNvSpPr/>
            <p:nvPr/>
          </p:nvSpPr>
          <p:spPr>
            <a:xfrm>
              <a:off x="8366040" y="12992040"/>
              <a:ext cx="1060560" cy="106020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668" h="668">
                  <a:moveTo>
                    <a:pt x="668" y="334"/>
                  </a:moveTo>
                  <a:lnTo>
                    <a:pt x="668" y="334"/>
                  </a:lnTo>
                  <a:lnTo>
                    <a:pt x="666" y="368"/>
                  </a:lnTo>
                  <a:lnTo>
                    <a:pt x="660" y="402"/>
                  </a:lnTo>
                  <a:lnTo>
                    <a:pt x="652" y="434"/>
                  </a:lnTo>
                  <a:lnTo>
                    <a:pt x="642" y="464"/>
                  </a:lnTo>
                  <a:lnTo>
                    <a:pt x="628" y="494"/>
                  </a:lnTo>
                  <a:lnTo>
                    <a:pt x="610" y="520"/>
                  </a:lnTo>
                  <a:lnTo>
                    <a:pt x="592" y="546"/>
                  </a:lnTo>
                  <a:lnTo>
                    <a:pt x="570" y="570"/>
                  </a:lnTo>
                  <a:lnTo>
                    <a:pt x="546" y="592"/>
                  </a:lnTo>
                  <a:lnTo>
                    <a:pt x="520" y="610"/>
                  </a:lnTo>
                  <a:lnTo>
                    <a:pt x="492" y="628"/>
                  </a:lnTo>
                  <a:lnTo>
                    <a:pt x="464" y="642"/>
                  </a:lnTo>
                  <a:lnTo>
                    <a:pt x="432" y="654"/>
                  </a:lnTo>
                  <a:lnTo>
                    <a:pt x="400" y="662"/>
                  </a:lnTo>
                  <a:lnTo>
                    <a:pt x="368" y="666"/>
                  </a:lnTo>
                  <a:lnTo>
                    <a:pt x="334" y="668"/>
                  </a:lnTo>
                  <a:lnTo>
                    <a:pt x="334" y="668"/>
                  </a:lnTo>
                  <a:lnTo>
                    <a:pt x="300" y="666"/>
                  </a:lnTo>
                  <a:lnTo>
                    <a:pt x="266" y="662"/>
                  </a:lnTo>
                  <a:lnTo>
                    <a:pt x="234" y="654"/>
                  </a:lnTo>
                  <a:lnTo>
                    <a:pt x="204" y="642"/>
                  </a:lnTo>
                  <a:lnTo>
                    <a:pt x="174" y="628"/>
                  </a:lnTo>
                  <a:lnTo>
                    <a:pt x="146" y="610"/>
                  </a:lnTo>
                  <a:lnTo>
                    <a:pt x="120" y="592"/>
                  </a:lnTo>
                  <a:lnTo>
                    <a:pt x="96" y="570"/>
                  </a:lnTo>
                  <a:lnTo>
                    <a:pt x="76" y="546"/>
                  </a:lnTo>
                  <a:lnTo>
                    <a:pt x="56" y="520"/>
                  </a:lnTo>
                  <a:lnTo>
                    <a:pt x="40" y="494"/>
                  </a:lnTo>
                  <a:lnTo>
                    <a:pt x="26" y="464"/>
                  </a:lnTo>
                  <a:lnTo>
                    <a:pt x="14" y="434"/>
                  </a:lnTo>
                  <a:lnTo>
                    <a:pt x="6" y="402"/>
                  </a:lnTo>
                  <a:lnTo>
                    <a:pt x="0" y="368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00"/>
                  </a:lnTo>
                  <a:lnTo>
                    <a:pt x="6" y="266"/>
                  </a:lnTo>
                  <a:lnTo>
                    <a:pt x="14" y="234"/>
                  </a:lnTo>
                  <a:lnTo>
                    <a:pt x="26" y="204"/>
                  </a:lnTo>
                  <a:lnTo>
                    <a:pt x="40" y="174"/>
                  </a:lnTo>
                  <a:lnTo>
                    <a:pt x="56" y="146"/>
                  </a:lnTo>
                  <a:lnTo>
                    <a:pt x="76" y="122"/>
                  </a:lnTo>
                  <a:lnTo>
                    <a:pt x="96" y="98"/>
                  </a:lnTo>
                  <a:lnTo>
                    <a:pt x="120" y="76"/>
                  </a:lnTo>
                  <a:lnTo>
                    <a:pt x="146" y="56"/>
                  </a:lnTo>
                  <a:lnTo>
                    <a:pt x="174" y="40"/>
                  </a:lnTo>
                  <a:lnTo>
                    <a:pt x="204" y="26"/>
                  </a:lnTo>
                  <a:lnTo>
                    <a:pt x="234" y="14"/>
                  </a:lnTo>
                  <a:lnTo>
                    <a:pt x="266" y="6"/>
                  </a:lnTo>
                  <a:lnTo>
                    <a:pt x="300" y="2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68" y="2"/>
                  </a:lnTo>
                  <a:lnTo>
                    <a:pt x="400" y="6"/>
                  </a:lnTo>
                  <a:lnTo>
                    <a:pt x="432" y="14"/>
                  </a:lnTo>
                  <a:lnTo>
                    <a:pt x="464" y="26"/>
                  </a:lnTo>
                  <a:lnTo>
                    <a:pt x="492" y="40"/>
                  </a:lnTo>
                  <a:lnTo>
                    <a:pt x="520" y="56"/>
                  </a:lnTo>
                  <a:lnTo>
                    <a:pt x="546" y="76"/>
                  </a:lnTo>
                  <a:lnTo>
                    <a:pt x="570" y="98"/>
                  </a:lnTo>
                  <a:lnTo>
                    <a:pt x="592" y="122"/>
                  </a:lnTo>
                  <a:lnTo>
                    <a:pt x="610" y="146"/>
                  </a:lnTo>
                  <a:lnTo>
                    <a:pt x="628" y="174"/>
                  </a:lnTo>
                  <a:lnTo>
                    <a:pt x="642" y="204"/>
                  </a:lnTo>
                  <a:lnTo>
                    <a:pt x="652" y="234"/>
                  </a:lnTo>
                  <a:lnTo>
                    <a:pt x="660" y="266"/>
                  </a:lnTo>
                  <a:lnTo>
                    <a:pt x="666" y="300"/>
                  </a:lnTo>
                  <a:lnTo>
                    <a:pt x="668" y="334"/>
                  </a:lnTo>
                  <a:lnTo>
                    <a:pt x="668" y="334"/>
                  </a:lnTo>
                  <a:close/>
                </a:path>
              </a:pathLst>
            </a:custGeom>
            <a:solidFill>
              <a:srgbClr val="f9c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447"/>
            <p:cNvSpPr/>
            <p:nvPr/>
          </p:nvSpPr>
          <p:spPr>
            <a:xfrm>
              <a:off x="8372160" y="13001760"/>
              <a:ext cx="1025640" cy="10285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646" h="648">
                  <a:moveTo>
                    <a:pt x="646" y="324"/>
                  </a:moveTo>
                  <a:lnTo>
                    <a:pt x="646" y="324"/>
                  </a:lnTo>
                  <a:lnTo>
                    <a:pt x="644" y="358"/>
                  </a:lnTo>
                  <a:lnTo>
                    <a:pt x="640" y="390"/>
                  </a:lnTo>
                  <a:lnTo>
                    <a:pt x="632" y="420"/>
                  </a:lnTo>
                  <a:lnTo>
                    <a:pt x="622" y="450"/>
                  </a:lnTo>
                  <a:lnTo>
                    <a:pt x="608" y="478"/>
                  </a:lnTo>
                  <a:lnTo>
                    <a:pt x="592" y="506"/>
                  </a:lnTo>
                  <a:lnTo>
                    <a:pt x="572" y="530"/>
                  </a:lnTo>
                  <a:lnTo>
                    <a:pt x="552" y="552"/>
                  </a:lnTo>
                  <a:lnTo>
                    <a:pt x="528" y="574"/>
                  </a:lnTo>
                  <a:lnTo>
                    <a:pt x="504" y="592"/>
                  </a:lnTo>
                  <a:lnTo>
                    <a:pt x="478" y="608"/>
                  </a:lnTo>
                  <a:lnTo>
                    <a:pt x="448" y="622"/>
                  </a:lnTo>
                  <a:lnTo>
                    <a:pt x="420" y="634"/>
                  </a:lnTo>
                  <a:lnTo>
                    <a:pt x="388" y="642"/>
                  </a:lnTo>
                  <a:lnTo>
                    <a:pt x="356" y="646"/>
                  </a:lnTo>
                  <a:lnTo>
                    <a:pt x="322" y="648"/>
                  </a:lnTo>
                  <a:lnTo>
                    <a:pt x="322" y="648"/>
                  </a:lnTo>
                  <a:lnTo>
                    <a:pt x="290" y="646"/>
                  </a:lnTo>
                  <a:lnTo>
                    <a:pt x="258" y="642"/>
                  </a:lnTo>
                  <a:lnTo>
                    <a:pt x="226" y="634"/>
                  </a:lnTo>
                  <a:lnTo>
                    <a:pt x="196" y="622"/>
                  </a:lnTo>
                  <a:lnTo>
                    <a:pt x="168" y="608"/>
                  </a:lnTo>
                  <a:lnTo>
                    <a:pt x="142" y="592"/>
                  </a:lnTo>
                  <a:lnTo>
                    <a:pt x="118" y="574"/>
                  </a:lnTo>
                  <a:lnTo>
                    <a:pt x="94" y="552"/>
                  </a:lnTo>
                  <a:lnTo>
                    <a:pt x="74" y="530"/>
                  </a:lnTo>
                  <a:lnTo>
                    <a:pt x="54" y="506"/>
                  </a:lnTo>
                  <a:lnTo>
                    <a:pt x="38" y="478"/>
                  </a:lnTo>
                  <a:lnTo>
                    <a:pt x="24" y="450"/>
                  </a:lnTo>
                  <a:lnTo>
                    <a:pt x="14" y="420"/>
                  </a:lnTo>
                  <a:lnTo>
                    <a:pt x="6" y="390"/>
                  </a:lnTo>
                  <a:lnTo>
                    <a:pt x="0" y="358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0" y="292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4" y="198"/>
                  </a:lnTo>
                  <a:lnTo>
                    <a:pt x="38" y="170"/>
                  </a:lnTo>
                  <a:lnTo>
                    <a:pt x="54" y="144"/>
                  </a:lnTo>
                  <a:lnTo>
                    <a:pt x="74" y="118"/>
                  </a:lnTo>
                  <a:lnTo>
                    <a:pt x="94" y="96"/>
                  </a:lnTo>
                  <a:lnTo>
                    <a:pt x="118" y="74"/>
                  </a:lnTo>
                  <a:lnTo>
                    <a:pt x="142" y="56"/>
                  </a:lnTo>
                  <a:lnTo>
                    <a:pt x="168" y="40"/>
                  </a:lnTo>
                  <a:lnTo>
                    <a:pt x="196" y="26"/>
                  </a:lnTo>
                  <a:lnTo>
                    <a:pt x="226" y="14"/>
                  </a:lnTo>
                  <a:lnTo>
                    <a:pt x="258" y="6"/>
                  </a:lnTo>
                  <a:lnTo>
                    <a:pt x="290" y="2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56" y="2"/>
                  </a:lnTo>
                  <a:lnTo>
                    <a:pt x="388" y="6"/>
                  </a:lnTo>
                  <a:lnTo>
                    <a:pt x="420" y="14"/>
                  </a:lnTo>
                  <a:lnTo>
                    <a:pt x="448" y="26"/>
                  </a:lnTo>
                  <a:lnTo>
                    <a:pt x="478" y="40"/>
                  </a:lnTo>
                  <a:lnTo>
                    <a:pt x="504" y="56"/>
                  </a:lnTo>
                  <a:lnTo>
                    <a:pt x="528" y="74"/>
                  </a:lnTo>
                  <a:lnTo>
                    <a:pt x="552" y="96"/>
                  </a:lnTo>
                  <a:lnTo>
                    <a:pt x="572" y="118"/>
                  </a:lnTo>
                  <a:lnTo>
                    <a:pt x="592" y="144"/>
                  </a:lnTo>
                  <a:lnTo>
                    <a:pt x="608" y="170"/>
                  </a:lnTo>
                  <a:lnTo>
                    <a:pt x="622" y="198"/>
                  </a:lnTo>
                  <a:lnTo>
                    <a:pt x="632" y="228"/>
                  </a:lnTo>
                  <a:lnTo>
                    <a:pt x="640" y="258"/>
                  </a:lnTo>
                  <a:lnTo>
                    <a:pt x="644" y="292"/>
                  </a:lnTo>
                  <a:lnTo>
                    <a:pt x="646" y="324"/>
                  </a:lnTo>
                  <a:lnTo>
                    <a:pt x="646" y="324"/>
                  </a:lnTo>
                  <a:close/>
                </a:path>
              </a:pathLst>
            </a:custGeom>
            <a:solidFill>
              <a:srgbClr val="f9c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448"/>
            <p:cNvSpPr/>
            <p:nvPr/>
          </p:nvSpPr>
          <p:spPr>
            <a:xfrm>
              <a:off x="8378640" y="13014360"/>
              <a:ext cx="993600" cy="9936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626" h="626">
                  <a:moveTo>
                    <a:pt x="626" y="312"/>
                  </a:moveTo>
                  <a:lnTo>
                    <a:pt x="626" y="312"/>
                  </a:lnTo>
                  <a:lnTo>
                    <a:pt x="624" y="344"/>
                  </a:lnTo>
                  <a:lnTo>
                    <a:pt x="620" y="376"/>
                  </a:lnTo>
                  <a:lnTo>
                    <a:pt x="612" y="406"/>
                  </a:lnTo>
                  <a:lnTo>
                    <a:pt x="600" y="434"/>
                  </a:lnTo>
                  <a:lnTo>
                    <a:pt x="588" y="462"/>
                  </a:lnTo>
                  <a:lnTo>
                    <a:pt x="572" y="488"/>
                  </a:lnTo>
                  <a:lnTo>
                    <a:pt x="554" y="512"/>
                  </a:lnTo>
                  <a:lnTo>
                    <a:pt x="534" y="534"/>
                  </a:lnTo>
                  <a:lnTo>
                    <a:pt x="512" y="554"/>
                  </a:lnTo>
                  <a:lnTo>
                    <a:pt x="488" y="572"/>
                  </a:lnTo>
                  <a:lnTo>
                    <a:pt x="462" y="588"/>
                  </a:lnTo>
                  <a:lnTo>
                    <a:pt x="434" y="600"/>
                  </a:lnTo>
                  <a:lnTo>
                    <a:pt x="406" y="612"/>
                  </a:lnTo>
                  <a:lnTo>
                    <a:pt x="376" y="620"/>
                  </a:lnTo>
                  <a:lnTo>
                    <a:pt x="344" y="624"/>
                  </a:lnTo>
                  <a:lnTo>
                    <a:pt x="312" y="626"/>
                  </a:lnTo>
                  <a:lnTo>
                    <a:pt x="312" y="626"/>
                  </a:lnTo>
                  <a:lnTo>
                    <a:pt x="280" y="624"/>
                  </a:lnTo>
                  <a:lnTo>
                    <a:pt x="250" y="620"/>
                  </a:lnTo>
                  <a:lnTo>
                    <a:pt x="220" y="612"/>
                  </a:lnTo>
                  <a:lnTo>
                    <a:pt x="190" y="600"/>
                  </a:lnTo>
                  <a:lnTo>
                    <a:pt x="164" y="588"/>
                  </a:lnTo>
                  <a:lnTo>
                    <a:pt x="138" y="572"/>
                  </a:lnTo>
                  <a:lnTo>
                    <a:pt x="114" y="554"/>
                  </a:lnTo>
                  <a:lnTo>
                    <a:pt x="92" y="534"/>
                  </a:lnTo>
                  <a:lnTo>
                    <a:pt x="70" y="512"/>
                  </a:lnTo>
                  <a:lnTo>
                    <a:pt x="52" y="488"/>
                  </a:lnTo>
                  <a:lnTo>
                    <a:pt x="38" y="462"/>
                  </a:lnTo>
                  <a:lnTo>
                    <a:pt x="24" y="434"/>
                  </a:lnTo>
                  <a:lnTo>
                    <a:pt x="14" y="406"/>
                  </a:lnTo>
                  <a:lnTo>
                    <a:pt x="6" y="376"/>
                  </a:lnTo>
                  <a:lnTo>
                    <a:pt x="2" y="344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2" y="280"/>
                  </a:lnTo>
                  <a:lnTo>
                    <a:pt x="6" y="250"/>
                  </a:lnTo>
                  <a:lnTo>
                    <a:pt x="14" y="220"/>
                  </a:lnTo>
                  <a:lnTo>
                    <a:pt x="24" y="190"/>
                  </a:lnTo>
                  <a:lnTo>
                    <a:pt x="38" y="164"/>
                  </a:lnTo>
                  <a:lnTo>
                    <a:pt x="52" y="138"/>
                  </a:lnTo>
                  <a:lnTo>
                    <a:pt x="70" y="114"/>
                  </a:lnTo>
                  <a:lnTo>
                    <a:pt x="92" y="92"/>
                  </a:lnTo>
                  <a:lnTo>
                    <a:pt x="114" y="70"/>
                  </a:lnTo>
                  <a:lnTo>
                    <a:pt x="138" y="52"/>
                  </a:lnTo>
                  <a:lnTo>
                    <a:pt x="164" y="38"/>
                  </a:lnTo>
                  <a:lnTo>
                    <a:pt x="190" y="24"/>
                  </a:lnTo>
                  <a:lnTo>
                    <a:pt x="220" y="14"/>
                  </a:lnTo>
                  <a:lnTo>
                    <a:pt x="250" y="6"/>
                  </a:lnTo>
                  <a:lnTo>
                    <a:pt x="280" y="2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44" y="2"/>
                  </a:lnTo>
                  <a:lnTo>
                    <a:pt x="376" y="6"/>
                  </a:lnTo>
                  <a:lnTo>
                    <a:pt x="406" y="14"/>
                  </a:lnTo>
                  <a:lnTo>
                    <a:pt x="434" y="24"/>
                  </a:lnTo>
                  <a:lnTo>
                    <a:pt x="462" y="38"/>
                  </a:lnTo>
                  <a:lnTo>
                    <a:pt x="488" y="52"/>
                  </a:lnTo>
                  <a:lnTo>
                    <a:pt x="512" y="70"/>
                  </a:lnTo>
                  <a:lnTo>
                    <a:pt x="534" y="92"/>
                  </a:lnTo>
                  <a:lnTo>
                    <a:pt x="554" y="114"/>
                  </a:lnTo>
                  <a:lnTo>
                    <a:pt x="572" y="138"/>
                  </a:lnTo>
                  <a:lnTo>
                    <a:pt x="588" y="164"/>
                  </a:lnTo>
                  <a:lnTo>
                    <a:pt x="600" y="190"/>
                  </a:lnTo>
                  <a:lnTo>
                    <a:pt x="612" y="220"/>
                  </a:lnTo>
                  <a:lnTo>
                    <a:pt x="620" y="250"/>
                  </a:lnTo>
                  <a:lnTo>
                    <a:pt x="624" y="280"/>
                  </a:lnTo>
                  <a:lnTo>
                    <a:pt x="626" y="312"/>
                  </a:lnTo>
                  <a:lnTo>
                    <a:pt x="626" y="312"/>
                  </a:lnTo>
                  <a:close/>
                </a:path>
              </a:pathLst>
            </a:custGeom>
            <a:solidFill>
              <a:srgbClr val="f9c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449"/>
            <p:cNvSpPr/>
            <p:nvPr/>
          </p:nvSpPr>
          <p:spPr>
            <a:xfrm>
              <a:off x="8385120" y="13023720"/>
              <a:ext cx="958680" cy="9619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4" h="606">
                  <a:moveTo>
                    <a:pt x="604" y="302"/>
                  </a:moveTo>
                  <a:lnTo>
                    <a:pt x="604" y="302"/>
                  </a:lnTo>
                  <a:lnTo>
                    <a:pt x="602" y="334"/>
                  </a:lnTo>
                  <a:lnTo>
                    <a:pt x="598" y="364"/>
                  </a:lnTo>
                  <a:lnTo>
                    <a:pt x="590" y="392"/>
                  </a:lnTo>
                  <a:lnTo>
                    <a:pt x="580" y="420"/>
                  </a:lnTo>
                  <a:lnTo>
                    <a:pt x="568" y="448"/>
                  </a:lnTo>
                  <a:lnTo>
                    <a:pt x="552" y="472"/>
                  </a:lnTo>
                  <a:lnTo>
                    <a:pt x="536" y="496"/>
                  </a:lnTo>
                  <a:lnTo>
                    <a:pt x="516" y="516"/>
                  </a:lnTo>
                  <a:lnTo>
                    <a:pt x="494" y="536"/>
                  </a:lnTo>
                  <a:lnTo>
                    <a:pt x="472" y="554"/>
                  </a:lnTo>
                  <a:lnTo>
                    <a:pt x="446" y="568"/>
                  </a:lnTo>
                  <a:lnTo>
                    <a:pt x="420" y="582"/>
                  </a:lnTo>
                  <a:lnTo>
                    <a:pt x="392" y="592"/>
                  </a:lnTo>
                  <a:lnTo>
                    <a:pt x="364" y="600"/>
                  </a:lnTo>
                  <a:lnTo>
                    <a:pt x="334" y="604"/>
                  </a:lnTo>
                  <a:lnTo>
                    <a:pt x="302" y="606"/>
                  </a:lnTo>
                  <a:lnTo>
                    <a:pt x="302" y="606"/>
                  </a:lnTo>
                  <a:lnTo>
                    <a:pt x="272" y="604"/>
                  </a:lnTo>
                  <a:lnTo>
                    <a:pt x="242" y="600"/>
                  </a:lnTo>
                  <a:lnTo>
                    <a:pt x="212" y="592"/>
                  </a:lnTo>
                  <a:lnTo>
                    <a:pt x="184" y="582"/>
                  </a:lnTo>
                  <a:lnTo>
                    <a:pt x="158" y="568"/>
                  </a:lnTo>
                  <a:lnTo>
                    <a:pt x="134" y="554"/>
                  </a:lnTo>
                  <a:lnTo>
                    <a:pt x="110" y="536"/>
                  </a:lnTo>
                  <a:lnTo>
                    <a:pt x="88" y="516"/>
                  </a:lnTo>
                  <a:lnTo>
                    <a:pt x="68" y="496"/>
                  </a:lnTo>
                  <a:lnTo>
                    <a:pt x="52" y="472"/>
                  </a:lnTo>
                  <a:lnTo>
                    <a:pt x="36" y="448"/>
                  </a:lnTo>
                  <a:lnTo>
                    <a:pt x="24" y="420"/>
                  </a:lnTo>
                  <a:lnTo>
                    <a:pt x="14" y="392"/>
                  </a:lnTo>
                  <a:lnTo>
                    <a:pt x="6" y="364"/>
                  </a:lnTo>
                  <a:lnTo>
                    <a:pt x="2" y="334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2" y="272"/>
                  </a:lnTo>
                  <a:lnTo>
                    <a:pt x="6" y="242"/>
                  </a:lnTo>
                  <a:lnTo>
                    <a:pt x="14" y="212"/>
                  </a:lnTo>
                  <a:lnTo>
                    <a:pt x="24" y="186"/>
                  </a:lnTo>
                  <a:lnTo>
                    <a:pt x="36" y="158"/>
                  </a:lnTo>
                  <a:lnTo>
                    <a:pt x="52" y="134"/>
                  </a:lnTo>
                  <a:lnTo>
                    <a:pt x="68" y="110"/>
                  </a:lnTo>
                  <a:lnTo>
                    <a:pt x="88" y="90"/>
                  </a:lnTo>
                  <a:lnTo>
                    <a:pt x="110" y="70"/>
                  </a:lnTo>
                  <a:lnTo>
                    <a:pt x="134" y="52"/>
                  </a:lnTo>
                  <a:lnTo>
                    <a:pt x="158" y="38"/>
                  </a:lnTo>
                  <a:lnTo>
                    <a:pt x="184" y="24"/>
                  </a:lnTo>
                  <a:lnTo>
                    <a:pt x="212" y="14"/>
                  </a:lnTo>
                  <a:lnTo>
                    <a:pt x="242" y="6"/>
                  </a:lnTo>
                  <a:lnTo>
                    <a:pt x="272" y="2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34" y="2"/>
                  </a:lnTo>
                  <a:lnTo>
                    <a:pt x="364" y="6"/>
                  </a:lnTo>
                  <a:lnTo>
                    <a:pt x="392" y="14"/>
                  </a:lnTo>
                  <a:lnTo>
                    <a:pt x="420" y="24"/>
                  </a:lnTo>
                  <a:lnTo>
                    <a:pt x="446" y="38"/>
                  </a:lnTo>
                  <a:lnTo>
                    <a:pt x="472" y="52"/>
                  </a:lnTo>
                  <a:lnTo>
                    <a:pt x="494" y="70"/>
                  </a:lnTo>
                  <a:lnTo>
                    <a:pt x="516" y="90"/>
                  </a:lnTo>
                  <a:lnTo>
                    <a:pt x="536" y="110"/>
                  </a:lnTo>
                  <a:lnTo>
                    <a:pt x="552" y="134"/>
                  </a:lnTo>
                  <a:lnTo>
                    <a:pt x="568" y="158"/>
                  </a:lnTo>
                  <a:lnTo>
                    <a:pt x="580" y="186"/>
                  </a:lnTo>
                  <a:lnTo>
                    <a:pt x="590" y="212"/>
                  </a:lnTo>
                  <a:lnTo>
                    <a:pt x="598" y="242"/>
                  </a:lnTo>
                  <a:lnTo>
                    <a:pt x="602" y="272"/>
                  </a:lnTo>
                  <a:lnTo>
                    <a:pt x="604" y="302"/>
                  </a:lnTo>
                  <a:lnTo>
                    <a:pt x="604" y="302"/>
                  </a:lnTo>
                  <a:close/>
                </a:path>
              </a:pathLst>
            </a:custGeom>
            <a:solidFill>
              <a:srgbClr val="fac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450"/>
            <p:cNvSpPr/>
            <p:nvPr/>
          </p:nvSpPr>
          <p:spPr>
            <a:xfrm>
              <a:off x="8391240" y="13036680"/>
              <a:ext cx="927000" cy="92700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584" h="584">
                  <a:moveTo>
                    <a:pt x="584" y="292"/>
                  </a:moveTo>
                  <a:lnTo>
                    <a:pt x="584" y="292"/>
                  </a:lnTo>
                  <a:lnTo>
                    <a:pt x="582" y="322"/>
                  </a:lnTo>
                  <a:lnTo>
                    <a:pt x="578" y="350"/>
                  </a:lnTo>
                  <a:lnTo>
                    <a:pt x="570" y="378"/>
                  </a:lnTo>
                  <a:lnTo>
                    <a:pt x="560" y="404"/>
                  </a:lnTo>
                  <a:lnTo>
                    <a:pt x="548" y="430"/>
                  </a:lnTo>
                  <a:lnTo>
                    <a:pt x="534" y="454"/>
                  </a:lnTo>
                  <a:lnTo>
                    <a:pt x="516" y="476"/>
                  </a:lnTo>
                  <a:lnTo>
                    <a:pt x="498" y="498"/>
                  </a:lnTo>
                  <a:lnTo>
                    <a:pt x="478" y="516"/>
                  </a:lnTo>
                  <a:lnTo>
                    <a:pt x="454" y="534"/>
                  </a:lnTo>
                  <a:lnTo>
                    <a:pt x="430" y="548"/>
                  </a:lnTo>
                  <a:lnTo>
                    <a:pt x="406" y="560"/>
                  </a:lnTo>
                  <a:lnTo>
                    <a:pt x="378" y="570"/>
                  </a:lnTo>
                  <a:lnTo>
                    <a:pt x="350" y="578"/>
                  </a:lnTo>
                  <a:lnTo>
                    <a:pt x="322" y="582"/>
                  </a:lnTo>
                  <a:lnTo>
                    <a:pt x="292" y="584"/>
                  </a:lnTo>
                  <a:lnTo>
                    <a:pt x="292" y="584"/>
                  </a:lnTo>
                  <a:lnTo>
                    <a:pt x="262" y="582"/>
                  </a:lnTo>
                  <a:lnTo>
                    <a:pt x="232" y="578"/>
                  </a:lnTo>
                  <a:lnTo>
                    <a:pt x="204" y="570"/>
                  </a:lnTo>
                  <a:lnTo>
                    <a:pt x="178" y="560"/>
                  </a:lnTo>
                  <a:lnTo>
                    <a:pt x="152" y="548"/>
                  </a:lnTo>
                  <a:lnTo>
                    <a:pt x="128" y="534"/>
                  </a:lnTo>
                  <a:lnTo>
                    <a:pt x="106" y="516"/>
                  </a:lnTo>
                  <a:lnTo>
                    <a:pt x="86" y="498"/>
                  </a:lnTo>
                  <a:lnTo>
                    <a:pt x="66" y="476"/>
                  </a:lnTo>
                  <a:lnTo>
                    <a:pt x="50" y="454"/>
                  </a:lnTo>
                  <a:lnTo>
                    <a:pt x="36" y="430"/>
                  </a:lnTo>
                  <a:lnTo>
                    <a:pt x="22" y="404"/>
                  </a:lnTo>
                  <a:lnTo>
                    <a:pt x="14" y="378"/>
                  </a:lnTo>
                  <a:lnTo>
                    <a:pt x="6" y="350"/>
                  </a:lnTo>
                  <a:lnTo>
                    <a:pt x="2" y="32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" y="262"/>
                  </a:lnTo>
                  <a:lnTo>
                    <a:pt x="6" y="232"/>
                  </a:lnTo>
                  <a:lnTo>
                    <a:pt x="14" y="204"/>
                  </a:lnTo>
                  <a:lnTo>
                    <a:pt x="22" y="178"/>
                  </a:lnTo>
                  <a:lnTo>
                    <a:pt x="36" y="152"/>
                  </a:lnTo>
                  <a:lnTo>
                    <a:pt x="50" y="128"/>
                  </a:lnTo>
                  <a:lnTo>
                    <a:pt x="66" y="106"/>
                  </a:lnTo>
                  <a:lnTo>
                    <a:pt x="86" y="86"/>
                  </a:lnTo>
                  <a:lnTo>
                    <a:pt x="106" y="66"/>
                  </a:lnTo>
                  <a:lnTo>
                    <a:pt x="128" y="50"/>
                  </a:lnTo>
                  <a:lnTo>
                    <a:pt x="152" y="34"/>
                  </a:lnTo>
                  <a:lnTo>
                    <a:pt x="178" y="22"/>
                  </a:lnTo>
                  <a:lnTo>
                    <a:pt x="204" y="12"/>
                  </a:lnTo>
                  <a:lnTo>
                    <a:pt x="232" y="6"/>
                  </a:lnTo>
                  <a:lnTo>
                    <a:pt x="262" y="2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322" y="2"/>
                  </a:lnTo>
                  <a:lnTo>
                    <a:pt x="350" y="6"/>
                  </a:lnTo>
                  <a:lnTo>
                    <a:pt x="378" y="12"/>
                  </a:lnTo>
                  <a:lnTo>
                    <a:pt x="406" y="22"/>
                  </a:lnTo>
                  <a:lnTo>
                    <a:pt x="430" y="34"/>
                  </a:lnTo>
                  <a:lnTo>
                    <a:pt x="454" y="50"/>
                  </a:lnTo>
                  <a:lnTo>
                    <a:pt x="478" y="66"/>
                  </a:lnTo>
                  <a:lnTo>
                    <a:pt x="498" y="86"/>
                  </a:lnTo>
                  <a:lnTo>
                    <a:pt x="516" y="106"/>
                  </a:lnTo>
                  <a:lnTo>
                    <a:pt x="534" y="128"/>
                  </a:lnTo>
                  <a:lnTo>
                    <a:pt x="548" y="152"/>
                  </a:lnTo>
                  <a:lnTo>
                    <a:pt x="560" y="178"/>
                  </a:lnTo>
                  <a:lnTo>
                    <a:pt x="570" y="204"/>
                  </a:lnTo>
                  <a:lnTo>
                    <a:pt x="578" y="232"/>
                  </a:lnTo>
                  <a:lnTo>
                    <a:pt x="582" y="262"/>
                  </a:lnTo>
                  <a:lnTo>
                    <a:pt x="584" y="292"/>
                  </a:lnTo>
                  <a:lnTo>
                    <a:pt x="584" y="292"/>
                  </a:lnTo>
                  <a:close/>
                </a:path>
              </a:pathLst>
            </a:custGeom>
            <a:solidFill>
              <a:srgbClr val="fac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451"/>
            <p:cNvSpPr/>
            <p:nvPr/>
          </p:nvSpPr>
          <p:spPr>
            <a:xfrm>
              <a:off x="8397720" y="13046040"/>
              <a:ext cx="892080" cy="89208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562" h="562">
                  <a:moveTo>
                    <a:pt x="562" y="282"/>
                  </a:moveTo>
                  <a:lnTo>
                    <a:pt x="562" y="282"/>
                  </a:lnTo>
                  <a:lnTo>
                    <a:pt x="560" y="310"/>
                  </a:lnTo>
                  <a:lnTo>
                    <a:pt x="556" y="338"/>
                  </a:lnTo>
                  <a:lnTo>
                    <a:pt x="550" y="366"/>
                  </a:lnTo>
                  <a:lnTo>
                    <a:pt x="540" y="392"/>
                  </a:lnTo>
                  <a:lnTo>
                    <a:pt x="528" y="416"/>
                  </a:lnTo>
                  <a:lnTo>
                    <a:pt x="514" y="438"/>
                  </a:lnTo>
                  <a:lnTo>
                    <a:pt x="498" y="460"/>
                  </a:lnTo>
                  <a:lnTo>
                    <a:pt x="480" y="480"/>
                  </a:lnTo>
                  <a:lnTo>
                    <a:pt x="460" y="498"/>
                  </a:lnTo>
                  <a:lnTo>
                    <a:pt x="438" y="514"/>
                  </a:lnTo>
                  <a:lnTo>
                    <a:pt x="416" y="528"/>
                  </a:lnTo>
                  <a:lnTo>
                    <a:pt x="390" y="540"/>
                  </a:lnTo>
                  <a:lnTo>
                    <a:pt x="364" y="550"/>
                  </a:lnTo>
                  <a:lnTo>
                    <a:pt x="338" y="558"/>
                  </a:lnTo>
                  <a:lnTo>
                    <a:pt x="310" y="562"/>
                  </a:lnTo>
                  <a:lnTo>
                    <a:pt x="282" y="562"/>
                  </a:lnTo>
                  <a:lnTo>
                    <a:pt x="282" y="562"/>
                  </a:lnTo>
                  <a:lnTo>
                    <a:pt x="252" y="562"/>
                  </a:lnTo>
                  <a:lnTo>
                    <a:pt x="224" y="558"/>
                  </a:lnTo>
                  <a:lnTo>
                    <a:pt x="198" y="550"/>
                  </a:lnTo>
                  <a:lnTo>
                    <a:pt x="172" y="540"/>
                  </a:lnTo>
                  <a:lnTo>
                    <a:pt x="148" y="528"/>
                  </a:lnTo>
                  <a:lnTo>
                    <a:pt x="124" y="514"/>
                  </a:lnTo>
                  <a:lnTo>
                    <a:pt x="102" y="498"/>
                  </a:lnTo>
                  <a:lnTo>
                    <a:pt x="82" y="480"/>
                  </a:lnTo>
                  <a:lnTo>
                    <a:pt x="64" y="460"/>
                  </a:lnTo>
                  <a:lnTo>
                    <a:pt x="48" y="438"/>
                  </a:lnTo>
                  <a:lnTo>
                    <a:pt x="34" y="416"/>
                  </a:lnTo>
                  <a:lnTo>
                    <a:pt x="22" y="392"/>
                  </a:lnTo>
                  <a:lnTo>
                    <a:pt x="12" y="366"/>
                  </a:lnTo>
                  <a:lnTo>
                    <a:pt x="6" y="338"/>
                  </a:lnTo>
                  <a:lnTo>
                    <a:pt x="2" y="310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2" y="254"/>
                  </a:lnTo>
                  <a:lnTo>
                    <a:pt x="6" y="226"/>
                  </a:lnTo>
                  <a:lnTo>
                    <a:pt x="12" y="198"/>
                  </a:lnTo>
                  <a:lnTo>
                    <a:pt x="22" y="172"/>
                  </a:lnTo>
                  <a:lnTo>
                    <a:pt x="34" y="148"/>
                  </a:lnTo>
                  <a:lnTo>
                    <a:pt x="48" y="124"/>
                  </a:lnTo>
                  <a:lnTo>
                    <a:pt x="64" y="102"/>
                  </a:lnTo>
                  <a:lnTo>
                    <a:pt x="82" y="82"/>
                  </a:lnTo>
                  <a:lnTo>
                    <a:pt x="102" y="64"/>
                  </a:lnTo>
                  <a:lnTo>
                    <a:pt x="124" y="48"/>
                  </a:lnTo>
                  <a:lnTo>
                    <a:pt x="148" y="34"/>
                  </a:lnTo>
                  <a:lnTo>
                    <a:pt x="172" y="22"/>
                  </a:lnTo>
                  <a:lnTo>
                    <a:pt x="198" y="14"/>
                  </a:lnTo>
                  <a:lnTo>
                    <a:pt x="224" y="6"/>
                  </a:lnTo>
                  <a:lnTo>
                    <a:pt x="252" y="2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310" y="2"/>
                  </a:lnTo>
                  <a:lnTo>
                    <a:pt x="338" y="6"/>
                  </a:lnTo>
                  <a:lnTo>
                    <a:pt x="364" y="14"/>
                  </a:lnTo>
                  <a:lnTo>
                    <a:pt x="390" y="22"/>
                  </a:lnTo>
                  <a:lnTo>
                    <a:pt x="416" y="34"/>
                  </a:lnTo>
                  <a:lnTo>
                    <a:pt x="438" y="48"/>
                  </a:lnTo>
                  <a:lnTo>
                    <a:pt x="460" y="64"/>
                  </a:lnTo>
                  <a:lnTo>
                    <a:pt x="480" y="82"/>
                  </a:lnTo>
                  <a:lnTo>
                    <a:pt x="498" y="102"/>
                  </a:lnTo>
                  <a:lnTo>
                    <a:pt x="514" y="124"/>
                  </a:lnTo>
                  <a:lnTo>
                    <a:pt x="528" y="148"/>
                  </a:lnTo>
                  <a:lnTo>
                    <a:pt x="540" y="172"/>
                  </a:lnTo>
                  <a:lnTo>
                    <a:pt x="550" y="198"/>
                  </a:lnTo>
                  <a:lnTo>
                    <a:pt x="556" y="226"/>
                  </a:lnTo>
                  <a:lnTo>
                    <a:pt x="560" y="254"/>
                  </a:lnTo>
                  <a:lnTo>
                    <a:pt x="562" y="282"/>
                  </a:lnTo>
                  <a:lnTo>
                    <a:pt x="562" y="282"/>
                  </a:lnTo>
                  <a:close/>
                </a:path>
              </a:pathLst>
            </a:custGeom>
            <a:solidFill>
              <a:srgbClr val="fac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452"/>
            <p:cNvSpPr/>
            <p:nvPr/>
          </p:nvSpPr>
          <p:spPr>
            <a:xfrm>
              <a:off x="8404200" y="13058640"/>
              <a:ext cx="860400" cy="85716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542" h="540">
                  <a:moveTo>
                    <a:pt x="542" y="270"/>
                  </a:moveTo>
                  <a:lnTo>
                    <a:pt x="542" y="270"/>
                  </a:lnTo>
                  <a:lnTo>
                    <a:pt x="540" y="298"/>
                  </a:lnTo>
                  <a:lnTo>
                    <a:pt x="536" y="324"/>
                  </a:lnTo>
                  <a:lnTo>
                    <a:pt x="530" y="350"/>
                  </a:lnTo>
                  <a:lnTo>
                    <a:pt x="520" y="376"/>
                  </a:lnTo>
                  <a:lnTo>
                    <a:pt x="508" y="400"/>
                  </a:lnTo>
                  <a:lnTo>
                    <a:pt x="496" y="422"/>
                  </a:lnTo>
                  <a:lnTo>
                    <a:pt x="480" y="442"/>
                  </a:lnTo>
                  <a:lnTo>
                    <a:pt x="462" y="462"/>
                  </a:lnTo>
                  <a:lnTo>
                    <a:pt x="442" y="478"/>
                  </a:lnTo>
                  <a:lnTo>
                    <a:pt x="422" y="494"/>
                  </a:lnTo>
                  <a:lnTo>
                    <a:pt x="400" y="508"/>
                  </a:lnTo>
                  <a:lnTo>
                    <a:pt x="376" y="520"/>
                  </a:lnTo>
                  <a:lnTo>
                    <a:pt x="352" y="528"/>
                  </a:lnTo>
                  <a:lnTo>
                    <a:pt x="326" y="536"/>
                  </a:lnTo>
                  <a:lnTo>
                    <a:pt x="298" y="540"/>
                  </a:lnTo>
                  <a:lnTo>
                    <a:pt x="270" y="540"/>
                  </a:lnTo>
                  <a:lnTo>
                    <a:pt x="270" y="540"/>
                  </a:lnTo>
                  <a:lnTo>
                    <a:pt x="244" y="540"/>
                  </a:lnTo>
                  <a:lnTo>
                    <a:pt x="216" y="536"/>
                  </a:lnTo>
                  <a:lnTo>
                    <a:pt x="190" y="528"/>
                  </a:lnTo>
                  <a:lnTo>
                    <a:pt x="166" y="520"/>
                  </a:lnTo>
                  <a:lnTo>
                    <a:pt x="142" y="508"/>
                  </a:lnTo>
                  <a:lnTo>
                    <a:pt x="120" y="494"/>
                  </a:lnTo>
                  <a:lnTo>
                    <a:pt x="98" y="478"/>
                  </a:lnTo>
                  <a:lnTo>
                    <a:pt x="80" y="462"/>
                  </a:lnTo>
                  <a:lnTo>
                    <a:pt x="62" y="442"/>
                  </a:lnTo>
                  <a:lnTo>
                    <a:pt x="46" y="422"/>
                  </a:lnTo>
                  <a:lnTo>
                    <a:pt x="34" y="400"/>
                  </a:lnTo>
                  <a:lnTo>
                    <a:pt x="22" y="376"/>
                  </a:lnTo>
                  <a:lnTo>
                    <a:pt x="12" y="350"/>
                  </a:lnTo>
                  <a:lnTo>
                    <a:pt x="6" y="324"/>
                  </a:lnTo>
                  <a:lnTo>
                    <a:pt x="2" y="298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2" y="242"/>
                  </a:lnTo>
                  <a:lnTo>
                    <a:pt x="6" y="216"/>
                  </a:lnTo>
                  <a:lnTo>
                    <a:pt x="12" y="190"/>
                  </a:lnTo>
                  <a:lnTo>
                    <a:pt x="22" y="164"/>
                  </a:lnTo>
                  <a:lnTo>
                    <a:pt x="34" y="142"/>
                  </a:lnTo>
                  <a:lnTo>
                    <a:pt x="46" y="118"/>
                  </a:lnTo>
                  <a:lnTo>
                    <a:pt x="62" y="98"/>
                  </a:lnTo>
                  <a:lnTo>
                    <a:pt x="80" y="78"/>
                  </a:lnTo>
                  <a:lnTo>
                    <a:pt x="98" y="62"/>
                  </a:lnTo>
                  <a:lnTo>
                    <a:pt x="120" y="46"/>
                  </a:lnTo>
                  <a:lnTo>
                    <a:pt x="142" y="32"/>
                  </a:lnTo>
                  <a:lnTo>
                    <a:pt x="166" y="20"/>
                  </a:lnTo>
                  <a:lnTo>
                    <a:pt x="190" y="12"/>
                  </a:lnTo>
                  <a:lnTo>
                    <a:pt x="216" y="6"/>
                  </a:lnTo>
                  <a:lnTo>
                    <a:pt x="244" y="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98" y="2"/>
                  </a:lnTo>
                  <a:lnTo>
                    <a:pt x="326" y="6"/>
                  </a:lnTo>
                  <a:lnTo>
                    <a:pt x="352" y="12"/>
                  </a:lnTo>
                  <a:lnTo>
                    <a:pt x="376" y="20"/>
                  </a:lnTo>
                  <a:lnTo>
                    <a:pt x="400" y="32"/>
                  </a:lnTo>
                  <a:lnTo>
                    <a:pt x="422" y="46"/>
                  </a:lnTo>
                  <a:lnTo>
                    <a:pt x="442" y="62"/>
                  </a:lnTo>
                  <a:lnTo>
                    <a:pt x="462" y="78"/>
                  </a:lnTo>
                  <a:lnTo>
                    <a:pt x="480" y="98"/>
                  </a:lnTo>
                  <a:lnTo>
                    <a:pt x="496" y="118"/>
                  </a:lnTo>
                  <a:lnTo>
                    <a:pt x="508" y="142"/>
                  </a:lnTo>
                  <a:lnTo>
                    <a:pt x="520" y="164"/>
                  </a:lnTo>
                  <a:lnTo>
                    <a:pt x="530" y="190"/>
                  </a:lnTo>
                  <a:lnTo>
                    <a:pt x="536" y="216"/>
                  </a:lnTo>
                  <a:lnTo>
                    <a:pt x="540" y="242"/>
                  </a:lnTo>
                  <a:lnTo>
                    <a:pt x="542" y="270"/>
                  </a:lnTo>
                  <a:lnTo>
                    <a:pt x="542" y="270"/>
                  </a:lnTo>
                  <a:close/>
                </a:path>
              </a:pathLst>
            </a:custGeom>
            <a:solidFill>
              <a:srgbClr val="fbc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453"/>
            <p:cNvSpPr/>
            <p:nvPr/>
          </p:nvSpPr>
          <p:spPr>
            <a:xfrm>
              <a:off x="8410320" y="13068360"/>
              <a:ext cx="825480" cy="8254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520" h="520">
                  <a:moveTo>
                    <a:pt x="520" y="260"/>
                  </a:moveTo>
                  <a:lnTo>
                    <a:pt x="520" y="260"/>
                  </a:lnTo>
                  <a:lnTo>
                    <a:pt x="518" y="288"/>
                  </a:lnTo>
                  <a:lnTo>
                    <a:pt x="516" y="312"/>
                  </a:lnTo>
                  <a:lnTo>
                    <a:pt x="508" y="338"/>
                  </a:lnTo>
                  <a:lnTo>
                    <a:pt x="500" y="362"/>
                  </a:lnTo>
                  <a:lnTo>
                    <a:pt x="488" y="384"/>
                  </a:lnTo>
                  <a:lnTo>
                    <a:pt x="476" y="406"/>
                  </a:lnTo>
                  <a:lnTo>
                    <a:pt x="460" y="426"/>
                  </a:lnTo>
                  <a:lnTo>
                    <a:pt x="444" y="444"/>
                  </a:lnTo>
                  <a:lnTo>
                    <a:pt x="426" y="462"/>
                  </a:lnTo>
                  <a:lnTo>
                    <a:pt x="406" y="476"/>
                  </a:lnTo>
                  <a:lnTo>
                    <a:pt x="384" y="490"/>
                  </a:lnTo>
                  <a:lnTo>
                    <a:pt x="362" y="500"/>
                  </a:lnTo>
                  <a:lnTo>
                    <a:pt x="338" y="508"/>
                  </a:lnTo>
                  <a:lnTo>
                    <a:pt x="312" y="516"/>
                  </a:lnTo>
                  <a:lnTo>
                    <a:pt x="288" y="520"/>
                  </a:lnTo>
                  <a:lnTo>
                    <a:pt x="260" y="520"/>
                  </a:lnTo>
                  <a:lnTo>
                    <a:pt x="260" y="520"/>
                  </a:lnTo>
                  <a:lnTo>
                    <a:pt x="234" y="520"/>
                  </a:lnTo>
                  <a:lnTo>
                    <a:pt x="208" y="516"/>
                  </a:lnTo>
                  <a:lnTo>
                    <a:pt x="184" y="508"/>
                  </a:lnTo>
                  <a:lnTo>
                    <a:pt x="160" y="500"/>
                  </a:lnTo>
                  <a:lnTo>
                    <a:pt x="136" y="490"/>
                  </a:lnTo>
                  <a:lnTo>
                    <a:pt x="116" y="476"/>
                  </a:lnTo>
                  <a:lnTo>
                    <a:pt x="96" y="462"/>
                  </a:lnTo>
                  <a:lnTo>
                    <a:pt x="76" y="444"/>
                  </a:lnTo>
                  <a:lnTo>
                    <a:pt x="60" y="426"/>
                  </a:lnTo>
                  <a:lnTo>
                    <a:pt x="44" y="406"/>
                  </a:lnTo>
                  <a:lnTo>
                    <a:pt x="32" y="384"/>
                  </a:lnTo>
                  <a:lnTo>
                    <a:pt x="20" y="362"/>
                  </a:lnTo>
                  <a:lnTo>
                    <a:pt x="12" y="338"/>
                  </a:lnTo>
                  <a:lnTo>
                    <a:pt x="6" y="312"/>
                  </a:lnTo>
                  <a:lnTo>
                    <a:pt x="2" y="288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2" y="234"/>
                  </a:lnTo>
                  <a:lnTo>
                    <a:pt x="6" y="208"/>
                  </a:lnTo>
                  <a:lnTo>
                    <a:pt x="12" y="184"/>
                  </a:lnTo>
                  <a:lnTo>
                    <a:pt x="20" y="160"/>
                  </a:lnTo>
                  <a:lnTo>
                    <a:pt x="32" y="136"/>
                  </a:lnTo>
                  <a:lnTo>
                    <a:pt x="44" y="116"/>
                  </a:lnTo>
                  <a:lnTo>
                    <a:pt x="60" y="96"/>
                  </a:lnTo>
                  <a:lnTo>
                    <a:pt x="76" y="76"/>
                  </a:lnTo>
                  <a:lnTo>
                    <a:pt x="96" y="60"/>
                  </a:lnTo>
                  <a:lnTo>
                    <a:pt x="116" y="46"/>
                  </a:lnTo>
                  <a:lnTo>
                    <a:pt x="136" y="32"/>
                  </a:lnTo>
                  <a:lnTo>
                    <a:pt x="160" y="22"/>
                  </a:lnTo>
                  <a:lnTo>
                    <a:pt x="184" y="12"/>
                  </a:lnTo>
                  <a:lnTo>
                    <a:pt x="208" y="6"/>
                  </a:lnTo>
                  <a:lnTo>
                    <a:pt x="234" y="2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8" y="2"/>
                  </a:lnTo>
                  <a:lnTo>
                    <a:pt x="312" y="6"/>
                  </a:lnTo>
                  <a:lnTo>
                    <a:pt x="338" y="12"/>
                  </a:lnTo>
                  <a:lnTo>
                    <a:pt x="362" y="22"/>
                  </a:lnTo>
                  <a:lnTo>
                    <a:pt x="384" y="32"/>
                  </a:lnTo>
                  <a:lnTo>
                    <a:pt x="406" y="46"/>
                  </a:lnTo>
                  <a:lnTo>
                    <a:pt x="426" y="60"/>
                  </a:lnTo>
                  <a:lnTo>
                    <a:pt x="444" y="76"/>
                  </a:lnTo>
                  <a:lnTo>
                    <a:pt x="460" y="96"/>
                  </a:lnTo>
                  <a:lnTo>
                    <a:pt x="476" y="116"/>
                  </a:lnTo>
                  <a:lnTo>
                    <a:pt x="488" y="136"/>
                  </a:lnTo>
                  <a:lnTo>
                    <a:pt x="500" y="160"/>
                  </a:lnTo>
                  <a:lnTo>
                    <a:pt x="508" y="184"/>
                  </a:lnTo>
                  <a:lnTo>
                    <a:pt x="516" y="208"/>
                  </a:lnTo>
                  <a:lnTo>
                    <a:pt x="518" y="234"/>
                  </a:lnTo>
                  <a:lnTo>
                    <a:pt x="520" y="260"/>
                  </a:lnTo>
                  <a:lnTo>
                    <a:pt x="520" y="260"/>
                  </a:lnTo>
                  <a:close/>
                </a:path>
              </a:pathLst>
            </a:custGeom>
            <a:solidFill>
              <a:srgbClr val="fbd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454"/>
            <p:cNvSpPr/>
            <p:nvPr/>
          </p:nvSpPr>
          <p:spPr>
            <a:xfrm>
              <a:off x="8416800" y="13080960"/>
              <a:ext cx="793800" cy="79056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500" h="498">
                  <a:moveTo>
                    <a:pt x="500" y="248"/>
                  </a:moveTo>
                  <a:lnTo>
                    <a:pt x="500" y="248"/>
                  </a:lnTo>
                  <a:lnTo>
                    <a:pt x="498" y="274"/>
                  </a:lnTo>
                  <a:lnTo>
                    <a:pt x="494" y="300"/>
                  </a:lnTo>
                  <a:lnTo>
                    <a:pt x="488" y="324"/>
                  </a:lnTo>
                  <a:lnTo>
                    <a:pt x="480" y="346"/>
                  </a:lnTo>
                  <a:lnTo>
                    <a:pt x="470" y="368"/>
                  </a:lnTo>
                  <a:lnTo>
                    <a:pt x="456" y="388"/>
                  </a:lnTo>
                  <a:lnTo>
                    <a:pt x="442" y="408"/>
                  </a:lnTo>
                  <a:lnTo>
                    <a:pt x="426" y="426"/>
                  </a:lnTo>
                  <a:lnTo>
                    <a:pt x="408" y="442"/>
                  </a:lnTo>
                  <a:lnTo>
                    <a:pt x="390" y="456"/>
                  </a:lnTo>
                  <a:lnTo>
                    <a:pt x="368" y="468"/>
                  </a:lnTo>
                  <a:lnTo>
                    <a:pt x="348" y="478"/>
                  </a:lnTo>
                  <a:lnTo>
                    <a:pt x="324" y="488"/>
                  </a:lnTo>
                  <a:lnTo>
                    <a:pt x="300" y="494"/>
                  </a:lnTo>
                  <a:lnTo>
                    <a:pt x="276" y="496"/>
                  </a:lnTo>
                  <a:lnTo>
                    <a:pt x="250" y="498"/>
                  </a:lnTo>
                  <a:lnTo>
                    <a:pt x="250" y="498"/>
                  </a:lnTo>
                  <a:lnTo>
                    <a:pt x="224" y="496"/>
                  </a:lnTo>
                  <a:lnTo>
                    <a:pt x="200" y="494"/>
                  </a:lnTo>
                  <a:lnTo>
                    <a:pt x="176" y="488"/>
                  </a:lnTo>
                  <a:lnTo>
                    <a:pt x="154" y="478"/>
                  </a:lnTo>
                  <a:lnTo>
                    <a:pt x="132" y="468"/>
                  </a:lnTo>
                  <a:lnTo>
                    <a:pt x="110" y="456"/>
                  </a:lnTo>
                  <a:lnTo>
                    <a:pt x="92" y="442"/>
                  </a:lnTo>
                  <a:lnTo>
                    <a:pt x="74" y="426"/>
                  </a:lnTo>
                  <a:lnTo>
                    <a:pt x="58" y="408"/>
                  </a:lnTo>
                  <a:lnTo>
                    <a:pt x="44" y="388"/>
                  </a:lnTo>
                  <a:lnTo>
                    <a:pt x="30" y="368"/>
                  </a:lnTo>
                  <a:lnTo>
                    <a:pt x="20" y="346"/>
                  </a:lnTo>
                  <a:lnTo>
                    <a:pt x="12" y="324"/>
                  </a:lnTo>
                  <a:lnTo>
                    <a:pt x="6" y="300"/>
                  </a:lnTo>
                  <a:lnTo>
                    <a:pt x="2" y="274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2" y="224"/>
                  </a:lnTo>
                  <a:lnTo>
                    <a:pt x="6" y="198"/>
                  </a:lnTo>
                  <a:lnTo>
                    <a:pt x="12" y="174"/>
                  </a:lnTo>
                  <a:lnTo>
                    <a:pt x="20" y="152"/>
                  </a:lnTo>
                  <a:lnTo>
                    <a:pt x="30" y="130"/>
                  </a:lnTo>
                  <a:lnTo>
                    <a:pt x="44" y="110"/>
                  </a:lnTo>
                  <a:lnTo>
                    <a:pt x="58" y="90"/>
                  </a:lnTo>
                  <a:lnTo>
                    <a:pt x="74" y="72"/>
                  </a:lnTo>
                  <a:lnTo>
                    <a:pt x="92" y="56"/>
                  </a:lnTo>
                  <a:lnTo>
                    <a:pt x="110" y="42"/>
                  </a:lnTo>
                  <a:lnTo>
                    <a:pt x="132" y="30"/>
                  </a:lnTo>
                  <a:lnTo>
                    <a:pt x="154" y="20"/>
                  </a:lnTo>
                  <a:lnTo>
                    <a:pt x="176" y="10"/>
                  </a:lnTo>
                  <a:lnTo>
                    <a:pt x="200" y="4"/>
                  </a:lnTo>
                  <a:lnTo>
                    <a:pt x="224" y="2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76" y="2"/>
                  </a:lnTo>
                  <a:lnTo>
                    <a:pt x="300" y="4"/>
                  </a:lnTo>
                  <a:lnTo>
                    <a:pt x="324" y="10"/>
                  </a:lnTo>
                  <a:lnTo>
                    <a:pt x="348" y="20"/>
                  </a:lnTo>
                  <a:lnTo>
                    <a:pt x="368" y="30"/>
                  </a:lnTo>
                  <a:lnTo>
                    <a:pt x="390" y="42"/>
                  </a:lnTo>
                  <a:lnTo>
                    <a:pt x="408" y="56"/>
                  </a:lnTo>
                  <a:lnTo>
                    <a:pt x="426" y="72"/>
                  </a:lnTo>
                  <a:lnTo>
                    <a:pt x="442" y="90"/>
                  </a:lnTo>
                  <a:lnTo>
                    <a:pt x="456" y="110"/>
                  </a:lnTo>
                  <a:lnTo>
                    <a:pt x="470" y="130"/>
                  </a:lnTo>
                  <a:lnTo>
                    <a:pt x="480" y="152"/>
                  </a:lnTo>
                  <a:lnTo>
                    <a:pt x="488" y="174"/>
                  </a:lnTo>
                  <a:lnTo>
                    <a:pt x="494" y="198"/>
                  </a:lnTo>
                  <a:lnTo>
                    <a:pt x="498" y="224"/>
                  </a:lnTo>
                  <a:lnTo>
                    <a:pt x="500" y="248"/>
                  </a:lnTo>
                  <a:lnTo>
                    <a:pt x="500" y="248"/>
                  </a:lnTo>
                  <a:close/>
                </a:path>
              </a:pathLst>
            </a:custGeom>
            <a:solidFill>
              <a:srgbClr val="fbd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455"/>
            <p:cNvSpPr/>
            <p:nvPr/>
          </p:nvSpPr>
          <p:spPr>
            <a:xfrm>
              <a:off x="8426160" y="13090680"/>
              <a:ext cx="755640" cy="7585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476" h="478">
                  <a:moveTo>
                    <a:pt x="476" y="240"/>
                  </a:moveTo>
                  <a:lnTo>
                    <a:pt x="476" y="240"/>
                  </a:lnTo>
                  <a:lnTo>
                    <a:pt x="474" y="264"/>
                  </a:lnTo>
                  <a:lnTo>
                    <a:pt x="472" y="288"/>
                  </a:lnTo>
                  <a:lnTo>
                    <a:pt x="466" y="310"/>
                  </a:lnTo>
                  <a:lnTo>
                    <a:pt x="458" y="332"/>
                  </a:lnTo>
                  <a:lnTo>
                    <a:pt x="448" y="354"/>
                  </a:lnTo>
                  <a:lnTo>
                    <a:pt x="436" y="372"/>
                  </a:lnTo>
                  <a:lnTo>
                    <a:pt x="422" y="392"/>
                  </a:lnTo>
                  <a:lnTo>
                    <a:pt x="406" y="408"/>
                  </a:lnTo>
                  <a:lnTo>
                    <a:pt x="390" y="424"/>
                  </a:lnTo>
                  <a:lnTo>
                    <a:pt x="370" y="438"/>
                  </a:lnTo>
                  <a:lnTo>
                    <a:pt x="352" y="450"/>
                  </a:lnTo>
                  <a:lnTo>
                    <a:pt x="330" y="460"/>
                  </a:lnTo>
                  <a:lnTo>
                    <a:pt x="308" y="468"/>
                  </a:lnTo>
                  <a:lnTo>
                    <a:pt x="286" y="474"/>
                  </a:lnTo>
                  <a:lnTo>
                    <a:pt x="262" y="476"/>
                  </a:lnTo>
                  <a:lnTo>
                    <a:pt x="238" y="478"/>
                  </a:lnTo>
                  <a:lnTo>
                    <a:pt x="238" y="478"/>
                  </a:lnTo>
                  <a:lnTo>
                    <a:pt x="214" y="476"/>
                  </a:lnTo>
                  <a:lnTo>
                    <a:pt x="190" y="474"/>
                  </a:lnTo>
                  <a:lnTo>
                    <a:pt x="166" y="468"/>
                  </a:lnTo>
                  <a:lnTo>
                    <a:pt x="144" y="460"/>
                  </a:lnTo>
                  <a:lnTo>
                    <a:pt x="124" y="450"/>
                  </a:lnTo>
                  <a:lnTo>
                    <a:pt x="104" y="438"/>
                  </a:lnTo>
                  <a:lnTo>
                    <a:pt x="86" y="424"/>
                  </a:lnTo>
                  <a:lnTo>
                    <a:pt x="68" y="408"/>
                  </a:lnTo>
                  <a:lnTo>
                    <a:pt x="54" y="392"/>
                  </a:lnTo>
                  <a:lnTo>
                    <a:pt x="40" y="372"/>
                  </a:lnTo>
                  <a:lnTo>
                    <a:pt x="28" y="354"/>
                  </a:lnTo>
                  <a:lnTo>
                    <a:pt x="18" y="332"/>
                  </a:lnTo>
                  <a:lnTo>
                    <a:pt x="10" y="310"/>
                  </a:lnTo>
                  <a:lnTo>
                    <a:pt x="4" y="288"/>
                  </a:lnTo>
                  <a:lnTo>
                    <a:pt x="0" y="264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14"/>
                  </a:lnTo>
                  <a:lnTo>
                    <a:pt x="4" y="192"/>
                  </a:lnTo>
                  <a:lnTo>
                    <a:pt x="10" y="168"/>
                  </a:lnTo>
                  <a:lnTo>
                    <a:pt x="18" y="146"/>
                  </a:lnTo>
                  <a:lnTo>
                    <a:pt x="28" y="126"/>
                  </a:lnTo>
                  <a:lnTo>
                    <a:pt x="40" y="106"/>
                  </a:lnTo>
                  <a:lnTo>
                    <a:pt x="54" y="88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104" y="42"/>
                  </a:lnTo>
                  <a:lnTo>
                    <a:pt x="124" y="30"/>
                  </a:lnTo>
                  <a:lnTo>
                    <a:pt x="144" y="20"/>
                  </a:lnTo>
                  <a:lnTo>
                    <a:pt x="166" y="12"/>
                  </a:lnTo>
                  <a:lnTo>
                    <a:pt x="190" y="6"/>
                  </a:lnTo>
                  <a:lnTo>
                    <a:pt x="214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62" y="2"/>
                  </a:lnTo>
                  <a:lnTo>
                    <a:pt x="286" y="6"/>
                  </a:lnTo>
                  <a:lnTo>
                    <a:pt x="308" y="12"/>
                  </a:lnTo>
                  <a:lnTo>
                    <a:pt x="330" y="20"/>
                  </a:lnTo>
                  <a:lnTo>
                    <a:pt x="352" y="30"/>
                  </a:lnTo>
                  <a:lnTo>
                    <a:pt x="370" y="42"/>
                  </a:lnTo>
                  <a:lnTo>
                    <a:pt x="390" y="56"/>
                  </a:lnTo>
                  <a:lnTo>
                    <a:pt x="406" y="70"/>
                  </a:lnTo>
                  <a:lnTo>
                    <a:pt x="422" y="88"/>
                  </a:lnTo>
                  <a:lnTo>
                    <a:pt x="436" y="106"/>
                  </a:lnTo>
                  <a:lnTo>
                    <a:pt x="448" y="126"/>
                  </a:lnTo>
                  <a:lnTo>
                    <a:pt x="458" y="146"/>
                  </a:lnTo>
                  <a:lnTo>
                    <a:pt x="466" y="168"/>
                  </a:lnTo>
                  <a:lnTo>
                    <a:pt x="472" y="192"/>
                  </a:lnTo>
                  <a:lnTo>
                    <a:pt x="474" y="214"/>
                  </a:lnTo>
                  <a:lnTo>
                    <a:pt x="476" y="240"/>
                  </a:lnTo>
                  <a:lnTo>
                    <a:pt x="476" y="240"/>
                  </a:lnTo>
                  <a:close/>
                </a:path>
              </a:pathLst>
            </a:custGeom>
            <a:solidFill>
              <a:srgbClr val="fbd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456"/>
            <p:cNvSpPr/>
            <p:nvPr/>
          </p:nvSpPr>
          <p:spPr>
            <a:xfrm>
              <a:off x="8432640" y="13103280"/>
              <a:ext cx="723960" cy="7236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456" h="456">
                  <a:moveTo>
                    <a:pt x="456" y="228"/>
                  </a:moveTo>
                  <a:lnTo>
                    <a:pt x="456" y="228"/>
                  </a:lnTo>
                  <a:lnTo>
                    <a:pt x="454" y="252"/>
                  </a:lnTo>
                  <a:lnTo>
                    <a:pt x="450" y="274"/>
                  </a:lnTo>
                  <a:lnTo>
                    <a:pt x="444" y="296"/>
                  </a:lnTo>
                  <a:lnTo>
                    <a:pt x="438" y="316"/>
                  </a:lnTo>
                  <a:lnTo>
                    <a:pt x="428" y="336"/>
                  </a:lnTo>
                  <a:lnTo>
                    <a:pt x="416" y="356"/>
                  </a:lnTo>
                  <a:lnTo>
                    <a:pt x="404" y="372"/>
                  </a:lnTo>
                  <a:lnTo>
                    <a:pt x="388" y="388"/>
                  </a:lnTo>
                  <a:lnTo>
                    <a:pt x="372" y="404"/>
                  </a:lnTo>
                  <a:lnTo>
                    <a:pt x="354" y="416"/>
                  </a:lnTo>
                  <a:lnTo>
                    <a:pt x="336" y="428"/>
                  </a:lnTo>
                  <a:lnTo>
                    <a:pt x="316" y="438"/>
                  </a:lnTo>
                  <a:lnTo>
                    <a:pt x="294" y="446"/>
                  </a:lnTo>
                  <a:lnTo>
                    <a:pt x="274" y="452"/>
                  </a:lnTo>
                  <a:lnTo>
                    <a:pt x="250" y="454"/>
                  </a:lnTo>
                  <a:lnTo>
                    <a:pt x="228" y="456"/>
                  </a:lnTo>
                  <a:lnTo>
                    <a:pt x="228" y="456"/>
                  </a:lnTo>
                  <a:lnTo>
                    <a:pt x="204" y="454"/>
                  </a:lnTo>
                  <a:lnTo>
                    <a:pt x="182" y="452"/>
                  </a:lnTo>
                  <a:lnTo>
                    <a:pt x="160" y="446"/>
                  </a:lnTo>
                  <a:lnTo>
                    <a:pt x="138" y="438"/>
                  </a:lnTo>
                  <a:lnTo>
                    <a:pt x="118" y="428"/>
                  </a:lnTo>
                  <a:lnTo>
                    <a:pt x="100" y="416"/>
                  </a:lnTo>
                  <a:lnTo>
                    <a:pt x="82" y="404"/>
                  </a:lnTo>
                  <a:lnTo>
                    <a:pt x="66" y="388"/>
                  </a:lnTo>
                  <a:lnTo>
                    <a:pt x="52" y="372"/>
                  </a:lnTo>
                  <a:lnTo>
                    <a:pt x="38" y="356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6"/>
                  </a:lnTo>
                  <a:lnTo>
                    <a:pt x="4" y="274"/>
                  </a:lnTo>
                  <a:lnTo>
                    <a:pt x="0" y="252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04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40"/>
                  </a:lnTo>
                  <a:lnTo>
                    <a:pt x="26" y="120"/>
                  </a:lnTo>
                  <a:lnTo>
                    <a:pt x="38" y="100"/>
                  </a:lnTo>
                  <a:lnTo>
                    <a:pt x="52" y="82"/>
                  </a:lnTo>
                  <a:lnTo>
                    <a:pt x="66" y="66"/>
                  </a:lnTo>
                  <a:lnTo>
                    <a:pt x="82" y="52"/>
                  </a:lnTo>
                  <a:lnTo>
                    <a:pt x="100" y="38"/>
                  </a:lnTo>
                  <a:lnTo>
                    <a:pt x="118" y="28"/>
                  </a:lnTo>
                  <a:lnTo>
                    <a:pt x="138" y="18"/>
                  </a:lnTo>
                  <a:lnTo>
                    <a:pt x="160" y="10"/>
                  </a:lnTo>
                  <a:lnTo>
                    <a:pt x="182" y="4"/>
                  </a:lnTo>
                  <a:lnTo>
                    <a:pt x="204" y="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4" y="4"/>
                  </a:lnTo>
                  <a:lnTo>
                    <a:pt x="294" y="10"/>
                  </a:lnTo>
                  <a:lnTo>
                    <a:pt x="316" y="18"/>
                  </a:lnTo>
                  <a:lnTo>
                    <a:pt x="336" y="28"/>
                  </a:lnTo>
                  <a:lnTo>
                    <a:pt x="354" y="38"/>
                  </a:lnTo>
                  <a:lnTo>
                    <a:pt x="372" y="52"/>
                  </a:lnTo>
                  <a:lnTo>
                    <a:pt x="388" y="66"/>
                  </a:lnTo>
                  <a:lnTo>
                    <a:pt x="404" y="82"/>
                  </a:lnTo>
                  <a:lnTo>
                    <a:pt x="416" y="100"/>
                  </a:lnTo>
                  <a:lnTo>
                    <a:pt x="428" y="120"/>
                  </a:lnTo>
                  <a:lnTo>
                    <a:pt x="438" y="140"/>
                  </a:lnTo>
                  <a:lnTo>
                    <a:pt x="444" y="160"/>
                  </a:lnTo>
                  <a:lnTo>
                    <a:pt x="450" y="182"/>
                  </a:lnTo>
                  <a:lnTo>
                    <a:pt x="454" y="204"/>
                  </a:lnTo>
                  <a:lnTo>
                    <a:pt x="456" y="228"/>
                  </a:lnTo>
                  <a:lnTo>
                    <a:pt x="456" y="228"/>
                  </a:lnTo>
                  <a:close/>
                </a:path>
              </a:pathLst>
            </a:custGeom>
            <a:solidFill>
              <a:srgbClr val="fbd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457"/>
            <p:cNvSpPr/>
            <p:nvPr/>
          </p:nvSpPr>
          <p:spPr>
            <a:xfrm>
              <a:off x="8439120" y="13112640"/>
              <a:ext cx="689040" cy="69192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434" h="436">
                  <a:moveTo>
                    <a:pt x="434" y="218"/>
                  </a:moveTo>
                  <a:lnTo>
                    <a:pt x="434" y="218"/>
                  </a:lnTo>
                  <a:lnTo>
                    <a:pt x="432" y="240"/>
                  </a:lnTo>
                  <a:lnTo>
                    <a:pt x="430" y="262"/>
                  </a:lnTo>
                  <a:lnTo>
                    <a:pt x="424" y="282"/>
                  </a:lnTo>
                  <a:lnTo>
                    <a:pt x="416" y="302"/>
                  </a:lnTo>
                  <a:lnTo>
                    <a:pt x="408" y="322"/>
                  </a:lnTo>
                  <a:lnTo>
                    <a:pt x="396" y="340"/>
                  </a:lnTo>
                  <a:lnTo>
                    <a:pt x="384" y="356"/>
                  </a:lnTo>
                  <a:lnTo>
                    <a:pt x="370" y="372"/>
                  </a:lnTo>
                  <a:lnTo>
                    <a:pt x="354" y="386"/>
                  </a:lnTo>
                  <a:lnTo>
                    <a:pt x="338" y="398"/>
                  </a:lnTo>
                  <a:lnTo>
                    <a:pt x="320" y="410"/>
                  </a:lnTo>
                  <a:lnTo>
                    <a:pt x="302" y="418"/>
                  </a:lnTo>
                  <a:lnTo>
                    <a:pt x="282" y="426"/>
                  </a:lnTo>
                  <a:lnTo>
                    <a:pt x="260" y="432"/>
                  </a:lnTo>
                  <a:lnTo>
                    <a:pt x="238" y="434"/>
                  </a:lnTo>
                  <a:lnTo>
                    <a:pt x="216" y="436"/>
                  </a:lnTo>
                  <a:lnTo>
                    <a:pt x="216" y="436"/>
                  </a:lnTo>
                  <a:lnTo>
                    <a:pt x="194" y="434"/>
                  </a:lnTo>
                  <a:lnTo>
                    <a:pt x="172" y="432"/>
                  </a:lnTo>
                  <a:lnTo>
                    <a:pt x="152" y="426"/>
                  </a:lnTo>
                  <a:lnTo>
                    <a:pt x="132" y="418"/>
                  </a:lnTo>
                  <a:lnTo>
                    <a:pt x="114" y="410"/>
                  </a:lnTo>
                  <a:lnTo>
                    <a:pt x="96" y="398"/>
                  </a:lnTo>
                  <a:lnTo>
                    <a:pt x="78" y="386"/>
                  </a:lnTo>
                  <a:lnTo>
                    <a:pt x="64" y="372"/>
                  </a:lnTo>
                  <a:lnTo>
                    <a:pt x="50" y="356"/>
                  </a:lnTo>
                  <a:lnTo>
                    <a:pt x="36" y="340"/>
                  </a:lnTo>
                  <a:lnTo>
                    <a:pt x="26" y="322"/>
                  </a:lnTo>
                  <a:lnTo>
                    <a:pt x="16" y="302"/>
                  </a:lnTo>
                  <a:lnTo>
                    <a:pt x="10" y="282"/>
                  </a:lnTo>
                  <a:lnTo>
                    <a:pt x="4" y="262"/>
                  </a:lnTo>
                  <a:lnTo>
                    <a:pt x="0" y="240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196"/>
                  </a:lnTo>
                  <a:lnTo>
                    <a:pt x="4" y="174"/>
                  </a:lnTo>
                  <a:lnTo>
                    <a:pt x="10" y="154"/>
                  </a:lnTo>
                  <a:lnTo>
                    <a:pt x="16" y="134"/>
                  </a:lnTo>
                  <a:lnTo>
                    <a:pt x="26" y="114"/>
                  </a:lnTo>
                  <a:lnTo>
                    <a:pt x="36" y="96"/>
                  </a:lnTo>
                  <a:lnTo>
                    <a:pt x="50" y="80"/>
                  </a:lnTo>
                  <a:lnTo>
                    <a:pt x="64" y="64"/>
                  </a:lnTo>
                  <a:lnTo>
                    <a:pt x="78" y="50"/>
                  </a:lnTo>
                  <a:lnTo>
                    <a:pt x="96" y="38"/>
                  </a:lnTo>
                  <a:lnTo>
                    <a:pt x="114" y="28"/>
                  </a:lnTo>
                  <a:lnTo>
                    <a:pt x="132" y="18"/>
                  </a:lnTo>
                  <a:lnTo>
                    <a:pt x="152" y="10"/>
                  </a:lnTo>
                  <a:lnTo>
                    <a:pt x="172" y="6"/>
                  </a:lnTo>
                  <a:lnTo>
                    <a:pt x="194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38" y="2"/>
                  </a:lnTo>
                  <a:lnTo>
                    <a:pt x="260" y="6"/>
                  </a:lnTo>
                  <a:lnTo>
                    <a:pt x="282" y="10"/>
                  </a:lnTo>
                  <a:lnTo>
                    <a:pt x="302" y="18"/>
                  </a:lnTo>
                  <a:lnTo>
                    <a:pt x="320" y="28"/>
                  </a:lnTo>
                  <a:lnTo>
                    <a:pt x="338" y="38"/>
                  </a:lnTo>
                  <a:lnTo>
                    <a:pt x="354" y="50"/>
                  </a:lnTo>
                  <a:lnTo>
                    <a:pt x="370" y="64"/>
                  </a:lnTo>
                  <a:lnTo>
                    <a:pt x="384" y="80"/>
                  </a:lnTo>
                  <a:lnTo>
                    <a:pt x="396" y="96"/>
                  </a:lnTo>
                  <a:lnTo>
                    <a:pt x="408" y="114"/>
                  </a:lnTo>
                  <a:lnTo>
                    <a:pt x="416" y="134"/>
                  </a:lnTo>
                  <a:lnTo>
                    <a:pt x="424" y="154"/>
                  </a:lnTo>
                  <a:lnTo>
                    <a:pt x="430" y="174"/>
                  </a:lnTo>
                  <a:lnTo>
                    <a:pt x="432" y="196"/>
                  </a:lnTo>
                  <a:lnTo>
                    <a:pt x="434" y="218"/>
                  </a:lnTo>
                  <a:lnTo>
                    <a:pt x="434" y="218"/>
                  </a:lnTo>
                  <a:close/>
                </a:path>
              </a:pathLst>
            </a:custGeom>
            <a:solidFill>
              <a:srgbClr val="fcd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458"/>
            <p:cNvSpPr/>
            <p:nvPr/>
          </p:nvSpPr>
          <p:spPr>
            <a:xfrm>
              <a:off x="8445240" y="13125600"/>
              <a:ext cx="657000" cy="6570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14" h="414">
                  <a:moveTo>
                    <a:pt x="414" y="206"/>
                  </a:moveTo>
                  <a:lnTo>
                    <a:pt x="414" y="206"/>
                  </a:lnTo>
                  <a:lnTo>
                    <a:pt x="412" y="228"/>
                  </a:lnTo>
                  <a:lnTo>
                    <a:pt x="408" y="248"/>
                  </a:lnTo>
                  <a:lnTo>
                    <a:pt x="404" y="268"/>
                  </a:lnTo>
                  <a:lnTo>
                    <a:pt x="396" y="288"/>
                  </a:lnTo>
                  <a:lnTo>
                    <a:pt x="388" y="306"/>
                  </a:lnTo>
                  <a:lnTo>
                    <a:pt x="378" y="322"/>
                  </a:lnTo>
                  <a:lnTo>
                    <a:pt x="366" y="338"/>
                  </a:lnTo>
                  <a:lnTo>
                    <a:pt x="352" y="352"/>
                  </a:lnTo>
                  <a:lnTo>
                    <a:pt x="338" y="366"/>
                  </a:lnTo>
                  <a:lnTo>
                    <a:pt x="322" y="378"/>
                  </a:lnTo>
                  <a:lnTo>
                    <a:pt x="304" y="388"/>
                  </a:lnTo>
                  <a:lnTo>
                    <a:pt x="286" y="398"/>
                  </a:lnTo>
                  <a:lnTo>
                    <a:pt x="268" y="404"/>
                  </a:lnTo>
                  <a:lnTo>
                    <a:pt x="248" y="410"/>
                  </a:lnTo>
                  <a:lnTo>
                    <a:pt x="228" y="412"/>
                  </a:lnTo>
                  <a:lnTo>
                    <a:pt x="206" y="414"/>
                  </a:lnTo>
                  <a:lnTo>
                    <a:pt x="206" y="414"/>
                  </a:lnTo>
                  <a:lnTo>
                    <a:pt x="186" y="412"/>
                  </a:lnTo>
                  <a:lnTo>
                    <a:pt x="164" y="410"/>
                  </a:lnTo>
                  <a:lnTo>
                    <a:pt x="144" y="404"/>
                  </a:lnTo>
                  <a:lnTo>
                    <a:pt x="126" y="398"/>
                  </a:lnTo>
                  <a:lnTo>
                    <a:pt x="108" y="388"/>
                  </a:lnTo>
                  <a:lnTo>
                    <a:pt x="90" y="378"/>
                  </a:lnTo>
                  <a:lnTo>
                    <a:pt x="74" y="366"/>
                  </a:lnTo>
                  <a:lnTo>
                    <a:pt x="60" y="352"/>
                  </a:lnTo>
                  <a:lnTo>
                    <a:pt x="46" y="338"/>
                  </a:lnTo>
                  <a:lnTo>
                    <a:pt x="34" y="322"/>
                  </a:lnTo>
                  <a:lnTo>
                    <a:pt x="24" y="306"/>
                  </a:lnTo>
                  <a:lnTo>
                    <a:pt x="16" y="288"/>
                  </a:lnTo>
                  <a:lnTo>
                    <a:pt x="8" y="268"/>
                  </a:lnTo>
                  <a:lnTo>
                    <a:pt x="4" y="248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186"/>
                  </a:lnTo>
                  <a:lnTo>
                    <a:pt x="4" y="164"/>
                  </a:lnTo>
                  <a:lnTo>
                    <a:pt x="8" y="146"/>
                  </a:lnTo>
                  <a:lnTo>
                    <a:pt x="16" y="126"/>
                  </a:lnTo>
                  <a:lnTo>
                    <a:pt x="24" y="108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4" y="48"/>
                  </a:lnTo>
                  <a:lnTo>
                    <a:pt x="90" y="36"/>
                  </a:lnTo>
                  <a:lnTo>
                    <a:pt x="108" y="24"/>
                  </a:lnTo>
                  <a:lnTo>
                    <a:pt x="126" y="16"/>
                  </a:lnTo>
                  <a:lnTo>
                    <a:pt x="144" y="10"/>
                  </a:lnTo>
                  <a:lnTo>
                    <a:pt x="164" y="4"/>
                  </a:lnTo>
                  <a:lnTo>
                    <a:pt x="186" y="2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28" y="2"/>
                  </a:lnTo>
                  <a:lnTo>
                    <a:pt x="248" y="4"/>
                  </a:lnTo>
                  <a:lnTo>
                    <a:pt x="268" y="10"/>
                  </a:lnTo>
                  <a:lnTo>
                    <a:pt x="286" y="16"/>
                  </a:lnTo>
                  <a:lnTo>
                    <a:pt x="304" y="24"/>
                  </a:lnTo>
                  <a:lnTo>
                    <a:pt x="322" y="36"/>
                  </a:lnTo>
                  <a:lnTo>
                    <a:pt x="338" y="48"/>
                  </a:lnTo>
                  <a:lnTo>
                    <a:pt x="352" y="60"/>
                  </a:lnTo>
                  <a:lnTo>
                    <a:pt x="366" y="76"/>
                  </a:lnTo>
                  <a:lnTo>
                    <a:pt x="378" y="92"/>
                  </a:lnTo>
                  <a:lnTo>
                    <a:pt x="388" y="108"/>
                  </a:lnTo>
                  <a:lnTo>
                    <a:pt x="396" y="126"/>
                  </a:lnTo>
                  <a:lnTo>
                    <a:pt x="404" y="146"/>
                  </a:lnTo>
                  <a:lnTo>
                    <a:pt x="408" y="164"/>
                  </a:lnTo>
                  <a:lnTo>
                    <a:pt x="412" y="186"/>
                  </a:lnTo>
                  <a:lnTo>
                    <a:pt x="414" y="206"/>
                  </a:lnTo>
                  <a:lnTo>
                    <a:pt x="414" y="206"/>
                  </a:lnTo>
                  <a:close/>
                </a:path>
              </a:pathLst>
            </a:custGeom>
            <a:solidFill>
              <a:srgbClr val="fcd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459"/>
            <p:cNvSpPr/>
            <p:nvPr/>
          </p:nvSpPr>
          <p:spPr>
            <a:xfrm>
              <a:off x="8451720" y="13138200"/>
              <a:ext cx="622080" cy="6220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92" h="392">
                  <a:moveTo>
                    <a:pt x="392" y="196"/>
                  </a:moveTo>
                  <a:lnTo>
                    <a:pt x="392" y="196"/>
                  </a:lnTo>
                  <a:lnTo>
                    <a:pt x="390" y="216"/>
                  </a:lnTo>
                  <a:lnTo>
                    <a:pt x="388" y="234"/>
                  </a:lnTo>
                  <a:lnTo>
                    <a:pt x="384" y="254"/>
                  </a:lnTo>
                  <a:lnTo>
                    <a:pt x="376" y="272"/>
                  </a:lnTo>
                  <a:lnTo>
                    <a:pt x="368" y="288"/>
                  </a:lnTo>
                  <a:lnTo>
                    <a:pt x="358" y="304"/>
                  </a:lnTo>
                  <a:lnTo>
                    <a:pt x="348" y="320"/>
                  </a:lnTo>
                  <a:lnTo>
                    <a:pt x="334" y="334"/>
                  </a:lnTo>
                  <a:lnTo>
                    <a:pt x="320" y="346"/>
                  </a:lnTo>
                  <a:lnTo>
                    <a:pt x="306" y="358"/>
                  </a:lnTo>
                  <a:lnTo>
                    <a:pt x="290" y="368"/>
                  </a:lnTo>
                  <a:lnTo>
                    <a:pt x="272" y="376"/>
                  </a:lnTo>
                  <a:lnTo>
                    <a:pt x="254" y="382"/>
                  </a:lnTo>
                  <a:lnTo>
                    <a:pt x="236" y="388"/>
                  </a:lnTo>
                  <a:lnTo>
                    <a:pt x="216" y="390"/>
                  </a:lnTo>
                  <a:lnTo>
                    <a:pt x="196" y="392"/>
                  </a:lnTo>
                  <a:lnTo>
                    <a:pt x="196" y="392"/>
                  </a:lnTo>
                  <a:lnTo>
                    <a:pt x="176" y="390"/>
                  </a:lnTo>
                  <a:lnTo>
                    <a:pt x="156" y="388"/>
                  </a:lnTo>
                  <a:lnTo>
                    <a:pt x="138" y="382"/>
                  </a:lnTo>
                  <a:lnTo>
                    <a:pt x="120" y="376"/>
                  </a:lnTo>
                  <a:lnTo>
                    <a:pt x="102" y="368"/>
                  </a:lnTo>
                  <a:lnTo>
                    <a:pt x="86" y="358"/>
                  </a:lnTo>
                  <a:lnTo>
                    <a:pt x="72" y="346"/>
                  </a:lnTo>
                  <a:lnTo>
                    <a:pt x="58" y="334"/>
                  </a:lnTo>
                  <a:lnTo>
                    <a:pt x="44" y="320"/>
                  </a:lnTo>
                  <a:lnTo>
                    <a:pt x="34" y="304"/>
                  </a:lnTo>
                  <a:lnTo>
                    <a:pt x="24" y="288"/>
                  </a:lnTo>
                  <a:lnTo>
                    <a:pt x="16" y="272"/>
                  </a:lnTo>
                  <a:lnTo>
                    <a:pt x="8" y="254"/>
                  </a:lnTo>
                  <a:lnTo>
                    <a:pt x="4" y="234"/>
                  </a:lnTo>
                  <a:lnTo>
                    <a:pt x="0" y="21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74"/>
                  </a:lnTo>
                  <a:lnTo>
                    <a:pt x="4" y="156"/>
                  </a:lnTo>
                  <a:lnTo>
                    <a:pt x="8" y="136"/>
                  </a:lnTo>
                  <a:lnTo>
                    <a:pt x="16" y="118"/>
                  </a:lnTo>
                  <a:lnTo>
                    <a:pt x="24" y="102"/>
                  </a:lnTo>
                  <a:lnTo>
                    <a:pt x="34" y="86"/>
                  </a:lnTo>
                  <a:lnTo>
                    <a:pt x="44" y="70"/>
                  </a:lnTo>
                  <a:lnTo>
                    <a:pt x="58" y="56"/>
                  </a:lnTo>
                  <a:lnTo>
                    <a:pt x="72" y="44"/>
                  </a:lnTo>
                  <a:lnTo>
                    <a:pt x="86" y="32"/>
                  </a:lnTo>
                  <a:lnTo>
                    <a:pt x="102" y="22"/>
                  </a:lnTo>
                  <a:lnTo>
                    <a:pt x="120" y="14"/>
                  </a:lnTo>
                  <a:lnTo>
                    <a:pt x="138" y="8"/>
                  </a:lnTo>
                  <a:lnTo>
                    <a:pt x="156" y="2"/>
                  </a:lnTo>
                  <a:lnTo>
                    <a:pt x="176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16" y="0"/>
                  </a:lnTo>
                  <a:lnTo>
                    <a:pt x="236" y="2"/>
                  </a:lnTo>
                  <a:lnTo>
                    <a:pt x="254" y="8"/>
                  </a:lnTo>
                  <a:lnTo>
                    <a:pt x="272" y="14"/>
                  </a:lnTo>
                  <a:lnTo>
                    <a:pt x="290" y="22"/>
                  </a:lnTo>
                  <a:lnTo>
                    <a:pt x="306" y="32"/>
                  </a:lnTo>
                  <a:lnTo>
                    <a:pt x="320" y="44"/>
                  </a:lnTo>
                  <a:lnTo>
                    <a:pt x="334" y="56"/>
                  </a:lnTo>
                  <a:lnTo>
                    <a:pt x="348" y="70"/>
                  </a:lnTo>
                  <a:lnTo>
                    <a:pt x="358" y="86"/>
                  </a:lnTo>
                  <a:lnTo>
                    <a:pt x="368" y="102"/>
                  </a:lnTo>
                  <a:lnTo>
                    <a:pt x="376" y="118"/>
                  </a:lnTo>
                  <a:lnTo>
                    <a:pt x="384" y="136"/>
                  </a:lnTo>
                  <a:lnTo>
                    <a:pt x="388" y="156"/>
                  </a:lnTo>
                  <a:lnTo>
                    <a:pt x="390" y="174"/>
                  </a:lnTo>
                  <a:lnTo>
                    <a:pt x="392" y="196"/>
                  </a:lnTo>
                  <a:lnTo>
                    <a:pt x="392" y="196"/>
                  </a:lnTo>
                  <a:close/>
                </a:path>
              </a:pathLst>
            </a:custGeom>
            <a:solidFill>
              <a:srgbClr val="fcd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60"/>
            <p:cNvSpPr/>
            <p:nvPr/>
          </p:nvSpPr>
          <p:spPr>
            <a:xfrm>
              <a:off x="8458200" y="13147560"/>
              <a:ext cx="587160" cy="58716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370" h="370">
                  <a:moveTo>
                    <a:pt x="370" y="186"/>
                  </a:moveTo>
                  <a:lnTo>
                    <a:pt x="370" y="186"/>
                  </a:lnTo>
                  <a:lnTo>
                    <a:pt x="370" y="204"/>
                  </a:lnTo>
                  <a:lnTo>
                    <a:pt x="368" y="222"/>
                  </a:lnTo>
                  <a:lnTo>
                    <a:pt x="362" y="240"/>
                  </a:lnTo>
                  <a:lnTo>
                    <a:pt x="356" y="258"/>
                  </a:lnTo>
                  <a:lnTo>
                    <a:pt x="348" y="274"/>
                  </a:lnTo>
                  <a:lnTo>
                    <a:pt x="340" y="290"/>
                  </a:lnTo>
                  <a:lnTo>
                    <a:pt x="328" y="304"/>
                  </a:lnTo>
                  <a:lnTo>
                    <a:pt x="316" y="316"/>
                  </a:lnTo>
                  <a:lnTo>
                    <a:pt x="304" y="328"/>
                  </a:lnTo>
                  <a:lnTo>
                    <a:pt x="290" y="340"/>
                  </a:lnTo>
                  <a:lnTo>
                    <a:pt x="274" y="348"/>
                  </a:lnTo>
                  <a:lnTo>
                    <a:pt x="258" y="356"/>
                  </a:lnTo>
                  <a:lnTo>
                    <a:pt x="240" y="362"/>
                  </a:lnTo>
                  <a:lnTo>
                    <a:pt x="222" y="368"/>
                  </a:lnTo>
                  <a:lnTo>
                    <a:pt x="204" y="370"/>
                  </a:lnTo>
                  <a:lnTo>
                    <a:pt x="186" y="370"/>
                  </a:lnTo>
                  <a:lnTo>
                    <a:pt x="186" y="370"/>
                  </a:lnTo>
                  <a:lnTo>
                    <a:pt x="166" y="370"/>
                  </a:lnTo>
                  <a:lnTo>
                    <a:pt x="148" y="368"/>
                  </a:lnTo>
                  <a:lnTo>
                    <a:pt x="130" y="362"/>
                  </a:lnTo>
                  <a:lnTo>
                    <a:pt x="114" y="356"/>
                  </a:lnTo>
                  <a:lnTo>
                    <a:pt x="98" y="348"/>
                  </a:lnTo>
                  <a:lnTo>
                    <a:pt x="82" y="340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4"/>
                  </a:lnTo>
                  <a:lnTo>
                    <a:pt x="32" y="290"/>
                  </a:lnTo>
                  <a:lnTo>
                    <a:pt x="22" y="274"/>
                  </a:lnTo>
                  <a:lnTo>
                    <a:pt x="14" y="258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2" y="204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4"/>
                  </a:lnTo>
                  <a:lnTo>
                    <a:pt x="22" y="98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8" y="22"/>
                  </a:lnTo>
                  <a:lnTo>
                    <a:pt x="114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2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204" y="2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8" y="14"/>
                  </a:lnTo>
                  <a:lnTo>
                    <a:pt x="274" y="22"/>
                  </a:lnTo>
                  <a:lnTo>
                    <a:pt x="290" y="32"/>
                  </a:lnTo>
                  <a:lnTo>
                    <a:pt x="304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40" y="82"/>
                  </a:lnTo>
                  <a:lnTo>
                    <a:pt x="348" y="98"/>
                  </a:lnTo>
                  <a:lnTo>
                    <a:pt x="356" y="114"/>
                  </a:lnTo>
                  <a:lnTo>
                    <a:pt x="362" y="130"/>
                  </a:lnTo>
                  <a:lnTo>
                    <a:pt x="368" y="148"/>
                  </a:lnTo>
                  <a:lnTo>
                    <a:pt x="370" y="166"/>
                  </a:lnTo>
                  <a:lnTo>
                    <a:pt x="370" y="186"/>
                  </a:lnTo>
                  <a:lnTo>
                    <a:pt x="370" y="186"/>
                  </a:lnTo>
                  <a:close/>
                </a:path>
              </a:pathLst>
            </a:custGeom>
            <a:solidFill>
              <a:srgbClr val="fc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461"/>
            <p:cNvSpPr/>
            <p:nvPr/>
          </p:nvSpPr>
          <p:spPr>
            <a:xfrm>
              <a:off x="8464320" y="13160520"/>
              <a:ext cx="555480" cy="55224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350" y="174"/>
                  </a:moveTo>
                  <a:lnTo>
                    <a:pt x="350" y="174"/>
                  </a:lnTo>
                  <a:lnTo>
                    <a:pt x="348" y="192"/>
                  </a:lnTo>
                  <a:lnTo>
                    <a:pt x="346" y="210"/>
                  </a:lnTo>
                  <a:lnTo>
                    <a:pt x="342" y="226"/>
                  </a:lnTo>
                  <a:lnTo>
                    <a:pt x="336" y="242"/>
                  </a:lnTo>
                  <a:lnTo>
                    <a:pt x="328" y="258"/>
                  </a:lnTo>
                  <a:lnTo>
                    <a:pt x="320" y="272"/>
                  </a:lnTo>
                  <a:lnTo>
                    <a:pt x="310" y="286"/>
                  </a:lnTo>
                  <a:lnTo>
                    <a:pt x="298" y="298"/>
                  </a:lnTo>
                  <a:lnTo>
                    <a:pt x="286" y="308"/>
                  </a:lnTo>
                  <a:lnTo>
                    <a:pt x="272" y="318"/>
                  </a:lnTo>
                  <a:lnTo>
                    <a:pt x="258" y="328"/>
                  </a:lnTo>
                  <a:lnTo>
                    <a:pt x="244" y="334"/>
                  </a:lnTo>
                  <a:lnTo>
                    <a:pt x="228" y="340"/>
                  </a:lnTo>
                  <a:lnTo>
                    <a:pt x="210" y="346"/>
                  </a:lnTo>
                  <a:lnTo>
                    <a:pt x="192" y="348"/>
                  </a:lnTo>
                  <a:lnTo>
                    <a:pt x="176" y="348"/>
                  </a:lnTo>
                  <a:lnTo>
                    <a:pt x="176" y="348"/>
                  </a:lnTo>
                  <a:lnTo>
                    <a:pt x="158" y="348"/>
                  </a:lnTo>
                  <a:lnTo>
                    <a:pt x="140" y="346"/>
                  </a:lnTo>
                  <a:lnTo>
                    <a:pt x="124" y="340"/>
                  </a:lnTo>
                  <a:lnTo>
                    <a:pt x="108" y="334"/>
                  </a:lnTo>
                  <a:lnTo>
                    <a:pt x="92" y="328"/>
                  </a:lnTo>
                  <a:lnTo>
                    <a:pt x="78" y="318"/>
                  </a:lnTo>
                  <a:lnTo>
                    <a:pt x="64" y="308"/>
                  </a:lnTo>
                  <a:lnTo>
                    <a:pt x="52" y="298"/>
                  </a:lnTo>
                  <a:lnTo>
                    <a:pt x="40" y="286"/>
                  </a:lnTo>
                  <a:lnTo>
                    <a:pt x="30" y="272"/>
                  </a:lnTo>
                  <a:lnTo>
                    <a:pt x="22" y="258"/>
                  </a:lnTo>
                  <a:lnTo>
                    <a:pt x="14" y="242"/>
                  </a:lnTo>
                  <a:lnTo>
                    <a:pt x="8" y="226"/>
                  </a:lnTo>
                  <a:lnTo>
                    <a:pt x="4" y="210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8"/>
                  </a:lnTo>
                  <a:lnTo>
                    <a:pt x="8" y="122"/>
                  </a:lnTo>
                  <a:lnTo>
                    <a:pt x="14" y="106"/>
                  </a:lnTo>
                  <a:lnTo>
                    <a:pt x="22" y="90"/>
                  </a:lnTo>
                  <a:lnTo>
                    <a:pt x="30" y="76"/>
                  </a:lnTo>
                  <a:lnTo>
                    <a:pt x="40" y="62"/>
                  </a:lnTo>
                  <a:lnTo>
                    <a:pt x="52" y="50"/>
                  </a:lnTo>
                  <a:lnTo>
                    <a:pt x="64" y="40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4" y="6"/>
                  </a:lnTo>
                  <a:lnTo>
                    <a:pt x="140" y="2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92" y="0"/>
                  </a:lnTo>
                  <a:lnTo>
                    <a:pt x="210" y="2"/>
                  </a:lnTo>
                  <a:lnTo>
                    <a:pt x="228" y="6"/>
                  </a:lnTo>
                  <a:lnTo>
                    <a:pt x="244" y="12"/>
                  </a:lnTo>
                  <a:lnTo>
                    <a:pt x="258" y="20"/>
                  </a:lnTo>
                  <a:lnTo>
                    <a:pt x="272" y="28"/>
                  </a:lnTo>
                  <a:lnTo>
                    <a:pt x="286" y="40"/>
                  </a:lnTo>
                  <a:lnTo>
                    <a:pt x="298" y="50"/>
                  </a:lnTo>
                  <a:lnTo>
                    <a:pt x="310" y="62"/>
                  </a:lnTo>
                  <a:lnTo>
                    <a:pt x="320" y="76"/>
                  </a:lnTo>
                  <a:lnTo>
                    <a:pt x="328" y="90"/>
                  </a:lnTo>
                  <a:lnTo>
                    <a:pt x="336" y="106"/>
                  </a:lnTo>
                  <a:lnTo>
                    <a:pt x="342" y="122"/>
                  </a:lnTo>
                  <a:lnTo>
                    <a:pt x="346" y="138"/>
                  </a:lnTo>
                  <a:lnTo>
                    <a:pt x="348" y="156"/>
                  </a:lnTo>
                  <a:lnTo>
                    <a:pt x="350" y="174"/>
                  </a:lnTo>
                  <a:lnTo>
                    <a:pt x="350" y="174"/>
                  </a:lnTo>
                  <a:close/>
                </a:path>
              </a:pathLst>
            </a:custGeom>
            <a:solidFill>
              <a:srgbClr val="fce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462"/>
            <p:cNvSpPr/>
            <p:nvPr/>
          </p:nvSpPr>
          <p:spPr>
            <a:xfrm>
              <a:off x="8470800" y="13169880"/>
              <a:ext cx="52056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328" y="164"/>
                  </a:moveTo>
                  <a:lnTo>
                    <a:pt x="328" y="164"/>
                  </a:lnTo>
                  <a:lnTo>
                    <a:pt x="328" y="182"/>
                  </a:lnTo>
                  <a:lnTo>
                    <a:pt x="326" y="198"/>
                  </a:lnTo>
                  <a:lnTo>
                    <a:pt x="322" y="214"/>
                  </a:lnTo>
                  <a:lnTo>
                    <a:pt x="316" y="228"/>
                  </a:lnTo>
                  <a:lnTo>
                    <a:pt x="308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6"/>
                  </a:lnTo>
                  <a:lnTo>
                    <a:pt x="214" y="322"/>
                  </a:lnTo>
                  <a:lnTo>
                    <a:pt x="198" y="326"/>
                  </a:lnTo>
                  <a:lnTo>
                    <a:pt x="182" y="328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8"/>
                  </a:lnTo>
                  <a:lnTo>
                    <a:pt x="132" y="326"/>
                  </a:lnTo>
                  <a:lnTo>
                    <a:pt x="116" y="322"/>
                  </a:lnTo>
                  <a:lnTo>
                    <a:pt x="100" y="316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4"/>
                  </a:lnTo>
                  <a:lnTo>
                    <a:pt x="4" y="198"/>
                  </a:lnTo>
                  <a:lnTo>
                    <a:pt x="2" y="18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48"/>
                  </a:lnTo>
                  <a:lnTo>
                    <a:pt x="4" y="132"/>
                  </a:lnTo>
                  <a:lnTo>
                    <a:pt x="8" y="116"/>
                  </a:lnTo>
                  <a:lnTo>
                    <a:pt x="14" y="100"/>
                  </a:lnTo>
                  <a:lnTo>
                    <a:pt x="20" y="86"/>
                  </a:lnTo>
                  <a:lnTo>
                    <a:pt x="28" y="72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2" y="28"/>
                  </a:lnTo>
                  <a:lnTo>
                    <a:pt x="86" y="20"/>
                  </a:lnTo>
                  <a:lnTo>
                    <a:pt x="100" y="14"/>
                  </a:lnTo>
                  <a:lnTo>
                    <a:pt x="116" y="8"/>
                  </a:lnTo>
                  <a:lnTo>
                    <a:pt x="132" y="4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28" y="14"/>
                  </a:lnTo>
                  <a:lnTo>
                    <a:pt x="242" y="20"/>
                  </a:lnTo>
                  <a:lnTo>
                    <a:pt x="256" y="28"/>
                  </a:lnTo>
                  <a:lnTo>
                    <a:pt x="270" y="38"/>
                  </a:lnTo>
                  <a:lnTo>
                    <a:pt x="280" y="48"/>
                  </a:lnTo>
                  <a:lnTo>
                    <a:pt x="292" y="60"/>
                  </a:lnTo>
                  <a:lnTo>
                    <a:pt x="300" y="72"/>
                  </a:lnTo>
                  <a:lnTo>
                    <a:pt x="308" y="86"/>
                  </a:lnTo>
                  <a:lnTo>
                    <a:pt x="316" y="100"/>
                  </a:lnTo>
                  <a:lnTo>
                    <a:pt x="322" y="116"/>
                  </a:lnTo>
                  <a:lnTo>
                    <a:pt x="326" y="132"/>
                  </a:lnTo>
                  <a:lnTo>
                    <a:pt x="328" y="148"/>
                  </a:lnTo>
                  <a:lnTo>
                    <a:pt x="328" y="164"/>
                  </a:lnTo>
                  <a:lnTo>
                    <a:pt x="328" y="164"/>
                  </a:lnTo>
                  <a:close/>
                </a:path>
              </a:pathLst>
            </a:custGeom>
            <a:solidFill>
              <a:srgbClr val="fd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63"/>
            <p:cNvSpPr/>
            <p:nvPr/>
          </p:nvSpPr>
          <p:spPr>
            <a:xfrm>
              <a:off x="8477280" y="13182480"/>
              <a:ext cx="488880" cy="4856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08" h="306">
                  <a:moveTo>
                    <a:pt x="308" y="152"/>
                  </a:moveTo>
                  <a:lnTo>
                    <a:pt x="308" y="152"/>
                  </a:lnTo>
                  <a:lnTo>
                    <a:pt x="306" y="168"/>
                  </a:lnTo>
                  <a:lnTo>
                    <a:pt x="304" y="184"/>
                  </a:lnTo>
                  <a:lnTo>
                    <a:pt x="300" y="198"/>
                  </a:lnTo>
                  <a:lnTo>
                    <a:pt x="296" y="212"/>
                  </a:lnTo>
                  <a:lnTo>
                    <a:pt x="290" y="226"/>
                  </a:lnTo>
                  <a:lnTo>
                    <a:pt x="282" y="238"/>
                  </a:lnTo>
                  <a:lnTo>
                    <a:pt x="272" y="250"/>
                  </a:lnTo>
                  <a:lnTo>
                    <a:pt x="262" y="262"/>
                  </a:lnTo>
                  <a:lnTo>
                    <a:pt x="252" y="272"/>
                  </a:lnTo>
                  <a:lnTo>
                    <a:pt x="240" y="280"/>
                  </a:lnTo>
                  <a:lnTo>
                    <a:pt x="228" y="288"/>
                  </a:lnTo>
                  <a:lnTo>
                    <a:pt x="214" y="294"/>
                  </a:lnTo>
                  <a:lnTo>
                    <a:pt x="200" y="300"/>
                  </a:lnTo>
                  <a:lnTo>
                    <a:pt x="186" y="304"/>
                  </a:lnTo>
                  <a:lnTo>
                    <a:pt x="170" y="306"/>
                  </a:lnTo>
                  <a:lnTo>
                    <a:pt x="154" y="306"/>
                  </a:lnTo>
                  <a:lnTo>
                    <a:pt x="154" y="306"/>
                  </a:lnTo>
                  <a:lnTo>
                    <a:pt x="138" y="306"/>
                  </a:lnTo>
                  <a:lnTo>
                    <a:pt x="124" y="304"/>
                  </a:lnTo>
                  <a:lnTo>
                    <a:pt x="108" y="300"/>
                  </a:lnTo>
                  <a:lnTo>
                    <a:pt x="94" y="294"/>
                  </a:lnTo>
                  <a:lnTo>
                    <a:pt x="82" y="288"/>
                  </a:lnTo>
                  <a:lnTo>
                    <a:pt x="68" y="280"/>
                  </a:lnTo>
                  <a:lnTo>
                    <a:pt x="56" y="272"/>
                  </a:lnTo>
                  <a:lnTo>
                    <a:pt x="46" y="262"/>
                  </a:lnTo>
                  <a:lnTo>
                    <a:pt x="36" y="250"/>
                  </a:lnTo>
                  <a:lnTo>
                    <a:pt x="28" y="238"/>
                  </a:lnTo>
                  <a:lnTo>
                    <a:pt x="20" y="226"/>
                  </a:lnTo>
                  <a:lnTo>
                    <a:pt x="12" y="212"/>
                  </a:lnTo>
                  <a:lnTo>
                    <a:pt x="8" y="198"/>
                  </a:lnTo>
                  <a:lnTo>
                    <a:pt x="4" y="184"/>
                  </a:lnTo>
                  <a:lnTo>
                    <a:pt x="2" y="168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136"/>
                  </a:lnTo>
                  <a:lnTo>
                    <a:pt x="4" y="122"/>
                  </a:lnTo>
                  <a:lnTo>
                    <a:pt x="8" y="108"/>
                  </a:lnTo>
                  <a:lnTo>
                    <a:pt x="12" y="92"/>
                  </a:lnTo>
                  <a:lnTo>
                    <a:pt x="20" y="80"/>
                  </a:lnTo>
                  <a:lnTo>
                    <a:pt x="28" y="66"/>
                  </a:lnTo>
                  <a:lnTo>
                    <a:pt x="36" y="56"/>
                  </a:lnTo>
                  <a:lnTo>
                    <a:pt x="46" y="44"/>
                  </a:lnTo>
                  <a:lnTo>
                    <a:pt x="56" y="34"/>
                  </a:lnTo>
                  <a:lnTo>
                    <a:pt x="68" y="26"/>
                  </a:lnTo>
                  <a:lnTo>
                    <a:pt x="82" y="18"/>
                  </a:lnTo>
                  <a:lnTo>
                    <a:pt x="94" y="12"/>
                  </a:lnTo>
                  <a:lnTo>
                    <a:pt x="108" y="6"/>
                  </a:lnTo>
                  <a:lnTo>
                    <a:pt x="124" y="2"/>
                  </a:lnTo>
                  <a:lnTo>
                    <a:pt x="138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70" y="0"/>
                  </a:lnTo>
                  <a:lnTo>
                    <a:pt x="186" y="2"/>
                  </a:lnTo>
                  <a:lnTo>
                    <a:pt x="200" y="6"/>
                  </a:lnTo>
                  <a:lnTo>
                    <a:pt x="214" y="12"/>
                  </a:lnTo>
                  <a:lnTo>
                    <a:pt x="228" y="18"/>
                  </a:lnTo>
                  <a:lnTo>
                    <a:pt x="240" y="26"/>
                  </a:lnTo>
                  <a:lnTo>
                    <a:pt x="252" y="34"/>
                  </a:lnTo>
                  <a:lnTo>
                    <a:pt x="262" y="44"/>
                  </a:lnTo>
                  <a:lnTo>
                    <a:pt x="272" y="56"/>
                  </a:lnTo>
                  <a:lnTo>
                    <a:pt x="282" y="66"/>
                  </a:lnTo>
                  <a:lnTo>
                    <a:pt x="290" y="80"/>
                  </a:lnTo>
                  <a:lnTo>
                    <a:pt x="296" y="92"/>
                  </a:lnTo>
                  <a:lnTo>
                    <a:pt x="300" y="108"/>
                  </a:lnTo>
                  <a:lnTo>
                    <a:pt x="304" y="122"/>
                  </a:lnTo>
                  <a:lnTo>
                    <a:pt x="306" y="136"/>
                  </a:lnTo>
                  <a:lnTo>
                    <a:pt x="308" y="152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fde4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64"/>
            <p:cNvSpPr/>
            <p:nvPr/>
          </p:nvSpPr>
          <p:spPr>
            <a:xfrm>
              <a:off x="8486640" y="13192200"/>
              <a:ext cx="450720" cy="45396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4" h="286">
                  <a:moveTo>
                    <a:pt x="284" y="144"/>
                  </a:moveTo>
                  <a:lnTo>
                    <a:pt x="284" y="144"/>
                  </a:lnTo>
                  <a:lnTo>
                    <a:pt x="284" y="158"/>
                  </a:lnTo>
                  <a:lnTo>
                    <a:pt x="282" y="172"/>
                  </a:lnTo>
                  <a:lnTo>
                    <a:pt x="278" y="186"/>
                  </a:lnTo>
                  <a:lnTo>
                    <a:pt x="274" y="198"/>
                  </a:lnTo>
                  <a:lnTo>
                    <a:pt x="268" y="212"/>
                  </a:lnTo>
                  <a:lnTo>
                    <a:pt x="260" y="222"/>
                  </a:lnTo>
                  <a:lnTo>
                    <a:pt x="252" y="234"/>
                  </a:lnTo>
                  <a:lnTo>
                    <a:pt x="242" y="244"/>
                  </a:lnTo>
                  <a:lnTo>
                    <a:pt x="232" y="254"/>
                  </a:lnTo>
                  <a:lnTo>
                    <a:pt x="222" y="262"/>
                  </a:lnTo>
                  <a:lnTo>
                    <a:pt x="210" y="268"/>
                  </a:lnTo>
                  <a:lnTo>
                    <a:pt x="198" y="274"/>
                  </a:lnTo>
                  <a:lnTo>
                    <a:pt x="184" y="280"/>
                  </a:lnTo>
                  <a:lnTo>
                    <a:pt x="170" y="284"/>
                  </a:lnTo>
                  <a:lnTo>
                    <a:pt x="156" y="286"/>
                  </a:lnTo>
                  <a:lnTo>
                    <a:pt x="142" y="286"/>
                  </a:lnTo>
                  <a:lnTo>
                    <a:pt x="142" y="286"/>
                  </a:lnTo>
                  <a:lnTo>
                    <a:pt x="128" y="286"/>
                  </a:lnTo>
                  <a:lnTo>
                    <a:pt x="114" y="284"/>
                  </a:lnTo>
                  <a:lnTo>
                    <a:pt x="100" y="280"/>
                  </a:lnTo>
                  <a:lnTo>
                    <a:pt x="86" y="274"/>
                  </a:lnTo>
                  <a:lnTo>
                    <a:pt x="74" y="268"/>
                  </a:lnTo>
                  <a:lnTo>
                    <a:pt x="62" y="262"/>
                  </a:lnTo>
                  <a:lnTo>
                    <a:pt x="50" y="254"/>
                  </a:lnTo>
                  <a:lnTo>
                    <a:pt x="40" y="244"/>
                  </a:lnTo>
                  <a:lnTo>
                    <a:pt x="32" y="234"/>
                  </a:lnTo>
                  <a:lnTo>
                    <a:pt x="24" y="222"/>
                  </a:lnTo>
                  <a:lnTo>
                    <a:pt x="16" y="212"/>
                  </a:lnTo>
                  <a:lnTo>
                    <a:pt x="10" y="198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6" y="76"/>
                  </a:lnTo>
                  <a:lnTo>
                    <a:pt x="24" y="64"/>
                  </a:lnTo>
                  <a:lnTo>
                    <a:pt x="32" y="52"/>
                  </a:lnTo>
                  <a:lnTo>
                    <a:pt x="40" y="42"/>
                  </a:lnTo>
                  <a:lnTo>
                    <a:pt x="50" y="32"/>
                  </a:lnTo>
                  <a:lnTo>
                    <a:pt x="62" y="24"/>
                  </a:lnTo>
                  <a:lnTo>
                    <a:pt x="74" y="18"/>
                  </a:lnTo>
                  <a:lnTo>
                    <a:pt x="86" y="12"/>
                  </a:lnTo>
                  <a:lnTo>
                    <a:pt x="100" y="6"/>
                  </a:lnTo>
                  <a:lnTo>
                    <a:pt x="114" y="4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4"/>
                  </a:lnTo>
                  <a:lnTo>
                    <a:pt x="184" y="6"/>
                  </a:lnTo>
                  <a:lnTo>
                    <a:pt x="198" y="12"/>
                  </a:lnTo>
                  <a:lnTo>
                    <a:pt x="210" y="18"/>
                  </a:lnTo>
                  <a:lnTo>
                    <a:pt x="222" y="24"/>
                  </a:lnTo>
                  <a:lnTo>
                    <a:pt x="232" y="32"/>
                  </a:lnTo>
                  <a:lnTo>
                    <a:pt x="242" y="42"/>
                  </a:lnTo>
                  <a:lnTo>
                    <a:pt x="252" y="52"/>
                  </a:lnTo>
                  <a:lnTo>
                    <a:pt x="260" y="64"/>
                  </a:lnTo>
                  <a:lnTo>
                    <a:pt x="268" y="76"/>
                  </a:lnTo>
                  <a:lnTo>
                    <a:pt x="274" y="88"/>
                  </a:lnTo>
                  <a:lnTo>
                    <a:pt x="278" y="100"/>
                  </a:lnTo>
                  <a:lnTo>
                    <a:pt x="282" y="114"/>
                  </a:lnTo>
                  <a:lnTo>
                    <a:pt x="284" y="128"/>
                  </a:lnTo>
                  <a:lnTo>
                    <a:pt x="284" y="144"/>
                  </a:lnTo>
                  <a:lnTo>
                    <a:pt x="284" y="144"/>
                  </a:lnTo>
                  <a:close/>
                </a:path>
              </a:pathLst>
            </a:custGeom>
            <a:solidFill>
              <a:srgbClr val="fde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465"/>
            <p:cNvSpPr/>
            <p:nvPr/>
          </p:nvSpPr>
          <p:spPr>
            <a:xfrm>
              <a:off x="8493120" y="13204800"/>
              <a:ext cx="419040" cy="4190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64" h="264">
                  <a:moveTo>
                    <a:pt x="264" y="132"/>
                  </a:moveTo>
                  <a:lnTo>
                    <a:pt x="264" y="132"/>
                  </a:lnTo>
                  <a:lnTo>
                    <a:pt x="262" y="146"/>
                  </a:lnTo>
                  <a:lnTo>
                    <a:pt x="260" y="158"/>
                  </a:lnTo>
                  <a:lnTo>
                    <a:pt x="258" y="170"/>
                  </a:lnTo>
                  <a:lnTo>
                    <a:pt x="254" y="182"/>
                  </a:lnTo>
                  <a:lnTo>
                    <a:pt x="248" y="194"/>
                  </a:lnTo>
                  <a:lnTo>
                    <a:pt x="242" y="206"/>
                  </a:lnTo>
                  <a:lnTo>
                    <a:pt x="234" y="216"/>
                  </a:lnTo>
                  <a:lnTo>
                    <a:pt x="224" y="224"/>
                  </a:lnTo>
                  <a:lnTo>
                    <a:pt x="216" y="234"/>
                  </a:lnTo>
                  <a:lnTo>
                    <a:pt x="206" y="242"/>
                  </a:lnTo>
                  <a:lnTo>
                    <a:pt x="194" y="248"/>
                  </a:lnTo>
                  <a:lnTo>
                    <a:pt x="182" y="254"/>
                  </a:lnTo>
                  <a:lnTo>
                    <a:pt x="170" y="258"/>
                  </a:lnTo>
                  <a:lnTo>
                    <a:pt x="158" y="262"/>
                  </a:lnTo>
                  <a:lnTo>
                    <a:pt x="144" y="264"/>
                  </a:lnTo>
                  <a:lnTo>
                    <a:pt x="132" y="264"/>
                  </a:lnTo>
                  <a:lnTo>
                    <a:pt x="132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8"/>
                  </a:lnTo>
                  <a:lnTo>
                    <a:pt x="80" y="254"/>
                  </a:lnTo>
                  <a:lnTo>
                    <a:pt x="68" y="248"/>
                  </a:lnTo>
                  <a:lnTo>
                    <a:pt x="58" y="242"/>
                  </a:lnTo>
                  <a:lnTo>
                    <a:pt x="48" y="234"/>
                  </a:lnTo>
                  <a:lnTo>
                    <a:pt x="38" y="224"/>
                  </a:lnTo>
                  <a:lnTo>
                    <a:pt x="30" y="216"/>
                  </a:lnTo>
                  <a:lnTo>
                    <a:pt x="22" y="206"/>
                  </a:lnTo>
                  <a:lnTo>
                    <a:pt x="16" y="194"/>
                  </a:lnTo>
                  <a:lnTo>
                    <a:pt x="10" y="182"/>
                  </a:lnTo>
                  <a:lnTo>
                    <a:pt x="6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0"/>
                  </a:lnTo>
                  <a:lnTo>
                    <a:pt x="16" y="68"/>
                  </a:lnTo>
                  <a:lnTo>
                    <a:pt x="22" y="58"/>
                  </a:lnTo>
                  <a:lnTo>
                    <a:pt x="30" y="48"/>
                  </a:lnTo>
                  <a:lnTo>
                    <a:pt x="38" y="38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8" y="16"/>
                  </a:lnTo>
                  <a:lnTo>
                    <a:pt x="80" y="10"/>
                  </a:lnTo>
                  <a:lnTo>
                    <a:pt x="92" y="6"/>
                  </a:lnTo>
                  <a:lnTo>
                    <a:pt x="104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8" y="2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4" y="16"/>
                  </a:lnTo>
                  <a:lnTo>
                    <a:pt x="206" y="22"/>
                  </a:lnTo>
                  <a:lnTo>
                    <a:pt x="216" y="30"/>
                  </a:lnTo>
                  <a:lnTo>
                    <a:pt x="224" y="38"/>
                  </a:lnTo>
                  <a:lnTo>
                    <a:pt x="234" y="48"/>
                  </a:lnTo>
                  <a:lnTo>
                    <a:pt x="242" y="58"/>
                  </a:lnTo>
                  <a:lnTo>
                    <a:pt x="248" y="68"/>
                  </a:lnTo>
                  <a:lnTo>
                    <a:pt x="254" y="80"/>
                  </a:lnTo>
                  <a:lnTo>
                    <a:pt x="258" y="92"/>
                  </a:lnTo>
                  <a:lnTo>
                    <a:pt x="260" y="104"/>
                  </a:lnTo>
                  <a:lnTo>
                    <a:pt x="262" y="118"/>
                  </a:lnTo>
                  <a:lnTo>
                    <a:pt x="264" y="132"/>
                  </a:lnTo>
                  <a:lnTo>
                    <a:pt x="264" y="132"/>
                  </a:lnTo>
                  <a:close/>
                </a:path>
              </a:pathLst>
            </a:custGeom>
            <a:solidFill>
              <a:srgbClr val="fde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466"/>
            <p:cNvSpPr/>
            <p:nvPr/>
          </p:nvSpPr>
          <p:spPr>
            <a:xfrm>
              <a:off x="8499240" y="13214520"/>
              <a:ext cx="384120" cy="3870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42" h="244">
                  <a:moveTo>
                    <a:pt x="242" y="122"/>
                  </a:moveTo>
                  <a:lnTo>
                    <a:pt x="242" y="122"/>
                  </a:lnTo>
                  <a:lnTo>
                    <a:pt x="242" y="134"/>
                  </a:lnTo>
                  <a:lnTo>
                    <a:pt x="240" y="146"/>
                  </a:lnTo>
                  <a:lnTo>
                    <a:pt x="234" y="170"/>
                  </a:lnTo>
                  <a:lnTo>
                    <a:pt x="222" y="190"/>
                  </a:lnTo>
                  <a:lnTo>
                    <a:pt x="206" y="208"/>
                  </a:lnTo>
                  <a:lnTo>
                    <a:pt x="188" y="222"/>
                  </a:lnTo>
                  <a:lnTo>
                    <a:pt x="168" y="234"/>
                  </a:lnTo>
                  <a:lnTo>
                    <a:pt x="146" y="242"/>
                  </a:lnTo>
                  <a:lnTo>
                    <a:pt x="134" y="242"/>
                  </a:lnTo>
                  <a:lnTo>
                    <a:pt x="122" y="244"/>
                  </a:lnTo>
                  <a:lnTo>
                    <a:pt x="122" y="244"/>
                  </a:lnTo>
                  <a:lnTo>
                    <a:pt x="108" y="242"/>
                  </a:lnTo>
                  <a:lnTo>
                    <a:pt x="96" y="242"/>
                  </a:lnTo>
                  <a:lnTo>
                    <a:pt x="74" y="234"/>
                  </a:lnTo>
                  <a:lnTo>
                    <a:pt x="54" y="222"/>
                  </a:lnTo>
                  <a:lnTo>
                    <a:pt x="36" y="208"/>
                  </a:lnTo>
                  <a:lnTo>
                    <a:pt x="20" y="190"/>
                  </a:lnTo>
                  <a:lnTo>
                    <a:pt x="10" y="170"/>
                  </a:lnTo>
                  <a:lnTo>
                    <a:pt x="2" y="146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0"/>
                  </a:lnTo>
                  <a:lnTo>
                    <a:pt x="2" y="98"/>
                  </a:lnTo>
                  <a:lnTo>
                    <a:pt x="10" y="74"/>
                  </a:lnTo>
                  <a:lnTo>
                    <a:pt x="20" y="54"/>
                  </a:lnTo>
                  <a:lnTo>
                    <a:pt x="36" y="36"/>
                  </a:lnTo>
                  <a:lnTo>
                    <a:pt x="54" y="22"/>
                  </a:lnTo>
                  <a:lnTo>
                    <a:pt x="74" y="10"/>
                  </a:lnTo>
                  <a:lnTo>
                    <a:pt x="96" y="2"/>
                  </a:lnTo>
                  <a:lnTo>
                    <a:pt x="108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4" y="0"/>
                  </a:lnTo>
                  <a:lnTo>
                    <a:pt x="146" y="2"/>
                  </a:lnTo>
                  <a:lnTo>
                    <a:pt x="168" y="10"/>
                  </a:lnTo>
                  <a:lnTo>
                    <a:pt x="188" y="22"/>
                  </a:lnTo>
                  <a:lnTo>
                    <a:pt x="206" y="36"/>
                  </a:lnTo>
                  <a:lnTo>
                    <a:pt x="222" y="54"/>
                  </a:lnTo>
                  <a:lnTo>
                    <a:pt x="234" y="74"/>
                  </a:lnTo>
                  <a:lnTo>
                    <a:pt x="240" y="98"/>
                  </a:lnTo>
                  <a:lnTo>
                    <a:pt x="242" y="110"/>
                  </a:lnTo>
                  <a:lnTo>
                    <a:pt x="242" y="122"/>
                  </a:lnTo>
                  <a:lnTo>
                    <a:pt x="242" y="122"/>
                  </a:lnTo>
                  <a:close/>
                </a:path>
              </a:pathLst>
            </a:custGeom>
            <a:solidFill>
              <a:srgbClr val="fee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467"/>
            <p:cNvSpPr/>
            <p:nvPr/>
          </p:nvSpPr>
          <p:spPr>
            <a:xfrm>
              <a:off x="8505720" y="13227120"/>
              <a:ext cx="352440" cy="3520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22" h="222">
                  <a:moveTo>
                    <a:pt x="222" y="110"/>
                  </a:moveTo>
                  <a:lnTo>
                    <a:pt x="222" y="110"/>
                  </a:lnTo>
                  <a:lnTo>
                    <a:pt x="220" y="132"/>
                  </a:lnTo>
                  <a:lnTo>
                    <a:pt x="212" y="154"/>
                  </a:lnTo>
                  <a:lnTo>
                    <a:pt x="202" y="172"/>
                  </a:lnTo>
                  <a:lnTo>
                    <a:pt x="190" y="188"/>
                  </a:lnTo>
                  <a:lnTo>
                    <a:pt x="172" y="202"/>
                  </a:lnTo>
                  <a:lnTo>
                    <a:pt x="154" y="212"/>
                  </a:lnTo>
                  <a:lnTo>
                    <a:pt x="132" y="218"/>
                  </a:lnTo>
                  <a:lnTo>
                    <a:pt x="110" y="222"/>
                  </a:lnTo>
                  <a:lnTo>
                    <a:pt x="110" y="222"/>
                  </a:lnTo>
                  <a:lnTo>
                    <a:pt x="88" y="218"/>
                  </a:lnTo>
                  <a:lnTo>
                    <a:pt x="68" y="212"/>
                  </a:lnTo>
                  <a:lnTo>
                    <a:pt x="48" y="202"/>
                  </a:lnTo>
                  <a:lnTo>
                    <a:pt x="32" y="188"/>
                  </a:lnTo>
                  <a:lnTo>
                    <a:pt x="18" y="172"/>
                  </a:lnTo>
                  <a:lnTo>
                    <a:pt x="8" y="154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8" y="48"/>
                  </a:lnTo>
                  <a:lnTo>
                    <a:pt x="32" y="32"/>
                  </a:lnTo>
                  <a:lnTo>
                    <a:pt x="48" y="18"/>
                  </a:lnTo>
                  <a:lnTo>
                    <a:pt x="68" y="8"/>
                  </a:lnTo>
                  <a:lnTo>
                    <a:pt x="88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32" y="2"/>
                  </a:lnTo>
                  <a:lnTo>
                    <a:pt x="154" y="8"/>
                  </a:lnTo>
                  <a:lnTo>
                    <a:pt x="172" y="18"/>
                  </a:lnTo>
                  <a:lnTo>
                    <a:pt x="190" y="32"/>
                  </a:lnTo>
                  <a:lnTo>
                    <a:pt x="202" y="48"/>
                  </a:lnTo>
                  <a:lnTo>
                    <a:pt x="212" y="68"/>
                  </a:lnTo>
                  <a:lnTo>
                    <a:pt x="220" y="88"/>
                  </a:lnTo>
                  <a:lnTo>
                    <a:pt x="222" y="110"/>
                  </a:lnTo>
                  <a:lnTo>
                    <a:pt x="222" y="110"/>
                  </a:lnTo>
                  <a:close/>
                </a:path>
              </a:pathLst>
            </a:custGeom>
            <a:solidFill>
              <a:srgbClr val="fee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468"/>
            <p:cNvSpPr/>
            <p:nvPr/>
          </p:nvSpPr>
          <p:spPr>
            <a:xfrm>
              <a:off x="8512200" y="13236480"/>
              <a:ext cx="317520" cy="3204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00" h="202">
                  <a:moveTo>
                    <a:pt x="200" y="100"/>
                  </a:moveTo>
                  <a:lnTo>
                    <a:pt x="200" y="100"/>
                  </a:lnTo>
                  <a:lnTo>
                    <a:pt x="198" y="120"/>
                  </a:lnTo>
                  <a:lnTo>
                    <a:pt x="192" y="140"/>
                  </a:lnTo>
                  <a:lnTo>
                    <a:pt x="184" y="156"/>
                  </a:lnTo>
                  <a:lnTo>
                    <a:pt x="172" y="172"/>
                  </a:lnTo>
                  <a:lnTo>
                    <a:pt x="156" y="184"/>
                  </a:lnTo>
                  <a:lnTo>
                    <a:pt x="140" y="194"/>
                  </a:lnTo>
                  <a:lnTo>
                    <a:pt x="120" y="198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80" y="198"/>
                  </a:lnTo>
                  <a:lnTo>
                    <a:pt x="62" y="194"/>
                  </a:lnTo>
                  <a:lnTo>
                    <a:pt x="44" y="184"/>
                  </a:lnTo>
                  <a:lnTo>
                    <a:pt x="30" y="172"/>
                  </a:lnTo>
                  <a:lnTo>
                    <a:pt x="18" y="156"/>
                  </a:lnTo>
                  <a:lnTo>
                    <a:pt x="8" y="140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8" y="62"/>
                  </a:lnTo>
                  <a:lnTo>
                    <a:pt x="18" y="44"/>
                  </a:lnTo>
                  <a:lnTo>
                    <a:pt x="30" y="30"/>
                  </a:lnTo>
                  <a:lnTo>
                    <a:pt x="44" y="18"/>
                  </a:lnTo>
                  <a:lnTo>
                    <a:pt x="62" y="8"/>
                  </a:lnTo>
                  <a:lnTo>
                    <a:pt x="80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20" y="2"/>
                  </a:lnTo>
                  <a:lnTo>
                    <a:pt x="140" y="8"/>
                  </a:lnTo>
                  <a:lnTo>
                    <a:pt x="156" y="18"/>
                  </a:lnTo>
                  <a:lnTo>
                    <a:pt x="172" y="30"/>
                  </a:lnTo>
                  <a:lnTo>
                    <a:pt x="184" y="44"/>
                  </a:lnTo>
                  <a:lnTo>
                    <a:pt x="192" y="62"/>
                  </a:lnTo>
                  <a:lnTo>
                    <a:pt x="198" y="80"/>
                  </a:lnTo>
                  <a:lnTo>
                    <a:pt x="200" y="100"/>
                  </a:lnTo>
                  <a:lnTo>
                    <a:pt x="200" y="100"/>
                  </a:lnTo>
                  <a:close/>
                </a:path>
              </a:pathLst>
            </a:custGeom>
            <a:solidFill>
              <a:srgbClr val="fee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469"/>
            <p:cNvSpPr/>
            <p:nvPr/>
          </p:nvSpPr>
          <p:spPr>
            <a:xfrm>
              <a:off x="8518320" y="13249440"/>
              <a:ext cx="285480" cy="2822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80" h="178">
                  <a:moveTo>
                    <a:pt x="180" y="90"/>
                  </a:moveTo>
                  <a:lnTo>
                    <a:pt x="180" y="90"/>
                  </a:lnTo>
                  <a:lnTo>
                    <a:pt x="178" y="108"/>
                  </a:lnTo>
                  <a:lnTo>
                    <a:pt x="172" y="124"/>
                  </a:lnTo>
                  <a:lnTo>
                    <a:pt x="164" y="140"/>
                  </a:lnTo>
                  <a:lnTo>
                    <a:pt x="154" y="152"/>
                  </a:lnTo>
                  <a:lnTo>
                    <a:pt x="140" y="164"/>
                  </a:lnTo>
                  <a:lnTo>
                    <a:pt x="124" y="172"/>
                  </a:lnTo>
                  <a:lnTo>
                    <a:pt x="108" y="176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72" y="176"/>
                  </a:lnTo>
                  <a:lnTo>
                    <a:pt x="54" y="172"/>
                  </a:lnTo>
                  <a:lnTo>
                    <a:pt x="40" y="164"/>
                  </a:lnTo>
                  <a:lnTo>
                    <a:pt x="26" y="152"/>
                  </a:lnTo>
                  <a:lnTo>
                    <a:pt x="16" y="140"/>
                  </a:lnTo>
                  <a:lnTo>
                    <a:pt x="8" y="124"/>
                  </a:lnTo>
                  <a:lnTo>
                    <a:pt x="2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8" y="54"/>
                  </a:lnTo>
                  <a:lnTo>
                    <a:pt x="16" y="40"/>
                  </a:lnTo>
                  <a:lnTo>
                    <a:pt x="26" y="26"/>
                  </a:lnTo>
                  <a:lnTo>
                    <a:pt x="40" y="14"/>
                  </a:lnTo>
                  <a:lnTo>
                    <a:pt x="54" y="6"/>
                  </a:lnTo>
                  <a:lnTo>
                    <a:pt x="72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8" y="2"/>
                  </a:lnTo>
                  <a:lnTo>
                    <a:pt x="124" y="6"/>
                  </a:lnTo>
                  <a:lnTo>
                    <a:pt x="140" y="14"/>
                  </a:lnTo>
                  <a:lnTo>
                    <a:pt x="154" y="26"/>
                  </a:lnTo>
                  <a:lnTo>
                    <a:pt x="164" y="40"/>
                  </a:lnTo>
                  <a:lnTo>
                    <a:pt x="172" y="54"/>
                  </a:lnTo>
                  <a:lnTo>
                    <a:pt x="178" y="72"/>
                  </a:lnTo>
                  <a:lnTo>
                    <a:pt x="180" y="90"/>
                  </a:lnTo>
                  <a:lnTo>
                    <a:pt x="180" y="90"/>
                  </a:lnTo>
                  <a:close/>
                </a:path>
              </a:pathLst>
            </a:custGeom>
            <a:solidFill>
              <a:srgbClr val="fef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470"/>
            <p:cNvSpPr/>
            <p:nvPr/>
          </p:nvSpPr>
          <p:spPr>
            <a:xfrm>
              <a:off x="8524800" y="13258800"/>
              <a:ext cx="250560" cy="2505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8" h="158">
                  <a:moveTo>
                    <a:pt x="158" y="80"/>
                  </a:moveTo>
                  <a:lnTo>
                    <a:pt x="158" y="80"/>
                  </a:lnTo>
                  <a:lnTo>
                    <a:pt x="156" y="96"/>
                  </a:lnTo>
                  <a:lnTo>
                    <a:pt x="152" y="110"/>
                  </a:lnTo>
                  <a:lnTo>
                    <a:pt x="144" y="124"/>
                  </a:lnTo>
                  <a:lnTo>
                    <a:pt x="136" y="136"/>
                  </a:lnTo>
                  <a:lnTo>
                    <a:pt x="124" y="146"/>
                  </a:lnTo>
                  <a:lnTo>
                    <a:pt x="110" y="152"/>
                  </a:lnTo>
                  <a:lnTo>
                    <a:pt x="96" y="156"/>
                  </a:lnTo>
                  <a:lnTo>
                    <a:pt x="80" y="158"/>
                  </a:lnTo>
                  <a:lnTo>
                    <a:pt x="80" y="158"/>
                  </a:lnTo>
                  <a:lnTo>
                    <a:pt x="64" y="156"/>
                  </a:lnTo>
                  <a:lnTo>
                    <a:pt x="48" y="152"/>
                  </a:lnTo>
                  <a:lnTo>
                    <a:pt x="36" y="146"/>
                  </a:lnTo>
                  <a:lnTo>
                    <a:pt x="24" y="136"/>
                  </a:lnTo>
                  <a:lnTo>
                    <a:pt x="14" y="124"/>
                  </a:lnTo>
                  <a:lnTo>
                    <a:pt x="6" y="110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8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48" y="6"/>
                  </a:lnTo>
                  <a:lnTo>
                    <a:pt x="6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6" y="2"/>
                  </a:lnTo>
                  <a:lnTo>
                    <a:pt x="110" y="6"/>
                  </a:lnTo>
                  <a:lnTo>
                    <a:pt x="124" y="14"/>
                  </a:lnTo>
                  <a:lnTo>
                    <a:pt x="136" y="24"/>
                  </a:lnTo>
                  <a:lnTo>
                    <a:pt x="144" y="36"/>
                  </a:lnTo>
                  <a:lnTo>
                    <a:pt x="152" y="48"/>
                  </a:lnTo>
                  <a:lnTo>
                    <a:pt x="156" y="64"/>
                  </a:lnTo>
                  <a:lnTo>
                    <a:pt x="158" y="80"/>
                  </a:lnTo>
                  <a:lnTo>
                    <a:pt x="158" y="80"/>
                  </a:lnTo>
                  <a:close/>
                </a:path>
              </a:pathLst>
            </a:custGeom>
            <a:solidFill>
              <a:srgbClr val="fef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471"/>
            <p:cNvSpPr/>
            <p:nvPr/>
          </p:nvSpPr>
          <p:spPr>
            <a:xfrm>
              <a:off x="8531280" y="13271400"/>
              <a:ext cx="218880" cy="2156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8" h="136">
                  <a:moveTo>
                    <a:pt x="138" y="68"/>
                  </a:moveTo>
                  <a:lnTo>
                    <a:pt x="138" y="68"/>
                  </a:lnTo>
                  <a:lnTo>
                    <a:pt x="136" y="82"/>
                  </a:lnTo>
                  <a:lnTo>
                    <a:pt x="132" y="94"/>
                  </a:lnTo>
                  <a:lnTo>
                    <a:pt x="126" y="106"/>
                  </a:lnTo>
                  <a:lnTo>
                    <a:pt x="118" y="116"/>
                  </a:lnTo>
                  <a:lnTo>
                    <a:pt x="108" y="124"/>
                  </a:lnTo>
                  <a:lnTo>
                    <a:pt x="96" y="130"/>
                  </a:lnTo>
                  <a:lnTo>
                    <a:pt x="82" y="134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56" y="134"/>
                  </a:lnTo>
                  <a:lnTo>
                    <a:pt x="42" y="130"/>
                  </a:lnTo>
                  <a:lnTo>
                    <a:pt x="30" y="124"/>
                  </a:lnTo>
                  <a:lnTo>
                    <a:pt x="20" y="116"/>
                  </a:lnTo>
                  <a:lnTo>
                    <a:pt x="12" y="106"/>
                  </a:lnTo>
                  <a:lnTo>
                    <a:pt x="6" y="94"/>
                  </a:lnTo>
                  <a:lnTo>
                    <a:pt x="2" y="8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54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2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96" y="4"/>
                  </a:lnTo>
                  <a:lnTo>
                    <a:pt x="108" y="12"/>
                  </a:lnTo>
                  <a:lnTo>
                    <a:pt x="118" y="20"/>
                  </a:lnTo>
                  <a:lnTo>
                    <a:pt x="126" y="30"/>
                  </a:lnTo>
                  <a:lnTo>
                    <a:pt x="132" y="42"/>
                  </a:lnTo>
                  <a:lnTo>
                    <a:pt x="136" y="54"/>
                  </a:lnTo>
                  <a:lnTo>
                    <a:pt x="138" y="68"/>
                  </a:lnTo>
                  <a:lnTo>
                    <a:pt x="138" y="68"/>
                  </a:lnTo>
                  <a:close/>
                </a:path>
              </a:pathLst>
            </a:custGeom>
            <a:solidFill>
              <a:srgbClr val="fef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472"/>
            <p:cNvSpPr/>
            <p:nvPr/>
          </p:nvSpPr>
          <p:spPr>
            <a:xfrm>
              <a:off x="8537400" y="13281120"/>
              <a:ext cx="183960" cy="18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6" h="116">
                  <a:moveTo>
                    <a:pt x="116" y="58"/>
                  </a:moveTo>
                  <a:lnTo>
                    <a:pt x="116" y="58"/>
                  </a:lnTo>
                  <a:lnTo>
                    <a:pt x="116" y="70"/>
                  </a:lnTo>
                  <a:lnTo>
                    <a:pt x="112" y="80"/>
                  </a:lnTo>
                  <a:lnTo>
                    <a:pt x="106" y="90"/>
                  </a:lnTo>
                  <a:lnTo>
                    <a:pt x="100" y="100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0" y="114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46" y="114"/>
                  </a:lnTo>
                  <a:lnTo>
                    <a:pt x="36" y="112"/>
                  </a:lnTo>
                  <a:lnTo>
                    <a:pt x="26" y="106"/>
                  </a:lnTo>
                  <a:lnTo>
                    <a:pt x="18" y="100"/>
                  </a:lnTo>
                  <a:lnTo>
                    <a:pt x="10" y="90"/>
                  </a:lnTo>
                  <a:lnTo>
                    <a:pt x="6" y="80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10" y="26"/>
                  </a:lnTo>
                  <a:lnTo>
                    <a:pt x="18" y="18"/>
                  </a:lnTo>
                  <a:lnTo>
                    <a:pt x="26" y="10"/>
                  </a:lnTo>
                  <a:lnTo>
                    <a:pt x="36" y="6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2"/>
                  </a:lnTo>
                  <a:lnTo>
                    <a:pt x="80" y="6"/>
                  </a:lnTo>
                  <a:lnTo>
                    <a:pt x="90" y="10"/>
                  </a:lnTo>
                  <a:lnTo>
                    <a:pt x="100" y="18"/>
                  </a:lnTo>
                  <a:lnTo>
                    <a:pt x="106" y="26"/>
                  </a:lnTo>
                  <a:lnTo>
                    <a:pt x="112" y="36"/>
                  </a:lnTo>
                  <a:lnTo>
                    <a:pt x="116" y="46"/>
                  </a:lnTo>
                  <a:lnTo>
                    <a:pt x="116" y="58"/>
                  </a:lnTo>
                  <a:lnTo>
                    <a:pt x="116" y="58"/>
                  </a:lnTo>
                  <a:close/>
                </a:path>
              </a:pathLst>
            </a:custGeom>
            <a:solidFill>
              <a:srgbClr val="fff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473"/>
            <p:cNvSpPr/>
            <p:nvPr/>
          </p:nvSpPr>
          <p:spPr>
            <a:xfrm>
              <a:off x="8547120" y="13293720"/>
              <a:ext cx="149040" cy="149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4" h="94">
                  <a:moveTo>
                    <a:pt x="94" y="46"/>
                  </a:moveTo>
                  <a:lnTo>
                    <a:pt x="94" y="46"/>
                  </a:lnTo>
                  <a:lnTo>
                    <a:pt x="92" y="56"/>
                  </a:lnTo>
                  <a:lnTo>
                    <a:pt x="90" y="66"/>
                  </a:lnTo>
                  <a:lnTo>
                    <a:pt x="86" y="74"/>
                  </a:lnTo>
                  <a:lnTo>
                    <a:pt x="80" y="80"/>
                  </a:lnTo>
                  <a:lnTo>
                    <a:pt x="72" y="86"/>
                  </a:lnTo>
                  <a:lnTo>
                    <a:pt x="64" y="90"/>
                  </a:lnTo>
                  <a:lnTo>
                    <a:pt x="56" y="92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36" y="92"/>
                  </a:lnTo>
                  <a:lnTo>
                    <a:pt x="28" y="90"/>
                  </a:lnTo>
                  <a:lnTo>
                    <a:pt x="20" y="86"/>
                  </a:lnTo>
                  <a:lnTo>
                    <a:pt x="12" y="80"/>
                  </a:lnTo>
                  <a:lnTo>
                    <a:pt x="8" y="74"/>
                  </a:lnTo>
                  <a:lnTo>
                    <a:pt x="2" y="6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80" y="14"/>
                  </a:lnTo>
                  <a:lnTo>
                    <a:pt x="86" y="20"/>
                  </a:lnTo>
                  <a:lnTo>
                    <a:pt x="90" y="28"/>
                  </a:lnTo>
                  <a:lnTo>
                    <a:pt x="92" y="38"/>
                  </a:lnTo>
                  <a:lnTo>
                    <a:pt x="94" y="46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fff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474"/>
            <p:cNvSpPr/>
            <p:nvPr/>
          </p:nvSpPr>
          <p:spPr>
            <a:xfrm>
              <a:off x="8553240" y="13303440"/>
              <a:ext cx="114120" cy="117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2" h="74">
                  <a:moveTo>
                    <a:pt x="72" y="38"/>
                  </a:moveTo>
                  <a:lnTo>
                    <a:pt x="72" y="38"/>
                  </a:lnTo>
                  <a:lnTo>
                    <a:pt x="72" y="44"/>
                  </a:lnTo>
                  <a:lnTo>
                    <a:pt x="70" y="52"/>
                  </a:lnTo>
                  <a:lnTo>
                    <a:pt x="66" y="58"/>
                  </a:lnTo>
                  <a:lnTo>
                    <a:pt x="62" y="62"/>
                  </a:lnTo>
                  <a:lnTo>
                    <a:pt x="56" y="68"/>
                  </a:lnTo>
                  <a:lnTo>
                    <a:pt x="50" y="70"/>
                  </a:lnTo>
                  <a:lnTo>
                    <a:pt x="44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8" y="72"/>
                  </a:lnTo>
                  <a:lnTo>
                    <a:pt x="22" y="70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2" y="12"/>
                  </a:lnTo>
                  <a:lnTo>
                    <a:pt x="66" y="16"/>
                  </a:lnTo>
                  <a:lnTo>
                    <a:pt x="70" y="24"/>
                  </a:lnTo>
                  <a:lnTo>
                    <a:pt x="72" y="30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fffa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475"/>
            <p:cNvSpPr/>
            <p:nvPr/>
          </p:nvSpPr>
          <p:spPr>
            <a:xfrm>
              <a:off x="8559720" y="1331604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52" y="26"/>
                  </a:move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ff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476"/>
            <p:cNvSpPr/>
            <p:nvPr/>
          </p:nvSpPr>
          <p:spPr>
            <a:xfrm>
              <a:off x="8566200" y="1332540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6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477"/>
            <p:cNvSpPr/>
            <p:nvPr/>
          </p:nvSpPr>
          <p:spPr>
            <a:xfrm>
              <a:off x="8572320" y="133383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8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グループ化 467"/>
          <p:cNvGrpSpPr/>
          <p:nvPr/>
        </p:nvGrpSpPr>
        <p:grpSpPr>
          <a:xfrm>
            <a:off x="1400040" y="2597040"/>
            <a:ext cx="5073840" cy="3213360"/>
            <a:chOff x="1400040" y="2597040"/>
            <a:chExt cx="5073840" cy="3213360"/>
          </a:xfrm>
        </p:grpSpPr>
        <p:sp>
          <p:nvSpPr>
            <p:cNvPr id="379" name="Freeform 80"/>
            <p:cNvSpPr/>
            <p:nvPr/>
          </p:nvSpPr>
          <p:spPr>
            <a:xfrm>
              <a:off x="1400040" y="2885760"/>
              <a:ext cx="1428840" cy="1482840"/>
            </a:xfrm>
            <a:custGeom>
              <a:avLst/>
              <a:gdLst>
                <a:gd name="textAreaLeft" fmla="*/ 0 w 1428840"/>
                <a:gd name="textAreaRight" fmla="*/ 1429200 w 14288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900" h="934">
                  <a:moveTo>
                    <a:pt x="182" y="934"/>
                  </a:moveTo>
                  <a:lnTo>
                    <a:pt x="256" y="926"/>
                  </a:lnTo>
                  <a:lnTo>
                    <a:pt x="256" y="926"/>
                  </a:lnTo>
                  <a:lnTo>
                    <a:pt x="272" y="922"/>
                  </a:lnTo>
                  <a:lnTo>
                    <a:pt x="286" y="916"/>
                  </a:lnTo>
                  <a:lnTo>
                    <a:pt x="300" y="908"/>
                  </a:lnTo>
                  <a:lnTo>
                    <a:pt x="310" y="896"/>
                  </a:lnTo>
                  <a:lnTo>
                    <a:pt x="310" y="896"/>
                  </a:lnTo>
                  <a:lnTo>
                    <a:pt x="316" y="890"/>
                  </a:lnTo>
                  <a:lnTo>
                    <a:pt x="408" y="880"/>
                  </a:lnTo>
                  <a:lnTo>
                    <a:pt x="408" y="880"/>
                  </a:lnTo>
                  <a:lnTo>
                    <a:pt x="424" y="876"/>
                  </a:lnTo>
                  <a:lnTo>
                    <a:pt x="440" y="870"/>
                  </a:lnTo>
                  <a:lnTo>
                    <a:pt x="452" y="862"/>
                  </a:lnTo>
                  <a:lnTo>
                    <a:pt x="462" y="850"/>
                  </a:lnTo>
                  <a:lnTo>
                    <a:pt x="472" y="838"/>
                  </a:lnTo>
                  <a:lnTo>
                    <a:pt x="478" y="824"/>
                  </a:lnTo>
                  <a:lnTo>
                    <a:pt x="480" y="808"/>
                  </a:lnTo>
                  <a:lnTo>
                    <a:pt x="480" y="792"/>
                  </a:lnTo>
                  <a:lnTo>
                    <a:pt x="474" y="736"/>
                  </a:lnTo>
                  <a:lnTo>
                    <a:pt x="500" y="734"/>
                  </a:lnTo>
                  <a:lnTo>
                    <a:pt x="510" y="830"/>
                  </a:lnTo>
                  <a:lnTo>
                    <a:pt x="510" y="830"/>
                  </a:lnTo>
                  <a:lnTo>
                    <a:pt x="512" y="846"/>
                  </a:lnTo>
                  <a:lnTo>
                    <a:pt x="518" y="860"/>
                  </a:lnTo>
                  <a:lnTo>
                    <a:pt x="528" y="874"/>
                  </a:lnTo>
                  <a:lnTo>
                    <a:pt x="538" y="884"/>
                  </a:lnTo>
                  <a:lnTo>
                    <a:pt x="552" y="892"/>
                  </a:lnTo>
                  <a:lnTo>
                    <a:pt x="566" y="898"/>
                  </a:lnTo>
                  <a:lnTo>
                    <a:pt x="580" y="902"/>
                  </a:lnTo>
                  <a:lnTo>
                    <a:pt x="596" y="902"/>
                  </a:lnTo>
                  <a:lnTo>
                    <a:pt x="684" y="892"/>
                  </a:lnTo>
                  <a:lnTo>
                    <a:pt x="684" y="892"/>
                  </a:lnTo>
                  <a:lnTo>
                    <a:pt x="700" y="890"/>
                  </a:lnTo>
                  <a:lnTo>
                    <a:pt x="714" y="884"/>
                  </a:lnTo>
                  <a:lnTo>
                    <a:pt x="728" y="874"/>
                  </a:lnTo>
                  <a:lnTo>
                    <a:pt x="738" y="864"/>
                  </a:lnTo>
                  <a:lnTo>
                    <a:pt x="738" y="864"/>
                  </a:lnTo>
                  <a:lnTo>
                    <a:pt x="748" y="850"/>
                  </a:lnTo>
                  <a:lnTo>
                    <a:pt x="754" y="836"/>
                  </a:lnTo>
                  <a:lnTo>
                    <a:pt x="756" y="820"/>
                  </a:lnTo>
                  <a:lnTo>
                    <a:pt x="756" y="806"/>
                  </a:lnTo>
                  <a:lnTo>
                    <a:pt x="746" y="708"/>
                  </a:lnTo>
                  <a:lnTo>
                    <a:pt x="830" y="700"/>
                  </a:lnTo>
                  <a:lnTo>
                    <a:pt x="830" y="700"/>
                  </a:lnTo>
                  <a:lnTo>
                    <a:pt x="844" y="696"/>
                  </a:lnTo>
                  <a:lnTo>
                    <a:pt x="858" y="690"/>
                  </a:lnTo>
                  <a:lnTo>
                    <a:pt x="872" y="682"/>
                  </a:lnTo>
                  <a:lnTo>
                    <a:pt x="882" y="670"/>
                  </a:lnTo>
                  <a:lnTo>
                    <a:pt x="882" y="670"/>
                  </a:lnTo>
                  <a:lnTo>
                    <a:pt x="892" y="658"/>
                  </a:lnTo>
                  <a:lnTo>
                    <a:pt x="898" y="644"/>
                  </a:lnTo>
                  <a:lnTo>
                    <a:pt x="900" y="628"/>
                  </a:lnTo>
                  <a:lnTo>
                    <a:pt x="900" y="612"/>
                  </a:lnTo>
                  <a:lnTo>
                    <a:pt x="892" y="528"/>
                  </a:lnTo>
                  <a:lnTo>
                    <a:pt x="892" y="528"/>
                  </a:lnTo>
                  <a:lnTo>
                    <a:pt x="888" y="512"/>
                  </a:lnTo>
                  <a:lnTo>
                    <a:pt x="882" y="498"/>
                  </a:lnTo>
                  <a:lnTo>
                    <a:pt x="874" y="486"/>
                  </a:lnTo>
                  <a:lnTo>
                    <a:pt x="862" y="474"/>
                  </a:lnTo>
                  <a:lnTo>
                    <a:pt x="862" y="474"/>
                  </a:lnTo>
                  <a:lnTo>
                    <a:pt x="854" y="468"/>
                  </a:lnTo>
                  <a:lnTo>
                    <a:pt x="854" y="468"/>
                  </a:lnTo>
                  <a:lnTo>
                    <a:pt x="854" y="452"/>
                  </a:lnTo>
                  <a:lnTo>
                    <a:pt x="844" y="370"/>
                  </a:lnTo>
                  <a:lnTo>
                    <a:pt x="844" y="370"/>
                  </a:lnTo>
                  <a:lnTo>
                    <a:pt x="844" y="360"/>
                  </a:lnTo>
                  <a:lnTo>
                    <a:pt x="840" y="350"/>
                  </a:lnTo>
                  <a:lnTo>
                    <a:pt x="840" y="350"/>
                  </a:lnTo>
                  <a:lnTo>
                    <a:pt x="848" y="336"/>
                  </a:lnTo>
                  <a:lnTo>
                    <a:pt x="854" y="324"/>
                  </a:lnTo>
                  <a:lnTo>
                    <a:pt x="856" y="308"/>
                  </a:lnTo>
                  <a:lnTo>
                    <a:pt x="856" y="292"/>
                  </a:lnTo>
                  <a:lnTo>
                    <a:pt x="848" y="208"/>
                  </a:lnTo>
                  <a:lnTo>
                    <a:pt x="848" y="208"/>
                  </a:lnTo>
                  <a:lnTo>
                    <a:pt x="844" y="192"/>
                  </a:lnTo>
                  <a:lnTo>
                    <a:pt x="836" y="176"/>
                  </a:lnTo>
                  <a:lnTo>
                    <a:pt x="824" y="162"/>
                  </a:lnTo>
                  <a:lnTo>
                    <a:pt x="812" y="150"/>
                  </a:lnTo>
                  <a:lnTo>
                    <a:pt x="812" y="150"/>
                  </a:lnTo>
                  <a:lnTo>
                    <a:pt x="820" y="132"/>
                  </a:lnTo>
                  <a:lnTo>
                    <a:pt x="820" y="132"/>
                  </a:lnTo>
                  <a:lnTo>
                    <a:pt x="824" y="116"/>
                  </a:lnTo>
                  <a:lnTo>
                    <a:pt x="826" y="100"/>
                  </a:lnTo>
                  <a:lnTo>
                    <a:pt x="822" y="82"/>
                  </a:lnTo>
                  <a:lnTo>
                    <a:pt x="816" y="68"/>
                  </a:lnTo>
                  <a:lnTo>
                    <a:pt x="816" y="68"/>
                  </a:lnTo>
                  <a:lnTo>
                    <a:pt x="806" y="54"/>
                  </a:lnTo>
                  <a:lnTo>
                    <a:pt x="794" y="42"/>
                  </a:lnTo>
                  <a:lnTo>
                    <a:pt x="780" y="34"/>
                  </a:lnTo>
                  <a:lnTo>
                    <a:pt x="764" y="28"/>
                  </a:lnTo>
                  <a:lnTo>
                    <a:pt x="666" y="2"/>
                  </a:lnTo>
                  <a:lnTo>
                    <a:pt x="666" y="2"/>
                  </a:lnTo>
                  <a:lnTo>
                    <a:pt x="650" y="0"/>
                  </a:lnTo>
                  <a:lnTo>
                    <a:pt x="634" y="2"/>
                  </a:lnTo>
                  <a:lnTo>
                    <a:pt x="618" y="6"/>
                  </a:lnTo>
                  <a:lnTo>
                    <a:pt x="604" y="14"/>
                  </a:lnTo>
                  <a:lnTo>
                    <a:pt x="604" y="14"/>
                  </a:lnTo>
                  <a:lnTo>
                    <a:pt x="590" y="24"/>
                  </a:lnTo>
                  <a:lnTo>
                    <a:pt x="580" y="36"/>
                  </a:lnTo>
                  <a:lnTo>
                    <a:pt x="572" y="50"/>
                  </a:lnTo>
                  <a:lnTo>
                    <a:pt x="568" y="66"/>
                  </a:lnTo>
                  <a:lnTo>
                    <a:pt x="568" y="66"/>
                  </a:lnTo>
                  <a:lnTo>
                    <a:pt x="560" y="102"/>
                  </a:lnTo>
                  <a:lnTo>
                    <a:pt x="560" y="102"/>
                  </a:lnTo>
                  <a:lnTo>
                    <a:pt x="546" y="78"/>
                  </a:lnTo>
                  <a:lnTo>
                    <a:pt x="530" y="56"/>
                  </a:lnTo>
                  <a:lnTo>
                    <a:pt x="530" y="56"/>
                  </a:lnTo>
                  <a:lnTo>
                    <a:pt x="522" y="46"/>
                  </a:lnTo>
                  <a:lnTo>
                    <a:pt x="510" y="38"/>
                  </a:lnTo>
                  <a:lnTo>
                    <a:pt x="498" y="30"/>
                  </a:lnTo>
                  <a:lnTo>
                    <a:pt x="484" y="26"/>
                  </a:lnTo>
                  <a:lnTo>
                    <a:pt x="472" y="24"/>
                  </a:lnTo>
                  <a:lnTo>
                    <a:pt x="458" y="24"/>
                  </a:lnTo>
                  <a:lnTo>
                    <a:pt x="444" y="28"/>
                  </a:lnTo>
                  <a:lnTo>
                    <a:pt x="430" y="32"/>
                  </a:lnTo>
                  <a:lnTo>
                    <a:pt x="364" y="66"/>
                  </a:lnTo>
                  <a:lnTo>
                    <a:pt x="364" y="66"/>
                  </a:lnTo>
                  <a:lnTo>
                    <a:pt x="356" y="62"/>
                  </a:lnTo>
                  <a:lnTo>
                    <a:pt x="344" y="60"/>
                  </a:lnTo>
                  <a:lnTo>
                    <a:pt x="334" y="60"/>
                  </a:lnTo>
                  <a:lnTo>
                    <a:pt x="324" y="60"/>
                  </a:lnTo>
                  <a:lnTo>
                    <a:pt x="98" y="82"/>
                  </a:lnTo>
                  <a:lnTo>
                    <a:pt x="98" y="82"/>
                  </a:lnTo>
                  <a:lnTo>
                    <a:pt x="82" y="86"/>
                  </a:lnTo>
                  <a:lnTo>
                    <a:pt x="68" y="92"/>
                  </a:lnTo>
                  <a:lnTo>
                    <a:pt x="56" y="100"/>
                  </a:lnTo>
                  <a:lnTo>
                    <a:pt x="44" y="112"/>
                  </a:lnTo>
                  <a:lnTo>
                    <a:pt x="36" y="124"/>
                  </a:lnTo>
                  <a:lnTo>
                    <a:pt x="30" y="138"/>
                  </a:lnTo>
                  <a:lnTo>
                    <a:pt x="28" y="154"/>
                  </a:lnTo>
                  <a:lnTo>
                    <a:pt x="28" y="170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24" y="212"/>
                  </a:lnTo>
                  <a:lnTo>
                    <a:pt x="16" y="220"/>
                  </a:lnTo>
                  <a:lnTo>
                    <a:pt x="10" y="228"/>
                  </a:lnTo>
                  <a:lnTo>
                    <a:pt x="6" y="238"/>
                  </a:lnTo>
                  <a:lnTo>
                    <a:pt x="2" y="248"/>
                  </a:lnTo>
                  <a:lnTo>
                    <a:pt x="0" y="258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8" y="352"/>
                  </a:lnTo>
                  <a:lnTo>
                    <a:pt x="8" y="352"/>
                  </a:lnTo>
                  <a:lnTo>
                    <a:pt x="8" y="362"/>
                  </a:lnTo>
                  <a:lnTo>
                    <a:pt x="12" y="372"/>
                  </a:lnTo>
                  <a:lnTo>
                    <a:pt x="16" y="380"/>
                  </a:lnTo>
                  <a:lnTo>
                    <a:pt x="20" y="388"/>
                  </a:lnTo>
                  <a:lnTo>
                    <a:pt x="34" y="404"/>
                  </a:lnTo>
                  <a:lnTo>
                    <a:pt x="50" y="414"/>
                  </a:lnTo>
                  <a:lnTo>
                    <a:pt x="54" y="454"/>
                  </a:lnTo>
                  <a:lnTo>
                    <a:pt x="54" y="454"/>
                  </a:lnTo>
                  <a:lnTo>
                    <a:pt x="58" y="472"/>
                  </a:lnTo>
                  <a:lnTo>
                    <a:pt x="58" y="472"/>
                  </a:lnTo>
                  <a:lnTo>
                    <a:pt x="58" y="490"/>
                  </a:lnTo>
                  <a:lnTo>
                    <a:pt x="64" y="558"/>
                  </a:lnTo>
                  <a:lnTo>
                    <a:pt x="64" y="558"/>
                  </a:lnTo>
                  <a:lnTo>
                    <a:pt x="68" y="574"/>
                  </a:lnTo>
                  <a:lnTo>
                    <a:pt x="68" y="574"/>
                  </a:lnTo>
                  <a:lnTo>
                    <a:pt x="66" y="584"/>
                  </a:lnTo>
                  <a:lnTo>
                    <a:pt x="66" y="596"/>
                  </a:lnTo>
                  <a:lnTo>
                    <a:pt x="94" y="862"/>
                  </a:lnTo>
                  <a:lnTo>
                    <a:pt x="94" y="862"/>
                  </a:lnTo>
                  <a:lnTo>
                    <a:pt x="96" y="878"/>
                  </a:lnTo>
                  <a:lnTo>
                    <a:pt x="102" y="892"/>
                  </a:lnTo>
                  <a:lnTo>
                    <a:pt x="110" y="904"/>
                  </a:lnTo>
                  <a:lnTo>
                    <a:pt x="120" y="914"/>
                  </a:lnTo>
                  <a:lnTo>
                    <a:pt x="130" y="922"/>
                  </a:lnTo>
                  <a:lnTo>
                    <a:pt x="144" y="928"/>
                  </a:lnTo>
                  <a:lnTo>
                    <a:pt x="158" y="932"/>
                  </a:lnTo>
                  <a:lnTo>
                    <a:pt x="172" y="934"/>
                  </a:lnTo>
                  <a:lnTo>
                    <a:pt x="172" y="934"/>
                  </a:lnTo>
                  <a:lnTo>
                    <a:pt x="182" y="934"/>
                  </a:lnTo>
                  <a:lnTo>
                    <a:pt x="182" y="9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81"/>
            <p:cNvSpPr/>
            <p:nvPr/>
          </p:nvSpPr>
          <p:spPr>
            <a:xfrm>
              <a:off x="2803320" y="2876400"/>
              <a:ext cx="1146240" cy="128916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722" h="812">
                  <a:moveTo>
                    <a:pt x="326" y="812"/>
                  </a:moveTo>
                  <a:lnTo>
                    <a:pt x="326" y="812"/>
                  </a:lnTo>
                  <a:lnTo>
                    <a:pt x="348" y="810"/>
                  </a:lnTo>
                  <a:lnTo>
                    <a:pt x="372" y="808"/>
                  </a:lnTo>
                  <a:lnTo>
                    <a:pt x="372" y="808"/>
                  </a:lnTo>
                  <a:lnTo>
                    <a:pt x="396" y="806"/>
                  </a:lnTo>
                  <a:lnTo>
                    <a:pt x="420" y="802"/>
                  </a:lnTo>
                  <a:lnTo>
                    <a:pt x="442" y="796"/>
                  </a:lnTo>
                  <a:lnTo>
                    <a:pt x="466" y="788"/>
                  </a:lnTo>
                  <a:lnTo>
                    <a:pt x="488" y="780"/>
                  </a:lnTo>
                  <a:lnTo>
                    <a:pt x="510" y="772"/>
                  </a:lnTo>
                  <a:lnTo>
                    <a:pt x="530" y="760"/>
                  </a:lnTo>
                  <a:lnTo>
                    <a:pt x="552" y="748"/>
                  </a:lnTo>
                  <a:lnTo>
                    <a:pt x="572" y="736"/>
                  </a:lnTo>
                  <a:lnTo>
                    <a:pt x="592" y="722"/>
                  </a:lnTo>
                  <a:lnTo>
                    <a:pt x="612" y="706"/>
                  </a:lnTo>
                  <a:lnTo>
                    <a:pt x="632" y="688"/>
                  </a:lnTo>
                  <a:lnTo>
                    <a:pt x="670" y="650"/>
                  </a:lnTo>
                  <a:lnTo>
                    <a:pt x="706" y="608"/>
                  </a:lnTo>
                  <a:lnTo>
                    <a:pt x="706" y="608"/>
                  </a:lnTo>
                  <a:lnTo>
                    <a:pt x="714" y="596"/>
                  </a:lnTo>
                  <a:lnTo>
                    <a:pt x="720" y="582"/>
                  </a:lnTo>
                  <a:lnTo>
                    <a:pt x="722" y="568"/>
                  </a:lnTo>
                  <a:lnTo>
                    <a:pt x="722" y="552"/>
                  </a:lnTo>
                  <a:lnTo>
                    <a:pt x="720" y="538"/>
                  </a:lnTo>
                  <a:lnTo>
                    <a:pt x="716" y="524"/>
                  </a:lnTo>
                  <a:lnTo>
                    <a:pt x="708" y="512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74" y="472"/>
                  </a:lnTo>
                  <a:lnTo>
                    <a:pt x="648" y="434"/>
                  </a:lnTo>
                  <a:lnTo>
                    <a:pt x="648" y="434"/>
                  </a:lnTo>
                  <a:lnTo>
                    <a:pt x="636" y="420"/>
                  </a:lnTo>
                  <a:lnTo>
                    <a:pt x="620" y="408"/>
                  </a:lnTo>
                  <a:lnTo>
                    <a:pt x="602" y="400"/>
                  </a:lnTo>
                  <a:lnTo>
                    <a:pt x="584" y="398"/>
                  </a:lnTo>
                  <a:lnTo>
                    <a:pt x="584" y="398"/>
                  </a:lnTo>
                  <a:lnTo>
                    <a:pt x="564" y="400"/>
                  </a:lnTo>
                  <a:lnTo>
                    <a:pt x="546" y="404"/>
                  </a:lnTo>
                  <a:lnTo>
                    <a:pt x="530" y="414"/>
                  </a:lnTo>
                  <a:lnTo>
                    <a:pt x="518" y="428"/>
                  </a:lnTo>
                  <a:lnTo>
                    <a:pt x="518" y="428"/>
                  </a:lnTo>
                  <a:lnTo>
                    <a:pt x="496" y="454"/>
                  </a:lnTo>
                  <a:lnTo>
                    <a:pt x="474" y="478"/>
                  </a:lnTo>
                  <a:lnTo>
                    <a:pt x="452" y="498"/>
                  </a:lnTo>
                  <a:lnTo>
                    <a:pt x="430" y="514"/>
                  </a:lnTo>
                  <a:lnTo>
                    <a:pt x="410" y="528"/>
                  </a:lnTo>
                  <a:lnTo>
                    <a:pt x="388" y="538"/>
                  </a:lnTo>
                  <a:lnTo>
                    <a:pt x="368" y="546"/>
                  </a:lnTo>
                  <a:lnTo>
                    <a:pt x="346" y="550"/>
                  </a:lnTo>
                  <a:lnTo>
                    <a:pt x="346" y="550"/>
                  </a:lnTo>
                  <a:lnTo>
                    <a:pt x="336" y="550"/>
                  </a:lnTo>
                  <a:lnTo>
                    <a:pt x="336" y="550"/>
                  </a:lnTo>
                  <a:lnTo>
                    <a:pt x="324" y="550"/>
                  </a:lnTo>
                  <a:lnTo>
                    <a:pt x="316" y="546"/>
                  </a:lnTo>
                  <a:lnTo>
                    <a:pt x="310" y="542"/>
                  </a:lnTo>
                  <a:lnTo>
                    <a:pt x="304" y="536"/>
                  </a:lnTo>
                  <a:lnTo>
                    <a:pt x="300" y="524"/>
                  </a:lnTo>
                  <a:lnTo>
                    <a:pt x="296" y="510"/>
                  </a:lnTo>
                  <a:lnTo>
                    <a:pt x="292" y="490"/>
                  </a:lnTo>
                  <a:lnTo>
                    <a:pt x="292" y="490"/>
                  </a:lnTo>
                  <a:lnTo>
                    <a:pt x="286" y="408"/>
                  </a:lnTo>
                  <a:lnTo>
                    <a:pt x="278" y="316"/>
                  </a:lnTo>
                  <a:lnTo>
                    <a:pt x="268" y="138"/>
                  </a:lnTo>
                  <a:lnTo>
                    <a:pt x="268" y="138"/>
                  </a:lnTo>
                  <a:lnTo>
                    <a:pt x="276" y="124"/>
                  </a:lnTo>
                  <a:lnTo>
                    <a:pt x="282" y="112"/>
                  </a:lnTo>
                  <a:lnTo>
                    <a:pt x="284" y="98"/>
                  </a:lnTo>
                  <a:lnTo>
                    <a:pt x="286" y="84"/>
                  </a:lnTo>
                  <a:lnTo>
                    <a:pt x="286" y="84"/>
                  </a:lnTo>
                  <a:lnTo>
                    <a:pt x="286" y="68"/>
                  </a:lnTo>
                  <a:lnTo>
                    <a:pt x="282" y="52"/>
                  </a:lnTo>
                  <a:lnTo>
                    <a:pt x="274" y="36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50" y="14"/>
                  </a:lnTo>
                  <a:lnTo>
                    <a:pt x="236" y="6"/>
                  </a:lnTo>
                  <a:lnTo>
                    <a:pt x="220" y="2"/>
                  </a:lnTo>
                  <a:lnTo>
                    <a:pt x="202" y="0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58" y="10"/>
                  </a:lnTo>
                  <a:lnTo>
                    <a:pt x="44" y="16"/>
                  </a:lnTo>
                  <a:lnTo>
                    <a:pt x="30" y="24"/>
                  </a:lnTo>
                  <a:lnTo>
                    <a:pt x="20" y="34"/>
                  </a:lnTo>
                  <a:lnTo>
                    <a:pt x="10" y="46"/>
                  </a:lnTo>
                  <a:lnTo>
                    <a:pt x="4" y="60"/>
                  </a:lnTo>
                  <a:lnTo>
                    <a:pt x="0" y="7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4" y="184"/>
                  </a:lnTo>
                  <a:lnTo>
                    <a:pt x="14" y="302"/>
                  </a:lnTo>
                  <a:lnTo>
                    <a:pt x="32" y="516"/>
                  </a:lnTo>
                  <a:lnTo>
                    <a:pt x="32" y="516"/>
                  </a:lnTo>
                  <a:lnTo>
                    <a:pt x="38" y="562"/>
                  </a:lnTo>
                  <a:lnTo>
                    <a:pt x="48" y="602"/>
                  </a:lnTo>
                  <a:lnTo>
                    <a:pt x="60" y="638"/>
                  </a:lnTo>
                  <a:lnTo>
                    <a:pt x="76" y="670"/>
                  </a:lnTo>
                  <a:lnTo>
                    <a:pt x="92" y="698"/>
                  </a:lnTo>
                  <a:lnTo>
                    <a:pt x="110" y="722"/>
                  </a:lnTo>
                  <a:lnTo>
                    <a:pt x="130" y="742"/>
                  </a:lnTo>
                  <a:lnTo>
                    <a:pt x="152" y="760"/>
                  </a:lnTo>
                  <a:lnTo>
                    <a:pt x="174" y="774"/>
                  </a:lnTo>
                  <a:lnTo>
                    <a:pt x="196" y="786"/>
                  </a:lnTo>
                  <a:lnTo>
                    <a:pt x="220" y="794"/>
                  </a:lnTo>
                  <a:lnTo>
                    <a:pt x="242" y="802"/>
                  </a:lnTo>
                  <a:lnTo>
                    <a:pt x="264" y="806"/>
                  </a:lnTo>
                  <a:lnTo>
                    <a:pt x="286" y="810"/>
                  </a:lnTo>
                  <a:lnTo>
                    <a:pt x="326" y="812"/>
                  </a:lnTo>
                  <a:lnTo>
                    <a:pt x="326" y="8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82"/>
            <p:cNvSpPr/>
            <p:nvPr/>
          </p:nvSpPr>
          <p:spPr>
            <a:xfrm>
              <a:off x="3965400" y="2685600"/>
              <a:ext cx="990360" cy="138132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81320"/>
                <a:gd name="textAreaBottom" fmla="*/ 1381680 h 1381320"/>
              </a:gdLst>
              <a:ahLst/>
              <a:rect l="textAreaLeft" t="textAreaTop" r="textAreaRight" b="textAreaBottom"/>
              <a:pathLst>
                <a:path w="624" h="870">
                  <a:moveTo>
                    <a:pt x="102" y="612"/>
                  </a:moveTo>
                  <a:lnTo>
                    <a:pt x="102" y="612"/>
                  </a:lnTo>
                  <a:lnTo>
                    <a:pt x="186" y="670"/>
                  </a:lnTo>
                  <a:lnTo>
                    <a:pt x="268" y="730"/>
                  </a:lnTo>
                  <a:lnTo>
                    <a:pt x="342" y="790"/>
                  </a:lnTo>
                  <a:lnTo>
                    <a:pt x="374" y="820"/>
                  </a:lnTo>
                  <a:lnTo>
                    <a:pt x="402" y="846"/>
                  </a:lnTo>
                  <a:lnTo>
                    <a:pt x="402" y="846"/>
                  </a:lnTo>
                  <a:lnTo>
                    <a:pt x="414" y="856"/>
                  </a:lnTo>
                  <a:lnTo>
                    <a:pt x="428" y="864"/>
                  </a:lnTo>
                  <a:lnTo>
                    <a:pt x="442" y="868"/>
                  </a:lnTo>
                  <a:lnTo>
                    <a:pt x="458" y="870"/>
                  </a:lnTo>
                  <a:lnTo>
                    <a:pt x="458" y="870"/>
                  </a:lnTo>
                  <a:lnTo>
                    <a:pt x="474" y="868"/>
                  </a:lnTo>
                  <a:lnTo>
                    <a:pt x="488" y="864"/>
                  </a:lnTo>
                  <a:lnTo>
                    <a:pt x="502" y="856"/>
                  </a:lnTo>
                  <a:lnTo>
                    <a:pt x="514" y="846"/>
                  </a:lnTo>
                  <a:lnTo>
                    <a:pt x="602" y="760"/>
                  </a:lnTo>
                  <a:lnTo>
                    <a:pt x="602" y="760"/>
                  </a:lnTo>
                  <a:lnTo>
                    <a:pt x="612" y="748"/>
                  </a:lnTo>
                  <a:lnTo>
                    <a:pt x="620" y="732"/>
                  </a:lnTo>
                  <a:lnTo>
                    <a:pt x="624" y="716"/>
                  </a:lnTo>
                  <a:lnTo>
                    <a:pt x="624" y="700"/>
                  </a:lnTo>
                  <a:lnTo>
                    <a:pt x="624" y="700"/>
                  </a:lnTo>
                  <a:lnTo>
                    <a:pt x="622" y="684"/>
                  </a:lnTo>
                  <a:lnTo>
                    <a:pt x="616" y="668"/>
                  </a:lnTo>
                  <a:lnTo>
                    <a:pt x="608" y="654"/>
                  </a:lnTo>
                  <a:lnTo>
                    <a:pt x="596" y="642"/>
                  </a:lnTo>
                  <a:lnTo>
                    <a:pt x="596" y="642"/>
                  </a:lnTo>
                  <a:lnTo>
                    <a:pt x="524" y="584"/>
                  </a:lnTo>
                  <a:lnTo>
                    <a:pt x="448" y="526"/>
                  </a:lnTo>
                  <a:lnTo>
                    <a:pt x="372" y="472"/>
                  </a:lnTo>
                  <a:lnTo>
                    <a:pt x="298" y="424"/>
                  </a:lnTo>
                  <a:lnTo>
                    <a:pt x="298" y="424"/>
                  </a:lnTo>
                  <a:lnTo>
                    <a:pt x="380" y="330"/>
                  </a:lnTo>
                  <a:lnTo>
                    <a:pt x="380" y="330"/>
                  </a:lnTo>
                  <a:lnTo>
                    <a:pt x="470" y="226"/>
                  </a:lnTo>
                  <a:lnTo>
                    <a:pt x="470" y="226"/>
                  </a:lnTo>
                  <a:lnTo>
                    <a:pt x="484" y="218"/>
                  </a:lnTo>
                  <a:lnTo>
                    <a:pt x="498" y="210"/>
                  </a:lnTo>
                  <a:lnTo>
                    <a:pt x="508" y="202"/>
                  </a:lnTo>
                  <a:lnTo>
                    <a:pt x="520" y="190"/>
                  </a:lnTo>
                  <a:lnTo>
                    <a:pt x="520" y="190"/>
                  </a:lnTo>
                  <a:lnTo>
                    <a:pt x="528" y="174"/>
                  </a:lnTo>
                  <a:lnTo>
                    <a:pt x="534" y="158"/>
                  </a:lnTo>
                  <a:lnTo>
                    <a:pt x="536" y="142"/>
                  </a:lnTo>
                  <a:lnTo>
                    <a:pt x="534" y="124"/>
                  </a:lnTo>
                  <a:lnTo>
                    <a:pt x="534" y="124"/>
                  </a:lnTo>
                  <a:lnTo>
                    <a:pt x="528" y="108"/>
                  </a:lnTo>
                  <a:lnTo>
                    <a:pt x="520" y="92"/>
                  </a:lnTo>
                  <a:lnTo>
                    <a:pt x="508" y="80"/>
                  </a:lnTo>
                  <a:lnTo>
                    <a:pt x="494" y="70"/>
                  </a:lnTo>
                  <a:lnTo>
                    <a:pt x="380" y="10"/>
                  </a:lnTo>
                  <a:lnTo>
                    <a:pt x="380" y="10"/>
                  </a:lnTo>
                  <a:lnTo>
                    <a:pt x="368" y="4"/>
                  </a:lnTo>
                  <a:lnTo>
                    <a:pt x="354" y="2"/>
                  </a:lnTo>
                  <a:lnTo>
                    <a:pt x="340" y="0"/>
                  </a:lnTo>
                  <a:lnTo>
                    <a:pt x="326" y="2"/>
                  </a:lnTo>
                  <a:lnTo>
                    <a:pt x="312" y="6"/>
                  </a:lnTo>
                  <a:lnTo>
                    <a:pt x="300" y="14"/>
                  </a:lnTo>
                  <a:lnTo>
                    <a:pt x="288" y="22"/>
                  </a:lnTo>
                  <a:lnTo>
                    <a:pt x="278" y="32"/>
                  </a:lnTo>
                  <a:lnTo>
                    <a:pt x="278" y="32"/>
                  </a:lnTo>
                  <a:lnTo>
                    <a:pt x="232" y="94"/>
                  </a:lnTo>
                  <a:lnTo>
                    <a:pt x="170" y="174"/>
                  </a:lnTo>
                  <a:lnTo>
                    <a:pt x="106" y="256"/>
                  </a:lnTo>
                  <a:lnTo>
                    <a:pt x="46" y="326"/>
                  </a:lnTo>
                  <a:lnTo>
                    <a:pt x="46" y="326"/>
                  </a:lnTo>
                  <a:lnTo>
                    <a:pt x="34" y="342"/>
                  </a:lnTo>
                  <a:lnTo>
                    <a:pt x="24" y="360"/>
                  </a:lnTo>
                  <a:lnTo>
                    <a:pt x="16" y="376"/>
                  </a:lnTo>
                  <a:lnTo>
                    <a:pt x="10" y="392"/>
                  </a:lnTo>
                  <a:lnTo>
                    <a:pt x="4" y="410"/>
                  </a:lnTo>
                  <a:lnTo>
                    <a:pt x="2" y="428"/>
                  </a:lnTo>
                  <a:lnTo>
                    <a:pt x="0" y="446"/>
                  </a:lnTo>
                  <a:lnTo>
                    <a:pt x="2" y="464"/>
                  </a:lnTo>
                  <a:lnTo>
                    <a:pt x="2" y="464"/>
                  </a:lnTo>
                  <a:lnTo>
                    <a:pt x="6" y="490"/>
                  </a:lnTo>
                  <a:lnTo>
                    <a:pt x="12" y="514"/>
                  </a:lnTo>
                  <a:lnTo>
                    <a:pt x="22" y="534"/>
                  </a:lnTo>
                  <a:lnTo>
                    <a:pt x="34" y="552"/>
                  </a:lnTo>
                  <a:lnTo>
                    <a:pt x="48" y="568"/>
                  </a:lnTo>
                  <a:lnTo>
                    <a:pt x="64" y="584"/>
                  </a:lnTo>
                  <a:lnTo>
                    <a:pt x="82" y="598"/>
                  </a:lnTo>
                  <a:lnTo>
                    <a:pt x="102" y="612"/>
                  </a:lnTo>
                  <a:lnTo>
                    <a:pt x="102" y="6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83"/>
            <p:cNvSpPr/>
            <p:nvPr/>
          </p:nvSpPr>
          <p:spPr>
            <a:xfrm>
              <a:off x="5010120" y="2597040"/>
              <a:ext cx="1295280" cy="135252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816" h="852">
                  <a:moveTo>
                    <a:pt x="74" y="806"/>
                  </a:moveTo>
                  <a:lnTo>
                    <a:pt x="74" y="806"/>
                  </a:lnTo>
                  <a:lnTo>
                    <a:pt x="80" y="816"/>
                  </a:lnTo>
                  <a:lnTo>
                    <a:pt x="86" y="824"/>
                  </a:lnTo>
                  <a:lnTo>
                    <a:pt x="96" y="832"/>
                  </a:lnTo>
                  <a:lnTo>
                    <a:pt x="104" y="838"/>
                  </a:lnTo>
                  <a:lnTo>
                    <a:pt x="114" y="844"/>
                  </a:lnTo>
                  <a:lnTo>
                    <a:pt x="124" y="848"/>
                  </a:lnTo>
                  <a:lnTo>
                    <a:pt x="136" y="850"/>
                  </a:lnTo>
                  <a:lnTo>
                    <a:pt x="146" y="852"/>
                  </a:lnTo>
                  <a:lnTo>
                    <a:pt x="146" y="852"/>
                  </a:lnTo>
                  <a:lnTo>
                    <a:pt x="160" y="850"/>
                  </a:lnTo>
                  <a:lnTo>
                    <a:pt x="248" y="836"/>
                  </a:lnTo>
                  <a:lnTo>
                    <a:pt x="248" y="836"/>
                  </a:lnTo>
                  <a:lnTo>
                    <a:pt x="264" y="832"/>
                  </a:lnTo>
                  <a:lnTo>
                    <a:pt x="280" y="822"/>
                  </a:lnTo>
                  <a:lnTo>
                    <a:pt x="294" y="812"/>
                  </a:lnTo>
                  <a:lnTo>
                    <a:pt x="304" y="798"/>
                  </a:lnTo>
                  <a:lnTo>
                    <a:pt x="304" y="798"/>
                  </a:lnTo>
                  <a:lnTo>
                    <a:pt x="310" y="786"/>
                  </a:lnTo>
                  <a:lnTo>
                    <a:pt x="310" y="786"/>
                  </a:lnTo>
                  <a:lnTo>
                    <a:pt x="324" y="798"/>
                  </a:lnTo>
                  <a:lnTo>
                    <a:pt x="340" y="806"/>
                  </a:lnTo>
                  <a:lnTo>
                    <a:pt x="356" y="814"/>
                  </a:lnTo>
                  <a:lnTo>
                    <a:pt x="374" y="822"/>
                  </a:lnTo>
                  <a:lnTo>
                    <a:pt x="392" y="826"/>
                  </a:lnTo>
                  <a:lnTo>
                    <a:pt x="412" y="830"/>
                  </a:lnTo>
                  <a:lnTo>
                    <a:pt x="432" y="832"/>
                  </a:lnTo>
                  <a:lnTo>
                    <a:pt x="452" y="834"/>
                  </a:lnTo>
                  <a:lnTo>
                    <a:pt x="452" y="834"/>
                  </a:lnTo>
                  <a:lnTo>
                    <a:pt x="484" y="832"/>
                  </a:lnTo>
                  <a:lnTo>
                    <a:pt x="484" y="832"/>
                  </a:lnTo>
                  <a:lnTo>
                    <a:pt x="514" y="828"/>
                  </a:lnTo>
                  <a:lnTo>
                    <a:pt x="542" y="822"/>
                  </a:lnTo>
                  <a:lnTo>
                    <a:pt x="566" y="812"/>
                  </a:lnTo>
                  <a:lnTo>
                    <a:pt x="586" y="802"/>
                  </a:lnTo>
                  <a:lnTo>
                    <a:pt x="606" y="792"/>
                  </a:lnTo>
                  <a:lnTo>
                    <a:pt x="622" y="778"/>
                  </a:lnTo>
                  <a:lnTo>
                    <a:pt x="636" y="764"/>
                  </a:lnTo>
                  <a:lnTo>
                    <a:pt x="648" y="750"/>
                  </a:lnTo>
                  <a:lnTo>
                    <a:pt x="648" y="750"/>
                  </a:lnTo>
                  <a:lnTo>
                    <a:pt x="662" y="760"/>
                  </a:lnTo>
                  <a:lnTo>
                    <a:pt x="680" y="766"/>
                  </a:lnTo>
                  <a:lnTo>
                    <a:pt x="698" y="768"/>
                  </a:lnTo>
                  <a:lnTo>
                    <a:pt x="716" y="766"/>
                  </a:lnTo>
                  <a:lnTo>
                    <a:pt x="716" y="766"/>
                  </a:lnTo>
                  <a:lnTo>
                    <a:pt x="734" y="760"/>
                  </a:lnTo>
                  <a:lnTo>
                    <a:pt x="750" y="750"/>
                  </a:lnTo>
                  <a:lnTo>
                    <a:pt x="762" y="736"/>
                  </a:lnTo>
                  <a:lnTo>
                    <a:pt x="772" y="718"/>
                  </a:lnTo>
                  <a:lnTo>
                    <a:pt x="810" y="622"/>
                  </a:lnTo>
                  <a:lnTo>
                    <a:pt x="810" y="622"/>
                  </a:lnTo>
                  <a:lnTo>
                    <a:pt x="814" y="610"/>
                  </a:lnTo>
                  <a:lnTo>
                    <a:pt x="816" y="596"/>
                  </a:lnTo>
                  <a:lnTo>
                    <a:pt x="816" y="584"/>
                  </a:lnTo>
                  <a:lnTo>
                    <a:pt x="814" y="570"/>
                  </a:lnTo>
                  <a:lnTo>
                    <a:pt x="808" y="558"/>
                  </a:lnTo>
                  <a:lnTo>
                    <a:pt x="802" y="548"/>
                  </a:lnTo>
                  <a:lnTo>
                    <a:pt x="794" y="538"/>
                  </a:lnTo>
                  <a:lnTo>
                    <a:pt x="784" y="528"/>
                  </a:lnTo>
                  <a:lnTo>
                    <a:pt x="784" y="528"/>
                  </a:lnTo>
                  <a:lnTo>
                    <a:pt x="756" y="510"/>
                  </a:lnTo>
                  <a:lnTo>
                    <a:pt x="726" y="492"/>
                  </a:lnTo>
                  <a:lnTo>
                    <a:pt x="694" y="474"/>
                  </a:lnTo>
                  <a:lnTo>
                    <a:pt x="662" y="460"/>
                  </a:lnTo>
                  <a:lnTo>
                    <a:pt x="662" y="460"/>
                  </a:lnTo>
                  <a:lnTo>
                    <a:pt x="652" y="392"/>
                  </a:lnTo>
                  <a:lnTo>
                    <a:pt x="652" y="392"/>
                  </a:lnTo>
                  <a:lnTo>
                    <a:pt x="690" y="380"/>
                  </a:lnTo>
                  <a:lnTo>
                    <a:pt x="724" y="368"/>
                  </a:lnTo>
                  <a:lnTo>
                    <a:pt x="724" y="368"/>
                  </a:lnTo>
                  <a:lnTo>
                    <a:pt x="736" y="360"/>
                  </a:lnTo>
                  <a:lnTo>
                    <a:pt x="746" y="352"/>
                  </a:lnTo>
                  <a:lnTo>
                    <a:pt x="756" y="342"/>
                  </a:lnTo>
                  <a:lnTo>
                    <a:pt x="762" y="332"/>
                  </a:lnTo>
                  <a:lnTo>
                    <a:pt x="768" y="320"/>
                  </a:lnTo>
                  <a:lnTo>
                    <a:pt x="772" y="306"/>
                  </a:lnTo>
                  <a:lnTo>
                    <a:pt x="772" y="292"/>
                  </a:lnTo>
                  <a:lnTo>
                    <a:pt x="770" y="280"/>
                  </a:lnTo>
                  <a:lnTo>
                    <a:pt x="754" y="186"/>
                  </a:lnTo>
                  <a:lnTo>
                    <a:pt x="754" y="186"/>
                  </a:lnTo>
                  <a:lnTo>
                    <a:pt x="748" y="168"/>
                  </a:lnTo>
                  <a:lnTo>
                    <a:pt x="740" y="154"/>
                  </a:lnTo>
                  <a:lnTo>
                    <a:pt x="728" y="140"/>
                  </a:lnTo>
                  <a:lnTo>
                    <a:pt x="714" y="130"/>
                  </a:lnTo>
                  <a:lnTo>
                    <a:pt x="714" y="130"/>
                  </a:lnTo>
                  <a:lnTo>
                    <a:pt x="696" y="124"/>
                  </a:lnTo>
                  <a:lnTo>
                    <a:pt x="680" y="120"/>
                  </a:lnTo>
                  <a:lnTo>
                    <a:pt x="662" y="122"/>
                  </a:lnTo>
                  <a:lnTo>
                    <a:pt x="644" y="126"/>
                  </a:lnTo>
                  <a:lnTo>
                    <a:pt x="644" y="126"/>
                  </a:lnTo>
                  <a:lnTo>
                    <a:pt x="618" y="136"/>
                  </a:lnTo>
                  <a:lnTo>
                    <a:pt x="618" y="128"/>
                  </a:lnTo>
                  <a:lnTo>
                    <a:pt x="618" y="128"/>
                  </a:lnTo>
                  <a:lnTo>
                    <a:pt x="626" y="108"/>
                  </a:lnTo>
                  <a:lnTo>
                    <a:pt x="630" y="86"/>
                  </a:lnTo>
                  <a:lnTo>
                    <a:pt x="630" y="86"/>
                  </a:lnTo>
                  <a:lnTo>
                    <a:pt x="630" y="70"/>
                  </a:lnTo>
                  <a:lnTo>
                    <a:pt x="626" y="52"/>
                  </a:lnTo>
                  <a:lnTo>
                    <a:pt x="618" y="38"/>
                  </a:lnTo>
                  <a:lnTo>
                    <a:pt x="608" y="24"/>
                  </a:lnTo>
                  <a:lnTo>
                    <a:pt x="608" y="24"/>
                  </a:lnTo>
                  <a:lnTo>
                    <a:pt x="594" y="12"/>
                  </a:lnTo>
                  <a:lnTo>
                    <a:pt x="580" y="6"/>
                  </a:lnTo>
                  <a:lnTo>
                    <a:pt x="562" y="0"/>
                  </a:lnTo>
                  <a:lnTo>
                    <a:pt x="546" y="0"/>
                  </a:lnTo>
                  <a:lnTo>
                    <a:pt x="428" y="8"/>
                  </a:lnTo>
                  <a:lnTo>
                    <a:pt x="428" y="8"/>
                  </a:lnTo>
                  <a:lnTo>
                    <a:pt x="412" y="12"/>
                  </a:lnTo>
                  <a:lnTo>
                    <a:pt x="396" y="18"/>
                  </a:lnTo>
                  <a:lnTo>
                    <a:pt x="384" y="26"/>
                  </a:lnTo>
                  <a:lnTo>
                    <a:pt x="372" y="38"/>
                  </a:lnTo>
                  <a:lnTo>
                    <a:pt x="372" y="38"/>
                  </a:lnTo>
                  <a:lnTo>
                    <a:pt x="362" y="50"/>
                  </a:lnTo>
                  <a:lnTo>
                    <a:pt x="356" y="66"/>
                  </a:lnTo>
                  <a:lnTo>
                    <a:pt x="354" y="82"/>
                  </a:lnTo>
                  <a:lnTo>
                    <a:pt x="354" y="98"/>
                  </a:lnTo>
                  <a:lnTo>
                    <a:pt x="354" y="98"/>
                  </a:lnTo>
                  <a:lnTo>
                    <a:pt x="366" y="188"/>
                  </a:lnTo>
                  <a:lnTo>
                    <a:pt x="366" y="188"/>
                  </a:lnTo>
                  <a:lnTo>
                    <a:pt x="328" y="194"/>
                  </a:lnTo>
                  <a:lnTo>
                    <a:pt x="290" y="196"/>
                  </a:lnTo>
                  <a:lnTo>
                    <a:pt x="290" y="196"/>
                  </a:lnTo>
                  <a:lnTo>
                    <a:pt x="274" y="198"/>
                  </a:lnTo>
                  <a:lnTo>
                    <a:pt x="262" y="204"/>
                  </a:lnTo>
                  <a:lnTo>
                    <a:pt x="262" y="202"/>
                  </a:lnTo>
                  <a:lnTo>
                    <a:pt x="262" y="202"/>
                  </a:lnTo>
                  <a:lnTo>
                    <a:pt x="270" y="188"/>
                  </a:lnTo>
                  <a:lnTo>
                    <a:pt x="278" y="176"/>
                  </a:lnTo>
                  <a:lnTo>
                    <a:pt x="284" y="160"/>
                  </a:lnTo>
                  <a:lnTo>
                    <a:pt x="286" y="146"/>
                  </a:lnTo>
                  <a:lnTo>
                    <a:pt x="286" y="146"/>
                  </a:lnTo>
                  <a:lnTo>
                    <a:pt x="286" y="130"/>
                  </a:lnTo>
                  <a:lnTo>
                    <a:pt x="282" y="114"/>
                  </a:lnTo>
                  <a:lnTo>
                    <a:pt x="276" y="100"/>
                  </a:lnTo>
                  <a:lnTo>
                    <a:pt x="268" y="88"/>
                  </a:lnTo>
                  <a:lnTo>
                    <a:pt x="256" y="76"/>
                  </a:lnTo>
                  <a:lnTo>
                    <a:pt x="244" y="68"/>
                  </a:lnTo>
                  <a:lnTo>
                    <a:pt x="230" y="62"/>
                  </a:lnTo>
                  <a:lnTo>
                    <a:pt x="214" y="60"/>
                  </a:lnTo>
                  <a:lnTo>
                    <a:pt x="96" y="48"/>
                  </a:lnTo>
                  <a:lnTo>
                    <a:pt x="96" y="48"/>
                  </a:lnTo>
                  <a:lnTo>
                    <a:pt x="80" y="48"/>
                  </a:lnTo>
                  <a:lnTo>
                    <a:pt x="64" y="52"/>
                  </a:lnTo>
                  <a:lnTo>
                    <a:pt x="50" y="58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26" y="78"/>
                  </a:lnTo>
                  <a:lnTo>
                    <a:pt x="16" y="92"/>
                  </a:lnTo>
                  <a:lnTo>
                    <a:pt x="10" y="106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2" y="208"/>
                  </a:lnTo>
                  <a:lnTo>
                    <a:pt x="0" y="298"/>
                  </a:lnTo>
                  <a:lnTo>
                    <a:pt x="0" y="346"/>
                  </a:lnTo>
                  <a:lnTo>
                    <a:pt x="0" y="392"/>
                  </a:lnTo>
                  <a:lnTo>
                    <a:pt x="2" y="440"/>
                  </a:lnTo>
                  <a:lnTo>
                    <a:pt x="6" y="488"/>
                  </a:lnTo>
                  <a:lnTo>
                    <a:pt x="6" y="488"/>
                  </a:lnTo>
                  <a:lnTo>
                    <a:pt x="12" y="540"/>
                  </a:lnTo>
                  <a:lnTo>
                    <a:pt x="26" y="626"/>
                  </a:lnTo>
                  <a:lnTo>
                    <a:pt x="36" y="674"/>
                  </a:lnTo>
                  <a:lnTo>
                    <a:pt x="46" y="722"/>
                  </a:lnTo>
                  <a:lnTo>
                    <a:pt x="60" y="766"/>
                  </a:lnTo>
                  <a:lnTo>
                    <a:pt x="66" y="788"/>
                  </a:lnTo>
                  <a:lnTo>
                    <a:pt x="74" y="806"/>
                  </a:lnTo>
                  <a:lnTo>
                    <a:pt x="74" y="806"/>
                  </a:lnTo>
                  <a:close/>
                  <a:moveTo>
                    <a:pt x="458" y="598"/>
                  </a:moveTo>
                  <a:lnTo>
                    <a:pt x="446" y="600"/>
                  </a:lnTo>
                  <a:lnTo>
                    <a:pt x="446" y="600"/>
                  </a:lnTo>
                  <a:lnTo>
                    <a:pt x="454" y="594"/>
                  </a:lnTo>
                  <a:lnTo>
                    <a:pt x="454" y="594"/>
                  </a:lnTo>
                  <a:lnTo>
                    <a:pt x="458" y="598"/>
                  </a:lnTo>
                  <a:lnTo>
                    <a:pt x="458" y="598"/>
                  </a:lnTo>
                  <a:close/>
                  <a:moveTo>
                    <a:pt x="306" y="444"/>
                  </a:moveTo>
                  <a:lnTo>
                    <a:pt x="306" y="444"/>
                  </a:lnTo>
                  <a:lnTo>
                    <a:pt x="314" y="444"/>
                  </a:lnTo>
                  <a:lnTo>
                    <a:pt x="384" y="436"/>
                  </a:lnTo>
                  <a:lnTo>
                    <a:pt x="384" y="436"/>
                  </a:lnTo>
                  <a:lnTo>
                    <a:pt x="354" y="450"/>
                  </a:lnTo>
                  <a:lnTo>
                    <a:pt x="326" y="466"/>
                  </a:lnTo>
                  <a:lnTo>
                    <a:pt x="306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84"/>
            <p:cNvSpPr/>
            <p:nvPr/>
          </p:nvSpPr>
          <p:spPr>
            <a:xfrm>
              <a:off x="1584000" y="4064040"/>
              <a:ext cx="4889880" cy="1746360"/>
            </a:xfrm>
            <a:custGeom>
              <a:avLst/>
              <a:gdLst>
                <a:gd name="textAreaLeft" fmla="*/ 0 w 4889880"/>
                <a:gd name="textAreaRight" fmla="*/ 4890240 w 4889880"/>
                <a:gd name="textAreaTop" fmla="*/ 0 h 1746360"/>
                <a:gd name="textAreaBottom" fmla="*/ 1746720 h 1746360"/>
              </a:gdLst>
              <a:ahLst/>
              <a:rect l="textAreaLeft" t="textAreaTop" r="textAreaRight" b="textAreaBottom"/>
              <a:pathLst>
                <a:path w="3080" h="1100">
                  <a:moveTo>
                    <a:pt x="3066" y="280"/>
                  </a:moveTo>
                  <a:lnTo>
                    <a:pt x="3066" y="280"/>
                  </a:lnTo>
                  <a:lnTo>
                    <a:pt x="3050" y="260"/>
                  </a:lnTo>
                  <a:lnTo>
                    <a:pt x="3034" y="242"/>
                  </a:lnTo>
                  <a:lnTo>
                    <a:pt x="3016" y="224"/>
                  </a:lnTo>
                  <a:lnTo>
                    <a:pt x="2998" y="206"/>
                  </a:lnTo>
                  <a:lnTo>
                    <a:pt x="2998" y="206"/>
                  </a:lnTo>
                  <a:lnTo>
                    <a:pt x="3000" y="190"/>
                  </a:lnTo>
                  <a:lnTo>
                    <a:pt x="3000" y="174"/>
                  </a:lnTo>
                  <a:lnTo>
                    <a:pt x="2988" y="70"/>
                  </a:lnTo>
                  <a:lnTo>
                    <a:pt x="2988" y="70"/>
                  </a:lnTo>
                  <a:lnTo>
                    <a:pt x="2986" y="54"/>
                  </a:lnTo>
                  <a:lnTo>
                    <a:pt x="2978" y="40"/>
                  </a:lnTo>
                  <a:lnTo>
                    <a:pt x="2970" y="26"/>
                  </a:lnTo>
                  <a:lnTo>
                    <a:pt x="2958" y="16"/>
                  </a:lnTo>
                  <a:lnTo>
                    <a:pt x="2958" y="16"/>
                  </a:lnTo>
                  <a:lnTo>
                    <a:pt x="2944" y="8"/>
                  </a:lnTo>
                  <a:lnTo>
                    <a:pt x="2928" y="2"/>
                  </a:lnTo>
                  <a:lnTo>
                    <a:pt x="2914" y="0"/>
                  </a:lnTo>
                  <a:lnTo>
                    <a:pt x="2896" y="0"/>
                  </a:lnTo>
                  <a:lnTo>
                    <a:pt x="2896" y="0"/>
                  </a:lnTo>
                  <a:lnTo>
                    <a:pt x="2618" y="46"/>
                  </a:lnTo>
                  <a:lnTo>
                    <a:pt x="2370" y="88"/>
                  </a:lnTo>
                  <a:lnTo>
                    <a:pt x="2370" y="88"/>
                  </a:lnTo>
                  <a:lnTo>
                    <a:pt x="2336" y="92"/>
                  </a:lnTo>
                  <a:lnTo>
                    <a:pt x="2298" y="98"/>
                  </a:lnTo>
                  <a:lnTo>
                    <a:pt x="2298" y="98"/>
                  </a:lnTo>
                  <a:lnTo>
                    <a:pt x="2282" y="100"/>
                  </a:lnTo>
                  <a:lnTo>
                    <a:pt x="2268" y="108"/>
                  </a:lnTo>
                  <a:lnTo>
                    <a:pt x="2254" y="116"/>
                  </a:lnTo>
                  <a:lnTo>
                    <a:pt x="2242" y="130"/>
                  </a:lnTo>
                  <a:lnTo>
                    <a:pt x="2242" y="130"/>
                  </a:lnTo>
                  <a:lnTo>
                    <a:pt x="2234" y="142"/>
                  </a:lnTo>
                  <a:lnTo>
                    <a:pt x="2230" y="156"/>
                  </a:lnTo>
                  <a:lnTo>
                    <a:pt x="2230" y="156"/>
                  </a:lnTo>
                  <a:lnTo>
                    <a:pt x="2224" y="142"/>
                  </a:lnTo>
                  <a:lnTo>
                    <a:pt x="2216" y="130"/>
                  </a:lnTo>
                  <a:lnTo>
                    <a:pt x="2206" y="118"/>
                  </a:lnTo>
                  <a:lnTo>
                    <a:pt x="2192" y="110"/>
                  </a:lnTo>
                  <a:lnTo>
                    <a:pt x="2192" y="110"/>
                  </a:lnTo>
                  <a:lnTo>
                    <a:pt x="2178" y="102"/>
                  </a:lnTo>
                  <a:lnTo>
                    <a:pt x="2160" y="100"/>
                  </a:lnTo>
                  <a:lnTo>
                    <a:pt x="2144" y="100"/>
                  </a:lnTo>
                  <a:lnTo>
                    <a:pt x="2128" y="102"/>
                  </a:lnTo>
                  <a:lnTo>
                    <a:pt x="2128" y="102"/>
                  </a:lnTo>
                  <a:lnTo>
                    <a:pt x="2076" y="118"/>
                  </a:lnTo>
                  <a:lnTo>
                    <a:pt x="2022" y="130"/>
                  </a:lnTo>
                  <a:lnTo>
                    <a:pt x="2022" y="130"/>
                  </a:lnTo>
                  <a:lnTo>
                    <a:pt x="2018" y="116"/>
                  </a:lnTo>
                  <a:lnTo>
                    <a:pt x="2014" y="104"/>
                  </a:lnTo>
                  <a:lnTo>
                    <a:pt x="2006" y="92"/>
                  </a:lnTo>
                  <a:lnTo>
                    <a:pt x="1996" y="82"/>
                  </a:lnTo>
                  <a:lnTo>
                    <a:pt x="1996" y="82"/>
                  </a:lnTo>
                  <a:lnTo>
                    <a:pt x="1984" y="72"/>
                  </a:lnTo>
                  <a:lnTo>
                    <a:pt x="1970" y="66"/>
                  </a:lnTo>
                  <a:lnTo>
                    <a:pt x="1954" y="62"/>
                  </a:lnTo>
                  <a:lnTo>
                    <a:pt x="1938" y="60"/>
                  </a:lnTo>
                  <a:lnTo>
                    <a:pt x="1822" y="68"/>
                  </a:lnTo>
                  <a:lnTo>
                    <a:pt x="1822" y="68"/>
                  </a:lnTo>
                  <a:lnTo>
                    <a:pt x="1806" y="70"/>
                  </a:lnTo>
                  <a:lnTo>
                    <a:pt x="1790" y="76"/>
                  </a:lnTo>
                  <a:lnTo>
                    <a:pt x="1778" y="84"/>
                  </a:lnTo>
                  <a:lnTo>
                    <a:pt x="1766" y="96"/>
                  </a:lnTo>
                  <a:lnTo>
                    <a:pt x="1766" y="96"/>
                  </a:lnTo>
                  <a:lnTo>
                    <a:pt x="1756" y="108"/>
                  </a:lnTo>
                  <a:lnTo>
                    <a:pt x="1750" y="124"/>
                  </a:lnTo>
                  <a:lnTo>
                    <a:pt x="1746" y="138"/>
                  </a:lnTo>
                  <a:lnTo>
                    <a:pt x="1746" y="156"/>
                  </a:lnTo>
                  <a:lnTo>
                    <a:pt x="1746" y="156"/>
                  </a:lnTo>
                  <a:lnTo>
                    <a:pt x="1748" y="172"/>
                  </a:lnTo>
                  <a:lnTo>
                    <a:pt x="1748" y="172"/>
                  </a:lnTo>
                  <a:lnTo>
                    <a:pt x="1666" y="180"/>
                  </a:lnTo>
                  <a:lnTo>
                    <a:pt x="1594" y="184"/>
                  </a:lnTo>
                  <a:lnTo>
                    <a:pt x="1594" y="184"/>
                  </a:lnTo>
                  <a:lnTo>
                    <a:pt x="1576" y="186"/>
                  </a:lnTo>
                  <a:lnTo>
                    <a:pt x="1562" y="192"/>
                  </a:lnTo>
                  <a:lnTo>
                    <a:pt x="1548" y="200"/>
                  </a:lnTo>
                  <a:lnTo>
                    <a:pt x="1536" y="212"/>
                  </a:lnTo>
                  <a:lnTo>
                    <a:pt x="1536" y="212"/>
                  </a:lnTo>
                  <a:lnTo>
                    <a:pt x="1528" y="222"/>
                  </a:lnTo>
                  <a:lnTo>
                    <a:pt x="1522" y="232"/>
                  </a:lnTo>
                  <a:lnTo>
                    <a:pt x="1522" y="232"/>
                  </a:lnTo>
                  <a:lnTo>
                    <a:pt x="1522" y="232"/>
                  </a:lnTo>
                  <a:lnTo>
                    <a:pt x="1518" y="216"/>
                  </a:lnTo>
                  <a:lnTo>
                    <a:pt x="1512" y="202"/>
                  </a:lnTo>
                  <a:lnTo>
                    <a:pt x="1504" y="188"/>
                  </a:lnTo>
                  <a:lnTo>
                    <a:pt x="1494" y="178"/>
                  </a:lnTo>
                  <a:lnTo>
                    <a:pt x="1480" y="170"/>
                  </a:lnTo>
                  <a:lnTo>
                    <a:pt x="1466" y="164"/>
                  </a:lnTo>
                  <a:lnTo>
                    <a:pt x="1450" y="160"/>
                  </a:lnTo>
                  <a:lnTo>
                    <a:pt x="1434" y="160"/>
                  </a:lnTo>
                  <a:lnTo>
                    <a:pt x="836" y="222"/>
                  </a:lnTo>
                  <a:lnTo>
                    <a:pt x="836" y="222"/>
                  </a:lnTo>
                  <a:lnTo>
                    <a:pt x="820" y="226"/>
                  </a:lnTo>
                  <a:lnTo>
                    <a:pt x="806" y="232"/>
                  </a:lnTo>
                  <a:lnTo>
                    <a:pt x="794" y="240"/>
                  </a:lnTo>
                  <a:lnTo>
                    <a:pt x="782" y="250"/>
                  </a:lnTo>
                  <a:lnTo>
                    <a:pt x="782" y="250"/>
                  </a:lnTo>
                  <a:lnTo>
                    <a:pt x="774" y="242"/>
                  </a:lnTo>
                  <a:lnTo>
                    <a:pt x="774" y="242"/>
                  </a:lnTo>
                  <a:lnTo>
                    <a:pt x="760" y="232"/>
                  </a:lnTo>
                  <a:lnTo>
                    <a:pt x="746" y="226"/>
                  </a:lnTo>
                  <a:lnTo>
                    <a:pt x="730" y="224"/>
                  </a:lnTo>
                  <a:lnTo>
                    <a:pt x="714" y="224"/>
                  </a:lnTo>
                  <a:lnTo>
                    <a:pt x="532" y="242"/>
                  </a:lnTo>
                  <a:lnTo>
                    <a:pt x="532" y="242"/>
                  </a:lnTo>
                  <a:lnTo>
                    <a:pt x="524" y="232"/>
                  </a:lnTo>
                  <a:lnTo>
                    <a:pt x="516" y="220"/>
                  </a:lnTo>
                  <a:lnTo>
                    <a:pt x="516" y="220"/>
                  </a:lnTo>
                  <a:lnTo>
                    <a:pt x="502" y="210"/>
                  </a:lnTo>
                  <a:lnTo>
                    <a:pt x="488" y="204"/>
                  </a:lnTo>
                  <a:lnTo>
                    <a:pt x="472" y="200"/>
                  </a:lnTo>
                  <a:lnTo>
                    <a:pt x="456" y="198"/>
                  </a:lnTo>
                  <a:lnTo>
                    <a:pt x="344" y="202"/>
                  </a:lnTo>
                  <a:lnTo>
                    <a:pt x="344" y="202"/>
                  </a:lnTo>
                  <a:lnTo>
                    <a:pt x="328" y="206"/>
                  </a:lnTo>
                  <a:lnTo>
                    <a:pt x="312" y="210"/>
                  </a:lnTo>
                  <a:lnTo>
                    <a:pt x="298" y="220"/>
                  </a:lnTo>
                  <a:lnTo>
                    <a:pt x="286" y="230"/>
                  </a:lnTo>
                  <a:lnTo>
                    <a:pt x="286" y="230"/>
                  </a:lnTo>
                  <a:lnTo>
                    <a:pt x="280" y="240"/>
                  </a:lnTo>
                  <a:lnTo>
                    <a:pt x="276" y="248"/>
                  </a:lnTo>
                  <a:lnTo>
                    <a:pt x="272" y="260"/>
                  </a:lnTo>
                  <a:lnTo>
                    <a:pt x="268" y="270"/>
                  </a:lnTo>
                  <a:lnTo>
                    <a:pt x="72" y="290"/>
                  </a:lnTo>
                  <a:lnTo>
                    <a:pt x="72" y="290"/>
                  </a:lnTo>
                  <a:lnTo>
                    <a:pt x="56" y="294"/>
                  </a:lnTo>
                  <a:lnTo>
                    <a:pt x="42" y="300"/>
                  </a:lnTo>
                  <a:lnTo>
                    <a:pt x="28" y="308"/>
                  </a:lnTo>
                  <a:lnTo>
                    <a:pt x="18" y="320"/>
                  </a:lnTo>
                  <a:lnTo>
                    <a:pt x="18" y="320"/>
                  </a:lnTo>
                  <a:lnTo>
                    <a:pt x="8" y="332"/>
                  </a:lnTo>
                  <a:lnTo>
                    <a:pt x="2" y="346"/>
                  </a:lnTo>
                  <a:lnTo>
                    <a:pt x="0" y="362"/>
                  </a:lnTo>
                  <a:lnTo>
                    <a:pt x="0" y="378"/>
                  </a:lnTo>
                  <a:lnTo>
                    <a:pt x="14" y="522"/>
                  </a:lnTo>
                  <a:lnTo>
                    <a:pt x="14" y="522"/>
                  </a:lnTo>
                  <a:lnTo>
                    <a:pt x="20" y="540"/>
                  </a:lnTo>
                  <a:lnTo>
                    <a:pt x="20" y="540"/>
                  </a:lnTo>
                  <a:lnTo>
                    <a:pt x="16" y="550"/>
                  </a:lnTo>
                  <a:lnTo>
                    <a:pt x="12" y="560"/>
                  </a:lnTo>
                  <a:lnTo>
                    <a:pt x="12" y="560"/>
                  </a:lnTo>
                  <a:lnTo>
                    <a:pt x="10" y="570"/>
                  </a:lnTo>
                  <a:lnTo>
                    <a:pt x="10" y="582"/>
                  </a:lnTo>
                  <a:lnTo>
                    <a:pt x="12" y="592"/>
                  </a:lnTo>
                  <a:lnTo>
                    <a:pt x="14" y="602"/>
                  </a:lnTo>
                  <a:lnTo>
                    <a:pt x="18" y="612"/>
                  </a:lnTo>
                  <a:lnTo>
                    <a:pt x="24" y="622"/>
                  </a:lnTo>
                  <a:lnTo>
                    <a:pt x="30" y="632"/>
                  </a:lnTo>
                  <a:lnTo>
                    <a:pt x="38" y="638"/>
                  </a:lnTo>
                  <a:lnTo>
                    <a:pt x="38" y="638"/>
                  </a:lnTo>
                  <a:lnTo>
                    <a:pt x="54" y="656"/>
                  </a:lnTo>
                  <a:lnTo>
                    <a:pt x="66" y="678"/>
                  </a:lnTo>
                  <a:lnTo>
                    <a:pt x="66" y="678"/>
                  </a:lnTo>
                  <a:lnTo>
                    <a:pt x="70" y="682"/>
                  </a:lnTo>
                  <a:lnTo>
                    <a:pt x="70" y="682"/>
                  </a:lnTo>
                  <a:lnTo>
                    <a:pt x="70" y="692"/>
                  </a:lnTo>
                  <a:lnTo>
                    <a:pt x="72" y="704"/>
                  </a:lnTo>
                  <a:lnTo>
                    <a:pt x="74" y="714"/>
                  </a:lnTo>
                  <a:lnTo>
                    <a:pt x="78" y="722"/>
                  </a:lnTo>
                  <a:lnTo>
                    <a:pt x="114" y="792"/>
                  </a:lnTo>
                  <a:lnTo>
                    <a:pt x="114" y="792"/>
                  </a:lnTo>
                  <a:lnTo>
                    <a:pt x="112" y="796"/>
                  </a:lnTo>
                  <a:lnTo>
                    <a:pt x="112" y="796"/>
                  </a:lnTo>
                  <a:lnTo>
                    <a:pt x="108" y="814"/>
                  </a:lnTo>
                  <a:lnTo>
                    <a:pt x="104" y="832"/>
                  </a:lnTo>
                  <a:lnTo>
                    <a:pt x="98" y="848"/>
                  </a:lnTo>
                  <a:lnTo>
                    <a:pt x="92" y="862"/>
                  </a:lnTo>
                  <a:lnTo>
                    <a:pt x="84" y="876"/>
                  </a:lnTo>
                  <a:lnTo>
                    <a:pt x="76" y="890"/>
                  </a:lnTo>
                  <a:lnTo>
                    <a:pt x="66" y="900"/>
                  </a:lnTo>
                  <a:lnTo>
                    <a:pt x="56" y="910"/>
                  </a:lnTo>
                  <a:lnTo>
                    <a:pt x="56" y="910"/>
                  </a:lnTo>
                  <a:lnTo>
                    <a:pt x="44" y="924"/>
                  </a:lnTo>
                  <a:lnTo>
                    <a:pt x="34" y="940"/>
                  </a:lnTo>
                  <a:lnTo>
                    <a:pt x="30" y="958"/>
                  </a:lnTo>
                  <a:lnTo>
                    <a:pt x="28" y="976"/>
                  </a:lnTo>
                  <a:lnTo>
                    <a:pt x="28" y="976"/>
                  </a:lnTo>
                  <a:lnTo>
                    <a:pt x="32" y="994"/>
                  </a:lnTo>
                  <a:lnTo>
                    <a:pt x="40" y="1010"/>
                  </a:lnTo>
                  <a:lnTo>
                    <a:pt x="50" y="1026"/>
                  </a:lnTo>
                  <a:lnTo>
                    <a:pt x="64" y="1038"/>
                  </a:lnTo>
                  <a:lnTo>
                    <a:pt x="140" y="1088"/>
                  </a:lnTo>
                  <a:lnTo>
                    <a:pt x="140" y="1088"/>
                  </a:lnTo>
                  <a:lnTo>
                    <a:pt x="152" y="1092"/>
                  </a:lnTo>
                  <a:lnTo>
                    <a:pt x="162" y="1096"/>
                  </a:lnTo>
                  <a:lnTo>
                    <a:pt x="174" y="1100"/>
                  </a:lnTo>
                  <a:lnTo>
                    <a:pt x="184" y="1100"/>
                  </a:lnTo>
                  <a:lnTo>
                    <a:pt x="184" y="1100"/>
                  </a:lnTo>
                  <a:lnTo>
                    <a:pt x="200" y="1098"/>
                  </a:lnTo>
                  <a:lnTo>
                    <a:pt x="214" y="1094"/>
                  </a:lnTo>
                  <a:lnTo>
                    <a:pt x="228" y="1088"/>
                  </a:lnTo>
                  <a:lnTo>
                    <a:pt x="240" y="1078"/>
                  </a:lnTo>
                  <a:lnTo>
                    <a:pt x="240" y="1078"/>
                  </a:lnTo>
                  <a:lnTo>
                    <a:pt x="256" y="1060"/>
                  </a:lnTo>
                  <a:lnTo>
                    <a:pt x="272" y="1042"/>
                  </a:lnTo>
                  <a:lnTo>
                    <a:pt x="272" y="1042"/>
                  </a:lnTo>
                  <a:lnTo>
                    <a:pt x="282" y="1052"/>
                  </a:lnTo>
                  <a:lnTo>
                    <a:pt x="292" y="1060"/>
                  </a:lnTo>
                  <a:lnTo>
                    <a:pt x="306" y="1068"/>
                  </a:lnTo>
                  <a:lnTo>
                    <a:pt x="320" y="1074"/>
                  </a:lnTo>
                  <a:lnTo>
                    <a:pt x="336" y="1080"/>
                  </a:lnTo>
                  <a:lnTo>
                    <a:pt x="352" y="1084"/>
                  </a:lnTo>
                  <a:lnTo>
                    <a:pt x="372" y="1086"/>
                  </a:lnTo>
                  <a:lnTo>
                    <a:pt x="394" y="1086"/>
                  </a:lnTo>
                  <a:lnTo>
                    <a:pt x="394" y="1086"/>
                  </a:lnTo>
                  <a:lnTo>
                    <a:pt x="436" y="1084"/>
                  </a:lnTo>
                  <a:lnTo>
                    <a:pt x="550" y="1072"/>
                  </a:lnTo>
                  <a:lnTo>
                    <a:pt x="550" y="1072"/>
                  </a:lnTo>
                  <a:lnTo>
                    <a:pt x="572" y="1070"/>
                  </a:lnTo>
                  <a:lnTo>
                    <a:pt x="594" y="1064"/>
                  </a:lnTo>
                  <a:lnTo>
                    <a:pt x="612" y="1058"/>
                  </a:lnTo>
                  <a:lnTo>
                    <a:pt x="630" y="1050"/>
                  </a:lnTo>
                  <a:lnTo>
                    <a:pt x="644" y="1040"/>
                  </a:lnTo>
                  <a:lnTo>
                    <a:pt x="658" y="1030"/>
                  </a:lnTo>
                  <a:lnTo>
                    <a:pt x="668" y="1020"/>
                  </a:lnTo>
                  <a:lnTo>
                    <a:pt x="678" y="1008"/>
                  </a:lnTo>
                  <a:lnTo>
                    <a:pt x="678" y="1008"/>
                  </a:lnTo>
                  <a:lnTo>
                    <a:pt x="688" y="1018"/>
                  </a:lnTo>
                  <a:lnTo>
                    <a:pt x="700" y="1028"/>
                  </a:lnTo>
                  <a:lnTo>
                    <a:pt x="712" y="1034"/>
                  </a:lnTo>
                  <a:lnTo>
                    <a:pt x="726" y="1038"/>
                  </a:lnTo>
                  <a:lnTo>
                    <a:pt x="726" y="1038"/>
                  </a:lnTo>
                  <a:lnTo>
                    <a:pt x="744" y="1040"/>
                  </a:lnTo>
                  <a:lnTo>
                    <a:pt x="760" y="1038"/>
                  </a:lnTo>
                  <a:lnTo>
                    <a:pt x="776" y="1032"/>
                  </a:lnTo>
                  <a:lnTo>
                    <a:pt x="790" y="1024"/>
                  </a:lnTo>
                  <a:lnTo>
                    <a:pt x="840" y="988"/>
                  </a:lnTo>
                  <a:lnTo>
                    <a:pt x="840" y="988"/>
                  </a:lnTo>
                  <a:lnTo>
                    <a:pt x="848" y="1002"/>
                  </a:lnTo>
                  <a:lnTo>
                    <a:pt x="860" y="1014"/>
                  </a:lnTo>
                  <a:lnTo>
                    <a:pt x="860" y="1014"/>
                  </a:lnTo>
                  <a:lnTo>
                    <a:pt x="870" y="1020"/>
                  </a:lnTo>
                  <a:lnTo>
                    <a:pt x="884" y="1026"/>
                  </a:lnTo>
                  <a:lnTo>
                    <a:pt x="896" y="1030"/>
                  </a:lnTo>
                  <a:lnTo>
                    <a:pt x="910" y="1030"/>
                  </a:lnTo>
                  <a:lnTo>
                    <a:pt x="910" y="1030"/>
                  </a:lnTo>
                  <a:lnTo>
                    <a:pt x="918" y="1030"/>
                  </a:lnTo>
                  <a:lnTo>
                    <a:pt x="1010" y="1022"/>
                  </a:lnTo>
                  <a:lnTo>
                    <a:pt x="1010" y="1022"/>
                  </a:lnTo>
                  <a:lnTo>
                    <a:pt x="1026" y="1018"/>
                  </a:lnTo>
                  <a:lnTo>
                    <a:pt x="1040" y="1012"/>
                  </a:lnTo>
                  <a:lnTo>
                    <a:pt x="1054" y="1004"/>
                  </a:lnTo>
                  <a:lnTo>
                    <a:pt x="1064" y="992"/>
                  </a:lnTo>
                  <a:lnTo>
                    <a:pt x="1064" y="992"/>
                  </a:lnTo>
                  <a:lnTo>
                    <a:pt x="1072" y="982"/>
                  </a:lnTo>
                  <a:lnTo>
                    <a:pt x="1076" y="972"/>
                  </a:lnTo>
                  <a:lnTo>
                    <a:pt x="1080" y="960"/>
                  </a:lnTo>
                  <a:lnTo>
                    <a:pt x="1082" y="948"/>
                  </a:lnTo>
                  <a:lnTo>
                    <a:pt x="1336" y="922"/>
                  </a:lnTo>
                  <a:lnTo>
                    <a:pt x="1336" y="922"/>
                  </a:lnTo>
                  <a:lnTo>
                    <a:pt x="1342" y="934"/>
                  </a:lnTo>
                  <a:lnTo>
                    <a:pt x="1348" y="946"/>
                  </a:lnTo>
                  <a:lnTo>
                    <a:pt x="1358" y="956"/>
                  </a:lnTo>
                  <a:lnTo>
                    <a:pt x="1368" y="964"/>
                  </a:lnTo>
                  <a:lnTo>
                    <a:pt x="1380" y="972"/>
                  </a:lnTo>
                  <a:lnTo>
                    <a:pt x="1392" y="976"/>
                  </a:lnTo>
                  <a:lnTo>
                    <a:pt x="1406" y="978"/>
                  </a:lnTo>
                  <a:lnTo>
                    <a:pt x="1420" y="978"/>
                  </a:lnTo>
                  <a:lnTo>
                    <a:pt x="1518" y="968"/>
                  </a:lnTo>
                  <a:lnTo>
                    <a:pt x="1518" y="968"/>
                  </a:lnTo>
                  <a:lnTo>
                    <a:pt x="1532" y="964"/>
                  </a:lnTo>
                  <a:lnTo>
                    <a:pt x="1548" y="958"/>
                  </a:lnTo>
                  <a:lnTo>
                    <a:pt x="1560" y="950"/>
                  </a:lnTo>
                  <a:lnTo>
                    <a:pt x="1572" y="938"/>
                  </a:lnTo>
                  <a:lnTo>
                    <a:pt x="1572" y="938"/>
                  </a:lnTo>
                  <a:lnTo>
                    <a:pt x="1580" y="926"/>
                  </a:lnTo>
                  <a:lnTo>
                    <a:pt x="1586" y="912"/>
                  </a:lnTo>
                  <a:lnTo>
                    <a:pt x="1590" y="896"/>
                  </a:lnTo>
                  <a:lnTo>
                    <a:pt x="1588" y="880"/>
                  </a:lnTo>
                  <a:lnTo>
                    <a:pt x="1540" y="396"/>
                  </a:lnTo>
                  <a:lnTo>
                    <a:pt x="1540" y="396"/>
                  </a:lnTo>
                  <a:lnTo>
                    <a:pt x="1546" y="404"/>
                  </a:lnTo>
                  <a:lnTo>
                    <a:pt x="1554" y="412"/>
                  </a:lnTo>
                  <a:lnTo>
                    <a:pt x="1562" y="418"/>
                  </a:lnTo>
                  <a:lnTo>
                    <a:pt x="1570" y="422"/>
                  </a:lnTo>
                  <a:lnTo>
                    <a:pt x="1570" y="422"/>
                  </a:lnTo>
                  <a:lnTo>
                    <a:pt x="1566" y="446"/>
                  </a:lnTo>
                  <a:lnTo>
                    <a:pt x="1568" y="472"/>
                  </a:lnTo>
                  <a:lnTo>
                    <a:pt x="1568" y="472"/>
                  </a:lnTo>
                  <a:lnTo>
                    <a:pt x="1570" y="484"/>
                  </a:lnTo>
                  <a:lnTo>
                    <a:pt x="1572" y="500"/>
                  </a:lnTo>
                  <a:lnTo>
                    <a:pt x="1578" y="516"/>
                  </a:lnTo>
                  <a:lnTo>
                    <a:pt x="1586" y="530"/>
                  </a:lnTo>
                  <a:lnTo>
                    <a:pt x="1598" y="546"/>
                  </a:lnTo>
                  <a:lnTo>
                    <a:pt x="1612" y="560"/>
                  </a:lnTo>
                  <a:lnTo>
                    <a:pt x="1628" y="574"/>
                  </a:lnTo>
                  <a:lnTo>
                    <a:pt x="1650" y="584"/>
                  </a:lnTo>
                  <a:lnTo>
                    <a:pt x="1650" y="584"/>
                  </a:lnTo>
                  <a:lnTo>
                    <a:pt x="1636" y="600"/>
                  </a:lnTo>
                  <a:lnTo>
                    <a:pt x="1622" y="618"/>
                  </a:lnTo>
                  <a:lnTo>
                    <a:pt x="1612" y="636"/>
                  </a:lnTo>
                  <a:lnTo>
                    <a:pt x="1604" y="656"/>
                  </a:lnTo>
                  <a:lnTo>
                    <a:pt x="1596" y="676"/>
                  </a:lnTo>
                  <a:lnTo>
                    <a:pt x="1592" y="698"/>
                  </a:lnTo>
                  <a:lnTo>
                    <a:pt x="1592" y="720"/>
                  </a:lnTo>
                  <a:lnTo>
                    <a:pt x="1592" y="742"/>
                  </a:lnTo>
                  <a:lnTo>
                    <a:pt x="1592" y="742"/>
                  </a:lnTo>
                  <a:lnTo>
                    <a:pt x="1596" y="762"/>
                  </a:lnTo>
                  <a:lnTo>
                    <a:pt x="1600" y="780"/>
                  </a:lnTo>
                  <a:lnTo>
                    <a:pt x="1606" y="798"/>
                  </a:lnTo>
                  <a:lnTo>
                    <a:pt x="1614" y="814"/>
                  </a:lnTo>
                  <a:lnTo>
                    <a:pt x="1624" y="830"/>
                  </a:lnTo>
                  <a:lnTo>
                    <a:pt x="1636" y="846"/>
                  </a:lnTo>
                  <a:lnTo>
                    <a:pt x="1650" y="860"/>
                  </a:lnTo>
                  <a:lnTo>
                    <a:pt x="1664" y="872"/>
                  </a:lnTo>
                  <a:lnTo>
                    <a:pt x="1680" y="882"/>
                  </a:lnTo>
                  <a:lnTo>
                    <a:pt x="1696" y="892"/>
                  </a:lnTo>
                  <a:lnTo>
                    <a:pt x="1714" y="900"/>
                  </a:lnTo>
                  <a:lnTo>
                    <a:pt x="1734" y="908"/>
                  </a:lnTo>
                  <a:lnTo>
                    <a:pt x="1754" y="914"/>
                  </a:lnTo>
                  <a:lnTo>
                    <a:pt x="1776" y="918"/>
                  </a:lnTo>
                  <a:lnTo>
                    <a:pt x="1798" y="920"/>
                  </a:lnTo>
                  <a:lnTo>
                    <a:pt x="1822" y="920"/>
                  </a:lnTo>
                  <a:lnTo>
                    <a:pt x="1822" y="920"/>
                  </a:lnTo>
                  <a:lnTo>
                    <a:pt x="1858" y="920"/>
                  </a:lnTo>
                  <a:lnTo>
                    <a:pt x="1858" y="920"/>
                  </a:lnTo>
                  <a:lnTo>
                    <a:pt x="1894" y="914"/>
                  </a:lnTo>
                  <a:lnTo>
                    <a:pt x="1926" y="906"/>
                  </a:lnTo>
                  <a:lnTo>
                    <a:pt x="1956" y="894"/>
                  </a:lnTo>
                  <a:lnTo>
                    <a:pt x="1982" y="882"/>
                  </a:lnTo>
                  <a:lnTo>
                    <a:pt x="2004" y="868"/>
                  </a:lnTo>
                  <a:lnTo>
                    <a:pt x="2022" y="852"/>
                  </a:lnTo>
                  <a:lnTo>
                    <a:pt x="2038" y="834"/>
                  </a:lnTo>
                  <a:lnTo>
                    <a:pt x="2050" y="814"/>
                  </a:lnTo>
                  <a:lnTo>
                    <a:pt x="2050" y="814"/>
                  </a:lnTo>
                  <a:lnTo>
                    <a:pt x="2092" y="844"/>
                  </a:lnTo>
                  <a:lnTo>
                    <a:pt x="2092" y="844"/>
                  </a:lnTo>
                  <a:lnTo>
                    <a:pt x="2106" y="852"/>
                  </a:lnTo>
                  <a:lnTo>
                    <a:pt x="2124" y="858"/>
                  </a:lnTo>
                  <a:lnTo>
                    <a:pt x="2140" y="860"/>
                  </a:lnTo>
                  <a:lnTo>
                    <a:pt x="2158" y="858"/>
                  </a:lnTo>
                  <a:lnTo>
                    <a:pt x="2158" y="858"/>
                  </a:lnTo>
                  <a:lnTo>
                    <a:pt x="2174" y="852"/>
                  </a:lnTo>
                  <a:lnTo>
                    <a:pt x="2188" y="844"/>
                  </a:lnTo>
                  <a:lnTo>
                    <a:pt x="2202" y="832"/>
                  </a:lnTo>
                  <a:lnTo>
                    <a:pt x="2212" y="818"/>
                  </a:lnTo>
                  <a:lnTo>
                    <a:pt x="2258" y="728"/>
                  </a:lnTo>
                  <a:lnTo>
                    <a:pt x="2258" y="728"/>
                  </a:lnTo>
                  <a:lnTo>
                    <a:pt x="2264" y="714"/>
                  </a:lnTo>
                  <a:lnTo>
                    <a:pt x="2268" y="698"/>
                  </a:lnTo>
                  <a:lnTo>
                    <a:pt x="2268" y="684"/>
                  </a:lnTo>
                  <a:lnTo>
                    <a:pt x="2266" y="670"/>
                  </a:lnTo>
                  <a:lnTo>
                    <a:pt x="2260" y="656"/>
                  </a:lnTo>
                  <a:lnTo>
                    <a:pt x="2252" y="642"/>
                  </a:lnTo>
                  <a:lnTo>
                    <a:pt x="2242" y="632"/>
                  </a:lnTo>
                  <a:lnTo>
                    <a:pt x="2230" y="622"/>
                  </a:lnTo>
                  <a:lnTo>
                    <a:pt x="2230" y="622"/>
                  </a:lnTo>
                  <a:lnTo>
                    <a:pt x="2198" y="604"/>
                  </a:lnTo>
                  <a:lnTo>
                    <a:pt x="2166" y="586"/>
                  </a:lnTo>
                  <a:lnTo>
                    <a:pt x="2134" y="572"/>
                  </a:lnTo>
                  <a:lnTo>
                    <a:pt x="2100" y="558"/>
                  </a:lnTo>
                  <a:lnTo>
                    <a:pt x="2100" y="558"/>
                  </a:lnTo>
                  <a:lnTo>
                    <a:pt x="2142" y="546"/>
                  </a:lnTo>
                  <a:lnTo>
                    <a:pt x="2178" y="536"/>
                  </a:lnTo>
                  <a:lnTo>
                    <a:pt x="2178" y="536"/>
                  </a:lnTo>
                  <a:lnTo>
                    <a:pt x="2192" y="530"/>
                  </a:lnTo>
                  <a:lnTo>
                    <a:pt x="2202" y="522"/>
                  </a:lnTo>
                  <a:lnTo>
                    <a:pt x="2214" y="512"/>
                  </a:lnTo>
                  <a:lnTo>
                    <a:pt x="2222" y="500"/>
                  </a:lnTo>
                  <a:lnTo>
                    <a:pt x="2228" y="488"/>
                  </a:lnTo>
                  <a:lnTo>
                    <a:pt x="2232" y="474"/>
                  </a:lnTo>
                  <a:lnTo>
                    <a:pt x="2232" y="460"/>
                  </a:lnTo>
                  <a:lnTo>
                    <a:pt x="2230" y="446"/>
                  </a:lnTo>
                  <a:lnTo>
                    <a:pt x="2214" y="360"/>
                  </a:lnTo>
                  <a:lnTo>
                    <a:pt x="2214" y="360"/>
                  </a:lnTo>
                  <a:lnTo>
                    <a:pt x="2212" y="350"/>
                  </a:lnTo>
                  <a:lnTo>
                    <a:pt x="2206" y="338"/>
                  </a:lnTo>
                  <a:lnTo>
                    <a:pt x="2206" y="338"/>
                  </a:lnTo>
                  <a:lnTo>
                    <a:pt x="2220" y="330"/>
                  </a:lnTo>
                  <a:lnTo>
                    <a:pt x="2232" y="318"/>
                  </a:lnTo>
                  <a:lnTo>
                    <a:pt x="2240" y="306"/>
                  </a:lnTo>
                  <a:lnTo>
                    <a:pt x="2246" y="290"/>
                  </a:lnTo>
                  <a:lnTo>
                    <a:pt x="2250" y="304"/>
                  </a:lnTo>
                  <a:lnTo>
                    <a:pt x="2250" y="304"/>
                  </a:lnTo>
                  <a:lnTo>
                    <a:pt x="2254" y="320"/>
                  </a:lnTo>
                  <a:lnTo>
                    <a:pt x="2262" y="336"/>
                  </a:lnTo>
                  <a:lnTo>
                    <a:pt x="2274" y="348"/>
                  </a:lnTo>
                  <a:lnTo>
                    <a:pt x="2288" y="358"/>
                  </a:lnTo>
                  <a:lnTo>
                    <a:pt x="2288" y="358"/>
                  </a:lnTo>
                  <a:lnTo>
                    <a:pt x="2304" y="366"/>
                  </a:lnTo>
                  <a:lnTo>
                    <a:pt x="2320" y="368"/>
                  </a:lnTo>
                  <a:lnTo>
                    <a:pt x="2338" y="368"/>
                  </a:lnTo>
                  <a:lnTo>
                    <a:pt x="2354" y="364"/>
                  </a:lnTo>
                  <a:lnTo>
                    <a:pt x="2354" y="364"/>
                  </a:lnTo>
                  <a:lnTo>
                    <a:pt x="2370" y="358"/>
                  </a:lnTo>
                  <a:lnTo>
                    <a:pt x="2386" y="348"/>
                  </a:lnTo>
                  <a:lnTo>
                    <a:pt x="2386" y="348"/>
                  </a:lnTo>
                  <a:lnTo>
                    <a:pt x="2478" y="328"/>
                  </a:lnTo>
                  <a:lnTo>
                    <a:pt x="2478" y="328"/>
                  </a:lnTo>
                  <a:lnTo>
                    <a:pt x="2466" y="354"/>
                  </a:lnTo>
                  <a:lnTo>
                    <a:pt x="2454" y="380"/>
                  </a:lnTo>
                  <a:lnTo>
                    <a:pt x="2446" y="406"/>
                  </a:lnTo>
                  <a:lnTo>
                    <a:pt x="2438" y="432"/>
                  </a:lnTo>
                  <a:lnTo>
                    <a:pt x="2432" y="458"/>
                  </a:lnTo>
                  <a:lnTo>
                    <a:pt x="2428" y="484"/>
                  </a:lnTo>
                  <a:lnTo>
                    <a:pt x="2428" y="510"/>
                  </a:lnTo>
                  <a:lnTo>
                    <a:pt x="2428" y="534"/>
                  </a:lnTo>
                  <a:lnTo>
                    <a:pt x="2428" y="534"/>
                  </a:lnTo>
                  <a:lnTo>
                    <a:pt x="2432" y="560"/>
                  </a:lnTo>
                  <a:lnTo>
                    <a:pt x="2438" y="584"/>
                  </a:lnTo>
                  <a:lnTo>
                    <a:pt x="2444" y="610"/>
                  </a:lnTo>
                  <a:lnTo>
                    <a:pt x="2454" y="634"/>
                  </a:lnTo>
                  <a:lnTo>
                    <a:pt x="2466" y="660"/>
                  </a:lnTo>
                  <a:lnTo>
                    <a:pt x="2480" y="684"/>
                  </a:lnTo>
                  <a:lnTo>
                    <a:pt x="2498" y="706"/>
                  </a:lnTo>
                  <a:lnTo>
                    <a:pt x="2518" y="728"/>
                  </a:lnTo>
                  <a:lnTo>
                    <a:pt x="2542" y="748"/>
                  </a:lnTo>
                  <a:lnTo>
                    <a:pt x="2570" y="766"/>
                  </a:lnTo>
                  <a:lnTo>
                    <a:pt x="2602" y="784"/>
                  </a:lnTo>
                  <a:lnTo>
                    <a:pt x="2636" y="798"/>
                  </a:lnTo>
                  <a:lnTo>
                    <a:pt x="2676" y="810"/>
                  </a:lnTo>
                  <a:lnTo>
                    <a:pt x="2722" y="820"/>
                  </a:lnTo>
                  <a:lnTo>
                    <a:pt x="2770" y="826"/>
                  </a:lnTo>
                  <a:lnTo>
                    <a:pt x="2824" y="828"/>
                  </a:lnTo>
                  <a:lnTo>
                    <a:pt x="2826" y="828"/>
                  </a:lnTo>
                  <a:lnTo>
                    <a:pt x="2826" y="828"/>
                  </a:lnTo>
                  <a:lnTo>
                    <a:pt x="2838" y="828"/>
                  </a:lnTo>
                  <a:lnTo>
                    <a:pt x="2850" y="824"/>
                  </a:lnTo>
                  <a:lnTo>
                    <a:pt x="2862" y="820"/>
                  </a:lnTo>
                  <a:lnTo>
                    <a:pt x="2872" y="814"/>
                  </a:lnTo>
                  <a:lnTo>
                    <a:pt x="2882" y="806"/>
                  </a:lnTo>
                  <a:lnTo>
                    <a:pt x="2890" y="796"/>
                  </a:lnTo>
                  <a:lnTo>
                    <a:pt x="2896" y="786"/>
                  </a:lnTo>
                  <a:lnTo>
                    <a:pt x="2902" y="774"/>
                  </a:lnTo>
                  <a:lnTo>
                    <a:pt x="2938" y="674"/>
                  </a:lnTo>
                  <a:lnTo>
                    <a:pt x="2938" y="674"/>
                  </a:lnTo>
                  <a:lnTo>
                    <a:pt x="2942" y="656"/>
                  </a:lnTo>
                  <a:lnTo>
                    <a:pt x="2942" y="636"/>
                  </a:lnTo>
                  <a:lnTo>
                    <a:pt x="2936" y="618"/>
                  </a:lnTo>
                  <a:lnTo>
                    <a:pt x="2928" y="602"/>
                  </a:lnTo>
                  <a:lnTo>
                    <a:pt x="2928" y="602"/>
                  </a:lnTo>
                  <a:lnTo>
                    <a:pt x="2916" y="588"/>
                  </a:lnTo>
                  <a:lnTo>
                    <a:pt x="2900" y="576"/>
                  </a:lnTo>
                  <a:lnTo>
                    <a:pt x="2882" y="570"/>
                  </a:lnTo>
                  <a:lnTo>
                    <a:pt x="2862" y="568"/>
                  </a:lnTo>
                  <a:lnTo>
                    <a:pt x="2862" y="568"/>
                  </a:lnTo>
                  <a:lnTo>
                    <a:pt x="2824" y="566"/>
                  </a:lnTo>
                  <a:lnTo>
                    <a:pt x="2790" y="564"/>
                  </a:lnTo>
                  <a:lnTo>
                    <a:pt x="2760" y="558"/>
                  </a:lnTo>
                  <a:lnTo>
                    <a:pt x="2736" y="552"/>
                  </a:lnTo>
                  <a:lnTo>
                    <a:pt x="2716" y="544"/>
                  </a:lnTo>
                  <a:lnTo>
                    <a:pt x="2702" y="532"/>
                  </a:lnTo>
                  <a:lnTo>
                    <a:pt x="2698" y="528"/>
                  </a:lnTo>
                  <a:lnTo>
                    <a:pt x="2694" y="520"/>
                  </a:lnTo>
                  <a:lnTo>
                    <a:pt x="2692" y="514"/>
                  </a:lnTo>
                  <a:lnTo>
                    <a:pt x="2690" y="508"/>
                  </a:lnTo>
                  <a:lnTo>
                    <a:pt x="2690" y="508"/>
                  </a:lnTo>
                  <a:lnTo>
                    <a:pt x="2690" y="498"/>
                  </a:lnTo>
                  <a:lnTo>
                    <a:pt x="2690" y="488"/>
                  </a:lnTo>
                  <a:lnTo>
                    <a:pt x="2698" y="464"/>
                  </a:lnTo>
                  <a:lnTo>
                    <a:pt x="2710" y="436"/>
                  </a:lnTo>
                  <a:lnTo>
                    <a:pt x="2728" y="408"/>
                  </a:lnTo>
                  <a:lnTo>
                    <a:pt x="2728" y="408"/>
                  </a:lnTo>
                  <a:lnTo>
                    <a:pt x="2734" y="412"/>
                  </a:lnTo>
                  <a:lnTo>
                    <a:pt x="2734" y="412"/>
                  </a:lnTo>
                  <a:lnTo>
                    <a:pt x="2756" y="430"/>
                  </a:lnTo>
                  <a:lnTo>
                    <a:pt x="2778" y="452"/>
                  </a:lnTo>
                  <a:lnTo>
                    <a:pt x="2800" y="472"/>
                  </a:lnTo>
                  <a:lnTo>
                    <a:pt x="2814" y="490"/>
                  </a:lnTo>
                  <a:lnTo>
                    <a:pt x="2814" y="490"/>
                  </a:lnTo>
                  <a:lnTo>
                    <a:pt x="2824" y="504"/>
                  </a:lnTo>
                  <a:lnTo>
                    <a:pt x="2840" y="514"/>
                  </a:lnTo>
                  <a:lnTo>
                    <a:pt x="2856" y="520"/>
                  </a:lnTo>
                  <a:lnTo>
                    <a:pt x="2872" y="524"/>
                  </a:lnTo>
                  <a:lnTo>
                    <a:pt x="2872" y="524"/>
                  </a:lnTo>
                  <a:lnTo>
                    <a:pt x="2890" y="524"/>
                  </a:lnTo>
                  <a:lnTo>
                    <a:pt x="2908" y="520"/>
                  </a:lnTo>
                  <a:lnTo>
                    <a:pt x="2922" y="512"/>
                  </a:lnTo>
                  <a:lnTo>
                    <a:pt x="2936" y="500"/>
                  </a:lnTo>
                  <a:lnTo>
                    <a:pt x="2976" y="460"/>
                  </a:lnTo>
                  <a:lnTo>
                    <a:pt x="2976" y="460"/>
                  </a:lnTo>
                  <a:lnTo>
                    <a:pt x="2984" y="450"/>
                  </a:lnTo>
                  <a:lnTo>
                    <a:pt x="2992" y="440"/>
                  </a:lnTo>
                  <a:lnTo>
                    <a:pt x="2992" y="440"/>
                  </a:lnTo>
                  <a:lnTo>
                    <a:pt x="3006" y="432"/>
                  </a:lnTo>
                  <a:lnTo>
                    <a:pt x="3018" y="422"/>
                  </a:lnTo>
                  <a:lnTo>
                    <a:pt x="3058" y="382"/>
                  </a:lnTo>
                  <a:lnTo>
                    <a:pt x="3058" y="382"/>
                  </a:lnTo>
                  <a:lnTo>
                    <a:pt x="3066" y="370"/>
                  </a:lnTo>
                  <a:lnTo>
                    <a:pt x="3074" y="358"/>
                  </a:lnTo>
                  <a:lnTo>
                    <a:pt x="3078" y="346"/>
                  </a:lnTo>
                  <a:lnTo>
                    <a:pt x="3080" y="332"/>
                  </a:lnTo>
                  <a:lnTo>
                    <a:pt x="3080" y="318"/>
                  </a:lnTo>
                  <a:lnTo>
                    <a:pt x="3078" y="304"/>
                  </a:lnTo>
                  <a:lnTo>
                    <a:pt x="3072" y="292"/>
                  </a:lnTo>
                  <a:lnTo>
                    <a:pt x="3066" y="280"/>
                  </a:lnTo>
                  <a:lnTo>
                    <a:pt x="3066" y="280"/>
                  </a:lnTo>
                  <a:close/>
                  <a:moveTo>
                    <a:pt x="1032" y="458"/>
                  </a:moveTo>
                  <a:lnTo>
                    <a:pt x="1284" y="432"/>
                  </a:lnTo>
                  <a:lnTo>
                    <a:pt x="1308" y="668"/>
                  </a:lnTo>
                  <a:lnTo>
                    <a:pt x="1058" y="694"/>
                  </a:lnTo>
                  <a:lnTo>
                    <a:pt x="1032" y="458"/>
                  </a:lnTo>
                  <a:close/>
                  <a:moveTo>
                    <a:pt x="796" y="634"/>
                  </a:moveTo>
                  <a:lnTo>
                    <a:pt x="796" y="634"/>
                  </a:lnTo>
                  <a:lnTo>
                    <a:pt x="764" y="604"/>
                  </a:lnTo>
                  <a:lnTo>
                    <a:pt x="764" y="604"/>
                  </a:lnTo>
                  <a:lnTo>
                    <a:pt x="778" y="590"/>
                  </a:lnTo>
                  <a:lnTo>
                    <a:pt x="790" y="574"/>
                  </a:lnTo>
                  <a:lnTo>
                    <a:pt x="796" y="634"/>
                  </a:lnTo>
                  <a:close/>
                  <a:moveTo>
                    <a:pt x="790" y="754"/>
                  </a:moveTo>
                  <a:lnTo>
                    <a:pt x="790" y="754"/>
                  </a:lnTo>
                  <a:lnTo>
                    <a:pt x="800" y="746"/>
                  </a:lnTo>
                  <a:lnTo>
                    <a:pt x="808" y="734"/>
                  </a:lnTo>
                  <a:lnTo>
                    <a:pt x="812" y="778"/>
                  </a:lnTo>
                  <a:lnTo>
                    <a:pt x="812" y="778"/>
                  </a:lnTo>
                  <a:lnTo>
                    <a:pt x="788" y="756"/>
                  </a:lnTo>
                  <a:lnTo>
                    <a:pt x="790" y="7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85"/>
            <p:cNvSpPr/>
            <p:nvPr/>
          </p:nvSpPr>
          <p:spPr>
            <a:xfrm>
              <a:off x="1526760" y="3012840"/>
              <a:ext cx="1174680" cy="122868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740" h="774">
                  <a:moveTo>
                    <a:pt x="290" y="160"/>
                  </a:moveTo>
                  <a:lnTo>
                    <a:pt x="298" y="234"/>
                  </a:lnTo>
                  <a:lnTo>
                    <a:pt x="6" y="264"/>
                  </a:lnTo>
                  <a:lnTo>
                    <a:pt x="0" y="190"/>
                  </a:lnTo>
                  <a:lnTo>
                    <a:pt x="290" y="160"/>
                  </a:lnTo>
                  <a:close/>
                  <a:moveTo>
                    <a:pt x="252" y="60"/>
                  </a:moveTo>
                  <a:lnTo>
                    <a:pt x="260" y="130"/>
                  </a:lnTo>
                  <a:lnTo>
                    <a:pt x="34" y="152"/>
                  </a:lnTo>
                  <a:lnTo>
                    <a:pt x="26" y="82"/>
                  </a:lnTo>
                  <a:lnTo>
                    <a:pt x="252" y="60"/>
                  </a:lnTo>
                  <a:close/>
                  <a:moveTo>
                    <a:pt x="52" y="366"/>
                  </a:moveTo>
                  <a:lnTo>
                    <a:pt x="46" y="296"/>
                  </a:lnTo>
                  <a:lnTo>
                    <a:pt x="276" y="272"/>
                  </a:lnTo>
                  <a:lnTo>
                    <a:pt x="282" y="342"/>
                  </a:lnTo>
                  <a:lnTo>
                    <a:pt x="52" y="366"/>
                  </a:lnTo>
                  <a:close/>
                  <a:moveTo>
                    <a:pt x="64" y="470"/>
                  </a:moveTo>
                  <a:lnTo>
                    <a:pt x="56" y="402"/>
                  </a:lnTo>
                  <a:lnTo>
                    <a:pt x="286" y="378"/>
                  </a:lnTo>
                  <a:lnTo>
                    <a:pt x="294" y="446"/>
                  </a:lnTo>
                  <a:lnTo>
                    <a:pt x="64" y="470"/>
                  </a:lnTo>
                  <a:close/>
                  <a:moveTo>
                    <a:pt x="296" y="484"/>
                  </a:moveTo>
                  <a:lnTo>
                    <a:pt x="320" y="720"/>
                  </a:lnTo>
                  <a:lnTo>
                    <a:pt x="166" y="736"/>
                  </a:lnTo>
                  <a:lnTo>
                    <a:pt x="168" y="766"/>
                  </a:lnTo>
                  <a:lnTo>
                    <a:pt x="92" y="774"/>
                  </a:lnTo>
                  <a:lnTo>
                    <a:pt x="66" y="508"/>
                  </a:lnTo>
                  <a:lnTo>
                    <a:pt x="296" y="484"/>
                  </a:lnTo>
                  <a:close/>
                  <a:moveTo>
                    <a:pt x="228" y="566"/>
                  </a:moveTo>
                  <a:lnTo>
                    <a:pt x="148" y="574"/>
                  </a:lnTo>
                  <a:lnTo>
                    <a:pt x="158" y="664"/>
                  </a:lnTo>
                  <a:lnTo>
                    <a:pt x="236" y="656"/>
                  </a:lnTo>
                  <a:lnTo>
                    <a:pt x="228" y="566"/>
                  </a:lnTo>
                  <a:close/>
                  <a:moveTo>
                    <a:pt x="732" y="456"/>
                  </a:moveTo>
                  <a:lnTo>
                    <a:pt x="740" y="540"/>
                  </a:lnTo>
                  <a:lnTo>
                    <a:pt x="578" y="556"/>
                  </a:lnTo>
                  <a:lnTo>
                    <a:pt x="596" y="734"/>
                  </a:lnTo>
                  <a:lnTo>
                    <a:pt x="508" y="742"/>
                  </a:lnTo>
                  <a:lnTo>
                    <a:pt x="490" y="566"/>
                  </a:lnTo>
                  <a:lnTo>
                    <a:pt x="324" y="584"/>
                  </a:lnTo>
                  <a:lnTo>
                    <a:pt x="316" y="500"/>
                  </a:lnTo>
                  <a:lnTo>
                    <a:pt x="482" y="482"/>
                  </a:lnTo>
                  <a:lnTo>
                    <a:pt x="474" y="404"/>
                  </a:lnTo>
                  <a:lnTo>
                    <a:pt x="348" y="416"/>
                  </a:lnTo>
                  <a:lnTo>
                    <a:pt x="340" y="334"/>
                  </a:lnTo>
                  <a:lnTo>
                    <a:pt x="466" y="320"/>
                  </a:lnTo>
                  <a:lnTo>
                    <a:pt x="458" y="246"/>
                  </a:lnTo>
                  <a:lnTo>
                    <a:pt x="316" y="260"/>
                  </a:lnTo>
                  <a:lnTo>
                    <a:pt x="308" y="176"/>
                  </a:lnTo>
                  <a:lnTo>
                    <a:pt x="374" y="170"/>
                  </a:lnTo>
                  <a:lnTo>
                    <a:pt x="374" y="170"/>
                  </a:lnTo>
                  <a:lnTo>
                    <a:pt x="364" y="142"/>
                  </a:lnTo>
                  <a:lnTo>
                    <a:pt x="350" y="114"/>
                  </a:lnTo>
                  <a:lnTo>
                    <a:pt x="334" y="86"/>
                  </a:lnTo>
                  <a:lnTo>
                    <a:pt x="318" y="60"/>
                  </a:lnTo>
                  <a:lnTo>
                    <a:pt x="386" y="24"/>
                  </a:lnTo>
                  <a:lnTo>
                    <a:pt x="386" y="24"/>
                  </a:lnTo>
                  <a:lnTo>
                    <a:pt x="406" y="54"/>
                  </a:lnTo>
                  <a:lnTo>
                    <a:pt x="426" y="86"/>
                  </a:lnTo>
                  <a:lnTo>
                    <a:pt x="442" y="118"/>
                  </a:lnTo>
                  <a:lnTo>
                    <a:pt x="452" y="146"/>
                  </a:lnTo>
                  <a:lnTo>
                    <a:pt x="418" y="164"/>
                  </a:lnTo>
                  <a:lnTo>
                    <a:pt x="558" y="150"/>
                  </a:lnTo>
                  <a:lnTo>
                    <a:pt x="526" y="140"/>
                  </a:lnTo>
                  <a:lnTo>
                    <a:pt x="526" y="140"/>
                  </a:lnTo>
                  <a:lnTo>
                    <a:pt x="538" y="108"/>
                  </a:lnTo>
                  <a:lnTo>
                    <a:pt x="550" y="72"/>
                  </a:lnTo>
                  <a:lnTo>
                    <a:pt x="560" y="34"/>
                  </a:lnTo>
                  <a:lnTo>
                    <a:pt x="566" y="0"/>
                  </a:lnTo>
                  <a:lnTo>
                    <a:pt x="666" y="26"/>
                  </a:lnTo>
                  <a:lnTo>
                    <a:pt x="666" y="26"/>
                  </a:lnTo>
                  <a:lnTo>
                    <a:pt x="662" y="30"/>
                  </a:lnTo>
                  <a:lnTo>
                    <a:pt x="658" y="32"/>
                  </a:lnTo>
                  <a:lnTo>
                    <a:pt x="654" y="34"/>
                  </a:lnTo>
                  <a:lnTo>
                    <a:pt x="646" y="36"/>
                  </a:lnTo>
                  <a:lnTo>
                    <a:pt x="646" y="36"/>
                  </a:lnTo>
                  <a:lnTo>
                    <a:pt x="628" y="90"/>
                  </a:lnTo>
                  <a:lnTo>
                    <a:pt x="606" y="146"/>
                  </a:lnTo>
                  <a:lnTo>
                    <a:pt x="688" y="138"/>
                  </a:lnTo>
                  <a:lnTo>
                    <a:pt x="696" y="222"/>
                  </a:lnTo>
                  <a:lnTo>
                    <a:pt x="546" y="236"/>
                  </a:lnTo>
                  <a:lnTo>
                    <a:pt x="554" y="312"/>
                  </a:lnTo>
                  <a:lnTo>
                    <a:pt x="686" y="298"/>
                  </a:lnTo>
                  <a:lnTo>
                    <a:pt x="694" y="380"/>
                  </a:lnTo>
                  <a:lnTo>
                    <a:pt x="562" y="394"/>
                  </a:lnTo>
                  <a:lnTo>
                    <a:pt x="570" y="474"/>
                  </a:lnTo>
                  <a:lnTo>
                    <a:pt x="73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86"/>
            <p:cNvSpPr/>
            <p:nvPr/>
          </p:nvSpPr>
          <p:spPr>
            <a:xfrm>
              <a:off x="2930400" y="3003480"/>
              <a:ext cx="895320" cy="103500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564" h="652">
                  <a:moveTo>
                    <a:pt x="126" y="0"/>
                  </a:moveTo>
                  <a:lnTo>
                    <a:pt x="126" y="0"/>
                  </a:lnTo>
                  <a:lnTo>
                    <a:pt x="126" y="6"/>
                  </a:lnTo>
                  <a:lnTo>
                    <a:pt x="122" y="12"/>
                  </a:lnTo>
                  <a:lnTo>
                    <a:pt x="116" y="16"/>
                  </a:lnTo>
                  <a:lnTo>
                    <a:pt x="106" y="20"/>
                  </a:lnTo>
                  <a:lnTo>
                    <a:pt x="106" y="20"/>
                  </a:lnTo>
                  <a:lnTo>
                    <a:pt x="110" y="110"/>
                  </a:lnTo>
                  <a:lnTo>
                    <a:pt x="116" y="216"/>
                  </a:lnTo>
                  <a:lnTo>
                    <a:pt x="124" y="322"/>
                  </a:lnTo>
                  <a:lnTo>
                    <a:pt x="134" y="418"/>
                  </a:lnTo>
                  <a:lnTo>
                    <a:pt x="134" y="418"/>
                  </a:lnTo>
                  <a:lnTo>
                    <a:pt x="138" y="452"/>
                  </a:lnTo>
                  <a:lnTo>
                    <a:pt x="144" y="466"/>
                  </a:lnTo>
                  <a:lnTo>
                    <a:pt x="148" y="480"/>
                  </a:lnTo>
                  <a:lnTo>
                    <a:pt x="154" y="494"/>
                  </a:lnTo>
                  <a:lnTo>
                    <a:pt x="162" y="504"/>
                  </a:lnTo>
                  <a:lnTo>
                    <a:pt x="170" y="514"/>
                  </a:lnTo>
                  <a:lnTo>
                    <a:pt x="178" y="524"/>
                  </a:lnTo>
                  <a:lnTo>
                    <a:pt x="188" y="530"/>
                  </a:lnTo>
                  <a:lnTo>
                    <a:pt x="198" y="536"/>
                  </a:lnTo>
                  <a:lnTo>
                    <a:pt x="210" y="542"/>
                  </a:lnTo>
                  <a:lnTo>
                    <a:pt x="220" y="546"/>
                  </a:lnTo>
                  <a:lnTo>
                    <a:pt x="234" y="548"/>
                  </a:lnTo>
                  <a:lnTo>
                    <a:pt x="246" y="550"/>
                  </a:lnTo>
                  <a:lnTo>
                    <a:pt x="274" y="550"/>
                  </a:lnTo>
                  <a:lnTo>
                    <a:pt x="274" y="550"/>
                  </a:lnTo>
                  <a:lnTo>
                    <a:pt x="302" y="544"/>
                  </a:lnTo>
                  <a:lnTo>
                    <a:pt x="330" y="536"/>
                  </a:lnTo>
                  <a:lnTo>
                    <a:pt x="358" y="524"/>
                  </a:lnTo>
                  <a:lnTo>
                    <a:pt x="386" y="506"/>
                  </a:lnTo>
                  <a:lnTo>
                    <a:pt x="416" y="486"/>
                  </a:lnTo>
                  <a:lnTo>
                    <a:pt x="444" y="460"/>
                  </a:lnTo>
                  <a:lnTo>
                    <a:pt x="472" y="432"/>
                  </a:lnTo>
                  <a:lnTo>
                    <a:pt x="500" y="398"/>
                  </a:lnTo>
                  <a:lnTo>
                    <a:pt x="500" y="398"/>
                  </a:lnTo>
                  <a:lnTo>
                    <a:pt x="530" y="440"/>
                  </a:lnTo>
                  <a:lnTo>
                    <a:pt x="548" y="462"/>
                  </a:lnTo>
                  <a:lnTo>
                    <a:pt x="564" y="478"/>
                  </a:lnTo>
                  <a:lnTo>
                    <a:pt x="564" y="478"/>
                  </a:lnTo>
                  <a:lnTo>
                    <a:pt x="532" y="516"/>
                  </a:lnTo>
                  <a:lnTo>
                    <a:pt x="500" y="548"/>
                  </a:lnTo>
                  <a:lnTo>
                    <a:pt x="466" y="576"/>
                  </a:lnTo>
                  <a:lnTo>
                    <a:pt x="432" y="600"/>
                  </a:lnTo>
                  <a:lnTo>
                    <a:pt x="396" y="618"/>
                  </a:lnTo>
                  <a:lnTo>
                    <a:pt x="360" y="632"/>
                  </a:lnTo>
                  <a:lnTo>
                    <a:pt x="322" y="644"/>
                  </a:lnTo>
                  <a:lnTo>
                    <a:pt x="284" y="650"/>
                  </a:lnTo>
                  <a:lnTo>
                    <a:pt x="284" y="650"/>
                  </a:lnTo>
                  <a:lnTo>
                    <a:pt x="254" y="652"/>
                  </a:lnTo>
                  <a:lnTo>
                    <a:pt x="228" y="650"/>
                  </a:lnTo>
                  <a:lnTo>
                    <a:pt x="202" y="648"/>
                  </a:lnTo>
                  <a:lnTo>
                    <a:pt x="178" y="644"/>
                  </a:lnTo>
                  <a:lnTo>
                    <a:pt x="156" y="636"/>
                  </a:lnTo>
                  <a:lnTo>
                    <a:pt x="136" y="626"/>
                  </a:lnTo>
                  <a:lnTo>
                    <a:pt x="118" y="616"/>
                  </a:lnTo>
                  <a:lnTo>
                    <a:pt x="102" y="602"/>
                  </a:lnTo>
                  <a:lnTo>
                    <a:pt x="88" y="586"/>
                  </a:lnTo>
                  <a:lnTo>
                    <a:pt x="76" y="568"/>
                  </a:lnTo>
                  <a:lnTo>
                    <a:pt x="64" y="550"/>
                  </a:lnTo>
                  <a:lnTo>
                    <a:pt x="54" y="528"/>
                  </a:lnTo>
                  <a:lnTo>
                    <a:pt x="46" y="506"/>
                  </a:lnTo>
                  <a:lnTo>
                    <a:pt x="40" y="482"/>
                  </a:lnTo>
                  <a:lnTo>
                    <a:pt x="36" y="456"/>
                  </a:lnTo>
                  <a:lnTo>
                    <a:pt x="32" y="428"/>
                  </a:lnTo>
                  <a:lnTo>
                    <a:pt x="32" y="428"/>
                  </a:lnTo>
                  <a:lnTo>
                    <a:pt x="14" y="214"/>
                  </a:lnTo>
                  <a:lnTo>
                    <a:pt x="4" y="98"/>
                  </a:lnTo>
                  <a:lnTo>
                    <a:pt x="0" y="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87"/>
            <p:cNvSpPr/>
            <p:nvPr/>
          </p:nvSpPr>
          <p:spPr>
            <a:xfrm>
              <a:off x="4095720" y="2812680"/>
              <a:ext cx="733320" cy="112716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462" h="710">
                  <a:moveTo>
                    <a:pt x="376" y="710"/>
                  </a:moveTo>
                  <a:lnTo>
                    <a:pt x="376" y="710"/>
                  </a:lnTo>
                  <a:lnTo>
                    <a:pt x="348" y="682"/>
                  </a:lnTo>
                  <a:lnTo>
                    <a:pt x="314" y="652"/>
                  </a:lnTo>
                  <a:lnTo>
                    <a:pt x="238" y="590"/>
                  </a:lnTo>
                  <a:lnTo>
                    <a:pt x="152" y="526"/>
                  </a:lnTo>
                  <a:lnTo>
                    <a:pt x="108" y="496"/>
                  </a:lnTo>
                  <a:lnTo>
                    <a:pt x="64" y="466"/>
                  </a:lnTo>
                  <a:lnTo>
                    <a:pt x="64" y="466"/>
                  </a:lnTo>
                  <a:lnTo>
                    <a:pt x="48" y="454"/>
                  </a:lnTo>
                  <a:lnTo>
                    <a:pt x="34" y="444"/>
                  </a:lnTo>
                  <a:lnTo>
                    <a:pt x="24" y="434"/>
                  </a:lnTo>
                  <a:lnTo>
                    <a:pt x="16" y="424"/>
                  </a:lnTo>
                  <a:lnTo>
                    <a:pt x="8" y="412"/>
                  </a:lnTo>
                  <a:lnTo>
                    <a:pt x="4" y="402"/>
                  </a:lnTo>
                  <a:lnTo>
                    <a:pt x="2" y="390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0" y="358"/>
                  </a:lnTo>
                  <a:lnTo>
                    <a:pt x="2" y="338"/>
                  </a:lnTo>
                  <a:lnTo>
                    <a:pt x="12" y="318"/>
                  </a:lnTo>
                  <a:lnTo>
                    <a:pt x="26" y="298"/>
                  </a:lnTo>
                  <a:lnTo>
                    <a:pt x="26" y="298"/>
                  </a:lnTo>
                  <a:lnTo>
                    <a:pt x="84" y="228"/>
                  </a:lnTo>
                  <a:lnTo>
                    <a:pt x="150" y="144"/>
                  </a:lnTo>
                  <a:lnTo>
                    <a:pt x="212" y="64"/>
                  </a:lnTo>
                  <a:lnTo>
                    <a:pt x="262" y="0"/>
                  </a:lnTo>
                  <a:lnTo>
                    <a:pt x="374" y="60"/>
                  </a:lnTo>
                  <a:lnTo>
                    <a:pt x="374" y="60"/>
                  </a:lnTo>
                  <a:lnTo>
                    <a:pt x="370" y="66"/>
                  </a:lnTo>
                  <a:lnTo>
                    <a:pt x="364" y="70"/>
                  </a:lnTo>
                  <a:lnTo>
                    <a:pt x="356" y="72"/>
                  </a:lnTo>
                  <a:lnTo>
                    <a:pt x="346" y="72"/>
                  </a:lnTo>
                  <a:lnTo>
                    <a:pt x="346" y="72"/>
                  </a:lnTo>
                  <a:lnTo>
                    <a:pt x="238" y="196"/>
                  </a:lnTo>
                  <a:lnTo>
                    <a:pt x="136" y="314"/>
                  </a:lnTo>
                  <a:lnTo>
                    <a:pt x="136" y="314"/>
                  </a:lnTo>
                  <a:lnTo>
                    <a:pt x="116" y="340"/>
                  </a:lnTo>
                  <a:lnTo>
                    <a:pt x="110" y="352"/>
                  </a:lnTo>
                  <a:lnTo>
                    <a:pt x="108" y="356"/>
                  </a:lnTo>
                  <a:lnTo>
                    <a:pt x="108" y="360"/>
                  </a:lnTo>
                  <a:lnTo>
                    <a:pt x="108" y="360"/>
                  </a:lnTo>
                  <a:lnTo>
                    <a:pt x="108" y="366"/>
                  </a:lnTo>
                  <a:lnTo>
                    <a:pt x="112" y="370"/>
                  </a:lnTo>
                  <a:lnTo>
                    <a:pt x="122" y="380"/>
                  </a:lnTo>
                  <a:lnTo>
                    <a:pt x="138" y="392"/>
                  </a:lnTo>
                  <a:lnTo>
                    <a:pt x="158" y="404"/>
                  </a:lnTo>
                  <a:lnTo>
                    <a:pt x="158" y="404"/>
                  </a:lnTo>
                  <a:lnTo>
                    <a:pt x="232" y="450"/>
                  </a:lnTo>
                  <a:lnTo>
                    <a:pt x="310" y="504"/>
                  </a:lnTo>
                  <a:lnTo>
                    <a:pt x="388" y="562"/>
                  </a:lnTo>
                  <a:lnTo>
                    <a:pt x="462" y="624"/>
                  </a:lnTo>
                  <a:lnTo>
                    <a:pt x="376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88"/>
            <p:cNvSpPr/>
            <p:nvPr/>
          </p:nvSpPr>
          <p:spPr>
            <a:xfrm>
              <a:off x="5137200" y="2723760"/>
              <a:ext cx="1041480" cy="1098720"/>
            </a:xfrm>
            <a:custGeom>
              <a:avLst/>
              <a:gdLst>
                <a:gd name="textAreaLeft" fmla="*/ 0 w 1041480"/>
                <a:gd name="textAreaRight" fmla="*/ 1041480 w 10414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656" h="692">
                  <a:moveTo>
                    <a:pt x="66" y="692"/>
                  </a:moveTo>
                  <a:lnTo>
                    <a:pt x="66" y="692"/>
                  </a:lnTo>
                  <a:lnTo>
                    <a:pt x="56" y="666"/>
                  </a:lnTo>
                  <a:lnTo>
                    <a:pt x="48" y="636"/>
                  </a:lnTo>
                  <a:lnTo>
                    <a:pt x="38" y="602"/>
                  </a:lnTo>
                  <a:lnTo>
                    <a:pt x="30" y="564"/>
                  </a:lnTo>
                  <a:lnTo>
                    <a:pt x="16" y="482"/>
                  </a:lnTo>
                  <a:lnTo>
                    <a:pt x="6" y="400"/>
                  </a:lnTo>
                  <a:lnTo>
                    <a:pt x="6" y="400"/>
                  </a:lnTo>
                  <a:lnTo>
                    <a:pt x="2" y="358"/>
                  </a:lnTo>
                  <a:lnTo>
                    <a:pt x="0" y="314"/>
                  </a:lnTo>
                  <a:lnTo>
                    <a:pt x="0" y="228"/>
                  </a:lnTo>
                  <a:lnTo>
                    <a:pt x="2" y="138"/>
                  </a:lnTo>
                  <a:lnTo>
                    <a:pt x="8" y="48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4" y="64"/>
                  </a:lnTo>
                  <a:lnTo>
                    <a:pt x="120" y="70"/>
                  </a:lnTo>
                  <a:lnTo>
                    <a:pt x="114" y="74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98" y="138"/>
                  </a:lnTo>
                  <a:lnTo>
                    <a:pt x="94" y="196"/>
                  </a:lnTo>
                  <a:lnTo>
                    <a:pt x="90" y="248"/>
                  </a:lnTo>
                  <a:lnTo>
                    <a:pt x="90" y="296"/>
                  </a:lnTo>
                  <a:lnTo>
                    <a:pt x="92" y="342"/>
                  </a:lnTo>
                  <a:lnTo>
                    <a:pt x="94" y="382"/>
                  </a:lnTo>
                  <a:lnTo>
                    <a:pt x="100" y="456"/>
                  </a:lnTo>
                  <a:lnTo>
                    <a:pt x="100" y="456"/>
                  </a:lnTo>
                  <a:lnTo>
                    <a:pt x="104" y="492"/>
                  </a:lnTo>
                  <a:lnTo>
                    <a:pt x="110" y="518"/>
                  </a:lnTo>
                  <a:lnTo>
                    <a:pt x="110" y="518"/>
                  </a:lnTo>
                  <a:lnTo>
                    <a:pt x="126" y="454"/>
                  </a:lnTo>
                  <a:lnTo>
                    <a:pt x="142" y="390"/>
                  </a:lnTo>
                  <a:lnTo>
                    <a:pt x="198" y="450"/>
                  </a:lnTo>
                  <a:lnTo>
                    <a:pt x="198" y="450"/>
                  </a:lnTo>
                  <a:lnTo>
                    <a:pt x="184" y="484"/>
                  </a:lnTo>
                  <a:lnTo>
                    <a:pt x="172" y="524"/>
                  </a:lnTo>
                  <a:lnTo>
                    <a:pt x="160" y="566"/>
                  </a:lnTo>
                  <a:lnTo>
                    <a:pt x="150" y="602"/>
                  </a:lnTo>
                  <a:lnTo>
                    <a:pt x="150" y="602"/>
                  </a:lnTo>
                  <a:lnTo>
                    <a:pt x="148" y="624"/>
                  </a:lnTo>
                  <a:lnTo>
                    <a:pt x="148" y="644"/>
                  </a:lnTo>
                  <a:lnTo>
                    <a:pt x="148" y="644"/>
                  </a:lnTo>
                  <a:lnTo>
                    <a:pt x="150" y="660"/>
                  </a:lnTo>
                  <a:lnTo>
                    <a:pt x="154" y="676"/>
                  </a:lnTo>
                  <a:lnTo>
                    <a:pt x="66" y="692"/>
                  </a:lnTo>
                  <a:close/>
                  <a:moveTo>
                    <a:pt x="214" y="196"/>
                  </a:moveTo>
                  <a:lnTo>
                    <a:pt x="214" y="196"/>
                  </a:lnTo>
                  <a:lnTo>
                    <a:pt x="254" y="192"/>
                  </a:lnTo>
                  <a:lnTo>
                    <a:pt x="296" y="188"/>
                  </a:lnTo>
                  <a:lnTo>
                    <a:pt x="376" y="178"/>
                  </a:lnTo>
                  <a:lnTo>
                    <a:pt x="376" y="178"/>
                  </a:lnTo>
                  <a:lnTo>
                    <a:pt x="364" y="92"/>
                  </a:lnTo>
                  <a:lnTo>
                    <a:pt x="354" y="8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0" y="6"/>
                  </a:lnTo>
                  <a:lnTo>
                    <a:pt x="466" y="12"/>
                  </a:lnTo>
                  <a:lnTo>
                    <a:pt x="462" y="16"/>
                  </a:lnTo>
                  <a:lnTo>
                    <a:pt x="454" y="18"/>
                  </a:lnTo>
                  <a:lnTo>
                    <a:pt x="470" y="160"/>
                  </a:lnTo>
                  <a:lnTo>
                    <a:pt x="470" y="160"/>
                  </a:lnTo>
                  <a:lnTo>
                    <a:pt x="506" y="150"/>
                  </a:lnTo>
                  <a:lnTo>
                    <a:pt x="538" y="142"/>
                  </a:lnTo>
                  <a:lnTo>
                    <a:pt x="568" y="130"/>
                  </a:lnTo>
                  <a:lnTo>
                    <a:pt x="596" y="120"/>
                  </a:lnTo>
                  <a:lnTo>
                    <a:pt x="612" y="214"/>
                  </a:lnTo>
                  <a:lnTo>
                    <a:pt x="612" y="214"/>
                  </a:lnTo>
                  <a:lnTo>
                    <a:pt x="586" y="224"/>
                  </a:lnTo>
                  <a:lnTo>
                    <a:pt x="556" y="232"/>
                  </a:lnTo>
                  <a:lnTo>
                    <a:pt x="520" y="242"/>
                  </a:lnTo>
                  <a:lnTo>
                    <a:pt x="482" y="248"/>
                  </a:lnTo>
                  <a:lnTo>
                    <a:pt x="482" y="248"/>
                  </a:lnTo>
                  <a:lnTo>
                    <a:pt x="496" y="350"/>
                  </a:lnTo>
                  <a:lnTo>
                    <a:pt x="510" y="438"/>
                  </a:lnTo>
                  <a:lnTo>
                    <a:pt x="510" y="438"/>
                  </a:lnTo>
                  <a:lnTo>
                    <a:pt x="550" y="452"/>
                  </a:lnTo>
                  <a:lnTo>
                    <a:pt x="588" y="470"/>
                  </a:lnTo>
                  <a:lnTo>
                    <a:pt x="624" y="490"/>
                  </a:lnTo>
                  <a:lnTo>
                    <a:pt x="656" y="512"/>
                  </a:lnTo>
                  <a:lnTo>
                    <a:pt x="618" y="608"/>
                  </a:lnTo>
                  <a:lnTo>
                    <a:pt x="618" y="608"/>
                  </a:lnTo>
                  <a:lnTo>
                    <a:pt x="596" y="590"/>
                  </a:lnTo>
                  <a:lnTo>
                    <a:pt x="574" y="574"/>
                  </a:lnTo>
                  <a:lnTo>
                    <a:pt x="550" y="558"/>
                  </a:lnTo>
                  <a:lnTo>
                    <a:pt x="524" y="544"/>
                  </a:lnTo>
                  <a:lnTo>
                    <a:pt x="524" y="544"/>
                  </a:lnTo>
                  <a:lnTo>
                    <a:pt x="524" y="562"/>
                  </a:lnTo>
                  <a:lnTo>
                    <a:pt x="522" y="578"/>
                  </a:lnTo>
                  <a:lnTo>
                    <a:pt x="518" y="592"/>
                  </a:lnTo>
                  <a:lnTo>
                    <a:pt x="512" y="604"/>
                  </a:lnTo>
                  <a:lnTo>
                    <a:pt x="506" y="616"/>
                  </a:lnTo>
                  <a:lnTo>
                    <a:pt x="500" y="626"/>
                  </a:lnTo>
                  <a:lnTo>
                    <a:pt x="492" y="636"/>
                  </a:lnTo>
                  <a:lnTo>
                    <a:pt x="484" y="642"/>
                  </a:lnTo>
                  <a:lnTo>
                    <a:pt x="474" y="650"/>
                  </a:lnTo>
                  <a:lnTo>
                    <a:pt x="464" y="654"/>
                  </a:lnTo>
                  <a:lnTo>
                    <a:pt x="442" y="664"/>
                  </a:lnTo>
                  <a:lnTo>
                    <a:pt x="418" y="668"/>
                  </a:lnTo>
                  <a:lnTo>
                    <a:pt x="396" y="672"/>
                  </a:lnTo>
                  <a:lnTo>
                    <a:pt x="396" y="672"/>
                  </a:lnTo>
                  <a:lnTo>
                    <a:pt x="378" y="674"/>
                  </a:lnTo>
                  <a:lnTo>
                    <a:pt x="362" y="674"/>
                  </a:lnTo>
                  <a:lnTo>
                    <a:pt x="348" y="672"/>
                  </a:lnTo>
                  <a:lnTo>
                    <a:pt x="334" y="670"/>
                  </a:lnTo>
                  <a:lnTo>
                    <a:pt x="320" y="666"/>
                  </a:lnTo>
                  <a:lnTo>
                    <a:pt x="308" y="662"/>
                  </a:lnTo>
                  <a:lnTo>
                    <a:pt x="296" y="656"/>
                  </a:lnTo>
                  <a:lnTo>
                    <a:pt x="284" y="648"/>
                  </a:lnTo>
                  <a:lnTo>
                    <a:pt x="276" y="640"/>
                  </a:lnTo>
                  <a:lnTo>
                    <a:pt x="266" y="632"/>
                  </a:lnTo>
                  <a:lnTo>
                    <a:pt x="258" y="622"/>
                  </a:lnTo>
                  <a:lnTo>
                    <a:pt x="252" y="612"/>
                  </a:lnTo>
                  <a:lnTo>
                    <a:pt x="246" y="602"/>
                  </a:lnTo>
                  <a:lnTo>
                    <a:pt x="242" y="590"/>
                  </a:lnTo>
                  <a:lnTo>
                    <a:pt x="240" y="578"/>
                  </a:lnTo>
                  <a:lnTo>
                    <a:pt x="238" y="564"/>
                  </a:lnTo>
                  <a:lnTo>
                    <a:pt x="238" y="564"/>
                  </a:lnTo>
                  <a:lnTo>
                    <a:pt x="236" y="550"/>
                  </a:lnTo>
                  <a:lnTo>
                    <a:pt x="238" y="536"/>
                  </a:lnTo>
                  <a:lnTo>
                    <a:pt x="240" y="522"/>
                  </a:lnTo>
                  <a:lnTo>
                    <a:pt x="244" y="510"/>
                  </a:lnTo>
                  <a:lnTo>
                    <a:pt x="250" y="498"/>
                  </a:lnTo>
                  <a:lnTo>
                    <a:pt x="256" y="486"/>
                  </a:lnTo>
                  <a:lnTo>
                    <a:pt x="264" y="476"/>
                  </a:lnTo>
                  <a:lnTo>
                    <a:pt x="272" y="466"/>
                  </a:lnTo>
                  <a:lnTo>
                    <a:pt x="282" y="458"/>
                  </a:lnTo>
                  <a:lnTo>
                    <a:pt x="294" y="450"/>
                  </a:lnTo>
                  <a:lnTo>
                    <a:pt x="318" y="438"/>
                  </a:lnTo>
                  <a:lnTo>
                    <a:pt x="344" y="428"/>
                  </a:lnTo>
                  <a:lnTo>
                    <a:pt x="372" y="424"/>
                  </a:lnTo>
                  <a:lnTo>
                    <a:pt x="372" y="424"/>
                  </a:lnTo>
                  <a:lnTo>
                    <a:pt x="392" y="422"/>
                  </a:lnTo>
                  <a:lnTo>
                    <a:pt x="416" y="422"/>
                  </a:lnTo>
                  <a:lnTo>
                    <a:pt x="416" y="422"/>
                  </a:lnTo>
                  <a:lnTo>
                    <a:pt x="390" y="266"/>
                  </a:lnTo>
                  <a:lnTo>
                    <a:pt x="390" y="266"/>
                  </a:lnTo>
                  <a:lnTo>
                    <a:pt x="328" y="274"/>
                  </a:lnTo>
                  <a:lnTo>
                    <a:pt x="224" y="284"/>
                  </a:lnTo>
                  <a:lnTo>
                    <a:pt x="214" y="196"/>
                  </a:lnTo>
                  <a:close/>
                  <a:moveTo>
                    <a:pt x="432" y="506"/>
                  </a:moveTo>
                  <a:lnTo>
                    <a:pt x="432" y="506"/>
                  </a:lnTo>
                  <a:lnTo>
                    <a:pt x="406" y="502"/>
                  </a:lnTo>
                  <a:lnTo>
                    <a:pt x="392" y="502"/>
                  </a:lnTo>
                  <a:lnTo>
                    <a:pt x="380" y="502"/>
                  </a:lnTo>
                  <a:lnTo>
                    <a:pt x="380" y="502"/>
                  </a:lnTo>
                  <a:lnTo>
                    <a:pt x="366" y="504"/>
                  </a:lnTo>
                  <a:lnTo>
                    <a:pt x="354" y="508"/>
                  </a:lnTo>
                  <a:lnTo>
                    <a:pt x="342" y="512"/>
                  </a:lnTo>
                  <a:lnTo>
                    <a:pt x="332" y="518"/>
                  </a:lnTo>
                  <a:lnTo>
                    <a:pt x="324" y="524"/>
                  </a:lnTo>
                  <a:lnTo>
                    <a:pt x="318" y="532"/>
                  </a:lnTo>
                  <a:lnTo>
                    <a:pt x="314" y="544"/>
                  </a:lnTo>
                  <a:lnTo>
                    <a:pt x="314" y="554"/>
                  </a:lnTo>
                  <a:lnTo>
                    <a:pt x="314" y="554"/>
                  </a:lnTo>
                  <a:lnTo>
                    <a:pt x="316" y="564"/>
                  </a:lnTo>
                  <a:lnTo>
                    <a:pt x="322" y="574"/>
                  </a:lnTo>
                  <a:lnTo>
                    <a:pt x="328" y="580"/>
                  </a:lnTo>
                  <a:lnTo>
                    <a:pt x="338" y="586"/>
                  </a:lnTo>
                  <a:lnTo>
                    <a:pt x="348" y="590"/>
                  </a:lnTo>
                  <a:lnTo>
                    <a:pt x="360" y="592"/>
                  </a:lnTo>
                  <a:lnTo>
                    <a:pt x="374" y="592"/>
                  </a:lnTo>
                  <a:lnTo>
                    <a:pt x="386" y="592"/>
                  </a:lnTo>
                  <a:lnTo>
                    <a:pt x="386" y="592"/>
                  </a:lnTo>
                  <a:lnTo>
                    <a:pt x="400" y="590"/>
                  </a:lnTo>
                  <a:lnTo>
                    <a:pt x="410" y="584"/>
                  </a:lnTo>
                  <a:lnTo>
                    <a:pt x="420" y="578"/>
                  </a:lnTo>
                  <a:lnTo>
                    <a:pt x="426" y="572"/>
                  </a:lnTo>
                  <a:lnTo>
                    <a:pt x="432" y="562"/>
                  </a:lnTo>
                  <a:lnTo>
                    <a:pt x="434" y="552"/>
                  </a:lnTo>
                  <a:lnTo>
                    <a:pt x="436" y="540"/>
                  </a:lnTo>
                  <a:lnTo>
                    <a:pt x="434" y="528"/>
                  </a:lnTo>
                  <a:lnTo>
                    <a:pt x="434" y="528"/>
                  </a:lnTo>
                  <a:lnTo>
                    <a:pt x="432" y="506"/>
                  </a:lnTo>
                  <a:lnTo>
                    <a:pt x="432" y="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89"/>
            <p:cNvSpPr/>
            <p:nvPr/>
          </p:nvSpPr>
          <p:spPr>
            <a:xfrm>
              <a:off x="1711080" y="4505400"/>
              <a:ext cx="1168200" cy="117792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736" h="742">
                  <a:moveTo>
                    <a:pt x="92" y="156"/>
                  </a:moveTo>
                  <a:lnTo>
                    <a:pt x="100" y="226"/>
                  </a:lnTo>
                  <a:lnTo>
                    <a:pt x="14" y="236"/>
                  </a:lnTo>
                  <a:lnTo>
                    <a:pt x="0" y="92"/>
                  </a:lnTo>
                  <a:lnTo>
                    <a:pt x="274" y="64"/>
                  </a:lnTo>
                  <a:lnTo>
                    <a:pt x="268" y="4"/>
                  </a:lnTo>
                  <a:lnTo>
                    <a:pt x="380" y="0"/>
                  </a:lnTo>
                  <a:lnTo>
                    <a:pt x="380" y="0"/>
                  </a:lnTo>
                  <a:lnTo>
                    <a:pt x="378" y="6"/>
                  </a:lnTo>
                  <a:lnTo>
                    <a:pt x="376" y="10"/>
                  </a:lnTo>
                  <a:lnTo>
                    <a:pt x="370" y="14"/>
                  </a:lnTo>
                  <a:lnTo>
                    <a:pt x="360" y="18"/>
                  </a:lnTo>
                  <a:lnTo>
                    <a:pt x="364" y="54"/>
                  </a:lnTo>
                  <a:lnTo>
                    <a:pt x="642" y="26"/>
                  </a:lnTo>
                  <a:lnTo>
                    <a:pt x="656" y="162"/>
                  </a:lnTo>
                  <a:lnTo>
                    <a:pt x="568" y="170"/>
                  </a:lnTo>
                  <a:lnTo>
                    <a:pt x="562" y="108"/>
                  </a:lnTo>
                  <a:lnTo>
                    <a:pt x="92" y="156"/>
                  </a:lnTo>
                  <a:close/>
                  <a:moveTo>
                    <a:pt x="70" y="408"/>
                  </a:moveTo>
                  <a:lnTo>
                    <a:pt x="70" y="408"/>
                  </a:lnTo>
                  <a:lnTo>
                    <a:pt x="190" y="396"/>
                  </a:lnTo>
                  <a:lnTo>
                    <a:pt x="190" y="396"/>
                  </a:lnTo>
                  <a:lnTo>
                    <a:pt x="210" y="352"/>
                  </a:lnTo>
                  <a:lnTo>
                    <a:pt x="224" y="318"/>
                  </a:lnTo>
                  <a:lnTo>
                    <a:pt x="234" y="288"/>
                  </a:lnTo>
                  <a:lnTo>
                    <a:pt x="244" y="262"/>
                  </a:lnTo>
                  <a:lnTo>
                    <a:pt x="244" y="262"/>
                  </a:lnTo>
                  <a:lnTo>
                    <a:pt x="232" y="278"/>
                  </a:lnTo>
                  <a:lnTo>
                    <a:pt x="218" y="292"/>
                  </a:lnTo>
                  <a:lnTo>
                    <a:pt x="200" y="304"/>
                  </a:lnTo>
                  <a:lnTo>
                    <a:pt x="180" y="318"/>
                  </a:lnTo>
                  <a:lnTo>
                    <a:pt x="156" y="330"/>
                  </a:lnTo>
                  <a:lnTo>
                    <a:pt x="128" y="342"/>
                  </a:lnTo>
                  <a:lnTo>
                    <a:pt x="96" y="354"/>
                  </a:lnTo>
                  <a:lnTo>
                    <a:pt x="60" y="364"/>
                  </a:lnTo>
                  <a:lnTo>
                    <a:pt x="60" y="364"/>
                  </a:lnTo>
                  <a:lnTo>
                    <a:pt x="50" y="348"/>
                  </a:lnTo>
                  <a:lnTo>
                    <a:pt x="38" y="330"/>
                  </a:lnTo>
                  <a:lnTo>
                    <a:pt x="24" y="314"/>
                  </a:lnTo>
                  <a:lnTo>
                    <a:pt x="10" y="300"/>
                  </a:lnTo>
                  <a:lnTo>
                    <a:pt x="10" y="300"/>
                  </a:lnTo>
                  <a:lnTo>
                    <a:pt x="60" y="286"/>
                  </a:lnTo>
                  <a:lnTo>
                    <a:pt x="100" y="272"/>
                  </a:lnTo>
                  <a:lnTo>
                    <a:pt x="130" y="256"/>
                  </a:lnTo>
                  <a:lnTo>
                    <a:pt x="144" y="248"/>
                  </a:lnTo>
                  <a:lnTo>
                    <a:pt x="154" y="240"/>
                  </a:lnTo>
                  <a:lnTo>
                    <a:pt x="162" y="232"/>
                  </a:lnTo>
                  <a:lnTo>
                    <a:pt x="170" y="222"/>
                  </a:lnTo>
                  <a:lnTo>
                    <a:pt x="176" y="212"/>
                  </a:lnTo>
                  <a:lnTo>
                    <a:pt x="182" y="202"/>
                  </a:lnTo>
                  <a:lnTo>
                    <a:pt x="188" y="182"/>
                  </a:lnTo>
                  <a:lnTo>
                    <a:pt x="192" y="158"/>
                  </a:lnTo>
                  <a:lnTo>
                    <a:pt x="298" y="158"/>
                  </a:lnTo>
                  <a:lnTo>
                    <a:pt x="298" y="158"/>
                  </a:lnTo>
                  <a:lnTo>
                    <a:pt x="298" y="162"/>
                  </a:lnTo>
                  <a:lnTo>
                    <a:pt x="294" y="166"/>
                  </a:lnTo>
                  <a:lnTo>
                    <a:pt x="288" y="170"/>
                  </a:lnTo>
                  <a:lnTo>
                    <a:pt x="282" y="172"/>
                  </a:lnTo>
                  <a:lnTo>
                    <a:pt x="282" y="172"/>
                  </a:lnTo>
                  <a:lnTo>
                    <a:pt x="276" y="196"/>
                  </a:lnTo>
                  <a:lnTo>
                    <a:pt x="270" y="218"/>
                  </a:lnTo>
                  <a:lnTo>
                    <a:pt x="260" y="240"/>
                  </a:lnTo>
                  <a:lnTo>
                    <a:pt x="246" y="260"/>
                  </a:lnTo>
                  <a:lnTo>
                    <a:pt x="350" y="282"/>
                  </a:lnTo>
                  <a:lnTo>
                    <a:pt x="350" y="282"/>
                  </a:lnTo>
                  <a:lnTo>
                    <a:pt x="348" y="286"/>
                  </a:lnTo>
                  <a:lnTo>
                    <a:pt x="344" y="290"/>
                  </a:lnTo>
                  <a:lnTo>
                    <a:pt x="338" y="292"/>
                  </a:lnTo>
                  <a:lnTo>
                    <a:pt x="330" y="292"/>
                  </a:lnTo>
                  <a:lnTo>
                    <a:pt x="330" y="292"/>
                  </a:lnTo>
                  <a:lnTo>
                    <a:pt x="310" y="338"/>
                  </a:lnTo>
                  <a:lnTo>
                    <a:pt x="284" y="384"/>
                  </a:lnTo>
                  <a:lnTo>
                    <a:pt x="284" y="384"/>
                  </a:lnTo>
                  <a:lnTo>
                    <a:pt x="468" y="360"/>
                  </a:lnTo>
                  <a:lnTo>
                    <a:pt x="468" y="360"/>
                  </a:lnTo>
                  <a:lnTo>
                    <a:pt x="412" y="324"/>
                  </a:lnTo>
                  <a:lnTo>
                    <a:pt x="452" y="294"/>
                  </a:lnTo>
                  <a:lnTo>
                    <a:pt x="452" y="294"/>
                  </a:lnTo>
                  <a:lnTo>
                    <a:pt x="430" y="294"/>
                  </a:lnTo>
                  <a:lnTo>
                    <a:pt x="414" y="290"/>
                  </a:lnTo>
                  <a:lnTo>
                    <a:pt x="400" y="284"/>
                  </a:lnTo>
                  <a:lnTo>
                    <a:pt x="390" y="276"/>
                  </a:lnTo>
                  <a:lnTo>
                    <a:pt x="382" y="266"/>
                  </a:lnTo>
                  <a:lnTo>
                    <a:pt x="376" y="252"/>
                  </a:lnTo>
                  <a:lnTo>
                    <a:pt x="370" y="234"/>
                  </a:lnTo>
                  <a:lnTo>
                    <a:pt x="368" y="214"/>
                  </a:lnTo>
                  <a:lnTo>
                    <a:pt x="360" y="140"/>
                  </a:lnTo>
                  <a:lnTo>
                    <a:pt x="468" y="136"/>
                  </a:lnTo>
                  <a:lnTo>
                    <a:pt x="468" y="136"/>
                  </a:lnTo>
                  <a:lnTo>
                    <a:pt x="468" y="140"/>
                  </a:lnTo>
                  <a:lnTo>
                    <a:pt x="464" y="144"/>
                  </a:lnTo>
                  <a:lnTo>
                    <a:pt x="460" y="148"/>
                  </a:lnTo>
                  <a:lnTo>
                    <a:pt x="450" y="152"/>
                  </a:lnTo>
                  <a:lnTo>
                    <a:pt x="456" y="204"/>
                  </a:lnTo>
                  <a:lnTo>
                    <a:pt x="456" y="204"/>
                  </a:lnTo>
                  <a:lnTo>
                    <a:pt x="458" y="216"/>
                  </a:lnTo>
                  <a:lnTo>
                    <a:pt x="460" y="220"/>
                  </a:lnTo>
                  <a:lnTo>
                    <a:pt x="462" y="222"/>
                  </a:lnTo>
                  <a:lnTo>
                    <a:pt x="472" y="222"/>
                  </a:lnTo>
                  <a:lnTo>
                    <a:pt x="486" y="222"/>
                  </a:lnTo>
                  <a:lnTo>
                    <a:pt x="560" y="214"/>
                  </a:lnTo>
                  <a:lnTo>
                    <a:pt x="560" y="214"/>
                  </a:lnTo>
                  <a:lnTo>
                    <a:pt x="572" y="212"/>
                  </a:lnTo>
                  <a:lnTo>
                    <a:pt x="576" y="210"/>
                  </a:lnTo>
                  <a:lnTo>
                    <a:pt x="578" y="206"/>
                  </a:lnTo>
                  <a:lnTo>
                    <a:pt x="582" y="196"/>
                  </a:lnTo>
                  <a:lnTo>
                    <a:pt x="582" y="180"/>
                  </a:lnTo>
                  <a:lnTo>
                    <a:pt x="582" y="180"/>
                  </a:lnTo>
                  <a:lnTo>
                    <a:pt x="598" y="186"/>
                  </a:lnTo>
                  <a:lnTo>
                    <a:pt x="618" y="190"/>
                  </a:lnTo>
                  <a:lnTo>
                    <a:pt x="658" y="198"/>
                  </a:lnTo>
                  <a:lnTo>
                    <a:pt x="658" y="198"/>
                  </a:lnTo>
                  <a:lnTo>
                    <a:pt x="656" y="218"/>
                  </a:lnTo>
                  <a:lnTo>
                    <a:pt x="652" y="236"/>
                  </a:lnTo>
                  <a:lnTo>
                    <a:pt x="646" y="248"/>
                  </a:lnTo>
                  <a:lnTo>
                    <a:pt x="638" y="260"/>
                  </a:lnTo>
                  <a:lnTo>
                    <a:pt x="628" y="268"/>
                  </a:lnTo>
                  <a:lnTo>
                    <a:pt x="614" y="274"/>
                  </a:lnTo>
                  <a:lnTo>
                    <a:pt x="598" y="278"/>
                  </a:lnTo>
                  <a:lnTo>
                    <a:pt x="578" y="282"/>
                  </a:lnTo>
                  <a:lnTo>
                    <a:pt x="500" y="290"/>
                  </a:lnTo>
                  <a:lnTo>
                    <a:pt x="500" y="290"/>
                  </a:lnTo>
                  <a:lnTo>
                    <a:pt x="546" y="320"/>
                  </a:lnTo>
                  <a:lnTo>
                    <a:pt x="588" y="350"/>
                  </a:lnTo>
                  <a:lnTo>
                    <a:pt x="628" y="382"/>
                  </a:lnTo>
                  <a:lnTo>
                    <a:pt x="660" y="412"/>
                  </a:lnTo>
                  <a:lnTo>
                    <a:pt x="590" y="466"/>
                  </a:lnTo>
                  <a:lnTo>
                    <a:pt x="590" y="466"/>
                  </a:lnTo>
                  <a:lnTo>
                    <a:pt x="570" y="446"/>
                  </a:lnTo>
                  <a:lnTo>
                    <a:pt x="546" y="422"/>
                  </a:lnTo>
                  <a:lnTo>
                    <a:pt x="546" y="422"/>
                  </a:lnTo>
                  <a:lnTo>
                    <a:pt x="344" y="452"/>
                  </a:lnTo>
                  <a:lnTo>
                    <a:pt x="344" y="452"/>
                  </a:lnTo>
                  <a:lnTo>
                    <a:pt x="376" y="472"/>
                  </a:lnTo>
                  <a:lnTo>
                    <a:pt x="410" y="492"/>
                  </a:lnTo>
                  <a:lnTo>
                    <a:pt x="440" y="514"/>
                  </a:lnTo>
                  <a:lnTo>
                    <a:pt x="464" y="534"/>
                  </a:lnTo>
                  <a:lnTo>
                    <a:pt x="402" y="592"/>
                  </a:lnTo>
                  <a:lnTo>
                    <a:pt x="402" y="592"/>
                  </a:lnTo>
                  <a:lnTo>
                    <a:pt x="378" y="568"/>
                  </a:lnTo>
                  <a:lnTo>
                    <a:pt x="346" y="544"/>
                  </a:lnTo>
                  <a:lnTo>
                    <a:pt x="310" y="520"/>
                  </a:lnTo>
                  <a:lnTo>
                    <a:pt x="274" y="498"/>
                  </a:lnTo>
                  <a:lnTo>
                    <a:pt x="320" y="456"/>
                  </a:lnTo>
                  <a:lnTo>
                    <a:pt x="320" y="456"/>
                  </a:lnTo>
                  <a:lnTo>
                    <a:pt x="126" y="484"/>
                  </a:lnTo>
                  <a:lnTo>
                    <a:pt x="126" y="484"/>
                  </a:lnTo>
                  <a:lnTo>
                    <a:pt x="124" y="488"/>
                  </a:lnTo>
                  <a:lnTo>
                    <a:pt x="122" y="492"/>
                  </a:lnTo>
                  <a:lnTo>
                    <a:pt x="118" y="494"/>
                  </a:lnTo>
                  <a:lnTo>
                    <a:pt x="114" y="496"/>
                  </a:lnTo>
                  <a:lnTo>
                    <a:pt x="70" y="408"/>
                  </a:lnTo>
                  <a:close/>
                  <a:moveTo>
                    <a:pt x="28" y="692"/>
                  </a:moveTo>
                  <a:lnTo>
                    <a:pt x="28" y="692"/>
                  </a:lnTo>
                  <a:lnTo>
                    <a:pt x="44" y="676"/>
                  </a:lnTo>
                  <a:lnTo>
                    <a:pt x="58" y="660"/>
                  </a:lnTo>
                  <a:lnTo>
                    <a:pt x="72" y="642"/>
                  </a:lnTo>
                  <a:lnTo>
                    <a:pt x="82" y="622"/>
                  </a:lnTo>
                  <a:lnTo>
                    <a:pt x="92" y="600"/>
                  </a:lnTo>
                  <a:lnTo>
                    <a:pt x="100" y="578"/>
                  </a:lnTo>
                  <a:lnTo>
                    <a:pt x="106" y="556"/>
                  </a:lnTo>
                  <a:lnTo>
                    <a:pt x="112" y="532"/>
                  </a:lnTo>
                  <a:lnTo>
                    <a:pt x="112" y="532"/>
                  </a:lnTo>
                  <a:lnTo>
                    <a:pt x="192" y="554"/>
                  </a:lnTo>
                  <a:lnTo>
                    <a:pt x="192" y="554"/>
                  </a:lnTo>
                  <a:lnTo>
                    <a:pt x="180" y="606"/>
                  </a:lnTo>
                  <a:lnTo>
                    <a:pt x="172" y="630"/>
                  </a:lnTo>
                  <a:lnTo>
                    <a:pt x="162" y="656"/>
                  </a:lnTo>
                  <a:lnTo>
                    <a:pt x="150" y="680"/>
                  </a:lnTo>
                  <a:lnTo>
                    <a:pt x="138" y="702"/>
                  </a:lnTo>
                  <a:lnTo>
                    <a:pt x="122" y="722"/>
                  </a:lnTo>
                  <a:lnTo>
                    <a:pt x="104" y="742"/>
                  </a:lnTo>
                  <a:lnTo>
                    <a:pt x="28" y="692"/>
                  </a:lnTo>
                  <a:close/>
                  <a:moveTo>
                    <a:pt x="312" y="628"/>
                  </a:moveTo>
                  <a:lnTo>
                    <a:pt x="312" y="628"/>
                  </a:lnTo>
                  <a:lnTo>
                    <a:pt x="314" y="640"/>
                  </a:lnTo>
                  <a:lnTo>
                    <a:pt x="316" y="644"/>
                  </a:lnTo>
                  <a:lnTo>
                    <a:pt x="320" y="648"/>
                  </a:lnTo>
                  <a:lnTo>
                    <a:pt x="326" y="650"/>
                  </a:lnTo>
                  <a:lnTo>
                    <a:pt x="332" y="650"/>
                  </a:lnTo>
                  <a:lnTo>
                    <a:pt x="352" y="648"/>
                  </a:lnTo>
                  <a:lnTo>
                    <a:pt x="444" y="638"/>
                  </a:lnTo>
                  <a:lnTo>
                    <a:pt x="444" y="638"/>
                  </a:lnTo>
                  <a:lnTo>
                    <a:pt x="454" y="638"/>
                  </a:lnTo>
                  <a:lnTo>
                    <a:pt x="460" y="634"/>
                  </a:lnTo>
                  <a:lnTo>
                    <a:pt x="466" y="630"/>
                  </a:lnTo>
                  <a:lnTo>
                    <a:pt x="470" y="624"/>
                  </a:lnTo>
                  <a:lnTo>
                    <a:pt x="472" y="614"/>
                  </a:lnTo>
                  <a:lnTo>
                    <a:pt x="472" y="600"/>
                  </a:lnTo>
                  <a:lnTo>
                    <a:pt x="472" y="562"/>
                  </a:lnTo>
                  <a:lnTo>
                    <a:pt x="472" y="562"/>
                  </a:lnTo>
                  <a:lnTo>
                    <a:pt x="488" y="570"/>
                  </a:lnTo>
                  <a:lnTo>
                    <a:pt x="510" y="576"/>
                  </a:lnTo>
                  <a:lnTo>
                    <a:pt x="532" y="582"/>
                  </a:lnTo>
                  <a:lnTo>
                    <a:pt x="550" y="584"/>
                  </a:lnTo>
                  <a:lnTo>
                    <a:pt x="550" y="584"/>
                  </a:lnTo>
                  <a:lnTo>
                    <a:pt x="550" y="618"/>
                  </a:lnTo>
                  <a:lnTo>
                    <a:pt x="546" y="644"/>
                  </a:lnTo>
                  <a:lnTo>
                    <a:pt x="542" y="666"/>
                  </a:lnTo>
                  <a:lnTo>
                    <a:pt x="538" y="676"/>
                  </a:lnTo>
                  <a:lnTo>
                    <a:pt x="532" y="684"/>
                  </a:lnTo>
                  <a:lnTo>
                    <a:pt x="526" y="690"/>
                  </a:lnTo>
                  <a:lnTo>
                    <a:pt x="520" y="696"/>
                  </a:lnTo>
                  <a:lnTo>
                    <a:pt x="504" y="706"/>
                  </a:lnTo>
                  <a:lnTo>
                    <a:pt x="486" y="712"/>
                  </a:lnTo>
                  <a:lnTo>
                    <a:pt x="462" y="714"/>
                  </a:lnTo>
                  <a:lnTo>
                    <a:pt x="348" y="726"/>
                  </a:lnTo>
                  <a:lnTo>
                    <a:pt x="348" y="726"/>
                  </a:lnTo>
                  <a:lnTo>
                    <a:pt x="318" y="728"/>
                  </a:lnTo>
                  <a:lnTo>
                    <a:pt x="292" y="728"/>
                  </a:lnTo>
                  <a:lnTo>
                    <a:pt x="272" y="722"/>
                  </a:lnTo>
                  <a:lnTo>
                    <a:pt x="264" y="718"/>
                  </a:lnTo>
                  <a:lnTo>
                    <a:pt x="256" y="714"/>
                  </a:lnTo>
                  <a:lnTo>
                    <a:pt x="250" y="708"/>
                  </a:lnTo>
                  <a:lnTo>
                    <a:pt x="244" y="702"/>
                  </a:lnTo>
                  <a:lnTo>
                    <a:pt x="236" y="686"/>
                  </a:lnTo>
                  <a:lnTo>
                    <a:pt x="230" y="664"/>
                  </a:lnTo>
                  <a:lnTo>
                    <a:pt x="226" y="638"/>
                  </a:lnTo>
                  <a:lnTo>
                    <a:pt x="214" y="536"/>
                  </a:lnTo>
                  <a:lnTo>
                    <a:pt x="322" y="530"/>
                  </a:lnTo>
                  <a:lnTo>
                    <a:pt x="322" y="530"/>
                  </a:lnTo>
                  <a:lnTo>
                    <a:pt x="320" y="536"/>
                  </a:lnTo>
                  <a:lnTo>
                    <a:pt x="318" y="540"/>
                  </a:lnTo>
                  <a:lnTo>
                    <a:pt x="312" y="544"/>
                  </a:lnTo>
                  <a:lnTo>
                    <a:pt x="304" y="548"/>
                  </a:lnTo>
                  <a:lnTo>
                    <a:pt x="312" y="628"/>
                  </a:lnTo>
                  <a:close/>
                  <a:moveTo>
                    <a:pt x="662" y="682"/>
                  </a:moveTo>
                  <a:lnTo>
                    <a:pt x="662" y="682"/>
                  </a:lnTo>
                  <a:lnTo>
                    <a:pt x="650" y="664"/>
                  </a:lnTo>
                  <a:lnTo>
                    <a:pt x="636" y="644"/>
                  </a:lnTo>
                  <a:lnTo>
                    <a:pt x="600" y="604"/>
                  </a:lnTo>
                  <a:lnTo>
                    <a:pt x="558" y="564"/>
                  </a:lnTo>
                  <a:lnTo>
                    <a:pt x="516" y="528"/>
                  </a:lnTo>
                  <a:lnTo>
                    <a:pt x="584" y="478"/>
                  </a:lnTo>
                  <a:lnTo>
                    <a:pt x="584" y="478"/>
                  </a:lnTo>
                  <a:lnTo>
                    <a:pt x="626" y="512"/>
                  </a:lnTo>
                  <a:lnTo>
                    <a:pt x="670" y="550"/>
                  </a:lnTo>
                  <a:lnTo>
                    <a:pt x="690" y="570"/>
                  </a:lnTo>
                  <a:lnTo>
                    <a:pt x="708" y="590"/>
                  </a:lnTo>
                  <a:lnTo>
                    <a:pt x="722" y="610"/>
                  </a:lnTo>
                  <a:lnTo>
                    <a:pt x="736" y="628"/>
                  </a:lnTo>
                  <a:lnTo>
                    <a:pt x="662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90"/>
            <p:cNvSpPr/>
            <p:nvPr/>
          </p:nvSpPr>
          <p:spPr>
            <a:xfrm>
              <a:off x="2923920" y="4444920"/>
              <a:ext cx="1057320" cy="112716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666" h="710">
                  <a:moveTo>
                    <a:pt x="0" y="62"/>
                  </a:moveTo>
                  <a:lnTo>
                    <a:pt x="598" y="0"/>
                  </a:lnTo>
                  <a:lnTo>
                    <a:pt x="666" y="648"/>
                  </a:lnTo>
                  <a:lnTo>
                    <a:pt x="568" y="658"/>
                  </a:lnTo>
                  <a:lnTo>
                    <a:pt x="562" y="594"/>
                  </a:lnTo>
                  <a:lnTo>
                    <a:pt x="152" y="636"/>
                  </a:lnTo>
                  <a:lnTo>
                    <a:pt x="158" y="702"/>
                  </a:lnTo>
                  <a:lnTo>
                    <a:pt x="66" y="710"/>
                  </a:lnTo>
                  <a:lnTo>
                    <a:pt x="0" y="62"/>
                  </a:lnTo>
                  <a:close/>
                  <a:moveTo>
                    <a:pt x="142" y="542"/>
                  </a:moveTo>
                  <a:lnTo>
                    <a:pt x="552" y="500"/>
                  </a:lnTo>
                  <a:lnTo>
                    <a:pt x="512" y="104"/>
                  </a:lnTo>
                  <a:lnTo>
                    <a:pt x="102" y="146"/>
                  </a:lnTo>
                  <a:lnTo>
                    <a:pt x="142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91"/>
            <p:cNvSpPr/>
            <p:nvPr/>
          </p:nvSpPr>
          <p:spPr>
            <a:xfrm>
              <a:off x="4118040" y="4286160"/>
              <a:ext cx="939600" cy="111132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111320"/>
                <a:gd name="textAreaBottom" fmla="*/ 1111320 h 1111320"/>
              </a:gdLst>
              <a:ahLst/>
              <a:rect l="textAreaLeft" t="textAreaTop" r="textAreaRight" b="textAreaBottom"/>
              <a:pathLst>
                <a:path w="592" h="700">
                  <a:moveTo>
                    <a:pt x="0" y="124"/>
                  </a:moveTo>
                  <a:lnTo>
                    <a:pt x="0" y="124"/>
                  </a:lnTo>
                  <a:lnTo>
                    <a:pt x="82" y="118"/>
                  </a:lnTo>
                  <a:lnTo>
                    <a:pt x="172" y="110"/>
                  </a:lnTo>
                  <a:lnTo>
                    <a:pt x="172" y="110"/>
                  </a:lnTo>
                  <a:lnTo>
                    <a:pt x="242" y="100"/>
                  </a:lnTo>
                  <a:lnTo>
                    <a:pt x="242" y="100"/>
                  </a:lnTo>
                  <a:lnTo>
                    <a:pt x="230" y="6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4" y="6"/>
                  </a:lnTo>
                  <a:lnTo>
                    <a:pt x="342" y="12"/>
                  </a:lnTo>
                  <a:lnTo>
                    <a:pt x="336" y="16"/>
                  </a:lnTo>
                  <a:lnTo>
                    <a:pt x="328" y="18"/>
                  </a:lnTo>
                  <a:lnTo>
                    <a:pt x="336" y="88"/>
                  </a:lnTo>
                  <a:lnTo>
                    <a:pt x="336" y="88"/>
                  </a:lnTo>
                  <a:lnTo>
                    <a:pt x="392" y="78"/>
                  </a:lnTo>
                  <a:lnTo>
                    <a:pt x="448" y="68"/>
                  </a:lnTo>
                  <a:lnTo>
                    <a:pt x="504" y="54"/>
                  </a:lnTo>
                  <a:lnTo>
                    <a:pt x="556" y="38"/>
                  </a:lnTo>
                  <a:lnTo>
                    <a:pt x="574" y="128"/>
                  </a:lnTo>
                  <a:lnTo>
                    <a:pt x="574" y="128"/>
                  </a:lnTo>
                  <a:lnTo>
                    <a:pt x="522" y="140"/>
                  </a:lnTo>
                  <a:lnTo>
                    <a:pt x="468" y="152"/>
                  </a:lnTo>
                  <a:lnTo>
                    <a:pt x="408" y="164"/>
                  </a:lnTo>
                  <a:lnTo>
                    <a:pt x="344" y="174"/>
                  </a:lnTo>
                  <a:lnTo>
                    <a:pt x="344" y="174"/>
                  </a:lnTo>
                  <a:lnTo>
                    <a:pt x="356" y="282"/>
                  </a:lnTo>
                  <a:lnTo>
                    <a:pt x="356" y="282"/>
                  </a:lnTo>
                  <a:lnTo>
                    <a:pt x="406" y="272"/>
                  </a:lnTo>
                  <a:lnTo>
                    <a:pt x="456" y="260"/>
                  </a:lnTo>
                  <a:lnTo>
                    <a:pt x="502" y="248"/>
                  </a:lnTo>
                  <a:lnTo>
                    <a:pt x="540" y="236"/>
                  </a:lnTo>
                  <a:lnTo>
                    <a:pt x="556" y="320"/>
                  </a:lnTo>
                  <a:lnTo>
                    <a:pt x="556" y="320"/>
                  </a:lnTo>
                  <a:lnTo>
                    <a:pt x="516" y="332"/>
                  </a:lnTo>
                  <a:lnTo>
                    <a:pt x="470" y="344"/>
                  </a:lnTo>
                  <a:lnTo>
                    <a:pt x="418" y="354"/>
                  </a:lnTo>
                  <a:lnTo>
                    <a:pt x="366" y="362"/>
                  </a:lnTo>
                  <a:lnTo>
                    <a:pt x="366" y="362"/>
                  </a:lnTo>
                  <a:lnTo>
                    <a:pt x="374" y="416"/>
                  </a:lnTo>
                  <a:lnTo>
                    <a:pt x="382" y="462"/>
                  </a:lnTo>
                  <a:lnTo>
                    <a:pt x="382" y="462"/>
                  </a:lnTo>
                  <a:lnTo>
                    <a:pt x="434" y="476"/>
                  </a:lnTo>
                  <a:lnTo>
                    <a:pt x="488" y="496"/>
                  </a:lnTo>
                  <a:lnTo>
                    <a:pt x="540" y="522"/>
                  </a:lnTo>
                  <a:lnTo>
                    <a:pt x="592" y="550"/>
                  </a:lnTo>
                  <a:lnTo>
                    <a:pt x="544" y="640"/>
                  </a:lnTo>
                  <a:lnTo>
                    <a:pt x="544" y="640"/>
                  </a:lnTo>
                  <a:lnTo>
                    <a:pt x="506" y="614"/>
                  </a:lnTo>
                  <a:lnTo>
                    <a:pt x="468" y="590"/>
                  </a:lnTo>
                  <a:lnTo>
                    <a:pt x="432" y="570"/>
                  </a:lnTo>
                  <a:lnTo>
                    <a:pt x="394" y="556"/>
                  </a:lnTo>
                  <a:lnTo>
                    <a:pt x="396" y="578"/>
                  </a:lnTo>
                  <a:lnTo>
                    <a:pt x="396" y="578"/>
                  </a:lnTo>
                  <a:lnTo>
                    <a:pt x="396" y="600"/>
                  </a:lnTo>
                  <a:lnTo>
                    <a:pt x="394" y="612"/>
                  </a:lnTo>
                  <a:lnTo>
                    <a:pt x="390" y="622"/>
                  </a:lnTo>
                  <a:lnTo>
                    <a:pt x="386" y="632"/>
                  </a:lnTo>
                  <a:lnTo>
                    <a:pt x="380" y="642"/>
                  </a:lnTo>
                  <a:lnTo>
                    <a:pt x="374" y="650"/>
                  </a:lnTo>
                  <a:lnTo>
                    <a:pt x="366" y="658"/>
                  </a:lnTo>
                  <a:lnTo>
                    <a:pt x="356" y="666"/>
                  </a:lnTo>
                  <a:lnTo>
                    <a:pt x="346" y="672"/>
                  </a:lnTo>
                  <a:lnTo>
                    <a:pt x="334" y="680"/>
                  </a:lnTo>
                  <a:lnTo>
                    <a:pt x="320" y="684"/>
                  </a:lnTo>
                  <a:lnTo>
                    <a:pt x="288" y="694"/>
                  </a:lnTo>
                  <a:lnTo>
                    <a:pt x="252" y="700"/>
                  </a:lnTo>
                  <a:lnTo>
                    <a:pt x="252" y="700"/>
                  </a:lnTo>
                  <a:lnTo>
                    <a:pt x="234" y="700"/>
                  </a:lnTo>
                  <a:lnTo>
                    <a:pt x="218" y="700"/>
                  </a:lnTo>
                  <a:lnTo>
                    <a:pt x="200" y="700"/>
                  </a:lnTo>
                  <a:lnTo>
                    <a:pt x="184" y="698"/>
                  </a:lnTo>
                  <a:lnTo>
                    <a:pt x="170" y="694"/>
                  </a:lnTo>
                  <a:lnTo>
                    <a:pt x="156" y="690"/>
                  </a:lnTo>
                  <a:lnTo>
                    <a:pt x="142" y="684"/>
                  </a:lnTo>
                  <a:lnTo>
                    <a:pt x="130" y="678"/>
                  </a:lnTo>
                  <a:lnTo>
                    <a:pt x="120" y="670"/>
                  </a:lnTo>
                  <a:lnTo>
                    <a:pt x="110" y="662"/>
                  </a:lnTo>
                  <a:lnTo>
                    <a:pt x="100" y="652"/>
                  </a:lnTo>
                  <a:lnTo>
                    <a:pt x="92" y="642"/>
                  </a:lnTo>
                  <a:lnTo>
                    <a:pt x="86" y="632"/>
                  </a:lnTo>
                  <a:lnTo>
                    <a:pt x="82" y="620"/>
                  </a:lnTo>
                  <a:lnTo>
                    <a:pt x="78" y="606"/>
                  </a:lnTo>
                  <a:lnTo>
                    <a:pt x="76" y="594"/>
                  </a:lnTo>
                  <a:lnTo>
                    <a:pt x="76" y="594"/>
                  </a:lnTo>
                  <a:lnTo>
                    <a:pt x="76" y="578"/>
                  </a:lnTo>
                  <a:lnTo>
                    <a:pt x="76" y="566"/>
                  </a:lnTo>
                  <a:lnTo>
                    <a:pt x="80" y="552"/>
                  </a:lnTo>
                  <a:lnTo>
                    <a:pt x="84" y="540"/>
                  </a:lnTo>
                  <a:lnTo>
                    <a:pt x="90" y="528"/>
                  </a:lnTo>
                  <a:lnTo>
                    <a:pt x="98" y="516"/>
                  </a:lnTo>
                  <a:lnTo>
                    <a:pt x="106" y="506"/>
                  </a:lnTo>
                  <a:lnTo>
                    <a:pt x="116" y="496"/>
                  </a:lnTo>
                  <a:lnTo>
                    <a:pt x="128" y="488"/>
                  </a:lnTo>
                  <a:lnTo>
                    <a:pt x="140" y="480"/>
                  </a:lnTo>
                  <a:lnTo>
                    <a:pt x="168" y="466"/>
                  </a:lnTo>
                  <a:lnTo>
                    <a:pt x="198" y="458"/>
                  </a:lnTo>
                  <a:lnTo>
                    <a:pt x="232" y="452"/>
                  </a:lnTo>
                  <a:lnTo>
                    <a:pt x="232" y="452"/>
                  </a:lnTo>
                  <a:lnTo>
                    <a:pt x="260" y="450"/>
                  </a:lnTo>
                  <a:lnTo>
                    <a:pt x="288" y="450"/>
                  </a:lnTo>
                  <a:lnTo>
                    <a:pt x="288" y="450"/>
                  </a:lnTo>
                  <a:lnTo>
                    <a:pt x="278" y="374"/>
                  </a:lnTo>
                  <a:lnTo>
                    <a:pt x="278" y="374"/>
                  </a:lnTo>
                  <a:lnTo>
                    <a:pt x="220" y="380"/>
                  </a:lnTo>
                  <a:lnTo>
                    <a:pt x="220" y="380"/>
                  </a:lnTo>
                  <a:lnTo>
                    <a:pt x="184" y="384"/>
                  </a:lnTo>
                  <a:lnTo>
                    <a:pt x="152" y="384"/>
                  </a:lnTo>
                  <a:lnTo>
                    <a:pt x="124" y="382"/>
                  </a:lnTo>
                  <a:lnTo>
                    <a:pt x="100" y="376"/>
                  </a:lnTo>
                  <a:lnTo>
                    <a:pt x="90" y="374"/>
                  </a:lnTo>
                  <a:lnTo>
                    <a:pt x="80" y="368"/>
                  </a:lnTo>
                  <a:lnTo>
                    <a:pt x="72" y="364"/>
                  </a:lnTo>
                  <a:lnTo>
                    <a:pt x="66" y="358"/>
                  </a:lnTo>
                  <a:lnTo>
                    <a:pt x="60" y="350"/>
                  </a:lnTo>
                  <a:lnTo>
                    <a:pt x="56" y="342"/>
                  </a:lnTo>
                  <a:lnTo>
                    <a:pt x="52" y="334"/>
                  </a:lnTo>
                  <a:lnTo>
                    <a:pt x="50" y="324"/>
                  </a:lnTo>
                  <a:lnTo>
                    <a:pt x="50" y="324"/>
                  </a:lnTo>
                  <a:lnTo>
                    <a:pt x="50" y="312"/>
                  </a:lnTo>
                  <a:lnTo>
                    <a:pt x="52" y="300"/>
                  </a:lnTo>
                  <a:lnTo>
                    <a:pt x="58" y="286"/>
                  </a:lnTo>
                  <a:lnTo>
                    <a:pt x="64" y="274"/>
                  </a:lnTo>
                  <a:lnTo>
                    <a:pt x="74" y="262"/>
                  </a:lnTo>
                  <a:lnTo>
                    <a:pt x="86" y="248"/>
                  </a:lnTo>
                  <a:lnTo>
                    <a:pt x="100" y="234"/>
                  </a:lnTo>
                  <a:lnTo>
                    <a:pt x="118" y="220"/>
                  </a:lnTo>
                  <a:lnTo>
                    <a:pt x="184" y="248"/>
                  </a:lnTo>
                  <a:lnTo>
                    <a:pt x="184" y="248"/>
                  </a:lnTo>
                  <a:lnTo>
                    <a:pt x="166" y="258"/>
                  </a:lnTo>
                  <a:lnTo>
                    <a:pt x="154" y="270"/>
                  </a:lnTo>
                  <a:lnTo>
                    <a:pt x="146" y="280"/>
                  </a:lnTo>
                  <a:lnTo>
                    <a:pt x="144" y="286"/>
                  </a:lnTo>
                  <a:lnTo>
                    <a:pt x="142" y="290"/>
                  </a:lnTo>
                  <a:lnTo>
                    <a:pt x="142" y="290"/>
                  </a:lnTo>
                  <a:lnTo>
                    <a:pt x="144" y="294"/>
                  </a:lnTo>
                  <a:lnTo>
                    <a:pt x="146" y="298"/>
                  </a:lnTo>
                  <a:lnTo>
                    <a:pt x="150" y="300"/>
                  </a:lnTo>
                  <a:lnTo>
                    <a:pt x="158" y="302"/>
                  </a:lnTo>
                  <a:lnTo>
                    <a:pt x="184" y="304"/>
                  </a:lnTo>
                  <a:lnTo>
                    <a:pt x="228" y="300"/>
                  </a:lnTo>
                  <a:lnTo>
                    <a:pt x="228" y="300"/>
                  </a:lnTo>
                  <a:lnTo>
                    <a:pt x="268" y="294"/>
                  </a:lnTo>
                  <a:lnTo>
                    <a:pt x="252" y="186"/>
                  </a:lnTo>
                  <a:lnTo>
                    <a:pt x="252" y="186"/>
                  </a:lnTo>
                  <a:lnTo>
                    <a:pt x="180" y="194"/>
                  </a:lnTo>
                  <a:lnTo>
                    <a:pt x="180" y="194"/>
                  </a:lnTo>
                  <a:lnTo>
                    <a:pt x="8" y="210"/>
                  </a:lnTo>
                  <a:lnTo>
                    <a:pt x="0" y="124"/>
                  </a:lnTo>
                  <a:close/>
                  <a:moveTo>
                    <a:pt x="298" y="530"/>
                  </a:moveTo>
                  <a:lnTo>
                    <a:pt x="298" y="530"/>
                  </a:lnTo>
                  <a:lnTo>
                    <a:pt x="264" y="524"/>
                  </a:lnTo>
                  <a:lnTo>
                    <a:pt x="248" y="524"/>
                  </a:lnTo>
                  <a:lnTo>
                    <a:pt x="232" y="526"/>
                  </a:lnTo>
                  <a:lnTo>
                    <a:pt x="232" y="526"/>
                  </a:lnTo>
                  <a:lnTo>
                    <a:pt x="216" y="528"/>
                  </a:lnTo>
                  <a:lnTo>
                    <a:pt x="200" y="532"/>
                  </a:lnTo>
                  <a:lnTo>
                    <a:pt x="188" y="538"/>
                  </a:lnTo>
                  <a:lnTo>
                    <a:pt x="176" y="544"/>
                  </a:lnTo>
                  <a:lnTo>
                    <a:pt x="168" y="552"/>
                  </a:lnTo>
                  <a:lnTo>
                    <a:pt x="160" y="562"/>
                  </a:lnTo>
                  <a:lnTo>
                    <a:pt x="158" y="572"/>
                  </a:lnTo>
                  <a:lnTo>
                    <a:pt x="156" y="584"/>
                  </a:lnTo>
                  <a:lnTo>
                    <a:pt x="156" y="584"/>
                  </a:lnTo>
                  <a:lnTo>
                    <a:pt x="160" y="594"/>
                  </a:lnTo>
                  <a:lnTo>
                    <a:pt x="166" y="604"/>
                  </a:lnTo>
                  <a:lnTo>
                    <a:pt x="174" y="610"/>
                  </a:lnTo>
                  <a:lnTo>
                    <a:pt x="184" y="616"/>
                  </a:lnTo>
                  <a:lnTo>
                    <a:pt x="198" y="620"/>
                  </a:lnTo>
                  <a:lnTo>
                    <a:pt x="212" y="622"/>
                  </a:lnTo>
                  <a:lnTo>
                    <a:pt x="228" y="622"/>
                  </a:lnTo>
                  <a:lnTo>
                    <a:pt x="246" y="622"/>
                  </a:lnTo>
                  <a:lnTo>
                    <a:pt x="246" y="622"/>
                  </a:lnTo>
                  <a:lnTo>
                    <a:pt x="260" y="620"/>
                  </a:lnTo>
                  <a:lnTo>
                    <a:pt x="274" y="616"/>
                  </a:lnTo>
                  <a:lnTo>
                    <a:pt x="284" y="610"/>
                  </a:lnTo>
                  <a:lnTo>
                    <a:pt x="292" y="602"/>
                  </a:lnTo>
                  <a:lnTo>
                    <a:pt x="298" y="594"/>
                  </a:lnTo>
                  <a:lnTo>
                    <a:pt x="302" y="584"/>
                  </a:lnTo>
                  <a:lnTo>
                    <a:pt x="304" y="572"/>
                  </a:lnTo>
                  <a:lnTo>
                    <a:pt x="302" y="558"/>
                  </a:lnTo>
                  <a:lnTo>
                    <a:pt x="298" y="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92"/>
            <p:cNvSpPr/>
            <p:nvPr/>
          </p:nvSpPr>
          <p:spPr>
            <a:xfrm>
              <a:off x="5245200" y="4191120"/>
              <a:ext cx="1101600" cy="1060560"/>
            </a:xfrm>
            <a:custGeom>
              <a:avLst/>
              <a:gdLst>
                <a:gd name="textAreaLeft" fmla="*/ 0 w 1101600"/>
                <a:gd name="textAreaRight" fmla="*/ 1101960 w 1101600"/>
                <a:gd name="textAreaTop" fmla="*/ 0 h 1060560"/>
                <a:gd name="textAreaBottom" fmla="*/ 1060920 h 1060560"/>
              </a:gdLst>
              <a:ahLst/>
              <a:rect l="textAreaLeft" t="textAreaTop" r="textAreaRight" b="textAreaBottom"/>
              <a:pathLst>
                <a:path w="694" h="668">
                  <a:moveTo>
                    <a:pt x="0" y="96"/>
                  </a:moveTo>
                  <a:lnTo>
                    <a:pt x="0" y="96"/>
                  </a:lnTo>
                  <a:lnTo>
                    <a:pt x="40" y="92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326" y="44"/>
                  </a:lnTo>
                  <a:lnTo>
                    <a:pt x="604" y="0"/>
                  </a:lnTo>
                  <a:lnTo>
                    <a:pt x="616" y="102"/>
                  </a:lnTo>
                  <a:lnTo>
                    <a:pt x="616" y="102"/>
                  </a:lnTo>
                  <a:lnTo>
                    <a:pt x="592" y="104"/>
                  </a:lnTo>
                  <a:lnTo>
                    <a:pt x="570" y="108"/>
                  </a:lnTo>
                  <a:lnTo>
                    <a:pt x="552" y="112"/>
                  </a:lnTo>
                  <a:lnTo>
                    <a:pt x="534" y="118"/>
                  </a:lnTo>
                  <a:lnTo>
                    <a:pt x="516" y="126"/>
                  </a:lnTo>
                  <a:lnTo>
                    <a:pt x="498" y="136"/>
                  </a:lnTo>
                  <a:lnTo>
                    <a:pt x="480" y="150"/>
                  </a:lnTo>
                  <a:lnTo>
                    <a:pt x="460" y="166"/>
                  </a:lnTo>
                  <a:lnTo>
                    <a:pt x="460" y="166"/>
                  </a:lnTo>
                  <a:lnTo>
                    <a:pt x="432" y="192"/>
                  </a:lnTo>
                  <a:lnTo>
                    <a:pt x="402" y="224"/>
                  </a:lnTo>
                  <a:lnTo>
                    <a:pt x="376" y="256"/>
                  </a:lnTo>
                  <a:lnTo>
                    <a:pt x="350" y="292"/>
                  </a:lnTo>
                  <a:lnTo>
                    <a:pt x="330" y="328"/>
                  </a:lnTo>
                  <a:lnTo>
                    <a:pt x="320" y="346"/>
                  </a:lnTo>
                  <a:lnTo>
                    <a:pt x="314" y="366"/>
                  </a:lnTo>
                  <a:lnTo>
                    <a:pt x="308" y="384"/>
                  </a:lnTo>
                  <a:lnTo>
                    <a:pt x="306" y="402"/>
                  </a:lnTo>
                  <a:lnTo>
                    <a:pt x="304" y="418"/>
                  </a:lnTo>
                  <a:lnTo>
                    <a:pt x="304" y="436"/>
                  </a:lnTo>
                  <a:lnTo>
                    <a:pt x="304" y="436"/>
                  </a:lnTo>
                  <a:lnTo>
                    <a:pt x="306" y="452"/>
                  </a:lnTo>
                  <a:lnTo>
                    <a:pt x="310" y="466"/>
                  </a:lnTo>
                  <a:lnTo>
                    <a:pt x="316" y="480"/>
                  </a:lnTo>
                  <a:lnTo>
                    <a:pt x="324" y="492"/>
                  </a:lnTo>
                  <a:lnTo>
                    <a:pt x="334" y="504"/>
                  </a:lnTo>
                  <a:lnTo>
                    <a:pt x="344" y="516"/>
                  </a:lnTo>
                  <a:lnTo>
                    <a:pt x="358" y="526"/>
                  </a:lnTo>
                  <a:lnTo>
                    <a:pt x="372" y="534"/>
                  </a:lnTo>
                  <a:lnTo>
                    <a:pt x="388" y="542"/>
                  </a:lnTo>
                  <a:lnTo>
                    <a:pt x="408" y="548"/>
                  </a:lnTo>
                  <a:lnTo>
                    <a:pt x="428" y="554"/>
                  </a:lnTo>
                  <a:lnTo>
                    <a:pt x="450" y="558"/>
                  </a:lnTo>
                  <a:lnTo>
                    <a:pt x="474" y="562"/>
                  </a:lnTo>
                  <a:lnTo>
                    <a:pt x="498" y="564"/>
                  </a:lnTo>
                  <a:lnTo>
                    <a:pt x="556" y="568"/>
                  </a:lnTo>
                  <a:lnTo>
                    <a:pt x="520" y="668"/>
                  </a:lnTo>
                  <a:lnTo>
                    <a:pt x="520" y="668"/>
                  </a:lnTo>
                  <a:lnTo>
                    <a:pt x="482" y="666"/>
                  </a:lnTo>
                  <a:lnTo>
                    <a:pt x="446" y="662"/>
                  </a:lnTo>
                  <a:lnTo>
                    <a:pt x="414" y="658"/>
                  </a:lnTo>
                  <a:lnTo>
                    <a:pt x="384" y="650"/>
                  </a:lnTo>
                  <a:lnTo>
                    <a:pt x="356" y="642"/>
                  </a:lnTo>
                  <a:lnTo>
                    <a:pt x="330" y="632"/>
                  </a:lnTo>
                  <a:lnTo>
                    <a:pt x="308" y="620"/>
                  </a:lnTo>
                  <a:lnTo>
                    <a:pt x="286" y="606"/>
                  </a:lnTo>
                  <a:lnTo>
                    <a:pt x="268" y="590"/>
                  </a:lnTo>
                  <a:lnTo>
                    <a:pt x="252" y="574"/>
                  </a:lnTo>
                  <a:lnTo>
                    <a:pt x="240" y="556"/>
                  </a:lnTo>
                  <a:lnTo>
                    <a:pt x="228" y="536"/>
                  </a:lnTo>
                  <a:lnTo>
                    <a:pt x="218" y="516"/>
                  </a:lnTo>
                  <a:lnTo>
                    <a:pt x="212" y="494"/>
                  </a:lnTo>
                  <a:lnTo>
                    <a:pt x="206" y="470"/>
                  </a:lnTo>
                  <a:lnTo>
                    <a:pt x="202" y="446"/>
                  </a:lnTo>
                  <a:lnTo>
                    <a:pt x="202" y="446"/>
                  </a:lnTo>
                  <a:lnTo>
                    <a:pt x="202" y="428"/>
                  </a:lnTo>
                  <a:lnTo>
                    <a:pt x="202" y="410"/>
                  </a:lnTo>
                  <a:lnTo>
                    <a:pt x="204" y="390"/>
                  </a:lnTo>
                  <a:lnTo>
                    <a:pt x="210" y="370"/>
                  </a:lnTo>
                  <a:lnTo>
                    <a:pt x="216" y="350"/>
                  </a:lnTo>
                  <a:lnTo>
                    <a:pt x="222" y="330"/>
                  </a:lnTo>
                  <a:lnTo>
                    <a:pt x="232" y="308"/>
                  </a:lnTo>
                  <a:lnTo>
                    <a:pt x="242" y="288"/>
                  </a:lnTo>
                  <a:lnTo>
                    <a:pt x="266" y="246"/>
                  </a:lnTo>
                  <a:lnTo>
                    <a:pt x="296" y="206"/>
                  </a:lnTo>
                  <a:lnTo>
                    <a:pt x="328" y="166"/>
                  </a:lnTo>
                  <a:lnTo>
                    <a:pt x="366" y="130"/>
                  </a:lnTo>
                  <a:lnTo>
                    <a:pt x="366" y="130"/>
                  </a:lnTo>
                  <a:lnTo>
                    <a:pt x="192" y="164"/>
                  </a:lnTo>
                  <a:lnTo>
                    <a:pt x="38" y="194"/>
                  </a:lnTo>
                  <a:lnTo>
                    <a:pt x="38" y="194"/>
                  </a:lnTo>
                  <a:lnTo>
                    <a:pt x="36" y="198"/>
                  </a:lnTo>
                  <a:lnTo>
                    <a:pt x="32" y="204"/>
                  </a:lnTo>
                  <a:lnTo>
                    <a:pt x="22" y="210"/>
                  </a:lnTo>
                  <a:lnTo>
                    <a:pt x="0" y="96"/>
                  </a:lnTo>
                  <a:close/>
                  <a:moveTo>
                    <a:pt x="512" y="230"/>
                  </a:moveTo>
                  <a:lnTo>
                    <a:pt x="512" y="230"/>
                  </a:lnTo>
                  <a:lnTo>
                    <a:pt x="540" y="250"/>
                  </a:lnTo>
                  <a:lnTo>
                    <a:pt x="568" y="274"/>
                  </a:lnTo>
                  <a:lnTo>
                    <a:pt x="592" y="300"/>
                  </a:lnTo>
                  <a:lnTo>
                    <a:pt x="614" y="324"/>
                  </a:lnTo>
                  <a:lnTo>
                    <a:pt x="574" y="364"/>
                  </a:lnTo>
                  <a:lnTo>
                    <a:pt x="574" y="364"/>
                  </a:lnTo>
                  <a:lnTo>
                    <a:pt x="554" y="340"/>
                  </a:lnTo>
                  <a:lnTo>
                    <a:pt x="528" y="314"/>
                  </a:lnTo>
                  <a:lnTo>
                    <a:pt x="500" y="288"/>
                  </a:lnTo>
                  <a:lnTo>
                    <a:pt x="476" y="268"/>
                  </a:lnTo>
                  <a:lnTo>
                    <a:pt x="512" y="230"/>
                  </a:lnTo>
                  <a:close/>
                  <a:moveTo>
                    <a:pt x="594" y="152"/>
                  </a:moveTo>
                  <a:lnTo>
                    <a:pt x="594" y="152"/>
                  </a:lnTo>
                  <a:lnTo>
                    <a:pt x="622" y="172"/>
                  </a:lnTo>
                  <a:lnTo>
                    <a:pt x="648" y="196"/>
                  </a:lnTo>
                  <a:lnTo>
                    <a:pt x="674" y="220"/>
                  </a:lnTo>
                  <a:lnTo>
                    <a:pt x="694" y="246"/>
                  </a:lnTo>
                  <a:lnTo>
                    <a:pt x="654" y="286"/>
                  </a:lnTo>
                  <a:lnTo>
                    <a:pt x="654" y="286"/>
                  </a:lnTo>
                  <a:lnTo>
                    <a:pt x="636" y="262"/>
                  </a:lnTo>
                  <a:lnTo>
                    <a:pt x="610" y="236"/>
                  </a:lnTo>
                  <a:lnTo>
                    <a:pt x="582" y="210"/>
                  </a:lnTo>
                  <a:lnTo>
                    <a:pt x="556" y="190"/>
                  </a:lnTo>
                  <a:lnTo>
                    <a:pt x="594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Freeform 93"/>
          <p:cNvSpPr/>
          <p:nvPr/>
        </p:nvSpPr>
        <p:spPr>
          <a:xfrm>
            <a:off x="2670120" y="11909520"/>
            <a:ext cx="428760" cy="24987240"/>
          </a:xfrm>
          <a:custGeom>
            <a:avLst/>
            <a:gdLst>
              <a:gd name="textAreaLeft" fmla="*/ 0 w 428760"/>
              <a:gd name="textAreaRight" fmla="*/ 429120 w 428760"/>
              <a:gd name="textAreaTop" fmla="*/ 0 h 24987240"/>
              <a:gd name="textAreaBottom" fmla="*/ 24987600 h 24987240"/>
            </a:gdLst>
            <a:ahLst/>
            <a:rect l="textAreaLeft" t="textAreaTop" r="textAreaRight" b="textAreaBottom"/>
            <a:pathLst>
              <a:path w="270" h="15740">
                <a:moveTo>
                  <a:pt x="270" y="15568"/>
                </a:moveTo>
                <a:lnTo>
                  <a:pt x="0" y="15740"/>
                </a:lnTo>
                <a:lnTo>
                  <a:pt x="0" y="262"/>
                </a:lnTo>
                <a:lnTo>
                  <a:pt x="270" y="0"/>
                </a:lnTo>
                <a:lnTo>
                  <a:pt x="270" y="15568"/>
                </a:lnTo>
                <a:close/>
              </a:path>
            </a:pathLst>
          </a:cu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94"/>
          <p:cNvSpPr/>
          <p:nvPr/>
        </p:nvSpPr>
        <p:spPr>
          <a:xfrm>
            <a:off x="7302600" y="10032840"/>
            <a:ext cx="428400" cy="24987240"/>
          </a:xfrm>
          <a:custGeom>
            <a:avLst/>
            <a:gdLst>
              <a:gd name="textAreaLeft" fmla="*/ 0 w 428400"/>
              <a:gd name="textAreaRight" fmla="*/ 428760 w 428400"/>
              <a:gd name="textAreaTop" fmla="*/ 0 h 24987240"/>
              <a:gd name="textAreaBottom" fmla="*/ 24987600 h 24987240"/>
            </a:gdLst>
            <a:ahLst/>
            <a:rect l="textAreaLeft" t="textAreaTop" r="textAreaRight" b="textAreaBottom"/>
            <a:pathLst>
              <a:path w="270" h="15740">
                <a:moveTo>
                  <a:pt x="270" y="15570"/>
                </a:moveTo>
                <a:lnTo>
                  <a:pt x="0" y="15740"/>
                </a:lnTo>
                <a:lnTo>
                  <a:pt x="0" y="262"/>
                </a:lnTo>
                <a:lnTo>
                  <a:pt x="270" y="0"/>
                </a:lnTo>
                <a:lnTo>
                  <a:pt x="270" y="15570"/>
                </a:lnTo>
                <a:close/>
              </a:path>
            </a:pathLst>
          </a:cu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グループ化 483"/>
          <p:cNvGrpSpPr/>
          <p:nvPr/>
        </p:nvGrpSpPr>
        <p:grpSpPr>
          <a:xfrm>
            <a:off x="8432640" y="7023240"/>
            <a:ext cx="1384560" cy="7216560"/>
            <a:chOff x="8432640" y="7023240"/>
            <a:chExt cx="1384560" cy="7216560"/>
          </a:xfrm>
        </p:grpSpPr>
        <p:sp>
          <p:nvSpPr>
            <p:cNvPr id="395" name="Freeform 101"/>
            <p:cNvSpPr/>
            <p:nvPr/>
          </p:nvSpPr>
          <p:spPr>
            <a:xfrm>
              <a:off x="8432640" y="7023240"/>
              <a:ext cx="1356120" cy="1349280"/>
            </a:xfrm>
            <a:custGeom>
              <a:avLst/>
              <a:gdLst/>
              <a:ahLst/>
              <a:rect l="l" t="t" r="r" b="b"/>
              <a:pathLst>
                <a:path w="854" h="850">
                  <a:moveTo>
                    <a:pt x="18" y="520"/>
                  </a:moveTo>
                  <a:lnTo>
                    <a:pt x="28" y="526"/>
                  </a:lnTo>
                  <a:lnTo>
                    <a:pt x="28" y="526"/>
                  </a:lnTo>
                  <a:lnTo>
                    <a:pt x="40" y="532"/>
                  </a:lnTo>
                  <a:lnTo>
                    <a:pt x="52" y="532"/>
                  </a:lnTo>
                  <a:lnTo>
                    <a:pt x="64" y="530"/>
                  </a:lnTo>
                  <a:lnTo>
                    <a:pt x="76" y="522"/>
                  </a:lnTo>
                  <a:lnTo>
                    <a:pt x="76" y="522"/>
                  </a:lnTo>
                  <a:lnTo>
                    <a:pt x="90" y="510"/>
                  </a:lnTo>
                  <a:lnTo>
                    <a:pt x="90" y="810"/>
                  </a:lnTo>
                  <a:lnTo>
                    <a:pt x="90" y="810"/>
                  </a:lnTo>
                  <a:lnTo>
                    <a:pt x="90" y="818"/>
                  </a:lnTo>
                  <a:lnTo>
                    <a:pt x="92" y="826"/>
                  </a:lnTo>
                  <a:lnTo>
                    <a:pt x="96" y="832"/>
                  </a:lnTo>
                  <a:lnTo>
                    <a:pt x="102" y="838"/>
                  </a:lnTo>
                  <a:lnTo>
                    <a:pt x="108" y="842"/>
                  </a:lnTo>
                  <a:lnTo>
                    <a:pt x="114" y="846"/>
                  </a:lnTo>
                  <a:lnTo>
                    <a:pt x="122" y="848"/>
                  </a:lnTo>
                  <a:lnTo>
                    <a:pt x="130" y="850"/>
                  </a:lnTo>
                  <a:lnTo>
                    <a:pt x="150" y="850"/>
                  </a:lnTo>
                  <a:lnTo>
                    <a:pt x="150" y="850"/>
                  </a:lnTo>
                  <a:lnTo>
                    <a:pt x="178" y="848"/>
                  </a:lnTo>
                  <a:lnTo>
                    <a:pt x="210" y="840"/>
                  </a:lnTo>
                  <a:lnTo>
                    <a:pt x="226" y="834"/>
                  </a:lnTo>
                  <a:lnTo>
                    <a:pt x="242" y="828"/>
                  </a:lnTo>
                  <a:lnTo>
                    <a:pt x="256" y="820"/>
                  </a:lnTo>
                  <a:lnTo>
                    <a:pt x="268" y="810"/>
                  </a:lnTo>
                  <a:lnTo>
                    <a:pt x="268" y="810"/>
                  </a:lnTo>
                  <a:lnTo>
                    <a:pt x="268" y="810"/>
                  </a:lnTo>
                  <a:lnTo>
                    <a:pt x="268" y="818"/>
                  </a:lnTo>
                  <a:lnTo>
                    <a:pt x="270" y="826"/>
                  </a:lnTo>
                  <a:lnTo>
                    <a:pt x="274" y="832"/>
                  </a:lnTo>
                  <a:lnTo>
                    <a:pt x="278" y="838"/>
                  </a:lnTo>
                  <a:lnTo>
                    <a:pt x="284" y="844"/>
                  </a:lnTo>
                  <a:lnTo>
                    <a:pt x="292" y="848"/>
                  </a:lnTo>
                  <a:lnTo>
                    <a:pt x="300" y="850"/>
                  </a:lnTo>
                  <a:lnTo>
                    <a:pt x="308" y="850"/>
                  </a:lnTo>
                  <a:lnTo>
                    <a:pt x="308" y="850"/>
                  </a:lnTo>
                  <a:lnTo>
                    <a:pt x="340" y="848"/>
                  </a:lnTo>
                  <a:lnTo>
                    <a:pt x="368" y="844"/>
                  </a:lnTo>
                  <a:lnTo>
                    <a:pt x="392" y="836"/>
                  </a:lnTo>
                  <a:lnTo>
                    <a:pt x="410" y="828"/>
                  </a:lnTo>
                  <a:lnTo>
                    <a:pt x="424" y="818"/>
                  </a:lnTo>
                  <a:lnTo>
                    <a:pt x="436" y="806"/>
                  </a:lnTo>
                  <a:lnTo>
                    <a:pt x="444" y="794"/>
                  </a:lnTo>
                  <a:lnTo>
                    <a:pt x="448" y="784"/>
                  </a:lnTo>
                  <a:lnTo>
                    <a:pt x="628" y="784"/>
                  </a:lnTo>
                  <a:lnTo>
                    <a:pt x="628" y="798"/>
                  </a:lnTo>
                  <a:lnTo>
                    <a:pt x="628" y="798"/>
                  </a:lnTo>
                  <a:lnTo>
                    <a:pt x="628" y="806"/>
                  </a:lnTo>
                  <a:lnTo>
                    <a:pt x="630" y="814"/>
                  </a:lnTo>
                  <a:lnTo>
                    <a:pt x="634" y="820"/>
                  </a:lnTo>
                  <a:lnTo>
                    <a:pt x="640" y="826"/>
                  </a:lnTo>
                  <a:lnTo>
                    <a:pt x="646" y="832"/>
                  </a:lnTo>
                  <a:lnTo>
                    <a:pt x="652" y="836"/>
                  </a:lnTo>
                  <a:lnTo>
                    <a:pt x="660" y="838"/>
                  </a:lnTo>
                  <a:lnTo>
                    <a:pt x="668" y="838"/>
                  </a:lnTo>
                  <a:lnTo>
                    <a:pt x="668" y="838"/>
                  </a:lnTo>
                  <a:lnTo>
                    <a:pt x="702" y="836"/>
                  </a:lnTo>
                  <a:lnTo>
                    <a:pt x="732" y="832"/>
                  </a:lnTo>
                  <a:lnTo>
                    <a:pt x="760" y="824"/>
                  </a:lnTo>
                  <a:lnTo>
                    <a:pt x="782" y="814"/>
                  </a:lnTo>
                  <a:lnTo>
                    <a:pt x="800" y="804"/>
                  </a:lnTo>
                  <a:lnTo>
                    <a:pt x="812" y="790"/>
                  </a:lnTo>
                  <a:lnTo>
                    <a:pt x="820" y="778"/>
                  </a:lnTo>
                  <a:lnTo>
                    <a:pt x="822" y="770"/>
                  </a:lnTo>
                  <a:lnTo>
                    <a:pt x="822" y="764"/>
                  </a:lnTo>
                  <a:lnTo>
                    <a:pt x="822" y="178"/>
                  </a:lnTo>
                  <a:lnTo>
                    <a:pt x="822" y="178"/>
                  </a:lnTo>
                  <a:lnTo>
                    <a:pt x="834" y="170"/>
                  </a:lnTo>
                  <a:lnTo>
                    <a:pt x="846" y="160"/>
                  </a:lnTo>
                  <a:lnTo>
                    <a:pt x="846" y="160"/>
                  </a:lnTo>
                  <a:lnTo>
                    <a:pt x="850" y="152"/>
                  </a:lnTo>
                  <a:lnTo>
                    <a:pt x="854" y="146"/>
                  </a:lnTo>
                  <a:lnTo>
                    <a:pt x="854" y="138"/>
                  </a:lnTo>
                  <a:lnTo>
                    <a:pt x="854" y="128"/>
                  </a:lnTo>
                  <a:lnTo>
                    <a:pt x="854" y="128"/>
                  </a:lnTo>
                  <a:lnTo>
                    <a:pt x="854" y="120"/>
                  </a:lnTo>
                  <a:lnTo>
                    <a:pt x="850" y="114"/>
                  </a:lnTo>
                  <a:lnTo>
                    <a:pt x="846" y="106"/>
                  </a:lnTo>
                  <a:lnTo>
                    <a:pt x="838" y="102"/>
                  </a:lnTo>
                  <a:lnTo>
                    <a:pt x="728" y="18"/>
                  </a:lnTo>
                  <a:lnTo>
                    <a:pt x="728" y="18"/>
                  </a:lnTo>
                  <a:lnTo>
                    <a:pt x="720" y="14"/>
                  </a:lnTo>
                  <a:lnTo>
                    <a:pt x="714" y="12"/>
                  </a:lnTo>
                  <a:lnTo>
                    <a:pt x="706" y="10"/>
                  </a:lnTo>
                  <a:lnTo>
                    <a:pt x="698" y="10"/>
                  </a:lnTo>
                  <a:lnTo>
                    <a:pt x="690" y="12"/>
                  </a:lnTo>
                  <a:lnTo>
                    <a:pt x="684" y="16"/>
                  </a:lnTo>
                  <a:lnTo>
                    <a:pt x="678" y="20"/>
                  </a:lnTo>
                  <a:lnTo>
                    <a:pt x="672" y="26"/>
                  </a:lnTo>
                  <a:lnTo>
                    <a:pt x="640" y="70"/>
                  </a:lnTo>
                  <a:lnTo>
                    <a:pt x="428" y="70"/>
                  </a:lnTo>
                  <a:lnTo>
                    <a:pt x="322" y="26"/>
                  </a:lnTo>
                  <a:lnTo>
                    <a:pt x="322" y="26"/>
                  </a:lnTo>
                  <a:lnTo>
                    <a:pt x="314" y="24"/>
                  </a:lnTo>
                  <a:lnTo>
                    <a:pt x="306" y="24"/>
                  </a:lnTo>
                  <a:lnTo>
                    <a:pt x="296" y="24"/>
                  </a:lnTo>
                  <a:lnTo>
                    <a:pt x="288" y="28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6" y="0"/>
                  </a:lnTo>
                  <a:lnTo>
                    <a:pt x="168" y="2"/>
                  </a:lnTo>
                  <a:lnTo>
                    <a:pt x="160" y="6"/>
                  </a:lnTo>
                  <a:lnTo>
                    <a:pt x="160" y="6"/>
                  </a:lnTo>
                  <a:lnTo>
                    <a:pt x="154" y="10"/>
                  </a:lnTo>
                  <a:lnTo>
                    <a:pt x="148" y="16"/>
                  </a:lnTo>
                  <a:lnTo>
                    <a:pt x="144" y="24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30" y="92"/>
                  </a:lnTo>
                  <a:lnTo>
                    <a:pt x="116" y="152"/>
                  </a:lnTo>
                  <a:lnTo>
                    <a:pt x="100" y="212"/>
                  </a:lnTo>
                  <a:lnTo>
                    <a:pt x="82" y="270"/>
                  </a:lnTo>
                  <a:lnTo>
                    <a:pt x="64" y="326"/>
                  </a:lnTo>
                  <a:lnTo>
                    <a:pt x="44" y="380"/>
                  </a:lnTo>
                  <a:lnTo>
                    <a:pt x="24" y="426"/>
                  </a:lnTo>
                  <a:lnTo>
                    <a:pt x="4" y="468"/>
                  </a:lnTo>
                  <a:lnTo>
                    <a:pt x="4" y="468"/>
                  </a:lnTo>
                  <a:lnTo>
                    <a:pt x="2" y="476"/>
                  </a:lnTo>
                  <a:lnTo>
                    <a:pt x="0" y="482"/>
                  </a:lnTo>
                  <a:lnTo>
                    <a:pt x="0" y="490"/>
                  </a:lnTo>
                  <a:lnTo>
                    <a:pt x="2" y="498"/>
                  </a:lnTo>
                  <a:lnTo>
                    <a:pt x="4" y="504"/>
                  </a:lnTo>
                  <a:lnTo>
                    <a:pt x="8" y="510"/>
                  </a:lnTo>
                  <a:lnTo>
                    <a:pt x="12" y="516"/>
                  </a:lnTo>
                  <a:lnTo>
                    <a:pt x="18" y="520"/>
                  </a:lnTo>
                  <a:lnTo>
                    <a:pt x="18" y="520"/>
                  </a:lnTo>
                  <a:close/>
                  <a:moveTo>
                    <a:pt x="452" y="250"/>
                  </a:moveTo>
                  <a:lnTo>
                    <a:pt x="452" y="162"/>
                  </a:lnTo>
                  <a:lnTo>
                    <a:pt x="454" y="162"/>
                  </a:lnTo>
                  <a:lnTo>
                    <a:pt x="454" y="250"/>
                  </a:lnTo>
                  <a:lnTo>
                    <a:pt x="452" y="250"/>
                  </a:lnTo>
                  <a:close/>
                  <a:moveTo>
                    <a:pt x="452" y="356"/>
                  </a:moveTo>
                  <a:lnTo>
                    <a:pt x="452" y="342"/>
                  </a:lnTo>
                  <a:lnTo>
                    <a:pt x="454" y="342"/>
                  </a:lnTo>
                  <a:lnTo>
                    <a:pt x="454" y="356"/>
                  </a:lnTo>
                  <a:lnTo>
                    <a:pt x="452" y="356"/>
                  </a:lnTo>
                  <a:close/>
                  <a:moveTo>
                    <a:pt x="628" y="342"/>
                  </a:moveTo>
                  <a:lnTo>
                    <a:pt x="628" y="354"/>
                  </a:lnTo>
                  <a:lnTo>
                    <a:pt x="628" y="354"/>
                  </a:lnTo>
                  <a:lnTo>
                    <a:pt x="624" y="352"/>
                  </a:lnTo>
                  <a:lnTo>
                    <a:pt x="624" y="342"/>
                  </a:lnTo>
                  <a:lnTo>
                    <a:pt x="628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02"/>
            <p:cNvSpPr/>
            <p:nvPr/>
          </p:nvSpPr>
          <p:spPr>
            <a:xfrm>
              <a:off x="8454600" y="8524800"/>
              <a:ext cx="1340280" cy="1326960"/>
            </a:xfrm>
            <a:custGeom>
              <a:avLst/>
              <a:gdLst>
                <a:gd name="textAreaLeft" fmla="*/ 0 w 1340280"/>
                <a:gd name="textAreaRight" fmla="*/ 1340280 w 134028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844" h="836">
                  <a:moveTo>
                    <a:pt x="514" y="58"/>
                  </a:moveTo>
                  <a:lnTo>
                    <a:pt x="514" y="58"/>
                  </a:lnTo>
                  <a:lnTo>
                    <a:pt x="512" y="50"/>
                  </a:lnTo>
                  <a:lnTo>
                    <a:pt x="512" y="42"/>
                  </a:lnTo>
                  <a:lnTo>
                    <a:pt x="508" y="34"/>
                  </a:lnTo>
                  <a:lnTo>
                    <a:pt x="504" y="28"/>
                  </a:lnTo>
                  <a:lnTo>
                    <a:pt x="498" y="24"/>
                  </a:lnTo>
                  <a:lnTo>
                    <a:pt x="492" y="20"/>
                  </a:lnTo>
                  <a:lnTo>
                    <a:pt x="484" y="16"/>
                  </a:lnTo>
                  <a:lnTo>
                    <a:pt x="476" y="14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308" y="0"/>
                  </a:lnTo>
                  <a:lnTo>
                    <a:pt x="300" y="2"/>
                  </a:lnTo>
                  <a:lnTo>
                    <a:pt x="294" y="6"/>
                  </a:lnTo>
                  <a:lnTo>
                    <a:pt x="286" y="10"/>
                  </a:lnTo>
                  <a:lnTo>
                    <a:pt x="286" y="10"/>
                  </a:lnTo>
                  <a:lnTo>
                    <a:pt x="282" y="16"/>
                  </a:lnTo>
                  <a:lnTo>
                    <a:pt x="276" y="24"/>
                  </a:lnTo>
                  <a:lnTo>
                    <a:pt x="274" y="32"/>
                  </a:lnTo>
                  <a:lnTo>
                    <a:pt x="274" y="40"/>
                  </a:lnTo>
                  <a:lnTo>
                    <a:pt x="274" y="68"/>
                  </a:lnTo>
                  <a:lnTo>
                    <a:pt x="274" y="68"/>
                  </a:lnTo>
                  <a:lnTo>
                    <a:pt x="272" y="160"/>
                  </a:lnTo>
                  <a:lnTo>
                    <a:pt x="272" y="206"/>
                  </a:lnTo>
                  <a:lnTo>
                    <a:pt x="270" y="252"/>
                  </a:lnTo>
                  <a:lnTo>
                    <a:pt x="266" y="296"/>
                  </a:lnTo>
                  <a:lnTo>
                    <a:pt x="260" y="340"/>
                  </a:lnTo>
                  <a:lnTo>
                    <a:pt x="252" y="384"/>
                  </a:lnTo>
                  <a:lnTo>
                    <a:pt x="240" y="428"/>
                  </a:lnTo>
                  <a:lnTo>
                    <a:pt x="226" y="470"/>
                  </a:lnTo>
                  <a:lnTo>
                    <a:pt x="210" y="512"/>
                  </a:lnTo>
                  <a:lnTo>
                    <a:pt x="188" y="554"/>
                  </a:lnTo>
                  <a:lnTo>
                    <a:pt x="164" y="596"/>
                  </a:lnTo>
                  <a:lnTo>
                    <a:pt x="134" y="636"/>
                  </a:lnTo>
                  <a:lnTo>
                    <a:pt x="100" y="676"/>
                  </a:lnTo>
                  <a:lnTo>
                    <a:pt x="60" y="716"/>
                  </a:lnTo>
                  <a:lnTo>
                    <a:pt x="14" y="754"/>
                  </a:lnTo>
                  <a:lnTo>
                    <a:pt x="14" y="754"/>
                  </a:lnTo>
                  <a:lnTo>
                    <a:pt x="8" y="760"/>
                  </a:lnTo>
                  <a:lnTo>
                    <a:pt x="4" y="766"/>
                  </a:lnTo>
                  <a:lnTo>
                    <a:pt x="2" y="772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94"/>
                  </a:lnTo>
                  <a:lnTo>
                    <a:pt x="2" y="802"/>
                  </a:lnTo>
                  <a:lnTo>
                    <a:pt x="6" y="808"/>
                  </a:lnTo>
                  <a:lnTo>
                    <a:pt x="14" y="818"/>
                  </a:lnTo>
                  <a:lnTo>
                    <a:pt x="14" y="818"/>
                  </a:lnTo>
                  <a:lnTo>
                    <a:pt x="18" y="824"/>
                  </a:lnTo>
                  <a:lnTo>
                    <a:pt x="24" y="828"/>
                  </a:lnTo>
                  <a:lnTo>
                    <a:pt x="36" y="834"/>
                  </a:lnTo>
                  <a:lnTo>
                    <a:pt x="50" y="836"/>
                  </a:lnTo>
                  <a:lnTo>
                    <a:pt x="56" y="834"/>
                  </a:lnTo>
                  <a:lnTo>
                    <a:pt x="64" y="832"/>
                  </a:lnTo>
                  <a:lnTo>
                    <a:pt x="64" y="832"/>
                  </a:lnTo>
                  <a:lnTo>
                    <a:pt x="104" y="812"/>
                  </a:lnTo>
                  <a:lnTo>
                    <a:pt x="140" y="792"/>
                  </a:lnTo>
                  <a:lnTo>
                    <a:pt x="174" y="772"/>
                  </a:lnTo>
                  <a:lnTo>
                    <a:pt x="208" y="750"/>
                  </a:lnTo>
                  <a:lnTo>
                    <a:pt x="236" y="728"/>
                  </a:lnTo>
                  <a:lnTo>
                    <a:pt x="264" y="706"/>
                  </a:lnTo>
                  <a:lnTo>
                    <a:pt x="290" y="682"/>
                  </a:lnTo>
                  <a:lnTo>
                    <a:pt x="312" y="658"/>
                  </a:lnTo>
                  <a:lnTo>
                    <a:pt x="334" y="634"/>
                  </a:lnTo>
                  <a:lnTo>
                    <a:pt x="354" y="610"/>
                  </a:lnTo>
                  <a:lnTo>
                    <a:pt x="370" y="584"/>
                  </a:lnTo>
                  <a:lnTo>
                    <a:pt x="386" y="558"/>
                  </a:lnTo>
                  <a:lnTo>
                    <a:pt x="400" y="532"/>
                  </a:lnTo>
                  <a:lnTo>
                    <a:pt x="414" y="506"/>
                  </a:lnTo>
                  <a:lnTo>
                    <a:pt x="424" y="480"/>
                  </a:lnTo>
                  <a:lnTo>
                    <a:pt x="434" y="452"/>
                  </a:lnTo>
                  <a:lnTo>
                    <a:pt x="434" y="452"/>
                  </a:lnTo>
                  <a:lnTo>
                    <a:pt x="450" y="506"/>
                  </a:lnTo>
                  <a:lnTo>
                    <a:pt x="468" y="558"/>
                  </a:lnTo>
                  <a:lnTo>
                    <a:pt x="490" y="610"/>
                  </a:lnTo>
                  <a:lnTo>
                    <a:pt x="504" y="634"/>
                  </a:lnTo>
                  <a:lnTo>
                    <a:pt x="518" y="658"/>
                  </a:lnTo>
                  <a:lnTo>
                    <a:pt x="532" y="682"/>
                  </a:lnTo>
                  <a:lnTo>
                    <a:pt x="548" y="706"/>
                  </a:lnTo>
                  <a:lnTo>
                    <a:pt x="566" y="728"/>
                  </a:lnTo>
                  <a:lnTo>
                    <a:pt x="586" y="750"/>
                  </a:lnTo>
                  <a:lnTo>
                    <a:pt x="606" y="772"/>
                  </a:lnTo>
                  <a:lnTo>
                    <a:pt x="628" y="792"/>
                  </a:lnTo>
                  <a:lnTo>
                    <a:pt x="650" y="812"/>
                  </a:lnTo>
                  <a:lnTo>
                    <a:pt x="676" y="830"/>
                  </a:lnTo>
                  <a:lnTo>
                    <a:pt x="676" y="830"/>
                  </a:lnTo>
                  <a:lnTo>
                    <a:pt x="686" y="834"/>
                  </a:lnTo>
                  <a:lnTo>
                    <a:pt x="698" y="836"/>
                  </a:lnTo>
                  <a:lnTo>
                    <a:pt x="698" y="836"/>
                  </a:lnTo>
                  <a:lnTo>
                    <a:pt x="706" y="836"/>
                  </a:lnTo>
                  <a:lnTo>
                    <a:pt x="712" y="834"/>
                  </a:lnTo>
                  <a:lnTo>
                    <a:pt x="712" y="834"/>
                  </a:lnTo>
                  <a:lnTo>
                    <a:pt x="722" y="830"/>
                  </a:lnTo>
                  <a:lnTo>
                    <a:pt x="728" y="822"/>
                  </a:lnTo>
                  <a:lnTo>
                    <a:pt x="734" y="814"/>
                  </a:lnTo>
                  <a:lnTo>
                    <a:pt x="738" y="804"/>
                  </a:lnTo>
                  <a:lnTo>
                    <a:pt x="738" y="804"/>
                  </a:lnTo>
                  <a:lnTo>
                    <a:pt x="742" y="788"/>
                  </a:lnTo>
                  <a:lnTo>
                    <a:pt x="748" y="772"/>
                  </a:lnTo>
                  <a:lnTo>
                    <a:pt x="754" y="760"/>
                  </a:lnTo>
                  <a:lnTo>
                    <a:pt x="764" y="748"/>
                  </a:lnTo>
                  <a:lnTo>
                    <a:pt x="774" y="738"/>
                  </a:lnTo>
                  <a:lnTo>
                    <a:pt x="784" y="730"/>
                  </a:lnTo>
                  <a:lnTo>
                    <a:pt x="798" y="726"/>
                  </a:lnTo>
                  <a:lnTo>
                    <a:pt x="812" y="722"/>
                  </a:lnTo>
                  <a:lnTo>
                    <a:pt x="812" y="722"/>
                  </a:lnTo>
                  <a:lnTo>
                    <a:pt x="824" y="718"/>
                  </a:lnTo>
                  <a:lnTo>
                    <a:pt x="834" y="710"/>
                  </a:lnTo>
                  <a:lnTo>
                    <a:pt x="840" y="698"/>
                  </a:lnTo>
                  <a:lnTo>
                    <a:pt x="844" y="686"/>
                  </a:lnTo>
                  <a:lnTo>
                    <a:pt x="844" y="676"/>
                  </a:lnTo>
                  <a:lnTo>
                    <a:pt x="844" y="676"/>
                  </a:lnTo>
                  <a:lnTo>
                    <a:pt x="844" y="664"/>
                  </a:lnTo>
                  <a:lnTo>
                    <a:pt x="840" y="652"/>
                  </a:lnTo>
                  <a:lnTo>
                    <a:pt x="832" y="644"/>
                  </a:lnTo>
                  <a:lnTo>
                    <a:pt x="822" y="636"/>
                  </a:lnTo>
                  <a:lnTo>
                    <a:pt x="822" y="636"/>
                  </a:lnTo>
                  <a:lnTo>
                    <a:pt x="784" y="618"/>
                  </a:lnTo>
                  <a:lnTo>
                    <a:pt x="748" y="598"/>
                  </a:lnTo>
                  <a:lnTo>
                    <a:pt x="716" y="576"/>
                  </a:lnTo>
                  <a:lnTo>
                    <a:pt x="684" y="552"/>
                  </a:lnTo>
                  <a:lnTo>
                    <a:pt x="656" y="526"/>
                  </a:lnTo>
                  <a:lnTo>
                    <a:pt x="630" y="498"/>
                  </a:lnTo>
                  <a:lnTo>
                    <a:pt x="606" y="470"/>
                  </a:lnTo>
                  <a:lnTo>
                    <a:pt x="584" y="438"/>
                  </a:lnTo>
                  <a:lnTo>
                    <a:pt x="564" y="404"/>
                  </a:lnTo>
                  <a:lnTo>
                    <a:pt x="548" y="368"/>
                  </a:lnTo>
                  <a:lnTo>
                    <a:pt x="532" y="330"/>
                  </a:lnTo>
                  <a:lnTo>
                    <a:pt x="518" y="290"/>
                  </a:lnTo>
                  <a:lnTo>
                    <a:pt x="506" y="248"/>
                  </a:lnTo>
                  <a:lnTo>
                    <a:pt x="498" y="202"/>
                  </a:lnTo>
                  <a:lnTo>
                    <a:pt x="490" y="154"/>
                  </a:lnTo>
                  <a:lnTo>
                    <a:pt x="484" y="104"/>
                  </a:lnTo>
                  <a:lnTo>
                    <a:pt x="484" y="104"/>
                  </a:lnTo>
                  <a:lnTo>
                    <a:pt x="492" y="98"/>
                  </a:lnTo>
                  <a:lnTo>
                    <a:pt x="498" y="92"/>
                  </a:lnTo>
                  <a:lnTo>
                    <a:pt x="506" y="80"/>
                  </a:lnTo>
                  <a:lnTo>
                    <a:pt x="512" y="68"/>
                  </a:lnTo>
                  <a:lnTo>
                    <a:pt x="514" y="58"/>
                  </a:lnTo>
                  <a:lnTo>
                    <a:pt x="514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03"/>
            <p:cNvSpPr/>
            <p:nvPr/>
          </p:nvSpPr>
          <p:spPr>
            <a:xfrm>
              <a:off x="8448480" y="9975960"/>
              <a:ext cx="1368720" cy="1358640"/>
            </a:xfrm>
            <a:custGeom>
              <a:avLst/>
              <a:gdLst>
                <a:gd name="textAreaLeft" fmla="*/ 0 w 1368720"/>
                <a:gd name="textAreaRight" fmla="*/ 1369080 w 1368720"/>
                <a:gd name="textAreaTop" fmla="*/ 0 h 1358640"/>
                <a:gd name="textAreaBottom" fmla="*/ 1358640 h 1358640"/>
              </a:gdLst>
              <a:ahLst/>
              <a:rect l="textAreaLeft" t="textAreaTop" r="textAreaRight" b="textAreaBottom"/>
              <a:pathLst>
                <a:path w="862" h="856">
                  <a:moveTo>
                    <a:pt x="832" y="622"/>
                  </a:moveTo>
                  <a:lnTo>
                    <a:pt x="832" y="622"/>
                  </a:lnTo>
                  <a:lnTo>
                    <a:pt x="806" y="616"/>
                  </a:lnTo>
                  <a:lnTo>
                    <a:pt x="782" y="606"/>
                  </a:lnTo>
                  <a:lnTo>
                    <a:pt x="762" y="596"/>
                  </a:lnTo>
                  <a:lnTo>
                    <a:pt x="742" y="586"/>
                  </a:lnTo>
                  <a:lnTo>
                    <a:pt x="742" y="586"/>
                  </a:lnTo>
                  <a:lnTo>
                    <a:pt x="786" y="562"/>
                  </a:lnTo>
                  <a:lnTo>
                    <a:pt x="786" y="562"/>
                  </a:lnTo>
                  <a:lnTo>
                    <a:pt x="788" y="562"/>
                  </a:lnTo>
                  <a:lnTo>
                    <a:pt x="788" y="562"/>
                  </a:lnTo>
                  <a:lnTo>
                    <a:pt x="800" y="562"/>
                  </a:lnTo>
                  <a:lnTo>
                    <a:pt x="810" y="560"/>
                  </a:lnTo>
                  <a:lnTo>
                    <a:pt x="818" y="556"/>
                  </a:lnTo>
                  <a:lnTo>
                    <a:pt x="826" y="552"/>
                  </a:lnTo>
                  <a:lnTo>
                    <a:pt x="836" y="542"/>
                  </a:lnTo>
                  <a:lnTo>
                    <a:pt x="842" y="532"/>
                  </a:lnTo>
                  <a:lnTo>
                    <a:pt x="842" y="532"/>
                  </a:lnTo>
                  <a:lnTo>
                    <a:pt x="846" y="524"/>
                  </a:lnTo>
                  <a:lnTo>
                    <a:pt x="846" y="516"/>
                  </a:lnTo>
                  <a:lnTo>
                    <a:pt x="846" y="510"/>
                  </a:lnTo>
                  <a:lnTo>
                    <a:pt x="846" y="502"/>
                  </a:lnTo>
                  <a:lnTo>
                    <a:pt x="842" y="496"/>
                  </a:lnTo>
                  <a:lnTo>
                    <a:pt x="840" y="490"/>
                  </a:lnTo>
                  <a:lnTo>
                    <a:pt x="834" y="484"/>
                  </a:lnTo>
                  <a:lnTo>
                    <a:pt x="828" y="480"/>
                  </a:lnTo>
                  <a:lnTo>
                    <a:pt x="796" y="458"/>
                  </a:lnTo>
                  <a:lnTo>
                    <a:pt x="796" y="458"/>
                  </a:lnTo>
                  <a:lnTo>
                    <a:pt x="810" y="456"/>
                  </a:lnTo>
                  <a:lnTo>
                    <a:pt x="824" y="450"/>
                  </a:lnTo>
                  <a:lnTo>
                    <a:pt x="836" y="442"/>
                  </a:lnTo>
                  <a:lnTo>
                    <a:pt x="842" y="436"/>
                  </a:lnTo>
                  <a:lnTo>
                    <a:pt x="848" y="430"/>
                  </a:lnTo>
                  <a:lnTo>
                    <a:pt x="848" y="430"/>
                  </a:lnTo>
                  <a:lnTo>
                    <a:pt x="852" y="422"/>
                  </a:lnTo>
                  <a:lnTo>
                    <a:pt x="854" y="416"/>
                  </a:lnTo>
                  <a:lnTo>
                    <a:pt x="854" y="408"/>
                  </a:lnTo>
                  <a:lnTo>
                    <a:pt x="854" y="400"/>
                  </a:lnTo>
                  <a:lnTo>
                    <a:pt x="852" y="394"/>
                  </a:lnTo>
                  <a:lnTo>
                    <a:pt x="848" y="388"/>
                  </a:lnTo>
                  <a:lnTo>
                    <a:pt x="844" y="382"/>
                  </a:lnTo>
                  <a:lnTo>
                    <a:pt x="838" y="376"/>
                  </a:lnTo>
                  <a:lnTo>
                    <a:pt x="794" y="342"/>
                  </a:lnTo>
                  <a:lnTo>
                    <a:pt x="794" y="342"/>
                  </a:lnTo>
                  <a:lnTo>
                    <a:pt x="806" y="334"/>
                  </a:lnTo>
                  <a:lnTo>
                    <a:pt x="814" y="324"/>
                  </a:lnTo>
                  <a:lnTo>
                    <a:pt x="814" y="324"/>
                  </a:lnTo>
                  <a:lnTo>
                    <a:pt x="818" y="316"/>
                  </a:lnTo>
                  <a:lnTo>
                    <a:pt x="820" y="310"/>
                  </a:lnTo>
                  <a:lnTo>
                    <a:pt x="822" y="302"/>
                  </a:lnTo>
                  <a:lnTo>
                    <a:pt x="820" y="294"/>
                  </a:lnTo>
                  <a:lnTo>
                    <a:pt x="818" y="286"/>
                  </a:lnTo>
                  <a:lnTo>
                    <a:pt x="816" y="280"/>
                  </a:lnTo>
                  <a:lnTo>
                    <a:pt x="810" y="274"/>
                  </a:lnTo>
                  <a:lnTo>
                    <a:pt x="804" y="268"/>
                  </a:lnTo>
                  <a:lnTo>
                    <a:pt x="774" y="248"/>
                  </a:lnTo>
                  <a:lnTo>
                    <a:pt x="774" y="248"/>
                  </a:lnTo>
                  <a:lnTo>
                    <a:pt x="790" y="246"/>
                  </a:lnTo>
                  <a:lnTo>
                    <a:pt x="808" y="242"/>
                  </a:lnTo>
                  <a:lnTo>
                    <a:pt x="816" y="238"/>
                  </a:lnTo>
                  <a:lnTo>
                    <a:pt x="826" y="232"/>
                  </a:lnTo>
                  <a:lnTo>
                    <a:pt x="832" y="226"/>
                  </a:lnTo>
                  <a:lnTo>
                    <a:pt x="840" y="216"/>
                  </a:lnTo>
                  <a:lnTo>
                    <a:pt x="840" y="216"/>
                  </a:lnTo>
                  <a:lnTo>
                    <a:pt x="842" y="210"/>
                  </a:lnTo>
                  <a:lnTo>
                    <a:pt x="844" y="202"/>
                  </a:lnTo>
                  <a:lnTo>
                    <a:pt x="846" y="194"/>
                  </a:lnTo>
                  <a:lnTo>
                    <a:pt x="844" y="188"/>
                  </a:lnTo>
                  <a:lnTo>
                    <a:pt x="842" y="180"/>
                  </a:lnTo>
                  <a:lnTo>
                    <a:pt x="838" y="174"/>
                  </a:lnTo>
                  <a:lnTo>
                    <a:pt x="834" y="168"/>
                  </a:lnTo>
                  <a:lnTo>
                    <a:pt x="828" y="162"/>
                  </a:lnTo>
                  <a:lnTo>
                    <a:pt x="774" y="126"/>
                  </a:lnTo>
                  <a:lnTo>
                    <a:pt x="774" y="126"/>
                  </a:lnTo>
                  <a:lnTo>
                    <a:pt x="782" y="120"/>
                  </a:lnTo>
                  <a:lnTo>
                    <a:pt x="788" y="112"/>
                  </a:lnTo>
                  <a:lnTo>
                    <a:pt x="794" y="100"/>
                  </a:lnTo>
                  <a:lnTo>
                    <a:pt x="794" y="100"/>
                  </a:lnTo>
                  <a:lnTo>
                    <a:pt x="796" y="92"/>
                  </a:lnTo>
                  <a:lnTo>
                    <a:pt x="796" y="84"/>
                  </a:lnTo>
                  <a:lnTo>
                    <a:pt x="794" y="76"/>
                  </a:lnTo>
                  <a:lnTo>
                    <a:pt x="792" y="68"/>
                  </a:lnTo>
                  <a:lnTo>
                    <a:pt x="792" y="68"/>
                  </a:lnTo>
                  <a:lnTo>
                    <a:pt x="788" y="62"/>
                  </a:lnTo>
                  <a:lnTo>
                    <a:pt x="782" y="56"/>
                  </a:lnTo>
                  <a:lnTo>
                    <a:pt x="776" y="52"/>
                  </a:lnTo>
                  <a:lnTo>
                    <a:pt x="768" y="48"/>
                  </a:lnTo>
                  <a:lnTo>
                    <a:pt x="630" y="2"/>
                  </a:lnTo>
                  <a:lnTo>
                    <a:pt x="630" y="2"/>
                  </a:lnTo>
                  <a:lnTo>
                    <a:pt x="622" y="0"/>
                  </a:lnTo>
                  <a:lnTo>
                    <a:pt x="612" y="0"/>
                  </a:lnTo>
                  <a:lnTo>
                    <a:pt x="604" y="2"/>
                  </a:lnTo>
                  <a:lnTo>
                    <a:pt x="598" y="6"/>
                  </a:lnTo>
                  <a:lnTo>
                    <a:pt x="598" y="6"/>
                  </a:lnTo>
                  <a:lnTo>
                    <a:pt x="590" y="10"/>
                  </a:lnTo>
                  <a:lnTo>
                    <a:pt x="584" y="16"/>
                  </a:lnTo>
                  <a:lnTo>
                    <a:pt x="580" y="24"/>
                  </a:lnTo>
                  <a:lnTo>
                    <a:pt x="578" y="32"/>
                  </a:lnTo>
                  <a:lnTo>
                    <a:pt x="578" y="32"/>
                  </a:lnTo>
                  <a:lnTo>
                    <a:pt x="558" y="116"/>
                  </a:lnTo>
                  <a:lnTo>
                    <a:pt x="558" y="116"/>
                  </a:lnTo>
                  <a:lnTo>
                    <a:pt x="554" y="102"/>
                  </a:lnTo>
                  <a:lnTo>
                    <a:pt x="546" y="86"/>
                  </a:lnTo>
                  <a:lnTo>
                    <a:pt x="534" y="72"/>
                  </a:lnTo>
                  <a:lnTo>
                    <a:pt x="516" y="56"/>
                  </a:lnTo>
                  <a:lnTo>
                    <a:pt x="494" y="42"/>
                  </a:lnTo>
                  <a:lnTo>
                    <a:pt x="466" y="28"/>
                  </a:lnTo>
                  <a:lnTo>
                    <a:pt x="432" y="16"/>
                  </a:lnTo>
                  <a:lnTo>
                    <a:pt x="388" y="6"/>
                  </a:lnTo>
                  <a:lnTo>
                    <a:pt x="388" y="6"/>
                  </a:lnTo>
                  <a:lnTo>
                    <a:pt x="380" y="6"/>
                  </a:lnTo>
                  <a:lnTo>
                    <a:pt x="372" y="6"/>
                  </a:lnTo>
                  <a:lnTo>
                    <a:pt x="366" y="8"/>
                  </a:lnTo>
                  <a:lnTo>
                    <a:pt x="358" y="12"/>
                  </a:lnTo>
                  <a:lnTo>
                    <a:pt x="352" y="16"/>
                  </a:lnTo>
                  <a:lnTo>
                    <a:pt x="352" y="16"/>
                  </a:lnTo>
                  <a:lnTo>
                    <a:pt x="346" y="22"/>
                  </a:lnTo>
                  <a:lnTo>
                    <a:pt x="342" y="28"/>
                  </a:lnTo>
                  <a:lnTo>
                    <a:pt x="338" y="36"/>
                  </a:lnTo>
                  <a:lnTo>
                    <a:pt x="336" y="44"/>
                  </a:lnTo>
                  <a:lnTo>
                    <a:pt x="336" y="44"/>
                  </a:lnTo>
                  <a:lnTo>
                    <a:pt x="336" y="52"/>
                  </a:lnTo>
                  <a:lnTo>
                    <a:pt x="338" y="60"/>
                  </a:lnTo>
                  <a:lnTo>
                    <a:pt x="340" y="66"/>
                  </a:lnTo>
                  <a:lnTo>
                    <a:pt x="344" y="74"/>
                  </a:lnTo>
                  <a:lnTo>
                    <a:pt x="344" y="74"/>
                  </a:lnTo>
                  <a:lnTo>
                    <a:pt x="354" y="90"/>
                  </a:lnTo>
                  <a:lnTo>
                    <a:pt x="364" y="110"/>
                  </a:lnTo>
                  <a:lnTo>
                    <a:pt x="370" y="132"/>
                  </a:lnTo>
                  <a:lnTo>
                    <a:pt x="374" y="154"/>
                  </a:lnTo>
                  <a:lnTo>
                    <a:pt x="342" y="154"/>
                  </a:lnTo>
                  <a:lnTo>
                    <a:pt x="342" y="154"/>
                  </a:lnTo>
                  <a:lnTo>
                    <a:pt x="334" y="156"/>
                  </a:lnTo>
                  <a:lnTo>
                    <a:pt x="326" y="158"/>
                  </a:lnTo>
                  <a:lnTo>
                    <a:pt x="320" y="154"/>
                  </a:lnTo>
                  <a:lnTo>
                    <a:pt x="320" y="154"/>
                  </a:lnTo>
                  <a:lnTo>
                    <a:pt x="314" y="148"/>
                  </a:lnTo>
                  <a:lnTo>
                    <a:pt x="306" y="146"/>
                  </a:lnTo>
                  <a:lnTo>
                    <a:pt x="298" y="144"/>
                  </a:lnTo>
                  <a:lnTo>
                    <a:pt x="290" y="142"/>
                  </a:lnTo>
                  <a:lnTo>
                    <a:pt x="290" y="110"/>
                  </a:lnTo>
                  <a:lnTo>
                    <a:pt x="290" y="110"/>
                  </a:lnTo>
                  <a:lnTo>
                    <a:pt x="302" y="102"/>
                  </a:lnTo>
                  <a:lnTo>
                    <a:pt x="312" y="90"/>
                  </a:lnTo>
                  <a:lnTo>
                    <a:pt x="318" y="78"/>
                  </a:lnTo>
                  <a:lnTo>
                    <a:pt x="322" y="64"/>
                  </a:lnTo>
                  <a:lnTo>
                    <a:pt x="322" y="64"/>
                  </a:lnTo>
                  <a:lnTo>
                    <a:pt x="322" y="56"/>
                  </a:lnTo>
                  <a:lnTo>
                    <a:pt x="322" y="48"/>
                  </a:lnTo>
                  <a:lnTo>
                    <a:pt x="318" y="40"/>
                  </a:lnTo>
                  <a:lnTo>
                    <a:pt x="314" y="34"/>
                  </a:lnTo>
                  <a:lnTo>
                    <a:pt x="314" y="34"/>
                  </a:lnTo>
                  <a:lnTo>
                    <a:pt x="308" y="28"/>
                  </a:lnTo>
                  <a:lnTo>
                    <a:pt x="302" y="24"/>
                  </a:lnTo>
                  <a:lnTo>
                    <a:pt x="294" y="20"/>
                  </a:lnTo>
                  <a:lnTo>
                    <a:pt x="286" y="18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36" y="6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08" y="22"/>
                  </a:lnTo>
                  <a:lnTo>
                    <a:pt x="104" y="28"/>
                  </a:lnTo>
                  <a:lnTo>
                    <a:pt x="102" y="36"/>
                  </a:lnTo>
                  <a:lnTo>
                    <a:pt x="102" y="44"/>
                  </a:lnTo>
                  <a:lnTo>
                    <a:pt x="102" y="212"/>
                  </a:lnTo>
                  <a:lnTo>
                    <a:pt x="40" y="212"/>
                  </a:lnTo>
                  <a:lnTo>
                    <a:pt x="40" y="212"/>
                  </a:lnTo>
                  <a:lnTo>
                    <a:pt x="30" y="212"/>
                  </a:lnTo>
                  <a:lnTo>
                    <a:pt x="22" y="216"/>
                  </a:lnTo>
                  <a:lnTo>
                    <a:pt x="14" y="220"/>
                  </a:lnTo>
                  <a:lnTo>
                    <a:pt x="8" y="228"/>
                  </a:lnTo>
                  <a:lnTo>
                    <a:pt x="8" y="228"/>
                  </a:lnTo>
                  <a:lnTo>
                    <a:pt x="4" y="236"/>
                  </a:lnTo>
                  <a:lnTo>
                    <a:pt x="0" y="244"/>
                  </a:lnTo>
                  <a:lnTo>
                    <a:pt x="0" y="252"/>
                  </a:lnTo>
                  <a:lnTo>
                    <a:pt x="2" y="262"/>
                  </a:lnTo>
                  <a:lnTo>
                    <a:pt x="4" y="274"/>
                  </a:lnTo>
                  <a:lnTo>
                    <a:pt x="4" y="274"/>
                  </a:lnTo>
                  <a:lnTo>
                    <a:pt x="10" y="286"/>
                  </a:lnTo>
                  <a:lnTo>
                    <a:pt x="18" y="296"/>
                  </a:lnTo>
                  <a:lnTo>
                    <a:pt x="30" y="302"/>
                  </a:lnTo>
                  <a:lnTo>
                    <a:pt x="44" y="304"/>
                  </a:lnTo>
                  <a:lnTo>
                    <a:pt x="92" y="304"/>
                  </a:lnTo>
                  <a:lnTo>
                    <a:pt x="92" y="304"/>
                  </a:lnTo>
                  <a:lnTo>
                    <a:pt x="86" y="348"/>
                  </a:lnTo>
                  <a:lnTo>
                    <a:pt x="78" y="392"/>
                  </a:lnTo>
                  <a:lnTo>
                    <a:pt x="68" y="430"/>
                  </a:lnTo>
                  <a:lnTo>
                    <a:pt x="58" y="468"/>
                  </a:lnTo>
                  <a:lnTo>
                    <a:pt x="48" y="504"/>
                  </a:lnTo>
                  <a:lnTo>
                    <a:pt x="36" y="536"/>
                  </a:lnTo>
                  <a:lnTo>
                    <a:pt x="22" y="566"/>
                  </a:lnTo>
                  <a:lnTo>
                    <a:pt x="8" y="594"/>
                  </a:lnTo>
                  <a:lnTo>
                    <a:pt x="8" y="594"/>
                  </a:lnTo>
                  <a:lnTo>
                    <a:pt x="4" y="606"/>
                  </a:lnTo>
                  <a:lnTo>
                    <a:pt x="4" y="618"/>
                  </a:lnTo>
                  <a:lnTo>
                    <a:pt x="6" y="630"/>
                  </a:lnTo>
                  <a:lnTo>
                    <a:pt x="14" y="640"/>
                  </a:lnTo>
                  <a:lnTo>
                    <a:pt x="24" y="650"/>
                  </a:lnTo>
                  <a:lnTo>
                    <a:pt x="24" y="650"/>
                  </a:lnTo>
                  <a:lnTo>
                    <a:pt x="30" y="656"/>
                  </a:lnTo>
                  <a:lnTo>
                    <a:pt x="36" y="660"/>
                  </a:lnTo>
                  <a:lnTo>
                    <a:pt x="44" y="662"/>
                  </a:lnTo>
                  <a:lnTo>
                    <a:pt x="52" y="664"/>
                  </a:lnTo>
                  <a:lnTo>
                    <a:pt x="58" y="664"/>
                  </a:lnTo>
                  <a:lnTo>
                    <a:pt x="66" y="662"/>
                  </a:lnTo>
                  <a:lnTo>
                    <a:pt x="74" y="658"/>
                  </a:lnTo>
                  <a:lnTo>
                    <a:pt x="80" y="654"/>
                  </a:lnTo>
                  <a:lnTo>
                    <a:pt x="80" y="654"/>
                  </a:lnTo>
                  <a:lnTo>
                    <a:pt x="102" y="632"/>
                  </a:lnTo>
                  <a:lnTo>
                    <a:pt x="102" y="816"/>
                  </a:lnTo>
                  <a:lnTo>
                    <a:pt x="102" y="816"/>
                  </a:lnTo>
                  <a:lnTo>
                    <a:pt x="102" y="824"/>
                  </a:lnTo>
                  <a:lnTo>
                    <a:pt x="104" y="832"/>
                  </a:lnTo>
                  <a:lnTo>
                    <a:pt x="108" y="838"/>
                  </a:lnTo>
                  <a:lnTo>
                    <a:pt x="114" y="844"/>
                  </a:lnTo>
                  <a:lnTo>
                    <a:pt x="120" y="848"/>
                  </a:lnTo>
                  <a:lnTo>
                    <a:pt x="126" y="852"/>
                  </a:lnTo>
                  <a:lnTo>
                    <a:pt x="134" y="854"/>
                  </a:lnTo>
                  <a:lnTo>
                    <a:pt x="142" y="856"/>
                  </a:lnTo>
                  <a:lnTo>
                    <a:pt x="164" y="856"/>
                  </a:lnTo>
                  <a:lnTo>
                    <a:pt x="164" y="856"/>
                  </a:lnTo>
                  <a:lnTo>
                    <a:pt x="178" y="854"/>
                  </a:lnTo>
                  <a:lnTo>
                    <a:pt x="198" y="852"/>
                  </a:lnTo>
                  <a:lnTo>
                    <a:pt x="218" y="848"/>
                  </a:lnTo>
                  <a:lnTo>
                    <a:pt x="240" y="840"/>
                  </a:lnTo>
                  <a:lnTo>
                    <a:pt x="260" y="830"/>
                  </a:lnTo>
                  <a:lnTo>
                    <a:pt x="268" y="824"/>
                  </a:lnTo>
                  <a:lnTo>
                    <a:pt x="276" y="818"/>
                  </a:lnTo>
                  <a:lnTo>
                    <a:pt x="282" y="812"/>
                  </a:lnTo>
                  <a:lnTo>
                    <a:pt x="286" y="804"/>
                  </a:lnTo>
                  <a:lnTo>
                    <a:pt x="290" y="794"/>
                  </a:lnTo>
                  <a:lnTo>
                    <a:pt x="290" y="784"/>
                  </a:lnTo>
                  <a:lnTo>
                    <a:pt x="290" y="734"/>
                  </a:lnTo>
                  <a:lnTo>
                    <a:pt x="336" y="794"/>
                  </a:lnTo>
                  <a:lnTo>
                    <a:pt x="336" y="794"/>
                  </a:lnTo>
                  <a:lnTo>
                    <a:pt x="346" y="802"/>
                  </a:lnTo>
                  <a:lnTo>
                    <a:pt x="358" y="808"/>
                  </a:lnTo>
                  <a:lnTo>
                    <a:pt x="372" y="810"/>
                  </a:lnTo>
                  <a:lnTo>
                    <a:pt x="384" y="806"/>
                  </a:lnTo>
                  <a:lnTo>
                    <a:pt x="384" y="806"/>
                  </a:lnTo>
                  <a:lnTo>
                    <a:pt x="398" y="798"/>
                  </a:lnTo>
                  <a:lnTo>
                    <a:pt x="408" y="788"/>
                  </a:lnTo>
                  <a:lnTo>
                    <a:pt x="416" y="776"/>
                  </a:lnTo>
                  <a:lnTo>
                    <a:pt x="422" y="762"/>
                  </a:lnTo>
                  <a:lnTo>
                    <a:pt x="422" y="760"/>
                  </a:lnTo>
                  <a:lnTo>
                    <a:pt x="422" y="760"/>
                  </a:lnTo>
                  <a:lnTo>
                    <a:pt x="426" y="764"/>
                  </a:lnTo>
                  <a:lnTo>
                    <a:pt x="430" y="766"/>
                  </a:lnTo>
                  <a:lnTo>
                    <a:pt x="434" y="776"/>
                  </a:lnTo>
                  <a:lnTo>
                    <a:pt x="436" y="790"/>
                  </a:lnTo>
                  <a:lnTo>
                    <a:pt x="436" y="814"/>
                  </a:lnTo>
                  <a:lnTo>
                    <a:pt x="436" y="814"/>
                  </a:lnTo>
                  <a:lnTo>
                    <a:pt x="436" y="822"/>
                  </a:lnTo>
                  <a:lnTo>
                    <a:pt x="438" y="830"/>
                  </a:lnTo>
                  <a:lnTo>
                    <a:pt x="442" y="838"/>
                  </a:lnTo>
                  <a:lnTo>
                    <a:pt x="448" y="844"/>
                  </a:lnTo>
                  <a:lnTo>
                    <a:pt x="448" y="844"/>
                  </a:lnTo>
                  <a:lnTo>
                    <a:pt x="454" y="848"/>
                  </a:lnTo>
                  <a:lnTo>
                    <a:pt x="462" y="852"/>
                  </a:lnTo>
                  <a:lnTo>
                    <a:pt x="470" y="854"/>
                  </a:lnTo>
                  <a:lnTo>
                    <a:pt x="478" y="854"/>
                  </a:lnTo>
                  <a:lnTo>
                    <a:pt x="478" y="854"/>
                  </a:lnTo>
                  <a:lnTo>
                    <a:pt x="514" y="850"/>
                  </a:lnTo>
                  <a:lnTo>
                    <a:pt x="546" y="844"/>
                  </a:lnTo>
                  <a:lnTo>
                    <a:pt x="572" y="834"/>
                  </a:lnTo>
                  <a:lnTo>
                    <a:pt x="584" y="828"/>
                  </a:lnTo>
                  <a:lnTo>
                    <a:pt x="596" y="820"/>
                  </a:lnTo>
                  <a:lnTo>
                    <a:pt x="604" y="812"/>
                  </a:lnTo>
                  <a:lnTo>
                    <a:pt x="614" y="804"/>
                  </a:lnTo>
                  <a:lnTo>
                    <a:pt x="620" y="794"/>
                  </a:lnTo>
                  <a:lnTo>
                    <a:pt x="628" y="784"/>
                  </a:lnTo>
                  <a:lnTo>
                    <a:pt x="632" y="774"/>
                  </a:lnTo>
                  <a:lnTo>
                    <a:pt x="638" y="762"/>
                  </a:lnTo>
                  <a:lnTo>
                    <a:pt x="644" y="734"/>
                  </a:lnTo>
                  <a:lnTo>
                    <a:pt x="644" y="734"/>
                  </a:lnTo>
                  <a:lnTo>
                    <a:pt x="660" y="756"/>
                  </a:lnTo>
                  <a:lnTo>
                    <a:pt x="676" y="774"/>
                  </a:lnTo>
                  <a:lnTo>
                    <a:pt x="696" y="794"/>
                  </a:lnTo>
                  <a:lnTo>
                    <a:pt x="716" y="810"/>
                  </a:lnTo>
                  <a:lnTo>
                    <a:pt x="716" y="810"/>
                  </a:lnTo>
                  <a:lnTo>
                    <a:pt x="726" y="816"/>
                  </a:lnTo>
                  <a:lnTo>
                    <a:pt x="734" y="818"/>
                  </a:lnTo>
                  <a:lnTo>
                    <a:pt x="746" y="818"/>
                  </a:lnTo>
                  <a:lnTo>
                    <a:pt x="756" y="816"/>
                  </a:lnTo>
                  <a:lnTo>
                    <a:pt x="756" y="816"/>
                  </a:lnTo>
                  <a:lnTo>
                    <a:pt x="764" y="812"/>
                  </a:lnTo>
                  <a:lnTo>
                    <a:pt x="772" y="804"/>
                  </a:lnTo>
                  <a:lnTo>
                    <a:pt x="778" y="796"/>
                  </a:lnTo>
                  <a:lnTo>
                    <a:pt x="780" y="786"/>
                  </a:lnTo>
                  <a:lnTo>
                    <a:pt x="780" y="786"/>
                  </a:lnTo>
                  <a:lnTo>
                    <a:pt x="784" y="772"/>
                  </a:lnTo>
                  <a:lnTo>
                    <a:pt x="788" y="758"/>
                  </a:lnTo>
                  <a:lnTo>
                    <a:pt x="794" y="746"/>
                  </a:lnTo>
                  <a:lnTo>
                    <a:pt x="800" y="736"/>
                  </a:lnTo>
                  <a:lnTo>
                    <a:pt x="808" y="726"/>
                  </a:lnTo>
                  <a:lnTo>
                    <a:pt x="816" y="718"/>
                  </a:lnTo>
                  <a:lnTo>
                    <a:pt x="824" y="712"/>
                  </a:lnTo>
                  <a:lnTo>
                    <a:pt x="834" y="708"/>
                  </a:lnTo>
                  <a:lnTo>
                    <a:pt x="834" y="708"/>
                  </a:lnTo>
                  <a:lnTo>
                    <a:pt x="844" y="702"/>
                  </a:lnTo>
                  <a:lnTo>
                    <a:pt x="852" y="694"/>
                  </a:lnTo>
                  <a:lnTo>
                    <a:pt x="858" y="684"/>
                  </a:lnTo>
                  <a:lnTo>
                    <a:pt x="860" y="674"/>
                  </a:lnTo>
                  <a:lnTo>
                    <a:pt x="862" y="666"/>
                  </a:lnTo>
                  <a:lnTo>
                    <a:pt x="862" y="666"/>
                  </a:lnTo>
                  <a:lnTo>
                    <a:pt x="862" y="658"/>
                  </a:lnTo>
                  <a:lnTo>
                    <a:pt x="860" y="652"/>
                  </a:lnTo>
                  <a:lnTo>
                    <a:pt x="858" y="644"/>
                  </a:lnTo>
                  <a:lnTo>
                    <a:pt x="854" y="638"/>
                  </a:lnTo>
                  <a:lnTo>
                    <a:pt x="850" y="634"/>
                  </a:lnTo>
                  <a:lnTo>
                    <a:pt x="844" y="628"/>
                  </a:lnTo>
                  <a:lnTo>
                    <a:pt x="838" y="626"/>
                  </a:lnTo>
                  <a:lnTo>
                    <a:pt x="832" y="622"/>
                  </a:lnTo>
                  <a:lnTo>
                    <a:pt x="832" y="622"/>
                  </a:lnTo>
                  <a:close/>
                  <a:moveTo>
                    <a:pt x="646" y="366"/>
                  </a:moveTo>
                  <a:lnTo>
                    <a:pt x="646" y="352"/>
                  </a:lnTo>
                  <a:lnTo>
                    <a:pt x="660" y="352"/>
                  </a:lnTo>
                  <a:lnTo>
                    <a:pt x="650" y="366"/>
                  </a:lnTo>
                  <a:lnTo>
                    <a:pt x="646" y="366"/>
                  </a:lnTo>
                  <a:close/>
                  <a:moveTo>
                    <a:pt x="454" y="352"/>
                  </a:moveTo>
                  <a:lnTo>
                    <a:pt x="454" y="366"/>
                  </a:lnTo>
                  <a:lnTo>
                    <a:pt x="332" y="366"/>
                  </a:lnTo>
                  <a:lnTo>
                    <a:pt x="332" y="366"/>
                  </a:lnTo>
                  <a:lnTo>
                    <a:pt x="332" y="366"/>
                  </a:lnTo>
                  <a:lnTo>
                    <a:pt x="312" y="356"/>
                  </a:lnTo>
                  <a:lnTo>
                    <a:pt x="290" y="346"/>
                  </a:lnTo>
                  <a:lnTo>
                    <a:pt x="290" y="304"/>
                  </a:lnTo>
                  <a:lnTo>
                    <a:pt x="324" y="304"/>
                  </a:lnTo>
                  <a:lnTo>
                    <a:pt x="324" y="304"/>
                  </a:lnTo>
                  <a:lnTo>
                    <a:pt x="326" y="310"/>
                  </a:lnTo>
                  <a:lnTo>
                    <a:pt x="328" y="322"/>
                  </a:lnTo>
                  <a:lnTo>
                    <a:pt x="328" y="322"/>
                  </a:lnTo>
                  <a:lnTo>
                    <a:pt x="334" y="334"/>
                  </a:lnTo>
                  <a:lnTo>
                    <a:pt x="344" y="344"/>
                  </a:lnTo>
                  <a:lnTo>
                    <a:pt x="354" y="350"/>
                  </a:lnTo>
                  <a:lnTo>
                    <a:pt x="368" y="352"/>
                  </a:lnTo>
                  <a:lnTo>
                    <a:pt x="454" y="352"/>
                  </a:lnTo>
                  <a:close/>
                  <a:moveTo>
                    <a:pt x="454" y="248"/>
                  </a:moveTo>
                  <a:lnTo>
                    <a:pt x="454" y="260"/>
                  </a:lnTo>
                  <a:lnTo>
                    <a:pt x="410" y="260"/>
                  </a:lnTo>
                  <a:lnTo>
                    <a:pt x="410" y="260"/>
                  </a:lnTo>
                  <a:lnTo>
                    <a:pt x="410" y="248"/>
                  </a:lnTo>
                  <a:lnTo>
                    <a:pt x="454" y="248"/>
                  </a:lnTo>
                  <a:close/>
                  <a:moveTo>
                    <a:pt x="290" y="568"/>
                  </a:moveTo>
                  <a:lnTo>
                    <a:pt x="290" y="568"/>
                  </a:lnTo>
                  <a:lnTo>
                    <a:pt x="302" y="570"/>
                  </a:lnTo>
                  <a:lnTo>
                    <a:pt x="312" y="570"/>
                  </a:lnTo>
                  <a:lnTo>
                    <a:pt x="324" y="570"/>
                  </a:lnTo>
                  <a:lnTo>
                    <a:pt x="334" y="568"/>
                  </a:lnTo>
                  <a:lnTo>
                    <a:pt x="334" y="568"/>
                  </a:lnTo>
                  <a:lnTo>
                    <a:pt x="336" y="580"/>
                  </a:lnTo>
                  <a:lnTo>
                    <a:pt x="342" y="590"/>
                  </a:lnTo>
                  <a:lnTo>
                    <a:pt x="342" y="590"/>
                  </a:lnTo>
                  <a:lnTo>
                    <a:pt x="352" y="602"/>
                  </a:lnTo>
                  <a:lnTo>
                    <a:pt x="352" y="602"/>
                  </a:lnTo>
                  <a:lnTo>
                    <a:pt x="290" y="622"/>
                  </a:lnTo>
                  <a:lnTo>
                    <a:pt x="290" y="5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04"/>
            <p:cNvSpPr/>
            <p:nvPr/>
          </p:nvSpPr>
          <p:spPr>
            <a:xfrm>
              <a:off x="8540280" y="11464920"/>
              <a:ext cx="1219680" cy="135252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768" h="852">
                  <a:moveTo>
                    <a:pt x="752" y="210"/>
                  </a:moveTo>
                  <a:lnTo>
                    <a:pt x="640" y="130"/>
                  </a:lnTo>
                  <a:lnTo>
                    <a:pt x="640" y="130"/>
                  </a:lnTo>
                  <a:lnTo>
                    <a:pt x="634" y="126"/>
                  </a:lnTo>
                  <a:lnTo>
                    <a:pt x="626" y="122"/>
                  </a:lnTo>
                  <a:lnTo>
                    <a:pt x="618" y="122"/>
                  </a:lnTo>
                  <a:lnTo>
                    <a:pt x="610" y="122"/>
                  </a:lnTo>
                  <a:lnTo>
                    <a:pt x="604" y="124"/>
                  </a:lnTo>
                  <a:lnTo>
                    <a:pt x="596" y="126"/>
                  </a:lnTo>
                  <a:lnTo>
                    <a:pt x="590" y="132"/>
                  </a:lnTo>
                  <a:lnTo>
                    <a:pt x="584" y="138"/>
                  </a:lnTo>
                  <a:lnTo>
                    <a:pt x="552" y="180"/>
                  </a:lnTo>
                  <a:lnTo>
                    <a:pt x="406" y="180"/>
                  </a:lnTo>
                  <a:lnTo>
                    <a:pt x="406" y="180"/>
                  </a:lnTo>
                  <a:lnTo>
                    <a:pt x="456" y="134"/>
                  </a:lnTo>
                  <a:lnTo>
                    <a:pt x="456" y="134"/>
                  </a:lnTo>
                  <a:lnTo>
                    <a:pt x="466" y="132"/>
                  </a:lnTo>
                  <a:lnTo>
                    <a:pt x="476" y="128"/>
                  </a:lnTo>
                  <a:lnTo>
                    <a:pt x="484" y="124"/>
                  </a:lnTo>
                  <a:lnTo>
                    <a:pt x="492" y="118"/>
                  </a:lnTo>
                  <a:lnTo>
                    <a:pt x="498" y="112"/>
                  </a:lnTo>
                  <a:lnTo>
                    <a:pt x="502" y="106"/>
                  </a:lnTo>
                  <a:lnTo>
                    <a:pt x="506" y="98"/>
                  </a:lnTo>
                  <a:lnTo>
                    <a:pt x="510" y="88"/>
                  </a:lnTo>
                  <a:lnTo>
                    <a:pt x="510" y="88"/>
                  </a:lnTo>
                  <a:lnTo>
                    <a:pt x="510" y="80"/>
                  </a:lnTo>
                  <a:lnTo>
                    <a:pt x="510" y="72"/>
                  </a:lnTo>
                  <a:lnTo>
                    <a:pt x="508" y="64"/>
                  </a:lnTo>
                  <a:lnTo>
                    <a:pt x="504" y="58"/>
                  </a:lnTo>
                  <a:lnTo>
                    <a:pt x="504" y="58"/>
                  </a:lnTo>
                  <a:lnTo>
                    <a:pt x="500" y="52"/>
                  </a:lnTo>
                  <a:lnTo>
                    <a:pt x="494" y="46"/>
                  </a:lnTo>
                  <a:lnTo>
                    <a:pt x="486" y="42"/>
                  </a:lnTo>
                  <a:lnTo>
                    <a:pt x="480" y="4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96" y="0"/>
                  </a:lnTo>
                  <a:lnTo>
                    <a:pt x="288" y="0"/>
                  </a:lnTo>
                  <a:lnTo>
                    <a:pt x="280" y="2"/>
                  </a:lnTo>
                  <a:lnTo>
                    <a:pt x="272" y="6"/>
                  </a:lnTo>
                  <a:lnTo>
                    <a:pt x="272" y="6"/>
                  </a:lnTo>
                  <a:lnTo>
                    <a:pt x="266" y="12"/>
                  </a:lnTo>
                  <a:lnTo>
                    <a:pt x="262" y="20"/>
                  </a:lnTo>
                  <a:lnTo>
                    <a:pt x="258" y="28"/>
                  </a:lnTo>
                  <a:lnTo>
                    <a:pt x="256" y="36"/>
                  </a:lnTo>
                  <a:lnTo>
                    <a:pt x="256" y="36"/>
                  </a:lnTo>
                  <a:lnTo>
                    <a:pt x="250" y="104"/>
                  </a:lnTo>
                  <a:lnTo>
                    <a:pt x="240" y="180"/>
                  </a:lnTo>
                  <a:lnTo>
                    <a:pt x="172" y="180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44" y="130"/>
                  </a:lnTo>
                  <a:lnTo>
                    <a:pt x="36" y="130"/>
                  </a:lnTo>
                  <a:lnTo>
                    <a:pt x="26" y="132"/>
                  </a:lnTo>
                  <a:lnTo>
                    <a:pt x="18" y="136"/>
                  </a:lnTo>
                  <a:lnTo>
                    <a:pt x="18" y="136"/>
                  </a:lnTo>
                  <a:lnTo>
                    <a:pt x="10" y="144"/>
                  </a:lnTo>
                  <a:lnTo>
                    <a:pt x="4" y="152"/>
                  </a:lnTo>
                  <a:lnTo>
                    <a:pt x="0" y="160"/>
                  </a:lnTo>
                  <a:lnTo>
                    <a:pt x="0" y="170"/>
                  </a:lnTo>
                  <a:lnTo>
                    <a:pt x="0" y="812"/>
                  </a:lnTo>
                  <a:lnTo>
                    <a:pt x="0" y="812"/>
                  </a:lnTo>
                  <a:lnTo>
                    <a:pt x="0" y="820"/>
                  </a:lnTo>
                  <a:lnTo>
                    <a:pt x="2" y="828"/>
                  </a:lnTo>
                  <a:lnTo>
                    <a:pt x="6" y="834"/>
                  </a:lnTo>
                  <a:lnTo>
                    <a:pt x="12" y="840"/>
                  </a:lnTo>
                  <a:lnTo>
                    <a:pt x="18" y="844"/>
                  </a:lnTo>
                  <a:lnTo>
                    <a:pt x="24" y="848"/>
                  </a:lnTo>
                  <a:lnTo>
                    <a:pt x="32" y="850"/>
                  </a:lnTo>
                  <a:lnTo>
                    <a:pt x="40" y="852"/>
                  </a:lnTo>
                  <a:lnTo>
                    <a:pt x="40" y="852"/>
                  </a:lnTo>
                  <a:lnTo>
                    <a:pt x="62" y="850"/>
                  </a:lnTo>
                  <a:lnTo>
                    <a:pt x="82" y="848"/>
                  </a:lnTo>
                  <a:lnTo>
                    <a:pt x="102" y="846"/>
                  </a:lnTo>
                  <a:lnTo>
                    <a:pt x="118" y="842"/>
                  </a:lnTo>
                  <a:lnTo>
                    <a:pt x="132" y="836"/>
                  </a:lnTo>
                  <a:lnTo>
                    <a:pt x="144" y="830"/>
                  </a:lnTo>
                  <a:lnTo>
                    <a:pt x="156" y="824"/>
                  </a:lnTo>
                  <a:lnTo>
                    <a:pt x="164" y="818"/>
                  </a:lnTo>
                  <a:lnTo>
                    <a:pt x="180" y="802"/>
                  </a:lnTo>
                  <a:lnTo>
                    <a:pt x="188" y="788"/>
                  </a:lnTo>
                  <a:lnTo>
                    <a:pt x="194" y="776"/>
                  </a:lnTo>
                  <a:lnTo>
                    <a:pt x="194" y="764"/>
                  </a:lnTo>
                  <a:lnTo>
                    <a:pt x="194" y="716"/>
                  </a:lnTo>
                  <a:lnTo>
                    <a:pt x="194" y="716"/>
                  </a:lnTo>
                  <a:lnTo>
                    <a:pt x="204" y="720"/>
                  </a:lnTo>
                  <a:lnTo>
                    <a:pt x="212" y="720"/>
                  </a:lnTo>
                  <a:lnTo>
                    <a:pt x="212" y="720"/>
                  </a:lnTo>
                  <a:lnTo>
                    <a:pt x="234" y="720"/>
                  </a:lnTo>
                  <a:lnTo>
                    <a:pt x="252" y="718"/>
                  </a:lnTo>
                  <a:lnTo>
                    <a:pt x="270" y="714"/>
                  </a:lnTo>
                  <a:lnTo>
                    <a:pt x="286" y="710"/>
                  </a:lnTo>
                  <a:lnTo>
                    <a:pt x="298" y="706"/>
                  </a:lnTo>
                  <a:lnTo>
                    <a:pt x="310" y="700"/>
                  </a:lnTo>
                  <a:lnTo>
                    <a:pt x="330" y="688"/>
                  </a:lnTo>
                  <a:lnTo>
                    <a:pt x="344" y="676"/>
                  </a:lnTo>
                  <a:lnTo>
                    <a:pt x="352" y="662"/>
                  </a:lnTo>
                  <a:lnTo>
                    <a:pt x="356" y="650"/>
                  </a:lnTo>
                  <a:lnTo>
                    <a:pt x="358" y="642"/>
                  </a:lnTo>
                  <a:lnTo>
                    <a:pt x="358" y="626"/>
                  </a:lnTo>
                  <a:lnTo>
                    <a:pt x="374" y="626"/>
                  </a:lnTo>
                  <a:lnTo>
                    <a:pt x="374" y="658"/>
                  </a:lnTo>
                  <a:lnTo>
                    <a:pt x="374" y="658"/>
                  </a:lnTo>
                  <a:lnTo>
                    <a:pt x="376" y="670"/>
                  </a:lnTo>
                  <a:lnTo>
                    <a:pt x="382" y="682"/>
                  </a:lnTo>
                  <a:lnTo>
                    <a:pt x="392" y="690"/>
                  </a:lnTo>
                  <a:lnTo>
                    <a:pt x="402" y="696"/>
                  </a:lnTo>
                  <a:lnTo>
                    <a:pt x="402" y="696"/>
                  </a:lnTo>
                  <a:lnTo>
                    <a:pt x="402" y="696"/>
                  </a:lnTo>
                  <a:lnTo>
                    <a:pt x="404" y="704"/>
                  </a:lnTo>
                  <a:lnTo>
                    <a:pt x="406" y="710"/>
                  </a:lnTo>
                  <a:lnTo>
                    <a:pt x="408" y="716"/>
                  </a:lnTo>
                  <a:lnTo>
                    <a:pt x="412" y="722"/>
                  </a:lnTo>
                  <a:lnTo>
                    <a:pt x="418" y="728"/>
                  </a:lnTo>
                  <a:lnTo>
                    <a:pt x="424" y="732"/>
                  </a:lnTo>
                  <a:lnTo>
                    <a:pt x="430" y="734"/>
                  </a:lnTo>
                  <a:lnTo>
                    <a:pt x="436" y="736"/>
                  </a:lnTo>
                  <a:lnTo>
                    <a:pt x="436" y="736"/>
                  </a:lnTo>
                  <a:lnTo>
                    <a:pt x="456" y="740"/>
                  </a:lnTo>
                  <a:lnTo>
                    <a:pt x="472" y="744"/>
                  </a:lnTo>
                  <a:lnTo>
                    <a:pt x="484" y="748"/>
                  </a:lnTo>
                  <a:lnTo>
                    <a:pt x="494" y="756"/>
                  </a:lnTo>
                  <a:lnTo>
                    <a:pt x="500" y="764"/>
                  </a:lnTo>
                  <a:lnTo>
                    <a:pt x="506" y="776"/>
                  </a:lnTo>
                  <a:lnTo>
                    <a:pt x="508" y="792"/>
                  </a:lnTo>
                  <a:lnTo>
                    <a:pt x="508" y="810"/>
                  </a:lnTo>
                  <a:lnTo>
                    <a:pt x="508" y="810"/>
                  </a:lnTo>
                  <a:lnTo>
                    <a:pt x="510" y="818"/>
                  </a:lnTo>
                  <a:lnTo>
                    <a:pt x="512" y="826"/>
                  </a:lnTo>
                  <a:lnTo>
                    <a:pt x="516" y="834"/>
                  </a:lnTo>
                  <a:lnTo>
                    <a:pt x="522" y="840"/>
                  </a:lnTo>
                  <a:lnTo>
                    <a:pt x="522" y="840"/>
                  </a:lnTo>
                  <a:lnTo>
                    <a:pt x="528" y="844"/>
                  </a:lnTo>
                  <a:lnTo>
                    <a:pt x="536" y="848"/>
                  </a:lnTo>
                  <a:lnTo>
                    <a:pt x="544" y="850"/>
                  </a:lnTo>
                  <a:lnTo>
                    <a:pt x="552" y="850"/>
                  </a:lnTo>
                  <a:lnTo>
                    <a:pt x="552" y="850"/>
                  </a:lnTo>
                  <a:lnTo>
                    <a:pt x="580" y="846"/>
                  </a:lnTo>
                  <a:lnTo>
                    <a:pt x="604" y="842"/>
                  </a:lnTo>
                  <a:lnTo>
                    <a:pt x="626" y="836"/>
                  </a:lnTo>
                  <a:lnTo>
                    <a:pt x="646" y="828"/>
                  </a:lnTo>
                  <a:lnTo>
                    <a:pt x="662" y="820"/>
                  </a:lnTo>
                  <a:lnTo>
                    <a:pt x="676" y="812"/>
                  </a:lnTo>
                  <a:lnTo>
                    <a:pt x="690" y="802"/>
                  </a:lnTo>
                  <a:lnTo>
                    <a:pt x="700" y="792"/>
                  </a:lnTo>
                  <a:lnTo>
                    <a:pt x="710" y="780"/>
                  </a:lnTo>
                  <a:lnTo>
                    <a:pt x="718" y="768"/>
                  </a:lnTo>
                  <a:lnTo>
                    <a:pt x="724" y="754"/>
                  </a:lnTo>
                  <a:lnTo>
                    <a:pt x="728" y="740"/>
                  </a:lnTo>
                  <a:lnTo>
                    <a:pt x="732" y="726"/>
                  </a:lnTo>
                  <a:lnTo>
                    <a:pt x="734" y="710"/>
                  </a:lnTo>
                  <a:lnTo>
                    <a:pt x="736" y="678"/>
                  </a:lnTo>
                  <a:lnTo>
                    <a:pt x="736" y="288"/>
                  </a:lnTo>
                  <a:lnTo>
                    <a:pt x="736" y="288"/>
                  </a:lnTo>
                  <a:lnTo>
                    <a:pt x="748" y="278"/>
                  </a:lnTo>
                  <a:lnTo>
                    <a:pt x="760" y="266"/>
                  </a:lnTo>
                  <a:lnTo>
                    <a:pt x="760" y="266"/>
                  </a:lnTo>
                  <a:lnTo>
                    <a:pt x="764" y="260"/>
                  </a:lnTo>
                  <a:lnTo>
                    <a:pt x="766" y="252"/>
                  </a:lnTo>
                  <a:lnTo>
                    <a:pt x="768" y="244"/>
                  </a:lnTo>
                  <a:lnTo>
                    <a:pt x="768" y="236"/>
                  </a:lnTo>
                  <a:lnTo>
                    <a:pt x="768" y="236"/>
                  </a:lnTo>
                  <a:lnTo>
                    <a:pt x="766" y="230"/>
                  </a:lnTo>
                  <a:lnTo>
                    <a:pt x="762" y="222"/>
                  </a:lnTo>
                  <a:lnTo>
                    <a:pt x="758" y="216"/>
                  </a:lnTo>
                  <a:lnTo>
                    <a:pt x="752" y="210"/>
                  </a:lnTo>
                  <a:lnTo>
                    <a:pt x="752" y="210"/>
                  </a:lnTo>
                  <a:close/>
                  <a:moveTo>
                    <a:pt x="456" y="272"/>
                  </a:moveTo>
                  <a:lnTo>
                    <a:pt x="540" y="272"/>
                  </a:lnTo>
                  <a:lnTo>
                    <a:pt x="540" y="328"/>
                  </a:lnTo>
                  <a:lnTo>
                    <a:pt x="468" y="278"/>
                  </a:lnTo>
                  <a:lnTo>
                    <a:pt x="468" y="278"/>
                  </a:lnTo>
                  <a:lnTo>
                    <a:pt x="462" y="274"/>
                  </a:lnTo>
                  <a:lnTo>
                    <a:pt x="456" y="272"/>
                  </a:lnTo>
                  <a:lnTo>
                    <a:pt x="456" y="272"/>
                  </a:lnTo>
                  <a:close/>
                  <a:moveTo>
                    <a:pt x="374" y="416"/>
                  </a:moveTo>
                  <a:lnTo>
                    <a:pt x="374" y="532"/>
                  </a:lnTo>
                  <a:lnTo>
                    <a:pt x="358" y="532"/>
                  </a:lnTo>
                  <a:lnTo>
                    <a:pt x="358" y="416"/>
                  </a:lnTo>
                  <a:lnTo>
                    <a:pt x="374" y="416"/>
                  </a:lnTo>
                  <a:close/>
                  <a:moveTo>
                    <a:pt x="194" y="284"/>
                  </a:moveTo>
                  <a:lnTo>
                    <a:pt x="194" y="272"/>
                  </a:lnTo>
                  <a:lnTo>
                    <a:pt x="436" y="272"/>
                  </a:lnTo>
                  <a:lnTo>
                    <a:pt x="436" y="272"/>
                  </a:lnTo>
                  <a:lnTo>
                    <a:pt x="424" y="278"/>
                  </a:lnTo>
                  <a:lnTo>
                    <a:pt x="414" y="286"/>
                  </a:lnTo>
                  <a:lnTo>
                    <a:pt x="386" y="324"/>
                  </a:lnTo>
                  <a:lnTo>
                    <a:pt x="328" y="324"/>
                  </a:lnTo>
                  <a:lnTo>
                    <a:pt x="228" y="284"/>
                  </a:lnTo>
                  <a:lnTo>
                    <a:pt x="228" y="284"/>
                  </a:lnTo>
                  <a:lnTo>
                    <a:pt x="220" y="282"/>
                  </a:lnTo>
                  <a:lnTo>
                    <a:pt x="210" y="280"/>
                  </a:lnTo>
                  <a:lnTo>
                    <a:pt x="202" y="282"/>
                  </a:lnTo>
                  <a:lnTo>
                    <a:pt x="194" y="284"/>
                  </a:lnTo>
                  <a:lnTo>
                    <a:pt x="194" y="2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05"/>
            <p:cNvSpPr/>
            <p:nvPr/>
          </p:nvSpPr>
          <p:spPr>
            <a:xfrm>
              <a:off x="8921520" y="12998520"/>
              <a:ext cx="819360" cy="124128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516" h="782">
                  <a:moveTo>
                    <a:pt x="426" y="168"/>
                  </a:moveTo>
                  <a:lnTo>
                    <a:pt x="426" y="168"/>
                  </a:lnTo>
                  <a:lnTo>
                    <a:pt x="402" y="160"/>
                  </a:lnTo>
                  <a:lnTo>
                    <a:pt x="402" y="160"/>
                  </a:lnTo>
                  <a:lnTo>
                    <a:pt x="390" y="158"/>
                  </a:lnTo>
                  <a:lnTo>
                    <a:pt x="380" y="160"/>
                  </a:lnTo>
                  <a:lnTo>
                    <a:pt x="370" y="162"/>
                  </a:lnTo>
                  <a:lnTo>
                    <a:pt x="362" y="168"/>
                  </a:lnTo>
                  <a:lnTo>
                    <a:pt x="362" y="156"/>
                  </a:lnTo>
                  <a:lnTo>
                    <a:pt x="362" y="156"/>
                  </a:lnTo>
                  <a:lnTo>
                    <a:pt x="364" y="144"/>
                  </a:lnTo>
                  <a:lnTo>
                    <a:pt x="364" y="144"/>
                  </a:lnTo>
                  <a:lnTo>
                    <a:pt x="368" y="126"/>
                  </a:lnTo>
                  <a:lnTo>
                    <a:pt x="370" y="104"/>
                  </a:lnTo>
                  <a:lnTo>
                    <a:pt x="370" y="104"/>
                  </a:lnTo>
                  <a:lnTo>
                    <a:pt x="368" y="90"/>
                  </a:lnTo>
                  <a:lnTo>
                    <a:pt x="366" y="78"/>
                  </a:lnTo>
                  <a:lnTo>
                    <a:pt x="360" y="68"/>
                  </a:lnTo>
                  <a:lnTo>
                    <a:pt x="354" y="58"/>
                  </a:lnTo>
                  <a:lnTo>
                    <a:pt x="346" y="48"/>
                  </a:lnTo>
                  <a:lnTo>
                    <a:pt x="338" y="40"/>
                  </a:lnTo>
                  <a:lnTo>
                    <a:pt x="326" y="32"/>
                  </a:lnTo>
                  <a:lnTo>
                    <a:pt x="316" y="26"/>
                  </a:lnTo>
                  <a:lnTo>
                    <a:pt x="292" y="14"/>
                  </a:lnTo>
                  <a:lnTo>
                    <a:pt x="266" y="6"/>
                  </a:lnTo>
                  <a:lnTo>
                    <a:pt x="238" y="2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00" y="2"/>
                  </a:lnTo>
                  <a:lnTo>
                    <a:pt x="186" y="4"/>
                  </a:lnTo>
                  <a:lnTo>
                    <a:pt x="172" y="10"/>
                  </a:lnTo>
                  <a:lnTo>
                    <a:pt x="158" y="16"/>
                  </a:lnTo>
                  <a:lnTo>
                    <a:pt x="144" y="26"/>
                  </a:lnTo>
                  <a:lnTo>
                    <a:pt x="132" y="36"/>
                  </a:lnTo>
                  <a:lnTo>
                    <a:pt x="124" y="48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14" y="70"/>
                  </a:lnTo>
                  <a:lnTo>
                    <a:pt x="114" y="78"/>
                  </a:lnTo>
                  <a:lnTo>
                    <a:pt x="114" y="86"/>
                  </a:lnTo>
                  <a:lnTo>
                    <a:pt x="118" y="94"/>
                  </a:lnTo>
                  <a:lnTo>
                    <a:pt x="120" y="98"/>
                  </a:lnTo>
                  <a:lnTo>
                    <a:pt x="120" y="98"/>
                  </a:lnTo>
                  <a:lnTo>
                    <a:pt x="126" y="108"/>
                  </a:lnTo>
                  <a:lnTo>
                    <a:pt x="136" y="114"/>
                  </a:lnTo>
                  <a:lnTo>
                    <a:pt x="148" y="118"/>
                  </a:lnTo>
                  <a:lnTo>
                    <a:pt x="160" y="118"/>
                  </a:lnTo>
                  <a:lnTo>
                    <a:pt x="160" y="118"/>
                  </a:lnTo>
                  <a:lnTo>
                    <a:pt x="172" y="120"/>
                  </a:lnTo>
                  <a:lnTo>
                    <a:pt x="182" y="124"/>
                  </a:lnTo>
                  <a:lnTo>
                    <a:pt x="182" y="124"/>
                  </a:lnTo>
                  <a:lnTo>
                    <a:pt x="186" y="140"/>
                  </a:lnTo>
                  <a:lnTo>
                    <a:pt x="190" y="164"/>
                  </a:lnTo>
                  <a:lnTo>
                    <a:pt x="192" y="228"/>
                  </a:lnTo>
                  <a:lnTo>
                    <a:pt x="192" y="228"/>
                  </a:lnTo>
                  <a:lnTo>
                    <a:pt x="164" y="230"/>
                  </a:lnTo>
                  <a:lnTo>
                    <a:pt x="142" y="230"/>
                  </a:lnTo>
                  <a:lnTo>
                    <a:pt x="142" y="230"/>
                  </a:lnTo>
                  <a:lnTo>
                    <a:pt x="122" y="230"/>
                  </a:lnTo>
                  <a:lnTo>
                    <a:pt x="102" y="228"/>
                  </a:lnTo>
                  <a:lnTo>
                    <a:pt x="86" y="222"/>
                  </a:lnTo>
                  <a:lnTo>
                    <a:pt x="78" y="218"/>
                  </a:lnTo>
                  <a:lnTo>
                    <a:pt x="70" y="214"/>
                  </a:lnTo>
                  <a:lnTo>
                    <a:pt x="70" y="214"/>
                  </a:lnTo>
                  <a:lnTo>
                    <a:pt x="64" y="210"/>
                  </a:lnTo>
                  <a:lnTo>
                    <a:pt x="58" y="206"/>
                  </a:lnTo>
                  <a:lnTo>
                    <a:pt x="50" y="204"/>
                  </a:lnTo>
                  <a:lnTo>
                    <a:pt x="42" y="204"/>
                  </a:lnTo>
                  <a:lnTo>
                    <a:pt x="42" y="204"/>
                  </a:lnTo>
                  <a:lnTo>
                    <a:pt x="34" y="206"/>
                  </a:lnTo>
                  <a:lnTo>
                    <a:pt x="26" y="208"/>
                  </a:lnTo>
                  <a:lnTo>
                    <a:pt x="20" y="212"/>
                  </a:lnTo>
                  <a:lnTo>
                    <a:pt x="14" y="218"/>
                  </a:lnTo>
                  <a:lnTo>
                    <a:pt x="10" y="224"/>
                  </a:lnTo>
                  <a:lnTo>
                    <a:pt x="10" y="224"/>
                  </a:lnTo>
                  <a:lnTo>
                    <a:pt x="4" y="232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2" y="264"/>
                  </a:lnTo>
                  <a:lnTo>
                    <a:pt x="2" y="264"/>
                  </a:lnTo>
                  <a:lnTo>
                    <a:pt x="14" y="292"/>
                  </a:lnTo>
                  <a:lnTo>
                    <a:pt x="28" y="316"/>
                  </a:lnTo>
                  <a:lnTo>
                    <a:pt x="46" y="336"/>
                  </a:lnTo>
                  <a:lnTo>
                    <a:pt x="64" y="352"/>
                  </a:lnTo>
                  <a:lnTo>
                    <a:pt x="86" y="366"/>
                  </a:lnTo>
                  <a:lnTo>
                    <a:pt x="108" y="376"/>
                  </a:lnTo>
                  <a:lnTo>
                    <a:pt x="134" y="382"/>
                  </a:lnTo>
                  <a:lnTo>
                    <a:pt x="160" y="384"/>
                  </a:lnTo>
                  <a:lnTo>
                    <a:pt x="160" y="384"/>
                  </a:lnTo>
                  <a:lnTo>
                    <a:pt x="194" y="382"/>
                  </a:lnTo>
                  <a:lnTo>
                    <a:pt x="194" y="382"/>
                  </a:lnTo>
                  <a:lnTo>
                    <a:pt x="194" y="386"/>
                  </a:lnTo>
                  <a:lnTo>
                    <a:pt x="194" y="386"/>
                  </a:lnTo>
                  <a:lnTo>
                    <a:pt x="196" y="426"/>
                  </a:lnTo>
                  <a:lnTo>
                    <a:pt x="196" y="426"/>
                  </a:lnTo>
                  <a:lnTo>
                    <a:pt x="194" y="474"/>
                  </a:lnTo>
                  <a:lnTo>
                    <a:pt x="190" y="496"/>
                  </a:lnTo>
                  <a:lnTo>
                    <a:pt x="188" y="516"/>
                  </a:lnTo>
                  <a:lnTo>
                    <a:pt x="182" y="536"/>
                  </a:lnTo>
                  <a:lnTo>
                    <a:pt x="176" y="554"/>
                  </a:lnTo>
                  <a:lnTo>
                    <a:pt x="170" y="572"/>
                  </a:lnTo>
                  <a:lnTo>
                    <a:pt x="162" y="588"/>
                  </a:lnTo>
                  <a:lnTo>
                    <a:pt x="152" y="604"/>
                  </a:lnTo>
                  <a:lnTo>
                    <a:pt x="140" y="618"/>
                  </a:lnTo>
                  <a:lnTo>
                    <a:pt x="128" y="634"/>
                  </a:lnTo>
                  <a:lnTo>
                    <a:pt x="114" y="646"/>
                  </a:lnTo>
                  <a:lnTo>
                    <a:pt x="98" y="660"/>
                  </a:lnTo>
                  <a:lnTo>
                    <a:pt x="80" y="674"/>
                  </a:lnTo>
                  <a:lnTo>
                    <a:pt x="40" y="698"/>
                  </a:lnTo>
                  <a:lnTo>
                    <a:pt x="40" y="698"/>
                  </a:lnTo>
                  <a:lnTo>
                    <a:pt x="34" y="704"/>
                  </a:lnTo>
                  <a:lnTo>
                    <a:pt x="28" y="708"/>
                  </a:lnTo>
                  <a:lnTo>
                    <a:pt x="24" y="716"/>
                  </a:lnTo>
                  <a:lnTo>
                    <a:pt x="22" y="722"/>
                  </a:lnTo>
                  <a:lnTo>
                    <a:pt x="22" y="722"/>
                  </a:lnTo>
                  <a:lnTo>
                    <a:pt x="20" y="730"/>
                  </a:lnTo>
                  <a:lnTo>
                    <a:pt x="20" y="738"/>
                  </a:lnTo>
                  <a:lnTo>
                    <a:pt x="22" y="746"/>
                  </a:lnTo>
                  <a:lnTo>
                    <a:pt x="26" y="754"/>
                  </a:lnTo>
                  <a:lnTo>
                    <a:pt x="32" y="762"/>
                  </a:lnTo>
                  <a:lnTo>
                    <a:pt x="32" y="762"/>
                  </a:lnTo>
                  <a:lnTo>
                    <a:pt x="38" y="772"/>
                  </a:lnTo>
                  <a:lnTo>
                    <a:pt x="46" y="778"/>
                  </a:lnTo>
                  <a:lnTo>
                    <a:pt x="56" y="782"/>
                  </a:lnTo>
                  <a:lnTo>
                    <a:pt x="66" y="782"/>
                  </a:lnTo>
                  <a:lnTo>
                    <a:pt x="66" y="782"/>
                  </a:lnTo>
                  <a:lnTo>
                    <a:pt x="74" y="782"/>
                  </a:lnTo>
                  <a:lnTo>
                    <a:pt x="74" y="782"/>
                  </a:lnTo>
                  <a:lnTo>
                    <a:pt x="120" y="770"/>
                  </a:lnTo>
                  <a:lnTo>
                    <a:pt x="160" y="756"/>
                  </a:lnTo>
                  <a:lnTo>
                    <a:pt x="196" y="742"/>
                  </a:lnTo>
                  <a:lnTo>
                    <a:pt x="228" y="728"/>
                  </a:lnTo>
                  <a:lnTo>
                    <a:pt x="256" y="710"/>
                  </a:lnTo>
                  <a:lnTo>
                    <a:pt x="280" y="692"/>
                  </a:lnTo>
                  <a:lnTo>
                    <a:pt x="300" y="674"/>
                  </a:lnTo>
                  <a:lnTo>
                    <a:pt x="318" y="654"/>
                  </a:lnTo>
                  <a:lnTo>
                    <a:pt x="334" y="632"/>
                  </a:lnTo>
                  <a:lnTo>
                    <a:pt x="346" y="608"/>
                  </a:lnTo>
                  <a:lnTo>
                    <a:pt x="356" y="584"/>
                  </a:lnTo>
                  <a:lnTo>
                    <a:pt x="362" y="558"/>
                  </a:lnTo>
                  <a:lnTo>
                    <a:pt x="368" y="530"/>
                  </a:lnTo>
                  <a:lnTo>
                    <a:pt x="372" y="502"/>
                  </a:lnTo>
                  <a:lnTo>
                    <a:pt x="374" y="472"/>
                  </a:lnTo>
                  <a:lnTo>
                    <a:pt x="374" y="442"/>
                  </a:lnTo>
                  <a:lnTo>
                    <a:pt x="374" y="442"/>
                  </a:lnTo>
                  <a:lnTo>
                    <a:pt x="372" y="364"/>
                  </a:lnTo>
                  <a:lnTo>
                    <a:pt x="372" y="364"/>
                  </a:lnTo>
                  <a:lnTo>
                    <a:pt x="370" y="358"/>
                  </a:lnTo>
                  <a:lnTo>
                    <a:pt x="370" y="358"/>
                  </a:lnTo>
                  <a:lnTo>
                    <a:pt x="406" y="350"/>
                  </a:lnTo>
                  <a:lnTo>
                    <a:pt x="436" y="342"/>
                  </a:lnTo>
                  <a:lnTo>
                    <a:pt x="436" y="342"/>
                  </a:lnTo>
                  <a:lnTo>
                    <a:pt x="458" y="332"/>
                  </a:lnTo>
                  <a:lnTo>
                    <a:pt x="472" y="326"/>
                  </a:lnTo>
                  <a:lnTo>
                    <a:pt x="484" y="318"/>
                  </a:lnTo>
                  <a:lnTo>
                    <a:pt x="496" y="306"/>
                  </a:lnTo>
                  <a:lnTo>
                    <a:pt x="506" y="292"/>
                  </a:lnTo>
                  <a:lnTo>
                    <a:pt x="512" y="274"/>
                  </a:lnTo>
                  <a:lnTo>
                    <a:pt x="514" y="266"/>
                  </a:lnTo>
                  <a:lnTo>
                    <a:pt x="516" y="254"/>
                  </a:lnTo>
                  <a:lnTo>
                    <a:pt x="516" y="252"/>
                  </a:lnTo>
                  <a:lnTo>
                    <a:pt x="516" y="252"/>
                  </a:lnTo>
                  <a:lnTo>
                    <a:pt x="514" y="242"/>
                  </a:lnTo>
                  <a:lnTo>
                    <a:pt x="512" y="232"/>
                  </a:lnTo>
                  <a:lnTo>
                    <a:pt x="506" y="216"/>
                  </a:lnTo>
                  <a:lnTo>
                    <a:pt x="496" y="202"/>
                  </a:lnTo>
                  <a:lnTo>
                    <a:pt x="482" y="192"/>
                  </a:lnTo>
                  <a:lnTo>
                    <a:pt x="468" y="184"/>
                  </a:lnTo>
                  <a:lnTo>
                    <a:pt x="454" y="178"/>
                  </a:lnTo>
                  <a:lnTo>
                    <a:pt x="426" y="168"/>
                  </a:lnTo>
                  <a:lnTo>
                    <a:pt x="426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06"/>
            <p:cNvSpPr/>
            <p:nvPr/>
          </p:nvSpPr>
          <p:spPr>
            <a:xfrm>
              <a:off x="8537400" y="13049280"/>
              <a:ext cx="415800" cy="10760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262" h="678">
                  <a:moveTo>
                    <a:pt x="246" y="318"/>
                  </a:moveTo>
                  <a:lnTo>
                    <a:pt x="238" y="310"/>
                  </a:lnTo>
                  <a:lnTo>
                    <a:pt x="238" y="310"/>
                  </a:lnTo>
                  <a:lnTo>
                    <a:pt x="230" y="306"/>
                  </a:lnTo>
                  <a:lnTo>
                    <a:pt x="220" y="304"/>
                  </a:lnTo>
                  <a:lnTo>
                    <a:pt x="212" y="304"/>
                  </a:lnTo>
                  <a:lnTo>
                    <a:pt x="204" y="304"/>
                  </a:lnTo>
                  <a:lnTo>
                    <a:pt x="204" y="304"/>
                  </a:lnTo>
                  <a:lnTo>
                    <a:pt x="196" y="308"/>
                  </a:lnTo>
                  <a:lnTo>
                    <a:pt x="188" y="312"/>
                  </a:lnTo>
                  <a:lnTo>
                    <a:pt x="182" y="320"/>
                  </a:lnTo>
                  <a:lnTo>
                    <a:pt x="178" y="326"/>
                  </a:lnTo>
                  <a:lnTo>
                    <a:pt x="172" y="338"/>
                  </a:lnTo>
                  <a:lnTo>
                    <a:pt x="172" y="338"/>
                  </a:lnTo>
                  <a:lnTo>
                    <a:pt x="160" y="364"/>
                  </a:lnTo>
                  <a:lnTo>
                    <a:pt x="160" y="364"/>
                  </a:lnTo>
                  <a:lnTo>
                    <a:pt x="166" y="330"/>
                  </a:lnTo>
                  <a:lnTo>
                    <a:pt x="176" y="296"/>
                  </a:lnTo>
                  <a:lnTo>
                    <a:pt x="190" y="264"/>
                  </a:lnTo>
                  <a:lnTo>
                    <a:pt x="206" y="238"/>
                  </a:lnTo>
                  <a:lnTo>
                    <a:pt x="206" y="238"/>
                  </a:lnTo>
                  <a:lnTo>
                    <a:pt x="216" y="218"/>
                  </a:lnTo>
                  <a:lnTo>
                    <a:pt x="224" y="198"/>
                  </a:lnTo>
                  <a:lnTo>
                    <a:pt x="228" y="178"/>
                  </a:lnTo>
                  <a:lnTo>
                    <a:pt x="230" y="156"/>
                  </a:lnTo>
                  <a:lnTo>
                    <a:pt x="230" y="156"/>
                  </a:lnTo>
                  <a:lnTo>
                    <a:pt x="230" y="142"/>
                  </a:lnTo>
                  <a:lnTo>
                    <a:pt x="228" y="126"/>
                  </a:lnTo>
                  <a:lnTo>
                    <a:pt x="224" y="110"/>
                  </a:lnTo>
                  <a:lnTo>
                    <a:pt x="218" y="96"/>
                  </a:lnTo>
                  <a:lnTo>
                    <a:pt x="212" y="82"/>
                  </a:lnTo>
                  <a:lnTo>
                    <a:pt x="206" y="70"/>
                  </a:lnTo>
                  <a:lnTo>
                    <a:pt x="196" y="58"/>
                  </a:lnTo>
                  <a:lnTo>
                    <a:pt x="188" y="46"/>
                  </a:lnTo>
                  <a:lnTo>
                    <a:pt x="178" y="36"/>
                  </a:lnTo>
                  <a:lnTo>
                    <a:pt x="166" y="26"/>
                  </a:lnTo>
                  <a:lnTo>
                    <a:pt x="154" y="18"/>
                  </a:lnTo>
                  <a:lnTo>
                    <a:pt x="142" y="12"/>
                  </a:lnTo>
                  <a:lnTo>
                    <a:pt x="130" y="6"/>
                  </a:lnTo>
                  <a:lnTo>
                    <a:pt x="116" y="2"/>
                  </a:lnTo>
                  <a:lnTo>
                    <a:pt x="102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66" y="2"/>
                  </a:lnTo>
                  <a:lnTo>
                    <a:pt x="52" y="4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26" y="20"/>
                  </a:lnTo>
                  <a:lnTo>
                    <a:pt x="20" y="30"/>
                  </a:lnTo>
                  <a:lnTo>
                    <a:pt x="16" y="40"/>
                  </a:lnTo>
                  <a:lnTo>
                    <a:pt x="16" y="52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0" y="68"/>
                  </a:lnTo>
                  <a:lnTo>
                    <a:pt x="26" y="78"/>
                  </a:lnTo>
                  <a:lnTo>
                    <a:pt x="34" y="84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46" y="100"/>
                  </a:lnTo>
                  <a:lnTo>
                    <a:pt x="48" y="116"/>
                  </a:lnTo>
                  <a:lnTo>
                    <a:pt x="48" y="116"/>
                  </a:lnTo>
                  <a:lnTo>
                    <a:pt x="48" y="142"/>
                  </a:lnTo>
                  <a:lnTo>
                    <a:pt x="42" y="168"/>
                  </a:lnTo>
                  <a:lnTo>
                    <a:pt x="30" y="228"/>
                  </a:lnTo>
                  <a:lnTo>
                    <a:pt x="30" y="228"/>
                  </a:lnTo>
                  <a:lnTo>
                    <a:pt x="18" y="272"/>
                  </a:lnTo>
                  <a:lnTo>
                    <a:pt x="10" y="318"/>
                  </a:lnTo>
                  <a:lnTo>
                    <a:pt x="2" y="368"/>
                  </a:lnTo>
                  <a:lnTo>
                    <a:pt x="0" y="396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2" y="458"/>
                  </a:lnTo>
                  <a:lnTo>
                    <a:pt x="4" y="490"/>
                  </a:lnTo>
                  <a:lnTo>
                    <a:pt x="10" y="520"/>
                  </a:lnTo>
                  <a:lnTo>
                    <a:pt x="18" y="550"/>
                  </a:lnTo>
                  <a:lnTo>
                    <a:pt x="30" y="576"/>
                  </a:lnTo>
                  <a:lnTo>
                    <a:pt x="42" y="602"/>
                  </a:lnTo>
                  <a:lnTo>
                    <a:pt x="56" y="624"/>
                  </a:lnTo>
                  <a:lnTo>
                    <a:pt x="72" y="642"/>
                  </a:lnTo>
                  <a:lnTo>
                    <a:pt x="72" y="642"/>
                  </a:lnTo>
                  <a:lnTo>
                    <a:pt x="90" y="658"/>
                  </a:lnTo>
                  <a:lnTo>
                    <a:pt x="110" y="670"/>
                  </a:lnTo>
                  <a:lnTo>
                    <a:pt x="130" y="676"/>
                  </a:lnTo>
                  <a:lnTo>
                    <a:pt x="152" y="678"/>
                  </a:lnTo>
                  <a:lnTo>
                    <a:pt x="152" y="678"/>
                  </a:lnTo>
                  <a:lnTo>
                    <a:pt x="172" y="678"/>
                  </a:lnTo>
                  <a:lnTo>
                    <a:pt x="190" y="672"/>
                  </a:lnTo>
                  <a:lnTo>
                    <a:pt x="206" y="664"/>
                  </a:lnTo>
                  <a:lnTo>
                    <a:pt x="218" y="654"/>
                  </a:lnTo>
                  <a:lnTo>
                    <a:pt x="228" y="642"/>
                  </a:lnTo>
                  <a:lnTo>
                    <a:pt x="236" y="626"/>
                  </a:lnTo>
                  <a:lnTo>
                    <a:pt x="242" y="608"/>
                  </a:lnTo>
                  <a:lnTo>
                    <a:pt x="244" y="588"/>
                  </a:lnTo>
                  <a:lnTo>
                    <a:pt x="244" y="588"/>
                  </a:lnTo>
                  <a:lnTo>
                    <a:pt x="240" y="570"/>
                  </a:lnTo>
                  <a:lnTo>
                    <a:pt x="236" y="552"/>
                  </a:lnTo>
                  <a:lnTo>
                    <a:pt x="236" y="552"/>
                  </a:lnTo>
                  <a:lnTo>
                    <a:pt x="232" y="538"/>
                  </a:lnTo>
                  <a:lnTo>
                    <a:pt x="230" y="524"/>
                  </a:lnTo>
                  <a:lnTo>
                    <a:pt x="230" y="524"/>
                  </a:lnTo>
                  <a:lnTo>
                    <a:pt x="232" y="504"/>
                  </a:lnTo>
                  <a:lnTo>
                    <a:pt x="238" y="474"/>
                  </a:lnTo>
                  <a:lnTo>
                    <a:pt x="252" y="400"/>
                  </a:lnTo>
                  <a:lnTo>
                    <a:pt x="252" y="400"/>
                  </a:lnTo>
                  <a:lnTo>
                    <a:pt x="262" y="358"/>
                  </a:lnTo>
                  <a:lnTo>
                    <a:pt x="262" y="358"/>
                  </a:lnTo>
                  <a:lnTo>
                    <a:pt x="262" y="346"/>
                  </a:lnTo>
                  <a:lnTo>
                    <a:pt x="260" y="336"/>
                  </a:lnTo>
                  <a:lnTo>
                    <a:pt x="254" y="326"/>
                  </a:lnTo>
                  <a:lnTo>
                    <a:pt x="246" y="318"/>
                  </a:lnTo>
                  <a:lnTo>
                    <a:pt x="246" y="3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07"/>
            <p:cNvSpPr/>
            <p:nvPr/>
          </p:nvSpPr>
          <p:spPr>
            <a:xfrm>
              <a:off x="8499240" y="7083360"/>
              <a:ext cx="1232280" cy="1225440"/>
            </a:xfrm>
            <a:custGeom>
              <a:avLst/>
              <a:gdLst>
                <a:gd name="textAreaLeft" fmla="*/ 0 w 1232280"/>
                <a:gd name="textAreaRight" fmla="*/ 1232640 w 123228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776" h="772">
                  <a:moveTo>
                    <a:pt x="664" y="12"/>
                  </a:moveTo>
                  <a:lnTo>
                    <a:pt x="776" y="96"/>
                  </a:lnTo>
                  <a:lnTo>
                    <a:pt x="776" y="96"/>
                  </a:lnTo>
                  <a:lnTo>
                    <a:pt x="770" y="100"/>
                  </a:lnTo>
                  <a:lnTo>
                    <a:pt x="764" y="104"/>
                  </a:lnTo>
                  <a:lnTo>
                    <a:pt x="754" y="110"/>
                  </a:lnTo>
                  <a:lnTo>
                    <a:pt x="742" y="112"/>
                  </a:lnTo>
                  <a:lnTo>
                    <a:pt x="742" y="726"/>
                  </a:lnTo>
                  <a:lnTo>
                    <a:pt x="742" y="726"/>
                  </a:lnTo>
                  <a:lnTo>
                    <a:pt x="736" y="732"/>
                  </a:lnTo>
                  <a:lnTo>
                    <a:pt x="730" y="738"/>
                  </a:lnTo>
                  <a:lnTo>
                    <a:pt x="718" y="744"/>
                  </a:lnTo>
                  <a:lnTo>
                    <a:pt x="702" y="750"/>
                  </a:lnTo>
                  <a:lnTo>
                    <a:pt x="682" y="756"/>
                  </a:lnTo>
                  <a:lnTo>
                    <a:pt x="658" y="758"/>
                  </a:lnTo>
                  <a:lnTo>
                    <a:pt x="628" y="760"/>
                  </a:lnTo>
                  <a:lnTo>
                    <a:pt x="628" y="706"/>
                  </a:lnTo>
                  <a:lnTo>
                    <a:pt x="372" y="706"/>
                  </a:lnTo>
                  <a:lnTo>
                    <a:pt x="372" y="728"/>
                  </a:lnTo>
                  <a:lnTo>
                    <a:pt x="372" y="728"/>
                  </a:lnTo>
                  <a:lnTo>
                    <a:pt x="372" y="730"/>
                  </a:lnTo>
                  <a:lnTo>
                    <a:pt x="370" y="736"/>
                  </a:lnTo>
                  <a:lnTo>
                    <a:pt x="364" y="744"/>
                  </a:lnTo>
                  <a:lnTo>
                    <a:pt x="354" y="752"/>
                  </a:lnTo>
                  <a:lnTo>
                    <a:pt x="342" y="760"/>
                  </a:lnTo>
                  <a:lnTo>
                    <a:pt x="322" y="766"/>
                  </a:lnTo>
                  <a:lnTo>
                    <a:pt x="298" y="770"/>
                  </a:lnTo>
                  <a:lnTo>
                    <a:pt x="268" y="772"/>
                  </a:lnTo>
                  <a:lnTo>
                    <a:pt x="268" y="62"/>
                  </a:lnTo>
                  <a:lnTo>
                    <a:pt x="262" y="62"/>
                  </a:lnTo>
                  <a:lnTo>
                    <a:pt x="262" y="62"/>
                  </a:lnTo>
                  <a:lnTo>
                    <a:pt x="248" y="102"/>
                  </a:lnTo>
                  <a:lnTo>
                    <a:pt x="230" y="142"/>
                  </a:lnTo>
                  <a:lnTo>
                    <a:pt x="214" y="178"/>
                  </a:lnTo>
                  <a:lnTo>
                    <a:pt x="196" y="214"/>
                  </a:lnTo>
                  <a:lnTo>
                    <a:pt x="228" y="226"/>
                  </a:lnTo>
                  <a:lnTo>
                    <a:pt x="228" y="226"/>
                  </a:lnTo>
                  <a:lnTo>
                    <a:pt x="226" y="232"/>
                  </a:lnTo>
                  <a:lnTo>
                    <a:pt x="222" y="236"/>
                  </a:lnTo>
                  <a:lnTo>
                    <a:pt x="214" y="240"/>
                  </a:lnTo>
                  <a:lnTo>
                    <a:pt x="204" y="242"/>
                  </a:lnTo>
                  <a:lnTo>
                    <a:pt x="204" y="740"/>
                  </a:lnTo>
                  <a:lnTo>
                    <a:pt x="204" y="740"/>
                  </a:lnTo>
                  <a:lnTo>
                    <a:pt x="200" y="742"/>
                  </a:lnTo>
                  <a:lnTo>
                    <a:pt x="194" y="748"/>
                  </a:lnTo>
                  <a:lnTo>
                    <a:pt x="174" y="758"/>
                  </a:lnTo>
                  <a:lnTo>
                    <a:pt x="160" y="764"/>
                  </a:lnTo>
                  <a:lnTo>
                    <a:pt x="144" y="768"/>
                  </a:lnTo>
                  <a:lnTo>
                    <a:pt x="128" y="770"/>
                  </a:lnTo>
                  <a:lnTo>
                    <a:pt x="110" y="772"/>
                  </a:lnTo>
                  <a:lnTo>
                    <a:pt x="90" y="772"/>
                  </a:lnTo>
                  <a:lnTo>
                    <a:pt x="90" y="372"/>
                  </a:lnTo>
                  <a:lnTo>
                    <a:pt x="90" y="372"/>
                  </a:lnTo>
                  <a:lnTo>
                    <a:pt x="50" y="416"/>
                  </a:lnTo>
                  <a:lnTo>
                    <a:pt x="30" y="436"/>
                  </a:lnTo>
                  <a:lnTo>
                    <a:pt x="10" y="454"/>
                  </a:lnTo>
                  <a:lnTo>
                    <a:pt x="0" y="448"/>
                  </a:lnTo>
                  <a:lnTo>
                    <a:pt x="0" y="448"/>
                  </a:lnTo>
                  <a:lnTo>
                    <a:pt x="20" y="406"/>
                  </a:lnTo>
                  <a:lnTo>
                    <a:pt x="42" y="358"/>
                  </a:lnTo>
                  <a:lnTo>
                    <a:pt x="62" y="306"/>
                  </a:lnTo>
                  <a:lnTo>
                    <a:pt x="80" y="248"/>
                  </a:lnTo>
                  <a:lnTo>
                    <a:pt x="98" y="188"/>
                  </a:lnTo>
                  <a:lnTo>
                    <a:pt x="114" y="126"/>
                  </a:lnTo>
                  <a:lnTo>
                    <a:pt x="130" y="64"/>
                  </a:lnTo>
                  <a:lnTo>
                    <a:pt x="142" y="0"/>
                  </a:lnTo>
                  <a:lnTo>
                    <a:pt x="268" y="36"/>
                  </a:lnTo>
                  <a:lnTo>
                    <a:pt x="268" y="26"/>
                  </a:lnTo>
                  <a:lnTo>
                    <a:pt x="380" y="72"/>
                  </a:lnTo>
                  <a:lnTo>
                    <a:pt x="620" y="72"/>
                  </a:lnTo>
                  <a:lnTo>
                    <a:pt x="664" y="12"/>
                  </a:lnTo>
                  <a:close/>
                  <a:moveTo>
                    <a:pt x="372" y="694"/>
                  </a:moveTo>
                  <a:lnTo>
                    <a:pt x="628" y="694"/>
                  </a:lnTo>
                  <a:lnTo>
                    <a:pt x="628" y="420"/>
                  </a:lnTo>
                  <a:lnTo>
                    <a:pt x="628" y="420"/>
                  </a:lnTo>
                  <a:lnTo>
                    <a:pt x="616" y="426"/>
                  </a:lnTo>
                  <a:lnTo>
                    <a:pt x="602" y="430"/>
                  </a:lnTo>
                  <a:lnTo>
                    <a:pt x="602" y="612"/>
                  </a:lnTo>
                  <a:lnTo>
                    <a:pt x="602" y="612"/>
                  </a:lnTo>
                  <a:lnTo>
                    <a:pt x="596" y="618"/>
                  </a:lnTo>
                  <a:lnTo>
                    <a:pt x="582" y="624"/>
                  </a:lnTo>
                  <a:lnTo>
                    <a:pt x="560" y="630"/>
                  </a:lnTo>
                  <a:lnTo>
                    <a:pt x="550" y="632"/>
                  </a:lnTo>
                  <a:lnTo>
                    <a:pt x="536" y="632"/>
                  </a:lnTo>
                  <a:lnTo>
                    <a:pt x="522" y="632"/>
                  </a:lnTo>
                  <a:lnTo>
                    <a:pt x="522" y="582"/>
                  </a:lnTo>
                  <a:lnTo>
                    <a:pt x="476" y="582"/>
                  </a:lnTo>
                  <a:lnTo>
                    <a:pt x="476" y="620"/>
                  </a:lnTo>
                  <a:lnTo>
                    <a:pt x="476" y="620"/>
                  </a:lnTo>
                  <a:lnTo>
                    <a:pt x="474" y="626"/>
                  </a:lnTo>
                  <a:lnTo>
                    <a:pt x="470" y="630"/>
                  </a:lnTo>
                  <a:lnTo>
                    <a:pt x="462" y="636"/>
                  </a:lnTo>
                  <a:lnTo>
                    <a:pt x="452" y="640"/>
                  </a:lnTo>
                  <a:lnTo>
                    <a:pt x="438" y="644"/>
                  </a:lnTo>
                  <a:lnTo>
                    <a:pt x="420" y="648"/>
                  </a:lnTo>
                  <a:lnTo>
                    <a:pt x="398" y="650"/>
                  </a:lnTo>
                  <a:lnTo>
                    <a:pt x="398" y="354"/>
                  </a:lnTo>
                  <a:lnTo>
                    <a:pt x="454" y="380"/>
                  </a:lnTo>
                  <a:lnTo>
                    <a:pt x="454" y="264"/>
                  </a:lnTo>
                  <a:lnTo>
                    <a:pt x="380" y="264"/>
                  </a:lnTo>
                  <a:lnTo>
                    <a:pt x="376" y="252"/>
                  </a:lnTo>
                  <a:lnTo>
                    <a:pt x="454" y="252"/>
                  </a:lnTo>
                  <a:lnTo>
                    <a:pt x="454" y="114"/>
                  </a:lnTo>
                  <a:lnTo>
                    <a:pt x="574" y="126"/>
                  </a:lnTo>
                  <a:lnTo>
                    <a:pt x="574" y="126"/>
                  </a:lnTo>
                  <a:lnTo>
                    <a:pt x="572" y="132"/>
                  </a:lnTo>
                  <a:lnTo>
                    <a:pt x="568" y="138"/>
                  </a:lnTo>
                  <a:lnTo>
                    <a:pt x="558" y="140"/>
                  </a:lnTo>
                  <a:lnTo>
                    <a:pt x="544" y="144"/>
                  </a:lnTo>
                  <a:lnTo>
                    <a:pt x="544" y="252"/>
                  </a:lnTo>
                  <a:lnTo>
                    <a:pt x="544" y="252"/>
                  </a:lnTo>
                  <a:lnTo>
                    <a:pt x="582" y="196"/>
                  </a:lnTo>
                  <a:lnTo>
                    <a:pt x="628" y="236"/>
                  </a:lnTo>
                  <a:lnTo>
                    <a:pt x="628" y="84"/>
                  </a:lnTo>
                  <a:lnTo>
                    <a:pt x="372" y="84"/>
                  </a:lnTo>
                  <a:lnTo>
                    <a:pt x="372" y="694"/>
                  </a:lnTo>
                  <a:close/>
                  <a:moveTo>
                    <a:pt x="476" y="402"/>
                  </a:moveTo>
                  <a:lnTo>
                    <a:pt x="476" y="570"/>
                  </a:lnTo>
                  <a:lnTo>
                    <a:pt x="522" y="570"/>
                  </a:lnTo>
                  <a:lnTo>
                    <a:pt x="522" y="402"/>
                  </a:lnTo>
                  <a:lnTo>
                    <a:pt x="476" y="402"/>
                  </a:lnTo>
                  <a:close/>
                  <a:moveTo>
                    <a:pt x="544" y="386"/>
                  </a:moveTo>
                  <a:lnTo>
                    <a:pt x="570" y="352"/>
                  </a:lnTo>
                  <a:lnTo>
                    <a:pt x="628" y="412"/>
                  </a:lnTo>
                  <a:lnTo>
                    <a:pt x="628" y="264"/>
                  </a:lnTo>
                  <a:lnTo>
                    <a:pt x="628" y="264"/>
                  </a:lnTo>
                  <a:lnTo>
                    <a:pt x="612" y="264"/>
                  </a:lnTo>
                  <a:lnTo>
                    <a:pt x="544" y="264"/>
                  </a:lnTo>
                  <a:lnTo>
                    <a:pt x="544" y="38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08"/>
            <p:cNvSpPr/>
            <p:nvPr/>
          </p:nvSpPr>
          <p:spPr>
            <a:xfrm>
              <a:off x="8492760" y="7076880"/>
              <a:ext cx="1248120" cy="1238040"/>
            </a:xfrm>
            <a:custGeom>
              <a:avLst/>
              <a:gdLst>
                <a:gd name="textAreaLeft" fmla="*/ 0 w 1248120"/>
                <a:gd name="textAreaRight" fmla="*/ 1248480 w 12481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786" h="780">
                  <a:moveTo>
                    <a:pt x="668" y="16"/>
                  </a:moveTo>
                  <a:lnTo>
                    <a:pt x="666" y="20"/>
                  </a:lnTo>
                  <a:lnTo>
                    <a:pt x="776" y="102"/>
                  </a:lnTo>
                  <a:lnTo>
                    <a:pt x="780" y="100"/>
                  </a:lnTo>
                  <a:lnTo>
                    <a:pt x="776" y="96"/>
                  </a:lnTo>
                  <a:lnTo>
                    <a:pt x="776" y="96"/>
                  </a:lnTo>
                  <a:lnTo>
                    <a:pt x="772" y="100"/>
                  </a:lnTo>
                  <a:lnTo>
                    <a:pt x="766" y="106"/>
                  </a:lnTo>
                  <a:lnTo>
                    <a:pt x="756" y="110"/>
                  </a:lnTo>
                  <a:lnTo>
                    <a:pt x="746" y="112"/>
                  </a:lnTo>
                  <a:lnTo>
                    <a:pt x="742" y="112"/>
                  </a:lnTo>
                  <a:lnTo>
                    <a:pt x="742" y="730"/>
                  </a:lnTo>
                  <a:lnTo>
                    <a:pt x="746" y="730"/>
                  </a:lnTo>
                  <a:lnTo>
                    <a:pt x="744" y="728"/>
                  </a:lnTo>
                  <a:lnTo>
                    <a:pt x="744" y="728"/>
                  </a:lnTo>
                  <a:lnTo>
                    <a:pt x="742" y="730"/>
                  </a:lnTo>
                  <a:lnTo>
                    <a:pt x="746" y="730"/>
                  </a:lnTo>
                  <a:lnTo>
                    <a:pt x="744" y="728"/>
                  </a:lnTo>
                  <a:lnTo>
                    <a:pt x="744" y="728"/>
                  </a:lnTo>
                  <a:lnTo>
                    <a:pt x="744" y="728"/>
                  </a:lnTo>
                  <a:lnTo>
                    <a:pt x="744" y="728"/>
                  </a:lnTo>
                  <a:lnTo>
                    <a:pt x="744" y="728"/>
                  </a:lnTo>
                  <a:lnTo>
                    <a:pt x="744" y="728"/>
                  </a:lnTo>
                  <a:lnTo>
                    <a:pt x="744" y="728"/>
                  </a:lnTo>
                  <a:lnTo>
                    <a:pt x="742" y="730"/>
                  </a:lnTo>
                  <a:lnTo>
                    <a:pt x="742" y="730"/>
                  </a:lnTo>
                  <a:lnTo>
                    <a:pt x="732" y="738"/>
                  </a:lnTo>
                  <a:lnTo>
                    <a:pt x="722" y="744"/>
                  </a:lnTo>
                  <a:lnTo>
                    <a:pt x="710" y="748"/>
                  </a:lnTo>
                  <a:lnTo>
                    <a:pt x="696" y="752"/>
                  </a:lnTo>
                  <a:lnTo>
                    <a:pt x="678" y="756"/>
                  </a:lnTo>
                  <a:lnTo>
                    <a:pt x="656" y="760"/>
                  </a:lnTo>
                  <a:lnTo>
                    <a:pt x="632" y="760"/>
                  </a:lnTo>
                  <a:lnTo>
                    <a:pt x="632" y="764"/>
                  </a:lnTo>
                  <a:lnTo>
                    <a:pt x="636" y="764"/>
                  </a:lnTo>
                  <a:lnTo>
                    <a:pt x="636" y="706"/>
                  </a:lnTo>
                  <a:lnTo>
                    <a:pt x="372" y="706"/>
                  </a:lnTo>
                  <a:lnTo>
                    <a:pt x="372" y="732"/>
                  </a:lnTo>
                  <a:lnTo>
                    <a:pt x="374" y="732"/>
                  </a:lnTo>
                  <a:lnTo>
                    <a:pt x="372" y="732"/>
                  </a:lnTo>
                  <a:lnTo>
                    <a:pt x="372" y="732"/>
                  </a:lnTo>
                  <a:lnTo>
                    <a:pt x="374" y="732"/>
                  </a:lnTo>
                  <a:lnTo>
                    <a:pt x="372" y="732"/>
                  </a:lnTo>
                  <a:lnTo>
                    <a:pt x="372" y="732"/>
                  </a:lnTo>
                  <a:lnTo>
                    <a:pt x="372" y="734"/>
                  </a:lnTo>
                  <a:lnTo>
                    <a:pt x="372" y="734"/>
                  </a:lnTo>
                  <a:lnTo>
                    <a:pt x="366" y="744"/>
                  </a:lnTo>
                  <a:lnTo>
                    <a:pt x="360" y="750"/>
                  </a:lnTo>
                  <a:lnTo>
                    <a:pt x="350" y="756"/>
                  </a:lnTo>
                  <a:lnTo>
                    <a:pt x="350" y="756"/>
                  </a:lnTo>
                  <a:lnTo>
                    <a:pt x="336" y="762"/>
                  </a:lnTo>
                  <a:lnTo>
                    <a:pt x="320" y="768"/>
                  </a:lnTo>
                  <a:lnTo>
                    <a:pt x="298" y="772"/>
                  </a:lnTo>
                  <a:lnTo>
                    <a:pt x="272" y="772"/>
                  </a:lnTo>
                  <a:lnTo>
                    <a:pt x="272" y="776"/>
                  </a:lnTo>
                  <a:lnTo>
                    <a:pt x="276" y="776"/>
                  </a:lnTo>
                  <a:lnTo>
                    <a:pt x="276" y="62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6"/>
                  </a:lnTo>
                  <a:lnTo>
                    <a:pt x="262" y="66"/>
                  </a:lnTo>
                  <a:lnTo>
                    <a:pt x="248" y="106"/>
                  </a:lnTo>
                  <a:lnTo>
                    <a:pt x="232" y="144"/>
                  </a:lnTo>
                  <a:lnTo>
                    <a:pt x="214" y="180"/>
                  </a:lnTo>
                  <a:lnTo>
                    <a:pt x="196" y="216"/>
                  </a:lnTo>
                  <a:lnTo>
                    <a:pt x="194" y="220"/>
                  </a:lnTo>
                  <a:lnTo>
                    <a:pt x="232" y="234"/>
                  </a:lnTo>
                  <a:lnTo>
                    <a:pt x="232" y="230"/>
                  </a:lnTo>
                  <a:lnTo>
                    <a:pt x="228" y="228"/>
                  </a:lnTo>
                  <a:lnTo>
                    <a:pt x="228" y="228"/>
                  </a:lnTo>
                  <a:lnTo>
                    <a:pt x="226" y="232"/>
                  </a:lnTo>
                  <a:lnTo>
                    <a:pt x="222" y="236"/>
                  </a:lnTo>
                  <a:lnTo>
                    <a:pt x="222" y="236"/>
                  </a:lnTo>
                  <a:lnTo>
                    <a:pt x="216" y="240"/>
                  </a:lnTo>
                  <a:lnTo>
                    <a:pt x="206" y="242"/>
                  </a:lnTo>
                  <a:lnTo>
                    <a:pt x="204" y="242"/>
                  </a:lnTo>
                  <a:lnTo>
                    <a:pt x="204" y="744"/>
                  </a:lnTo>
                  <a:lnTo>
                    <a:pt x="208" y="744"/>
                  </a:lnTo>
                  <a:lnTo>
                    <a:pt x="204" y="742"/>
                  </a:lnTo>
                  <a:lnTo>
                    <a:pt x="204" y="742"/>
                  </a:lnTo>
                  <a:lnTo>
                    <a:pt x="204" y="742"/>
                  </a:lnTo>
                  <a:lnTo>
                    <a:pt x="204" y="742"/>
                  </a:lnTo>
                  <a:lnTo>
                    <a:pt x="204" y="742"/>
                  </a:lnTo>
                  <a:lnTo>
                    <a:pt x="204" y="742"/>
                  </a:lnTo>
                  <a:lnTo>
                    <a:pt x="204" y="742"/>
                  </a:lnTo>
                  <a:lnTo>
                    <a:pt x="204" y="742"/>
                  </a:lnTo>
                  <a:lnTo>
                    <a:pt x="202" y="744"/>
                  </a:lnTo>
                  <a:lnTo>
                    <a:pt x="202" y="744"/>
                  </a:lnTo>
                  <a:lnTo>
                    <a:pt x="188" y="754"/>
                  </a:lnTo>
                  <a:lnTo>
                    <a:pt x="168" y="762"/>
                  </a:lnTo>
                  <a:lnTo>
                    <a:pt x="168" y="762"/>
                  </a:lnTo>
                  <a:lnTo>
                    <a:pt x="142" y="768"/>
                  </a:lnTo>
                  <a:lnTo>
                    <a:pt x="128" y="770"/>
                  </a:lnTo>
                  <a:lnTo>
                    <a:pt x="114" y="772"/>
                  </a:lnTo>
                  <a:lnTo>
                    <a:pt x="98" y="772"/>
                  </a:lnTo>
                  <a:lnTo>
                    <a:pt x="98" y="366"/>
                  </a:lnTo>
                  <a:lnTo>
                    <a:pt x="90" y="374"/>
                  </a:lnTo>
                  <a:lnTo>
                    <a:pt x="90" y="374"/>
                  </a:lnTo>
                  <a:lnTo>
                    <a:pt x="52" y="416"/>
                  </a:lnTo>
                  <a:lnTo>
                    <a:pt x="32" y="436"/>
                  </a:lnTo>
                  <a:lnTo>
                    <a:pt x="10" y="456"/>
                  </a:lnTo>
                  <a:lnTo>
                    <a:pt x="14" y="458"/>
                  </a:lnTo>
                  <a:lnTo>
                    <a:pt x="16" y="456"/>
                  </a:lnTo>
                  <a:lnTo>
                    <a:pt x="6" y="450"/>
                  </a:lnTo>
                  <a:lnTo>
                    <a:pt x="4" y="452"/>
                  </a:lnTo>
                  <a:lnTo>
                    <a:pt x="8" y="454"/>
                  </a:lnTo>
                  <a:lnTo>
                    <a:pt x="8" y="454"/>
                  </a:lnTo>
                  <a:lnTo>
                    <a:pt x="28" y="412"/>
                  </a:lnTo>
                  <a:lnTo>
                    <a:pt x="48" y="364"/>
                  </a:lnTo>
                  <a:lnTo>
                    <a:pt x="68" y="310"/>
                  </a:lnTo>
                  <a:lnTo>
                    <a:pt x="88" y="254"/>
                  </a:lnTo>
                  <a:lnTo>
                    <a:pt x="106" y="192"/>
                  </a:lnTo>
                  <a:lnTo>
                    <a:pt x="122" y="130"/>
                  </a:lnTo>
                  <a:lnTo>
                    <a:pt x="138" y="68"/>
                  </a:lnTo>
                  <a:lnTo>
                    <a:pt x="150" y="6"/>
                  </a:lnTo>
                  <a:lnTo>
                    <a:pt x="146" y="4"/>
                  </a:lnTo>
                  <a:lnTo>
                    <a:pt x="144" y="8"/>
                  </a:lnTo>
                  <a:lnTo>
                    <a:pt x="276" y="46"/>
                  </a:lnTo>
                  <a:lnTo>
                    <a:pt x="276" y="36"/>
                  </a:lnTo>
                  <a:lnTo>
                    <a:pt x="382" y="80"/>
                  </a:lnTo>
                  <a:lnTo>
                    <a:pt x="626" y="80"/>
                  </a:lnTo>
                  <a:lnTo>
                    <a:pt x="672" y="18"/>
                  </a:lnTo>
                  <a:lnTo>
                    <a:pt x="668" y="16"/>
                  </a:lnTo>
                  <a:lnTo>
                    <a:pt x="666" y="20"/>
                  </a:lnTo>
                  <a:lnTo>
                    <a:pt x="668" y="16"/>
                  </a:lnTo>
                  <a:lnTo>
                    <a:pt x="664" y="14"/>
                  </a:lnTo>
                  <a:lnTo>
                    <a:pt x="622" y="72"/>
                  </a:lnTo>
                  <a:lnTo>
                    <a:pt x="384" y="72"/>
                  </a:lnTo>
                  <a:lnTo>
                    <a:pt x="268" y="24"/>
                  </a:lnTo>
                  <a:lnTo>
                    <a:pt x="268" y="36"/>
                  </a:lnTo>
                  <a:lnTo>
                    <a:pt x="142" y="0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30" y="66"/>
                  </a:lnTo>
                  <a:lnTo>
                    <a:pt x="114" y="128"/>
                  </a:lnTo>
                  <a:lnTo>
                    <a:pt x="98" y="190"/>
                  </a:lnTo>
                  <a:lnTo>
                    <a:pt x="80" y="250"/>
                  </a:lnTo>
                  <a:lnTo>
                    <a:pt x="62" y="308"/>
                  </a:lnTo>
                  <a:lnTo>
                    <a:pt x="42" y="362"/>
                  </a:lnTo>
                  <a:lnTo>
                    <a:pt x="22" y="410"/>
                  </a:lnTo>
                  <a:lnTo>
                    <a:pt x="0" y="450"/>
                  </a:lnTo>
                  <a:lnTo>
                    <a:pt x="0" y="454"/>
                  </a:lnTo>
                  <a:lnTo>
                    <a:pt x="14" y="464"/>
                  </a:lnTo>
                  <a:lnTo>
                    <a:pt x="16" y="462"/>
                  </a:lnTo>
                  <a:lnTo>
                    <a:pt x="16" y="462"/>
                  </a:lnTo>
                  <a:lnTo>
                    <a:pt x="38" y="442"/>
                  </a:lnTo>
                  <a:lnTo>
                    <a:pt x="58" y="422"/>
                  </a:lnTo>
                  <a:lnTo>
                    <a:pt x="96" y="380"/>
                  </a:lnTo>
                  <a:lnTo>
                    <a:pt x="94" y="376"/>
                  </a:lnTo>
                  <a:lnTo>
                    <a:pt x="90" y="376"/>
                  </a:lnTo>
                  <a:lnTo>
                    <a:pt x="90" y="780"/>
                  </a:lnTo>
                  <a:lnTo>
                    <a:pt x="114" y="780"/>
                  </a:lnTo>
                  <a:lnTo>
                    <a:pt x="114" y="780"/>
                  </a:lnTo>
                  <a:lnTo>
                    <a:pt x="132" y="778"/>
                  </a:lnTo>
                  <a:lnTo>
                    <a:pt x="148" y="776"/>
                  </a:lnTo>
                  <a:lnTo>
                    <a:pt x="164" y="772"/>
                  </a:lnTo>
                  <a:lnTo>
                    <a:pt x="178" y="766"/>
                  </a:lnTo>
                  <a:lnTo>
                    <a:pt x="178" y="766"/>
                  </a:lnTo>
                  <a:lnTo>
                    <a:pt x="200" y="756"/>
                  </a:lnTo>
                  <a:lnTo>
                    <a:pt x="200" y="756"/>
                  </a:lnTo>
                  <a:lnTo>
                    <a:pt x="208" y="750"/>
                  </a:lnTo>
                  <a:lnTo>
                    <a:pt x="208" y="750"/>
                  </a:lnTo>
                  <a:lnTo>
                    <a:pt x="210" y="748"/>
                  </a:lnTo>
                  <a:lnTo>
                    <a:pt x="212" y="744"/>
                  </a:lnTo>
                  <a:lnTo>
                    <a:pt x="212" y="744"/>
                  </a:lnTo>
                  <a:lnTo>
                    <a:pt x="212" y="246"/>
                  </a:lnTo>
                  <a:lnTo>
                    <a:pt x="208" y="246"/>
                  </a:lnTo>
                  <a:lnTo>
                    <a:pt x="208" y="250"/>
                  </a:lnTo>
                  <a:lnTo>
                    <a:pt x="208" y="250"/>
                  </a:lnTo>
                  <a:lnTo>
                    <a:pt x="220" y="246"/>
                  </a:lnTo>
                  <a:lnTo>
                    <a:pt x="228" y="242"/>
                  </a:lnTo>
                  <a:lnTo>
                    <a:pt x="228" y="242"/>
                  </a:lnTo>
                  <a:lnTo>
                    <a:pt x="234" y="238"/>
                  </a:lnTo>
                  <a:lnTo>
                    <a:pt x="236" y="230"/>
                  </a:lnTo>
                  <a:lnTo>
                    <a:pt x="238" y="228"/>
                  </a:lnTo>
                  <a:lnTo>
                    <a:pt x="200" y="214"/>
                  </a:lnTo>
                  <a:lnTo>
                    <a:pt x="200" y="218"/>
                  </a:lnTo>
                  <a:lnTo>
                    <a:pt x="202" y="220"/>
                  </a:lnTo>
                  <a:lnTo>
                    <a:pt x="202" y="220"/>
                  </a:lnTo>
                  <a:lnTo>
                    <a:pt x="222" y="184"/>
                  </a:lnTo>
                  <a:lnTo>
                    <a:pt x="238" y="146"/>
                  </a:lnTo>
                  <a:lnTo>
                    <a:pt x="254" y="108"/>
                  </a:lnTo>
                  <a:lnTo>
                    <a:pt x="270" y="68"/>
                  </a:lnTo>
                  <a:lnTo>
                    <a:pt x="266" y="66"/>
                  </a:lnTo>
                  <a:lnTo>
                    <a:pt x="266" y="70"/>
                  </a:lnTo>
                  <a:lnTo>
                    <a:pt x="268" y="70"/>
                  </a:lnTo>
                  <a:lnTo>
                    <a:pt x="268" y="780"/>
                  </a:lnTo>
                  <a:lnTo>
                    <a:pt x="272" y="780"/>
                  </a:lnTo>
                  <a:lnTo>
                    <a:pt x="272" y="780"/>
                  </a:lnTo>
                  <a:lnTo>
                    <a:pt x="302" y="778"/>
                  </a:lnTo>
                  <a:lnTo>
                    <a:pt x="328" y="774"/>
                  </a:lnTo>
                  <a:lnTo>
                    <a:pt x="346" y="768"/>
                  </a:lnTo>
                  <a:lnTo>
                    <a:pt x="360" y="758"/>
                  </a:lnTo>
                  <a:lnTo>
                    <a:pt x="360" y="758"/>
                  </a:lnTo>
                  <a:lnTo>
                    <a:pt x="370" y="750"/>
                  </a:lnTo>
                  <a:lnTo>
                    <a:pt x="376" y="742"/>
                  </a:lnTo>
                  <a:lnTo>
                    <a:pt x="376" y="742"/>
                  </a:lnTo>
                  <a:lnTo>
                    <a:pt x="380" y="736"/>
                  </a:lnTo>
                  <a:lnTo>
                    <a:pt x="380" y="736"/>
                  </a:lnTo>
                  <a:lnTo>
                    <a:pt x="380" y="732"/>
                  </a:lnTo>
                  <a:lnTo>
                    <a:pt x="380" y="714"/>
                  </a:lnTo>
                  <a:lnTo>
                    <a:pt x="628" y="714"/>
                  </a:lnTo>
                  <a:lnTo>
                    <a:pt x="628" y="768"/>
                  </a:lnTo>
                  <a:lnTo>
                    <a:pt x="632" y="768"/>
                  </a:lnTo>
                  <a:lnTo>
                    <a:pt x="632" y="768"/>
                  </a:lnTo>
                  <a:lnTo>
                    <a:pt x="662" y="766"/>
                  </a:lnTo>
                  <a:lnTo>
                    <a:pt x="686" y="764"/>
                  </a:lnTo>
                  <a:lnTo>
                    <a:pt x="708" y="758"/>
                  </a:lnTo>
                  <a:lnTo>
                    <a:pt x="724" y="752"/>
                  </a:lnTo>
                  <a:lnTo>
                    <a:pt x="724" y="752"/>
                  </a:lnTo>
                  <a:lnTo>
                    <a:pt x="736" y="744"/>
                  </a:lnTo>
                  <a:lnTo>
                    <a:pt x="744" y="740"/>
                  </a:lnTo>
                  <a:lnTo>
                    <a:pt x="744" y="740"/>
                  </a:lnTo>
                  <a:lnTo>
                    <a:pt x="748" y="734"/>
                  </a:lnTo>
                  <a:lnTo>
                    <a:pt x="750" y="732"/>
                  </a:lnTo>
                  <a:lnTo>
                    <a:pt x="750" y="732"/>
                  </a:lnTo>
                  <a:lnTo>
                    <a:pt x="750" y="732"/>
                  </a:lnTo>
                  <a:lnTo>
                    <a:pt x="750" y="730"/>
                  </a:lnTo>
                  <a:lnTo>
                    <a:pt x="750" y="116"/>
                  </a:lnTo>
                  <a:lnTo>
                    <a:pt x="746" y="116"/>
                  </a:lnTo>
                  <a:lnTo>
                    <a:pt x="748" y="120"/>
                  </a:lnTo>
                  <a:lnTo>
                    <a:pt x="748" y="120"/>
                  </a:lnTo>
                  <a:lnTo>
                    <a:pt x="760" y="116"/>
                  </a:lnTo>
                  <a:lnTo>
                    <a:pt x="770" y="112"/>
                  </a:lnTo>
                  <a:lnTo>
                    <a:pt x="776" y="108"/>
                  </a:lnTo>
                  <a:lnTo>
                    <a:pt x="782" y="102"/>
                  </a:lnTo>
                  <a:lnTo>
                    <a:pt x="786" y="98"/>
                  </a:lnTo>
                  <a:lnTo>
                    <a:pt x="668" y="10"/>
                  </a:lnTo>
                  <a:lnTo>
                    <a:pt x="664" y="14"/>
                  </a:lnTo>
                  <a:lnTo>
                    <a:pt x="668" y="16"/>
                  </a:lnTo>
                  <a:close/>
                  <a:moveTo>
                    <a:pt x="376" y="698"/>
                  </a:moveTo>
                  <a:lnTo>
                    <a:pt x="376" y="702"/>
                  </a:lnTo>
                  <a:lnTo>
                    <a:pt x="636" y="702"/>
                  </a:lnTo>
                  <a:lnTo>
                    <a:pt x="636" y="416"/>
                  </a:lnTo>
                  <a:lnTo>
                    <a:pt x="630" y="420"/>
                  </a:lnTo>
                  <a:lnTo>
                    <a:pt x="630" y="420"/>
                  </a:lnTo>
                  <a:lnTo>
                    <a:pt x="618" y="426"/>
                  </a:lnTo>
                  <a:lnTo>
                    <a:pt x="606" y="430"/>
                  </a:lnTo>
                  <a:lnTo>
                    <a:pt x="602" y="430"/>
                  </a:lnTo>
                  <a:lnTo>
                    <a:pt x="602" y="616"/>
                  </a:lnTo>
                  <a:lnTo>
                    <a:pt x="606" y="616"/>
                  </a:lnTo>
                  <a:lnTo>
                    <a:pt x="602" y="616"/>
                  </a:lnTo>
                  <a:lnTo>
                    <a:pt x="604" y="616"/>
                  </a:lnTo>
                  <a:lnTo>
                    <a:pt x="602" y="616"/>
                  </a:lnTo>
                  <a:lnTo>
                    <a:pt x="602" y="616"/>
                  </a:lnTo>
                  <a:lnTo>
                    <a:pt x="604" y="616"/>
                  </a:lnTo>
                  <a:lnTo>
                    <a:pt x="602" y="616"/>
                  </a:lnTo>
                  <a:lnTo>
                    <a:pt x="602" y="616"/>
                  </a:lnTo>
                  <a:lnTo>
                    <a:pt x="602" y="616"/>
                  </a:lnTo>
                  <a:lnTo>
                    <a:pt x="602" y="616"/>
                  </a:lnTo>
                  <a:lnTo>
                    <a:pt x="602" y="616"/>
                  </a:lnTo>
                  <a:lnTo>
                    <a:pt x="602" y="616"/>
                  </a:lnTo>
                  <a:lnTo>
                    <a:pt x="602" y="616"/>
                  </a:lnTo>
                  <a:lnTo>
                    <a:pt x="600" y="616"/>
                  </a:lnTo>
                  <a:lnTo>
                    <a:pt x="600" y="616"/>
                  </a:lnTo>
                  <a:lnTo>
                    <a:pt x="592" y="622"/>
                  </a:lnTo>
                  <a:lnTo>
                    <a:pt x="578" y="626"/>
                  </a:lnTo>
                  <a:lnTo>
                    <a:pt x="578" y="626"/>
                  </a:lnTo>
                  <a:lnTo>
                    <a:pt x="560" y="632"/>
                  </a:lnTo>
                  <a:lnTo>
                    <a:pt x="540" y="632"/>
                  </a:lnTo>
                  <a:lnTo>
                    <a:pt x="530" y="632"/>
                  </a:lnTo>
                  <a:lnTo>
                    <a:pt x="530" y="582"/>
                  </a:lnTo>
                  <a:lnTo>
                    <a:pt x="476" y="582"/>
                  </a:lnTo>
                  <a:lnTo>
                    <a:pt x="476" y="624"/>
                  </a:lnTo>
                  <a:lnTo>
                    <a:pt x="480" y="624"/>
                  </a:lnTo>
                  <a:lnTo>
                    <a:pt x="476" y="624"/>
                  </a:lnTo>
                  <a:lnTo>
                    <a:pt x="476" y="624"/>
                  </a:lnTo>
                  <a:lnTo>
                    <a:pt x="476" y="624"/>
                  </a:lnTo>
                  <a:lnTo>
                    <a:pt x="480" y="624"/>
                  </a:lnTo>
                  <a:lnTo>
                    <a:pt x="476" y="624"/>
                  </a:lnTo>
                  <a:lnTo>
                    <a:pt x="476" y="624"/>
                  </a:lnTo>
                  <a:lnTo>
                    <a:pt x="476" y="624"/>
                  </a:lnTo>
                  <a:lnTo>
                    <a:pt x="476" y="624"/>
                  </a:lnTo>
                  <a:lnTo>
                    <a:pt x="476" y="624"/>
                  </a:lnTo>
                  <a:lnTo>
                    <a:pt x="476" y="624"/>
                  </a:lnTo>
                  <a:lnTo>
                    <a:pt x="476" y="624"/>
                  </a:lnTo>
                  <a:lnTo>
                    <a:pt x="472" y="628"/>
                  </a:lnTo>
                  <a:lnTo>
                    <a:pt x="468" y="632"/>
                  </a:lnTo>
                  <a:lnTo>
                    <a:pt x="462" y="638"/>
                  </a:lnTo>
                  <a:lnTo>
                    <a:pt x="452" y="642"/>
                  </a:lnTo>
                  <a:lnTo>
                    <a:pt x="440" y="646"/>
                  </a:lnTo>
                  <a:lnTo>
                    <a:pt x="422" y="648"/>
                  </a:lnTo>
                  <a:lnTo>
                    <a:pt x="402" y="650"/>
                  </a:lnTo>
                  <a:lnTo>
                    <a:pt x="402" y="654"/>
                  </a:lnTo>
                  <a:lnTo>
                    <a:pt x="406" y="654"/>
                  </a:lnTo>
                  <a:lnTo>
                    <a:pt x="406" y="364"/>
                  </a:lnTo>
                  <a:lnTo>
                    <a:pt x="462" y="390"/>
                  </a:lnTo>
                  <a:lnTo>
                    <a:pt x="462" y="264"/>
                  </a:lnTo>
                  <a:lnTo>
                    <a:pt x="388" y="264"/>
                  </a:lnTo>
                  <a:lnTo>
                    <a:pt x="386" y="260"/>
                  </a:lnTo>
                  <a:lnTo>
                    <a:pt x="462" y="260"/>
                  </a:lnTo>
                  <a:lnTo>
                    <a:pt x="462" y="122"/>
                  </a:lnTo>
                  <a:lnTo>
                    <a:pt x="578" y="134"/>
                  </a:lnTo>
                  <a:lnTo>
                    <a:pt x="578" y="130"/>
                  </a:lnTo>
                  <a:lnTo>
                    <a:pt x="574" y="128"/>
                  </a:lnTo>
                  <a:lnTo>
                    <a:pt x="574" y="128"/>
                  </a:lnTo>
                  <a:lnTo>
                    <a:pt x="572" y="134"/>
                  </a:lnTo>
                  <a:lnTo>
                    <a:pt x="572" y="134"/>
                  </a:lnTo>
                  <a:lnTo>
                    <a:pt x="570" y="136"/>
                  </a:lnTo>
                  <a:lnTo>
                    <a:pt x="566" y="140"/>
                  </a:lnTo>
                  <a:lnTo>
                    <a:pt x="566" y="140"/>
                  </a:lnTo>
                  <a:lnTo>
                    <a:pt x="548" y="144"/>
                  </a:lnTo>
                  <a:lnTo>
                    <a:pt x="544" y="144"/>
                  </a:lnTo>
                  <a:lnTo>
                    <a:pt x="544" y="260"/>
                  </a:lnTo>
                  <a:lnTo>
                    <a:pt x="548" y="260"/>
                  </a:lnTo>
                  <a:lnTo>
                    <a:pt x="552" y="260"/>
                  </a:lnTo>
                  <a:lnTo>
                    <a:pt x="586" y="206"/>
                  </a:lnTo>
                  <a:lnTo>
                    <a:pt x="636" y="248"/>
                  </a:lnTo>
                  <a:lnTo>
                    <a:pt x="636" y="84"/>
                  </a:lnTo>
                  <a:lnTo>
                    <a:pt x="372" y="84"/>
                  </a:lnTo>
                  <a:lnTo>
                    <a:pt x="372" y="702"/>
                  </a:lnTo>
                  <a:lnTo>
                    <a:pt x="376" y="702"/>
                  </a:lnTo>
                  <a:lnTo>
                    <a:pt x="376" y="698"/>
                  </a:lnTo>
                  <a:lnTo>
                    <a:pt x="380" y="698"/>
                  </a:lnTo>
                  <a:lnTo>
                    <a:pt x="380" y="92"/>
                  </a:lnTo>
                  <a:lnTo>
                    <a:pt x="628" y="92"/>
                  </a:lnTo>
                  <a:lnTo>
                    <a:pt x="628" y="230"/>
                  </a:lnTo>
                  <a:lnTo>
                    <a:pt x="584" y="194"/>
                  </a:lnTo>
                  <a:lnTo>
                    <a:pt x="546" y="254"/>
                  </a:lnTo>
                  <a:lnTo>
                    <a:pt x="548" y="256"/>
                  </a:lnTo>
                  <a:lnTo>
                    <a:pt x="548" y="252"/>
                  </a:lnTo>
                  <a:lnTo>
                    <a:pt x="548" y="252"/>
                  </a:lnTo>
                  <a:lnTo>
                    <a:pt x="548" y="256"/>
                  </a:lnTo>
                  <a:lnTo>
                    <a:pt x="552" y="256"/>
                  </a:lnTo>
                  <a:lnTo>
                    <a:pt x="552" y="148"/>
                  </a:lnTo>
                  <a:lnTo>
                    <a:pt x="548" y="148"/>
                  </a:lnTo>
                  <a:lnTo>
                    <a:pt x="548" y="152"/>
                  </a:lnTo>
                  <a:lnTo>
                    <a:pt x="548" y="152"/>
                  </a:lnTo>
                  <a:lnTo>
                    <a:pt x="564" y="148"/>
                  </a:lnTo>
                  <a:lnTo>
                    <a:pt x="574" y="144"/>
                  </a:lnTo>
                  <a:lnTo>
                    <a:pt x="574" y="144"/>
                  </a:lnTo>
                  <a:lnTo>
                    <a:pt x="580" y="138"/>
                  </a:lnTo>
                  <a:lnTo>
                    <a:pt x="580" y="138"/>
                  </a:lnTo>
                  <a:lnTo>
                    <a:pt x="582" y="130"/>
                  </a:lnTo>
                  <a:lnTo>
                    <a:pt x="582" y="126"/>
                  </a:lnTo>
                  <a:lnTo>
                    <a:pt x="454" y="114"/>
                  </a:lnTo>
                  <a:lnTo>
                    <a:pt x="454" y="252"/>
                  </a:lnTo>
                  <a:lnTo>
                    <a:pt x="374" y="252"/>
                  </a:lnTo>
                  <a:lnTo>
                    <a:pt x="382" y="272"/>
                  </a:lnTo>
                  <a:lnTo>
                    <a:pt x="454" y="272"/>
                  </a:lnTo>
                  <a:lnTo>
                    <a:pt x="454" y="378"/>
                  </a:lnTo>
                  <a:lnTo>
                    <a:pt x="398" y="352"/>
                  </a:lnTo>
                  <a:lnTo>
                    <a:pt x="398" y="658"/>
                  </a:lnTo>
                  <a:lnTo>
                    <a:pt x="402" y="658"/>
                  </a:lnTo>
                  <a:lnTo>
                    <a:pt x="402" y="658"/>
                  </a:lnTo>
                  <a:lnTo>
                    <a:pt x="424" y="656"/>
                  </a:lnTo>
                  <a:lnTo>
                    <a:pt x="444" y="652"/>
                  </a:lnTo>
                  <a:lnTo>
                    <a:pt x="458" y="648"/>
                  </a:lnTo>
                  <a:lnTo>
                    <a:pt x="468" y="642"/>
                  </a:lnTo>
                  <a:lnTo>
                    <a:pt x="468" y="642"/>
                  </a:lnTo>
                  <a:lnTo>
                    <a:pt x="476" y="638"/>
                  </a:lnTo>
                  <a:lnTo>
                    <a:pt x="480" y="632"/>
                  </a:lnTo>
                  <a:lnTo>
                    <a:pt x="480" y="632"/>
                  </a:lnTo>
                  <a:lnTo>
                    <a:pt x="482" y="628"/>
                  </a:lnTo>
                  <a:lnTo>
                    <a:pt x="484" y="626"/>
                  </a:lnTo>
                  <a:lnTo>
                    <a:pt x="484" y="626"/>
                  </a:lnTo>
                  <a:lnTo>
                    <a:pt x="484" y="626"/>
                  </a:lnTo>
                  <a:lnTo>
                    <a:pt x="484" y="624"/>
                  </a:lnTo>
                  <a:lnTo>
                    <a:pt x="484" y="590"/>
                  </a:lnTo>
                  <a:lnTo>
                    <a:pt x="522" y="590"/>
                  </a:lnTo>
                  <a:lnTo>
                    <a:pt x="522" y="640"/>
                  </a:lnTo>
                  <a:lnTo>
                    <a:pt x="540" y="640"/>
                  </a:lnTo>
                  <a:lnTo>
                    <a:pt x="540" y="640"/>
                  </a:lnTo>
                  <a:lnTo>
                    <a:pt x="554" y="640"/>
                  </a:lnTo>
                  <a:lnTo>
                    <a:pt x="566" y="638"/>
                  </a:lnTo>
                  <a:lnTo>
                    <a:pt x="586" y="632"/>
                  </a:lnTo>
                  <a:lnTo>
                    <a:pt x="586" y="632"/>
                  </a:lnTo>
                  <a:lnTo>
                    <a:pt x="602" y="626"/>
                  </a:lnTo>
                  <a:lnTo>
                    <a:pt x="602" y="626"/>
                  </a:lnTo>
                  <a:lnTo>
                    <a:pt x="606" y="622"/>
                  </a:lnTo>
                  <a:lnTo>
                    <a:pt x="608" y="620"/>
                  </a:lnTo>
                  <a:lnTo>
                    <a:pt x="608" y="620"/>
                  </a:lnTo>
                  <a:lnTo>
                    <a:pt x="610" y="618"/>
                  </a:lnTo>
                  <a:lnTo>
                    <a:pt x="610" y="618"/>
                  </a:lnTo>
                  <a:lnTo>
                    <a:pt x="610" y="434"/>
                  </a:lnTo>
                  <a:lnTo>
                    <a:pt x="606" y="434"/>
                  </a:lnTo>
                  <a:lnTo>
                    <a:pt x="606" y="438"/>
                  </a:lnTo>
                  <a:lnTo>
                    <a:pt x="606" y="438"/>
                  </a:lnTo>
                  <a:lnTo>
                    <a:pt x="622" y="434"/>
                  </a:lnTo>
                  <a:lnTo>
                    <a:pt x="634" y="428"/>
                  </a:lnTo>
                  <a:lnTo>
                    <a:pt x="632" y="424"/>
                  </a:lnTo>
                  <a:lnTo>
                    <a:pt x="628" y="424"/>
                  </a:lnTo>
                  <a:lnTo>
                    <a:pt x="628" y="694"/>
                  </a:lnTo>
                  <a:lnTo>
                    <a:pt x="376" y="694"/>
                  </a:lnTo>
                  <a:lnTo>
                    <a:pt x="376" y="698"/>
                  </a:lnTo>
                  <a:lnTo>
                    <a:pt x="380" y="698"/>
                  </a:lnTo>
                  <a:lnTo>
                    <a:pt x="376" y="698"/>
                  </a:lnTo>
                  <a:close/>
                  <a:moveTo>
                    <a:pt x="480" y="406"/>
                  </a:moveTo>
                  <a:lnTo>
                    <a:pt x="476" y="406"/>
                  </a:lnTo>
                  <a:lnTo>
                    <a:pt x="476" y="578"/>
                  </a:lnTo>
                  <a:lnTo>
                    <a:pt x="530" y="578"/>
                  </a:lnTo>
                  <a:lnTo>
                    <a:pt x="530" y="402"/>
                  </a:lnTo>
                  <a:lnTo>
                    <a:pt x="476" y="402"/>
                  </a:lnTo>
                  <a:lnTo>
                    <a:pt x="476" y="406"/>
                  </a:lnTo>
                  <a:lnTo>
                    <a:pt x="480" y="406"/>
                  </a:lnTo>
                  <a:lnTo>
                    <a:pt x="480" y="410"/>
                  </a:lnTo>
                  <a:lnTo>
                    <a:pt x="522" y="410"/>
                  </a:lnTo>
                  <a:lnTo>
                    <a:pt x="522" y="570"/>
                  </a:lnTo>
                  <a:lnTo>
                    <a:pt x="484" y="570"/>
                  </a:lnTo>
                  <a:lnTo>
                    <a:pt x="484" y="406"/>
                  </a:lnTo>
                  <a:lnTo>
                    <a:pt x="480" y="406"/>
                  </a:lnTo>
                  <a:lnTo>
                    <a:pt x="480" y="410"/>
                  </a:lnTo>
                  <a:lnTo>
                    <a:pt x="480" y="406"/>
                  </a:lnTo>
                  <a:close/>
                  <a:moveTo>
                    <a:pt x="548" y="390"/>
                  </a:moveTo>
                  <a:lnTo>
                    <a:pt x="552" y="392"/>
                  </a:lnTo>
                  <a:lnTo>
                    <a:pt x="574" y="362"/>
                  </a:lnTo>
                  <a:lnTo>
                    <a:pt x="636" y="426"/>
                  </a:lnTo>
                  <a:lnTo>
                    <a:pt x="636" y="262"/>
                  </a:lnTo>
                  <a:lnTo>
                    <a:pt x="630" y="264"/>
                  </a:lnTo>
                  <a:lnTo>
                    <a:pt x="630" y="264"/>
                  </a:lnTo>
                  <a:lnTo>
                    <a:pt x="616" y="264"/>
                  </a:lnTo>
                  <a:lnTo>
                    <a:pt x="544" y="264"/>
                  </a:lnTo>
                  <a:lnTo>
                    <a:pt x="544" y="402"/>
                  </a:lnTo>
                  <a:lnTo>
                    <a:pt x="552" y="392"/>
                  </a:lnTo>
                  <a:lnTo>
                    <a:pt x="548" y="390"/>
                  </a:lnTo>
                  <a:lnTo>
                    <a:pt x="552" y="390"/>
                  </a:lnTo>
                  <a:lnTo>
                    <a:pt x="552" y="272"/>
                  </a:lnTo>
                  <a:lnTo>
                    <a:pt x="616" y="272"/>
                  </a:lnTo>
                  <a:lnTo>
                    <a:pt x="616" y="272"/>
                  </a:lnTo>
                  <a:lnTo>
                    <a:pt x="632" y="272"/>
                  </a:lnTo>
                  <a:lnTo>
                    <a:pt x="632" y="268"/>
                  </a:lnTo>
                  <a:lnTo>
                    <a:pt x="628" y="268"/>
                  </a:lnTo>
                  <a:lnTo>
                    <a:pt x="628" y="406"/>
                  </a:lnTo>
                  <a:lnTo>
                    <a:pt x="572" y="350"/>
                  </a:lnTo>
                  <a:lnTo>
                    <a:pt x="544" y="388"/>
                  </a:lnTo>
                  <a:lnTo>
                    <a:pt x="548" y="390"/>
                  </a:lnTo>
                  <a:lnTo>
                    <a:pt x="552" y="390"/>
                  </a:lnTo>
                  <a:lnTo>
                    <a:pt x="548" y="3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09"/>
            <p:cNvSpPr/>
            <p:nvPr/>
          </p:nvSpPr>
          <p:spPr>
            <a:xfrm>
              <a:off x="8521560" y="8588520"/>
              <a:ext cx="1216440" cy="1199880"/>
            </a:xfrm>
            <a:custGeom>
              <a:avLst/>
              <a:gdLst>
                <a:gd name="textAreaLeft" fmla="*/ 0 w 1216440"/>
                <a:gd name="textAreaRight" fmla="*/ 1216800 w 121644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766" h="756">
                  <a:moveTo>
                    <a:pt x="0" y="746"/>
                  </a:moveTo>
                  <a:lnTo>
                    <a:pt x="0" y="746"/>
                  </a:lnTo>
                  <a:lnTo>
                    <a:pt x="26" y="724"/>
                  </a:lnTo>
                  <a:lnTo>
                    <a:pt x="50" y="702"/>
                  </a:lnTo>
                  <a:lnTo>
                    <a:pt x="72" y="682"/>
                  </a:lnTo>
                  <a:lnTo>
                    <a:pt x="92" y="660"/>
                  </a:lnTo>
                  <a:lnTo>
                    <a:pt x="112" y="638"/>
                  </a:lnTo>
                  <a:lnTo>
                    <a:pt x="130" y="616"/>
                  </a:lnTo>
                  <a:lnTo>
                    <a:pt x="162" y="570"/>
                  </a:lnTo>
                  <a:lnTo>
                    <a:pt x="188" y="526"/>
                  </a:lnTo>
                  <a:lnTo>
                    <a:pt x="210" y="480"/>
                  </a:lnTo>
                  <a:lnTo>
                    <a:pt x="228" y="434"/>
                  </a:lnTo>
                  <a:lnTo>
                    <a:pt x="242" y="386"/>
                  </a:lnTo>
                  <a:lnTo>
                    <a:pt x="254" y="338"/>
                  </a:lnTo>
                  <a:lnTo>
                    <a:pt x="262" y="292"/>
                  </a:lnTo>
                  <a:lnTo>
                    <a:pt x="266" y="244"/>
                  </a:lnTo>
                  <a:lnTo>
                    <a:pt x="270" y="194"/>
                  </a:lnTo>
                  <a:lnTo>
                    <a:pt x="272" y="146"/>
                  </a:lnTo>
                  <a:lnTo>
                    <a:pt x="274" y="98"/>
                  </a:lnTo>
                  <a:lnTo>
                    <a:pt x="274" y="0"/>
                  </a:lnTo>
                  <a:lnTo>
                    <a:pt x="434" y="14"/>
                  </a:lnTo>
                  <a:lnTo>
                    <a:pt x="434" y="14"/>
                  </a:lnTo>
                  <a:lnTo>
                    <a:pt x="432" y="22"/>
                  </a:lnTo>
                  <a:lnTo>
                    <a:pt x="426" y="28"/>
                  </a:lnTo>
                  <a:lnTo>
                    <a:pt x="416" y="32"/>
                  </a:lnTo>
                  <a:lnTo>
                    <a:pt x="402" y="34"/>
                  </a:lnTo>
                  <a:lnTo>
                    <a:pt x="402" y="34"/>
                  </a:lnTo>
                  <a:lnTo>
                    <a:pt x="406" y="84"/>
                  </a:lnTo>
                  <a:lnTo>
                    <a:pt x="412" y="132"/>
                  </a:lnTo>
                  <a:lnTo>
                    <a:pt x="420" y="180"/>
                  </a:lnTo>
                  <a:lnTo>
                    <a:pt x="430" y="224"/>
                  </a:lnTo>
                  <a:lnTo>
                    <a:pt x="442" y="268"/>
                  </a:lnTo>
                  <a:lnTo>
                    <a:pt x="456" y="310"/>
                  </a:lnTo>
                  <a:lnTo>
                    <a:pt x="474" y="352"/>
                  </a:lnTo>
                  <a:lnTo>
                    <a:pt x="494" y="390"/>
                  </a:lnTo>
                  <a:lnTo>
                    <a:pt x="516" y="426"/>
                  </a:lnTo>
                  <a:lnTo>
                    <a:pt x="542" y="462"/>
                  </a:lnTo>
                  <a:lnTo>
                    <a:pt x="570" y="496"/>
                  </a:lnTo>
                  <a:lnTo>
                    <a:pt x="602" y="526"/>
                  </a:lnTo>
                  <a:lnTo>
                    <a:pt x="636" y="556"/>
                  </a:lnTo>
                  <a:lnTo>
                    <a:pt x="676" y="584"/>
                  </a:lnTo>
                  <a:lnTo>
                    <a:pt x="718" y="610"/>
                  </a:lnTo>
                  <a:lnTo>
                    <a:pt x="766" y="632"/>
                  </a:lnTo>
                  <a:lnTo>
                    <a:pt x="764" y="642"/>
                  </a:lnTo>
                  <a:lnTo>
                    <a:pt x="764" y="642"/>
                  </a:lnTo>
                  <a:lnTo>
                    <a:pt x="744" y="648"/>
                  </a:lnTo>
                  <a:lnTo>
                    <a:pt x="726" y="656"/>
                  </a:lnTo>
                  <a:lnTo>
                    <a:pt x="710" y="666"/>
                  </a:lnTo>
                  <a:lnTo>
                    <a:pt x="694" y="680"/>
                  </a:lnTo>
                  <a:lnTo>
                    <a:pt x="682" y="696"/>
                  </a:lnTo>
                  <a:lnTo>
                    <a:pt x="672" y="714"/>
                  </a:lnTo>
                  <a:lnTo>
                    <a:pt x="664" y="734"/>
                  </a:lnTo>
                  <a:lnTo>
                    <a:pt x="658" y="756"/>
                  </a:lnTo>
                  <a:lnTo>
                    <a:pt x="658" y="756"/>
                  </a:lnTo>
                  <a:lnTo>
                    <a:pt x="624" y="732"/>
                  </a:lnTo>
                  <a:lnTo>
                    <a:pt x="594" y="704"/>
                  </a:lnTo>
                  <a:lnTo>
                    <a:pt x="566" y="674"/>
                  </a:lnTo>
                  <a:lnTo>
                    <a:pt x="542" y="644"/>
                  </a:lnTo>
                  <a:lnTo>
                    <a:pt x="520" y="610"/>
                  </a:lnTo>
                  <a:lnTo>
                    <a:pt x="500" y="576"/>
                  </a:lnTo>
                  <a:lnTo>
                    <a:pt x="482" y="540"/>
                  </a:lnTo>
                  <a:lnTo>
                    <a:pt x="466" y="504"/>
                  </a:lnTo>
                  <a:lnTo>
                    <a:pt x="452" y="466"/>
                  </a:lnTo>
                  <a:lnTo>
                    <a:pt x="440" y="426"/>
                  </a:lnTo>
                  <a:lnTo>
                    <a:pt x="428" y="386"/>
                  </a:lnTo>
                  <a:lnTo>
                    <a:pt x="420" y="344"/>
                  </a:lnTo>
                  <a:lnTo>
                    <a:pt x="412" y="302"/>
                  </a:lnTo>
                  <a:lnTo>
                    <a:pt x="406" y="258"/>
                  </a:lnTo>
                  <a:lnTo>
                    <a:pt x="398" y="170"/>
                  </a:lnTo>
                  <a:lnTo>
                    <a:pt x="396" y="170"/>
                  </a:lnTo>
                  <a:lnTo>
                    <a:pt x="396" y="170"/>
                  </a:lnTo>
                  <a:lnTo>
                    <a:pt x="394" y="212"/>
                  </a:lnTo>
                  <a:lnTo>
                    <a:pt x="388" y="254"/>
                  </a:lnTo>
                  <a:lnTo>
                    <a:pt x="382" y="294"/>
                  </a:lnTo>
                  <a:lnTo>
                    <a:pt x="374" y="334"/>
                  </a:lnTo>
                  <a:lnTo>
                    <a:pt x="364" y="374"/>
                  </a:lnTo>
                  <a:lnTo>
                    <a:pt x="352" y="414"/>
                  </a:lnTo>
                  <a:lnTo>
                    <a:pt x="336" y="452"/>
                  </a:lnTo>
                  <a:lnTo>
                    <a:pt x="318" y="490"/>
                  </a:lnTo>
                  <a:lnTo>
                    <a:pt x="294" y="528"/>
                  </a:lnTo>
                  <a:lnTo>
                    <a:pt x="268" y="564"/>
                  </a:lnTo>
                  <a:lnTo>
                    <a:pt x="238" y="600"/>
                  </a:lnTo>
                  <a:lnTo>
                    <a:pt x="202" y="634"/>
                  </a:lnTo>
                  <a:lnTo>
                    <a:pt x="162" y="666"/>
                  </a:lnTo>
                  <a:lnTo>
                    <a:pt x="116" y="698"/>
                  </a:lnTo>
                  <a:lnTo>
                    <a:pt x="64" y="728"/>
                  </a:lnTo>
                  <a:lnTo>
                    <a:pt x="6" y="756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0"/>
            <p:cNvSpPr/>
            <p:nvPr/>
          </p:nvSpPr>
          <p:spPr>
            <a:xfrm>
              <a:off x="8511840" y="8582040"/>
              <a:ext cx="1232280" cy="1218960"/>
            </a:xfrm>
            <a:custGeom>
              <a:avLst/>
              <a:gdLst>
                <a:gd name="textAreaLeft" fmla="*/ 0 w 1232280"/>
                <a:gd name="textAreaRight" fmla="*/ 1232640 w 12322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776" h="768">
                  <a:moveTo>
                    <a:pt x="6" y="750"/>
                  </a:moveTo>
                  <a:lnTo>
                    <a:pt x="8" y="752"/>
                  </a:lnTo>
                  <a:lnTo>
                    <a:pt x="8" y="752"/>
                  </a:lnTo>
                  <a:lnTo>
                    <a:pt x="34" y="732"/>
                  </a:lnTo>
                  <a:lnTo>
                    <a:pt x="58" y="710"/>
                  </a:lnTo>
                  <a:lnTo>
                    <a:pt x="80" y="688"/>
                  </a:lnTo>
                  <a:lnTo>
                    <a:pt x="102" y="666"/>
                  </a:lnTo>
                  <a:lnTo>
                    <a:pt x="122" y="644"/>
                  </a:lnTo>
                  <a:lnTo>
                    <a:pt x="140" y="622"/>
                  </a:lnTo>
                  <a:lnTo>
                    <a:pt x="156" y="600"/>
                  </a:lnTo>
                  <a:lnTo>
                    <a:pt x="172" y="576"/>
                  </a:lnTo>
                  <a:lnTo>
                    <a:pt x="198" y="532"/>
                  </a:lnTo>
                  <a:lnTo>
                    <a:pt x="220" y="486"/>
                  </a:lnTo>
                  <a:lnTo>
                    <a:pt x="238" y="438"/>
                  </a:lnTo>
                  <a:lnTo>
                    <a:pt x="252" y="392"/>
                  </a:lnTo>
                  <a:lnTo>
                    <a:pt x="252" y="392"/>
                  </a:lnTo>
                  <a:lnTo>
                    <a:pt x="264" y="344"/>
                  </a:lnTo>
                  <a:lnTo>
                    <a:pt x="272" y="296"/>
                  </a:lnTo>
                  <a:lnTo>
                    <a:pt x="276" y="248"/>
                  </a:lnTo>
                  <a:lnTo>
                    <a:pt x="280" y="200"/>
                  </a:lnTo>
                  <a:lnTo>
                    <a:pt x="282" y="150"/>
                  </a:lnTo>
                  <a:lnTo>
                    <a:pt x="284" y="102"/>
                  </a:lnTo>
                  <a:lnTo>
                    <a:pt x="284" y="4"/>
                  </a:lnTo>
                  <a:lnTo>
                    <a:pt x="280" y="4"/>
                  </a:lnTo>
                  <a:lnTo>
                    <a:pt x="280" y="8"/>
                  </a:lnTo>
                  <a:lnTo>
                    <a:pt x="440" y="22"/>
                  </a:lnTo>
                  <a:lnTo>
                    <a:pt x="440" y="18"/>
                  </a:lnTo>
                  <a:lnTo>
                    <a:pt x="436" y="18"/>
                  </a:lnTo>
                  <a:lnTo>
                    <a:pt x="436" y="18"/>
                  </a:lnTo>
                  <a:lnTo>
                    <a:pt x="434" y="24"/>
                  </a:lnTo>
                  <a:lnTo>
                    <a:pt x="430" y="28"/>
                  </a:lnTo>
                  <a:lnTo>
                    <a:pt x="430" y="28"/>
                  </a:lnTo>
                  <a:lnTo>
                    <a:pt x="422" y="32"/>
                  </a:lnTo>
                  <a:lnTo>
                    <a:pt x="406" y="34"/>
                  </a:lnTo>
                  <a:lnTo>
                    <a:pt x="402" y="36"/>
                  </a:lnTo>
                  <a:lnTo>
                    <a:pt x="404" y="38"/>
                  </a:lnTo>
                  <a:lnTo>
                    <a:pt x="404" y="38"/>
                  </a:lnTo>
                  <a:lnTo>
                    <a:pt x="408" y="88"/>
                  </a:lnTo>
                  <a:lnTo>
                    <a:pt x="414" y="138"/>
                  </a:lnTo>
                  <a:lnTo>
                    <a:pt x="422" y="184"/>
                  </a:lnTo>
                  <a:lnTo>
                    <a:pt x="432" y="230"/>
                  </a:lnTo>
                  <a:lnTo>
                    <a:pt x="444" y="274"/>
                  </a:lnTo>
                  <a:lnTo>
                    <a:pt x="458" y="316"/>
                  </a:lnTo>
                  <a:lnTo>
                    <a:pt x="476" y="356"/>
                  </a:lnTo>
                  <a:lnTo>
                    <a:pt x="496" y="396"/>
                  </a:lnTo>
                  <a:lnTo>
                    <a:pt x="496" y="396"/>
                  </a:lnTo>
                  <a:lnTo>
                    <a:pt x="518" y="434"/>
                  </a:lnTo>
                  <a:lnTo>
                    <a:pt x="544" y="468"/>
                  </a:lnTo>
                  <a:lnTo>
                    <a:pt x="572" y="502"/>
                  </a:lnTo>
                  <a:lnTo>
                    <a:pt x="604" y="534"/>
                  </a:lnTo>
                  <a:lnTo>
                    <a:pt x="640" y="564"/>
                  </a:lnTo>
                  <a:lnTo>
                    <a:pt x="680" y="592"/>
                  </a:lnTo>
                  <a:lnTo>
                    <a:pt x="722" y="616"/>
                  </a:lnTo>
                  <a:lnTo>
                    <a:pt x="770" y="640"/>
                  </a:lnTo>
                  <a:lnTo>
                    <a:pt x="772" y="636"/>
                  </a:lnTo>
                  <a:lnTo>
                    <a:pt x="768" y="636"/>
                  </a:lnTo>
                  <a:lnTo>
                    <a:pt x="766" y="646"/>
                  </a:lnTo>
                  <a:lnTo>
                    <a:pt x="770" y="646"/>
                  </a:lnTo>
                  <a:lnTo>
                    <a:pt x="770" y="642"/>
                  </a:lnTo>
                  <a:lnTo>
                    <a:pt x="770" y="642"/>
                  </a:lnTo>
                  <a:lnTo>
                    <a:pt x="748" y="648"/>
                  </a:lnTo>
                  <a:lnTo>
                    <a:pt x="730" y="656"/>
                  </a:lnTo>
                  <a:lnTo>
                    <a:pt x="712" y="668"/>
                  </a:lnTo>
                  <a:lnTo>
                    <a:pt x="698" y="682"/>
                  </a:lnTo>
                  <a:lnTo>
                    <a:pt x="698" y="682"/>
                  </a:lnTo>
                  <a:lnTo>
                    <a:pt x="686" y="698"/>
                  </a:lnTo>
                  <a:lnTo>
                    <a:pt x="674" y="716"/>
                  </a:lnTo>
                  <a:lnTo>
                    <a:pt x="666" y="738"/>
                  </a:lnTo>
                  <a:lnTo>
                    <a:pt x="660" y="760"/>
                  </a:lnTo>
                  <a:lnTo>
                    <a:pt x="664" y="760"/>
                  </a:lnTo>
                  <a:lnTo>
                    <a:pt x="666" y="758"/>
                  </a:lnTo>
                  <a:lnTo>
                    <a:pt x="666" y="758"/>
                  </a:lnTo>
                  <a:lnTo>
                    <a:pt x="634" y="732"/>
                  </a:lnTo>
                  <a:lnTo>
                    <a:pt x="604" y="706"/>
                  </a:lnTo>
                  <a:lnTo>
                    <a:pt x="576" y="676"/>
                  </a:lnTo>
                  <a:lnTo>
                    <a:pt x="552" y="646"/>
                  </a:lnTo>
                  <a:lnTo>
                    <a:pt x="528" y="612"/>
                  </a:lnTo>
                  <a:lnTo>
                    <a:pt x="508" y="578"/>
                  </a:lnTo>
                  <a:lnTo>
                    <a:pt x="490" y="544"/>
                  </a:lnTo>
                  <a:lnTo>
                    <a:pt x="476" y="506"/>
                  </a:lnTo>
                  <a:lnTo>
                    <a:pt x="476" y="506"/>
                  </a:lnTo>
                  <a:lnTo>
                    <a:pt x="462" y="468"/>
                  </a:lnTo>
                  <a:lnTo>
                    <a:pt x="450" y="428"/>
                  </a:lnTo>
                  <a:lnTo>
                    <a:pt x="438" y="388"/>
                  </a:lnTo>
                  <a:lnTo>
                    <a:pt x="430" y="348"/>
                  </a:lnTo>
                  <a:lnTo>
                    <a:pt x="422" y="304"/>
                  </a:lnTo>
                  <a:lnTo>
                    <a:pt x="416" y="262"/>
                  </a:lnTo>
                  <a:lnTo>
                    <a:pt x="408" y="174"/>
                  </a:lnTo>
                  <a:lnTo>
                    <a:pt x="406" y="170"/>
                  </a:lnTo>
                  <a:lnTo>
                    <a:pt x="402" y="170"/>
                  </a:lnTo>
                  <a:lnTo>
                    <a:pt x="398" y="170"/>
                  </a:lnTo>
                  <a:lnTo>
                    <a:pt x="398" y="174"/>
                  </a:lnTo>
                  <a:lnTo>
                    <a:pt x="398" y="174"/>
                  </a:lnTo>
                  <a:lnTo>
                    <a:pt x="396" y="216"/>
                  </a:lnTo>
                  <a:lnTo>
                    <a:pt x="390" y="256"/>
                  </a:lnTo>
                  <a:lnTo>
                    <a:pt x="384" y="298"/>
                  </a:lnTo>
                  <a:lnTo>
                    <a:pt x="376" y="338"/>
                  </a:lnTo>
                  <a:lnTo>
                    <a:pt x="366" y="378"/>
                  </a:lnTo>
                  <a:lnTo>
                    <a:pt x="354" y="416"/>
                  </a:lnTo>
                  <a:lnTo>
                    <a:pt x="338" y="456"/>
                  </a:lnTo>
                  <a:lnTo>
                    <a:pt x="320" y="492"/>
                  </a:lnTo>
                  <a:lnTo>
                    <a:pt x="320" y="492"/>
                  </a:lnTo>
                  <a:lnTo>
                    <a:pt x="298" y="530"/>
                  </a:lnTo>
                  <a:lnTo>
                    <a:pt x="270" y="566"/>
                  </a:lnTo>
                  <a:lnTo>
                    <a:pt x="240" y="600"/>
                  </a:lnTo>
                  <a:lnTo>
                    <a:pt x="204" y="634"/>
                  </a:lnTo>
                  <a:lnTo>
                    <a:pt x="164" y="666"/>
                  </a:lnTo>
                  <a:lnTo>
                    <a:pt x="120" y="698"/>
                  </a:lnTo>
                  <a:lnTo>
                    <a:pt x="68" y="728"/>
                  </a:lnTo>
                  <a:lnTo>
                    <a:pt x="12" y="756"/>
                  </a:lnTo>
                  <a:lnTo>
                    <a:pt x="12" y="760"/>
                  </a:lnTo>
                  <a:lnTo>
                    <a:pt x="16" y="758"/>
                  </a:lnTo>
                  <a:lnTo>
                    <a:pt x="8" y="748"/>
                  </a:lnTo>
                  <a:lnTo>
                    <a:pt x="6" y="750"/>
                  </a:lnTo>
                  <a:lnTo>
                    <a:pt x="8" y="752"/>
                  </a:lnTo>
                  <a:lnTo>
                    <a:pt x="6" y="750"/>
                  </a:lnTo>
                  <a:lnTo>
                    <a:pt x="2" y="752"/>
                  </a:lnTo>
                  <a:lnTo>
                    <a:pt x="12" y="764"/>
                  </a:lnTo>
                  <a:lnTo>
                    <a:pt x="14" y="764"/>
                  </a:lnTo>
                  <a:lnTo>
                    <a:pt x="14" y="764"/>
                  </a:lnTo>
                  <a:lnTo>
                    <a:pt x="72" y="734"/>
                  </a:lnTo>
                  <a:lnTo>
                    <a:pt x="124" y="704"/>
                  </a:lnTo>
                  <a:lnTo>
                    <a:pt x="170" y="674"/>
                  </a:lnTo>
                  <a:lnTo>
                    <a:pt x="210" y="640"/>
                  </a:lnTo>
                  <a:lnTo>
                    <a:pt x="246" y="606"/>
                  </a:lnTo>
                  <a:lnTo>
                    <a:pt x="278" y="570"/>
                  </a:lnTo>
                  <a:lnTo>
                    <a:pt x="304" y="534"/>
                  </a:lnTo>
                  <a:lnTo>
                    <a:pt x="326" y="496"/>
                  </a:lnTo>
                  <a:lnTo>
                    <a:pt x="326" y="496"/>
                  </a:lnTo>
                  <a:lnTo>
                    <a:pt x="346" y="458"/>
                  </a:lnTo>
                  <a:lnTo>
                    <a:pt x="362" y="420"/>
                  </a:lnTo>
                  <a:lnTo>
                    <a:pt x="374" y="380"/>
                  </a:lnTo>
                  <a:lnTo>
                    <a:pt x="384" y="340"/>
                  </a:lnTo>
                  <a:lnTo>
                    <a:pt x="392" y="298"/>
                  </a:lnTo>
                  <a:lnTo>
                    <a:pt x="398" y="258"/>
                  </a:lnTo>
                  <a:lnTo>
                    <a:pt x="404" y="216"/>
                  </a:lnTo>
                  <a:lnTo>
                    <a:pt x="406" y="176"/>
                  </a:lnTo>
                  <a:lnTo>
                    <a:pt x="402" y="174"/>
                  </a:lnTo>
                  <a:lnTo>
                    <a:pt x="402" y="178"/>
                  </a:lnTo>
                  <a:lnTo>
                    <a:pt x="404" y="178"/>
                  </a:lnTo>
                  <a:lnTo>
                    <a:pt x="404" y="174"/>
                  </a:lnTo>
                  <a:lnTo>
                    <a:pt x="400" y="176"/>
                  </a:lnTo>
                  <a:lnTo>
                    <a:pt x="400" y="176"/>
                  </a:lnTo>
                  <a:lnTo>
                    <a:pt x="408" y="264"/>
                  </a:lnTo>
                  <a:lnTo>
                    <a:pt x="414" y="306"/>
                  </a:lnTo>
                  <a:lnTo>
                    <a:pt x="422" y="348"/>
                  </a:lnTo>
                  <a:lnTo>
                    <a:pt x="430" y="390"/>
                  </a:lnTo>
                  <a:lnTo>
                    <a:pt x="442" y="430"/>
                  </a:lnTo>
                  <a:lnTo>
                    <a:pt x="454" y="470"/>
                  </a:lnTo>
                  <a:lnTo>
                    <a:pt x="468" y="510"/>
                  </a:lnTo>
                  <a:lnTo>
                    <a:pt x="468" y="510"/>
                  </a:lnTo>
                  <a:lnTo>
                    <a:pt x="484" y="546"/>
                  </a:lnTo>
                  <a:lnTo>
                    <a:pt x="502" y="582"/>
                  </a:lnTo>
                  <a:lnTo>
                    <a:pt x="522" y="618"/>
                  </a:lnTo>
                  <a:lnTo>
                    <a:pt x="544" y="650"/>
                  </a:lnTo>
                  <a:lnTo>
                    <a:pt x="570" y="682"/>
                  </a:lnTo>
                  <a:lnTo>
                    <a:pt x="598" y="710"/>
                  </a:lnTo>
                  <a:lnTo>
                    <a:pt x="628" y="738"/>
                  </a:lnTo>
                  <a:lnTo>
                    <a:pt x="662" y="764"/>
                  </a:lnTo>
                  <a:lnTo>
                    <a:pt x="666" y="768"/>
                  </a:lnTo>
                  <a:lnTo>
                    <a:pt x="668" y="762"/>
                  </a:lnTo>
                  <a:lnTo>
                    <a:pt x="668" y="762"/>
                  </a:lnTo>
                  <a:lnTo>
                    <a:pt x="674" y="740"/>
                  </a:lnTo>
                  <a:lnTo>
                    <a:pt x="682" y="720"/>
                  </a:lnTo>
                  <a:lnTo>
                    <a:pt x="692" y="702"/>
                  </a:lnTo>
                  <a:lnTo>
                    <a:pt x="704" y="686"/>
                  </a:lnTo>
                  <a:lnTo>
                    <a:pt x="704" y="686"/>
                  </a:lnTo>
                  <a:lnTo>
                    <a:pt x="718" y="674"/>
                  </a:lnTo>
                  <a:lnTo>
                    <a:pt x="734" y="664"/>
                  </a:lnTo>
                  <a:lnTo>
                    <a:pt x="752" y="656"/>
                  </a:lnTo>
                  <a:lnTo>
                    <a:pt x="772" y="650"/>
                  </a:lnTo>
                  <a:lnTo>
                    <a:pt x="774" y="650"/>
                  </a:lnTo>
                  <a:lnTo>
                    <a:pt x="776" y="634"/>
                  </a:lnTo>
                  <a:lnTo>
                    <a:pt x="774" y="632"/>
                  </a:lnTo>
                  <a:lnTo>
                    <a:pt x="774" y="632"/>
                  </a:lnTo>
                  <a:lnTo>
                    <a:pt x="726" y="610"/>
                  </a:lnTo>
                  <a:lnTo>
                    <a:pt x="684" y="584"/>
                  </a:lnTo>
                  <a:lnTo>
                    <a:pt x="646" y="558"/>
                  </a:lnTo>
                  <a:lnTo>
                    <a:pt x="610" y="528"/>
                  </a:lnTo>
                  <a:lnTo>
                    <a:pt x="578" y="496"/>
                  </a:lnTo>
                  <a:lnTo>
                    <a:pt x="550" y="464"/>
                  </a:lnTo>
                  <a:lnTo>
                    <a:pt x="524" y="428"/>
                  </a:lnTo>
                  <a:lnTo>
                    <a:pt x="502" y="392"/>
                  </a:lnTo>
                  <a:lnTo>
                    <a:pt x="502" y="392"/>
                  </a:lnTo>
                  <a:lnTo>
                    <a:pt x="484" y="354"/>
                  </a:lnTo>
                  <a:lnTo>
                    <a:pt x="466" y="314"/>
                  </a:lnTo>
                  <a:lnTo>
                    <a:pt x="452" y="272"/>
                  </a:lnTo>
                  <a:lnTo>
                    <a:pt x="440" y="228"/>
                  </a:lnTo>
                  <a:lnTo>
                    <a:pt x="430" y="182"/>
                  </a:lnTo>
                  <a:lnTo>
                    <a:pt x="422" y="136"/>
                  </a:lnTo>
                  <a:lnTo>
                    <a:pt x="416" y="88"/>
                  </a:lnTo>
                  <a:lnTo>
                    <a:pt x="412" y="38"/>
                  </a:lnTo>
                  <a:lnTo>
                    <a:pt x="408" y="38"/>
                  </a:lnTo>
                  <a:lnTo>
                    <a:pt x="408" y="42"/>
                  </a:lnTo>
                  <a:lnTo>
                    <a:pt x="408" y="42"/>
                  </a:lnTo>
                  <a:lnTo>
                    <a:pt x="424" y="40"/>
                  </a:lnTo>
                  <a:lnTo>
                    <a:pt x="434" y="34"/>
                  </a:lnTo>
                  <a:lnTo>
                    <a:pt x="434" y="34"/>
                  </a:lnTo>
                  <a:lnTo>
                    <a:pt x="438" y="32"/>
                  </a:lnTo>
                  <a:lnTo>
                    <a:pt x="442" y="28"/>
                  </a:lnTo>
                  <a:lnTo>
                    <a:pt x="444" y="18"/>
                  </a:lnTo>
                  <a:lnTo>
                    <a:pt x="444" y="14"/>
                  </a:lnTo>
                  <a:lnTo>
                    <a:pt x="276" y="0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6" y="102"/>
                  </a:lnTo>
                  <a:lnTo>
                    <a:pt x="274" y="150"/>
                  </a:lnTo>
                  <a:lnTo>
                    <a:pt x="272" y="198"/>
                  </a:lnTo>
                  <a:lnTo>
                    <a:pt x="268" y="246"/>
                  </a:lnTo>
                  <a:lnTo>
                    <a:pt x="264" y="294"/>
                  </a:lnTo>
                  <a:lnTo>
                    <a:pt x="256" y="342"/>
                  </a:lnTo>
                  <a:lnTo>
                    <a:pt x="244" y="390"/>
                  </a:lnTo>
                  <a:lnTo>
                    <a:pt x="244" y="390"/>
                  </a:lnTo>
                  <a:lnTo>
                    <a:pt x="230" y="436"/>
                  </a:lnTo>
                  <a:lnTo>
                    <a:pt x="214" y="482"/>
                  </a:lnTo>
                  <a:lnTo>
                    <a:pt x="192" y="528"/>
                  </a:lnTo>
                  <a:lnTo>
                    <a:pt x="164" y="572"/>
                  </a:lnTo>
                  <a:lnTo>
                    <a:pt x="134" y="618"/>
                  </a:lnTo>
                  <a:lnTo>
                    <a:pt x="116" y="638"/>
                  </a:lnTo>
                  <a:lnTo>
                    <a:pt x="96" y="660"/>
                  </a:lnTo>
                  <a:lnTo>
                    <a:pt x="76" y="682"/>
                  </a:lnTo>
                  <a:lnTo>
                    <a:pt x="52" y="704"/>
                  </a:lnTo>
                  <a:lnTo>
                    <a:pt x="28" y="726"/>
                  </a:lnTo>
                  <a:lnTo>
                    <a:pt x="4" y="746"/>
                  </a:lnTo>
                  <a:lnTo>
                    <a:pt x="0" y="748"/>
                  </a:lnTo>
                  <a:lnTo>
                    <a:pt x="2" y="752"/>
                  </a:lnTo>
                  <a:lnTo>
                    <a:pt x="6" y="7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11"/>
            <p:cNvSpPr/>
            <p:nvPr/>
          </p:nvSpPr>
          <p:spPr>
            <a:xfrm>
              <a:off x="8515080" y="10039320"/>
              <a:ext cx="1241640" cy="12319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231920"/>
                <a:gd name="textAreaBottom" fmla="*/ 1232280 h 1231920"/>
              </a:gdLst>
              <a:ahLst/>
              <a:rect l="textAreaLeft" t="textAreaTop" r="textAreaRight" b="textAreaBottom"/>
              <a:pathLst>
                <a:path w="782" h="776">
                  <a:moveTo>
                    <a:pt x="566" y="396"/>
                  </a:moveTo>
                  <a:lnTo>
                    <a:pt x="566" y="396"/>
                  </a:lnTo>
                  <a:lnTo>
                    <a:pt x="576" y="430"/>
                  </a:lnTo>
                  <a:lnTo>
                    <a:pt x="586" y="460"/>
                  </a:lnTo>
                  <a:lnTo>
                    <a:pt x="598" y="488"/>
                  </a:lnTo>
                  <a:lnTo>
                    <a:pt x="612" y="512"/>
                  </a:lnTo>
                  <a:lnTo>
                    <a:pt x="612" y="512"/>
                  </a:lnTo>
                  <a:lnTo>
                    <a:pt x="626" y="482"/>
                  </a:lnTo>
                  <a:lnTo>
                    <a:pt x="638" y="454"/>
                  </a:lnTo>
                  <a:lnTo>
                    <a:pt x="648" y="424"/>
                  </a:lnTo>
                  <a:lnTo>
                    <a:pt x="656" y="400"/>
                  </a:lnTo>
                  <a:lnTo>
                    <a:pt x="766" y="474"/>
                  </a:lnTo>
                  <a:lnTo>
                    <a:pt x="766" y="474"/>
                  </a:lnTo>
                  <a:lnTo>
                    <a:pt x="764" y="478"/>
                  </a:lnTo>
                  <a:lnTo>
                    <a:pt x="760" y="480"/>
                  </a:lnTo>
                  <a:lnTo>
                    <a:pt x="756" y="482"/>
                  </a:lnTo>
                  <a:lnTo>
                    <a:pt x="748" y="482"/>
                  </a:lnTo>
                  <a:lnTo>
                    <a:pt x="748" y="482"/>
                  </a:lnTo>
                  <a:lnTo>
                    <a:pt x="736" y="482"/>
                  </a:lnTo>
                  <a:lnTo>
                    <a:pt x="736" y="482"/>
                  </a:lnTo>
                  <a:lnTo>
                    <a:pt x="686" y="508"/>
                  </a:lnTo>
                  <a:lnTo>
                    <a:pt x="630" y="534"/>
                  </a:lnTo>
                  <a:lnTo>
                    <a:pt x="630" y="534"/>
                  </a:lnTo>
                  <a:lnTo>
                    <a:pt x="646" y="552"/>
                  </a:lnTo>
                  <a:lnTo>
                    <a:pt x="664" y="566"/>
                  </a:lnTo>
                  <a:lnTo>
                    <a:pt x="682" y="580"/>
                  </a:lnTo>
                  <a:lnTo>
                    <a:pt x="700" y="590"/>
                  </a:lnTo>
                  <a:lnTo>
                    <a:pt x="720" y="600"/>
                  </a:lnTo>
                  <a:lnTo>
                    <a:pt x="740" y="608"/>
                  </a:lnTo>
                  <a:lnTo>
                    <a:pt x="782" y="622"/>
                  </a:lnTo>
                  <a:lnTo>
                    <a:pt x="780" y="630"/>
                  </a:lnTo>
                  <a:lnTo>
                    <a:pt x="780" y="630"/>
                  </a:lnTo>
                  <a:lnTo>
                    <a:pt x="766" y="636"/>
                  </a:lnTo>
                  <a:lnTo>
                    <a:pt x="752" y="646"/>
                  </a:lnTo>
                  <a:lnTo>
                    <a:pt x="740" y="656"/>
                  </a:lnTo>
                  <a:lnTo>
                    <a:pt x="730" y="670"/>
                  </a:lnTo>
                  <a:lnTo>
                    <a:pt x="720" y="684"/>
                  </a:lnTo>
                  <a:lnTo>
                    <a:pt x="712" y="702"/>
                  </a:lnTo>
                  <a:lnTo>
                    <a:pt x="706" y="720"/>
                  </a:lnTo>
                  <a:lnTo>
                    <a:pt x="702" y="740"/>
                  </a:lnTo>
                  <a:lnTo>
                    <a:pt x="702" y="740"/>
                  </a:lnTo>
                  <a:lnTo>
                    <a:pt x="674" y="714"/>
                  </a:lnTo>
                  <a:lnTo>
                    <a:pt x="650" y="688"/>
                  </a:lnTo>
                  <a:lnTo>
                    <a:pt x="628" y="658"/>
                  </a:lnTo>
                  <a:lnTo>
                    <a:pt x="612" y="624"/>
                  </a:lnTo>
                  <a:lnTo>
                    <a:pt x="596" y="586"/>
                  </a:lnTo>
                  <a:lnTo>
                    <a:pt x="584" y="542"/>
                  </a:lnTo>
                  <a:lnTo>
                    <a:pt x="576" y="492"/>
                  </a:lnTo>
                  <a:lnTo>
                    <a:pt x="568" y="436"/>
                  </a:lnTo>
                  <a:lnTo>
                    <a:pt x="566" y="436"/>
                  </a:lnTo>
                  <a:lnTo>
                    <a:pt x="566" y="658"/>
                  </a:lnTo>
                  <a:lnTo>
                    <a:pt x="566" y="658"/>
                  </a:lnTo>
                  <a:lnTo>
                    <a:pt x="566" y="680"/>
                  </a:lnTo>
                  <a:lnTo>
                    <a:pt x="562" y="702"/>
                  </a:lnTo>
                  <a:lnTo>
                    <a:pt x="556" y="722"/>
                  </a:lnTo>
                  <a:lnTo>
                    <a:pt x="550" y="730"/>
                  </a:lnTo>
                  <a:lnTo>
                    <a:pt x="544" y="738"/>
                  </a:lnTo>
                  <a:lnTo>
                    <a:pt x="536" y="744"/>
                  </a:lnTo>
                  <a:lnTo>
                    <a:pt x="528" y="752"/>
                  </a:lnTo>
                  <a:lnTo>
                    <a:pt x="516" y="756"/>
                  </a:lnTo>
                  <a:lnTo>
                    <a:pt x="504" y="762"/>
                  </a:lnTo>
                  <a:lnTo>
                    <a:pt x="490" y="766"/>
                  </a:lnTo>
                  <a:lnTo>
                    <a:pt x="474" y="770"/>
                  </a:lnTo>
                  <a:lnTo>
                    <a:pt x="436" y="774"/>
                  </a:lnTo>
                  <a:lnTo>
                    <a:pt x="436" y="774"/>
                  </a:lnTo>
                  <a:lnTo>
                    <a:pt x="436" y="750"/>
                  </a:lnTo>
                  <a:lnTo>
                    <a:pt x="434" y="732"/>
                  </a:lnTo>
                  <a:lnTo>
                    <a:pt x="428" y="716"/>
                  </a:lnTo>
                  <a:lnTo>
                    <a:pt x="422" y="702"/>
                  </a:lnTo>
                  <a:lnTo>
                    <a:pt x="414" y="694"/>
                  </a:lnTo>
                  <a:lnTo>
                    <a:pt x="402" y="686"/>
                  </a:lnTo>
                  <a:lnTo>
                    <a:pt x="386" y="680"/>
                  </a:lnTo>
                  <a:lnTo>
                    <a:pt x="366" y="676"/>
                  </a:lnTo>
                  <a:lnTo>
                    <a:pt x="366" y="676"/>
                  </a:lnTo>
                  <a:lnTo>
                    <a:pt x="346" y="704"/>
                  </a:lnTo>
                  <a:lnTo>
                    <a:pt x="346" y="704"/>
                  </a:lnTo>
                  <a:lnTo>
                    <a:pt x="342" y="712"/>
                  </a:lnTo>
                  <a:lnTo>
                    <a:pt x="340" y="720"/>
                  </a:lnTo>
                  <a:lnTo>
                    <a:pt x="334" y="726"/>
                  </a:lnTo>
                  <a:lnTo>
                    <a:pt x="328" y="730"/>
                  </a:lnTo>
                  <a:lnTo>
                    <a:pt x="250" y="626"/>
                  </a:lnTo>
                  <a:lnTo>
                    <a:pt x="250" y="626"/>
                  </a:lnTo>
                  <a:lnTo>
                    <a:pt x="330" y="598"/>
                  </a:lnTo>
                  <a:lnTo>
                    <a:pt x="442" y="554"/>
                  </a:lnTo>
                  <a:lnTo>
                    <a:pt x="444" y="560"/>
                  </a:lnTo>
                  <a:lnTo>
                    <a:pt x="444" y="560"/>
                  </a:lnTo>
                  <a:lnTo>
                    <a:pt x="416" y="606"/>
                  </a:lnTo>
                  <a:lnTo>
                    <a:pt x="372" y="668"/>
                  </a:lnTo>
                  <a:lnTo>
                    <a:pt x="446" y="668"/>
                  </a:lnTo>
                  <a:lnTo>
                    <a:pt x="446" y="668"/>
                  </a:lnTo>
                  <a:lnTo>
                    <a:pt x="450" y="668"/>
                  </a:lnTo>
                  <a:lnTo>
                    <a:pt x="452" y="664"/>
                  </a:lnTo>
                  <a:lnTo>
                    <a:pt x="454" y="660"/>
                  </a:lnTo>
                  <a:lnTo>
                    <a:pt x="454" y="656"/>
                  </a:lnTo>
                  <a:lnTo>
                    <a:pt x="454" y="378"/>
                  </a:lnTo>
                  <a:lnTo>
                    <a:pt x="296" y="378"/>
                  </a:lnTo>
                  <a:lnTo>
                    <a:pt x="296" y="378"/>
                  </a:lnTo>
                  <a:lnTo>
                    <a:pt x="306" y="388"/>
                  </a:lnTo>
                  <a:lnTo>
                    <a:pt x="312" y="398"/>
                  </a:lnTo>
                  <a:lnTo>
                    <a:pt x="322" y="414"/>
                  </a:lnTo>
                  <a:lnTo>
                    <a:pt x="322" y="414"/>
                  </a:lnTo>
                  <a:lnTo>
                    <a:pt x="352" y="422"/>
                  </a:lnTo>
                  <a:lnTo>
                    <a:pt x="376" y="430"/>
                  </a:lnTo>
                  <a:lnTo>
                    <a:pt x="396" y="440"/>
                  </a:lnTo>
                  <a:lnTo>
                    <a:pt x="412" y="450"/>
                  </a:lnTo>
                  <a:lnTo>
                    <a:pt x="424" y="462"/>
                  </a:lnTo>
                  <a:lnTo>
                    <a:pt x="430" y="472"/>
                  </a:lnTo>
                  <a:lnTo>
                    <a:pt x="436" y="484"/>
                  </a:lnTo>
                  <a:lnTo>
                    <a:pt x="436" y="496"/>
                  </a:lnTo>
                  <a:lnTo>
                    <a:pt x="436" y="496"/>
                  </a:lnTo>
                  <a:lnTo>
                    <a:pt x="436" y="506"/>
                  </a:lnTo>
                  <a:lnTo>
                    <a:pt x="432" y="516"/>
                  </a:lnTo>
                  <a:lnTo>
                    <a:pt x="426" y="526"/>
                  </a:lnTo>
                  <a:lnTo>
                    <a:pt x="420" y="534"/>
                  </a:lnTo>
                  <a:lnTo>
                    <a:pt x="410" y="540"/>
                  </a:lnTo>
                  <a:lnTo>
                    <a:pt x="400" y="546"/>
                  </a:lnTo>
                  <a:lnTo>
                    <a:pt x="390" y="550"/>
                  </a:lnTo>
                  <a:lnTo>
                    <a:pt x="380" y="550"/>
                  </a:lnTo>
                  <a:lnTo>
                    <a:pt x="380" y="550"/>
                  </a:lnTo>
                  <a:lnTo>
                    <a:pt x="368" y="548"/>
                  </a:lnTo>
                  <a:lnTo>
                    <a:pt x="356" y="544"/>
                  </a:lnTo>
                  <a:lnTo>
                    <a:pt x="344" y="536"/>
                  </a:lnTo>
                  <a:lnTo>
                    <a:pt x="334" y="526"/>
                  </a:lnTo>
                  <a:lnTo>
                    <a:pt x="334" y="526"/>
                  </a:lnTo>
                  <a:lnTo>
                    <a:pt x="336" y="506"/>
                  </a:lnTo>
                  <a:lnTo>
                    <a:pt x="336" y="506"/>
                  </a:lnTo>
                  <a:lnTo>
                    <a:pt x="336" y="490"/>
                  </a:lnTo>
                  <a:lnTo>
                    <a:pt x="334" y="476"/>
                  </a:lnTo>
                  <a:lnTo>
                    <a:pt x="330" y="460"/>
                  </a:lnTo>
                  <a:lnTo>
                    <a:pt x="324" y="446"/>
                  </a:lnTo>
                  <a:lnTo>
                    <a:pt x="324" y="446"/>
                  </a:lnTo>
                  <a:lnTo>
                    <a:pt x="322" y="456"/>
                  </a:lnTo>
                  <a:lnTo>
                    <a:pt x="316" y="464"/>
                  </a:lnTo>
                  <a:lnTo>
                    <a:pt x="312" y="472"/>
                  </a:lnTo>
                  <a:lnTo>
                    <a:pt x="304" y="478"/>
                  </a:lnTo>
                  <a:lnTo>
                    <a:pt x="298" y="482"/>
                  </a:lnTo>
                  <a:lnTo>
                    <a:pt x="288" y="486"/>
                  </a:lnTo>
                  <a:lnTo>
                    <a:pt x="280" y="490"/>
                  </a:lnTo>
                  <a:lnTo>
                    <a:pt x="272" y="490"/>
                  </a:lnTo>
                  <a:lnTo>
                    <a:pt x="272" y="490"/>
                  </a:lnTo>
                  <a:lnTo>
                    <a:pt x="260" y="488"/>
                  </a:lnTo>
                  <a:lnTo>
                    <a:pt x="248" y="484"/>
                  </a:lnTo>
                  <a:lnTo>
                    <a:pt x="238" y="476"/>
                  </a:lnTo>
                  <a:lnTo>
                    <a:pt x="228" y="464"/>
                  </a:lnTo>
                  <a:lnTo>
                    <a:pt x="228" y="464"/>
                  </a:lnTo>
                  <a:lnTo>
                    <a:pt x="230" y="440"/>
                  </a:lnTo>
                  <a:lnTo>
                    <a:pt x="230" y="440"/>
                  </a:lnTo>
                  <a:lnTo>
                    <a:pt x="228" y="418"/>
                  </a:lnTo>
                  <a:lnTo>
                    <a:pt x="226" y="394"/>
                  </a:lnTo>
                  <a:lnTo>
                    <a:pt x="220" y="372"/>
                  </a:lnTo>
                  <a:lnTo>
                    <a:pt x="212" y="350"/>
                  </a:lnTo>
                  <a:lnTo>
                    <a:pt x="212" y="744"/>
                  </a:lnTo>
                  <a:lnTo>
                    <a:pt x="212" y="744"/>
                  </a:lnTo>
                  <a:lnTo>
                    <a:pt x="210" y="748"/>
                  </a:lnTo>
                  <a:lnTo>
                    <a:pt x="204" y="754"/>
                  </a:lnTo>
                  <a:lnTo>
                    <a:pt x="184" y="764"/>
                  </a:lnTo>
                  <a:lnTo>
                    <a:pt x="170" y="768"/>
                  </a:lnTo>
                  <a:lnTo>
                    <a:pt x="156" y="772"/>
                  </a:lnTo>
                  <a:lnTo>
                    <a:pt x="140" y="774"/>
                  </a:lnTo>
                  <a:lnTo>
                    <a:pt x="124" y="776"/>
                  </a:lnTo>
                  <a:lnTo>
                    <a:pt x="102" y="776"/>
                  </a:lnTo>
                  <a:lnTo>
                    <a:pt x="102" y="486"/>
                  </a:lnTo>
                  <a:lnTo>
                    <a:pt x="102" y="486"/>
                  </a:lnTo>
                  <a:lnTo>
                    <a:pt x="82" y="512"/>
                  </a:lnTo>
                  <a:lnTo>
                    <a:pt x="60" y="536"/>
                  </a:lnTo>
                  <a:lnTo>
                    <a:pt x="38" y="560"/>
                  </a:lnTo>
                  <a:lnTo>
                    <a:pt x="14" y="584"/>
                  </a:lnTo>
                  <a:lnTo>
                    <a:pt x="4" y="572"/>
                  </a:lnTo>
                  <a:lnTo>
                    <a:pt x="4" y="572"/>
                  </a:lnTo>
                  <a:lnTo>
                    <a:pt x="22" y="536"/>
                  </a:lnTo>
                  <a:lnTo>
                    <a:pt x="38" y="496"/>
                  </a:lnTo>
                  <a:lnTo>
                    <a:pt x="52" y="454"/>
                  </a:lnTo>
                  <a:lnTo>
                    <a:pt x="64" y="410"/>
                  </a:lnTo>
                  <a:lnTo>
                    <a:pt x="76" y="364"/>
                  </a:lnTo>
                  <a:lnTo>
                    <a:pt x="84" y="318"/>
                  </a:lnTo>
                  <a:lnTo>
                    <a:pt x="92" y="272"/>
                  </a:lnTo>
                  <a:lnTo>
                    <a:pt x="98" y="224"/>
                  </a:lnTo>
                  <a:lnTo>
                    <a:pt x="4" y="224"/>
                  </a:lnTo>
                  <a:lnTo>
                    <a:pt x="0" y="212"/>
                  </a:lnTo>
                  <a:lnTo>
                    <a:pt x="102" y="212"/>
                  </a:lnTo>
                  <a:lnTo>
                    <a:pt x="102" y="4"/>
                  </a:lnTo>
                  <a:lnTo>
                    <a:pt x="242" y="18"/>
                  </a:lnTo>
                  <a:lnTo>
                    <a:pt x="242" y="18"/>
                  </a:lnTo>
                  <a:lnTo>
                    <a:pt x="240" y="26"/>
                  </a:lnTo>
                  <a:lnTo>
                    <a:pt x="236" y="32"/>
                  </a:lnTo>
                  <a:lnTo>
                    <a:pt x="226" y="36"/>
                  </a:lnTo>
                  <a:lnTo>
                    <a:pt x="212" y="40"/>
                  </a:lnTo>
                  <a:lnTo>
                    <a:pt x="212" y="210"/>
                  </a:lnTo>
                  <a:lnTo>
                    <a:pt x="254" y="142"/>
                  </a:lnTo>
                  <a:lnTo>
                    <a:pt x="332" y="214"/>
                  </a:lnTo>
                  <a:lnTo>
                    <a:pt x="332" y="214"/>
                  </a:lnTo>
                  <a:lnTo>
                    <a:pt x="326" y="220"/>
                  </a:lnTo>
                  <a:lnTo>
                    <a:pt x="318" y="222"/>
                  </a:lnTo>
                  <a:lnTo>
                    <a:pt x="306" y="224"/>
                  </a:lnTo>
                  <a:lnTo>
                    <a:pt x="292" y="224"/>
                  </a:lnTo>
                  <a:lnTo>
                    <a:pt x="212" y="224"/>
                  </a:lnTo>
                  <a:lnTo>
                    <a:pt x="212" y="332"/>
                  </a:lnTo>
                  <a:lnTo>
                    <a:pt x="212" y="332"/>
                  </a:lnTo>
                  <a:lnTo>
                    <a:pt x="238" y="344"/>
                  </a:lnTo>
                  <a:lnTo>
                    <a:pt x="260" y="354"/>
                  </a:lnTo>
                  <a:lnTo>
                    <a:pt x="280" y="366"/>
                  </a:lnTo>
                  <a:lnTo>
                    <a:pt x="296" y="378"/>
                  </a:lnTo>
                  <a:lnTo>
                    <a:pt x="292" y="366"/>
                  </a:lnTo>
                  <a:lnTo>
                    <a:pt x="454" y="366"/>
                  </a:lnTo>
                  <a:lnTo>
                    <a:pt x="454" y="272"/>
                  </a:lnTo>
                  <a:lnTo>
                    <a:pt x="328" y="272"/>
                  </a:lnTo>
                  <a:lnTo>
                    <a:pt x="324" y="260"/>
                  </a:lnTo>
                  <a:lnTo>
                    <a:pt x="454" y="260"/>
                  </a:lnTo>
                  <a:lnTo>
                    <a:pt x="454" y="168"/>
                  </a:lnTo>
                  <a:lnTo>
                    <a:pt x="306" y="168"/>
                  </a:lnTo>
                  <a:lnTo>
                    <a:pt x="302" y="154"/>
                  </a:lnTo>
                  <a:lnTo>
                    <a:pt x="402" y="154"/>
                  </a:lnTo>
                  <a:lnTo>
                    <a:pt x="402" y="154"/>
                  </a:lnTo>
                  <a:lnTo>
                    <a:pt x="388" y="146"/>
                  </a:lnTo>
                  <a:lnTo>
                    <a:pt x="374" y="134"/>
                  </a:lnTo>
                  <a:lnTo>
                    <a:pt x="374" y="134"/>
                  </a:lnTo>
                  <a:lnTo>
                    <a:pt x="374" y="118"/>
                  </a:lnTo>
                  <a:lnTo>
                    <a:pt x="372" y="102"/>
                  </a:lnTo>
                  <a:lnTo>
                    <a:pt x="368" y="84"/>
                  </a:lnTo>
                  <a:lnTo>
                    <a:pt x="364" y="68"/>
                  </a:lnTo>
                  <a:lnTo>
                    <a:pt x="360" y="52"/>
                  </a:lnTo>
                  <a:lnTo>
                    <a:pt x="352" y="36"/>
                  </a:lnTo>
                  <a:lnTo>
                    <a:pt x="344" y="22"/>
                  </a:lnTo>
                  <a:lnTo>
                    <a:pt x="336" y="10"/>
                  </a:lnTo>
                  <a:lnTo>
                    <a:pt x="342" y="4"/>
                  </a:lnTo>
                  <a:lnTo>
                    <a:pt x="342" y="4"/>
                  </a:lnTo>
                  <a:lnTo>
                    <a:pt x="378" y="14"/>
                  </a:lnTo>
                  <a:lnTo>
                    <a:pt x="408" y="24"/>
                  </a:lnTo>
                  <a:lnTo>
                    <a:pt x="432" y="34"/>
                  </a:lnTo>
                  <a:lnTo>
                    <a:pt x="452" y="46"/>
                  </a:lnTo>
                  <a:lnTo>
                    <a:pt x="466" y="60"/>
                  </a:lnTo>
                  <a:lnTo>
                    <a:pt x="476" y="74"/>
                  </a:lnTo>
                  <a:lnTo>
                    <a:pt x="480" y="86"/>
                  </a:lnTo>
                  <a:lnTo>
                    <a:pt x="482" y="100"/>
                  </a:lnTo>
                  <a:lnTo>
                    <a:pt x="482" y="100"/>
                  </a:lnTo>
                  <a:lnTo>
                    <a:pt x="482" y="108"/>
                  </a:lnTo>
                  <a:lnTo>
                    <a:pt x="480" y="118"/>
                  </a:lnTo>
                  <a:lnTo>
                    <a:pt x="476" y="126"/>
                  </a:lnTo>
                  <a:lnTo>
                    <a:pt x="470" y="134"/>
                  </a:lnTo>
                  <a:lnTo>
                    <a:pt x="464" y="140"/>
                  </a:lnTo>
                  <a:lnTo>
                    <a:pt x="458" y="146"/>
                  </a:lnTo>
                  <a:lnTo>
                    <a:pt x="450" y="150"/>
                  </a:lnTo>
                  <a:lnTo>
                    <a:pt x="442" y="154"/>
                  </a:lnTo>
                  <a:lnTo>
                    <a:pt x="540" y="154"/>
                  </a:lnTo>
                  <a:lnTo>
                    <a:pt x="540" y="154"/>
                  </a:lnTo>
                  <a:lnTo>
                    <a:pt x="560" y="76"/>
                  </a:lnTo>
                  <a:lnTo>
                    <a:pt x="578" y="0"/>
                  </a:lnTo>
                  <a:lnTo>
                    <a:pt x="716" y="46"/>
                  </a:lnTo>
                  <a:lnTo>
                    <a:pt x="716" y="46"/>
                  </a:lnTo>
                  <a:lnTo>
                    <a:pt x="714" y="52"/>
                  </a:lnTo>
                  <a:lnTo>
                    <a:pt x="708" y="56"/>
                  </a:lnTo>
                  <a:lnTo>
                    <a:pt x="698" y="58"/>
                  </a:lnTo>
                  <a:lnTo>
                    <a:pt x="684" y="58"/>
                  </a:lnTo>
                  <a:lnTo>
                    <a:pt x="684" y="58"/>
                  </a:lnTo>
                  <a:lnTo>
                    <a:pt x="624" y="104"/>
                  </a:lnTo>
                  <a:lnTo>
                    <a:pt x="556" y="154"/>
                  </a:lnTo>
                  <a:lnTo>
                    <a:pt x="624" y="154"/>
                  </a:lnTo>
                  <a:lnTo>
                    <a:pt x="672" y="92"/>
                  </a:lnTo>
                  <a:lnTo>
                    <a:pt x="766" y="156"/>
                  </a:lnTo>
                  <a:lnTo>
                    <a:pt x="766" y="156"/>
                  </a:lnTo>
                  <a:lnTo>
                    <a:pt x="760" y="162"/>
                  </a:lnTo>
                  <a:lnTo>
                    <a:pt x="752" y="166"/>
                  </a:lnTo>
                  <a:lnTo>
                    <a:pt x="740" y="166"/>
                  </a:lnTo>
                  <a:lnTo>
                    <a:pt x="728" y="168"/>
                  </a:lnTo>
                  <a:lnTo>
                    <a:pt x="566" y="168"/>
                  </a:lnTo>
                  <a:lnTo>
                    <a:pt x="566" y="260"/>
                  </a:lnTo>
                  <a:lnTo>
                    <a:pt x="604" y="260"/>
                  </a:lnTo>
                  <a:lnTo>
                    <a:pt x="652" y="198"/>
                  </a:lnTo>
                  <a:lnTo>
                    <a:pt x="742" y="262"/>
                  </a:lnTo>
                  <a:lnTo>
                    <a:pt x="742" y="262"/>
                  </a:lnTo>
                  <a:lnTo>
                    <a:pt x="736" y="268"/>
                  </a:lnTo>
                  <a:lnTo>
                    <a:pt x="728" y="270"/>
                  </a:lnTo>
                  <a:lnTo>
                    <a:pt x="718" y="272"/>
                  </a:lnTo>
                  <a:lnTo>
                    <a:pt x="704" y="272"/>
                  </a:lnTo>
                  <a:lnTo>
                    <a:pt x="566" y="272"/>
                  </a:lnTo>
                  <a:lnTo>
                    <a:pt x="566" y="366"/>
                  </a:lnTo>
                  <a:lnTo>
                    <a:pt x="632" y="366"/>
                  </a:lnTo>
                  <a:lnTo>
                    <a:pt x="682" y="298"/>
                  </a:lnTo>
                  <a:lnTo>
                    <a:pt x="774" y="368"/>
                  </a:lnTo>
                  <a:lnTo>
                    <a:pt x="774" y="368"/>
                  </a:lnTo>
                  <a:lnTo>
                    <a:pt x="768" y="374"/>
                  </a:lnTo>
                  <a:lnTo>
                    <a:pt x="760" y="376"/>
                  </a:lnTo>
                  <a:lnTo>
                    <a:pt x="750" y="378"/>
                  </a:lnTo>
                  <a:lnTo>
                    <a:pt x="736" y="378"/>
                  </a:lnTo>
                  <a:lnTo>
                    <a:pt x="566" y="378"/>
                  </a:lnTo>
                  <a:lnTo>
                    <a:pt x="566" y="39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12"/>
            <p:cNvSpPr/>
            <p:nvPr/>
          </p:nvSpPr>
          <p:spPr>
            <a:xfrm>
              <a:off x="8508600" y="10029960"/>
              <a:ext cx="1254600" cy="124776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790" h="786">
                  <a:moveTo>
                    <a:pt x="570" y="402"/>
                  </a:moveTo>
                  <a:lnTo>
                    <a:pt x="566" y="402"/>
                  </a:lnTo>
                  <a:lnTo>
                    <a:pt x="566" y="402"/>
                  </a:lnTo>
                  <a:lnTo>
                    <a:pt x="576" y="436"/>
                  </a:lnTo>
                  <a:lnTo>
                    <a:pt x="586" y="468"/>
                  </a:lnTo>
                  <a:lnTo>
                    <a:pt x="598" y="496"/>
                  </a:lnTo>
                  <a:lnTo>
                    <a:pt x="614" y="520"/>
                  </a:lnTo>
                  <a:lnTo>
                    <a:pt x="618" y="526"/>
                  </a:lnTo>
                  <a:lnTo>
                    <a:pt x="620" y="518"/>
                  </a:lnTo>
                  <a:lnTo>
                    <a:pt x="620" y="518"/>
                  </a:lnTo>
                  <a:lnTo>
                    <a:pt x="634" y="490"/>
                  </a:lnTo>
                  <a:lnTo>
                    <a:pt x="646" y="460"/>
                  </a:lnTo>
                  <a:lnTo>
                    <a:pt x="656" y="432"/>
                  </a:lnTo>
                  <a:lnTo>
                    <a:pt x="664" y="408"/>
                  </a:lnTo>
                  <a:lnTo>
                    <a:pt x="660" y="406"/>
                  </a:lnTo>
                  <a:lnTo>
                    <a:pt x="658" y="410"/>
                  </a:lnTo>
                  <a:lnTo>
                    <a:pt x="768" y="482"/>
                  </a:lnTo>
                  <a:lnTo>
                    <a:pt x="770" y="480"/>
                  </a:lnTo>
                  <a:lnTo>
                    <a:pt x="768" y="478"/>
                  </a:lnTo>
                  <a:lnTo>
                    <a:pt x="768" y="478"/>
                  </a:lnTo>
                  <a:lnTo>
                    <a:pt x="762" y="482"/>
                  </a:lnTo>
                  <a:lnTo>
                    <a:pt x="762" y="482"/>
                  </a:lnTo>
                  <a:lnTo>
                    <a:pt x="758" y="484"/>
                  </a:lnTo>
                  <a:lnTo>
                    <a:pt x="752" y="484"/>
                  </a:lnTo>
                  <a:lnTo>
                    <a:pt x="752" y="484"/>
                  </a:lnTo>
                  <a:lnTo>
                    <a:pt x="740" y="484"/>
                  </a:lnTo>
                  <a:lnTo>
                    <a:pt x="740" y="484"/>
                  </a:lnTo>
                  <a:lnTo>
                    <a:pt x="738" y="484"/>
                  </a:lnTo>
                  <a:lnTo>
                    <a:pt x="738" y="484"/>
                  </a:lnTo>
                  <a:lnTo>
                    <a:pt x="688" y="512"/>
                  </a:lnTo>
                  <a:lnTo>
                    <a:pt x="632" y="536"/>
                  </a:lnTo>
                  <a:lnTo>
                    <a:pt x="628" y="538"/>
                  </a:lnTo>
                  <a:lnTo>
                    <a:pt x="630" y="542"/>
                  </a:lnTo>
                  <a:lnTo>
                    <a:pt x="630" y="542"/>
                  </a:lnTo>
                  <a:lnTo>
                    <a:pt x="648" y="560"/>
                  </a:lnTo>
                  <a:lnTo>
                    <a:pt x="666" y="576"/>
                  </a:lnTo>
                  <a:lnTo>
                    <a:pt x="684" y="588"/>
                  </a:lnTo>
                  <a:lnTo>
                    <a:pt x="702" y="600"/>
                  </a:lnTo>
                  <a:lnTo>
                    <a:pt x="722" y="610"/>
                  </a:lnTo>
                  <a:lnTo>
                    <a:pt x="744" y="618"/>
                  </a:lnTo>
                  <a:lnTo>
                    <a:pt x="784" y="632"/>
                  </a:lnTo>
                  <a:lnTo>
                    <a:pt x="786" y="628"/>
                  </a:lnTo>
                  <a:lnTo>
                    <a:pt x="782" y="628"/>
                  </a:lnTo>
                  <a:lnTo>
                    <a:pt x="780" y="636"/>
                  </a:lnTo>
                  <a:lnTo>
                    <a:pt x="784" y="636"/>
                  </a:lnTo>
                  <a:lnTo>
                    <a:pt x="784" y="632"/>
                  </a:lnTo>
                  <a:lnTo>
                    <a:pt x="784" y="632"/>
                  </a:lnTo>
                  <a:lnTo>
                    <a:pt x="768" y="638"/>
                  </a:lnTo>
                  <a:lnTo>
                    <a:pt x="754" y="648"/>
                  </a:lnTo>
                  <a:lnTo>
                    <a:pt x="742" y="660"/>
                  </a:lnTo>
                  <a:lnTo>
                    <a:pt x="730" y="674"/>
                  </a:lnTo>
                  <a:lnTo>
                    <a:pt x="720" y="688"/>
                  </a:lnTo>
                  <a:lnTo>
                    <a:pt x="712" y="706"/>
                  </a:lnTo>
                  <a:lnTo>
                    <a:pt x="706" y="724"/>
                  </a:lnTo>
                  <a:lnTo>
                    <a:pt x="702" y="744"/>
                  </a:lnTo>
                  <a:lnTo>
                    <a:pt x="706" y="746"/>
                  </a:lnTo>
                  <a:lnTo>
                    <a:pt x="708" y="742"/>
                  </a:lnTo>
                  <a:lnTo>
                    <a:pt x="708" y="742"/>
                  </a:lnTo>
                  <a:lnTo>
                    <a:pt x="680" y="718"/>
                  </a:lnTo>
                  <a:lnTo>
                    <a:pt x="656" y="692"/>
                  </a:lnTo>
                  <a:lnTo>
                    <a:pt x="636" y="662"/>
                  </a:lnTo>
                  <a:lnTo>
                    <a:pt x="618" y="628"/>
                  </a:lnTo>
                  <a:lnTo>
                    <a:pt x="618" y="628"/>
                  </a:lnTo>
                  <a:lnTo>
                    <a:pt x="604" y="590"/>
                  </a:lnTo>
                  <a:lnTo>
                    <a:pt x="592" y="548"/>
                  </a:lnTo>
                  <a:lnTo>
                    <a:pt x="584" y="498"/>
                  </a:lnTo>
                  <a:lnTo>
                    <a:pt x="576" y="442"/>
                  </a:lnTo>
                  <a:lnTo>
                    <a:pt x="574" y="438"/>
                  </a:lnTo>
                  <a:lnTo>
                    <a:pt x="570" y="438"/>
                  </a:lnTo>
                  <a:lnTo>
                    <a:pt x="566" y="438"/>
                  </a:lnTo>
                  <a:lnTo>
                    <a:pt x="566" y="664"/>
                  </a:lnTo>
                  <a:lnTo>
                    <a:pt x="566" y="664"/>
                  </a:lnTo>
                  <a:lnTo>
                    <a:pt x="566" y="686"/>
                  </a:lnTo>
                  <a:lnTo>
                    <a:pt x="562" y="708"/>
                  </a:lnTo>
                  <a:lnTo>
                    <a:pt x="562" y="708"/>
                  </a:lnTo>
                  <a:lnTo>
                    <a:pt x="558" y="722"/>
                  </a:lnTo>
                  <a:lnTo>
                    <a:pt x="550" y="734"/>
                  </a:lnTo>
                  <a:lnTo>
                    <a:pt x="542" y="744"/>
                  </a:lnTo>
                  <a:lnTo>
                    <a:pt x="530" y="754"/>
                  </a:lnTo>
                  <a:lnTo>
                    <a:pt x="530" y="754"/>
                  </a:lnTo>
                  <a:lnTo>
                    <a:pt x="514" y="762"/>
                  </a:lnTo>
                  <a:lnTo>
                    <a:pt x="494" y="768"/>
                  </a:lnTo>
                  <a:lnTo>
                    <a:pt x="468" y="774"/>
                  </a:lnTo>
                  <a:lnTo>
                    <a:pt x="440" y="776"/>
                  </a:lnTo>
                  <a:lnTo>
                    <a:pt x="440" y="780"/>
                  </a:lnTo>
                  <a:lnTo>
                    <a:pt x="444" y="780"/>
                  </a:lnTo>
                  <a:lnTo>
                    <a:pt x="444" y="780"/>
                  </a:lnTo>
                  <a:lnTo>
                    <a:pt x="444" y="756"/>
                  </a:lnTo>
                  <a:lnTo>
                    <a:pt x="440" y="736"/>
                  </a:lnTo>
                  <a:lnTo>
                    <a:pt x="436" y="720"/>
                  </a:lnTo>
                  <a:lnTo>
                    <a:pt x="430" y="706"/>
                  </a:lnTo>
                  <a:lnTo>
                    <a:pt x="430" y="706"/>
                  </a:lnTo>
                  <a:lnTo>
                    <a:pt x="420" y="696"/>
                  </a:lnTo>
                  <a:lnTo>
                    <a:pt x="406" y="688"/>
                  </a:lnTo>
                  <a:lnTo>
                    <a:pt x="406" y="688"/>
                  </a:lnTo>
                  <a:lnTo>
                    <a:pt x="390" y="682"/>
                  </a:lnTo>
                  <a:lnTo>
                    <a:pt x="370" y="678"/>
                  </a:lnTo>
                  <a:lnTo>
                    <a:pt x="368" y="678"/>
                  </a:lnTo>
                  <a:lnTo>
                    <a:pt x="366" y="680"/>
                  </a:lnTo>
                  <a:lnTo>
                    <a:pt x="366" y="680"/>
                  </a:lnTo>
                  <a:lnTo>
                    <a:pt x="346" y="708"/>
                  </a:lnTo>
                  <a:lnTo>
                    <a:pt x="346" y="708"/>
                  </a:lnTo>
                  <a:lnTo>
                    <a:pt x="346" y="710"/>
                  </a:lnTo>
                  <a:lnTo>
                    <a:pt x="346" y="710"/>
                  </a:lnTo>
                  <a:lnTo>
                    <a:pt x="344" y="718"/>
                  </a:lnTo>
                  <a:lnTo>
                    <a:pt x="340" y="724"/>
                  </a:lnTo>
                  <a:lnTo>
                    <a:pt x="336" y="728"/>
                  </a:lnTo>
                  <a:lnTo>
                    <a:pt x="330" y="732"/>
                  </a:lnTo>
                  <a:lnTo>
                    <a:pt x="332" y="736"/>
                  </a:lnTo>
                  <a:lnTo>
                    <a:pt x="336" y="734"/>
                  </a:lnTo>
                  <a:lnTo>
                    <a:pt x="256" y="630"/>
                  </a:lnTo>
                  <a:lnTo>
                    <a:pt x="254" y="632"/>
                  </a:lnTo>
                  <a:lnTo>
                    <a:pt x="254" y="636"/>
                  </a:lnTo>
                  <a:lnTo>
                    <a:pt x="254" y="636"/>
                  </a:lnTo>
                  <a:lnTo>
                    <a:pt x="336" y="606"/>
                  </a:lnTo>
                  <a:lnTo>
                    <a:pt x="448" y="564"/>
                  </a:lnTo>
                  <a:lnTo>
                    <a:pt x="446" y="560"/>
                  </a:lnTo>
                  <a:lnTo>
                    <a:pt x="442" y="560"/>
                  </a:lnTo>
                  <a:lnTo>
                    <a:pt x="446" y="568"/>
                  </a:lnTo>
                  <a:lnTo>
                    <a:pt x="448" y="566"/>
                  </a:lnTo>
                  <a:lnTo>
                    <a:pt x="446" y="564"/>
                  </a:lnTo>
                  <a:lnTo>
                    <a:pt x="446" y="564"/>
                  </a:lnTo>
                  <a:lnTo>
                    <a:pt x="416" y="610"/>
                  </a:lnTo>
                  <a:lnTo>
                    <a:pt x="374" y="672"/>
                  </a:lnTo>
                  <a:lnTo>
                    <a:pt x="368" y="678"/>
                  </a:lnTo>
                  <a:lnTo>
                    <a:pt x="450" y="678"/>
                  </a:lnTo>
                  <a:lnTo>
                    <a:pt x="450" y="678"/>
                  </a:lnTo>
                  <a:lnTo>
                    <a:pt x="456" y="676"/>
                  </a:lnTo>
                  <a:lnTo>
                    <a:pt x="456" y="676"/>
                  </a:lnTo>
                  <a:lnTo>
                    <a:pt x="458" y="674"/>
                  </a:lnTo>
                  <a:lnTo>
                    <a:pt x="460" y="670"/>
                  </a:lnTo>
                  <a:lnTo>
                    <a:pt x="460" y="670"/>
                  </a:lnTo>
                  <a:lnTo>
                    <a:pt x="462" y="662"/>
                  </a:lnTo>
                  <a:lnTo>
                    <a:pt x="462" y="380"/>
                  </a:lnTo>
                  <a:lnTo>
                    <a:pt x="290" y="380"/>
                  </a:lnTo>
                  <a:lnTo>
                    <a:pt x="298" y="388"/>
                  </a:lnTo>
                  <a:lnTo>
                    <a:pt x="298" y="388"/>
                  </a:lnTo>
                  <a:lnTo>
                    <a:pt x="306" y="396"/>
                  </a:lnTo>
                  <a:lnTo>
                    <a:pt x="314" y="406"/>
                  </a:lnTo>
                  <a:lnTo>
                    <a:pt x="322" y="422"/>
                  </a:lnTo>
                  <a:lnTo>
                    <a:pt x="324" y="424"/>
                  </a:lnTo>
                  <a:lnTo>
                    <a:pt x="326" y="424"/>
                  </a:lnTo>
                  <a:lnTo>
                    <a:pt x="326" y="424"/>
                  </a:lnTo>
                  <a:lnTo>
                    <a:pt x="354" y="432"/>
                  </a:lnTo>
                  <a:lnTo>
                    <a:pt x="378" y="440"/>
                  </a:lnTo>
                  <a:lnTo>
                    <a:pt x="398" y="450"/>
                  </a:lnTo>
                  <a:lnTo>
                    <a:pt x="414" y="460"/>
                  </a:lnTo>
                  <a:lnTo>
                    <a:pt x="414" y="460"/>
                  </a:lnTo>
                  <a:lnTo>
                    <a:pt x="424" y="470"/>
                  </a:lnTo>
                  <a:lnTo>
                    <a:pt x="432" y="480"/>
                  </a:lnTo>
                  <a:lnTo>
                    <a:pt x="436" y="492"/>
                  </a:lnTo>
                  <a:lnTo>
                    <a:pt x="436" y="502"/>
                  </a:lnTo>
                  <a:lnTo>
                    <a:pt x="436" y="502"/>
                  </a:lnTo>
                  <a:lnTo>
                    <a:pt x="436" y="512"/>
                  </a:lnTo>
                  <a:lnTo>
                    <a:pt x="432" y="520"/>
                  </a:lnTo>
                  <a:lnTo>
                    <a:pt x="428" y="530"/>
                  </a:lnTo>
                  <a:lnTo>
                    <a:pt x="420" y="538"/>
                  </a:lnTo>
                  <a:lnTo>
                    <a:pt x="420" y="538"/>
                  </a:lnTo>
                  <a:lnTo>
                    <a:pt x="412" y="544"/>
                  </a:lnTo>
                  <a:lnTo>
                    <a:pt x="404" y="548"/>
                  </a:lnTo>
                  <a:lnTo>
                    <a:pt x="394" y="552"/>
                  </a:lnTo>
                  <a:lnTo>
                    <a:pt x="384" y="552"/>
                  </a:lnTo>
                  <a:lnTo>
                    <a:pt x="384" y="552"/>
                  </a:lnTo>
                  <a:lnTo>
                    <a:pt x="372" y="550"/>
                  </a:lnTo>
                  <a:lnTo>
                    <a:pt x="362" y="546"/>
                  </a:lnTo>
                  <a:lnTo>
                    <a:pt x="352" y="540"/>
                  </a:lnTo>
                  <a:lnTo>
                    <a:pt x="342" y="530"/>
                  </a:lnTo>
                  <a:lnTo>
                    <a:pt x="338" y="532"/>
                  </a:lnTo>
                  <a:lnTo>
                    <a:pt x="342" y="532"/>
                  </a:lnTo>
                  <a:lnTo>
                    <a:pt x="342" y="532"/>
                  </a:lnTo>
                  <a:lnTo>
                    <a:pt x="344" y="512"/>
                  </a:lnTo>
                  <a:lnTo>
                    <a:pt x="344" y="512"/>
                  </a:lnTo>
                  <a:lnTo>
                    <a:pt x="344" y="496"/>
                  </a:lnTo>
                  <a:lnTo>
                    <a:pt x="342" y="480"/>
                  </a:lnTo>
                  <a:lnTo>
                    <a:pt x="338" y="466"/>
                  </a:lnTo>
                  <a:lnTo>
                    <a:pt x="332" y="450"/>
                  </a:lnTo>
                  <a:lnTo>
                    <a:pt x="326" y="440"/>
                  </a:lnTo>
                  <a:lnTo>
                    <a:pt x="324" y="452"/>
                  </a:lnTo>
                  <a:lnTo>
                    <a:pt x="324" y="452"/>
                  </a:lnTo>
                  <a:lnTo>
                    <a:pt x="322" y="460"/>
                  </a:lnTo>
                  <a:lnTo>
                    <a:pt x="318" y="468"/>
                  </a:lnTo>
                  <a:lnTo>
                    <a:pt x="312" y="474"/>
                  </a:lnTo>
                  <a:lnTo>
                    <a:pt x="306" y="480"/>
                  </a:lnTo>
                  <a:lnTo>
                    <a:pt x="300" y="486"/>
                  </a:lnTo>
                  <a:lnTo>
                    <a:pt x="292" y="490"/>
                  </a:lnTo>
                  <a:lnTo>
                    <a:pt x="284" y="492"/>
                  </a:lnTo>
                  <a:lnTo>
                    <a:pt x="276" y="492"/>
                  </a:lnTo>
                  <a:lnTo>
                    <a:pt x="276" y="492"/>
                  </a:lnTo>
                  <a:lnTo>
                    <a:pt x="264" y="490"/>
                  </a:lnTo>
                  <a:lnTo>
                    <a:pt x="254" y="486"/>
                  </a:lnTo>
                  <a:lnTo>
                    <a:pt x="244" y="480"/>
                  </a:lnTo>
                  <a:lnTo>
                    <a:pt x="236" y="468"/>
                  </a:lnTo>
                  <a:lnTo>
                    <a:pt x="232" y="470"/>
                  </a:lnTo>
                  <a:lnTo>
                    <a:pt x="236" y="472"/>
                  </a:lnTo>
                  <a:lnTo>
                    <a:pt x="236" y="472"/>
                  </a:lnTo>
                  <a:lnTo>
                    <a:pt x="238" y="446"/>
                  </a:lnTo>
                  <a:lnTo>
                    <a:pt x="238" y="446"/>
                  </a:lnTo>
                  <a:lnTo>
                    <a:pt x="236" y="422"/>
                  </a:lnTo>
                  <a:lnTo>
                    <a:pt x="234" y="400"/>
                  </a:lnTo>
                  <a:lnTo>
                    <a:pt x="228" y="376"/>
                  </a:lnTo>
                  <a:lnTo>
                    <a:pt x="218" y="354"/>
                  </a:lnTo>
                  <a:lnTo>
                    <a:pt x="212" y="356"/>
                  </a:lnTo>
                  <a:lnTo>
                    <a:pt x="212" y="750"/>
                  </a:lnTo>
                  <a:lnTo>
                    <a:pt x="212" y="750"/>
                  </a:lnTo>
                  <a:lnTo>
                    <a:pt x="212" y="750"/>
                  </a:lnTo>
                  <a:lnTo>
                    <a:pt x="212" y="750"/>
                  </a:lnTo>
                  <a:lnTo>
                    <a:pt x="212" y="750"/>
                  </a:lnTo>
                  <a:lnTo>
                    <a:pt x="212" y="750"/>
                  </a:lnTo>
                  <a:lnTo>
                    <a:pt x="210" y="752"/>
                  </a:lnTo>
                  <a:lnTo>
                    <a:pt x="210" y="752"/>
                  </a:lnTo>
                  <a:lnTo>
                    <a:pt x="208" y="754"/>
                  </a:lnTo>
                  <a:lnTo>
                    <a:pt x="200" y="758"/>
                  </a:lnTo>
                  <a:lnTo>
                    <a:pt x="200" y="758"/>
                  </a:lnTo>
                  <a:lnTo>
                    <a:pt x="186" y="766"/>
                  </a:lnTo>
                  <a:lnTo>
                    <a:pt x="168" y="772"/>
                  </a:lnTo>
                  <a:lnTo>
                    <a:pt x="148" y="776"/>
                  </a:lnTo>
                  <a:lnTo>
                    <a:pt x="128" y="778"/>
                  </a:lnTo>
                  <a:lnTo>
                    <a:pt x="110" y="778"/>
                  </a:lnTo>
                  <a:lnTo>
                    <a:pt x="110" y="478"/>
                  </a:lnTo>
                  <a:lnTo>
                    <a:pt x="102" y="488"/>
                  </a:lnTo>
                  <a:lnTo>
                    <a:pt x="102" y="488"/>
                  </a:lnTo>
                  <a:lnTo>
                    <a:pt x="82" y="514"/>
                  </a:lnTo>
                  <a:lnTo>
                    <a:pt x="62" y="540"/>
                  </a:lnTo>
                  <a:lnTo>
                    <a:pt x="38" y="564"/>
                  </a:lnTo>
                  <a:lnTo>
                    <a:pt x="14" y="586"/>
                  </a:lnTo>
                  <a:lnTo>
                    <a:pt x="18" y="590"/>
                  </a:lnTo>
                  <a:lnTo>
                    <a:pt x="20" y="586"/>
                  </a:lnTo>
                  <a:lnTo>
                    <a:pt x="10" y="576"/>
                  </a:lnTo>
                  <a:lnTo>
                    <a:pt x="8" y="578"/>
                  </a:lnTo>
                  <a:lnTo>
                    <a:pt x="12" y="580"/>
                  </a:lnTo>
                  <a:lnTo>
                    <a:pt x="12" y="580"/>
                  </a:lnTo>
                  <a:lnTo>
                    <a:pt x="30" y="544"/>
                  </a:lnTo>
                  <a:lnTo>
                    <a:pt x="46" y="504"/>
                  </a:lnTo>
                  <a:lnTo>
                    <a:pt x="60" y="462"/>
                  </a:lnTo>
                  <a:lnTo>
                    <a:pt x="72" y="416"/>
                  </a:lnTo>
                  <a:lnTo>
                    <a:pt x="84" y="372"/>
                  </a:lnTo>
                  <a:lnTo>
                    <a:pt x="92" y="324"/>
                  </a:lnTo>
                  <a:lnTo>
                    <a:pt x="100" y="278"/>
                  </a:lnTo>
                  <a:lnTo>
                    <a:pt x="106" y="232"/>
                  </a:lnTo>
                  <a:lnTo>
                    <a:pt x="106" y="226"/>
                  </a:lnTo>
                  <a:lnTo>
                    <a:pt x="10" y="226"/>
                  </a:lnTo>
                  <a:lnTo>
                    <a:pt x="10" y="222"/>
                  </a:lnTo>
                  <a:lnTo>
                    <a:pt x="110" y="222"/>
                  </a:lnTo>
                  <a:lnTo>
                    <a:pt x="110" y="16"/>
                  </a:lnTo>
                  <a:lnTo>
                    <a:pt x="246" y="28"/>
                  </a:lnTo>
                  <a:lnTo>
                    <a:pt x="246" y="24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2" y="30"/>
                  </a:lnTo>
                  <a:lnTo>
                    <a:pt x="236" y="36"/>
                  </a:lnTo>
                  <a:lnTo>
                    <a:pt x="236" y="36"/>
                  </a:lnTo>
                  <a:lnTo>
                    <a:pt x="228" y="38"/>
                  </a:lnTo>
                  <a:lnTo>
                    <a:pt x="214" y="42"/>
                  </a:lnTo>
                  <a:lnTo>
                    <a:pt x="212" y="42"/>
                  </a:lnTo>
                  <a:lnTo>
                    <a:pt x="212" y="230"/>
                  </a:lnTo>
                  <a:lnTo>
                    <a:pt x="258" y="156"/>
                  </a:lnTo>
                  <a:lnTo>
                    <a:pt x="332" y="222"/>
                  </a:lnTo>
                  <a:lnTo>
                    <a:pt x="336" y="220"/>
                  </a:lnTo>
                  <a:lnTo>
                    <a:pt x="332" y="218"/>
                  </a:lnTo>
                  <a:lnTo>
                    <a:pt x="332" y="218"/>
                  </a:lnTo>
                  <a:lnTo>
                    <a:pt x="328" y="222"/>
                  </a:lnTo>
                  <a:lnTo>
                    <a:pt x="320" y="224"/>
                  </a:lnTo>
                  <a:lnTo>
                    <a:pt x="320" y="224"/>
                  </a:lnTo>
                  <a:lnTo>
                    <a:pt x="310" y="226"/>
                  </a:lnTo>
                  <a:lnTo>
                    <a:pt x="296" y="226"/>
                  </a:lnTo>
                  <a:lnTo>
                    <a:pt x="212" y="226"/>
                  </a:lnTo>
                  <a:lnTo>
                    <a:pt x="212" y="342"/>
                  </a:lnTo>
                  <a:lnTo>
                    <a:pt x="214" y="342"/>
                  </a:lnTo>
                  <a:lnTo>
                    <a:pt x="214" y="342"/>
                  </a:lnTo>
                  <a:lnTo>
                    <a:pt x="240" y="352"/>
                  </a:lnTo>
                  <a:lnTo>
                    <a:pt x="264" y="364"/>
                  </a:lnTo>
                  <a:lnTo>
                    <a:pt x="282" y="376"/>
                  </a:lnTo>
                  <a:lnTo>
                    <a:pt x="298" y="386"/>
                  </a:lnTo>
                  <a:lnTo>
                    <a:pt x="306" y="394"/>
                  </a:lnTo>
                  <a:lnTo>
                    <a:pt x="302" y="376"/>
                  </a:lnTo>
                  <a:lnTo>
                    <a:pt x="462" y="376"/>
                  </a:lnTo>
                  <a:lnTo>
                    <a:pt x="462" y="274"/>
                  </a:lnTo>
                  <a:lnTo>
                    <a:pt x="336" y="274"/>
                  </a:lnTo>
                  <a:lnTo>
                    <a:pt x="334" y="270"/>
                  </a:lnTo>
                  <a:lnTo>
                    <a:pt x="462" y="270"/>
                  </a:lnTo>
                  <a:lnTo>
                    <a:pt x="462" y="170"/>
                  </a:lnTo>
                  <a:lnTo>
                    <a:pt x="314" y="170"/>
                  </a:lnTo>
                  <a:lnTo>
                    <a:pt x="312" y="164"/>
                  </a:lnTo>
                  <a:lnTo>
                    <a:pt x="406" y="164"/>
                  </a:lnTo>
                  <a:lnTo>
                    <a:pt x="406" y="156"/>
                  </a:lnTo>
                  <a:lnTo>
                    <a:pt x="406" y="156"/>
                  </a:lnTo>
                  <a:lnTo>
                    <a:pt x="394" y="150"/>
                  </a:lnTo>
                  <a:lnTo>
                    <a:pt x="382" y="138"/>
                  </a:lnTo>
                  <a:lnTo>
                    <a:pt x="378" y="140"/>
                  </a:lnTo>
                  <a:lnTo>
                    <a:pt x="382" y="140"/>
                  </a:lnTo>
                  <a:lnTo>
                    <a:pt x="382" y="140"/>
                  </a:lnTo>
                  <a:lnTo>
                    <a:pt x="382" y="136"/>
                  </a:lnTo>
                  <a:lnTo>
                    <a:pt x="382" y="136"/>
                  </a:lnTo>
                  <a:lnTo>
                    <a:pt x="382" y="120"/>
                  </a:lnTo>
                  <a:lnTo>
                    <a:pt x="380" y="104"/>
                  </a:lnTo>
                  <a:lnTo>
                    <a:pt x="376" y="86"/>
                  </a:lnTo>
                  <a:lnTo>
                    <a:pt x="372" y="70"/>
                  </a:lnTo>
                  <a:lnTo>
                    <a:pt x="366" y="54"/>
                  </a:lnTo>
                  <a:lnTo>
                    <a:pt x="360" y="40"/>
                  </a:lnTo>
                  <a:lnTo>
                    <a:pt x="352" y="26"/>
                  </a:lnTo>
                  <a:lnTo>
                    <a:pt x="344" y="12"/>
                  </a:lnTo>
                  <a:lnTo>
                    <a:pt x="340" y="16"/>
                  </a:lnTo>
                  <a:lnTo>
                    <a:pt x="342" y="18"/>
                  </a:lnTo>
                  <a:lnTo>
                    <a:pt x="348" y="14"/>
                  </a:lnTo>
                  <a:lnTo>
                    <a:pt x="346" y="10"/>
                  </a:lnTo>
                  <a:lnTo>
                    <a:pt x="346" y="14"/>
                  </a:lnTo>
                  <a:lnTo>
                    <a:pt x="346" y="14"/>
                  </a:lnTo>
                  <a:lnTo>
                    <a:pt x="382" y="24"/>
                  </a:lnTo>
                  <a:lnTo>
                    <a:pt x="410" y="32"/>
                  </a:lnTo>
                  <a:lnTo>
                    <a:pt x="434" y="44"/>
                  </a:lnTo>
                  <a:lnTo>
                    <a:pt x="454" y="56"/>
                  </a:lnTo>
                  <a:lnTo>
                    <a:pt x="454" y="56"/>
                  </a:lnTo>
                  <a:lnTo>
                    <a:pt x="466" y="68"/>
                  </a:lnTo>
                  <a:lnTo>
                    <a:pt x="476" y="82"/>
                  </a:lnTo>
                  <a:lnTo>
                    <a:pt x="480" y="94"/>
                  </a:lnTo>
                  <a:lnTo>
                    <a:pt x="482" y="106"/>
                  </a:lnTo>
                  <a:lnTo>
                    <a:pt x="482" y="106"/>
                  </a:lnTo>
                  <a:lnTo>
                    <a:pt x="482" y="114"/>
                  </a:lnTo>
                  <a:lnTo>
                    <a:pt x="480" y="122"/>
                  </a:lnTo>
                  <a:lnTo>
                    <a:pt x="476" y="130"/>
                  </a:lnTo>
                  <a:lnTo>
                    <a:pt x="472" y="136"/>
                  </a:lnTo>
                  <a:lnTo>
                    <a:pt x="466" y="144"/>
                  </a:lnTo>
                  <a:lnTo>
                    <a:pt x="460" y="148"/>
                  </a:lnTo>
                  <a:lnTo>
                    <a:pt x="452" y="154"/>
                  </a:lnTo>
                  <a:lnTo>
                    <a:pt x="446" y="156"/>
                  </a:lnTo>
                  <a:lnTo>
                    <a:pt x="446" y="164"/>
                  </a:lnTo>
                  <a:lnTo>
                    <a:pt x="546" y="164"/>
                  </a:lnTo>
                  <a:lnTo>
                    <a:pt x="548" y="162"/>
                  </a:lnTo>
                  <a:lnTo>
                    <a:pt x="548" y="162"/>
                  </a:lnTo>
                  <a:lnTo>
                    <a:pt x="568" y="84"/>
                  </a:lnTo>
                  <a:lnTo>
                    <a:pt x="586" y="6"/>
                  </a:lnTo>
                  <a:lnTo>
                    <a:pt x="582" y="6"/>
                  </a:lnTo>
                  <a:lnTo>
                    <a:pt x="580" y="10"/>
                  </a:lnTo>
                  <a:lnTo>
                    <a:pt x="720" y="56"/>
                  </a:lnTo>
                  <a:lnTo>
                    <a:pt x="720" y="52"/>
                  </a:lnTo>
                  <a:lnTo>
                    <a:pt x="716" y="52"/>
                  </a:lnTo>
                  <a:lnTo>
                    <a:pt x="716" y="52"/>
                  </a:lnTo>
                  <a:lnTo>
                    <a:pt x="714" y="56"/>
                  </a:lnTo>
                  <a:lnTo>
                    <a:pt x="712" y="58"/>
                  </a:lnTo>
                  <a:lnTo>
                    <a:pt x="712" y="58"/>
                  </a:lnTo>
                  <a:lnTo>
                    <a:pt x="706" y="60"/>
                  </a:lnTo>
                  <a:lnTo>
                    <a:pt x="698" y="60"/>
                  </a:lnTo>
                  <a:lnTo>
                    <a:pt x="698" y="60"/>
                  </a:lnTo>
                  <a:lnTo>
                    <a:pt x="688" y="60"/>
                  </a:lnTo>
                  <a:lnTo>
                    <a:pt x="686" y="60"/>
                  </a:lnTo>
                  <a:lnTo>
                    <a:pt x="686" y="60"/>
                  </a:lnTo>
                  <a:lnTo>
                    <a:pt x="686" y="60"/>
                  </a:lnTo>
                  <a:lnTo>
                    <a:pt x="626" y="108"/>
                  </a:lnTo>
                  <a:lnTo>
                    <a:pt x="558" y="156"/>
                  </a:lnTo>
                  <a:lnTo>
                    <a:pt x="548" y="164"/>
                  </a:lnTo>
                  <a:lnTo>
                    <a:pt x="630" y="164"/>
                  </a:lnTo>
                  <a:lnTo>
                    <a:pt x="678" y="104"/>
                  </a:lnTo>
                  <a:lnTo>
                    <a:pt x="768" y="166"/>
                  </a:lnTo>
                  <a:lnTo>
                    <a:pt x="770" y="162"/>
                  </a:lnTo>
                  <a:lnTo>
                    <a:pt x="766" y="160"/>
                  </a:lnTo>
                  <a:lnTo>
                    <a:pt x="766" y="160"/>
                  </a:lnTo>
                  <a:lnTo>
                    <a:pt x="762" y="164"/>
                  </a:lnTo>
                  <a:lnTo>
                    <a:pt x="754" y="168"/>
                  </a:lnTo>
                  <a:lnTo>
                    <a:pt x="754" y="168"/>
                  </a:lnTo>
                  <a:lnTo>
                    <a:pt x="744" y="168"/>
                  </a:lnTo>
                  <a:lnTo>
                    <a:pt x="732" y="170"/>
                  </a:lnTo>
                  <a:lnTo>
                    <a:pt x="566" y="170"/>
                  </a:lnTo>
                  <a:lnTo>
                    <a:pt x="566" y="270"/>
                  </a:lnTo>
                  <a:lnTo>
                    <a:pt x="610" y="270"/>
                  </a:lnTo>
                  <a:lnTo>
                    <a:pt x="656" y="210"/>
                  </a:lnTo>
                  <a:lnTo>
                    <a:pt x="744" y="270"/>
                  </a:lnTo>
                  <a:lnTo>
                    <a:pt x="746" y="268"/>
                  </a:lnTo>
                  <a:lnTo>
                    <a:pt x="742" y="266"/>
                  </a:lnTo>
                  <a:lnTo>
                    <a:pt x="742" y="266"/>
                  </a:lnTo>
                  <a:lnTo>
                    <a:pt x="738" y="270"/>
                  </a:lnTo>
                  <a:lnTo>
                    <a:pt x="730" y="272"/>
                  </a:lnTo>
                  <a:lnTo>
                    <a:pt x="730" y="272"/>
                  </a:lnTo>
                  <a:lnTo>
                    <a:pt x="720" y="274"/>
                  </a:lnTo>
                  <a:lnTo>
                    <a:pt x="708" y="274"/>
                  </a:lnTo>
                  <a:lnTo>
                    <a:pt x="566" y="274"/>
                  </a:lnTo>
                  <a:lnTo>
                    <a:pt x="566" y="376"/>
                  </a:lnTo>
                  <a:lnTo>
                    <a:pt x="638" y="376"/>
                  </a:lnTo>
                  <a:lnTo>
                    <a:pt x="686" y="308"/>
                  </a:lnTo>
                  <a:lnTo>
                    <a:pt x="776" y="376"/>
                  </a:lnTo>
                  <a:lnTo>
                    <a:pt x="778" y="374"/>
                  </a:lnTo>
                  <a:lnTo>
                    <a:pt x="774" y="372"/>
                  </a:lnTo>
                  <a:lnTo>
                    <a:pt x="774" y="372"/>
                  </a:lnTo>
                  <a:lnTo>
                    <a:pt x="770" y="376"/>
                  </a:lnTo>
                  <a:lnTo>
                    <a:pt x="764" y="378"/>
                  </a:lnTo>
                  <a:lnTo>
                    <a:pt x="764" y="378"/>
                  </a:lnTo>
                  <a:lnTo>
                    <a:pt x="754" y="380"/>
                  </a:lnTo>
                  <a:lnTo>
                    <a:pt x="740" y="380"/>
                  </a:lnTo>
                  <a:lnTo>
                    <a:pt x="566" y="380"/>
                  </a:lnTo>
                  <a:lnTo>
                    <a:pt x="566" y="402"/>
                  </a:lnTo>
                  <a:lnTo>
                    <a:pt x="566" y="402"/>
                  </a:lnTo>
                  <a:lnTo>
                    <a:pt x="570" y="402"/>
                  </a:lnTo>
                  <a:lnTo>
                    <a:pt x="574" y="402"/>
                  </a:lnTo>
                  <a:lnTo>
                    <a:pt x="574" y="388"/>
                  </a:lnTo>
                  <a:lnTo>
                    <a:pt x="740" y="388"/>
                  </a:lnTo>
                  <a:lnTo>
                    <a:pt x="740" y="388"/>
                  </a:lnTo>
                  <a:lnTo>
                    <a:pt x="754" y="388"/>
                  </a:lnTo>
                  <a:lnTo>
                    <a:pt x="766" y="386"/>
                  </a:lnTo>
                  <a:lnTo>
                    <a:pt x="766" y="386"/>
                  </a:lnTo>
                  <a:lnTo>
                    <a:pt x="776" y="382"/>
                  </a:lnTo>
                  <a:lnTo>
                    <a:pt x="782" y="376"/>
                  </a:lnTo>
                  <a:lnTo>
                    <a:pt x="784" y="372"/>
                  </a:lnTo>
                  <a:lnTo>
                    <a:pt x="684" y="298"/>
                  </a:lnTo>
                  <a:lnTo>
                    <a:pt x="634" y="368"/>
                  </a:lnTo>
                  <a:lnTo>
                    <a:pt x="574" y="368"/>
                  </a:lnTo>
                  <a:lnTo>
                    <a:pt x="574" y="282"/>
                  </a:lnTo>
                  <a:lnTo>
                    <a:pt x="708" y="282"/>
                  </a:lnTo>
                  <a:lnTo>
                    <a:pt x="708" y="282"/>
                  </a:lnTo>
                  <a:lnTo>
                    <a:pt x="722" y="282"/>
                  </a:lnTo>
                  <a:lnTo>
                    <a:pt x="732" y="280"/>
                  </a:lnTo>
                  <a:lnTo>
                    <a:pt x="732" y="280"/>
                  </a:lnTo>
                  <a:lnTo>
                    <a:pt x="742" y="276"/>
                  </a:lnTo>
                  <a:lnTo>
                    <a:pt x="750" y="270"/>
                  </a:lnTo>
                  <a:lnTo>
                    <a:pt x="752" y="266"/>
                  </a:lnTo>
                  <a:lnTo>
                    <a:pt x="654" y="198"/>
                  </a:lnTo>
                  <a:lnTo>
                    <a:pt x="606" y="262"/>
                  </a:lnTo>
                  <a:lnTo>
                    <a:pt x="574" y="262"/>
                  </a:lnTo>
                  <a:lnTo>
                    <a:pt x="574" y="178"/>
                  </a:lnTo>
                  <a:lnTo>
                    <a:pt x="732" y="178"/>
                  </a:lnTo>
                  <a:lnTo>
                    <a:pt x="732" y="178"/>
                  </a:lnTo>
                  <a:lnTo>
                    <a:pt x="746" y="176"/>
                  </a:lnTo>
                  <a:lnTo>
                    <a:pt x="756" y="176"/>
                  </a:lnTo>
                  <a:lnTo>
                    <a:pt x="756" y="176"/>
                  </a:lnTo>
                  <a:lnTo>
                    <a:pt x="766" y="172"/>
                  </a:lnTo>
                  <a:lnTo>
                    <a:pt x="772" y="164"/>
                  </a:lnTo>
                  <a:lnTo>
                    <a:pt x="774" y="160"/>
                  </a:lnTo>
                  <a:lnTo>
                    <a:pt x="676" y="94"/>
                  </a:lnTo>
                  <a:lnTo>
                    <a:pt x="626" y="156"/>
                  </a:lnTo>
                  <a:lnTo>
                    <a:pt x="560" y="156"/>
                  </a:lnTo>
                  <a:lnTo>
                    <a:pt x="560" y="160"/>
                  </a:lnTo>
                  <a:lnTo>
                    <a:pt x="562" y="164"/>
                  </a:lnTo>
                  <a:lnTo>
                    <a:pt x="562" y="164"/>
                  </a:lnTo>
                  <a:lnTo>
                    <a:pt x="630" y="114"/>
                  </a:lnTo>
                  <a:lnTo>
                    <a:pt x="690" y="66"/>
                  </a:lnTo>
                  <a:lnTo>
                    <a:pt x="688" y="64"/>
                  </a:lnTo>
                  <a:lnTo>
                    <a:pt x="688" y="68"/>
                  </a:lnTo>
                  <a:lnTo>
                    <a:pt x="688" y="68"/>
                  </a:lnTo>
                  <a:lnTo>
                    <a:pt x="698" y="68"/>
                  </a:lnTo>
                  <a:lnTo>
                    <a:pt x="698" y="68"/>
                  </a:lnTo>
                  <a:lnTo>
                    <a:pt x="708" y="68"/>
                  </a:lnTo>
                  <a:lnTo>
                    <a:pt x="716" y="64"/>
                  </a:lnTo>
                  <a:lnTo>
                    <a:pt x="716" y="64"/>
                  </a:lnTo>
                  <a:lnTo>
                    <a:pt x="720" y="60"/>
                  </a:lnTo>
                  <a:lnTo>
                    <a:pt x="724" y="54"/>
                  </a:lnTo>
                  <a:lnTo>
                    <a:pt x="726" y="50"/>
                  </a:lnTo>
                  <a:lnTo>
                    <a:pt x="578" y="0"/>
                  </a:lnTo>
                  <a:lnTo>
                    <a:pt x="578" y="6"/>
                  </a:lnTo>
                  <a:lnTo>
                    <a:pt x="578" y="6"/>
                  </a:lnTo>
                  <a:lnTo>
                    <a:pt x="560" y="82"/>
                  </a:lnTo>
                  <a:lnTo>
                    <a:pt x="540" y="160"/>
                  </a:lnTo>
                  <a:lnTo>
                    <a:pt x="544" y="160"/>
                  </a:lnTo>
                  <a:lnTo>
                    <a:pt x="544" y="156"/>
                  </a:lnTo>
                  <a:lnTo>
                    <a:pt x="446" y="156"/>
                  </a:lnTo>
                  <a:lnTo>
                    <a:pt x="446" y="160"/>
                  </a:lnTo>
                  <a:lnTo>
                    <a:pt x="448" y="164"/>
                  </a:lnTo>
                  <a:lnTo>
                    <a:pt x="448" y="164"/>
                  </a:lnTo>
                  <a:lnTo>
                    <a:pt x="456" y="160"/>
                  </a:lnTo>
                  <a:lnTo>
                    <a:pt x="464" y="154"/>
                  </a:lnTo>
                  <a:lnTo>
                    <a:pt x="472" y="148"/>
                  </a:lnTo>
                  <a:lnTo>
                    <a:pt x="478" y="142"/>
                  </a:lnTo>
                  <a:lnTo>
                    <a:pt x="484" y="134"/>
                  </a:lnTo>
                  <a:lnTo>
                    <a:pt x="486" y="124"/>
                  </a:lnTo>
                  <a:lnTo>
                    <a:pt x="490" y="116"/>
                  </a:lnTo>
                  <a:lnTo>
                    <a:pt x="490" y="106"/>
                  </a:lnTo>
                  <a:lnTo>
                    <a:pt x="490" y="106"/>
                  </a:lnTo>
                  <a:lnTo>
                    <a:pt x="488" y="92"/>
                  </a:lnTo>
                  <a:lnTo>
                    <a:pt x="482" y="78"/>
                  </a:lnTo>
                  <a:lnTo>
                    <a:pt x="472" y="64"/>
                  </a:lnTo>
                  <a:lnTo>
                    <a:pt x="458" y="50"/>
                  </a:lnTo>
                  <a:lnTo>
                    <a:pt x="458" y="50"/>
                  </a:lnTo>
                  <a:lnTo>
                    <a:pt x="438" y="36"/>
                  </a:lnTo>
                  <a:lnTo>
                    <a:pt x="414" y="26"/>
                  </a:lnTo>
                  <a:lnTo>
                    <a:pt x="384" y="16"/>
                  </a:lnTo>
                  <a:lnTo>
                    <a:pt x="346" y="8"/>
                  </a:lnTo>
                  <a:lnTo>
                    <a:pt x="344" y="6"/>
                  </a:lnTo>
                  <a:lnTo>
                    <a:pt x="334" y="14"/>
                  </a:lnTo>
                  <a:lnTo>
                    <a:pt x="338" y="18"/>
                  </a:lnTo>
                  <a:lnTo>
                    <a:pt x="338" y="18"/>
                  </a:lnTo>
                  <a:lnTo>
                    <a:pt x="346" y="30"/>
                  </a:lnTo>
                  <a:lnTo>
                    <a:pt x="352" y="42"/>
                  </a:lnTo>
                  <a:lnTo>
                    <a:pt x="358" y="58"/>
                  </a:lnTo>
                  <a:lnTo>
                    <a:pt x="364" y="72"/>
                  </a:lnTo>
                  <a:lnTo>
                    <a:pt x="372" y="104"/>
                  </a:lnTo>
                  <a:lnTo>
                    <a:pt x="374" y="122"/>
                  </a:lnTo>
                  <a:lnTo>
                    <a:pt x="374" y="136"/>
                  </a:lnTo>
                  <a:lnTo>
                    <a:pt x="374" y="136"/>
                  </a:lnTo>
                  <a:lnTo>
                    <a:pt x="374" y="140"/>
                  </a:lnTo>
                  <a:lnTo>
                    <a:pt x="374" y="142"/>
                  </a:lnTo>
                  <a:lnTo>
                    <a:pt x="376" y="142"/>
                  </a:lnTo>
                  <a:lnTo>
                    <a:pt x="376" y="142"/>
                  </a:lnTo>
                  <a:lnTo>
                    <a:pt x="388" y="156"/>
                  </a:lnTo>
                  <a:lnTo>
                    <a:pt x="404" y="164"/>
                  </a:lnTo>
                  <a:lnTo>
                    <a:pt x="406" y="160"/>
                  </a:lnTo>
                  <a:lnTo>
                    <a:pt x="406" y="156"/>
                  </a:lnTo>
                  <a:lnTo>
                    <a:pt x="302" y="156"/>
                  </a:lnTo>
                  <a:lnTo>
                    <a:pt x="308" y="178"/>
                  </a:lnTo>
                  <a:lnTo>
                    <a:pt x="454" y="178"/>
                  </a:lnTo>
                  <a:lnTo>
                    <a:pt x="454" y="262"/>
                  </a:lnTo>
                  <a:lnTo>
                    <a:pt x="324" y="262"/>
                  </a:lnTo>
                  <a:lnTo>
                    <a:pt x="328" y="282"/>
                  </a:lnTo>
                  <a:lnTo>
                    <a:pt x="454" y="282"/>
                  </a:lnTo>
                  <a:lnTo>
                    <a:pt x="454" y="368"/>
                  </a:lnTo>
                  <a:lnTo>
                    <a:pt x="292" y="368"/>
                  </a:lnTo>
                  <a:lnTo>
                    <a:pt x="296" y="384"/>
                  </a:lnTo>
                  <a:lnTo>
                    <a:pt x="300" y="384"/>
                  </a:lnTo>
                  <a:lnTo>
                    <a:pt x="302" y="380"/>
                  </a:lnTo>
                  <a:lnTo>
                    <a:pt x="302" y="380"/>
                  </a:lnTo>
                  <a:lnTo>
                    <a:pt x="286" y="368"/>
                  </a:lnTo>
                  <a:lnTo>
                    <a:pt x="266" y="356"/>
                  </a:lnTo>
                  <a:lnTo>
                    <a:pt x="244" y="346"/>
                  </a:lnTo>
                  <a:lnTo>
                    <a:pt x="216" y="334"/>
                  </a:lnTo>
                  <a:lnTo>
                    <a:pt x="216" y="338"/>
                  </a:lnTo>
                  <a:lnTo>
                    <a:pt x="220" y="338"/>
                  </a:lnTo>
                  <a:lnTo>
                    <a:pt x="220" y="234"/>
                  </a:lnTo>
                  <a:lnTo>
                    <a:pt x="296" y="234"/>
                  </a:lnTo>
                  <a:lnTo>
                    <a:pt x="296" y="234"/>
                  </a:lnTo>
                  <a:lnTo>
                    <a:pt x="310" y="234"/>
                  </a:lnTo>
                  <a:lnTo>
                    <a:pt x="322" y="232"/>
                  </a:lnTo>
                  <a:lnTo>
                    <a:pt x="322" y="232"/>
                  </a:lnTo>
                  <a:lnTo>
                    <a:pt x="332" y="228"/>
                  </a:lnTo>
                  <a:lnTo>
                    <a:pt x="338" y="222"/>
                  </a:lnTo>
                  <a:lnTo>
                    <a:pt x="340" y="218"/>
                  </a:lnTo>
                  <a:lnTo>
                    <a:pt x="256" y="142"/>
                  </a:lnTo>
                  <a:lnTo>
                    <a:pt x="220" y="202"/>
                  </a:lnTo>
                  <a:lnTo>
                    <a:pt x="220" y="46"/>
                  </a:lnTo>
                  <a:lnTo>
                    <a:pt x="216" y="46"/>
                  </a:lnTo>
                  <a:lnTo>
                    <a:pt x="216" y="50"/>
                  </a:lnTo>
                  <a:lnTo>
                    <a:pt x="216" y="50"/>
                  </a:lnTo>
                  <a:lnTo>
                    <a:pt x="232" y="46"/>
                  </a:lnTo>
                  <a:lnTo>
                    <a:pt x="242" y="42"/>
                  </a:lnTo>
                  <a:lnTo>
                    <a:pt x="242" y="42"/>
                  </a:lnTo>
                  <a:lnTo>
                    <a:pt x="246" y="38"/>
                  </a:lnTo>
                  <a:lnTo>
                    <a:pt x="248" y="34"/>
                  </a:lnTo>
                  <a:lnTo>
                    <a:pt x="250" y="26"/>
                  </a:lnTo>
                  <a:lnTo>
                    <a:pt x="252" y="22"/>
                  </a:lnTo>
                  <a:lnTo>
                    <a:pt x="102" y="6"/>
                  </a:lnTo>
                  <a:lnTo>
                    <a:pt x="102" y="214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02" y="234"/>
                  </a:lnTo>
                  <a:lnTo>
                    <a:pt x="102" y="230"/>
                  </a:lnTo>
                  <a:lnTo>
                    <a:pt x="98" y="230"/>
                  </a:lnTo>
                  <a:lnTo>
                    <a:pt x="98" y="230"/>
                  </a:lnTo>
                  <a:lnTo>
                    <a:pt x="92" y="276"/>
                  </a:lnTo>
                  <a:lnTo>
                    <a:pt x="84" y="324"/>
                  </a:lnTo>
                  <a:lnTo>
                    <a:pt x="76" y="370"/>
                  </a:lnTo>
                  <a:lnTo>
                    <a:pt x="64" y="414"/>
                  </a:lnTo>
                  <a:lnTo>
                    <a:pt x="52" y="458"/>
                  </a:lnTo>
                  <a:lnTo>
                    <a:pt x="38" y="500"/>
                  </a:lnTo>
                  <a:lnTo>
                    <a:pt x="22" y="540"/>
                  </a:lnTo>
                  <a:lnTo>
                    <a:pt x="4" y="576"/>
                  </a:lnTo>
                  <a:lnTo>
                    <a:pt x="2" y="580"/>
                  </a:lnTo>
                  <a:lnTo>
                    <a:pt x="16" y="596"/>
                  </a:lnTo>
                  <a:lnTo>
                    <a:pt x="20" y="592"/>
                  </a:lnTo>
                  <a:lnTo>
                    <a:pt x="20" y="592"/>
                  </a:lnTo>
                  <a:lnTo>
                    <a:pt x="44" y="570"/>
                  </a:lnTo>
                  <a:lnTo>
                    <a:pt x="68" y="546"/>
                  </a:lnTo>
                  <a:lnTo>
                    <a:pt x="90" y="520"/>
                  </a:lnTo>
                  <a:lnTo>
                    <a:pt x="108" y="494"/>
                  </a:lnTo>
                  <a:lnTo>
                    <a:pt x="106" y="492"/>
                  </a:lnTo>
                  <a:lnTo>
                    <a:pt x="102" y="492"/>
                  </a:lnTo>
                  <a:lnTo>
                    <a:pt x="102" y="786"/>
                  </a:lnTo>
                  <a:lnTo>
                    <a:pt x="128" y="786"/>
                  </a:lnTo>
                  <a:lnTo>
                    <a:pt x="128" y="786"/>
                  </a:lnTo>
                  <a:lnTo>
                    <a:pt x="144" y="784"/>
                  </a:lnTo>
                  <a:lnTo>
                    <a:pt x="160" y="782"/>
                  </a:lnTo>
                  <a:lnTo>
                    <a:pt x="176" y="778"/>
                  </a:lnTo>
                  <a:lnTo>
                    <a:pt x="188" y="774"/>
                  </a:lnTo>
                  <a:lnTo>
                    <a:pt x="188" y="774"/>
                  </a:lnTo>
                  <a:lnTo>
                    <a:pt x="200" y="768"/>
                  </a:lnTo>
                  <a:lnTo>
                    <a:pt x="210" y="762"/>
                  </a:lnTo>
                  <a:lnTo>
                    <a:pt x="210" y="762"/>
                  </a:lnTo>
                  <a:lnTo>
                    <a:pt x="216" y="758"/>
                  </a:lnTo>
                  <a:lnTo>
                    <a:pt x="216" y="758"/>
                  </a:lnTo>
                  <a:lnTo>
                    <a:pt x="218" y="754"/>
                  </a:lnTo>
                  <a:lnTo>
                    <a:pt x="220" y="750"/>
                  </a:lnTo>
                  <a:lnTo>
                    <a:pt x="220" y="356"/>
                  </a:lnTo>
                  <a:lnTo>
                    <a:pt x="216" y="356"/>
                  </a:lnTo>
                  <a:lnTo>
                    <a:pt x="212" y="358"/>
                  </a:lnTo>
                  <a:lnTo>
                    <a:pt x="212" y="358"/>
                  </a:lnTo>
                  <a:lnTo>
                    <a:pt x="220" y="378"/>
                  </a:lnTo>
                  <a:lnTo>
                    <a:pt x="226" y="400"/>
                  </a:lnTo>
                  <a:lnTo>
                    <a:pt x="228" y="424"/>
                  </a:lnTo>
                  <a:lnTo>
                    <a:pt x="230" y="446"/>
                  </a:lnTo>
                  <a:lnTo>
                    <a:pt x="230" y="446"/>
                  </a:lnTo>
                  <a:lnTo>
                    <a:pt x="228" y="470"/>
                  </a:lnTo>
                  <a:lnTo>
                    <a:pt x="228" y="472"/>
                  </a:lnTo>
                  <a:lnTo>
                    <a:pt x="228" y="474"/>
                  </a:lnTo>
                  <a:lnTo>
                    <a:pt x="228" y="474"/>
                  </a:lnTo>
                  <a:lnTo>
                    <a:pt x="240" y="486"/>
                  </a:lnTo>
                  <a:lnTo>
                    <a:pt x="250" y="494"/>
                  </a:lnTo>
                  <a:lnTo>
                    <a:pt x="262" y="498"/>
                  </a:lnTo>
                  <a:lnTo>
                    <a:pt x="276" y="500"/>
                  </a:lnTo>
                  <a:lnTo>
                    <a:pt x="276" y="500"/>
                  </a:lnTo>
                  <a:lnTo>
                    <a:pt x="284" y="500"/>
                  </a:lnTo>
                  <a:lnTo>
                    <a:pt x="294" y="496"/>
                  </a:lnTo>
                  <a:lnTo>
                    <a:pt x="304" y="492"/>
                  </a:lnTo>
                  <a:lnTo>
                    <a:pt x="312" y="486"/>
                  </a:lnTo>
                  <a:lnTo>
                    <a:pt x="318" y="480"/>
                  </a:lnTo>
                  <a:lnTo>
                    <a:pt x="324" y="472"/>
                  </a:lnTo>
                  <a:lnTo>
                    <a:pt x="328" y="462"/>
                  </a:lnTo>
                  <a:lnTo>
                    <a:pt x="332" y="454"/>
                  </a:lnTo>
                  <a:lnTo>
                    <a:pt x="328" y="452"/>
                  </a:lnTo>
                  <a:lnTo>
                    <a:pt x="324" y="454"/>
                  </a:lnTo>
                  <a:lnTo>
                    <a:pt x="324" y="454"/>
                  </a:lnTo>
                  <a:lnTo>
                    <a:pt x="330" y="468"/>
                  </a:lnTo>
                  <a:lnTo>
                    <a:pt x="334" y="482"/>
                  </a:lnTo>
                  <a:lnTo>
                    <a:pt x="336" y="496"/>
                  </a:lnTo>
                  <a:lnTo>
                    <a:pt x="336" y="512"/>
                  </a:lnTo>
                  <a:lnTo>
                    <a:pt x="336" y="512"/>
                  </a:lnTo>
                  <a:lnTo>
                    <a:pt x="334" y="532"/>
                  </a:lnTo>
                  <a:lnTo>
                    <a:pt x="334" y="532"/>
                  </a:lnTo>
                  <a:lnTo>
                    <a:pt x="336" y="534"/>
                  </a:lnTo>
                  <a:lnTo>
                    <a:pt x="336" y="534"/>
                  </a:lnTo>
                  <a:lnTo>
                    <a:pt x="346" y="546"/>
                  </a:lnTo>
                  <a:lnTo>
                    <a:pt x="358" y="554"/>
                  </a:lnTo>
                  <a:lnTo>
                    <a:pt x="370" y="558"/>
                  </a:lnTo>
                  <a:lnTo>
                    <a:pt x="384" y="560"/>
                  </a:lnTo>
                  <a:lnTo>
                    <a:pt x="384" y="560"/>
                  </a:lnTo>
                  <a:lnTo>
                    <a:pt x="396" y="558"/>
                  </a:lnTo>
                  <a:lnTo>
                    <a:pt x="406" y="556"/>
                  </a:lnTo>
                  <a:lnTo>
                    <a:pt x="416" y="550"/>
                  </a:lnTo>
                  <a:lnTo>
                    <a:pt x="426" y="542"/>
                  </a:lnTo>
                  <a:lnTo>
                    <a:pt x="426" y="542"/>
                  </a:lnTo>
                  <a:lnTo>
                    <a:pt x="434" y="534"/>
                  </a:lnTo>
                  <a:lnTo>
                    <a:pt x="440" y="524"/>
                  </a:lnTo>
                  <a:lnTo>
                    <a:pt x="444" y="514"/>
                  </a:lnTo>
                  <a:lnTo>
                    <a:pt x="444" y="502"/>
                  </a:lnTo>
                  <a:lnTo>
                    <a:pt x="444" y="502"/>
                  </a:lnTo>
                  <a:lnTo>
                    <a:pt x="444" y="490"/>
                  </a:lnTo>
                  <a:lnTo>
                    <a:pt x="438" y="478"/>
                  </a:lnTo>
                  <a:lnTo>
                    <a:pt x="430" y="464"/>
                  </a:lnTo>
                  <a:lnTo>
                    <a:pt x="418" y="454"/>
                  </a:lnTo>
                  <a:lnTo>
                    <a:pt x="418" y="454"/>
                  </a:lnTo>
                  <a:lnTo>
                    <a:pt x="402" y="442"/>
                  </a:lnTo>
                  <a:lnTo>
                    <a:pt x="382" y="432"/>
                  </a:lnTo>
                  <a:lnTo>
                    <a:pt x="358" y="424"/>
                  </a:lnTo>
                  <a:lnTo>
                    <a:pt x="328" y="416"/>
                  </a:lnTo>
                  <a:lnTo>
                    <a:pt x="326" y="420"/>
                  </a:lnTo>
                  <a:lnTo>
                    <a:pt x="330" y="420"/>
                  </a:lnTo>
                  <a:lnTo>
                    <a:pt x="330" y="420"/>
                  </a:lnTo>
                  <a:lnTo>
                    <a:pt x="320" y="400"/>
                  </a:lnTo>
                  <a:lnTo>
                    <a:pt x="312" y="392"/>
                  </a:lnTo>
                  <a:lnTo>
                    <a:pt x="304" y="382"/>
                  </a:lnTo>
                  <a:lnTo>
                    <a:pt x="300" y="384"/>
                  </a:lnTo>
                  <a:lnTo>
                    <a:pt x="300" y="388"/>
                  </a:lnTo>
                  <a:lnTo>
                    <a:pt x="454" y="388"/>
                  </a:lnTo>
                  <a:lnTo>
                    <a:pt x="454" y="662"/>
                  </a:lnTo>
                  <a:lnTo>
                    <a:pt x="454" y="662"/>
                  </a:lnTo>
                  <a:lnTo>
                    <a:pt x="452" y="668"/>
                  </a:lnTo>
                  <a:lnTo>
                    <a:pt x="452" y="670"/>
                  </a:lnTo>
                  <a:lnTo>
                    <a:pt x="452" y="670"/>
                  </a:lnTo>
                  <a:lnTo>
                    <a:pt x="450" y="670"/>
                  </a:lnTo>
                  <a:lnTo>
                    <a:pt x="376" y="670"/>
                  </a:lnTo>
                  <a:lnTo>
                    <a:pt x="376" y="674"/>
                  </a:lnTo>
                  <a:lnTo>
                    <a:pt x="380" y="676"/>
                  </a:lnTo>
                  <a:lnTo>
                    <a:pt x="380" y="676"/>
                  </a:lnTo>
                  <a:lnTo>
                    <a:pt x="422" y="614"/>
                  </a:lnTo>
                  <a:lnTo>
                    <a:pt x="452" y="568"/>
                  </a:lnTo>
                  <a:lnTo>
                    <a:pt x="454" y="568"/>
                  </a:lnTo>
                  <a:lnTo>
                    <a:pt x="448" y="554"/>
                  </a:lnTo>
                  <a:lnTo>
                    <a:pt x="444" y="556"/>
                  </a:lnTo>
                  <a:lnTo>
                    <a:pt x="444" y="556"/>
                  </a:lnTo>
                  <a:lnTo>
                    <a:pt x="332" y="600"/>
                  </a:lnTo>
                  <a:lnTo>
                    <a:pt x="252" y="628"/>
                  </a:lnTo>
                  <a:lnTo>
                    <a:pt x="246" y="630"/>
                  </a:lnTo>
                  <a:lnTo>
                    <a:pt x="330" y="740"/>
                  </a:lnTo>
                  <a:lnTo>
                    <a:pt x="334" y="740"/>
                  </a:lnTo>
                  <a:lnTo>
                    <a:pt x="334" y="740"/>
                  </a:lnTo>
                  <a:lnTo>
                    <a:pt x="340" y="734"/>
                  </a:lnTo>
                  <a:lnTo>
                    <a:pt x="346" y="728"/>
                  </a:lnTo>
                  <a:lnTo>
                    <a:pt x="350" y="720"/>
                  </a:lnTo>
                  <a:lnTo>
                    <a:pt x="354" y="710"/>
                  </a:lnTo>
                  <a:lnTo>
                    <a:pt x="350" y="710"/>
                  </a:lnTo>
                  <a:lnTo>
                    <a:pt x="352" y="712"/>
                  </a:lnTo>
                  <a:lnTo>
                    <a:pt x="352" y="712"/>
                  </a:lnTo>
                  <a:lnTo>
                    <a:pt x="374" y="686"/>
                  </a:lnTo>
                  <a:lnTo>
                    <a:pt x="370" y="682"/>
                  </a:lnTo>
                  <a:lnTo>
                    <a:pt x="370" y="686"/>
                  </a:lnTo>
                  <a:lnTo>
                    <a:pt x="370" y="686"/>
                  </a:lnTo>
                  <a:lnTo>
                    <a:pt x="388" y="690"/>
                  </a:lnTo>
                  <a:lnTo>
                    <a:pt x="404" y="696"/>
                  </a:lnTo>
                  <a:lnTo>
                    <a:pt x="404" y="696"/>
                  </a:lnTo>
                  <a:lnTo>
                    <a:pt x="412" y="700"/>
                  </a:lnTo>
                  <a:lnTo>
                    <a:pt x="420" y="706"/>
                  </a:lnTo>
                  <a:lnTo>
                    <a:pt x="424" y="714"/>
                  </a:lnTo>
                  <a:lnTo>
                    <a:pt x="430" y="722"/>
                  </a:lnTo>
                  <a:lnTo>
                    <a:pt x="430" y="722"/>
                  </a:lnTo>
                  <a:lnTo>
                    <a:pt x="432" y="734"/>
                  </a:lnTo>
                  <a:lnTo>
                    <a:pt x="434" y="746"/>
                  </a:lnTo>
                  <a:lnTo>
                    <a:pt x="436" y="780"/>
                  </a:lnTo>
                  <a:lnTo>
                    <a:pt x="436" y="784"/>
                  </a:lnTo>
                  <a:lnTo>
                    <a:pt x="440" y="784"/>
                  </a:lnTo>
                  <a:lnTo>
                    <a:pt x="440" y="784"/>
                  </a:lnTo>
                  <a:lnTo>
                    <a:pt x="478" y="780"/>
                  </a:lnTo>
                  <a:lnTo>
                    <a:pt x="496" y="776"/>
                  </a:lnTo>
                  <a:lnTo>
                    <a:pt x="510" y="772"/>
                  </a:lnTo>
                  <a:lnTo>
                    <a:pt x="522" y="766"/>
                  </a:lnTo>
                  <a:lnTo>
                    <a:pt x="534" y="760"/>
                  </a:lnTo>
                  <a:lnTo>
                    <a:pt x="542" y="754"/>
                  </a:lnTo>
                  <a:lnTo>
                    <a:pt x="550" y="746"/>
                  </a:lnTo>
                  <a:lnTo>
                    <a:pt x="550" y="746"/>
                  </a:lnTo>
                  <a:lnTo>
                    <a:pt x="558" y="738"/>
                  </a:lnTo>
                  <a:lnTo>
                    <a:pt x="562" y="728"/>
                  </a:lnTo>
                  <a:lnTo>
                    <a:pt x="566" y="720"/>
                  </a:lnTo>
                  <a:lnTo>
                    <a:pt x="570" y="710"/>
                  </a:lnTo>
                  <a:lnTo>
                    <a:pt x="570" y="710"/>
                  </a:lnTo>
                  <a:lnTo>
                    <a:pt x="574" y="688"/>
                  </a:lnTo>
                  <a:lnTo>
                    <a:pt x="574" y="664"/>
                  </a:lnTo>
                  <a:lnTo>
                    <a:pt x="574" y="442"/>
                  </a:lnTo>
                  <a:lnTo>
                    <a:pt x="570" y="442"/>
                  </a:lnTo>
                  <a:lnTo>
                    <a:pt x="570" y="446"/>
                  </a:lnTo>
                  <a:lnTo>
                    <a:pt x="572" y="446"/>
                  </a:lnTo>
                  <a:lnTo>
                    <a:pt x="572" y="442"/>
                  </a:lnTo>
                  <a:lnTo>
                    <a:pt x="568" y="442"/>
                  </a:lnTo>
                  <a:lnTo>
                    <a:pt x="568" y="442"/>
                  </a:lnTo>
                  <a:lnTo>
                    <a:pt x="576" y="500"/>
                  </a:lnTo>
                  <a:lnTo>
                    <a:pt x="584" y="550"/>
                  </a:lnTo>
                  <a:lnTo>
                    <a:pt x="596" y="594"/>
                  </a:lnTo>
                  <a:lnTo>
                    <a:pt x="612" y="632"/>
                  </a:lnTo>
                  <a:lnTo>
                    <a:pt x="612" y="632"/>
                  </a:lnTo>
                  <a:lnTo>
                    <a:pt x="630" y="666"/>
                  </a:lnTo>
                  <a:lnTo>
                    <a:pt x="640" y="682"/>
                  </a:lnTo>
                  <a:lnTo>
                    <a:pt x="650" y="696"/>
                  </a:lnTo>
                  <a:lnTo>
                    <a:pt x="674" y="724"/>
                  </a:lnTo>
                  <a:lnTo>
                    <a:pt x="702" y="748"/>
                  </a:lnTo>
                  <a:lnTo>
                    <a:pt x="708" y="752"/>
                  </a:lnTo>
                  <a:lnTo>
                    <a:pt x="710" y="746"/>
                  </a:lnTo>
                  <a:lnTo>
                    <a:pt x="710" y="746"/>
                  </a:lnTo>
                  <a:lnTo>
                    <a:pt x="714" y="726"/>
                  </a:lnTo>
                  <a:lnTo>
                    <a:pt x="720" y="708"/>
                  </a:lnTo>
                  <a:lnTo>
                    <a:pt x="728" y="692"/>
                  </a:lnTo>
                  <a:lnTo>
                    <a:pt x="736" y="678"/>
                  </a:lnTo>
                  <a:lnTo>
                    <a:pt x="748" y="666"/>
                  </a:lnTo>
                  <a:lnTo>
                    <a:pt x="760" y="654"/>
                  </a:lnTo>
                  <a:lnTo>
                    <a:pt x="772" y="646"/>
                  </a:lnTo>
                  <a:lnTo>
                    <a:pt x="786" y="640"/>
                  </a:lnTo>
                  <a:lnTo>
                    <a:pt x="788" y="638"/>
                  </a:lnTo>
                  <a:lnTo>
                    <a:pt x="790" y="624"/>
                  </a:lnTo>
                  <a:lnTo>
                    <a:pt x="786" y="624"/>
                  </a:lnTo>
                  <a:lnTo>
                    <a:pt x="786" y="624"/>
                  </a:lnTo>
                  <a:lnTo>
                    <a:pt x="746" y="610"/>
                  </a:lnTo>
                  <a:lnTo>
                    <a:pt x="726" y="602"/>
                  </a:lnTo>
                  <a:lnTo>
                    <a:pt x="706" y="594"/>
                  </a:lnTo>
                  <a:lnTo>
                    <a:pt x="688" y="582"/>
                  </a:lnTo>
                  <a:lnTo>
                    <a:pt x="670" y="570"/>
                  </a:lnTo>
                  <a:lnTo>
                    <a:pt x="652" y="554"/>
                  </a:lnTo>
                  <a:lnTo>
                    <a:pt x="636" y="538"/>
                  </a:lnTo>
                  <a:lnTo>
                    <a:pt x="634" y="540"/>
                  </a:lnTo>
                  <a:lnTo>
                    <a:pt x="636" y="544"/>
                  </a:lnTo>
                  <a:lnTo>
                    <a:pt x="636" y="544"/>
                  </a:lnTo>
                  <a:lnTo>
                    <a:pt x="692" y="518"/>
                  </a:lnTo>
                  <a:lnTo>
                    <a:pt x="742" y="492"/>
                  </a:lnTo>
                  <a:lnTo>
                    <a:pt x="740" y="488"/>
                  </a:lnTo>
                  <a:lnTo>
                    <a:pt x="740" y="492"/>
                  </a:lnTo>
                  <a:lnTo>
                    <a:pt x="740" y="492"/>
                  </a:lnTo>
                  <a:lnTo>
                    <a:pt x="752" y="492"/>
                  </a:lnTo>
                  <a:lnTo>
                    <a:pt x="752" y="492"/>
                  </a:lnTo>
                  <a:lnTo>
                    <a:pt x="760" y="492"/>
                  </a:lnTo>
                  <a:lnTo>
                    <a:pt x="766" y="490"/>
                  </a:lnTo>
                  <a:lnTo>
                    <a:pt x="766" y="490"/>
                  </a:lnTo>
                  <a:lnTo>
                    <a:pt x="772" y="486"/>
                  </a:lnTo>
                  <a:lnTo>
                    <a:pt x="774" y="480"/>
                  </a:lnTo>
                  <a:lnTo>
                    <a:pt x="776" y="478"/>
                  </a:lnTo>
                  <a:lnTo>
                    <a:pt x="658" y="400"/>
                  </a:lnTo>
                  <a:lnTo>
                    <a:pt x="656" y="406"/>
                  </a:lnTo>
                  <a:lnTo>
                    <a:pt x="656" y="406"/>
                  </a:lnTo>
                  <a:lnTo>
                    <a:pt x="648" y="430"/>
                  </a:lnTo>
                  <a:lnTo>
                    <a:pt x="638" y="458"/>
                  </a:lnTo>
                  <a:lnTo>
                    <a:pt x="626" y="486"/>
                  </a:lnTo>
                  <a:lnTo>
                    <a:pt x="614" y="516"/>
                  </a:lnTo>
                  <a:lnTo>
                    <a:pt x="616" y="518"/>
                  </a:lnTo>
                  <a:lnTo>
                    <a:pt x="620" y="514"/>
                  </a:lnTo>
                  <a:lnTo>
                    <a:pt x="620" y="514"/>
                  </a:lnTo>
                  <a:lnTo>
                    <a:pt x="606" y="492"/>
                  </a:lnTo>
                  <a:lnTo>
                    <a:pt x="594" y="464"/>
                  </a:lnTo>
                  <a:lnTo>
                    <a:pt x="582" y="434"/>
                  </a:lnTo>
                  <a:lnTo>
                    <a:pt x="574" y="400"/>
                  </a:lnTo>
                  <a:lnTo>
                    <a:pt x="570" y="402"/>
                  </a:lnTo>
                  <a:lnTo>
                    <a:pt x="574" y="402"/>
                  </a:lnTo>
                  <a:lnTo>
                    <a:pt x="570" y="4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13"/>
            <p:cNvSpPr/>
            <p:nvPr/>
          </p:nvSpPr>
          <p:spPr>
            <a:xfrm>
              <a:off x="8607240" y="11528640"/>
              <a:ext cx="1092600" cy="1225440"/>
            </a:xfrm>
            <a:custGeom>
              <a:avLst/>
              <a:gdLst>
                <a:gd name="textAreaLeft" fmla="*/ 0 w 1092600"/>
                <a:gd name="textAreaRight" fmla="*/ 1092960 w 109260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688" h="772">
                  <a:moveTo>
                    <a:pt x="576" y="122"/>
                  </a:moveTo>
                  <a:lnTo>
                    <a:pt x="688" y="202"/>
                  </a:lnTo>
                  <a:lnTo>
                    <a:pt x="688" y="202"/>
                  </a:lnTo>
                  <a:lnTo>
                    <a:pt x="684" y="208"/>
                  </a:lnTo>
                  <a:lnTo>
                    <a:pt x="676" y="212"/>
                  </a:lnTo>
                  <a:lnTo>
                    <a:pt x="666" y="218"/>
                  </a:lnTo>
                  <a:lnTo>
                    <a:pt x="656" y="220"/>
                  </a:lnTo>
                  <a:lnTo>
                    <a:pt x="656" y="638"/>
                  </a:lnTo>
                  <a:lnTo>
                    <a:pt x="656" y="638"/>
                  </a:lnTo>
                  <a:lnTo>
                    <a:pt x="654" y="662"/>
                  </a:lnTo>
                  <a:lnTo>
                    <a:pt x="652" y="686"/>
                  </a:lnTo>
                  <a:lnTo>
                    <a:pt x="648" y="696"/>
                  </a:lnTo>
                  <a:lnTo>
                    <a:pt x="644" y="706"/>
                  </a:lnTo>
                  <a:lnTo>
                    <a:pt x="638" y="716"/>
                  </a:lnTo>
                  <a:lnTo>
                    <a:pt x="632" y="724"/>
                  </a:lnTo>
                  <a:lnTo>
                    <a:pt x="624" y="732"/>
                  </a:lnTo>
                  <a:lnTo>
                    <a:pt x="614" y="740"/>
                  </a:lnTo>
                  <a:lnTo>
                    <a:pt x="602" y="746"/>
                  </a:lnTo>
                  <a:lnTo>
                    <a:pt x="588" y="752"/>
                  </a:lnTo>
                  <a:lnTo>
                    <a:pt x="572" y="758"/>
                  </a:lnTo>
                  <a:lnTo>
                    <a:pt x="552" y="762"/>
                  </a:lnTo>
                  <a:lnTo>
                    <a:pt x="508" y="770"/>
                  </a:lnTo>
                  <a:lnTo>
                    <a:pt x="508" y="770"/>
                  </a:lnTo>
                  <a:lnTo>
                    <a:pt x="506" y="742"/>
                  </a:lnTo>
                  <a:lnTo>
                    <a:pt x="502" y="718"/>
                  </a:lnTo>
                  <a:lnTo>
                    <a:pt x="498" y="708"/>
                  </a:lnTo>
                  <a:lnTo>
                    <a:pt x="492" y="700"/>
                  </a:lnTo>
                  <a:lnTo>
                    <a:pt x="486" y="692"/>
                  </a:lnTo>
                  <a:lnTo>
                    <a:pt x="480" y="686"/>
                  </a:lnTo>
                  <a:lnTo>
                    <a:pt x="466" y="674"/>
                  </a:lnTo>
                  <a:lnTo>
                    <a:pt x="448" y="666"/>
                  </a:lnTo>
                  <a:lnTo>
                    <a:pt x="426" y="660"/>
                  </a:lnTo>
                  <a:lnTo>
                    <a:pt x="404" y="656"/>
                  </a:lnTo>
                  <a:lnTo>
                    <a:pt x="404" y="648"/>
                  </a:lnTo>
                  <a:lnTo>
                    <a:pt x="528" y="648"/>
                  </a:lnTo>
                  <a:lnTo>
                    <a:pt x="528" y="648"/>
                  </a:lnTo>
                  <a:lnTo>
                    <a:pt x="532" y="646"/>
                  </a:lnTo>
                  <a:lnTo>
                    <a:pt x="538" y="644"/>
                  </a:lnTo>
                  <a:lnTo>
                    <a:pt x="540" y="640"/>
                  </a:lnTo>
                  <a:lnTo>
                    <a:pt x="540" y="636"/>
                  </a:lnTo>
                  <a:lnTo>
                    <a:pt x="540" y="192"/>
                  </a:lnTo>
                  <a:lnTo>
                    <a:pt x="116" y="192"/>
                  </a:lnTo>
                  <a:lnTo>
                    <a:pt x="116" y="724"/>
                  </a:lnTo>
                  <a:lnTo>
                    <a:pt x="116" y="724"/>
                  </a:lnTo>
                  <a:lnTo>
                    <a:pt x="114" y="728"/>
                  </a:lnTo>
                  <a:lnTo>
                    <a:pt x="112" y="734"/>
                  </a:lnTo>
                  <a:lnTo>
                    <a:pt x="104" y="742"/>
                  </a:lnTo>
                  <a:lnTo>
                    <a:pt x="94" y="750"/>
                  </a:lnTo>
                  <a:lnTo>
                    <a:pt x="80" y="758"/>
                  </a:lnTo>
                  <a:lnTo>
                    <a:pt x="60" y="764"/>
                  </a:lnTo>
                  <a:lnTo>
                    <a:pt x="34" y="770"/>
                  </a:lnTo>
                  <a:lnTo>
                    <a:pt x="0" y="772"/>
                  </a:lnTo>
                  <a:lnTo>
                    <a:pt x="0" y="130"/>
                  </a:lnTo>
                  <a:lnTo>
                    <a:pt x="124" y="180"/>
                  </a:lnTo>
                  <a:lnTo>
                    <a:pt x="236" y="180"/>
                  </a:lnTo>
                  <a:lnTo>
                    <a:pt x="236" y="180"/>
                  </a:lnTo>
                  <a:lnTo>
                    <a:pt x="248" y="88"/>
                  </a:lnTo>
                  <a:lnTo>
                    <a:pt x="256" y="0"/>
                  </a:lnTo>
                  <a:lnTo>
                    <a:pt x="430" y="38"/>
                  </a:lnTo>
                  <a:lnTo>
                    <a:pt x="430" y="38"/>
                  </a:lnTo>
                  <a:lnTo>
                    <a:pt x="428" y="46"/>
                  </a:lnTo>
                  <a:lnTo>
                    <a:pt x="422" y="50"/>
                  </a:lnTo>
                  <a:lnTo>
                    <a:pt x="412" y="54"/>
                  </a:lnTo>
                  <a:lnTo>
                    <a:pt x="398" y="54"/>
                  </a:lnTo>
                  <a:lnTo>
                    <a:pt x="398" y="54"/>
                  </a:lnTo>
                  <a:lnTo>
                    <a:pt x="368" y="82"/>
                  </a:lnTo>
                  <a:lnTo>
                    <a:pt x="334" y="114"/>
                  </a:lnTo>
                  <a:lnTo>
                    <a:pt x="296" y="148"/>
                  </a:lnTo>
                  <a:lnTo>
                    <a:pt x="256" y="180"/>
                  </a:lnTo>
                  <a:lnTo>
                    <a:pt x="532" y="180"/>
                  </a:lnTo>
                  <a:lnTo>
                    <a:pt x="576" y="122"/>
                  </a:lnTo>
                  <a:close/>
                  <a:moveTo>
                    <a:pt x="514" y="346"/>
                  </a:moveTo>
                  <a:lnTo>
                    <a:pt x="514" y="346"/>
                  </a:lnTo>
                  <a:lnTo>
                    <a:pt x="510" y="352"/>
                  </a:lnTo>
                  <a:lnTo>
                    <a:pt x="502" y="356"/>
                  </a:lnTo>
                  <a:lnTo>
                    <a:pt x="492" y="360"/>
                  </a:lnTo>
                  <a:lnTo>
                    <a:pt x="482" y="364"/>
                  </a:lnTo>
                  <a:lnTo>
                    <a:pt x="482" y="588"/>
                  </a:lnTo>
                  <a:lnTo>
                    <a:pt x="482" y="588"/>
                  </a:lnTo>
                  <a:lnTo>
                    <a:pt x="476" y="594"/>
                  </a:lnTo>
                  <a:lnTo>
                    <a:pt x="468" y="598"/>
                  </a:lnTo>
                  <a:lnTo>
                    <a:pt x="458" y="604"/>
                  </a:lnTo>
                  <a:lnTo>
                    <a:pt x="444" y="608"/>
                  </a:lnTo>
                  <a:lnTo>
                    <a:pt x="424" y="612"/>
                  </a:lnTo>
                  <a:lnTo>
                    <a:pt x="402" y="616"/>
                  </a:lnTo>
                  <a:lnTo>
                    <a:pt x="374" y="618"/>
                  </a:lnTo>
                  <a:lnTo>
                    <a:pt x="374" y="546"/>
                  </a:lnTo>
                  <a:lnTo>
                    <a:pt x="278" y="546"/>
                  </a:lnTo>
                  <a:lnTo>
                    <a:pt x="278" y="602"/>
                  </a:lnTo>
                  <a:lnTo>
                    <a:pt x="278" y="602"/>
                  </a:lnTo>
                  <a:lnTo>
                    <a:pt x="274" y="608"/>
                  </a:lnTo>
                  <a:lnTo>
                    <a:pt x="268" y="614"/>
                  </a:lnTo>
                  <a:lnTo>
                    <a:pt x="258" y="622"/>
                  </a:lnTo>
                  <a:lnTo>
                    <a:pt x="244" y="628"/>
                  </a:lnTo>
                  <a:lnTo>
                    <a:pt x="226" y="634"/>
                  </a:lnTo>
                  <a:lnTo>
                    <a:pt x="202" y="638"/>
                  </a:lnTo>
                  <a:lnTo>
                    <a:pt x="172" y="640"/>
                  </a:lnTo>
                  <a:lnTo>
                    <a:pt x="172" y="280"/>
                  </a:lnTo>
                  <a:lnTo>
                    <a:pt x="282" y="324"/>
                  </a:lnTo>
                  <a:lnTo>
                    <a:pt x="366" y="324"/>
                  </a:lnTo>
                  <a:lnTo>
                    <a:pt x="406" y="270"/>
                  </a:lnTo>
                  <a:lnTo>
                    <a:pt x="514" y="346"/>
                  </a:lnTo>
                  <a:close/>
                  <a:moveTo>
                    <a:pt x="278" y="532"/>
                  </a:moveTo>
                  <a:lnTo>
                    <a:pt x="374" y="532"/>
                  </a:lnTo>
                  <a:lnTo>
                    <a:pt x="374" y="336"/>
                  </a:lnTo>
                  <a:lnTo>
                    <a:pt x="278" y="336"/>
                  </a:lnTo>
                  <a:lnTo>
                    <a:pt x="278" y="53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14"/>
            <p:cNvSpPr/>
            <p:nvPr/>
          </p:nvSpPr>
          <p:spPr>
            <a:xfrm>
              <a:off x="8600760" y="11518920"/>
              <a:ext cx="1108440" cy="1241280"/>
            </a:xfrm>
            <a:custGeom>
              <a:avLst/>
              <a:gdLst>
                <a:gd name="textAreaLeft" fmla="*/ 0 w 1108440"/>
                <a:gd name="textAreaRight" fmla="*/ 1108800 w 110844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698" h="782">
                  <a:moveTo>
                    <a:pt x="580" y="128"/>
                  </a:moveTo>
                  <a:lnTo>
                    <a:pt x="578" y="130"/>
                  </a:lnTo>
                  <a:lnTo>
                    <a:pt x="690" y="212"/>
                  </a:lnTo>
                  <a:lnTo>
                    <a:pt x="692" y="208"/>
                  </a:lnTo>
                  <a:lnTo>
                    <a:pt x="688" y="206"/>
                  </a:lnTo>
                  <a:lnTo>
                    <a:pt x="688" y="206"/>
                  </a:lnTo>
                  <a:lnTo>
                    <a:pt x="684" y="210"/>
                  </a:lnTo>
                  <a:lnTo>
                    <a:pt x="678" y="216"/>
                  </a:lnTo>
                  <a:lnTo>
                    <a:pt x="670" y="220"/>
                  </a:lnTo>
                  <a:lnTo>
                    <a:pt x="658" y="222"/>
                  </a:lnTo>
                  <a:lnTo>
                    <a:pt x="656" y="224"/>
                  </a:lnTo>
                  <a:lnTo>
                    <a:pt x="656" y="644"/>
                  </a:lnTo>
                  <a:lnTo>
                    <a:pt x="656" y="644"/>
                  </a:lnTo>
                  <a:lnTo>
                    <a:pt x="654" y="668"/>
                  </a:lnTo>
                  <a:lnTo>
                    <a:pt x="652" y="690"/>
                  </a:lnTo>
                  <a:lnTo>
                    <a:pt x="652" y="690"/>
                  </a:lnTo>
                  <a:lnTo>
                    <a:pt x="646" y="706"/>
                  </a:lnTo>
                  <a:lnTo>
                    <a:pt x="640" y="720"/>
                  </a:lnTo>
                  <a:lnTo>
                    <a:pt x="628" y="732"/>
                  </a:lnTo>
                  <a:lnTo>
                    <a:pt x="614" y="742"/>
                  </a:lnTo>
                  <a:lnTo>
                    <a:pt x="614" y="742"/>
                  </a:lnTo>
                  <a:lnTo>
                    <a:pt x="596" y="752"/>
                  </a:lnTo>
                  <a:lnTo>
                    <a:pt x="574" y="760"/>
                  </a:lnTo>
                  <a:lnTo>
                    <a:pt x="546" y="766"/>
                  </a:lnTo>
                  <a:lnTo>
                    <a:pt x="512" y="772"/>
                  </a:lnTo>
                  <a:lnTo>
                    <a:pt x="512" y="776"/>
                  </a:lnTo>
                  <a:lnTo>
                    <a:pt x="516" y="776"/>
                  </a:lnTo>
                  <a:lnTo>
                    <a:pt x="516" y="776"/>
                  </a:lnTo>
                  <a:lnTo>
                    <a:pt x="514" y="746"/>
                  </a:lnTo>
                  <a:lnTo>
                    <a:pt x="510" y="722"/>
                  </a:lnTo>
                  <a:lnTo>
                    <a:pt x="510" y="722"/>
                  </a:lnTo>
                  <a:lnTo>
                    <a:pt x="502" y="708"/>
                  </a:lnTo>
                  <a:lnTo>
                    <a:pt x="494" y="696"/>
                  </a:lnTo>
                  <a:lnTo>
                    <a:pt x="484" y="684"/>
                  </a:lnTo>
                  <a:lnTo>
                    <a:pt x="472" y="676"/>
                  </a:lnTo>
                  <a:lnTo>
                    <a:pt x="472" y="676"/>
                  </a:lnTo>
                  <a:lnTo>
                    <a:pt x="458" y="670"/>
                  </a:lnTo>
                  <a:lnTo>
                    <a:pt x="442" y="666"/>
                  </a:lnTo>
                  <a:lnTo>
                    <a:pt x="408" y="658"/>
                  </a:lnTo>
                  <a:lnTo>
                    <a:pt x="408" y="662"/>
                  </a:lnTo>
                  <a:lnTo>
                    <a:pt x="412" y="662"/>
                  </a:lnTo>
                  <a:lnTo>
                    <a:pt x="412" y="658"/>
                  </a:lnTo>
                  <a:lnTo>
                    <a:pt x="532" y="658"/>
                  </a:lnTo>
                  <a:lnTo>
                    <a:pt x="532" y="658"/>
                  </a:lnTo>
                  <a:lnTo>
                    <a:pt x="538" y="656"/>
                  </a:lnTo>
                  <a:lnTo>
                    <a:pt x="544" y="654"/>
                  </a:lnTo>
                  <a:lnTo>
                    <a:pt x="544" y="654"/>
                  </a:lnTo>
                  <a:lnTo>
                    <a:pt x="548" y="648"/>
                  </a:lnTo>
                  <a:lnTo>
                    <a:pt x="548" y="648"/>
                  </a:lnTo>
                  <a:lnTo>
                    <a:pt x="548" y="642"/>
                  </a:lnTo>
                  <a:lnTo>
                    <a:pt x="548" y="194"/>
                  </a:lnTo>
                  <a:lnTo>
                    <a:pt x="116" y="194"/>
                  </a:lnTo>
                  <a:lnTo>
                    <a:pt x="116" y="730"/>
                  </a:lnTo>
                  <a:lnTo>
                    <a:pt x="116" y="730"/>
                  </a:lnTo>
                  <a:lnTo>
                    <a:pt x="116" y="730"/>
                  </a:lnTo>
                  <a:lnTo>
                    <a:pt x="116" y="730"/>
                  </a:lnTo>
                  <a:lnTo>
                    <a:pt x="116" y="730"/>
                  </a:lnTo>
                  <a:lnTo>
                    <a:pt x="116" y="730"/>
                  </a:lnTo>
                  <a:lnTo>
                    <a:pt x="116" y="730"/>
                  </a:lnTo>
                  <a:lnTo>
                    <a:pt x="116" y="730"/>
                  </a:lnTo>
                  <a:lnTo>
                    <a:pt x="114" y="734"/>
                  </a:lnTo>
                  <a:lnTo>
                    <a:pt x="110" y="740"/>
                  </a:lnTo>
                  <a:lnTo>
                    <a:pt x="110" y="740"/>
                  </a:lnTo>
                  <a:lnTo>
                    <a:pt x="100" y="750"/>
                  </a:lnTo>
                  <a:lnTo>
                    <a:pt x="92" y="756"/>
                  </a:lnTo>
                  <a:lnTo>
                    <a:pt x="80" y="762"/>
                  </a:lnTo>
                  <a:lnTo>
                    <a:pt x="66" y="766"/>
                  </a:lnTo>
                  <a:lnTo>
                    <a:pt x="50" y="770"/>
                  </a:lnTo>
                  <a:lnTo>
                    <a:pt x="28" y="772"/>
                  </a:lnTo>
                  <a:lnTo>
                    <a:pt x="4" y="774"/>
                  </a:lnTo>
                  <a:lnTo>
                    <a:pt x="4" y="778"/>
                  </a:lnTo>
                  <a:lnTo>
                    <a:pt x="8" y="778"/>
                  </a:lnTo>
                  <a:lnTo>
                    <a:pt x="8" y="142"/>
                  </a:lnTo>
                  <a:lnTo>
                    <a:pt x="128" y="190"/>
                  </a:lnTo>
                  <a:lnTo>
                    <a:pt x="242" y="190"/>
                  </a:lnTo>
                  <a:lnTo>
                    <a:pt x="244" y="186"/>
                  </a:lnTo>
                  <a:lnTo>
                    <a:pt x="244" y="186"/>
                  </a:lnTo>
                  <a:lnTo>
                    <a:pt x="256" y="94"/>
                  </a:lnTo>
                  <a:lnTo>
                    <a:pt x="264" y="6"/>
                  </a:lnTo>
                  <a:lnTo>
                    <a:pt x="260" y="6"/>
                  </a:lnTo>
                  <a:lnTo>
                    <a:pt x="260" y="10"/>
                  </a:lnTo>
                  <a:lnTo>
                    <a:pt x="434" y="48"/>
                  </a:lnTo>
                  <a:lnTo>
                    <a:pt x="434" y="44"/>
                  </a:lnTo>
                  <a:lnTo>
                    <a:pt x="430" y="44"/>
                  </a:lnTo>
                  <a:lnTo>
                    <a:pt x="430" y="44"/>
                  </a:lnTo>
                  <a:lnTo>
                    <a:pt x="428" y="50"/>
                  </a:lnTo>
                  <a:lnTo>
                    <a:pt x="428" y="50"/>
                  </a:lnTo>
                  <a:lnTo>
                    <a:pt x="426" y="52"/>
                  </a:lnTo>
                  <a:lnTo>
                    <a:pt x="420" y="54"/>
                  </a:lnTo>
                  <a:lnTo>
                    <a:pt x="420" y="54"/>
                  </a:lnTo>
                  <a:lnTo>
                    <a:pt x="412" y="56"/>
                  </a:lnTo>
                  <a:lnTo>
                    <a:pt x="402" y="56"/>
                  </a:lnTo>
                  <a:lnTo>
                    <a:pt x="400" y="56"/>
                  </a:lnTo>
                  <a:lnTo>
                    <a:pt x="400" y="58"/>
                  </a:lnTo>
                  <a:lnTo>
                    <a:pt x="400" y="58"/>
                  </a:lnTo>
                  <a:lnTo>
                    <a:pt x="370" y="86"/>
                  </a:lnTo>
                  <a:lnTo>
                    <a:pt x="334" y="118"/>
                  </a:lnTo>
                  <a:lnTo>
                    <a:pt x="296" y="150"/>
                  </a:lnTo>
                  <a:lnTo>
                    <a:pt x="258" y="182"/>
                  </a:lnTo>
                  <a:lnTo>
                    <a:pt x="248" y="190"/>
                  </a:lnTo>
                  <a:lnTo>
                    <a:pt x="538" y="190"/>
                  </a:lnTo>
                  <a:lnTo>
                    <a:pt x="584" y="130"/>
                  </a:lnTo>
                  <a:lnTo>
                    <a:pt x="580" y="128"/>
                  </a:lnTo>
                  <a:lnTo>
                    <a:pt x="578" y="130"/>
                  </a:lnTo>
                  <a:lnTo>
                    <a:pt x="580" y="128"/>
                  </a:lnTo>
                  <a:lnTo>
                    <a:pt x="578" y="126"/>
                  </a:lnTo>
                  <a:lnTo>
                    <a:pt x="534" y="182"/>
                  </a:lnTo>
                  <a:lnTo>
                    <a:pt x="260" y="182"/>
                  </a:lnTo>
                  <a:lnTo>
                    <a:pt x="260" y="186"/>
                  </a:lnTo>
                  <a:lnTo>
                    <a:pt x="262" y="188"/>
                  </a:lnTo>
                  <a:lnTo>
                    <a:pt x="262" y="188"/>
                  </a:lnTo>
                  <a:lnTo>
                    <a:pt x="302" y="156"/>
                  </a:lnTo>
                  <a:lnTo>
                    <a:pt x="340" y="124"/>
                  </a:lnTo>
                  <a:lnTo>
                    <a:pt x="376" y="92"/>
                  </a:lnTo>
                  <a:lnTo>
                    <a:pt x="406" y="64"/>
                  </a:lnTo>
                  <a:lnTo>
                    <a:pt x="402" y="60"/>
                  </a:lnTo>
                  <a:lnTo>
                    <a:pt x="402" y="64"/>
                  </a:lnTo>
                  <a:lnTo>
                    <a:pt x="402" y="64"/>
                  </a:lnTo>
                  <a:lnTo>
                    <a:pt x="418" y="64"/>
                  </a:lnTo>
                  <a:lnTo>
                    <a:pt x="428" y="60"/>
                  </a:lnTo>
                  <a:lnTo>
                    <a:pt x="428" y="60"/>
                  </a:lnTo>
                  <a:lnTo>
                    <a:pt x="436" y="54"/>
                  </a:lnTo>
                  <a:lnTo>
                    <a:pt x="436" y="54"/>
                  </a:lnTo>
                  <a:lnTo>
                    <a:pt x="438" y="46"/>
                  </a:lnTo>
                  <a:lnTo>
                    <a:pt x="440" y="42"/>
                  </a:lnTo>
                  <a:lnTo>
                    <a:pt x="256" y="0"/>
                  </a:lnTo>
                  <a:lnTo>
                    <a:pt x="256" y="4"/>
                  </a:lnTo>
                  <a:lnTo>
                    <a:pt x="256" y="4"/>
                  </a:lnTo>
                  <a:lnTo>
                    <a:pt x="248" y="94"/>
                  </a:lnTo>
                  <a:lnTo>
                    <a:pt x="236" y="184"/>
                  </a:lnTo>
                  <a:lnTo>
                    <a:pt x="240" y="186"/>
                  </a:lnTo>
                  <a:lnTo>
                    <a:pt x="240" y="182"/>
                  </a:lnTo>
                  <a:lnTo>
                    <a:pt x="128" y="182"/>
                  </a:lnTo>
                  <a:lnTo>
                    <a:pt x="0" y="130"/>
                  </a:lnTo>
                  <a:lnTo>
                    <a:pt x="0" y="782"/>
                  </a:lnTo>
                  <a:lnTo>
                    <a:pt x="4" y="782"/>
                  </a:lnTo>
                  <a:lnTo>
                    <a:pt x="4" y="782"/>
                  </a:lnTo>
                  <a:lnTo>
                    <a:pt x="38" y="780"/>
                  </a:lnTo>
                  <a:lnTo>
                    <a:pt x="64" y="774"/>
                  </a:lnTo>
                  <a:lnTo>
                    <a:pt x="86" y="768"/>
                  </a:lnTo>
                  <a:lnTo>
                    <a:pt x="102" y="758"/>
                  </a:lnTo>
                  <a:lnTo>
                    <a:pt x="102" y="758"/>
                  </a:lnTo>
                  <a:lnTo>
                    <a:pt x="112" y="750"/>
                  </a:lnTo>
                  <a:lnTo>
                    <a:pt x="118" y="742"/>
                  </a:lnTo>
                  <a:lnTo>
                    <a:pt x="118" y="742"/>
                  </a:lnTo>
                  <a:lnTo>
                    <a:pt x="122" y="736"/>
                  </a:lnTo>
                  <a:lnTo>
                    <a:pt x="122" y="736"/>
                  </a:lnTo>
                  <a:lnTo>
                    <a:pt x="122" y="732"/>
                  </a:lnTo>
                  <a:lnTo>
                    <a:pt x="122" y="732"/>
                  </a:lnTo>
                  <a:lnTo>
                    <a:pt x="124" y="730"/>
                  </a:lnTo>
                  <a:lnTo>
                    <a:pt x="124" y="202"/>
                  </a:lnTo>
                  <a:lnTo>
                    <a:pt x="540" y="202"/>
                  </a:lnTo>
                  <a:lnTo>
                    <a:pt x="540" y="642"/>
                  </a:lnTo>
                  <a:lnTo>
                    <a:pt x="540" y="642"/>
                  </a:lnTo>
                  <a:lnTo>
                    <a:pt x="540" y="646"/>
                  </a:lnTo>
                  <a:lnTo>
                    <a:pt x="540" y="646"/>
                  </a:lnTo>
                  <a:lnTo>
                    <a:pt x="538" y="648"/>
                  </a:lnTo>
                  <a:lnTo>
                    <a:pt x="538" y="648"/>
                  </a:lnTo>
                  <a:lnTo>
                    <a:pt x="532" y="650"/>
                  </a:lnTo>
                  <a:lnTo>
                    <a:pt x="404" y="650"/>
                  </a:lnTo>
                  <a:lnTo>
                    <a:pt x="404" y="666"/>
                  </a:lnTo>
                  <a:lnTo>
                    <a:pt x="406" y="666"/>
                  </a:lnTo>
                  <a:lnTo>
                    <a:pt x="406" y="666"/>
                  </a:lnTo>
                  <a:lnTo>
                    <a:pt x="430" y="670"/>
                  </a:lnTo>
                  <a:lnTo>
                    <a:pt x="450" y="676"/>
                  </a:lnTo>
                  <a:lnTo>
                    <a:pt x="468" y="684"/>
                  </a:lnTo>
                  <a:lnTo>
                    <a:pt x="482" y="694"/>
                  </a:lnTo>
                  <a:lnTo>
                    <a:pt x="482" y="694"/>
                  </a:lnTo>
                  <a:lnTo>
                    <a:pt x="494" y="708"/>
                  </a:lnTo>
                  <a:lnTo>
                    <a:pt x="502" y="726"/>
                  </a:lnTo>
                  <a:lnTo>
                    <a:pt x="502" y="726"/>
                  </a:lnTo>
                  <a:lnTo>
                    <a:pt x="506" y="748"/>
                  </a:lnTo>
                  <a:lnTo>
                    <a:pt x="508" y="776"/>
                  </a:lnTo>
                  <a:lnTo>
                    <a:pt x="508" y="780"/>
                  </a:lnTo>
                  <a:lnTo>
                    <a:pt x="512" y="780"/>
                  </a:lnTo>
                  <a:lnTo>
                    <a:pt x="512" y="780"/>
                  </a:lnTo>
                  <a:lnTo>
                    <a:pt x="558" y="772"/>
                  </a:lnTo>
                  <a:lnTo>
                    <a:pt x="576" y="768"/>
                  </a:lnTo>
                  <a:lnTo>
                    <a:pt x="592" y="762"/>
                  </a:lnTo>
                  <a:lnTo>
                    <a:pt x="606" y="756"/>
                  </a:lnTo>
                  <a:lnTo>
                    <a:pt x="620" y="750"/>
                  </a:lnTo>
                  <a:lnTo>
                    <a:pt x="630" y="742"/>
                  </a:lnTo>
                  <a:lnTo>
                    <a:pt x="638" y="734"/>
                  </a:lnTo>
                  <a:lnTo>
                    <a:pt x="638" y="734"/>
                  </a:lnTo>
                  <a:lnTo>
                    <a:pt x="646" y="724"/>
                  </a:lnTo>
                  <a:lnTo>
                    <a:pt x="652" y="714"/>
                  </a:lnTo>
                  <a:lnTo>
                    <a:pt x="656" y="704"/>
                  </a:lnTo>
                  <a:lnTo>
                    <a:pt x="658" y="692"/>
                  </a:lnTo>
                  <a:lnTo>
                    <a:pt x="658" y="692"/>
                  </a:lnTo>
                  <a:lnTo>
                    <a:pt x="662" y="670"/>
                  </a:lnTo>
                  <a:lnTo>
                    <a:pt x="664" y="644"/>
                  </a:lnTo>
                  <a:lnTo>
                    <a:pt x="664" y="226"/>
                  </a:lnTo>
                  <a:lnTo>
                    <a:pt x="660" y="226"/>
                  </a:lnTo>
                  <a:lnTo>
                    <a:pt x="660" y="230"/>
                  </a:lnTo>
                  <a:lnTo>
                    <a:pt x="660" y="230"/>
                  </a:lnTo>
                  <a:lnTo>
                    <a:pt x="672" y="228"/>
                  </a:lnTo>
                  <a:lnTo>
                    <a:pt x="682" y="222"/>
                  </a:lnTo>
                  <a:lnTo>
                    <a:pt x="690" y="216"/>
                  </a:lnTo>
                  <a:lnTo>
                    <a:pt x="696" y="212"/>
                  </a:lnTo>
                  <a:lnTo>
                    <a:pt x="698" y="208"/>
                  </a:lnTo>
                  <a:lnTo>
                    <a:pt x="580" y="122"/>
                  </a:lnTo>
                  <a:lnTo>
                    <a:pt x="578" y="126"/>
                  </a:lnTo>
                  <a:lnTo>
                    <a:pt x="580" y="128"/>
                  </a:lnTo>
                  <a:close/>
                  <a:moveTo>
                    <a:pt x="518" y="352"/>
                  </a:moveTo>
                  <a:lnTo>
                    <a:pt x="516" y="350"/>
                  </a:lnTo>
                  <a:lnTo>
                    <a:pt x="516" y="350"/>
                  </a:lnTo>
                  <a:lnTo>
                    <a:pt x="510" y="354"/>
                  </a:lnTo>
                  <a:lnTo>
                    <a:pt x="504" y="358"/>
                  </a:lnTo>
                  <a:lnTo>
                    <a:pt x="496" y="362"/>
                  </a:lnTo>
                  <a:lnTo>
                    <a:pt x="484" y="366"/>
                  </a:lnTo>
                  <a:lnTo>
                    <a:pt x="482" y="368"/>
                  </a:lnTo>
                  <a:lnTo>
                    <a:pt x="482" y="594"/>
                  </a:lnTo>
                  <a:lnTo>
                    <a:pt x="486" y="594"/>
                  </a:lnTo>
                  <a:lnTo>
                    <a:pt x="482" y="592"/>
                  </a:lnTo>
                  <a:lnTo>
                    <a:pt x="482" y="592"/>
                  </a:lnTo>
                  <a:lnTo>
                    <a:pt x="482" y="594"/>
                  </a:lnTo>
                  <a:lnTo>
                    <a:pt x="486" y="594"/>
                  </a:lnTo>
                  <a:lnTo>
                    <a:pt x="482" y="592"/>
                  </a:lnTo>
                  <a:lnTo>
                    <a:pt x="484" y="594"/>
                  </a:lnTo>
                  <a:lnTo>
                    <a:pt x="482" y="592"/>
                  </a:lnTo>
                  <a:lnTo>
                    <a:pt x="482" y="592"/>
                  </a:lnTo>
                  <a:lnTo>
                    <a:pt x="484" y="594"/>
                  </a:lnTo>
                  <a:lnTo>
                    <a:pt x="482" y="592"/>
                  </a:lnTo>
                  <a:lnTo>
                    <a:pt x="482" y="592"/>
                  </a:lnTo>
                  <a:lnTo>
                    <a:pt x="480" y="594"/>
                  </a:lnTo>
                  <a:lnTo>
                    <a:pt x="480" y="594"/>
                  </a:lnTo>
                  <a:lnTo>
                    <a:pt x="470" y="600"/>
                  </a:lnTo>
                  <a:lnTo>
                    <a:pt x="452" y="608"/>
                  </a:lnTo>
                  <a:lnTo>
                    <a:pt x="438" y="612"/>
                  </a:lnTo>
                  <a:lnTo>
                    <a:pt x="420" y="616"/>
                  </a:lnTo>
                  <a:lnTo>
                    <a:pt x="402" y="618"/>
                  </a:lnTo>
                  <a:lnTo>
                    <a:pt x="378" y="620"/>
                  </a:lnTo>
                  <a:lnTo>
                    <a:pt x="378" y="624"/>
                  </a:lnTo>
                  <a:lnTo>
                    <a:pt x="382" y="624"/>
                  </a:lnTo>
                  <a:lnTo>
                    <a:pt x="382" y="548"/>
                  </a:lnTo>
                  <a:lnTo>
                    <a:pt x="278" y="548"/>
                  </a:lnTo>
                  <a:lnTo>
                    <a:pt x="278" y="608"/>
                  </a:lnTo>
                  <a:lnTo>
                    <a:pt x="280" y="608"/>
                  </a:lnTo>
                  <a:lnTo>
                    <a:pt x="278" y="606"/>
                  </a:lnTo>
                  <a:lnTo>
                    <a:pt x="278" y="608"/>
                  </a:lnTo>
                  <a:lnTo>
                    <a:pt x="280" y="608"/>
                  </a:lnTo>
                  <a:lnTo>
                    <a:pt x="278" y="606"/>
                  </a:lnTo>
                  <a:lnTo>
                    <a:pt x="278" y="606"/>
                  </a:lnTo>
                  <a:lnTo>
                    <a:pt x="278" y="606"/>
                  </a:lnTo>
                  <a:lnTo>
                    <a:pt x="274" y="614"/>
                  </a:lnTo>
                  <a:lnTo>
                    <a:pt x="274" y="614"/>
                  </a:lnTo>
                  <a:lnTo>
                    <a:pt x="262" y="622"/>
                  </a:lnTo>
                  <a:lnTo>
                    <a:pt x="254" y="628"/>
                  </a:lnTo>
                  <a:lnTo>
                    <a:pt x="244" y="632"/>
                  </a:lnTo>
                  <a:lnTo>
                    <a:pt x="232" y="636"/>
                  </a:lnTo>
                  <a:lnTo>
                    <a:pt x="216" y="640"/>
                  </a:lnTo>
                  <a:lnTo>
                    <a:pt x="198" y="642"/>
                  </a:lnTo>
                  <a:lnTo>
                    <a:pt x="176" y="642"/>
                  </a:lnTo>
                  <a:lnTo>
                    <a:pt x="176" y="646"/>
                  </a:lnTo>
                  <a:lnTo>
                    <a:pt x="180" y="646"/>
                  </a:lnTo>
                  <a:lnTo>
                    <a:pt x="180" y="292"/>
                  </a:lnTo>
                  <a:lnTo>
                    <a:pt x="284" y="334"/>
                  </a:lnTo>
                  <a:lnTo>
                    <a:pt x="372" y="334"/>
                  </a:lnTo>
                  <a:lnTo>
                    <a:pt x="410" y="282"/>
                  </a:lnTo>
                  <a:lnTo>
                    <a:pt x="516" y="356"/>
                  </a:lnTo>
                  <a:lnTo>
                    <a:pt x="518" y="352"/>
                  </a:lnTo>
                  <a:lnTo>
                    <a:pt x="516" y="350"/>
                  </a:lnTo>
                  <a:lnTo>
                    <a:pt x="518" y="352"/>
                  </a:lnTo>
                  <a:lnTo>
                    <a:pt x="520" y="350"/>
                  </a:lnTo>
                  <a:lnTo>
                    <a:pt x="408" y="272"/>
                  </a:lnTo>
                  <a:lnTo>
                    <a:pt x="368" y="326"/>
                  </a:lnTo>
                  <a:lnTo>
                    <a:pt x="286" y="326"/>
                  </a:lnTo>
                  <a:lnTo>
                    <a:pt x="172" y="280"/>
                  </a:lnTo>
                  <a:lnTo>
                    <a:pt x="172" y="650"/>
                  </a:lnTo>
                  <a:lnTo>
                    <a:pt x="176" y="650"/>
                  </a:lnTo>
                  <a:lnTo>
                    <a:pt x="176" y="650"/>
                  </a:lnTo>
                  <a:lnTo>
                    <a:pt x="208" y="648"/>
                  </a:lnTo>
                  <a:lnTo>
                    <a:pt x="232" y="644"/>
                  </a:lnTo>
                  <a:lnTo>
                    <a:pt x="250" y="638"/>
                  </a:lnTo>
                  <a:lnTo>
                    <a:pt x="264" y="630"/>
                  </a:lnTo>
                  <a:lnTo>
                    <a:pt x="264" y="630"/>
                  </a:lnTo>
                  <a:lnTo>
                    <a:pt x="274" y="624"/>
                  </a:lnTo>
                  <a:lnTo>
                    <a:pt x="282" y="616"/>
                  </a:lnTo>
                  <a:lnTo>
                    <a:pt x="282" y="616"/>
                  </a:lnTo>
                  <a:lnTo>
                    <a:pt x="284" y="612"/>
                  </a:lnTo>
                  <a:lnTo>
                    <a:pt x="284" y="612"/>
                  </a:lnTo>
                  <a:lnTo>
                    <a:pt x="286" y="610"/>
                  </a:lnTo>
                  <a:lnTo>
                    <a:pt x="286" y="610"/>
                  </a:lnTo>
                  <a:lnTo>
                    <a:pt x="286" y="608"/>
                  </a:lnTo>
                  <a:lnTo>
                    <a:pt x="286" y="556"/>
                  </a:lnTo>
                  <a:lnTo>
                    <a:pt x="374" y="556"/>
                  </a:lnTo>
                  <a:lnTo>
                    <a:pt x="374" y="628"/>
                  </a:lnTo>
                  <a:lnTo>
                    <a:pt x="378" y="628"/>
                  </a:lnTo>
                  <a:lnTo>
                    <a:pt x="378" y="628"/>
                  </a:lnTo>
                  <a:lnTo>
                    <a:pt x="406" y="626"/>
                  </a:lnTo>
                  <a:lnTo>
                    <a:pt x="430" y="622"/>
                  </a:lnTo>
                  <a:lnTo>
                    <a:pt x="448" y="618"/>
                  </a:lnTo>
                  <a:lnTo>
                    <a:pt x="464" y="612"/>
                  </a:lnTo>
                  <a:lnTo>
                    <a:pt x="464" y="612"/>
                  </a:lnTo>
                  <a:lnTo>
                    <a:pt x="474" y="608"/>
                  </a:lnTo>
                  <a:lnTo>
                    <a:pt x="482" y="602"/>
                  </a:lnTo>
                  <a:lnTo>
                    <a:pt x="482" y="602"/>
                  </a:lnTo>
                  <a:lnTo>
                    <a:pt x="488" y="598"/>
                  </a:lnTo>
                  <a:lnTo>
                    <a:pt x="488" y="598"/>
                  </a:lnTo>
                  <a:lnTo>
                    <a:pt x="488" y="596"/>
                  </a:lnTo>
                  <a:lnTo>
                    <a:pt x="490" y="596"/>
                  </a:lnTo>
                  <a:lnTo>
                    <a:pt x="490" y="596"/>
                  </a:lnTo>
                  <a:lnTo>
                    <a:pt x="490" y="594"/>
                  </a:lnTo>
                  <a:lnTo>
                    <a:pt x="490" y="370"/>
                  </a:lnTo>
                  <a:lnTo>
                    <a:pt x="486" y="370"/>
                  </a:lnTo>
                  <a:lnTo>
                    <a:pt x="486" y="374"/>
                  </a:lnTo>
                  <a:lnTo>
                    <a:pt x="486" y="374"/>
                  </a:lnTo>
                  <a:lnTo>
                    <a:pt x="498" y="370"/>
                  </a:lnTo>
                  <a:lnTo>
                    <a:pt x="508" y="366"/>
                  </a:lnTo>
                  <a:lnTo>
                    <a:pt x="516" y="360"/>
                  </a:lnTo>
                  <a:lnTo>
                    <a:pt x="522" y="356"/>
                  </a:lnTo>
                  <a:lnTo>
                    <a:pt x="524" y="352"/>
                  </a:lnTo>
                  <a:lnTo>
                    <a:pt x="520" y="350"/>
                  </a:lnTo>
                  <a:lnTo>
                    <a:pt x="518" y="352"/>
                  </a:lnTo>
                  <a:close/>
                  <a:moveTo>
                    <a:pt x="282" y="538"/>
                  </a:moveTo>
                  <a:lnTo>
                    <a:pt x="282" y="542"/>
                  </a:lnTo>
                  <a:lnTo>
                    <a:pt x="382" y="542"/>
                  </a:lnTo>
                  <a:lnTo>
                    <a:pt x="382" y="338"/>
                  </a:lnTo>
                  <a:lnTo>
                    <a:pt x="278" y="338"/>
                  </a:lnTo>
                  <a:lnTo>
                    <a:pt x="278" y="542"/>
                  </a:lnTo>
                  <a:lnTo>
                    <a:pt x="282" y="542"/>
                  </a:lnTo>
                  <a:lnTo>
                    <a:pt x="282" y="538"/>
                  </a:lnTo>
                  <a:lnTo>
                    <a:pt x="286" y="538"/>
                  </a:lnTo>
                  <a:lnTo>
                    <a:pt x="286" y="346"/>
                  </a:lnTo>
                  <a:lnTo>
                    <a:pt x="374" y="346"/>
                  </a:lnTo>
                  <a:lnTo>
                    <a:pt x="374" y="534"/>
                  </a:lnTo>
                  <a:lnTo>
                    <a:pt x="282" y="534"/>
                  </a:lnTo>
                  <a:lnTo>
                    <a:pt x="282" y="538"/>
                  </a:lnTo>
                  <a:lnTo>
                    <a:pt x="286" y="538"/>
                  </a:lnTo>
                  <a:lnTo>
                    <a:pt x="282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15"/>
            <p:cNvSpPr/>
            <p:nvPr/>
          </p:nvSpPr>
          <p:spPr>
            <a:xfrm>
              <a:off x="8604000" y="13061880"/>
              <a:ext cx="1076760" cy="1114200"/>
            </a:xfrm>
            <a:custGeom>
              <a:avLst/>
              <a:gdLst>
                <a:gd name="textAreaLeft" fmla="*/ 0 w 1076760"/>
                <a:gd name="textAreaRight" fmla="*/ 1077120 w 107676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678" h="702">
                  <a:moveTo>
                    <a:pt x="182" y="342"/>
                  </a:moveTo>
                  <a:lnTo>
                    <a:pt x="182" y="342"/>
                  </a:lnTo>
                  <a:lnTo>
                    <a:pt x="160" y="446"/>
                  </a:lnTo>
                  <a:lnTo>
                    <a:pt x="154" y="486"/>
                  </a:lnTo>
                  <a:lnTo>
                    <a:pt x="150" y="516"/>
                  </a:lnTo>
                  <a:lnTo>
                    <a:pt x="150" y="516"/>
                  </a:lnTo>
                  <a:lnTo>
                    <a:pt x="152" y="534"/>
                  </a:lnTo>
                  <a:lnTo>
                    <a:pt x="156" y="552"/>
                  </a:lnTo>
                  <a:lnTo>
                    <a:pt x="162" y="566"/>
                  </a:lnTo>
                  <a:lnTo>
                    <a:pt x="164" y="580"/>
                  </a:lnTo>
                  <a:lnTo>
                    <a:pt x="164" y="580"/>
                  </a:lnTo>
                  <a:lnTo>
                    <a:pt x="162" y="590"/>
                  </a:lnTo>
                  <a:lnTo>
                    <a:pt x="162" y="600"/>
                  </a:lnTo>
                  <a:lnTo>
                    <a:pt x="158" y="608"/>
                  </a:lnTo>
                  <a:lnTo>
                    <a:pt x="152" y="616"/>
                  </a:lnTo>
                  <a:lnTo>
                    <a:pt x="146" y="622"/>
                  </a:lnTo>
                  <a:lnTo>
                    <a:pt x="136" y="626"/>
                  </a:lnTo>
                  <a:lnTo>
                    <a:pt x="126" y="630"/>
                  </a:lnTo>
                  <a:lnTo>
                    <a:pt x="112" y="630"/>
                  </a:lnTo>
                  <a:lnTo>
                    <a:pt x="112" y="630"/>
                  </a:lnTo>
                  <a:lnTo>
                    <a:pt x="100" y="630"/>
                  </a:lnTo>
                  <a:lnTo>
                    <a:pt x="90" y="626"/>
                  </a:lnTo>
                  <a:lnTo>
                    <a:pt x="80" y="622"/>
                  </a:lnTo>
                  <a:lnTo>
                    <a:pt x="70" y="614"/>
                  </a:lnTo>
                  <a:lnTo>
                    <a:pt x="60" y="606"/>
                  </a:lnTo>
                  <a:lnTo>
                    <a:pt x="52" y="596"/>
                  </a:lnTo>
                  <a:lnTo>
                    <a:pt x="42" y="584"/>
                  </a:lnTo>
                  <a:lnTo>
                    <a:pt x="34" y="570"/>
                  </a:lnTo>
                  <a:lnTo>
                    <a:pt x="28" y="554"/>
                  </a:lnTo>
                  <a:lnTo>
                    <a:pt x="20" y="538"/>
                  </a:lnTo>
                  <a:lnTo>
                    <a:pt x="14" y="520"/>
                  </a:lnTo>
                  <a:lnTo>
                    <a:pt x="10" y="502"/>
                  </a:lnTo>
                  <a:lnTo>
                    <a:pt x="6" y="482"/>
                  </a:lnTo>
                  <a:lnTo>
                    <a:pt x="2" y="460"/>
                  </a:lnTo>
                  <a:lnTo>
                    <a:pt x="0" y="440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2" y="368"/>
                  </a:lnTo>
                  <a:lnTo>
                    <a:pt x="8" y="324"/>
                  </a:lnTo>
                  <a:lnTo>
                    <a:pt x="16" y="284"/>
                  </a:lnTo>
                  <a:lnTo>
                    <a:pt x="24" y="246"/>
                  </a:lnTo>
                  <a:lnTo>
                    <a:pt x="42" y="174"/>
                  </a:lnTo>
                  <a:lnTo>
                    <a:pt x="46" y="140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46" y="86"/>
                  </a:lnTo>
                  <a:lnTo>
                    <a:pt x="44" y="74"/>
                  </a:lnTo>
                  <a:lnTo>
                    <a:pt x="40" y="66"/>
                  </a:lnTo>
                  <a:lnTo>
                    <a:pt x="36" y="56"/>
                  </a:lnTo>
                  <a:lnTo>
                    <a:pt x="30" y="50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8" y="32"/>
                  </a:lnTo>
                  <a:lnTo>
                    <a:pt x="68" y="34"/>
                  </a:lnTo>
                  <a:lnTo>
                    <a:pt x="88" y="40"/>
                  </a:lnTo>
                  <a:lnTo>
                    <a:pt x="104" y="52"/>
                  </a:lnTo>
                  <a:lnTo>
                    <a:pt x="120" y="68"/>
                  </a:lnTo>
                  <a:lnTo>
                    <a:pt x="132" y="84"/>
                  </a:lnTo>
                  <a:lnTo>
                    <a:pt x="142" y="104"/>
                  </a:lnTo>
                  <a:lnTo>
                    <a:pt x="148" y="126"/>
                  </a:lnTo>
                  <a:lnTo>
                    <a:pt x="150" y="148"/>
                  </a:lnTo>
                  <a:lnTo>
                    <a:pt x="150" y="148"/>
                  </a:lnTo>
                  <a:lnTo>
                    <a:pt x="150" y="164"/>
                  </a:lnTo>
                  <a:lnTo>
                    <a:pt x="146" y="178"/>
                  </a:lnTo>
                  <a:lnTo>
                    <a:pt x="140" y="192"/>
                  </a:lnTo>
                  <a:lnTo>
                    <a:pt x="132" y="208"/>
                  </a:lnTo>
                  <a:lnTo>
                    <a:pt x="132" y="208"/>
                  </a:lnTo>
                  <a:lnTo>
                    <a:pt x="120" y="226"/>
                  </a:lnTo>
                  <a:lnTo>
                    <a:pt x="110" y="248"/>
                  </a:lnTo>
                  <a:lnTo>
                    <a:pt x="100" y="272"/>
                  </a:lnTo>
                  <a:lnTo>
                    <a:pt x="92" y="296"/>
                  </a:lnTo>
                  <a:lnTo>
                    <a:pt x="86" y="322"/>
                  </a:lnTo>
                  <a:lnTo>
                    <a:pt x="82" y="346"/>
                  </a:lnTo>
                  <a:lnTo>
                    <a:pt x="78" y="372"/>
                  </a:lnTo>
                  <a:lnTo>
                    <a:pt x="78" y="398"/>
                  </a:lnTo>
                  <a:lnTo>
                    <a:pt x="78" y="398"/>
                  </a:lnTo>
                  <a:lnTo>
                    <a:pt x="78" y="426"/>
                  </a:lnTo>
                  <a:lnTo>
                    <a:pt x="84" y="450"/>
                  </a:lnTo>
                  <a:lnTo>
                    <a:pt x="86" y="458"/>
                  </a:lnTo>
                  <a:lnTo>
                    <a:pt x="90" y="464"/>
                  </a:lnTo>
                  <a:lnTo>
                    <a:pt x="94" y="470"/>
                  </a:lnTo>
                  <a:lnTo>
                    <a:pt x="100" y="470"/>
                  </a:lnTo>
                  <a:lnTo>
                    <a:pt x="100" y="470"/>
                  </a:lnTo>
                  <a:lnTo>
                    <a:pt x="102" y="470"/>
                  </a:lnTo>
                  <a:lnTo>
                    <a:pt x="106" y="466"/>
                  </a:lnTo>
                  <a:lnTo>
                    <a:pt x="114" y="456"/>
                  </a:lnTo>
                  <a:lnTo>
                    <a:pt x="134" y="422"/>
                  </a:lnTo>
                  <a:lnTo>
                    <a:pt x="154" y="376"/>
                  </a:lnTo>
                  <a:lnTo>
                    <a:pt x="174" y="336"/>
                  </a:lnTo>
                  <a:lnTo>
                    <a:pt x="182" y="342"/>
                  </a:lnTo>
                  <a:close/>
                  <a:moveTo>
                    <a:pt x="524" y="138"/>
                  </a:moveTo>
                  <a:lnTo>
                    <a:pt x="524" y="138"/>
                  </a:lnTo>
                  <a:lnTo>
                    <a:pt x="526" y="200"/>
                  </a:lnTo>
                  <a:lnTo>
                    <a:pt x="526" y="200"/>
                  </a:lnTo>
                  <a:lnTo>
                    <a:pt x="538" y="196"/>
                  </a:lnTo>
                  <a:lnTo>
                    <a:pt x="558" y="188"/>
                  </a:lnTo>
                  <a:lnTo>
                    <a:pt x="568" y="182"/>
                  </a:lnTo>
                  <a:lnTo>
                    <a:pt x="576" y="176"/>
                  </a:lnTo>
                  <a:lnTo>
                    <a:pt x="584" y="168"/>
                  </a:lnTo>
                  <a:lnTo>
                    <a:pt x="590" y="158"/>
                  </a:lnTo>
                  <a:lnTo>
                    <a:pt x="590" y="158"/>
                  </a:lnTo>
                  <a:lnTo>
                    <a:pt x="622" y="168"/>
                  </a:lnTo>
                  <a:lnTo>
                    <a:pt x="650" y="178"/>
                  </a:lnTo>
                  <a:lnTo>
                    <a:pt x="660" y="184"/>
                  </a:lnTo>
                  <a:lnTo>
                    <a:pt x="670" y="192"/>
                  </a:lnTo>
                  <a:lnTo>
                    <a:pt x="676" y="202"/>
                  </a:lnTo>
                  <a:lnTo>
                    <a:pt x="678" y="214"/>
                  </a:lnTo>
                  <a:lnTo>
                    <a:pt x="678" y="214"/>
                  </a:lnTo>
                  <a:lnTo>
                    <a:pt x="676" y="224"/>
                  </a:lnTo>
                  <a:lnTo>
                    <a:pt x="674" y="232"/>
                  </a:lnTo>
                  <a:lnTo>
                    <a:pt x="670" y="238"/>
                  </a:lnTo>
                  <a:lnTo>
                    <a:pt x="664" y="244"/>
                  </a:lnTo>
                  <a:lnTo>
                    <a:pt x="656" y="250"/>
                  </a:lnTo>
                  <a:lnTo>
                    <a:pt x="648" y="256"/>
                  </a:lnTo>
                  <a:lnTo>
                    <a:pt x="626" y="264"/>
                  </a:lnTo>
                  <a:lnTo>
                    <a:pt x="626" y="264"/>
                  </a:lnTo>
                  <a:lnTo>
                    <a:pt x="586" y="274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4" y="348"/>
                  </a:lnTo>
                  <a:lnTo>
                    <a:pt x="536" y="402"/>
                  </a:lnTo>
                  <a:lnTo>
                    <a:pt x="536" y="402"/>
                  </a:lnTo>
                  <a:lnTo>
                    <a:pt x="536" y="430"/>
                  </a:lnTo>
                  <a:lnTo>
                    <a:pt x="534" y="458"/>
                  </a:lnTo>
                  <a:lnTo>
                    <a:pt x="530" y="484"/>
                  </a:lnTo>
                  <a:lnTo>
                    <a:pt x="526" y="508"/>
                  </a:lnTo>
                  <a:lnTo>
                    <a:pt x="520" y="532"/>
                  </a:lnTo>
                  <a:lnTo>
                    <a:pt x="510" y="552"/>
                  </a:lnTo>
                  <a:lnTo>
                    <a:pt x="500" y="572"/>
                  </a:lnTo>
                  <a:lnTo>
                    <a:pt x="486" y="592"/>
                  </a:lnTo>
                  <a:lnTo>
                    <a:pt x="470" y="610"/>
                  </a:lnTo>
                  <a:lnTo>
                    <a:pt x="452" y="626"/>
                  </a:lnTo>
                  <a:lnTo>
                    <a:pt x="430" y="642"/>
                  </a:lnTo>
                  <a:lnTo>
                    <a:pt x="404" y="656"/>
                  </a:lnTo>
                  <a:lnTo>
                    <a:pt x="376" y="668"/>
                  </a:lnTo>
                  <a:lnTo>
                    <a:pt x="344" y="682"/>
                  </a:lnTo>
                  <a:lnTo>
                    <a:pt x="308" y="692"/>
                  </a:lnTo>
                  <a:lnTo>
                    <a:pt x="268" y="702"/>
                  </a:lnTo>
                  <a:lnTo>
                    <a:pt x="262" y="694"/>
                  </a:lnTo>
                  <a:lnTo>
                    <a:pt x="262" y="694"/>
                  </a:lnTo>
                  <a:lnTo>
                    <a:pt x="286" y="678"/>
                  </a:lnTo>
                  <a:lnTo>
                    <a:pt x="308" y="664"/>
                  </a:lnTo>
                  <a:lnTo>
                    <a:pt x="326" y="650"/>
                  </a:lnTo>
                  <a:lnTo>
                    <a:pt x="344" y="634"/>
                  </a:lnTo>
                  <a:lnTo>
                    <a:pt x="360" y="618"/>
                  </a:lnTo>
                  <a:lnTo>
                    <a:pt x="376" y="602"/>
                  </a:lnTo>
                  <a:lnTo>
                    <a:pt x="388" y="584"/>
                  </a:lnTo>
                  <a:lnTo>
                    <a:pt x="398" y="568"/>
                  </a:lnTo>
                  <a:lnTo>
                    <a:pt x="408" y="548"/>
                  </a:lnTo>
                  <a:lnTo>
                    <a:pt x="416" y="528"/>
                  </a:lnTo>
                  <a:lnTo>
                    <a:pt x="424" y="508"/>
                  </a:lnTo>
                  <a:lnTo>
                    <a:pt x="428" y="486"/>
                  </a:lnTo>
                  <a:lnTo>
                    <a:pt x="432" y="462"/>
                  </a:lnTo>
                  <a:lnTo>
                    <a:pt x="436" y="438"/>
                  </a:lnTo>
                  <a:lnTo>
                    <a:pt x="438" y="386"/>
                  </a:lnTo>
                  <a:lnTo>
                    <a:pt x="438" y="386"/>
                  </a:lnTo>
                  <a:lnTo>
                    <a:pt x="436" y="298"/>
                  </a:lnTo>
                  <a:lnTo>
                    <a:pt x="436" y="298"/>
                  </a:lnTo>
                  <a:lnTo>
                    <a:pt x="396" y="302"/>
                  </a:lnTo>
                  <a:lnTo>
                    <a:pt x="362" y="304"/>
                  </a:lnTo>
                  <a:lnTo>
                    <a:pt x="362" y="304"/>
                  </a:lnTo>
                  <a:lnTo>
                    <a:pt x="340" y="302"/>
                  </a:lnTo>
                  <a:lnTo>
                    <a:pt x="320" y="296"/>
                  </a:lnTo>
                  <a:lnTo>
                    <a:pt x="302" y="288"/>
                  </a:lnTo>
                  <a:lnTo>
                    <a:pt x="288" y="278"/>
                  </a:lnTo>
                  <a:lnTo>
                    <a:pt x="274" y="264"/>
                  </a:lnTo>
                  <a:lnTo>
                    <a:pt x="262" y="248"/>
                  </a:lnTo>
                  <a:lnTo>
                    <a:pt x="250" y="230"/>
                  </a:lnTo>
                  <a:lnTo>
                    <a:pt x="242" y="210"/>
                  </a:lnTo>
                  <a:lnTo>
                    <a:pt x="246" y="204"/>
                  </a:lnTo>
                  <a:lnTo>
                    <a:pt x="246" y="204"/>
                  </a:lnTo>
                  <a:lnTo>
                    <a:pt x="258" y="212"/>
                  </a:lnTo>
                  <a:lnTo>
                    <a:pt x="270" y="218"/>
                  </a:lnTo>
                  <a:lnTo>
                    <a:pt x="282" y="224"/>
                  </a:lnTo>
                  <a:lnTo>
                    <a:pt x="294" y="226"/>
                  </a:lnTo>
                  <a:lnTo>
                    <a:pt x="320" y="230"/>
                  </a:lnTo>
                  <a:lnTo>
                    <a:pt x="344" y="230"/>
                  </a:lnTo>
                  <a:lnTo>
                    <a:pt x="344" y="230"/>
                  </a:lnTo>
                  <a:lnTo>
                    <a:pt x="386" y="228"/>
                  </a:lnTo>
                  <a:lnTo>
                    <a:pt x="434" y="222"/>
                  </a:lnTo>
                  <a:lnTo>
                    <a:pt x="434" y="222"/>
                  </a:lnTo>
                  <a:lnTo>
                    <a:pt x="432" y="148"/>
                  </a:lnTo>
                  <a:lnTo>
                    <a:pt x="428" y="98"/>
                  </a:lnTo>
                  <a:lnTo>
                    <a:pt x="426" y="80"/>
                  </a:lnTo>
                  <a:lnTo>
                    <a:pt x="422" y="66"/>
                  </a:lnTo>
                  <a:lnTo>
                    <a:pt x="416" y="56"/>
                  </a:lnTo>
                  <a:lnTo>
                    <a:pt x="408" y="50"/>
                  </a:lnTo>
                  <a:lnTo>
                    <a:pt x="408" y="50"/>
                  </a:lnTo>
                  <a:lnTo>
                    <a:pt x="396" y="44"/>
                  </a:lnTo>
                  <a:lnTo>
                    <a:pt x="384" y="40"/>
                  </a:lnTo>
                  <a:lnTo>
                    <a:pt x="370" y="38"/>
                  </a:lnTo>
                  <a:lnTo>
                    <a:pt x="358" y="40"/>
                  </a:lnTo>
                  <a:lnTo>
                    <a:pt x="356" y="36"/>
                  </a:lnTo>
                  <a:lnTo>
                    <a:pt x="356" y="36"/>
                  </a:lnTo>
                  <a:lnTo>
                    <a:pt x="360" y="28"/>
                  </a:lnTo>
                  <a:lnTo>
                    <a:pt x="366" y="22"/>
                  </a:lnTo>
                  <a:lnTo>
                    <a:pt x="372" y="16"/>
                  </a:lnTo>
                  <a:lnTo>
                    <a:pt x="380" y="10"/>
                  </a:lnTo>
                  <a:lnTo>
                    <a:pt x="398" y="2"/>
                  </a:lnTo>
                  <a:lnTo>
                    <a:pt x="408" y="0"/>
                  </a:lnTo>
                  <a:lnTo>
                    <a:pt x="416" y="0"/>
                  </a:lnTo>
                  <a:lnTo>
                    <a:pt x="416" y="0"/>
                  </a:lnTo>
                  <a:lnTo>
                    <a:pt x="432" y="2"/>
                  </a:lnTo>
                  <a:lnTo>
                    <a:pt x="450" y="4"/>
                  </a:lnTo>
                  <a:lnTo>
                    <a:pt x="470" y="8"/>
                  </a:lnTo>
                  <a:lnTo>
                    <a:pt x="488" y="16"/>
                  </a:lnTo>
                  <a:lnTo>
                    <a:pt x="506" y="24"/>
                  </a:lnTo>
                  <a:lnTo>
                    <a:pt x="520" y="36"/>
                  </a:lnTo>
                  <a:lnTo>
                    <a:pt x="524" y="42"/>
                  </a:lnTo>
                  <a:lnTo>
                    <a:pt x="528" y="48"/>
                  </a:lnTo>
                  <a:lnTo>
                    <a:pt x="530" y="56"/>
                  </a:lnTo>
                  <a:lnTo>
                    <a:pt x="532" y="64"/>
                  </a:lnTo>
                  <a:lnTo>
                    <a:pt x="532" y="64"/>
                  </a:lnTo>
                  <a:lnTo>
                    <a:pt x="530" y="78"/>
                  </a:lnTo>
                  <a:lnTo>
                    <a:pt x="528" y="92"/>
                  </a:lnTo>
                  <a:lnTo>
                    <a:pt x="526" y="102"/>
                  </a:lnTo>
                  <a:lnTo>
                    <a:pt x="524" y="114"/>
                  </a:lnTo>
                  <a:lnTo>
                    <a:pt x="524" y="13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16"/>
            <p:cNvSpPr/>
            <p:nvPr/>
          </p:nvSpPr>
          <p:spPr>
            <a:xfrm>
              <a:off x="8597520" y="13055760"/>
              <a:ext cx="1089360" cy="113004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1130040"/>
                <a:gd name="textAreaBottom" fmla="*/ 1130400 h 1130040"/>
              </a:gdLst>
              <a:ahLst/>
              <a:rect l="textAreaLeft" t="textAreaTop" r="textAreaRight" b="textAreaBottom"/>
              <a:pathLst>
                <a:path w="686" h="712">
                  <a:moveTo>
                    <a:pt x="186" y="346"/>
                  </a:moveTo>
                  <a:lnTo>
                    <a:pt x="182" y="344"/>
                  </a:lnTo>
                  <a:lnTo>
                    <a:pt x="182" y="344"/>
                  </a:lnTo>
                  <a:lnTo>
                    <a:pt x="160" y="448"/>
                  </a:lnTo>
                  <a:lnTo>
                    <a:pt x="160" y="448"/>
                  </a:lnTo>
                  <a:lnTo>
                    <a:pt x="154" y="490"/>
                  </a:lnTo>
                  <a:lnTo>
                    <a:pt x="150" y="520"/>
                  </a:lnTo>
                  <a:lnTo>
                    <a:pt x="150" y="520"/>
                  </a:lnTo>
                  <a:lnTo>
                    <a:pt x="152" y="540"/>
                  </a:lnTo>
                  <a:lnTo>
                    <a:pt x="158" y="556"/>
                  </a:lnTo>
                  <a:lnTo>
                    <a:pt x="158" y="556"/>
                  </a:lnTo>
                  <a:lnTo>
                    <a:pt x="162" y="572"/>
                  </a:lnTo>
                  <a:lnTo>
                    <a:pt x="164" y="584"/>
                  </a:lnTo>
                  <a:lnTo>
                    <a:pt x="164" y="584"/>
                  </a:lnTo>
                  <a:lnTo>
                    <a:pt x="162" y="594"/>
                  </a:lnTo>
                  <a:lnTo>
                    <a:pt x="162" y="602"/>
                  </a:lnTo>
                  <a:lnTo>
                    <a:pt x="158" y="610"/>
                  </a:lnTo>
                  <a:lnTo>
                    <a:pt x="154" y="616"/>
                  </a:lnTo>
                  <a:lnTo>
                    <a:pt x="154" y="616"/>
                  </a:lnTo>
                  <a:lnTo>
                    <a:pt x="148" y="622"/>
                  </a:lnTo>
                  <a:lnTo>
                    <a:pt x="140" y="626"/>
                  </a:lnTo>
                  <a:lnTo>
                    <a:pt x="128" y="630"/>
                  </a:lnTo>
                  <a:lnTo>
                    <a:pt x="116" y="630"/>
                  </a:lnTo>
                  <a:lnTo>
                    <a:pt x="116" y="630"/>
                  </a:lnTo>
                  <a:lnTo>
                    <a:pt x="106" y="630"/>
                  </a:lnTo>
                  <a:lnTo>
                    <a:pt x="96" y="626"/>
                  </a:lnTo>
                  <a:lnTo>
                    <a:pt x="86" y="622"/>
                  </a:lnTo>
                  <a:lnTo>
                    <a:pt x="78" y="616"/>
                  </a:lnTo>
                  <a:lnTo>
                    <a:pt x="78" y="616"/>
                  </a:lnTo>
                  <a:lnTo>
                    <a:pt x="64" y="602"/>
                  </a:lnTo>
                  <a:lnTo>
                    <a:pt x="50" y="586"/>
                  </a:lnTo>
                  <a:lnTo>
                    <a:pt x="38" y="566"/>
                  </a:lnTo>
                  <a:lnTo>
                    <a:pt x="28" y="542"/>
                  </a:lnTo>
                  <a:lnTo>
                    <a:pt x="28" y="542"/>
                  </a:lnTo>
                  <a:lnTo>
                    <a:pt x="20" y="516"/>
                  </a:lnTo>
                  <a:lnTo>
                    <a:pt x="14" y="486"/>
                  </a:lnTo>
                  <a:lnTo>
                    <a:pt x="10" y="456"/>
                  </a:lnTo>
                  <a:lnTo>
                    <a:pt x="8" y="424"/>
                  </a:lnTo>
                  <a:lnTo>
                    <a:pt x="8" y="424"/>
                  </a:lnTo>
                  <a:lnTo>
                    <a:pt x="8" y="420"/>
                  </a:lnTo>
                  <a:lnTo>
                    <a:pt x="8" y="420"/>
                  </a:lnTo>
                  <a:lnTo>
                    <a:pt x="8" y="420"/>
                  </a:lnTo>
                  <a:lnTo>
                    <a:pt x="8" y="420"/>
                  </a:lnTo>
                  <a:lnTo>
                    <a:pt x="8" y="418"/>
                  </a:lnTo>
                  <a:lnTo>
                    <a:pt x="8" y="418"/>
                  </a:lnTo>
                  <a:lnTo>
                    <a:pt x="10" y="370"/>
                  </a:lnTo>
                  <a:lnTo>
                    <a:pt x="16" y="328"/>
                  </a:lnTo>
                  <a:lnTo>
                    <a:pt x="24" y="288"/>
                  </a:lnTo>
                  <a:lnTo>
                    <a:pt x="32" y="250"/>
                  </a:lnTo>
                  <a:lnTo>
                    <a:pt x="32" y="250"/>
                  </a:lnTo>
                  <a:lnTo>
                    <a:pt x="50" y="178"/>
                  </a:lnTo>
                  <a:lnTo>
                    <a:pt x="54" y="144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4" y="88"/>
                  </a:lnTo>
                  <a:lnTo>
                    <a:pt x="52" y="7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2" y="58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0" y="46"/>
                  </a:lnTo>
                  <a:lnTo>
                    <a:pt x="20" y="44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4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30" y="42"/>
                  </a:lnTo>
                  <a:lnTo>
                    <a:pt x="38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62" y="40"/>
                  </a:lnTo>
                  <a:lnTo>
                    <a:pt x="72" y="42"/>
                  </a:lnTo>
                  <a:lnTo>
                    <a:pt x="90" y="48"/>
                  </a:lnTo>
                  <a:lnTo>
                    <a:pt x="106" y="60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32" y="90"/>
                  </a:lnTo>
                  <a:lnTo>
                    <a:pt x="142" y="110"/>
                  </a:lnTo>
                  <a:lnTo>
                    <a:pt x="148" y="130"/>
                  </a:lnTo>
                  <a:lnTo>
                    <a:pt x="150" y="152"/>
                  </a:lnTo>
                  <a:lnTo>
                    <a:pt x="150" y="152"/>
                  </a:lnTo>
                  <a:lnTo>
                    <a:pt x="150" y="166"/>
                  </a:lnTo>
                  <a:lnTo>
                    <a:pt x="146" y="180"/>
                  </a:lnTo>
                  <a:lnTo>
                    <a:pt x="142" y="194"/>
                  </a:lnTo>
                  <a:lnTo>
                    <a:pt x="134" y="208"/>
                  </a:lnTo>
                  <a:lnTo>
                    <a:pt x="134" y="208"/>
                  </a:lnTo>
                  <a:lnTo>
                    <a:pt x="122" y="228"/>
                  </a:lnTo>
                  <a:lnTo>
                    <a:pt x="110" y="250"/>
                  </a:lnTo>
                  <a:lnTo>
                    <a:pt x="100" y="274"/>
                  </a:lnTo>
                  <a:lnTo>
                    <a:pt x="92" y="298"/>
                  </a:lnTo>
                  <a:lnTo>
                    <a:pt x="86" y="324"/>
                  </a:lnTo>
                  <a:lnTo>
                    <a:pt x="82" y="350"/>
                  </a:lnTo>
                  <a:lnTo>
                    <a:pt x="78" y="376"/>
                  </a:lnTo>
                  <a:lnTo>
                    <a:pt x="78" y="402"/>
                  </a:lnTo>
                  <a:lnTo>
                    <a:pt x="78" y="402"/>
                  </a:lnTo>
                  <a:lnTo>
                    <a:pt x="78" y="430"/>
                  </a:lnTo>
                  <a:lnTo>
                    <a:pt x="84" y="454"/>
                  </a:lnTo>
                  <a:lnTo>
                    <a:pt x="84" y="454"/>
                  </a:lnTo>
                  <a:lnTo>
                    <a:pt x="86" y="464"/>
                  </a:lnTo>
                  <a:lnTo>
                    <a:pt x="92" y="472"/>
                  </a:lnTo>
                  <a:lnTo>
                    <a:pt x="92" y="472"/>
                  </a:lnTo>
                  <a:lnTo>
                    <a:pt x="96" y="476"/>
                  </a:lnTo>
                  <a:lnTo>
                    <a:pt x="104" y="478"/>
                  </a:lnTo>
                  <a:lnTo>
                    <a:pt x="104" y="478"/>
                  </a:lnTo>
                  <a:lnTo>
                    <a:pt x="108" y="478"/>
                  </a:lnTo>
                  <a:lnTo>
                    <a:pt x="108" y="478"/>
                  </a:lnTo>
                  <a:lnTo>
                    <a:pt x="116" y="470"/>
                  </a:lnTo>
                  <a:lnTo>
                    <a:pt x="116" y="470"/>
                  </a:lnTo>
                  <a:lnTo>
                    <a:pt x="132" y="446"/>
                  </a:lnTo>
                  <a:lnTo>
                    <a:pt x="148" y="412"/>
                  </a:lnTo>
                  <a:lnTo>
                    <a:pt x="148" y="412"/>
                  </a:lnTo>
                  <a:lnTo>
                    <a:pt x="182" y="340"/>
                  </a:lnTo>
                  <a:lnTo>
                    <a:pt x="178" y="340"/>
                  </a:lnTo>
                  <a:lnTo>
                    <a:pt x="176" y="342"/>
                  </a:lnTo>
                  <a:lnTo>
                    <a:pt x="184" y="350"/>
                  </a:lnTo>
                  <a:lnTo>
                    <a:pt x="186" y="346"/>
                  </a:lnTo>
                  <a:lnTo>
                    <a:pt x="182" y="344"/>
                  </a:lnTo>
                  <a:lnTo>
                    <a:pt x="186" y="346"/>
                  </a:lnTo>
                  <a:lnTo>
                    <a:pt x="190" y="342"/>
                  </a:lnTo>
                  <a:lnTo>
                    <a:pt x="176" y="334"/>
                  </a:lnTo>
                  <a:lnTo>
                    <a:pt x="174" y="338"/>
                  </a:lnTo>
                  <a:lnTo>
                    <a:pt x="174" y="338"/>
                  </a:lnTo>
                  <a:lnTo>
                    <a:pt x="156" y="378"/>
                  </a:lnTo>
                  <a:lnTo>
                    <a:pt x="134" y="424"/>
                  </a:lnTo>
                  <a:lnTo>
                    <a:pt x="134" y="424"/>
                  </a:lnTo>
                  <a:lnTo>
                    <a:pt x="114" y="458"/>
                  </a:lnTo>
                  <a:lnTo>
                    <a:pt x="114" y="458"/>
                  </a:lnTo>
                  <a:lnTo>
                    <a:pt x="108" y="468"/>
                  </a:lnTo>
                  <a:lnTo>
                    <a:pt x="108" y="468"/>
                  </a:lnTo>
                  <a:lnTo>
                    <a:pt x="104" y="470"/>
                  </a:lnTo>
                  <a:lnTo>
                    <a:pt x="104" y="470"/>
                  </a:lnTo>
                  <a:lnTo>
                    <a:pt x="104" y="470"/>
                  </a:lnTo>
                  <a:lnTo>
                    <a:pt x="104" y="472"/>
                  </a:lnTo>
                  <a:lnTo>
                    <a:pt x="104" y="470"/>
                  </a:lnTo>
                  <a:lnTo>
                    <a:pt x="104" y="470"/>
                  </a:lnTo>
                  <a:lnTo>
                    <a:pt x="104" y="472"/>
                  </a:lnTo>
                  <a:lnTo>
                    <a:pt x="104" y="470"/>
                  </a:lnTo>
                  <a:lnTo>
                    <a:pt x="104" y="470"/>
                  </a:lnTo>
                  <a:lnTo>
                    <a:pt x="100" y="470"/>
                  </a:lnTo>
                  <a:lnTo>
                    <a:pt x="98" y="466"/>
                  </a:lnTo>
                  <a:lnTo>
                    <a:pt x="98" y="466"/>
                  </a:lnTo>
                  <a:lnTo>
                    <a:pt x="92" y="456"/>
                  </a:lnTo>
                  <a:lnTo>
                    <a:pt x="88" y="442"/>
                  </a:lnTo>
                  <a:lnTo>
                    <a:pt x="88" y="442"/>
                  </a:lnTo>
                  <a:lnTo>
                    <a:pt x="86" y="424"/>
                  </a:lnTo>
                  <a:lnTo>
                    <a:pt x="86" y="402"/>
                  </a:lnTo>
                  <a:lnTo>
                    <a:pt x="86" y="402"/>
                  </a:lnTo>
                  <a:lnTo>
                    <a:pt x="86" y="378"/>
                  </a:lnTo>
                  <a:lnTo>
                    <a:pt x="90" y="352"/>
                  </a:lnTo>
                  <a:lnTo>
                    <a:pt x="94" y="326"/>
                  </a:lnTo>
                  <a:lnTo>
                    <a:pt x="100" y="300"/>
                  </a:lnTo>
                  <a:lnTo>
                    <a:pt x="108" y="276"/>
                  </a:lnTo>
                  <a:lnTo>
                    <a:pt x="118" y="254"/>
                  </a:lnTo>
                  <a:lnTo>
                    <a:pt x="128" y="232"/>
                  </a:lnTo>
                  <a:lnTo>
                    <a:pt x="140" y="214"/>
                  </a:lnTo>
                  <a:lnTo>
                    <a:pt x="140" y="214"/>
                  </a:lnTo>
                  <a:lnTo>
                    <a:pt x="148" y="198"/>
                  </a:lnTo>
                  <a:lnTo>
                    <a:pt x="154" y="184"/>
                  </a:lnTo>
                  <a:lnTo>
                    <a:pt x="158" y="168"/>
                  </a:lnTo>
                  <a:lnTo>
                    <a:pt x="158" y="152"/>
                  </a:lnTo>
                  <a:lnTo>
                    <a:pt x="158" y="152"/>
                  </a:lnTo>
                  <a:lnTo>
                    <a:pt x="156" y="130"/>
                  </a:lnTo>
                  <a:lnTo>
                    <a:pt x="150" y="108"/>
                  </a:lnTo>
                  <a:lnTo>
                    <a:pt x="140" y="86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10" y="54"/>
                  </a:lnTo>
                  <a:lnTo>
                    <a:pt x="92" y="42"/>
                  </a:lnTo>
                  <a:lnTo>
                    <a:pt x="84" y="38"/>
                  </a:lnTo>
                  <a:lnTo>
                    <a:pt x="74" y="34"/>
                  </a:lnTo>
                  <a:lnTo>
                    <a:pt x="64" y="32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36" y="32"/>
                  </a:lnTo>
                  <a:lnTo>
                    <a:pt x="26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8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6" y="54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8" y="66"/>
                  </a:lnTo>
                  <a:lnTo>
                    <a:pt x="44" y="80"/>
                  </a:lnTo>
                  <a:lnTo>
                    <a:pt x="44" y="80"/>
                  </a:lnTo>
                  <a:lnTo>
                    <a:pt x="48" y="96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46" y="144"/>
                  </a:lnTo>
                  <a:lnTo>
                    <a:pt x="42" y="178"/>
                  </a:lnTo>
                  <a:lnTo>
                    <a:pt x="24" y="248"/>
                  </a:lnTo>
                  <a:lnTo>
                    <a:pt x="24" y="248"/>
                  </a:lnTo>
                  <a:lnTo>
                    <a:pt x="16" y="286"/>
                  </a:lnTo>
                  <a:lnTo>
                    <a:pt x="8" y="326"/>
                  </a:lnTo>
                  <a:lnTo>
                    <a:pt x="2" y="370"/>
                  </a:lnTo>
                  <a:lnTo>
                    <a:pt x="0" y="418"/>
                  </a:lnTo>
                  <a:lnTo>
                    <a:pt x="0" y="418"/>
                  </a:lnTo>
                  <a:lnTo>
                    <a:pt x="0" y="420"/>
                  </a:lnTo>
                  <a:lnTo>
                    <a:pt x="4" y="420"/>
                  </a:lnTo>
                  <a:lnTo>
                    <a:pt x="0" y="420"/>
                  </a:lnTo>
                  <a:lnTo>
                    <a:pt x="0" y="420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0" y="446"/>
                  </a:lnTo>
                  <a:lnTo>
                    <a:pt x="2" y="468"/>
                  </a:lnTo>
                  <a:lnTo>
                    <a:pt x="6" y="488"/>
                  </a:lnTo>
                  <a:lnTo>
                    <a:pt x="10" y="508"/>
                  </a:lnTo>
                  <a:lnTo>
                    <a:pt x="16" y="528"/>
                  </a:lnTo>
                  <a:lnTo>
                    <a:pt x="22" y="544"/>
                  </a:lnTo>
                  <a:lnTo>
                    <a:pt x="28" y="562"/>
                  </a:lnTo>
                  <a:lnTo>
                    <a:pt x="36" y="576"/>
                  </a:lnTo>
                  <a:lnTo>
                    <a:pt x="36" y="576"/>
                  </a:lnTo>
                  <a:lnTo>
                    <a:pt x="44" y="590"/>
                  </a:lnTo>
                  <a:lnTo>
                    <a:pt x="52" y="602"/>
                  </a:lnTo>
                  <a:lnTo>
                    <a:pt x="62" y="612"/>
                  </a:lnTo>
                  <a:lnTo>
                    <a:pt x="72" y="622"/>
                  </a:lnTo>
                  <a:lnTo>
                    <a:pt x="72" y="622"/>
                  </a:lnTo>
                  <a:lnTo>
                    <a:pt x="82" y="628"/>
                  </a:lnTo>
                  <a:lnTo>
                    <a:pt x="94" y="634"/>
                  </a:lnTo>
                  <a:lnTo>
                    <a:pt x="104" y="638"/>
                  </a:lnTo>
                  <a:lnTo>
                    <a:pt x="116" y="638"/>
                  </a:lnTo>
                  <a:lnTo>
                    <a:pt x="116" y="638"/>
                  </a:lnTo>
                  <a:lnTo>
                    <a:pt x="130" y="638"/>
                  </a:lnTo>
                  <a:lnTo>
                    <a:pt x="142" y="634"/>
                  </a:lnTo>
                  <a:lnTo>
                    <a:pt x="152" y="628"/>
                  </a:lnTo>
                  <a:lnTo>
                    <a:pt x="160" y="622"/>
                  </a:lnTo>
                  <a:lnTo>
                    <a:pt x="160" y="622"/>
                  </a:lnTo>
                  <a:lnTo>
                    <a:pt x="166" y="614"/>
                  </a:lnTo>
                  <a:lnTo>
                    <a:pt x="168" y="604"/>
                  </a:lnTo>
                  <a:lnTo>
                    <a:pt x="170" y="594"/>
                  </a:lnTo>
                  <a:lnTo>
                    <a:pt x="172" y="584"/>
                  </a:lnTo>
                  <a:lnTo>
                    <a:pt x="172" y="584"/>
                  </a:lnTo>
                  <a:lnTo>
                    <a:pt x="170" y="570"/>
                  </a:lnTo>
                  <a:lnTo>
                    <a:pt x="164" y="554"/>
                  </a:lnTo>
                  <a:lnTo>
                    <a:pt x="164" y="554"/>
                  </a:lnTo>
                  <a:lnTo>
                    <a:pt x="160" y="538"/>
                  </a:lnTo>
                  <a:lnTo>
                    <a:pt x="158" y="520"/>
                  </a:lnTo>
                  <a:lnTo>
                    <a:pt x="158" y="520"/>
                  </a:lnTo>
                  <a:lnTo>
                    <a:pt x="162" y="492"/>
                  </a:lnTo>
                  <a:lnTo>
                    <a:pt x="168" y="450"/>
                  </a:lnTo>
                  <a:lnTo>
                    <a:pt x="168" y="450"/>
                  </a:lnTo>
                  <a:lnTo>
                    <a:pt x="190" y="346"/>
                  </a:lnTo>
                  <a:lnTo>
                    <a:pt x="192" y="344"/>
                  </a:lnTo>
                  <a:lnTo>
                    <a:pt x="190" y="342"/>
                  </a:lnTo>
                  <a:lnTo>
                    <a:pt x="186" y="346"/>
                  </a:lnTo>
                  <a:close/>
                  <a:moveTo>
                    <a:pt x="528" y="142"/>
                  </a:moveTo>
                  <a:lnTo>
                    <a:pt x="524" y="142"/>
                  </a:lnTo>
                  <a:lnTo>
                    <a:pt x="524" y="142"/>
                  </a:lnTo>
                  <a:lnTo>
                    <a:pt x="526" y="204"/>
                  </a:lnTo>
                  <a:lnTo>
                    <a:pt x="526" y="210"/>
                  </a:lnTo>
                  <a:lnTo>
                    <a:pt x="530" y="208"/>
                  </a:lnTo>
                  <a:lnTo>
                    <a:pt x="530" y="208"/>
                  </a:lnTo>
                  <a:lnTo>
                    <a:pt x="544" y="204"/>
                  </a:lnTo>
                  <a:lnTo>
                    <a:pt x="564" y="194"/>
                  </a:lnTo>
                  <a:lnTo>
                    <a:pt x="564" y="194"/>
                  </a:lnTo>
                  <a:lnTo>
                    <a:pt x="574" y="190"/>
                  </a:lnTo>
                  <a:lnTo>
                    <a:pt x="584" y="182"/>
                  </a:lnTo>
                  <a:lnTo>
                    <a:pt x="592" y="174"/>
                  </a:lnTo>
                  <a:lnTo>
                    <a:pt x="598" y="164"/>
                  </a:lnTo>
                  <a:lnTo>
                    <a:pt x="594" y="162"/>
                  </a:lnTo>
                  <a:lnTo>
                    <a:pt x="592" y="166"/>
                  </a:lnTo>
                  <a:lnTo>
                    <a:pt x="592" y="166"/>
                  </a:lnTo>
                  <a:lnTo>
                    <a:pt x="624" y="176"/>
                  </a:lnTo>
                  <a:lnTo>
                    <a:pt x="652" y="186"/>
                  </a:lnTo>
                  <a:lnTo>
                    <a:pt x="652" y="186"/>
                  </a:lnTo>
                  <a:lnTo>
                    <a:pt x="662" y="192"/>
                  </a:lnTo>
                  <a:lnTo>
                    <a:pt x="670" y="198"/>
                  </a:lnTo>
                  <a:lnTo>
                    <a:pt x="670" y="198"/>
                  </a:lnTo>
                  <a:lnTo>
                    <a:pt x="676" y="208"/>
                  </a:lnTo>
                  <a:lnTo>
                    <a:pt x="678" y="218"/>
                  </a:lnTo>
                  <a:lnTo>
                    <a:pt x="682" y="218"/>
                  </a:lnTo>
                  <a:lnTo>
                    <a:pt x="678" y="218"/>
                  </a:lnTo>
                  <a:lnTo>
                    <a:pt x="678" y="218"/>
                  </a:lnTo>
                  <a:lnTo>
                    <a:pt x="676" y="226"/>
                  </a:lnTo>
                  <a:lnTo>
                    <a:pt x="674" y="234"/>
                  </a:lnTo>
                  <a:lnTo>
                    <a:pt x="670" y="240"/>
                  </a:lnTo>
                  <a:lnTo>
                    <a:pt x="666" y="246"/>
                  </a:lnTo>
                  <a:lnTo>
                    <a:pt x="666" y="246"/>
                  </a:lnTo>
                  <a:lnTo>
                    <a:pt x="658" y="250"/>
                  </a:lnTo>
                  <a:lnTo>
                    <a:pt x="650" y="256"/>
                  </a:lnTo>
                  <a:lnTo>
                    <a:pt x="628" y="264"/>
                  </a:lnTo>
                  <a:lnTo>
                    <a:pt x="628" y="264"/>
                  </a:lnTo>
                  <a:lnTo>
                    <a:pt x="588" y="274"/>
                  </a:lnTo>
                  <a:lnTo>
                    <a:pt x="534" y="286"/>
                  </a:lnTo>
                  <a:lnTo>
                    <a:pt x="532" y="286"/>
                  </a:lnTo>
                  <a:lnTo>
                    <a:pt x="532" y="290"/>
                  </a:lnTo>
                  <a:lnTo>
                    <a:pt x="532" y="290"/>
                  </a:lnTo>
                  <a:lnTo>
                    <a:pt x="534" y="352"/>
                  </a:lnTo>
                  <a:lnTo>
                    <a:pt x="536" y="406"/>
                  </a:lnTo>
                  <a:lnTo>
                    <a:pt x="536" y="406"/>
                  </a:lnTo>
                  <a:lnTo>
                    <a:pt x="536" y="434"/>
                  </a:lnTo>
                  <a:lnTo>
                    <a:pt x="534" y="462"/>
                  </a:lnTo>
                  <a:lnTo>
                    <a:pt x="532" y="488"/>
                  </a:lnTo>
                  <a:lnTo>
                    <a:pt x="526" y="512"/>
                  </a:lnTo>
                  <a:lnTo>
                    <a:pt x="520" y="534"/>
                  </a:lnTo>
                  <a:lnTo>
                    <a:pt x="512" y="554"/>
                  </a:lnTo>
                  <a:lnTo>
                    <a:pt x="500" y="574"/>
                  </a:lnTo>
                  <a:lnTo>
                    <a:pt x="488" y="594"/>
                  </a:lnTo>
                  <a:lnTo>
                    <a:pt x="488" y="594"/>
                  </a:lnTo>
                  <a:lnTo>
                    <a:pt x="472" y="610"/>
                  </a:lnTo>
                  <a:lnTo>
                    <a:pt x="454" y="626"/>
                  </a:lnTo>
                  <a:lnTo>
                    <a:pt x="432" y="642"/>
                  </a:lnTo>
                  <a:lnTo>
                    <a:pt x="406" y="656"/>
                  </a:lnTo>
                  <a:lnTo>
                    <a:pt x="378" y="670"/>
                  </a:lnTo>
                  <a:lnTo>
                    <a:pt x="346" y="682"/>
                  </a:lnTo>
                  <a:lnTo>
                    <a:pt x="310" y="692"/>
                  </a:lnTo>
                  <a:lnTo>
                    <a:pt x="272" y="702"/>
                  </a:lnTo>
                  <a:lnTo>
                    <a:pt x="272" y="706"/>
                  </a:lnTo>
                  <a:lnTo>
                    <a:pt x="276" y="704"/>
                  </a:lnTo>
                  <a:lnTo>
                    <a:pt x="270" y="696"/>
                  </a:lnTo>
                  <a:lnTo>
                    <a:pt x="266" y="698"/>
                  </a:lnTo>
                  <a:lnTo>
                    <a:pt x="268" y="700"/>
                  </a:lnTo>
                  <a:lnTo>
                    <a:pt x="268" y="700"/>
                  </a:lnTo>
                  <a:lnTo>
                    <a:pt x="292" y="686"/>
                  </a:lnTo>
                  <a:lnTo>
                    <a:pt x="314" y="672"/>
                  </a:lnTo>
                  <a:lnTo>
                    <a:pt x="334" y="656"/>
                  </a:lnTo>
                  <a:lnTo>
                    <a:pt x="352" y="642"/>
                  </a:lnTo>
                  <a:lnTo>
                    <a:pt x="368" y="626"/>
                  </a:lnTo>
                  <a:lnTo>
                    <a:pt x="382" y="608"/>
                  </a:lnTo>
                  <a:lnTo>
                    <a:pt x="396" y="592"/>
                  </a:lnTo>
                  <a:lnTo>
                    <a:pt x="406" y="574"/>
                  </a:lnTo>
                  <a:lnTo>
                    <a:pt x="406" y="574"/>
                  </a:lnTo>
                  <a:lnTo>
                    <a:pt x="416" y="554"/>
                  </a:lnTo>
                  <a:lnTo>
                    <a:pt x="424" y="534"/>
                  </a:lnTo>
                  <a:lnTo>
                    <a:pt x="432" y="512"/>
                  </a:lnTo>
                  <a:lnTo>
                    <a:pt x="436" y="490"/>
                  </a:lnTo>
                  <a:lnTo>
                    <a:pt x="440" y="468"/>
                  </a:lnTo>
                  <a:lnTo>
                    <a:pt x="444" y="442"/>
                  </a:lnTo>
                  <a:lnTo>
                    <a:pt x="446" y="390"/>
                  </a:lnTo>
                  <a:lnTo>
                    <a:pt x="446" y="390"/>
                  </a:lnTo>
                  <a:lnTo>
                    <a:pt x="444" y="302"/>
                  </a:lnTo>
                  <a:lnTo>
                    <a:pt x="444" y="298"/>
                  </a:lnTo>
                  <a:lnTo>
                    <a:pt x="440" y="298"/>
                  </a:lnTo>
                  <a:lnTo>
                    <a:pt x="440" y="298"/>
                  </a:lnTo>
                  <a:lnTo>
                    <a:pt x="400" y="302"/>
                  </a:lnTo>
                  <a:lnTo>
                    <a:pt x="366" y="304"/>
                  </a:lnTo>
                  <a:lnTo>
                    <a:pt x="366" y="308"/>
                  </a:lnTo>
                  <a:lnTo>
                    <a:pt x="366" y="304"/>
                  </a:lnTo>
                  <a:lnTo>
                    <a:pt x="366" y="304"/>
                  </a:lnTo>
                  <a:lnTo>
                    <a:pt x="346" y="302"/>
                  </a:lnTo>
                  <a:lnTo>
                    <a:pt x="326" y="298"/>
                  </a:lnTo>
                  <a:lnTo>
                    <a:pt x="308" y="290"/>
                  </a:lnTo>
                  <a:lnTo>
                    <a:pt x="294" y="280"/>
                  </a:lnTo>
                  <a:lnTo>
                    <a:pt x="294" y="280"/>
                  </a:lnTo>
                  <a:lnTo>
                    <a:pt x="280" y="266"/>
                  </a:lnTo>
                  <a:lnTo>
                    <a:pt x="268" y="250"/>
                  </a:lnTo>
                  <a:lnTo>
                    <a:pt x="258" y="232"/>
                  </a:lnTo>
                  <a:lnTo>
                    <a:pt x="250" y="212"/>
                  </a:lnTo>
                  <a:lnTo>
                    <a:pt x="246" y="214"/>
                  </a:lnTo>
                  <a:lnTo>
                    <a:pt x="250" y="216"/>
                  </a:lnTo>
                  <a:lnTo>
                    <a:pt x="254" y="210"/>
                  </a:lnTo>
                  <a:lnTo>
                    <a:pt x="250" y="208"/>
                  </a:lnTo>
                  <a:lnTo>
                    <a:pt x="248" y="210"/>
                  </a:lnTo>
                  <a:lnTo>
                    <a:pt x="248" y="210"/>
                  </a:lnTo>
                  <a:lnTo>
                    <a:pt x="260" y="220"/>
                  </a:lnTo>
                  <a:lnTo>
                    <a:pt x="272" y="226"/>
                  </a:lnTo>
                  <a:lnTo>
                    <a:pt x="284" y="230"/>
                  </a:lnTo>
                  <a:lnTo>
                    <a:pt x="298" y="234"/>
                  </a:lnTo>
                  <a:lnTo>
                    <a:pt x="324" y="238"/>
                  </a:lnTo>
                  <a:lnTo>
                    <a:pt x="348" y="238"/>
                  </a:lnTo>
                  <a:lnTo>
                    <a:pt x="348" y="238"/>
                  </a:lnTo>
                  <a:lnTo>
                    <a:pt x="392" y="236"/>
                  </a:lnTo>
                  <a:lnTo>
                    <a:pt x="438" y="230"/>
                  </a:lnTo>
                  <a:lnTo>
                    <a:pt x="442" y="230"/>
                  </a:lnTo>
                  <a:lnTo>
                    <a:pt x="442" y="226"/>
                  </a:lnTo>
                  <a:lnTo>
                    <a:pt x="442" y="226"/>
                  </a:lnTo>
                  <a:lnTo>
                    <a:pt x="440" y="152"/>
                  </a:lnTo>
                  <a:lnTo>
                    <a:pt x="436" y="102"/>
                  </a:lnTo>
                  <a:lnTo>
                    <a:pt x="436" y="102"/>
                  </a:lnTo>
                  <a:lnTo>
                    <a:pt x="434" y="84"/>
                  </a:lnTo>
                  <a:lnTo>
                    <a:pt x="430" y="68"/>
                  </a:lnTo>
                  <a:lnTo>
                    <a:pt x="430" y="68"/>
                  </a:lnTo>
                  <a:lnTo>
                    <a:pt x="422" y="58"/>
                  </a:lnTo>
                  <a:lnTo>
                    <a:pt x="414" y="52"/>
                  </a:lnTo>
                  <a:lnTo>
                    <a:pt x="414" y="52"/>
                  </a:lnTo>
                  <a:lnTo>
                    <a:pt x="414" y="52"/>
                  </a:lnTo>
                  <a:lnTo>
                    <a:pt x="414" y="52"/>
                  </a:lnTo>
                  <a:lnTo>
                    <a:pt x="404" y="46"/>
                  </a:lnTo>
                  <a:lnTo>
                    <a:pt x="394" y="42"/>
                  </a:lnTo>
                  <a:lnTo>
                    <a:pt x="382" y="40"/>
                  </a:lnTo>
                  <a:lnTo>
                    <a:pt x="370" y="38"/>
                  </a:lnTo>
                  <a:lnTo>
                    <a:pt x="370" y="38"/>
                  </a:lnTo>
                  <a:lnTo>
                    <a:pt x="360" y="40"/>
                  </a:lnTo>
                  <a:lnTo>
                    <a:pt x="362" y="44"/>
                  </a:lnTo>
                  <a:lnTo>
                    <a:pt x="364" y="42"/>
                  </a:lnTo>
                  <a:lnTo>
                    <a:pt x="364" y="38"/>
                  </a:lnTo>
                  <a:lnTo>
                    <a:pt x="360" y="40"/>
                  </a:lnTo>
                  <a:lnTo>
                    <a:pt x="364" y="42"/>
                  </a:lnTo>
                  <a:lnTo>
                    <a:pt x="364" y="42"/>
                  </a:lnTo>
                  <a:lnTo>
                    <a:pt x="366" y="34"/>
                  </a:lnTo>
                  <a:lnTo>
                    <a:pt x="372" y="28"/>
                  </a:lnTo>
                  <a:lnTo>
                    <a:pt x="378" y="22"/>
                  </a:lnTo>
                  <a:lnTo>
                    <a:pt x="386" y="18"/>
                  </a:lnTo>
                  <a:lnTo>
                    <a:pt x="386" y="18"/>
                  </a:lnTo>
                  <a:lnTo>
                    <a:pt x="404" y="10"/>
                  </a:lnTo>
                  <a:lnTo>
                    <a:pt x="420" y="8"/>
                  </a:lnTo>
                  <a:lnTo>
                    <a:pt x="420" y="8"/>
                  </a:lnTo>
                  <a:lnTo>
                    <a:pt x="436" y="10"/>
                  </a:lnTo>
                  <a:lnTo>
                    <a:pt x="454" y="12"/>
                  </a:lnTo>
                  <a:lnTo>
                    <a:pt x="474" y="16"/>
                  </a:lnTo>
                  <a:lnTo>
                    <a:pt x="492" y="24"/>
                  </a:lnTo>
                  <a:lnTo>
                    <a:pt x="492" y="24"/>
                  </a:lnTo>
                  <a:lnTo>
                    <a:pt x="508" y="32"/>
                  </a:lnTo>
                  <a:lnTo>
                    <a:pt x="520" y="42"/>
                  </a:lnTo>
                  <a:lnTo>
                    <a:pt x="520" y="42"/>
                  </a:lnTo>
                  <a:lnTo>
                    <a:pt x="526" y="48"/>
                  </a:lnTo>
                  <a:lnTo>
                    <a:pt x="528" y="54"/>
                  </a:lnTo>
                  <a:lnTo>
                    <a:pt x="530" y="60"/>
                  </a:lnTo>
                  <a:lnTo>
                    <a:pt x="532" y="68"/>
                  </a:lnTo>
                  <a:lnTo>
                    <a:pt x="532" y="68"/>
                  </a:lnTo>
                  <a:lnTo>
                    <a:pt x="530" y="82"/>
                  </a:lnTo>
                  <a:lnTo>
                    <a:pt x="528" y="94"/>
                  </a:lnTo>
                  <a:lnTo>
                    <a:pt x="528" y="94"/>
                  </a:lnTo>
                  <a:lnTo>
                    <a:pt x="526" y="106"/>
                  </a:lnTo>
                  <a:lnTo>
                    <a:pt x="524" y="118"/>
                  </a:lnTo>
                  <a:lnTo>
                    <a:pt x="524" y="118"/>
                  </a:lnTo>
                  <a:lnTo>
                    <a:pt x="524" y="142"/>
                  </a:lnTo>
                  <a:lnTo>
                    <a:pt x="528" y="142"/>
                  </a:lnTo>
                  <a:lnTo>
                    <a:pt x="532" y="142"/>
                  </a:lnTo>
                  <a:lnTo>
                    <a:pt x="532" y="118"/>
                  </a:lnTo>
                  <a:lnTo>
                    <a:pt x="528" y="118"/>
                  </a:lnTo>
                  <a:lnTo>
                    <a:pt x="532" y="118"/>
                  </a:lnTo>
                  <a:lnTo>
                    <a:pt x="532" y="118"/>
                  </a:lnTo>
                  <a:lnTo>
                    <a:pt x="534" y="108"/>
                  </a:lnTo>
                  <a:lnTo>
                    <a:pt x="536" y="96"/>
                  </a:lnTo>
                  <a:lnTo>
                    <a:pt x="536" y="96"/>
                  </a:lnTo>
                  <a:lnTo>
                    <a:pt x="538" y="84"/>
                  </a:lnTo>
                  <a:lnTo>
                    <a:pt x="540" y="68"/>
                  </a:lnTo>
                  <a:lnTo>
                    <a:pt x="540" y="68"/>
                  </a:lnTo>
                  <a:lnTo>
                    <a:pt x="538" y="58"/>
                  </a:lnTo>
                  <a:lnTo>
                    <a:pt x="536" y="50"/>
                  </a:lnTo>
                  <a:lnTo>
                    <a:pt x="532" y="44"/>
                  </a:lnTo>
                  <a:lnTo>
                    <a:pt x="526" y="36"/>
                  </a:lnTo>
                  <a:lnTo>
                    <a:pt x="526" y="36"/>
                  </a:lnTo>
                  <a:lnTo>
                    <a:pt x="516" y="28"/>
                  </a:lnTo>
                  <a:lnTo>
                    <a:pt x="504" y="20"/>
                  </a:lnTo>
                  <a:lnTo>
                    <a:pt x="490" y="14"/>
                  </a:lnTo>
                  <a:lnTo>
                    <a:pt x="476" y="8"/>
                  </a:lnTo>
                  <a:lnTo>
                    <a:pt x="476" y="8"/>
                  </a:lnTo>
                  <a:lnTo>
                    <a:pt x="446" y="2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410" y="2"/>
                  </a:lnTo>
                  <a:lnTo>
                    <a:pt x="402" y="4"/>
                  </a:lnTo>
                  <a:lnTo>
                    <a:pt x="382" y="12"/>
                  </a:lnTo>
                  <a:lnTo>
                    <a:pt x="382" y="12"/>
                  </a:lnTo>
                  <a:lnTo>
                    <a:pt x="374" y="16"/>
                  </a:lnTo>
                  <a:lnTo>
                    <a:pt x="366" y="22"/>
                  </a:lnTo>
                  <a:lnTo>
                    <a:pt x="360" y="30"/>
                  </a:lnTo>
                  <a:lnTo>
                    <a:pt x="356" y="38"/>
                  </a:lnTo>
                  <a:lnTo>
                    <a:pt x="356" y="40"/>
                  </a:lnTo>
                  <a:lnTo>
                    <a:pt x="358" y="44"/>
                  </a:lnTo>
                  <a:lnTo>
                    <a:pt x="358" y="48"/>
                  </a:lnTo>
                  <a:lnTo>
                    <a:pt x="362" y="48"/>
                  </a:lnTo>
                  <a:lnTo>
                    <a:pt x="362" y="48"/>
                  </a:lnTo>
                  <a:lnTo>
                    <a:pt x="370" y="46"/>
                  </a:lnTo>
                  <a:lnTo>
                    <a:pt x="370" y="46"/>
                  </a:lnTo>
                  <a:lnTo>
                    <a:pt x="382" y="48"/>
                  </a:lnTo>
                  <a:lnTo>
                    <a:pt x="392" y="50"/>
                  </a:lnTo>
                  <a:lnTo>
                    <a:pt x="400" y="54"/>
                  </a:lnTo>
                  <a:lnTo>
                    <a:pt x="410" y="58"/>
                  </a:lnTo>
                  <a:lnTo>
                    <a:pt x="412" y="54"/>
                  </a:lnTo>
                  <a:lnTo>
                    <a:pt x="410" y="58"/>
                  </a:lnTo>
                  <a:lnTo>
                    <a:pt x="410" y="58"/>
                  </a:lnTo>
                  <a:lnTo>
                    <a:pt x="416" y="64"/>
                  </a:lnTo>
                  <a:lnTo>
                    <a:pt x="422" y="72"/>
                  </a:lnTo>
                  <a:lnTo>
                    <a:pt x="422" y="72"/>
                  </a:lnTo>
                  <a:lnTo>
                    <a:pt x="424" y="82"/>
                  </a:lnTo>
                  <a:lnTo>
                    <a:pt x="428" y="94"/>
                  </a:lnTo>
                  <a:lnTo>
                    <a:pt x="432" y="124"/>
                  </a:lnTo>
                  <a:lnTo>
                    <a:pt x="432" y="124"/>
                  </a:lnTo>
                  <a:lnTo>
                    <a:pt x="434" y="168"/>
                  </a:lnTo>
                  <a:lnTo>
                    <a:pt x="434" y="226"/>
                  </a:lnTo>
                  <a:lnTo>
                    <a:pt x="438" y="226"/>
                  </a:lnTo>
                  <a:lnTo>
                    <a:pt x="438" y="222"/>
                  </a:lnTo>
                  <a:lnTo>
                    <a:pt x="438" y="222"/>
                  </a:lnTo>
                  <a:lnTo>
                    <a:pt x="390" y="228"/>
                  </a:lnTo>
                  <a:lnTo>
                    <a:pt x="348" y="230"/>
                  </a:lnTo>
                  <a:lnTo>
                    <a:pt x="348" y="230"/>
                  </a:lnTo>
                  <a:lnTo>
                    <a:pt x="324" y="230"/>
                  </a:lnTo>
                  <a:lnTo>
                    <a:pt x="300" y="226"/>
                  </a:lnTo>
                  <a:lnTo>
                    <a:pt x="288" y="224"/>
                  </a:lnTo>
                  <a:lnTo>
                    <a:pt x="276" y="218"/>
                  </a:lnTo>
                  <a:lnTo>
                    <a:pt x="264" y="212"/>
                  </a:lnTo>
                  <a:lnTo>
                    <a:pt x="254" y="204"/>
                  </a:lnTo>
                  <a:lnTo>
                    <a:pt x="250" y="202"/>
                  </a:lnTo>
                  <a:lnTo>
                    <a:pt x="242" y="212"/>
                  </a:lnTo>
                  <a:lnTo>
                    <a:pt x="242" y="214"/>
                  </a:lnTo>
                  <a:lnTo>
                    <a:pt x="242" y="214"/>
                  </a:lnTo>
                  <a:lnTo>
                    <a:pt x="252" y="236"/>
                  </a:lnTo>
                  <a:lnTo>
                    <a:pt x="262" y="254"/>
                  </a:lnTo>
                  <a:lnTo>
                    <a:pt x="274" y="272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306" y="296"/>
                  </a:lnTo>
                  <a:lnTo>
                    <a:pt x="324" y="304"/>
                  </a:lnTo>
                  <a:lnTo>
                    <a:pt x="344" y="310"/>
                  </a:lnTo>
                  <a:lnTo>
                    <a:pt x="366" y="312"/>
                  </a:lnTo>
                  <a:lnTo>
                    <a:pt x="366" y="312"/>
                  </a:lnTo>
                  <a:lnTo>
                    <a:pt x="366" y="312"/>
                  </a:lnTo>
                  <a:lnTo>
                    <a:pt x="400" y="310"/>
                  </a:lnTo>
                  <a:lnTo>
                    <a:pt x="440" y="306"/>
                  </a:lnTo>
                  <a:lnTo>
                    <a:pt x="440" y="302"/>
                  </a:lnTo>
                  <a:lnTo>
                    <a:pt x="436" y="302"/>
                  </a:lnTo>
                  <a:lnTo>
                    <a:pt x="436" y="302"/>
                  </a:lnTo>
                  <a:lnTo>
                    <a:pt x="438" y="390"/>
                  </a:lnTo>
                  <a:lnTo>
                    <a:pt x="438" y="390"/>
                  </a:lnTo>
                  <a:lnTo>
                    <a:pt x="436" y="442"/>
                  </a:lnTo>
                  <a:lnTo>
                    <a:pt x="432" y="466"/>
                  </a:lnTo>
                  <a:lnTo>
                    <a:pt x="428" y="490"/>
                  </a:lnTo>
                  <a:lnTo>
                    <a:pt x="424" y="510"/>
                  </a:lnTo>
                  <a:lnTo>
                    <a:pt x="416" y="532"/>
                  </a:lnTo>
                  <a:lnTo>
                    <a:pt x="408" y="550"/>
                  </a:lnTo>
                  <a:lnTo>
                    <a:pt x="400" y="570"/>
                  </a:lnTo>
                  <a:lnTo>
                    <a:pt x="400" y="570"/>
                  </a:lnTo>
                  <a:lnTo>
                    <a:pt x="388" y="586"/>
                  </a:lnTo>
                  <a:lnTo>
                    <a:pt x="376" y="604"/>
                  </a:lnTo>
                  <a:lnTo>
                    <a:pt x="362" y="620"/>
                  </a:lnTo>
                  <a:lnTo>
                    <a:pt x="346" y="636"/>
                  </a:lnTo>
                  <a:lnTo>
                    <a:pt x="328" y="650"/>
                  </a:lnTo>
                  <a:lnTo>
                    <a:pt x="310" y="666"/>
                  </a:lnTo>
                  <a:lnTo>
                    <a:pt x="288" y="680"/>
                  </a:lnTo>
                  <a:lnTo>
                    <a:pt x="264" y="694"/>
                  </a:lnTo>
                  <a:lnTo>
                    <a:pt x="260" y="696"/>
                  </a:lnTo>
                  <a:lnTo>
                    <a:pt x="270" y="712"/>
                  </a:lnTo>
                  <a:lnTo>
                    <a:pt x="272" y="710"/>
                  </a:lnTo>
                  <a:lnTo>
                    <a:pt x="272" y="710"/>
                  </a:lnTo>
                  <a:lnTo>
                    <a:pt x="314" y="700"/>
                  </a:lnTo>
                  <a:lnTo>
                    <a:pt x="350" y="688"/>
                  </a:lnTo>
                  <a:lnTo>
                    <a:pt x="382" y="676"/>
                  </a:lnTo>
                  <a:lnTo>
                    <a:pt x="410" y="664"/>
                  </a:lnTo>
                  <a:lnTo>
                    <a:pt x="436" y="648"/>
                  </a:lnTo>
                  <a:lnTo>
                    <a:pt x="458" y="634"/>
                  </a:lnTo>
                  <a:lnTo>
                    <a:pt x="478" y="616"/>
                  </a:lnTo>
                  <a:lnTo>
                    <a:pt x="494" y="598"/>
                  </a:lnTo>
                  <a:lnTo>
                    <a:pt x="494" y="598"/>
                  </a:lnTo>
                  <a:lnTo>
                    <a:pt x="508" y="578"/>
                  </a:lnTo>
                  <a:lnTo>
                    <a:pt x="518" y="558"/>
                  </a:lnTo>
                  <a:lnTo>
                    <a:pt x="528" y="536"/>
                  </a:lnTo>
                  <a:lnTo>
                    <a:pt x="534" y="514"/>
                  </a:lnTo>
                  <a:lnTo>
                    <a:pt x="538" y="488"/>
                  </a:lnTo>
                  <a:lnTo>
                    <a:pt x="542" y="462"/>
                  </a:lnTo>
                  <a:lnTo>
                    <a:pt x="544" y="434"/>
                  </a:lnTo>
                  <a:lnTo>
                    <a:pt x="544" y="406"/>
                  </a:lnTo>
                  <a:lnTo>
                    <a:pt x="544" y="406"/>
                  </a:lnTo>
                  <a:lnTo>
                    <a:pt x="542" y="352"/>
                  </a:lnTo>
                  <a:lnTo>
                    <a:pt x="540" y="288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90" y="282"/>
                  </a:lnTo>
                  <a:lnTo>
                    <a:pt x="632" y="272"/>
                  </a:lnTo>
                  <a:lnTo>
                    <a:pt x="632" y="272"/>
                  </a:lnTo>
                  <a:lnTo>
                    <a:pt x="654" y="262"/>
                  </a:lnTo>
                  <a:lnTo>
                    <a:pt x="662" y="258"/>
                  </a:lnTo>
                  <a:lnTo>
                    <a:pt x="670" y="252"/>
                  </a:lnTo>
                  <a:lnTo>
                    <a:pt x="670" y="252"/>
                  </a:lnTo>
                  <a:lnTo>
                    <a:pt x="676" y="244"/>
                  </a:lnTo>
                  <a:lnTo>
                    <a:pt x="682" y="238"/>
                  </a:lnTo>
                  <a:lnTo>
                    <a:pt x="684" y="228"/>
                  </a:lnTo>
                  <a:lnTo>
                    <a:pt x="686" y="218"/>
                  </a:lnTo>
                  <a:lnTo>
                    <a:pt x="686" y="218"/>
                  </a:lnTo>
                  <a:lnTo>
                    <a:pt x="686" y="218"/>
                  </a:lnTo>
                  <a:lnTo>
                    <a:pt x="686" y="218"/>
                  </a:lnTo>
                  <a:lnTo>
                    <a:pt x="682" y="204"/>
                  </a:lnTo>
                  <a:lnTo>
                    <a:pt x="676" y="194"/>
                  </a:lnTo>
                  <a:lnTo>
                    <a:pt x="676" y="194"/>
                  </a:lnTo>
                  <a:lnTo>
                    <a:pt x="670" y="186"/>
                  </a:lnTo>
                  <a:lnTo>
                    <a:pt x="662" y="182"/>
                  </a:lnTo>
                  <a:lnTo>
                    <a:pt x="642" y="174"/>
                  </a:lnTo>
                  <a:lnTo>
                    <a:pt x="642" y="174"/>
                  </a:lnTo>
                  <a:lnTo>
                    <a:pt x="596" y="158"/>
                  </a:lnTo>
                  <a:lnTo>
                    <a:pt x="592" y="158"/>
                  </a:lnTo>
                  <a:lnTo>
                    <a:pt x="590" y="160"/>
                  </a:lnTo>
                  <a:lnTo>
                    <a:pt x="590" y="160"/>
                  </a:lnTo>
                  <a:lnTo>
                    <a:pt x="586" y="168"/>
                  </a:lnTo>
                  <a:lnTo>
                    <a:pt x="578" y="176"/>
                  </a:lnTo>
                  <a:lnTo>
                    <a:pt x="570" y="182"/>
                  </a:lnTo>
                  <a:lnTo>
                    <a:pt x="560" y="188"/>
                  </a:lnTo>
                  <a:lnTo>
                    <a:pt x="560" y="188"/>
                  </a:lnTo>
                  <a:lnTo>
                    <a:pt x="540" y="196"/>
                  </a:lnTo>
                  <a:lnTo>
                    <a:pt x="528" y="200"/>
                  </a:lnTo>
                  <a:lnTo>
                    <a:pt x="530" y="204"/>
                  </a:lnTo>
                  <a:lnTo>
                    <a:pt x="534" y="204"/>
                  </a:lnTo>
                  <a:lnTo>
                    <a:pt x="534" y="204"/>
                  </a:lnTo>
                  <a:lnTo>
                    <a:pt x="532" y="142"/>
                  </a:lnTo>
                  <a:lnTo>
                    <a:pt x="52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グループ化 500"/>
          <p:cNvGrpSpPr/>
          <p:nvPr/>
        </p:nvGrpSpPr>
        <p:grpSpPr>
          <a:xfrm>
            <a:off x="3571920" y="10861560"/>
            <a:ext cx="3387600" cy="24641280"/>
            <a:chOff x="3571920" y="10861560"/>
            <a:chExt cx="3387600" cy="24641280"/>
          </a:xfrm>
        </p:grpSpPr>
        <p:sp>
          <p:nvSpPr>
            <p:cNvPr id="412" name="Freeform 95"/>
            <p:cNvSpPr/>
            <p:nvPr/>
          </p:nvSpPr>
          <p:spPr>
            <a:xfrm>
              <a:off x="3571920" y="10861560"/>
              <a:ext cx="3314880" cy="6251400"/>
            </a:xfrm>
            <a:custGeom>
              <a:avLst/>
              <a:gdLst>
                <a:gd name="textAreaLeft" fmla="*/ 0 w 3314880"/>
                <a:gd name="textAreaRight" fmla="*/ 3315240 w 3314880"/>
                <a:gd name="textAreaTop" fmla="*/ 0 h 6251400"/>
                <a:gd name="textAreaBottom" fmla="*/ 6251760 h 6251400"/>
              </a:gdLst>
              <a:ahLst/>
              <a:rect l="textAreaLeft" t="textAreaTop" r="textAreaRight" b="textAreaBottom"/>
              <a:pathLst>
                <a:path w="2088" h="3938">
                  <a:moveTo>
                    <a:pt x="54" y="1292"/>
                  </a:moveTo>
                  <a:lnTo>
                    <a:pt x="76" y="1306"/>
                  </a:lnTo>
                  <a:lnTo>
                    <a:pt x="76" y="1306"/>
                  </a:lnTo>
                  <a:lnTo>
                    <a:pt x="92" y="1316"/>
                  </a:lnTo>
                  <a:lnTo>
                    <a:pt x="110" y="1322"/>
                  </a:lnTo>
                  <a:lnTo>
                    <a:pt x="128" y="1324"/>
                  </a:lnTo>
                  <a:lnTo>
                    <a:pt x="146" y="1324"/>
                  </a:lnTo>
                  <a:lnTo>
                    <a:pt x="164" y="1322"/>
                  </a:lnTo>
                  <a:lnTo>
                    <a:pt x="182" y="1318"/>
                  </a:lnTo>
                  <a:lnTo>
                    <a:pt x="200" y="1310"/>
                  </a:lnTo>
                  <a:lnTo>
                    <a:pt x="216" y="1298"/>
                  </a:lnTo>
                  <a:lnTo>
                    <a:pt x="216" y="1298"/>
                  </a:lnTo>
                  <a:lnTo>
                    <a:pt x="238" y="1280"/>
                  </a:lnTo>
                  <a:lnTo>
                    <a:pt x="238" y="1948"/>
                  </a:lnTo>
                  <a:lnTo>
                    <a:pt x="238" y="1948"/>
                  </a:lnTo>
                  <a:lnTo>
                    <a:pt x="238" y="1960"/>
                  </a:lnTo>
                  <a:lnTo>
                    <a:pt x="240" y="1972"/>
                  </a:lnTo>
                  <a:lnTo>
                    <a:pt x="246" y="1994"/>
                  </a:lnTo>
                  <a:lnTo>
                    <a:pt x="258" y="2014"/>
                  </a:lnTo>
                  <a:lnTo>
                    <a:pt x="272" y="2032"/>
                  </a:lnTo>
                  <a:lnTo>
                    <a:pt x="290" y="2046"/>
                  </a:lnTo>
                  <a:lnTo>
                    <a:pt x="310" y="2058"/>
                  </a:lnTo>
                  <a:lnTo>
                    <a:pt x="334" y="2064"/>
                  </a:lnTo>
                  <a:lnTo>
                    <a:pt x="346" y="2066"/>
                  </a:lnTo>
                  <a:lnTo>
                    <a:pt x="358" y="2068"/>
                  </a:lnTo>
                  <a:lnTo>
                    <a:pt x="410" y="2068"/>
                  </a:lnTo>
                  <a:lnTo>
                    <a:pt x="410" y="2068"/>
                  </a:lnTo>
                  <a:lnTo>
                    <a:pt x="440" y="2066"/>
                  </a:lnTo>
                  <a:lnTo>
                    <a:pt x="470" y="2062"/>
                  </a:lnTo>
                  <a:lnTo>
                    <a:pt x="500" y="2058"/>
                  </a:lnTo>
                  <a:lnTo>
                    <a:pt x="526" y="2052"/>
                  </a:lnTo>
                  <a:lnTo>
                    <a:pt x="572" y="2038"/>
                  </a:lnTo>
                  <a:lnTo>
                    <a:pt x="608" y="2026"/>
                  </a:lnTo>
                  <a:lnTo>
                    <a:pt x="608" y="2026"/>
                  </a:lnTo>
                  <a:lnTo>
                    <a:pt x="642" y="2010"/>
                  </a:lnTo>
                  <a:lnTo>
                    <a:pt x="674" y="1994"/>
                  </a:lnTo>
                  <a:lnTo>
                    <a:pt x="698" y="1976"/>
                  </a:lnTo>
                  <a:lnTo>
                    <a:pt x="718" y="1958"/>
                  </a:lnTo>
                  <a:lnTo>
                    <a:pt x="720" y="1958"/>
                  </a:lnTo>
                  <a:lnTo>
                    <a:pt x="820" y="1958"/>
                  </a:lnTo>
                  <a:lnTo>
                    <a:pt x="820" y="1958"/>
                  </a:lnTo>
                  <a:lnTo>
                    <a:pt x="806" y="1976"/>
                  </a:lnTo>
                  <a:lnTo>
                    <a:pt x="796" y="1996"/>
                  </a:lnTo>
                  <a:lnTo>
                    <a:pt x="790" y="2016"/>
                  </a:lnTo>
                  <a:lnTo>
                    <a:pt x="786" y="2040"/>
                  </a:lnTo>
                  <a:lnTo>
                    <a:pt x="786" y="2234"/>
                  </a:lnTo>
                  <a:lnTo>
                    <a:pt x="564" y="2234"/>
                  </a:lnTo>
                  <a:lnTo>
                    <a:pt x="564" y="2234"/>
                  </a:lnTo>
                  <a:lnTo>
                    <a:pt x="546" y="2188"/>
                  </a:lnTo>
                  <a:lnTo>
                    <a:pt x="546" y="2188"/>
                  </a:lnTo>
                  <a:lnTo>
                    <a:pt x="538" y="2172"/>
                  </a:lnTo>
                  <a:lnTo>
                    <a:pt x="528" y="2156"/>
                  </a:lnTo>
                  <a:lnTo>
                    <a:pt x="516" y="2144"/>
                  </a:lnTo>
                  <a:lnTo>
                    <a:pt x="502" y="2132"/>
                  </a:lnTo>
                  <a:lnTo>
                    <a:pt x="486" y="2124"/>
                  </a:lnTo>
                  <a:lnTo>
                    <a:pt x="470" y="2118"/>
                  </a:lnTo>
                  <a:lnTo>
                    <a:pt x="452" y="2112"/>
                  </a:lnTo>
                  <a:lnTo>
                    <a:pt x="434" y="2112"/>
                  </a:lnTo>
                  <a:lnTo>
                    <a:pt x="412" y="2112"/>
                  </a:lnTo>
                  <a:lnTo>
                    <a:pt x="412" y="2112"/>
                  </a:lnTo>
                  <a:lnTo>
                    <a:pt x="398" y="2112"/>
                  </a:lnTo>
                  <a:lnTo>
                    <a:pt x="388" y="2114"/>
                  </a:lnTo>
                  <a:lnTo>
                    <a:pt x="364" y="2120"/>
                  </a:lnTo>
                  <a:lnTo>
                    <a:pt x="344" y="2132"/>
                  </a:lnTo>
                  <a:lnTo>
                    <a:pt x="328" y="2146"/>
                  </a:lnTo>
                  <a:lnTo>
                    <a:pt x="312" y="2164"/>
                  </a:lnTo>
                  <a:lnTo>
                    <a:pt x="302" y="2184"/>
                  </a:lnTo>
                  <a:lnTo>
                    <a:pt x="294" y="2206"/>
                  </a:lnTo>
                  <a:lnTo>
                    <a:pt x="292" y="2216"/>
                  </a:lnTo>
                  <a:lnTo>
                    <a:pt x="292" y="2230"/>
                  </a:lnTo>
                  <a:lnTo>
                    <a:pt x="292" y="2230"/>
                  </a:lnTo>
                  <a:lnTo>
                    <a:pt x="288" y="2242"/>
                  </a:lnTo>
                  <a:lnTo>
                    <a:pt x="282" y="2258"/>
                  </a:lnTo>
                  <a:lnTo>
                    <a:pt x="274" y="2272"/>
                  </a:lnTo>
                  <a:lnTo>
                    <a:pt x="262" y="2288"/>
                  </a:lnTo>
                  <a:lnTo>
                    <a:pt x="250" y="2302"/>
                  </a:lnTo>
                  <a:lnTo>
                    <a:pt x="236" y="2314"/>
                  </a:lnTo>
                  <a:lnTo>
                    <a:pt x="222" y="2324"/>
                  </a:lnTo>
                  <a:lnTo>
                    <a:pt x="208" y="2332"/>
                  </a:lnTo>
                  <a:lnTo>
                    <a:pt x="208" y="2332"/>
                  </a:lnTo>
                  <a:lnTo>
                    <a:pt x="206" y="2332"/>
                  </a:lnTo>
                  <a:lnTo>
                    <a:pt x="206" y="2332"/>
                  </a:lnTo>
                  <a:lnTo>
                    <a:pt x="186" y="2342"/>
                  </a:lnTo>
                  <a:lnTo>
                    <a:pt x="168" y="2354"/>
                  </a:lnTo>
                  <a:lnTo>
                    <a:pt x="150" y="2366"/>
                  </a:lnTo>
                  <a:lnTo>
                    <a:pt x="134" y="2378"/>
                  </a:lnTo>
                  <a:lnTo>
                    <a:pt x="120" y="2392"/>
                  </a:lnTo>
                  <a:lnTo>
                    <a:pt x="106" y="2406"/>
                  </a:lnTo>
                  <a:lnTo>
                    <a:pt x="92" y="2422"/>
                  </a:lnTo>
                  <a:lnTo>
                    <a:pt x="82" y="2436"/>
                  </a:lnTo>
                  <a:lnTo>
                    <a:pt x="70" y="2452"/>
                  </a:lnTo>
                  <a:lnTo>
                    <a:pt x="62" y="2470"/>
                  </a:lnTo>
                  <a:lnTo>
                    <a:pt x="54" y="2486"/>
                  </a:lnTo>
                  <a:lnTo>
                    <a:pt x="48" y="2504"/>
                  </a:lnTo>
                  <a:lnTo>
                    <a:pt x="42" y="2522"/>
                  </a:lnTo>
                  <a:lnTo>
                    <a:pt x="38" y="2540"/>
                  </a:lnTo>
                  <a:lnTo>
                    <a:pt x="36" y="2558"/>
                  </a:lnTo>
                  <a:lnTo>
                    <a:pt x="36" y="2578"/>
                  </a:lnTo>
                  <a:lnTo>
                    <a:pt x="36" y="2578"/>
                  </a:lnTo>
                  <a:lnTo>
                    <a:pt x="36" y="2600"/>
                  </a:lnTo>
                  <a:lnTo>
                    <a:pt x="40" y="2620"/>
                  </a:lnTo>
                  <a:lnTo>
                    <a:pt x="44" y="2642"/>
                  </a:lnTo>
                  <a:lnTo>
                    <a:pt x="50" y="2660"/>
                  </a:lnTo>
                  <a:lnTo>
                    <a:pt x="58" y="2680"/>
                  </a:lnTo>
                  <a:lnTo>
                    <a:pt x="66" y="2698"/>
                  </a:lnTo>
                  <a:lnTo>
                    <a:pt x="78" y="2714"/>
                  </a:lnTo>
                  <a:lnTo>
                    <a:pt x="90" y="2730"/>
                  </a:lnTo>
                  <a:lnTo>
                    <a:pt x="102" y="2746"/>
                  </a:lnTo>
                  <a:lnTo>
                    <a:pt x="118" y="2760"/>
                  </a:lnTo>
                  <a:lnTo>
                    <a:pt x="134" y="2772"/>
                  </a:lnTo>
                  <a:lnTo>
                    <a:pt x="150" y="2782"/>
                  </a:lnTo>
                  <a:lnTo>
                    <a:pt x="168" y="2792"/>
                  </a:lnTo>
                  <a:lnTo>
                    <a:pt x="188" y="2802"/>
                  </a:lnTo>
                  <a:lnTo>
                    <a:pt x="208" y="2808"/>
                  </a:lnTo>
                  <a:lnTo>
                    <a:pt x="230" y="2814"/>
                  </a:lnTo>
                  <a:lnTo>
                    <a:pt x="230" y="2814"/>
                  </a:lnTo>
                  <a:lnTo>
                    <a:pt x="230" y="2826"/>
                  </a:lnTo>
                  <a:lnTo>
                    <a:pt x="234" y="2840"/>
                  </a:lnTo>
                  <a:lnTo>
                    <a:pt x="238" y="2862"/>
                  </a:lnTo>
                  <a:lnTo>
                    <a:pt x="238" y="2862"/>
                  </a:lnTo>
                  <a:lnTo>
                    <a:pt x="246" y="2882"/>
                  </a:lnTo>
                  <a:lnTo>
                    <a:pt x="256" y="2900"/>
                  </a:lnTo>
                  <a:lnTo>
                    <a:pt x="270" y="2916"/>
                  </a:lnTo>
                  <a:lnTo>
                    <a:pt x="284" y="2930"/>
                  </a:lnTo>
                  <a:lnTo>
                    <a:pt x="302" y="2940"/>
                  </a:lnTo>
                  <a:lnTo>
                    <a:pt x="320" y="2948"/>
                  </a:lnTo>
                  <a:lnTo>
                    <a:pt x="342" y="2952"/>
                  </a:lnTo>
                  <a:lnTo>
                    <a:pt x="362" y="2952"/>
                  </a:lnTo>
                  <a:lnTo>
                    <a:pt x="362" y="2952"/>
                  </a:lnTo>
                  <a:lnTo>
                    <a:pt x="448" y="2946"/>
                  </a:lnTo>
                  <a:lnTo>
                    <a:pt x="534" y="2938"/>
                  </a:lnTo>
                  <a:lnTo>
                    <a:pt x="624" y="2928"/>
                  </a:lnTo>
                  <a:lnTo>
                    <a:pt x="716" y="2916"/>
                  </a:lnTo>
                  <a:lnTo>
                    <a:pt x="716" y="3038"/>
                  </a:lnTo>
                  <a:lnTo>
                    <a:pt x="142" y="3112"/>
                  </a:lnTo>
                  <a:lnTo>
                    <a:pt x="142" y="3112"/>
                  </a:lnTo>
                  <a:lnTo>
                    <a:pt x="128" y="3114"/>
                  </a:lnTo>
                  <a:lnTo>
                    <a:pt x="116" y="3118"/>
                  </a:lnTo>
                  <a:lnTo>
                    <a:pt x="104" y="3124"/>
                  </a:lnTo>
                  <a:lnTo>
                    <a:pt x="92" y="3130"/>
                  </a:lnTo>
                  <a:lnTo>
                    <a:pt x="80" y="3138"/>
                  </a:lnTo>
                  <a:lnTo>
                    <a:pt x="70" y="3148"/>
                  </a:lnTo>
                  <a:lnTo>
                    <a:pt x="62" y="3158"/>
                  </a:lnTo>
                  <a:lnTo>
                    <a:pt x="54" y="3170"/>
                  </a:lnTo>
                  <a:lnTo>
                    <a:pt x="54" y="3170"/>
                  </a:lnTo>
                  <a:lnTo>
                    <a:pt x="48" y="3182"/>
                  </a:lnTo>
                  <a:lnTo>
                    <a:pt x="42" y="3196"/>
                  </a:lnTo>
                  <a:lnTo>
                    <a:pt x="40" y="3208"/>
                  </a:lnTo>
                  <a:lnTo>
                    <a:pt x="38" y="3222"/>
                  </a:lnTo>
                  <a:lnTo>
                    <a:pt x="38" y="3236"/>
                  </a:lnTo>
                  <a:lnTo>
                    <a:pt x="38" y="3250"/>
                  </a:lnTo>
                  <a:lnTo>
                    <a:pt x="42" y="3262"/>
                  </a:lnTo>
                  <a:lnTo>
                    <a:pt x="46" y="3276"/>
                  </a:lnTo>
                  <a:lnTo>
                    <a:pt x="58" y="3304"/>
                  </a:lnTo>
                  <a:lnTo>
                    <a:pt x="58" y="3304"/>
                  </a:lnTo>
                  <a:lnTo>
                    <a:pt x="66" y="3322"/>
                  </a:lnTo>
                  <a:lnTo>
                    <a:pt x="78" y="3338"/>
                  </a:lnTo>
                  <a:lnTo>
                    <a:pt x="92" y="3352"/>
                  </a:lnTo>
                  <a:lnTo>
                    <a:pt x="108" y="3364"/>
                  </a:lnTo>
                  <a:lnTo>
                    <a:pt x="126" y="3372"/>
                  </a:lnTo>
                  <a:lnTo>
                    <a:pt x="144" y="3378"/>
                  </a:lnTo>
                  <a:lnTo>
                    <a:pt x="164" y="3380"/>
                  </a:lnTo>
                  <a:lnTo>
                    <a:pt x="184" y="3378"/>
                  </a:lnTo>
                  <a:lnTo>
                    <a:pt x="716" y="3312"/>
                  </a:lnTo>
                  <a:lnTo>
                    <a:pt x="716" y="3512"/>
                  </a:lnTo>
                  <a:lnTo>
                    <a:pt x="716" y="3512"/>
                  </a:lnTo>
                  <a:lnTo>
                    <a:pt x="716" y="3556"/>
                  </a:lnTo>
                  <a:lnTo>
                    <a:pt x="720" y="3602"/>
                  </a:lnTo>
                  <a:lnTo>
                    <a:pt x="726" y="3648"/>
                  </a:lnTo>
                  <a:lnTo>
                    <a:pt x="734" y="3692"/>
                  </a:lnTo>
                  <a:lnTo>
                    <a:pt x="742" y="3714"/>
                  </a:lnTo>
                  <a:lnTo>
                    <a:pt x="750" y="3736"/>
                  </a:lnTo>
                  <a:lnTo>
                    <a:pt x="758" y="3756"/>
                  </a:lnTo>
                  <a:lnTo>
                    <a:pt x="770" y="3776"/>
                  </a:lnTo>
                  <a:lnTo>
                    <a:pt x="782" y="3796"/>
                  </a:lnTo>
                  <a:lnTo>
                    <a:pt x="796" y="3814"/>
                  </a:lnTo>
                  <a:lnTo>
                    <a:pt x="812" y="3832"/>
                  </a:lnTo>
                  <a:lnTo>
                    <a:pt x="828" y="3848"/>
                  </a:lnTo>
                  <a:lnTo>
                    <a:pt x="828" y="3848"/>
                  </a:lnTo>
                  <a:lnTo>
                    <a:pt x="846" y="3862"/>
                  </a:lnTo>
                  <a:lnTo>
                    <a:pt x="862" y="3874"/>
                  </a:lnTo>
                  <a:lnTo>
                    <a:pt x="880" y="3884"/>
                  </a:lnTo>
                  <a:lnTo>
                    <a:pt x="900" y="3894"/>
                  </a:lnTo>
                  <a:lnTo>
                    <a:pt x="920" y="3902"/>
                  </a:lnTo>
                  <a:lnTo>
                    <a:pt x="940" y="3908"/>
                  </a:lnTo>
                  <a:lnTo>
                    <a:pt x="984" y="3920"/>
                  </a:lnTo>
                  <a:lnTo>
                    <a:pt x="1030" y="3928"/>
                  </a:lnTo>
                  <a:lnTo>
                    <a:pt x="1080" y="3934"/>
                  </a:lnTo>
                  <a:lnTo>
                    <a:pt x="1134" y="3936"/>
                  </a:lnTo>
                  <a:lnTo>
                    <a:pt x="1190" y="3938"/>
                  </a:lnTo>
                  <a:lnTo>
                    <a:pt x="1536" y="3938"/>
                  </a:lnTo>
                  <a:lnTo>
                    <a:pt x="1536" y="3938"/>
                  </a:lnTo>
                  <a:lnTo>
                    <a:pt x="1594" y="3936"/>
                  </a:lnTo>
                  <a:lnTo>
                    <a:pt x="1646" y="3934"/>
                  </a:lnTo>
                  <a:lnTo>
                    <a:pt x="1694" y="3930"/>
                  </a:lnTo>
                  <a:lnTo>
                    <a:pt x="1738" y="3924"/>
                  </a:lnTo>
                  <a:lnTo>
                    <a:pt x="1778" y="3916"/>
                  </a:lnTo>
                  <a:lnTo>
                    <a:pt x="1814" y="3906"/>
                  </a:lnTo>
                  <a:lnTo>
                    <a:pt x="1846" y="3894"/>
                  </a:lnTo>
                  <a:lnTo>
                    <a:pt x="1874" y="3882"/>
                  </a:lnTo>
                  <a:lnTo>
                    <a:pt x="1874" y="3882"/>
                  </a:lnTo>
                  <a:lnTo>
                    <a:pt x="1898" y="3868"/>
                  </a:lnTo>
                  <a:lnTo>
                    <a:pt x="1922" y="3850"/>
                  </a:lnTo>
                  <a:lnTo>
                    <a:pt x="1944" y="3828"/>
                  </a:lnTo>
                  <a:lnTo>
                    <a:pt x="1954" y="3816"/>
                  </a:lnTo>
                  <a:lnTo>
                    <a:pt x="1964" y="3804"/>
                  </a:lnTo>
                  <a:lnTo>
                    <a:pt x="1974" y="3790"/>
                  </a:lnTo>
                  <a:lnTo>
                    <a:pt x="1982" y="3774"/>
                  </a:lnTo>
                  <a:lnTo>
                    <a:pt x="1990" y="3756"/>
                  </a:lnTo>
                  <a:lnTo>
                    <a:pt x="1996" y="3738"/>
                  </a:lnTo>
                  <a:lnTo>
                    <a:pt x="2002" y="3718"/>
                  </a:lnTo>
                  <a:lnTo>
                    <a:pt x="2006" y="3698"/>
                  </a:lnTo>
                  <a:lnTo>
                    <a:pt x="2008" y="3676"/>
                  </a:lnTo>
                  <a:lnTo>
                    <a:pt x="2010" y="3652"/>
                  </a:lnTo>
                  <a:lnTo>
                    <a:pt x="2010" y="3652"/>
                  </a:lnTo>
                  <a:lnTo>
                    <a:pt x="2008" y="3636"/>
                  </a:lnTo>
                  <a:lnTo>
                    <a:pt x="2006" y="3620"/>
                  </a:lnTo>
                  <a:lnTo>
                    <a:pt x="2004" y="3604"/>
                  </a:lnTo>
                  <a:lnTo>
                    <a:pt x="2000" y="3590"/>
                  </a:lnTo>
                  <a:lnTo>
                    <a:pt x="1994" y="3578"/>
                  </a:lnTo>
                  <a:lnTo>
                    <a:pt x="1988" y="3564"/>
                  </a:lnTo>
                  <a:lnTo>
                    <a:pt x="1974" y="3542"/>
                  </a:lnTo>
                  <a:lnTo>
                    <a:pt x="1958" y="3524"/>
                  </a:lnTo>
                  <a:lnTo>
                    <a:pt x="1938" y="3506"/>
                  </a:lnTo>
                  <a:lnTo>
                    <a:pt x="1916" y="3492"/>
                  </a:lnTo>
                  <a:lnTo>
                    <a:pt x="1894" y="3480"/>
                  </a:lnTo>
                  <a:lnTo>
                    <a:pt x="1896" y="3300"/>
                  </a:lnTo>
                  <a:lnTo>
                    <a:pt x="1896" y="3300"/>
                  </a:lnTo>
                  <a:lnTo>
                    <a:pt x="1894" y="3276"/>
                  </a:lnTo>
                  <a:lnTo>
                    <a:pt x="1886" y="3252"/>
                  </a:lnTo>
                  <a:lnTo>
                    <a:pt x="1876" y="3232"/>
                  </a:lnTo>
                  <a:lnTo>
                    <a:pt x="1860" y="3214"/>
                  </a:lnTo>
                  <a:lnTo>
                    <a:pt x="1860" y="3214"/>
                  </a:lnTo>
                  <a:lnTo>
                    <a:pt x="1842" y="3198"/>
                  </a:lnTo>
                  <a:lnTo>
                    <a:pt x="1822" y="3188"/>
                  </a:lnTo>
                  <a:lnTo>
                    <a:pt x="1800" y="3180"/>
                  </a:lnTo>
                  <a:lnTo>
                    <a:pt x="1776" y="3178"/>
                  </a:lnTo>
                  <a:lnTo>
                    <a:pt x="1766" y="3178"/>
                  </a:lnTo>
                  <a:lnTo>
                    <a:pt x="1866" y="3166"/>
                  </a:lnTo>
                  <a:lnTo>
                    <a:pt x="1866" y="3166"/>
                  </a:lnTo>
                  <a:lnTo>
                    <a:pt x="1886" y="3162"/>
                  </a:lnTo>
                  <a:lnTo>
                    <a:pt x="1908" y="3158"/>
                  </a:lnTo>
                  <a:lnTo>
                    <a:pt x="1932" y="3152"/>
                  </a:lnTo>
                  <a:lnTo>
                    <a:pt x="1958" y="3144"/>
                  </a:lnTo>
                  <a:lnTo>
                    <a:pt x="1984" y="3130"/>
                  </a:lnTo>
                  <a:lnTo>
                    <a:pt x="1996" y="3120"/>
                  </a:lnTo>
                  <a:lnTo>
                    <a:pt x="2008" y="3112"/>
                  </a:lnTo>
                  <a:lnTo>
                    <a:pt x="2020" y="3100"/>
                  </a:lnTo>
                  <a:lnTo>
                    <a:pt x="2030" y="3086"/>
                  </a:lnTo>
                  <a:lnTo>
                    <a:pt x="2038" y="3072"/>
                  </a:lnTo>
                  <a:lnTo>
                    <a:pt x="2046" y="3056"/>
                  </a:lnTo>
                  <a:lnTo>
                    <a:pt x="2046" y="3056"/>
                  </a:lnTo>
                  <a:lnTo>
                    <a:pt x="2052" y="3034"/>
                  </a:lnTo>
                  <a:lnTo>
                    <a:pt x="2056" y="3012"/>
                  </a:lnTo>
                  <a:lnTo>
                    <a:pt x="2054" y="2990"/>
                  </a:lnTo>
                  <a:lnTo>
                    <a:pt x="2048" y="2970"/>
                  </a:lnTo>
                  <a:lnTo>
                    <a:pt x="2038" y="2950"/>
                  </a:lnTo>
                  <a:lnTo>
                    <a:pt x="2026" y="2932"/>
                  </a:lnTo>
                  <a:lnTo>
                    <a:pt x="2010" y="2916"/>
                  </a:lnTo>
                  <a:lnTo>
                    <a:pt x="1992" y="2904"/>
                  </a:lnTo>
                  <a:lnTo>
                    <a:pt x="1714" y="2758"/>
                  </a:lnTo>
                  <a:lnTo>
                    <a:pt x="1714" y="2758"/>
                  </a:lnTo>
                  <a:lnTo>
                    <a:pt x="1700" y="2752"/>
                  </a:lnTo>
                  <a:lnTo>
                    <a:pt x="1686" y="2748"/>
                  </a:lnTo>
                  <a:lnTo>
                    <a:pt x="1686" y="2748"/>
                  </a:lnTo>
                  <a:lnTo>
                    <a:pt x="1750" y="2710"/>
                  </a:lnTo>
                  <a:lnTo>
                    <a:pt x="1814" y="2668"/>
                  </a:lnTo>
                  <a:lnTo>
                    <a:pt x="1876" y="2624"/>
                  </a:lnTo>
                  <a:lnTo>
                    <a:pt x="1932" y="2580"/>
                  </a:lnTo>
                  <a:lnTo>
                    <a:pt x="1932" y="2580"/>
                  </a:lnTo>
                  <a:lnTo>
                    <a:pt x="1960" y="2574"/>
                  </a:lnTo>
                  <a:lnTo>
                    <a:pt x="1974" y="2568"/>
                  </a:lnTo>
                  <a:lnTo>
                    <a:pt x="1990" y="2562"/>
                  </a:lnTo>
                  <a:lnTo>
                    <a:pt x="2004" y="2554"/>
                  </a:lnTo>
                  <a:lnTo>
                    <a:pt x="2020" y="2544"/>
                  </a:lnTo>
                  <a:lnTo>
                    <a:pt x="2034" y="2532"/>
                  </a:lnTo>
                  <a:lnTo>
                    <a:pt x="2048" y="2518"/>
                  </a:lnTo>
                  <a:lnTo>
                    <a:pt x="2048" y="2518"/>
                  </a:lnTo>
                  <a:lnTo>
                    <a:pt x="2062" y="2500"/>
                  </a:lnTo>
                  <a:lnTo>
                    <a:pt x="2072" y="2478"/>
                  </a:lnTo>
                  <a:lnTo>
                    <a:pt x="2078" y="2456"/>
                  </a:lnTo>
                  <a:lnTo>
                    <a:pt x="2078" y="2434"/>
                  </a:lnTo>
                  <a:lnTo>
                    <a:pt x="2076" y="2412"/>
                  </a:lnTo>
                  <a:lnTo>
                    <a:pt x="2068" y="2390"/>
                  </a:lnTo>
                  <a:lnTo>
                    <a:pt x="2056" y="2370"/>
                  </a:lnTo>
                  <a:lnTo>
                    <a:pt x="2040" y="2352"/>
                  </a:lnTo>
                  <a:lnTo>
                    <a:pt x="1808" y="2132"/>
                  </a:lnTo>
                  <a:lnTo>
                    <a:pt x="1808" y="2132"/>
                  </a:lnTo>
                  <a:lnTo>
                    <a:pt x="1790" y="2118"/>
                  </a:lnTo>
                  <a:lnTo>
                    <a:pt x="1768" y="2108"/>
                  </a:lnTo>
                  <a:lnTo>
                    <a:pt x="1746" y="2102"/>
                  </a:lnTo>
                  <a:lnTo>
                    <a:pt x="1724" y="2100"/>
                  </a:lnTo>
                  <a:lnTo>
                    <a:pt x="1702" y="2102"/>
                  </a:lnTo>
                  <a:lnTo>
                    <a:pt x="1680" y="2110"/>
                  </a:lnTo>
                  <a:lnTo>
                    <a:pt x="1660" y="2120"/>
                  </a:lnTo>
                  <a:lnTo>
                    <a:pt x="1640" y="2136"/>
                  </a:lnTo>
                  <a:lnTo>
                    <a:pt x="1542" y="2234"/>
                  </a:lnTo>
                  <a:lnTo>
                    <a:pt x="1316" y="2234"/>
                  </a:lnTo>
                  <a:lnTo>
                    <a:pt x="1316" y="2206"/>
                  </a:lnTo>
                  <a:lnTo>
                    <a:pt x="1316" y="2206"/>
                  </a:lnTo>
                  <a:lnTo>
                    <a:pt x="1332" y="2192"/>
                  </a:lnTo>
                  <a:lnTo>
                    <a:pt x="1346" y="2180"/>
                  </a:lnTo>
                  <a:lnTo>
                    <a:pt x="1358" y="2166"/>
                  </a:lnTo>
                  <a:lnTo>
                    <a:pt x="1366" y="2152"/>
                  </a:lnTo>
                  <a:lnTo>
                    <a:pt x="1374" y="2136"/>
                  </a:lnTo>
                  <a:lnTo>
                    <a:pt x="1380" y="2122"/>
                  </a:lnTo>
                  <a:lnTo>
                    <a:pt x="1384" y="2106"/>
                  </a:lnTo>
                  <a:lnTo>
                    <a:pt x="1386" y="2092"/>
                  </a:lnTo>
                  <a:lnTo>
                    <a:pt x="1386" y="2092"/>
                  </a:lnTo>
                  <a:lnTo>
                    <a:pt x="1388" y="2080"/>
                  </a:lnTo>
                  <a:lnTo>
                    <a:pt x="1388" y="2068"/>
                  </a:lnTo>
                  <a:lnTo>
                    <a:pt x="1386" y="2056"/>
                  </a:lnTo>
                  <a:lnTo>
                    <a:pt x="1384" y="2044"/>
                  </a:lnTo>
                  <a:lnTo>
                    <a:pt x="1380" y="2032"/>
                  </a:lnTo>
                  <a:lnTo>
                    <a:pt x="1376" y="2022"/>
                  </a:lnTo>
                  <a:lnTo>
                    <a:pt x="1370" y="2010"/>
                  </a:lnTo>
                  <a:lnTo>
                    <a:pt x="1364" y="2000"/>
                  </a:lnTo>
                  <a:lnTo>
                    <a:pt x="1364" y="2000"/>
                  </a:lnTo>
                  <a:lnTo>
                    <a:pt x="1350" y="1986"/>
                  </a:lnTo>
                  <a:lnTo>
                    <a:pt x="1334" y="1974"/>
                  </a:lnTo>
                  <a:lnTo>
                    <a:pt x="1316" y="1964"/>
                  </a:lnTo>
                  <a:lnTo>
                    <a:pt x="1296" y="1958"/>
                  </a:lnTo>
                  <a:lnTo>
                    <a:pt x="1874" y="1958"/>
                  </a:lnTo>
                  <a:lnTo>
                    <a:pt x="1874" y="1958"/>
                  </a:lnTo>
                  <a:lnTo>
                    <a:pt x="1916" y="1956"/>
                  </a:lnTo>
                  <a:lnTo>
                    <a:pt x="1942" y="1954"/>
                  </a:lnTo>
                  <a:lnTo>
                    <a:pt x="1970" y="1948"/>
                  </a:lnTo>
                  <a:lnTo>
                    <a:pt x="1996" y="1938"/>
                  </a:lnTo>
                  <a:lnTo>
                    <a:pt x="2010" y="1930"/>
                  </a:lnTo>
                  <a:lnTo>
                    <a:pt x="2022" y="1922"/>
                  </a:lnTo>
                  <a:lnTo>
                    <a:pt x="2036" y="1914"/>
                  </a:lnTo>
                  <a:lnTo>
                    <a:pt x="2048" y="1902"/>
                  </a:lnTo>
                  <a:lnTo>
                    <a:pt x="2058" y="1890"/>
                  </a:lnTo>
                  <a:lnTo>
                    <a:pt x="2070" y="1876"/>
                  </a:lnTo>
                  <a:lnTo>
                    <a:pt x="2070" y="1876"/>
                  </a:lnTo>
                  <a:lnTo>
                    <a:pt x="2080" y="1854"/>
                  </a:lnTo>
                  <a:lnTo>
                    <a:pt x="2086" y="1832"/>
                  </a:lnTo>
                  <a:lnTo>
                    <a:pt x="2088" y="1810"/>
                  </a:lnTo>
                  <a:lnTo>
                    <a:pt x="2086" y="1788"/>
                  </a:lnTo>
                  <a:lnTo>
                    <a:pt x="2080" y="1768"/>
                  </a:lnTo>
                  <a:lnTo>
                    <a:pt x="2070" y="1748"/>
                  </a:lnTo>
                  <a:lnTo>
                    <a:pt x="2056" y="1730"/>
                  </a:lnTo>
                  <a:lnTo>
                    <a:pt x="2040" y="1714"/>
                  </a:lnTo>
                  <a:lnTo>
                    <a:pt x="1778" y="1520"/>
                  </a:lnTo>
                  <a:lnTo>
                    <a:pt x="1778" y="1520"/>
                  </a:lnTo>
                  <a:lnTo>
                    <a:pt x="1768" y="1514"/>
                  </a:lnTo>
                  <a:lnTo>
                    <a:pt x="1758" y="1508"/>
                  </a:lnTo>
                  <a:lnTo>
                    <a:pt x="1736" y="1500"/>
                  </a:lnTo>
                  <a:lnTo>
                    <a:pt x="1712" y="1496"/>
                  </a:lnTo>
                  <a:lnTo>
                    <a:pt x="1690" y="1498"/>
                  </a:lnTo>
                  <a:lnTo>
                    <a:pt x="1668" y="1504"/>
                  </a:lnTo>
                  <a:lnTo>
                    <a:pt x="1646" y="1512"/>
                  </a:lnTo>
                  <a:lnTo>
                    <a:pt x="1628" y="1526"/>
                  </a:lnTo>
                  <a:lnTo>
                    <a:pt x="1618" y="1534"/>
                  </a:lnTo>
                  <a:lnTo>
                    <a:pt x="1610" y="1544"/>
                  </a:lnTo>
                  <a:lnTo>
                    <a:pt x="1562" y="1610"/>
                  </a:lnTo>
                  <a:lnTo>
                    <a:pt x="1562" y="1330"/>
                  </a:lnTo>
                  <a:lnTo>
                    <a:pt x="1760" y="1330"/>
                  </a:lnTo>
                  <a:lnTo>
                    <a:pt x="1760" y="1330"/>
                  </a:lnTo>
                  <a:lnTo>
                    <a:pt x="1800" y="1328"/>
                  </a:lnTo>
                  <a:lnTo>
                    <a:pt x="1826" y="1324"/>
                  </a:lnTo>
                  <a:lnTo>
                    <a:pt x="1854" y="1318"/>
                  </a:lnTo>
                  <a:lnTo>
                    <a:pt x="1880" y="1308"/>
                  </a:lnTo>
                  <a:lnTo>
                    <a:pt x="1894" y="1302"/>
                  </a:lnTo>
                  <a:lnTo>
                    <a:pt x="1908" y="1294"/>
                  </a:lnTo>
                  <a:lnTo>
                    <a:pt x="1920" y="1284"/>
                  </a:lnTo>
                  <a:lnTo>
                    <a:pt x="1932" y="1274"/>
                  </a:lnTo>
                  <a:lnTo>
                    <a:pt x="1944" y="1262"/>
                  </a:lnTo>
                  <a:lnTo>
                    <a:pt x="1954" y="1246"/>
                  </a:lnTo>
                  <a:lnTo>
                    <a:pt x="1954" y="1246"/>
                  </a:lnTo>
                  <a:lnTo>
                    <a:pt x="1964" y="1226"/>
                  </a:lnTo>
                  <a:lnTo>
                    <a:pt x="1970" y="1204"/>
                  </a:lnTo>
                  <a:lnTo>
                    <a:pt x="1972" y="1182"/>
                  </a:lnTo>
                  <a:lnTo>
                    <a:pt x="1970" y="1160"/>
                  </a:lnTo>
                  <a:lnTo>
                    <a:pt x="1964" y="1140"/>
                  </a:lnTo>
                  <a:lnTo>
                    <a:pt x="1954" y="1120"/>
                  </a:lnTo>
                  <a:lnTo>
                    <a:pt x="1942" y="1102"/>
                  </a:lnTo>
                  <a:lnTo>
                    <a:pt x="1924" y="1086"/>
                  </a:lnTo>
                  <a:lnTo>
                    <a:pt x="1690" y="912"/>
                  </a:lnTo>
                  <a:lnTo>
                    <a:pt x="1690" y="912"/>
                  </a:lnTo>
                  <a:lnTo>
                    <a:pt x="1674" y="902"/>
                  </a:lnTo>
                  <a:lnTo>
                    <a:pt x="1660" y="894"/>
                  </a:lnTo>
                  <a:lnTo>
                    <a:pt x="1642" y="890"/>
                  </a:lnTo>
                  <a:lnTo>
                    <a:pt x="1626" y="888"/>
                  </a:lnTo>
                  <a:lnTo>
                    <a:pt x="1610" y="888"/>
                  </a:lnTo>
                  <a:lnTo>
                    <a:pt x="1592" y="890"/>
                  </a:lnTo>
                  <a:lnTo>
                    <a:pt x="1576" y="894"/>
                  </a:lnTo>
                  <a:lnTo>
                    <a:pt x="1562" y="902"/>
                  </a:lnTo>
                  <a:lnTo>
                    <a:pt x="1562" y="756"/>
                  </a:lnTo>
                  <a:lnTo>
                    <a:pt x="1808" y="756"/>
                  </a:lnTo>
                  <a:lnTo>
                    <a:pt x="1808" y="756"/>
                  </a:lnTo>
                  <a:lnTo>
                    <a:pt x="1852" y="756"/>
                  </a:lnTo>
                  <a:lnTo>
                    <a:pt x="1876" y="752"/>
                  </a:lnTo>
                  <a:lnTo>
                    <a:pt x="1902" y="746"/>
                  </a:lnTo>
                  <a:lnTo>
                    <a:pt x="1928" y="738"/>
                  </a:lnTo>
                  <a:lnTo>
                    <a:pt x="1942" y="732"/>
                  </a:lnTo>
                  <a:lnTo>
                    <a:pt x="1954" y="724"/>
                  </a:lnTo>
                  <a:lnTo>
                    <a:pt x="1968" y="716"/>
                  </a:lnTo>
                  <a:lnTo>
                    <a:pt x="1980" y="706"/>
                  </a:lnTo>
                  <a:lnTo>
                    <a:pt x="1990" y="694"/>
                  </a:lnTo>
                  <a:lnTo>
                    <a:pt x="2002" y="680"/>
                  </a:lnTo>
                  <a:lnTo>
                    <a:pt x="2002" y="680"/>
                  </a:lnTo>
                  <a:lnTo>
                    <a:pt x="2008" y="670"/>
                  </a:lnTo>
                  <a:lnTo>
                    <a:pt x="2014" y="658"/>
                  </a:lnTo>
                  <a:lnTo>
                    <a:pt x="2022" y="636"/>
                  </a:lnTo>
                  <a:lnTo>
                    <a:pt x="2024" y="614"/>
                  </a:lnTo>
                  <a:lnTo>
                    <a:pt x="2024" y="590"/>
                  </a:lnTo>
                  <a:lnTo>
                    <a:pt x="2018" y="568"/>
                  </a:lnTo>
                  <a:lnTo>
                    <a:pt x="2008" y="548"/>
                  </a:lnTo>
                  <a:lnTo>
                    <a:pt x="1994" y="528"/>
                  </a:lnTo>
                  <a:lnTo>
                    <a:pt x="1986" y="520"/>
                  </a:lnTo>
                  <a:lnTo>
                    <a:pt x="1976" y="512"/>
                  </a:lnTo>
                  <a:lnTo>
                    <a:pt x="1722" y="326"/>
                  </a:lnTo>
                  <a:lnTo>
                    <a:pt x="1722" y="326"/>
                  </a:lnTo>
                  <a:lnTo>
                    <a:pt x="1710" y="318"/>
                  </a:lnTo>
                  <a:lnTo>
                    <a:pt x="1698" y="312"/>
                  </a:lnTo>
                  <a:lnTo>
                    <a:pt x="1684" y="308"/>
                  </a:lnTo>
                  <a:lnTo>
                    <a:pt x="1672" y="304"/>
                  </a:lnTo>
                  <a:lnTo>
                    <a:pt x="1658" y="304"/>
                  </a:lnTo>
                  <a:lnTo>
                    <a:pt x="1644" y="304"/>
                  </a:lnTo>
                  <a:lnTo>
                    <a:pt x="1632" y="304"/>
                  </a:lnTo>
                  <a:lnTo>
                    <a:pt x="1618" y="308"/>
                  </a:lnTo>
                  <a:lnTo>
                    <a:pt x="1618" y="308"/>
                  </a:lnTo>
                  <a:lnTo>
                    <a:pt x="1608" y="278"/>
                  </a:lnTo>
                  <a:lnTo>
                    <a:pt x="1596" y="248"/>
                  </a:lnTo>
                  <a:lnTo>
                    <a:pt x="1580" y="222"/>
                  </a:lnTo>
                  <a:lnTo>
                    <a:pt x="1562" y="194"/>
                  </a:lnTo>
                  <a:lnTo>
                    <a:pt x="1540" y="170"/>
                  </a:lnTo>
                  <a:lnTo>
                    <a:pt x="1516" y="146"/>
                  </a:lnTo>
                  <a:lnTo>
                    <a:pt x="1488" y="124"/>
                  </a:lnTo>
                  <a:lnTo>
                    <a:pt x="1458" y="104"/>
                  </a:lnTo>
                  <a:lnTo>
                    <a:pt x="1458" y="104"/>
                  </a:lnTo>
                  <a:lnTo>
                    <a:pt x="1414" y="80"/>
                  </a:lnTo>
                  <a:lnTo>
                    <a:pt x="1366" y="60"/>
                  </a:lnTo>
                  <a:lnTo>
                    <a:pt x="1314" y="42"/>
                  </a:lnTo>
                  <a:lnTo>
                    <a:pt x="1258" y="28"/>
                  </a:lnTo>
                  <a:lnTo>
                    <a:pt x="1198" y="18"/>
                  </a:lnTo>
                  <a:lnTo>
                    <a:pt x="1134" y="10"/>
                  </a:lnTo>
                  <a:lnTo>
                    <a:pt x="1066" y="4"/>
                  </a:lnTo>
                  <a:lnTo>
                    <a:pt x="994" y="4"/>
                  </a:lnTo>
                  <a:lnTo>
                    <a:pt x="994" y="4"/>
                  </a:lnTo>
                  <a:lnTo>
                    <a:pt x="978" y="4"/>
                  </a:lnTo>
                  <a:lnTo>
                    <a:pt x="964" y="6"/>
                  </a:lnTo>
                  <a:lnTo>
                    <a:pt x="950" y="12"/>
                  </a:lnTo>
                  <a:lnTo>
                    <a:pt x="936" y="18"/>
                  </a:lnTo>
                  <a:lnTo>
                    <a:pt x="924" y="24"/>
                  </a:lnTo>
                  <a:lnTo>
                    <a:pt x="912" y="34"/>
                  </a:lnTo>
                  <a:lnTo>
                    <a:pt x="902" y="44"/>
                  </a:lnTo>
                  <a:lnTo>
                    <a:pt x="894" y="56"/>
                  </a:lnTo>
                  <a:lnTo>
                    <a:pt x="886" y="68"/>
                  </a:lnTo>
                  <a:lnTo>
                    <a:pt x="886" y="68"/>
                  </a:lnTo>
                  <a:lnTo>
                    <a:pt x="876" y="88"/>
                  </a:lnTo>
                  <a:lnTo>
                    <a:pt x="868" y="108"/>
                  </a:lnTo>
                  <a:lnTo>
                    <a:pt x="516" y="4"/>
                  </a:lnTo>
                  <a:lnTo>
                    <a:pt x="516" y="4"/>
                  </a:lnTo>
                  <a:lnTo>
                    <a:pt x="504" y="2"/>
                  </a:lnTo>
                  <a:lnTo>
                    <a:pt x="492" y="0"/>
                  </a:lnTo>
                  <a:lnTo>
                    <a:pt x="480" y="0"/>
                  </a:lnTo>
                  <a:lnTo>
                    <a:pt x="466" y="0"/>
                  </a:lnTo>
                  <a:lnTo>
                    <a:pt x="454" y="2"/>
                  </a:lnTo>
                  <a:lnTo>
                    <a:pt x="442" y="6"/>
                  </a:lnTo>
                  <a:lnTo>
                    <a:pt x="430" y="10"/>
                  </a:lnTo>
                  <a:lnTo>
                    <a:pt x="420" y="16"/>
                  </a:lnTo>
                  <a:lnTo>
                    <a:pt x="420" y="16"/>
                  </a:lnTo>
                  <a:lnTo>
                    <a:pt x="410" y="24"/>
                  </a:lnTo>
                  <a:lnTo>
                    <a:pt x="400" y="32"/>
                  </a:lnTo>
                  <a:lnTo>
                    <a:pt x="392" y="42"/>
                  </a:lnTo>
                  <a:lnTo>
                    <a:pt x="384" y="50"/>
                  </a:lnTo>
                  <a:lnTo>
                    <a:pt x="376" y="62"/>
                  </a:lnTo>
                  <a:lnTo>
                    <a:pt x="372" y="72"/>
                  </a:lnTo>
                  <a:lnTo>
                    <a:pt x="368" y="84"/>
                  </a:lnTo>
                  <a:lnTo>
                    <a:pt x="364" y="96"/>
                  </a:lnTo>
                  <a:lnTo>
                    <a:pt x="364" y="96"/>
                  </a:lnTo>
                  <a:lnTo>
                    <a:pt x="350" y="166"/>
                  </a:lnTo>
                  <a:lnTo>
                    <a:pt x="334" y="238"/>
                  </a:lnTo>
                  <a:lnTo>
                    <a:pt x="318" y="310"/>
                  </a:lnTo>
                  <a:lnTo>
                    <a:pt x="300" y="382"/>
                  </a:lnTo>
                  <a:lnTo>
                    <a:pt x="280" y="452"/>
                  </a:lnTo>
                  <a:lnTo>
                    <a:pt x="258" y="524"/>
                  </a:lnTo>
                  <a:lnTo>
                    <a:pt x="236" y="594"/>
                  </a:lnTo>
                  <a:lnTo>
                    <a:pt x="214" y="664"/>
                  </a:lnTo>
                  <a:lnTo>
                    <a:pt x="190" y="732"/>
                  </a:lnTo>
                  <a:lnTo>
                    <a:pt x="166" y="798"/>
                  </a:lnTo>
                  <a:lnTo>
                    <a:pt x="142" y="860"/>
                  </a:lnTo>
                  <a:lnTo>
                    <a:pt x="116" y="922"/>
                  </a:lnTo>
                  <a:lnTo>
                    <a:pt x="92" y="980"/>
                  </a:lnTo>
                  <a:lnTo>
                    <a:pt x="66" y="1034"/>
                  </a:lnTo>
                  <a:lnTo>
                    <a:pt x="40" y="1086"/>
                  </a:lnTo>
                  <a:lnTo>
                    <a:pt x="14" y="1132"/>
                  </a:lnTo>
                  <a:lnTo>
                    <a:pt x="14" y="1132"/>
                  </a:lnTo>
                  <a:lnTo>
                    <a:pt x="6" y="1154"/>
                  </a:lnTo>
                  <a:lnTo>
                    <a:pt x="0" y="1176"/>
                  </a:lnTo>
                  <a:lnTo>
                    <a:pt x="0" y="1198"/>
                  </a:lnTo>
                  <a:lnTo>
                    <a:pt x="2" y="1220"/>
                  </a:lnTo>
                  <a:lnTo>
                    <a:pt x="10" y="1242"/>
                  </a:lnTo>
                  <a:lnTo>
                    <a:pt x="22" y="1262"/>
                  </a:lnTo>
                  <a:lnTo>
                    <a:pt x="36" y="1278"/>
                  </a:lnTo>
                  <a:lnTo>
                    <a:pt x="54" y="1292"/>
                  </a:lnTo>
                  <a:lnTo>
                    <a:pt x="54" y="1292"/>
                  </a:lnTo>
                  <a:close/>
                  <a:moveTo>
                    <a:pt x="584" y="2608"/>
                  </a:moveTo>
                  <a:lnTo>
                    <a:pt x="584" y="2608"/>
                  </a:lnTo>
                  <a:lnTo>
                    <a:pt x="592" y="2584"/>
                  </a:lnTo>
                  <a:lnTo>
                    <a:pt x="598" y="2560"/>
                  </a:lnTo>
                  <a:lnTo>
                    <a:pt x="602" y="2532"/>
                  </a:lnTo>
                  <a:lnTo>
                    <a:pt x="604" y="2506"/>
                  </a:lnTo>
                  <a:lnTo>
                    <a:pt x="844" y="2506"/>
                  </a:lnTo>
                  <a:lnTo>
                    <a:pt x="844" y="2506"/>
                  </a:lnTo>
                  <a:lnTo>
                    <a:pt x="716" y="2558"/>
                  </a:lnTo>
                  <a:lnTo>
                    <a:pt x="584" y="2608"/>
                  </a:lnTo>
                  <a:lnTo>
                    <a:pt x="584" y="2608"/>
                  </a:lnTo>
                  <a:close/>
                  <a:moveTo>
                    <a:pt x="1562" y="2794"/>
                  </a:moveTo>
                  <a:lnTo>
                    <a:pt x="1562" y="2794"/>
                  </a:lnTo>
                  <a:lnTo>
                    <a:pt x="1556" y="2802"/>
                  </a:lnTo>
                  <a:lnTo>
                    <a:pt x="1468" y="2944"/>
                  </a:lnTo>
                  <a:lnTo>
                    <a:pt x="1234" y="2974"/>
                  </a:lnTo>
                  <a:lnTo>
                    <a:pt x="1234" y="2830"/>
                  </a:lnTo>
                  <a:lnTo>
                    <a:pt x="1234" y="2830"/>
                  </a:lnTo>
                  <a:lnTo>
                    <a:pt x="1250" y="2818"/>
                  </a:lnTo>
                  <a:lnTo>
                    <a:pt x="1262" y="2806"/>
                  </a:lnTo>
                  <a:lnTo>
                    <a:pt x="1262" y="2806"/>
                  </a:lnTo>
                  <a:lnTo>
                    <a:pt x="1338" y="2784"/>
                  </a:lnTo>
                  <a:lnTo>
                    <a:pt x="1412" y="2760"/>
                  </a:lnTo>
                  <a:lnTo>
                    <a:pt x="1412" y="2760"/>
                  </a:lnTo>
                  <a:lnTo>
                    <a:pt x="1434" y="2764"/>
                  </a:lnTo>
                  <a:lnTo>
                    <a:pt x="1454" y="2768"/>
                  </a:lnTo>
                  <a:lnTo>
                    <a:pt x="1476" y="2768"/>
                  </a:lnTo>
                  <a:lnTo>
                    <a:pt x="1494" y="2768"/>
                  </a:lnTo>
                  <a:lnTo>
                    <a:pt x="1494" y="2768"/>
                  </a:lnTo>
                  <a:lnTo>
                    <a:pt x="1510" y="2778"/>
                  </a:lnTo>
                  <a:lnTo>
                    <a:pt x="1526" y="2786"/>
                  </a:lnTo>
                  <a:lnTo>
                    <a:pt x="1544" y="2792"/>
                  </a:lnTo>
                  <a:lnTo>
                    <a:pt x="1562" y="2794"/>
                  </a:lnTo>
                  <a:lnTo>
                    <a:pt x="1562" y="2794"/>
                  </a:lnTo>
                  <a:close/>
                  <a:moveTo>
                    <a:pt x="1654" y="3252"/>
                  </a:moveTo>
                  <a:lnTo>
                    <a:pt x="1654" y="3252"/>
                  </a:lnTo>
                  <a:lnTo>
                    <a:pt x="1596" y="3388"/>
                  </a:lnTo>
                  <a:lnTo>
                    <a:pt x="1574" y="3432"/>
                  </a:lnTo>
                  <a:lnTo>
                    <a:pt x="1558" y="3462"/>
                  </a:lnTo>
                  <a:lnTo>
                    <a:pt x="1558" y="3462"/>
                  </a:lnTo>
                  <a:lnTo>
                    <a:pt x="1542" y="3462"/>
                  </a:lnTo>
                  <a:lnTo>
                    <a:pt x="1234" y="3462"/>
                  </a:lnTo>
                  <a:lnTo>
                    <a:pt x="1234" y="3246"/>
                  </a:lnTo>
                  <a:lnTo>
                    <a:pt x="1732" y="3182"/>
                  </a:lnTo>
                  <a:lnTo>
                    <a:pt x="1732" y="3182"/>
                  </a:lnTo>
                  <a:lnTo>
                    <a:pt x="1720" y="3188"/>
                  </a:lnTo>
                  <a:lnTo>
                    <a:pt x="1708" y="3192"/>
                  </a:lnTo>
                  <a:lnTo>
                    <a:pt x="1696" y="3200"/>
                  </a:lnTo>
                  <a:lnTo>
                    <a:pt x="1684" y="3208"/>
                  </a:lnTo>
                  <a:lnTo>
                    <a:pt x="1676" y="3218"/>
                  </a:lnTo>
                  <a:lnTo>
                    <a:pt x="1666" y="3228"/>
                  </a:lnTo>
                  <a:lnTo>
                    <a:pt x="1660" y="3240"/>
                  </a:lnTo>
                  <a:lnTo>
                    <a:pt x="1654" y="3252"/>
                  </a:lnTo>
                  <a:lnTo>
                    <a:pt x="1654" y="3252"/>
                  </a:lnTo>
                  <a:close/>
                  <a:moveTo>
                    <a:pt x="756" y="1068"/>
                  </a:moveTo>
                  <a:lnTo>
                    <a:pt x="756" y="766"/>
                  </a:lnTo>
                  <a:lnTo>
                    <a:pt x="756" y="766"/>
                  </a:lnTo>
                  <a:lnTo>
                    <a:pt x="768" y="756"/>
                  </a:lnTo>
                  <a:lnTo>
                    <a:pt x="1028" y="756"/>
                  </a:lnTo>
                  <a:lnTo>
                    <a:pt x="1028" y="1058"/>
                  </a:lnTo>
                  <a:lnTo>
                    <a:pt x="802" y="1058"/>
                  </a:lnTo>
                  <a:lnTo>
                    <a:pt x="802" y="1058"/>
                  </a:lnTo>
                  <a:lnTo>
                    <a:pt x="778" y="1060"/>
                  </a:lnTo>
                  <a:lnTo>
                    <a:pt x="756" y="1068"/>
                  </a:lnTo>
                  <a:lnTo>
                    <a:pt x="756" y="1068"/>
                  </a:lnTo>
                  <a:close/>
                  <a:moveTo>
                    <a:pt x="756" y="1316"/>
                  </a:moveTo>
                  <a:lnTo>
                    <a:pt x="756" y="1316"/>
                  </a:lnTo>
                  <a:lnTo>
                    <a:pt x="768" y="1322"/>
                  </a:lnTo>
                  <a:lnTo>
                    <a:pt x="782" y="1326"/>
                  </a:lnTo>
                  <a:lnTo>
                    <a:pt x="794" y="1328"/>
                  </a:lnTo>
                  <a:lnTo>
                    <a:pt x="808" y="1330"/>
                  </a:lnTo>
                  <a:lnTo>
                    <a:pt x="1028" y="1330"/>
                  </a:lnTo>
                  <a:lnTo>
                    <a:pt x="1028" y="1686"/>
                  </a:lnTo>
                  <a:lnTo>
                    <a:pt x="756" y="1686"/>
                  </a:lnTo>
                  <a:lnTo>
                    <a:pt x="756" y="1316"/>
                  </a:lnTo>
                  <a:close/>
                  <a:moveTo>
                    <a:pt x="968" y="278"/>
                  </a:moveTo>
                  <a:lnTo>
                    <a:pt x="968" y="278"/>
                  </a:lnTo>
                  <a:lnTo>
                    <a:pt x="988" y="298"/>
                  </a:lnTo>
                  <a:lnTo>
                    <a:pt x="1008" y="322"/>
                  </a:lnTo>
                  <a:lnTo>
                    <a:pt x="1026" y="346"/>
                  </a:lnTo>
                  <a:lnTo>
                    <a:pt x="1044" y="372"/>
                  </a:lnTo>
                  <a:lnTo>
                    <a:pt x="1060" y="400"/>
                  </a:lnTo>
                  <a:lnTo>
                    <a:pt x="1076" y="428"/>
                  </a:lnTo>
                  <a:lnTo>
                    <a:pt x="1090" y="456"/>
                  </a:lnTo>
                  <a:lnTo>
                    <a:pt x="1104" y="486"/>
                  </a:lnTo>
                  <a:lnTo>
                    <a:pt x="818" y="486"/>
                  </a:lnTo>
                  <a:lnTo>
                    <a:pt x="818" y="486"/>
                  </a:lnTo>
                  <a:lnTo>
                    <a:pt x="864" y="378"/>
                  </a:lnTo>
                  <a:lnTo>
                    <a:pt x="864" y="378"/>
                  </a:lnTo>
                  <a:lnTo>
                    <a:pt x="886" y="368"/>
                  </a:lnTo>
                  <a:lnTo>
                    <a:pt x="904" y="358"/>
                  </a:lnTo>
                  <a:lnTo>
                    <a:pt x="920" y="346"/>
                  </a:lnTo>
                  <a:lnTo>
                    <a:pt x="934" y="332"/>
                  </a:lnTo>
                  <a:lnTo>
                    <a:pt x="946" y="318"/>
                  </a:lnTo>
                  <a:lnTo>
                    <a:pt x="954" y="304"/>
                  </a:lnTo>
                  <a:lnTo>
                    <a:pt x="962" y="290"/>
                  </a:lnTo>
                  <a:lnTo>
                    <a:pt x="968" y="278"/>
                  </a:lnTo>
                  <a:lnTo>
                    <a:pt x="968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96"/>
            <p:cNvSpPr/>
            <p:nvPr/>
          </p:nvSpPr>
          <p:spPr>
            <a:xfrm>
              <a:off x="3797280" y="17487720"/>
              <a:ext cx="2816280" cy="2400120"/>
            </a:xfrm>
            <a:custGeom>
              <a:avLst/>
              <a:gdLst>
                <a:gd name="textAreaLeft" fmla="*/ 0 w 2816280"/>
                <a:gd name="textAreaRight" fmla="*/ 2816640 w 2816280"/>
                <a:gd name="textAreaTop" fmla="*/ 0 h 2400120"/>
                <a:gd name="textAreaBottom" fmla="*/ 2400480 h 2400120"/>
              </a:gdLst>
              <a:ahLst/>
              <a:rect l="textAreaLeft" t="textAreaTop" r="textAreaRight" b="textAreaBottom"/>
              <a:pathLst>
                <a:path w="1774" h="1512">
                  <a:moveTo>
                    <a:pt x="1774" y="338"/>
                  </a:moveTo>
                  <a:lnTo>
                    <a:pt x="1774" y="338"/>
                  </a:lnTo>
                  <a:lnTo>
                    <a:pt x="1774" y="320"/>
                  </a:lnTo>
                  <a:lnTo>
                    <a:pt x="1770" y="302"/>
                  </a:lnTo>
                  <a:lnTo>
                    <a:pt x="1764" y="282"/>
                  </a:lnTo>
                  <a:lnTo>
                    <a:pt x="1752" y="258"/>
                  </a:lnTo>
                  <a:lnTo>
                    <a:pt x="1732" y="230"/>
                  </a:lnTo>
                  <a:lnTo>
                    <a:pt x="1706" y="200"/>
                  </a:lnTo>
                  <a:lnTo>
                    <a:pt x="1670" y="164"/>
                  </a:lnTo>
                  <a:lnTo>
                    <a:pt x="1624" y="122"/>
                  </a:lnTo>
                  <a:lnTo>
                    <a:pt x="1624" y="122"/>
                  </a:lnTo>
                  <a:lnTo>
                    <a:pt x="1574" y="82"/>
                  </a:lnTo>
                  <a:lnTo>
                    <a:pt x="1532" y="52"/>
                  </a:lnTo>
                  <a:lnTo>
                    <a:pt x="1498" y="30"/>
                  </a:lnTo>
                  <a:lnTo>
                    <a:pt x="1470" y="16"/>
                  </a:lnTo>
                  <a:lnTo>
                    <a:pt x="1446" y="6"/>
                  </a:lnTo>
                  <a:lnTo>
                    <a:pt x="1428" y="2"/>
                  </a:lnTo>
                  <a:lnTo>
                    <a:pt x="1414" y="0"/>
                  </a:lnTo>
                  <a:lnTo>
                    <a:pt x="1404" y="0"/>
                  </a:lnTo>
                  <a:lnTo>
                    <a:pt x="1404" y="0"/>
                  </a:lnTo>
                  <a:lnTo>
                    <a:pt x="1378" y="2"/>
                  </a:lnTo>
                  <a:lnTo>
                    <a:pt x="1356" y="6"/>
                  </a:lnTo>
                  <a:lnTo>
                    <a:pt x="1336" y="14"/>
                  </a:lnTo>
                  <a:lnTo>
                    <a:pt x="1316" y="24"/>
                  </a:lnTo>
                  <a:lnTo>
                    <a:pt x="1298" y="36"/>
                  </a:lnTo>
                  <a:lnTo>
                    <a:pt x="1282" y="48"/>
                  </a:lnTo>
                  <a:lnTo>
                    <a:pt x="1254" y="72"/>
                  </a:lnTo>
                  <a:lnTo>
                    <a:pt x="1246" y="80"/>
                  </a:lnTo>
                  <a:lnTo>
                    <a:pt x="1246" y="80"/>
                  </a:lnTo>
                  <a:lnTo>
                    <a:pt x="1236" y="86"/>
                  </a:lnTo>
                  <a:lnTo>
                    <a:pt x="1234" y="86"/>
                  </a:lnTo>
                  <a:lnTo>
                    <a:pt x="1234" y="86"/>
                  </a:lnTo>
                  <a:lnTo>
                    <a:pt x="1232" y="86"/>
                  </a:lnTo>
                  <a:lnTo>
                    <a:pt x="1232" y="86"/>
                  </a:lnTo>
                  <a:lnTo>
                    <a:pt x="1148" y="94"/>
                  </a:lnTo>
                  <a:lnTo>
                    <a:pt x="1050" y="100"/>
                  </a:lnTo>
                  <a:lnTo>
                    <a:pt x="832" y="112"/>
                  </a:lnTo>
                  <a:lnTo>
                    <a:pt x="628" y="120"/>
                  </a:lnTo>
                  <a:lnTo>
                    <a:pt x="496" y="124"/>
                  </a:lnTo>
                  <a:lnTo>
                    <a:pt x="496" y="124"/>
                  </a:lnTo>
                  <a:lnTo>
                    <a:pt x="492" y="124"/>
                  </a:lnTo>
                  <a:lnTo>
                    <a:pt x="492" y="124"/>
                  </a:lnTo>
                  <a:lnTo>
                    <a:pt x="462" y="102"/>
                  </a:lnTo>
                  <a:lnTo>
                    <a:pt x="430" y="80"/>
                  </a:lnTo>
                  <a:lnTo>
                    <a:pt x="398" y="60"/>
                  </a:lnTo>
                  <a:lnTo>
                    <a:pt x="362" y="42"/>
                  </a:lnTo>
                  <a:lnTo>
                    <a:pt x="328" y="28"/>
                  </a:lnTo>
                  <a:lnTo>
                    <a:pt x="294" y="16"/>
                  </a:lnTo>
                  <a:lnTo>
                    <a:pt x="260" y="8"/>
                  </a:lnTo>
                  <a:lnTo>
                    <a:pt x="244" y="6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192" y="6"/>
                  </a:lnTo>
                  <a:lnTo>
                    <a:pt x="166" y="10"/>
                  </a:lnTo>
                  <a:lnTo>
                    <a:pt x="138" y="16"/>
                  </a:lnTo>
                  <a:lnTo>
                    <a:pt x="108" y="26"/>
                  </a:lnTo>
                  <a:lnTo>
                    <a:pt x="94" y="32"/>
                  </a:lnTo>
                  <a:lnTo>
                    <a:pt x="80" y="40"/>
                  </a:lnTo>
                  <a:lnTo>
                    <a:pt x="64" y="48"/>
                  </a:lnTo>
                  <a:lnTo>
                    <a:pt x="52" y="60"/>
                  </a:lnTo>
                  <a:lnTo>
                    <a:pt x="38" y="72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14" y="104"/>
                  </a:lnTo>
                  <a:lnTo>
                    <a:pt x="4" y="124"/>
                  </a:lnTo>
                  <a:lnTo>
                    <a:pt x="0" y="146"/>
                  </a:lnTo>
                  <a:lnTo>
                    <a:pt x="0" y="166"/>
                  </a:lnTo>
                  <a:lnTo>
                    <a:pt x="2" y="188"/>
                  </a:lnTo>
                  <a:lnTo>
                    <a:pt x="10" y="208"/>
                  </a:lnTo>
                  <a:lnTo>
                    <a:pt x="20" y="228"/>
                  </a:lnTo>
                  <a:lnTo>
                    <a:pt x="34" y="246"/>
                  </a:lnTo>
                  <a:lnTo>
                    <a:pt x="36" y="248"/>
                  </a:lnTo>
                  <a:lnTo>
                    <a:pt x="36" y="248"/>
                  </a:lnTo>
                  <a:lnTo>
                    <a:pt x="46" y="256"/>
                  </a:lnTo>
                  <a:lnTo>
                    <a:pt x="58" y="264"/>
                  </a:lnTo>
                  <a:lnTo>
                    <a:pt x="70" y="270"/>
                  </a:lnTo>
                  <a:lnTo>
                    <a:pt x="84" y="276"/>
                  </a:lnTo>
                  <a:lnTo>
                    <a:pt x="84" y="276"/>
                  </a:lnTo>
                  <a:lnTo>
                    <a:pt x="88" y="282"/>
                  </a:lnTo>
                  <a:lnTo>
                    <a:pt x="96" y="294"/>
                  </a:lnTo>
                  <a:lnTo>
                    <a:pt x="106" y="316"/>
                  </a:lnTo>
                  <a:lnTo>
                    <a:pt x="116" y="346"/>
                  </a:lnTo>
                  <a:lnTo>
                    <a:pt x="116" y="346"/>
                  </a:lnTo>
                  <a:lnTo>
                    <a:pt x="126" y="380"/>
                  </a:lnTo>
                  <a:lnTo>
                    <a:pt x="134" y="414"/>
                  </a:lnTo>
                  <a:lnTo>
                    <a:pt x="144" y="474"/>
                  </a:lnTo>
                  <a:lnTo>
                    <a:pt x="144" y="476"/>
                  </a:lnTo>
                  <a:lnTo>
                    <a:pt x="144" y="476"/>
                  </a:lnTo>
                  <a:lnTo>
                    <a:pt x="154" y="564"/>
                  </a:lnTo>
                  <a:lnTo>
                    <a:pt x="168" y="708"/>
                  </a:lnTo>
                  <a:lnTo>
                    <a:pt x="178" y="872"/>
                  </a:lnTo>
                  <a:lnTo>
                    <a:pt x="180" y="948"/>
                  </a:lnTo>
                  <a:lnTo>
                    <a:pt x="182" y="1018"/>
                  </a:lnTo>
                  <a:lnTo>
                    <a:pt x="182" y="1018"/>
                  </a:lnTo>
                  <a:lnTo>
                    <a:pt x="182" y="1046"/>
                  </a:lnTo>
                  <a:lnTo>
                    <a:pt x="180" y="1068"/>
                  </a:lnTo>
                  <a:lnTo>
                    <a:pt x="180" y="1068"/>
                  </a:lnTo>
                  <a:lnTo>
                    <a:pt x="178" y="1090"/>
                  </a:lnTo>
                  <a:lnTo>
                    <a:pt x="178" y="1090"/>
                  </a:lnTo>
                  <a:lnTo>
                    <a:pt x="170" y="1142"/>
                  </a:lnTo>
                  <a:lnTo>
                    <a:pt x="168" y="1164"/>
                  </a:lnTo>
                  <a:lnTo>
                    <a:pt x="166" y="1182"/>
                  </a:lnTo>
                  <a:lnTo>
                    <a:pt x="166" y="1182"/>
                  </a:lnTo>
                  <a:lnTo>
                    <a:pt x="168" y="1208"/>
                  </a:lnTo>
                  <a:lnTo>
                    <a:pt x="170" y="1234"/>
                  </a:lnTo>
                  <a:lnTo>
                    <a:pt x="176" y="1262"/>
                  </a:lnTo>
                  <a:lnTo>
                    <a:pt x="184" y="1288"/>
                  </a:lnTo>
                  <a:lnTo>
                    <a:pt x="192" y="1314"/>
                  </a:lnTo>
                  <a:lnTo>
                    <a:pt x="204" y="1338"/>
                  </a:lnTo>
                  <a:lnTo>
                    <a:pt x="216" y="1364"/>
                  </a:lnTo>
                  <a:lnTo>
                    <a:pt x="230" y="1386"/>
                  </a:lnTo>
                  <a:lnTo>
                    <a:pt x="230" y="1386"/>
                  </a:lnTo>
                  <a:lnTo>
                    <a:pt x="252" y="1414"/>
                  </a:lnTo>
                  <a:lnTo>
                    <a:pt x="276" y="1440"/>
                  </a:lnTo>
                  <a:lnTo>
                    <a:pt x="300" y="1462"/>
                  </a:lnTo>
                  <a:lnTo>
                    <a:pt x="328" y="1480"/>
                  </a:lnTo>
                  <a:lnTo>
                    <a:pt x="356" y="1494"/>
                  </a:lnTo>
                  <a:lnTo>
                    <a:pt x="386" y="1504"/>
                  </a:lnTo>
                  <a:lnTo>
                    <a:pt x="418" y="1510"/>
                  </a:lnTo>
                  <a:lnTo>
                    <a:pt x="450" y="1512"/>
                  </a:lnTo>
                  <a:lnTo>
                    <a:pt x="450" y="1512"/>
                  </a:lnTo>
                  <a:lnTo>
                    <a:pt x="478" y="1510"/>
                  </a:lnTo>
                  <a:lnTo>
                    <a:pt x="504" y="1506"/>
                  </a:lnTo>
                  <a:lnTo>
                    <a:pt x="528" y="1500"/>
                  </a:lnTo>
                  <a:lnTo>
                    <a:pt x="550" y="1490"/>
                  </a:lnTo>
                  <a:lnTo>
                    <a:pt x="570" y="1478"/>
                  </a:lnTo>
                  <a:lnTo>
                    <a:pt x="588" y="1464"/>
                  </a:lnTo>
                  <a:lnTo>
                    <a:pt x="604" y="1446"/>
                  </a:lnTo>
                  <a:lnTo>
                    <a:pt x="618" y="1426"/>
                  </a:lnTo>
                  <a:lnTo>
                    <a:pt x="618" y="1426"/>
                  </a:lnTo>
                  <a:lnTo>
                    <a:pt x="626" y="1408"/>
                  </a:lnTo>
                  <a:lnTo>
                    <a:pt x="634" y="1390"/>
                  </a:lnTo>
                  <a:lnTo>
                    <a:pt x="640" y="1370"/>
                  </a:lnTo>
                  <a:lnTo>
                    <a:pt x="646" y="1346"/>
                  </a:lnTo>
                  <a:lnTo>
                    <a:pt x="646" y="1346"/>
                  </a:lnTo>
                  <a:lnTo>
                    <a:pt x="840" y="1340"/>
                  </a:lnTo>
                  <a:lnTo>
                    <a:pt x="1038" y="1338"/>
                  </a:lnTo>
                  <a:lnTo>
                    <a:pt x="1038" y="1338"/>
                  </a:lnTo>
                  <a:lnTo>
                    <a:pt x="1150" y="1338"/>
                  </a:lnTo>
                  <a:lnTo>
                    <a:pt x="1234" y="1342"/>
                  </a:lnTo>
                  <a:lnTo>
                    <a:pt x="1234" y="1342"/>
                  </a:lnTo>
                  <a:lnTo>
                    <a:pt x="1278" y="1348"/>
                  </a:lnTo>
                  <a:lnTo>
                    <a:pt x="1326" y="1358"/>
                  </a:lnTo>
                  <a:lnTo>
                    <a:pt x="1326" y="1358"/>
                  </a:lnTo>
                  <a:lnTo>
                    <a:pt x="1372" y="1366"/>
                  </a:lnTo>
                  <a:lnTo>
                    <a:pt x="1420" y="1372"/>
                  </a:lnTo>
                  <a:lnTo>
                    <a:pt x="1466" y="1378"/>
                  </a:lnTo>
                  <a:lnTo>
                    <a:pt x="1510" y="1380"/>
                  </a:lnTo>
                  <a:lnTo>
                    <a:pt x="1510" y="1380"/>
                  </a:lnTo>
                  <a:lnTo>
                    <a:pt x="1540" y="1378"/>
                  </a:lnTo>
                  <a:lnTo>
                    <a:pt x="1566" y="1376"/>
                  </a:lnTo>
                  <a:lnTo>
                    <a:pt x="1590" y="1370"/>
                  </a:lnTo>
                  <a:lnTo>
                    <a:pt x="1610" y="1362"/>
                  </a:lnTo>
                  <a:lnTo>
                    <a:pt x="1630" y="1354"/>
                  </a:lnTo>
                  <a:lnTo>
                    <a:pt x="1648" y="1342"/>
                  </a:lnTo>
                  <a:lnTo>
                    <a:pt x="1664" y="1330"/>
                  </a:lnTo>
                  <a:lnTo>
                    <a:pt x="1678" y="1318"/>
                  </a:lnTo>
                  <a:lnTo>
                    <a:pt x="1688" y="1304"/>
                  </a:lnTo>
                  <a:lnTo>
                    <a:pt x="1698" y="1288"/>
                  </a:lnTo>
                  <a:lnTo>
                    <a:pt x="1708" y="1272"/>
                  </a:lnTo>
                  <a:lnTo>
                    <a:pt x="1714" y="1254"/>
                  </a:lnTo>
                  <a:lnTo>
                    <a:pt x="1718" y="1238"/>
                  </a:lnTo>
                  <a:lnTo>
                    <a:pt x="1722" y="1220"/>
                  </a:lnTo>
                  <a:lnTo>
                    <a:pt x="1724" y="1202"/>
                  </a:lnTo>
                  <a:lnTo>
                    <a:pt x="1724" y="1184"/>
                  </a:lnTo>
                  <a:lnTo>
                    <a:pt x="1724" y="1184"/>
                  </a:lnTo>
                  <a:lnTo>
                    <a:pt x="1724" y="1168"/>
                  </a:lnTo>
                  <a:lnTo>
                    <a:pt x="1722" y="1150"/>
                  </a:lnTo>
                  <a:lnTo>
                    <a:pt x="1716" y="1120"/>
                  </a:lnTo>
                  <a:lnTo>
                    <a:pt x="1706" y="1090"/>
                  </a:lnTo>
                  <a:lnTo>
                    <a:pt x="1692" y="1066"/>
                  </a:lnTo>
                  <a:lnTo>
                    <a:pt x="1676" y="1042"/>
                  </a:lnTo>
                  <a:lnTo>
                    <a:pt x="1658" y="1022"/>
                  </a:lnTo>
                  <a:lnTo>
                    <a:pt x="1638" y="1004"/>
                  </a:lnTo>
                  <a:lnTo>
                    <a:pt x="1616" y="986"/>
                  </a:lnTo>
                  <a:lnTo>
                    <a:pt x="1616" y="986"/>
                  </a:lnTo>
                  <a:lnTo>
                    <a:pt x="1638" y="856"/>
                  </a:lnTo>
                  <a:lnTo>
                    <a:pt x="1660" y="718"/>
                  </a:lnTo>
                  <a:lnTo>
                    <a:pt x="1676" y="588"/>
                  </a:lnTo>
                  <a:lnTo>
                    <a:pt x="1690" y="480"/>
                  </a:lnTo>
                  <a:lnTo>
                    <a:pt x="1690" y="480"/>
                  </a:lnTo>
                  <a:lnTo>
                    <a:pt x="1706" y="468"/>
                  </a:lnTo>
                  <a:lnTo>
                    <a:pt x="1722" y="454"/>
                  </a:lnTo>
                  <a:lnTo>
                    <a:pt x="1738" y="438"/>
                  </a:lnTo>
                  <a:lnTo>
                    <a:pt x="1750" y="420"/>
                  </a:lnTo>
                  <a:lnTo>
                    <a:pt x="1760" y="402"/>
                  </a:lnTo>
                  <a:lnTo>
                    <a:pt x="1768" y="380"/>
                  </a:lnTo>
                  <a:lnTo>
                    <a:pt x="1774" y="360"/>
                  </a:lnTo>
                  <a:lnTo>
                    <a:pt x="1774" y="338"/>
                  </a:lnTo>
                  <a:lnTo>
                    <a:pt x="1774" y="338"/>
                  </a:lnTo>
                  <a:close/>
                  <a:moveTo>
                    <a:pt x="680" y="512"/>
                  </a:moveTo>
                  <a:lnTo>
                    <a:pt x="680" y="512"/>
                  </a:lnTo>
                  <a:lnTo>
                    <a:pt x="710" y="504"/>
                  </a:lnTo>
                  <a:lnTo>
                    <a:pt x="710" y="504"/>
                  </a:lnTo>
                  <a:lnTo>
                    <a:pt x="710" y="504"/>
                  </a:lnTo>
                  <a:lnTo>
                    <a:pt x="750" y="498"/>
                  </a:lnTo>
                  <a:lnTo>
                    <a:pt x="800" y="490"/>
                  </a:lnTo>
                  <a:lnTo>
                    <a:pt x="916" y="478"/>
                  </a:lnTo>
                  <a:lnTo>
                    <a:pt x="1046" y="466"/>
                  </a:lnTo>
                  <a:lnTo>
                    <a:pt x="1174" y="456"/>
                  </a:lnTo>
                  <a:lnTo>
                    <a:pt x="1174" y="456"/>
                  </a:lnTo>
                  <a:lnTo>
                    <a:pt x="1164" y="688"/>
                  </a:lnTo>
                  <a:lnTo>
                    <a:pt x="1156" y="816"/>
                  </a:lnTo>
                  <a:lnTo>
                    <a:pt x="1148" y="938"/>
                  </a:lnTo>
                  <a:lnTo>
                    <a:pt x="1148" y="938"/>
                  </a:lnTo>
                  <a:lnTo>
                    <a:pt x="1092" y="944"/>
                  </a:lnTo>
                  <a:lnTo>
                    <a:pt x="1092" y="944"/>
                  </a:lnTo>
                  <a:lnTo>
                    <a:pt x="930" y="954"/>
                  </a:lnTo>
                  <a:lnTo>
                    <a:pt x="710" y="964"/>
                  </a:lnTo>
                  <a:lnTo>
                    <a:pt x="710" y="964"/>
                  </a:lnTo>
                  <a:lnTo>
                    <a:pt x="642" y="968"/>
                  </a:lnTo>
                  <a:lnTo>
                    <a:pt x="642" y="968"/>
                  </a:lnTo>
                  <a:lnTo>
                    <a:pt x="624" y="682"/>
                  </a:lnTo>
                  <a:lnTo>
                    <a:pt x="616" y="526"/>
                  </a:lnTo>
                  <a:lnTo>
                    <a:pt x="616" y="526"/>
                  </a:lnTo>
                  <a:lnTo>
                    <a:pt x="650" y="520"/>
                  </a:lnTo>
                  <a:lnTo>
                    <a:pt x="680" y="512"/>
                  </a:lnTo>
                  <a:lnTo>
                    <a:pt x="680" y="5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97"/>
            <p:cNvSpPr/>
            <p:nvPr/>
          </p:nvSpPr>
          <p:spPr>
            <a:xfrm>
              <a:off x="4587840" y="20135880"/>
              <a:ext cx="1155600" cy="301932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019320"/>
                <a:gd name="textAreaBottom" fmla="*/ 3019680 h 3019320"/>
              </a:gdLst>
              <a:ahLst/>
              <a:rect l="textAreaLeft" t="textAreaTop" r="textAreaRight" b="textAreaBottom"/>
              <a:pathLst>
                <a:path w="728" h="1902">
                  <a:moveTo>
                    <a:pt x="168" y="1538"/>
                  </a:moveTo>
                  <a:lnTo>
                    <a:pt x="168" y="1538"/>
                  </a:lnTo>
                  <a:lnTo>
                    <a:pt x="176" y="1594"/>
                  </a:lnTo>
                  <a:lnTo>
                    <a:pt x="186" y="1646"/>
                  </a:lnTo>
                  <a:lnTo>
                    <a:pt x="198" y="1690"/>
                  </a:lnTo>
                  <a:lnTo>
                    <a:pt x="212" y="1730"/>
                  </a:lnTo>
                  <a:lnTo>
                    <a:pt x="228" y="1764"/>
                  </a:lnTo>
                  <a:lnTo>
                    <a:pt x="244" y="1792"/>
                  </a:lnTo>
                  <a:lnTo>
                    <a:pt x="262" y="1818"/>
                  </a:lnTo>
                  <a:lnTo>
                    <a:pt x="280" y="1840"/>
                  </a:lnTo>
                  <a:lnTo>
                    <a:pt x="298" y="1856"/>
                  </a:lnTo>
                  <a:lnTo>
                    <a:pt x="318" y="1872"/>
                  </a:lnTo>
                  <a:lnTo>
                    <a:pt x="336" y="1882"/>
                  </a:lnTo>
                  <a:lnTo>
                    <a:pt x="354" y="1890"/>
                  </a:lnTo>
                  <a:lnTo>
                    <a:pt x="372" y="1896"/>
                  </a:lnTo>
                  <a:lnTo>
                    <a:pt x="390" y="1900"/>
                  </a:lnTo>
                  <a:lnTo>
                    <a:pt x="406" y="1902"/>
                  </a:lnTo>
                  <a:lnTo>
                    <a:pt x="420" y="1902"/>
                  </a:lnTo>
                  <a:lnTo>
                    <a:pt x="422" y="1902"/>
                  </a:lnTo>
                  <a:lnTo>
                    <a:pt x="422" y="1902"/>
                  </a:lnTo>
                  <a:lnTo>
                    <a:pt x="448" y="1902"/>
                  </a:lnTo>
                  <a:lnTo>
                    <a:pt x="472" y="1896"/>
                  </a:lnTo>
                  <a:lnTo>
                    <a:pt x="496" y="1890"/>
                  </a:lnTo>
                  <a:lnTo>
                    <a:pt x="518" y="1878"/>
                  </a:lnTo>
                  <a:lnTo>
                    <a:pt x="538" y="1866"/>
                  </a:lnTo>
                  <a:lnTo>
                    <a:pt x="558" y="1850"/>
                  </a:lnTo>
                  <a:lnTo>
                    <a:pt x="576" y="1832"/>
                  </a:lnTo>
                  <a:lnTo>
                    <a:pt x="592" y="1812"/>
                  </a:lnTo>
                  <a:lnTo>
                    <a:pt x="606" y="1788"/>
                  </a:lnTo>
                  <a:lnTo>
                    <a:pt x="618" y="1764"/>
                  </a:lnTo>
                  <a:lnTo>
                    <a:pt x="630" y="1736"/>
                  </a:lnTo>
                  <a:lnTo>
                    <a:pt x="640" y="1706"/>
                  </a:lnTo>
                  <a:lnTo>
                    <a:pt x="646" y="1676"/>
                  </a:lnTo>
                  <a:lnTo>
                    <a:pt x="652" y="1642"/>
                  </a:lnTo>
                  <a:lnTo>
                    <a:pt x="654" y="1608"/>
                  </a:lnTo>
                  <a:lnTo>
                    <a:pt x="656" y="1572"/>
                  </a:lnTo>
                  <a:lnTo>
                    <a:pt x="656" y="1572"/>
                  </a:lnTo>
                  <a:lnTo>
                    <a:pt x="656" y="1162"/>
                  </a:lnTo>
                  <a:lnTo>
                    <a:pt x="658" y="986"/>
                  </a:lnTo>
                  <a:lnTo>
                    <a:pt x="662" y="830"/>
                  </a:lnTo>
                  <a:lnTo>
                    <a:pt x="662" y="830"/>
                  </a:lnTo>
                  <a:lnTo>
                    <a:pt x="664" y="740"/>
                  </a:lnTo>
                  <a:lnTo>
                    <a:pt x="668" y="668"/>
                  </a:lnTo>
                  <a:lnTo>
                    <a:pt x="674" y="610"/>
                  </a:lnTo>
                  <a:lnTo>
                    <a:pt x="678" y="568"/>
                  </a:lnTo>
                  <a:lnTo>
                    <a:pt x="682" y="536"/>
                  </a:lnTo>
                  <a:lnTo>
                    <a:pt x="686" y="514"/>
                  </a:lnTo>
                  <a:lnTo>
                    <a:pt x="692" y="494"/>
                  </a:lnTo>
                  <a:lnTo>
                    <a:pt x="692" y="494"/>
                  </a:lnTo>
                  <a:lnTo>
                    <a:pt x="696" y="486"/>
                  </a:lnTo>
                  <a:lnTo>
                    <a:pt x="696" y="486"/>
                  </a:lnTo>
                  <a:lnTo>
                    <a:pt x="706" y="460"/>
                  </a:lnTo>
                  <a:lnTo>
                    <a:pt x="718" y="430"/>
                  </a:lnTo>
                  <a:lnTo>
                    <a:pt x="722" y="412"/>
                  </a:lnTo>
                  <a:lnTo>
                    <a:pt x="724" y="394"/>
                  </a:lnTo>
                  <a:lnTo>
                    <a:pt x="726" y="372"/>
                  </a:lnTo>
                  <a:lnTo>
                    <a:pt x="728" y="348"/>
                  </a:lnTo>
                  <a:lnTo>
                    <a:pt x="728" y="348"/>
                  </a:lnTo>
                  <a:lnTo>
                    <a:pt x="726" y="328"/>
                  </a:lnTo>
                  <a:lnTo>
                    <a:pt x="724" y="310"/>
                  </a:lnTo>
                  <a:lnTo>
                    <a:pt x="720" y="290"/>
                  </a:lnTo>
                  <a:lnTo>
                    <a:pt x="714" y="272"/>
                  </a:lnTo>
                  <a:lnTo>
                    <a:pt x="706" y="254"/>
                  </a:lnTo>
                  <a:lnTo>
                    <a:pt x="698" y="236"/>
                  </a:lnTo>
                  <a:lnTo>
                    <a:pt x="688" y="220"/>
                  </a:lnTo>
                  <a:lnTo>
                    <a:pt x="678" y="204"/>
                  </a:lnTo>
                  <a:lnTo>
                    <a:pt x="652" y="172"/>
                  </a:lnTo>
                  <a:lnTo>
                    <a:pt x="624" y="144"/>
                  </a:lnTo>
                  <a:lnTo>
                    <a:pt x="592" y="118"/>
                  </a:lnTo>
                  <a:lnTo>
                    <a:pt x="558" y="94"/>
                  </a:lnTo>
                  <a:lnTo>
                    <a:pt x="520" y="72"/>
                  </a:lnTo>
                  <a:lnTo>
                    <a:pt x="482" y="54"/>
                  </a:lnTo>
                  <a:lnTo>
                    <a:pt x="444" y="38"/>
                  </a:lnTo>
                  <a:lnTo>
                    <a:pt x="406" y="24"/>
                  </a:lnTo>
                  <a:lnTo>
                    <a:pt x="368" y="14"/>
                  </a:lnTo>
                  <a:lnTo>
                    <a:pt x="332" y="6"/>
                  </a:lnTo>
                  <a:lnTo>
                    <a:pt x="298" y="2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28" y="2"/>
                  </a:lnTo>
                  <a:lnTo>
                    <a:pt x="192" y="8"/>
                  </a:lnTo>
                  <a:lnTo>
                    <a:pt x="158" y="20"/>
                  </a:lnTo>
                  <a:lnTo>
                    <a:pt x="126" y="34"/>
                  </a:lnTo>
                  <a:lnTo>
                    <a:pt x="96" y="54"/>
                  </a:lnTo>
                  <a:lnTo>
                    <a:pt x="68" y="76"/>
                  </a:lnTo>
                  <a:lnTo>
                    <a:pt x="42" y="102"/>
                  </a:lnTo>
                  <a:lnTo>
                    <a:pt x="20" y="132"/>
                  </a:lnTo>
                  <a:lnTo>
                    <a:pt x="20" y="132"/>
                  </a:lnTo>
                  <a:lnTo>
                    <a:pt x="12" y="144"/>
                  </a:lnTo>
                  <a:lnTo>
                    <a:pt x="8" y="154"/>
                  </a:lnTo>
                  <a:lnTo>
                    <a:pt x="4" y="166"/>
                  </a:lnTo>
                  <a:lnTo>
                    <a:pt x="0" y="178"/>
                  </a:lnTo>
                  <a:lnTo>
                    <a:pt x="0" y="190"/>
                  </a:lnTo>
                  <a:lnTo>
                    <a:pt x="0" y="204"/>
                  </a:lnTo>
                  <a:lnTo>
                    <a:pt x="0" y="216"/>
                  </a:lnTo>
                  <a:lnTo>
                    <a:pt x="2" y="228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12" y="256"/>
                  </a:lnTo>
                  <a:lnTo>
                    <a:pt x="22" y="274"/>
                  </a:lnTo>
                  <a:lnTo>
                    <a:pt x="34" y="290"/>
                  </a:lnTo>
                  <a:lnTo>
                    <a:pt x="50" y="304"/>
                  </a:lnTo>
                  <a:lnTo>
                    <a:pt x="68" y="314"/>
                  </a:lnTo>
                  <a:lnTo>
                    <a:pt x="86" y="322"/>
                  </a:lnTo>
                  <a:lnTo>
                    <a:pt x="106" y="326"/>
                  </a:lnTo>
                  <a:lnTo>
                    <a:pt x="128" y="326"/>
                  </a:lnTo>
                  <a:lnTo>
                    <a:pt x="128" y="326"/>
                  </a:lnTo>
                  <a:lnTo>
                    <a:pt x="134" y="326"/>
                  </a:lnTo>
                  <a:lnTo>
                    <a:pt x="134" y="326"/>
                  </a:lnTo>
                  <a:lnTo>
                    <a:pt x="150" y="328"/>
                  </a:lnTo>
                  <a:lnTo>
                    <a:pt x="160" y="332"/>
                  </a:lnTo>
                  <a:lnTo>
                    <a:pt x="160" y="332"/>
                  </a:lnTo>
                  <a:lnTo>
                    <a:pt x="164" y="354"/>
                  </a:lnTo>
                  <a:lnTo>
                    <a:pt x="170" y="384"/>
                  </a:lnTo>
                  <a:lnTo>
                    <a:pt x="174" y="420"/>
                  </a:lnTo>
                  <a:lnTo>
                    <a:pt x="176" y="460"/>
                  </a:lnTo>
                  <a:lnTo>
                    <a:pt x="176" y="460"/>
                  </a:lnTo>
                  <a:lnTo>
                    <a:pt x="180" y="724"/>
                  </a:lnTo>
                  <a:lnTo>
                    <a:pt x="180" y="966"/>
                  </a:lnTo>
                  <a:lnTo>
                    <a:pt x="180" y="966"/>
                  </a:lnTo>
                  <a:lnTo>
                    <a:pt x="178" y="1154"/>
                  </a:lnTo>
                  <a:lnTo>
                    <a:pt x="176" y="1314"/>
                  </a:lnTo>
                  <a:lnTo>
                    <a:pt x="174" y="1432"/>
                  </a:lnTo>
                  <a:lnTo>
                    <a:pt x="170" y="1494"/>
                  </a:lnTo>
                  <a:lnTo>
                    <a:pt x="170" y="1494"/>
                  </a:lnTo>
                  <a:lnTo>
                    <a:pt x="166" y="1516"/>
                  </a:lnTo>
                  <a:lnTo>
                    <a:pt x="168" y="1538"/>
                  </a:lnTo>
                  <a:lnTo>
                    <a:pt x="168" y="15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98"/>
            <p:cNvSpPr/>
            <p:nvPr/>
          </p:nvSpPr>
          <p:spPr>
            <a:xfrm>
              <a:off x="3965400" y="23682240"/>
              <a:ext cx="2762280" cy="2387520"/>
            </a:xfrm>
            <a:custGeom>
              <a:avLst/>
              <a:gdLst>
                <a:gd name="textAreaLeft" fmla="*/ 0 w 2762280"/>
                <a:gd name="textAreaRight" fmla="*/ 2762640 w 2762280"/>
                <a:gd name="textAreaTop" fmla="*/ 0 h 2387520"/>
                <a:gd name="textAreaBottom" fmla="*/ 2387880 h 2387520"/>
              </a:gdLst>
              <a:ahLst/>
              <a:rect l="textAreaLeft" t="textAreaTop" r="textAreaRight" b="textAreaBottom"/>
              <a:pathLst>
                <a:path w="1740" h="1504">
                  <a:moveTo>
                    <a:pt x="422" y="1504"/>
                  </a:moveTo>
                  <a:lnTo>
                    <a:pt x="422" y="1504"/>
                  </a:lnTo>
                  <a:lnTo>
                    <a:pt x="452" y="1502"/>
                  </a:lnTo>
                  <a:lnTo>
                    <a:pt x="476" y="1496"/>
                  </a:lnTo>
                  <a:lnTo>
                    <a:pt x="498" y="1486"/>
                  </a:lnTo>
                  <a:lnTo>
                    <a:pt x="518" y="1476"/>
                  </a:lnTo>
                  <a:lnTo>
                    <a:pt x="534" y="1464"/>
                  </a:lnTo>
                  <a:lnTo>
                    <a:pt x="548" y="1450"/>
                  </a:lnTo>
                  <a:lnTo>
                    <a:pt x="568" y="1428"/>
                  </a:lnTo>
                  <a:lnTo>
                    <a:pt x="568" y="1428"/>
                  </a:lnTo>
                  <a:lnTo>
                    <a:pt x="576" y="1418"/>
                  </a:lnTo>
                  <a:lnTo>
                    <a:pt x="586" y="1408"/>
                  </a:lnTo>
                  <a:lnTo>
                    <a:pt x="598" y="1398"/>
                  </a:lnTo>
                  <a:lnTo>
                    <a:pt x="614" y="1388"/>
                  </a:lnTo>
                  <a:lnTo>
                    <a:pt x="614" y="1388"/>
                  </a:lnTo>
                  <a:lnTo>
                    <a:pt x="714" y="1332"/>
                  </a:lnTo>
                  <a:lnTo>
                    <a:pt x="808" y="1274"/>
                  </a:lnTo>
                  <a:lnTo>
                    <a:pt x="896" y="1218"/>
                  </a:lnTo>
                  <a:lnTo>
                    <a:pt x="978" y="1160"/>
                  </a:lnTo>
                  <a:lnTo>
                    <a:pt x="1056" y="1102"/>
                  </a:lnTo>
                  <a:lnTo>
                    <a:pt x="1130" y="1042"/>
                  </a:lnTo>
                  <a:lnTo>
                    <a:pt x="1198" y="980"/>
                  </a:lnTo>
                  <a:lnTo>
                    <a:pt x="1262" y="918"/>
                  </a:lnTo>
                  <a:lnTo>
                    <a:pt x="1262" y="918"/>
                  </a:lnTo>
                  <a:lnTo>
                    <a:pt x="1300" y="878"/>
                  </a:lnTo>
                  <a:lnTo>
                    <a:pt x="1336" y="840"/>
                  </a:lnTo>
                  <a:lnTo>
                    <a:pt x="1372" y="798"/>
                  </a:lnTo>
                  <a:lnTo>
                    <a:pt x="1406" y="758"/>
                  </a:lnTo>
                  <a:lnTo>
                    <a:pt x="1438" y="714"/>
                  </a:lnTo>
                  <a:lnTo>
                    <a:pt x="1470" y="672"/>
                  </a:lnTo>
                  <a:lnTo>
                    <a:pt x="1500" y="626"/>
                  </a:lnTo>
                  <a:lnTo>
                    <a:pt x="1530" y="582"/>
                  </a:lnTo>
                  <a:lnTo>
                    <a:pt x="1558" y="534"/>
                  </a:lnTo>
                  <a:lnTo>
                    <a:pt x="1586" y="488"/>
                  </a:lnTo>
                  <a:lnTo>
                    <a:pt x="1614" y="438"/>
                  </a:lnTo>
                  <a:lnTo>
                    <a:pt x="1638" y="388"/>
                  </a:lnTo>
                  <a:lnTo>
                    <a:pt x="1664" y="338"/>
                  </a:lnTo>
                  <a:lnTo>
                    <a:pt x="1688" y="286"/>
                  </a:lnTo>
                  <a:lnTo>
                    <a:pt x="1710" y="232"/>
                  </a:lnTo>
                  <a:lnTo>
                    <a:pt x="1732" y="178"/>
                  </a:lnTo>
                  <a:lnTo>
                    <a:pt x="1732" y="178"/>
                  </a:lnTo>
                  <a:lnTo>
                    <a:pt x="1738" y="156"/>
                  </a:lnTo>
                  <a:lnTo>
                    <a:pt x="1740" y="136"/>
                  </a:lnTo>
                  <a:lnTo>
                    <a:pt x="1738" y="114"/>
                  </a:lnTo>
                  <a:lnTo>
                    <a:pt x="1732" y="94"/>
                  </a:lnTo>
                  <a:lnTo>
                    <a:pt x="1724" y="74"/>
                  </a:lnTo>
                  <a:lnTo>
                    <a:pt x="1710" y="56"/>
                  </a:lnTo>
                  <a:lnTo>
                    <a:pt x="1696" y="42"/>
                  </a:lnTo>
                  <a:lnTo>
                    <a:pt x="1676" y="30"/>
                  </a:lnTo>
                  <a:lnTo>
                    <a:pt x="1648" y="14"/>
                  </a:lnTo>
                  <a:lnTo>
                    <a:pt x="1648" y="14"/>
                  </a:lnTo>
                  <a:lnTo>
                    <a:pt x="1626" y="4"/>
                  </a:lnTo>
                  <a:lnTo>
                    <a:pt x="1604" y="0"/>
                  </a:lnTo>
                  <a:lnTo>
                    <a:pt x="1582" y="0"/>
                  </a:lnTo>
                  <a:lnTo>
                    <a:pt x="1560" y="4"/>
                  </a:lnTo>
                  <a:lnTo>
                    <a:pt x="1540" y="12"/>
                  </a:lnTo>
                  <a:lnTo>
                    <a:pt x="1520" y="22"/>
                  </a:lnTo>
                  <a:lnTo>
                    <a:pt x="1504" y="38"/>
                  </a:lnTo>
                  <a:lnTo>
                    <a:pt x="1490" y="56"/>
                  </a:lnTo>
                  <a:lnTo>
                    <a:pt x="1490" y="56"/>
                  </a:lnTo>
                  <a:lnTo>
                    <a:pt x="1462" y="98"/>
                  </a:lnTo>
                  <a:lnTo>
                    <a:pt x="1432" y="142"/>
                  </a:lnTo>
                  <a:lnTo>
                    <a:pt x="1400" y="184"/>
                  </a:lnTo>
                  <a:lnTo>
                    <a:pt x="1368" y="226"/>
                  </a:lnTo>
                  <a:lnTo>
                    <a:pt x="1332" y="268"/>
                  </a:lnTo>
                  <a:lnTo>
                    <a:pt x="1294" y="310"/>
                  </a:lnTo>
                  <a:lnTo>
                    <a:pt x="1256" y="352"/>
                  </a:lnTo>
                  <a:lnTo>
                    <a:pt x="1216" y="394"/>
                  </a:lnTo>
                  <a:lnTo>
                    <a:pt x="1172" y="436"/>
                  </a:lnTo>
                  <a:lnTo>
                    <a:pt x="1130" y="476"/>
                  </a:lnTo>
                  <a:lnTo>
                    <a:pt x="1084" y="516"/>
                  </a:lnTo>
                  <a:lnTo>
                    <a:pt x="1038" y="556"/>
                  </a:lnTo>
                  <a:lnTo>
                    <a:pt x="990" y="594"/>
                  </a:lnTo>
                  <a:lnTo>
                    <a:pt x="940" y="632"/>
                  </a:lnTo>
                  <a:lnTo>
                    <a:pt x="890" y="670"/>
                  </a:lnTo>
                  <a:lnTo>
                    <a:pt x="838" y="706"/>
                  </a:lnTo>
                  <a:lnTo>
                    <a:pt x="838" y="706"/>
                  </a:lnTo>
                  <a:lnTo>
                    <a:pt x="748" y="766"/>
                  </a:lnTo>
                  <a:lnTo>
                    <a:pt x="662" y="816"/>
                  </a:lnTo>
                  <a:lnTo>
                    <a:pt x="586" y="860"/>
                  </a:lnTo>
                  <a:lnTo>
                    <a:pt x="518" y="894"/>
                  </a:lnTo>
                  <a:lnTo>
                    <a:pt x="458" y="922"/>
                  </a:lnTo>
                  <a:lnTo>
                    <a:pt x="410" y="940"/>
                  </a:lnTo>
                  <a:lnTo>
                    <a:pt x="374" y="952"/>
                  </a:lnTo>
                  <a:lnTo>
                    <a:pt x="350" y="956"/>
                  </a:lnTo>
                  <a:lnTo>
                    <a:pt x="350" y="956"/>
                  </a:lnTo>
                  <a:lnTo>
                    <a:pt x="336" y="956"/>
                  </a:lnTo>
                  <a:lnTo>
                    <a:pt x="328" y="954"/>
                  </a:lnTo>
                  <a:lnTo>
                    <a:pt x="320" y="952"/>
                  </a:lnTo>
                  <a:lnTo>
                    <a:pt x="312" y="948"/>
                  </a:lnTo>
                  <a:lnTo>
                    <a:pt x="304" y="940"/>
                  </a:lnTo>
                  <a:lnTo>
                    <a:pt x="298" y="932"/>
                  </a:lnTo>
                  <a:lnTo>
                    <a:pt x="294" y="918"/>
                  </a:lnTo>
                  <a:lnTo>
                    <a:pt x="294" y="918"/>
                  </a:lnTo>
                  <a:lnTo>
                    <a:pt x="290" y="904"/>
                  </a:lnTo>
                  <a:lnTo>
                    <a:pt x="284" y="890"/>
                  </a:lnTo>
                  <a:lnTo>
                    <a:pt x="278" y="878"/>
                  </a:lnTo>
                  <a:lnTo>
                    <a:pt x="268" y="866"/>
                  </a:lnTo>
                  <a:lnTo>
                    <a:pt x="258" y="854"/>
                  </a:lnTo>
                  <a:lnTo>
                    <a:pt x="246" y="844"/>
                  </a:lnTo>
                  <a:lnTo>
                    <a:pt x="234" y="836"/>
                  </a:lnTo>
                  <a:lnTo>
                    <a:pt x="220" y="830"/>
                  </a:lnTo>
                  <a:lnTo>
                    <a:pt x="220" y="830"/>
                  </a:lnTo>
                  <a:lnTo>
                    <a:pt x="206" y="826"/>
                  </a:lnTo>
                  <a:lnTo>
                    <a:pt x="190" y="824"/>
                  </a:lnTo>
                  <a:lnTo>
                    <a:pt x="176" y="822"/>
                  </a:lnTo>
                  <a:lnTo>
                    <a:pt x="162" y="824"/>
                  </a:lnTo>
                  <a:lnTo>
                    <a:pt x="146" y="826"/>
                  </a:lnTo>
                  <a:lnTo>
                    <a:pt x="132" y="830"/>
                  </a:lnTo>
                  <a:lnTo>
                    <a:pt x="118" y="838"/>
                  </a:lnTo>
                  <a:lnTo>
                    <a:pt x="106" y="846"/>
                  </a:lnTo>
                  <a:lnTo>
                    <a:pt x="106" y="846"/>
                  </a:lnTo>
                  <a:lnTo>
                    <a:pt x="88" y="860"/>
                  </a:lnTo>
                  <a:lnTo>
                    <a:pt x="70" y="878"/>
                  </a:lnTo>
                  <a:lnTo>
                    <a:pt x="52" y="900"/>
                  </a:lnTo>
                  <a:lnTo>
                    <a:pt x="36" y="926"/>
                  </a:lnTo>
                  <a:lnTo>
                    <a:pt x="22" y="956"/>
                  </a:lnTo>
                  <a:lnTo>
                    <a:pt x="16" y="972"/>
                  </a:lnTo>
                  <a:lnTo>
                    <a:pt x="10" y="990"/>
                  </a:lnTo>
                  <a:lnTo>
                    <a:pt x="6" y="1010"/>
                  </a:lnTo>
                  <a:lnTo>
                    <a:pt x="4" y="1030"/>
                  </a:lnTo>
                  <a:lnTo>
                    <a:pt x="2" y="1052"/>
                  </a:lnTo>
                  <a:lnTo>
                    <a:pt x="0" y="1074"/>
                  </a:lnTo>
                  <a:lnTo>
                    <a:pt x="0" y="1074"/>
                  </a:lnTo>
                  <a:lnTo>
                    <a:pt x="2" y="1092"/>
                  </a:lnTo>
                  <a:lnTo>
                    <a:pt x="4" y="1108"/>
                  </a:lnTo>
                  <a:lnTo>
                    <a:pt x="10" y="1142"/>
                  </a:lnTo>
                  <a:lnTo>
                    <a:pt x="22" y="1178"/>
                  </a:lnTo>
                  <a:lnTo>
                    <a:pt x="40" y="1214"/>
                  </a:lnTo>
                  <a:lnTo>
                    <a:pt x="60" y="1250"/>
                  </a:lnTo>
                  <a:lnTo>
                    <a:pt x="82" y="1286"/>
                  </a:lnTo>
                  <a:lnTo>
                    <a:pt x="110" y="1320"/>
                  </a:lnTo>
                  <a:lnTo>
                    <a:pt x="138" y="1354"/>
                  </a:lnTo>
                  <a:lnTo>
                    <a:pt x="170" y="1384"/>
                  </a:lnTo>
                  <a:lnTo>
                    <a:pt x="204" y="1414"/>
                  </a:lnTo>
                  <a:lnTo>
                    <a:pt x="238" y="1438"/>
                  </a:lnTo>
                  <a:lnTo>
                    <a:pt x="274" y="1462"/>
                  </a:lnTo>
                  <a:lnTo>
                    <a:pt x="312" y="1480"/>
                  </a:lnTo>
                  <a:lnTo>
                    <a:pt x="348" y="1492"/>
                  </a:lnTo>
                  <a:lnTo>
                    <a:pt x="366" y="1498"/>
                  </a:lnTo>
                  <a:lnTo>
                    <a:pt x="386" y="1502"/>
                  </a:lnTo>
                  <a:lnTo>
                    <a:pt x="404" y="1504"/>
                  </a:lnTo>
                  <a:lnTo>
                    <a:pt x="422" y="1504"/>
                  </a:lnTo>
                  <a:lnTo>
                    <a:pt x="422" y="15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99"/>
            <p:cNvSpPr/>
            <p:nvPr/>
          </p:nvSpPr>
          <p:spPr>
            <a:xfrm>
              <a:off x="3956040" y="23501160"/>
              <a:ext cx="1326960" cy="1073160"/>
            </a:xfrm>
            <a:custGeom>
              <a:avLst/>
              <a:gdLst>
                <a:gd name="textAreaLeft" fmla="*/ 0 w 1326960"/>
                <a:gd name="textAreaRight" fmla="*/ 1327320 w 132696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836" h="676">
                  <a:moveTo>
                    <a:pt x="72" y="258"/>
                  </a:moveTo>
                  <a:lnTo>
                    <a:pt x="72" y="258"/>
                  </a:lnTo>
                  <a:lnTo>
                    <a:pt x="94" y="268"/>
                  </a:lnTo>
                  <a:lnTo>
                    <a:pt x="116" y="280"/>
                  </a:lnTo>
                  <a:lnTo>
                    <a:pt x="138" y="292"/>
                  </a:lnTo>
                  <a:lnTo>
                    <a:pt x="158" y="308"/>
                  </a:lnTo>
                  <a:lnTo>
                    <a:pt x="196" y="338"/>
                  </a:lnTo>
                  <a:lnTo>
                    <a:pt x="230" y="372"/>
                  </a:lnTo>
                  <a:lnTo>
                    <a:pt x="260" y="408"/>
                  </a:lnTo>
                  <a:lnTo>
                    <a:pt x="286" y="442"/>
                  </a:lnTo>
                  <a:lnTo>
                    <a:pt x="306" y="474"/>
                  </a:lnTo>
                  <a:lnTo>
                    <a:pt x="322" y="504"/>
                  </a:lnTo>
                  <a:lnTo>
                    <a:pt x="322" y="504"/>
                  </a:lnTo>
                  <a:lnTo>
                    <a:pt x="332" y="522"/>
                  </a:lnTo>
                  <a:lnTo>
                    <a:pt x="344" y="542"/>
                  </a:lnTo>
                  <a:lnTo>
                    <a:pt x="356" y="558"/>
                  </a:lnTo>
                  <a:lnTo>
                    <a:pt x="368" y="576"/>
                  </a:lnTo>
                  <a:lnTo>
                    <a:pt x="382" y="590"/>
                  </a:lnTo>
                  <a:lnTo>
                    <a:pt x="396" y="604"/>
                  </a:lnTo>
                  <a:lnTo>
                    <a:pt x="412" y="618"/>
                  </a:lnTo>
                  <a:lnTo>
                    <a:pt x="426" y="630"/>
                  </a:lnTo>
                  <a:lnTo>
                    <a:pt x="444" y="640"/>
                  </a:lnTo>
                  <a:lnTo>
                    <a:pt x="460" y="650"/>
                  </a:lnTo>
                  <a:lnTo>
                    <a:pt x="476" y="658"/>
                  </a:lnTo>
                  <a:lnTo>
                    <a:pt x="494" y="664"/>
                  </a:lnTo>
                  <a:lnTo>
                    <a:pt x="512" y="670"/>
                  </a:lnTo>
                  <a:lnTo>
                    <a:pt x="530" y="674"/>
                  </a:lnTo>
                  <a:lnTo>
                    <a:pt x="548" y="676"/>
                  </a:lnTo>
                  <a:lnTo>
                    <a:pt x="566" y="676"/>
                  </a:lnTo>
                  <a:lnTo>
                    <a:pt x="566" y="676"/>
                  </a:lnTo>
                  <a:lnTo>
                    <a:pt x="594" y="676"/>
                  </a:lnTo>
                  <a:lnTo>
                    <a:pt x="622" y="672"/>
                  </a:lnTo>
                  <a:lnTo>
                    <a:pt x="648" y="664"/>
                  </a:lnTo>
                  <a:lnTo>
                    <a:pt x="672" y="656"/>
                  </a:lnTo>
                  <a:lnTo>
                    <a:pt x="696" y="644"/>
                  </a:lnTo>
                  <a:lnTo>
                    <a:pt x="718" y="632"/>
                  </a:lnTo>
                  <a:lnTo>
                    <a:pt x="740" y="616"/>
                  </a:lnTo>
                  <a:lnTo>
                    <a:pt x="758" y="600"/>
                  </a:lnTo>
                  <a:lnTo>
                    <a:pt x="776" y="580"/>
                  </a:lnTo>
                  <a:lnTo>
                    <a:pt x="792" y="560"/>
                  </a:lnTo>
                  <a:lnTo>
                    <a:pt x="804" y="538"/>
                  </a:lnTo>
                  <a:lnTo>
                    <a:pt x="816" y="514"/>
                  </a:lnTo>
                  <a:lnTo>
                    <a:pt x="824" y="490"/>
                  </a:lnTo>
                  <a:lnTo>
                    <a:pt x="832" y="464"/>
                  </a:lnTo>
                  <a:lnTo>
                    <a:pt x="836" y="438"/>
                  </a:lnTo>
                  <a:lnTo>
                    <a:pt x="836" y="410"/>
                  </a:lnTo>
                  <a:lnTo>
                    <a:pt x="836" y="410"/>
                  </a:lnTo>
                  <a:lnTo>
                    <a:pt x="834" y="376"/>
                  </a:lnTo>
                  <a:lnTo>
                    <a:pt x="832" y="358"/>
                  </a:lnTo>
                  <a:lnTo>
                    <a:pt x="828" y="336"/>
                  </a:lnTo>
                  <a:lnTo>
                    <a:pt x="822" y="316"/>
                  </a:lnTo>
                  <a:lnTo>
                    <a:pt x="814" y="294"/>
                  </a:lnTo>
                  <a:lnTo>
                    <a:pt x="804" y="272"/>
                  </a:lnTo>
                  <a:lnTo>
                    <a:pt x="792" y="250"/>
                  </a:lnTo>
                  <a:lnTo>
                    <a:pt x="778" y="226"/>
                  </a:lnTo>
                  <a:lnTo>
                    <a:pt x="760" y="204"/>
                  </a:lnTo>
                  <a:lnTo>
                    <a:pt x="738" y="182"/>
                  </a:lnTo>
                  <a:lnTo>
                    <a:pt x="714" y="158"/>
                  </a:lnTo>
                  <a:lnTo>
                    <a:pt x="686" y="138"/>
                  </a:lnTo>
                  <a:lnTo>
                    <a:pt x="656" y="116"/>
                  </a:lnTo>
                  <a:lnTo>
                    <a:pt x="620" y="98"/>
                  </a:lnTo>
                  <a:lnTo>
                    <a:pt x="580" y="78"/>
                  </a:lnTo>
                  <a:lnTo>
                    <a:pt x="580" y="78"/>
                  </a:lnTo>
                  <a:lnTo>
                    <a:pt x="534" y="60"/>
                  </a:lnTo>
                  <a:lnTo>
                    <a:pt x="484" y="44"/>
                  </a:lnTo>
                  <a:lnTo>
                    <a:pt x="430" y="32"/>
                  </a:lnTo>
                  <a:lnTo>
                    <a:pt x="374" y="20"/>
                  </a:lnTo>
                  <a:lnTo>
                    <a:pt x="316" y="12"/>
                  </a:lnTo>
                  <a:lnTo>
                    <a:pt x="254" y="6"/>
                  </a:lnTo>
                  <a:lnTo>
                    <a:pt x="192" y="2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08" y="2"/>
                  </a:lnTo>
                  <a:lnTo>
                    <a:pt x="88" y="6"/>
                  </a:lnTo>
                  <a:lnTo>
                    <a:pt x="70" y="14"/>
                  </a:lnTo>
                  <a:lnTo>
                    <a:pt x="54" y="24"/>
                  </a:lnTo>
                  <a:lnTo>
                    <a:pt x="40" y="38"/>
                  </a:lnTo>
                  <a:lnTo>
                    <a:pt x="28" y="52"/>
                  </a:lnTo>
                  <a:lnTo>
                    <a:pt x="18" y="68"/>
                  </a:lnTo>
                  <a:lnTo>
                    <a:pt x="12" y="88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0" y="136"/>
                  </a:lnTo>
                  <a:lnTo>
                    <a:pt x="0" y="158"/>
                  </a:lnTo>
                  <a:lnTo>
                    <a:pt x="4" y="180"/>
                  </a:lnTo>
                  <a:lnTo>
                    <a:pt x="10" y="200"/>
                  </a:lnTo>
                  <a:lnTo>
                    <a:pt x="22" y="218"/>
                  </a:lnTo>
                  <a:lnTo>
                    <a:pt x="36" y="234"/>
                  </a:lnTo>
                  <a:lnTo>
                    <a:pt x="54" y="248"/>
                  </a:lnTo>
                  <a:lnTo>
                    <a:pt x="72" y="258"/>
                  </a:lnTo>
                  <a:lnTo>
                    <a:pt x="72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00"/>
            <p:cNvSpPr/>
            <p:nvPr/>
          </p:nvSpPr>
          <p:spPr>
            <a:xfrm>
              <a:off x="3584520" y="26107920"/>
              <a:ext cx="3375000" cy="9394920"/>
            </a:xfrm>
            <a:custGeom>
              <a:avLst/>
              <a:gdLst>
                <a:gd name="textAreaLeft" fmla="*/ 0 w 3375000"/>
                <a:gd name="textAreaRight" fmla="*/ 3375360 w 3375000"/>
                <a:gd name="textAreaTop" fmla="*/ 0 h 9394920"/>
                <a:gd name="textAreaBottom" fmla="*/ 9395280 h 9394920"/>
              </a:gdLst>
              <a:ahLst/>
              <a:rect l="textAreaLeft" t="textAreaTop" r="textAreaRight" b="textAreaBottom"/>
              <a:pathLst>
                <a:path w="2126" h="5918">
                  <a:moveTo>
                    <a:pt x="2086" y="2504"/>
                  </a:moveTo>
                  <a:lnTo>
                    <a:pt x="1866" y="2304"/>
                  </a:lnTo>
                  <a:lnTo>
                    <a:pt x="1866" y="2304"/>
                  </a:lnTo>
                  <a:lnTo>
                    <a:pt x="1850" y="2292"/>
                  </a:lnTo>
                  <a:lnTo>
                    <a:pt x="1832" y="2284"/>
                  </a:lnTo>
                  <a:lnTo>
                    <a:pt x="1814" y="2278"/>
                  </a:lnTo>
                  <a:lnTo>
                    <a:pt x="1796" y="2274"/>
                  </a:lnTo>
                  <a:lnTo>
                    <a:pt x="1796" y="2218"/>
                  </a:lnTo>
                  <a:lnTo>
                    <a:pt x="1796" y="2218"/>
                  </a:lnTo>
                  <a:lnTo>
                    <a:pt x="1810" y="2208"/>
                  </a:lnTo>
                  <a:lnTo>
                    <a:pt x="1810" y="2208"/>
                  </a:lnTo>
                  <a:lnTo>
                    <a:pt x="1822" y="2196"/>
                  </a:lnTo>
                  <a:lnTo>
                    <a:pt x="1834" y="2184"/>
                  </a:lnTo>
                  <a:lnTo>
                    <a:pt x="1842" y="2172"/>
                  </a:lnTo>
                  <a:lnTo>
                    <a:pt x="1850" y="2158"/>
                  </a:lnTo>
                  <a:lnTo>
                    <a:pt x="1858" y="2144"/>
                  </a:lnTo>
                  <a:lnTo>
                    <a:pt x="1862" y="2128"/>
                  </a:lnTo>
                  <a:lnTo>
                    <a:pt x="1866" y="2110"/>
                  </a:lnTo>
                  <a:lnTo>
                    <a:pt x="1868" y="2094"/>
                  </a:lnTo>
                  <a:lnTo>
                    <a:pt x="1868" y="2094"/>
                  </a:lnTo>
                  <a:lnTo>
                    <a:pt x="1868" y="2074"/>
                  </a:lnTo>
                  <a:lnTo>
                    <a:pt x="1866" y="2058"/>
                  </a:lnTo>
                  <a:lnTo>
                    <a:pt x="1860" y="2040"/>
                  </a:lnTo>
                  <a:lnTo>
                    <a:pt x="1852" y="2024"/>
                  </a:lnTo>
                  <a:lnTo>
                    <a:pt x="1844" y="2010"/>
                  </a:lnTo>
                  <a:lnTo>
                    <a:pt x="1832" y="1998"/>
                  </a:lnTo>
                  <a:lnTo>
                    <a:pt x="1818" y="1986"/>
                  </a:lnTo>
                  <a:lnTo>
                    <a:pt x="1804" y="1978"/>
                  </a:lnTo>
                  <a:lnTo>
                    <a:pt x="1804" y="1978"/>
                  </a:lnTo>
                  <a:lnTo>
                    <a:pt x="1810" y="1954"/>
                  </a:lnTo>
                  <a:lnTo>
                    <a:pt x="1816" y="1934"/>
                  </a:lnTo>
                  <a:lnTo>
                    <a:pt x="1824" y="1914"/>
                  </a:lnTo>
                  <a:lnTo>
                    <a:pt x="1832" y="1898"/>
                  </a:lnTo>
                  <a:lnTo>
                    <a:pt x="1842" y="1882"/>
                  </a:lnTo>
                  <a:lnTo>
                    <a:pt x="1850" y="1870"/>
                  </a:lnTo>
                  <a:lnTo>
                    <a:pt x="1860" y="1858"/>
                  </a:lnTo>
                  <a:lnTo>
                    <a:pt x="1870" y="1848"/>
                  </a:lnTo>
                  <a:lnTo>
                    <a:pt x="1890" y="1832"/>
                  </a:lnTo>
                  <a:lnTo>
                    <a:pt x="1910" y="1820"/>
                  </a:lnTo>
                  <a:lnTo>
                    <a:pt x="1930" y="1812"/>
                  </a:lnTo>
                  <a:lnTo>
                    <a:pt x="1948" y="1806"/>
                  </a:lnTo>
                  <a:lnTo>
                    <a:pt x="1948" y="1806"/>
                  </a:lnTo>
                  <a:lnTo>
                    <a:pt x="1966" y="1800"/>
                  </a:lnTo>
                  <a:lnTo>
                    <a:pt x="1984" y="1792"/>
                  </a:lnTo>
                  <a:lnTo>
                    <a:pt x="1998" y="1780"/>
                  </a:lnTo>
                  <a:lnTo>
                    <a:pt x="2012" y="1768"/>
                  </a:lnTo>
                  <a:lnTo>
                    <a:pt x="2022" y="1752"/>
                  </a:lnTo>
                  <a:lnTo>
                    <a:pt x="2030" y="1736"/>
                  </a:lnTo>
                  <a:lnTo>
                    <a:pt x="2036" y="1718"/>
                  </a:lnTo>
                  <a:lnTo>
                    <a:pt x="2040" y="1700"/>
                  </a:lnTo>
                  <a:lnTo>
                    <a:pt x="2042" y="1674"/>
                  </a:lnTo>
                  <a:lnTo>
                    <a:pt x="2042" y="1674"/>
                  </a:lnTo>
                  <a:lnTo>
                    <a:pt x="2042" y="1662"/>
                  </a:lnTo>
                  <a:lnTo>
                    <a:pt x="2040" y="1650"/>
                  </a:lnTo>
                  <a:lnTo>
                    <a:pt x="2036" y="1626"/>
                  </a:lnTo>
                  <a:lnTo>
                    <a:pt x="2026" y="1606"/>
                  </a:lnTo>
                  <a:lnTo>
                    <a:pt x="2012" y="1586"/>
                  </a:lnTo>
                  <a:lnTo>
                    <a:pt x="1996" y="1570"/>
                  </a:lnTo>
                  <a:lnTo>
                    <a:pt x="1976" y="1558"/>
                  </a:lnTo>
                  <a:lnTo>
                    <a:pt x="1954" y="1550"/>
                  </a:lnTo>
                  <a:lnTo>
                    <a:pt x="1944" y="1546"/>
                  </a:lnTo>
                  <a:lnTo>
                    <a:pt x="1930" y="1546"/>
                  </a:lnTo>
                  <a:lnTo>
                    <a:pt x="1930" y="1546"/>
                  </a:lnTo>
                  <a:lnTo>
                    <a:pt x="1820" y="1536"/>
                  </a:lnTo>
                  <a:lnTo>
                    <a:pt x="1716" y="1522"/>
                  </a:lnTo>
                  <a:lnTo>
                    <a:pt x="1618" y="1508"/>
                  </a:lnTo>
                  <a:lnTo>
                    <a:pt x="1524" y="1492"/>
                  </a:lnTo>
                  <a:lnTo>
                    <a:pt x="1524" y="1492"/>
                  </a:lnTo>
                  <a:lnTo>
                    <a:pt x="1564" y="1448"/>
                  </a:lnTo>
                  <a:lnTo>
                    <a:pt x="1602" y="1404"/>
                  </a:lnTo>
                  <a:lnTo>
                    <a:pt x="1638" y="1360"/>
                  </a:lnTo>
                  <a:lnTo>
                    <a:pt x="1672" y="1312"/>
                  </a:lnTo>
                  <a:lnTo>
                    <a:pt x="1672" y="1312"/>
                  </a:lnTo>
                  <a:lnTo>
                    <a:pt x="1702" y="1302"/>
                  </a:lnTo>
                  <a:lnTo>
                    <a:pt x="1718" y="1296"/>
                  </a:lnTo>
                  <a:lnTo>
                    <a:pt x="1734" y="1288"/>
                  </a:lnTo>
                  <a:lnTo>
                    <a:pt x="1748" y="1278"/>
                  </a:lnTo>
                  <a:lnTo>
                    <a:pt x="1762" y="1266"/>
                  </a:lnTo>
                  <a:lnTo>
                    <a:pt x="1776" y="1250"/>
                  </a:lnTo>
                  <a:lnTo>
                    <a:pt x="1788" y="1234"/>
                  </a:lnTo>
                  <a:lnTo>
                    <a:pt x="1788" y="1234"/>
                  </a:lnTo>
                  <a:lnTo>
                    <a:pt x="1796" y="1220"/>
                  </a:lnTo>
                  <a:lnTo>
                    <a:pt x="1802" y="1206"/>
                  </a:lnTo>
                  <a:lnTo>
                    <a:pt x="1806" y="1192"/>
                  </a:lnTo>
                  <a:lnTo>
                    <a:pt x="1808" y="1176"/>
                  </a:lnTo>
                  <a:lnTo>
                    <a:pt x="1808" y="1162"/>
                  </a:lnTo>
                  <a:lnTo>
                    <a:pt x="1808" y="1148"/>
                  </a:lnTo>
                  <a:lnTo>
                    <a:pt x="1804" y="1132"/>
                  </a:lnTo>
                  <a:lnTo>
                    <a:pt x="1798" y="1118"/>
                  </a:lnTo>
                  <a:lnTo>
                    <a:pt x="1798" y="1118"/>
                  </a:lnTo>
                  <a:lnTo>
                    <a:pt x="1878" y="1070"/>
                  </a:lnTo>
                  <a:lnTo>
                    <a:pt x="1950" y="1022"/>
                  </a:lnTo>
                  <a:lnTo>
                    <a:pt x="1950" y="1022"/>
                  </a:lnTo>
                  <a:lnTo>
                    <a:pt x="1980" y="1014"/>
                  </a:lnTo>
                  <a:lnTo>
                    <a:pt x="1994" y="1010"/>
                  </a:lnTo>
                  <a:lnTo>
                    <a:pt x="2010" y="1004"/>
                  </a:lnTo>
                  <a:lnTo>
                    <a:pt x="2026" y="996"/>
                  </a:lnTo>
                  <a:lnTo>
                    <a:pt x="2040" y="986"/>
                  </a:lnTo>
                  <a:lnTo>
                    <a:pt x="2054" y="974"/>
                  </a:lnTo>
                  <a:lnTo>
                    <a:pt x="2068" y="960"/>
                  </a:lnTo>
                  <a:lnTo>
                    <a:pt x="2068" y="960"/>
                  </a:lnTo>
                  <a:lnTo>
                    <a:pt x="2082" y="942"/>
                  </a:lnTo>
                  <a:lnTo>
                    <a:pt x="2092" y="920"/>
                  </a:lnTo>
                  <a:lnTo>
                    <a:pt x="2098" y="898"/>
                  </a:lnTo>
                  <a:lnTo>
                    <a:pt x="2100" y="876"/>
                  </a:lnTo>
                  <a:lnTo>
                    <a:pt x="2096" y="854"/>
                  </a:lnTo>
                  <a:lnTo>
                    <a:pt x="2088" y="832"/>
                  </a:lnTo>
                  <a:lnTo>
                    <a:pt x="2078" y="812"/>
                  </a:lnTo>
                  <a:lnTo>
                    <a:pt x="2062" y="794"/>
                  </a:lnTo>
                  <a:lnTo>
                    <a:pt x="1864" y="608"/>
                  </a:lnTo>
                  <a:lnTo>
                    <a:pt x="1864" y="608"/>
                  </a:lnTo>
                  <a:lnTo>
                    <a:pt x="1878" y="598"/>
                  </a:lnTo>
                  <a:lnTo>
                    <a:pt x="1890" y="588"/>
                  </a:lnTo>
                  <a:lnTo>
                    <a:pt x="1902" y="578"/>
                  </a:lnTo>
                  <a:lnTo>
                    <a:pt x="1912" y="566"/>
                  </a:lnTo>
                  <a:lnTo>
                    <a:pt x="1918" y="554"/>
                  </a:lnTo>
                  <a:lnTo>
                    <a:pt x="1926" y="542"/>
                  </a:lnTo>
                  <a:lnTo>
                    <a:pt x="1936" y="518"/>
                  </a:lnTo>
                  <a:lnTo>
                    <a:pt x="1936" y="518"/>
                  </a:lnTo>
                  <a:lnTo>
                    <a:pt x="1938" y="508"/>
                  </a:lnTo>
                  <a:lnTo>
                    <a:pt x="1940" y="496"/>
                  </a:lnTo>
                  <a:lnTo>
                    <a:pt x="1942" y="484"/>
                  </a:lnTo>
                  <a:lnTo>
                    <a:pt x="1942" y="472"/>
                  </a:lnTo>
                  <a:lnTo>
                    <a:pt x="1940" y="460"/>
                  </a:lnTo>
                  <a:lnTo>
                    <a:pt x="1936" y="448"/>
                  </a:lnTo>
                  <a:lnTo>
                    <a:pt x="1932" y="436"/>
                  </a:lnTo>
                  <a:lnTo>
                    <a:pt x="1928" y="426"/>
                  </a:lnTo>
                  <a:lnTo>
                    <a:pt x="1928" y="426"/>
                  </a:lnTo>
                  <a:lnTo>
                    <a:pt x="1920" y="412"/>
                  </a:lnTo>
                  <a:lnTo>
                    <a:pt x="1912" y="402"/>
                  </a:lnTo>
                  <a:lnTo>
                    <a:pt x="1902" y="392"/>
                  </a:lnTo>
                  <a:lnTo>
                    <a:pt x="1890" y="382"/>
                  </a:lnTo>
                  <a:lnTo>
                    <a:pt x="1890" y="382"/>
                  </a:lnTo>
                  <a:lnTo>
                    <a:pt x="1892" y="368"/>
                  </a:lnTo>
                  <a:lnTo>
                    <a:pt x="1892" y="354"/>
                  </a:lnTo>
                  <a:lnTo>
                    <a:pt x="1890" y="340"/>
                  </a:lnTo>
                  <a:lnTo>
                    <a:pt x="1886" y="328"/>
                  </a:lnTo>
                  <a:lnTo>
                    <a:pt x="1882" y="314"/>
                  </a:lnTo>
                  <a:lnTo>
                    <a:pt x="1876" y="302"/>
                  </a:lnTo>
                  <a:lnTo>
                    <a:pt x="1868" y="290"/>
                  </a:lnTo>
                  <a:lnTo>
                    <a:pt x="1858" y="278"/>
                  </a:lnTo>
                  <a:lnTo>
                    <a:pt x="1622" y="36"/>
                  </a:lnTo>
                  <a:lnTo>
                    <a:pt x="1622" y="36"/>
                  </a:lnTo>
                  <a:lnTo>
                    <a:pt x="1608" y="24"/>
                  </a:lnTo>
                  <a:lnTo>
                    <a:pt x="1594" y="16"/>
                  </a:lnTo>
                  <a:lnTo>
                    <a:pt x="1578" y="8"/>
                  </a:lnTo>
                  <a:lnTo>
                    <a:pt x="1562" y="2"/>
                  </a:lnTo>
                  <a:lnTo>
                    <a:pt x="1546" y="0"/>
                  </a:lnTo>
                  <a:lnTo>
                    <a:pt x="1530" y="0"/>
                  </a:lnTo>
                  <a:lnTo>
                    <a:pt x="1512" y="2"/>
                  </a:lnTo>
                  <a:lnTo>
                    <a:pt x="1496" y="6"/>
                  </a:lnTo>
                  <a:lnTo>
                    <a:pt x="1496" y="6"/>
                  </a:lnTo>
                  <a:lnTo>
                    <a:pt x="1440" y="24"/>
                  </a:lnTo>
                  <a:lnTo>
                    <a:pt x="1378" y="44"/>
                  </a:lnTo>
                  <a:lnTo>
                    <a:pt x="1240" y="82"/>
                  </a:lnTo>
                  <a:lnTo>
                    <a:pt x="1086" y="120"/>
                  </a:lnTo>
                  <a:lnTo>
                    <a:pt x="920" y="158"/>
                  </a:lnTo>
                  <a:lnTo>
                    <a:pt x="746" y="194"/>
                  </a:lnTo>
                  <a:lnTo>
                    <a:pt x="572" y="228"/>
                  </a:lnTo>
                  <a:lnTo>
                    <a:pt x="398" y="258"/>
                  </a:lnTo>
                  <a:lnTo>
                    <a:pt x="234" y="282"/>
                  </a:lnTo>
                  <a:lnTo>
                    <a:pt x="234" y="282"/>
                  </a:lnTo>
                  <a:lnTo>
                    <a:pt x="210" y="286"/>
                  </a:lnTo>
                  <a:lnTo>
                    <a:pt x="190" y="296"/>
                  </a:lnTo>
                  <a:lnTo>
                    <a:pt x="172" y="308"/>
                  </a:lnTo>
                  <a:lnTo>
                    <a:pt x="156" y="324"/>
                  </a:lnTo>
                  <a:lnTo>
                    <a:pt x="144" y="342"/>
                  </a:lnTo>
                  <a:lnTo>
                    <a:pt x="136" y="362"/>
                  </a:lnTo>
                  <a:lnTo>
                    <a:pt x="130" y="386"/>
                  </a:lnTo>
                  <a:lnTo>
                    <a:pt x="130" y="408"/>
                  </a:lnTo>
                  <a:lnTo>
                    <a:pt x="132" y="438"/>
                  </a:lnTo>
                  <a:lnTo>
                    <a:pt x="132" y="438"/>
                  </a:lnTo>
                  <a:lnTo>
                    <a:pt x="136" y="460"/>
                  </a:lnTo>
                  <a:lnTo>
                    <a:pt x="142" y="480"/>
                  </a:lnTo>
                  <a:lnTo>
                    <a:pt x="154" y="500"/>
                  </a:lnTo>
                  <a:lnTo>
                    <a:pt x="168" y="516"/>
                  </a:lnTo>
                  <a:lnTo>
                    <a:pt x="186" y="530"/>
                  </a:lnTo>
                  <a:lnTo>
                    <a:pt x="204" y="540"/>
                  </a:lnTo>
                  <a:lnTo>
                    <a:pt x="226" y="546"/>
                  </a:lnTo>
                  <a:lnTo>
                    <a:pt x="248" y="550"/>
                  </a:lnTo>
                  <a:lnTo>
                    <a:pt x="248" y="550"/>
                  </a:lnTo>
                  <a:lnTo>
                    <a:pt x="382" y="550"/>
                  </a:lnTo>
                  <a:lnTo>
                    <a:pt x="382" y="550"/>
                  </a:lnTo>
                  <a:lnTo>
                    <a:pt x="382" y="550"/>
                  </a:lnTo>
                  <a:lnTo>
                    <a:pt x="390" y="574"/>
                  </a:lnTo>
                  <a:lnTo>
                    <a:pt x="368" y="576"/>
                  </a:lnTo>
                  <a:lnTo>
                    <a:pt x="368" y="576"/>
                  </a:lnTo>
                  <a:lnTo>
                    <a:pt x="356" y="578"/>
                  </a:lnTo>
                  <a:lnTo>
                    <a:pt x="344" y="582"/>
                  </a:lnTo>
                  <a:lnTo>
                    <a:pt x="322" y="590"/>
                  </a:lnTo>
                  <a:lnTo>
                    <a:pt x="304" y="602"/>
                  </a:lnTo>
                  <a:lnTo>
                    <a:pt x="288" y="618"/>
                  </a:lnTo>
                  <a:lnTo>
                    <a:pt x="274" y="636"/>
                  </a:lnTo>
                  <a:lnTo>
                    <a:pt x="264" y="658"/>
                  </a:lnTo>
                  <a:lnTo>
                    <a:pt x="260" y="680"/>
                  </a:lnTo>
                  <a:lnTo>
                    <a:pt x="258" y="692"/>
                  </a:lnTo>
                  <a:lnTo>
                    <a:pt x="258" y="704"/>
                  </a:lnTo>
                  <a:lnTo>
                    <a:pt x="258" y="704"/>
                  </a:lnTo>
                  <a:lnTo>
                    <a:pt x="258" y="712"/>
                  </a:lnTo>
                  <a:lnTo>
                    <a:pt x="254" y="720"/>
                  </a:lnTo>
                  <a:lnTo>
                    <a:pt x="248" y="730"/>
                  </a:lnTo>
                  <a:lnTo>
                    <a:pt x="242" y="738"/>
                  </a:lnTo>
                  <a:lnTo>
                    <a:pt x="224" y="752"/>
                  </a:lnTo>
                  <a:lnTo>
                    <a:pt x="216" y="758"/>
                  </a:lnTo>
                  <a:lnTo>
                    <a:pt x="206" y="762"/>
                  </a:lnTo>
                  <a:lnTo>
                    <a:pt x="206" y="762"/>
                  </a:lnTo>
                  <a:lnTo>
                    <a:pt x="206" y="762"/>
                  </a:lnTo>
                  <a:lnTo>
                    <a:pt x="184" y="770"/>
                  </a:lnTo>
                  <a:lnTo>
                    <a:pt x="164" y="780"/>
                  </a:lnTo>
                  <a:lnTo>
                    <a:pt x="144" y="790"/>
                  </a:lnTo>
                  <a:lnTo>
                    <a:pt x="126" y="802"/>
                  </a:lnTo>
                  <a:lnTo>
                    <a:pt x="108" y="816"/>
                  </a:lnTo>
                  <a:lnTo>
                    <a:pt x="92" y="830"/>
                  </a:lnTo>
                  <a:lnTo>
                    <a:pt x="78" y="844"/>
                  </a:lnTo>
                  <a:lnTo>
                    <a:pt x="64" y="860"/>
                  </a:lnTo>
                  <a:lnTo>
                    <a:pt x="52" y="878"/>
                  </a:lnTo>
                  <a:lnTo>
                    <a:pt x="42" y="894"/>
                  </a:lnTo>
                  <a:lnTo>
                    <a:pt x="34" y="912"/>
                  </a:lnTo>
                  <a:lnTo>
                    <a:pt x="26" y="930"/>
                  </a:lnTo>
                  <a:lnTo>
                    <a:pt x="20" y="950"/>
                  </a:lnTo>
                  <a:lnTo>
                    <a:pt x="16" y="970"/>
                  </a:lnTo>
                  <a:lnTo>
                    <a:pt x="12" y="990"/>
                  </a:lnTo>
                  <a:lnTo>
                    <a:pt x="12" y="1010"/>
                  </a:lnTo>
                  <a:lnTo>
                    <a:pt x="12" y="1010"/>
                  </a:lnTo>
                  <a:lnTo>
                    <a:pt x="14" y="1036"/>
                  </a:lnTo>
                  <a:lnTo>
                    <a:pt x="18" y="1060"/>
                  </a:lnTo>
                  <a:lnTo>
                    <a:pt x="24" y="1084"/>
                  </a:lnTo>
                  <a:lnTo>
                    <a:pt x="32" y="1108"/>
                  </a:lnTo>
                  <a:lnTo>
                    <a:pt x="44" y="1130"/>
                  </a:lnTo>
                  <a:lnTo>
                    <a:pt x="56" y="1150"/>
                  </a:lnTo>
                  <a:lnTo>
                    <a:pt x="72" y="1168"/>
                  </a:lnTo>
                  <a:lnTo>
                    <a:pt x="88" y="1186"/>
                  </a:lnTo>
                  <a:lnTo>
                    <a:pt x="108" y="1202"/>
                  </a:lnTo>
                  <a:lnTo>
                    <a:pt x="128" y="1216"/>
                  </a:lnTo>
                  <a:lnTo>
                    <a:pt x="150" y="1228"/>
                  </a:lnTo>
                  <a:lnTo>
                    <a:pt x="174" y="1238"/>
                  </a:lnTo>
                  <a:lnTo>
                    <a:pt x="198" y="1246"/>
                  </a:lnTo>
                  <a:lnTo>
                    <a:pt x="224" y="1252"/>
                  </a:lnTo>
                  <a:lnTo>
                    <a:pt x="252" y="1256"/>
                  </a:lnTo>
                  <a:lnTo>
                    <a:pt x="280" y="1256"/>
                  </a:lnTo>
                  <a:lnTo>
                    <a:pt x="280" y="1256"/>
                  </a:lnTo>
                  <a:lnTo>
                    <a:pt x="310" y="1254"/>
                  </a:lnTo>
                  <a:lnTo>
                    <a:pt x="340" y="1250"/>
                  </a:lnTo>
                  <a:lnTo>
                    <a:pt x="370" y="1242"/>
                  </a:lnTo>
                  <a:lnTo>
                    <a:pt x="396" y="1232"/>
                  </a:lnTo>
                  <a:lnTo>
                    <a:pt x="396" y="1232"/>
                  </a:lnTo>
                  <a:lnTo>
                    <a:pt x="412" y="1236"/>
                  </a:lnTo>
                  <a:lnTo>
                    <a:pt x="428" y="1238"/>
                  </a:lnTo>
                  <a:lnTo>
                    <a:pt x="532" y="1238"/>
                  </a:lnTo>
                  <a:lnTo>
                    <a:pt x="532" y="1238"/>
                  </a:lnTo>
                  <a:lnTo>
                    <a:pt x="552" y="1282"/>
                  </a:lnTo>
                  <a:lnTo>
                    <a:pt x="574" y="1326"/>
                  </a:lnTo>
                  <a:lnTo>
                    <a:pt x="596" y="1370"/>
                  </a:lnTo>
                  <a:lnTo>
                    <a:pt x="622" y="1412"/>
                  </a:lnTo>
                  <a:lnTo>
                    <a:pt x="646" y="1452"/>
                  </a:lnTo>
                  <a:lnTo>
                    <a:pt x="674" y="1492"/>
                  </a:lnTo>
                  <a:lnTo>
                    <a:pt x="702" y="1530"/>
                  </a:lnTo>
                  <a:lnTo>
                    <a:pt x="732" y="1566"/>
                  </a:lnTo>
                  <a:lnTo>
                    <a:pt x="732" y="1566"/>
                  </a:lnTo>
                  <a:lnTo>
                    <a:pt x="670" y="1604"/>
                  </a:lnTo>
                  <a:lnTo>
                    <a:pt x="604" y="1642"/>
                  </a:lnTo>
                  <a:lnTo>
                    <a:pt x="538" y="1676"/>
                  </a:lnTo>
                  <a:lnTo>
                    <a:pt x="468" y="1708"/>
                  </a:lnTo>
                  <a:lnTo>
                    <a:pt x="394" y="1738"/>
                  </a:lnTo>
                  <a:lnTo>
                    <a:pt x="320" y="1766"/>
                  </a:lnTo>
                  <a:lnTo>
                    <a:pt x="242" y="1792"/>
                  </a:lnTo>
                  <a:lnTo>
                    <a:pt x="162" y="1816"/>
                  </a:lnTo>
                  <a:lnTo>
                    <a:pt x="162" y="1816"/>
                  </a:lnTo>
                  <a:lnTo>
                    <a:pt x="150" y="1820"/>
                  </a:lnTo>
                  <a:lnTo>
                    <a:pt x="138" y="1826"/>
                  </a:lnTo>
                  <a:lnTo>
                    <a:pt x="118" y="1838"/>
                  </a:lnTo>
                  <a:lnTo>
                    <a:pt x="102" y="1854"/>
                  </a:lnTo>
                  <a:lnTo>
                    <a:pt x="90" y="1872"/>
                  </a:lnTo>
                  <a:lnTo>
                    <a:pt x="80" y="1894"/>
                  </a:lnTo>
                  <a:lnTo>
                    <a:pt x="74" y="1916"/>
                  </a:lnTo>
                  <a:lnTo>
                    <a:pt x="74" y="1940"/>
                  </a:lnTo>
                  <a:lnTo>
                    <a:pt x="76" y="1952"/>
                  </a:lnTo>
                  <a:lnTo>
                    <a:pt x="78" y="1964"/>
                  </a:lnTo>
                  <a:lnTo>
                    <a:pt x="84" y="1984"/>
                  </a:lnTo>
                  <a:lnTo>
                    <a:pt x="84" y="1984"/>
                  </a:lnTo>
                  <a:lnTo>
                    <a:pt x="92" y="2006"/>
                  </a:lnTo>
                  <a:lnTo>
                    <a:pt x="102" y="2024"/>
                  </a:lnTo>
                  <a:lnTo>
                    <a:pt x="118" y="2040"/>
                  </a:lnTo>
                  <a:lnTo>
                    <a:pt x="134" y="2054"/>
                  </a:lnTo>
                  <a:lnTo>
                    <a:pt x="152" y="2064"/>
                  </a:lnTo>
                  <a:lnTo>
                    <a:pt x="174" y="2070"/>
                  </a:lnTo>
                  <a:lnTo>
                    <a:pt x="194" y="2074"/>
                  </a:lnTo>
                  <a:lnTo>
                    <a:pt x="218" y="2072"/>
                  </a:lnTo>
                  <a:lnTo>
                    <a:pt x="218" y="2072"/>
                  </a:lnTo>
                  <a:lnTo>
                    <a:pt x="290" y="2060"/>
                  </a:lnTo>
                  <a:lnTo>
                    <a:pt x="362" y="2048"/>
                  </a:lnTo>
                  <a:lnTo>
                    <a:pt x="362" y="2048"/>
                  </a:lnTo>
                  <a:lnTo>
                    <a:pt x="348" y="2116"/>
                  </a:lnTo>
                  <a:lnTo>
                    <a:pt x="332" y="2186"/>
                  </a:lnTo>
                  <a:lnTo>
                    <a:pt x="314" y="2256"/>
                  </a:lnTo>
                  <a:lnTo>
                    <a:pt x="296" y="2326"/>
                  </a:lnTo>
                  <a:lnTo>
                    <a:pt x="256" y="2466"/>
                  </a:lnTo>
                  <a:lnTo>
                    <a:pt x="212" y="2602"/>
                  </a:lnTo>
                  <a:lnTo>
                    <a:pt x="188" y="2668"/>
                  </a:lnTo>
                  <a:lnTo>
                    <a:pt x="166" y="2734"/>
                  </a:lnTo>
                  <a:lnTo>
                    <a:pt x="140" y="2796"/>
                  </a:lnTo>
                  <a:lnTo>
                    <a:pt x="116" y="2854"/>
                  </a:lnTo>
                  <a:lnTo>
                    <a:pt x="92" y="2912"/>
                  </a:lnTo>
                  <a:lnTo>
                    <a:pt x="66" y="2964"/>
                  </a:lnTo>
                  <a:lnTo>
                    <a:pt x="42" y="3014"/>
                  </a:lnTo>
                  <a:lnTo>
                    <a:pt x="16" y="3060"/>
                  </a:lnTo>
                  <a:lnTo>
                    <a:pt x="16" y="3060"/>
                  </a:lnTo>
                  <a:lnTo>
                    <a:pt x="6" y="3082"/>
                  </a:lnTo>
                  <a:lnTo>
                    <a:pt x="2" y="3104"/>
                  </a:lnTo>
                  <a:lnTo>
                    <a:pt x="0" y="3126"/>
                  </a:lnTo>
                  <a:lnTo>
                    <a:pt x="4" y="3148"/>
                  </a:lnTo>
                  <a:lnTo>
                    <a:pt x="12" y="3170"/>
                  </a:lnTo>
                  <a:lnTo>
                    <a:pt x="22" y="3190"/>
                  </a:lnTo>
                  <a:lnTo>
                    <a:pt x="38" y="3206"/>
                  </a:lnTo>
                  <a:lnTo>
                    <a:pt x="56" y="3222"/>
                  </a:lnTo>
                  <a:lnTo>
                    <a:pt x="78" y="3234"/>
                  </a:lnTo>
                  <a:lnTo>
                    <a:pt x="78" y="3234"/>
                  </a:lnTo>
                  <a:lnTo>
                    <a:pt x="94" y="3244"/>
                  </a:lnTo>
                  <a:lnTo>
                    <a:pt x="112" y="3250"/>
                  </a:lnTo>
                  <a:lnTo>
                    <a:pt x="130" y="3252"/>
                  </a:lnTo>
                  <a:lnTo>
                    <a:pt x="148" y="3254"/>
                  </a:lnTo>
                  <a:lnTo>
                    <a:pt x="166" y="3250"/>
                  </a:lnTo>
                  <a:lnTo>
                    <a:pt x="184" y="3246"/>
                  </a:lnTo>
                  <a:lnTo>
                    <a:pt x="200" y="3238"/>
                  </a:lnTo>
                  <a:lnTo>
                    <a:pt x="216" y="3228"/>
                  </a:lnTo>
                  <a:lnTo>
                    <a:pt x="216" y="3228"/>
                  </a:lnTo>
                  <a:lnTo>
                    <a:pt x="238" y="3208"/>
                  </a:lnTo>
                  <a:lnTo>
                    <a:pt x="238" y="3876"/>
                  </a:lnTo>
                  <a:lnTo>
                    <a:pt x="238" y="3876"/>
                  </a:lnTo>
                  <a:lnTo>
                    <a:pt x="240" y="3888"/>
                  </a:lnTo>
                  <a:lnTo>
                    <a:pt x="242" y="3900"/>
                  </a:lnTo>
                  <a:lnTo>
                    <a:pt x="248" y="3922"/>
                  </a:lnTo>
                  <a:lnTo>
                    <a:pt x="260" y="3942"/>
                  </a:lnTo>
                  <a:lnTo>
                    <a:pt x="274" y="3960"/>
                  </a:lnTo>
                  <a:lnTo>
                    <a:pt x="292" y="3974"/>
                  </a:lnTo>
                  <a:lnTo>
                    <a:pt x="312" y="3986"/>
                  </a:lnTo>
                  <a:lnTo>
                    <a:pt x="334" y="3992"/>
                  </a:lnTo>
                  <a:lnTo>
                    <a:pt x="346" y="3994"/>
                  </a:lnTo>
                  <a:lnTo>
                    <a:pt x="358" y="3996"/>
                  </a:lnTo>
                  <a:lnTo>
                    <a:pt x="410" y="3996"/>
                  </a:lnTo>
                  <a:lnTo>
                    <a:pt x="410" y="3996"/>
                  </a:lnTo>
                  <a:lnTo>
                    <a:pt x="442" y="3994"/>
                  </a:lnTo>
                  <a:lnTo>
                    <a:pt x="472" y="3990"/>
                  </a:lnTo>
                  <a:lnTo>
                    <a:pt x="500" y="3986"/>
                  </a:lnTo>
                  <a:lnTo>
                    <a:pt x="528" y="3980"/>
                  </a:lnTo>
                  <a:lnTo>
                    <a:pt x="574" y="3968"/>
                  </a:lnTo>
                  <a:lnTo>
                    <a:pt x="610" y="3954"/>
                  </a:lnTo>
                  <a:lnTo>
                    <a:pt x="610" y="3954"/>
                  </a:lnTo>
                  <a:lnTo>
                    <a:pt x="640" y="3940"/>
                  </a:lnTo>
                  <a:lnTo>
                    <a:pt x="668" y="3926"/>
                  </a:lnTo>
                  <a:lnTo>
                    <a:pt x="692" y="3910"/>
                  </a:lnTo>
                  <a:lnTo>
                    <a:pt x="712" y="3894"/>
                  </a:lnTo>
                  <a:lnTo>
                    <a:pt x="728" y="3878"/>
                  </a:lnTo>
                  <a:lnTo>
                    <a:pt x="740" y="3860"/>
                  </a:lnTo>
                  <a:lnTo>
                    <a:pt x="750" y="3840"/>
                  </a:lnTo>
                  <a:lnTo>
                    <a:pt x="756" y="3820"/>
                  </a:lnTo>
                  <a:lnTo>
                    <a:pt x="756" y="3820"/>
                  </a:lnTo>
                  <a:lnTo>
                    <a:pt x="758" y="3796"/>
                  </a:lnTo>
                  <a:lnTo>
                    <a:pt x="758" y="2860"/>
                  </a:lnTo>
                  <a:lnTo>
                    <a:pt x="758" y="2860"/>
                  </a:lnTo>
                  <a:lnTo>
                    <a:pt x="776" y="2892"/>
                  </a:lnTo>
                  <a:lnTo>
                    <a:pt x="792" y="2928"/>
                  </a:lnTo>
                  <a:lnTo>
                    <a:pt x="806" y="2966"/>
                  </a:lnTo>
                  <a:lnTo>
                    <a:pt x="818" y="3008"/>
                  </a:lnTo>
                  <a:lnTo>
                    <a:pt x="828" y="3052"/>
                  </a:lnTo>
                  <a:lnTo>
                    <a:pt x="834" y="3098"/>
                  </a:lnTo>
                  <a:lnTo>
                    <a:pt x="838" y="3142"/>
                  </a:lnTo>
                  <a:lnTo>
                    <a:pt x="840" y="3188"/>
                  </a:lnTo>
                  <a:lnTo>
                    <a:pt x="840" y="3188"/>
                  </a:lnTo>
                  <a:lnTo>
                    <a:pt x="840" y="3216"/>
                  </a:lnTo>
                  <a:lnTo>
                    <a:pt x="838" y="3244"/>
                  </a:lnTo>
                  <a:lnTo>
                    <a:pt x="838" y="3244"/>
                  </a:lnTo>
                  <a:lnTo>
                    <a:pt x="838" y="3266"/>
                  </a:lnTo>
                  <a:lnTo>
                    <a:pt x="842" y="3290"/>
                  </a:lnTo>
                  <a:lnTo>
                    <a:pt x="850" y="3310"/>
                  </a:lnTo>
                  <a:lnTo>
                    <a:pt x="864" y="3330"/>
                  </a:lnTo>
                  <a:lnTo>
                    <a:pt x="864" y="3330"/>
                  </a:lnTo>
                  <a:lnTo>
                    <a:pt x="882" y="3352"/>
                  </a:lnTo>
                  <a:lnTo>
                    <a:pt x="904" y="3372"/>
                  </a:lnTo>
                  <a:lnTo>
                    <a:pt x="924" y="3390"/>
                  </a:lnTo>
                  <a:lnTo>
                    <a:pt x="948" y="3404"/>
                  </a:lnTo>
                  <a:lnTo>
                    <a:pt x="970" y="3418"/>
                  </a:lnTo>
                  <a:lnTo>
                    <a:pt x="994" y="3428"/>
                  </a:lnTo>
                  <a:lnTo>
                    <a:pt x="1020" y="3436"/>
                  </a:lnTo>
                  <a:lnTo>
                    <a:pt x="1044" y="3442"/>
                  </a:lnTo>
                  <a:lnTo>
                    <a:pt x="1032" y="3442"/>
                  </a:lnTo>
                  <a:lnTo>
                    <a:pt x="1032" y="3442"/>
                  </a:lnTo>
                  <a:lnTo>
                    <a:pt x="1020" y="3442"/>
                  </a:lnTo>
                  <a:lnTo>
                    <a:pt x="1008" y="3444"/>
                  </a:lnTo>
                  <a:lnTo>
                    <a:pt x="984" y="3452"/>
                  </a:lnTo>
                  <a:lnTo>
                    <a:pt x="964" y="3462"/>
                  </a:lnTo>
                  <a:lnTo>
                    <a:pt x="946" y="3478"/>
                  </a:lnTo>
                  <a:lnTo>
                    <a:pt x="932" y="3494"/>
                  </a:lnTo>
                  <a:lnTo>
                    <a:pt x="922" y="3516"/>
                  </a:lnTo>
                  <a:lnTo>
                    <a:pt x="914" y="3538"/>
                  </a:lnTo>
                  <a:lnTo>
                    <a:pt x="912" y="3550"/>
                  </a:lnTo>
                  <a:lnTo>
                    <a:pt x="912" y="3562"/>
                  </a:lnTo>
                  <a:lnTo>
                    <a:pt x="912" y="3586"/>
                  </a:lnTo>
                  <a:lnTo>
                    <a:pt x="912" y="3586"/>
                  </a:lnTo>
                  <a:lnTo>
                    <a:pt x="914" y="3610"/>
                  </a:lnTo>
                  <a:lnTo>
                    <a:pt x="920" y="3630"/>
                  </a:lnTo>
                  <a:lnTo>
                    <a:pt x="928" y="3650"/>
                  </a:lnTo>
                  <a:lnTo>
                    <a:pt x="942" y="3666"/>
                  </a:lnTo>
                  <a:lnTo>
                    <a:pt x="956" y="3680"/>
                  </a:lnTo>
                  <a:lnTo>
                    <a:pt x="974" y="3692"/>
                  </a:lnTo>
                  <a:lnTo>
                    <a:pt x="994" y="3702"/>
                  </a:lnTo>
                  <a:lnTo>
                    <a:pt x="1016" y="3706"/>
                  </a:lnTo>
                  <a:lnTo>
                    <a:pt x="1016" y="3706"/>
                  </a:lnTo>
                  <a:lnTo>
                    <a:pt x="1050" y="3710"/>
                  </a:lnTo>
                  <a:lnTo>
                    <a:pt x="1076" y="3716"/>
                  </a:lnTo>
                  <a:lnTo>
                    <a:pt x="1100" y="3722"/>
                  </a:lnTo>
                  <a:lnTo>
                    <a:pt x="1118" y="3728"/>
                  </a:lnTo>
                  <a:lnTo>
                    <a:pt x="1134" y="3736"/>
                  </a:lnTo>
                  <a:lnTo>
                    <a:pt x="1146" y="3742"/>
                  </a:lnTo>
                  <a:lnTo>
                    <a:pt x="1154" y="3748"/>
                  </a:lnTo>
                  <a:lnTo>
                    <a:pt x="1160" y="3754"/>
                  </a:lnTo>
                  <a:lnTo>
                    <a:pt x="1160" y="3754"/>
                  </a:lnTo>
                  <a:lnTo>
                    <a:pt x="1164" y="3762"/>
                  </a:lnTo>
                  <a:lnTo>
                    <a:pt x="1170" y="3772"/>
                  </a:lnTo>
                  <a:lnTo>
                    <a:pt x="1174" y="3784"/>
                  </a:lnTo>
                  <a:lnTo>
                    <a:pt x="1178" y="3798"/>
                  </a:lnTo>
                  <a:lnTo>
                    <a:pt x="1182" y="3832"/>
                  </a:lnTo>
                  <a:lnTo>
                    <a:pt x="1184" y="3878"/>
                  </a:lnTo>
                  <a:lnTo>
                    <a:pt x="1184" y="3878"/>
                  </a:lnTo>
                  <a:lnTo>
                    <a:pt x="1184" y="3880"/>
                  </a:lnTo>
                  <a:lnTo>
                    <a:pt x="898" y="3854"/>
                  </a:lnTo>
                  <a:lnTo>
                    <a:pt x="898" y="3854"/>
                  </a:lnTo>
                  <a:lnTo>
                    <a:pt x="886" y="3854"/>
                  </a:lnTo>
                  <a:lnTo>
                    <a:pt x="874" y="3854"/>
                  </a:lnTo>
                  <a:lnTo>
                    <a:pt x="862" y="3856"/>
                  </a:lnTo>
                  <a:lnTo>
                    <a:pt x="850" y="3860"/>
                  </a:lnTo>
                  <a:lnTo>
                    <a:pt x="838" y="3864"/>
                  </a:lnTo>
                  <a:lnTo>
                    <a:pt x="826" y="3870"/>
                  </a:lnTo>
                  <a:lnTo>
                    <a:pt x="816" y="3876"/>
                  </a:lnTo>
                  <a:lnTo>
                    <a:pt x="806" y="3884"/>
                  </a:lnTo>
                  <a:lnTo>
                    <a:pt x="806" y="3884"/>
                  </a:lnTo>
                  <a:lnTo>
                    <a:pt x="798" y="3894"/>
                  </a:lnTo>
                  <a:lnTo>
                    <a:pt x="790" y="3904"/>
                  </a:lnTo>
                  <a:lnTo>
                    <a:pt x="784" y="3914"/>
                  </a:lnTo>
                  <a:lnTo>
                    <a:pt x="778" y="3924"/>
                  </a:lnTo>
                  <a:lnTo>
                    <a:pt x="774" y="3936"/>
                  </a:lnTo>
                  <a:lnTo>
                    <a:pt x="770" y="3948"/>
                  </a:lnTo>
                  <a:lnTo>
                    <a:pt x="768" y="3960"/>
                  </a:lnTo>
                  <a:lnTo>
                    <a:pt x="768" y="3974"/>
                  </a:lnTo>
                  <a:lnTo>
                    <a:pt x="768" y="4276"/>
                  </a:lnTo>
                  <a:lnTo>
                    <a:pt x="614" y="4276"/>
                  </a:lnTo>
                  <a:lnTo>
                    <a:pt x="328" y="4168"/>
                  </a:lnTo>
                  <a:lnTo>
                    <a:pt x="328" y="4168"/>
                  </a:lnTo>
                  <a:lnTo>
                    <a:pt x="314" y="4164"/>
                  </a:lnTo>
                  <a:lnTo>
                    <a:pt x="300" y="4162"/>
                  </a:lnTo>
                  <a:lnTo>
                    <a:pt x="286" y="4160"/>
                  </a:lnTo>
                  <a:lnTo>
                    <a:pt x="272" y="4162"/>
                  </a:lnTo>
                  <a:lnTo>
                    <a:pt x="258" y="4164"/>
                  </a:lnTo>
                  <a:lnTo>
                    <a:pt x="244" y="4168"/>
                  </a:lnTo>
                  <a:lnTo>
                    <a:pt x="230" y="4174"/>
                  </a:lnTo>
                  <a:lnTo>
                    <a:pt x="218" y="4182"/>
                  </a:lnTo>
                  <a:lnTo>
                    <a:pt x="218" y="4182"/>
                  </a:lnTo>
                  <a:lnTo>
                    <a:pt x="206" y="4192"/>
                  </a:lnTo>
                  <a:lnTo>
                    <a:pt x="196" y="4202"/>
                  </a:lnTo>
                  <a:lnTo>
                    <a:pt x="186" y="4212"/>
                  </a:lnTo>
                  <a:lnTo>
                    <a:pt x="180" y="4226"/>
                  </a:lnTo>
                  <a:lnTo>
                    <a:pt x="174" y="4238"/>
                  </a:lnTo>
                  <a:lnTo>
                    <a:pt x="170" y="4252"/>
                  </a:lnTo>
                  <a:lnTo>
                    <a:pt x="166" y="4266"/>
                  </a:lnTo>
                  <a:lnTo>
                    <a:pt x="166" y="4280"/>
                  </a:lnTo>
                  <a:lnTo>
                    <a:pt x="166" y="5286"/>
                  </a:lnTo>
                  <a:lnTo>
                    <a:pt x="166" y="5286"/>
                  </a:lnTo>
                  <a:lnTo>
                    <a:pt x="166" y="5298"/>
                  </a:lnTo>
                  <a:lnTo>
                    <a:pt x="168" y="5310"/>
                  </a:lnTo>
                  <a:lnTo>
                    <a:pt x="176" y="5332"/>
                  </a:lnTo>
                  <a:lnTo>
                    <a:pt x="186" y="5354"/>
                  </a:lnTo>
                  <a:lnTo>
                    <a:pt x="200" y="5370"/>
                  </a:lnTo>
                  <a:lnTo>
                    <a:pt x="218" y="5386"/>
                  </a:lnTo>
                  <a:lnTo>
                    <a:pt x="240" y="5396"/>
                  </a:lnTo>
                  <a:lnTo>
                    <a:pt x="262" y="5404"/>
                  </a:lnTo>
                  <a:lnTo>
                    <a:pt x="274" y="5406"/>
                  </a:lnTo>
                  <a:lnTo>
                    <a:pt x="286" y="5406"/>
                  </a:lnTo>
                  <a:lnTo>
                    <a:pt x="286" y="5406"/>
                  </a:lnTo>
                  <a:lnTo>
                    <a:pt x="332" y="5404"/>
                  </a:lnTo>
                  <a:lnTo>
                    <a:pt x="374" y="5402"/>
                  </a:lnTo>
                  <a:lnTo>
                    <a:pt x="414" y="5396"/>
                  </a:lnTo>
                  <a:lnTo>
                    <a:pt x="454" y="5388"/>
                  </a:lnTo>
                  <a:lnTo>
                    <a:pt x="488" y="5380"/>
                  </a:lnTo>
                  <a:lnTo>
                    <a:pt x="522" y="5368"/>
                  </a:lnTo>
                  <a:lnTo>
                    <a:pt x="554" y="5354"/>
                  </a:lnTo>
                  <a:lnTo>
                    <a:pt x="582" y="5338"/>
                  </a:lnTo>
                  <a:lnTo>
                    <a:pt x="582" y="5338"/>
                  </a:lnTo>
                  <a:lnTo>
                    <a:pt x="604" y="5322"/>
                  </a:lnTo>
                  <a:lnTo>
                    <a:pt x="624" y="5306"/>
                  </a:lnTo>
                  <a:lnTo>
                    <a:pt x="642" y="5288"/>
                  </a:lnTo>
                  <a:lnTo>
                    <a:pt x="658" y="5268"/>
                  </a:lnTo>
                  <a:lnTo>
                    <a:pt x="670" y="5248"/>
                  </a:lnTo>
                  <a:lnTo>
                    <a:pt x="680" y="5228"/>
                  </a:lnTo>
                  <a:lnTo>
                    <a:pt x="686" y="5208"/>
                  </a:lnTo>
                  <a:lnTo>
                    <a:pt x="690" y="5188"/>
                  </a:lnTo>
                  <a:lnTo>
                    <a:pt x="768" y="5188"/>
                  </a:lnTo>
                  <a:lnTo>
                    <a:pt x="768" y="5798"/>
                  </a:lnTo>
                  <a:lnTo>
                    <a:pt x="768" y="5798"/>
                  </a:lnTo>
                  <a:lnTo>
                    <a:pt x="768" y="5810"/>
                  </a:lnTo>
                  <a:lnTo>
                    <a:pt x="770" y="5822"/>
                  </a:lnTo>
                  <a:lnTo>
                    <a:pt x="776" y="5844"/>
                  </a:lnTo>
                  <a:lnTo>
                    <a:pt x="788" y="5864"/>
                  </a:lnTo>
                  <a:lnTo>
                    <a:pt x="802" y="5882"/>
                  </a:lnTo>
                  <a:lnTo>
                    <a:pt x="820" y="5896"/>
                  </a:lnTo>
                  <a:lnTo>
                    <a:pt x="840" y="5908"/>
                  </a:lnTo>
                  <a:lnTo>
                    <a:pt x="864" y="5914"/>
                  </a:lnTo>
                  <a:lnTo>
                    <a:pt x="876" y="5916"/>
                  </a:lnTo>
                  <a:lnTo>
                    <a:pt x="888" y="5918"/>
                  </a:lnTo>
                  <a:lnTo>
                    <a:pt x="944" y="5918"/>
                  </a:lnTo>
                  <a:lnTo>
                    <a:pt x="944" y="5918"/>
                  </a:lnTo>
                  <a:lnTo>
                    <a:pt x="976" y="5916"/>
                  </a:lnTo>
                  <a:lnTo>
                    <a:pt x="1008" y="5912"/>
                  </a:lnTo>
                  <a:lnTo>
                    <a:pt x="1040" y="5906"/>
                  </a:lnTo>
                  <a:lnTo>
                    <a:pt x="1068" y="5900"/>
                  </a:lnTo>
                  <a:lnTo>
                    <a:pt x="1094" y="5890"/>
                  </a:lnTo>
                  <a:lnTo>
                    <a:pt x="1118" y="5882"/>
                  </a:lnTo>
                  <a:lnTo>
                    <a:pt x="1156" y="5866"/>
                  </a:lnTo>
                  <a:lnTo>
                    <a:pt x="1156" y="5866"/>
                  </a:lnTo>
                  <a:lnTo>
                    <a:pt x="1190" y="5848"/>
                  </a:lnTo>
                  <a:lnTo>
                    <a:pt x="1220" y="5830"/>
                  </a:lnTo>
                  <a:lnTo>
                    <a:pt x="1244" y="5810"/>
                  </a:lnTo>
                  <a:lnTo>
                    <a:pt x="1266" y="5790"/>
                  </a:lnTo>
                  <a:lnTo>
                    <a:pt x="1282" y="5768"/>
                  </a:lnTo>
                  <a:lnTo>
                    <a:pt x="1292" y="5746"/>
                  </a:lnTo>
                  <a:lnTo>
                    <a:pt x="1300" y="5722"/>
                  </a:lnTo>
                  <a:lnTo>
                    <a:pt x="1302" y="5698"/>
                  </a:lnTo>
                  <a:lnTo>
                    <a:pt x="1302" y="5188"/>
                  </a:lnTo>
                  <a:lnTo>
                    <a:pt x="1394" y="5188"/>
                  </a:lnTo>
                  <a:lnTo>
                    <a:pt x="1394" y="5260"/>
                  </a:lnTo>
                  <a:lnTo>
                    <a:pt x="1394" y="5260"/>
                  </a:lnTo>
                  <a:lnTo>
                    <a:pt x="1394" y="5274"/>
                  </a:lnTo>
                  <a:lnTo>
                    <a:pt x="1396" y="5286"/>
                  </a:lnTo>
                  <a:lnTo>
                    <a:pt x="1404" y="5308"/>
                  </a:lnTo>
                  <a:lnTo>
                    <a:pt x="1414" y="5328"/>
                  </a:lnTo>
                  <a:lnTo>
                    <a:pt x="1430" y="5346"/>
                  </a:lnTo>
                  <a:lnTo>
                    <a:pt x="1446" y="5360"/>
                  </a:lnTo>
                  <a:lnTo>
                    <a:pt x="1468" y="5372"/>
                  </a:lnTo>
                  <a:lnTo>
                    <a:pt x="1490" y="5378"/>
                  </a:lnTo>
                  <a:lnTo>
                    <a:pt x="1502" y="5380"/>
                  </a:lnTo>
                  <a:lnTo>
                    <a:pt x="1514" y="5380"/>
                  </a:lnTo>
                  <a:lnTo>
                    <a:pt x="1514" y="5380"/>
                  </a:lnTo>
                  <a:lnTo>
                    <a:pt x="1550" y="5380"/>
                  </a:lnTo>
                  <a:lnTo>
                    <a:pt x="1586" y="5378"/>
                  </a:lnTo>
                  <a:lnTo>
                    <a:pt x="1622" y="5376"/>
                  </a:lnTo>
                  <a:lnTo>
                    <a:pt x="1654" y="5372"/>
                  </a:lnTo>
                  <a:lnTo>
                    <a:pt x="1686" y="5366"/>
                  </a:lnTo>
                  <a:lnTo>
                    <a:pt x="1718" y="5360"/>
                  </a:lnTo>
                  <a:lnTo>
                    <a:pt x="1748" y="5352"/>
                  </a:lnTo>
                  <a:lnTo>
                    <a:pt x="1776" y="5342"/>
                  </a:lnTo>
                  <a:lnTo>
                    <a:pt x="1776" y="5342"/>
                  </a:lnTo>
                  <a:lnTo>
                    <a:pt x="1810" y="5328"/>
                  </a:lnTo>
                  <a:lnTo>
                    <a:pt x="1842" y="5314"/>
                  </a:lnTo>
                  <a:lnTo>
                    <a:pt x="1866" y="5298"/>
                  </a:lnTo>
                  <a:lnTo>
                    <a:pt x="1886" y="5280"/>
                  </a:lnTo>
                  <a:lnTo>
                    <a:pt x="1902" y="5262"/>
                  </a:lnTo>
                  <a:lnTo>
                    <a:pt x="1914" y="5242"/>
                  </a:lnTo>
                  <a:lnTo>
                    <a:pt x="1920" y="5220"/>
                  </a:lnTo>
                  <a:lnTo>
                    <a:pt x="1922" y="5196"/>
                  </a:lnTo>
                  <a:lnTo>
                    <a:pt x="1922" y="4574"/>
                  </a:lnTo>
                  <a:lnTo>
                    <a:pt x="1922" y="4574"/>
                  </a:lnTo>
                  <a:lnTo>
                    <a:pt x="1948" y="4554"/>
                  </a:lnTo>
                  <a:lnTo>
                    <a:pt x="1970" y="4532"/>
                  </a:lnTo>
                  <a:lnTo>
                    <a:pt x="1970" y="4532"/>
                  </a:lnTo>
                  <a:lnTo>
                    <a:pt x="1978" y="4522"/>
                  </a:lnTo>
                  <a:lnTo>
                    <a:pt x="1984" y="4512"/>
                  </a:lnTo>
                  <a:lnTo>
                    <a:pt x="1990" y="4500"/>
                  </a:lnTo>
                  <a:lnTo>
                    <a:pt x="1994" y="4490"/>
                  </a:lnTo>
                  <a:lnTo>
                    <a:pt x="1996" y="4478"/>
                  </a:lnTo>
                  <a:lnTo>
                    <a:pt x="1998" y="4464"/>
                  </a:lnTo>
                  <a:lnTo>
                    <a:pt x="2000" y="4452"/>
                  </a:lnTo>
                  <a:lnTo>
                    <a:pt x="1998" y="4440"/>
                  </a:lnTo>
                  <a:lnTo>
                    <a:pt x="1998" y="4440"/>
                  </a:lnTo>
                  <a:lnTo>
                    <a:pt x="1996" y="4426"/>
                  </a:lnTo>
                  <a:lnTo>
                    <a:pt x="1992" y="4414"/>
                  </a:lnTo>
                  <a:lnTo>
                    <a:pt x="1988" y="4404"/>
                  </a:lnTo>
                  <a:lnTo>
                    <a:pt x="1982" y="4392"/>
                  </a:lnTo>
                  <a:lnTo>
                    <a:pt x="1976" y="4382"/>
                  </a:lnTo>
                  <a:lnTo>
                    <a:pt x="1968" y="4372"/>
                  </a:lnTo>
                  <a:lnTo>
                    <a:pt x="1958" y="4364"/>
                  </a:lnTo>
                  <a:lnTo>
                    <a:pt x="1948" y="4356"/>
                  </a:lnTo>
                  <a:lnTo>
                    <a:pt x="1670" y="4160"/>
                  </a:lnTo>
                  <a:lnTo>
                    <a:pt x="1670" y="4160"/>
                  </a:lnTo>
                  <a:lnTo>
                    <a:pt x="1648" y="4148"/>
                  </a:lnTo>
                  <a:lnTo>
                    <a:pt x="1628" y="4140"/>
                  </a:lnTo>
                  <a:lnTo>
                    <a:pt x="1604" y="4138"/>
                  </a:lnTo>
                  <a:lnTo>
                    <a:pt x="1582" y="4140"/>
                  </a:lnTo>
                  <a:lnTo>
                    <a:pt x="1560" y="4144"/>
                  </a:lnTo>
                  <a:lnTo>
                    <a:pt x="1540" y="4154"/>
                  </a:lnTo>
                  <a:lnTo>
                    <a:pt x="1522" y="4168"/>
                  </a:lnTo>
                  <a:lnTo>
                    <a:pt x="1506" y="4184"/>
                  </a:lnTo>
                  <a:lnTo>
                    <a:pt x="1436" y="4276"/>
                  </a:lnTo>
                  <a:lnTo>
                    <a:pt x="1302" y="4276"/>
                  </a:lnTo>
                  <a:lnTo>
                    <a:pt x="1302" y="4142"/>
                  </a:lnTo>
                  <a:lnTo>
                    <a:pt x="1302" y="4142"/>
                  </a:lnTo>
                  <a:lnTo>
                    <a:pt x="1318" y="4128"/>
                  </a:lnTo>
                  <a:lnTo>
                    <a:pt x="1332" y="4116"/>
                  </a:lnTo>
                  <a:lnTo>
                    <a:pt x="1342" y="4100"/>
                  </a:lnTo>
                  <a:lnTo>
                    <a:pt x="1352" y="4086"/>
                  </a:lnTo>
                  <a:lnTo>
                    <a:pt x="1360" y="4070"/>
                  </a:lnTo>
                  <a:lnTo>
                    <a:pt x="1364" y="4056"/>
                  </a:lnTo>
                  <a:lnTo>
                    <a:pt x="1368" y="4040"/>
                  </a:lnTo>
                  <a:lnTo>
                    <a:pt x="1372" y="4024"/>
                  </a:lnTo>
                  <a:lnTo>
                    <a:pt x="1372" y="4024"/>
                  </a:lnTo>
                  <a:lnTo>
                    <a:pt x="1372" y="4006"/>
                  </a:lnTo>
                  <a:lnTo>
                    <a:pt x="1370" y="3988"/>
                  </a:lnTo>
                  <a:lnTo>
                    <a:pt x="1370" y="3988"/>
                  </a:lnTo>
                  <a:lnTo>
                    <a:pt x="1438" y="3976"/>
                  </a:lnTo>
                  <a:lnTo>
                    <a:pt x="1468" y="3968"/>
                  </a:lnTo>
                  <a:lnTo>
                    <a:pt x="1496" y="3960"/>
                  </a:lnTo>
                  <a:lnTo>
                    <a:pt x="1524" y="3952"/>
                  </a:lnTo>
                  <a:lnTo>
                    <a:pt x="1548" y="3942"/>
                  </a:lnTo>
                  <a:lnTo>
                    <a:pt x="1572" y="3932"/>
                  </a:lnTo>
                  <a:lnTo>
                    <a:pt x="1594" y="3920"/>
                  </a:lnTo>
                  <a:lnTo>
                    <a:pt x="1616" y="3910"/>
                  </a:lnTo>
                  <a:lnTo>
                    <a:pt x="1634" y="3896"/>
                  </a:lnTo>
                  <a:lnTo>
                    <a:pt x="1652" y="3884"/>
                  </a:lnTo>
                  <a:lnTo>
                    <a:pt x="1668" y="3870"/>
                  </a:lnTo>
                  <a:lnTo>
                    <a:pt x="1684" y="3856"/>
                  </a:lnTo>
                  <a:lnTo>
                    <a:pt x="1698" y="3842"/>
                  </a:lnTo>
                  <a:lnTo>
                    <a:pt x="1722" y="3812"/>
                  </a:lnTo>
                  <a:lnTo>
                    <a:pt x="1744" y="3780"/>
                  </a:lnTo>
                  <a:lnTo>
                    <a:pt x="1760" y="3746"/>
                  </a:lnTo>
                  <a:lnTo>
                    <a:pt x="1772" y="3710"/>
                  </a:lnTo>
                  <a:lnTo>
                    <a:pt x="1782" y="3676"/>
                  </a:lnTo>
                  <a:lnTo>
                    <a:pt x="1788" y="3638"/>
                  </a:lnTo>
                  <a:lnTo>
                    <a:pt x="1792" y="3602"/>
                  </a:lnTo>
                  <a:lnTo>
                    <a:pt x="1794" y="3564"/>
                  </a:lnTo>
                  <a:lnTo>
                    <a:pt x="1796" y="3528"/>
                  </a:lnTo>
                  <a:lnTo>
                    <a:pt x="1796" y="2740"/>
                  </a:lnTo>
                  <a:lnTo>
                    <a:pt x="1912" y="2740"/>
                  </a:lnTo>
                  <a:lnTo>
                    <a:pt x="1912" y="2740"/>
                  </a:lnTo>
                  <a:lnTo>
                    <a:pt x="1952" y="2738"/>
                  </a:lnTo>
                  <a:lnTo>
                    <a:pt x="1978" y="2736"/>
                  </a:lnTo>
                  <a:lnTo>
                    <a:pt x="2004" y="2730"/>
                  </a:lnTo>
                  <a:lnTo>
                    <a:pt x="2030" y="2722"/>
                  </a:lnTo>
                  <a:lnTo>
                    <a:pt x="2044" y="2716"/>
                  </a:lnTo>
                  <a:lnTo>
                    <a:pt x="2056" y="2708"/>
                  </a:lnTo>
                  <a:lnTo>
                    <a:pt x="2068" y="2700"/>
                  </a:lnTo>
                  <a:lnTo>
                    <a:pt x="2080" y="2690"/>
                  </a:lnTo>
                  <a:lnTo>
                    <a:pt x="2092" y="2678"/>
                  </a:lnTo>
                  <a:lnTo>
                    <a:pt x="2104" y="2664"/>
                  </a:lnTo>
                  <a:lnTo>
                    <a:pt x="2104" y="2664"/>
                  </a:lnTo>
                  <a:lnTo>
                    <a:pt x="2114" y="2644"/>
                  </a:lnTo>
                  <a:lnTo>
                    <a:pt x="2122" y="2624"/>
                  </a:lnTo>
                  <a:lnTo>
                    <a:pt x="2126" y="2602"/>
                  </a:lnTo>
                  <a:lnTo>
                    <a:pt x="2126" y="2580"/>
                  </a:lnTo>
                  <a:lnTo>
                    <a:pt x="2122" y="2560"/>
                  </a:lnTo>
                  <a:lnTo>
                    <a:pt x="2114" y="2540"/>
                  </a:lnTo>
                  <a:lnTo>
                    <a:pt x="2102" y="2520"/>
                  </a:lnTo>
                  <a:lnTo>
                    <a:pt x="2086" y="2504"/>
                  </a:lnTo>
                  <a:lnTo>
                    <a:pt x="2086" y="2504"/>
                  </a:lnTo>
                  <a:close/>
                  <a:moveTo>
                    <a:pt x="1088" y="1238"/>
                  </a:moveTo>
                  <a:lnTo>
                    <a:pt x="1088" y="1238"/>
                  </a:lnTo>
                  <a:lnTo>
                    <a:pt x="1058" y="1276"/>
                  </a:lnTo>
                  <a:lnTo>
                    <a:pt x="1026" y="1314"/>
                  </a:lnTo>
                  <a:lnTo>
                    <a:pt x="1026" y="1314"/>
                  </a:lnTo>
                  <a:lnTo>
                    <a:pt x="996" y="1296"/>
                  </a:lnTo>
                  <a:lnTo>
                    <a:pt x="966" y="1276"/>
                  </a:lnTo>
                  <a:lnTo>
                    <a:pt x="938" y="1258"/>
                  </a:lnTo>
                  <a:lnTo>
                    <a:pt x="912" y="1238"/>
                  </a:lnTo>
                  <a:lnTo>
                    <a:pt x="1088" y="1238"/>
                  </a:lnTo>
                  <a:close/>
                  <a:moveTo>
                    <a:pt x="1270" y="944"/>
                  </a:moveTo>
                  <a:lnTo>
                    <a:pt x="1246" y="966"/>
                  </a:lnTo>
                  <a:lnTo>
                    <a:pt x="576" y="966"/>
                  </a:lnTo>
                  <a:lnTo>
                    <a:pt x="576" y="966"/>
                  </a:lnTo>
                  <a:lnTo>
                    <a:pt x="578" y="944"/>
                  </a:lnTo>
                  <a:lnTo>
                    <a:pt x="1270" y="944"/>
                  </a:lnTo>
                  <a:close/>
                  <a:moveTo>
                    <a:pt x="1266" y="3380"/>
                  </a:moveTo>
                  <a:lnTo>
                    <a:pt x="1266" y="3442"/>
                  </a:lnTo>
                  <a:lnTo>
                    <a:pt x="1132" y="3442"/>
                  </a:lnTo>
                  <a:lnTo>
                    <a:pt x="1132" y="3442"/>
                  </a:lnTo>
                  <a:lnTo>
                    <a:pt x="1150" y="3438"/>
                  </a:lnTo>
                  <a:lnTo>
                    <a:pt x="1168" y="3434"/>
                  </a:lnTo>
                  <a:lnTo>
                    <a:pt x="1186" y="3428"/>
                  </a:lnTo>
                  <a:lnTo>
                    <a:pt x="1202" y="3420"/>
                  </a:lnTo>
                  <a:lnTo>
                    <a:pt x="1220" y="3412"/>
                  </a:lnTo>
                  <a:lnTo>
                    <a:pt x="1236" y="3402"/>
                  </a:lnTo>
                  <a:lnTo>
                    <a:pt x="1250" y="3392"/>
                  </a:lnTo>
                  <a:lnTo>
                    <a:pt x="1266" y="3380"/>
                  </a:lnTo>
                  <a:lnTo>
                    <a:pt x="1266" y="3380"/>
                  </a:lnTo>
                  <a:close/>
                  <a:moveTo>
                    <a:pt x="1090" y="2740"/>
                  </a:moveTo>
                  <a:lnTo>
                    <a:pt x="1266" y="2740"/>
                  </a:lnTo>
                  <a:lnTo>
                    <a:pt x="1266" y="2878"/>
                  </a:lnTo>
                  <a:lnTo>
                    <a:pt x="1266" y="2878"/>
                  </a:lnTo>
                  <a:lnTo>
                    <a:pt x="1232" y="2842"/>
                  </a:lnTo>
                  <a:lnTo>
                    <a:pt x="1190" y="2808"/>
                  </a:lnTo>
                  <a:lnTo>
                    <a:pt x="1144" y="2774"/>
                  </a:lnTo>
                  <a:lnTo>
                    <a:pt x="1118" y="2756"/>
                  </a:lnTo>
                  <a:lnTo>
                    <a:pt x="1090" y="2740"/>
                  </a:lnTo>
                  <a:lnTo>
                    <a:pt x="1090" y="2740"/>
                  </a:lnTo>
                  <a:close/>
                  <a:moveTo>
                    <a:pt x="1042" y="1834"/>
                  </a:moveTo>
                  <a:lnTo>
                    <a:pt x="1042" y="1834"/>
                  </a:lnTo>
                  <a:lnTo>
                    <a:pt x="1102" y="1870"/>
                  </a:lnTo>
                  <a:lnTo>
                    <a:pt x="1166" y="1902"/>
                  </a:lnTo>
                  <a:lnTo>
                    <a:pt x="1234" y="1934"/>
                  </a:lnTo>
                  <a:lnTo>
                    <a:pt x="1306" y="1964"/>
                  </a:lnTo>
                  <a:lnTo>
                    <a:pt x="1304" y="1964"/>
                  </a:lnTo>
                  <a:lnTo>
                    <a:pt x="1304" y="1964"/>
                  </a:lnTo>
                  <a:lnTo>
                    <a:pt x="1296" y="1974"/>
                  </a:lnTo>
                  <a:lnTo>
                    <a:pt x="1288" y="1984"/>
                  </a:lnTo>
                  <a:lnTo>
                    <a:pt x="1280" y="1994"/>
                  </a:lnTo>
                  <a:lnTo>
                    <a:pt x="1276" y="2004"/>
                  </a:lnTo>
                  <a:lnTo>
                    <a:pt x="1270" y="2016"/>
                  </a:lnTo>
                  <a:lnTo>
                    <a:pt x="1268" y="2028"/>
                  </a:lnTo>
                  <a:lnTo>
                    <a:pt x="1266" y="2040"/>
                  </a:lnTo>
                  <a:lnTo>
                    <a:pt x="1266" y="2054"/>
                  </a:lnTo>
                  <a:lnTo>
                    <a:pt x="1266" y="2470"/>
                  </a:lnTo>
                  <a:lnTo>
                    <a:pt x="794" y="2470"/>
                  </a:lnTo>
                  <a:lnTo>
                    <a:pt x="794" y="2470"/>
                  </a:lnTo>
                  <a:lnTo>
                    <a:pt x="830" y="2388"/>
                  </a:lnTo>
                  <a:lnTo>
                    <a:pt x="864" y="2306"/>
                  </a:lnTo>
                  <a:lnTo>
                    <a:pt x="864" y="2306"/>
                  </a:lnTo>
                  <a:lnTo>
                    <a:pt x="890" y="2296"/>
                  </a:lnTo>
                  <a:lnTo>
                    <a:pt x="910" y="2284"/>
                  </a:lnTo>
                  <a:lnTo>
                    <a:pt x="928" y="2270"/>
                  </a:lnTo>
                  <a:lnTo>
                    <a:pt x="942" y="2254"/>
                  </a:lnTo>
                  <a:lnTo>
                    <a:pt x="952" y="2238"/>
                  </a:lnTo>
                  <a:lnTo>
                    <a:pt x="962" y="2222"/>
                  </a:lnTo>
                  <a:lnTo>
                    <a:pt x="968" y="2208"/>
                  </a:lnTo>
                  <a:lnTo>
                    <a:pt x="974" y="2194"/>
                  </a:lnTo>
                  <a:lnTo>
                    <a:pt x="974" y="2194"/>
                  </a:lnTo>
                  <a:lnTo>
                    <a:pt x="978" y="2170"/>
                  </a:lnTo>
                  <a:lnTo>
                    <a:pt x="978" y="2148"/>
                  </a:lnTo>
                  <a:lnTo>
                    <a:pt x="974" y="2124"/>
                  </a:lnTo>
                  <a:lnTo>
                    <a:pt x="964" y="2102"/>
                  </a:lnTo>
                  <a:lnTo>
                    <a:pt x="964" y="2102"/>
                  </a:lnTo>
                  <a:lnTo>
                    <a:pt x="952" y="2082"/>
                  </a:lnTo>
                  <a:lnTo>
                    <a:pt x="934" y="2066"/>
                  </a:lnTo>
                  <a:lnTo>
                    <a:pt x="914" y="2052"/>
                  </a:lnTo>
                  <a:lnTo>
                    <a:pt x="892" y="2044"/>
                  </a:lnTo>
                  <a:lnTo>
                    <a:pt x="664" y="1976"/>
                  </a:lnTo>
                  <a:lnTo>
                    <a:pt x="664" y="1976"/>
                  </a:lnTo>
                  <a:lnTo>
                    <a:pt x="766" y="1944"/>
                  </a:lnTo>
                  <a:lnTo>
                    <a:pt x="862" y="1910"/>
                  </a:lnTo>
                  <a:lnTo>
                    <a:pt x="954" y="1874"/>
                  </a:lnTo>
                  <a:lnTo>
                    <a:pt x="1042" y="1834"/>
                  </a:lnTo>
                  <a:lnTo>
                    <a:pt x="1042" y="1834"/>
                  </a:lnTo>
                  <a:close/>
                  <a:moveTo>
                    <a:pt x="1302" y="4918"/>
                  </a:moveTo>
                  <a:lnTo>
                    <a:pt x="1302" y="4546"/>
                  </a:lnTo>
                  <a:lnTo>
                    <a:pt x="1394" y="4546"/>
                  </a:lnTo>
                  <a:lnTo>
                    <a:pt x="1394" y="4918"/>
                  </a:lnTo>
                  <a:lnTo>
                    <a:pt x="1302" y="4918"/>
                  </a:lnTo>
                  <a:close/>
                  <a:moveTo>
                    <a:pt x="690" y="4918"/>
                  </a:moveTo>
                  <a:lnTo>
                    <a:pt x="690" y="4546"/>
                  </a:lnTo>
                  <a:lnTo>
                    <a:pt x="768" y="4546"/>
                  </a:lnTo>
                  <a:lnTo>
                    <a:pt x="768" y="4918"/>
                  </a:lnTo>
                  <a:lnTo>
                    <a:pt x="690" y="49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19"/>
            <p:cNvSpPr/>
            <p:nvPr/>
          </p:nvSpPr>
          <p:spPr>
            <a:xfrm>
              <a:off x="3759120" y="11052000"/>
              <a:ext cx="2936880" cy="2901960"/>
            </a:xfrm>
            <a:custGeom>
              <a:avLst/>
              <a:gdLst/>
              <a:ahLst/>
              <a:rect l="l" t="t" r="r" b="b"/>
              <a:pathLst>
                <a:path w="1850" h="1828">
                  <a:moveTo>
                    <a:pt x="0" y="1072"/>
                  </a:moveTo>
                  <a:lnTo>
                    <a:pt x="0" y="1072"/>
                  </a:lnTo>
                  <a:lnTo>
                    <a:pt x="28" y="1024"/>
                  </a:lnTo>
                  <a:lnTo>
                    <a:pt x="54" y="972"/>
                  </a:lnTo>
                  <a:lnTo>
                    <a:pt x="80" y="916"/>
                  </a:lnTo>
                  <a:lnTo>
                    <a:pt x="106" y="856"/>
                  </a:lnTo>
                  <a:lnTo>
                    <a:pt x="132" y="794"/>
                  </a:lnTo>
                  <a:lnTo>
                    <a:pt x="156" y="730"/>
                  </a:lnTo>
                  <a:lnTo>
                    <a:pt x="182" y="662"/>
                  </a:lnTo>
                  <a:lnTo>
                    <a:pt x="206" y="592"/>
                  </a:lnTo>
                  <a:lnTo>
                    <a:pt x="230" y="522"/>
                  </a:lnTo>
                  <a:lnTo>
                    <a:pt x="252" y="448"/>
                  </a:lnTo>
                  <a:lnTo>
                    <a:pt x="274" y="374"/>
                  </a:lnTo>
                  <a:lnTo>
                    <a:pt x="296" y="300"/>
                  </a:lnTo>
                  <a:lnTo>
                    <a:pt x="314" y="224"/>
                  </a:lnTo>
                  <a:lnTo>
                    <a:pt x="332" y="148"/>
                  </a:lnTo>
                  <a:lnTo>
                    <a:pt x="350" y="74"/>
                  </a:lnTo>
                  <a:lnTo>
                    <a:pt x="364" y="0"/>
                  </a:lnTo>
                  <a:lnTo>
                    <a:pt x="738" y="110"/>
                  </a:lnTo>
                  <a:lnTo>
                    <a:pt x="738" y="110"/>
                  </a:lnTo>
                  <a:lnTo>
                    <a:pt x="736" y="120"/>
                  </a:lnTo>
                  <a:lnTo>
                    <a:pt x="730" y="128"/>
                  </a:lnTo>
                  <a:lnTo>
                    <a:pt x="724" y="134"/>
                  </a:lnTo>
                  <a:lnTo>
                    <a:pt x="716" y="140"/>
                  </a:lnTo>
                  <a:lnTo>
                    <a:pt x="706" y="144"/>
                  </a:lnTo>
                  <a:lnTo>
                    <a:pt x="692" y="148"/>
                  </a:lnTo>
                  <a:lnTo>
                    <a:pt x="676" y="150"/>
                  </a:lnTo>
                  <a:lnTo>
                    <a:pt x="658" y="152"/>
                  </a:lnTo>
                  <a:lnTo>
                    <a:pt x="658" y="152"/>
                  </a:lnTo>
                  <a:lnTo>
                    <a:pt x="622" y="244"/>
                  </a:lnTo>
                  <a:lnTo>
                    <a:pt x="582" y="334"/>
                  </a:lnTo>
                  <a:lnTo>
                    <a:pt x="540" y="420"/>
                  </a:lnTo>
                  <a:lnTo>
                    <a:pt x="496" y="502"/>
                  </a:lnTo>
                  <a:lnTo>
                    <a:pt x="578" y="532"/>
                  </a:lnTo>
                  <a:lnTo>
                    <a:pt x="578" y="532"/>
                  </a:lnTo>
                  <a:lnTo>
                    <a:pt x="574" y="538"/>
                  </a:lnTo>
                  <a:lnTo>
                    <a:pt x="572" y="544"/>
                  </a:lnTo>
                  <a:lnTo>
                    <a:pt x="566" y="550"/>
                  </a:lnTo>
                  <a:lnTo>
                    <a:pt x="560" y="556"/>
                  </a:lnTo>
                  <a:lnTo>
                    <a:pt x="542" y="564"/>
                  </a:lnTo>
                  <a:lnTo>
                    <a:pt x="518" y="570"/>
                  </a:lnTo>
                  <a:lnTo>
                    <a:pt x="518" y="1748"/>
                  </a:lnTo>
                  <a:lnTo>
                    <a:pt x="518" y="1748"/>
                  </a:lnTo>
                  <a:lnTo>
                    <a:pt x="516" y="1752"/>
                  </a:lnTo>
                  <a:lnTo>
                    <a:pt x="512" y="1758"/>
                  </a:lnTo>
                  <a:lnTo>
                    <a:pt x="496" y="1768"/>
                  </a:lnTo>
                  <a:lnTo>
                    <a:pt x="474" y="1782"/>
                  </a:lnTo>
                  <a:lnTo>
                    <a:pt x="444" y="1794"/>
                  </a:lnTo>
                  <a:lnTo>
                    <a:pt x="410" y="1808"/>
                  </a:lnTo>
                  <a:lnTo>
                    <a:pt x="372" y="1818"/>
                  </a:lnTo>
                  <a:lnTo>
                    <a:pt x="332" y="1824"/>
                  </a:lnTo>
                  <a:lnTo>
                    <a:pt x="312" y="1826"/>
                  </a:lnTo>
                  <a:lnTo>
                    <a:pt x="292" y="1828"/>
                  </a:lnTo>
                  <a:lnTo>
                    <a:pt x="240" y="1828"/>
                  </a:lnTo>
                  <a:lnTo>
                    <a:pt x="240" y="876"/>
                  </a:lnTo>
                  <a:lnTo>
                    <a:pt x="240" y="876"/>
                  </a:lnTo>
                  <a:lnTo>
                    <a:pt x="188" y="932"/>
                  </a:lnTo>
                  <a:lnTo>
                    <a:pt x="134" y="986"/>
                  </a:lnTo>
                  <a:lnTo>
                    <a:pt x="78" y="1038"/>
                  </a:lnTo>
                  <a:lnTo>
                    <a:pt x="22" y="1086"/>
                  </a:lnTo>
                  <a:lnTo>
                    <a:pt x="0" y="1072"/>
                  </a:lnTo>
                  <a:close/>
                  <a:moveTo>
                    <a:pt x="1588" y="1496"/>
                  </a:moveTo>
                  <a:lnTo>
                    <a:pt x="1850" y="1690"/>
                  </a:lnTo>
                  <a:lnTo>
                    <a:pt x="1850" y="1690"/>
                  </a:lnTo>
                  <a:lnTo>
                    <a:pt x="1844" y="1698"/>
                  </a:lnTo>
                  <a:lnTo>
                    <a:pt x="1836" y="1704"/>
                  </a:lnTo>
                  <a:lnTo>
                    <a:pt x="1828" y="1708"/>
                  </a:lnTo>
                  <a:lnTo>
                    <a:pt x="1818" y="1712"/>
                  </a:lnTo>
                  <a:lnTo>
                    <a:pt x="1790" y="1716"/>
                  </a:lnTo>
                  <a:lnTo>
                    <a:pt x="1756" y="1718"/>
                  </a:lnTo>
                  <a:lnTo>
                    <a:pt x="602" y="1718"/>
                  </a:lnTo>
                  <a:lnTo>
                    <a:pt x="602" y="1718"/>
                  </a:lnTo>
                  <a:lnTo>
                    <a:pt x="600" y="1702"/>
                  </a:lnTo>
                  <a:lnTo>
                    <a:pt x="594" y="1686"/>
                  </a:lnTo>
                  <a:lnTo>
                    <a:pt x="1030" y="1686"/>
                  </a:lnTo>
                  <a:lnTo>
                    <a:pt x="1030" y="1090"/>
                  </a:lnTo>
                  <a:lnTo>
                    <a:pt x="690" y="1090"/>
                  </a:lnTo>
                  <a:lnTo>
                    <a:pt x="690" y="1090"/>
                  </a:lnTo>
                  <a:lnTo>
                    <a:pt x="688" y="1072"/>
                  </a:lnTo>
                  <a:lnTo>
                    <a:pt x="684" y="1058"/>
                  </a:lnTo>
                  <a:lnTo>
                    <a:pt x="1030" y="1058"/>
                  </a:lnTo>
                  <a:lnTo>
                    <a:pt x="1030" y="516"/>
                  </a:lnTo>
                  <a:lnTo>
                    <a:pt x="642" y="516"/>
                  </a:lnTo>
                  <a:lnTo>
                    <a:pt x="636" y="486"/>
                  </a:lnTo>
                  <a:lnTo>
                    <a:pt x="1394" y="486"/>
                  </a:lnTo>
                  <a:lnTo>
                    <a:pt x="1532" y="302"/>
                  </a:lnTo>
                  <a:lnTo>
                    <a:pt x="1786" y="490"/>
                  </a:lnTo>
                  <a:lnTo>
                    <a:pt x="1786" y="490"/>
                  </a:lnTo>
                  <a:lnTo>
                    <a:pt x="1780" y="496"/>
                  </a:lnTo>
                  <a:lnTo>
                    <a:pt x="1772" y="502"/>
                  </a:lnTo>
                  <a:lnTo>
                    <a:pt x="1764" y="508"/>
                  </a:lnTo>
                  <a:lnTo>
                    <a:pt x="1752" y="510"/>
                  </a:lnTo>
                  <a:lnTo>
                    <a:pt x="1740" y="514"/>
                  </a:lnTo>
                  <a:lnTo>
                    <a:pt x="1726" y="516"/>
                  </a:lnTo>
                  <a:lnTo>
                    <a:pt x="1690" y="516"/>
                  </a:lnTo>
                  <a:lnTo>
                    <a:pt x="1324" y="516"/>
                  </a:lnTo>
                  <a:lnTo>
                    <a:pt x="1324" y="1058"/>
                  </a:lnTo>
                  <a:lnTo>
                    <a:pt x="1372" y="1058"/>
                  </a:lnTo>
                  <a:lnTo>
                    <a:pt x="1500" y="888"/>
                  </a:lnTo>
                  <a:lnTo>
                    <a:pt x="1734" y="1062"/>
                  </a:lnTo>
                  <a:lnTo>
                    <a:pt x="1734" y="1062"/>
                  </a:lnTo>
                  <a:lnTo>
                    <a:pt x="1728" y="1070"/>
                  </a:lnTo>
                  <a:lnTo>
                    <a:pt x="1722" y="1076"/>
                  </a:lnTo>
                  <a:lnTo>
                    <a:pt x="1712" y="1080"/>
                  </a:lnTo>
                  <a:lnTo>
                    <a:pt x="1702" y="1084"/>
                  </a:lnTo>
                  <a:lnTo>
                    <a:pt x="1676" y="1088"/>
                  </a:lnTo>
                  <a:lnTo>
                    <a:pt x="1642" y="1090"/>
                  </a:lnTo>
                  <a:lnTo>
                    <a:pt x="1324" y="1090"/>
                  </a:lnTo>
                  <a:lnTo>
                    <a:pt x="1324" y="1686"/>
                  </a:lnTo>
                  <a:lnTo>
                    <a:pt x="1444" y="1686"/>
                  </a:lnTo>
                  <a:lnTo>
                    <a:pt x="1588" y="1496"/>
                  </a:lnTo>
                  <a:close/>
                  <a:moveTo>
                    <a:pt x="876" y="4"/>
                  </a:moveTo>
                  <a:lnTo>
                    <a:pt x="876" y="4"/>
                  </a:lnTo>
                  <a:lnTo>
                    <a:pt x="944" y="4"/>
                  </a:lnTo>
                  <a:lnTo>
                    <a:pt x="1008" y="10"/>
                  </a:lnTo>
                  <a:lnTo>
                    <a:pt x="1066" y="16"/>
                  </a:lnTo>
                  <a:lnTo>
                    <a:pt x="1118" y="26"/>
                  </a:lnTo>
                  <a:lnTo>
                    <a:pt x="1166" y="38"/>
                  </a:lnTo>
                  <a:lnTo>
                    <a:pt x="1208" y="52"/>
                  </a:lnTo>
                  <a:lnTo>
                    <a:pt x="1244" y="68"/>
                  </a:lnTo>
                  <a:lnTo>
                    <a:pt x="1276" y="86"/>
                  </a:lnTo>
                  <a:lnTo>
                    <a:pt x="1304" y="104"/>
                  </a:lnTo>
                  <a:lnTo>
                    <a:pt x="1328" y="124"/>
                  </a:lnTo>
                  <a:lnTo>
                    <a:pt x="1348" y="146"/>
                  </a:lnTo>
                  <a:lnTo>
                    <a:pt x="1362" y="168"/>
                  </a:lnTo>
                  <a:lnTo>
                    <a:pt x="1374" y="190"/>
                  </a:lnTo>
                  <a:lnTo>
                    <a:pt x="1382" y="212"/>
                  </a:lnTo>
                  <a:lnTo>
                    <a:pt x="1388" y="234"/>
                  </a:lnTo>
                  <a:lnTo>
                    <a:pt x="1388" y="256"/>
                  </a:lnTo>
                  <a:lnTo>
                    <a:pt x="1388" y="256"/>
                  </a:lnTo>
                  <a:lnTo>
                    <a:pt x="1388" y="274"/>
                  </a:lnTo>
                  <a:lnTo>
                    <a:pt x="1386" y="290"/>
                  </a:lnTo>
                  <a:lnTo>
                    <a:pt x="1382" y="306"/>
                  </a:lnTo>
                  <a:lnTo>
                    <a:pt x="1376" y="322"/>
                  </a:lnTo>
                  <a:lnTo>
                    <a:pt x="1368" y="336"/>
                  </a:lnTo>
                  <a:lnTo>
                    <a:pt x="1360" y="350"/>
                  </a:lnTo>
                  <a:lnTo>
                    <a:pt x="1352" y="362"/>
                  </a:lnTo>
                  <a:lnTo>
                    <a:pt x="1342" y="374"/>
                  </a:lnTo>
                  <a:lnTo>
                    <a:pt x="1330" y="386"/>
                  </a:lnTo>
                  <a:lnTo>
                    <a:pt x="1318" y="394"/>
                  </a:lnTo>
                  <a:lnTo>
                    <a:pt x="1304" y="404"/>
                  </a:lnTo>
                  <a:lnTo>
                    <a:pt x="1290" y="410"/>
                  </a:lnTo>
                  <a:lnTo>
                    <a:pt x="1274" y="416"/>
                  </a:lnTo>
                  <a:lnTo>
                    <a:pt x="1260" y="420"/>
                  </a:lnTo>
                  <a:lnTo>
                    <a:pt x="1244" y="424"/>
                  </a:lnTo>
                  <a:lnTo>
                    <a:pt x="1228" y="424"/>
                  </a:lnTo>
                  <a:lnTo>
                    <a:pt x="1228" y="424"/>
                  </a:lnTo>
                  <a:lnTo>
                    <a:pt x="1200" y="422"/>
                  </a:lnTo>
                  <a:lnTo>
                    <a:pt x="1188" y="418"/>
                  </a:lnTo>
                  <a:lnTo>
                    <a:pt x="1174" y="414"/>
                  </a:lnTo>
                  <a:lnTo>
                    <a:pt x="1160" y="410"/>
                  </a:lnTo>
                  <a:lnTo>
                    <a:pt x="1146" y="402"/>
                  </a:lnTo>
                  <a:lnTo>
                    <a:pt x="1134" y="394"/>
                  </a:lnTo>
                  <a:lnTo>
                    <a:pt x="1120" y="384"/>
                  </a:lnTo>
                  <a:lnTo>
                    <a:pt x="1120" y="384"/>
                  </a:lnTo>
                  <a:lnTo>
                    <a:pt x="1102" y="332"/>
                  </a:lnTo>
                  <a:lnTo>
                    <a:pt x="1078" y="280"/>
                  </a:lnTo>
                  <a:lnTo>
                    <a:pt x="1052" y="230"/>
                  </a:lnTo>
                  <a:lnTo>
                    <a:pt x="1022" y="180"/>
                  </a:lnTo>
                  <a:lnTo>
                    <a:pt x="988" y="132"/>
                  </a:lnTo>
                  <a:lnTo>
                    <a:pt x="970" y="110"/>
                  </a:lnTo>
                  <a:lnTo>
                    <a:pt x="950" y="88"/>
                  </a:lnTo>
                  <a:lnTo>
                    <a:pt x="930" y="68"/>
                  </a:lnTo>
                  <a:lnTo>
                    <a:pt x="910" y="50"/>
                  </a:lnTo>
                  <a:lnTo>
                    <a:pt x="890" y="32"/>
                  </a:lnTo>
                  <a:lnTo>
                    <a:pt x="868" y="14"/>
                  </a:lnTo>
                  <a:lnTo>
                    <a:pt x="876" y="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20"/>
            <p:cNvSpPr/>
            <p:nvPr/>
          </p:nvSpPr>
          <p:spPr>
            <a:xfrm>
              <a:off x="3819240" y="14100120"/>
              <a:ext cx="2860560" cy="2822400"/>
            </a:xfrm>
            <a:custGeom>
              <a:avLst/>
              <a:gdLst>
                <a:gd name="textAreaLeft" fmla="*/ 0 w 2860560"/>
                <a:gd name="textAreaRight" fmla="*/ 2860920 w 2860560"/>
                <a:gd name="textAreaTop" fmla="*/ 0 h 2822400"/>
                <a:gd name="textAreaBottom" fmla="*/ 2822760 h 2822400"/>
              </a:gdLst>
              <a:ahLst/>
              <a:rect l="textAreaLeft" t="textAreaTop" r="textAreaRight" b="textAreaBottom"/>
              <a:pathLst>
                <a:path w="1802" h="1778">
                  <a:moveTo>
                    <a:pt x="1570" y="180"/>
                  </a:moveTo>
                  <a:lnTo>
                    <a:pt x="1802" y="400"/>
                  </a:lnTo>
                  <a:lnTo>
                    <a:pt x="1802" y="400"/>
                  </a:lnTo>
                  <a:lnTo>
                    <a:pt x="1790" y="410"/>
                  </a:lnTo>
                  <a:lnTo>
                    <a:pt x="1774" y="418"/>
                  </a:lnTo>
                  <a:lnTo>
                    <a:pt x="1754" y="422"/>
                  </a:lnTo>
                  <a:lnTo>
                    <a:pt x="1728" y="424"/>
                  </a:lnTo>
                  <a:lnTo>
                    <a:pt x="1728" y="424"/>
                  </a:lnTo>
                  <a:lnTo>
                    <a:pt x="1696" y="450"/>
                  </a:lnTo>
                  <a:lnTo>
                    <a:pt x="1660" y="480"/>
                  </a:lnTo>
                  <a:lnTo>
                    <a:pt x="1620" y="508"/>
                  </a:lnTo>
                  <a:lnTo>
                    <a:pt x="1580" y="536"/>
                  </a:lnTo>
                  <a:lnTo>
                    <a:pt x="1536" y="564"/>
                  </a:lnTo>
                  <a:lnTo>
                    <a:pt x="1494" y="590"/>
                  </a:lnTo>
                  <a:lnTo>
                    <a:pt x="1452" y="614"/>
                  </a:lnTo>
                  <a:lnTo>
                    <a:pt x="1412" y="634"/>
                  </a:lnTo>
                  <a:lnTo>
                    <a:pt x="1398" y="622"/>
                  </a:lnTo>
                  <a:lnTo>
                    <a:pt x="1398" y="622"/>
                  </a:lnTo>
                  <a:lnTo>
                    <a:pt x="1414" y="562"/>
                  </a:lnTo>
                  <a:lnTo>
                    <a:pt x="1430" y="490"/>
                  </a:lnTo>
                  <a:lnTo>
                    <a:pt x="1442" y="416"/>
                  </a:lnTo>
                  <a:lnTo>
                    <a:pt x="1452" y="346"/>
                  </a:lnTo>
                  <a:lnTo>
                    <a:pt x="322" y="346"/>
                  </a:lnTo>
                  <a:lnTo>
                    <a:pt x="322" y="346"/>
                  </a:lnTo>
                  <a:lnTo>
                    <a:pt x="328" y="390"/>
                  </a:lnTo>
                  <a:lnTo>
                    <a:pt x="330" y="430"/>
                  </a:lnTo>
                  <a:lnTo>
                    <a:pt x="330" y="430"/>
                  </a:lnTo>
                  <a:lnTo>
                    <a:pt x="330" y="452"/>
                  </a:lnTo>
                  <a:lnTo>
                    <a:pt x="328" y="474"/>
                  </a:lnTo>
                  <a:lnTo>
                    <a:pt x="324" y="494"/>
                  </a:lnTo>
                  <a:lnTo>
                    <a:pt x="320" y="516"/>
                  </a:lnTo>
                  <a:lnTo>
                    <a:pt x="312" y="536"/>
                  </a:lnTo>
                  <a:lnTo>
                    <a:pt x="306" y="556"/>
                  </a:lnTo>
                  <a:lnTo>
                    <a:pt x="296" y="574"/>
                  </a:lnTo>
                  <a:lnTo>
                    <a:pt x="286" y="590"/>
                  </a:lnTo>
                  <a:lnTo>
                    <a:pt x="274" y="606"/>
                  </a:lnTo>
                  <a:lnTo>
                    <a:pt x="260" y="620"/>
                  </a:lnTo>
                  <a:lnTo>
                    <a:pt x="244" y="632"/>
                  </a:lnTo>
                  <a:lnTo>
                    <a:pt x="228" y="642"/>
                  </a:lnTo>
                  <a:lnTo>
                    <a:pt x="210" y="652"/>
                  </a:lnTo>
                  <a:lnTo>
                    <a:pt x="190" y="658"/>
                  </a:lnTo>
                  <a:lnTo>
                    <a:pt x="168" y="662"/>
                  </a:lnTo>
                  <a:lnTo>
                    <a:pt x="146" y="662"/>
                  </a:lnTo>
                  <a:lnTo>
                    <a:pt x="146" y="662"/>
                  </a:lnTo>
                  <a:lnTo>
                    <a:pt x="118" y="660"/>
                  </a:lnTo>
                  <a:lnTo>
                    <a:pt x="92" y="654"/>
                  </a:lnTo>
                  <a:lnTo>
                    <a:pt x="66" y="646"/>
                  </a:lnTo>
                  <a:lnTo>
                    <a:pt x="54" y="638"/>
                  </a:lnTo>
                  <a:lnTo>
                    <a:pt x="44" y="632"/>
                  </a:lnTo>
                  <a:lnTo>
                    <a:pt x="34" y="624"/>
                  </a:lnTo>
                  <a:lnTo>
                    <a:pt x="26" y="614"/>
                  </a:lnTo>
                  <a:lnTo>
                    <a:pt x="18" y="604"/>
                  </a:lnTo>
                  <a:lnTo>
                    <a:pt x="12" y="592"/>
                  </a:lnTo>
                  <a:lnTo>
                    <a:pt x="6" y="580"/>
                  </a:lnTo>
                  <a:lnTo>
                    <a:pt x="2" y="568"/>
                  </a:lnTo>
                  <a:lnTo>
                    <a:pt x="0" y="552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2" y="516"/>
                  </a:lnTo>
                  <a:lnTo>
                    <a:pt x="8" y="494"/>
                  </a:lnTo>
                  <a:lnTo>
                    <a:pt x="16" y="476"/>
                  </a:lnTo>
                  <a:lnTo>
                    <a:pt x="30" y="458"/>
                  </a:lnTo>
                  <a:lnTo>
                    <a:pt x="44" y="440"/>
                  </a:lnTo>
                  <a:lnTo>
                    <a:pt x="62" y="426"/>
                  </a:lnTo>
                  <a:lnTo>
                    <a:pt x="80" y="412"/>
                  </a:lnTo>
                  <a:lnTo>
                    <a:pt x="102" y="402"/>
                  </a:lnTo>
                  <a:lnTo>
                    <a:pt x="102" y="402"/>
                  </a:lnTo>
                  <a:lnTo>
                    <a:pt x="128" y="388"/>
                  </a:lnTo>
                  <a:lnTo>
                    <a:pt x="154" y="368"/>
                  </a:lnTo>
                  <a:lnTo>
                    <a:pt x="180" y="346"/>
                  </a:lnTo>
                  <a:lnTo>
                    <a:pt x="202" y="320"/>
                  </a:lnTo>
                  <a:lnTo>
                    <a:pt x="224" y="290"/>
                  </a:lnTo>
                  <a:lnTo>
                    <a:pt x="232" y="274"/>
                  </a:lnTo>
                  <a:lnTo>
                    <a:pt x="240" y="258"/>
                  </a:lnTo>
                  <a:lnTo>
                    <a:pt x="246" y="242"/>
                  </a:lnTo>
                  <a:lnTo>
                    <a:pt x="250" y="226"/>
                  </a:lnTo>
                  <a:lnTo>
                    <a:pt x="254" y="208"/>
                  </a:lnTo>
                  <a:lnTo>
                    <a:pt x="256" y="192"/>
                  </a:lnTo>
                  <a:lnTo>
                    <a:pt x="278" y="192"/>
                  </a:lnTo>
                  <a:lnTo>
                    <a:pt x="278" y="192"/>
                  </a:lnTo>
                  <a:lnTo>
                    <a:pt x="300" y="256"/>
                  </a:lnTo>
                  <a:lnTo>
                    <a:pt x="310" y="286"/>
                  </a:lnTo>
                  <a:lnTo>
                    <a:pt x="316" y="314"/>
                  </a:lnTo>
                  <a:lnTo>
                    <a:pt x="750" y="314"/>
                  </a:lnTo>
                  <a:lnTo>
                    <a:pt x="750" y="0"/>
                  </a:lnTo>
                  <a:lnTo>
                    <a:pt x="1112" y="34"/>
                  </a:lnTo>
                  <a:lnTo>
                    <a:pt x="1112" y="34"/>
                  </a:lnTo>
                  <a:lnTo>
                    <a:pt x="1110" y="42"/>
                  </a:lnTo>
                  <a:lnTo>
                    <a:pt x="1106" y="50"/>
                  </a:lnTo>
                  <a:lnTo>
                    <a:pt x="1102" y="58"/>
                  </a:lnTo>
                  <a:lnTo>
                    <a:pt x="1094" y="64"/>
                  </a:lnTo>
                  <a:lnTo>
                    <a:pt x="1086" y="70"/>
                  </a:lnTo>
                  <a:lnTo>
                    <a:pt x="1072" y="74"/>
                  </a:lnTo>
                  <a:lnTo>
                    <a:pt x="1058" y="78"/>
                  </a:lnTo>
                  <a:lnTo>
                    <a:pt x="1040" y="82"/>
                  </a:lnTo>
                  <a:lnTo>
                    <a:pt x="1040" y="314"/>
                  </a:lnTo>
                  <a:lnTo>
                    <a:pt x="1436" y="314"/>
                  </a:lnTo>
                  <a:lnTo>
                    <a:pt x="1570" y="180"/>
                  </a:lnTo>
                  <a:close/>
                  <a:moveTo>
                    <a:pt x="1386" y="1016"/>
                  </a:moveTo>
                  <a:lnTo>
                    <a:pt x="1502" y="824"/>
                  </a:lnTo>
                  <a:lnTo>
                    <a:pt x="1780" y="970"/>
                  </a:lnTo>
                  <a:lnTo>
                    <a:pt x="1780" y="970"/>
                  </a:lnTo>
                  <a:lnTo>
                    <a:pt x="1774" y="978"/>
                  </a:lnTo>
                  <a:lnTo>
                    <a:pt x="1768" y="984"/>
                  </a:lnTo>
                  <a:lnTo>
                    <a:pt x="1760" y="990"/>
                  </a:lnTo>
                  <a:lnTo>
                    <a:pt x="1750" y="994"/>
                  </a:lnTo>
                  <a:lnTo>
                    <a:pt x="1726" y="1002"/>
                  </a:lnTo>
                  <a:lnTo>
                    <a:pt x="1694" y="1006"/>
                  </a:lnTo>
                  <a:lnTo>
                    <a:pt x="958" y="1100"/>
                  </a:lnTo>
                  <a:lnTo>
                    <a:pt x="958" y="1478"/>
                  </a:lnTo>
                  <a:lnTo>
                    <a:pt x="958" y="1478"/>
                  </a:lnTo>
                  <a:lnTo>
                    <a:pt x="960" y="1498"/>
                  </a:lnTo>
                  <a:lnTo>
                    <a:pt x="960" y="1512"/>
                  </a:lnTo>
                  <a:lnTo>
                    <a:pt x="964" y="1524"/>
                  </a:lnTo>
                  <a:lnTo>
                    <a:pt x="972" y="1532"/>
                  </a:lnTo>
                  <a:lnTo>
                    <a:pt x="980" y="1538"/>
                  </a:lnTo>
                  <a:lnTo>
                    <a:pt x="994" y="1540"/>
                  </a:lnTo>
                  <a:lnTo>
                    <a:pt x="1012" y="1542"/>
                  </a:lnTo>
                  <a:lnTo>
                    <a:pt x="1036" y="1542"/>
                  </a:lnTo>
                  <a:lnTo>
                    <a:pt x="1386" y="1542"/>
                  </a:lnTo>
                  <a:lnTo>
                    <a:pt x="1386" y="1542"/>
                  </a:lnTo>
                  <a:lnTo>
                    <a:pt x="1418" y="1542"/>
                  </a:lnTo>
                  <a:lnTo>
                    <a:pt x="1432" y="1540"/>
                  </a:lnTo>
                  <a:lnTo>
                    <a:pt x="1444" y="1538"/>
                  </a:lnTo>
                  <a:lnTo>
                    <a:pt x="1456" y="1534"/>
                  </a:lnTo>
                  <a:lnTo>
                    <a:pt x="1466" y="1528"/>
                  </a:lnTo>
                  <a:lnTo>
                    <a:pt x="1476" y="1520"/>
                  </a:lnTo>
                  <a:lnTo>
                    <a:pt x="1488" y="1510"/>
                  </a:lnTo>
                  <a:lnTo>
                    <a:pt x="1488" y="1510"/>
                  </a:lnTo>
                  <a:lnTo>
                    <a:pt x="1498" y="1496"/>
                  </a:lnTo>
                  <a:lnTo>
                    <a:pt x="1510" y="1476"/>
                  </a:lnTo>
                  <a:lnTo>
                    <a:pt x="1536" y="1422"/>
                  </a:lnTo>
                  <a:lnTo>
                    <a:pt x="1570" y="1350"/>
                  </a:lnTo>
                  <a:lnTo>
                    <a:pt x="1608" y="1258"/>
                  </a:lnTo>
                  <a:lnTo>
                    <a:pt x="1620" y="1258"/>
                  </a:lnTo>
                  <a:lnTo>
                    <a:pt x="1618" y="1518"/>
                  </a:lnTo>
                  <a:lnTo>
                    <a:pt x="1618" y="1518"/>
                  </a:lnTo>
                  <a:lnTo>
                    <a:pt x="1652" y="1532"/>
                  </a:lnTo>
                  <a:lnTo>
                    <a:pt x="1678" y="1544"/>
                  </a:lnTo>
                  <a:lnTo>
                    <a:pt x="1698" y="1554"/>
                  </a:lnTo>
                  <a:lnTo>
                    <a:pt x="1712" y="1564"/>
                  </a:lnTo>
                  <a:lnTo>
                    <a:pt x="1722" y="1576"/>
                  </a:lnTo>
                  <a:lnTo>
                    <a:pt x="1730" y="1586"/>
                  </a:lnTo>
                  <a:lnTo>
                    <a:pt x="1732" y="1598"/>
                  </a:lnTo>
                  <a:lnTo>
                    <a:pt x="1734" y="1612"/>
                  </a:lnTo>
                  <a:lnTo>
                    <a:pt x="1734" y="1612"/>
                  </a:lnTo>
                  <a:lnTo>
                    <a:pt x="1732" y="1632"/>
                  </a:lnTo>
                  <a:lnTo>
                    <a:pt x="1730" y="1650"/>
                  </a:lnTo>
                  <a:lnTo>
                    <a:pt x="1724" y="1668"/>
                  </a:lnTo>
                  <a:lnTo>
                    <a:pt x="1718" y="1684"/>
                  </a:lnTo>
                  <a:lnTo>
                    <a:pt x="1708" y="1698"/>
                  </a:lnTo>
                  <a:lnTo>
                    <a:pt x="1696" y="1712"/>
                  </a:lnTo>
                  <a:lnTo>
                    <a:pt x="1682" y="1724"/>
                  </a:lnTo>
                  <a:lnTo>
                    <a:pt x="1662" y="1734"/>
                  </a:lnTo>
                  <a:lnTo>
                    <a:pt x="1642" y="1744"/>
                  </a:lnTo>
                  <a:lnTo>
                    <a:pt x="1616" y="1754"/>
                  </a:lnTo>
                  <a:lnTo>
                    <a:pt x="1588" y="1760"/>
                  </a:lnTo>
                  <a:lnTo>
                    <a:pt x="1554" y="1766"/>
                  </a:lnTo>
                  <a:lnTo>
                    <a:pt x="1518" y="1772"/>
                  </a:lnTo>
                  <a:lnTo>
                    <a:pt x="1476" y="1774"/>
                  </a:lnTo>
                  <a:lnTo>
                    <a:pt x="1430" y="1776"/>
                  </a:lnTo>
                  <a:lnTo>
                    <a:pt x="1380" y="1778"/>
                  </a:lnTo>
                  <a:lnTo>
                    <a:pt x="1034" y="1778"/>
                  </a:lnTo>
                  <a:lnTo>
                    <a:pt x="1034" y="1778"/>
                  </a:lnTo>
                  <a:lnTo>
                    <a:pt x="982" y="1776"/>
                  </a:lnTo>
                  <a:lnTo>
                    <a:pt x="938" y="1774"/>
                  </a:lnTo>
                  <a:lnTo>
                    <a:pt x="896" y="1770"/>
                  </a:lnTo>
                  <a:lnTo>
                    <a:pt x="860" y="1764"/>
                  </a:lnTo>
                  <a:lnTo>
                    <a:pt x="826" y="1756"/>
                  </a:lnTo>
                  <a:lnTo>
                    <a:pt x="798" y="1746"/>
                  </a:lnTo>
                  <a:lnTo>
                    <a:pt x="772" y="1732"/>
                  </a:lnTo>
                  <a:lnTo>
                    <a:pt x="750" y="1718"/>
                  </a:lnTo>
                  <a:lnTo>
                    <a:pt x="732" y="1698"/>
                  </a:lnTo>
                  <a:lnTo>
                    <a:pt x="718" y="1678"/>
                  </a:lnTo>
                  <a:lnTo>
                    <a:pt x="704" y="1652"/>
                  </a:lnTo>
                  <a:lnTo>
                    <a:pt x="696" y="1624"/>
                  </a:lnTo>
                  <a:lnTo>
                    <a:pt x="688" y="1592"/>
                  </a:lnTo>
                  <a:lnTo>
                    <a:pt x="684" y="1556"/>
                  </a:lnTo>
                  <a:lnTo>
                    <a:pt x="680" y="1516"/>
                  </a:lnTo>
                  <a:lnTo>
                    <a:pt x="680" y="1472"/>
                  </a:lnTo>
                  <a:lnTo>
                    <a:pt x="680" y="1136"/>
                  </a:lnTo>
                  <a:lnTo>
                    <a:pt x="12" y="1220"/>
                  </a:lnTo>
                  <a:lnTo>
                    <a:pt x="2" y="1192"/>
                  </a:lnTo>
                  <a:lnTo>
                    <a:pt x="680" y="1104"/>
                  </a:lnTo>
                  <a:lnTo>
                    <a:pt x="680" y="736"/>
                  </a:lnTo>
                  <a:lnTo>
                    <a:pt x="680" y="736"/>
                  </a:lnTo>
                  <a:lnTo>
                    <a:pt x="560" y="754"/>
                  </a:lnTo>
                  <a:lnTo>
                    <a:pt x="440" y="770"/>
                  </a:lnTo>
                  <a:lnTo>
                    <a:pt x="318" y="784"/>
                  </a:lnTo>
                  <a:lnTo>
                    <a:pt x="200" y="794"/>
                  </a:lnTo>
                  <a:lnTo>
                    <a:pt x="194" y="770"/>
                  </a:lnTo>
                  <a:lnTo>
                    <a:pt x="194" y="770"/>
                  </a:lnTo>
                  <a:lnTo>
                    <a:pt x="258" y="752"/>
                  </a:lnTo>
                  <a:lnTo>
                    <a:pt x="322" y="732"/>
                  </a:lnTo>
                  <a:lnTo>
                    <a:pt x="386" y="710"/>
                  </a:lnTo>
                  <a:lnTo>
                    <a:pt x="452" y="688"/>
                  </a:lnTo>
                  <a:lnTo>
                    <a:pt x="582" y="640"/>
                  </a:lnTo>
                  <a:lnTo>
                    <a:pt x="708" y="588"/>
                  </a:lnTo>
                  <a:lnTo>
                    <a:pt x="828" y="532"/>
                  </a:lnTo>
                  <a:lnTo>
                    <a:pt x="884" y="506"/>
                  </a:lnTo>
                  <a:lnTo>
                    <a:pt x="938" y="478"/>
                  </a:lnTo>
                  <a:lnTo>
                    <a:pt x="988" y="452"/>
                  </a:lnTo>
                  <a:lnTo>
                    <a:pt x="1034" y="424"/>
                  </a:lnTo>
                  <a:lnTo>
                    <a:pt x="1078" y="398"/>
                  </a:lnTo>
                  <a:lnTo>
                    <a:pt x="1116" y="372"/>
                  </a:lnTo>
                  <a:lnTo>
                    <a:pt x="1382" y="592"/>
                  </a:lnTo>
                  <a:lnTo>
                    <a:pt x="1382" y="592"/>
                  </a:lnTo>
                  <a:lnTo>
                    <a:pt x="1372" y="598"/>
                  </a:lnTo>
                  <a:lnTo>
                    <a:pt x="1358" y="604"/>
                  </a:lnTo>
                  <a:lnTo>
                    <a:pt x="1344" y="608"/>
                  </a:lnTo>
                  <a:lnTo>
                    <a:pt x="1326" y="608"/>
                  </a:lnTo>
                  <a:lnTo>
                    <a:pt x="1326" y="608"/>
                  </a:lnTo>
                  <a:lnTo>
                    <a:pt x="1310" y="608"/>
                  </a:lnTo>
                  <a:lnTo>
                    <a:pt x="1292" y="606"/>
                  </a:lnTo>
                  <a:lnTo>
                    <a:pt x="1274" y="602"/>
                  </a:lnTo>
                  <a:lnTo>
                    <a:pt x="1252" y="596"/>
                  </a:lnTo>
                  <a:lnTo>
                    <a:pt x="1252" y="596"/>
                  </a:lnTo>
                  <a:lnTo>
                    <a:pt x="1144" y="630"/>
                  </a:lnTo>
                  <a:lnTo>
                    <a:pt x="1086" y="646"/>
                  </a:lnTo>
                  <a:lnTo>
                    <a:pt x="1026" y="662"/>
                  </a:lnTo>
                  <a:lnTo>
                    <a:pt x="1026" y="662"/>
                  </a:lnTo>
                  <a:lnTo>
                    <a:pt x="1024" y="670"/>
                  </a:lnTo>
                  <a:lnTo>
                    <a:pt x="1022" y="678"/>
                  </a:lnTo>
                  <a:lnTo>
                    <a:pt x="1018" y="686"/>
                  </a:lnTo>
                  <a:lnTo>
                    <a:pt x="1010" y="692"/>
                  </a:lnTo>
                  <a:lnTo>
                    <a:pt x="1002" y="696"/>
                  </a:lnTo>
                  <a:lnTo>
                    <a:pt x="992" y="702"/>
                  </a:lnTo>
                  <a:lnTo>
                    <a:pt x="976" y="706"/>
                  </a:lnTo>
                  <a:lnTo>
                    <a:pt x="958" y="708"/>
                  </a:lnTo>
                  <a:lnTo>
                    <a:pt x="958" y="1070"/>
                  </a:lnTo>
                  <a:lnTo>
                    <a:pt x="1386" y="10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21"/>
            <p:cNvSpPr/>
            <p:nvPr/>
          </p:nvSpPr>
          <p:spPr>
            <a:xfrm>
              <a:off x="3987720" y="17678160"/>
              <a:ext cx="2435040" cy="201924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019240"/>
                <a:gd name="textAreaBottom" fmla="*/ 2019240 h 2019240"/>
              </a:gdLst>
              <a:ahLst/>
              <a:rect l="textAreaLeft" t="textAreaTop" r="textAreaRight" b="textAreaBottom"/>
              <a:pathLst>
                <a:path w="1534" h="1272">
                  <a:moveTo>
                    <a:pt x="0" y="40"/>
                  </a:moveTo>
                  <a:lnTo>
                    <a:pt x="0" y="40"/>
                  </a:lnTo>
                  <a:lnTo>
                    <a:pt x="8" y="30"/>
                  </a:lnTo>
                  <a:lnTo>
                    <a:pt x="20" y="22"/>
                  </a:lnTo>
                  <a:lnTo>
                    <a:pt x="34" y="16"/>
                  </a:lnTo>
                  <a:lnTo>
                    <a:pt x="48" y="12"/>
                  </a:lnTo>
                  <a:lnTo>
                    <a:pt x="62" y="10"/>
                  </a:lnTo>
                  <a:lnTo>
                    <a:pt x="78" y="8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28" y="8"/>
                  </a:lnTo>
                  <a:lnTo>
                    <a:pt x="150" y="14"/>
                  </a:lnTo>
                  <a:lnTo>
                    <a:pt x="176" y="24"/>
                  </a:lnTo>
                  <a:lnTo>
                    <a:pt x="204" y="36"/>
                  </a:lnTo>
                  <a:lnTo>
                    <a:pt x="232" y="52"/>
                  </a:lnTo>
                  <a:lnTo>
                    <a:pt x="260" y="70"/>
                  </a:lnTo>
                  <a:lnTo>
                    <a:pt x="286" y="90"/>
                  </a:lnTo>
                  <a:lnTo>
                    <a:pt x="312" y="112"/>
                  </a:lnTo>
                  <a:lnTo>
                    <a:pt x="312" y="112"/>
                  </a:lnTo>
                  <a:lnTo>
                    <a:pt x="328" y="118"/>
                  </a:lnTo>
                  <a:lnTo>
                    <a:pt x="344" y="122"/>
                  </a:lnTo>
                  <a:lnTo>
                    <a:pt x="360" y="124"/>
                  </a:lnTo>
                  <a:lnTo>
                    <a:pt x="376" y="124"/>
                  </a:lnTo>
                  <a:lnTo>
                    <a:pt x="376" y="124"/>
                  </a:lnTo>
                  <a:lnTo>
                    <a:pt x="510" y="120"/>
                  </a:lnTo>
                  <a:lnTo>
                    <a:pt x="716" y="112"/>
                  </a:lnTo>
                  <a:lnTo>
                    <a:pt x="938" y="100"/>
                  </a:lnTo>
                  <a:lnTo>
                    <a:pt x="1038" y="92"/>
                  </a:lnTo>
                  <a:lnTo>
                    <a:pt x="1122" y="86"/>
                  </a:lnTo>
                  <a:lnTo>
                    <a:pt x="1122" y="86"/>
                  </a:lnTo>
                  <a:lnTo>
                    <a:pt x="1146" y="84"/>
                  </a:lnTo>
                  <a:lnTo>
                    <a:pt x="1166" y="76"/>
                  </a:lnTo>
                  <a:lnTo>
                    <a:pt x="1184" y="66"/>
                  </a:lnTo>
                  <a:lnTo>
                    <a:pt x="1204" y="50"/>
                  </a:lnTo>
                  <a:lnTo>
                    <a:pt x="1204" y="50"/>
                  </a:lnTo>
                  <a:lnTo>
                    <a:pt x="1226" y="30"/>
                  </a:lnTo>
                  <a:lnTo>
                    <a:pt x="1246" y="14"/>
                  </a:lnTo>
                  <a:lnTo>
                    <a:pt x="1256" y="8"/>
                  </a:lnTo>
                  <a:lnTo>
                    <a:pt x="1264" y="4"/>
                  </a:lnTo>
                  <a:lnTo>
                    <a:pt x="1274" y="0"/>
                  </a:lnTo>
                  <a:lnTo>
                    <a:pt x="1284" y="0"/>
                  </a:lnTo>
                  <a:lnTo>
                    <a:pt x="1284" y="0"/>
                  </a:lnTo>
                  <a:lnTo>
                    <a:pt x="1294" y="2"/>
                  </a:lnTo>
                  <a:lnTo>
                    <a:pt x="1306" y="8"/>
                  </a:lnTo>
                  <a:lnTo>
                    <a:pt x="1322" y="16"/>
                  </a:lnTo>
                  <a:lnTo>
                    <a:pt x="1342" y="28"/>
                  </a:lnTo>
                  <a:lnTo>
                    <a:pt x="1382" y="58"/>
                  </a:lnTo>
                  <a:lnTo>
                    <a:pt x="1426" y="92"/>
                  </a:lnTo>
                  <a:lnTo>
                    <a:pt x="1466" y="130"/>
                  </a:lnTo>
                  <a:lnTo>
                    <a:pt x="1502" y="166"/>
                  </a:lnTo>
                  <a:lnTo>
                    <a:pt x="1516" y="182"/>
                  </a:lnTo>
                  <a:lnTo>
                    <a:pt x="1526" y="196"/>
                  </a:lnTo>
                  <a:lnTo>
                    <a:pt x="1532" y="208"/>
                  </a:lnTo>
                  <a:lnTo>
                    <a:pt x="1534" y="218"/>
                  </a:lnTo>
                  <a:lnTo>
                    <a:pt x="1534" y="218"/>
                  </a:lnTo>
                  <a:lnTo>
                    <a:pt x="1534" y="224"/>
                  </a:lnTo>
                  <a:lnTo>
                    <a:pt x="1530" y="232"/>
                  </a:lnTo>
                  <a:lnTo>
                    <a:pt x="1526" y="240"/>
                  </a:lnTo>
                  <a:lnTo>
                    <a:pt x="1520" y="246"/>
                  </a:lnTo>
                  <a:lnTo>
                    <a:pt x="1504" y="258"/>
                  </a:lnTo>
                  <a:lnTo>
                    <a:pt x="1496" y="264"/>
                  </a:lnTo>
                  <a:lnTo>
                    <a:pt x="1486" y="268"/>
                  </a:lnTo>
                  <a:lnTo>
                    <a:pt x="1486" y="268"/>
                  </a:lnTo>
                  <a:lnTo>
                    <a:pt x="1472" y="274"/>
                  </a:lnTo>
                  <a:lnTo>
                    <a:pt x="1466" y="278"/>
                  </a:lnTo>
                  <a:lnTo>
                    <a:pt x="1462" y="284"/>
                  </a:lnTo>
                  <a:lnTo>
                    <a:pt x="1456" y="296"/>
                  </a:lnTo>
                  <a:lnTo>
                    <a:pt x="1454" y="312"/>
                  </a:lnTo>
                  <a:lnTo>
                    <a:pt x="1454" y="312"/>
                  </a:lnTo>
                  <a:lnTo>
                    <a:pt x="1440" y="432"/>
                  </a:lnTo>
                  <a:lnTo>
                    <a:pt x="1418" y="594"/>
                  </a:lnTo>
                  <a:lnTo>
                    <a:pt x="1392" y="770"/>
                  </a:lnTo>
                  <a:lnTo>
                    <a:pt x="1378" y="852"/>
                  </a:lnTo>
                  <a:lnTo>
                    <a:pt x="1364" y="924"/>
                  </a:lnTo>
                  <a:lnTo>
                    <a:pt x="1364" y="924"/>
                  </a:lnTo>
                  <a:lnTo>
                    <a:pt x="1392" y="942"/>
                  </a:lnTo>
                  <a:lnTo>
                    <a:pt x="1418" y="958"/>
                  </a:lnTo>
                  <a:lnTo>
                    <a:pt x="1438" y="974"/>
                  </a:lnTo>
                  <a:lnTo>
                    <a:pt x="1456" y="990"/>
                  </a:lnTo>
                  <a:lnTo>
                    <a:pt x="1468" y="1006"/>
                  </a:lnTo>
                  <a:lnTo>
                    <a:pt x="1478" y="1024"/>
                  </a:lnTo>
                  <a:lnTo>
                    <a:pt x="1484" y="1042"/>
                  </a:lnTo>
                  <a:lnTo>
                    <a:pt x="1484" y="1064"/>
                  </a:lnTo>
                  <a:lnTo>
                    <a:pt x="1484" y="1064"/>
                  </a:lnTo>
                  <a:lnTo>
                    <a:pt x="1484" y="1082"/>
                  </a:lnTo>
                  <a:lnTo>
                    <a:pt x="1480" y="1098"/>
                  </a:lnTo>
                  <a:lnTo>
                    <a:pt x="1474" y="1110"/>
                  </a:lnTo>
                  <a:lnTo>
                    <a:pt x="1464" y="1120"/>
                  </a:lnTo>
                  <a:lnTo>
                    <a:pt x="1452" y="1130"/>
                  </a:lnTo>
                  <a:lnTo>
                    <a:pt x="1436" y="1134"/>
                  </a:lnTo>
                  <a:lnTo>
                    <a:pt x="1416" y="1138"/>
                  </a:lnTo>
                  <a:lnTo>
                    <a:pt x="1390" y="1140"/>
                  </a:lnTo>
                  <a:lnTo>
                    <a:pt x="1390" y="1140"/>
                  </a:lnTo>
                  <a:lnTo>
                    <a:pt x="1360" y="1138"/>
                  </a:lnTo>
                  <a:lnTo>
                    <a:pt x="1326" y="1136"/>
                  </a:lnTo>
                  <a:lnTo>
                    <a:pt x="1256" y="1124"/>
                  </a:lnTo>
                  <a:lnTo>
                    <a:pt x="1188" y="1112"/>
                  </a:lnTo>
                  <a:lnTo>
                    <a:pt x="1156" y="1106"/>
                  </a:lnTo>
                  <a:lnTo>
                    <a:pt x="1126" y="1104"/>
                  </a:lnTo>
                  <a:lnTo>
                    <a:pt x="1126" y="1104"/>
                  </a:lnTo>
                  <a:lnTo>
                    <a:pt x="1034" y="1098"/>
                  </a:lnTo>
                  <a:lnTo>
                    <a:pt x="918" y="1098"/>
                  </a:lnTo>
                  <a:lnTo>
                    <a:pt x="918" y="1098"/>
                  </a:lnTo>
                  <a:lnTo>
                    <a:pt x="790" y="1098"/>
                  </a:lnTo>
                  <a:lnTo>
                    <a:pt x="658" y="1102"/>
                  </a:lnTo>
                  <a:lnTo>
                    <a:pt x="530" y="1106"/>
                  </a:lnTo>
                  <a:lnTo>
                    <a:pt x="414" y="1112"/>
                  </a:lnTo>
                  <a:lnTo>
                    <a:pt x="414" y="1112"/>
                  </a:lnTo>
                  <a:lnTo>
                    <a:pt x="414" y="1158"/>
                  </a:lnTo>
                  <a:lnTo>
                    <a:pt x="410" y="1196"/>
                  </a:lnTo>
                  <a:lnTo>
                    <a:pt x="404" y="1224"/>
                  </a:lnTo>
                  <a:lnTo>
                    <a:pt x="400" y="1234"/>
                  </a:lnTo>
                  <a:lnTo>
                    <a:pt x="394" y="1244"/>
                  </a:lnTo>
                  <a:lnTo>
                    <a:pt x="388" y="1252"/>
                  </a:lnTo>
                  <a:lnTo>
                    <a:pt x="382" y="1258"/>
                  </a:lnTo>
                  <a:lnTo>
                    <a:pt x="376" y="1262"/>
                  </a:lnTo>
                  <a:lnTo>
                    <a:pt x="368" y="1266"/>
                  </a:lnTo>
                  <a:lnTo>
                    <a:pt x="350" y="1272"/>
                  </a:lnTo>
                  <a:lnTo>
                    <a:pt x="330" y="1272"/>
                  </a:lnTo>
                  <a:lnTo>
                    <a:pt x="330" y="1272"/>
                  </a:lnTo>
                  <a:lnTo>
                    <a:pt x="312" y="1270"/>
                  </a:lnTo>
                  <a:lnTo>
                    <a:pt x="294" y="1266"/>
                  </a:lnTo>
                  <a:lnTo>
                    <a:pt x="276" y="1260"/>
                  </a:lnTo>
                  <a:lnTo>
                    <a:pt x="262" y="1252"/>
                  </a:lnTo>
                  <a:lnTo>
                    <a:pt x="246" y="1240"/>
                  </a:lnTo>
                  <a:lnTo>
                    <a:pt x="234" y="1228"/>
                  </a:lnTo>
                  <a:lnTo>
                    <a:pt x="222" y="1214"/>
                  </a:lnTo>
                  <a:lnTo>
                    <a:pt x="210" y="1200"/>
                  </a:lnTo>
                  <a:lnTo>
                    <a:pt x="200" y="1184"/>
                  </a:lnTo>
                  <a:lnTo>
                    <a:pt x="192" y="1166"/>
                  </a:lnTo>
                  <a:lnTo>
                    <a:pt x="184" y="1148"/>
                  </a:lnTo>
                  <a:lnTo>
                    <a:pt x="178" y="1132"/>
                  </a:lnTo>
                  <a:lnTo>
                    <a:pt x="172" y="1114"/>
                  </a:lnTo>
                  <a:lnTo>
                    <a:pt x="170" y="1096"/>
                  </a:lnTo>
                  <a:lnTo>
                    <a:pt x="168" y="1080"/>
                  </a:lnTo>
                  <a:lnTo>
                    <a:pt x="166" y="1062"/>
                  </a:lnTo>
                  <a:lnTo>
                    <a:pt x="166" y="1062"/>
                  </a:lnTo>
                  <a:lnTo>
                    <a:pt x="168" y="1040"/>
                  </a:lnTo>
                  <a:lnTo>
                    <a:pt x="172" y="1010"/>
                  </a:lnTo>
                  <a:lnTo>
                    <a:pt x="180" y="960"/>
                  </a:lnTo>
                  <a:lnTo>
                    <a:pt x="180" y="960"/>
                  </a:lnTo>
                  <a:lnTo>
                    <a:pt x="182" y="932"/>
                  </a:lnTo>
                  <a:lnTo>
                    <a:pt x="182" y="898"/>
                  </a:lnTo>
                  <a:lnTo>
                    <a:pt x="182" y="898"/>
                  </a:lnTo>
                  <a:lnTo>
                    <a:pt x="180" y="828"/>
                  </a:lnTo>
                  <a:lnTo>
                    <a:pt x="178" y="748"/>
                  </a:lnTo>
                  <a:lnTo>
                    <a:pt x="166" y="582"/>
                  </a:lnTo>
                  <a:lnTo>
                    <a:pt x="154" y="432"/>
                  </a:lnTo>
                  <a:lnTo>
                    <a:pt x="144" y="338"/>
                  </a:lnTo>
                  <a:lnTo>
                    <a:pt x="144" y="338"/>
                  </a:lnTo>
                  <a:lnTo>
                    <a:pt x="138" y="302"/>
                  </a:lnTo>
                  <a:lnTo>
                    <a:pt x="130" y="262"/>
                  </a:lnTo>
                  <a:lnTo>
                    <a:pt x="118" y="216"/>
                  </a:lnTo>
                  <a:lnTo>
                    <a:pt x="104" y="170"/>
                  </a:lnTo>
                  <a:lnTo>
                    <a:pt x="96" y="148"/>
                  </a:lnTo>
                  <a:lnTo>
                    <a:pt x="86" y="126"/>
                  </a:lnTo>
                  <a:lnTo>
                    <a:pt x="76" y="106"/>
                  </a:lnTo>
                  <a:lnTo>
                    <a:pt x="64" y="88"/>
                  </a:lnTo>
                  <a:lnTo>
                    <a:pt x="50" y="74"/>
                  </a:lnTo>
                  <a:lnTo>
                    <a:pt x="36" y="60"/>
                  </a:lnTo>
                  <a:lnTo>
                    <a:pt x="20" y="50"/>
                  </a:lnTo>
                  <a:lnTo>
                    <a:pt x="2" y="42"/>
                  </a:lnTo>
                  <a:lnTo>
                    <a:pt x="0" y="40"/>
                  </a:lnTo>
                  <a:close/>
                  <a:moveTo>
                    <a:pt x="1138" y="920"/>
                  </a:moveTo>
                  <a:lnTo>
                    <a:pt x="1138" y="920"/>
                  </a:lnTo>
                  <a:lnTo>
                    <a:pt x="1146" y="838"/>
                  </a:lnTo>
                  <a:lnTo>
                    <a:pt x="1154" y="746"/>
                  </a:lnTo>
                  <a:lnTo>
                    <a:pt x="1166" y="552"/>
                  </a:lnTo>
                  <a:lnTo>
                    <a:pt x="1174" y="370"/>
                  </a:lnTo>
                  <a:lnTo>
                    <a:pt x="1178" y="236"/>
                  </a:lnTo>
                  <a:lnTo>
                    <a:pt x="1178" y="236"/>
                  </a:lnTo>
                  <a:lnTo>
                    <a:pt x="1176" y="226"/>
                  </a:lnTo>
                  <a:lnTo>
                    <a:pt x="1174" y="218"/>
                  </a:lnTo>
                  <a:lnTo>
                    <a:pt x="1172" y="216"/>
                  </a:lnTo>
                  <a:lnTo>
                    <a:pt x="1168" y="214"/>
                  </a:lnTo>
                  <a:lnTo>
                    <a:pt x="1158" y="212"/>
                  </a:lnTo>
                  <a:lnTo>
                    <a:pt x="1158" y="212"/>
                  </a:lnTo>
                  <a:lnTo>
                    <a:pt x="1020" y="218"/>
                  </a:lnTo>
                  <a:lnTo>
                    <a:pt x="854" y="232"/>
                  </a:lnTo>
                  <a:lnTo>
                    <a:pt x="770" y="240"/>
                  </a:lnTo>
                  <a:lnTo>
                    <a:pt x="692" y="248"/>
                  </a:lnTo>
                  <a:lnTo>
                    <a:pt x="622" y="258"/>
                  </a:lnTo>
                  <a:lnTo>
                    <a:pt x="566" y="268"/>
                  </a:lnTo>
                  <a:lnTo>
                    <a:pt x="566" y="268"/>
                  </a:lnTo>
                  <a:lnTo>
                    <a:pt x="510" y="280"/>
                  </a:lnTo>
                  <a:lnTo>
                    <a:pt x="482" y="286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40" y="286"/>
                  </a:lnTo>
                  <a:lnTo>
                    <a:pt x="422" y="280"/>
                  </a:lnTo>
                  <a:lnTo>
                    <a:pt x="400" y="272"/>
                  </a:lnTo>
                  <a:lnTo>
                    <a:pt x="382" y="260"/>
                  </a:lnTo>
                  <a:lnTo>
                    <a:pt x="382" y="260"/>
                  </a:lnTo>
                  <a:lnTo>
                    <a:pt x="376" y="302"/>
                  </a:lnTo>
                  <a:lnTo>
                    <a:pt x="374" y="342"/>
                  </a:lnTo>
                  <a:lnTo>
                    <a:pt x="374" y="342"/>
                  </a:lnTo>
                  <a:lnTo>
                    <a:pt x="380" y="486"/>
                  </a:lnTo>
                  <a:lnTo>
                    <a:pt x="390" y="680"/>
                  </a:lnTo>
                  <a:lnTo>
                    <a:pt x="408" y="974"/>
                  </a:lnTo>
                  <a:lnTo>
                    <a:pt x="408" y="974"/>
                  </a:lnTo>
                  <a:lnTo>
                    <a:pt x="722" y="958"/>
                  </a:lnTo>
                  <a:lnTo>
                    <a:pt x="982" y="944"/>
                  </a:lnTo>
                  <a:lnTo>
                    <a:pt x="982" y="944"/>
                  </a:lnTo>
                  <a:lnTo>
                    <a:pt x="1024" y="940"/>
                  </a:lnTo>
                  <a:lnTo>
                    <a:pt x="1066" y="934"/>
                  </a:lnTo>
                  <a:lnTo>
                    <a:pt x="1106" y="928"/>
                  </a:lnTo>
                  <a:lnTo>
                    <a:pt x="1138" y="920"/>
                  </a:lnTo>
                  <a:lnTo>
                    <a:pt x="1138" y="9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22"/>
            <p:cNvSpPr/>
            <p:nvPr/>
          </p:nvSpPr>
          <p:spPr>
            <a:xfrm>
              <a:off x="4775040" y="20326320"/>
              <a:ext cx="777600" cy="26384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638440"/>
                <a:gd name="textAreaBottom" fmla="*/ 2638800 h 2638440"/>
              </a:gdLst>
              <a:ahLst/>
              <a:rect l="textAreaLeft" t="textAreaTop" r="textAreaRight" b="textAreaBottom"/>
              <a:pathLst>
                <a:path w="490" h="1662">
                  <a:moveTo>
                    <a:pt x="0" y="80"/>
                  </a:moveTo>
                  <a:lnTo>
                    <a:pt x="0" y="80"/>
                  </a:lnTo>
                  <a:lnTo>
                    <a:pt x="14" y="60"/>
                  </a:lnTo>
                  <a:lnTo>
                    <a:pt x="30" y="44"/>
                  </a:lnTo>
                  <a:lnTo>
                    <a:pt x="46" y="32"/>
                  </a:lnTo>
                  <a:lnTo>
                    <a:pt x="64" y="20"/>
                  </a:lnTo>
                  <a:lnTo>
                    <a:pt x="82" y="12"/>
                  </a:lnTo>
                  <a:lnTo>
                    <a:pt x="104" y="6"/>
                  </a:lnTo>
                  <a:lnTo>
                    <a:pt x="124" y="2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72" y="2"/>
                  </a:lnTo>
                  <a:lnTo>
                    <a:pt x="198" y="6"/>
                  </a:lnTo>
                  <a:lnTo>
                    <a:pt x="224" y="10"/>
                  </a:lnTo>
                  <a:lnTo>
                    <a:pt x="252" y="18"/>
                  </a:lnTo>
                  <a:lnTo>
                    <a:pt x="280" y="28"/>
                  </a:lnTo>
                  <a:lnTo>
                    <a:pt x="310" y="40"/>
                  </a:lnTo>
                  <a:lnTo>
                    <a:pt x="338" y="54"/>
                  </a:lnTo>
                  <a:lnTo>
                    <a:pt x="364" y="68"/>
                  </a:lnTo>
                  <a:lnTo>
                    <a:pt x="390" y="84"/>
                  </a:lnTo>
                  <a:lnTo>
                    <a:pt x="414" y="102"/>
                  </a:lnTo>
                  <a:lnTo>
                    <a:pt x="434" y="122"/>
                  </a:lnTo>
                  <a:lnTo>
                    <a:pt x="452" y="142"/>
                  </a:lnTo>
                  <a:lnTo>
                    <a:pt x="468" y="162"/>
                  </a:lnTo>
                  <a:lnTo>
                    <a:pt x="480" y="184"/>
                  </a:lnTo>
                  <a:lnTo>
                    <a:pt x="486" y="206"/>
                  </a:lnTo>
                  <a:lnTo>
                    <a:pt x="488" y="218"/>
                  </a:lnTo>
                  <a:lnTo>
                    <a:pt x="490" y="228"/>
                  </a:lnTo>
                  <a:lnTo>
                    <a:pt x="490" y="228"/>
                  </a:lnTo>
                  <a:lnTo>
                    <a:pt x="488" y="258"/>
                  </a:lnTo>
                  <a:lnTo>
                    <a:pt x="482" y="280"/>
                  </a:lnTo>
                  <a:lnTo>
                    <a:pt x="474" y="302"/>
                  </a:lnTo>
                  <a:lnTo>
                    <a:pt x="464" y="326"/>
                  </a:lnTo>
                  <a:lnTo>
                    <a:pt x="464" y="326"/>
                  </a:lnTo>
                  <a:lnTo>
                    <a:pt x="456" y="348"/>
                  </a:lnTo>
                  <a:lnTo>
                    <a:pt x="448" y="378"/>
                  </a:lnTo>
                  <a:lnTo>
                    <a:pt x="442" y="416"/>
                  </a:lnTo>
                  <a:lnTo>
                    <a:pt x="438" y="460"/>
                  </a:lnTo>
                  <a:lnTo>
                    <a:pt x="434" y="512"/>
                  </a:lnTo>
                  <a:lnTo>
                    <a:pt x="430" y="568"/>
                  </a:lnTo>
                  <a:lnTo>
                    <a:pt x="424" y="702"/>
                  </a:lnTo>
                  <a:lnTo>
                    <a:pt x="420" y="860"/>
                  </a:lnTo>
                  <a:lnTo>
                    <a:pt x="418" y="1038"/>
                  </a:lnTo>
                  <a:lnTo>
                    <a:pt x="418" y="1452"/>
                  </a:lnTo>
                  <a:lnTo>
                    <a:pt x="418" y="1452"/>
                  </a:lnTo>
                  <a:lnTo>
                    <a:pt x="416" y="1490"/>
                  </a:lnTo>
                  <a:lnTo>
                    <a:pt x="412" y="1528"/>
                  </a:lnTo>
                  <a:lnTo>
                    <a:pt x="402" y="1562"/>
                  </a:lnTo>
                  <a:lnTo>
                    <a:pt x="398" y="1580"/>
                  </a:lnTo>
                  <a:lnTo>
                    <a:pt x="390" y="1596"/>
                  </a:lnTo>
                  <a:lnTo>
                    <a:pt x="384" y="1610"/>
                  </a:lnTo>
                  <a:lnTo>
                    <a:pt x="376" y="1622"/>
                  </a:lnTo>
                  <a:lnTo>
                    <a:pt x="366" y="1634"/>
                  </a:lnTo>
                  <a:lnTo>
                    <a:pt x="356" y="1644"/>
                  </a:lnTo>
                  <a:lnTo>
                    <a:pt x="344" y="1652"/>
                  </a:lnTo>
                  <a:lnTo>
                    <a:pt x="332" y="1658"/>
                  </a:lnTo>
                  <a:lnTo>
                    <a:pt x="318" y="1662"/>
                  </a:lnTo>
                  <a:lnTo>
                    <a:pt x="304" y="1662"/>
                  </a:lnTo>
                  <a:lnTo>
                    <a:pt x="302" y="1662"/>
                  </a:lnTo>
                  <a:lnTo>
                    <a:pt x="302" y="1662"/>
                  </a:lnTo>
                  <a:lnTo>
                    <a:pt x="290" y="1662"/>
                  </a:lnTo>
                  <a:lnTo>
                    <a:pt x="276" y="1658"/>
                  </a:lnTo>
                  <a:lnTo>
                    <a:pt x="264" y="1650"/>
                  </a:lnTo>
                  <a:lnTo>
                    <a:pt x="254" y="1642"/>
                  </a:lnTo>
                  <a:lnTo>
                    <a:pt x="242" y="1630"/>
                  </a:lnTo>
                  <a:lnTo>
                    <a:pt x="232" y="1616"/>
                  </a:lnTo>
                  <a:lnTo>
                    <a:pt x="224" y="1602"/>
                  </a:lnTo>
                  <a:lnTo>
                    <a:pt x="214" y="1584"/>
                  </a:lnTo>
                  <a:lnTo>
                    <a:pt x="200" y="1546"/>
                  </a:lnTo>
                  <a:lnTo>
                    <a:pt x="186" y="1502"/>
                  </a:lnTo>
                  <a:lnTo>
                    <a:pt x="176" y="1454"/>
                  </a:lnTo>
                  <a:lnTo>
                    <a:pt x="168" y="1404"/>
                  </a:lnTo>
                  <a:lnTo>
                    <a:pt x="168" y="1404"/>
                  </a:lnTo>
                  <a:lnTo>
                    <a:pt x="170" y="1394"/>
                  </a:lnTo>
                  <a:lnTo>
                    <a:pt x="172" y="1376"/>
                  </a:lnTo>
                  <a:lnTo>
                    <a:pt x="176" y="1324"/>
                  </a:lnTo>
                  <a:lnTo>
                    <a:pt x="180" y="1172"/>
                  </a:lnTo>
                  <a:lnTo>
                    <a:pt x="182" y="998"/>
                  </a:lnTo>
                  <a:lnTo>
                    <a:pt x="182" y="846"/>
                  </a:lnTo>
                  <a:lnTo>
                    <a:pt x="182" y="846"/>
                  </a:lnTo>
                  <a:lnTo>
                    <a:pt x="182" y="604"/>
                  </a:lnTo>
                  <a:lnTo>
                    <a:pt x="178" y="338"/>
                  </a:lnTo>
                  <a:lnTo>
                    <a:pt x="178" y="338"/>
                  </a:lnTo>
                  <a:lnTo>
                    <a:pt x="174" y="280"/>
                  </a:lnTo>
                  <a:lnTo>
                    <a:pt x="170" y="248"/>
                  </a:lnTo>
                  <a:lnTo>
                    <a:pt x="166" y="218"/>
                  </a:lnTo>
                  <a:lnTo>
                    <a:pt x="160" y="190"/>
                  </a:lnTo>
                  <a:lnTo>
                    <a:pt x="154" y="166"/>
                  </a:lnTo>
                  <a:lnTo>
                    <a:pt x="144" y="146"/>
                  </a:lnTo>
                  <a:lnTo>
                    <a:pt x="140" y="138"/>
                  </a:lnTo>
                  <a:lnTo>
                    <a:pt x="136" y="132"/>
                  </a:lnTo>
                  <a:lnTo>
                    <a:pt x="136" y="132"/>
                  </a:lnTo>
                  <a:lnTo>
                    <a:pt x="124" y="122"/>
                  </a:lnTo>
                  <a:lnTo>
                    <a:pt x="112" y="114"/>
                  </a:lnTo>
                  <a:lnTo>
                    <a:pt x="98" y="106"/>
                  </a:lnTo>
                  <a:lnTo>
                    <a:pt x="82" y="98"/>
                  </a:lnTo>
                  <a:lnTo>
                    <a:pt x="66" y="92"/>
                  </a:lnTo>
                  <a:lnTo>
                    <a:pt x="46" y="88"/>
                  </a:lnTo>
                  <a:lnTo>
                    <a:pt x="26" y="86"/>
                  </a:lnTo>
                  <a:lnTo>
                    <a:pt x="2" y="8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23"/>
            <p:cNvSpPr/>
            <p:nvPr/>
          </p:nvSpPr>
          <p:spPr>
            <a:xfrm>
              <a:off x="4146480" y="23691960"/>
              <a:ext cx="2390760" cy="2187360"/>
            </a:xfrm>
            <a:custGeom>
              <a:avLst/>
              <a:gdLst>
                <a:gd name="textAreaLeft" fmla="*/ 0 w 2390760"/>
                <a:gd name="textAreaRight" fmla="*/ 2390760 w 2390760"/>
                <a:gd name="textAreaTop" fmla="*/ 0 h 2187360"/>
                <a:gd name="textAreaBottom" fmla="*/ 2187720 h 2187360"/>
              </a:gdLst>
              <a:ahLst/>
              <a:rect l="textAreaLeft" t="textAreaTop" r="textAreaRight" b="textAreaBottom"/>
              <a:pathLst>
                <a:path w="1506" h="1378">
                  <a:moveTo>
                    <a:pt x="6" y="0"/>
                  </a:moveTo>
                  <a:lnTo>
                    <a:pt x="6" y="0"/>
                  </a:lnTo>
                  <a:lnTo>
                    <a:pt x="62" y="2"/>
                  </a:lnTo>
                  <a:lnTo>
                    <a:pt x="118" y="4"/>
                  </a:lnTo>
                  <a:lnTo>
                    <a:pt x="172" y="10"/>
                  </a:lnTo>
                  <a:lnTo>
                    <a:pt x="224" y="16"/>
                  </a:lnTo>
                  <a:lnTo>
                    <a:pt x="274" y="26"/>
                  </a:lnTo>
                  <a:lnTo>
                    <a:pt x="324" y="38"/>
                  </a:lnTo>
                  <a:lnTo>
                    <a:pt x="370" y="52"/>
                  </a:lnTo>
                  <a:lnTo>
                    <a:pt x="412" y="68"/>
                  </a:lnTo>
                  <a:lnTo>
                    <a:pt x="452" y="88"/>
                  </a:lnTo>
                  <a:lnTo>
                    <a:pt x="488" y="110"/>
                  </a:lnTo>
                  <a:lnTo>
                    <a:pt x="520" y="132"/>
                  </a:lnTo>
                  <a:lnTo>
                    <a:pt x="534" y="146"/>
                  </a:lnTo>
                  <a:lnTo>
                    <a:pt x="546" y="160"/>
                  </a:lnTo>
                  <a:lnTo>
                    <a:pt x="558" y="174"/>
                  </a:lnTo>
                  <a:lnTo>
                    <a:pt x="568" y="188"/>
                  </a:lnTo>
                  <a:lnTo>
                    <a:pt x="576" y="204"/>
                  </a:lnTo>
                  <a:lnTo>
                    <a:pt x="584" y="220"/>
                  </a:lnTo>
                  <a:lnTo>
                    <a:pt x="590" y="236"/>
                  </a:lnTo>
                  <a:lnTo>
                    <a:pt x="594" y="254"/>
                  </a:lnTo>
                  <a:lnTo>
                    <a:pt x="596" y="272"/>
                  </a:lnTo>
                  <a:lnTo>
                    <a:pt x="596" y="290"/>
                  </a:lnTo>
                  <a:lnTo>
                    <a:pt x="596" y="290"/>
                  </a:lnTo>
                  <a:lnTo>
                    <a:pt x="596" y="306"/>
                  </a:lnTo>
                  <a:lnTo>
                    <a:pt x="594" y="320"/>
                  </a:lnTo>
                  <a:lnTo>
                    <a:pt x="590" y="336"/>
                  </a:lnTo>
                  <a:lnTo>
                    <a:pt x="586" y="348"/>
                  </a:lnTo>
                  <a:lnTo>
                    <a:pt x="578" y="362"/>
                  </a:lnTo>
                  <a:lnTo>
                    <a:pt x="572" y="374"/>
                  </a:lnTo>
                  <a:lnTo>
                    <a:pt x="562" y="384"/>
                  </a:lnTo>
                  <a:lnTo>
                    <a:pt x="552" y="396"/>
                  </a:lnTo>
                  <a:lnTo>
                    <a:pt x="542" y="404"/>
                  </a:lnTo>
                  <a:lnTo>
                    <a:pt x="530" y="412"/>
                  </a:lnTo>
                  <a:lnTo>
                    <a:pt x="518" y="420"/>
                  </a:lnTo>
                  <a:lnTo>
                    <a:pt x="506" y="426"/>
                  </a:lnTo>
                  <a:lnTo>
                    <a:pt x="492" y="430"/>
                  </a:lnTo>
                  <a:lnTo>
                    <a:pt x="478" y="434"/>
                  </a:lnTo>
                  <a:lnTo>
                    <a:pt x="462" y="436"/>
                  </a:lnTo>
                  <a:lnTo>
                    <a:pt x="446" y="436"/>
                  </a:lnTo>
                  <a:lnTo>
                    <a:pt x="446" y="436"/>
                  </a:lnTo>
                  <a:lnTo>
                    <a:pt x="426" y="434"/>
                  </a:lnTo>
                  <a:lnTo>
                    <a:pt x="406" y="428"/>
                  </a:lnTo>
                  <a:lnTo>
                    <a:pt x="386" y="418"/>
                  </a:lnTo>
                  <a:lnTo>
                    <a:pt x="368" y="406"/>
                  </a:lnTo>
                  <a:lnTo>
                    <a:pt x="352" y="390"/>
                  </a:lnTo>
                  <a:lnTo>
                    <a:pt x="336" y="372"/>
                  </a:lnTo>
                  <a:lnTo>
                    <a:pt x="322" y="352"/>
                  </a:lnTo>
                  <a:lnTo>
                    <a:pt x="310" y="330"/>
                  </a:lnTo>
                  <a:lnTo>
                    <a:pt x="310" y="330"/>
                  </a:lnTo>
                  <a:lnTo>
                    <a:pt x="290" y="294"/>
                  </a:lnTo>
                  <a:lnTo>
                    <a:pt x="264" y="254"/>
                  </a:lnTo>
                  <a:lnTo>
                    <a:pt x="232" y="212"/>
                  </a:lnTo>
                  <a:lnTo>
                    <a:pt x="196" y="168"/>
                  </a:lnTo>
                  <a:lnTo>
                    <a:pt x="174" y="148"/>
                  </a:lnTo>
                  <a:lnTo>
                    <a:pt x="152" y="128"/>
                  </a:lnTo>
                  <a:lnTo>
                    <a:pt x="130" y="108"/>
                  </a:lnTo>
                  <a:lnTo>
                    <a:pt x="106" y="88"/>
                  </a:lnTo>
                  <a:lnTo>
                    <a:pt x="80" y="70"/>
                  </a:lnTo>
                  <a:lnTo>
                    <a:pt x="54" y="54"/>
                  </a:lnTo>
                  <a:lnTo>
                    <a:pt x="28" y="40"/>
                  </a:lnTo>
                  <a:lnTo>
                    <a:pt x="0" y="28"/>
                  </a:lnTo>
                  <a:lnTo>
                    <a:pt x="6" y="0"/>
                  </a:lnTo>
                  <a:close/>
                  <a:moveTo>
                    <a:pt x="1506" y="128"/>
                  </a:moveTo>
                  <a:lnTo>
                    <a:pt x="1506" y="128"/>
                  </a:lnTo>
                  <a:lnTo>
                    <a:pt x="1484" y="184"/>
                  </a:lnTo>
                  <a:lnTo>
                    <a:pt x="1462" y="236"/>
                  </a:lnTo>
                  <a:lnTo>
                    <a:pt x="1438" y="288"/>
                  </a:lnTo>
                  <a:lnTo>
                    <a:pt x="1414" y="336"/>
                  </a:lnTo>
                  <a:lnTo>
                    <a:pt x="1388" y="384"/>
                  </a:lnTo>
                  <a:lnTo>
                    <a:pt x="1362" y="432"/>
                  </a:lnTo>
                  <a:lnTo>
                    <a:pt x="1336" y="476"/>
                  </a:lnTo>
                  <a:lnTo>
                    <a:pt x="1308" y="520"/>
                  </a:lnTo>
                  <a:lnTo>
                    <a:pt x="1280" y="562"/>
                  </a:lnTo>
                  <a:lnTo>
                    <a:pt x="1252" y="604"/>
                  </a:lnTo>
                  <a:lnTo>
                    <a:pt x="1222" y="644"/>
                  </a:lnTo>
                  <a:lnTo>
                    <a:pt x="1192" y="684"/>
                  </a:lnTo>
                  <a:lnTo>
                    <a:pt x="1160" y="720"/>
                  </a:lnTo>
                  <a:lnTo>
                    <a:pt x="1128" y="758"/>
                  </a:lnTo>
                  <a:lnTo>
                    <a:pt x="1096" y="792"/>
                  </a:lnTo>
                  <a:lnTo>
                    <a:pt x="1064" y="828"/>
                  </a:lnTo>
                  <a:lnTo>
                    <a:pt x="994" y="894"/>
                  </a:lnTo>
                  <a:lnTo>
                    <a:pt x="924" y="956"/>
                  </a:lnTo>
                  <a:lnTo>
                    <a:pt x="850" y="1016"/>
                  </a:lnTo>
                  <a:lnTo>
                    <a:pt x="774" y="1072"/>
                  </a:lnTo>
                  <a:lnTo>
                    <a:pt x="694" y="1126"/>
                  </a:lnTo>
                  <a:lnTo>
                    <a:pt x="612" y="1178"/>
                  </a:lnTo>
                  <a:lnTo>
                    <a:pt x="530" y="1228"/>
                  </a:lnTo>
                  <a:lnTo>
                    <a:pt x="444" y="1276"/>
                  </a:lnTo>
                  <a:lnTo>
                    <a:pt x="444" y="1276"/>
                  </a:lnTo>
                  <a:lnTo>
                    <a:pt x="414" y="1296"/>
                  </a:lnTo>
                  <a:lnTo>
                    <a:pt x="390" y="1314"/>
                  </a:lnTo>
                  <a:lnTo>
                    <a:pt x="374" y="1330"/>
                  </a:lnTo>
                  <a:lnTo>
                    <a:pt x="360" y="1346"/>
                  </a:lnTo>
                  <a:lnTo>
                    <a:pt x="350" y="1360"/>
                  </a:lnTo>
                  <a:lnTo>
                    <a:pt x="338" y="1370"/>
                  </a:lnTo>
                  <a:lnTo>
                    <a:pt x="332" y="1374"/>
                  </a:lnTo>
                  <a:lnTo>
                    <a:pt x="324" y="1376"/>
                  </a:lnTo>
                  <a:lnTo>
                    <a:pt x="318" y="1378"/>
                  </a:lnTo>
                  <a:lnTo>
                    <a:pt x="308" y="1378"/>
                  </a:lnTo>
                  <a:lnTo>
                    <a:pt x="308" y="1378"/>
                  </a:lnTo>
                  <a:lnTo>
                    <a:pt x="284" y="1376"/>
                  </a:lnTo>
                  <a:lnTo>
                    <a:pt x="260" y="1370"/>
                  </a:lnTo>
                  <a:lnTo>
                    <a:pt x="234" y="1358"/>
                  </a:lnTo>
                  <a:lnTo>
                    <a:pt x="208" y="1346"/>
                  </a:lnTo>
                  <a:lnTo>
                    <a:pt x="184" y="1328"/>
                  </a:lnTo>
                  <a:lnTo>
                    <a:pt x="158" y="1308"/>
                  </a:lnTo>
                  <a:lnTo>
                    <a:pt x="134" y="1288"/>
                  </a:lnTo>
                  <a:lnTo>
                    <a:pt x="110" y="1264"/>
                  </a:lnTo>
                  <a:lnTo>
                    <a:pt x="90" y="1240"/>
                  </a:lnTo>
                  <a:lnTo>
                    <a:pt x="70" y="1214"/>
                  </a:lnTo>
                  <a:lnTo>
                    <a:pt x="52" y="1188"/>
                  </a:lnTo>
                  <a:lnTo>
                    <a:pt x="36" y="1162"/>
                  </a:lnTo>
                  <a:lnTo>
                    <a:pt x="24" y="1138"/>
                  </a:lnTo>
                  <a:lnTo>
                    <a:pt x="14" y="1114"/>
                  </a:lnTo>
                  <a:lnTo>
                    <a:pt x="8" y="1090"/>
                  </a:lnTo>
                  <a:lnTo>
                    <a:pt x="6" y="1068"/>
                  </a:lnTo>
                  <a:lnTo>
                    <a:pt x="6" y="1068"/>
                  </a:lnTo>
                  <a:lnTo>
                    <a:pt x="8" y="1048"/>
                  </a:lnTo>
                  <a:lnTo>
                    <a:pt x="10" y="1030"/>
                  </a:lnTo>
                  <a:lnTo>
                    <a:pt x="14" y="1012"/>
                  </a:lnTo>
                  <a:lnTo>
                    <a:pt x="18" y="994"/>
                  </a:lnTo>
                  <a:lnTo>
                    <a:pt x="26" y="978"/>
                  </a:lnTo>
                  <a:lnTo>
                    <a:pt x="36" y="962"/>
                  </a:lnTo>
                  <a:lnTo>
                    <a:pt x="48" y="948"/>
                  </a:lnTo>
                  <a:lnTo>
                    <a:pt x="62" y="936"/>
                  </a:lnTo>
                  <a:lnTo>
                    <a:pt x="62" y="936"/>
                  </a:lnTo>
                  <a:lnTo>
                    <a:pt x="70" y="962"/>
                  </a:lnTo>
                  <a:lnTo>
                    <a:pt x="80" y="986"/>
                  </a:lnTo>
                  <a:lnTo>
                    <a:pt x="96" y="1008"/>
                  </a:lnTo>
                  <a:lnTo>
                    <a:pt x="104" y="1018"/>
                  </a:lnTo>
                  <a:lnTo>
                    <a:pt x="116" y="1028"/>
                  </a:lnTo>
                  <a:lnTo>
                    <a:pt x="126" y="1038"/>
                  </a:lnTo>
                  <a:lnTo>
                    <a:pt x="138" y="1046"/>
                  </a:lnTo>
                  <a:lnTo>
                    <a:pt x="152" y="1054"/>
                  </a:lnTo>
                  <a:lnTo>
                    <a:pt x="166" y="1060"/>
                  </a:lnTo>
                  <a:lnTo>
                    <a:pt x="182" y="1064"/>
                  </a:lnTo>
                  <a:lnTo>
                    <a:pt x="198" y="1068"/>
                  </a:lnTo>
                  <a:lnTo>
                    <a:pt x="216" y="1070"/>
                  </a:lnTo>
                  <a:lnTo>
                    <a:pt x="236" y="1070"/>
                  </a:lnTo>
                  <a:lnTo>
                    <a:pt x="236" y="1070"/>
                  </a:lnTo>
                  <a:lnTo>
                    <a:pt x="252" y="1070"/>
                  </a:lnTo>
                  <a:lnTo>
                    <a:pt x="272" y="1066"/>
                  </a:lnTo>
                  <a:lnTo>
                    <a:pt x="294" y="1060"/>
                  </a:lnTo>
                  <a:lnTo>
                    <a:pt x="320" y="1052"/>
                  </a:lnTo>
                  <a:lnTo>
                    <a:pt x="378" y="1030"/>
                  </a:lnTo>
                  <a:lnTo>
                    <a:pt x="446" y="1000"/>
                  </a:lnTo>
                  <a:lnTo>
                    <a:pt x="522" y="962"/>
                  </a:lnTo>
                  <a:lnTo>
                    <a:pt x="604" y="916"/>
                  </a:lnTo>
                  <a:lnTo>
                    <a:pt x="692" y="864"/>
                  </a:lnTo>
                  <a:lnTo>
                    <a:pt x="784" y="804"/>
                  </a:lnTo>
                  <a:lnTo>
                    <a:pt x="876" y="738"/>
                  </a:lnTo>
                  <a:lnTo>
                    <a:pt x="924" y="702"/>
                  </a:lnTo>
                  <a:lnTo>
                    <a:pt x="972" y="664"/>
                  </a:lnTo>
                  <a:lnTo>
                    <a:pt x="1018" y="626"/>
                  </a:lnTo>
                  <a:lnTo>
                    <a:pt x="1066" y="586"/>
                  </a:lnTo>
                  <a:lnTo>
                    <a:pt x="1112" y="544"/>
                  </a:lnTo>
                  <a:lnTo>
                    <a:pt x="1156" y="502"/>
                  </a:lnTo>
                  <a:lnTo>
                    <a:pt x="1202" y="458"/>
                  </a:lnTo>
                  <a:lnTo>
                    <a:pt x="1246" y="412"/>
                  </a:lnTo>
                  <a:lnTo>
                    <a:pt x="1288" y="364"/>
                  </a:lnTo>
                  <a:lnTo>
                    <a:pt x="1330" y="316"/>
                  </a:lnTo>
                  <a:lnTo>
                    <a:pt x="1368" y="268"/>
                  </a:lnTo>
                  <a:lnTo>
                    <a:pt x="1406" y="218"/>
                  </a:lnTo>
                  <a:lnTo>
                    <a:pt x="1444" y="166"/>
                  </a:lnTo>
                  <a:lnTo>
                    <a:pt x="1478" y="114"/>
                  </a:lnTo>
                  <a:lnTo>
                    <a:pt x="1506" y="12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24"/>
            <p:cNvSpPr/>
            <p:nvPr/>
          </p:nvSpPr>
          <p:spPr>
            <a:xfrm>
              <a:off x="3794040" y="26298360"/>
              <a:ext cx="2933640" cy="2914560"/>
            </a:xfrm>
            <a:custGeom>
              <a:avLst/>
              <a:gdLst>
                <a:gd name="textAreaLeft" fmla="*/ 0 w 2933640"/>
                <a:gd name="textAreaRight" fmla="*/ 2934000 w 2933640"/>
                <a:gd name="textAreaTop" fmla="*/ 0 h 2914560"/>
                <a:gd name="textAreaBottom" fmla="*/ 2914920 h 2914560"/>
              </a:gdLst>
              <a:ahLst/>
              <a:rect l="textAreaLeft" t="textAreaTop" r="textAreaRight" b="textAreaBottom"/>
              <a:pathLst>
                <a:path w="1848" h="1836">
                  <a:moveTo>
                    <a:pt x="1610" y="538"/>
                  </a:moveTo>
                  <a:lnTo>
                    <a:pt x="1848" y="760"/>
                  </a:lnTo>
                  <a:lnTo>
                    <a:pt x="1848" y="760"/>
                  </a:lnTo>
                  <a:lnTo>
                    <a:pt x="1842" y="766"/>
                  </a:lnTo>
                  <a:lnTo>
                    <a:pt x="1834" y="772"/>
                  </a:lnTo>
                  <a:lnTo>
                    <a:pt x="1820" y="778"/>
                  </a:lnTo>
                  <a:lnTo>
                    <a:pt x="1798" y="782"/>
                  </a:lnTo>
                  <a:lnTo>
                    <a:pt x="1772" y="786"/>
                  </a:lnTo>
                  <a:lnTo>
                    <a:pt x="1772" y="786"/>
                  </a:lnTo>
                  <a:lnTo>
                    <a:pt x="1708" y="830"/>
                  </a:lnTo>
                  <a:lnTo>
                    <a:pt x="1634" y="878"/>
                  </a:lnTo>
                  <a:lnTo>
                    <a:pt x="1556" y="924"/>
                  </a:lnTo>
                  <a:lnTo>
                    <a:pt x="1518" y="944"/>
                  </a:lnTo>
                  <a:lnTo>
                    <a:pt x="1482" y="960"/>
                  </a:lnTo>
                  <a:lnTo>
                    <a:pt x="1468" y="950"/>
                  </a:lnTo>
                  <a:lnTo>
                    <a:pt x="1468" y="950"/>
                  </a:lnTo>
                  <a:lnTo>
                    <a:pt x="1476" y="896"/>
                  </a:lnTo>
                  <a:lnTo>
                    <a:pt x="1482" y="832"/>
                  </a:lnTo>
                  <a:lnTo>
                    <a:pt x="1494" y="704"/>
                  </a:lnTo>
                  <a:lnTo>
                    <a:pt x="316" y="704"/>
                  </a:lnTo>
                  <a:lnTo>
                    <a:pt x="316" y="704"/>
                  </a:lnTo>
                  <a:lnTo>
                    <a:pt x="320" y="730"/>
                  </a:lnTo>
                  <a:lnTo>
                    <a:pt x="324" y="756"/>
                  </a:lnTo>
                  <a:lnTo>
                    <a:pt x="326" y="778"/>
                  </a:lnTo>
                  <a:lnTo>
                    <a:pt x="326" y="802"/>
                  </a:lnTo>
                  <a:lnTo>
                    <a:pt x="326" y="802"/>
                  </a:lnTo>
                  <a:lnTo>
                    <a:pt x="326" y="826"/>
                  </a:lnTo>
                  <a:lnTo>
                    <a:pt x="324" y="848"/>
                  </a:lnTo>
                  <a:lnTo>
                    <a:pt x="320" y="870"/>
                  </a:lnTo>
                  <a:lnTo>
                    <a:pt x="314" y="890"/>
                  </a:lnTo>
                  <a:lnTo>
                    <a:pt x="306" y="908"/>
                  </a:lnTo>
                  <a:lnTo>
                    <a:pt x="298" y="926"/>
                  </a:lnTo>
                  <a:lnTo>
                    <a:pt x="288" y="942"/>
                  </a:lnTo>
                  <a:lnTo>
                    <a:pt x="276" y="958"/>
                  </a:lnTo>
                  <a:lnTo>
                    <a:pt x="264" y="972"/>
                  </a:lnTo>
                  <a:lnTo>
                    <a:pt x="250" y="982"/>
                  </a:lnTo>
                  <a:lnTo>
                    <a:pt x="236" y="992"/>
                  </a:lnTo>
                  <a:lnTo>
                    <a:pt x="220" y="1002"/>
                  </a:lnTo>
                  <a:lnTo>
                    <a:pt x="204" y="1008"/>
                  </a:lnTo>
                  <a:lnTo>
                    <a:pt x="186" y="1012"/>
                  </a:lnTo>
                  <a:lnTo>
                    <a:pt x="168" y="1016"/>
                  </a:lnTo>
                  <a:lnTo>
                    <a:pt x="148" y="1016"/>
                  </a:lnTo>
                  <a:lnTo>
                    <a:pt x="148" y="1016"/>
                  </a:lnTo>
                  <a:lnTo>
                    <a:pt x="118" y="1014"/>
                  </a:lnTo>
                  <a:lnTo>
                    <a:pt x="90" y="1008"/>
                  </a:lnTo>
                  <a:lnTo>
                    <a:pt x="78" y="1002"/>
                  </a:lnTo>
                  <a:lnTo>
                    <a:pt x="66" y="996"/>
                  </a:lnTo>
                  <a:lnTo>
                    <a:pt x="54" y="990"/>
                  </a:lnTo>
                  <a:lnTo>
                    <a:pt x="44" y="982"/>
                  </a:lnTo>
                  <a:lnTo>
                    <a:pt x="34" y="974"/>
                  </a:lnTo>
                  <a:lnTo>
                    <a:pt x="26" y="964"/>
                  </a:lnTo>
                  <a:lnTo>
                    <a:pt x="18" y="954"/>
                  </a:lnTo>
                  <a:lnTo>
                    <a:pt x="12" y="942"/>
                  </a:lnTo>
                  <a:lnTo>
                    <a:pt x="6" y="930"/>
                  </a:lnTo>
                  <a:lnTo>
                    <a:pt x="4" y="918"/>
                  </a:lnTo>
                  <a:lnTo>
                    <a:pt x="0" y="904"/>
                  </a:lnTo>
                  <a:lnTo>
                    <a:pt x="0" y="890"/>
                  </a:lnTo>
                  <a:lnTo>
                    <a:pt x="0" y="890"/>
                  </a:lnTo>
                  <a:lnTo>
                    <a:pt x="0" y="878"/>
                  </a:lnTo>
                  <a:lnTo>
                    <a:pt x="2" y="866"/>
                  </a:lnTo>
                  <a:lnTo>
                    <a:pt x="10" y="844"/>
                  </a:lnTo>
                  <a:lnTo>
                    <a:pt x="20" y="824"/>
                  </a:lnTo>
                  <a:lnTo>
                    <a:pt x="34" y="806"/>
                  </a:lnTo>
                  <a:lnTo>
                    <a:pt x="52" y="790"/>
                  </a:lnTo>
                  <a:lnTo>
                    <a:pt x="70" y="776"/>
                  </a:lnTo>
                  <a:lnTo>
                    <a:pt x="92" y="764"/>
                  </a:lnTo>
                  <a:lnTo>
                    <a:pt x="114" y="754"/>
                  </a:lnTo>
                  <a:lnTo>
                    <a:pt x="114" y="754"/>
                  </a:lnTo>
                  <a:lnTo>
                    <a:pt x="138" y="744"/>
                  </a:lnTo>
                  <a:lnTo>
                    <a:pt x="164" y="730"/>
                  </a:lnTo>
                  <a:lnTo>
                    <a:pt x="186" y="710"/>
                  </a:lnTo>
                  <a:lnTo>
                    <a:pt x="208" y="688"/>
                  </a:lnTo>
                  <a:lnTo>
                    <a:pt x="216" y="676"/>
                  </a:lnTo>
                  <a:lnTo>
                    <a:pt x="224" y="664"/>
                  </a:lnTo>
                  <a:lnTo>
                    <a:pt x="232" y="650"/>
                  </a:lnTo>
                  <a:lnTo>
                    <a:pt x="238" y="636"/>
                  </a:lnTo>
                  <a:lnTo>
                    <a:pt x="242" y="622"/>
                  </a:lnTo>
                  <a:lnTo>
                    <a:pt x="244" y="608"/>
                  </a:lnTo>
                  <a:lnTo>
                    <a:pt x="246" y="592"/>
                  </a:lnTo>
                  <a:lnTo>
                    <a:pt x="246" y="576"/>
                  </a:lnTo>
                  <a:lnTo>
                    <a:pt x="270" y="574"/>
                  </a:lnTo>
                  <a:lnTo>
                    <a:pt x="270" y="574"/>
                  </a:lnTo>
                  <a:lnTo>
                    <a:pt x="282" y="600"/>
                  </a:lnTo>
                  <a:lnTo>
                    <a:pt x="292" y="626"/>
                  </a:lnTo>
                  <a:lnTo>
                    <a:pt x="308" y="674"/>
                  </a:lnTo>
                  <a:lnTo>
                    <a:pt x="1208" y="674"/>
                  </a:lnTo>
                  <a:lnTo>
                    <a:pt x="1208" y="674"/>
                  </a:lnTo>
                  <a:lnTo>
                    <a:pt x="1222" y="626"/>
                  </a:lnTo>
                  <a:lnTo>
                    <a:pt x="1236" y="574"/>
                  </a:lnTo>
                  <a:lnTo>
                    <a:pt x="1264" y="464"/>
                  </a:lnTo>
                  <a:lnTo>
                    <a:pt x="1288" y="356"/>
                  </a:lnTo>
                  <a:lnTo>
                    <a:pt x="1308" y="258"/>
                  </a:lnTo>
                  <a:lnTo>
                    <a:pt x="1308" y="258"/>
                  </a:lnTo>
                  <a:lnTo>
                    <a:pt x="1190" y="268"/>
                  </a:lnTo>
                  <a:lnTo>
                    <a:pt x="1066" y="278"/>
                  </a:lnTo>
                  <a:lnTo>
                    <a:pt x="938" y="288"/>
                  </a:lnTo>
                  <a:lnTo>
                    <a:pt x="806" y="296"/>
                  </a:lnTo>
                  <a:lnTo>
                    <a:pt x="806" y="296"/>
                  </a:lnTo>
                  <a:lnTo>
                    <a:pt x="842" y="308"/>
                  </a:lnTo>
                  <a:lnTo>
                    <a:pt x="876" y="320"/>
                  </a:lnTo>
                  <a:lnTo>
                    <a:pt x="906" y="332"/>
                  </a:lnTo>
                  <a:lnTo>
                    <a:pt x="934" y="346"/>
                  </a:lnTo>
                  <a:lnTo>
                    <a:pt x="958" y="358"/>
                  </a:lnTo>
                  <a:lnTo>
                    <a:pt x="980" y="372"/>
                  </a:lnTo>
                  <a:lnTo>
                    <a:pt x="1000" y="386"/>
                  </a:lnTo>
                  <a:lnTo>
                    <a:pt x="1018" y="402"/>
                  </a:lnTo>
                  <a:lnTo>
                    <a:pt x="1032" y="416"/>
                  </a:lnTo>
                  <a:lnTo>
                    <a:pt x="1046" y="430"/>
                  </a:lnTo>
                  <a:lnTo>
                    <a:pt x="1056" y="446"/>
                  </a:lnTo>
                  <a:lnTo>
                    <a:pt x="1064" y="460"/>
                  </a:lnTo>
                  <a:lnTo>
                    <a:pt x="1070" y="476"/>
                  </a:lnTo>
                  <a:lnTo>
                    <a:pt x="1074" y="490"/>
                  </a:lnTo>
                  <a:lnTo>
                    <a:pt x="1078" y="504"/>
                  </a:lnTo>
                  <a:lnTo>
                    <a:pt x="1078" y="518"/>
                  </a:lnTo>
                  <a:lnTo>
                    <a:pt x="1078" y="518"/>
                  </a:lnTo>
                  <a:lnTo>
                    <a:pt x="1078" y="534"/>
                  </a:lnTo>
                  <a:lnTo>
                    <a:pt x="1074" y="548"/>
                  </a:lnTo>
                  <a:lnTo>
                    <a:pt x="1070" y="560"/>
                  </a:lnTo>
                  <a:lnTo>
                    <a:pt x="1066" y="574"/>
                  </a:lnTo>
                  <a:lnTo>
                    <a:pt x="1058" y="586"/>
                  </a:lnTo>
                  <a:lnTo>
                    <a:pt x="1050" y="598"/>
                  </a:lnTo>
                  <a:lnTo>
                    <a:pt x="1040" y="610"/>
                  </a:lnTo>
                  <a:lnTo>
                    <a:pt x="1030" y="620"/>
                  </a:lnTo>
                  <a:lnTo>
                    <a:pt x="1018" y="628"/>
                  </a:lnTo>
                  <a:lnTo>
                    <a:pt x="1006" y="636"/>
                  </a:lnTo>
                  <a:lnTo>
                    <a:pt x="994" y="644"/>
                  </a:lnTo>
                  <a:lnTo>
                    <a:pt x="980" y="650"/>
                  </a:lnTo>
                  <a:lnTo>
                    <a:pt x="966" y="654"/>
                  </a:lnTo>
                  <a:lnTo>
                    <a:pt x="950" y="658"/>
                  </a:lnTo>
                  <a:lnTo>
                    <a:pt x="936" y="660"/>
                  </a:lnTo>
                  <a:lnTo>
                    <a:pt x="920" y="660"/>
                  </a:lnTo>
                  <a:lnTo>
                    <a:pt x="920" y="660"/>
                  </a:lnTo>
                  <a:lnTo>
                    <a:pt x="904" y="660"/>
                  </a:lnTo>
                  <a:lnTo>
                    <a:pt x="886" y="656"/>
                  </a:lnTo>
                  <a:lnTo>
                    <a:pt x="870" y="652"/>
                  </a:lnTo>
                  <a:lnTo>
                    <a:pt x="852" y="644"/>
                  </a:lnTo>
                  <a:lnTo>
                    <a:pt x="838" y="634"/>
                  </a:lnTo>
                  <a:lnTo>
                    <a:pt x="822" y="622"/>
                  </a:lnTo>
                  <a:lnTo>
                    <a:pt x="808" y="606"/>
                  </a:lnTo>
                  <a:lnTo>
                    <a:pt x="794" y="588"/>
                  </a:lnTo>
                  <a:lnTo>
                    <a:pt x="794" y="588"/>
                  </a:lnTo>
                  <a:lnTo>
                    <a:pt x="798" y="552"/>
                  </a:lnTo>
                  <a:lnTo>
                    <a:pt x="800" y="512"/>
                  </a:lnTo>
                  <a:lnTo>
                    <a:pt x="800" y="512"/>
                  </a:lnTo>
                  <a:lnTo>
                    <a:pt x="798" y="484"/>
                  </a:lnTo>
                  <a:lnTo>
                    <a:pt x="796" y="454"/>
                  </a:lnTo>
                  <a:lnTo>
                    <a:pt x="792" y="426"/>
                  </a:lnTo>
                  <a:lnTo>
                    <a:pt x="786" y="398"/>
                  </a:lnTo>
                  <a:lnTo>
                    <a:pt x="780" y="370"/>
                  </a:lnTo>
                  <a:lnTo>
                    <a:pt x="770" y="344"/>
                  </a:lnTo>
                  <a:lnTo>
                    <a:pt x="760" y="320"/>
                  </a:lnTo>
                  <a:lnTo>
                    <a:pt x="748" y="298"/>
                  </a:lnTo>
                  <a:lnTo>
                    <a:pt x="748" y="298"/>
                  </a:lnTo>
                  <a:lnTo>
                    <a:pt x="588" y="304"/>
                  </a:lnTo>
                  <a:lnTo>
                    <a:pt x="430" y="308"/>
                  </a:lnTo>
                  <a:lnTo>
                    <a:pt x="272" y="310"/>
                  </a:lnTo>
                  <a:lnTo>
                    <a:pt x="120" y="310"/>
                  </a:lnTo>
                  <a:lnTo>
                    <a:pt x="118" y="280"/>
                  </a:lnTo>
                  <a:lnTo>
                    <a:pt x="118" y="280"/>
                  </a:lnTo>
                  <a:lnTo>
                    <a:pt x="284" y="256"/>
                  </a:lnTo>
                  <a:lnTo>
                    <a:pt x="460" y="226"/>
                  </a:lnTo>
                  <a:lnTo>
                    <a:pt x="638" y="192"/>
                  </a:lnTo>
                  <a:lnTo>
                    <a:pt x="814" y="156"/>
                  </a:lnTo>
                  <a:lnTo>
                    <a:pt x="984" y="118"/>
                  </a:lnTo>
                  <a:lnTo>
                    <a:pt x="1142" y="78"/>
                  </a:lnTo>
                  <a:lnTo>
                    <a:pt x="1282" y="38"/>
                  </a:lnTo>
                  <a:lnTo>
                    <a:pt x="1346" y="18"/>
                  </a:lnTo>
                  <a:lnTo>
                    <a:pt x="1404" y="0"/>
                  </a:lnTo>
                  <a:lnTo>
                    <a:pt x="1640" y="242"/>
                  </a:lnTo>
                  <a:lnTo>
                    <a:pt x="1640" y="242"/>
                  </a:lnTo>
                  <a:lnTo>
                    <a:pt x="1630" y="248"/>
                  </a:lnTo>
                  <a:lnTo>
                    <a:pt x="1620" y="252"/>
                  </a:lnTo>
                  <a:lnTo>
                    <a:pt x="1608" y="254"/>
                  </a:lnTo>
                  <a:lnTo>
                    <a:pt x="1594" y="256"/>
                  </a:lnTo>
                  <a:lnTo>
                    <a:pt x="1594" y="256"/>
                  </a:lnTo>
                  <a:lnTo>
                    <a:pt x="1574" y="254"/>
                  </a:lnTo>
                  <a:lnTo>
                    <a:pt x="1554" y="250"/>
                  </a:lnTo>
                  <a:lnTo>
                    <a:pt x="1530" y="244"/>
                  </a:lnTo>
                  <a:lnTo>
                    <a:pt x="1504" y="234"/>
                  </a:lnTo>
                  <a:lnTo>
                    <a:pt x="1504" y="234"/>
                  </a:lnTo>
                  <a:lnTo>
                    <a:pt x="1416" y="246"/>
                  </a:lnTo>
                  <a:lnTo>
                    <a:pt x="1322" y="256"/>
                  </a:lnTo>
                  <a:lnTo>
                    <a:pt x="1690" y="360"/>
                  </a:lnTo>
                  <a:lnTo>
                    <a:pt x="1690" y="360"/>
                  </a:lnTo>
                  <a:lnTo>
                    <a:pt x="1686" y="368"/>
                  </a:lnTo>
                  <a:lnTo>
                    <a:pt x="1682" y="376"/>
                  </a:lnTo>
                  <a:lnTo>
                    <a:pt x="1676" y="382"/>
                  </a:lnTo>
                  <a:lnTo>
                    <a:pt x="1668" y="386"/>
                  </a:lnTo>
                  <a:lnTo>
                    <a:pt x="1658" y="388"/>
                  </a:lnTo>
                  <a:lnTo>
                    <a:pt x="1646" y="390"/>
                  </a:lnTo>
                  <a:lnTo>
                    <a:pt x="1612" y="392"/>
                  </a:lnTo>
                  <a:lnTo>
                    <a:pt x="1612" y="392"/>
                  </a:lnTo>
                  <a:lnTo>
                    <a:pt x="1578" y="424"/>
                  </a:lnTo>
                  <a:lnTo>
                    <a:pt x="1540" y="460"/>
                  </a:lnTo>
                  <a:lnTo>
                    <a:pt x="1498" y="496"/>
                  </a:lnTo>
                  <a:lnTo>
                    <a:pt x="1452" y="532"/>
                  </a:lnTo>
                  <a:lnTo>
                    <a:pt x="1404" y="570"/>
                  </a:lnTo>
                  <a:lnTo>
                    <a:pt x="1356" y="606"/>
                  </a:lnTo>
                  <a:lnTo>
                    <a:pt x="1304" y="640"/>
                  </a:lnTo>
                  <a:lnTo>
                    <a:pt x="1254" y="674"/>
                  </a:lnTo>
                  <a:lnTo>
                    <a:pt x="1474" y="674"/>
                  </a:lnTo>
                  <a:lnTo>
                    <a:pt x="1610" y="538"/>
                  </a:lnTo>
                  <a:close/>
                  <a:moveTo>
                    <a:pt x="1318" y="824"/>
                  </a:moveTo>
                  <a:lnTo>
                    <a:pt x="1556" y="1048"/>
                  </a:lnTo>
                  <a:lnTo>
                    <a:pt x="1556" y="1048"/>
                  </a:lnTo>
                  <a:lnTo>
                    <a:pt x="1550" y="1054"/>
                  </a:lnTo>
                  <a:lnTo>
                    <a:pt x="1544" y="1062"/>
                  </a:lnTo>
                  <a:lnTo>
                    <a:pt x="1536" y="1066"/>
                  </a:lnTo>
                  <a:lnTo>
                    <a:pt x="1528" y="1070"/>
                  </a:lnTo>
                  <a:lnTo>
                    <a:pt x="1504" y="1078"/>
                  </a:lnTo>
                  <a:lnTo>
                    <a:pt x="1470" y="1082"/>
                  </a:lnTo>
                  <a:lnTo>
                    <a:pt x="1470" y="1082"/>
                  </a:lnTo>
                  <a:lnTo>
                    <a:pt x="1436" y="1132"/>
                  </a:lnTo>
                  <a:lnTo>
                    <a:pt x="1400" y="1180"/>
                  </a:lnTo>
                  <a:lnTo>
                    <a:pt x="1362" y="1226"/>
                  </a:lnTo>
                  <a:lnTo>
                    <a:pt x="1322" y="1270"/>
                  </a:lnTo>
                  <a:lnTo>
                    <a:pt x="1282" y="1314"/>
                  </a:lnTo>
                  <a:lnTo>
                    <a:pt x="1238" y="1354"/>
                  </a:lnTo>
                  <a:lnTo>
                    <a:pt x="1192" y="1394"/>
                  </a:lnTo>
                  <a:lnTo>
                    <a:pt x="1144" y="1432"/>
                  </a:lnTo>
                  <a:lnTo>
                    <a:pt x="1144" y="1432"/>
                  </a:lnTo>
                  <a:lnTo>
                    <a:pt x="1220" y="1454"/>
                  </a:lnTo>
                  <a:lnTo>
                    <a:pt x="1298" y="1474"/>
                  </a:lnTo>
                  <a:lnTo>
                    <a:pt x="1378" y="1490"/>
                  </a:lnTo>
                  <a:lnTo>
                    <a:pt x="1460" y="1506"/>
                  </a:lnTo>
                  <a:lnTo>
                    <a:pt x="1542" y="1518"/>
                  </a:lnTo>
                  <a:lnTo>
                    <a:pt x="1624" y="1528"/>
                  </a:lnTo>
                  <a:lnTo>
                    <a:pt x="1708" y="1538"/>
                  </a:lnTo>
                  <a:lnTo>
                    <a:pt x="1790" y="1544"/>
                  </a:lnTo>
                  <a:lnTo>
                    <a:pt x="1788" y="1570"/>
                  </a:lnTo>
                  <a:lnTo>
                    <a:pt x="1788" y="1570"/>
                  </a:lnTo>
                  <a:lnTo>
                    <a:pt x="1764" y="1576"/>
                  </a:lnTo>
                  <a:lnTo>
                    <a:pt x="1742" y="1584"/>
                  </a:lnTo>
                  <a:lnTo>
                    <a:pt x="1722" y="1594"/>
                  </a:lnTo>
                  <a:lnTo>
                    <a:pt x="1702" y="1604"/>
                  </a:lnTo>
                  <a:lnTo>
                    <a:pt x="1684" y="1616"/>
                  </a:lnTo>
                  <a:lnTo>
                    <a:pt x="1668" y="1630"/>
                  </a:lnTo>
                  <a:lnTo>
                    <a:pt x="1650" y="1646"/>
                  </a:lnTo>
                  <a:lnTo>
                    <a:pt x="1636" y="1662"/>
                  </a:lnTo>
                  <a:lnTo>
                    <a:pt x="1622" y="1678"/>
                  </a:lnTo>
                  <a:lnTo>
                    <a:pt x="1608" y="1698"/>
                  </a:lnTo>
                  <a:lnTo>
                    <a:pt x="1596" y="1718"/>
                  </a:lnTo>
                  <a:lnTo>
                    <a:pt x="1586" y="1738"/>
                  </a:lnTo>
                  <a:lnTo>
                    <a:pt x="1576" y="1762"/>
                  </a:lnTo>
                  <a:lnTo>
                    <a:pt x="1568" y="1784"/>
                  </a:lnTo>
                  <a:lnTo>
                    <a:pt x="1560" y="1810"/>
                  </a:lnTo>
                  <a:lnTo>
                    <a:pt x="1554" y="1836"/>
                  </a:lnTo>
                  <a:lnTo>
                    <a:pt x="1554" y="1836"/>
                  </a:lnTo>
                  <a:lnTo>
                    <a:pt x="1464" y="1812"/>
                  </a:lnTo>
                  <a:lnTo>
                    <a:pt x="1376" y="1788"/>
                  </a:lnTo>
                  <a:lnTo>
                    <a:pt x="1292" y="1760"/>
                  </a:lnTo>
                  <a:lnTo>
                    <a:pt x="1212" y="1730"/>
                  </a:lnTo>
                  <a:lnTo>
                    <a:pt x="1132" y="1696"/>
                  </a:lnTo>
                  <a:lnTo>
                    <a:pt x="1058" y="1660"/>
                  </a:lnTo>
                  <a:lnTo>
                    <a:pt x="1022" y="1640"/>
                  </a:lnTo>
                  <a:lnTo>
                    <a:pt x="986" y="1620"/>
                  </a:lnTo>
                  <a:lnTo>
                    <a:pt x="950" y="1598"/>
                  </a:lnTo>
                  <a:lnTo>
                    <a:pt x="916" y="1576"/>
                  </a:lnTo>
                  <a:lnTo>
                    <a:pt x="916" y="1576"/>
                  </a:lnTo>
                  <a:lnTo>
                    <a:pt x="872" y="1598"/>
                  </a:lnTo>
                  <a:lnTo>
                    <a:pt x="828" y="1620"/>
                  </a:lnTo>
                  <a:lnTo>
                    <a:pt x="780" y="1640"/>
                  </a:lnTo>
                  <a:lnTo>
                    <a:pt x="732" y="1660"/>
                  </a:lnTo>
                  <a:lnTo>
                    <a:pt x="684" y="1680"/>
                  </a:lnTo>
                  <a:lnTo>
                    <a:pt x="634" y="1698"/>
                  </a:lnTo>
                  <a:lnTo>
                    <a:pt x="530" y="1732"/>
                  </a:lnTo>
                  <a:lnTo>
                    <a:pt x="420" y="1762"/>
                  </a:lnTo>
                  <a:lnTo>
                    <a:pt x="308" y="1790"/>
                  </a:lnTo>
                  <a:lnTo>
                    <a:pt x="190" y="1812"/>
                  </a:lnTo>
                  <a:lnTo>
                    <a:pt x="68" y="1834"/>
                  </a:lnTo>
                  <a:lnTo>
                    <a:pt x="62" y="1812"/>
                  </a:lnTo>
                  <a:lnTo>
                    <a:pt x="62" y="1812"/>
                  </a:lnTo>
                  <a:lnTo>
                    <a:pt x="166" y="1780"/>
                  </a:lnTo>
                  <a:lnTo>
                    <a:pt x="264" y="1746"/>
                  </a:lnTo>
                  <a:lnTo>
                    <a:pt x="362" y="1708"/>
                  </a:lnTo>
                  <a:lnTo>
                    <a:pt x="454" y="1666"/>
                  </a:lnTo>
                  <a:lnTo>
                    <a:pt x="498" y="1644"/>
                  </a:lnTo>
                  <a:lnTo>
                    <a:pt x="542" y="1620"/>
                  </a:lnTo>
                  <a:lnTo>
                    <a:pt x="584" y="1596"/>
                  </a:lnTo>
                  <a:lnTo>
                    <a:pt x="626" y="1572"/>
                  </a:lnTo>
                  <a:lnTo>
                    <a:pt x="666" y="1546"/>
                  </a:lnTo>
                  <a:lnTo>
                    <a:pt x="706" y="1520"/>
                  </a:lnTo>
                  <a:lnTo>
                    <a:pt x="744" y="1492"/>
                  </a:lnTo>
                  <a:lnTo>
                    <a:pt x="780" y="1464"/>
                  </a:lnTo>
                  <a:lnTo>
                    <a:pt x="780" y="1464"/>
                  </a:lnTo>
                  <a:lnTo>
                    <a:pt x="734" y="1418"/>
                  </a:lnTo>
                  <a:lnTo>
                    <a:pt x="690" y="1368"/>
                  </a:lnTo>
                  <a:lnTo>
                    <a:pt x="648" y="1316"/>
                  </a:lnTo>
                  <a:lnTo>
                    <a:pt x="610" y="1258"/>
                  </a:lnTo>
                  <a:lnTo>
                    <a:pt x="574" y="1198"/>
                  </a:lnTo>
                  <a:lnTo>
                    <a:pt x="540" y="1136"/>
                  </a:lnTo>
                  <a:lnTo>
                    <a:pt x="510" y="1068"/>
                  </a:lnTo>
                  <a:lnTo>
                    <a:pt x="482" y="998"/>
                  </a:lnTo>
                  <a:lnTo>
                    <a:pt x="296" y="998"/>
                  </a:lnTo>
                  <a:lnTo>
                    <a:pt x="286" y="966"/>
                  </a:lnTo>
                  <a:lnTo>
                    <a:pt x="1160" y="966"/>
                  </a:lnTo>
                  <a:lnTo>
                    <a:pt x="1318" y="824"/>
                  </a:lnTo>
                  <a:close/>
                  <a:moveTo>
                    <a:pt x="342" y="310"/>
                  </a:moveTo>
                  <a:lnTo>
                    <a:pt x="342" y="310"/>
                  </a:lnTo>
                  <a:lnTo>
                    <a:pt x="386" y="320"/>
                  </a:lnTo>
                  <a:lnTo>
                    <a:pt x="426" y="332"/>
                  </a:lnTo>
                  <a:lnTo>
                    <a:pt x="464" y="344"/>
                  </a:lnTo>
                  <a:lnTo>
                    <a:pt x="498" y="356"/>
                  </a:lnTo>
                  <a:lnTo>
                    <a:pt x="526" y="368"/>
                  </a:lnTo>
                  <a:lnTo>
                    <a:pt x="554" y="382"/>
                  </a:lnTo>
                  <a:lnTo>
                    <a:pt x="578" y="396"/>
                  </a:lnTo>
                  <a:lnTo>
                    <a:pt x="598" y="412"/>
                  </a:lnTo>
                  <a:lnTo>
                    <a:pt x="616" y="426"/>
                  </a:lnTo>
                  <a:lnTo>
                    <a:pt x="630" y="442"/>
                  </a:lnTo>
                  <a:lnTo>
                    <a:pt x="642" y="458"/>
                  </a:lnTo>
                  <a:lnTo>
                    <a:pt x="652" y="472"/>
                  </a:lnTo>
                  <a:lnTo>
                    <a:pt x="660" y="488"/>
                  </a:lnTo>
                  <a:lnTo>
                    <a:pt x="664" y="504"/>
                  </a:lnTo>
                  <a:lnTo>
                    <a:pt x="668" y="520"/>
                  </a:lnTo>
                  <a:lnTo>
                    <a:pt x="668" y="534"/>
                  </a:lnTo>
                  <a:lnTo>
                    <a:pt x="668" y="534"/>
                  </a:lnTo>
                  <a:lnTo>
                    <a:pt x="668" y="548"/>
                  </a:lnTo>
                  <a:lnTo>
                    <a:pt x="666" y="562"/>
                  </a:lnTo>
                  <a:lnTo>
                    <a:pt x="662" y="576"/>
                  </a:lnTo>
                  <a:lnTo>
                    <a:pt x="656" y="588"/>
                  </a:lnTo>
                  <a:lnTo>
                    <a:pt x="648" y="600"/>
                  </a:lnTo>
                  <a:lnTo>
                    <a:pt x="640" y="612"/>
                  </a:lnTo>
                  <a:lnTo>
                    <a:pt x="632" y="622"/>
                  </a:lnTo>
                  <a:lnTo>
                    <a:pt x="620" y="632"/>
                  </a:lnTo>
                  <a:lnTo>
                    <a:pt x="610" y="642"/>
                  </a:lnTo>
                  <a:lnTo>
                    <a:pt x="598" y="650"/>
                  </a:lnTo>
                  <a:lnTo>
                    <a:pt x="584" y="658"/>
                  </a:lnTo>
                  <a:lnTo>
                    <a:pt x="570" y="664"/>
                  </a:lnTo>
                  <a:lnTo>
                    <a:pt x="556" y="668"/>
                  </a:lnTo>
                  <a:lnTo>
                    <a:pt x="542" y="672"/>
                  </a:lnTo>
                  <a:lnTo>
                    <a:pt x="528" y="674"/>
                  </a:lnTo>
                  <a:lnTo>
                    <a:pt x="514" y="674"/>
                  </a:lnTo>
                  <a:lnTo>
                    <a:pt x="514" y="674"/>
                  </a:lnTo>
                  <a:lnTo>
                    <a:pt x="496" y="674"/>
                  </a:lnTo>
                  <a:lnTo>
                    <a:pt x="480" y="670"/>
                  </a:lnTo>
                  <a:lnTo>
                    <a:pt x="464" y="666"/>
                  </a:lnTo>
                  <a:lnTo>
                    <a:pt x="448" y="658"/>
                  </a:lnTo>
                  <a:lnTo>
                    <a:pt x="432" y="648"/>
                  </a:lnTo>
                  <a:lnTo>
                    <a:pt x="416" y="636"/>
                  </a:lnTo>
                  <a:lnTo>
                    <a:pt x="402" y="622"/>
                  </a:lnTo>
                  <a:lnTo>
                    <a:pt x="388" y="606"/>
                  </a:lnTo>
                  <a:lnTo>
                    <a:pt x="388" y="606"/>
                  </a:lnTo>
                  <a:lnTo>
                    <a:pt x="390" y="578"/>
                  </a:lnTo>
                  <a:lnTo>
                    <a:pt x="392" y="552"/>
                  </a:lnTo>
                  <a:lnTo>
                    <a:pt x="392" y="552"/>
                  </a:lnTo>
                  <a:lnTo>
                    <a:pt x="392" y="520"/>
                  </a:lnTo>
                  <a:lnTo>
                    <a:pt x="388" y="488"/>
                  </a:lnTo>
                  <a:lnTo>
                    <a:pt x="382" y="458"/>
                  </a:lnTo>
                  <a:lnTo>
                    <a:pt x="376" y="426"/>
                  </a:lnTo>
                  <a:lnTo>
                    <a:pt x="366" y="398"/>
                  </a:lnTo>
                  <a:lnTo>
                    <a:pt x="356" y="370"/>
                  </a:lnTo>
                  <a:lnTo>
                    <a:pt x="344" y="344"/>
                  </a:lnTo>
                  <a:lnTo>
                    <a:pt x="328" y="320"/>
                  </a:lnTo>
                  <a:lnTo>
                    <a:pt x="342" y="310"/>
                  </a:lnTo>
                  <a:close/>
                  <a:moveTo>
                    <a:pt x="516" y="998"/>
                  </a:moveTo>
                  <a:lnTo>
                    <a:pt x="516" y="998"/>
                  </a:lnTo>
                  <a:lnTo>
                    <a:pt x="532" y="1026"/>
                  </a:lnTo>
                  <a:lnTo>
                    <a:pt x="552" y="1052"/>
                  </a:lnTo>
                  <a:lnTo>
                    <a:pt x="572" y="1078"/>
                  </a:lnTo>
                  <a:lnTo>
                    <a:pt x="592" y="1104"/>
                  </a:lnTo>
                  <a:lnTo>
                    <a:pt x="614" y="1128"/>
                  </a:lnTo>
                  <a:lnTo>
                    <a:pt x="638" y="1152"/>
                  </a:lnTo>
                  <a:lnTo>
                    <a:pt x="662" y="1174"/>
                  </a:lnTo>
                  <a:lnTo>
                    <a:pt x="686" y="1196"/>
                  </a:lnTo>
                  <a:lnTo>
                    <a:pt x="740" y="1238"/>
                  </a:lnTo>
                  <a:lnTo>
                    <a:pt x="796" y="1276"/>
                  </a:lnTo>
                  <a:lnTo>
                    <a:pt x="856" y="1310"/>
                  </a:lnTo>
                  <a:lnTo>
                    <a:pt x="918" y="1344"/>
                  </a:lnTo>
                  <a:lnTo>
                    <a:pt x="918" y="1344"/>
                  </a:lnTo>
                  <a:lnTo>
                    <a:pt x="956" y="1304"/>
                  </a:lnTo>
                  <a:lnTo>
                    <a:pt x="994" y="1264"/>
                  </a:lnTo>
                  <a:lnTo>
                    <a:pt x="1028" y="1222"/>
                  </a:lnTo>
                  <a:lnTo>
                    <a:pt x="1060" y="1178"/>
                  </a:lnTo>
                  <a:lnTo>
                    <a:pt x="1092" y="1134"/>
                  </a:lnTo>
                  <a:lnTo>
                    <a:pt x="1120" y="1090"/>
                  </a:lnTo>
                  <a:lnTo>
                    <a:pt x="1146" y="1044"/>
                  </a:lnTo>
                  <a:lnTo>
                    <a:pt x="1170" y="998"/>
                  </a:lnTo>
                  <a:lnTo>
                    <a:pt x="516" y="99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25"/>
            <p:cNvSpPr/>
            <p:nvPr/>
          </p:nvSpPr>
          <p:spPr>
            <a:xfrm>
              <a:off x="3774960" y="29359440"/>
              <a:ext cx="2994120" cy="2901960"/>
            </a:xfrm>
            <a:custGeom>
              <a:avLst/>
              <a:gdLst>
                <a:gd name="textAreaLeft" fmla="*/ 0 w 2994120"/>
                <a:gd name="textAreaRight" fmla="*/ 2994480 w 2994120"/>
                <a:gd name="textAreaTop" fmla="*/ 0 h 2901960"/>
                <a:gd name="textAreaBottom" fmla="*/ 2901960 h 2901960"/>
              </a:gdLst>
              <a:ahLst/>
              <a:rect l="textAreaLeft" t="textAreaTop" r="textAreaRight" b="textAreaBottom"/>
              <a:pathLst>
                <a:path w="1886" h="1828">
                  <a:moveTo>
                    <a:pt x="0" y="1072"/>
                  </a:moveTo>
                  <a:lnTo>
                    <a:pt x="0" y="1072"/>
                  </a:lnTo>
                  <a:lnTo>
                    <a:pt x="26" y="1024"/>
                  </a:lnTo>
                  <a:lnTo>
                    <a:pt x="52" y="972"/>
                  </a:lnTo>
                  <a:lnTo>
                    <a:pt x="80" y="916"/>
                  </a:lnTo>
                  <a:lnTo>
                    <a:pt x="106" y="856"/>
                  </a:lnTo>
                  <a:lnTo>
                    <a:pt x="132" y="794"/>
                  </a:lnTo>
                  <a:lnTo>
                    <a:pt x="156" y="730"/>
                  </a:lnTo>
                  <a:lnTo>
                    <a:pt x="182" y="662"/>
                  </a:lnTo>
                  <a:lnTo>
                    <a:pt x="206" y="592"/>
                  </a:lnTo>
                  <a:lnTo>
                    <a:pt x="230" y="522"/>
                  </a:lnTo>
                  <a:lnTo>
                    <a:pt x="252" y="448"/>
                  </a:lnTo>
                  <a:lnTo>
                    <a:pt x="274" y="374"/>
                  </a:lnTo>
                  <a:lnTo>
                    <a:pt x="294" y="300"/>
                  </a:lnTo>
                  <a:lnTo>
                    <a:pt x="314" y="224"/>
                  </a:lnTo>
                  <a:lnTo>
                    <a:pt x="332" y="150"/>
                  </a:lnTo>
                  <a:lnTo>
                    <a:pt x="348" y="74"/>
                  </a:lnTo>
                  <a:lnTo>
                    <a:pt x="364" y="0"/>
                  </a:lnTo>
                  <a:lnTo>
                    <a:pt x="738" y="110"/>
                  </a:lnTo>
                  <a:lnTo>
                    <a:pt x="738" y="110"/>
                  </a:lnTo>
                  <a:lnTo>
                    <a:pt x="736" y="120"/>
                  </a:lnTo>
                  <a:lnTo>
                    <a:pt x="730" y="128"/>
                  </a:lnTo>
                  <a:lnTo>
                    <a:pt x="724" y="134"/>
                  </a:lnTo>
                  <a:lnTo>
                    <a:pt x="716" y="140"/>
                  </a:lnTo>
                  <a:lnTo>
                    <a:pt x="706" y="146"/>
                  </a:lnTo>
                  <a:lnTo>
                    <a:pt x="692" y="148"/>
                  </a:lnTo>
                  <a:lnTo>
                    <a:pt x="676" y="150"/>
                  </a:lnTo>
                  <a:lnTo>
                    <a:pt x="658" y="152"/>
                  </a:lnTo>
                  <a:lnTo>
                    <a:pt x="658" y="152"/>
                  </a:lnTo>
                  <a:lnTo>
                    <a:pt x="620" y="244"/>
                  </a:lnTo>
                  <a:lnTo>
                    <a:pt x="582" y="334"/>
                  </a:lnTo>
                  <a:lnTo>
                    <a:pt x="540" y="420"/>
                  </a:lnTo>
                  <a:lnTo>
                    <a:pt x="496" y="502"/>
                  </a:lnTo>
                  <a:lnTo>
                    <a:pt x="578" y="532"/>
                  </a:lnTo>
                  <a:lnTo>
                    <a:pt x="578" y="532"/>
                  </a:lnTo>
                  <a:lnTo>
                    <a:pt x="574" y="538"/>
                  </a:lnTo>
                  <a:lnTo>
                    <a:pt x="570" y="544"/>
                  </a:lnTo>
                  <a:lnTo>
                    <a:pt x="566" y="550"/>
                  </a:lnTo>
                  <a:lnTo>
                    <a:pt x="560" y="556"/>
                  </a:lnTo>
                  <a:lnTo>
                    <a:pt x="542" y="564"/>
                  </a:lnTo>
                  <a:lnTo>
                    <a:pt x="518" y="570"/>
                  </a:lnTo>
                  <a:lnTo>
                    <a:pt x="518" y="1748"/>
                  </a:lnTo>
                  <a:lnTo>
                    <a:pt x="518" y="1748"/>
                  </a:lnTo>
                  <a:lnTo>
                    <a:pt x="516" y="1752"/>
                  </a:lnTo>
                  <a:lnTo>
                    <a:pt x="512" y="1758"/>
                  </a:lnTo>
                  <a:lnTo>
                    <a:pt x="496" y="1768"/>
                  </a:lnTo>
                  <a:lnTo>
                    <a:pt x="474" y="1782"/>
                  </a:lnTo>
                  <a:lnTo>
                    <a:pt x="444" y="1796"/>
                  </a:lnTo>
                  <a:lnTo>
                    <a:pt x="410" y="1808"/>
                  </a:lnTo>
                  <a:lnTo>
                    <a:pt x="372" y="1818"/>
                  </a:lnTo>
                  <a:lnTo>
                    <a:pt x="332" y="1824"/>
                  </a:lnTo>
                  <a:lnTo>
                    <a:pt x="312" y="1826"/>
                  </a:lnTo>
                  <a:lnTo>
                    <a:pt x="290" y="1828"/>
                  </a:lnTo>
                  <a:lnTo>
                    <a:pt x="238" y="1828"/>
                  </a:lnTo>
                  <a:lnTo>
                    <a:pt x="238" y="876"/>
                  </a:lnTo>
                  <a:lnTo>
                    <a:pt x="238" y="876"/>
                  </a:lnTo>
                  <a:lnTo>
                    <a:pt x="188" y="932"/>
                  </a:lnTo>
                  <a:lnTo>
                    <a:pt x="134" y="986"/>
                  </a:lnTo>
                  <a:lnTo>
                    <a:pt x="78" y="1038"/>
                  </a:lnTo>
                  <a:lnTo>
                    <a:pt x="22" y="1086"/>
                  </a:lnTo>
                  <a:lnTo>
                    <a:pt x="0" y="1072"/>
                  </a:lnTo>
                  <a:close/>
                  <a:moveTo>
                    <a:pt x="1666" y="346"/>
                  </a:moveTo>
                  <a:lnTo>
                    <a:pt x="1886" y="546"/>
                  </a:lnTo>
                  <a:lnTo>
                    <a:pt x="1886" y="546"/>
                  </a:lnTo>
                  <a:lnTo>
                    <a:pt x="1880" y="552"/>
                  </a:lnTo>
                  <a:lnTo>
                    <a:pt x="1872" y="558"/>
                  </a:lnTo>
                  <a:lnTo>
                    <a:pt x="1864" y="564"/>
                  </a:lnTo>
                  <a:lnTo>
                    <a:pt x="1852" y="566"/>
                  </a:lnTo>
                  <a:lnTo>
                    <a:pt x="1826" y="570"/>
                  </a:lnTo>
                  <a:lnTo>
                    <a:pt x="1792" y="572"/>
                  </a:lnTo>
                  <a:lnTo>
                    <a:pt x="1556" y="572"/>
                  </a:lnTo>
                  <a:lnTo>
                    <a:pt x="1556" y="1480"/>
                  </a:lnTo>
                  <a:lnTo>
                    <a:pt x="1556" y="1480"/>
                  </a:lnTo>
                  <a:lnTo>
                    <a:pt x="1554" y="1512"/>
                  </a:lnTo>
                  <a:lnTo>
                    <a:pt x="1552" y="1544"/>
                  </a:lnTo>
                  <a:lnTo>
                    <a:pt x="1550" y="1576"/>
                  </a:lnTo>
                  <a:lnTo>
                    <a:pt x="1544" y="1604"/>
                  </a:lnTo>
                  <a:lnTo>
                    <a:pt x="1536" y="1632"/>
                  </a:lnTo>
                  <a:lnTo>
                    <a:pt x="1524" y="1660"/>
                  </a:lnTo>
                  <a:lnTo>
                    <a:pt x="1510" y="1684"/>
                  </a:lnTo>
                  <a:lnTo>
                    <a:pt x="1494" y="1708"/>
                  </a:lnTo>
                  <a:lnTo>
                    <a:pt x="1472" y="1730"/>
                  </a:lnTo>
                  <a:lnTo>
                    <a:pt x="1446" y="1750"/>
                  </a:lnTo>
                  <a:lnTo>
                    <a:pt x="1416" y="1768"/>
                  </a:lnTo>
                  <a:lnTo>
                    <a:pt x="1382" y="1784"/>
                  </a:lnTo>
                  <a:lnTo>
                    <a:pt x="1340" y="1798"/>
                  </a:lnTo>
                  <a:lnTo>
                    <a:pt x="1294" y="1810"/>
                  </a:lnTo>
                  <a:lnTo>
                    <a:pt x="1242" y="1820"/>
                  </a:lnTo>
                  <a:lnTo>
                    <a:pt x="1184" y="1828"/>
                  </a:lnTo>
                  <a:lnTo>
                    <a:pt x="1184" y="1828"/>
                  </a:lnTo>
                  <a:lnTo>
                    <a:pt x="1184" y="1794"/>
                  </a:lnTo>
                  <a:lnTo>
                    <a:pt x="1180" y="1764"/>
                  </a:lnTo>
                  <a:lnTo>
                    <a:pt x="1176" y="1736"/>
                  </a:lnTo>
                  <a:lnTo>
                    <a:pt x="1172" y="1710"/>
                  </a:lnTo>
                  <a:lnTo>
                    <a:pt x="1164" y="1686"/>
                  </a:lnTo>
                  <a:lnTo>
                    <a:pt x="1156" y="1666"/>
                  </a:lnTo>
                  <a:lnTo>
                    <a:pt x="1144" y="1646"/>
                  </a:lnTo>
                  <a:lnTo>
                    <a:pt x="1130" y="1626"/>
                  </a:lnTo>
                  <a:lnTo>
                    <a:pt x="1114" y="1610"/>
                  </a:lnTo>
                  <a:lnTo>
                    <a:pt x="1094" y="1596"/>
                  </a:lnTo>
                  <a:lnTo>
                    <a:pt x="1072" y="1582"/>
                  </a:lnTo>
                  <a:lnTo>
                    <a:pt x="1048" y="1570"/>
                  </a:lnTo>
                  <a:lnTo>
                    <a:pt x="1020" y="1560"/>
                  </a:lnTo>
                  <a:lnTo>
                    <a:pt x="988" y="1552"/>
                  </a:lnTo>
                  <a:lnTo>
                    <a:pt x="952" y="1544"/>
                  </a:lnTo>
                  <a:lnTo>
                    <a:pt x="912" y="1538"/>
                  </a:lnTo>
                  <a:lnTo>
                    <a:pt x="912" y="1514"/>
                  </a:lnTo>
                  <a:lnTo>
                    <a:pt x="1232" y="1514"/>
                  </a:lnTo>
                  <a:lnTo>
                    <a:pt x="1232" y="1514"/>
                  </a:lnTo>
                  <a:lnTo>
                    <a:pt x="1240" y="1514"/>
                  </a:lnTo>
                  <a:lnTo>
                    <a:pt x="1248" y="1512"/>
                  </a:lnTo>
                  <a:lnTo>
                    <a:pt x="1254" y="1510"/>
                  </a:lnTo>
                  <a:lnTo>
                    <a:pt x="1258" y="1506"/>
                  </a:lnTo>
                  <a:lnTo>
                    <a:pt x="1260" y="1500"/>
                  </a:lnTo>
                  <a:lnTo>
                    <a:pt x="1264" y="1496"/>
                  </a:lnTo>
                  <a:lnTo>
                    <a:pt x="1266" y="1482"/>
                  </a:lnTo>
                  <a:lnTo>
                    <a:pt x="1266" y="572"/>
                  </a:lnTo>
                  <a:lnTo>
                    <a:pt x="636" y="572"/>
                  </a:lnTo>
                  <a:lnTo>
                    <a:pt x="630" y="542"/>
                  </a:lnTo>
                  <a:lnTo>
                    <a:pt x="1266" y="542"/>
                  </a:lnTo>
                  <a:lnTo>
                    <a:pt x="1266" y="6"/>
                  </a:lnTo>
                  <a:lnTo>
                    <a:pt x="1628" y="36"/>
                  </a:lnTo>
                  <a:lnTo>
                    <a:pt x="1628" y="36"/>
                  </a:lnTo>
                  <a:lnTo>
                    <a:pt x="1628" y="44"/>
                  </a:lnTo>
                  <a:lnTo>
                    <a:pt x="1626" y="52"/>
                  </a:lnTo>
                  <a:lnTo>
                    <a:pt x="1622" y="60"/>
                  </a:lnTo>
                  <a:lnTo>
                    <a:pt x="1616" y="66"/>
                  </a:lnTo>
                  <a:lnTo>
                    <a:pt x="1606" y="72"/>
                  </a:lnTo>
                  <a:lnTo>
                    <a:pt x="1594" y="78"/>
                  </a:lnTo>
                  <a:lnTo>
                    <a:pt x="1576" y="82"/>
                  </a:lnTo>
                  <a:lnTo>
                    <a:pt x="1556" y="86"/>
                  </a:lnTo>
                  <a:lnTo>
                    <a:pt x="1556" y="520"/>
                  </a:lnTo>
                  <a:lnTo>
                    <a:pt x="1666" y="346"/>
                  </a:lnTo>
                  <a:close/>
                  <a:moveTo>
                    <a:pt x="744" y="722"/>
                  </a:moveTo>
                  <a:lnTo>
                    <a:pt x="744" y="722"/>
                  </a:lnTo>
                  <a:lnTo>
                    <a:pt x="796" y="742"/>
                  </a:lnTo>
                  <a:lnTo>
                    <a:pt x="846" y="762"/>
                  </a:lnTo>
                  <a:lnTo>
                    <a:pt x="888" y="784"/>
                  </a:lnTo>
                  <a:lnTo>
                    <a:pt x="928" y="808"/>
                  </a:lnTo>
                  <a:lnTo>
                    <a:pt x="964" y="830"/>
                  </a:lnTo>
                  <a:lnTo>
                    <a:pt x="996" y="854"/>
                  </a:lnTo>
                  <a:lnTo>
                    <a:pt x="1024" y="878"/>
                  </a:lnTo>
                  <a:lnTo>
                    <a:pt x="1050" y="902"/>
                  </a:lnTo>
                  <a:lnTo>
                    <a:pt x="1070" y="926"/>
                  </a:lnTo>
                  <a:lnTo>
                    <a:pt x="1088" y="950"/>
                  </a:lnTo>
                  <a:lnTo>
                    <a:pt x="1102" y="974"/>
                  </a:lnTo>
                  <a:lnTo>
                    <a:pt x="1114" y="998"/>
                  </a:lnTo>
                  <a:lnTo>
                    <a:pt x="1124" y="1022"/>
                  </a:lnTo>
                  <a:lnTo>
                    <a:pt x="1130" y="1046"/>
                  </a:lnTo>
                  <a:lnTo>
                    <a:pt x="1134" y="1068"/>
                  </a:lnTo>
                  <a:lnTo>
                    <a:pt x="1134" y="1092"/>
                  </a:lnTo>
                  <a:lnTo>
                    <a:pt x="1134" y="1092"/>
                  </a:lnTo>
                  <a:lnTo>
                    <a:pt x="1134" y="1110"/>
                  </a:lnTo>
                  <a:lnTo>
                    <a:pt x="1130" y="1130"/>
                  </a:lnTo>
                  <a:lnTo>
                    <a:pt x="1126" y="1148"/>
                  </a:lnTo>
                  <a:lnTo>
                    <a:pt x="1120" y="1164"/>
                  </a:lnTo>
                  <a:lnTo>
                    <a:pt x="1114" y="1182"/>
                  </a:lnTo>
                  <a:lnTo>
                    <a:pt x="1104" y="1196"/>
                  </a:lnTo>
                  <a:lnTo>
                    <a:pt x="1096" y="1210"/>
                  </a:lnTo>
                  <a:lnTo>
                    <a:pt x="1084" y="1224"/>
                  </a:lnTo>
                  <a:lnTo>
                    <a:pt x="1072" y="1236"/>
                  </a:lnTo>
                  <a:lnTo>
                    <a:pt x="1060" y="1246"/>
                  </a:lnTo>
                  <a:lnTo>
                    <a:pt x="1046" y="1256"/>
                  </a:lnTo>
                  <a:lnTo>
                    <a:pt x="1030" y="1264"/>
                  </a:lnTo>
                  <a:lnTo>
                    <a:pt x="1016" y="1270"/>
                  </a:lnTo>
                  <a:lnTo>
                    <a:pt x="1000" y="1274"/>
                  </a:lnTo>
                  <a:lnTo>
                    <a:pt x="984" y="1276"/>
                  </a:lnTo>
                  <a:lnTo>
                    <a:pt x="968" y="1278"/>
                  </a:lnTo>
                  <a:lnTo>
                    <a:pt x="968" y="1278"/>
                  </a:lnTo>
                  <a:lnTo>
                    <a:pt x="950" y="1276"/>
                  </a:lnTo>
                  <a:lnTo>
                    <a:pt x="934" y="1274"/>
                  </a:lnTo>
                  <a:lnTo>
                    <a:pt x="918" y="1268"/>
                  </a:lnTo>
                  <a:lnTo>
                    <a:pt x="900" y="1260"/>
                  </a:lnTo>
                  <a:lnTo>
                    <a:pt x="884" y="1250"/>
                  </a:lnTo>
                  <a:lnTo>
                    <a:pt x="868" y="1238"/>
                  </a:lnTo>
                  <a:lnTo>
                    <a:pt x="852" y="1224"/>
                  </a:lnTo>
                  <a:lnTo>
                    <a:pt x="836" y="1206"/>
                  </a:lnTo>
                  <a:lnTo>
                    <a:pt x="836" y="1206"/>
                  </a:lnTo>
                  <a:lnTo>
                    <a:pt x="840" y="1174"/>
                  </a:lnTo>
                  <a:lnTo>
                    <a:pt x="840" y="1140"/>
                  </a:lnTo>
                  <a:lnTo>
                    <a:pt x="840" y="1140"/>
                  </a:lnTo>
                  <a:lnTo>
                    <a:pt x="838" y="1086"/>
                  </a:lnTo>
                  <a:lnTo>
                    <a:pt x="834" y="1030"/>
                  </a:lnTo>
                  <a:lnTo>
                    <a:pt x="824" y="976"/>
                  </a:lnTo>
                  <a:lnTo>
                    <a:pt x="812" y="920"/>
                  </a:lnTo>
                  <a:lnTo>
                    <a:pt x="796" y="868"/>
                  </a:lnTo>
                  <a:lnTo>
                    <a:pt x="776" y="820"/>
                  </a:lnTo>
                  <a:lnTo>
                    <a:pt x="754" y="774"/>
                  </a:lnTo>
                  <a:lnTo>
                    <a:pt x="742" y="752"/>
                  </a:lnTo>
                  <a:lnTo>
                    <a:pt x="728" y="732"/>
                  </a:lnTo>
                  <a:lnTo>
                    <a:pt x="744" y="72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26"/>
            <p:cNvSpPr/>
            <p:nvPr/>
          </p:nvSpPr>
          <p:spPr>
            <a:xfrm>
              <a:off x="4038480" y="32416920"/>
              <a:ext cx="2530440" cy="2895480"/>
            </a:xfrm>
            <a:custGeom>
              <a:avLst/>
              <a:gdLst>
                <a:gd name="textAreaLeft" fmla="*/ 0 w 2530440"/>
                <a:gd name="textAreaRight" fmla="*/ 2530440 w 253044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1594" h="1824">
                  <a:moveTo>
                    <a:pt x="1314" y="284"/>
                  </a:moveTo>
                  <a:lnTo>
                    <a:pt x="1594" y="480"/>
                  </a:lnTo>
                  <a:lnTo>
                    <a:pt x="1594" y="480"/>
                  </a:lnTo>
                  <a:lnTo>
                    <a:pt x="1582" y="492"/>
                  </a:lnTo>
                  <a:lnTo>
                    <a:pt x="1564" y="504"/>
                  </a:lnTo>
                  <a:lnTo>
                    <a:pt x="1544" y="514"/>
                  </a:lnTo>
                  <a:lnTo>
                    <a:pt x="1516" y="522"/>
                  </a:lnTo>
                  <a:lnTo>
                    <a:pt x="1516" y="1222"/>
                  </a:lnTo>
                  <a:lnTo>
                    <a:pt x="1516" y="1222"/>
                  </a:lnTo>
                  <a:lnTo>
                    <a:pt x="1512" y="1226"/>
                  </a:lnTo>
                  <a:lnTo>
                    <a:pt x="1500" y="1232"/>
                  </a:lnTo>
                  <a:lnTo>
                    <a:pt x="1480" y="1244"/>
                  </a:lnTo>
                  <a:lnTo>
                    <a:pt x="1450" y="1256"/>
                  </a:lnTo>
                  <a:lnTo>
                    <a:pt x="1410" y="1266"/>
                  </a:lnTo>
                  <a:lnTo>
                    <a:pt x="1360" y="1278"/>
                  </a:lnTo>
                  <a:lnTo>
                    <a:pt x="1332" y="1282"/>
                  </a:lnTo>
                  <a:lnTo>
                    <a:pt x="1300" y="1284"/>
                  </a:lnTo>
                  <a:lnTo>
                    <a:pt x="1266" y="1286"/>
                  </a:lnTo>
                  <a:lnTo>
                    <a:pt x="1228" y="1286"/>
                  </a:lnTo>
                  <a:lnTo>
                    <a:pt x="1228" y="1094"/>
                  </a:lnTo>
                  <a:lnTo>
                    <a:pt x="896" y="1094"/>
                  </a:lnTo>
                  <a:lnTo>
                    <a:pt x="896" y="1724"/>
                  </a:lnTo>
                  <a:lnTo>
                    <a:pt x="896" y="1724"/>
                  </a:lnTo>
                  <a:lnTo>
                    <a:pt x="894" y="1730"/>
                  </a:lnTo>
                  <a:lnTo>
                    <a:pt x="890" y="1736"/>
                  </a:lnTo>
                  <a:lnTo>
                    <a:pt x="884" y="1744"/>
                  </a:lnTo>
                  <a:lnTo>
                    <a:pt x="874" y="1752"/>
                  </a:lnTo>
                  <a:lnTo>
                    <a:pt x="850" y="1768"/>
                  </a:lnTo>
                  <a:lnTo>
                    <a:pt x="818" y="1784"/>
                  </a:lnTo>
                  <a:lnTo>
                    <a:pt x="782" y="1800"/>
                  </a:lnTo>
                  <a:lnTo>
                    <a:pt x="742" y="1812"/>
                  </a:lnTo>
                  <a:lnTo>
                    <a:pt x="720" y="1816"/>
                  </a:lnTo>
                  <a:lnTo>
                    <a:pt x="700" y="1820"/>
                  </a:lnTo>
                  <a:lnTo>
                    <a:pt x="678" y="1822"/>
                  </a:lnTo>
                  <a:lnTo>
                    <a:pt x="658" y="1824"/>
                  </a:lnTo>
                  <a:lnTo>
                    <a:pt x="602" y="1824"/>
                  </a:lnTo>
                  <a:lnTo>
                    <a:pt x="602" y="1094"/>
                  </a:lnTo>
                  <a:lnTo>
                    <a:pt x="284" y="1094"/>
                  </a:lnTo>
                  <a:lnTo>
                    <a:pt x="284" y="1204"/>
                  </a:lnTo>
                  <a:lnTo>
                    <a:pt x="284" y="1204"/>
                  </a:lnTo>
                  <a:lnTo>
                    <a:pt x="282" y="1212"/>
                  </a:lnTo>
                  <a:lnTo>
                    <a:pt x="274" y="1226"/>
                  </a:lnTo>
                  <a:lnTo>
                    <a:pt x="266" y="1234"/>
                  </a:lnTo>
                  <a:lnTo>
                    <a:pt x="258" y="1242"/>
                  </a:lnTo>
                  <a:lnTo>
                    <a:pt x="246" y="1252"/>
                  </a:lnTo>
                  <a:lnTo>
                    <a:pt x="232" y="1262"/>
                  </a:lnTo>
                  <a:lnTo>
                    <a:pt x="216" y="1272"/>
                  </a:lnTo>
                  <a:lnTo>
                    <a:pt x="196" y="1280"/>
                  </a:lnTo>
                  <a:lnTo>
                    <a:pt x="172" y="1288"/>
                  </a:lnTo>
                  <a:lnTo>
                    <a:pt x="146" y="1296"/>
                  </a:lnTo>
                  <a:lnTo>
                    <a:pt x="116" y="1302"/>
                  </a:lnTo>
                  <a:lnTo>
                    <a:pt x="82" y="1308"/>
                  </a:lnTo>
                  <a:lnTo>
                    <a:pt x="42" y="1310"/>
                  </a:lnTo>
                  <a:lnTo>
                    <a:pt x="0" y="1312"/>
                  </a:lnTo>
                  <a:lnTo>
                    <a:pt x="0" y="306"/>
                  </a:lnTo>
                  <a:lnTo>
                    <a:pt x="306" y="422"/>
                  </a:lnTo>
                  <a:lnTo>
                    <a:pt x="602" y="422"/>
                  </a:lnTo>
                  <a:lnTo>
                    <a:pt x="602" y="0"/>
                  </a:lnTo>
                  <a:lnTo>
                    <a:pt x="966" y="34"/>
                  </a:lnTo>
                  <a:lnTo>
                    <a:pt x="966" y="34"/>
                  </a:lnTo>
                  <a:lnTo>
                    <a:pt x="964" y="44"/>
                  </a:lnTo>
                  <a:lnTo>
                    <a:pt x="962" y="52"/>
                  </a:lnTo>
                  <a:lnTo>
                    <a:pt x="956" y="60"/>
                  </a:lnTo>
                  <a:lnTo>
                    <a:pt x="950" y="68"/>
                  </a:lnTo>
                  <a:lnTo>
                    <a:pt x="940" y="74"/>
                  </a:lnTo>
                  <a:lnTo>
                    <a:pt x="928" y="78"/>
                  </a:lnTo>
                  <a:lnTo>
                    <a:pt x="914" y="82"/>
                  </a:lnTo>
                  <a:lnTo>
                    <a:pt x="896" y="86"/>
                  </a:lnTo>
                  <a:lnTo>
                    <a:pt x="896" y="422"/>
                  </a:lnTo>
                  <a:lnTo>
                    <a:pt x="1208" y="422"/>
                  </a:lnTo>
                  <a:lnTo>
                    <a:pt x="1314" y="284"/>
                  </a:lnTo>
                  <a:close/>
                  <a:moveTo>
                    <a:pt x="284" y="1064"/>
                  </a:moveTo>
                  <a:lnTo>
                    <a:pt x="602" y="1064"/>
                  </a:lnTo>
                  <a:lnTo>
                    <a:pt x="602" y="452"/>
                  </a:lnTo>
                  <a:lnTo>
                    <a:pt x="284" y="452"/>
                  </a:lnTo>
                  <a:lnTo>
                    <a:pt x="284" y="1064"/>
                  </a:lnTo>
                  <a:close/>
                  <a:moveTo>
                    <a:pt x="896" y="1064"/>
                  </a:moveTo>
                  <a:lnTo>
                    <a:pt x="1228" y="1064"/>
                  </a:lnTo>
                  <a:lnTo>
                    <a:pt x="1228" y="452"/>
                  </a:lnTo>
                  <a:lnTo>
                    <a:pt x="896" y="452"/>
                  </a:lnTo>
                  <a:lnTo>
                    <a:pt x="896" y="106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14000" y="26064000"/>
            <a:ext cx="11098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6100" spc="-1" strike="noStrike">
                <a:solidFill>
                  <a:srgbClr val="000000"/>
                </a:solidFill>
                <a:latin typeface="Arial"/>
              </a:rPr>
              <a:t>お客様に合ったいろいろなプランをご用意しております。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/>
          <p:nvPr/>
        </p:nvSpPr>
        <p:spPr>
          <a:xfrm>
            <a:off x="8567640" y="26130960"/>
            <a:ext cx="11098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6100" spc="-1" strike="noStrike">
                <a:solidFill>
                  <a:srgbClr val="33cc33"/>
                </a:solidFill>
                <a:latin typeface="Arial"/>
              </a:rPr>
              <a:t>ご新規購入、お借り入れにも…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38:24Z</dcterms:created>
  <dc:creator>seisaku</dc:creator>
  <dc:description/>
  <dc:language>en-US</dc:language>
  <cp:lastModifiedBy>ttec</cp:lastModifiedBy>
  <dcterms:modified xsi:type="dcterms:W3CDTF">2012-05-31T02:38:23Z</dcterms:modified>
  <cp:revision>3</cp:revision>
  <dc:subject/>
  <dc:title>スライド 1</dc:title>
</cp:coreProperties>
</file>